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C88D-AC2F-46ED-B97B-D3B3A1B9086B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3DA5-B5AE-4958-8A5C-9CEF71E3D276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99551-5B2A-433C-AC64-CF63445A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CBEE4-042D-4F50-AFD9-55A53D66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71AAF-99B3-466D-9CB4-43369794B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691F2-608E-4362-B913-4EE0CFB6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6726-D6C3-465B-8C39-C8FD1874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2796-719D-4CA8-B0C6-283DC2FD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EA0B-D402-428D-8D95-73DDC55F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5195-96CD-4AC4-B9F8-4C65F4D1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30EA-0EE4-42A4-8FFB-A93D419E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20D2-B5FB-480D-9662-DC7137B1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248B-5AFA-4067-A29B-E82925BF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C00F5-7334-4F25-A7C6-E51813A8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C1FE-8F45-4B03-B842-1B5ADD86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83D1-C202-4EE6-95E4-DEFD80EB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D333-A139-48B8-AA55-A9F48EA6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CA1B-7A82-4E0B-B88B-71E825FB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5F60-1B16-4FE0-B69F-E27B7F255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AE490-9DC0-46DF-AD62-BB75D81E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01F2E-B9DB-4F8D-A342-DF82B624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ECBA0-5976-4A01-B345-58688818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69713-DAB5-42AC-9141-61F34014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9887F-0FFC-4766-84D3-5DA60E4F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C1E42-91BB-4814-9B7A-BCA414C9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E7F77-4E14-421D-908E-3C3F35A2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6F8E-8BAC-4FDD-ACC6-09EFD7823E36}" type="slidenum">
              <a:rPr b="0" lang="hr-H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92EA-7E04-4C88-875E-CE0C630CB81E}" type="slidenum">
              <a:rPr b="0" lang="hr-H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websitemarketingplan.com/" TargetMode="External"/><Relationship Id="rId2" Type="http://schemas.openxmlformats.org/officeDocument/2006/relationships/hyperlink" Target="http://www.poslovniforum.hr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400" spc="-1" strike="noStrike">
                <a:solidFill>
                  <a:srgbClr val="ffffff"/>
                </a:solidFill>
                <a:latin typeface="Georgia"/>
              </a:rPr>
              <a:t>Marketing plan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684360" y="26028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Courier New"/>
              </a:rPr>
              <a:t>Kako treba izgledati marketing pl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755640" y="1700280"/>
            <a:ext cx="633744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Marketing plan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 ne treba biti dug (ako je duži od 20 stranica, neće se koristiti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Pojedini prilozi mogu biti dulji (npr. plan promoci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Treba biti sažet, što znači da mora rezimirati sve analize i strateške odlu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project-planner"/>
          <p:cNvPicPr/>
          <p:nvPr/>
        </p:nvPicPr>
        <p:blipFill>
          <a:blip r:embed="rId1">
            <a:grayscl/>
          </a:blip>
          <a:stretch/>
        </p:blipFill>
        <p:spPr>
          <a:xfrm>
            <a:off x="4859280" y="3789360"/>
            <a:ext cx="3205080" cy="2136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project-planner"/>
          <p:cNvPicPr/>
          <p:nvPr/>
        </p:nvPicPr>
        <p:blipFill>
          <a:blip r:embed="rId2"/>
          <a:stretch/>
        </p:blipFill>
        <p:spPr>
          <a:xfrm rot="1092600">
            <a:off x="2626920" y="4508640"/>
            <a:ext cx="248436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300" spc="-1" strike="noStrike">
                <a:solidFill>
                  <a:srgbClr val="666699"/>
                </a:solidFill>
                <a:latin typeface="Georgia"/>
              </a:rPr>
              <a:t>Kako izgleda marketing plan: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03280" y="1988640"/>
            <a:ext cx="731376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Analiza postojećeg s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Prognoza poslo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Postavljanje ciljeva marketin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Razvoj strategije marketin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Razvoj taktika marketin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Financijski pokazatel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Provođenje i kontrola marketin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000000"/>
                </a:solidFill>
                <a:latin typeface="Georgia"/>
              </a:rPr>
              <a:t>1. Sažeta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76360" y="1557000"/>
            <a:ext cx="7313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170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Sažetak cijeloga plana, koji treba potaknuti čitatelja da nastavi čit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170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To je sažetak postojećeg stanja poduzeća i njegovih pravaca razvoja u buduć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19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666699"/>
                </a:solidFill>
                <a:latin typeface="Georgia"/>
              </a:rPr>
              <a:t>Sažetak treba sadržavati</a:t>
            </a:r>
            <a:r>
              <a:rPr b="1" lang="hr-HR" sz="2800" spc="-1" strike="noStrike">
                <a:solidFill>
                  <a:srgbClr val="666699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1706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Kratku povijest poduzeć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1706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Trenutno st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1706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Cilj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1706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1706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1706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Finan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0" y="698400"/>
            <a:ext cx="1219320" cy="68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5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Analiza postojećeg st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gnoza poslov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ostavljanje ciljev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strategije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taktik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Financijski pokazatelj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vođenje i kontrol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m10"/>
          <p:cNvPicPr/>
          <p:nvPr/>
        </p:nvPicPr>
        <p:blipFill>
          <a:blip r:embed="rId1"/>
          <a:stretch/>
        </p:blipFill>
        <p:spPr>
          <a:xfrm rot="575400">
            <a:off x="6732360" y="188640"/>
            <a:ext cx="2246040" cy="148572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145" name="Picture 6" descr="m15"/>
          <p:cNvPicPr/>
          <p:nvPr/>
        </p:nvPicPr>
        <p:blipFill>
          <a:blip r:embed="rId2"/>
          <a:stretch/>
        </p:blipFill>
        <p:spPr>
          <a:xfrm>
            <a:off x="1692360" y="4941720"/>
            <a:ext cx="2160360" cy="142560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476280"/>
            <a:ext cx="7705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600" spc="-1" strike="noStrike">
                <a:solidFill>
                  <a:srgbClr val="000000"/>
                </a:solidFill>
                <a:latin typeface="Georgia"/>
              </a:rPr>
              <a:t>2. Analiza postojećeg stanja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6920" y="2133360"/>
            <a:ext cx="770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Sastavljena je iz dva dije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444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6699"/>
                </a:solidFill>
                <a:latin typeface="Georgia"/>
              </a:rPr>
              <a:t>Uvodni 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Detaljan opis proizvoda ili usluge, te utvrđivanje motiva potroš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4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Georgi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6699"/>
                </a:solidFill>
                <a:latin typeface="Georgia"/>
              </a:rPr>
              <a:t>Analiza situ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Omogućuje razradu optimalne strategije kojom se mogu postići unaprijed utvrđeni ciljevi (postojeća tržišna situacija, ciljna skupina, tržišno okruženje, profitabilnost, ljudski potencijali i dru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712440"/>
            <a:ext cx="1219320" cy="68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000"/>
                </a:solidFill>
                <a:latin typeface="Georgia"/>
              </a:rPr>
              <a:t>Analiza postojećeg st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gnoza poslov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ostavljanje ciljev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strategije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taktik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Financijski pokazatelj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vođenje i kontrol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slika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724360" y="3716280"/>
            <a:ext cx="3419640" cy="25416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500" spc="-1" strike="noStrike">
                <a:solidFill>
                  <a:srgbClr val="000000"/>
                </a:solidFill>
                <a:latin typeface="Georgia"/>
              </a:rPr>
              <a:t>3. Prognoza poslovanja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58560" y="1844640"/>
            <a:ext cx="746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Prognoziranje pomaže u postavljanju konkretnijih ciljeva u planu marketin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Prognoza poslovanja izravno je povezana sa analizom poslovanja jer svaki proces planiranja budućnosti temelji se na prethodnim događaj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Koristi progno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Određivanje tržiš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Planiranje strateg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Određivanje prodajnih kv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Definiranje cij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Određivanje proračuna za oglaša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I slič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0" y="1308240"/>
            <a:ext cx="1332000" cy="56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Analiza postojećeg st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000"/>
                </a:solidFill>
                <a:latin typeface="Georgia"/>
              </a:rPr>
              <a:t>Prognoza poslov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ostavljanje ciljev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strategije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taktik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Financijski pokazatelj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vođenje i kontrol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547640" y="620280"/>
            <a:ext cx="6562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6699"/>
                </a:solidFill>
                <a:latin typeface="Georgia"/>
              </a:rPr>
              <a:t>Prognoza poslovanja podrazumijeva sagledavanje problema kroz opću problematiku u okruženju i zatim sužavanje interesa na sam proizvod vlastite organizaci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U prognozi predviđamo sve elemente poslo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6699"/>
                </a:solidFill>
                <a:latin typeface="Georgia"/>
              </a:rPr>
              <a:t>U prognozi bi trebalo dati odgovore na pitanja postavljena u analizi situacije i ponuditi dva – tri “scenarija” ili moguća ish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U praktičnom životu najčešće se u prognoziranju govori o PROGNOZI PRODA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0" y="1308240"/>
            <a:ext cx="1332000" cy="56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Analiza postojećeg st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000"/>
                </a:solidFill>
                <a:latin typeface="Georgia"/>
              </a:rPr>
              <a:t>Prognoza poslov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ostavljanje ciljev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strategije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taktik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Financijski pokazatelj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vođenje i kontrol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9280" y="620640"/>
            <a:ext cx="73454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Georgia"/>
              </a:rPr>
              <a:t>Metode prognoze prod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76360" y="2421000"/>
            <a:ext cx="6912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666699"/>
                </a:solidFill>
                <a:latin typeface="Georgia"/>
              </a:rPr>
              <a:t>Subjektivne met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na temelju mišlj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intuic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subjektivne ocjene pojedinca ili stručnj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666699"/>
                </a:solidFill>
                <a:latin typeface="Georgia"/>
              </a:rPr>
              <a:t>Objektivne met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Služe se procesom koji je unaprijed određ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0" y="1308240"/>
            <a:ext cx="1332000" cy="56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Analiza postojećeg st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000"/>
                </a:solidFill>
                <a:latin typeface="Georgia"/>
              </a:rPr>
              <a:t>Prognoza poslov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ostavljanje ciljev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strategije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taktik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Financijski pokazatelj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vođenje i kontrol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Georgia"/>
              </a:rPr>
              <a:t>4. Postavljanje ciljeva marketin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47280" y="1699920"/>
            <a:ext cx="724068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6699"/>
                </a:solidFill>
                <a:latin typeface="Georgia"/>
              </a:rPr>
              <a:t>Opći ciljevi</a:t>
            </a:r>
            <a:r>
              <a:rPr b="0" lang="hr-HR" sz="2400" spc="-1" strike="noStrike">
                <a:solidFill>
                  <a:srgbClr val="666699"/>
                </a:solidFill>
                <a:latin typeface="Georgi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se mogu kombinirati, ali kombinacija mora biti takva da ciljevi ne dolaze u suk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Ciljevi trebaju sadržavati i vremensku dimenziju, tako postaju čvršći i </a:t>
            </a:r>
            <a:r>
              <a:rPr b="0" lang="hr-HR" sz="2400" spc="-1" strike="noStrike">
                <a:solidFill>
                  <a:srgbClr val="666699"/>
                </a:solidFill>
                <a:latin typeface="Georgia"/>
              </a:rPr>
              <a:t>konkret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Ciljevi trebaju bi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6699"/>
                </a:solidFill>
                <a:latin typeface="Georgia"/>
              </a:rPr>
              <a:t>Primjere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6699"/>
                </a:solidFill>
                <a:latin typeface="Georgia"/>
              </a:rPr>
              <a:t>Prihvatlj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6699"/>
                </a:solidFill>
                <a:latin typeface="Georgia"/>
              </a:rPr>
              <a:t>Ostvar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6699"/>
                </a:solidFill>
                <a:latin typeface="Georgia"/>
              </a:rPr>
              <a:t>Fleksibil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6699"/>
                </a:solidFill>
                <a:latin typeface="Georgia"/>
              </a:rPr>
              <a:t>Mjerlj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6699"/>
                </a:solidFill>
                <a:latin typeface="Georgia"/>
              </a:rPr>
              <a:t>Motivirajuć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6699"/>
                </a:solidFill>
                <a:latin typeface="Georgia"/>
              </a:rPr>
              <a:t>Razumljiv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0" y="1308600"/>
            <a:ext cx="1332000" cy="56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Analiza postojećeg st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gnoza poslov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000"/>
                </a:solidFill>
                <a:latin typeface="Georgia"/>
              </a:rPr>
              <a:t>Postavljanje ciljev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strategije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taktik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Financijski pokazatelj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vođenje i kontrol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447560" y="685800"/>
            <a:ext cx="73134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800" spc="-1" strike="noStrike">
                <a:solidFill>
                  <a:srgbClr val="000000"/>
                </a:solidFill>
                <a:latin typeface="Georgia"/>
              </a:rPr>
              <a:t>Konkurencija je poticaj za bolje poslovanj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800" spc="-1" strike="noStrike">
                <a:solidFill>
                  <a:srgbClr val="666699"/>
                </a:solidFill>
                <a:latin typeface="Georgia"/>
              </a:rPr>
              <a:t>“</a:t>
            </a:r>
            <a:r>
              <a:rPr b="0" i="1" lang="hr-HR" sz="4800" spc="-1" strike="noStrike">
                <a:solidFill>
                  <a:srgbClr val="666699"/>
                </a:solidFill>
                <a:latin typeface="Georgia"/>
              </a:rPr>
              <a:t>Ako nemate konkurentske prednosti ne konkurirajte”</a:t>
            </a:r>
            <a:r>
              <a:rPr b="0" lang="hr-HR" sz="4800" spc="-1" strike="noStrike">
                <a:solidFill>
                  <a:srgbClr val="666699"/>
                </a:solidFill>
                <a:latin typeface="Georgia"/>
              </a:rPr>
              <a:t> Jack Welch, 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target"/>
          <p:cNvPicPr/>
          <p:nvPr/>
        </p:nvPicPr>
        <p:blipFill>
          <a:blip r:embed="rId1">
            <a:grayscl/>
          </a:blip>
          <a:srcRect l="0" t="6664" r="0" b="0"/>
          <a:stretch/>
        </p:blipFill>
        <p:spPr>
          <a:xfrm>
            <a:off x="0" y="0"/>
            <a:ext cx="1219320" cy="65530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914400" y="649116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Izvor: Poslovni savjetnik, srpanj-kolovoz 200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ploča"/>
          <p:cNvPicPr/>
          <p:nvPr/>
        </p:nvPicPr>
        <p:blipFill>
          <a:blip r:embed="rId1"/>
          <a:stretch/>
        </p:blipFill>
        <p:spPr>
          <a:xfrm>
            <a:off x="4748040" y="0"/>
            <a:ext cx="4395960" cy="58672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8920" y="692280"/>
            <a:ext cx="728352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Georgia"/>
              </a:rPr>
              <a:t>Konkurentska prednost mora imati određene osobin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050560" y="2421000"/>
            <a:ext cx="6769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Istinit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Korist za potroša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Specifič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Mogućnost oglaša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KONKURENTSKA PREDNO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Organizirana sposobnost koja omogućava poduzeću da stvara znatno više vrijednosti za kupca u odnosu na svoje konkurente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Jednostavno rečeno. Prednost koju imate u odnosu na svoje konkurente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0" y="1308600"/>
            <a:ext cx="1332000" cy="56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Analiza postojećeg st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gnoza poslov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000"/>
                </a:solidFill>
                <a:latin typeface="Georgia"/>
              </a:rPr>
              <a:t>Postavljanje ciljev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strategije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taktik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Financijski pokazatelj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vođenje i kontrol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8960" y="1447560"/>
            <a:ext cx="7391160" cy="28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666699"/>
                </a:solidFill>
                <a:latin typeface="Georgia"/>
              </a:rPr>
              <a:t>“</a:t>
            </a:r>
            <a:r>
              <a:rPr b="1" lang="hr-HR" sz="4800" spc="-1" strike="noStrike">
                <a:solidFill>
                  <a:srgbClr val="666699"/>
                </a:solidFill>
                <a:latin typeface="Georgia"/>
              </a:rPr>
              <a:t>Činite li nešto onako kako ste to činili prije dvadeset godina, svakako postoji bolji način.” </a:t>
            </a:r>
            <a:br>
              <a:rPr sz="4800"/>
            </a:br>
            <a:r>
              <a:rPr b="1" lang="hr-HR" sz="4800" spc="-1" strike="noStrike">
                <a:solidFill>
                  <a:srgbClr val="666699"/>
                </a:solidFill>
                <a:latin typeface="Georgia"/>
              </a:rPr>
              <a:t>Edis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kompas"/>
          <p:cNvPicPr/>
          <p:nvPr/>
        </p:nvPicPr>
        <p:blipFill>
          <a:blip r:embed="rId1"/>
          <a:stretch/>
        </p:blipFill>
        <p:spPr>
          <a:xfrm>
            <a:off x="1219320" y="3505320"/>
            <a:ext cx="2184120" cy="23367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914400" y="649116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Georgia"/>
              </a:rPr>
              <a:t>Izvor: Poslovni savjetnik, srpanj-kolovoz 200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92360" y="333360"/>
            <a:ext cx="6718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Georgia"/>
              </a:rPr>
              <a:t>5. Razvoj marketing strateg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Diagram 3"/>
          <p:cNvGrpSpPr/>
          <p:nvPr/>
        </p:nvGrpSpPr>
        <p:grpSpPr>
          <a:xfrm>
            <a:off x="5192640" y="1369080"/>
            <a:ext cx="2899800" cy="1953360"/>
            <a:chOff x="5192640" y="1369080"/>
            <a:chExt cx="2899800" cy="1953360"/>
          </a:xfrm>
        </p:grpSpPr>
        <p:sp>
          <p:nvSpPr>
            <p:cNvPr id="170" name="_s1028"/>
            <p:cNvSpPr/>
            <p:nvPr/>
          </p:nvSpPr>
          <p:spPr>
            <a:xfrm flipV="1">
              <a:off x="6159600" y="1368720"/>
              <a:ext cx="966240" cy="651240"/>
            </a:xfrm>
            <a:custGeom>
              <a:avLst/>
              <a:gdLst>
                <a:gd name="textAreaLeft" fmla="*/ 346680 w 966240"/>
                <a:gd name="textAreaRight" fmla="*/ 619560 w 966240"/>
                <a:gd name="textAreaTop" fmla="*/ 233640 h 651240"/>
                <a:gd name="textAreaBottom" fmla="*/ 417600 h 65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eorgia"/>
                </a:rPr>
                <a:t>Ciljevi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eorgia"/>
                </a:rPr>
                <a:t>poduzeć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029"/>
            <p:cNvSpPr/>
            <p:nvPr/>
          </p:nvSpPr>
          <p:spPr>
            <a:xfrm flipV="1">
              <a:off x="5676120" y="2019960"/>
              <a:ext cx="1932840" cy="651240"/>
            </a:xfrm>
            <a:custGeom>
              <a:avLst/>
              <a:gdLst>
                <a:gd name="textAreaLeft" fmla="*/ 424800 w 1932840"/>
                <a:gd name="textAreaRight" fmla="*/ 1508040 w 1932840"/>
                <a:gd name="textAreaTop" fmla="*/ 143280 h 651240"/>
                <a:gd name="textAreaBottom" fmla="*/ 507960 h 65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eorgia"/>
                </a:rPr>
                <a:t>Ciljevi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eorgia"/>
                </a:rPr>
                <a:t>marketing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030"/>
            <p:cNvSpPr/>
            <p:nvPr/>
          </p:nvSpPr>
          <p:spPr>
            <a:xfrm flipV="1">
              <a:off x="5192640" y="2671200"/>
              <a:ext cx="2899800" cy="650520"/>
            </a:xfrm>
            <a:custGeom>
              <a:avLst/>
              <a:gdLst>
                <a:gd name="textAreaLeft" fmla="*/ 503280 w 2899800"/>
                <a:gd name="textAreaRight" fmla="*/ 2396520 w 2899800"/>
                <a:gd name="textAreaTop" fmla="*/ 112680 h 650520"/>
                <a:gd name="textAreaBottom" fmla="*/ 537840 h 65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Georgia"/>
                </a:rPr>
                <a:t>Taktički ciljev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 Box 8"/>
          <p:cNvSpPr/>
          <p:nvPr/>
        </p:nvSpPr>
        <p:spPr>
          <a:xfrm>
            <a:off x="1835280" y="14130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6699"/>
                </a:solidFill>
                <a:latin typeface="Georgia"/>
              </a:rPr>
              <a:t>Tri razine cilje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0" y="1308600"/>
            <a:ext cx="1332000" cy="56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Analiza postojećeg st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gnoza poslov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ostavljanje ciljev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000"/>
                </a:solidFill>
                <a:latin typeface="Georgia"/>
              </a:rPr>
              <a:t>Razvoj strategije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taktik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Financijski pokazatelj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vođenje i kontrol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1692360" y="3141720"/>
            <a:ext cx="648000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eorgia"/>
              </a:rPr>
              <a:t>Opće defini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Strategija je sredstvo za ostvarenje cilj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Stvaralačka misao, stvaralačka ideja, nadahnuće kojim dolazimo do konačnog, obično dugoročnog ci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eorgia"/>
              </a:rPr>
              <a:t>Kotler: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strategija marketinga obuhvaća opća načela na temelju kojih uprava marketinga očekuje ostvarenje svojih poslovnih i marketinških ciljeva na ciljnom tržištu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32000" y="701640"/>
            <a:ext cx="7283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666699"/>
                </a:solidFill>
                <a:latin typeface="Georgia"/>
              </a:rPr>
              <a:t>Klasifikacija strategije marketing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09680" y="1847520"/>
            <a:ext cx="772632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Osnov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666699"/>
                </a:solidFill>
                <a:latin typeface="Georgia"/>
              </a:rPr>
              <a:t>Korporacijska strateg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Strategija najviše hijerarhijske razine, kojom se predodređuje stvarni obujam poslovnih aktivnosti gospodarskog subjek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666699"/>
                </a:solidFill>
                <a:latin typeface="Georgia"/>
              </a:rPr>
              <a:t>Poslovna strateg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Predstavlja konkretnu implementaciju korporativne strategije po pojedinim poslovnim područ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666699"/>
                </a:solidFill>
                <a:latin typeface="Georgia"/>
              </a:rPr>
              <a:t>Funkcionalna strateg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Konkretizacija poslovne strateg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0" y="1308600"/>
            <a:ext cx="1332000" cy="56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Analiza postojećeg st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gnoza poslov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ostavljanje ciljev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000"/>
                </a:solidFill>
                <a:latin typeface="Georgia"/>
              </a:rPr>
              <a:t>Razvoj strategije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taktik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Financijski pokazatelj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vođenje i kontrol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15640" y="476280"/>
            <a:ext cx="7715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100" spc="-1" strike="noStrike">
                <a:solidFill>
                  <a:srgbClr val="000000"/>
                </a:solidFill>
                <a:latin typeface="Georgia"/>
              </a:rPr>
              <a:t>Za donošenje strateških odluka teorija je razradila </a:t>
            </a:r>
            <a:r>
              <a:rPr b="0" lang="hr-HR" sz="2700" spc="-1" strike="noStrike">
                <a:solidFill>
                  <a:srgbClr val="000000"/>
                </a:solidFill>
                <a:latin typeface="Georgia"/>
              </a:rPr>
              <a:t>različite</a:t>
            </a:r>
            <a:r>
              <a:rPr b="0" lang="hr-HR" sz="3100" spc="-1" strike="noStrike">
                <a:solidFill>
                  <a:srgbClr val="000000"/>
                </a:solidFill>
                <a:latin typeface="Georgia"/>
              </a:rPr>
              <a:t> metod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63640" y="2421000"/>
            <a:ext cx="6059520" cy="34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6699"/>
                </a:solidFill>
                <a:latin typeface="Georgia"/>
              </a:rPr>
              <a:t>Portfolio mat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temelje se na određenim postupcima čiji je rezultat grafički prikaz stanja poduzeć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6699"/>
                </a:solidFill>
                <a:latin typeface="Georgia"/>
              </a:rPr>
              <a:t>Životni ciklus proizv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Utvrđuje se položaj proizvoda u životnom vijeku i u svakoj se fazi provodi različita politika marketi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6699"/>
                </a:solidFill>
                <a:latin typeface="Georgia"/>
              </a:rPr>
              <a:t>Strategija konkuren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6699"/>
                </a:solidFill>
                <a:latin typeface="Georgia"/>
              </a:rPr>
              <a:t>Strategija profitnog utjec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6699"/>
                </a:solidFill>
                <a:latin typeface="Georgia"/>
              </a:rPr>
              <a:t>Opća tržišna strateg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0" y="1308600"/>
            <a:ext cx="1332000" cy="56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Analiza postojećeg st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gnoza poslov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ostavljanje ciljev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000"/>
                </a:solidFill>
                <a:latin typeface="Georgia"/>
              </a:rPr>
              <a:t>Razvoj strategije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taktik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Financijski pokazatelj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vođenje i kontrol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30240" y="549360"/>
            <a:ext cx="56944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666699"/>
                </a:solidFill>
                <a:latin typeface="Georgia"/>
              </a:rPr>
              <a:t>Portfolio matr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58920" y="2421000"/>
            <a:ext cx="3527280" cy="33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666699"/>
                </a:solidFill>
                <a:latin typeface="Georgia"/>
              </a:rPr>
              <a:t>Snaga poduzeća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se izražava putem slijedećih osobi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Loka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Tehnološka pred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Isku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Poznatost na tržiš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Ljudski potencij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Kvaliteta proizv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Profitabiln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16360" y="2421000"/>
            <a:ext cx="3888000" cy="33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666699"/>
                </a:solidFill>
                <a:latin typeface="Georgia"/>
              </a:rPr>
              <a:t>Privlačnost tržišta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se određuje putem ovih kriter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Veličina ciljanog tržiš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Visina potraž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Tržišne cij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Pravni prop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Dostupnost sirov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Nedostaci proizv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Struktura distribucijskih kan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332000" y="14130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Matrica uspješnosti u odnos stavlja dvije veličine; privlačnost tržišta i snagu poduzeć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0" y="1308600"/>
            <a:ext cx="1332000" cy="56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Analiza postojećeg st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gnoza poslov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ostavljanje ciljev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000"/>
                </a:solidFill>
                <a:latin typeface="Georgia"/>
              </a:rPr>
              <a:t>Razvoj strategije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taktik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Financijski pokazatelj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vođenje i kontrol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03280" y="476280"/>
            <a:ext cx="706752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Četiri glavne strategije koje poduzeće može primijeniti imajući na umu životni ciklus proizv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834920" y="1699920"/>
            <a:ext cx="5500440" cy="44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6699"/>
                </a:solidFill>
                <a:latin typeface="Georgia"/>
              </a:rPr>
              <a:t>Penetracija na novo tržiš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Prvenstvo na tržiš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Rani nastup, ali ne u ulozi prvo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Kasni nastup na tržiš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6699"/>
                </a:solidFill>
                <a:latin typeface="Georgia"/>
              </a:rPr>
              <a:t>Povećanje udjela na tržiš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Diferencijacija proizv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Segmentacija tržiš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6699"/>
                </a:solidFill>
                <a:latin typeface="Georgia"/>
              </a:rPr>
              <a:t>Utvrđivanje polož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Repozicion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Izravno sučelja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6699"/>
                </a:solidFill>
                <a:latin typeface="Georgia"/>
              </a:rPr>
              <a:t>Povlačenje s trži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0" y="1308600"/>
            <a:ext cx="1332000" cy="56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Analiza postojećeg st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gnoza poslov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ostavljanje ciljev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000"/>
                </a:solidFill>
                <a:latin typeface="Georgia"/>
              </a:rPr>
              <a:t>Razvoj strategije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taktik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Financijski pokazatelj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vođenje i kontrol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31640" y="404640"/>
            <a:ext cx="721044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Georgia"/>
              </a:rPr>
              <a:t>6. Razvoj taktika marketin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03280" y="1773360"/>
            <a:ext cx="7313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6699"/>
                </a:solidFill>
                <a:latin typeface="Georgia"/>
              </a:rPr>
              <a:t>Taktikom odlučujemo o načinu provođenja zacrtane strate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Varijable kojima možemo upravlj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6699"/>
                </a:solidFill>
                <a:latin typeface="Georgia"/>
              </a:rPr>
              <a:t>Proizv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6699"/>
                </a:solidFill>
                <a:latin typeface="Georgia"/>
              </a:rPr>
              <a:t>Cij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6699"/>
                </a:solidFill>
                <a:latin typeface="Georgia"/>
              </a:rPr>
              <a:t>Prodaja s distribucij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6699"/>
                </a:solidFill>
                <a:latin typeface="Georgia"/>
              </a:rPr>
              <a:t>Promo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Varijable kojima ne možemo upravlj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6699"/>
                </a:solidFill>
                <a:latin typeface="Georgia"/>
              </a:rPr>
              <a:t>Varijable okruž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0" y="1308600"/>
            <a:ext cx="1332000" cy="56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Analiza postojećeg st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gnoza poslov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ostavljanje ciljev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strategije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000"/>
                </a:solidFill>
                <a:latin typeface="Georgia"/>
              </a:rPr>
              <a:t>Razvoj taktik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Financijski pokazatelj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vođenje i kontrol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76000" y="476280"/>
            <a:ext cx="721044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Georgia"/>
              </a:rPr>
              <a:t>7. </a:t>
            </a:r>
            <a:r>
              <a:rPr b="1" lang="hr-HR" sz="3600" spc="-1" strike="noStrike">
                <a:solidFill>
                  <a:srgbClr val="000000"/>
                </a:solidFill>
                <a:latin typeface="Georgia"/>
              </a:rPr>
              <a:t>Financijski</a:t>
            </a:r>
            <a:r>
              <a:rPr b="1" lang="hr-HR" sz="4000" spc="-1" strike="noStrike">
                <a:solidFill>
                  <a:srgbClr val="000000"/>
                </a:solidFill>
                <a:latin typeface="Georgia"/>
              </a:rPr>
              <a:t> pokazatelj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76000" y="2060640"/>
            <a:ext cx="686916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Financijski pokazatelji se svrstavaju u četiri skup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0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666699"/>
                </a:solidFill>
                <a:latin typeface="Georgia"/>
              </a:rPr>
              <a:t>Pokazatelji likvidnosti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 koji mjere stupanj sposobnosti poduzeća da podmiri svoje dospjele kratkoročne obve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0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666699"/>
                </a:solidFill>
                <a:latin typeface="Georgia"/>
              </a:rPr>
              <a:t>Pokazatelji zaduženosti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 koji mjere stupanj financiranja iz tuđih izvora sredst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0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666699"/>
                </a:solidFill>
                <a:latin typeface="Georgia"/>
              </a:rPr>
              <a:t>Pokazatelji aktivnosti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 koji mjere djelotvornost uporabe vlastitih resu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0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666699"/>
                </a:solidFill>
                <a:latin typeface="Georgia"/>
              </a:rPr>
              <a:t>Pokazatelji profitabilnosti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 koji mjere povrat uloženog kapit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0" y="1308960"/>
            <a:ext cx="1476360" cy="56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Analiza postojećeg st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gnoza poslov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ostavljanje ciljev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strategije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taktik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000"/>
                </a:solidFill>
                <a:latin typeface="Georgia"/>
              </a:rPr>
              <a:t>Financijski pokazatelj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vođenje i kontrol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18920" y="404280"/>
            <a:ext cx="670716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666699"/>
                </a:solidFill>
                <a:latin typeface="Georgia"/>
              </a:rPr>
              <a:t>Pokazatelji likvid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03280" y="2492280"/>
            <a:ext cx="7467840" cy="32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Koeficijent tekuće likvidnosti, KT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Koeficijent ubrzane likvidnosti, K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Koeficijent financijske stabilnosti, K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0" y="1308960"/>
            <a:ext cx="1476360" cy="56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Analiza postojećeg st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gnoza poslov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ostavljanje ciljev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strategije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taktik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000"/>
                </a:solidFill>
                <a:latin typeface="Georgia"/>
              </a:rPr>
              <a:t>Financijski pokazatelj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vođenje i kontrol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73548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666699"/>
                </a:solidFill>
                <a:latin typeface="Georgia"/>
              </a:rPr>
              <a:t>Pokazatelji zaduženost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76000" y="220500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Koeficijent zaduženosti, K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Koeficijent vlastitog financiranja, KV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0" y="1308960"/>
            <a:ext cx="1476360" cy="56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Analiza postojećeg st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gnoza poslov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ostavljanje ciljev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strategije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taktik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000"/>
                </a:solidFill>
                <a:latin typeface="Georgia"/>
              </a:rPr>
              <a:t>Financijski pokazatelj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vođenje i kontrol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18920" y="549360"/>
            <a:ext cx="6840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666699"/>
                </a:solidFill>
                <a:latin typeface="Georgia"/>
              </a:rPr>
              <a:t>Pokazatelji aktiv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907640" y="2060280"/>
            <a:ext cx="6851880" cy="38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Koeficijent obrta zali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Koeficijent obrta potraži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Koeficijent obrta kratkotrajne imov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Koeficijent obrta ukupne imov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0" y="1308960"/>
            <a:ext cx="1476360" cy="56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Analiza postojećeg st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gnoza poslov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ostavljanje ciljev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strategije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taktik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000"/>
                </a:solidFill>
                <a:latin typeface="Georgia"/>
              </a:rPr>
              <a:t>Financijski pokazatelj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vođenje i kontrol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400" spc="-1" strike="noStrike">
                <a:solidFill>
                  <a:srgbClr val="666699"/>
                </a:solidFill>
                <a:latin typeface="Georgia"/>
              </a:rPr>
              <a:t>Marketing pl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Iznosi specifične aktivnosti koje poduzeće namjerava poduzeti u svrhu privlačenja interesa potencijalnih kupaca i klijenata za proizvod i uslugu koje poduzeće nud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Primjenjuje marketinšku strategiju koja govori u kojem smjeru ići, dok marketing plan predstavlja putokaz kako tamo doć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Može biti samostalan dokument ili dio poslovnog plan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47640" y="475920"/>
            <a:ext cx="71647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666699"/>
                </a:solidFill>
                <a:latin typeface="Georgia"/>
              </a:rPr>
              <a:t>Pokazatelji profitabiln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835280" y="2204640"/>
            <a:ext cx="7138800" cy="28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Marža prof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Rentabilnost ukupne imov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Rentabilnost vlastitog kapit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0" y="1308960"/>
            <a:ext cx="1476360" cy="56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Analiza postojećeg st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gnoza poslov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ostavljanje ciljev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strategije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taktik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000"/>
                </a:solidFill>
                <a:latin typeface="Georgia"/>
              </a:rPr>
              <a:t>Financijski pokazatelj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vođenje i kontrol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18920" y="476280"/>
            <a:ext cx="6778440" cy="13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666699"/>
                </a:solidFill>
                <a:latin typeface="Georgia"/>
              </a:rPr>
              <a:t>Analiza točke pokrić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2133360"/>
            <a:ext cx="769644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Točka pokrića je ona točka u kojoj prodaja određenog broja proizvoda pokriva troškove razvoja, proizvodnje i prodaje proizv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Analizom točke pokrića poduzeće dobiva slijedeće informaci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20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6699"/>
                </a:solidFill>
                <a:latin typeface="Georgia"/>
              </a:rPr>
              <a:t>Koliko komada proizvoda treba prodati da bi se ostvario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20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6699"/>
                </a:solidFill>
                <a:latin typeface="Georgia"/>
              </a:rPr>
              <a:t>Koliki će se profit ostvarivati uz različite količine pro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20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6699"/>
                </a:solidFill>
                <a:latin typeface="Georgia"/>
              </a:rPr>
              <a:t>Po kojoj cijeni će ostvarivati dobit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20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6699"/>
                </a:solidFill>
                <a:latin typeface="Georgia"/>
              </a:rPr>
              <a:t>Kako će povećanje ili smanjenje troškova na različitim razinama prodaje utjecati na dohodovnost poduzeć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0" y="1308960"/>
            <a:ext cx="1476360" cy="56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Analiza postojećeg st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gnoza poslov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ostavljanje ciljev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strategije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taktik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000"/>
                </a:solidFill>
                <a:latin typeface="Georgia"/>
              </a:rPr>
              <a:t>Financijski pokazatelj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vođenje i kontrol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19280" y="620280"/>
            <a:ext cx="68724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100" spc="-1" strike="noStrike">
                <a:solidFill>
                  <a:srgbClr val="000000"/>
                </a:solidFill>
                <a:latin typeface="Georgia"/>
              </a:rPr>
              <a:t>8. Provođenje i kontrola marketing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47640" y="1988640"/>
            <a:ext cx="73137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Konačna faza u procesu je provođenje ili implement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Da bi se plan uspješno ostvario potrebno je uspostaviti kontro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Kako bi ova faza bila uspješno provedena potrebno 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6699"/>
                </a:solidFill>
                <a:latin typeface="Georgia"/>
              </a:rPr>
              <a:t>Preuzeti odgovor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6699"/>
                </a:solidFill>
                <a:latin typeface="Georgia"/>
              </a:rPr>
              <a:t>Pratiti sve zadaće, taktike i strategije i mjeriti ono što se stvarno dogodilo u usporedbi s onim što je planir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6699"/>
                </a:solidFill>
                <a:latin typeface="Georgia"/>
              </a:rPr>
              <a:t>Pratiti promjene u okruženju usporedno s odvijanjem plana marketin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0" y="1308960"/>
            <a:ext cx="1476360" cy="56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Analiza postojećeg st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rognoza poslovanj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Postavljanje ciljev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strategije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Razvoj taktik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0000"/>
                </a:solidFill>
                <a:latin typeface="Georgia"/>
              </a:rPr>
              <a:t>Financijski pokazatelj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4600" indent="-8712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000"/>
                </a:solidFill>
                <a:latin typeface="Georgia"/>
              </a:rPr>
              <a:t>Provođenje i kontrola marketin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31640" y="692280"/>
            <a:ext cx="7427880" cy="12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Georgia"/>
              </a:rPr>
              <a:t>Internet marketing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08000" y="2276280"/>
            <a:ext cx="6778800" cy="36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Predstavljanje na Internetu, nije ništa drugo nego jedna vrsta marketing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Internet marketing ne završava izradom jedne web stranice i njezinim prijavljivanjem na jedan ili nekoliko pretraživač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Marketing zahtjeva kontinuiranu analizu, istraživanje, planiranje i praćenje rezultata korištenjem standardnih i alternativnih meto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18920" y="404280"/>
            <a:ext cx="6994440" cy="138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Georgia"/>
              </a:rPr>
              <a:t>Internet marketing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70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Sažet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6699"/>
                </a:solidFill>
                <a:latin typeface="Georgia"/>
              </a:rPr>
              <a:t>Analiza statistika trži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Formuliranje strategija marketing komunik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6699"/>
                </a:solidFill>
                <a:latin typeface="Georgia"/>
              </a:rPr>
              <a:t>Planiranje potrebnih sredstava za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Formiranje marketinškog t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6699"/>
                </a:solidFill>
                <a:latin typeface="Georgia"/>
              </a:rPr>
              <a:t>Kreiranje korporativnog identiteta tvrt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Definiranje vremenskih rok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6699"/>
                </a:solidFill>
                <a:latin typeface="Georgia"/>
              </a:rPr>
              <a:t>Dizajniranje promotivnih kampanja (Internet Media Pl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Kreiranje dodatnih marketinških materijala i kamp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6699"/>
                </a:solidFill>
                <a:latin typeface="Georgia"/>
              </a:rPr>
              <a:t>Provođenje vlastitih istraživanja trži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Izvršenje promotivnih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6699"/>
                </a:solidFill>
                <a:latin typeface="Georgia"/>
              </a:rPr>
              <a:t>Mjerenje efekata marketinških aktivnosti</a:t>
            </a:r>
            <a:br>
              <a:rPr sz="2400"/>
            </a:br>
            <a:r>
              <a:rPr b="0" lang="hr-HR" sz="2400" spc="-1" strike="noStrike">
                <a:solidFill>
                  <a:srgbClr val="666699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71298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Georgia"/>
              </a:rPr>
              <a:t>Koristi marketing pl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32000" y="1628640"/>
            <a:ext cx="7238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6699"/>
                </a:solidFill>
                <a:latin typeface="Georgia"/>
              </a:rPr>
              <a:t>Osigurava sustavnost od početka do kr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Sve planirane aktivnosti prikazuju se na papi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6699"/>
                </a:solidFill>
                <a:latin typeface="Georgia"/>
              </a:rPr>
              <a:t>Bolje izražavanje ciljeva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Bolja kontrola posl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6699"/>
                </a:solidFill>
                <a:latin typeface="Georgia"/>
              </a:rPr>
              <a:t>Poduzeće koje raspolaže marketing planom ostvaruje bolji položaj u odnosu na poduzeća koja ga nema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Pomaže poduzeću da se pripremi za nepredviđene situacije jer se neke od njih mogu predvidjeti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523880" y="2590920"/>
            <a:ext cx="73137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Georgia"/>
              </a:rPr>
              <a:t>Dobar plan marketinga ne bi smio dopuštati preveliku fleksibilnost, plan je kreiran da bi ga se slijedi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Georgia"/>
              </a:rPr>
              <a:t>Što je plan marketinga sažetiji, lakše će ga biti slijedit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kompas"/>
          <p:cNvPicPr/>
          <p:nvPr/>
        </p:nvPicPr>
        <p:blipFill>
          <a:blip r:embed="rId1"/>
          <a:stretch/>
        </p:blipFill>
        <p:spPr>
          <a:xfrm>
            <a:off x="1219320" y="0"/>
            <a:ext cx="792468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600" spc="-1" strike="noStrike">
                <a:solidFill>
                  <a:srgbClr val="666699"/>
                </a:solidFill>
                <a:latin typeface="Georgia"/>
              </a:rPr>
              <a:t>Zaključa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03280" y="1916280"/>
            <a:ext cx="73137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Sastavljanje marketing plana ohrabruje na izučavanje industrije u kojoj se posluje ali i proučavanje vlastitog posl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Marketing plan pruža informacije o proizvodima, uslugama, marketing ciljevima, taktikama i strategij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Marketing planom moguće je mjeriti uspje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Marketing plan nije troš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Georgia"/>
              </a:rPr>
              <a:t>Update” marketing plana bilo bi dobro vršiti kvartalno ili barem jednom godiš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marketing plan izdvojit će vas iz konkuren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600" spc="-1" strike="noStrike">
                <a:solidFill>
                  <a:srgbClr val="666699"/>
                </a:solidFill>
                <a:latin typeface="Georgia"/>
              </a:rPr>
              <a:t>Literatura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Bangs, D. H.: Plan marketinga, Jakubin i sin, Zagreb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Marušić, Mira: Plan marketinga, Adeco, Zagreb, 2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Medić, M., Bilješke s predavanja 2007-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Georgia"/>
              </a:rPr>
              <a:t>Poslovni savjetnik, mjesečnik za managere i poduzetnike, srpanj-kolovoz, 2005., Zagreb, str 26-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66699"/>
                </a:solidFill>
                <a:latin typeface="Georgia"/>
              </a:rPr>
              <a:t>	</a:t>
            </a:r>
            <a:r>
              <a:rPr b="0" lang="hr-HR" sz="1800" spc="-1" strike="noStrike" u="sng">
                <a:solidFill>
                  <a:srgbClr val="666699"/>
                </a:solidFill>
                <a:uFillTx/>
                <a:latin typeface="Georgia"/>
                <a:hlinkClick r:id="rId1"/>
              </a:rPr>
              <a:t>www.websitemarketingpla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666699"/>
                </a:solidFill>
                <a:latin typeface="Georgia"/>
              </a:rPr>
              <a:t>	</a:t>
            </a:r>
            <a:r>
              <a:rPr b="0" lang="hr-HR" sz="1800" spc="-1" strike="noStrike" u="sng">
                <a:solidFill>
                  <a:srgbClr val="666699"/>
                </a:solidFill>
                <a:uFillTx/>
                <a:latin typeface="Georgia"/>
                <a:hlinkClick r:id="rId2"/>
              </a:rPr>
              <a:t>www.poslovniforum.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prezentaciji korišteni materijali studen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Footlight MT Light"/>
              </a:rPr>
              <a:t>Bačić,T., Cibula.Z., Divljaković,Ž., Dragušica,I., Franjić,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468360" y="47628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Arial"/>
              </a:rPr>
              <a:t>Što je marketing pla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684360" y="2060640"/>
            <a:ext cx="583236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Logičan nastavak istraživanja i najvećim     dijelom na njemu i utemelj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sustavljeni popis i opis svih aktivnosti usmjerenih na što učinkovitiju prezentaciju i prodaju određenog proizvoda ili usluge potrošač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tvaranje što povoljnije slike poduzeća u jav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aboutImage"/>
          <p:cNvPicPr/>
          <p:nvPr/>
        </p:nvPicPr>
        <p:blipFill>
          <a:blip r:embed="rId1"/>
          <a:stretch/>
        </p:blipFill>
        <p:spPr>
          <a:xfrm>
            <a:off x="6012000" y="1916280"/>
            <a:ext cx="2133360" cy="324000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611280" y="4762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ourier New"/>
              </a:rPr>
              <a:t>Važnost plana marketin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11280" y="2133720"/>
            <a:ext cx="525600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mogućuje da se naš proizvod ili usluga nađe na pravome mjestu u pravo vrijeme i u potrebnim količinama, u skladu sa zahtjevima potrošač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lat direktnog marketinga koji je usmjeren na istraživanje prodajnog tržišta, kupaca i konkuren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A7"/>
          <p:cNvPicPr/>
          <p:nvPr/>
        </p:nvPicPr>
        <p:blipFill>
          <a:blip r:embed="rId1"/>
          <a:stretch/>
        </p:blipFill>
        <p:spPr>
          <a:xfrm>
            <a:off x="5940360" y="2997360"/>
            <a:ext cx="2252880" cy="2663640"/>
          </a:xfrm>
          <a:prstGeom prst="rect">
            <a:avLst/>
          </a:prstGeom>
          <a:ln w="12600">
            <a:solidFill>
              <a:srgbClr val="9933ff"/>
            </a:solidFill>
            <a:miter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300" spc="-1" strike="noStrike">
                <a:solidFill>
                  <a:srgbClr val="000000"/>
                </a:solidFill>
                <a:latin typeface="Georgia"/>
              </a:rPr>
              <a:t>Zašto marketing plan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Velika konkuren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6699"/>
                </a:solidFill>
                <a:latin typeface="Georgia"/>
              </a:rPr>
              <a:t>Moć odlučivanja pomiče se prema potrošač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Marke su međusobno sve sličnije a lojalnost marki se smanju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6699"/>
                </a:solidFill>
                <a:latin typeface="Georgia"/>
              </a:rPr>
              <a:t>Potrošači su sve osjetljiviji na odnos cijena/vrijednost i sve bolje su informir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Alati direktnog marketinga i odnosa sa javnošću postaju sve djelotvorni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ciklus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21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Georgia"/>
              </a:rPr>
              <a:t>Glavne zadaće plana marketin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32000" y="2133720"/>
            <a:ext cx="736920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751"/>
              </a:spcBef>
              <a:buClr>
                <a:srgbClr val="666699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eorgia"/>
              </a:rPr>
              <a:t>Upoznati potrošače/klijente/korisnike (očekivanja, preferencij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751"/>
              </a:spcBef>
              <a:buClr>
                <a:srgbClr val="666699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eorgia"/>
              </a:rPr>
              <a:t>Upoznati konkurenciju (slabosti i snag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751"/>
              </a:spcBef>
              <a:buClr>
                <a:srgbClr val="666699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eorgia"/>
              </a:rPr>
              <a:t>Upoznati okolinu (zakonodavstvo, propisi, stanje tehnologije, društvenokulturni uvjeti, demografija..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751"/>
              </a:spcBef>
              <a:buClr>
                <a:srgbClr val="666699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Georgia"/>
              </a:rPr>
              <a:t>Utvrditi način pozicioniranja (koju tržišnu nišu poduzeće treba zauzet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779640" y="476280"/>
            <a:ext cx="49813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Georgia"/>
              </a:rPr>
              <a:t>Svrha marketing plana jes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92000" y="2852280"/>
            <a:ext cx="67690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definirati tržište poduzeć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otkriti potrošače i konkurent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zacrtati strategiju koja će privući i zadržati potrošač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te predvidjeti dolazeće prom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lista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000000"/>
                </a:solidFill>
                <a:latin typeface="Georgia"/>
              </a:rPr>
              <a:t>Oblici marketing pla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6699"/>
                </a:solidFill>
                <a:latin typeface="Georgia"/>
              </a:rPr>
              <a:t>Plan marketinga za novi proizvod, uslugu, proizvodnu liniju ili marku proizvoda koja još nije uvedena na tržiš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Godišnji plan marketinga za proizvode, projekte, usluge ili marke proizvoda koje se već prodaju na tržištu i koje čine stalno poslovanje poduzeć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1:47Z</dcterms:created>
  <dc:creator>Mladen</dc:creator>
  <dc:description/>
  <dc:language>en-US</dc:language>
  <cp:lastModifiedBy>Marko</cp:lastModifiedBy>
  <dcterms:modified xsi:type="dcterms:W3CDTF">2008-06-05T17:38:54Z</dcterms:modified>
  <cp:revision>2</cp:revision>
  <dc:subject/>
  <dc:title>Marketing plan</dc:title>
</cp:coreProperties>
</file>