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89A8-3A2B-4F95-8CFC-8D66D5E66714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5265-16F3-4739-AE94-FB4AB3AB9B2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EF9D-FEDE-44AE-BC6F-073CAD3A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BD31F-5AEE-48D2-9E30-FAFE7938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932C3-6508-430C-8FA4-7DAA1DDB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25FF2-0B90-485B-898F-FE23A698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B370-17F3-44D7-A1E3-E06E4EDA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92C2-C6BA-4753-B151-894474ED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CDD3-9A13-4474-AB5A-87DB7BC7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4B00-0367-47D8-B1AF-FAA51ED9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3E33-03FD-41A2-9480-96FF2D58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5F60-47F2-4BCC-A61C-FBB34A41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FDA5-C353-4E64-AF54-1C7C24F6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BB995-87B9-4C70-9AFB-F2CF78E5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8A11-9149-4D5E-A37D-B5F93DD5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E923-DF16-4D61-9E87-735E7FC7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03D7-95F9-4304-9FCA-F7356233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F20D-796C-41BD-BAED-AC5C4510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A787-FA61-4FEF-9C2E-24BDD836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1DCDB-69EC-4471-B3CA-99677659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146D-9B4E-4020-ABFD-9E865426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1772-BC30-4DEF-BA81-3041F15F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B48C-E422-4ED1-B60B-591FF792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3BA3-232D-4B40-97AD-3827EC0E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A168-72E5-4868-A4C5-DE331561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C9B1-A9BC-4A2F-ABCF-3D7FB165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D8F9-ABFE-4206-9B4C-715EC6B855ED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C725-A593-41BB-80E5-D3CA983F94E7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websitemarketingplan.com/" TargetMode="External"/><Relationship Id="rId2" Type="http://schemas.openxmlformats.org/officeDocument/2006/relationships/hyperlink" Target="http://www.poslovniforum.hr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400" spc="-1" strike="noStrike">
                <a:solidFill>
                  <a:srgbClr val="ffffff"/>
                </a:solidFill>
                <a:latin typeface="Georgia"/>
              </a:rPr>
              <a:t>Marketing plan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4360" y="26028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ourier New"/>
              </a:rPr>
              <a:t>Kako treba izgledati marketing pl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55640" y="1700280"/>
            <a:ext cx="63374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Marketing plan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 ne treba biti dug (ako je duži od 20 stranica, neće se koristit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Pojedini prilozi mogu biti dulji (npr. plan promoc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Treba biti sažet, što znači da mora rezimirati sve analize i strateške odlu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project-planner"/>
          <p:cNvPicPr/>
          <p:nvPr/>
        </p:nvPicPr>
        <p:blipFill>
          <a:blip r:embed="rId1">
            <a:grayscl/>
          </a:blip>
          <a:stretch/>
        </p:blipFill>
        <p:spPr>
          <a:xfrm>
            <a:off x="4859280" y="3789360"/>
            <a:ext cx="3205080" cy="2136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project-planner"/>
          <p:cNvPicPr/>
          <p:nvPr/>
        </p:nvPicPr>
        <p:blipFill>
          <a:blip r:embed="rId2"/>
          <a:stretch/>
        </p:blipFill>
        <p:spPr>
          <a:xfrm rot="1092600">
            <a:off x="2626920" y="4508640"/>
            <a:ext cx="248436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300" spc="-1" strike="noStrike">
                <a:solidFill>
                  <a:srgbClr val="666699"/>
                </a:solidFill>
                <a:latin typeface="Georgia"/>
              </a:rPr>
              <a:t>Kako izgleda marketing plan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731376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Georgia"/>
              </a:rPr>
              <a:t>1. Sažeta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76360" y="1557000"/>
            <a:ext cx="731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17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Sažetak cijeloga plana, koji treba potaknuti čitatelja da nastavi čit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17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To je sažetak postojećeg stanja poduzeća i njegovih pravaca razvoja u buduć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66699"/>
                </a:solidFill>
                <a:latin typeface="Georgia"/>
              </a:rPr>
              <a:t>Sažetak treba sadržavati</a:t>
            </a:r>
            <a:r>
              <a:rPr b="1" lang="hr-HR" sz="2800" spc="-1" strike="noStrike">
                <a:solidFill>
                  <a:srgbClr val="666699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170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Kratku povijest poduzeć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170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Trenutno st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170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Cilj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170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170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170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Finan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0" y="698400"/>
            <a:ext cx="1219320" cy="68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m10"/>
          <p:cNvPicPr/>
          <p:nvPr/>
        </p:nvPicPr>
        <p:blipFill>
          <a:blip r:embed="rId1"/>
          <a:stretch/>
        </p:blipFill>
        <p:spPr>
          <a:xfrm rot="575400">
            <a:off x="6732360" y="188640"/>
            <a:ext cx="2246040" cy="1485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45" name="Picture 6" descr="m15"/>
          <p:cNvPicPr/>
          <p:nvPr/>
        </p:nvPicPr>
        <p:blipFill>
          <a:blip r:embed="rId2"/>
          <a:stretch/>
        </p:blipFill>
        <p:spPr>
          <a:xfrm>
            <a:off x="1692360" y="4941720"/>
            <a:ext cx="2160360" cy="14256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476280"/>
            <a:ext cx="7705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Georgia"/>
              </a:rPr>
              <a:t>2. Analiza postojećeg stanj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6920" y="2133360"/>
            <a:ext cx="770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Sastavljena je iz dva dij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44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Uvodni 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Detaljan opis proizvoda ili usluge, te utvrđivanje motiva potroš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Georgi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Analiza situ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Omogućuje razradu optimalne strategije kojom se mogu postići unaprijed utvrđeni ciljevi (postojeća tržišna situacija, ciljna skupina, tržišno okruženje, profitabilnost, ljudski potencijali i dru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712440"/>
            <a:ext cx="1219320" cy="68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slika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724360" y="3716280"/>
            <a:ext cx="3419640" cy="2541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500" spc="-1" strike="noStrike">
                <a:solidFill>
                  <a:srgbClr val="000000"/>
                </a:solidFill>
                <a:latin typeface="Georgia"/>
              </a:rPr>
              <a:t>3. Prognoza poslovanj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74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rognoziranje pomaže u postavljanju konkretnijih ciljeva u planu marketi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rognoza poslovanja izravno je povezana sa analizom poslovanja jer svaki proces planiranja budućnosti temelji se na prethodnim događaj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oristi progno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Određivanje tržiš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Planiranje strate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Određivanje prodajnih k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Definiranje cij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Određivanje proračuna za oglaša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I slič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0" y="130824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547640" y="620280"/>
            <a:ext cx="6562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Prognoza poslovanja podrazumijeva sagledavanje problema kroz opću problematiku u okruženju i zatim sužavanje interesa na sam proizvod vlastite organiza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U prognozi predviđamo sve elemente posl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U prognozi bi trebalo dati odgovore na pitanja postavljena u analizi situacije i ponuditi dva – tri “scenarija” ili moguća ish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U praktičnom životu najčešće se u prognoziranju govori o PROGNOZI PRODA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130824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620640"/>
            <a:ext cx="734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Metode prognoze prod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76360" y="2421000"/>
            <a:ext cx="6912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66699"/>
                </a:solidFill>
                <a:latin typeface="Georgia"/>
              </a:rPr>
              <a:t>Subjektivne met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na temelju mišlj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intui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ubjektivne ocjene pojedinca ili stručnj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66699"/>
                </a:solidFill>
                <a:latin typeface="Georgia"/>
              </a:rPr>
              <a:t>Objektivne met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luže se procesom koji je unaprijed određ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130824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4. Postavljanje ciljeva marketi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47280" y="1699920"/>
            <a:ext cx="72406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Opći ciljevi</a:t>
            </a: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e mogu kombinirati, ali kombinacija mora biti takva da ciljevi ne dolaze u suk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Ciljevi trebaju sadržavati i vremensku dimenziju, tako postaju čvršći i </a:t>
            </a: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konkret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Ciljevi trebaju b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Primjere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Prihvatlj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Ostvar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Fleksibil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Mjerlj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Motivirajuć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Razumlj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130860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447560" y="685800"/>
            <a:ext cx="73134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800" spc="-1" strike="noStrike">
                <a:solidFill>
                  <a:srgbClr val="000000"/>
                </a:solidFill>
                <a:latin typeface="Georgia"/>
              </a:rPr>
              <a:t>Konkurencija je poticaj za bolje poslovanj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800" spc="-1" strike="noStrike">
                <a:solidFill>
                  <a:srgbClr val="666699"/>
                </a:solidFill>
                <a:latin typeface="Georgia"/>
              </a:rPr>
              <a:t>“</a:t>
            </a:r>
            <a:r>
              <a:rPr b="0" i="1" lang="hr-HR" sz="4800" spc="-1" strike="noStrike">
                <a:solidFill>
                  <a:srgbClr val="666699"/>
                </a:solidFill>
                <a:latin typeface="Georgia"/>
              </a:rPr>
              <a:t>Ako nemate konkurentske prednosti ne konkurirajte”</a:t>
            </a:r>
            <a:r>
              <a:rPr b="0" lang="hr-HR" sz="4800" spc="-1" strike="noStrike">
                <a:solidFill>
                  <a:srgbClr val="666699"/>
                </a:solidFill>
                <a:latin typeface="Georgia"/>
              </a:rPr>
              <a:t> Jack Welch, 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target"/>
          <p:cNvPicPr/>
          <p:nvPr/>
        </p:nvPicPr>
        <p:blipFill>
          <a:blip r:embed="rId1">
            <a:grayscl/>
          </a:blip>
          <a:srcRect l="0" t="6664" r="0" b="0"/>
          <a:stretch/>
        </p:blipFill>
        <p:spPr>
          <a:xfrm>
            <a:off x="0" y="0"/>
            <a:ext cx="1219320" cy="6553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914400" y="649116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Izvor: Poslovni savjetnik, srpanj-kolovoz 200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ploča"/>
          <p:cNvPicPr/>
          <p:nvPr/>
        </p:nvPicPr>
        <p:blipFill>
          <a:blip r:embed="rId1"/>
          <a:stretch/>
        </p:blipFill>
        <p:spPr>
          <a:xfrm>
            <a:off x="4748040" y="0"/>
            <a:ext cx="4395960" cy="58672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728352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Konkurentska prednost mora imati određene osobi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50560" y="2421000"/>
            <a:ext cx="67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Istini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orist za potroša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pecifič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Mogućnost oglaš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KONKURENTSKA PREDNO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Organizirana sposobnost koja omogućava poduzeću da stvara znatno više vrijednosti za kupca u odnosu na svoje konkurent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Jednostavno rečeno. Prednost koju imate u odnosu na svoje konkurent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0" y="130860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666699"/>
                </a:solidFill>
                <a:latin typeface="Georgia"/>
              </a:rPr>
              <a:t>“</a:t>
            </a:r>
            <a:r>
              <a:rPr b="1" lang="hr-HR" sz="4800" spc="-1" strike="noStrike">
                <a:solidFill>
                  <a:srgbClr val="666699"/>
                </a:solidFill>
                <a:latin typeface="Georgia"/>
              </a:rPr>
              <a:t>Činite li nešto onako kako ste to činili prije dvadeset godina, svakako postoji bolji način.” </a:t>
            </a:r>
            <a:br>
              <a:rPr sz="4800"/>
            </a:br>
            <a:r>
              <a:rPr b="1" lang="hr-HR" sz="4800" spc="-1" strike="noStrike">
                <a:solidFill>
                  <a:srgbClr val="666699"/>
                </a:solidFill>
                <a:latin typeface="Georgia"/>
              </a:rPr>
              <a:t>Ed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kompas"/>
          <p:cNvPicPr/>
          <p:nvPr/>
        </p:nvPicPr>
        <p:blipFill>
          <a:blip r:embed="rId1"/>
          <a:stretch/>
        </p:blipFill>
        <p:spPr>
          <a:xfrm>
            <a:off x="1219320" y="3505320"/>
            <a:ext cx="2184120" cy="2336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914400" y="649116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Izvor: Poslovni savjetnik, srpanj-kolovoz 200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6718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5. Razvoj marketing strate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Diagram 3"/>
          <p:cNvGrpSpPr/>
          <p:nvPr/>
        </p:nvGrpSpPr>
        <p:grpSpPr>
          <a:xfrm>
            <a:off x="5192640" y="1369080"/>
            <a:ext cx="2899800" cy="1953360"/>
            <a:chOff x="5192640" y="1369080"/>
            <a:chExt cx="2899800" cy="1953360"/>
          </a:xfrm>
        </p:grpSpPr>
        <p:sp>
          <p:nvSpPr>
            <p:cNvPr id="170" name="_s1028"/>
            <p:cNvSpPr/>
            <p:nvPr/>
          </p:nvSpPr>
          <p:spPr>
            <a:xfrm flipV="1">
              <a:off x="6159600" y="1368720"/>
              <a:ext cx="966240" cy="651240"/>
            </a:xfrm>
            <a:custGeom>
              <a:avLst/>
              <a:gdLst>
                <a:gd name="textAreaLeft" fmla="*/ 346680 w 966240"/>
                <a:gd name="textAreaRight" fmla="*/ 619560 w 966240"/>
                <a:gd name="textAreaTop" fmla="*/ 233640 h 651240"/>
                <a:gd name="textAreaBottom" fmla="*/ 417600 h 65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eorgia"/>
                </a:rPr>
                <a:t>Ciljevi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eorgia"/>
                </a:rPr>
                <a:t>poduzeć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29"/>
            <p:cNvSpPr/>
            <p:nvPr/>
          </p:nvSpPr>
          <p:spPr>
            <a:xfrm flipV="1">
              <a:off x="5676120" y="2019960"/>
              <a:ext cx="1932840" cy="651240"/>
            </a:xfrm>
            <a:custGeom>
              <a:avLst/>
              <a:gdLst>
                <a:gd name="textAreaLeft" fmla="*/ 424800 w 1932840"/>
                <a:gd name="textAreaRight" fmla="*/ 1508040 w 1932840"/>
                <a:gd name="textAreaTop" fmla="*/ 143280 h 651240"/>
                <a:gd name="textAreaBottom" fmla="*/ 507960 h 65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eorgia"/>
                </a:rPr>
                <a:t>Ciljevi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eorgia"/>
                </a:rPr>
                <a:t>marketing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30"/>
            <p:cNvSpPr/>
            <p:nvPr/>
          </p:nvSpPr>
          <p:spPr>
            <a:xfrm flipV="1">
              <a:off x="5192640" y="2671200"/>
              <a:ext cx="2899800" cy="650520"/>
            </a:xfrm>
            <a:custGeom>
              <a:avLst/>
              <a:gdLst>
                <a:gd name="textAreaLeft" fmla="*/ 503280 w 2899800"/>
                <a:gd name="textAreaRight" fmla="*/ 2396520 w 2899800"/>
                <a:gd name="textAreaTop" fmla="*/ 112680 h 650520"/>
                <a:gd name="textAreaBottom" fmla="*/ 537840 h 65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eorgia"/>
                </a:rPr>
                <a:t>Taktički ciljev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8"/>
          <p:cNvSpPr/>
          <p:nvPr/>
        </p:nvSpPr>
        <p:spPr>
          <a:xfrm>
            <a:off x="1835280" y="1413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6699"/>
                </a:solidFill>
                <a:latin typeface="Georgia"/>
              </a:rPr>
              <a:t>Tri razine cilj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0" y="130860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692360" y="3141720"/>
            <a:ext cx="648000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Opće defini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trategija je sredstvo za ostvarenje cilj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tvaralačka misao, stvaralačka ideja, nadahnuće kojim dolazimo do konačnog, obično dugoročnog ci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Kotler: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trategija marketinga obuhvaća opća načela na temelju kojih uprava marketinga očekuje ostvarenje svojih poslovnih i marketinških ciljeva na ciljnom tržištu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701640"/>
            <a:ext cx="728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666699"/>
                </a:solidFill>
                <a:latin typeface="Georgia"/>
              </a:rPr>
              <a:t>Klasifikacija strategije marketing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09680" y="1847520"/>
            <a:ext cx="772632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Osnov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666699"/>
                </a:solidFill>
                <a:latin typeface="Georgia"/>
              </a:rPr>
              <a:t>Korporacijska strate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trategija najviše hijerarhijske razine, kojom se predodređuje stvarni obujam poslovnih aktivnosti gospodarskog sub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666699"/>
                </a:solidFill>
                <a:latin typeface="Georgia"/>
              </a:rPr>
              <a:t>Poslovna strate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Predstavlja konkretnu implementaciju korporativne strategije po pojedinim poslovnim područ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666699"/>
                </a:solidFill>
                <a:latin typeface="Georgia"/>
              </a:rPr>
              <a:t>Funkcionalna strate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Konkretizacija poslovne strate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0" y="130860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7715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Georgia"/>
              </a:rPr>
              <a:t>Za donošenje strateških odluka teorija je razradila </a:t>
            </a:r>
            <a:r>
              <a:rPr b="0" lang="hr-HR" sz="2700" spc="-1" strike="noStrike">
                <a:solidFill>
                  <a:srgbClr val="000000"/>
                </a:solidFill>
                <a:latin typeface="Georgia"/>
              </a:rPr>
              <a:t>različite</a:t>
            </a:r>
            <a:r>
              <a:rPr b="0" lang="hr-HR" sz="3100" spc="-1" strike="noStrike">
                <a:solidFill>
                  <a:srgbClr val="000000"/>
                </a:solidFill>
                <a:latin typeface="Georgia"/>
              </a:rPr>
              <a:t> metod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05952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Portfolio mat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temelje se na određenim postupcima čiji je rezultat grafički prikaz stanja poduze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Životni ciklus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Utvrđuje se položaj proizvoda u životnom vijeku i u svakoj se fazi provodi različita politika market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Strategija konkur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Strategija profitnog utje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Opća tržišna strate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0" y="130860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30240" y="549360"/>
            <a:ext cx="5694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6699"/>
                </a:solidFill>
                <a:latin typeface="Georgia"/>
              </a:rPr>
              <a:t>Portfolio mat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920" y="2421000"/>
            <a:ext cx="352728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666699"/>
                </a:solidFill>
                <a:latin typeface="Georgia"/>
              </a:rPr>
              <a:t>Snaga poduzeć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e izražava putem slijedećih osob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Lok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Tehnološka pred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Isku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Poznatost na tržiš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Ljudski potencij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Kvaliteta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Profitabiln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16360" y="2421000"/>
            <a:ext cx="38880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666699"/>
                </a:solidFill>
                <a:latin typeface="Georgia"/>
              </a:rPr>
              <a:t>Privlačnost tržišt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e određuje putem ovih kriter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Veličina ciljanog tržiš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Visina potraž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Tržišne cij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Pravni prop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Dostupnost sirov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Nedostaci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truktura distribucijskih ka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332000" y="141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Matrica uspješnosti u odnos stavlja dvije veličine; privlačnost tržišta i snagu poduze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0" y="130860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3280" y="476280"/>
            <a:ext cx="706752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etiri glavne strategije koje poduzeće može primijeniti imajući na umu životni ciklus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834920" y="1699920"/>
            <a:ext cx="550044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Penetracija na novo tržiš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Prvenstvo na tržiš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Rani nastup, ali ne u ulozi prv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Kasni nastup na tržiš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Povećanje udjela na trži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Diferencijacija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egmentacija tržiš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Utvrđivanje polož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Repozicion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Izravno sučelja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Povlačenje s trž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0" y="130860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721044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6. Razvoj taktika marketin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731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Taktikom odlučujemo o načinu provođenja zacrta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Varijable kojima možemo upravlj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Proiz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Ci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Prodaja s distribucij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Promo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Varijable kojima ne možemo upravlj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Varijable okruž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0" y="130860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76000" y="476280"/>
            <a:ext cx="721044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7. </a:t>
            </a: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Financijski</a:t>
            </a: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 pokazatel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686916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Financijski pokazatelji se svrstavaju u četiri sku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6699"/>
                </a:solidFill>
                <a:latin typeface="Georgia"/>
              </a:rPr>
              <a:t>Pokazatelji likvidnosti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koji mjere stupanj sposobnosti poduzeća da podmiri svoje dospjele kratkoročne obve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6699"/>
                </a:solidFill>
                <a:latin typeface="Georgia"/>
              </a:rPr>
              <a:t>Pokazatelji zaduženosti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koji mjere stupanj financiranja iz tuđih izvora sred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6699"/>
                </a:solidFill>
                <a:latin typeface="Georgia"/>
              </a:rPr>
              <a:t>Pokazatelji aktivnosti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koji mjere djelotvornost uporabe vlastitih resu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6699"/>
                </a:solidFill>
                <a:latin typeface="Georgia"/>
              </a:rPr>
              <a:t>Pokazatelji profitabilnosti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koji mjere povrat uloženog kapit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0" y="1308960"/>
            <a:ext cx="147636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67071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6699"/>
                </a:solidFill>
                <a:latin typeface="Georgia"/>
              </a:rPr>
              <a:t>Pokazatelji likvid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03280" y="2492280"/>
            <a:ext cx="746784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Koeficijent tekuće likvidnosti, K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Koeficijent ubrzane likvidnosti, K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Koeficijent financijske stabilnosti, K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1308960"/>
            <a:ext cx="147636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3548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6699"/>
                </a:solidFill>
                <a:latin typeface="Georgia"/>
              </a:rPr>
              <a:t>Pokazatelji zaduženost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76000" y="22050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Koeficijent zaduženosti, K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Koeficijent vlastitog financiranja, KV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1308960"/>
            <a:ext cx="147636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18920" y="54936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6699"/>
                </a:solidFill>
                <a:latin typeface="Georgia"/>
              </a:rPr>
              <a:t>Pokazatelji aktiv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07640" y="2060280"/>
            <a:ext cx="685188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Koeficijent obrta zali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Koeficijent obrta potraž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Koeficijent obrta kratkotrajne imo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Koeficijent obrta ukupne imo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0" y="1308960"/>
            <a:ext cx="147636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666699"/>
                </a:solidFill>
                <a:latin typeface="Georgia"/>
              </a:rPr>
              <a:t>Marketing p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Iznosi specifične aktivnosti koje poduzeće namjerava poduzeti u svrhu privlačenja interesa potencijalnih kupaca i klijenata za proizvod i uslugu koje poduzeće n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Primjenjuje marketinšku strategiju koja govori u kojem smjeru ići, dok marketing plan predstavlja putokaz kako tamo doć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Može biti samostalan dokument ili dio poslovnog plan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7164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6699"/>
                </a:solidFill>
                <a:latin typeface="Georgia"/>
              </a:rPr>
              <a:t>Pokazatelji profitabil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35280" y="2204640"/>
            <a:ext cx="7138800" cy="28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Marža prof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Rentabilnost ukupne imo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Rentabilnost vlastitog kapit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0" y="1308960"/>
            <a:ext cx="147636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476280"/>
            <a:ext cx="677844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6699"/>
                </a:solidFill>
                <a:latin typeface="Georgia"/>
              </a:rPr>
              <a:t>Analiza točke pokrić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2133360"/>
            <a:ext cx="76964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Točka pokrića je ona točka u kojoj prodaja određenog broja proizvoda pokriva troškove razvoja, proizvodnje i prodaje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Analizom točke pokrića poduzeće dobiva slijedeće informac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20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Koliko komada proizvoda treba prodati da bi se ostvario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20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Koliki će se profit ostvarivati uz različite količine pro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20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Po kojoj cijeni će ostvarivati dobit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20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Kako će povećanje ili smanjenje troškova na različitim razinama prodaje utjecati na dohodovnost poduzeć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0" y="1308960"/>
            <a:ext cx="147636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8724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100" spc="-1" strike="noStrike">
                <a:solidFill>
                  <a:srgbClr val="000000"/>
                </a:solidFill>
                <a:latin typeface="Georgia"/>
              </a:rPr>
              <a:t>8. Provođenje i kontrola marketing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47640" y="1988640"/>
            <a:ext cx="73137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onačna faza u procesu je provođenje ili implemen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Da bi se plan uspješno ostvario potrebno je uspostaviti kontro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ako bi ova faza bila uspješno provedena potrebno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Preuzeti odgovo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Pratiti sve zadaće, taktike i strategije i mjeriti ono što se stvarno dogodilo u usporedbi s onim što je plani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Pratiti promjene u okruženju usporedno s odvijanjem plana marketi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1308960"/>
            <a:ext cx="147636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1640" y="692280"/>
            <a:ext cx="7427880" cy="12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Internet marketing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08000" y="2276280"/>
            <a:ext cx="6778800" cy="36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redstavljanje na Internetu, nije ništa drugo nego jedna vrsta marketing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Internet marketing ne završava izradom jedne web stranice i njezinim prijavljivanjem na jedan ili nekoliko pretraživač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Marketing zahtjeva kontinuiranu analizu, istraživanje, planiranje i praćenje rezultata korištenjem standardnih i alternativnih meto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6994440" cy="13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Internet marketing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0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Analiza statistika trž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Formuliranje strategija marketing komunik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Planiranje potrebnih sredstava za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Formiranje marketinškog 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Kreiranje korporativnog identiteta tvrt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Definiranje vremenskih ro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Dizajniranje promotivnih kampanja (Internet Media 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reiranje dodatnih marketinških materijala i kamp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Provođenje vlastitih istraživanja trž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Izvršenje promotivnih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Mjerenje efekata marketinških aktivnosti</a:t>
            </a:r>
            <a:br>
              <a:rPr sz="2400"/>
            </a:b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129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Koristi marketing pl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32000" y="162864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Osigurava sustavnost od početka do kr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Sve planirane aktivnosti prikazuju se na papi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Bolje izražavanje ciljeva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Bolja kontrola po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Poduzeće koje raspolaže marketing planom ostvaruje bolji položaj u odnosu na poduzeća koja ga nema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omaže poduzeću da se pripremi za nepredviđene situacije jer se neke od njih mogu predvidjeti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23880" y="2590920"/>
            <a:ext cx="7313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Georgia"/>
              </a:rPr>
              <a:t>Dobar plan marketinga ne bi smio dopuštati preveliku fleksibilnost, plan je kreiran da bi ga se slijedi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Georgia"/>
              </a:rPr>
              <a:t>Što je plan marketinga sažetiji, lakše će ga biti slijedit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kompas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666699"/>
                </a:solidFill>
                <a:latin typeface="Georgia"/>
              </a:rPr>
              <a:t>Zaključa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3137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astavljanje marketing plana ohrabruje na izučavanje industrije u kojoj se posluje ali i proučavanje vlastitog pos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Marketing plan pruža informacije o proizvodima, uslugama, marketing ciljevima, taktikama i strategi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Marketing planom moguće je mjeriti uspj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Marketing plan nije troš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Update” marketing plana bilo bi dobro vršiti kvartalno ili barem jednom godiš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marketing plan izdvojit će vas iz konkur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666699"/>
                </a:solidFill>
                <a:latin typeface="Georgia"/>
              </a:rPr>
              <a:t>Literatura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Bangs, D. H.: Plan marketinga, Jakubin i sin, Zagreb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Marušić, Mira: Plan marketinga, Adeco, Zagreb, 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Medić, M., Bilješke s predavanja 2007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Poslovni savjetnik, mjesečnik za managere i poduzetnike, srpanj-kolovoz, 2005., Zagreb, str 26-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Georgia"/>
              </a:rPr>
              <a:t>	</a:t>
            </a:r>
            <a:r>
              <a:rPr b="0" lang="hr-HR" sz="1800" spc="-1" strike="noStrike" u="sng">
                <a:solidFill>
                  <a:srgbClr val="666699"/>
                </a:solidFill>
                <a:uFillTx/>
                <a:latin typeface="Georgia"/>
                <a:hlinkClick r:id="rId1"/>
              </a:rPr>
              <a:t>www.websitemarketingpla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Georgia"/>
              </a:rPr>
              <a:t>	</a:t>
            </a:r>
            <a:r>
              <a:rPr b="0" lang="hr-HR" sz="1800" spc="-1" strike="noStrike" u="sng">
                <a:solidFill>
                  <a:srgbClr val="666699"/>
                </a:solidFill>
                <a:uFillTx/>
                <a:latin typeface="Georgia"/>
                <a:hlinkClick r:id="rId2"/>
              </a:rPr>
              <a:t>www.poslovniforum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prezentaciji korišteni materijali studen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Footlight MT Light"/>
              </a:rPr>
              <a:t>Bačić,T., Cibula.Z., Divljaković,Ž., Dragušica,I., Franjić,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47628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Što je marketing pla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84360" y="2060640"/>
            <a:ext cx="5832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ogičan nastavak istraživanja i najvećim     dijelom na njemu i utemel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sustavljeni popis i opis svih aktivnosti usmjerenih na što učinkovitiju prezentaciju i prodaju određenog proizvoda ili usluge potroša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varanje što povoljnije slike poduzeća u ja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boutImage"/>
          <p:cNvPicPr/>
          <p:nvPr/>
        </p:nvPicPr>
        <p:blipFill>
          <a:blip r:embed="rId1"/>
          <a:stretch/>
        </p:blipFill>
        <p:spPr>
          <a:xfrm>
            <a:off x="6012000" y="1916280"/>
            <a:ext cx="2133360" cy="324000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611280" y="476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urier New"/>
              </a:rPr>
              <a:t>Važnost plana marketi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11280" y="2133720"/>
            <a:ext cx="52560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mogućuje da se naš proizvod ili usluga nađe na pravome mjestu u pravo vrijeme i u potrebnim količinama, u skladu sa zahtjevima potroša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lat direktnog marketinga koji je usmjeren na istraživanje prodajnog tržišta, kupaca i konkure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7"/>
          <p:cNvPicPr/>
          <p:nvPr/>
        </p:nvPicPr>
        <p:blipFill>
          <a:blip r:embed="rId1"/>
          <a:stretch/>
        </p:blipFill>
        <p:spPr>
          <a:xfrm>
            <a:off x="5940360" y="2997360"/>
            <a:ext cx="2252880" cy="2663640"/>
          </a:xfrm>
          <a:prstGeom prst="rect">
            <a:avLst/>
          </a:prstGeom>
          <a:ln w="12600">
            <a:solidFill>
              <a:srgbClr val="9933ff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300" spc="-1" strike="noStrike">
                <a:solidFill>
                  <a:srgbClr val="000000"/>
                </a:solidFill>
                <a:latin typeface="Georgia"/>
              </a:rPr>
              <a:t>Zašto marketing plan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Velika konkur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Moć odlučivanja pomiče se prema potrošač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Marke su međusobno sve sličnije a lojalnost marki se smanj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Potrošači su sve osjetljiviji na odnos cijena/vrijednost i sve bolje su informi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Alati direktnog marketinga i odnosa sa javnošću postaju sve djelotvorn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iklus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1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Glavne zadaće plana marketin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32000" y="2133720"/>
            <a:ext cx="736920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751"/>
              </a:spcBef>
              <a:buClr>
                <a:srgbClr val="666699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eorgia"/>
              </a:rPr>
              <a:t>Upoznati potrošače/klijente/korisnike (očekivanja, preferencij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751"/>
              </a:spcBef>
              <a:buClr>
                <a:srgbClr val="666699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eorgia"/>
              </a:rPr>
              <a:t>Upoznati konkurenciju (slabosti i sna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751"/>
              </a:spcBef>
              <a:buClr>
                <a:srgbClr val="666699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eorgia"/>
              </a:rPr>
              <a:t>Upoznati okolinu (zakonodavstvo, propisi, stanje tehnologije, društvenokulturni uvjeti, demografija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751"/>
              </a:spcBef>
              <a:buClr>
                <a:srgbClr val="666699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eorgia"/>
              </a:rPr>
              <a:t>Utvrditi način pozicioniranja (koju tržišnu nišu poduzeće treba zauzet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79640" y="476280"/>
            <a:ext cx="49813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Georgia"/>
              </a:rPr>
              <a:t>Svrha marketing plana j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92000" y="2852280"/>
            <a:ext cx="6769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definirati tržište poduzeć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otkriti potrošače i konkuren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zacrtati strategiju koja će privući i zadržati potrošač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te predvidjeti dolazeće pro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lista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Georgia"/>
              </a:rPr>
              <a:t>Oblici marketing pl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6699"/>
                </a:solidFill>
                <a:latin typeface="Georgia"/>
              </a:rPr>
              <a:t>Plan marketinga za novi proizvod, uslugu, proizvodnu liniju ili marku proizvoda koja još nije uvedena na tržiš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Godišnji plan marketinga za proizvode, projekte, usluge ili marke proizvoda koje se već prodaju na tržištu i koje čine stalno poslovanje poduzeć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1:47Z</dcterms:created>
  <dc:creator>Mladen</dc:creator>
  <dc:description/>
  <dc:language>en-US</dc:language>
  <cp:lastModifiedBy>Marko</cp:lastModifiedBy>
  <dcterms:modified xsi:type="dcterms:W3CDTF">2008-06-05T17:38:54Z</dcterms:modified>
  <cp:revision>2</cp:revision>
  <dc:subject/>
  <dc:title>Marketing plan</dc:title>
</cp:coreProperties>
</file>