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93E-2933-4FD6-B3D3-26E021F6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124-183F-4AA6-9A3E-5849A119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33C-4047-4FA8-8A11-C8130835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705-CDC0-44B7-A984-F74900BB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944A-FDA3-4D1B-BBF9-F61AE416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221E-63D1-4B75-B11F-28449291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426A-C307-4503-A602-0031E8FF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96E7-E54C-49AC-AD96-3E54BD4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CE8-0172-4DBA-B1BF-C5F98A0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B053-EFBC-44C0-8C97-82D2891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3DDE-CD7A-4272-8A5A-C31DAE8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148-70BE-48FF-BAF7-149D7835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D313-5CB7-4647-B1FA-1C61E76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7ECC-5FE7-4FC5-8CCF-B361330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2B40-ED73-4540-BF42-77037DDD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1781-2CAA-43A8-92DE-9556F80D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CE0A-CDA5-4F8C-9EF7-841B3747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EFE-4FDE-4CAC-9046-447520E8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342-E7E8-4434-8C07-F295A273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B04-D8C4-4964-BC7E-5844D5C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86F-931B-4A15-8031-CA1B2BC5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992-66A3-4603-AA47-8874FBD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754-B001-4775-9EF5-6D3699D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81A-7D3A-4277-96E4-7D353A0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CBF-5095-4B9B-BC00-4C76A4E2585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56D0-A4B9-40B5-BA0C-88471EE449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Prof. 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. sc. Boris Tušek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Ekonomski fakultet Zagreb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989840" cy="4543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ahoma"/>
              </a:rPr>
              <a:t>INTERNA KONTROLA KAO DIO SUSTAVA INTERNOG NADZO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C07-639E-456D-A8D7-1D628F92C9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VRSTE INTERNIH KONTROL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ačunovodstvene interne kontrole (vezane uz računovodstveni proc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dministrativne ili izvršne interne kontrole (vezane uz temeljne poslovne funkcije – nabava, proizvodnja, prodaj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pravljačke kontrole (vezane uz temeljne upravljačke funkcij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ni postupci: preventivni, detektivni i korektiv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D18-CDDC-4CEF-8307-B650BC5E47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62040" y="1630440"/>
            <a:ext cx="7602480" cy="4402080"/>
            <a:chOff x="662040" y="1630440"/>
            <a:chExt cx="7602480" cy="4402080"/>
          </a:xfrm>
        </p:grpSpPr>
        <p:cxnSp>
          <p:nvCxnSpPr>
            <p:cNvPr id="109" name="_s219140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5269680" y="1602720"/>
              <a:ext cx="229320" cy="242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219141"/>
            <p:cNvCxnSpPr>
              <a:stCxn id="113" idx="0"/>
              <a:endCxn id="111" idx="2"/>
            </p:cNvCxnSpPr>
            <p:nvPr/>
          </p:nvCxnSpPr>
          <p:spPr>
            <a:xfrm flipV="1">
              <a:off x="4173120" y="2699640"/>
              <a:ext cx="252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219142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848320" y="1603440"/>
              <a:ext cx="229320" cy="2421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219143"/>
            <p:cNvSpPr/>
            <p:nvPr/>
          </p:nvSpPr>
          <p:spPr>
            <a:xfrm>
              <a:off x="2498760" y="1630440"/>
              <a:ext cx="3349440" cy="1069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UZEĆE KAO 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219144"/>
            <p:cNvSpPr/>
            <p:nvPr/>
          </p:nvSpPr>
          <p:spPr>
            <a:xfrm>
              <a:off x="662040" y="2928960"/>
              <a:ext cx="2179440" cy="1187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IZVRŠN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219145"/>
            <p:cNvSpPr/>
            <p:nvPr/>
          </p:nvSpPr>
          <p:spPr>
            <a:xfrm>
              <a:off x="3084480" y="2928960"/>
              <a:ext cx="2178000" cy="1187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INFORMACIJSK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219146"/>
            <p:cNvSpPr/>
            <p:nvPr/>
          </p:nvSpPr>
          <p:spPr>
            <a:xfrm>
              <a:off x="5505480" y="2928960"/>
              <a:ext cx="2179440" cy="1187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UPRAVLJAČK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7080" y="4508640"/>
              <a:ext cx="194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3960" y="4325760"/>
              <a:ext cx="142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naba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proizvodnj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prodaj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financije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2000" y="4292640"/>
              <a:ext cx="244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računovodstven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neračunovodstveni</a:t>
              </a: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0000" y="4292640"/>
              <a:ext cx="2684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planiranj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organiziranj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 upravljanje ljudskim potencijali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 vođenj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 kontrol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35A-D0B7-4E36-9F85-6E0AB53067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762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Vrste kontrolnih postupa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34936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 </a:t>
            </a: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fazama kont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 </a:t>
            </a:r>
            <a:r>
              <a:rPr b="0" lang="hr-HR" sz="3200" spc="-1" strike="noStrike">
                <a:solidFill>
                  <a:srgbClr val="ff7c80"/>
                </a:solidFill>
                <a:latin typeface="Tahoma"/>
              </a:rPr>
              <a:t>fazama</a:t>
            </a:r>
            <a:r>
              <a:rPr b="0" lang="en-US" sz="3200" spc="-1" strike="noStrike">
                <a:solidFill>
                  <a:srgbClr val="ff7c80"/>
                </a:solidFill>
                <a:latin typeface="Tahoma"/>
              </a:rPr>
              <a:t> obrade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etodama obrade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E00-DE10-4769-8436-418B17599E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</a:t>
            </a: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9933"/>
                </a:solidFill>
                <a:latin typeface="Tahoma"/>
              </a:rPr>
              <a:t>prema fazama kontrol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Preventiv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Detektiv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Korektiv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081-E7BD-4312-814F-2A97BD8872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838836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PREVENTIVNI KONTROLNI POSTUPC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-350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Spr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j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ečavaju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stanak nepravilnosti, odnosno pogrešk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kontrola dokumenta prije knjiže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prethodna kontrola D=P (kontrola temeljnic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kontrole pristup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nemogućnost ispostavljanja dokumenata ili izvršenja dijela obrade ukoliko nedostaje zahtjevani parametar…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-350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roškovno najisplativiji mehanizmi kontrole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236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234-DCA6-4A8F-8C8D-CDED404013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57200"/>
            <a:ext cx="8280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DETEKTIVNI KONTROLNI POSTUPC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029440" cy="45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1604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Signaliziraju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nastanak nepravilnosti (npr. naknadna kontrola D=P, odstupanja od plana, inventura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1604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luže za identifikaciju nepoželjnih događaja (često nije moguć nastavak radnje ukoliko se problem ne uklon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1604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Baza usporedbe: standardne veličine, </a:t>
            </a: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planov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 zakoni…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EC9-3080-42DF-95B7-FE536816B5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83883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KOREKTIVNI KONTROLNI POSTUPCI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duzimaju se radi 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otklanjan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nastale nepravilnosti, odnosno pogreš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trebno definirati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zrok proble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čin korigiranja pogreš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odifikaciju sust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43A-383E-451B-BB0B-C764C43F189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44360" y="692280"/>
          <a:ext cx="882036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92280"/>
                    <a:ext cx="8820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B24-8FB4-4673-924F-ED8A9B8B79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Preventiv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mjeri preventivnih kontro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obravanje svih vrijednosno značajnijih isplata s dva potpisa, odnosno potpisni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orištenje odobrene liste dobavljač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klađivanje ulaznih računa s izvještajima o primitku (primkom) prije odobravanja plaćanja dobavljač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rovjera računske točnosti računa prije plaća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424-3EE9-458C-B835-00DD95589F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Detektiv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mjeri detektivnih kontrol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riprema izvješća i usklađivanje s poslovnim knjiga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klađivanje izvoda otvorenih stavaka dobivenog od dobavljača s evidentiranim plaćanji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zičko brojenje zaliha i utvrđivanje zastarijelosti zalih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FB3-4357-4BD4-8FCC-01E3ABFDD0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RNA KONTROLA</a:t>
            </a:r>
            <a:r>
              <a:rPr b="1" lang="hr-HR" sz="2800" spc="-1" strike="noStrike">
                <a:solidFill>
                  <a:srgbClr val="ffff00"/>
                </a:solidFill>
                <a:latin typeface="Tahoma"/>
              </a:rPr>
              <a:t> I REVIZIJA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KAO DIO SUSTAVA INTERNOG NADZOR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jevi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avila i norme ponašanj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dstupanj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dz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ste nadzor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-  kriterij razlikova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terni nadzo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– unutar poslovnog sust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ff33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ntern</a:t>
            </a:r>
            <a:r>
              <a:rPr b="0" lang="hr-HR" sz="2800" spc="-1" strike="noStrike">
                <a:solidFill>
                  <a:srgbClr val="99ff33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 kontrol</a:t>
            </a:r>
            <a:r>
              <a:rPr b="0" lang="hr-HR" sz="2800" spc="-1" strike="noStrike">
                <a:solidFill>
                  <a:srgbClr val="99ff33"/>
                </a:solidFill>
                <a:latin typeface="Tahoma"/>
              </a:rPr>
              <a:t>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– polazna osno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ahoma"/>
              </a:rPr>
              <a:t>interna revizi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– naknadni nadz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3E2-8E2D-47A7-85DF-C7408A66F5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Računovodstveni informacijski sustav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CCE-E59C-4751-B5A7-ED174C1A94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Faze računovodstvenog proces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.Prikupljanje podataka o nastalim poslovnim događajima - knjigovodstvene ispr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.Analiza poslovnih događaja i izbor konta za evidentir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3.Evidentiranje poslovnih događaja (poslovne knjig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4.Zaključivanje konta (bruto bilanc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2A5-217E-415B-AD8C-A56C41421C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Faze računovodstvenog proces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5. Sastavljanje financijskih izvješta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6. Korisnici financijskih izvještaja (interni i ekstern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B3A-E335-4799-AEDE-0E8DFA95A6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</a:t>
            </a: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7c80"/>
                </a:solidFill>
                <a:latin typeface="Tahoma"/>
              </a:rPr>
              <a:t>prema fazama obrad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55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KONTROLA ULAZ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va faza kontrole, preventivni kontrolni postupa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Usmjerena na kontrolu unosa podataka - kontrola isprava (formalna, računska, suštinska), kontrola kontiranja…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KONTROLA OBRA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emeljne računovodstvene kont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vojno knjigovodstvo (duguje = potražuj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nevnik – glavna knjiga (bruto bilanc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alitika – sintetika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(glavna knjiga – pomoćne knjige)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nventu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ntrola primjene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zakonskih propi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KONTROLA IZLAZA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Kontrola financijskih izvještaja (forma, sadržaj, rokovi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Kontrola pristupa informacijama (“tajne” informacij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EFE-A3DA-415A-8751-C23C6A10BF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 prema </a:t>
            </a:r>
            <a:r>
              <a:rPr b="0" lang="hr-HR" sz="3200" spc="-1" strike="noStrike">
                <a:solidFill>
                  <a:srgbClr val="66ff33"/>
                </a:solidFill>
                <a:latin typeface="Tahoma"/>
              </a:rPr>
              <a:t>metodama obrade podatak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643880" cy="33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a u uvjetima ručne obr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a u uvjetima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čunalne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r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vremeni RIS: kontrole pristupa, kontrole inputa, komunikacijske kontrole, kontrole obrade, kontrole baze podataka, kontrole outpu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965-0F5A-4113-8A03-B86EDDF6CD7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nabav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entralizirani izbor dobavljač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trebni su dokazi za odobrenje nabave prije no što se nabava autorizira (količine i razine ponovne nabave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rudžbe se pripremaju tek nakon što je zaprimljeno odobrenje za nabav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narudžb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thodno numerirane narudžb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siguravanje bjanko narudžb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gledavanje narudžbi koje nisu primljene ili fakturiran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aćenje uvjeta dobavljača i korištenje povoljnih uvjeta (kupovina na veliko, popusti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233-A267-4BCF-A87D-6ECA85C614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nabav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gledavanje primljene ro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jezine kvalitet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jezine količine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jezinog stanj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okumentiranje dospijeća i primitka robe (prethodno numeriran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mk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poređivanj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mk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s nabavnim naloz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zivanje na broj dobavljačevih faktura; numeriranje u slijedu i poziv na broj dobavljač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vjeravanje faktura dobavljač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jene, količine, točnost kalkulaci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poređivanje s narudžbom i dostavni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tupci dobivanja obavijesti o odobrenju od dobavljača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7F8-2C5A-4DF8-B9AA-C997597008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izvodn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ealizacija postavljenog plana proizvodnj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ptimalno angažiranje resursa (radne snage, sirovina, energije, korištenje tuđih usluga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a količine i kvalitete proizvedenih učina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a vrijednosti zaliha nedovršene proizvodnje i gotovih proizvo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sprav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578-040F-4FC1-B433-A66B30D3DF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jela dužnosti, mjere kontrole redovitog plaćanja, fakturiranje i dostava robe sa skladiš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uvjeta zaduživanja za kup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primljene reference i provjera kreditne sposobnosti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u provodi više rangirano osoblj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dovito pregledavanje uvje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promjena drugih podataka o klijentim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mjena adrese koju potvrđuje memorandum kup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htjev za brisanjem iz popisa koji potvrđuju prazni saldo / kupac koji je podmirio obvez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68A-666E-478A-A2A1-7F757F5DA1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rudžbe se zaprimaju samo od kupaca koji nemaju problema sa zaduživanjem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umeriranje bjanko narudžbi u slijed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točno zaračunata cijena kupc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udaranje narudžbi kupaca s nalozima za proizvodnju i otpremnica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brada upita klijena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otpremljene ro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sporuka samo nakon naloga za prodaj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sporuka samo autoriziranim kupc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ebna autorizacija isporuke robe bez naknade ili robe koja se isporučuje pod posebnim uvjet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664-CFF4-4B6E-8B31-0A96009E83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Pojam interne kontrole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99ff33"/>
                </a:solidFill>
                <a:uFillTx/>
                <a:latin typeface="Tahoma"/>
              </a:rPr>
              <a:t>Metode i postupc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koje je usvojio menadžment poduzeća a koje mu pomažu u ostvarivanju ciljeva i pridonose redovitom i uspješnom upravljanju poduzeć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E09-C12A-46D9-AAED-1BEB46B60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gledavanje količine, kvalitete i valjanosti izdane rob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okumentiranje izdane rob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dana roba odgovara narudžbama klijenata, otpremnicama i faktura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thodno numeriranje otpremnica i dostavnica i redovito provjeravanje u slijed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vjet da se provjerava vraćena rob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okumentiranje vraćene robe pomoću povratnic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tpisivanje dostavnic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2F3-7158-4204-89EF-611F7F0299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ipremanje faktura i obavijesti o odobrenju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prodajnih cijena / korištenje cjenik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obavijesti o odobrenj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vjera cijena, količina, produženja i ukupne svote na fakturama i obavijestima o odobrenj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umeriranje bjanko faktura i obavijesti o odobrenju u slijedu i redovita provjera slijeda,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dovito vođenje skladišne dokumentacij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udaranje prodajnih faktura s otpremnicama i dostavnicama te narudžba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dovito pregledavanje narudžbi prema kojima roba još nije isporučen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CF2-8769-472B-8249-4F5D077746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Vrste kontrolnih postupaka i aktivnost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e mogu biti osobne, tehničke ili kombinira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egledi na najvišoj organizacijskoj razi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e na razini pojedinih organizacijskih jedin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Fizičke kontro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stav odobrenja i ovlašte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stav verifikacije i usklađiva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djela (razgraničenje) duž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306-6077-492B-8FD0-78E06F067C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Ograničenja internih kontrol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običajeni zahtjev menadžmenta da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troškovi interne kontrole ne budu veći od očekivane korist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ećina internih kontrola usmjerava se radije na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rutinske, nego na nerutinske transakcij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ljudskih pogrešk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uzrokovanih nepažnjom, rastresenošću, pogrešnim prosudbama ili pogrešno protumačenim uputa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izbjegavanja kontrole kroz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tajne sporazum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menadžera ili zaposlenika sa strankama izvan ili unutar poslovnog subjek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ECD-D6BE-43E1-8F5A-392B992BA2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Ograničenja internih kontrol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da osobe odgovorne za provedbu interne kontrole mogu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zlorabit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tu odgovornost, primjerice član uprave zaobiđe internu kontrol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da postupci, zbog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promjena uvjet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postanu neprikladni i na taj se način pogorša primjerenost tih postupak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1C1-BF10-4E1F-8F51-9EEA62BDE1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Pojmovno određenje interne revizije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Interna revizi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neovisno je i objektivno jamstvo i savjetnička aktivnost koja se rukovodi filozofijom dodane vrijednosti s namjerom poboljšanja poslovanja organizacij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na pomaže organizaciji u ispunjavanju njezinih ciljeva, sistematičnim i na disciplini (struci) utemeljenim pristupom procjenjivanja djelotvornosti </a:t>
            </a: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upravljanja rizicima, kontrole i korporativnog upravljan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(IIA, 2001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65D-FC83-4F0D-8CB7-31A1051093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Značajke inter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erna kontrola je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proces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odnosno skup aktivnosti koje nisu same sebi svrhom, nego ih treba shvatiti kao sredstvo za ostvarivanje postavljenih cilje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ernu kontrolu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provode ljud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na svim razinama u organizaci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 interne kontrole može se očekivati osiguranje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razumnog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ali ne i apsolutnog uvjerenj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erna kontrola se ustrojava radi ostvarivanja nekih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ciljeva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 učinkovitost i djelotvornost poslovnih operacija, pouzdanost financijskog izvještavanja i usklađenost sa zakonskom regulativ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83B-DC5F-4260-869D-BF38C616F2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Ciljevi inter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urati pouzdanost i integritet generiranih   podataka i informaci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igurati točnost, valjanost i sveobuhvatnost računovodstvenih i neračunovodstvenih evidencij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igurati usklađenost s poslovnim politikama, planovima, programima rada, zakonskim i drugim propisima i akti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štita imovine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duzeć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ivno djelovanje i sprječavanje prijevara i pogreša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AD2-5CAE-41EF-ADB7-F0C24500D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Ciljevi inter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Operativni ciljev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(osigurati učinkovitost i djelotvornost poslovnih operacij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Informacijski ciljev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(osigurati pouzdane financijske i nefinancijske informacije za potrebe poslovnog odlučivanj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Ciljevi usklađenosti ili podudarnost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(osigurati usklađenost s politikama, programima, procedurama, zakonskim propisima.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377-C76E-420D-AAF6-BDBCAEF7C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Tahoma"/>
              </a:rPr>
              <a:t>Značajke interne kontro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Situacijski pristup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u oblikovanju internih kontrola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utjecajni čimbenici (institucionalni okvir, veličina poduzeća, organizacijska struktura, lokacija, način rukovođenja, osposobljenost zaposlenih, vrsta obrade podataka, vrsta i priroda poslova, it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nos očekivanih troškova i koristi (cost-benefi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govornost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menadž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85F-F621-427E-8078-403E8A485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Tahoma"/>
              </a:rPr>
              <a:t>Značajke interne kontro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Dinamički pristup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 oblikovanju internih kontrola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potreba za kontinuiranim dopunjavanjem i modificiranjem internih kontrolnih postupa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načajni reorganizacijski zahvati, restrukturiranje, fluktuacija radnika, uvođenje novog sustava obrade podataka, novi sustav internog izvještavanja, ekspanzija poslovanja, nove tehnologije, novi proizvodi i usluge.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C81-F022-4398-8566-19DED27A25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Struktura (komponente) sustava internih kontrol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kruženje ili uvjeti u kojima se provodi kontro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cjena rizika (risk assessm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 (aktiv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formacije i komunikaci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nito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6F5-CAAA-49FC-8FB6-BFE2A69145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8:35:07Z</dcterms:created>
  <dc:creator>TEB</dc:creator>
  <dc:description/>
  <dc:language>en-US</dc:language>
  <cp:lastModifiedBy>Boris Tušek</cp:lastModifiedBy>
  <cp:lastPrinted>2001-07-23T08:49:33Z</cp:lastPrinted>
  <dcterms:modified xsi:type="dcterms:W3CDTF">2007-03-07T10:15:04Z</dcterms:modified>
  <cp:revision>102</cp:revision>
  <dc:subject/>
  <dc:title>Dr. sc. Boris Tušek TEB Poslovno savjetovanje d.o.o.</dc:title>
</cp:coreProperties>
</file>