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AD7-2824-4A4A-9CAA-FEFB0A35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107-451D-4885-BEA3-6B87AFEA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58D-5939-4ADE-A13C-84AB8068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B62-8E1C-483A-8917-8B3B70A2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6561-EE31-48BD-BE94-F4D3AD89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493E-C2E0-4107-BB3D-113F72D7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823D-9654-4CFB-88F0-D05D35B8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8741-0521-4B9B-8C97-B083036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CDBB-B57D-4B3E-81BE-F6B18EEE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B10D-42A0-4700-91B0-4B6DCD75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C2AE-C792-4694-9652-08BB0AF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974-7754-4B9A-ABBC-A13D52AF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9243-932A-443C-8D07-77562A74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23BF-6691-434D-A0B1-7BB9AA23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1E2E-DF22-4B4D-818A-5C643B24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800E-7750-4931-B939-674704A1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29E1-B305-41E2-826C-78811C08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BA4-8EE2-4632-86C8-88AD82E0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ACE-D0A2-41B4-87F5-69B541AB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4D5-B194-4001-A939-948B07EE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7EC-D491-4F4E-AD16-EC7B37BC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961-099F-4F6C-A546-B687E2F1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05A-FB4D-4D6E-890B-3E0AC4C2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911-1F7A-4713-962B-D70F7227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1BEA-CA0C-4078-AEF5-C6AF8DD7F67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929A-F6F8-42ED-815F-09DB72F0580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Prof. 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. sc. Boris Tušek</a:t>
            </a:r>
            <a:br>
              <a:rPr sz="2800"/>
            </a:b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Ekonomski fakultet Zagreb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989840" cy="4543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Tahoma"/>
              </a:rPr>
              <a:t>INTERNA KONTROLA KAO DIO SUSTAVA INTERNOG NADZOR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D4A-1282-44D3-99AE-88342229B4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VRSTE INTERNIH KONTROL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ačunovodstvene interne kontrole (vezane uz računovodstveni proc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dministrativne ili izvršne interne kontrole (vezane uz temeljne poslovne funkcije – nabava, proizvodnja, prodaj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pravljačke kontrole (vezane uz temeljne upravljačke funkcij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ni postupci: preventivni, detektivni i korektiv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B9A-CF43-4661-B3B8-BE893F1D18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662040" y="1630440"/>
            <a:ext cx="7602480" cy="4402080"/>
            <a:chOff x="662040" y="1630440"/>
            <a:chExt cx="7602480" cy="4402080"/>
          </a:xfrm>
        </p:grpSpPr>
        <p:cxnSp>
          <p:nvCxnSpPr>
            <p:cNvPr id="109" name="_s219140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5269680" y="1602720"/>
              <a:ext cx="229320" cy="2423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" name="_s219141"/>
            <p:cNvCxnSpPr>
              <a:stCxn id="113" idx="0"/>
              <a:endCxn id="111" idx="2"/>
            </p:cNvCxnSpPr>
            <p:nvPr/>
          </p:nvCxnSpPr>
          <p:spPr>
            <a:xfrm flipV="1">
              <a:off x="4173120" y="2699640"/>
              <a:ext cx="2520" cy="229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4" name="_s219142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2848320" y="1603440"/>
              <a:ext cx="229320" cy="2421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1" name="_s219143"/>
            <p:cNvSpPr/>
            <p:nvPr/>
          </p:nvSpPr>
          <p:spPr>
            <a:xfrm>
              <a:off x="2498760" y="1630440"/>
              <a:ext cx="3349440" cy="106992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ODUZEĆE KAO SUSTA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_s219144"/>
            <p:cNvSpPr/>
            <p:nvPr/>
          </p:nvSpPr>
          <p:spPr>
            <a:xfrm>
              <a:off x="662040" y="2928960"/>
              <a:ext cx="2179440" cy="11872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IZVRŠN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ODSUSTA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_s219145"/>
            <p:cNvSpPr/>
            <p:nvPr/>
          </p:nvSpPr>
          <p:spPr>
            <a:xfrm>
              <a:off x="3084480" y="2928960"/>
              <a:ext cx="2178000" cy="11872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INFORMACIJSK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ODSUSTA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_s219146"/>
            <p:cNvSpPr/>
            <p:nvPr/>
          </p:nvSpPr>
          <p:spPr>
            <a:xfrm>
              <a:off x="5505480" y="2928960"/>
              <a:ext cx="2179440" cy="118728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3560" rIns="4356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UPRAVLJAČK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hr-HR" sz="2000" spc="-1" strike="noStrike">
                  <a:solidFill>
                    <a:srgbClr val="ffffff"/>
                  </a:solidFill>
                  <a:latin typeface="Arial"/>
                </a:rPr>
                <a:t>PODSUSTA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7080" y="4508640"/>
              <a:ext cx="1943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3960" y="4325760"/>
              <a:ext cx="142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naba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proizvodnj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prodaj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financije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2000" y="4292640"/>
              <a:ext cx="2448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računovodstven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neračunovodstveni</a:t>
              </a:r>
              <a:r>
                <a:rPr b="1" lang="hr-H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80000" y="4292640"/>
              <a:ext cx="2684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planiranj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organiziranj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 upravljanje ljudskim potencijali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 vođenj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ffffff"/>
                  </a:solidFill>
                  <a:latin typeface="Arial"/>
                </a:rPr>
                <a:t>- kontrol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75E-39C0-4465-95FE-761DD3E230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762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Vrste kontrolnih postupa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34936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 </a:t>
            </a:r>
            <a:r>
              <a:rPr b="0" lang="en-US" sz="3200" spc="-1" strike="noStrike">
                <a:solidFill>
                  <a:srgbClr val="ff9933"/>
                </a:solidFill>
                <a:latin typeface="Tahoma"/>
              </a:rPr>
              <a:t>fazama kont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 </a:t>
            </a:r>
            <a:r>
              <a:rPr b="0" lang="hr-HR" sz="3200" spc="-1" strike="noStrike">
                <a:solidFill>
                  <a:srgbClr val="ff7c80"/>
                </a:solidFill>
                <a:latin typeface="Tahoma"/>
              </a:rPr>
              <a:t>fazama</a:t>
            </a:r>
            <a:r>
              <a:rPr b="0" lang="en-US" sz="3200" spc="-1" strike="noStrike">
                <a:solidFill>
                  <a:srgbClr val="ff7c80"/>
                </a:solidFill>
                <a:latin typeface="Tahoma"/>
              </a:rPr>
              <a:t> obrade podat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 </a:t>
            </a:r>
            <a:r>
              <a:rPr b="0" lang="en-US" sz="3200" spc="-1" strike="noStrike">
                <a:solidFill>
                  <a:srgbClr val="66ff33"/>
                </a:solidFill>
                <a:latin typeface="Tahoma"/>
              </a:rPr>
              <a:t>metodama obrade podat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FED-A3CE-4104-943A-779FFC6408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i postupci</a:t>
            </a: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9933"/>
                </a:solidFill>
                <a:latin typeface="Tahoma"/>
              </a:rPr>
              <a:t>prema fazama kontrol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Preventiv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Detektiv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Korektiv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99A-8038-41C8-9523-5E3495F254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8388360" cy="95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PREVENTIVNI KONTROLNI POSTUPC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-350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Spr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j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ečavaju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stanak nepravilnosti, odnosno pogrešk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  kontrola dokumenta prije knjiže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  prethodna kontrola D=P (kontrola temeljnic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  kontrole pristup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  nemogućnost ispostavljanja dokumenata ili izvršenja dijela obrade ukoliko nedostaje zahtjevani parametar…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-350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roškovno najisplativiji mehanizmi kontrole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0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236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8FD-CCB4-488A-9C0E-74E0E520E14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457200"/>
            <a:ext cx="82803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DETEKTIVNI KONTROLNI POSTUPC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029440" cy="45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71604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Signaliziraju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nastanak nepravilnosti (npr. naknadna kontrola D=P, odstupanja od plana, inventura…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1604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luže za identifikaciju nepoželjnih događaja (često nije moguć nastavak radnje ukoliko se problem ne uklon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1604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Baza usporedbe: standardne veličine, </a:t>
            </a: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planov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, zakoni…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1F0-22B3-48FE-81A2-7525393AE26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8388360" cy="95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KOREKTIVNI KONTROLNI POSTUPCI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duzimaju se radi 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otklanjanj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nastale nepravilnosti, odnosno pogrešk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trebno definirati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zrok proble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čin korigiranja pogrešk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odifikaciju sust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F95-4A87-47BD-A854-0FED5695750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44360" y="692280"/>
          <a:ext cx="882036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692280"/>
                    <a:ext cx="8820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C1A-5DDF-46BA-9568-5B20DBEB6FF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Preventiv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imjeri preventivnih kontrol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obravanje svih vrijednosno značajnijih isplata s dva potpisa, odnosno potpisni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orištenje odobrene liste dobavljač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klađivanje ulaznih računa s izvještajima o primitku (primkom) prije odobravanja plaćanja dobavljač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rovjera računske točnosti računa prije plaća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8EF3-1792-417D-9A4E-991114C753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Detektiv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imjeri detektivnih kontrol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riprema izvješća i usklađivanje s poslovnim knjiga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klađivanje izvoda otvorenih stavaka dobivenog od dobavljača s evidentiranim plaćanji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izičko brojenje zaliha i utvrđivanje zastarijelosti zalih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C69-FAE2-4712-8001-3CD63A00B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RNA KONTROLA</a:t>
            </a:r>
            <a:r>
              <a:rPr b="1" lang="hr-HR" sz="2800" spc="-1" strike="noStrike">
                <a:solidFill>
                  <a:srgbClr val="ffff00"/>
                </a:solidFill>
                <a:latin typeface="Tahoma"/>
              </a:rPr>
              <a:t> I REVIZIJA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KAO DIO SUSTAVA INTERNOG NADZOR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ljevi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avila i norme ponašanj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dstupanj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dz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ste nadzor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-  kriterij razlikova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interni nadzor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– unutar poslovnog susta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9ff33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ntern</a:t>
            </a:r>
            <a:r>
              <a:rPr b="0" lang="hr-HR" sz="2800" spc="-1" strike="noStrike">
                <a:solidFill>
                  <a:srgbClr val="99ff33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99ff33"/>
                </a:solidFill>
                <a:latin typeface="Tahoma"/>
              </a:rPr>
              <a:t> kontrol</a:t>
            </a:r>
            <a:r>
              <a:rPr b="0" lang="hr-HR" sz="2800" spc="-1" strike="noStrike">
                <a:solidFill>
                  <a:srgbClr val="99ff33"/>
                </a:solidFill>
                <a:latin typeface="Tahoma"/>
              </a:rPr>
              <a:t>e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– polazna osnov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ahoma"/>
              </a:rPr>
              <a:t>interna revizij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– naknadni nadz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652-4968-4D70-A2AE-E497AE2862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Računovodstveni informacijski sustav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525-4A75-4225-AB99-15263B4046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Faze računovodstvenog proces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.Prikupljanje podataka o nastalim poslovnim događajima - knjigovodstvene ispra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.Analiza poslovnih događaja i izbor konta za evidentiran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3.Evidentiranje poslovnih događaja (poslovne knjig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4.Zaključivanje konta (bruto bilanca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43B-FD45-4828-BC69-F2D3F4264C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Faze računovodstvenog proces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5. Sastavljanje financijskih izvješta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6. Korisnici financijskih izvještaja (interni i ekstern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885-6603-4DD6-8417-FFCACB93CF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i postupci</a:t>
            </a:r>
            <a:r>
              <a:rPr b="0" lang="hr-H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7c80"/>
                </a:solidFill>
                <a:latin typeface="Tahoma"/>
              </a:rPr>
              <a:t>prema fazama obrade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554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KONTROLA ULAZ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va faza kontrole, preventivni kontrolni postupa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Usmjerena na kontrolu unosa podataka - kontrola isprava (formalna, računska, suštinska), kontrola kontiranja…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KONTROLA OBRA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Temeljne računovodstvene kont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vojno knjigovodstvo (duguje = potražuj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Dnevnik – glavna knjiga (bruto bilanc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Analitika – sintetika </a:t>
            </a:r>
            <a:r>
              <a:rPr b="0" i="1" lang="hr-HR" sz="2000" spc="-1" strike="noStrike">
                <a:solidFill>
                  <a:srgbClr val="ffffff"/>
                </a:solidFill>
                <a:latin typeface="Tahoma"/>
              </a:rPr>
              <a:t>(glavna knjiga – pomoćne knjige)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Inventur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Kontrola primjene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zakonskih propis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Tahoma"/>
              </a:rPr>
              <a:t>KONTROLA IZLAZA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Kontrola financijskih izvještaja (forma, sadržaj, rokovi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Kontrola pristupa informacijama (“tajne” informacij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154-E614-4D58-A63F-DAF3C4212D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i postupci prema </a:t>
            </a:r>
            <a:r>
              <a:rPr b="0" lang="hr-HR" sz="3200" spc="-1" strike="noStrike">
                <a:solidFill>
                  <a:srgbClr val="66ff33"/>
                </a:solidFill>
                <a:latin typeface="Tahoma"/>
              </a:rPr>
              <a:t>metodama obrade podatak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7643880" cy="33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a u uvjetima ručne obr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a u uvjetima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čunalne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br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vremeni RIS: kontrole pristupa, kontrole inputa, komunikacijske kontrole, kontrole obrade, kontrole baze podataka, kontrole outpu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5F7-4EB3-4123-8A91-6B15B95F6E0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nabav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entralizirani izbor dobavljač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trebni su dokazi za odobrenje nabave prije no što se nabava autorizira (količine i razine ponovne nabave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arudžbe se pripremaju tek nakon što je zaprimljeno odobrenje za nabavu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narudžb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thodno numerirane narudžb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siguravanje bjanko narudžbi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gledavanje narudžbi koje nisu primljene ili fakturiran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aćenje uvjeta dobavljača i korištenje povoljnih uvjeta (kupovina na veliko, popusti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8B6-0A2C-483F-AD81-50D075B440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nabav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gledavanje primljene ro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jezine kvalitet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jezine količine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jezinog stanj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okumentiranje dospijeća i primitka robe (prethodno numeriran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mke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spoređivanje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mk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s nabavnim nalozi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zivanje na broj dobavljačevih faktura; numeriranje u slijedu i poziv na broj dobavljač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vjeravanje faktura dobavljač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jene, količine, točnost kalkulacij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spoređivanje s narudžbom i dostavni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stupci dobivanja obavijesti o odobrenju od dobavljača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702-BAB9-460A-A9FA-631BD0E9B7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izvodn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ealizacija postavljenog plana proizvodnj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ptimalno angažiranje resursa (radne snage, sirovina, energije, korištenje tuđih usluga…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a količine i kvalitete proizvedenih učina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a vrijednosti zaliha nedovršene proizvodnje i gotovih proizvo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sprav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E83-8B46-4E21-BE50-79DAE909E42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da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jela dužnosti, mjere kontrole redovitog plaćanja, fakturiranje i dostava robe sa skladišt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uvjeta zaduživanja za kup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primljene reference i provjera kreditne sposobnosti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u provodi više rangirano osoblj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dovito pregledavanje uvjet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promjena drugih podataka o klijentim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mjena adrese koju potvrđuje memorandum kup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ahtjev za brisanjem iz popisa koji potvrđuju prazni saldo / kupac koji je podmirio obvez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0319-03A3-4175-BD09-AC74B7E7EE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da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arudžbe se zaprimaju samo od kupaca koji nemaju problema sa zaduživanjem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umeriranje bjanko narudžbi u slijedu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točno zaračunata cijena kupci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udaranje narudžbi kupaca s nalozima za proizvodnju i otpremnica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brada upita klijenat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otpremljene ro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sporuka samo nakon naloga za prodaju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sporuka samo autoriziranim kupci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sebna autorizacija isporuke robe bez naknade ili robe koja se isporučuje pod posebnim uvjeti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574-823E-4DC8-9466-B68C29F0F4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Pojam interne kontrole</a:t>
            </a: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99ff33"/>
                </a:solidFill>
                <a:uFillTx/>
                <a:latin typeface="Tahoma"/>
              </a:rPr>
              <a:t>Metode i postupc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koje je usvojio menadžment poduzeća a koje mu pomažu u ostvarivanju ciljeva i pridonose redovitom i uspješnom upravljanju poduzeć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28E-2954-413F-977F-20C85CDA69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da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gledavanje količine, kvalitete i valjanosti izdane rob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okumentiranje izdane rob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zdana roba odgovara narudžbama klijenata, otpremnicama i faktura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thodno numeriranje otpremnica i dostavnica i redovito provjeravanje u slijedu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vjet da se provjerava vraćena rob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okumentiranje vraćene robe pomoću povratnic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tpisivanje dostavnic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D4A-352D-475B-AE4B-88206E1A45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Administrativne kontole - prodaj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ipremanje faktura i obavijesti o odobrenju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prodajnih cijena / korištenje cjenik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autorizacija obavijesti o odobrenju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ovjera cijena, količina, produženja i ukupne svote na fakturama i obavijestima o odobrenju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umeriranje bjanko faktura i obavijesti o odobrenju u slijedu i redovita provjera slijeda,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dovito vođenje skladišne dokumentacij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odudaranje prodajnih faktura s otpremnicama i dostavnicama te narudžba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edovito pregledavanje narudžbi prema kojima roba još nije isporučen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6E7-5B4F-495D-A761-345DA662AB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Vrste kontrolnih postupaka i aktivnost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e mogu biti osobne, tehničke ili kombinira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egledi na najvišoj organizacijskoj razi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ontrole na razini pojedinih organizacijskih jedin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Fizičke kontro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ustav odobrenja i ovlašte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ustav verifikacije i usklađivan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djela (razgraničenje) dužnos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84F-52DA-479C-ADEE-74C505D8CC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Ograničenja internih kontrol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običajeni zahtjev menadžmenta da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troškovi interne kontrole ne budu veći od očekivane korist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većina internih kontrola usmjerava se radije na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rutinske, nego na nerutinske transakcije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ljudskih pogrešk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uzrokovanih nepažnjom, rastresenošću, pogrešnim prosudbama ili pogrešno protumačenim uputam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izbjegavanja kontrole kroz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tajne sporazume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menadžera ili zaposlenika sa strankama izvan ili unutar poslovnog subjekta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92BC-AD15-4291-B02F-1DD1B09DAA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Ograničenja internih kontrol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da osobe odgovorne za provedbu interne kontrole mogu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zlorabit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tu odgovornost, primjerice član uprave zaobiđe internu kontrolu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mogućnost da postupci, zbog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promjena uvjet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postanu neprikladni i na taj se način pogorša primjerenost tih postupak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634-8552-48D1-A8BA-169C26C71A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Pojmovno određenje interne revizije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Interna revizij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neovisno je i objektivno jamstvo i savjetnička aktivnost koja se rukovodi filozofijom dodane vrijednosti s namjerom poboljšanja poslovanja organizacij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na pomaže organizaciji u ispunjavanju njezinih ciljeva, sistematičnim i na disciplini (struci) utemeljenim pristupom procjenjivanja djelotvornosti </a:t>
            </a:r>
            <a:r>
              <a:rPr b="0" lang="hr-HR" sz="2800" spc="-1" strike="noStrike">
                <a:solidFill>
                  <a:srgbClr val="ffff00"/>
                </a:solidFill>
                <a:latin typeface="Tahoma"/>
              </a:rPr>
              <a:t>upravljanja rizicima, kontrole i korporativnog upravljanj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hr-HR" sz="2800" spc="-1" strike="noStrike">
                <a:solidFill>
                  <a:srgbClr val="ffffff"/>
                </a:solidFill>
                <a:latin typeface="Tahoma"/>
              </a:rPr>
              <a:t>(IIA, 2001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5DC-A0B5-43F7-935F-054DE2D948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Značajke inter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nterna kontrola je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proces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odnosno skup aktivnosti koje nisu same sebi svrhom, nego ih treba shvatiti kao sredstvo za ostvarivanje postavljenih cilje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nternu kontrolu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provode ljudi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na svim razinama u organizaci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d interne kontrole može se očekivati osiguranje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razumnog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ali ne i apsolutnog uvjerenj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interna kontrola se ustrojava radi ostvarivanja nekih </a:t>
            </a:r>
            <a:r>
              <a:rPr b="0" lang="hr-HR" sz="2400" spc="-1" strike="noStrike">
                <a:solidFill>
                  <a:srgbClr val="ffff00"/>
                </a:solidFill>
                <a:latin typeface="Tahoma"/>
              </a:rPr>
              <a:t>ciljeva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 učinkovitost i djelotvornost poslovnih operacija, pouzdanost financijskog izvještavanja i usklađenost sa zakonskom regulativ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840-4984-4319-A322-3E873A9347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Ciljevi inter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urati pouzdanost i integritet generiranih   podataka i informacij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igurati točnost, valjanost i sveobuhvatnost računovodstvenih i neračunovodstvenih evidencij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sigurati usklađenost s poslovnim politikama, planovima, programima rada, zakonskim i drugim propisima i akti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aštita imovine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duzeć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ivno djelovanje i sprječavanje prijevara i pogreša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9A4-F659-4353-A8C4-06316FCA5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00"/>
                </a:solidFill>
                <a:latin typeface="Tahoma"/>
              </a:rPr>
              <a:t>Ciljevi interne kontrol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Operativni ciljev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(osigurati učinkovitost i djelotvornost poslovnih operacij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Informacijski ciljev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(osigurati pouzdane financijske i nefinancijske informacije za potrebe poslovnog odlučivanj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Ciljevi usklađenosti ili podudarnosti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(osigurati usklađenost s politikama, programima, procedurama, zakonskim propisima..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B03-49FF-4198-B25B-65B8416DF9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Tahoma"/>
              </a:rPr>
              <a:t>Značajke interne kontro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Situacijski pristup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u oblikovanju internih kontrola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utjecajni čimbenici (institucionalni okvir, veličina poduzeća, organizacijska struktura, lokacija, način rukovođenja, osposobljenost zaposlenih, vrsta obrade podataka, vrsta i priroda poslova, it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nos očekivanih troškova i koristi (cost-benefi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govornost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menadž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7B8-E9CD-4AEF-8A4D-836186FE1B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00"/>
                </a:solidFill>
                <a:latin typeface="Tahoma"/>
              </a:rPr>
              <a:t>Značajke interne kontrol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Dinamički pristup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 oblikovanju internih kontrola </a:t>
            </a:r>
            <a:r>
              <a:rPr b="0" lang="hr-HR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potreba za kontinuiranim dopunjavanjem i modificiranjem internih kontrolnih postupak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značajni reorganizacijski zahvati, restrukturiranje, fluktuacija radnika, uvođenje novog sustava obrade podataka, novi sustav internog izvještavanja, ekspanzija poslovanja, nove tehnologije, novi proizvodi i usluge.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9F8-BADA-4A3B-8961-EE8B7BC10B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Tahoma"/>
              </a:rPr>
              <a:t>Struktura (komponente) sustava internih kontrol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kruženje ili uvjeti u kojima se provodi kontrol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ocjena rizika (risk assessmen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i postupci (aktivnosti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formacije i komunikacij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onitor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dr. sc. Boris Tuš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171-3F0F-4AEE-B498-8740C0CAA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3T08:35:07Z</dcterms:created>
  <dc:creator>TEB</dc:creator>
  <dc:description/>
  <dc:language>en-US</dc:language>
  <cp:lastModifiedBy>Boris Tušek</cp:lastModifiedBy>
  <cp:lastPrinted>2001-07-23T08:49:33Z</cp:lastPrinted>
  <dcterms:modified xsi:type="dcterms:W3CDTF">2007-03-07T10:15:04Z</dcterms:modified>
  <cp:revision>102</cp:revision>
  <dc:subject/>
  <dc:title>Dr. sc. Boris Tušek TEB Poslovno savjetovanje d.o.o.</dc:title>
</cp:coreProperties>
</file>