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018-F26F-4830-9B83-0CB91C1E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97F-06D5-4763-8A24-68F363B7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F23-CB75-4885-A16F-3AC95DB2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310-0583-4A88-A7F5-1C1BBF6C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9FC7-1386-45C1-878E-67ACA7AB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B962-35C5-4069-8078-19BD178C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BEF1-774B-44A9-AFA7-FB0F8FCF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D05D-B5CA-4AD3-B8C3-96032B2E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7216-23CB-4439-A606-214B15CE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D0FC-2BA1-48F3-A02E-ABB49710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7223-F07A-46A6-81D9-924B6E41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5C0-26C1-49CC-B00F-8EB16C59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4EA5-A2DB-4CC7-8AFA-C8E6E198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BD2D-C5D6-4284-91AD-7B5D8D4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716C-9709-4923-90AF-A0338886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4E80-6B38-4A85-90B3-7FCCF626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65E0-42D6-43A2-B894-CD7AE915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12D-D4E3-4ADF-9211-03B1CC17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1D3-7DF0-49C2-9812-E0D3D317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F6D5-21D3-44D2-A847-C079ED38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A29-C5BF-4C20-9A09-071A6E1E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C019-C940-4B0D-814B-C72B5A04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843-6706-46BD-9DF3-0F517751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D72-EFCA-4723-B689-C1788890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2FED-2883-4E71-91A3-8DDFC054B8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B008-3F68-4A63-A920-0ED99D2E73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200" spc="-1" strike="noStrike">
                <a:solidFill>
                  <a:srgbClr val="999900"/>
                </a:solidFill>
                <a:latin typeface="Garamond"/>
              </a:rPr>
              <a:t>SREDNJE VRIJEDNOSTI STATISTIČKOG NIZA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872400" cy="30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edijan. Kvanti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Aritmetič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Geometrijs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Harmonijska sredi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menti numeričkih nizo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758E-9D89-4799-BE51-636DB66F61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765440"/>
            <a:ext cx="8820000" cy="320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70880" y="189000"/>
            <a:ext cx="4996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imjer 3.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Živorođena djeca u RH 1999. g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prema </a:t>
            </a:r>
            <a:r>
              <a:rPr b="1" lang="hr-HR" sz="1800" spc="-1" strike="noStrike">
                <a:solidFill>
                  <a:srgbClr val="ff9900"/>
                </a:solidFill>
                <a:latin typeface="Verdana"/>
              </a:rPr>
              <a:t>navršenim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godinama života ma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1360" y="5373720"/>
            <a:ext cx="336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Urediti gran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Veličine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Korigirane frekv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5080" y="486252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zvor: prema SLJRH-2000, str.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696-0E9B-4E31-9B33-AEE06CA81F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77400" y="6230880"/>
            <a:ext cx="37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Izvor: prema SLJRH-2000, str. 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560" y="847800"/>
            <a:ext cx="68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666600"/>
                </a:solidFill>
                <a:latin typeface="Verdana"/>
              </a:rPr>
              <a:t>Grafičko određivanje moda – na hist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415880"/>
            <a:ext cx="7991280" cy="467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911480" y="17874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Verdana"/>
              </a:rPr>
              <a:t>Najviši stu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957-DA88-44D3-8604-72E45A7582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11280" y="620640"/>
            <a:ext cx="7869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00"/>
                </a:solidFill>
                <a:latin typeface="Verdana"/>
              </a:rPr>
              <a:t>SVOJSTVA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a njega ne utječu ekstremno male ni velike vrijednosti obilježja (kao kod aritmetičke sredine) jer je određen položajem podatka u niz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ože se odrediti za kvalitativne i kvantitativne podat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ocjena granica otvorenih razreda ne može utjecati na vrijednost mo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6600"/>
                </a:solidFill>
                <a:latin typeface="Verdana"/>
              </a:rPr>
              <a:t>NEDOSTACI M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pouzdana mjera kod izrazito asimetričnih distribucija, kada je modalni razred otv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Problem višedimenzionalnih distribucija (bimodalna i sl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osjetljiv je na način grupiranja (formiranja razre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046-47D8-40D0-A042-F341E6D154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11280" y="765000"/>
            <a:ext cx="813744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0000"/>
                </a:solidFill>
                <a:latin typeface="Verdana"/>
              </a:rPr>
              <a:t>MEDIJAN I KVANT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cc0000"/>
                </a:solidFill>
                <a:uFillTx/>
                <a:latin typeface="Verdana"/>
              </a:rPr>
              <a:t>Medijan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položajna srednja vrijednost koja numerički niz </a:t>
            </a:r>
            <a:r>
              <a:rPr b="1" i="1" lang="hr-HR" sz="2000" spc="-1" strike="noStrike">
                <a:solidFill>
                  <a:srgbClr val="ff9900"/>
                </a:solidFill>
                <a:latin typeface="Verdana"/>
              </a:rPr>
              <a:t>uređen po veličin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i na dva </a:t>
            </a:r>
            <a:r>
              <a:rPr b="1" lang="hr-HR" sz="2000" spc="-1" strike="noStrike">
                <a:solidFill>
                  <a:srgbClr val="ff9900"/>
                </a:solidFill>
                <a:latin typeface="Verdana"/>
              </a:rPr>
              <a:t>jednakobrojna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Izražen je u istim mjernim jedinicama kao i obiljež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ože se odrediti i za redosljedni n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Ubraja se u kvant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 u="sng">
                <a:solidFill>
                  <a:srgbClr val="cc0000"/>
                </a:solidFill>
                <a:uFillTx/>
                <a:latin typeface="Verdana"/>
              </a:rPr>
              <a:t>Kvantili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dijele niz uređenih podataka na 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dijelov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Kvantili s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kvart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četiri dijel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dec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deset dijelov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percentili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(na 100 dijelov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3E5-4920-49AD-8438-6F60F5038E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2700360"/>
            <a:ext cx="6840720" cy="2097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49520" y="907920"/>
            <a:ext cx="780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Medijan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4360" y="142704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Podaci moraju biti poredani po veliči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5805360"/>
            <a:ext cx="633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39840" y="6108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70480" y="3333600"/>
                <a:ext cx="20304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95480" y="6251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249800" y="5691240"/>
                <a:ext cx="393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651640" y="5589720"/>
            <a:ext cx="457200" cy="431640"/>
          </a:xfrm>
          <a:prstGeom prst="flowChartConnector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627280" y="5661000"/>
                <a:ext cx="3049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24360" y="5661000"/>
                <a:ext cx="3175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42920" y="5661000"/>
                <a:ext cx="523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236000" y="5589720"/>
                <a:ext cx="5428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692360" y="6093000"/>
            <a:ext cx="71892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00720" y="6093000"/>
            <a:ext cx="71928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3340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7664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0392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45360" y="602136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060-583F-48B1-B689-1CCE613CB0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64200" cy="20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042920" y="4424400"/>
            <a:ext cx="7345440" cy="18129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89400" y="692280"/>
            <a:ext cx="670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Prvi kvar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66408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Treći  kvar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3F7-8F0B-434A-BD62-B763EB5164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86040" y="1719360"/>
            <a:ext cx="5854680" cy="1515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908000" y="4351320"/>
            <a:ext cx="5904000" cy="1525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69228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Dec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375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Percenti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egrupiranih numeričkih ili redoslijednih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A72-D68A-459B-98B7-73D129D934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404640"/>
            <a:ext cx="8135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Primjer: Negrupirani numerički po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Mjesečna proizvodnja istovrsnog proizvoda na 10 dislociranih proizvodnih mjesta (u tonam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81  74  85  88  74  86  94  79 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iz uređen po veliči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Verdana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74  74  79  81 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◊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85  86  88  90  9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N =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00000" y="3594240"/>
            <a:ext cx="7272360" cy="287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2B2-CE72-4DE7-81BF-F6E90D5B55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71640" y="843120"/>
            <a:ext cx="6840360" cy="2730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00000" y="3673440"/>
            <a:ext cx="7272360" cy="2581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135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Niz uređen po veliči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74  74  79  81  85  86  88  90  94</a:t>
            </a:r>
            <a:r>
              <a:rPr b="0" lang="hr-HR" sz="2000" spc="-1" strike="noStrike">
                <a:solidFill>
                  <a:srgbClr val="ff0066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15920"/>
            <a:ext cx="5111640" cy="765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A0C-5FED-4AED-8B96-86FC03B4FE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68360" y="26028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Za numerički niz (distribuciju frekvencija) gdje je obilježje dano u razredima MEDIJAN  treba </a:t>
            </a:r>
            <a:r>
              <a:rPr b="1" i="1" lang="hr-HR" sz="2000" spc="-1" strike="noStrike">
                <a:solidFill>
                  <a:srgbClr val="ff9900"/>
                </a:solidFill>
                <a:latin typeface="Verdana"/>
              </a:rPr>
              <a:t>izračunati.</a:t>
            </a:r>
            <a:r>
              <a:rPr b="1" i="1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595520"/>
            <a:ext cx="7705800" cy="47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5B9-966F-4A94-B4C7-F007DB7D69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692280"/>
            <a:ext cx="85327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cc0000"/>
                </a:solidFill>
                <a:latin typeface="Verdana"/>
              </a:rPr>
              <a:t>Srednje vrijednosti (mjere centralne tenden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konstante kojima se predočuju nizovi varijabilnih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9900"/>
                </a:solidFill>
                <a:latin typeface="Verdana"/>
              </a:rPr>
              <a:t>Potpune srednje vrijednosti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( u njihovom izračunavanju sudjeluju sve vrijednosti varij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Aritmetička sred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Harmonijska sredi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Geometrijska sred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999900"/>
                </a:solidFill>
                <a:latin typeface="Verdana"/>
              </a:rPr>
              <a:t>Položajne (pozicione) srednje vrijednosti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 (određene su položajem podatka u niz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Medi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7FA-4336-46D0-BD01-C31F921138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705800" cy="38876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98920" y="692280"/>
            <a:ext cx="66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Primj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0066"/>
                </a:solidFill>
                <a:latin typeface="Verdana"/>
              </a:rPr>
              <a:t>Distribucija frekvencija, obilježje dano u razred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3480" y="5460840"/>
            <a:ext cx="77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Statistički skup: 225268 </a:t>
            </a:r>
            <a:r>
              <a:rPr b="1" lang="hr-HR" sz="1800" spc="-1" strike="noStrike">
                <a:solidFill>
                  <a:srgbClr val="666600"/>
                </a:solidFill>
                <a:latin typeface="Verdana"/>
              </a:rPr>
              <a:t>korisnika obiteljske mirovine sa zaštitnim dodatkom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ff9900"/>
                </a:solidFill>
                <a:latin typeface="Verdana"/>
              </a:rPr>
              <a:t>u RH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, isplata </a:t>
            </a:r>
            <a:r>
              <a:rPr b="1" lang="hr-HR" sz="1800" spc="-1" strike="noStrike">
                <a:solidFill>
                  <a:srgbClr val="ff0066"/>
                </a:solidFill>
                <a:latin typeface="Verdana"/>
              </a:rPr>
              <a:t>u travnju 2004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. godine, N=22526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AF5-793B-421B-96DE-5926117233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8200" y="981000"/>
            <a:ext cx="8497800" cy="441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31C-E181-4360-BDB0-2D80B2926F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469800"/>
            <a:ext cx="8459640" cy="576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2637000"/>
            <a:ext cx="8496360" cy="2736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948-D56A-419D-9DD8-64CEA2B71F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3573360"/>
            <a:ext cx="8424720" cy="223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DAE-A826-43A7-AB90-DF623AE986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235080"/>
            <a:ext cx="7921800" cy="6622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55640" y="3284640"/>
            <a:ext cx="7848720" cy="2305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019-AEEC-4708-B5B9-EFDFB7DD3E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98160" cy="638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0960" y="445608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N/2=170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4653000"/>
            <a:ext cx="576360" cy="144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5157720"/>
            <a:ext cx="172872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1280" y="5157720"/>
            <a:ext cx="0" cy="1150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09440"/>
            <a:ext cx="18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PRIMJER 3.53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360" y="71280"/>
            <a:ext cx="1942920" cy="549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F2A-FDD0-4684-85DB-72E08150CB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816120"/>
            <a:ext cx="7848360" cy="513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407-B66D-4D83-A34C-087DDAB7B99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65080" y="1839960"/>
          <a:ext cx="766764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1839960"/>
                    <a:ext cx="766764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299-1CBB-4C99-BC5E-72A5CDB75C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9640" y="189000"/>
            <a:ext cx="820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Verdana"/>
              </a:rPr>
              <a:t>Položajne srednje vrij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 u="sng">
                <a:solidFill>
                  <a:srgbClr val="000000"/>
                </a:solidFill>
                <a:uFillTx/>
                <a:latin typeface="Verdana"/>
              </a:rPr>
              <a:t>Mod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-  vrijednost ili modalitet varijable koji se najčešće pojavljuje u nizu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- modalitet kvalitativne ili numeričke varijable </a:t>
            </a: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s najvećom frekvencij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Verdana"/>
              </a:rPr>
              <a:t>- Izražen je u mjernim jedinicama varijable. Postoji ako su u nizu barem dva jednaka podat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Za nominalni niz, redosljedni  niz i numerički niz bez razreda se mod </a:t>
            </a: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odredi.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42B-788B-42D9-AC43-8F947EBAFE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44280"/>
            <a:ext cx="7343640" cy="529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3120" y="5589720"/>
            <a:ext cx="851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ff9900"/>
                </a:solidFill>
                <a:uFillTx/>
                <a:latin typeface="Verdana"/>
              </a:rPr>
              <a:t>Mod = društvene zna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9900"/>
                </a:solidFill>
                <a:latin typeface="Verdana"/>
              </a:rPr>
              <a:t>Modalno (najčešće) područje znanosti magistara u RH, 2005.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99E-42AB-4BDC-9992-6404ECEB3D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441360"/>
            <a:ext cx="7488000" cy="60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7AB3-F5A1-4420-98C1-67261ECDCB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748720" cy="5688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60280"/>
            <a:ext cx="72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ff"/>
                </a:solidFill>
                <a:latin typeface="Verdana"/>
              </a:rPr>
              <a:t>Ukupni troškovi 120 anketiranih turi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66ff"/>
                </a:solidFill>
                <a:latin typeface="Verdana"/>
              </a:rPr>
              <a:t>Negrupirani numerički podaci; prikaz S- L dijagra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cc0000"/>
                </a:solidFill>
                <a:latin typeface="Verdana"/>
              </a:rPr>
              <a:t>Mod = 10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4508640"/>
            <a:ext cx="2305080" cy="3603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224-942A-4D57-90C4-51A1F86BC1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560520"/>
            <a:ext cx="8280360" cy="578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794-DB0C-40A8-9C8E-1A0DF7D478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8720" y="2602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Za numerički niz (distribuciju frekvencija) gdje je obilježje dano u razredima MOD treba </a:t>
            </a: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izračunati.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413000"/>
          <a:ext cx="77565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7565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38240" y="6127920"/>
            <a:ext cx="71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999900"/>
                </a:solidFill>
                <a:latin typeface="Verdana"/>
              </a:rPr>
              <a:t>Modalni razred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 – sadrži najveću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korigiranu </a:t>
            </a:r>
            <a:r>
              <a:rPr b="1" lang="hr-HR" sz="2000" spc="-1" strike="noStrike">
                <a:solidFill>
                  <a:srgbClr val="000000"/>
                </a:solidFill>
                <a:latin typeface="Verdana"/>
              </a:rPr>
              <a:t>frekven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295-F933-4C02-8E36-D8615B972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01:15:29Z</dcterms:created>
  <dc:creator>Mirjana Čižmešija</dc:creator>
  <dc:description/>
  <dc:language>en-US</dc:language>
  <cp:lastModifiedBy>mcizmesija</cp:lastModifiedBy>
  <dcterms:modified xsi:type="dcterms:W3CDTF">2007-03-08T14:47:36Z</dcterms:modified>
  <cp:revision>17</cp:revision>
  <dc:subject/>
  <dc:title>SREDNJE VRIJEDNOSTI STATISTIČKOG NIZA</dc:title>
</cp:coreProperties>
</file>