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7C0C-48BD-4A46-87E6-AF1DDD5C1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5CBC-E12E-449A-8B8D-5CCC215E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565F-4FD6-49CF-B49F-0D173BCF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2825-7AF4-47A2-BA0D-37F40E055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E275-4F5E-4B68-9939-3492C807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1B26-A4A4-454E-BEEF-C0B67708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1B41-A96E-4C13-9694-0CAFD48F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68D3-1538-407E-9F60-59CFB504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89DB-18CD-4A8B-98AD-C5445B23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73DF-C1F7-46FA-8FDE-D986D5E0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050B-28A2-4380-9582-E2690678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C6C2-E320-4EE3-9694-DC533372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D03C-6970-455E-902C-6C74DA50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26AA-F737-451C-B9AF-28030488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34DB-1D85-49AC-83A8-0B8D616A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CBD5-187F-4406-9B7C-62A5E4FD6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A98A-8C23-4970-A90D-76B9F4E96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5CC0-3CA6-48B6-A5E5-16604813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B0B8-635C-45D4-9813-1BFE4FA4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6858-BB18-4DDF-869E-D893F532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90DE-B15E-44A6-9096-9C325F18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793B-487A-4BBC-9C60-1B3C1EF8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209B-9F67-4876-844D-DCA66229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39FC-1827-43A4-81FC-25F1F49F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2FB1-4FAA-43B7-AF26-472AF863E7F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06DE-9572-458A-99E9-4EA08D68999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200" spc="-1" strike="noStrike">
                <a:solidFill>
                  <a:srgbClr val="999900"/>
                </a:solidFill>
                <a:latin typeface="Garamond"/>
              </a:rPr>
              <a:t>SREDNJE VRIJEDNOSTI STATISTIČKOG NIZA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872400" cy="30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Mo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Medijan. Kvantil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Aritmetička sredi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Geometrijska sredi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Harmonijska sredi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Momenti numeričkih nizo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399C-B91E-4896-BFFB-9A853F09CDF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1765440"/>
            <a:ext cx="8820000" cy="320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270880" y="189000"/>
            <a:ext cx="4996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Primjer 3.4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Živorođena djeca u RH 1999. god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prema </a:t>
            </a:r>
            <a:r>
              <a:rPr b="1" lang="hr-HR" sz="1800" spc="-1" strike="noStrike">
                <a:solidFill>
                  <a:srgbClr val="ff9900"/>
                </a:solidFill>
                <a:latin typeface="Verdana"/>
              </a:rPr>
              <a:t>navršenim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godinama života maj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71360" y="5373720"/>
            <a:ext cx="336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Urediti gran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Veličine razr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Korigirane frekven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55080" y="4862520"/>
            <a:ext cx="37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Izvor: prema SLJRH-2000, str. 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59D0-8841-4660-8D84-814F6DBA4A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877400" y="6230880"/>
            <a:ext cx="37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Izvor: prema SLJRH-2000, str. 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47560" y="847800"/>
            <a:ext cx="68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6600"/>
                </a:solidFill>
                <a:latin typeface="Verdana"/>
              </a:rPr>
              <a:t>Grafičko određivanje moda – na hist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1415880"/>
            <a:ext cx="7991280" cy="4677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911480" y="178740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Verdana"/>
              </a:rPr>
              <a:t>Najviši stup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BC0F-E99C-44E7-B71A-CFDA8E7C24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11280" y="620640"/>
            <a:ext cx="78692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666600"/>
                </a:solidFill>
                <a:latin typeface="Verdana"/>
              </a:rPr>
              <a:t>SVOJSTVA M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Na njega ne utječu ekstremno male ni velike vrijednosti obilježja (kao kod aritmetičke sredine) jer je određen položajem podatka u niz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Može se odrediti za kvalitativne i kvantitativne podat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Procjena granica otvorenih razreda ne može utjecati na vrijednost mo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666600"/>
                </a:solidFill>
                <a:latin typeface="Verdana"/>
              </a:rPr>
              <a:t>NEDOSTACI M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Nepouzdana mjera kod izrazito asimetričnih distribucija, kada je modalni razred otvo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Problem višedimenzionalnih distribucija (bimodalna i sl.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osjetljiv je na način grupiranja (formiranja razred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64DF-BBBE-44EE-806F-40442DABA3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11280" y="765000"/>
            <a:ext cx="813744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cc0000"/>
                </a:solidFill>
                <a:latin typeface="Verdana"/>
              </a:rPr>
              <a:t>MEDIJAN I KVANT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 u="sng">
                <a:solidFill>
                  <a:srgbClr val="cc0000"/>
                </a:solidFill>
                <a:uFillTx/>
                <a:latin typeface="Verdana"/>
              </a:rPr>
              <a:t>Medijan</a:t>
            </a: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položajna srednja vrijednost koja numerički niz </a:t>
            </a:r>
            <a:r>
              <a:rPr b="1" i="1" lang="hr-HR" sz="2000" spc="-1" strike="noStrike">
                <a:solidFill>
                  <a:srgbClr val="ff9900"/>
                </a:solidFill>
                <a:latin typeface="Verdana"/>
              </a:rPr>
              <a:t>uređen po veličini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dijeli na dva </a:t>
            </a:r>
            <a:r>
              <a:rPr b="1" lang="hr-HR" sz="2000" spc="-1" strike="noStrike">
                <a:solidFill>
                  <a:srgbClr val="ff9900"/>
                </a:solidFill>
                <a:latin typeface="Verdana"/>
              </a:rPr>
              <a:t>jednakobrojna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dijel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Izražen je u istim mjernim jedinicama kao i obilježj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može se odrediti i za redosljedni ni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Ubraja se u kvant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 u="sng">
                <a:solidFill>
                  <a:srgbClr val="cc0000"/>
                </a:solidFill>
                <a:uFillTx/>
                <a:latin typeface="Verdana"/>
              </a:rPr>
              <a:t>Kvantili</a:t>
            </a: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dijele niz uređenih podataka na </a:t>
            </a: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dijelov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Kvantili su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kvartili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(na četiri dijela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decili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(na deset dijelova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percentili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(na 100 dijelov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2133-1EF5-41C6-B9C4-5630DC8F55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87280" y="2700360"/>
            <a:ext cx="6840720" cy="2097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49520" y="907920"/>
            <a:ext cx="780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Medijan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negrupiranih numeričkih ili redoslijednih podata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54360" y="1427040"/>
            <a:ext cx="46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c0000"/>
                </a:solidFill>
                <a:latin typeface="Verdana"/>
              </a:rPr>
              <a:t>Podaci moraju biti poredani po veličin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58920" y="5805360"/>
            <a:ext cx="63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5589720"/>
            <a:ext cx="457200" cy="43164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56000" y="5589720"/>
            <a:ext cx="457200" cy="43164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1640" y="5589720"/>
            <a:ext cx="457200" cy="43164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236000" y="5589720"/>
            <a:ext cx="457200" cy="43164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39840" y="6108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470480" y="3333600"/>
                <a:ext cx="20304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095480" y="6251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249800" y="5691240"/>
                <a:ext cx="393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5651640" y="5589720"/>
            <a:ext cx="457200" cy="43164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627280" y="5661000"/>
                <a:ext cx="3049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724360" y="5661000"/>
                <a:ext cx="3175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042920" y="5661000"/>
                <a:ext cx="52380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7236000" y="5589720"/>
                <a:ext cx="5428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1692360" y="6093000"/>
            <a:ext cx="718920" cy="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32000" y="6093000"/>
            <a:ext cx="719280" cy="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59280" y="6093000"/>
            <a:ext cx="719280" cy="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00720" y="6093000"/>
            <a:ext cx="719280" cy="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33400" y="602136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76640" y="602136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03920" y="602136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45360" y="602136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4506-E133-469B-AD1F-8E23472749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964200" cy="2016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042920" y="4424400"/>
            <a:ext cx="7345440" cy="18129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89400" y="692280"/>
            <a:ext cx="670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Prvi kvar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negrupiranih numeričkih ili redoslijednih podata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366408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Treći  kvar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negrupiranih numeričkih ili redoslijednih podata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B754-4F73-45C0-A142-1C32D60223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886040" y="1719360"/>
            <a:ext cx="5854680" cy="15159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908000" y="4351320"/>
            <a:ext cx="5904000" cy="15256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84360" y="692280"/>
            <a:ext cx="792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Decil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negrupiranih numeričkih ili redoslijednih podata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337500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Percentil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negrupiranih numeričkih ili redoslijednih podata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BB14-06F1-4180-A5B7-5D3B7E7F17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24000" y="404640"/>
            <a:ext cx="8135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66"/>
                </a:solidFill>
                <a:latin typeface="Verdana"/>
              </a:rPr>
              <a:t>Primjer: Negrupirani numerički poda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Mjesečna proizvodnja istovrsnog proizvoda na 10 dislociranih proizvodnih mjesta (u tonam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Verdana"/>
              <a:buAutoNum type="arabicPlain" startAt="7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81  74  85  88  74  86  94  79 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Niz uređen po veličin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Verdana"/>
              <a:buAutoNum type="arabicPlain" startAt="7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74  74  79  81  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◊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85  86  88  90  94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N = 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00000" y="3594240"/>
            <a:ext cx="7272360" cy="2873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EFCB-C74E-46DE-900F-A083B10966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71640" y="843120"/>
            <a:ext cx="6840360" cy="27302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900000" y="3673440"/>
            <a:ext cx="7272360" cy="2581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24000" y="13500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66"/>
                </a:solidFill>
                <a:latin typeface="Verdana"/>
              </a:rPr>
              <a:t>Niz uređen po veličin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ff0066"/>
                </a:solidFill>
                <a:latin typeface="Verdana"/>
              </a:rPr>
              <a:t>74  74  79  81  85  86  88  90  94</a:t>
            </a:r>
            <a:r>
              <a:rPr b="0" lang="hr-HR" sz="2000" spc="-1" strike="noStrike">
                <a:solidFill>
                  <a:srgbClr val="ff0066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92360" y="115920"/>
            <a:ext cx="5111640" cy="7650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B036-DFBE-4EE6-B66A-F9F2B8524E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68360" y="260280"/>
            <a:ext cx="81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Za numerički niz (distribuciju frekvencija) gdje je obilježje dano u razredima MEDIJAN  treba </a:t>
            </a:r>
            <a:r>
              <a:rPr b="1" i="1" lang="hr-HR" sz="2000" spc="-1" strike="noStrike">
                <a:solidFill>
                  <a:srgbClr val="ff9900"/>
                </a:solidFill>
                <a:latin typeface="Verdana"/>
              </a:rPr>
              <a:t>izračunati.</a:t>
            </a: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26920" y="1595520"/>
            <a:ext cx="7705800" cy="4786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413E-1A06-45B2-BC66-30B8D1EC0C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95280" y="692280"/>
            <a:ext cx="853272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cc0000"/>
                </a:solidFill>
                <a:latin typeface="Verdana"/>
              </a:rPr>
              <a:t>Srednje vrijednosti (mjere centralne tendenci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konstante kojima se predočuju nizovi varijabilnih podatak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999900"/>
                </a:solidFill>
                <a:latin typeface="Verdana"/>
              </a:rPr>
              <a:t>Potpune srednje vrijednosti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( u njihovom izračunavanju sudjeluju sve vrijednosti varij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Aritmetička sredin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Harmonijska sredin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Geometrijska sred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999900"/>
                </a:solidFill>
                <a:latin typeface="Verdana"/>
              </a:rPr>
              <a:t>Položajne (pozicione) srednje vrijednosti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(određene su položajem podatka u niz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M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Medij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E7FC-8ECC-404C-819C-24375C66D5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705800" cy="38876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98920" y="692280"/>
            <a:ext cx="664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66"/>
                </a:solidFill>
                <a:latin typeface="Verdana"/>
              </a:rPr>
              <a:t>Primj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66"/>
                </a:solidFill>
                <a:latin typeface="Verdana"/>
              </a:rPr>
              <a:t>Distribucija frekvencija, obilježje dano u razred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3480" y="5460840"/>
            <a:ext cx="779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Statistički skup: 225268 </a:t>
            </a:r>
            <a:r>
              <a:rPr b="1" lang="hr-HR" sz="1800" spc="-1" strike="noStrike">
                <a:solidFill>
                  <a:srgbClr val="666600"/>
                </a:solidFill>
                <a:latin typeface="Verdana"/>
              </a:rPr>
              <a:t>korisnika obiteljske mirovine sa zaštitnim dodatkom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1800" spc="-1" strike="noStrike">
                <a:solidFill>
                  <a:srgbClr val="ff9900"/>
                </a:solidFill>
                <a:latin typeface="Verdana"/>
              </a:rPr>
              <a:t>u RH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, isplata </a:t>
            </a:r>
            <a:r>
              <a:rPr b="1" lang="hr-HR" sz="1800" spc="-1" strike="noStrike">
                <a:solidFill>
                  <a:srgbClr val="ff0066"/>
                </a:solidFill>
                <a:latin typeface="Verdana"/>
              </a:rPr>
              <a:t>u travnju 2004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. godine, N=22526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5A1C-566E-4A9C-813E-84A3EBF540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8200" y="981000"/>
            <a:ext cx="8497800" cy="441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784E-04B0-4A2A-B744-27EFD08BB1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84360" y="469800"/>
            <a:ext cx="8459640" cy="5762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68360" y="2637000"/>
            <a:ext cx="8496360" cy="2736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1889-AE58-426C-B0A1-F11EF30857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97800" cy="6524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3573360"/>
            <a:ext cx="8424720" cy="22320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B833-331E-4F08-9DCF-3BB0F3FDF8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26920" y="235080"/>
            <a:ext cx="7921800" cy="66229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55640" y="3284640"/>
            <a:ext cx="7848720" cy="23050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5763-D7D3-44BA-8F85-2A88C9FB9DC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498160" cy="6381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00960" y="4456080"/>
            <a:ext cx="106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Verdana"/>
              </a:rPr>
              <a:t>N/2=1708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5640" y="4653000"/>
            <a:ext cx="576360" cy="1443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5280" y="5157720"/>
            <a:ext cx="172872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51280" y="5157720"/>
            <a:ext cx="0" cy="1150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109440"/>
            <a:ext cx="186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PRIMJER 3.53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8360" y="71280"/>
            <a:ext cx="1942920" cy="5493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7CDC-1022-4734-8BBB-B0B27C0F04E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971640" y="816120"/>
            <a:ext cx="7848360" cy="513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00E7-C41F-49EB-9D94-D4ED05E968F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865080" y="1839960"/>
          <a:ext cx="7667640" cy="26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839960"/>
                    <a:ext cx="766764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1B59-412C-41D7-976A-5E14EAECD0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9640" y="189000"/>
            <a:ext cx="820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0000"/>
                </a:solidFill>
                <a:uFillTx/>
                <a:latin typeface="Verdana"/>
              </a:rPr>
              <a:t>Položajne srednje vrijed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M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 u="sng">
                <a:solidFill>
                  <a:srgbClr val="000000"/>
                </a:solidFill>
                <a:uFillTx/>
                <a:latin typeface="Verdana"/>
              </a:rPr>
              <a:t>Mod </a:t>
            </a: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-  vrijednost ili modalitet varijable koji se najčešće pojavljuje u nizu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- modalitet kvalitativne ili numeričke varijable 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s najvećom frekvencijo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- Izražen je u mjernim jedinicama varijable. Postoji ako su u nizu barem dva jednaka podat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Za nominalni niz, redosljedni  niz i numerički niz bez razreda se mod </a:t>
            </a:r>
            <a:r>
              <a:rPr b="1" i="1" lang="hr-HR" sz="2400" spc="-1" strike="noStrike">
                <a:solidFill>
                  <a:srgbClr val="ff9900"/>
                </a:solidFill>
                <a:latin typeface="Verdana"/>
              </a:rPr>
              <a:t>odredi.</a:t>
            </a: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9BED-7452-4A06-829C-66DA75F041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71640" y="44280"/>
            <a:ext cx="7343640" cy="5294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3120" y="5589720"/>
            <a:ext cx="851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ff9900"/>
                </a:solidFill>
                <a:uFillTx/>
                <a:latin typeface="Verdana"/>
              </a:rPr>
              <a:t>Mod = društvene zna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9900"/>
                </a:solidFill>
                <a:latin typeface="Verdana"/>
              </a:rPr>
              <a:t>Modalno (najčešće) područje znanosti magistara u RH, 2005. god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F3DE-F8EC-4E4A-BDEF-FCC3A1CCB3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71640" y="441360"/>
            <a:ext cx="7488000" cy="608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1438-EA76-47B6-A225-313A775C42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748720" cy="5688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42920" y="260280"/>
            <a:ext cx="727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66ff"/>
                </a:solidFill>
                <a:latin typeface="Verdana"/>
              </a:rPr>
              <a:t>Ukupni troškovi 120 anketiranih turi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66ff"/>
                </a:solidFill>
                <a:latin typeface="Verdana"/>
              </a:rPr>
              <a:t>Negrupirani numerički podaci; prikaz S- L dijagram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c0000"/>
                </a:solidFill>
                <a:latin typeface="Verdana"/>
              </a:rPr>
              <a:t>Mod = 100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0920" y="4508640"/>
            <a:ext cx="2305080" cy="3603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6719-95F8-498D-BE02-0048013440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4000" y="560520"/>
            <a:ext cx="8280360" cy="578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7C40-433E-48D4-9FDB-543B62F8A4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28720" y="26028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Za numerički niz (distribuciju frekvencija) gdje je obilježje dano u razredima MOD treba </a:t>
            </a:r>
            <a:r>
              <a:rPr b="1" i="1" lang="hr-HR" sz="2400" spc="-1" strike="noStrike">
                <a:solidFill>
                  <a:srgbClr val="ff9900"/>
                </a:solidFill>
                <a:latin typeface="Verdana"/>
              </a:rPr>
              <a:t>izračunati.</a:t>
            </a: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413000"/>
          <a:ext cx="775656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13000"/>
                    <a:ext cx="775656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038240" y="6127920"/>
            <a:ext cx="710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99900"/>
                </a:solidFill>
                <a:latin typeface="Verdana"/>
              </a:rPr>
              <a:t>Modalni razred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– sadrži najveću 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korigiranu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frekvenci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4D7E-5C9C-4B7E-87B9-7B173ED19C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01:15:29Z</dcterms:created>
  <dc:creator>Mirjana Čižmešija</dc:creator>
  <dc:description/>
  <dc:language>en-US</dc:language>
  <cp:lastModifiedBy>mcizmesija</cp:lastModifiedBy>
  <dcterms:modified xsi:type="dcterms:W3CDTF">2007-03-08T14:47:36Z</dcterms:modified>
  <cp:revision>17</cp:revision>
  <dc:subject/>
  <dc:title>SREDNJE VRIJEDNOSTI STATISTIČKOG NIZA</dc:title>
</cp:coreProperties>
</file>