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EDA-EF66-47EC-96D8-8AB6F06F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68C-FDDA-4CAD-8093-7D9A4FA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224-A7C6-4001-A4EF-1D7A287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AD8-E3E4-42EC-B15A-E06590EE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51A-315B-44FF-8FCC-DD57135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D29-348E-4336-B53F-C2FE777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E40-E4EF-46B1-A245-6113E51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1C6-8486-4E17-B697-F6B1272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2D5-CA68-4BDF-9335-EF586D0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3CF-9E41-4641-9B81-99C5A2E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E10-5081-4E3C-8752-484C3CA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D89-171E-4502-A333-A29A0A89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CF378-FCFE-4EEA-B759-6A64C58560B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09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javljivati će se 30 p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će biti će na ekranu po min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papiru uz broj prekrižite kemijskom slovo za odgovor za koji mislite da je toč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ijek izaberite samo jedan odgovor. Nije dozvoljeno prepravljati odgo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prije na papir koji ste dobili upišite svoje ime, prezime i JM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ite samostalno. Tko razgovara predaje papir i gubi pravo daljnjeg pisanj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G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lavni usmjerivač inform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j za pohranu podat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 ugrađena u matičnu plo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i 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 kojoj se jedinici ne mjere performanse proceso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FL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928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ko je glavni svjetski proizvođač proceso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I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d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820360" cy="61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oja je prednost interpreter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rogrami rade brž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Nije potrebno da budu instalirani na računa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odesni su za pronalaženje pogreša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ff0000"/>
                </a:solidFill>
                <a:latin typeface="Arial"/>
              </a:rPr>
              <a:t>Kada se oni koriste programi se pišu u strojnom jezi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Kada se oni koriste nije potrebno programiran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9640"/>
            <a:ext cx="822960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OC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 za grafičke sist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raka sa alat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 ugrađena u matičnu plo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ardver potreban da se na njemu pokrene neki softver zove 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hnološka zast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inimalna konfigur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928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 Što se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cesor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uz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Koliki je kapacite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disk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1,44 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1,44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1,44 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baj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60360"/>
            <a:ext cx="8229600" cy="61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to je to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mori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emorija na čipu, koja se briše kada se računalo ugas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ugrađuje u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nalazi na USB štapić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u se ne može bris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rugo ime za virtualnu memorij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RIS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 za nepouzdane sist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dinica kapaciteta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Vrsta mikroproces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Zašto se koriste SPEC-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procjenu performansi račun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instalaciju sistemskog softv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kontrolu virtualne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 tome nismo ništa uč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Za razvoj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oftver neophodan za povezivanje komponenti računala zove 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hnološka zast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nimalna konfigur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60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. Što se 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raf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baci ulj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P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Hrvatski telekomunikacijski modemski 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zik za izradu Internet stra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zik za izradu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nedžerski alat za potporu odlučivanj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39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3. Koja se formula nalzi u F2, ako je kopiranjem možemo koristiti u F3 i F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569440" cy="1249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3068640"/>
            <a:ext cx="820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)  F2=IF(E2&gt;2000;E$2*25%;E$2*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2=IF(E2&gt;2000;25%;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)  F2=IF(E2&gt;2000;E2;E2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) F2=IF(E2&gt;2000;E2*25%;E2*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) F2=IF(E2&gt;2000;1350;180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81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4. Ako se otplaćuje kroz dvije godine mjesečno po 1000 kuna, a kamate kredita su 5% godišnje, želimo doznati koliki smo kredit digli. Koristit će se funk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=PMT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 =PV(5%;2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=PV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=Rate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) =PMT(5%;2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8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25. Koliko tablica je najbolje imati u bazi podatak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Koliko ima entiteta u dijagramu objekt v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korisnik odlu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menedžer odlu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ima atributa u dijagramu objekt v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noliko koliko atributa čini primarni klju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8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26. Kako se rješava veza n: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stranog ključa na stranu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vezne tab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Dodavanjem stranog ključa na stranu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pajanjem ta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n redaka u prvu tabl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27. Izbacite uljez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816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28. Što je to Q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rtica za kreiranje v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rtica ve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reža za izradu upita putem GUI sučel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Čarobnjak za izradu ta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zik up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7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Što se 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išta ne treba dodati za nove matične ploč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cesorsku kart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emorijski i procesor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sk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pe i datote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arni ključ je sastavljen od šifre hobija i broja studenta. U kojoj je normalnoj formi tab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4076640"/>
            <a:ext cx="568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prvoj, ali nije u drug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drugoj, ali nije u pr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drugoj, ali nije u treć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treć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ije ni u prvoj 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064360" cy="207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68360" y="630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8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30. Koji atributi su relevantni za baz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 tome odlučuje menedž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i su redundantn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e odabere korisnik u suradnji s organizato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i čuvaju referencijalni integrit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ogičk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što su se udružili IBM, Motorola i Ap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novi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memoriju račun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ni se nikada nisu udruž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razvoj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54244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ja je glavna razlika između magnetskih medija i CD ROM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magnetskog se medija može čitati, a sa CD ROM-a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magnetski medij se može samo jednom pi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CD ROM se može samo jednom pisati, a na magnetski medij više pu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 magnetski se medij ne mogu snimati zvučn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CD ROM se ne mogu upisati 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360000"/>
            <a:ext cx="8507520" cy="56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Koliki je kapacitet CD ROM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700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K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M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baj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3628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Što je to virtualna memori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ugrađuje u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rsta ROM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Dio čvrstog diska koji se koristi kao pomoćni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o CD ROM-a koji se koristi kao pomoćni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nalazi na USB štapić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ja je tvrdnja toč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dan bajt može poprimiti 256 različitih st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 jedan bajt (odjednom) stane osam sl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ajt je dio b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vaki bit može poprimiti osam st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dan bajt može poprimiti samo dva različita stanja, 0 ili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60360"/>
            <a:ext cx="822960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liko često se koristi kompaj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i svakom korištenju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amo jedn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Kad se program prvi put razvija i kasnije svaki put kada se mije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korisnik odlu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amo kada se program prvi put razv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 Cicin-Sain</dc:creator>
  <dc:description/>
  <dc:language>en-US</dc:language>
  <cp:lastModifiedBy>helena</cp:lastModifiedBy>
  <dcterms:modified xsi:type="dcterms:W3CDTF">2010-02-27T17:29:49Z</dcterms:modified>
  <cp:revision>9</cp:revision>
  <dc:subject/>
  <dc:title>Test</dc:title>
</cp:coreProperties>
</file>