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178-086C-4111-B0DF-960199F5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36D-390F-433A-9C9F-4C49237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B51-DDB5-4E35-B268-BCED4BC3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F1E-83EF-4F33-B692-ADED531E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AB91-BD00-4C67-90B7-B4041AFB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1B03-CD7F-4FB8-AA79-E5968AB3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926F-994B-4D35-9249-6C710B84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B3E1-2B4C-4AE0-8189-2DEBCB18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A414-6C09-423F-9B86-218AEEB0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96BB-374B-4A6B-9F02-0A6801B8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724D-F587-4BF5-BFC0-10BA8E54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9ED-5EAE-4FA1-B6E8-7BDE805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17FB-ACF6-41F6-B559-ADED964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8B90-BDBA-474C-9625-C4357D40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4618-F1BE-4335-BDD9-5BF2ADC9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9489-5000-46E1-97CA-12DE6C9F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5664-EE7E-45A0-9DF8-55569B12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C6D-797B-487B-B28F-2F0E3371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34A-88E7-4929-B596-3BB78F1C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686-7B87-4FEF-BBB5-E16FFFE9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F35-3719-423B-B483-83FB4B2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725-9F9F-47D1-8F49-3E6B3CD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812-7B3B-4B27-A111-800AC6A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45F-9EF9-4D52-9604-11AB874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761F-C0D9-4ABE-A8A3-0136C8D14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AC20-485E-410A-9F44-C8DBF7D0F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akcije na lokalne anestetik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Psihogen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reakcij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si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 reakci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Alergijsk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reakci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Jaka stimulacija CNS-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konvulzi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asfiksi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gubitak svije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srčane aritmi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ostupak s bolesnik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prekinuti postupa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ležeći položaj boles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procjena vitalnih funkci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osigurati dišni p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ventilirati bolesnika kisik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i.v. apaurin 10-40 m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transportirati bolesnika u     bolnic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Depresija CNS-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miran, pospan, relaksir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koža blijeda, oznoje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puls usporen, tlak niza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depresija vitalnih funkci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Depresija disan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ventilacija 100 % kisik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(maska, tubu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Depresija KV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usporen puls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0,5 mg atropina i.v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0,5 mg adrenal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nizak tlak- infuzi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Toksič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e reakcije na KV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sr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krvne žile (vazodilataci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ili vazokonstrikcij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Depresija sr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bolesnik pri punoj svije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blijed, oznoj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puls usporen, tlak niza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ostupak s bolesnik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prekinuti postupa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ležeći položaj boles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za  tlak iznad 80 mmHg dati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kristaloidne tekuć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za tlak ispod 80 mmHg dat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koloidne tekućine 1000 m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CP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depresija disanja- ventilacija     kisik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0,5-1mg  adrenal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vanjska masaža sr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infuzi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transport u bolnic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Alergijske reakcije na lokalne anestetik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1. Mukokutane: crvenilo kože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osip, konjuktivitis, rinit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2.GIT: mučnina,povračanje, prolj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Toksičke reakci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Ovise o količini slobodnog anestetika u krvi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količini datog anestet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veličini apsorpci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vezanju anestetika na prote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ostupak s bolesnik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1.antihistaminici ( synopen, phenergan, Ca hept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2. kortikosteroidi (Solu medrol 125-250 mg,deksametazon 8-12 m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otežano disan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gušen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cijano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Respiratorna alerg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ostupak s bolesnik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1.antihistamini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2.kortikosteroid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3.aminophyllin 250 m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4.kisi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Anafilaks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otežano disanje, gušen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gubitak svije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pad tlaka i pul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Terapija anafilaksi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1. ventilacija kisik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2. adrenalin 0,5-1 mg i.v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3.antihistamini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4. kortikosteroid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5. CP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itanja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1857600" cy="3995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292800" y="2209680"/>
            <a:ext cx="1622520" cy="3934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44680" y="1752480"/>
            <a:ext cx="253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razgradnji i eliminaci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potentnosti anestet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koncentraci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općem stanju boles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razgradnji i eliminaci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Toksičke reakci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CNS                  KV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C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TIMULACIA            DEPRES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Bl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mjer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Blaga stimulac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razgovorljiv, svadlj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ratobor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nekoordinirane kretn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crvenilo l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povišeni tla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ostupak s bolesnik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prekinuti postupa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sjedeći položa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dati kisik na masku i   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promatrati boles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i.v. Apaurin 5-10 m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mjerena stimulacija CNS-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nemir, grčenje mišić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nistagm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glavobolja, zamagljen vi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ubrzano disan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visok tla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ostupak s bolesnik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kisik na mask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- i.v. Apaurin 10 m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4:02:44Z</dcterms:created>
  <dc:creator>Dada Gasparovic, MD</dc:creator>
  <dc:description/>
  <dc:language>en-US</dc:language>
  <cp:lastModifiedBy> </cp:lastModifiedBy>
  <dcterms:modified xsi:type="dcterms:W3CDTF">2008-10-20T07:36:34Z</dcterms:modified>
  <cp:revision>22</cp:revision>
  <dc:subject/>
  <dc:title>Reakcije na lokalne anestetike</dc:title>
</cp:coreProperties>
</file>