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1B8-49F4-41E6-A58E-71C607A2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C19-1784-46E5-B7A1-D99CE84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17B-1A73-427F-B9AD-E130895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A8B-A65E-4200-92E8-DC40D9BE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B24-F1EE-4F19-9225-904173C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019-0A5F-4E72-AB82-60CEB6CF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258-6387-4D54-B78C-8F2DEBF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945-DF27-44C8-B2DD-CA9C166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064-8D4D-4DDF-812A-7D4BAE3D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942-F8D2-4267-95A9-9A61868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D89-B11D-44D3-A935-A039144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EC6-0D8E-4E2D-BEC6-D8CA0D0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FA5-956A-4B79-84CB-B748138231C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80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 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05E-5F78-4AAF-BD36-784BD3CFF4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91520" cy="43531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NI TEČA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este tečaj u transakciji koja se izvršava odmah, odnosno u roku od dva radna dana od zaključenja ugovora – SPOT posao, odnosno te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SKI TEČA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jeste onaj koji se ugovara sada za isporuku deviza u određenom danu u bud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BAC-1C19-43ED-A6F0-DC66757D2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RMINSKA PREM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staje ako je terminski tečaj neke devize veći od prompt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ERMINSKI DISK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staje ako je terminski tečaj neke devize manji od njenog prompt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46B-E4D1-4CC8-B545-317C383C24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ivanje tečajnog rizika kod terminskih poslova naziva 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772-4ADF-40A0-A6B0-2482313655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Terminski ugo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Futures ugovo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: standardizirani terminski ugovori za trgovanje US$, EUR i YEN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ličina, napr. 100,000.00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me izvršenja: ožujak, svibanj, ruj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eta: državne obvez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jesto izvr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dentitet ugovornih stran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ršenje jamči </a:t>
            </a: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KLIRINŠKA KU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A71-D98F-4245-B9E9-206F3D28D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C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Terminski ugovor koji se može ali ne mora izvrš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L-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pcija za kup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T – opci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pcija za prod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ERIČKE 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gu se izvršiti i prije dana dospij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UROPSKE 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gu se izvršiti samo na dan dospij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DBB-56E0-4A1B-B4A5-B91769E16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3300"/>
                </a:solidFill>
                <a:latin typeface="Arial"/>
              </a:rPr>
              <a:t>SWAP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govorima se razmjenjuju određeni broj promptnih (spot) i terminskih (forward) transakcija u kojima terminske transakcije izravnavaju promptn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I POKRIĆA DEVIZNOG RIZ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E19-BCE5-4314-8C54-09C623A07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Devizna špekulaci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je namjerno nepokrivanje deviznog rizika s nadom da će se zaraditi na promjeni deviznih teča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D7B-B7C5-4FEE-8771-0A64B7AECD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ugu pozi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upuje na terminskom tržištu) poduzima špekulant kad očekuje da će promptni tečaj neke devize za tri mjeseca biti veći od današnjeg terminskog tečaja za tri mj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ratku pozici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daje na terminskom tržištu)poduzima špekulant ako očekuje da će promptni tečaj za tri mjeseca biti niži od današnjeg terminskog tečaja neke valute na tri mjes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2C4-38C9-4CDB-AFD5-E764B5EE25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P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vjetovani terminski ugo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ekulant plaća pristojbu za “margin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ABILIZIRAJUĆE ŠPEKUL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špekulanti poduzimaju transakcije suprotne tendencijama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STABILIZIRAJUĆE ŠPEKULA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špekulanti poduzimaju transakcije sukladne tendencijama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3E9-E440-4276-BC83-75B4D7329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jedice destabilizirajućih deviznih špekula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čekivanje deprecij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većava se broj poduzimanja Kratkih pozicija (prodaja na terminskom trži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liki terminski disko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užnič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čajni ri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ijeg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ankars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nancijska kr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415-0C14-4C53-A4B2-0FF481A7D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međunarodnoj razmjeni transakcije se obračunavaju i   plaćaju u različitim valu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potraživanje u stranoj valuti naziva se </a:t>
            </a: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deviza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anje stranim valutama – devizama, obavlja se na deviznom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vizno tržište je jedinstveno, globalno i traje 24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veće devizne transakcije obavljaju se u velikim financijskim središtima: New York, London, Frankfurt, Tokio, Zurich, it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9CB-0EED-4893-A7CE-C9497F693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UĆI NOV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hot mone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tkoročna kretanja kapitala uvjetovana očekivanjem deprecijacije ili devalv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E ŠPEKUL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A0B-6CD2-4E63-A50F-C2E9AB3EA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A ARBITRA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istodobno kupovanje i prodavanje iste devize na različitim dijelovima deviznog tržišta i uz različite cijene (teča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ža za izravnavanje (dugovanja ili potraživ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ža za diferencijaciju (radi zarade na razlici (diferencijaciji) tečaje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E90-2C8D-4D62-819C-E55C9EC82F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A ARBITRA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bitražeri transferiraju likvidna novčana sredstva iz središta s nižim kamatnjakom u središta s višim kamatnjakom, smanjujući ponudu u prvom a povećavajući ponudu u drugom sre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razlika između domaćeg i inozemnog kamatnjaka (izraženog u postotku) veća od terminskog diskonta valute, isplati se investirati u drugu zem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BB6-BA8E-43F3-B92A-350BD6053A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I PARI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jednačavanjem razlike među kamatnjacima u zemlji i inozemstvu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om između terminskog i promptnog teč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azi do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AMATNOG PARIT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D27-6868-45AF-9586-D62819D0AE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MATNI PARI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700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400536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349360"/>
            <a:ext cx="331308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060640"/>
            <a:ext cx="3313080" cy="345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2637000"/>
            <a:ext cx="3313080" cy="345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55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5084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350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P=Rt/Ro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9236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19720" y="2205360"/>
            <a:ext cx="16128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25320" y="3446640"/>
            <a:ext cx="119160" cy="18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410920" y="342900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11280" y="36450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59720" y="2710080"/>
            <a:ext cx="16128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3236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87640" y="515736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987280" y="494172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00240" y="4959720"/>
            <a:ext cx="119520" cy="1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3280" y="573408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57320" y="5534280"/>
            <a:ext cx="119160" cy="18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643280" y="551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4365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679000" y="4366080"/>
            <a:ext cx="160560" cy="14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f/rd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1916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1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51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897-B110-4BE0-ACE7-180FD43EC3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8000" y="2133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5589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249192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2349360"/>
            <a:ext cx="3600360" cy="2735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276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=K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07640" y="3586320"/>
            <a:ext cx="23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566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7E2-A9D0-47CB-96DB-33E43C5CD7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213336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551664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84360" y="2491920"/>
            <a:ext cx="374328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2781360"/>
            <a:ext cx="3097440" cy="2303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205000"/>
            <a:ext cx="3097080" cy="230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94172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79280" y="400536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3384720"/>
            <a:ext cx="287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=K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2BB-86B4-44DE-827B-10521DB21D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aničenje izvoza =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50920" y="2565360"/>
            <a:ext cx="4969080" cy="3528720"/>
            <a:chOff x="2050920" y="2565360"/>
            <a:chExt cx="4969080" cy="3528720"/>
          </a:xfrm>
        </p:grpSpPr>
        <p:sp>
          <p:nvSpPr>
            <p:cNvPr id="157" name=""/>
            <p:cNvSpPr/>
            <p:nvPr/>
          </p:nvSpPr>
          <p:spPr>
            <a:xfrm flipV="1">
              <a:off x="2050920" y="2565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0920" y="6094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4284720" y="2637000"/>
            <a:ext cx="0" cy="34560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3068640"/>
            <a:ext cx="302400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2349360"/>
            <a:ext cx="302400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89360"/>
            <a:ext cx="3024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443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0560" y="48848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560" y="40766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0560" y="3284640"/>
            <a:ext cx="2233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141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61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2492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6093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2637000"/>
            <a:ext cx="0" cy="22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4869000"/>
            <a:ext cx="1657440" cy="86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DB7-DBD3-478F-8594-234BB662D9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ažnja za uvozom je potpuno neelastič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50920" y="2781360"/>
            <a:ext cx="4969080" cy="3528720"/>
            <a:chOff x="2050920" y="2781360"/>
            <a:chExt cx="4969080" cy="3528720"/>
          </a:xfrm>
        </p:grpSpPr>
        <p:sp>
          <p:nvSpPr>
            <p:cNvPr id="182" name=""/>
            <p:cNvSpPr/>
            <p:nvPr/>
          </p:nvSpPr>
          <p:spPr>
            <a:xfrm flipV="1">
              <a:off x="2050920" y="2781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50920" y="6310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95640" y="2852640"/>
            <a:ext cx="1944720" cy="3024360"/>
            <a:chOff x="3995640" y="2852640"/>
            <a:chExt cx="1944720" cy="3024360"/>
          </a:xfrm>
        </p:grpSpPr>
        <p:sp>
          <p:nvSpPr>
            <p:cNvPr id="185" name=""/>
            <p:cNvSpPr/>
            <p:nvPr/>
          </p:nvSpPr>
          <p:spPr>
            <a:xfrm>
              <a:off x="3995640" y="285264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5640" y="4724280"/>
              <a:ext cx="1944720" cy="115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2484360" y="249192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35280" y="3573000"/>
            <a:ext cx="3095640" cy="2521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59280" y="2924280"/>
            <a:ext cx="3095280" cy="2520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27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7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6308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050920" y="3789360"/>
            <a:ext cx="1944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050920" y="4724280"/>
            <a:ext cx="19447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050560" y="5171760"/>
            <a:ext cx="2708280" cy="126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03280" y="443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CE5-77B2-4B67-8F6A-882335B8B0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MINISTRATIVNO ODREĐIVANJE TEČ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050920" y="2349360"/>
            <a:ext cx="4969080" cy="3528720"/>
            <a:chOff x="2050920" y="2349360"/>
            <a:chExt cx="4969080" cy="3528720"/>
          </a:xfrm>
        </p:grpSpPr>
        <p:sp>
          <p:nvSpPr>
            <p:cNvPr id="206" name=""/>
            <p:cNvSpPr/>
            <p:nvPr/>
          </p:nvSpPr>
          <p:spPr>
            <a:xfrm flipV="1">
              <a:off x="2050920" y="2349360"/>
              <a:ext cx="0" cy="35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0920" y="587808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916360" y="2708280"/>
            <a:ext cx="3166920" cy="25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627280" y="2781000"/>
            <a:ext cx="3673440" cy="25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380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8160" y="522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9800" y="22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7436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213000"/>
            <a:ext cx="144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050560" y="4076640"/>
            <a:ext cx="2449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050560" y="4724280"/>
            <a:ext cx="324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1160" y="3227400"/>
            <a:ext cx="0" cy="26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076640"/>
            <a:ext cx="0" cy="180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72428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7800" y="59500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7440" y="595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7800" y="59500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8560" y="3089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8560" y="4529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9800" y="386064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0A4-B9DB-42E3-B0EC-1B08589D0D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762200"/>
            <a:ext cx="81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IRANJE TRANSAKCIJA NA DEVIZNOM TRŽIŠ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između komercijalnih banaka i njihovih komit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među komercijalnim bankama u zemlji : međubankarsko devizno tržište 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a – broker – banka : “tržište na veliko”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a – komitent : “tržište na malo”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komercijalnih banaka sa svojim filijalama u inozems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kcije među centralnim bank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8B2-FE74-4DD9-A27E-B31BEB40F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STAVI DEVIZNIH T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KSNI (vezani)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jedinu valutu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€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£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¥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up valuta (S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LUKTUIRAJU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mostal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upno (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uzajuće prema indikat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74E-377D-4B0C-A5B0-375B968945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NO VALUTNO PODRUČ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opravdanja ako je ušteda u transakcijskim troškovima veća od troškova prilagod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722-3674-4A55-9588-CCF07E5968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KS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latni standard (1870. do 1. sv. r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 unca zlata u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S = 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 unca zlata u Švicarskoj = 70 S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 unca = 1 u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35$ = 70 S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$ = 2 Sfr  → zlatni par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FDD-3C78-4D29-A2F7-A30EDF8762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547640" y="1915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5516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184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072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08080" y="2276640"/>
            <a:ext cx="5184720" cy="2089080"/>
            <a:chOff x="2008080" y="2276640"/>
            <a:chExt cx="5184720" cy="2089080"/>
          </a:xfrm>
        </p:grpSpPr>
        <p:sp>
          <p:nvSpPr>
            <p:cNvPr id="238" name=""/>
            <p:cNvSpPr/>
            <p:nvPr/>
          </p:nvSpPr>
          <p:spPr>
            <a:xfrm>
              <a:off x="2008080" y="2276640"/>
              <a:ext cx="1584360" cy="2089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92440" y="4365720"/>
              <a:ext cx="360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692360" y="2637000"/>
            <a:ext cx="5545080" cy="2232000"/>
            <a:chOff x="1692360" y="2637000"/>
            <a:chExt cx="5545080" cy="2232000"/>
          </a:xfrm>
        </p:grpSpPr>
        <p:sp>
          <p:nvSpPr>
            <p:cNvPr id="241" name=""/>
            <p:cNvSpPr/>
            <p:nvPr/>
          </p:nvSpPr>
          <p:spPr>
            <a:xfrm>
              <a:off x="3637080" y="2637000"/>
              <a:ext cx="360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692360" y="2637000"/>
              <a:ext cx="1944720" cy="2232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31328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47280" y="4365720"/>
            <a:ext cx="2087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47280" y="2637000"/>
            <a:ext cx="201636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7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2160" y="23493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21080" y="48690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31800" y="34574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7080" y="242100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7080" y="33577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7800" y="4149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30680" y="2145960"/>
            <a:ext cx="266364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95640" y="2276280"/>
            <a:ext cx="266400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22480" y="2276640"/>
            <a:ext cx="2449440" cy="3240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37440" y="1700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4520" y="177336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07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8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8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3080" y="3284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1080" y="414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7800" y="414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67280" y="493956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19960" y="4941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vnotežni teč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3213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– suficit u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8320" y="566100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zvoznici (A) naplaćuju svoj izvoz u zl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7600" y="616572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voznici (A) plaćaju svoj uvoz u zla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896-7BB2-4B5D-B5E2-9A08FEDE45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547640" y="19159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5516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830680" y="2145960"/>
            <a:ext cx="2663640" cy="30970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19640" y="2205000"/>
            <a:ext cx="3024000" cy="1368360"/>
            <a:chOff x="3419640" y="2205000"/>
            <a:chExt cx="3024000" cy="1368360"/>
          </a:xfrm>
        </p:grpSpPr>
        <p:sp>
          <p:nvSpPr>
            <p:cNvPr id="276" name=""/>
            <p:cNvSpPr/>
            <p:nvPr/>
          </p:nvSpPr>
          <p:spPr>
            <a:xfrm>
              <a:off x="3419640" y="2205000"/>
              <a:ext cx="924120" cy="13683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760" y="3573360"/>
              <a:ext cx="209988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43280" y="3141720"/>
            <a:ext cx="3958920" cy="1800000"/>
            <a:chOff x="2843280" y="3141720"/>
            <a:chExt cx="3958920" cy="1800000"/>
          </a:xfrm>
        </p:grpSpPr>
        <p:sp>
          <p:nvSpPr>
            <p:cNvPr id="279" name=""/>
            <p:cNvSpPr/>
            <p:nvPr/>
          </p:nvSpPr>
          <p:spPr>
            <a:xfrm>
              <a:off x="2843280" y="3141720"/>
              <a:ext cx="1209600" cy="180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52880" y="4941720"/>
              <a:ext cx="2749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140360" y="4941720"/>
            <a:ext cx="2879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3573360"/>
            <a:ext cx="251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573360"/>
            <a:ext cx="1224000" cy="1656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94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3800" y="4076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1800" y="3357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1700280"/>
            <a:ext cx="2374920" cy="3384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60720" y="2492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440" y="3357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744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10520" y="32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17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5800" y="33577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04000" y="45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89440" y="1700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– deficit u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07672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8880" y="2492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vnotežni teč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68720" y="551664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476000" y="4292640"/>
            <a:ext cx="21589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47640" y="4941720"/>
            <a:ext cx="25927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460520" y="3565440"/>
            <a:ext cx="2751120" cy="7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4000" y="335772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4360" y="407664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7800" y="4724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43280" y="3573360"/>
            <a:ext cx="1441440" cy="165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80000" y="1484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40000" y="5084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40000" y="278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A95-6E91-4083-AA8F-581CD358B3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O-DEVIZ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ovor o rezervnoj svjetskoj val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fiksne cijene zlata u rezervnoj val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tečaja domaće valute prema rezervnoj svjetskoj valuti s dozvoljenim odstupanj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C41-7200-4341-B3A2-FF8F4D52C8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enova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retton-Wood -&gt; 15.VIII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LATNI DEVIZNI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59500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76360" y="292392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3789360"/>
            <a:ext cx="51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221000"/>
            <a:ext cx="504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357720"/>
            <a:ext cx="504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6000" y="31417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x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9080" y="40053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144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34520" y="314172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06160" y="4005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02160" y="602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D2D-A6CC-47BC-ADED-67F9955A27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LAGODLJIVO VEZ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476360" y="1916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76360" y="5661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3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9440" y="5661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4520" y="5661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i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80" y="1844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kn/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851280" y="2421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4365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76360" y="436572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465300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76360" y="4076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851280" y="2708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1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1964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2997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51280" y="242100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51280" y="270828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476000" y="270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0160" y="2276640"/>
            <a:ext cx="98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2708280"/>
            <a:ext cx="14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6720" y="249228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0520" y="3860640"/>
            <a:ext cx="9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1240" y="4437000"/>
            <a:ext cx="9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8360" y="414972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F9B-3F62-459B-B66B-57BD1EB2AA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AJUĆE PRILAGOĐA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češće manje devalvacije kojima se relativno češće prilagođuje tečaj domaće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125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Crawling p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BBD-A27D-4854-8288-F70A820CD5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KTUIRAJUĆI TEČA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pojedine valute određuje se djelovanjem isključivo tržišnih snaga ponude 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leksibilni devizni tečajevi su bitni za očuvanje nacionalne autonomije i nezavisnosti konzistentne s učinkovitom organizacijom i razvojem svjetske privrede” (H.G.John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5BD-0624-42A7-B9CD-6484877A95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FUNKCIJE DEVIZNOG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mjena, trgovina devi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kupovne moći, financijskih sredstava iz jedne zemlje u dru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ditna fun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5F3-1BD2-40D3-9DE0-4830F5EFB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promjene globalne konkurentnosti pri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utjecaja promjene na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jena utjecaja na domaće ci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E09-1DDD-48D2-91D5-4FE151E3B9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ksi efektivnog tečaja razlikuju se p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u baznog razdob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u “košarice” va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derima pojedinih va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ma za izračunavanje efektiv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KTIV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2CB-B83C-463E-9D63-804C1862A1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ORIJE ODREĐIVANJA DEVIZNOG TEČA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ja pariteta kupovne moć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psolu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relati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eorija kamatnog par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eorija efikasnog deviznog tr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eorija tržišta vrijednosnih pap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eorija dugoročne neravnoteže u bilanci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572-BB03-4388-AFF7-FFCDC48253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PARITETA 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jašnjava kretanje tečajeva dviju valuta kao odnos kupovne moći tih dviju valuta, tj. kao funkciju promjene odnosa unutarnjih i vanjskih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kupovnih moći definiran je odnosom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ß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1DF-A968-433A-B086-41F5F84487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APSOLUTNA TEORIJA PARITETA 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se dviju valuta zemalja A i B izračunava kao odnos razine cijena u tim zeml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ß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ß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= tečaj ili cijena valute zemlje B u vremenu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 razina cijene zemlje A u vremenu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= razina cijene zemlje A u vremen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864-C27A-4C2E-9F03-F8FAAFDA0F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RELATIVNA TEORIJA PARITETA KUPOVNE MOĆ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čaj u tekućem razdoblju objašnjava kao tečaj iz temeljnog razdoblja korigiran odnosom domaćih i vanjskih cijena kojima je temelj isto razdob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DC8-B665-429D-9BA4-71763FB80F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KAMATNOG PARIT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etanje kratkoročnog kapitala uvjetovano je razlikama u odgovarajućim domaćim i vanjskim kamatnim stopama (J.M.Key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C77-0A37-4F40-B74D-BB7A6334E3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EFIKASNOG 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DEVIZNOG TRŽ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i se na sljedećim pretpostavk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oškovi deviznih transakcija su m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dionici koriste sve relevantne inform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ijednosni papiri denominirani u različitim valutama savršeni su supsti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Ako su pretpostavke ispunjene, terminski tečaj je nepristrani indikator budućeg kretanja prompt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DD1-CBB4-46AF-99A1-3D60602B45B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TEORIJA TRŽIŠTA VRIJEDNOSNIH PAP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kratkom roku devizni tečaj određuju kretanja u bilanci kapitalnih transakcija (teorija kamatnog parit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dugom roku kretanja u bilanci tekućih transakcija (teorija pariteta kupovne moć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CD2-66B5-4897-9D40-1FFDFC2EA4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714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TEORIJA DUGOROČNE NERAVNOTEŽE U </a:t>
            </a:r>
            <a:br>
              <a:rPr sz="3600"/>
            </a:b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ANCI PLAĆ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90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ušava obuhvatiti sve faktore koji mogu utjecati na devizne transakcije neke zemlje: tečaj se određuje na temelju dugoročne pozicije bilance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D9C-152B-49B4-8371-C9BE105EE6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veće fin.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4-satno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,900 milijardi $ dnevno (2004 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9,273 milijardi $ godišnji izvoz (2003 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 opsegu 2004. god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lar, euro, yen, funta, š. Frank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CC1-F835-40F5-9729-72F82C58B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MONETARN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azi od teorije pariteta kupovne moći prema kojoj promjena deviznog tečaja slijedi promjene u stupnju inflacije u zemlji i u inozemst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a u promjeni novčane mase u zemlji i inozemstvu utječe na promjenu deviznog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/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=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- ∆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/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D0B-9ADF-4C89-8AA3-889DD8AF90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-29880"/>
            <a:ext cx="43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čajna lista HNB broj: 058</a:t>
            </a:r>
            <a:br>
              <a:rPr sz="14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tvrđena na dan: 24.03.2003.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imjenjuje se od 25.03.2003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42920" y="404640"/>
          <a:ext cx="7416720" cy="6329520"/>
        </p:xfrm>
        <a:graphic>
          <a:graphicData uri="http://schemas.openxmlformats.org/drawingml/2006/table">
            <a:tbl>
              <a:tblPr/>
              <a:tblGrid>
                <a:gridCol w="1484280"/>
                <a:gridCol w="1482840"/>
                <a:gridCol w="1482840"/>
                <a:gridCol w="1482480"/>
                <a:gridCol w="14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pov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edn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aj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4802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7103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69405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6430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7713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28996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3807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5263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,86718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098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170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24243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2960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32705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03580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0895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1830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12766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5779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7572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993651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1795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4719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97764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294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349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18404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0782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17779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,32773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266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517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,83767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18686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202467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,218074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28693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32089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,354856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17518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19677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,21836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6319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68498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,773803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1080" y="665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4FD-12C4-43BB-8C69-5DBF51B95F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cij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ktno k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KN / 1 GPB= 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roj jedinica domaće valute za jednu jedinicu strane val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ktno k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GPB/ 1KN = 1/11.3 = 0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roj jedinica strane valute za jednu jedinicu domaće val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982-E009-426B-B9F9-5A4743D0E9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čno se navode dva tečaj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 rate (kupovni) ili onaj po kojem banka želi kupiti jednu jedinicu neke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rate (prodajni) ili onaj po kojem banka želi prodati jednu jedinicu v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a j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723560"/>
            <a:ext cx="7488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 1   4,264301       4,277132           4,28996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40480" y="53928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264301- 4.289963= 0.025662 po jedinici AUD kojim se trg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8B2-25C5-4E82-BAE6-63EC18635A9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čaj postoji između svih valuta, ali se u pravilu izražava u uvjetima domaće va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hicle curr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 uvijek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D, a da li € može postat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e druge valute se izračunavaju indirektno, np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/€ i KN/USD tada imamo €/USD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7.1/7.6 =  0.93 € za 1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o služi i za izračunavanje tečaja onih valuta kojima se na jednom tržištu direktno NE trguj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7A4-40E7-47F2-9FAE-025C6705D39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NB kaž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79640" y="1053720"/>
            <a:ext cx="597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čajevi lokalnih valuta izračunati su na osn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rednjeg tečaja američkog dolara prema ku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ji je na  dan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1. ožujka 2003. iznosio 7,0934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za jedan US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kao i na osnovi srednjih tečaj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anih valuta prema američkom dolaru i eu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vedenih u "Financial Times Guide to World Currencies". 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pominjemo da ovaj tablični pregled nije služb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čajna lista Hrvatske narodne banke te mol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entualne korisnike ovog pregleda da se o teč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jedinih valuta, naznačenih u ovom pregled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iraju putem financijskih servisa RE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li Bloomberg, koji su dostupni većini poslovn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anaka u  Republici Hrvatsk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71640" y="530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5157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i se dakle o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ross exchange rat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se tečaj jedne valute  izračuna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ko neke treće, obično tzv. benchmark, valute (USD, 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DC0-1749-49B7-89D8-709A55E7B96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zno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veće i najlikvidnije u svij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centralnog, jednog tržišta već ima nekoliko ključni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, New York, Tokyo, Frankfurt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gapor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nove tehnologij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eza) sve više umanjuje korisnost arbitraž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ko su sudionici na deviznom tržiš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ercijaln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po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bankarske financijske instit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entraln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502-72CB-49B9-B2CF-E1473B1E16E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 toga slijede i transakcij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komercijalnih banaka i njihovih komit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domaćih banaka (preko brok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domaćih i stranih b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eđu centralnih b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BFC-57CD-4011-B4E7-0AA4BD94B0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(promptno) – prodaja i kupnja uz izvršenje odmah (2 da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(terminsko) – prodaja i kupnja s izvršenjem na neki budući datum po unaprijed dogovorenom tečaju  (30, 90, 180 dana ili duž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ržište – prodaja i kupnja za izvršenje u budućnosti ali u određenim veličinama transakcija i s određenim datum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CIJE  - ugovori koji dozvoljavaju opciju da se napravi devizna transakcija u određenoj količini po određenom tečaju do isteka određenog r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pcija (imalac opcije ima pravo KUPITI devi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pcija (imalac opcije ima pravo PRODATI devi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5B6-26C6-40D6-9065-E06D65AE9B8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ređivanje teč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potpuno slobodnog režima (o režimima malo kasnije), tečaj se određuje na trž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ažnja (izvodi se iz debitnih stavaka u bilanci plać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uda (izvodi se iz kreditnih stavaka u bilanci plać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695-CB7C-4198-BFF4-392AC087A92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Devizno tržište u Republici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814400"/>
          <a:ext cx="821520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4400"/>
                    <a:ext cx="8215200" cy="4148280"/>
                  </a:xfrm>
                  <a:prstGeom prst="rect">
                    <a:avLst/>
                  </a:prstGeom>
                  <a:ln w="9360">
                    <a:solidFill>
                      <a:srgbClr val="ecec4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990-A16B-4C47-BEDA-A7D7201EBD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1188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7D5-5F7D-4697-AB5F-B79CA8F3372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jene u teča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jacija domaće valute znači da je potrebno više jedinica da se kupi isti broj strane valute (domaća valuta vrijedi relativno manje ili uvozno dobro za rezidenta postaje skuplje u domaćoj valu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cijacija domaće valu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760-2F1B-4E8A-AF8A-FC746A08F48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i faktori koji utječu na tržište (market fundament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realnog doho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produ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na i fiskalna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do na tekućem rač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na kamatna st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a inf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si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521-4878-4E17-8AA6-3038546810E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išna očeki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vosti o budućim kretanjima odrednica (market fundamen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pekulativna gledanja na kretanje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97C-29D1-4484-8D4E-AB3A1156D9C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atki i dugi 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ost pojedinih odrednica se mijenja ovisno o vremenskom razdoblju kojeg promatr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kratkom roku su kritični realna kamatna stopa i (nagle) promjene u očekivan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dugom roku su važniji inflacija, profitabilnost investicija, realni dohodak, produktiv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47E-7963-4B2A-A668-7551E712CEE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jene u potr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inozemna potražnja za HR dobrima ili financijskom imovinom raste (pada), tada tečaj mora rasti – aprecirati (padati – deprecirati). To je pomak krivulj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aša potražnja za inozemnim robama ili financijskom imovinom rate (pada), onda tečaj mora padati – deprecirati (rasti- aprecirati). To je pomak krivulje POTRAŽ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2A2-2082-4357-94A1-4ECBE595AB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924360" y="227628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94720" y="244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115640" y="3645000"/>
            <a:ext cx="431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128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64520" y="56754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E9A-DC0B-4C02-A8B2-C2D8A91BE4C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ni dohod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realni dohodak u HR raste (pada), u odnosu na inozemstvo, ceteris paribus očekujemo da će tečaj deprecirati (aprecir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što? UVOZ raste dok IZVOZ p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to izgleda na graf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li je važno zbog čega dolazi do promjene realnog dohot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5BC-8202-4EC2-9B67-9F6CBBEC10B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92360" y="98100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5280" y="1792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95080" y="366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116000" y="2421000"/>
            <a:ext cx="2664000" cy="7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1440" y="25844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N de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nosno € aprec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2400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4140000" y="162828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912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42E-AF6F-4715-BE36-CE7BD18A31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matne st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u kamatnim stopama utječu na tečaj preko utjecaja na kretanje kapit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 (pad) u domaćoj kamatnoj stopi će, ceteris paribus, uzrokovati aprecijaciju (deprecijaciju)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o? Pad u potražnji za stranom valutom + porast pon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3C9-9B65-4FDD-9AFE-93D1CA68528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vizni tečaj je cijena jedne valu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r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a u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drug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vizni tečaj jeste cijena JEDINICE strane valute izražena brojem jedinica domaće valute: </a:t>
            </a:r>
            <a:r>
              <a:rPr b="1" lang="hr-HR" sz="3200" spc="-1" strike="noStrike">
                <a:solidFill>
                  <a:srgbClr val="ff3300"/>
                </a:solidFill>
                <a:latin typeface="Arial"/>
              </a:rPr>
              <a:t>DIREKTNO N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7ED-BC25-4EA8-B83A-68D067300C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43280" y="2421000"/>
            <a:ext cx="2592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86880" y="52293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21640" y="2297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16000" y="2781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08360" y="458136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116000" y="4581360"/>
            <a:ext cx="2519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378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1760" y="5791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F84-E828-45B3-AC72-41E5FE91C49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eteris paribus, porast (pad) razine domaćih cijena  će uzrokovati deprecijaciju (aprecijaciju) te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o? S inflacijom, HR KN izražene cijene robi poskupljuju pa raste potražnja za uvozom. Istovremeno, HR izvoz postaje manje atraktivan pa pada pon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F0B-3BB8-41E1-8142-E0420E85CD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čki prik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16000" y="5805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3436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1413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/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47640" y="1125360"/>
            <a:ext cx="259272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5328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87640" y="3500280"/>
            <a:ext cx="0" cy="230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115640" y="3500280"/>
            <a:ext cx="18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56000" y="177336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763640" y="1773000"/>
            <a:ext cx="259236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34880" y="4221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10160" y="1125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276640"/>
            <a:ext cx="417672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115640" y="2276640"/>
            <a:ext cx="20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826920" y="2491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27720" y="59436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licin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1D6-CF95-4F3E-B981-18EB6B684A0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ki zaključ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zna tržišta rade (skoro) na isti način kao i ostala tržišta – ponuda i potražnja u svakom trenutku generiraju ravnotežnu cijenu i količi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je pod utjecajem faktora koji određuju ekonomske transakcije među zeml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624-5B6B-4DC8-ABE2-C03286BA778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izni tečaj  jeste cijena jedinice domaće valute izražena brojem jedinica strane valute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DIREKTNO NO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6C4-2AF3-427D-BC2F-FD0234190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cec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KTORI KOJI UTJEČU NA TEČ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snovni trend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remenska neusklađenost priljeva i odljeva dev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govaračka vještina sudionika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žišna očekivanja terminskih teča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Špekulativna kretanja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mjene uvjeta na financijskom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skalne i monetarne mjere  radi kontrole teča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IZNI TEČ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1B5-60D8-4590-8C0E-AF11DD093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7:18:00Z</dcterms:created>
  <dc:creator>Mia Mikic</dc:creator>
  <dc:description/>
  <dc:language>en-US</dc:language>
  <cp:lastModifiedBy>korisnik</cp:lastModifiedBy>
  <dcterms:modified xsi:type="dcterms:W3CDTF">2008-05-12T06:18:07Z</dcterms:modified>
  <cp:revision>22</cp:revision>
  <dc:subject/>
  <dc:title>Devizni tečaj i devizno tržište I</dc:title>
</cp:coreProperties>
</file>