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F07-2C73-4F33-BB4A-FDFCBE8F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E8A-C51E-4551-ADD3-79564EDB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529-BF2E-4C5F-8A26-AAB03AC2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822-321A-4F2D-B8F6-8286CC69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2C0-56B3-4A1D-9F8A-78AB14D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4B0-49C4-4359-BFBC-EACD42E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DEA-A3E0-4168-8F85-0424EE7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9AD-0839-4111-B8E4-E24FFDD9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221-E3BF-4069-8472-EF8A1E0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527-19BC-4030-A3A6-AC68A91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8AE-843A-4DFD-B88F-B6997B07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193-6E8A-460E-A80B-397CD35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B981-A373-418A-88AE-93D128F8D3A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800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 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9F0-3FD4-4F15-BA93-216B6537BD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91520" cy="43531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NI TEČA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jeste tečaj u transakciji koja se izvršava odmah, odnosno u roku od dva radna dana od zaključenja ugovora – SPOT posao, odnosno te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SKI TEČA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jeste onaj koji se ugovara sada za isporuku deviza u određenom danu u buduć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FD8-E145-4795-9877-4DA207D6D9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RMINSKA PREM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staje ako je terminski tečaj neke devize veći od prompt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RMINSKI DISK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staje ako je terminski tečaj neke devize manji od njenog prompt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016-7423-4AB9-B673-885376C8B4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ivanje tečajnog rizika kod terminskih poslova naziva 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46F-89E6-4B85-A9CC-87E4156359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I POKRIĆA DEVIZNOG RIZ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Terminski ugo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Futures ugovo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standardizirani terminski ugovori za trgovanje US$, EUR i YEN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ličina, napr. 100,000.00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me izvršenja: ožujak, svibanj, ru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eta: državne obvez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jesto izvr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dentitet ugovornih stran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ršenje jamči </a:t>
            </a: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KLIRINŠKA KU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A8F-6ED9-46A6-98A8-F72399E681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C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Terminski ugovor koji se može ali ne mora izvrš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L-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pcija za kup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T – opc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pcija za prod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ERIČKE 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gu se izvršiti i prije dana dospij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UROPSKE 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gu se izvršiti samo na dan dospij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I POKRIĆA DEVIZNOG RIZ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1E9-F866-4859-BFC9-D9A4C6425F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3300"/>
                </a:solidFill>
                <a:latin typeface="Arial"/>
              </a:rPr>
              <a:t>SWA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govorima se razmjenjuju određeni broj promptnih (spot) i terminskih (forward) transakcija u kojima terminske transakcije izravnavaju promptn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I POKRIĆA DEVIZNOG RIZ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3E5-4B8D-44FB-91CF-80C7A1456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Devizna špekulaci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je namjerno nepokrivanje deviznog rizika s nadom da će se zaraditi na promjeni deviznih teča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99F-FB7B-4D96-A58A-0ECB6267D1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ugu pozic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upuje na terminskom tržištu) poduzima špekulant kad očekuje da će promptni tečaj neke devize za tri mjeseca biti veći od današnjeg terminskog tečaja za tri mj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ratku pozic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daje na terminskom tržištu)poduzima špekulant ako očekuje da će promptni tečaj za tri mjeseca biti niži od današnjeg terminskog tečaja neke valute na tri mj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354-BDBF-4589-B278-2341F028B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vjetovani terminski ugo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ekulant plaća pristojbu za “margin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ABILIZIRAJUĆE ŠPEKULA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špekulanti poduzimaju transakcije suprotne tendencijama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STABILIZIRAJUĆE ŠPEKULA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špekulanti poduzimaju transakcije sukladne tendencijama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057-CF2E-457B-A33B-069B6E0087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jedice destabilizirajućih deviznih špekula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čekivanje deprecij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većava se broj poduzimanja Kratkih pozicija (prodaja na terminskom trži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liki terminski disko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užnička kr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čajni ri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ijeg kapit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ankarska kr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inancijska kr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664-E8E8-4BA2-BD09-7B62E95A1F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međunarodnoj razmjeni transakcije se obračunavaju i   plaćaju u različitim valut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potraživanje u stranoj valuti naziva se </a:t>
            </a: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deviza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govanje stranim valutama – devizama, obavlja se na deviznom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vizno tržište je jedinstveno, globalno i traje 24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veće devizne transakcije obavljaju se u velikim financijskim središtima: New York, London, Frankfurt, Tokio, Zurich, it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0D9-7C9C-4EA8-9A63-7B2B20F14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UĆI NOV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hot mone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tkoročna kretanja kapitala uvjetovana očekivanjem deprecijacije ili devalv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5DF-59F2-4251-95DD-DA4E8D57F1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ZNA ARBITRA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istodobno kupovanje i prodavanje iste devize na različitim dijelovima deviznog tržišta i uz različite cijene (teča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ža za izravnavanje (dugovanja ili potraživ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ža za diferencijaciju (radi zarade na razlici (diferencijaciji) tečaje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428-E0FF-430A-B302-EE0BFE8B8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MATNA ARBITRA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bitražeri transferiraju likvidna novčana sredstva iz središta s nižim kamatnjakom u središta s višim kamatnjakom, smanjujući ponudu u prvom a povećavajući ponudu u drugom sre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razlika između domaćeg i inozemnog kamatnjaka (izraženog u postotku) veća od terminskog diskonta valute, isplati se investirati u drugu zem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6C2-D1CA-460F-987F-D20FBE061B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MATNI PARI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jednačavanjem razlike među kamatnjacima u zemlji i inozemstvu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kom između terminskog i promptnog teč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azi do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AMATNOG PARIT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C61-3696-465B-A25C-1F9718291D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MATNI PARI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1700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400536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2349360"/>
            <a:ext cx="331308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060640"/>
            <a:ext cx="3313080" cy="345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2637000"/>
            <a:ext cx="3313080" cy="345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5084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350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P=Rt/Ro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9236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19720" y="2205360"/>
            <a:ext cx="161280" cy="14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25320" y="3446640"/>
            <a:ext cx="119160" cy="18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410920" y="3429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11280" y="36450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59720" y="2710080"/>
            <a:ext cx="161280" cy="14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3236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87640" y="515736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987280" y="494172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00240" y="4959720"/>
            <a:ext cx="119520" cy="1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43280" y="573408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57320" y="5534280"/>
            <a:ext cx="119160" cy="18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643280" y="551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4365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679000" y="4366080"/>
            <a:ext cx="160560" cy="14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f/rd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1916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51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031-2679-4C3B-BF68-C060EF351B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08000" y="2133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5589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2491920"/>
            <a:ext cx="3095640" cy="252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2349360"/>
            <a:ext cx="3600360" cy="273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2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=K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07640" y="3586320"/>
            <a:ext cx="23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566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CAA-16C0-4D69-8245-AB1ABB3E63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79640" y="21333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551664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84360" y="2491920"/>
            <a:ext cx="3743280" cy="25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2781360"/>
            <a:ext cx="3097440" cy="23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205000"/>
            <a:ext cx="3097080" cy="230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4365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941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9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79280" y="400536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3384720"/>
            <a:ext cx="287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=K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BD5-4561-49E5-AE73-B59BD6E4A6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aničenje izvoza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50920" y="2565360"/>
            <a:ext cx="4969080" cy="3528720"/>
            <a:chOff x="2050920" y="2565360"/>
            <a:chExt cx="4969080" cy="3528720"/>
          </a:xfrm>
        </p:grpSpPr>
        <p:sp>
          <p:nvSpPr>
            <p:cNvPr id="157" name=""/>
            <p:cNvSpPr/>
            <p:nvPr/>
          </p:nvSpPr>
          <p:spPr>
            <a:xfrm flipV="1">
              <a:off x="2050920" y="2565360"/>
              <a:ext cx="0" cy="35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0920" y="609408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V="1">
            <a:off x="4284720" y="2637000"/>
            <a:ext cx="0" cy="34560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3068640"/>
            <a:ext cx="302400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2349360"/>
            <a:ext cx="302400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89360"/>
            <a:ext cx="3024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443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50560" y="4884840"/>
            <a:ext cx="2233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560" y="4076640"/>
            <a:ext cx="2233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0560" y="3284640"/>
            <a:ext cx="2233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141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61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2492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6093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61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2637000"/>
            <a:ext cx="0" cy="223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4869000"/>
            <a:ext cx="1657440" cy="86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BD4-EA90-493C-9F4C-5D2EC48470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ažnja za uvozom je potpuno neelastič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50920" y="2781360"/>
            <a:ext cx="4969080" cy="3528720"/>
            <a:chOff x="2050920" y="2781360"/>
            <a:chExt cx="4969080" cy="3528720"/>
          </a:xfrm>
        </p:grpSpPr>
        <p:sp>
          <p:nvSpPr>
            <p:cNvPr id="182" name=""/>
            <p:cNvSpPr/>
            <p:nvPr/>
          </p:nvSpPr>
          <p:spPr>
            <a:xfrm flipV="1">
              <a:off x="2050920" y="2781360"/>
              <a:ext cx="0" cy="35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50920" y="631008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995640" y="2852640"/>
            <a:ext cx="1944720" cy="3024360"/>
            <a:chOff x="3995640" y="2852640"/>
            <a:chExt cx="1944720" cy="3024360"/>
          </a:xfrm>
        </p:grpSpPr>
        <p:sp>
          <p:nvSpPr>
            <p:cNvPr id="185" name=""/>
            <p:cNvSpPr/>
            <p:nvPr/>
          </p:nvSpPr>
          <p:spPr>
            <a:xfrm>
              <a:off x="3995640" y="2852640"/>
              <a:ext cx="0" cy="18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95640" y="4724280"/>
              <a:ext cx="1944720" cy="1152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2484360" y="2491920"/>
            <a:ext cx="3095640" cy="252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35280" y="3573000"/>
            <a:ext cx="3095640" cy="252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059280" y="2924280"/>
            <a:ext cx="3095280" cy="2520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27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7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63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6308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050920" y="3789360"/>
            <a:ext cx="1944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050920" y="4724280"/>
            <a:ext cx="1944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050560" y="5171760"/>
            <a:ext cx="2708280" cy="126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03280" y="44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6FF-B880-4CD8-A926-525B294C90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MINISTRATIVNO ODREĐIVANJE TEČ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050920" y="2349360"/>
            <a:ext cx="4969080" cy="3528720"/>
            <a:chOff x="2050920" y="2349360"/>
            <a:chExt cx="4969080" cy="3528720"/>
          </a:xfrm>
        </p:grpSpPr>
        <p:sp>
          <p:nvSpPr>
            <p:cNvPr id="206" name=""/>
            <p:cNvSpPr/>
            <p:nvPr/>
          </p:nvSpPr>
          <p:spPr>
            <a:xfrm flipV="1">
              <a:off x="2050920" y="2349360"/>
              <a:ext cx="0" cy="35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0920" y="587808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916360" y="2708280"/>
            <a:ext cx="3166920" cy="25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27280" y="2781000"/>
            <a:ext cx="3673440" cy="25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380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8160" y="522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9800" y="22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7436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213000"/>
            <a:ext cx="144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050560" y="4076640"/>
            <a:ext cx="2449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050560" y="4724280"/>
            <a:ext cx="324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1160" y="3227400"/>
            <a:ext cx="0" cy="26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076640"/>
            <a:ext cx="0" cy="18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472428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7800" y="59500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7440" y="595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7800" y="59500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8560" y="3089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8560" y="4529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9800" y="386064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38C-9F93-4C37-A04C-3DC2091ECE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762200"/>
            <a:ext cx="81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IRANJE TRANSAKCIJA NA DEVIZNOM TRŽIŠ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između komercijalnih banaka i njihovih komit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među komercijalnim bankama u zemlji : međubankarsko devizno tržište 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a – broker – banka : “tržište na veliko”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a – komitent : “tržište na malo”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komercijalnih banaka sa svojim filijalama u inozems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među centralnim bank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09E-1AD4-4989-A2A3-45D59C336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STAVI DEVIZNIH T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KSNI (vezani) 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jedinu valutu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€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¥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up valuta (S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LUKTUIRAJU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mostal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upno (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uzajuće prema indikat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71F-9184-4A99-86AB-C6A24E58A7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NO VALUTNO PODRUČ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opravdanja ako je ušteda u transakcijskim troškovima veća od troškova prilagod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E0F-DF00-4A4A-9487-692920B420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KS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latni standard (1870. do 1. sv. r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 unca zlata 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S = 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 unca zlata u Švicarskoj = 70 S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 unca = 1 u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35$ = 70 S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$ = 2 Sfr  → zlatni par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B60-DA14-4822-9DC3-3C5F167D7D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547640" y="1915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5516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184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072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08080" y="2276640"/>
            <a:ext cx="5184720" cy="2089080"/>
            <a:chOff x="2008080" y="2276640"/>
            <a:chExt cx="5184720" cy="2089080"/>
          </a:xfrm>
        </p:grpSpPr>
        <p:sp>
          <p:nvSpPr>
            <p:cNvPr id="238" name=""/>
            <p:cNvSpPr/>
            <p:nvPr/>
          </p:nvSpPr>
          <p:spPr>
            <a:xfrm>
              <a:off x="2008080" y="2276640"/>
              <a:ext cx="1584360" cy="2089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92440" y="4365720"/>
              <a:ext cx="360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692360" y="2637000"/>
            <a:ext cx="5545080" cy="2232000"/>
            <a:chOff x="1692360" y="2637000"/>
            <a:chExt cx="5545080" cy="2232000"/>
          </a:xfrm>
        </p:grpSpPr>
        <p:sp>
          <p:nvSpPr>
            <p:cNvPr id="241" name=""/>
            <p:cNvSpPr/>
            <p:nvPr/>
          </p:nvSpPr>
          <p:spPr>
            <a:xfrm>
              <a:off x="3637080" y="2637000"/>
              <a:ext cx="360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692360" y="2637000"/>
              <a:ext cx="1944720" cy="2232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31328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47280" y="4365720"/>
            <a:ext cx="2087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47280" y="2637000"/>
            <a:ext cx="201636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2160" y="23493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21080" y="48690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31800" y="34574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7080" y="242100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7080" y="33577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7800" y="4149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30680" y="2145960"/>
            <a:ext cx="2663640" cy="30970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95640" y="2276280"/>
            <a:ext cx="2664000" cy="30970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22480" y="2276640"/>
            <a:ext cx="2449440" cy="3240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37440" y="1700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4520" y="177336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07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814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8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3080" y="3284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1080" y="414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7800" y="414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67280" y="493956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19960" y="4941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vnotežni teč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8160" y="3213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– suficit u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8320" y="566100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zvoznici (A) naplaćuju svoj izvoz u zl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7600" y="61657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voznici (A) plaćaju svoj uvoz u zl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C5C-D5E0-4DE4-B910-3170EE1CF4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547640" y="1915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5516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30680" y="2145960"/>
            <a:ext cx="2663640" cy="30970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19640" y="2205000"/>
            <a:ext cx="3024000" cy="1368360"/>
            <a:chOff x="3419640" y="2205000"/>
            <a:chExt cx="3024000" cy="1368360"/>
          </a:xfrm>
        </p:grpSpPr>
        <p:sp>
          <p:nvSpPr>
            <p:cNvPr id="276" name=""/>
            <p:cNvSpPr/>
            <p:nvPr/>
          </p:nvSpPr>
          <p:spPr>
            <a:xfrm>
              <a:off x="3419640" y="2205000"/>
              <a:ext cx="924120" cy="13683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760" y="3573360"/>
              <a:ext cx="20998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43280" y="3141720"/>
            <a:ext cx="3958920" cy="1800000"/>
            <a:chOff x="2843280" y="3141720"/>
            <a:chExt cx="3958920" cy="1800000"/>
          </a:xfrm>
        </p:grpSpPr>
        <p:sp>
          <p:nvSpPr>
            <p:cNvPr id="279" name=""/>
            <p:cNvSpPr/>
            <p:nvPr/>
          </p:nvSpPr>
          <p:spPr>
            <a:xfrm>
              <a:off x="2843280" y="3141720"/>
              <a:ext cx="1209600" cy="180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52880" y="4941720"/>
              <a:ext cx="2749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140360" y="4941720"/>
            <a:ext cx="28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4720" y="3573360"/>
            <a:ext cx="251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573360"/>
            <a:ext cx="1224000" cy="165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9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3800" y="4076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1800" y="3357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4720" y="1700280"/>
            <a:ext cx="2374920" cy="3384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60720" y="2492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5440" y="3357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744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1052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5800" y="33577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0400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89440" y="17002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– deficit u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076720" y="270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8880" y="2492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vnotežni teč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68720" y="551664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476000" y="4292640"/>
            <a:ext cx="21589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47640" y="4941720"/>
            <a:ext cx="25927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460520" y="3565440"/>
            <a:ext cx="2751120" cy="7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4000" y="335772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4360" y="407664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7800" y="47242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43280" y="3573360"/>
            <a:ext cx="144144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80000" y="148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40000" y="50846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27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BB3-150B-4290-9747-EB3DA5262C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O-DEVIZ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ovor o rezervnoj svjetskoj val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ivanje fiksne cijene zlata u rezervnoj val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ivanje tečaja domaće valute prema rezervnoj svjetskoj valuti s dozvoljenim odstupanj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EC9-C30B-4AFD-9EEA-95A3B21A9A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enova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etton-Wood -&gt; 15.VIII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I DEVIZ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59500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476360" y="292392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3789360"/>
            <a:ext cx="51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4221000"/>
            <a:ext cx="504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3357720"/>
            <a:ext cx="504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6000" y="31417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x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9080" y="40053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144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34520" y="31417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06160" y="4005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02160" y="602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BC0-22B0-46E0-A07C-B51EFDB90B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LAGODLJIVO VEZI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476360" y="1916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76360" y="5661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3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9440" y="5661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4520" y="5661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i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080" y="1844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kn/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851280" y="2421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4365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76360" y="436572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465300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76360" y="4076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851280" y="2708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12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1964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2997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1280" y="242100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70828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476000" y="27082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0160" y="2276640"/>
            <a:ext cx="98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2708280"/>
            <a:ext cx="14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6720" y="249228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0520" y="386064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1240" y="4437000"/>
            <a:ext cx="9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8360" y="414972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12C-4753-42FF-92BB-1E061453E1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AJUĆE PRILAGOĐA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češće manje devalvacije kojima se relativno češće prilagođuje tečaj domaće v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12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Crawling p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DE2-45C8-49C5-901A-2D8FA32F9C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KTUIRAJUĆI TEČA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čaj pojedine valute određuje se djelovanjem isključivo tržišnih snaga ponude i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leksibilni devizni tečajevi su bitni za očuvanje nacionalne autonomije i nezavisnosti konzistentne s učinkovitom organizacijom i razvojem svjetske privrede” (H.G.John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435-DDA1-4E37-822A-5AC1E5F75C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UNKCIJE DEVIZNOG TRŽIŠ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mjena, trgovina devi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kupovne moći, financijskih sredstava iz jedne zemlje u dru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ditna fun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972-95FA-450D-982A-DC19D0284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TIV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promjene globalne konkurentnosti pri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utjecaja promjene na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utjecaja na domaće ci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E88-73C1-4603-891F-75047CCE03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ksi efektivnog tečaja razlikuju se pr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u baznog razdob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u “košarice” val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derima pojedinih val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ma za izračunavanje efektiv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TIV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F40-CA17-4990-A14B-2F5336084B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ORIJE ODREĐIVANJA DEVIZNOG TEČ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pariteta kupovne mo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psolu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relati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eorija kamatnog par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eorija efikasnog deviznog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eorija tržišta vrijednosnih pap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eorija dugoročne neravnoteže u bilanci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2FC-338C-4185-81C7-E214ADA50B1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PARITETA 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KUPOVNE 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jašnjava kretanje tečajeva dviju valuta kao odnos kupovne moći tih dviju valuta, tj. kao funkciju promjene odnosa unutarnjih i vanjskih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kupovnih moći definiran je odnosom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ß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F8E-BF57-44B9-AA6E-69C7973B88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APSOLUTNA TEORIJA PARITETA KUPOVNE 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čaj se dviju valuta zemalja A i B izračunava kao odnos razine cijena u tim zeml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ß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ß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= tečaj ili cijena valute zemlje B u vremenu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 razina cijene zemlje A u vremenu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 razina cijene zemlje A u vremen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67E-A44E-4B98-995D-E56A8054CC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RELATIVNA TEORIJA PARITETA KUPOVNE 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čaj u tekućem razdoblju objašnjava kao tečaj iz temeljnog razdoblja korigiran odnosom domaćih i vanjskih cijena kojima je temelj isto razdob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183-9490-45DF-9476-594232857F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KAMATNOG PARIT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etanje kratkoročnog kapitala uvjetovano je razlikama u odgovarajućim domaćim i vanjskim kamatnim stopama (J.M.Key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AF7-A4E7-4352-B426-DF0D338BE85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EFIKASNOG 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DEVIZNOG TRŽ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melji se na sljedećim pretpostavk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oškovi deviznih transakcija su m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dionici koriste sve relevantne 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dnosni papiri denominirani u različitim valutama savršeni su supsti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Ako su pretpostavke ispunjene, terminski tečaj je nepristrani indikator budućeg kretanja prompt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2D3-67C2-4053-91A6-4C0FC44FBD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TRŽIŠTA VRIJEDNOSNIH PAP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kratkom roku devizni tečaj određuju kretanja u bilanci kapitalnih transakcija (teorija kamatnog parit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dugom roku kretanja u bilanci tekućih transakcija (teorija pariteta kupovne moć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322-1E4F-45C6-9394-F27613D8D8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714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TEORIJA DUGOROČNE NERAVNOTEŽE U </a:t>
            </a:r>
            <a:br>
              <a:rPr sz="3600"/>
            </a:b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LANCI PLAĆ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90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kušava obuhvatiti sve faktore koji mogu utjecati na devizne transakcije neke zemlje: tečaj se određuje na temelju dugoročne pozicije bilance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95F-E668-45D3-B24B-7E04364AA6D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veće fin.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4-satno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,900 milijardi $ dnevno (2004 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9,273 milijardi $ godišnji izvoz (2003 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 opsegu 2004. god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lar, euro, yen, funta, š. Frank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0C1-638B-4DF1-BDCB-433F35DF1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MONETARNA TEOR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azi od teorije pariteta kupovne moći prema kojoj promjena deviznog tečaja slijedi promjene u stupnju inflacije u zemlji i u inozemst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a u promjeni novčane mase u zemlji i inozemstvu utječe na promjenu deviz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/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=∆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- ∆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/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648-5536-4544-9789-DF07FDA8B97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-29880"/>
            <a:ext cx="43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čajna lista HNB broj: 058</a:t>
            </a:r>
            <a:br>
              <a:rPr sz="14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tvrđena na dan: 24.03.2003.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imjenjuje se od 25.03.2003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042920" y="404640"/>
          <a:ext cx="7416720" cy="6329520"/>
        </p:xfrm>
        <a:graphic>
          <a:graphicData uri="http://schemas.openxmlformats.org/drawingml/2006/table">
            <a:tbl>
              <a:tblPr/>
              <a:tblGrid>
                <a:gridCol w="1484280"/>
                <a:gridCol w="1482840"/>
                <a:gridCol w="1482840"/>
                <a:gridCol w="1482480"/>
                <a:gridCol w="14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pov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ednj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aj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64802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67103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69405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26430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27713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28996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83807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85263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867188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24098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24170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24243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02960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032705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03580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10895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118308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12766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95779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97572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99365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971795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974719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97764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18294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18349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18404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30782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317779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32773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83266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83517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83767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18686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20246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21807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,28693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,32089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,35485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17518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19677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21836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76319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768498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77380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1080" y="665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C09-D07B-446D-9B5D-E1855363F58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cij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ktno k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KN / 1 GPB= 1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roj jedinica domaće valute za jednu jedinicu strane valu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rektno k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GPB/ 1KN = 1/11.3 = 0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roj jedinica strane valute za jednu jedinicu domaće valu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322-546E-42AD-B5A5-69F4D86BA3D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čno se navode dva tečaj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 rate (kupovni) ili onaj po kojem banka želi kupiti jednu jedinicu neke v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rate (prodajni) ili onaj po kojem banka želi prodati jednu jedinicu v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ka j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723560"/>
            <a:ext cx="7488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   4,264301       4,277132           4,28996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40480" y="53928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264301- 4.289963= 0.025662 po jedinici AUD kojim se trg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04D-880F-49B5-A196-55D6F60773A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čaj postoji između svih valuta, ali se u pravilu izražava u uvjetima domaće va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hicle curr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 uvijek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D, a da li € može postat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e druge valute se izračunavaju indirektno, np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N/€ i KN/USD tada imamo €/USD 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7.1/7.6 =  0.93 € za 1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o služi i za izračunavanje tečaja onih valuta kojima se na jednom tržištu direktno NE trguj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7DD-8346-4303-8317-E1AC3D70170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NB kaž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9640" y="1053720"/>
            <a:ext cx="59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čajevi lokalnih valuta izračunati su na osn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rednjeg tečaja američkog dolara prema ku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ji je na  dan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1. ožujka 2003. iznosio 7,0934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za jedan US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kao i na osnovi srednjih tečaj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ranih valuta prema američkom dolaru i eu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vedenih u "Financial Times Guide to World Currencies".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pominjemo da ovaj tablični pregled nije služb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čajna lista Hrvatske narodne banke te mol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entualne korisnike ovog pregleda da se o teč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jedinih valuta, naznačenih u ovom pregled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formiraju putem financijskih servisa RE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li Bloomberg, koji su dostupni većini poslovn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anaka u  Republici Hrvatsk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71640" y="530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5157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i se dakle 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oss exchange rat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dje se tečaj jedne valute  izračuna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ko neke treće, obično tzv. benchmark, valute (USD, 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4BB-E27E-4870-B145-D18A0A6CBA8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veće i najlikvidnije u svij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centralnog, jednog tržišta već ima nekoliko ključni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, New York, Tokyo, Frankfurt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gapo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je nove tehnologij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eza) sve više umanjuje korisnost arbitraž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ko su sudionici na deviznom tržiš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mercijalne ba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po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bankarske financijske instit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entralne ba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2BC-DEFE-493C-9985-D53EFA78F40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 toga slijede i transakcij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komercijalnih banaka i njihovih komit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domaćih banaka (preko brok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domaćih i stranih b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centralnih b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9C4-D0E9-497C-9510-A950DF1B038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(promptno) – prodaja i kupnja uz izvršenje odmah (2 da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(terminsko) – prodaja i kupnja s izvršenjem na neki budući datum po unaprijed dogovorenom tečaju  (30, 90, 180 dana ili duž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ržište – prodaja i kupnja za izvršenje u budućnosti ali u određenim veličinama transakcija i s određenim datu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CIJE  - ugovori koji dozvoljavaju opciju da se napravi devizna transakcija u određenoj količini po određenom tečaju do isteka određenog r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pcija (imalac opcije ima pravo KUPITI devi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pcija (imalac opcije ima pravo PRODATI devi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B84-104F-408F-B776-35EBEB30C7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ređivanje t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potpuno slobodnog režima (o režimima malo kasnije), tečaj se određuje na trž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ažnja (izvodi se iz debitnih stavaka u bilanci plać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uda (izvodi se iz kreditnih stavaka u bilanci plać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A9C-CD75-4440-A4B4-608BD11F41B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Devizno tržište u Republici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814400"/>
          <a:ext cx="821520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4400"/>
                    <a:ext cx="8215200" cy="4148280"/>
                  </a:xfrm>
                  <a:prstGeom prst="rect">
                    <a:avLst/>
                  </a:prstGeom>
                  <a:ln w="9360">
                    <a:solidFill>
                      <a:srgbClr val="ecec4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1E6-C22A-4AB5-9146-9F99BF079F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11880" y="56754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58A-BB94-41EC-A9D8-7C148BCAF8D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jene u teča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jacija domaće valute znači da je potrebno više jedinica da se kupi isti broj strane valute (domaća valuta vrijedi relativno manje ili uvozno dobro za rezidenta postaje skuplje u domaćoj valu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cijacija domaće valu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941-5F26-42B2-8F12-27B4D5DDF06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i faktori koji utječu na tržište (market fundament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jene realnog doho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jene produ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tarna i fiskalna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do na tekućem rač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na kamatna st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a inf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si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80C-4C00-489A-B953-45F970DC1C1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išna očeki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vosti o budućim kretanjima odrednica (market fundamen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pekulativna gledanja na kretanje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B49-7902-47FF-8A59-225595DADD6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atki i dugi 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ost pojedinih odrednica se mijenja ovisno o vremenskom razdoblju kojeg promatr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kratkom roku su kritični realna kamatna stopa i (nagle) promjene u očekivan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dugom roku su važniji inflacija, profitabilnost investicija, realni dohodak, produktiv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806-FB14-4640-8A6D-BF82B12E1C8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jene u potr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inozemna potražnja za HR dobrima ili financijskom imovinom raste (pada), tada tečaj mora rasti – aprecirati (padati – deprecirati). To je pomak krivulj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naša potražnja za inozemnim robama ili financijskom imovinom rate (pada), onda tečaj mora padati – deprecirati (rasti- aprecirati). To je pomak krivulje POTRAŽ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0DB-269A-4659-A5AE-B9EAE7BC078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924360" y="227628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94720" y="244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115640" y="3645000"/>
            <a:ext cx="431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64520" y="56754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C2B-C8D2-4C68-B819-F6F0112921F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ni dohod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realni dohodak u HR raste (pada), u odnosu na inozemstvo, ceteris paribus očekujemo da će tečaj deprecirati (aprecir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što? UVOZ raste dok IZVOZ p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to izgleda na graf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li je važno zbog čega dolazi do promjene realnog dohot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1AD-D7C4-41B5-A4FC-D5808F2EB68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4140000" y="162828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9120" y="5791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BC4-238E-499A-99A6-1058C188327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matne st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u kamatnim stopama utječu na tečaj preko utjecaja na kretanje kapit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st (pad) u domaćoj kamatnoj stopi će, ceteris paribus, uzrokovati aprecijaciju (deprecijaciju)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o? Pad u potražnji za stranom valutom + porast pon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DB2-8182-492D-A045-77C0479D7B2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vizni tečaj je cijena jedne valu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r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a u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drug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vizni tečaj jeste cijena JEDINICE strane valute izražena brojem jedinica domaće valute: </a:t>
            </a:r>
            <a:r>
              <a:rPr b="1" lang="hr-HR" sz="3200" spc="-1" strike="noStrike">
                <a:solidFill>
                  <a:srgbClr val="ff3300"/>
                </a:solidFill>
                <a:latin typeface="Arial"/>
              </a:rPr>
              <a:t>DIREKTNO N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46B-CFFC-46C1-A35D-D2C09DB131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440" y="141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43280" y="2421000"/>
            <a:ext cx="2592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86880" y="5229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21640" y="2297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16000" y="278136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08360" y="458136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116000" y="4581360"/>
            <a:ext cx="2519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378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1760" y="5791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94D-5650-4156-B719-D228D1EBA3D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eteris paribus, porast (pad) razine domaćih cijena  će uzrokovati deprecijaciju (aprecijaciju)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o? S inflacijom, HR KN izražene cijene robi poskupljuju pa raste potražnja za uvozom. Istovremeno, HR izvoz postaje manje atraktivan pa pada pon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950-796F-4616-AD09-93C8AEA8289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141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47640" y="1125360"/>
            <a:ext cx="259272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56000" y="177336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34880" y="422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10160" y="1125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115640" y="227664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826920" y="2491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27720" y="59436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BA5-372F-4F94-AC0D-3DAE3BAE968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ki zaključ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zna tržišta rade (skoro) na isti način kao i ostala tržišta – ponuda i potražnja u svakom trenutku generiraju ravnotežnu cijenu i količi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ište je pod utjecajem faktora koji određuju ekonomske transakcije među zeml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CAE-CAFE-4494-98F7-A339AEA0ABE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izni tečaj  jeste cijena jedinice domaće valute izražena brojem jedinica strane valute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DIREKTNO N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CA7-DADC-4C75-9B14-6CEF30D86F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KTORI KOJI UTJEČU NA TEČ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novni trend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remenska neusklađenost priljeva i odljeva dev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govaračka vještina sudionika vanjsk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žišna očekivanja terminskih teča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Špekulativna kretanja kapit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jene uvjeta na financijskom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skalne i monetarne mjere  radi kontrole teča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F31-04AF-4198-9D1A-FB32EFEF84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7:18:00Z</dcterms:created>
  <dc:creator>Mia Mikic</dc:creator>
  <dc:description/>
  <dc:language>en-US</dc:language>
  <cp:lastModifiedBy>korisnik</cp:lastModifiedBy>
  <dcterms:modified xsi:type="dcterms:W3CDTF">2008-05-12T06:18:07Z</dcterms:modified>
  <cp:revision>22</cp:revision>
  <dc:subject/>
  <dc:title>Devizni tečaj i devizno tržište I</dc:title>
</cp:coreProperties>
</file>