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409-FB47-4257-ABA0-CAD4811F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901-8686-4448-A185-FEC4EB47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A9E-7370-436E-B6F8-A98568AB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FF8-B55D-4E37-ACBE-A59A6EED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83B-502A-48D3-B13D-CE15CA37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D90-0767-4AEC-B8AC-1FD54830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501-34A1-419A-A833-EA0F1EDA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FC2-32ED-44EC-8508-300BFE33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E5E-2B66-4963-8163-DDFB0FD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DCB-22E2-4AC0-8721-10DB4B16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400-DB62-4E13-ADF6-ACF96564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DE9-4452-4CE3-B254-96801055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9840-F1F5-4FEE-BCF7-AE2222348F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1492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BILANCA PLAĆANJA</a:t>
            </a: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- STRUK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EKUĆE TRANSA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KAPITALNE TRANSAK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TO GREŠKE I PROPU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000" y="1989000"/>
            <a:ext cx="774684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99"/>
                </a:solidFill>
                <a:latin typeface="Times New Roman"/>
              </a:rPr>
              <a:t>dY/d (E - M) = 1/(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 – </a:t>
            </a:r>
            <a:r>
              <a:rPr b="1" lang="el-G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m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E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</a:rPr>
              <a:t>&gt;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 M 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→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+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∆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=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M →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0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∆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&lt; 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 → </a:t>
            </a:r>
            <a:r>
              <a:rPr b="1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-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∆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UTJECAJ VANJSKE TRGOVINE NA DOMAĆI PROIZVO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KUĆE TRANSAK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9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1. Pri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2.  Ras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Uslu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1. Pri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2. Ras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Dohod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1. Pri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2. Ras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 Tekući transf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1. Pri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2. Rash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3840" cy="12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PITALNE I FINANCIJSKE TRANSAK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76520"/>
            <a:ext cx="8001000" cy="4957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 1. Kapitalne transak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 2. Financijske transakcije, bez deviznih priču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 Izravna ulag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1. U inozemst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2. U Hrvats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 Portfolio ulag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1. Sred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2. Obve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 Ostala ulag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1. Sred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2. Obve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 3. Devizne priču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LANCA PLAĆA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057400"/>
            <a:ext cx="6858000" cy="437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Podjela transakcija u B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Autonomne transakcij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koje rezidenti obavljaju s   inozemstvom  u skladu s motivima svoga poslovanja neovisno o stanju u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Kompenzirajuće transakcije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obavlja Vlada, odnosno monetarne vlasti (HNB) radi izravnjanja neravnoteže u bilanci autonomnih transak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JERE NERAVNOTEŽE U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772400" cy="55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= Saldo roba i usl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Saldo dohod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Saldo tekućih tran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= Saldo tekućeg rač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Dugoročni k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= Temeljna bila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S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Privatni kratkoročni nelikvidni k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Greške I propus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= Bilanca neto likvid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Kratkoročni privatni likvidni k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= Bilanca službenih podmir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+ Dugovi inozemstvu javnog sektora I račun rezer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( Rezerve bez SDR, Zajam MMF, Kratkoročni   nelikvidni I likvidni kapit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ržav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imes New Roman"/>
              </a:rPr>
              <a:t>BILANCA PLAĆA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99"/>
                </a:solidFill>
                <a:latin typeface="Times New Roman"/>
              </a:rPr>
              <a:t>Faktori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 koji utječu na bilancu plaćanj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Times New Roman"/>
              </a:rPr>
              <a:t>Uvozna zavisnost domaćeg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Times New Roman"/>
              </a:rPr>
              <a:t>Struktura nacionalnog gospodar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Times New Roman"/>
              </a:rPr>
              <a:t>Stupanj razvijenosti nacionalnog gospodar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UTJECAJ VANJSKE TRGOVINE NA DOMAĆI PROIZVO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Y = f (E – 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E = eg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M = F (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M = U</a:t>
            </a:r>
            <a:r>
              <a:rPr b="0" lang="hr-HR" sz="3200" spc="-1" strike="noStrike">
                <a:solidFill>
                  <a:srgbClr val="003399"/>
                </a:solidFill>
                <a:latin typeface="Times New Roman"/>
              </a:rPr>
              <a:t>0</a:t>
            </a: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 + 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UTJECAJ VANJSKE TRGOVINE NA DOMAĆI PROIZVO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Y = C + G + I + (E - 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</a:rPr>
              <a:t>C = </a:t>
            </a:r>
            <a:r>
              <a:rPr b="0" lang="el-G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0" lang="hr-H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</a:t>
            </a:r>
            <a:r>
              <a:rPr b="0" lang="el-G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G, I, E = eg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 = 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UTJECAJ VANJSKE TRGOVINE NA DOMAĆI PROIZVO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8280360" cy="447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3399"/>
                </a:solidFill>
                <a:latin typeface="Times New Roman"/>
              </a:rPr>
              <a:t>Y =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 + G + I + E – m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 –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 + mY =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G + I + 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(1 –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m) =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G + I + E /(1 –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m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Y = (1/(1 –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m)) x (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G + I + E 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Y/dE = 1/(1 – </a:t>
            </a:r>
            <a:r>
              <a:rPr b="0" lang="el-G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β</a:t>
            </a:r>
            <a:r>
              <a:rPr b="0" lang="hr-HR" sz="3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+ m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6:39:52Z</dcterms:created>
  <dc:creator>xxx</dc:creator>
  <dc:description/>
  <dc:language>en-US</dc:language>
  <cp:lastModifiedBy>korisnik</cp:lastModifiedBy>
  <dcterms:modified xsi:type="dcterms:W3CDTF">2008-05-12T06:18:43Z</dcterms:modified>
  <cp:revision>7</cp:revision>
  <dc:subject/>
  <dc:title>BILANCA PLAĆANJA- STRUKTURA</dc:title>
</cp:coreProperties>
</file>