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E38-D78C-433F-9E0D-2CD60000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E16-3581-4124-8FC0-9871FCFE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A60-2D4B-4D29-8C64-BB11547E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31D-8F7D-4E95-8FF9-0FBAF092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80B-22A0-4210-ACEF-F1F28FED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413-BAE2-4182-8C9C-4516EA10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FD0-FEA4-4C42-A68C-37D89CC9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8EA-4F97-4ED6-8CAA-7032DB4E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D82-7FD7-4007-A4EB-89705C4D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710-2D1B-4B05-A4CB-7FE8D8F1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862-43B1-46E3-882C-C3CD6534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D06-551C-4A31-9A37-BF77D667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7457-3FA9-4F7C-9CAD-72892B5BD5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1492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BILANCA PLAĆANJA</a:t>
            </a: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- STRUK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EKUĆE TRANSA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KAPITALNE TRANSAKC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ETO GREŠKE I PROPU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4000" y="1989000"/>
            <a:ext cx="774684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99"/>
                </a:solidFill>
                <a:latin typeface="Times New Roman"/>
              </a:rPr>
              <a:t>dY/d (E - M) = 1/(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 – </a:t>
            </a:r>
            <a:r>
              <a:rPr b="1" lang="el-G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m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</a:rPr>
              <a:t>E 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</a:rPr>
              <a:t>&gt;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</a:rPr>
              <a:t> M 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→ 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+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∆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 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=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M → 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0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∆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 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&lt; 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 → 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-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∆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UTJECAJ VANJSKE TRGOVINE NA DOMAĆI PROIZVO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KUĆE TRANSAKC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9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1. Prih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2.  Rash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Uslu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1. Prih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2. Rash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Dohod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1. Prih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2. Rash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. Tekući transf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.1. Prih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.2. Rash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2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APITALNE I FINANCIJSKE TRANSAKC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676520"/>
            <a:ext cx="8001000" cy="4957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 1. Kapitalne transak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 2. Financijske transakcije, bez deviznih priču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 Izravna ulaga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1. U inozemst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2. U Hrvats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 Portfolio ulaga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1. Sred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2. Obve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. Ostala ulaga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.1. Sred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.2. Obve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 3. Devizne priču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LANCA PLAĆAN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057400"/>
            <a:ext cx="6858000" cy="4377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Podjela transakcija u B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Autonomne transakcij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koje rezidenti obavljaju s   inozemstvom  u skladu s motivima svoga poslovanja neovisno o stanju u 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Kompenzirajuće transakcij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obavlja Vlada, odnosno monetarne vlasti (HNB) radi izravnjanja neravnoteže u bilanci autonomnih transa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JERE NERAVNOTEŽE U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772400" cy="55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= Saldo roba i usl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+ Saldo dohoda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+ Saldo tekućih tran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= Saldo tekućeg rač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+ Dugoročni k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= Temeljna bila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+ S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+ Privatni kratkoročni nelikvidni k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+ Greške I propus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= Bilanca neto likvid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+ Kratkoročni privatni likvidni k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= Bilanca službenih podmir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+ Dugovi inozemstvu javnog sektora I račun rezer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( Rezerve bez SDR, Zajam MMF, Kratkoročni   nelikvidni I likvidni kapita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ržav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BILANCA PLAĆAN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99"/>
                </a:solidFill>
                <a:latin typeface="Times New Roman"/>
              </a:rPr>
              <a:t>Faktori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</a:rPr>
              <a:t> koji utječu na bilancu plaćan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99"/>
                </a:solidFill>
                <a:latin typeface="Times New Roman"/>
              </a:rPr>
              <a:t>Uvozna zavisnost domaćeg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99"/>
                </a:solidFill>
                <a:latin typeface="Times New Roman"/>
              </a:rPr>
              <a:t>Struktura nacionalnog gospodar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99"/>
                </a:solidFill>
                <a:latin typeface="Times New Roman"/>
              </a:rPr>
              <a:t>Stupanj razvijenosti nacionalnog gospodar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UTJECAJ VANJSKE TRGOVINE NA DOMAĆI PROIZVO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99"/>
                </a:solidFill>
                <a:latin typeface="Times New Roman"/>
              </a:rPr>
              <a:t>Y = f (E – 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99"/>
                </a:solidFill>
                <a:latin typeface="Times New Roman"/>
              </a:rPr>
              <a:t>E = eg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99"/>
                </a:solidFill>
                <a:latin typeface="Times New Roman"/>
              </a:rPr>
              <a:t>M = F (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99"/>
                </a:solidFill>
                <a:latin typeface="Times New Roman"/>
              </a:rPr>
              <a:t>M = U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</a:rPr>
              <a:t>0</a:t>
            </a:r>
            <a:r>
              <a:rPr b="0" lang="hr-HR" sz="4400" spc="-1" strike="noStrike">
                <a:solidFill>
                  <a:srgbClr val="003399"/>
                </a:solidFill>
                <a:latin typeface="Times New Roman"/>
              </a:rPr>
              <a:t> + 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UTJECAJ VANJSKE TRGOVINE NA DOMAĆI PROIZVO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99"/>
                </a:solidFill>
                <a:latin typeface="Times New Roman"/>
              </a:rPr>
              <a:t>Y = C + G + I + (E - 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99"/>
                </a:solidFill>
                <a:latin typeface="Times New Roman"/>
              </a:rPr>
              <a:t>C = </a:t>
            </a:r>
            <a:r>
              <a:rPr b="0" lang="el-GR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α</a:t>
            </a:r>
            <a:r>
              <a:rPr b="0" lang="hr-HR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</a:t>
            </a:r>
            <a:r>
              <a:rPr b="0" lang="el-GR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0" lang="hr-HR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G, I, E = eg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 = 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UTJECAJ VANJSKE TRGOVINE NA DOMAĆI PROIZVO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8280360" cy="447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3399"/>
                </a:solidFill>
                <a:latin typeface="Times New Roman"/>
              </a:rPr>
              <a:t>Y =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α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Y + G + I + E – m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Y –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Y + mY =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α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G + I + 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Y(1 –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m) =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α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G + I + E /(1 –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m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Y = (1/(1 –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m)) x (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α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G + I + E 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Y/dE = 1/(1 –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m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06:39:52Z</dcterms:created>
  <dc:creator>xxx</dc:creator>
  <dc:description/>
  <dc:language>en-US</dc:language>
  <cp:lastModifiedBy>korisnik</cp:lastModifiedBy>
  <dcterms:modified xsi:type="dcterms:W3CDTF">2008-05-12T06:18:43Z</dcterms:modified>
  <cp:revision>7</cp:revision>
  <dc:subject/>
  <dc:title>BILANCA PLAĆANJA- STRUKTURA</dc:title>
</cp:coreProperties>
</file>