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E2F-FEF4-4657-ACC1-58EC462D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AEE-C297-4A0E-9D29-93F792A7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BB0-C69D-4910-A249-0E7C0DA5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408-4895-4015-80CB-CA486893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1C1-4A5A-49AF-A6CE-AC178134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4A8-03D9-4A64-B247-2AFE9387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2BD-6C1B-46EB-991A-104A6ED2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229-0DD2-4490-BE69-20769324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41C-99DE-49FE-A98E-3C9EE387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6D4-8F65-4A56-83AD-6203F18E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FEB-2FE7-407D-9B22-28599110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3EF-2B84-49D5-BFF6-5B139524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B021-C10F-45E7-A3BC-897F683AFC0B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ĐUNARODN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KONOM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f. dr. sc.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LJUBO JURČ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0000"/>
                </a:solidFill>
                <a:latin typeface="Arial"/>
              </a:rPr>
              <a:t>Kab: 201.  I 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nzultacije: pon:       10 - 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6 -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00"/>
                </a:solidFill>
                <a:latin typeface="Arial"/>
              </a:rPr>
              <a:t>ljurcic@efzg.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jbolje rješenj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činiti što slobodniju, liberalniju, međunarodnu ekonomsku razmjenu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lanjati sve prepreke, tehničke, carinske i slično, kako bi razmjena bila što veća a time i svjetska proizvodnja i korist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IRANJE RAVNOTEŽNE CI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371600"/>
            <a:ext cx="0" cy="44197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5791320"/>
            <a:ext cx="49532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377352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342900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415440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/>
          <p:nvPr/>
        </p:nvCxnSpPr>
        <p:spPr>
          <a:xfrm>
            <a:off x="2187360" y="4882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2224440" y="2370960"/>
            <a:ext cx="3426840" cy="3441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207880" y="2469240"/>
            <a:ext cx="2846880" cy="2602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339264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5320" y="33926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59000" y="4119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733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73320" y="33926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73320" y="3736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73320" y="4119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057400" y="388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6576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4191120"/>
            <a:ext cx="38088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200" spc="-1" strike="noStrike" baseline="-14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200400"/>
            <a:ext cx="38088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200" spc="-1" strike="noStrike" baseline="-14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38862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3886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34290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124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3124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22096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486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57913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0666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5791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4154400"/>
            <a:ext cx="8031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429000"/>
            <a:ext cx="7239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IVULJA PONUDE IZVOZA I POTRAŽNJE ZA UVOZ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76920" y="2895480"/>
            <a:ext cx="2971800" cy="1409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21932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5791320"/>
            <a:ext cx="41911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5791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575136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57513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4520" y="2743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57513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4520" y="1981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575136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57513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57913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5791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3429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26668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4191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19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9436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121932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5791320"/>
            <a:ext cx="41907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5791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57513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57513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40200" y="4267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40200" y="2743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575136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40200" y="1981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86800" y="57513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7513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57913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7240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34520" y="5791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3429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666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4191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9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763120" y="5943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1219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143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emlja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05480" y="2618280"/>
            <a:ext cx="3053160" cy="3040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383120" y="3007080"/>
            <a:ext cx="2660760" cy="2622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300560"/>
            <a:ext cx="42786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5449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506736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6536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3505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32004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32004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16880" y="4323240"/>
            <a:ext cx="2993040" cy="142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5067360"/>
            <a:ext cx="1601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3544920"/>
            <a:ext cx="16732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3276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32767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3276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5105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274320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48720" y="26668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5410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54100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0080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452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4520" y="4267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452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4020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402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IVULJA PONUDE IZVOZA I POTRAŽNJE ZA UVOZ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876920" y="1447920"/>
            <a:ext cx="2971800" cy="1409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2952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5867280"/>
            <a:ext cx="41911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5877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5827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452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4520" y="4343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4520" y="2057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5827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5867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5867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5867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5867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5867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43400" y="5943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12952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5867280"/>
            <a:ext cx="41907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58672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3868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4020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40200" y="4343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40200" y="2819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5827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68680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2468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029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5867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5867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10280" y="5867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867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5867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4267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1981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12952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990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emlja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95360" y="1533600"/>
            <a:ext cx="2662560" cy="266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383120" y="1549800"/>
            <a:ext cx="2660760" cy="2622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854440"/>
            <a:ext cx="42786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2819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362124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3581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3276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276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16880" y="2875680"/>
            <a:ext cx="2993040" cy="142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76920" y="3619440"/>
            <a:ext cx="1601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2097000"/>
            <a:ext cx="16732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2057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3382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3352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1828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4120" y="3657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137160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48720" y="12193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411480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48720" y="396252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3716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2819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452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4020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40200" y="2057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REĐIVANJE CIJENE U MEĐUNARODNOJ RAZMJ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12952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5867280"/>
            <a:ext cx="46483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5867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5827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49640" y="3581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4964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49640" y="4343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49640" y="2819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49640" y="2057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9588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34120" y="5827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5029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5867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5867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19720" y="5867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867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5867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4267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1981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29400" y="5943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05120" y="1295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286000" y="2963880"/>
            <a:ext cx="2971800" cy="1409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25960" y="4391640"/>
            <a:ext cx="2993400" cy="142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57800" y="27352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4784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286000" y="1447920"/>
            <a:ext cx="2971800" cy="1409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25960" y="2875680"/>
            <a:ext cx="2993400" cy="142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57800" y="12193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396252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285640" y="361800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46600" y="358128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orije vanjske trgo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erkantilizam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orija apsolutnih pre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orija komparativnih prednosti (teorija komparativnih trošk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eckscher-Ohlinova teorija vanjske trgov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orija životnog ciklusa  ( Teorija tehnološkog jaz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rasektorska razm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erkantilizam (1400  - 18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omerkantilizam (1930- 1945)  (1970 – 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anjska trgovin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najvažnije sredstvo za postizanje ciljeva merkantilističke polit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anjska trgovina stvara bogatstvo, bogatstvo moć, moć čuva našu trgovinu i religiju” (Josiah Chi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rkantiliz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ZVOZ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UVOZ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ZLATO   ( BOGATSTVO, MO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j (ekonomske) politik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ICIT U VANSKOTRGOVINSKOJ BIL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jere ekonomske polit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icaji za iz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reke za uvo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916360" y="4724280"/>
            <a:ext cx="3022560" cy="720720"/>
            <a:chOff x="2916360" y="4724280"/>
            <a:chExt cx="3022560" cy="720720"/>
          </a:xfrm>
        </p:grpSpPr>
        <p:sp>
          <p:nvSpPr>
            <p:cNvPr id="304" name=""/>
            <p:cNvSpPr/>
            <p:nvPr/>
          </p:nvSpPr>
          <p:spPr>
            <a:xfrm>
              <a:off x="2916360" y="4724280"/>
              <a:ext cx="144360" cy="72072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205440" y="4940280"/>
              <a:ext cx="273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PROTEKCIONIZAM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06" name=""/>
          <p:cNvSpPr txBox="1"/>
          <p:nvPr/>
        </p:nvSpPr>
        <p:spPr>
          <a:xfrm>
            <a:off x="2411280" y="6093000"/>
            <a:ext cx="4606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OLONIJALIZA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EORIJA APSOLUTNIH PRED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DAM SMITH “BOGATSTVO NARODA” (177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akcija na merkantil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govara “laisez fai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jedna zemlja može proizvesti neku robu efikasnije nego neka druga, kaže se da ona im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apsolutnu prednos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u proizvodnji te ro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IJA APSOLUTNIH PREDNOST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nja po sa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nja po satu poslije specijalizaci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71640" y="2320920"/>
          <a:ext cx="7272000" cy="1252440"/>
        </p:xfrm>
        <a:graphic>
          <a:graphicData uri="http://schemas.openxmlformats.org/drawingml/2006/table">
            <a:tbl>
              <a:tblPr/>
              <a:tblGrid>
                <a:gridCol w="1817640"/>
                <a:gridCol w="1818360"/>
                <a:gridCol w="1818360"/>
                <a:gridCol w="181764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971640" y="4724280"/>
          <a:ext cx="7200360" cy="1185840"/>
        </p:xfrm>
        <a:graphic>
          <a:graphicData uri="http://schemas.openxmlformats.org/drawingml/2006/table">
            <a:tbl>
              <a:tblPr/>
              <a:tblGrid>
                <a:gridCol w="1800720"/>
                <a:gridCol w="1799280"/>
                <a:gridCol w="1801080"/>
                <a:gridCol w="1799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ĐUNARODNA EKONOM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ić,M., Babić,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EĐUNARODNA EKONOMI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 dopunjeno i izmijenjeno i izd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 d.o.o. Zagreb, 200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IJA KOMPARATIVNIH PRED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avid Ric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oizvodnja po satu Q/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jer razmjene: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razmjenjuje 10X za 10Y od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 treba za proizvodnju 10 X jedan sat...   za 10X  dobiva 10 Y od zemlj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 bi zemlja A proizvela 10Y (koji dobiva od zemlje B) trebala bi utrošiti 2 s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emlja A uštedila j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edan sa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što njezin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ri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il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bitak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od razmjene, ili    mjereno u proizvodima jednako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5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4360" y="2459160"/>
          <a:ext cx="6408720" cy="1185840"/>
        </p:xfrm>
        <a:graphic>
          <a:graphicData uri="http://schemas.openxmlformats.org/drawingml/2006/table">
            <a:tbl>
              <a:tblPr/>
              <a:tblGrid>
                <a:gridCol w="1601640"/>
                <a:gridCol w="1603440"/>
                <a:gridCol w="1601640"/>
                <a:gridCol w="160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IJA KOMPARATIVNIH PRED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je za 10 Y  dobila  10 X od zemlj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 proizvodnju 10 Y zemlja B je utrošila  2,5 s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 je zemlja B utrošila  2,5 sata u proizvodnju X proizvela  5 X .... dok je kroz razmjenu s zemljom A dobila  10 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itak ili korist za zemlju B je  5X ili 2,5 sata r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55640" y="1916280"/>
          <a:ext cx="5843520" cy="1304640"/>
        </p:xfrm>
        <a:graphic>
          <a:graphicData uri="http://schemas.openxmlformats.org/drawingml/2006/table">
            <a:tbl>
              <a:tblPr/>
              <a:tblGrid>
                <a:gridCol w="1460520"/>
                <a:gridCol w="1461960"/>
                <a:gridCol w="1460520"/>
                <a:gridCol w="1460520"/>
              </a:tblGrid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ORIJE VANJSKE TRGOV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9246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ECKSCHER-OHLINOVA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CKSCH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HLINO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OR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Heckscher-Ohlin t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Teorem o izjednačavanju cijena proizvodnih faktora (Heckscher-Ohlin-Samuelson:  HOS- teorem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CKSCH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HLINOV T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mlja će izvoziti dobro u čijoj se proizvodnji intenzivnije koristi relativno obilniji, a time i jeftiniji, proizvodni faktor, a uvoziti će dobro u čijoj se proizvodnji koristi, u zemlji, relativno oskudniji proizvodni fak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CKSCHER-OHLINOVA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tpostav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zemlje, 2 robe, 2 proizvodna fa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 zemlje koriste istu proizvodnu tehnolog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ro X je radno intenzivno a Y je kapitalno intenzivno dobro u obje zem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 dobra u obje zemlje se proizvode u uvjetima konstantnih prin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azi do nepotpune specijalizacije u obje zem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3416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CKSCHER-OHLINOVA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534160" cy="547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Predpostav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ferencije potrošača su iste u obje zem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oji savršena konkurencija na tržištu dobara i proizvodnih faktora u obje zem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tpuna mobilnost proiz faktora unutar zemlje i potpuna nemobilnost među zeml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ma transportnih troškova, carina niti drugih prepreka slobodnoj trgov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oji potpuna zaposlenost proiz  faktora u obje zem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đunarodna razmjena je uravnotežena u obje zem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1981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Teorem o izjednačavanju cijena proizvodnih faktora (Heckscher-Ohlin-Samuelson:  HOS- teo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187720"/>
            <a:ext cx="8229600" cy="39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đunarodna razmjena će dovesti do izjednačavanja relativnih i apsolutnih cijena homogenih proizvodnih faktora u zemljama sudionicima međunarodne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Heckscher-Ohlin-Samuelson teorem  HOS- t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7432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6019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 rot="10750200">
            <a:off x="2305080" y="2943360"/>
            <a:ext cx="792432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04080" y="590868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25909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x/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81080" y="3124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29492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6560" y="2631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31240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606096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60199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606096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956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6232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623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05120" y="6019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5105520"/>
            <a:ext cx="6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2936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2895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1371600" y="3886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76720" y="38862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35812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13160" y="369900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601992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93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143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6095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657240" y="6172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362320" y="411444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657240" y="3124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010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RASEKTORSKA RAZMJ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440" y="3123720"/>
            <a:ext cx="8001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fekt specijalizacije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gleda se u karakteru razmjen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NTER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KTORSKA i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NTRA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KTORS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zm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ĐUNARODNA EKONOM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punska litera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lvatore D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hr-HR" sz="2800" spc="-1" strike="noStrike">
                <a:solidFill>
                  <a:srgbClr val="cc0000"/>
                </a:solidFill>
                <a:latin typeface="Arial"/>
              </a:rPr>
              <a:t>Introduction to International 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ohn Wiley &amp; Sons, Inc.,  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.  Salvatore, D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800" spc="-1" strike="noStrike">
                <a:solidFill>
                  <a:srgbClr val="cc0000"/>
                </a:solidFill>
                <a:latin typeface="Arial"/>
              </a:rPr>
              <a:t>INTERNATIONAL ECONOMICS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i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ntice Hall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RASEKTORSKA RAZMJ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24382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6400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066680" y="3047760"/>
            <a:ext cx="1905120" cy="3352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066680" y="4952880"/>
            <a:ext cx="396252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905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dio sekto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56360" y="583236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dio sektor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837720" y="3048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30481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990720" y="4952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4952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274320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2320" y="46483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6400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24280" y="6400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32280" y="27082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Z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13360" y="461340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67040" y="5105520"/>
            <a:ext cx="1523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5105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092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06668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40080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509436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Arial"/>
              </a:rPr>
              <a:t>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84720" y="177336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z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u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RASEKTORSKA RAZMJ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o je izvoz koncentriran na jedan a uvoz na drugi sektor veći je k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d potpune specijalizaci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90 stupnjeva, što ukazuje na postojanj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KTORSK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mjene (specijalizaci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o je zastupljenost oba sektora u izvozu i uvozu podjednak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što ukazuje na postojanj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R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KTORS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zmj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RASEKTORSKA RAZMJ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99"/>
                </a:solidFill>
                <a:latin typeface="Arial"/>
              </a:rPr>
              <a:t>Uzroci intrasektorske razmjen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Intra-Industry Trade I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lasifikacija proizvoda (voće, doradni poslo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nsportni troškovi (malogranični promet građevinskim materijal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ferencijacija proizvoda (monopolistička konkurenci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konomija obuj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ĐUNARODNA EKONOM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. Krugman, P.R. Obstfeld,M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cc0000"/>
                </a:solidFill>
                <a:latin typeface="Arial"/>
              </a:rPr>
              <a:t>International Economics: Theory and Policy,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ix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ddison Wesley, 200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4. Salvatore, D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400" spc="-1" strike="noStrike">
                <a:solidFill>
                  <a:srgbClr val="cc0000"/>
                </a:solidFill>
                <a:latin typeface="Arial"/>
              </a:rPr>
              <a:t>Theory and Problems of  International Economic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chaum’s Outline seri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cGraw-Hill Companies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32000" y="189000"/>
            <a:ext cx="6705360" cy="60948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OBALNA EKONOM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765000"/>
            <a:ext cx="6705360" cy="6098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ĐUNARODNA EKONOM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1341360"/>
            <a:ext cx="76176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332000" y="134136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TROŠAČ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341360"/>
            <a:ext cx="76212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1413000"/>
            <a:ext cx="457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ŽIŠ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1341360"/>
            <a:ext cx="2286000" cy="3048120"/>
          </a:xfrm>
          <a:prstGeom prst="rect">
            <a:avLst/>
          </a:prstGeom>
          <a:solidFill>
            <a:srgbClr val="bbe0e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1154880" y="2165760"/>
            <a:ext cx="38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DUS. ORGAN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182600">
            <a:off x="2525400" y="23079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DUSTRIJSKA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1341360"/>
            <a:ext cx="91440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4192560" y="2583720"/>
            <a:ext cx="259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NE FINA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1341360"/>
            <a:ext cx="106704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5217120" y="2495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ONETARNE FINA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1341360"/>
            <a:ext cx="115092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6123960" y="20937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KONOMSKI ODNOSI S INOZEMSTV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1341360"/>
            <a:ext cx="38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DUZE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4365720"/>
            <a:ext cx="34290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K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4365720"/>
            <a:ext cx="335304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K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5157720"/>
            <a:ext cx="670536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KONOM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ĐUNARODNA EKONOM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rž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ija vanjskotrgovačke polit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đunarodne fina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 Devizni tečaj i devizno tržiš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) Bilanca plać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) Uravnoteženje bilance plać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Međunarodni monetarni susta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ORIJA VANJSKE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UČ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zroke međunarodne ekonomske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ekte međunarodne ekonomske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u međunarodne ekonomske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lj kolegija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e upoznati: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zloge koji dovode do vanjske trgo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risti od vanjske trgo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zloge i učinke ograničenja vanjske trgo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načaj vanjske trgovine u gospodarstvu zemlje i njezin utjecaj na makroekonomske indikato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činke i proces liberalizacije vanjske trgov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žnost i funkcioniranje međunarodnih integr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retanje izvoza i uvoza roba, usluga i kapitala ( bilanca plaćanj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iranje i promjene deviznog tečaj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unkcioniranje međunarodnih financijskih institucija,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đunarodna ekonomske razmjena rezultira povećanjem ukupne svjetske proizvodnje i probitkom, odnosno, korisnošću za njene sudion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o je međunarodna razmjena slobodnija, s manje prepreka, probitak je već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06:44:06Z</dcterms:created>
  <dc:creator>ljurcic</dc:creator>
  <dc:description/>
  <dc:language>en-US</dc:language>
  <cp:lastModifiedBy>korisnik</cp:lastModifiedBy>
  <dcterms:modified xsi:type="dcterms:W3CDTF">2008-02-25T08:01:04Z</dcterms:modified>
  <cp:revision>10</cp:revision>
  <dc:subject/>
  <dc:title>MEĐUNARODNA EKONOMIJA</dc:title>
</cp:coreProperties>
</file>