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118-2936-4489-BDE7-27556637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A6C-FD75-469C-A5F3-631EE257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745-DD4E-4C69-8551-EAACF6B2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95E-0804-4F0F-868E-69C3491C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4E06-525C-4EBD-8F42-B9EAE394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3743-EECC-4752-93A3-818B91D4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B1C8-3D25-47EE-9C26-09608B18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DB15-60B9-4515-8D31-C2852513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0427-71D4-42D8-9439-C2D6CB28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0FCA-8193-41CB-9DCF-A9E297A6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E572-8D6F-4BA0-A99C-1DF415BD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7B0-0B07-431E-816F-916C8451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A932-0B40-482A-924D-7FF32FB9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3D10-AFE6-4938-9DEF-2A88216B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1EB6-E38E-4060-888C-6180DC0F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D3F3-6FF1-4ACF-8BFC-EC157E81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BD1C-AEF6-44A0-BCCB-0B119170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AD9-DB53-4AB7-88F9-04477E79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907-4648-4097-81CA-D5F2DBE0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D4F-24A6-4599-8654-42DAD6DA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DFB-AC0F-4A32-95D9-EE692DFD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82B-462B-42FB-BE9D-22C614B0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DBA-0B2D-4992-A054-EF923D2B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42E-978A-42CA-A3D3-99980C44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034E-477E-4132-A1FF-DC1F394510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8860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FBA4-599E-42D9-B12B-6B3D7E1854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886040" cy="514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EORIJA VANJSKOTRGOVAČKE POLITIK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2640" y="3580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f. dr. sc. Ljubo Jurč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162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Prvo najbolje rješenje </a:t>
            </a:r>
            <a:br>
              <a:rPr sz="3600"/>
            </a:b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(First Best Solu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edstavlja apsolutni maksimum funkcije društvenog blagost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stvaruje se ako su zadovoljene sve pretpostavke Paretovog optimuma, tj. da postoje uvjeti perfektne konkurencije na svim trištima i u svim zemlj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0DD-0D22-4121-9C39-4F13A2AB8A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graničenja za postizanje FB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Tahoma"/>
              </a:rPr>
              <a:t>Ograničenje ponašanja: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nije cilj maksimiziranje zadovoljstva potrošača i dobiti proizvođač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Tahoma"/>
              </a:rPr>
              <a:t>Ograničenje okruženj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metnuta od države (carine, porezi, subvenci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savršenosti tržiš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savršenosti tehnoloških karakteristi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ksternalije (rastući prinosi, ekonomija obuj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035-50A6-4D41-996C-0F6B6154B8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ZBOR POLITIK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domaćeg tržišta u proizvodnji ili potrošnji treba korigirati porezom ili subvencijom na domaću proizvodnju ili potrošnju, a ne međunarodnu razmj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međunarodnog tržišta (ponude i potražnje) riješiti carinama i subvencijama s cilj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352680" y="4648320"/>
                <a:ext cx="26672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0C7-ED78-4376-ACE4-01B0568E41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na carinska struk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nom carinskom strukturom postiže 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vaka druga carina ili subvencija različita od optimalne carinske strukture rezultira u stvaranju nejednakosti između GSS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GS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li GS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GS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orija optimalne carinske strukture temelji se na postojanju nesavršenosti međunarodnih tržišta gledano sa stajališta domaće priv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2438280"/>
                <a:ext cx="20574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6A1-B101-4E2C-AF49-95FB339819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IBERALIZACIJA VANJSKE TRGOVIN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lateralno smanjenje car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lateralno smanjenje car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lateralni carinski sporazu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532-CD6D-441D-AE5E-9E7BB51041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Preferencijalni trgovački sporazumi</a:t>
            </a:r>
            <a:br>
              <a:rPr sz="3600"/>
            </a:br>
            <a:r>
              <a:rPr b="0" lang="hr-HR" sz="2800" spc="-1" strike="noStrike">
                <a:solidFill>
                  <a:srgbClr val="333399"/>
                </a:solidFill>
                <a:latin typeface="Tahoma"/>
              </a:rPr>
              <a:t>Preferential Trading Agree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aki sporazum između dvije ili više zemalja koji omogućuj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vlašteni pristu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a tržišta potpisnica sporazuma u odnosu na treće zemlj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jčešće  kroz niže carine, ukidanje kvota i kontingenata i s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BC0-84DD-455C-BA67-C1C5E970B2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Status najpovlaštenije zemlje</a:t>
            </a:r>
            <a:br>
              <a:rPr sz="3600"/>
            </a:br>
            <a:r>
              <a:rPr b="0" lang="hr-HR" sz="2800" spc="-1" strike="noStrike">
                <a:solidFill>
                  <a:srgbClr val="333399"/>
                </a:solidFill>
                <a:latin typeface="Tahoma"/>
              </a:rPr>
              <a:t>Most-Favoured Nation Princip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nska stopa primijenjena na uvoz robe iz zemlje koja ima status “najpovlaštenije”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 može biti veće, nego samo manja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od carinske stope koja se primjenjuje na uvoz iz drugih zemal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A7C-9B61-4C19-95A4-BE7D1DDC5C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Nacionalni tretman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hr-HR" sz="2800" spc="-1" strike="noStrike">
                <a:solidFill>
                  <a:srgbClr val="333399"/>
                </a:solidFill>
                <a:latin typeface="Tahoma"/>
              </a:rPr>
              <a:t>(National Treatment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 tretiranja stranog proizvođača neke robe (ili usluge) na isti način kao i domaćeg proizvođača iste robe, uzimajući u obzir da robe ne trebaju biti proizvedene na isti način ( L/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C05-6FE2-46F5-B660-BF7329D52D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ultilateralni carinski sporazum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43828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 nediskrim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 zaštite samo cari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princip kontinuiranog     smanjenja ca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A07-66D1-42BD-B7A2-CEAC0E9BAD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609480" y="2362320"/>
            <a:ext cx="8082000" cy="4144680"/>
            <a:chOff x="609480" y="2362320"/>
            <a:chExt cx="8082000" cy="4144680"/>
          </a:xfrm>
        </p:grpSpPr>
        <p:graphicFrame>
          <p:nvGraphicFramePr>
            <p:cNvPr id="144" name=""/>
            <p:cNvGraphicFramePr/>
            <p:nvPr/>
          </p:nvGraphicFramePr>
          <p:xfrm>
            <a:off x="609480" y="2362320"/>
            <a:ext cx="8082000" cy="4144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2362320"/>
                      <a:ext cx="8082000" cy="41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1523880" y="5867280"/>
              <a:ext cx="7086600" cy="3682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00  1910  1920   1930  1940  1950  1960  1970  1980  19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20040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51460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88620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460760" y="572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10516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79096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40080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08660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69608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828800" y="57150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rot="10800000">
            <a:off x="2286000" y="4367520"/>
            <a:ext cx="454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ahoma"/>
              </a:rPr>
              <a:t>World Wa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5938920" y="2398680"/>
            <a:ext cx="42372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Kennedy Round (196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6587640" y="2809440"/>
            <a:ext cx="423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Tokyo Round (197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236000" y="2610000"/>
            <a:ext cx="42372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Uruguay Round (198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4495320" y="3352320"/>
            <a:ext cx="4237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World War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5028840" y="2948040"/>
            <a:ext cx="423720" cy="11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Gatt (194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3504960" y="1676520"/>
            <a:ext cx="667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Trade Agreements Act (193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4495680"/>
            <a:ext cx="128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Smoot-Hawley Tarrif Act (19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C97-AA50-460C-BE38-190FF80B1B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štitna 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ilj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varanje razlike između relativnih cijena na domaćem i svjetskom tržiš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osljedica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graničenje slobode kretanja tijekova u međunarodnoj razmje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2F1-0285-49F2-9384-CFC6EFACD0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95640" y="119700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4653000"/>
            <a:ext cx="55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035080" y="42181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035080" y="3352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35080" y="24890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35080" y="16257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2120" y="14954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7960" y="2344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7960" y="3209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7960" y="4073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1219320"/>
            <a:ext cx="360360" cy="345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2421000"/>
            <a:ext cx="358560" cy="22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95640" y="3213000"/>
            <a:ext cx="358920" cy="1440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16360" y="3645000"/>
            <a:ext cx="35892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35640" y="3933720"/>
            <a:ext cx="358560" cy="719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6360" y="4149720"/>
            <a:ext cx="35892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4365720"/>
            <a:ext cx="3589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144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344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416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344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4160" y="4653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230760" y="238896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ječne carine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6720" y="4581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72920" y="457200"/>
            <a:ext cx="58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njenje carina u razdoblju od 1940. do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F56-EEBC-48B9-95BD-8570CE9963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03320" y="189000"/>
            <a:ext cx="53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jena pregovora u sklopu GATT-a/WTO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62080" y="706320"/>
          <a:ext cx="7781760" cy="5286240"/>
        </p:xfrm>
        <a:graphic>
          <a:graphicData uri="http://schemas.openxmlformats.org/drawingml/2006/table">
            <a:tbl>
              <a:tblPr/>
              <a:tblGrid>
                <a:gridCol w="2781360"/>
                <a:gridCol w="1407240"/>
                <a:gridCol w="359316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un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roj zemal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ajvažniji rezulta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Ženevska runda (1947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Koncesija na 43 tarifnih lini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nnecy runda (1949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mjereno smanjenje tarif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ourquay runda (1950-5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8700 tarifnih koncesi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Ženevska runda(1955-56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mjereno smanjenje car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illon runda (1960-6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svojeno 4400 tarifnih koncesij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Kennedy runda (1963-67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osječno smanjenje carina 35% za razvijene, Sporazum o anti-dumping mjera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okijska runda (1973-79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osječno smanjenje carina za jednu trećinu do razine od 4.7% za razvijene zeml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rugvajska runda (1986-9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03 (1986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osječno smanjenje carina za jednu trećinu za razvijene zeml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7 (199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oljoprivreda i tekstilna industrija uključene u GAT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25 (199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Osnutak WTO-a (Marakesh 1994), GATS, TRIPs, TRI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oha runda (2001);  Cancun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adležnost WTO-a dodatno proširena tzv. Singapurskim područjima ulaganja i zaštite okoliš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3F6-7FC6-47A1-AE5B-C6E6EFB517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68360" y="2781360"/>
          <a:ext cx="8305920" cy="174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81360"/>
                    <a:ext cx="830592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53960" y="836640"/>
            <a:ext cx="841500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rinske stope u razvijenim zemljama za uvo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dustrijskih proizvoda iz zemalja u razvo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B93-870E-4D4C-AABC-2E82A14C0F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4760" y="378000"/>
            <a:ext cx="7380360" cy="11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arinske stope prije i poslije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Urugvajske rund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47640" y="1628640"/>
          <a:ext cx="59724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628640"/>
                    <a:ext cx="59724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1C5-E4A8-44FD-A5E8-2A9E52871E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61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Smanjenje carina industrijskih proizvoda u Urugvajskoj rund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11280" y="2421000"/>
          <a:ext cx="8035920" cy="33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421000"/>
                    <a:ext cx="803592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02B-E623-4284-82F7-A07018E0C9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72640" y="2421000"/>
            <a:ext cx="827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GATT – General Agreement on Tariffs and T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GATS- General Agreement on Trade in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RIPS – Agreement on Trade-related Intellectual Property Righ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World Trade Organis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DC3-69BE-4602-AE96-081240B18A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GATT</a:t>
            </a:r>
            <a:br>
              <a:rPr sz="4000"/>
            </a:br>
            <a:r>
              <a:rPr b="0" lang="hr-HR" sz="3200" spc="-1" strike="noStrike">
                <a:solidFill>
                  <a:srgbClr val="333399"/>
                </a:solidFill>
                <a:latin typeface="Tahoma"/>
              </a:rPr>
              <a:t>General Agreement on Tariffs and Tra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ljoprivre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dravstvena regulativa za prehrambene proizv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kstil i odjeć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ndardi proizvo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jere investiran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tidampinške mj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ode vrednovanja car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avila u porijek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gled prije isporu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zvola uvo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nci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aštitne car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CC7-B741-4484-A6C8-C3715B6C19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GATS</a:t>
            </a:r>
            <a:br>
              <a:rPr sz="4400"/>
            </a:br>
            <a:r>
              <a:rPr b="0" lang="hr-HR" sz="3200" spc="-1" strike="noStrike">
                <a:solidFill>
                  <a:srgbClr val="333399"/>
                </a:solidFill>
                <a:latin typeface="Tahoma"/>
              </a:rPr>
              <a:t>General Agreement on Trade in Serv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retanje oso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račni trans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jske uslu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komunik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morski trans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E1D-018F-41AE-9D3F-43EB12BA24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TRIPS</a:t>
            </a:r>
            <a:br>
              <a:rPr sz="4000"/>
            </a:b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333399"/>
                </a:solidFill>
                <a:latin typeface="Tahoma"/>
              </a:rPr>
              <a:t>Trade Related Intellectual Property Right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rska pr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aštitni zna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mljopisni zna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jski dizaj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otkrivene informacije i poslovne taj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D01-229B-4483-8CB4-F19C1A63CC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konomske integra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ona slobodne trgov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bodna međunarodna trgov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inska un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jedničke carine prema treć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ajedničko tržiš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boda kretanja rada i kapit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ska zajedn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klađivanje ekonomskih politi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itička zajedn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la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391-3F9B-4F1A-AC23-331A119C79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štitna 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ahoma"/>
              </a:rPr>
              <a:t>Mjere: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tjecaj na cij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carine, prelevmani, avan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graničenje količina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kontingenti i kvote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evizna ograniče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pća podjela ekonomskih mje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ar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carinske mj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0B7-14B6-462F-970A-762A900610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UVJETI KOJI DOVODE DO  EKONOMSKIH INTEGRACI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oke carinske prepre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ličina zemlje i brojnost zemalj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veća mogućnost da će unija dobiti efikasnijeg proizvođač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ografska blizina, manji transportni troš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ličina razmjene prije Carinske un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17F-2CED-49D9-9E75-A7B2D3CC38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kti ekonomskih integr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većanje tržiš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većanje konkuren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konomija obuj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timulacija investicija (tariff factor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bolje korištenje resursa (mobilnost rada i kapita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A7B-2518-47CA-9012-AF75B36647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kti ekonomskih integr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kt liberaliz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kt distorz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B0B-2B22-401D-AB69-5F0BA0EB1B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ekti ekonomskih integr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kt stvaranja trgov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kt skretanja trgov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C24-9D40-48AE-B7EA-33F079DCAB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fekt stvaranja i efekt skretanja trgovin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456240" y="4589640"/>
                <a:ext cx="279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442200" y="4917960"/>
                <a:ext cx="266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462720" y="5181480"/>
                <a:ext cx="2109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195960" y="6392880"/>
                <a:ext cx="249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58720" y="2246400"/>
                <a:ext cx="2556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205680" y="5743440"/>
                <a:ext cx="3603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949320" y="6308640"/>
            <a:ext cx="540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49320" y="2349360"/>
            <a:ext cx="0" cy="395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6400" y="638172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949320" y="2491920"/>
            <a:ext cx="4032360" cy="38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49320" y="3284640"/>
            <a:ext cx="5184720" cy="25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978440" y="2195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009960" y="42926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4040" y="400536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963720" y="4984560"/>
            <a:ext cx="5459400" cy="69840"/>
          </a:xfrm>
          <a:custGeom>
            <a:avLst/>
            <a:gdLst/>
            <a:ahLst/>
            <a:rect l="l" t="t" r="r" b="b"/>
            <a:pathLst>
              <a:path w="3333" h="1">
                <a:moveTo>
                  <a:pt x="0" y="0"/>
                </a:moveTo>
                <a:lnTo>
                  <a:pt x="333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78040" y="479736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476100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22560" y="476892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949320" y="4714920"/>
            <a:ext cx="545004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78040" y="444960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76440" y="441792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81360" y="443088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804840" y="4714920"/>
            <a:ext cx="9720" cy="15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70160" y="5051520"/>
            <a:ext cx="0" cy="126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456080" y="5013360"/>
            <a:ext cx="22320" cy="12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06760" y="4724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49320" y="5300640"/>
            <a:ext cx="542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48160" y="504828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43040" y="5062680"/>
            <a:ext cx="2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54040" y="477216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90760" y="478620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67120" y="477216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7920" y="478620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65320" y="5025960"/>
            <a:ext cx="2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48160" y="476100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62120" y="476568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305000" y="5243400"/>
                <a:ext cx="2174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15960" y="4597560"/>
                <a:ext cx="17784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03360" y="4865760"/>
                <a:ext cx="296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 rot="10800000">
            <a:off x="5700600" y="4716000"/>
            <a:ext cx="144720" cy="576360"/>
          </a:xfrm>
          <a:custGeom>
            <a:avLst/>
            <a:gdLst>
              <a:gd name="textAreaLeft" fmla="*/ 92520 w 144720"/>
              <a:gd name="textAreaRight" fmla="*/ 145080 w 144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51440" y="4878360"/>
            <a:ext cx="25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966000" y="2127240"/>
                <a:ext cx="2318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986520" y="2471760"/>
                <a:ext cx="1778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961320" y="2874960"/>
                <a:ext cx="296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7172280" y="2157480"/>
            <a:ext cx="125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 svjetska cij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09000" y="2508120"/>
            <a:ext cx="158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 cijena u maloj zemlji uz carinu t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223040" y="2905200"/>
            <a:ext cx="103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 cijena u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05000" y="47163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449000" y="5054760"/>
            <a:ext cx="324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12960" y="468468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5840" y="50054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89120" y="468468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49600" y="50101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84680" y="4680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67160" y="50054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1720" y="50180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13040" y="501156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65360" y="52513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9520" y="525132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468520" y="6350040"/>
                <a:ext cx="2923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638520" y="6350040"/>
                <a:ext cx="3351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131920" y="6350040"/>
                <a:ext cx="3142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305240" y="6348240"/>
                <a:ext cx="3351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E4D-D46B-4952-A25B-563B500B56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mjer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Švicar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 moguća scenari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lateralni ugovo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+EM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DED-A852-4571-AAF2-99DF1BA305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324000" y="2060640"/>
          <a:ext cx="10752120" cy="5994360"/>
        </p:xfrm>
        <a:graphic>
          <a:graphicData uri="http://schemas.openxmlformats.org/drawingml/2006/table">
            <a:tbl>
              <a:tblPr/>
              <a:tblGrid>
                <a:gridCol w="3095640"/>
                <a:gridCol w="2089080"/>
                <a:gridCol w="1584360"/>
                <a:gridCol w="1366560"/>
                <a:gridCol w="327240"/>
                <a:gridCol w="333360"/>
                <a:gridCol w="372960"/>
                <a:gridCol w="374760"/>
                <a:gridCol w="12081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L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TERALNI UGOV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OPSKA UN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U+E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DP per cap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lagostanje stanovništv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a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% o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D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spoloživi dohoda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 cap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vatna potroš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tici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zvor: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üller T., Grether J.-M.: „Langfristige Auswirkungen der Integration der Schweiz in Europa“, Table:“Aggregier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gebnisse – Beitritt und bilaterale Verträge“, 1999. pg.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433880" y="365040"/>
            <a:ext cx="61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činci mogućih scenarija na glav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kroekonomske indik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2E5-7010-4553-84FE-A0E97A1F22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539640" y="2924280"/>
          <a:ext cx="7632720" cy="2371680"/>
        </p:xfrm>
        <a:graphic>
          <a:graphicData uri="http://schemas.openxmlformats.org/drawingml/2006/table">
            <a:tbl>
              <a:tblPr/>
              <a:tblGrid>
                <a:gridCol w="2737080"/>
                <a:gridCol w="1798560"/>
                <a:gridCol w="1657440"/>
                <a:gridCol w="14396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kupni izv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zvoz u 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zvoz u ostatak svij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kupni uv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voz iz 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voz iz ostatka svij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39640" y="2205000"/>
          <a:ext cx="7632720" cy="639720"/>
        </p:xfrm>
        <a:graphic>
          <a:graphicData uri="http://schemas.openxmlformats.org/drawingml/2006/table">
            <a:tbl>
              <a:tblPr/>
              <a:tblGrid>
                <a:gridCol w="2703600"/>
                <a:gridCol w="1824120"/>
                <a:gridCol w="1665360"/>
                <a:gridCol w="143964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mjena u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L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TERALNI UGOV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OPSKA UN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U+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1119960" y="106668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činci mogućih scenarija na izvoz i uv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9640" y="5373720"/>
            <a:ext cx="741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Izvor: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Müller T., Grether J.-M.: „Langfristige Auswirkungen der Integration der Schweiz in Europa“, Table:“Aggregierte Ergebnisse – Beitritt und bilaterale Verträge“, 1999. pg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8F8-608B-4E41-A00B-5C7DF52E48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285840" y="1844640"/>
          <a:ext cx="8858160" cy="4471920"/>
        </p:xfrm>
        <a:graphic>
          <a:graphicData uri="http://schemas.openxmlformats.org/drawingml/2006/table">
            <a:tbl>
              <a:tblPr/>
              <a:tblGrid>
                <a:gridCol w="3744720"/>
                <a:gridCol w="2016360"/>
                <a:gridCol w="1620720"/>
                <a:gridCol w="1476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L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TERALNI UGOV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ROP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U+E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opa rasta kapit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nuda r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amatna sto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sječna promjena realnih nad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ne nadnice-akadem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ne nadnice-V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ne nadnice-tehnič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ne nadnice-završena 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,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1433880" y="762120"/>
            <a:ext cx="61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činci mogućih scenarija na glav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kretanje kapitala i cijenu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6400800"/>
            <a:ext cx="74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Izvor: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Müller T., Grether J.-M.: „Langfristige Auswirkungen der Integration der Schweiz in Europa“, Table:“Aggregierte Ergebnisse – Beitritt und bilaterale Verträge“, 1999. pg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1F0-CE1A-424B-81F6-623DEF60EA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761760"/>
            <a:ext cx="78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ugoročn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fekti bilateralnih ugovora u odnosu na pristupanje Europskoj U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79640" y="1989000"/>
          <a:ext cx="5905440" cy="3635640"/>
        </p:xfrm>
        <a:graphic>
          <a:graphicData uri="http://schemas.openxmlformats.org/drawingml/2006/table">
            <a:tbl>
              <a:tblPr/>
              <a:tblGrid>
                <a:gridCol w="2093760"/>
                <a:gridCol w="1836720"/>
                <a:gridCol w="19749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lateral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 ugov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istupanje 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ogatst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DP per cap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ast zaposle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10000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55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kupni izvoz ro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kupni uvoz ro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ealne nad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*) im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gr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1979640" y="5733360"/>
            <a:ext cx="515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Izvor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de-DE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Müller A., van Niewkoop R.:„EU-Integration der Schweiz - wirtschaftliche Auswirkungen“, ECOPLAN, Bern, 1999 pg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D22-3723-4E9E-AEAA-D50E305406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rgumenti uvođenja ograničenja slobode međunarodne razmjene temelje se na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mobilnost proizvodnih faktora i njihova otpornost na sniženje cij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tržišta proizvo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tržišta proizvodnih fakto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adoj (nejakoj) industri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aka mjera ograničenja međunarodne ekonomske razmjene ima za svrhu povećanje relativnih cijena uvoznih roba na domaćem tržištu iznad relativnih cijena tih roba na svjetskom tržiš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E12-A688-433B-B527-308F159C7D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rgumenti ograničenja slobode međunarodne ekonomske razmje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bodna međunarodna ekonomska razmjena rezulti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većanjem blagostanja u svjetskoj ekonomiji i u svakoj državi sudionici međunarodne ekonomske razmj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nosno dovodi do najefikasnije upotrebe resursa i maksimiziranja proizvodnje u svjetskim razmjer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F01-60F9-428A-801E-3C718ECD8E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z uvjet postojanja tržišta savršene konkurencije u svakoj zemlji i u svjetskoj razmje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bodna međunarodna razmjena je nužan uvjet, a perfektno tržište dovoljan uvj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3581280"/>
                <a:ext cx="7315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T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T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S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S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7BC-0544-41DA-B8DC-158A1D42CF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savršenosti tržiš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graničavaju slobodnu međunarodnu razmjenu u izvršavanju optimalne alokacije resur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graničena konkuren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monopol, monopson, oligopol, oligop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ksterne ekonomije – eksternal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 proizvodnji i potrošn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zitivne i negativ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07D-9FD0-4078-8D81-3179180C78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savršenosti tržiš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ezultiraj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boptimalnom alokacijom resur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postojanje Paretovog optimu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00400" y="4114800"/>
                <a:ext cx="31240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ST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GSS</m:t>
                    </m:r>
                    <m:r>
                      <m:t xml:space="preserve">≠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461-4516-4764-BBDD-F54AE7329B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savršenosti tržiš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a bi se u uvjetima nesavršenosti tržišta postigla optimalna alokacija resursa nužno je mjerama ekonomske politike intervenirati na domaćem i svjetskom tržiš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rezima i subvencijama korigirati GST, GSS i P s ciljem njihovog izjednačavan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rugo najbolje rješenje (second best sol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rugi optimum, uvjetni (ograničeni) optim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76720" y="3505320"/>
                <a:ext cx="25812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ST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DGSS</m:t>
                    </m:r>
                    <m:r>
                      <m:t xml:space="preserve">≠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5238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=društv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898-76B3-4158-BF38-8019592945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isnik</cp:lastModifiedBy>
  <dcterms:modified xsi:type="dcterms:W3CDTF">2008-04-28T08:00:54Z</dcterms:modified>
  <cp:revision>2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