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1EB-855C-443E-BB4C-D9208279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C23-FA57-4081-959E-7AAB1487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F4C-0E41-4884-9C60-3A74AC3A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C0D-0E1A-46D6-B5ED-F7AAFD87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B364-2461-4D94-88CA-0BFBBC5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1617-C95C-4356-9A6C-97D60C6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BCE9-570A-436F-AD38-77A7686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BEE-3B1E-4F1F-86E9-D5C7781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68F9-DEF5-4D5A-8741-3B461609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6DB-D6D8-409E-AFCD-B20BD9FE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CF31-7209-4BD4-B73D-E3856E6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2C7-3AF2-44A7-A03E-F98C0791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29B-F76E-493A-8292-671F99B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C6AF-752F-4ECB-A35B-19F09D2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8643-048E-4838-BF06-FE59831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8F4-8461-47E3-8921-FB00E55E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CD45-8FCB-4011-BCD8-B08A028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FA6-8E85-46AE-8BC6-3EB4612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BCA-9724-4D29-A272-B820627E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AB4-44D7-4E94-9933-71226448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71C-8DF6-4840-82B9-243A215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029-1E29-48D5-A21A-6D78642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468-4D02-4A92-AEEA-104BC99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11B-C045-49F0-B68F-7D4E71B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F17-0E03-4303-BB8D-5A3729EF06B1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D2B-D8AB-4A6F-8A36-966A60F5E008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ORIJA VANJSKOTRGOVAČKE POLITIK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3580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f. dr. sc. Ljubo Jur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vo najbolje rješenje (First Best Solu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dstavlja apsolutni maksimum funkcije društvenog blago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tvaruje se ako su zadovoljene sve pretpostavke Paretovog optimuma, tj. da postoje uvjeti perfektne konkurencije na svim trištima i u svim zemlj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4D8-571D-432F-B658-49D96C3E4A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graničenja za postizanje F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ponašanja: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ije cilj maksimiziranje zadovoljstva potrošača i dobiti proizvođač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okruže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metnuta od države (carine, porezi, subvenci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ržiš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ehnoloških karakteris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ternalije (rastući prinosi, ekonomija obuj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D96-02AB-41E2-A76A-13D93FB11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domaćeg tržišta u proizvodnji ili potrošnji treba korigirati porezom ili subvencijom na domaću proizvodnju ili potrošnju, a ne međunarodnu razmj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međunarodnog tržišta (ponude i potražnje) riješiti carinama i subvencijama s cilj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4648320"/>
                <a:ext cx="26672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E22-7F9B-448A-8160-EF1B59E01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na carinska struk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nom carinskom strukturom postiže 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vaka druga carina ili subvencija različita od optimalne carinske strukture rezultira u stvaranju nejednakosti između GS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orija optimalne carinske strukture temelji se na postojanju nesavršenosti međunarodnih tržišta gledano sa stajališta domaće priv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2438280"/>
                <a:ext cx="2057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325-317E-4E86-A571-D4812B62AF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lj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varanje razlike između relativnih cijena na domaćem i svjetskom tržiš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ljedic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graničenje slobode kretanja tijekova u međunarodnoj razmje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6FD-010C-4FD3-BDA6-BE7D444CE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Mjere: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tjecaj na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arine, prelevmani, avan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graničenje količin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kontingenti i kvot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evizna ograni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pća podjela ekonomskih mj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ar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carinske mj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D27-0922-48FB-A1E8-5D0F090EA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rgumenti uvođenja ograničenja slobode međunarodne razmjene temelje se na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obilnost proizvodnih faktora i njihova otpornost na sniženje ci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nih fakt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adoj (nejakoj) industr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aka mjera ograničenja međunarodne ekonomske razmjene ima za svrhu povećanje relativnih cijena uvoznih roba na domaćem tržištu iznad relativnih cijena tih roba na svjetskom tržiš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C10-B6C0-4C43-891D-90FAAE9E8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gumenti ograničenja slobode međunarodne ekonomske razmje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bodna međunarodna ekonomska razmjena rezulti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ećanjem blagostanja u svjetskoj ekonomiji i u svakoj državi sudionici međunarodne ekonomske razm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nosno dovodi do najefikasnije upotrebe resursa i maksimiziranja proizvodnje u svjetskim razmjer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62C-6B6C-4CBE-B39A-91C1F3A95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z uvjet postojanja tržišta savršene konkurencije u svakoj zemlji i u svjetskoj razmj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bodna međunarodna razmjena je nužan uvjet, a perfektno tržište dovoljan uv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3581280"/>
                <a:ext cx="7315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FE7-2D1C-402F-8BEE-508883E61B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avaju slobodnu međunarodnu razmjenu u izvršavanju optimalne alokacije resu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ena 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onopol, monopson, oligopol, oligop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sterne ekonomije – eksternal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proizvodnji i potrošn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zitivne i negativ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908-AD67-470A-BFF1-EBEE1DADA6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zultir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boptimalnom alokacijom resu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stojanje Paretovog optim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0400" y="4114800"/>
                <a:ext cx="3124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723-DA53-4F27-8DCE-1425B4638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se u uvjetima nesavršenosti tržišta postigla optimalna alokacija resursa nužno je mjerama ekonomske politike intervenirati na domaćem i svjetskom tržiš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ima i subvencijama korigirati GST, GSS i P s ciljem njihovog izjednača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o najbolje rješenje (second best 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i optimum, uvjetni (ograničeni) opt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505320"/>
                <a:ext cx="25812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D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=društ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09C-55B3-4C79-9317-1145DAEA2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08-04-14T06:23:46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