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FC8-F97D-4DEC-B428-10D962C4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DB8-DA4B-44C8-A79E-581F11CC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09F-020C-4C03-8C69-E8CF6838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073D-7E2C-45A9-888E-639D9027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5013-980B-43D7-8CAF-311FF000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4CBF-8A1A-42DB-8270-B61DA8ED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D912-93C6-4DEF-A0D0-3EEA5484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C24B-08B6-44AF-AB11-D4FD3EBE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86A0-1142-4D56-9264-802EBF57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068A-AEF0-4A3C-9D43-F4D391E3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C36C-4EC0-4CF3-8D13-5AF08738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8234-27BF-4ED8-82A8-AEAD7D0D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ADFD-63AC-40AD-A93F-6C43D801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778E-AB16-4CF9-A797-3B317BB3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D915-6F6D-48EB-832B-73023466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4CB0-480E-4A12-A590-B1DE776A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11DD-6980-48F6-8D32-89AE76FE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7482-2933-4B5F-A376-8983A276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35C0-FA8C-41F0-AD66-DA7246C4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FFD-A57D-4D46-824A-F106FBE5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5931-FC61-43FB-B11B-84B6D6DA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61C-C04D-4AEF-8ECB-919972D6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C18-EC5D-4689-91D7-5536C054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CBA-4FF5-42CD-AF20-2F4987D3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04ED-631A-4401-A11E-6A111D1E90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88604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47C9-0257-4B2A-9EEE-57231C603E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886040" cy="514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EORIJA VANJSKOTRGOVAČKE POLITIK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42640" y="3580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of. dr. sc. Ljubo Jurči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1625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Tahoma"/>
              </a:rPr>
              <a:t>Prvo najbolje rješenje </a:t>
            </a:r>
            <a:br>
              <a:rPr sz="3600"/>
            </a:br>
            <a:r>
              <a:rPr b="0" lang="hr-HR" sz="3600" spc="-1" strike="noStrike">
                <a:solidFill>
                  <a:srgbClr val="333399"/>
                </a:solidFill>
                <a:latin typeface="Tahoma"/>
              </a:rPr>
              <a:t>(First Best Solution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edstavlja apsolutni maksimum funkcije društvenog blagostan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stvaruje se ako su zadovoljene sve pretpostavke Paretovog optimuma, tj. da postoje uvjeti perfektne konkurencije na svim trištima i u svim zemlj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DB09-E14F-4799-8FA7-8E9A092365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graničenja za postizanje FB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Tahoma"/>
              </a:rPr>
              <a:t>Ograničenje ponašanja: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nije cilj maksimiziranje zadovoljstva potrošača i dobiti proizvođač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Tahoma"/>
              </a:rPr>
              <a:t>Ograničenje okruženj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-496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metnuta od države (carine, porezi, subvencij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-496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esavršenosti tržiš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-496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esavršenosti tehnoloških karakteristi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-496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eksternalije (rastući prinosi, ekonomija obujm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4E7-A638-403F-8AE6-50B3161722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ZBOR POLITIK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31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avršenosti domaćeg tržišta u proizvodnji ili potrošnji treba korigirati porezom ili subvencijom na domaću proizvodnju ili potrošnju, a ne međunarodnu razmje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avršenosti međunarodnog tržišta (ponude i potražnje) riješiti carinama i subvencijama s cilj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352680" y="4648320"/>
                <a:ext cx="266724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472-CB8B-4F71-BCC3-463D93EC48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alna carinska struk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nom carinskom strukturom postiže 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vaka druga carina ili subvencija različita od optimalne carinske strukture rezultira u stvaranju nejednakosti između GSS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GST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li GST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GST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orija optimalne carinske strukture temelji se na postojanju nesavršenosti međunarodnih tržišta gledano sa stajališta domaće privre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81280" y="2438280"/>
                <a:ext cx="20574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27C3-0F5A-4BCB-92F3-D4B4CD9A5A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IBERALIZACIJA VANJSKE TRGOVIN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lateralno smanjenje car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lateralno smanjenje car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lateralni carinski sporazum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8EEF-5B13-4E8D-8CCE-A07BEF6D12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Tahoma"/>
              </a:rPr>
              <a:t>Preferencijalni trgovački sporazumi</a:t>
            </a:r>
            <a:br>
              <a:rPr sz="3600"/>
            </a:br>
            <a:r>
              <a:rPr b="0" lang="hr-HR" sz="2800" spc="-1" strike="noStrike">
                <a:solidFill>
                  <a:srgbClr val="333399"/>
                </a:solidFill>
                <a:latin typeface="Tahoma"/>
              </a:rPr>
              <a:t>Preferential Trading Agree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aki sporazum između dvije ili više zemalja koji omogućuj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vlašteni pristu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a tržišta potpisnica sporazuma u odnosu na treće zemlj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jčešće  kroz niže carine, ukidanje kvota i kontingenata i sl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CA4-E141-49DF-A7C0-57BC119DF4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Tahoma"/>
              </a:rPr>
              <a:t>Status najpovlaštenije zemlje</a:t>
            </a:r>
            <a:br>
              <a:rPr sz="3600"/>
            </a:br>
            <a:r>
              <a:rPr b="0" lang="hr-HR" sz="2800" spc="-1" strike="noStrike">
                <a:solidFill>
                  <a:srgbClr val="333399"/>
                </a:solidFill>
                <a:latin typeface="Tahoma"/>
              </a:rPr>
              <a:t>Most-Favoured Nation Princip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nska stopa primijenjena na uvoz robe iz zemlje koja ima status “najpovlaštenije”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 može biti veće, nego samo manja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od carinske stope koja se primjenjuje na uvoz iz drugih zemal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3D56-30A5-4682-B49D-B635610661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Tahoma"/>
              </a:rPr>
              <a:t>Nacionalni tretman</a:t>
            </a: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hr-HR" sz="2800" spc="-1" strike="noStrike">
                <a:solidFill>
                  <a:srgbClr val="333399"/>
                </a:solidFill>
                <a:latin typeface="Tahoma"/>
              </a:rPr>
              <a:t>(National Treatment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 tretiranja stranog proizvođača neke robe (ili usluge) na isti način kao i domaćeg proizvođača iste robe, uzimajući u obzir da robe ne trebaju biti proizvedene na isti način ( L/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B5EC-A641-4117-8FB1-B808256760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8377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ultilateralni carinski sporazum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2438280"/>
            <a:ext cx="853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cip nediskrim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cip zaštite samo cari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princip kontinuiranog     smanjenja ca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C2C-98C0-44D8-90C2-0B92D40837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609480" y="2362320"/>
            <a:ext cx="8082000" cy="4144680"/>
            <a:chOff x="609480" y="2362320"/>
            <a:chExt cx="8082000" cy="4144680"/>
          </a:xfrm>
        </p:grpSpPr>
        <p:graphicFrame>
          <p:nvGraphicFramePr>
            <p:cNvPr id="144" name=""/>
            <p:cNvGraphicFramePr/>
            <p:nvPr/>
          </p:nvGraphicFramePr>
          <p:xfrm>
            <a:off x="609480" y="2362320"/>
            <a:ext cx="8082000" cy="4144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2362320"/>
                      <a:ext cx="8082000" cy="41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"/>
            <p:cNvSpPr/>
            <p:nvPr/>
          </p:nvSpPr>
          <p:spPr>
            <a:xfrm>
              <a:off x="1523880" y="5867280"/>
              <a:ext cx="7086600" cy="3682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900  1910  1920   1930  1940  1950  1960  1970  1980  19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200400" y="571500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514600" y="571500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886200" y="571500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460760" y="5728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105160" y="571500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790960" y="571500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400800" y="571500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7086600" y="571500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7696080" y="571500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828800" y="571500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 rot="10800000">
            <a:off x="2286000" y="4367520"/>
            <a:ext cx="4546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World War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5938920" y="2398680"/>
            <a:ext cx="423720" cy="23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Kennedy Round (196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6587640" y="2809440"/>
            <a:ext cx="423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Tokyo Round (197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7236000" y="2610000"/>
            <a:ext cx="42372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Uruguay Round (198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4495320" y="3352320"/>
            <a:ext cx="42372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World War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5028840" y="2948040"/>
            <a:ext cx="423720" cy="11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Gatt (194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3504960" y="1676520"/>
            <a:ext cx="667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Trade Agreements Act (193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4495680"/>
            <a:ext cx="1282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Smoot-Hawley Tarrif Act (19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36E6-9644-4787-AE8A-6112513457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štitna poli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ilj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varanje razlike između relativnih cijena na domaćem i svjetskom tržiš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osljedica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graničenje slobode kretanja tijekova u međunarodnoj razmje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744-8368-4F05-8903-6073B2AF01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95640" y="119700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50920" y="4653000"/>
            <a:ext cx="55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035080" y="42181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035080" y="33526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35080" y="24890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35080" y="16257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2120" y="14954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77960" y="2344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77960" y="3209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77960" y="4073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1219320"/>
            <a:ext cx="360360" cy="345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2421000"/>
            <a:ext cx="358560" cy="22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95640" y="3213000"/>
            <a:ext cx="358920" cy="1440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16360" y="3645000"/>
            <a:ext cx="358920" cy="100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35640" y="3933720"/>
            <a:ext cx="358560" cy="719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56360" y="4149720"/>
            <a:ext cx="35892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4365720"/>
            <a:ext cx="35892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41440" y="4653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3440" y="4653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4653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3440" y="4653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4160" y="4653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13440" y="4653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34160" y="4653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230760" y="238896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ječne carine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36720" y="4581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72920" y="457200"/>
            <a:ext cx="587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njenje carina u razdoblju od 1940. do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A12-9346-466D-94FD-035D5C78BE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03320" y="189000"/>
            <a:ext cx="53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jena pregovora u sklopu GATT-a/WTO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62080" y="706320"/>
          <a:ext cx="7781760" cy="5286240"/>
        </p:xfrm>
        <a:graphic>
          <a:graphicData uri="http://schemas.openxmlformats.org/drawingml/2006/table">
            <a:tbl>
              <a:tblPr/>
              <a:tblGrid>
                <a:gridCol w="2781360"/>
                <a:gridCol w="1407240"/>
                <a:gridCol w="3593160"/>
              </a:tblGrid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Run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Broj zemalj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ajvažniji rezultat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Ženevska runda (1947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Koncesija na 43 tarifnih linij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Annecy runda (1949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Umjereno smanjenje tarif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ourquay runda (1950-5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8700 tarifnih koncesij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Ženevska runda(1955-56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Umjereno smanjenje cari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Dillon runda (1960-6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Usvojeno 4400 tarifnih koncesij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Kennedy runda (1963-67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rosječno smanjenje carina 35% za razvijene, Sporazum o anti-dumping mjera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okijska runda (1973-79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rosječno smanjenje carina za jednu trećinu do razine od 4.7% za razvijene zeml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Urugvajska runda (1986-9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03 (1986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rosječno smanjenje carina za jednu trećinu za razvijene zeml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17 (199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oljoprivreda i tekstilna industrija uključene u GAT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25 (199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Osnutak WTO-a (Marakesh 1994), GATS, TRIPs, TRIM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Doha runda (2001);  Cancun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adležnost WTO-a dodatno proširena tzv. Singapurskim područjima ulaganja i zaštite okoliš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493-51AF-43C4-A470-05EB64CA40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468360" y="2781360"/>
          <a:ext cx="8305920" cy="174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81360"/>
                    <a:ext cx="830592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53960" y="836640"/>
            <a:ext cx="841500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rinske stope u razvijenim zemljama za uvo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dustrijskih proizvoda iz zemalja u razvo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616-AAFD-47CD-B882-0E0E21D32D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4760" y="378000"/>
            <a:ext cx="7380360" cy="11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arinske stope prije i poslije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Urugvajske rund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547640" y="1628640"/>
          <a:ext cx="59724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628640"/>
                    <a:ext cx="59724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420-94FB-4CF8-89C0-9E8B619831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61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Smanjenje carina industrijskih proizvoda u Urugvajskoj rund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11280" y="2421000"/>
          <a:ext cx="8035920" cy="33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421000"/>
                    <a:ext cx="803592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D6D7-1249-442F-B950-BDC90D4EB3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72640" y="2421000"/>
            <a:ext cx="827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GATT – General Agreement on Tariffs and Tr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GATS- General Agreement on Trade in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RIPS – Agreement on Trade-related Intellectual Property Righ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World Trade Organis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1C0D-C0AA-476D-B7B2-957A5C7A8E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GATT</a:t>
            </a:r>
            <a:br>
              <a:rPr sz="4000"/>
            </a:br>
            <a:r>
              <a:rPr b="0" lang="hr-HR" sz="3200" spc="-1" strike="noStrike">
                <a:solidFill>
                  <a:srgbClr val="333399"/>
                </a:solidFill>
                <a:latin typeface="Tahoma"/>
              </a:rPr>
              <a:t>General Agreement on Tariffs and Trad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ljoprivre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zdravstvena regulativa za prehrambene proizv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kstil i odjeć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ndardi proizvo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jere investiran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tidampinške mj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ode vrednovanja cari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avila u porijekl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egled prije isporu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zvola uvo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nci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zaštitne car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7AA-256D-42C7-9ED3-EBB3948DD4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GATS</a:t>
            </a:r>
            <a:br>
              <a:rPr sz="4400"/>
            </a:br>
            <a:r>
              <a:rPr b="0" lang="hr-HR" sz="3200" spc="-1" strike="noStrike">
                <a:solidFill>
                  <a:srgbClr val="333399"/>
                </a:solidFill>
                <a:latin typeface="Tahoma"/>
              </a:rPr>
              <a:t>General Agreement on Trade in Serv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retanje osob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račni trans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jske uslu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komunikac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morski trans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D78-E077-48E8-B03E-A44C696E675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TRIPS</a:t>
            </a:r>
            <a:br>
              <a:rPr sz="4000"/>
            </a:b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333399"/>
                </a:solidFill>
                <a:latin typeface="Tahoma"/>
              </a:rPr>
              <a:t>Trade Related Intellectual Property Righ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rska pr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aštitni zna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mljopisni zna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ijski dizaj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otkrivene informacije i poslovne taj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1BAF-6FD9-4F71-93D1-CA93101444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konomske integraci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ona slobodne trgov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bodna međunarodna trgov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inska uni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jedničke carine prema treći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ajedničko tržiš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boda kretanja rada i kapita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onomska zajedn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klađivanje ekonomskih politi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itička zajedn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la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6F6-A9B3-4AAC-9E8F-CC731F6885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štitna poli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Tahoma"/>
              </a:rPr>
              <a:t>Mjere: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tjecaj na cije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carine, prelevmani, avan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graničenje količina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kontingenti i kvote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evizna ograničen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pća podjela ekonomskih mje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car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carinske mj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8299-E61B-45C6-AE3B-C5F2BA074E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UVJETI KOJI DOVODE DO  EKONOMSKIH INTEGRACIJ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oke carinske prepre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ličina zemlje i brojnost zemalj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veća mogućnost da će unija dobiti efikasnijeg proizvođač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ografska blizina, manji transportni troš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ličina razmjene prije Carinske un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F83-9327-43E9-94EB-028CE0386FD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ekti ekonomskih integr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većanje tržiš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većanje konkurenc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ekonomija obuj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timulacija investicija (tariff factor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bolje korištenje resursa (mobilnost rada i kapita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FFB-6662-434F-B1D3-174C943DD30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ekti ekonomskih integr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kt liberalizac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kt distorz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E5A1-44B6-4C6D-85F7-6E1F96D664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ekti ekonomskih integr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kt stvaranja trgov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kt skretanja trgov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5B00-9410-455F-A2FB-B2B29257E3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fekt stvaranja i efekt skretanja trgovin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456240" y="4589640"/>
                <a:ext cx="279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442200" y="4917960"/>
                <a:ext cx="266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462720" y="5181480"/>
                <a:ext cx="21096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195960" y="6392880"/>
                <a:ext cx="249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58720" y="2246400"/>
                <a:ext cx="2556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205680" y="5743440"/>
                <a:ext cx="3603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949320" y="6308640"/>
            <a:ext cx="540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949320" y="2349360"/>
            <a:ext cx="0" cy="395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06400" y="638172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949320" y="2491920"/>
            <a:ext cx="4032360" cy="38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49320" y="3284640"/>
            <a:ext cx="5184720" cy="25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978440" y="219564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3009960" y="429264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4040" y="400536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963720" y="4984560"/>
            <a:ext cx="5459400" cy="69840"/>
          </a:xfrm>
          <a:custGeom>
            <a:avLst/>
            <a:gdLst/>
            <a:ahLst/>
            <a:rect l="l" t="t" r="r" b="b"/>
            <a:pathLst>
              <a:path w="3333" h="1">
                <a:moveTo>
                  <a:pt x="0" y="0"/>
                </a:moveTo>
                <a:lnTo>
                  <a:pt x="333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78040" y="479736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476100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22560" y="476892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949320" y="4714920"/>
            <a:ext cx="545004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78040" y="444960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76440" y="441792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81360" y="443088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804840" y="4714920"/>
            <a:ext cx="9720" cy="15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70160" y="5051520"/>
            <a:ext cx="0" cy="126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456080" y="5013360"/>
            <a:ext cx="22320" cy="12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06760" y="472428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49320" y="5300640"/>
            <a:ext cx="542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48160" y="504828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43040" y="5062680"/>
            <a:ext cx="2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54040" y="477216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90760" y="478620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67120" y="477216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87920" y="478620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65320" y="5025960"/>
            <a:ext cx="2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48160" y="476100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62120" y="476568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305000" y="5243400"/>
                <a:ext cx="2174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15960" y="4597560"/>
                <a:ext cx="17784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03360" y="4865760"/>
                <a:ext cx="2966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 rot="10800000">
            <a:off x="5700600" y="4716000"/>
            <a:ext cx="144720" cy="576360"/>
          </a:xfrm>
          <a:custGeom>
            <a:avLst/>
            <a:gdLst>
              <a:gd name="textAreaLeft" fmla="*/ 92520 w 144720"/>
              <a:gd name="textAreaRight" fmla="*/ 145080 w 144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851440" y="4878360"/>
            <a:ext cx="25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966000" y="2127240"/>
                <a:ext cx="2318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986520" y="2471760"/>
                <a:ext cx="1778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961320" y="2874960"/>
                <a:ext cx="2966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7172280" y="2157480"/>
            <a:ext cx="125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 svjetska cij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09000" y="2508120"/>
            <a:ext cx="158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 cijena u maloj zemlji uz carinu t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223040" y="2905200"/>
            <a:ext cx="103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 cijena u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05000" y="471636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1449000" y="5054760"/>
            <a:ext cx="324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12960" y="468468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5840" y="500544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89120" y="468468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49600" y="501012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84680" y="46800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67160" y="500544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41720" y="50180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13040" y="501156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65360" y="525132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9520" y="525132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468520" y="6350040"/>
                <a:ext cx="2923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3638520" y="6350040"/>
                <a:ext cx="3351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131920" y="6350040"/>
                <a:ext cx="3142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4305240" y="6348240"/>
                <a:ext cx="3351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75B-6156-43BA-A2FF-69B55A5E190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mjer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Švicars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 moguća scenarij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lateralni ugovo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+EM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80C-C177-42D0-B158-AC664D902D1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324000" y="2060640"/>
          <a:ext cx="10752120" cy="5994360"/>
        </p:xfrm>
        <a:graphic>
          <a:graphicData uri="http://schemas.openxmlformats.org/drawingml/2006/table">
            <a:tbl>
              <a:tblPr/>
              <a:tblGrid>
                <a:gridCol w="3095640"/>
                <a:gridCol w="2089080"/>
                <a:gridCol w="1584360"/>
                <a:gridCol w="1366560"/>
                <a:gridCol w="327240"/>
                <a:gridCol w="333360"/>
                <a:gridCol w="372960"/>
                <a:gridCol w="374760"/>
                <a:gridCol w="12081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L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TERALNI UGOV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OPSKA UN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U+E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DP per cap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lagostanje stanovništv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a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% o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D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spoloživi dohoda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 cap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vatna potroš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stici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600"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zvor: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üller T., Grether J.-M.: „Langfristige Auswirkungen der Integration der Schweiz in Europa“, Table:“Aggregier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gebnisse – Beitritt und bilaterale Verträge“, 1999. pg.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1433880" y="365040"/>
            <a:ext cx="613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činci mogućih scenarija na glav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kroekonomske indik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966-972D-4B31-B030-F082C2110C0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539640" y="2924280"/>
          <a:ext cx="7632720" cy="2371680"/>
        </p:xfrm>
        <a:graphic>
          <a:graphicData uri="http://schemas.openxmlformats.org/drawingml/2006/table">
            <a:tbl>
              <a:tblPr/>
              <a:tblGrid>
                <a:gridCol w="2737080"/>
                <a:gridCol w="1798560"/>
                <a:gridCol w="1657440"/>
                <a:gridCol w="14396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kupni izvo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zvoz u 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zvoz u ostatak svij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kupni uvo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voz iz 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voz iz ostatka svij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539640" y="2205000"/>
          <a:ext cx="7632720" cy="639720"/>
        </p:xfrm>
        <a:graphic>
          <a:graphicData uri="http://schemas.openxmlformats.org/drawingml/2006/table">
            <a:tbl>
              <a:tblPr/>
              <a:tblGrid>
                <a:gridCol w="2703600"/>
                <a:gridCol w="1824120"/>
                <a:gridCol w="1665360"/>
                <a:gridCol w="143964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mjena u 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L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TERALNI UGOV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OPSKA UN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U+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1119960" y="1066680"/>
            <a:ext cx="68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činci mogućih scenarija na izvoz i uv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9640" y="5373720"/>
            <a:ext cx="741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Izvor: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Müller T., Grether J.-M.: „Langfristige Auswirkungen der Integration der Schweiz in Europa“, Table:“Aggregierte Ergebnisse – Beitritt und bilaterale Verträge“, 1999. pg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978-4ADF-417B-970F-45F978569BB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285840" y="1844640"/>
          <a:ext cx="8858160" cy="4471920"/>
        </p:xfrm>
        <a:graphic>
          <a:graphicData uri="http://schemas.openxmlformats.org/drawingml/2006/table">
            <a:tbl>
              <a:tblPr/>
              <a:tblGrid>
                <a:gridCol w="3744720"/>
                <a:gridCol w="2016360"/>
                <a:gridCol w="1620720"/>
                <a:gridCol w="14763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L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TERALNI UGOV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OP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U+E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opa rasta kapit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nuda r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amatna sto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sječna promjena realnih nad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ne nadnice-akademi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ne nadnice-V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ne nadnice-tehničk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ne nadnice-završena srednj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,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/>
          <p:cNvSpPr/>
          <p:nvPr/>
        </p:nvSpPr>
        <p:spPr>
          <a:xfrm>
            <a:off x="1433880" y="762120"/>
            <a:ext cx="613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činci mogućih scenarija na glav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kretanje kapitala i cijenu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6400800"/>
            <a:ext cx="74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Izvor: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Müller T., Grether J.-M.: „Langfristige Auswirkungen der Integration der Schweiz in Europa“, Table:“Aggregierte Ergebnisse – Beitritt und bilaterale Verträge“, 1999. pg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FCC-AC01-4A69-A4B3-3E86C421FED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838080" y="761760"/>
            <a:ext cx="781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ugoročn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fekti bilateralnih ugovora u odnosu na pristupanje Europskoj Un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979640" y="1989000"/>
          <a:ext cx="5905440" cy="3635640"/>
        </p:xfrm>
        <a:graphic>
          <a:graphicData uri="http://schemas.openxmlformats.org/drawingml/2006/table">
            <a:tbl>
              <a:tblPr/>
              <a:tblGrid>
                <a:gridCol w="2093760"/>
                <a:gridCol w="1836720"/>
                <a:gridCol w="19749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lateral</a:t>
                      </a: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i ugov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ristupanje E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Bogatst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DP per cap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Rast zaposle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10000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55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Ukupni izvoz ro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Ukupni uvoz ro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Realne nad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*) im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gr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1979640" y="5733360"/>
            <a:ext cx="515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Izvor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de-DE" sz="12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Müller A., van Niewkoop R.:„EU-Integration der Schweiz - wirtschaftliche Auswirkungen“, ECOPLAN, Bern, 1999 pg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F912-E555-450B-8DCD-400AEA692B6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rgumenti uvođenja ograničenja slobode međunarodne razmjene temelje se na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mobilnost proizvodnih faktora i njihova otpornost na sniženje cije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avršenosti tržišta proizvo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avršenosti tržišta proizvodnih fakto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adoj (nejakoj) industri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vaka mjera ograničenja međunarodne ekonomske razmjene ima za svrhu povećanje relativnih cijena uvoznih roba na domaćem tržištu iznad relativnih cijena tih roba na svjetskom tržiš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23B-42AF-4729-9104-CABB7ADEEA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rgumenti ograničenja slobode međunarodne ekonomske razmje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obodna međunarodna ekonomska razmjena rezultir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većanjem blagostanja u svjetskoj ekonomiji i u svakoj državi sudionici međunarodne ekonomske razmje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nosno dovodi do najefikasnije upotrebe resursa i maksimiziranja proizvodnje u svjetskim razmjeri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0AF-E22B-4E58-9A64-F1B9A8DD06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z uvjet postojanja tržišta savršene konkurencije u svakoj zemlji i u svjetskoj razmje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bodna međunarodna razmjena je nužan uvjet, a perfektno tržište dovoljan uvj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43000" y="3581280"/>
                <a:ext cx="73152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ST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ST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SS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SS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A31-D2B0-4B36-B6FF-D8F20D9103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savršenosti tržiš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graničavaju slobodnu međunarodnu razmjenu u izvršavanju optimalne alokacije resur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graničena konkuren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monopol, monopson, oligopol, oligops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Eksterne ekonomije – eksternal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 proizvodnji i potrošn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zitivne i negativ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CB00-3A3F-4C14-A699-815EC7CAE3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savršenosti tržiš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ezultiraj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uboptimalnom alokacijom resur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postojanje Paretovog optimu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200400" y="4114800"/>
                <a:ext cx="312408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ST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GSS</m:t>
                    </m:r>
                    <m:r>
                      <m:t xml:space="preserve">≠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91B5-F7AC-4CD1-9A2C-C8C962AF58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savršenosti tržiš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a bi se u uvjetima nesavršenosti tržišta postigla optimalna alokacija resursa nužno je mjerama ekonomske politike intervenirati na domaćem i svjetskom tržiš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rezima i subvencijama korigirati GST, GSS i P s ciljem njihovog izjednačavan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rugo najbolje rješenje (second best solu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rugi optimum, uvjetni (ograničeni) optim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276720" y="3505320"/>
                <a:ext cx="258120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ST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DGSS</m:t>
                    </m:r>
                    <m:r>
                      <m:t xml:space="preserve">≠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523880" y="41148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=društv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712-0DB4-462B-9DCD-B13147809E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risnik</cp:lastModifiedBy>
  <dcterms:modified xsi:type="dcterms:W3CDTF">2008-04-28T08:00:54Z</dcterms:modified>
  <cp:revision>2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