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E5B-2BAF-4453-BA83-884A7318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6D0-06CE-43CB-9CE6-965C84AC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ABC-7AA1-4797-969C-FB17F29E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BEB-ECE5-4287-BB48-F650F09C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6754-E5C9-4770-B358-58B2A08E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5949-9A16-4DB4-B7AF-C8D29A39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7922-18D7-471A-B4F2-9E5DADB8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C000-7AC4-4761-B2E2-431A5076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3FF7-D483-42F9-95D9-6345285E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F517-65F0-4429-A1CC-A81C5448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D451-BC9E-4B0F-BA1E-2BEC1A4E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B15-5DBD-4224-A351-90A96D86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4ED3-F495-4612-8BE2-6917BF4C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46C1-2170-4665-BDF1-C2CAF679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A20C-41A7-4F74-A41C-31814F38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7F93-8576-49C4-B46E-E122C222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119D-B1A6-4DD7-A24F-4A6C80D1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9AD-835A-4B81-A21A-E9AB4C4E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430-5651-44DF-96D2-C971E62A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7A1-7872-4324-971F-C3CDC037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92A-D6A9-4989-A01A-A276F4B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28B-B13F-4435-88A2-A6BCFED7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4BF-F317-4B63-BBFF-BC555BC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AA6-B601-44BE-BBAE-37D7BDAC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D516-CD5F-45EF-B3BC-39317369FF0E}" type="slidenum">
              <a:rPr b="0" lang="hr-H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860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D911-2E27-4659-9962-FEFF7BFD4ADB}" type="slidenum">
              <a:rPr b="0" lang="hr-H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886040" cy="514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EORIJA VANJSKOTRGOVAČKE POLITIK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3580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f. dr. sc. Ljubo Jurč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Prvo najbolje rješenje (First Best Solu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edstavlja apsolutni maksimum funkcije društvenog blagost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tvaruje se ako su zadovoljene sve pretpostavke Paretovog optimuma, tj. da postoje uvjeti perfektne konkurencije na svim trištima i u svim zemlj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8E7-985C-41C9-85B2-1A3880BF6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graničenja za postizanje FB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Ograničenje ponašanja: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nije cilj maksimiziranje zadovoljstva potrošača i dobiti proizvođač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ahoma"/>
              </a:rPr>
              <a:t>Ograničenje okruženj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metnuta od države (carine, porezi, subvenci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savršenosti tržiš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savršenosti tehnoloških karakterist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1240" indent="-496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ksternalije (rastući prinosi, ekonomija obuj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D83-BA13-4B1E-BB49-844C9E8F17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domaćeg tržišta u proizvodnji ili potrošnji treba korigirati porezom ili subvencijom na domaću proizvodnju ili potrošnju, a ne međunarodnu razmj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međunarodnog tržišta (ponude i potražnje) riješiti carinama i subvencijama s cilj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352680" y="4648320"/>
                <a:ext cx="26672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218-AA7D-429D-835A-3EE9512C5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na carinska struk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nom carinskom strukturom postiže 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vaka druga carina ili subvencija različita od optimalne carinske strukture rezultira u stvaranju nejednakosti između GSS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l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GS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orija optimalne carinske strukture temelji se na postojanju nesavršenosti međunarodnih tržišta gledano sa stajališta domaće priv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2438280"/>
                <a:ext cx="20574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663-8C04-45BF-806F-24020BDFE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štit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ilj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varanje razlike između relativnih cijena na domaćem i svjetskom tržiš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osljedic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graničenje slobode kretanja tijekova u međunarodnoj razmje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740-FB45-4E1C-A483-BD6D31493A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aštitna pol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ahoma"/>
              </a:rPr>
              <a:t>Mjere: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tjecaj na ci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carine, prelevmani, avan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graničenje količina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kontingenti i kvote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evizna ograniče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pća podjela ekonomskih mj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ar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carinske mj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7B8-5E11-42A9-B236-13806413A6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rgumenti uvođenja ograničenja slobode međunarodne razmjene temelje se na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obilnost proizvodnih faktora i njihova otpornost na sniženje cij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tržišta proizvo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avršenosti tržišta proizvodnih fakt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adoj (nejakoj) industri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aka mjera ograničenja međunarodne ekonomske razmjene ima za svrhu povećanje relativnih cijena uvoznih roba na domaćem tržištu iznad relativnih cijena tih roba na svjetskom tržiš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271-33AB-4EFE-B3B5-B028B6E8B7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rgumenti ograničenja slobode međunarodne ekonomske razmje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bodna međunarodna ekonomska razmjena rezulti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većanjem blagostanja u svjetskoj ekonomiji i u svakoj državi sudionici međunarodne ekonomske razmj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nosno dovodi do najefikasnije upotrebe resursa i maksimiziranja proizvodnje u svjetskim razmjer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513-0ACA-4FBE-9864-EA633C371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z uvjet postojanja tržišta savršene konkurencije u svakoj zemlji i u svjetskoj razmj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bodna međunarodna razmjena je nužan uvjet, a perfektno tržište dovoljan uvj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3581280"/>
                <a:ext cx="7315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T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S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SS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15D-8B81-441C-9667-BD1D3D0EB1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raničavaju slobodnu međunarodnu razmjenu u izvršavanju optimalne alokacije resur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raničena 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r-HR" sz="2800" spc="-1" strike="noStrike">
                <a:solidFill>
                  <a:srgbClr val="000000"/>
                </a:solidFill>
                <a:latin typeface="Tahoma"/>
              </a:rPr>
              <a:t>monopol, monopson, oligopol, oligop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ksterne ekonomije – eksternal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proizvodnji i potrošn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zitivne i negativ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4B2-F38D-42FB-ADB6-0ADACB0CE5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savršenosti tržiš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ezultira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boptimalnom alokacijom resu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postojanje Paretovog optimu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0400" y="4114800"/>
                <a:ext cx="3124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ST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GSS</m:t>
                    </m:r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2B1-2EC3-4105-B32C-7E6B00DA78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 bi se u uvjetima nesavršenosti tržišta postigla optimalna alokacija resursa nužno je mjerama ekonomske politike intervenirati na domaćem i svjetskom tržiš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rezima i subvencijama korigirati GST, GSS i P s ciljem njihovog izjednačavan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ugo najbolje rješenje (second best sol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ugi optimum, uvjetni (ograničeni) optim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76720" y="3505320"/>
                <a:ext cx="25812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ST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DGSS</m:t>
                    </m:r>
                    <m:r>
                      <m:t xml:space="preserve">≠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238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=društv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879-7A62-4BE9-A922-94B2095CE3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08-04-14T06:23:46Z</dcterms:modified>
  <cp:revision>2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