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656-BA52-4038-B055-C54CD94F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E09-5B22-4C5B-A176-9982E075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092-4524-443F-BCA0-C7D33A02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941-FDF6-4AA1-9177-6DF3DBBC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F72-F252-4EBA-8CA2-9F0DE338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960-F826-4386-B96F-57D5CCD2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509-BE1B-4CEC-9D59-DF348FCD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BC6-4C09-46DB-9407-169BE1F5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D45-2A4F-4493-A09D-1A109BBC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964-4196-477B-8F07-FC4A9812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50F-A795-4913-8802-34268D8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8AA-6B69-45A7-8D50-A818160A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3D30-9C7B-4BB6-A301-0BD1A6D6130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ORIJE VANJSKE TRGOV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9246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RAVISOVA TEOR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u vanjske trgovine određuje “raspoloživost” doba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a koja nisu “raspoloživa” u zemlji će se uvoz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ozi za “neraspoloživost” dobara su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rodni resurs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v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RAVISOVA TEOR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z je posljedica elastičnosti vanjske ponude i neelastičnosti domać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izvoza je obrnuto. Razlog je u održavanju izvozne konkurentnosti većom stopom tehničkog napretka od stope tehničkog napretka u istim sektorima u inozem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NDEROVA TEOR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likuje  trgovinu primarnih i industrijsk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rgovina primarnim proizvodima određena je prirodnom raspoloživošću doba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rgovina industrijskim proizvodima funkcij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ehnološke superi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nadžerskih vj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konomije obujma,…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NDEROVA TEOR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eličina vanjske trgovine industrijskim proizvodima određena j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ličnošću struktura potražnje zemlje izvoznice i zemalja uvoz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ORIJA ŽIVOTNOG CIKL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773360"/>
          <a:ext cx="860436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6043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ONTIJEVLJEV PARAD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Testiranje Heckscher-Ohlinove teorije na primjeru Amer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ključ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D izvozi radno intenzivne proizvode a uvozi kapitalno intenzivne proizvode što je u suprotnosti s H –O teor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ONTIJEVLJEV PARAD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ključivanje SAD u međunarodnu podjelu rada temelji se na radnointenzivnoj proizvodnji. Drugim riječima ova zemlja pribjegava vanjskoj trgovini da bi štedjela kapital, a riješila se viška rada, a ne obrnuto. Široko rasprostranjeno mišljenje da privreda SAD, u usporedbi s ostalim  svijetom karakterizira relativno obilje kapitala, i relativna oskudica rada, pokazalo se pogrešnim. U stvari, istina je obrnut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ONTIJEVLJEV PARAD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iti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Trebao je provesti analizu  samo “traded goods sector” a ne cjelokupnu privr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merički izvozni sektor upošljava veću kvalifikacijsku i obrazovnu razinu i malo poljoprivrednog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laće u izvoznim sektorima su veće od nacionalne r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8001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fekt specijalizacij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ogleda se u karakteru razmjen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TER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KTORSKA i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TRA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KTORS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zmj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4382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6400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066680" y="3047760"/>
            <a:ext cx="190512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066680" y="4952880"/>
            <a:ext cx="396252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905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io sek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58323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io sektor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772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048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90720" y="4952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4952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640" y="274320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2320" y="4648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6400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2280" y="27082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13360" y="46134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7040" y="5105520"/>
            <a:ext cx="1523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105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666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509436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je izvoz koncentriran na jedan a uvoz na drugi sektor veći je k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d potpune specijalizac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0 stupnjeva, što ukazuje na postojanj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KTORS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jene (specijalizaci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je zastupljenost oba sektora u izvozu i uvozu podjednak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što ukazuje na postojanj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R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KTORS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zmje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imes New Roman"/>
              </a:rPr>
              <a:t>Uzroci intrasektorske razmjen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3200" spc="-1" strike="noStrike">
                <a:solidFill>
                  <a:srgbClr val="ff3300"/>
                </a:solidFill>
                <a:latin typeface="Times New Roman"/>
              </a:rPr>
              <a:t>Intra-Industry Trade IIT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lasifikacija proizvoda (voće, doradni poslov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ransportni troškovi (malogranični promet građevinskim materijal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iferencijacija proizvoda (monopolistička konkure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konomija obuj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VIJE TEORIJE VANJSKE TRGO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Kravisova teor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Linderova teor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Teorija životnog cikl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9:03:42Z</dcterms:created>
  <dc:creator>Ljubo Jurčić</dc:creator>
  <dc:description/>
  <dc:language>en-US</dc:language>
  <cp:lastModifiedBy>korisnik</cp:lastModifiedBy>
  <dcterms:modified xsi:type="dcterms:W3CDTF">2008-03-31T06:17:33Z</dcterms:modified>
  <cp:revision>7</cp:revision>
  <dc:subject/>
  <dc:title>TEORIJE VANJSKE TRGOVINE</dc:title>
</cp:coreProperties>
</file>