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10D-7EDF-4F04-AA25-478B8A75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C11-2862-4E9D-9749-B63094C3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5D2-F9C4-4203-951D-35770B3A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A99-999C-4F37-A5B0-F42A0ED1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BFE-598D-437B-8B49-D9A29A56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C2C-153C-4A5C-A751-61B9BC25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057-7936-4F1B-B10C-97CE3503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B30-182F-42C0-985A-A0CA632D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4D2-A831-416C-B277-5C09516F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C3F-F0CE-47FF-BC07-6C1EDA6A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276-480E-41F1-B755-81873543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F12-31EC-46F2-B497-D3EB3652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E91B-01A2-4CBD-949B-6BB6E4A88F07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ORIJE VANJSKE TRGOV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9246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RAVISOVA TEOR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u vanjske trgovine određuje “raspoloživost” doba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a koja nisu “raspoloživa” u zemlji će se uvoz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ozi za “neraspoloživost” dobara su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rodni resursi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v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RAVISOVA TEOR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z je posljedica elastičnosti vanjske ponude i neelastičnosti domać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izvoza je obrnuto. Razlog je u održavanju izvozne konkurentnosti većom stopom tehničkog napretka od stope tehničkog napretka u istim sektorima u inozem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INDEROVA TEOR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azlikuje  trgovinu primarnih i industrijsk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rgovina primarnim proizvodima određena je prirodnom raspoloživošću doba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rgovina industrijskim proizvodima funkcija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ehnološke superi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nadžerskih vj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Ekonomije obujma,…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INDEROVA TEOR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eličina vanjske trgovine industrijskim proizvodima određena j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ličnošću struktura potražnje zemlje izvoznice i zemalja uvoz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ORIJA ŽIVOTNOG CIKLU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773360"/>
          <a:ext cx="860436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60436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ONTIJEVLJEV PARAD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Testiranje Heckscher-Ohlinove teorije na primjeru Amer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ključ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AD izvozi radno intenzivne proizvode a uvozi kapitalno intenzivne proizvode što je u suprotnosti s H –O teor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ONTIJEVLJEV PARAD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ključivanje SAD u međunarodnu podjelu rada temelji se na radnointenzivnoj proizvodnji. Drugim riječima ova zemlja pribjegava vanjskoj trgovini da bi štedjela kapital, a riješila se viška rada, a ne obrnuto. Široko rasprostranjeno mišljenje da privreda SAD, u usporedbi s ostalim  svijetom karakterizira relativno obilje kapitala, i relativna oskudica rada, pokazalo se pogrešnim. U stvari, istina je obrnut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ONTIJEVLJEV PARAD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iti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Trebao je provesti analizu  samo “traded goods sector” a ne cjelokupnu privr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merički izvozni sektor upošljava veću kvalifikacijsku i obrazovnu razinu i malo poljoprivrednog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laće u izvoznim sektorima su veće od nacionalne ra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010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3123720"/>
            <a:ext cx="8001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fekt specijalizacije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ogleda se u karakteru razmjen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TER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KTORSKA i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TRA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KTORSK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azmj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4382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6400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066680" y="3047760"/>
            <a:ext cx="1905120" cy="33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066680" y="4952880"/>
            <a:ext cx="396252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905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dio sekto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58323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dio sektor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7720" y="3048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30481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90720" y="4952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4952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640" y="274320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2320" y="46483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6400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2280" y="27082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13360" y="46134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7040" y="5105520"/>
            <a:ext cx="1523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5105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066680" y="236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5094360"/>
            <a:ext cx="3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Arial"/>
              </a:rPr>
              <a:t>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je izvoz koncentriran na jedan a uvoz na drugi sektor veći je k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d potpune specijalizaci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0 stupnjeva, što ukazuje na postojanj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KTORSK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jene (specijalizaci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je zastupljenost oba sektora u izvozu i uvozu podjednak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što ukazuje na postojanj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R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KTORS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azmje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ASEKTORSKA RAZMJ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Times New Roman"/>
              </a:rPr>
              <a:t>Uzroci intrasektorske razmjene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r-HR" sz="3200" spc="-1" strike="noStrike">
                <a:solidFill>
                  <a:srgbClr val="ff3300"/>
                </a:solidFill>
                <a:latin typeface="Times New Roman"/>
              </a:rPr>
              <a:t>Intra-Industry Trade IIT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lasifikacija proizvoda (voće, doradni poslov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ransportni troškovi (malogranični promet građevinskim materijal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iferencijacija proizvoda (monopolistička konkure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Ekonomija obuj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VIJE TEORIJE VANJSKE TRGO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Kravisova teor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Linderova teor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</a:rPr>
              <a:t>Teorija životnog ciklu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9:03:42Z</dcterms:created>
  <dc:creator>Ljubo Jurčić</dc:creator>
  <dc:description/>
  <dc:language>en-US</dc:language>
  <cp:lastModifiedBy>korisnik</cp:lastModifiedBy>
  <dcterms:modified xsi:type="dcterms:W3CDTF">2008-03-31T06:17:33Z</dcterms:modified>
  <cp:revision>7</cp:revision>
  <dc:subject/>
  <dc:title>TEORIJE VANJSKE TRGOVINE</dc:title>
</cp:coreProperties>
</file>