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E82-CB80-4712-A110-06058BC5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238-9115-40F8-8221-321B78E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EE3-2050-4BB3-9226-6FC10B8A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39C-0E76-460E-8D48-88BFD460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2FE4-054B-455D-A17C-349475CF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48F-B031-45E4-A684-5945E1C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7A67-7EA4-45E5-8326-5615B5D1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358-28DB-4F0C-9384-7F7FA972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4A0-C445-4691-970C-76B78D12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116B-0F0E-4649-B8D9-F1527D5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256-5FCE-440F-9040-F676D61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60-68E0-4B6D-B4A1-294DC47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22A8-7ECC-4F32-94FE-62169AD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686B-0D71-4B1F-9E39-34D0BFB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42F7-382F-4297-BAD5-356E135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C7EA-F89F-478E-96B3-97438AF7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2AF-9744-4F02-BDB7-D013C52C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C47-358B-4CAC-801F-BCB8BD0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94F-4CCC-440E-A929-0525C4A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2B6-BEDB-4471-8266-744B49C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50A-84AE-499F-BF61-88AEC37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30F-CCED-40B0-B441-F989B53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8F0-685C-483A-A8B2-83D356B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D45-87B4-45D0-96BB-A1F48C3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2BB-935A-455E-B6E5-BA29301EDAEC}" type="datetime3">
              <a:rPr b="0" lang="hr-HR" sz="1400" spc="-1" strike="noStrike">
                <a:solidFill>
                  <a:srgbClr val="000000"/>
                </a:solidFill>
                <a:latin typeface="Tahoma"/>
              </a:rPr>
              <a:t>30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Međunarodna ekonom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AF9-0C33-4697-A1A1-BFDD70E44198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D3D1-F343-42E4-B8CB-DCA15AA564E9}" type="datetime3">
              <a:rPr b="0" lang="hr-HR" sz="1400" spc="-1" strike="noStrike">
                <a:solidFill>
                  <a:srgbClr val="1c1c1c"/>
                </a:solidFill>
                <a:latin typeface="Tahoma"/>
              </a:rPr>
              <a:t>30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9530-EE96-4C61-801F-B1025FA32261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onomski fakult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gr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35268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r.sc. Ljubo Jurč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3BF4-8741-4DE8-929E-2D319FC553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33EB5F-075B-4A56-9F11-B5AA640EF9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njižen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narodne transakcije se klasificiraju ka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 (POTRAŽUJE) 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 (DUGU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92F-B65E-476D-BED2-D1F49782CC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FE8A-FC91-43C5-8DF5-0B7A2A13C5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NE TRANSAKCIJE: sve one koje dovode do priljeva (naplate) iz inozemstva (od inozemnih rezidena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NE TRANSAKCIJE: sve one koje dovode do odljeva novčanih sredstava (plaćanja)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D98-F81C-43DA-A215-09C8F43960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BE0BD-014E-4DC1-ACCC-80982A4FF1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 (POTRAŽUJE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voz roba i uslu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niltilateralni transferi (pokloni) primljeni iz inozem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ljev kapitala iz inozem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13680" y="4572000"/>
            <a:ext cx="816624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 (DUGUJE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voz roba i usl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niltilateralni transferi (pokloni) inozem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ljev kapitala u inozem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190-CAD2-4541-8583-2BA098899A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C8668-747C-4FC0-9AF6-DBC35D44F91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LJEV KAPITAL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imovine inozemnih rezidenata (inozemne imovine) u zemlji, 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manjenje nacionalne imovine (nacionalnih rezidenata) u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olje uključuje priljev (naplatu) novčanih sredstava od inozemnih reziden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630-CC6A-492E-9D4F-ACF4797236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A6217-A92E-4B25-AA33-5EAFA9888D3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DLJEV KAPIT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nacionalne imovine u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manjenje inozemne imovine u zeml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olje uključuje odljev novčanih sredstava iz zemlje:plaćanje prema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5A0-F9C5-45BC-B687-F2E6864187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F21BC-23AF-4082-81CB-C1DB37ED55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9C8-3E1B-47C0-BA98-3CDCE3D50B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E84A2-38FC-4BC2-BC58-6128E0558C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umarni (agregirani) popis svih (međunarodnih) transakcija jedne zemlje s rezidentima svih ostalih zemal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(s inozemstvom) u nekom vremenskom razdoblju, najčešće u jednoj kalendarskoj god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C28-FFAB-4773-90C2-071AEF91D5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63D17-CF90-4343-93CE-90E324D449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. CIL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e Vladi o ekonomskom položaju zemlje u međunarodnim odnosima kao pomoć u formuliran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netar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skaln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e polit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4C8-AFB0-444B-93AB-B4EBA969F2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A7534-E3BE-457B-BE27-E7150EDDDF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.1. Nužna statističko dokumentacijska oznaka za ekonomsku analizu učinaka međunarodne ekonomske razmjene neke zemlje na sve njezine makroekonomske agregate: BDP, I, C, 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50E-3811-4709-9E86-5C724294C5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E0B6B-4A76-40E5-9C1B-307A7C20A7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2. CIL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daci iz Bilance plaćanja su neophodn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ank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uzećima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ni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ji su direktno ili indirektno uključeni u međunarodnu trgovinu ili finan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715-F834-43A9-B0DE-AAC75E1099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66090-A630-4401-A968-406886F2667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9447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marni (agregatni) popi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nači da milijuni transakcija koje rezidenti jedne zemlje obavljaju s rezidentima svih ostalih zemalja 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miraju odnosno agregiraju u nekoliko osnovnih kategori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govina rob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govina uslug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doho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transf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kapit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387-5C63-4B6C-ADC1-75AA18801E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60631-0784-4AD8-8BF1-BE0D35B1D8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eđunarodne transakcije s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mjena roba, usluga i imovine (za koje se obično traži plaćanje) između rezidenata različitih drž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Rezident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plomati, turisti, radnici na privremenom radu su rezidenti zemlje gdje imaju stalno boraviš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rporacije su rezidenti zemlje gdje su registrirane dok njeni ogranci i podružnice to nis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MMF, WTO nisu rezidenti zemalja gdje su locira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EEE-7DE2-4AA5-89BD-4A527BDA30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C3F30-5681-401D-8126-FA4DF73EBF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remensko razdobl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ilanca plaćanja ima vremensku dimenziju: tokovi rada, usluga, poklona i imovine između rezidenata različitih zemalja mjere se i knjiže za određeno vremensko razdoblje, obično jedne godine, ali sve češće i za kraća razdoblja: polugodišnje, kvartalno, mjesečn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3C1-2615-44D0-A88D-9365CFA8B2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BF356-F8D2-4270-9DE3-D6C842F78D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pada u grupu računa tijeka za razliku od nekih računa koji se grupiraju u račune 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043-D410-4E45-894F-96F7256212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9B8AB-F642-4ACC-9131-A1040C4DAE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25:43Z</dcterms:created>
  <dc:creator>Ljubo Jurčić</dc:creator>
  <dc:description/>
  <dc:language>en-US</dc:language>
  <cp:lastModifiedBy>korisnik</cp:lastModifiedBy>
  <dcterms:modified xsi:type="dcterms:W3CDTF">2008-05-05T06:17:47Z</dcterms:modified>
  <cp:revision>11</cp:revision>
  <dc:subject/>
  <dc:title>BILANCA PLAĆANJA</dc:title>
</cp:coreProperties>
</file>