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D6C-BB00-420B-9FFB-44D76496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52C-9101-401E-B408-E3713906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FF5-4928-4AAF-9E03-20F04F34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53F-7B21-4675-8406-3EF8A333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59BF-E486-4B8F-9DB7-230DB998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96A2-7817-4790-BE42-737217A4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42C-88D8-482D-9E4C-F6440AAA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F041-2227-41E6-B88F-7969C03E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E005-73F8-4D23-B40D-C84548F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3AFF-BCF9-42C6-9376-E439851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E330-952F-4441-B8D9-FF55315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793-9178-4AF8-A207-A22449E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31C6-0CDE-4C08-A07E-A36B882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B2AC-E144-4ECB-9DEC-8672599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A7CA-93DA-44FF-915D-4752E9FF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76F-3E2B-4563-9EF8-A9EDD988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93D-B832-4F3C-87B1-77B4AFD0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4B0-6642-48BF-9B58-342D9A1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D39-C146-477F-818C-3C0AEF42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B88-D404-46DB-9EFF-8F7FDB20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EEE-E81B-4D2C-8A1D-C333CFC9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DBE-2B36-4635-BB68-215256D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EE8-CA1D-4FE7-B0DE-565B9C1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DA6-1AF4-4A2A-A546-CB5EA4F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4886-F17A-4942-B99E-7B44D0CF1761}" type="datetime3">
              <a:rPr b="0" lang="hr-HR" sz="1400" spc="-1" strike="noStrike">
                <a:solidFill>
                  <a:srgbClr val="000000"/>
                </a:solidFill>
                <a:latin typeface="Tahoma"/>
              </a:rPr>
              <a:t>29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hr-HR" sz="1400" spc="-1" strike="noStrike">
                <a:solidFill>
                  <a:srgbClr val="000000"/>
                </a:solidFill>
                <a:latin typeface="Tahoma"/>
              </a:rPr>
              <a:t>Međunarodna ekonom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462-0824-4D5A-841C-3D1BD4B09D6E}" type="slidenum">
              <a:rPr b="0" lang="hr-H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B7A-153A-4032-93FC-93D2E00FF4B2}" type="datetime3">
              <a:rPr b="0" lang="hr-HR" sz="1400" spc="-1" strike="noStrike">
                <a:solidFill>
                  <a:srgbClr val="1c1c1c"/>
                </a:solidFill>
                <a:latin typeface="Tahoma"/>
              </a:rPr>
              <a:t>29. srpnja 2026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BA60-950B-4B7A-BC4A-7FBA6BF00C89}" type="slidenum">
              <a:rPr b="0" lang="hr-H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konomski fakult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Zagr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35268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r.sc. Ljubo Jurč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C3A7-5CA3-40F8-A528-DF9CD90B9DD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4104EB1-446A-4C75-896A-C43CC28964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njižen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đunarodne transakcije se klasificiraju ka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EDIT (POTRAŽUJE) 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BIT (DUGU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2AE-6A45-4479-A0DE-EC9BA9BB1C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4B759-4C68-4D44-B0F6-6A7ACCD6693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EDITNE TRANSAKCIJE: sve one koje dovode do priljeva (naplate) iz inozemstva (od inozemnih rezidena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BITNE TRANSAKCIJE: sve one koje dovode do odljeva novčanih sredstava (plaćanja)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770-30E4-45FE-9033-5E39446E0C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63914-B853-4AD4-92F0-D6814BF405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REDIT (POTRAŽUJE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voz roba i uslu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niltilateralni transferi (pokloni) primljeni iz inozem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ljev kapitala iz inozem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13680" y="4572000"/>
            <a:ext cx="816624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DEBIT (DUGUJE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voz roba i uslu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niltilateralni transferi (pokloni) inozem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ljev kapitala u inozem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A59-D834-4277-B164-E83BB85B6E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9449C-C208-4EEA-94B1-0CD43B80F73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LJEV KAPITAL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imovine inozemnih rezidenata (inozemne imovine) u zemlji, 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manjenje nacionalne imovine (nacionalnih rezidenata) u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olje uključuje priljev (naplatu) novčanih sredstava od inozemnih reziden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05D-8458-4F4F-B6DF-E1453D0DEF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FE2A6-CA50-495C-8765-239FE68486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DLJEV KAPIT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ćanje nacionalne imovine u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manjenje inozemne imovine u zemlj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olje uključuje odljev novčanih sredstava iz zemlje:plaćanje prema inozems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850-E4DB-4C5C-94CE-C1C20155A7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E0007-224A-4DEC-AE7C-2BED502C230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E05-2162-4C14-B1E1-0F2077D645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45011-F0E9-4657-901F-E6C5CDFA5B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umarni (agregirani) popis svih (međunarodnih) transakcija jedne zemlje s rezidentima svih ostalih zemalj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(s inozemstvom) u nekom vremenskom razdoblju, najčešće u jednoj kalendarskoj god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405-0EE0-463E-BAB1-0F560D8571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88ED1-7746-4106-8792-3339CBE71C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. CIL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nformacije Vladi o ekonomskom položaju zemlje u međunarodnim odnosima kao pomoć u formuliranj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onetar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skaln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rgovinske polit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08F-253A-423D-9DB8-4959F96E87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CB5C5-6BCB-43EB-AEF7-826F24A79C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.1. Nužna statističko dokumentacijska oznaka za ekonomsku analizu učinaka međunarodne ekonomske razmjene neke zemlje na sve njezine makroekonomske agregate: BDP, I, C, 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7C9-4EF0-4173-A7EA-A28A830F18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5C4B5-5F11-4323-AACD-FD020431DA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2. CIL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daci iz Bilance plaćanja su neophodn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anka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duzećima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nim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ji su direktno ili indirektno uključeni u međunarodnu trgovinu ili finan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877-0C26-484B-AEDC-371C8E3D9A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B47DC-FEB7-4BD8-806B-BEBF574F4BE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9447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marni (agregatni) popi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znači da milijuni transakcija koje rezidenti jedne zemlje obavljaju s rezidentima svih ostalih zemalja 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umiraju odnosno agregiraju u nekoliko osnovnih kategori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govina rob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govina uslug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tanje doho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tanje transf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tanje kapit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33B-D1D3-4C5B-88C4-16549A457E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4FD20-A68D-4EC0-8B3A-C298C042292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eđunarodne transakcije s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azmjena roba, usluga i imovine (za koje se obično traži plaćanje) između rezidenata različitih drž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ahoma"/>
              </a:rPr>
              <a:t>Rezidenti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plomati, turisti, radnici na privremenom radu su rezidenti zemlje gdje imaju stalno boraviš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orporacije su rezidenti zemlje gdje su registrirane dok njeni ogranci i podružnice to nis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MMF, WTO nisu rezidenti zemalja gdje su locira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381-9197-4243-B459-1EA3C116F0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7EB1A-1897-4811-8200-67E6B8C14B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remensko razdobl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Bilanca plaćanja ima vremensku dimenziju: tokovi rada, usluga, poklona i imovine između rezidenata različitih zemalja mjere se i knjiže za određeno vremensko razdoblje, obično jedne godine, ali sve češće i za kraća razdoblja: polugodišnje, kvartalno, mjesečn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463-F99F-4FCC-9ADC-9F642F0CFA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0A682-14BC-4624-A4A3-A68FE1BCDA9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pada u grupu računa tijeka za razliku od nekih računa koji se grupiraju u račune s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Bilanca plać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102-EBC1-431E-9FD4-01A4AD472E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5A7A4-EE75-46FE-96AD-82115A63A07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0:25:43Z</dcterms:created>
  <dc:creator>Ljubo Jurčić</dc:creator>
  <dc:description/>
  <dc:language>en-US</dc:language>
  <cp:lastModifiedBy>korisnik</cp:lastModifiedBy>
  <dcterms:modified xsi:type="dcterms:W3CDTF">2008-05-05T06:17:47Z</dcterms:modified>
  <cp:revision>11</cp:revision>
  <dc:subject/>
  <dc:title>BILANCA PLAĆANJA</dc:title>
</cp:coreProperties>
</file>