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D11-C51E-4064-ADC9-1628F508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EC2-ECD7-4766-89CA-8EA00487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3A3-8CF2-4159-9A30-B81EEBA6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D3C-F81B-486C-833E-C293B2E6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320-4469-4373-AA32-529EBBD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FA6-1D1E-447E-B25C-B2799404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271-8215-4A9C-8643-870F3ADE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5DA-35D1-4014-98EC-6E9C662C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E44-1057-4D32-98C3-5E0B161F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064-2384-4EC8-B32C-CEB74CC6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1B0-D40B-4F40-9815-EF2AFA54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BDE-7A1A-427A-9A52-5247BF3E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C218-5551-48F6-BBF9-B29DB66A4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5686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6600"/>
                </a:solidFill>
                <a:latin typeface="Tahoma"/>
                <a:ea typeface="Dotum"/>
              </a:rPr>
              <a:t>GOSPODARSTVO   HRVATS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92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f.dr.sc. Nada Denona Bog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6093000"/>
            <a:ext cx="1152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50320" y="573408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Rijeka, veljača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2536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3) – u ovoj se fazi pojavljuju svi ostali nositelji ekonomske politike – od raznih Ministarstava, Centralne banke, gospodarskih subjekata, pojedinih institucija jer ih na provođenje ekonomske politike obavezuju prvenstveno zakonski propisi koji se tiču njihova rada i poslo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216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 CILJEV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1. Podjela cil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) s obzirom na vrijeme ostvarivost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dugoroč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kratkoroč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ugoročni ciljev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 pravilu se odnose na srednjoročna razdoblja i predstavljaju etapne ciljeve za ostvarenje dugoročne politike ekonomskog razvoja. Važnost ove podjele za nositelje ekonomske politike je u pravilnom, realnom planiranju mogućnosti njihova ostvarenja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imjerice: energetski sustav, urbanizacija zemlje, promjena gospodarske strukture,  promjena strukture stanovništva – dugoročni su ciljevi i  njihova ostvarenja ne bi bilo realno planirati u kratkoročnom razdoblju (do 2 godine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ratkoroč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konjunkturni ciljevi) - njihova je ostvarivost moguća u roku do  2 godine, odnose  se npr. na  uspostavljanje cjenovne ravnoteže, otklanjanje inflacije, poduzimanje aktivnosti u cilju porasta zaposl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12536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) s obzirom na područje obuhvat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opći i regional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globalni i parcija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ć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ciljevi odnose na čitavu zemlju, a regionalni na pojedine regije (kod nas Županij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lobal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odnose na čitavo gospodarstvo ili proces društvene reproduk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arcijal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a pojedina područja, sektore ili faze reprodukc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mjer:  Moguća klasifikacija ciljeva ekonomske polit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484280"/>
          <a:ext cx="8964360" cy="4975200"/>
        </p:xfrm>
        <a:graphic>
          <a:graphicData uri="http://schemas.openxmlformats.org/drawingml/2006/table">
            <a:tbl>
              <a:tblPr/>
              <a:tblGrid>
                <a:gridCol w="2962800"/>
                <a:gridCol w="60015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s ci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težno kratkoro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onju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urn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a zaposle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nost ci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oljšanje kvalitete platne bi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 kratkoročni cilj smanjenja cikličke nezaposlenosti, te dugoročan cilj smanjenja strukturne i frikcione nezaposlenost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kođer se smatra uglavnom kratkoročnim ciljem, premda neke zemlje sve više na stabilnost cijena počinju gledati kao dugoročan prob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 kratkoročnu potrebu zaštite deviznih rezervi, te strukturne promjene u udjelu izvoza i uvoza u BDP-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24000"/>
          <a:ext cx="8964720" cy="5332320"/>
        </p:xfrm>
        <a:graphic>
          <a:graphicData uri="http://schemas.openxmlformats.org/drawingml/2006/table">
            <a:tbl>
              <a:tblPr/>
              <a:tblGrid>
                <a:gridCol w="3111480"/>
                <a:gridCol w="585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s ci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težno dugoro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trukturn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spodarski 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lja alokacija proizvodnih fak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vednija raspodjel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hotka i nacionalnog bogat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imuliranje razvoja pojedinih regija i gospodarskih djelat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 je u vezi s dugoročnim gospodarskih razvojem i raznim drugim ciljevima kojima se on ostvaruj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: poboljšanje konkurentnosti na domaćem tržištu, povećanje mobilnosti radne snage i kapitala, porast konkurentnosti na svjetskom tržištu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vezi je s izravnim promjenama u raspodjeli dohotka (npr. oporezivanje), te promjenama koje se neizravno provode – npr. sustava socijalnog osiguran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odi se raznim mjerama ,izravnim i neizravnim za stimuliranje, npr. nedovoljno razvijenih regija ili propulzivnih djelatnost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1125360"/>
            <a:ext cx="8642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2. Odnos između ciljeva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odnos neutralnosti ili indiferent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omplementarnosti ili suklad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konfliktnosti ili suprostavlj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1) Ovo je  više teorijski odnos, u ekonomskom životu gotovo svaki cilj  utječe na neki drugi cilj – pitanje je samo koliki je stupanj korelacije. Npr. visok stupanj korelacije je između  zaposlenosti i životnog standarda, povećanja investicija i otvaranja novih radnih mjesta. Niska je korelacija između proizvodnje u  metalnoj i  prehrambenoj industr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125360"/>
            <a:ext cx="864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2) To je najpovoljnija situacija za nositelje ekonomske politike, no nažalost  ne i najčešća, posebno u uvjetima kada postoje značajniji gospodarski proble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i: povećanje proizvodnosti – porast međunarodne konkurent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je zaposlenosti – porast životnog standarda, osobne potroš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spanzija proizvodnje – mobilnost rada i kapitala, veća uključenost u međunarodnu podjelu radu i slično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3) U ovakvim, vrlo čestim situacijama, nositelji ekonomske politike moraju imati u vidu strateške, razvojne ciljeve  gospodarstva , te  se trebaju opredjeliti za  priorit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i:  smanjenje deficita platne bilance – povećanje potrošnje, proizvodnje za domaće tržiš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a ulaganja u kapitalna sredstva proizvodnje – rast osobnih dohodaka; povećanje zaposlenosti -  porast automatizacije u proizvodnji  (kratkoročn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bilnost cijena – rast proizvodnje, rast potroš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1125360"/>
            <a:ext cx="864216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 SREDSTVA, INSTRUMENTI I MJERE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mogli ostvariti postavljene ciljeve, nositelji ekonomske politike služe se odgovarajućim sredstvima, instrumentima i mjerama. Sredstva, instrumente i mjere moguće je svrstati u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et najznačajnijih skup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. monetarna politi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fiskalna politi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 politika ekonomskih odnosa s inozemstv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. politika dohot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. politika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šestu skupinu spadaju sva sredstva, instrumenti i mjere 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ličiti pravni propis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 ne pripadaju nekoj od navedenih pet skupina, ali svojim djelovanjem utječu na makroekonomske uvjete poslovanja gospodarskih subjek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125360"/>
            <a:ext cx="864216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1. Monetar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kviru  razvoj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orije monetarn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gledišta o ulozi novca išla su u dvije krajnosti – od  potpunog reduciranje uloge monetarne politike (klasična ekonomska teorija), s argumentima da ponuda automatski stvara potražnju, te da je samo sredstvo razmjene, do  druge krajnosti – koja se temelji na stavu da je cikličko kretanje gospodarstva isključivo povezano s količinom novca i brzom njegova opticaja, pa se monetarna politika stavlja na  centralno mjesto  po  utjecaju na gospodarska kretanja.  M. Fridman, monetarist, odnosno predstavnik tzv. "Čikaške škole"  -  oživljava teoriju o primarnoj ulozi novca u ekonom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vremena gledišta monetarnu politiku doživljavaju kao instrument neophodan za  ostvarivanje gospodarske stabilnosti i rasta,  ali ona sama po sebi ne može dovesti do promjena koje se odnose na promjenu gospodarske strukture, povećanje zaposlenosti i dugoročnog razvoja.  Međutim, predstavlja nužan uvjet bez kojeg to nije moguće ostvar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125360"/>
            <a:ext cx="86421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monetarne polit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reguliranje novčanih tijekova (na način da budu usklađeni s ciljevima gospodarskog razvoj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stabiliziranje cijena i nacionalne valu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dugoročno – na uravnoteženost platne bi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dugoročno – na likvidnost u međunarodnim plaćanj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i zadaci Narodne banke Hrvats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utvrđuje količinu novca u optica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utvrđuje opću likvidnost bana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brine za održavanje likvidnosti u plaćanjima prema inozemstv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izdaje novčanice i kovani nova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) kontrolira poslovne ban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6) obavlja određene poslove za Republiku Hrvats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25360"/>
            <a:ext cx="86421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. UVODNI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konomska politika, kao  ekonomska discipl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astoji se o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orijskog aspekta - oslanja se na određene teorijske pravce i pristupe, te adekvatnu teorijsku analizu,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plikativnog aspekta - bavi se konkretnom gospodarskom zbiljom neke zem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a politika je i specifična znanstvena disciplina i aplikativna djelatnost. Koliko je uspješnija kao praktična djelatnost utemeljena na znanstvenim spoznajama, toliko se određeno gospodarstvo brže i kvalitetnije razvi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667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Dotum"/>
              </a:rPr>
              <a:t>EKONOMSKA POLITI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125360"/>
            <a:ext cx="86421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strumenti monetar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novni instrumen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kojima se služi Narodna banka Hrvatske, (a transparentni su s instrumentarijem razvijenih tržišnih zemalja) u provođenju  monetarne politike su: eskontna stopa, obvezne rezerve i operacije na otvorenom tržiš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skontna (diskontna) stop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kao instrument za reguliranje novca u opticaju predstavlja  svojevrsnu cijenu kredita, odnosnu visinu kamatne stope po kojoj  Centralna banka prima od poslovnih banaka  na eskont  robne mjenice ili druge vrijednosne papire. Ovisno o visini eskontne stope, postoji veći ili manji interes poslovnih banaka za dobivanjem novca, čime se posredno utječe na ukupnu količinu novčane m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12536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opa obveznih rezerv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njome Centralna banka ograničava poslovnim bankama da slobodno raspolažu dijelom svojih sredstava.  Postotak vlastitih sredstava koji odgovara stopi obveznih rezervi poslovne banke izdvajaju na zaseban račun i za taj se iznos smanjuje njihov kreditni potencijal, čime se suštinski smanjuje količina novca u opticaju.  Odluke Centralne banke o visini obveznih rezervi obvezujuće su za sve poslovne ban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eracije na otvorenom tržišt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jih Centralna banka ostvaruje kupovinom ili prodajom vrijednosnih papira na financijskom tržištu, u svoje ime i za svoj račun. Operacijama na otvorenom tržištu iz gospodarskih tijekova se novac ili povlači ( i time smanjuje ukupna novčana masa - prodaja) ili dodaje ukoliko je riječ o kupnji. Uglavnom se radi o državnim obveznicama, ali mogu biti i drugi vrijednosni papiri. Cilj ovih operacija je kontrola novca u opticaju od strane Centralne ban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125360"/>
            <a:ext cx="86421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netarna politika prema načinu dje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spanzivn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kada se želi potaknuti  gospodarsku aktivnost, prvenstveno povećati proizvodnju i zaposlenost. Instrumentima monetarne politike potiče se potražnja za novcem i kreditima (politika jeftinog novca, niske kamatne stope, kupovina vrijednosnih papira od strane CB, niska eskonta stopa, niska stopa obveznih rezervi). Cilj je ekspanzivne politike potaknuti potrošnju i investicije, odnosno povećati agregatnu potražnju, te time   dovesti u ravnotežu  AS i AD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striktivna monetarn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ona zbog otežanih uvjeta  (visoke eskontne stope, povećanja  stope obveznih rezervi,  povlačenja novca iz opticaja prodajom vrijednosnih papira ) nastoji smanjiti količinu novčane mase.  Smanjenjem mase kredita smanjuju se investicije, otežava se potrošnja, utječe se na kretanje dohotka i likvidnost.  Ovo je politika skupog novca koja se primjenjuje u inflacijskih uvjetima i koja u konačnici treba dovesti do  smanjenja cijena na tržištu. Utječe na smanjenje investicije i potrošnje, odnosno primjenjuje se kada je agregatna potražnja  viša od optimuma s obzirom na agregatnu ponud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125360"/>
            <a:ext cx="8642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2. Fiskal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lj fiskalne politike je zadovoljenje javnih potreba stanovništva. Te se potrebe mogu podijeliti u dvije skup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ć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emaju direktni utjecaj na gospodarski razvoj, ali  su pretpostavka nesmetanog razvoja gospodarstva, te su neophodne za osiguranje građanskih i političkih  prava i sloboda  (obrana, javna uprava, pravosuđ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jednič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imaju direktan utjecaj na gospodarski razvoj : obrazovanje, zdravstvo, komunalna  infrastruktura, primijenjena i razvojna istraži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125360"/>
            <a:ext cx="86421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fiskal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lokativna (alokacijska) funk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posredstvom državnog proračuna izdvajaju se sredstva za javne potrebe iz ukupno raspoloživih sredstava  i time  utječe na njihovu raspodjelu, na javnu i ostalu potrošnju, a u okviru javne potrošnje vrši se neposredna podjela na pojedine namjene: zdravstvo, obrazovanje, sudstvo, kulturu i dru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ština je alokacijske funkcije da se  rashodima i porezima preusmjeri dio stvorenih sredstava  od zadovoljenja privatnih na zadovoljenje  javnih potreba . Ovu funkciju nije moguće ostvariti isključivo djelovanju tržišnog mehanizma, već je potrebna  državna intervencija s obzirom na postojeće imperfektnosti trž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125360"/>
            <a:ext cx="864216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distributivna funkcij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omogućuje pravedniju raspodjelu stečenog dohotka i bogatstva; u osnovi je socijalnog karaktera kojom se u granicama društvene prihvatljivosti omogućava pravednija raspodjela na različite grupe stanovništva  različitog materijalnog i socijalnog status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eusmjeravanje dohotka stanovništvu s niskim dohocima provodi se različitim instrumentima fiskalne politike, npr: progresivno oporezivanje visokih dohodaka, dodatnim oporezivanjem luksuznih dobara, subvencioniranjem dobara koja najviše kupuju potrošači s niskim dohocima, te raznim oblicima socijalne skrbi i socijalnog osiguranj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Stabilizacijska i razvojna funkcij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usmjerena je na ostvarivanje osnovnih strateških ciljeva : postizanja pune zaposlenosti, održivog rasta nacionalnog blagostanja, ujednačenosti regionalnog razvitka,  te održavanju stabilnosti cijena, likvidnosti i konkurentnosti gospodarstv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Instrumenti za ostvarivanje ove funkcije su visina javih prihoda i rashoda kojima se nastoji utjecati na agregatnu potražnju, ovisno o fazi gospodarskog ciklusa, npr. u fazi opadanja – država nastoji povećanjem javnih rashoda i smanjenjem javnih prihoda utjecati na  oživljavanje gospodarskih aktivno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1125360"/>
            <a:ext cx="86421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strumenti fiskal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a su osnova instrumenta: državni  proračun središnje, regionalne i lokalne vlasti, te izvan proračunski fondo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. Državni proraču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 sustavni pregled javnih prihoda i rashoda na razini središnje, regionalne i lokalne vlasti za jednu fiskalnu godi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hodi državnog proraču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porezni i neporezni prihod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apitalni prihodi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potp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1125360"/>
            <a:ext cx="86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ez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jvažniji instrument, dio su dohotka ili imovine fizičkih i pravnih osoba koji se direktno plaća, npr. porez na dohodak ili dobit, ili neizravno – PDV, ca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porezni pri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dobiti javnih poduzeća, upravne pristojbe, novčane kazne, naknade za ceste i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pitalni pri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imici od prodaje nefinancijske imovine – zemljišta, građevinskih objekata, robnih zaliha, kapitalnih tran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tpor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imici bez protuobveze – npr. ratne štete, daro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i ras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rem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ekonomskoj klasifikaciji 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tekući rashodi 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apitalni rashodi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strukturi ukupnih rashod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kući ras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više od 90% izdataka državnog proračuna. Njih čine : rashodi za dobra i  usluge, plaćanje kamata i subven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pitalne rashod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izdaci za nabavku zemljišta, nefinancijske imovine, zali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avne rashode možemo podijeliti 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funkcional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dakle prema stvarnoj namjeni i to na: izdatke za obranu, obrazovanje, zdravstvo i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. Izvanproračunski fond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vanproračunski fondovi  predstavljaju instrument financiranja socijalnih funkcija države. U te fondove spadaju: mirovinsko osiguranje, zdravstveno osiguranje, fond za zapošljavanje i Hrvatske v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- spajanje državnog proračuna i izvanproračunskih fondova;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irani proračun središnje drža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irani proračun opće drža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dobije se spajanjem državnog proračuna i proračunskih fondova, te proračunskih fondova jedinica lokalne i regionalne samouprave. On pruža cjeloviti uvid u veličinu javnog sektora neke zem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5360"/>
            <a:ext cx="8642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. POJAM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1. EKONOMSKA POLITIKA U ŠIREM  SMISLU -   svjesno djelovanje države i društva  na  kretanja u  području gospodarstv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2. EKONOMSKA POLITIKA U UŽEM SMISLU –  aplikativna (praktična) aktivnost s nizom mjera i instrumenata u reguliranju gospodarskog života,  provodi ju država i ostali nositelji ekonomske politik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3. EKONOMSKA POLITIKA POJEDINIH GOSPODARSKIH PODRUČJA –   kao što su: agrarna, industrijska i prometna  politi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4. EKONOMSKE POLITIKE POJEDINIH FAZA PROCESA PRIVREĐIVANJA (odnose se na proizvodnju, razmjenu, raspodjelu i potrošnju) – kao što su investicijska politika, politika raspodjele, politika  dohotka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5. EKONOMSKE POLITIKE USMJERENE NA KORIŠTENJE OSKUDNIH RESURSA, ODNOSNO ČINITELJA RAZVOJA – politika korištenja prirodnih resursa, politika zapošljavanja, inovacijska politika, obrazovna politika i sličn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6. REGIONALNA POLITIKA - izdvaja se kao specifičan aspekt i područje ukupne ekonomske politik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1125360"/>
            <a:ext cx="86421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3. Politika ekonomskih odnosa s inozemstv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itika ekonomskih odnosa s inozemstvom ima z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ostizanje unutarnje i vanjskotrgovinske ravnoteže gospod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utarnja ravnotež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ostizanje maksimalne razine BDP, pri kojoj nema nezaposlenosti niti inflatornih kretan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anjskotrgovinska ravnotež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u teoriji se definira kao ravnoteža platne bilance, ali ta ravnoteža treba biti praćena stabilnim deviznim tečajem, što se dokazuje na međunarodnom deviznom tržiš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strumenti politike ekonomskih odnosa s inozemst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litika tečaja nacionalne valute (valutno-devizna politika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Nositelji ekonomske politike promjenom tečaja nacionalne valute utječu na cijenu i rentabilnost izvoza, kao i na cijene izvoznih dobara na domaćem tržištu. Na taj način utječu na kretanje relativnih odnosa cijena, ali i na redistribuciju BDP, kao i na realokaciju ekonomskih resursa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ndencija politike tečaja je postizanje tzv. realnog tečaja nacionalne valute . To je tečaj koji se formira na temelju  kretanja razine cijena (prati inflaciju) , ali treba odražavati i dostignutu  proizvodnost rada u gospodarstvu, te ponudu i potražnju za  konkretnim valutama na financijskom tržiš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štitn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cilj ove politike je pomoću adekvatnih instrumenata i mjera ograničiti vanjsku trgovinu kako bi se zaštitilo gospodarstvo od utjecaja vanjske konkurenc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ozi za uvođenje zaštitne polit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eba zaštite mlade industrije od konkurencije, dok ne postane dovolj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aka i konkurent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ateški razlozi samoopskrb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razini proizvodnosti ra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razvijenosti gospodarske strukture i dinamici gospodarsk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monopolno-konkunrentnom ponašanju sudionika u vanjsko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gov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arin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tipični  zaštitni instrument ekonomske politike  koju koriste sve zemlje u svrhu zaštite domaće industrije i gospodarstva. Carine predstavljaju dodatno opterećenje na cijenu uvezene robe, čime se smanjuje  konkurentnost takvog uvoza. Kod  primjene carinske politike najvažnije je : 1) koje će se robe cariniti, 2) visina carinske stope, te 3) vrijeme zaštite domaće indus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im carina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o zaštitni instrumenti domaće industr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avljaju se  još:  porezi i subvencije kao cjenovni mehanizmi; te kvote i kontingenti, kao količinska ograničenja  uvoza i izvo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1125360"/>
            <a:ext cx="86421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4. Politika doh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hodak je ekonomska kategorija koja obuhvaća sve primitke koje pojedinac ili kućanstvo ostvari tijekom nekog vremenskog razdoblja. Uobičajeno se dohodak dijeli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dohodak od rada : plaće, dohodak od poduzetništ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dohodak od imovine: rente, dividende, kam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transferna primanja: za nezaposlene, socijalno ugrožene sk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a područja Politike dohotka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spodjela nacionalnog dohotka i  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U okviru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spodjele dohot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 utjecaj države je naročito izražen kod sekundarne raspodjele, gdje se  stečeni dohodak raspodjeljuje između gospodarskih subjekata, te subjekata koji zadovoljavaju javne potrebe stanovništva. Izvori sredstava tih subjekata su porezi i doprinosi, a njihovu visinu  i način oporezivanja   određuju nositelji ekonomske politike, pa samim time utječu  na  raspodjelu ukupno stečenog dohotka u jednoj zeml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125360"/>
            <a:ext cx="864216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kviru politike raspodjele dohotka nositelji ekonomske politike utječu i na kretanje veličine i struktur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obne potroš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aspekta namjene BDP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sobna potrošnja sudjeluje s preko 50% (ostalo se raspodjeljuje na javnu i investicijsku potrošnju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dio osobne potrošnje u BDP konkretne zemlje, ovisi o stupnju dostignutog razvo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relativno najveći udio osobne potrošnje u BDP imaju zemlje koje spadaju u grupu niske dohodovne razvijenosti, ali je apsolutna vrijednost osobne potrošnje per capita nis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porastom  stupnja razvijenosti smanjuje se relativni udio osobne potrošnje u BDP, ali  raste apsolutna vrijednost per capi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kada zemlja dotigne visok stupanj  gospodarske razvijenosti, udio osobne potrošnje se stabilizira na razini cca 60% BDP, a s time da  se apsolutna vrijednost stalno poveć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125360"/>
            <a:ext cx="86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epresirana osobna potroš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može dovesti do teških disproporcija u gospodarstv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manjenje proizvodnje određenih proizvodnih grana, posebno trajn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ih doba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orast opće razine cijena na tržiš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usporavanje i opadanje  stope gospodarskog ra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je potražnje za proizvodima  koji su obilježje niže razine životn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darda, što je nepovoljno s aspekta razvoja gospodarske struk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adanje motivacije zaposlenih, proizvodnosti rada, te konačno plać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votnog standa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1125360"/>
            <a:ext cx="864216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N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ositelji ekonomske politike utječu kako ekonomskim, tako i socijalnim mje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konomska nejednak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raspodjela ekonomske moći između stanovnika neke zemlje, regije, gradova.  Najćešće se mjeri veličinom dohotka, pa se često koristi i kategorija "dohodovna nejednakost", ili pak veličinom potrošnje pojedinca ili kućan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vantitativ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dohodovnu nejednakost moguće je izraziti na dva osnovna nači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. udjelom populacije u agregatnom dohotk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pokazateljima dohodovne koncentracij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ema pristupu udjela u dohotku, domaćinstva se rangiraju u dohodovne razrede,  od najnižih do najviših u odnosu na primljeni dohodak – najčešće kvintile ili deci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Najćešće korišten pokazatelj dohodovne koncentracije je Ginijev index . Teorijski, Ginijev index biti će 0 u slučaju potpuno jednake distribucije dohotka, a 100 u slučaju potpune nejednakost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125360"/>
            <a:ext cx="864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6624360" cy="450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5760" y="1197000"/>
            <a:ext cx="55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blica 2.  Dohodovna nejednakost u CEE zemlj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5950080"/>
            <a:ext cx="875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Izvor: Za prosječne gini koeficijente po razdobljima: Making Transition Work for Everyone, World Bank 2000.godina, str. 140; za gini koeficijent u 1998.godini: World Development Report, World Bank 2003; ostalo izračun autorica. Napomena: (1) 1996.godina, (2) 1998. godina, (3) 1999.godina, (4) 2000.godina, (5) 2001.godi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12536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lj  ekonomsk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manjiti stupanj 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ako bi se dugoročno ostvario poželjni gospodarski rast. Za to je moguće primijeniti  direktne mjere : posebice u okviru porezne politike, ali i različite mjere horizontalne ekonomske politike , npr. poticanje obrazovanosti i radnih sposobnosti stanovniš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125360"/>
            <a:ext cx="864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Slika: TEMELJNE KOMPONENTE  EKONOMSKE POLITIK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86421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1125360"/>
            <a:ext cx="864216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5. Politika  tržišta i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uvjet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vršene konkuren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e postoji potreba za državnom intervencijom na kretanje cijena proizvoda i uslu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 postojala savršena konkurencija, moraju biti ispunjena dva uvje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fluidnost – spontano određivanje kupoprodajnih cijena, slobodno stupanje u kupoprodajne odnose, slobodno određivanje količine roba i usluga,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postojanje velikog broja kupaca i prodavatelja od kojih svaki raspolaže s relativno malom ekonomskom snag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raksi:  veliki broj situacija u kojima nisu zadovoljeni uvjeti savršene konkurencije (oligopoli, monopoli, pozitivne/negativne eksternalije, javna dobra), pa nositelji ekonomske politike svojim mjerama pokušavaju "ispraviti" tzv. nesavršenosti ili tržišna ogranič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tervencija nositelja EP u područje tržišta i cijena nužna je kako bi se osiguralo efikasno djelovanje funkcije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Funkcije cijena 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ordin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koordiniranje odluka velikog broja nezavisn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ih subjek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orm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mjena cijena daje proizvođačima informacije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jeni u preferencijama potrošač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lok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cijene pomažu proizvođačima da odluče kolika ć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redstva alocirati na pojedine proizvodne faktore, da bi ostvar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u količinu proizvod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voj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očekivanja o budućim kretanjima cijena daje informaci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torima u što ulagati sredstva radi buduće dobi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otiv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u stanju su motivirati ekonomske subjekte na ra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cije, optimalnu upotrebu oskudnih proizvodnih faktora od str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125360"/>
            <a:ext cx="864216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va osnovna oblika državne kontrole cije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redna kontrol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vodi se mjerama EP koje utječu na ponudu i potražnju, a time i na visinu i odnose između cijena: otkup, robne rezerve, subvenci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posredna kontrol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a obuhvaća slijedeće mj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maksimiranje ci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davanje suglasnosti na cije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zadržavanje cijena na zatečenoj raz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) vraćanje cijena na određenu razi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) obveza prethodnog obavještavanja o promjeni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jere neposredne kontrole cijena treba rijetko koristiti, npr .prirodni ili druge vrste monopola. U svim drugim slučajevima  primjerenije su mjere posredne kontrole cijena kojima nositelji ekonomske politike  djeluju 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nu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stimuliranje određenih proizvodnji, uvozom i sl.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tražnj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kreditno –monetarna politika, porezna politika i slič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1125360"/>
            <a:ext cx="864216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5.6. Podjela sredstava ekonomske politike prema načinu dje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pozitiv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restriktiv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zaštit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zitivna 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u uobičajena, ona  stimuliraju razvoj gospodarstva , pojedinih njegovih regija ili područ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striktivna 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djeluju ograničavajuće – npr. restriktivna monetarna politika, zaustavljaju ili usporavaju razvoj gospodarstva, pojedinih dijelova gospodarstva ili agregata (npr. agregatne potražnj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štitna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štite domaće gospodarstvo i industriju od jače, inozemne konkurencije ( car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kle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dno te isto sredstvo ekonomsk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može imati različita djelovanja, a to ovisi o odabranim instrumentima, te konkretnoj visini npr. kamatne stope, porezne stope, carinske st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1125360"/>
            <a:ext cx="8642160" cy="53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. TIPOV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1. Administrativno-regulativna ekonomsk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rakteristična je za  bivše državno-centralističke gospodarske sustave: direktnim odlukama države reguliraju se sva značajnija pitanja privređivanja: što će se proizvoditi, u kojoj količini, za koja tržišta, po kojim cijenama. To je tip ekonomske politike gdje ne uvažava funkcioniranje tržišnih mehaniz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2. Ekonomska politika državnog intervencionizm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 primjenjuje se  u određenoj kombinaciji s tržišnim mehanizmom, ali prevladava snažna direktivna uloga države, posebice u nekim gospodarskim sektorima (energetika, infrastruktu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3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Parametarska ekonomsk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primjenjivana je najviše u pojedinim fazama  razvoja u zapadnim razvijenim ekonomijama. Naglasak  je na djelovanju tržišnog mehanizma i konkurencije, ali s određenom dozom državnog intervencionizma. Pojedinim instrumentima – kamatnom stopom, poreznom stopom, tečajem nacionalne valute, stvaraju se makroekonomski uvjeti u kojima se omogućava djelovanje tržišta i konkurencije. Ova politika smatra se uobičajenim obrascem vođenja ekonomske politike u normalnim uvjetima privređiv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125360"/>
            <a:ext cx="86421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4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onomska politika ponude (supply-side)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usmjerena je na povećanje proizvodnje , a time na usklađivanje ponude i potražnje  na tržištu. Cilj je smanjiti granične troškove proizvodnje, te tako stimulirati rast ponud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U SAD-u i Velikoj Britaniji bila je  postavljena na 5 ključnih uporiš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opće smanjenje poreznih stop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smanjivanje socijalnih pomoći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3) povećanje vojnih troškov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4) smanjenje državne regulativ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5) ograničavanju ponude novca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Deregulativa i niži porezi  trebali su oživjeti investicije i poduzetništvo. Ograničena ponuda novca bila je u funkciji povećanja efikasnosti privređivanja i priliva kapitala iz inozemstva,  zbog viših kamatnih stopa. To je sve zajedno trebalo ojačati nacionalnu valutu i ubrzati prestrukturiranje. Prestrukturiranje gospodarstva i porast efikasnosti omogućuje smanjenje inflacije i nezaposlenosti na stabilnim osnova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.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striktivna antiinflacijska ekonom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jčešće podrazumijeva jake restrikcije na strani potražnje i potrošnje. Poznata je varijanta ove  politike – šok terapija. ona u osnovi sadrž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jednokratno uklanjanje dispariteta cijena, te njihovo zamrzava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zamrzavanje različitih oblika potrošnje u cilju porasta šted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restriktivnu monetarnu politik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devalvaciju nacionalne valute, te fiksiranje teč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vaj tip ekonomske politike ne rješava uzroke koji su doveli do gospodarskih problema, već kratkoročno stabilizira  neka ekonomska kretanja i time «daje vrijeme» nositeljima EP da primjene druge tipove koji će dovesti do izlaska iz gospodarske kriz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1125360"/>
            <a:ext cx="864216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6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onomska politika potpune liberalizacije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ima svoj oslonac u slijedećim postulatima klasične ortodoksne teorij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) svemoć tržiš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) snaga unutarnje samoregulaci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) minimum administriran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) tržišno formiranje tečaja, niske car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) ekspanzivna monetarna politika, te oštro ograničenje javne potrošnje i prorač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ije primjerena u početnoj fazi ekonomske tranzicije i promjene gospodarskog sustava – slučaj Republike Hrvats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likom izbora  sredstava, kao i konkretnih mjera i instrumenata, te posebno prilikom njihove kombinacije, potrebno je voditi računa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) usklađenosti s ekonomskom teorijom, ali i praksom usporedivih zemalja koje su uspješno provele svoje stabilizacijske i razvojne progr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) objektivnoj valorizaciji početnog stanja, odnosno tekuće ekonomske situaci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) odnosima i ugovorima s drugim državama, ekonomskih integracija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nancijskim institucija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) društvenom konsenzus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) stručnosti i sposobnosti nositelja ekonomske polit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125360"/>
            <a:ext cx="86421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) Stabilnost – pojmovno, u užem i širem smi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ugoročni cil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vakog gospodarstva je kontinuirano ostvarivanje pozitivne i rastuće stope rasta i postizanje gospodarskog razvoja. Međutim, pretpostavka ovog cilja podrazumijeva stalne aktivnosti Vlade i ostalih nositelja ekonomske politike  usmjerene na ostvarivanje jednog drugog cilja, a to 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tizanje i održavanje ekonomske stabiln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Ekonomska stabilnost u uže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mislu (na kraći rok)  obilježje gospodarstva koje ima : stabilnu razinu cijena (odsustvo inflacije) te  usklađenost agregatne ponude i agregatne potražnje, uz puno korištenje proizvodnih činitelja, posebno radne s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Ekonomska stabilnost u 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ored obilježja pod 1) označava i sposobnost  gospodarstva da se vraća u stanje ravnoteže i to ponajprije svojim samoregulativnim djelovanjem.  Ekonomsku stabilnost u širem smislu možemo definirati i na slijedeć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  <a:ea typeface="Dotum"/>
              </a:rPr>
              <a:t>STABILNOST GOSPODARSTVA I EKONOMSKA POLITIKA  STABILIZ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112536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a stabilnost obilježje je relativno dinamičnog procesa ukupnog razvoja koji se nesmetano odvija uz uvjete koji osiguravaju njegovo prošireno reproduciranje. Ona se očituje u kontinuiranom uzlaznom rastu i razvoju, tolerantnom kretanju cijena i drugih pokazatelja razvoja, te sposobnosti održavanja takvih obilježj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ekonomska stabilnost 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i ključna element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1) samu stabilnost, 2) uravnoteženost i 3) samoregulativnost, s time da su 2) i 3) sastavni  dijelovi pojma stabil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125360"/>
            <a:ext cx="86421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 NOSITELJ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sitelje ekonomske politike dijelimo na : a) nositelje odlučivanja i b) nositelje utjecaj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1. Značajke nositelja odlučivanja ekonomske politike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imaju mogućnost pris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u svakoj zemlji imaju pravo i obvezu da odlučuju o pitanjima od općeg značaja za uspješno odvijanje procesa privređivan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odgovorni su za mjere koje poduzimaju  i rezultate tih mjera; i to najvišoj vlasti svake zemlje koju  određuje biračko tij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lica 1) :  Komponente ekonomske stabil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8000" y="1557360"/>
          <a:ext cx="8928000" cy="3666960"/>
        </p:xfrm>
        <a:graphic>
          <a:graphicData uri="http://schemas.openxmlformats.org/drawingml/2006/table">
            <a:tbl>
              <a:tblPr/>
              <a:tblGrid>
                <a:gridCol w="1655640"/>
                <a:gridCol w="2303640"/>
                <a:gridCol w="2232000"/>
                <a:gridCol w="273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VNOTEŽ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REGULATIV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INITEL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irajući uvjeti privređivanja, jaka pozicija gospodarskih subjekata što pretpostavlja djelovanje tržišta i ekonomskih zakonit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malna kombinacija faktora proizvodnje, konkurencija , mobilnost faktora proizvodnje s kontinuiranim usklađivanjem gospodarske struk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istentnost i efikasnost  ekonomskog sustava i ekonomske politike, dominacija ekonomskih kriterija u uvjetima privređivanja i njihova relativna stabil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VJE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vnotež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regulativ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no vrednovanje faktora proizvodnje i uključenost u svjetsko gospodars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ikasnost države na područjima gdje je potrebna, s time da se djelovanje ograničava na stvaranje uvjeta stabilnosti i razvoj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regulacija, sustav djeluje na sve subjek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JAVNI OBLICI NESTABIL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oka inflacija, visoka nezaposlenost,  niska ili prekomjerna potroš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cilacije u stopama rasta,  (kretanju društvene reprodukcije), opadajuća efikasnost, debalans robnih i financijskih odnosa s inozemstv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žavne i slične parcijalne i palijativne mjere, česte izmjene , brojna izuzeć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179280" y="5229360"/>
            <a:ext cx="864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ravnoteženos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 podrazumijeva optimalnost u kombiniranju činitelja proizvodnje, te usklađenost proizvodnje i potrošnje. Uravnoteženost je uvjet stabil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amoregulativnos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značajka je ekonomskog sustava u kojem su ugrađene sile koje poremećenu stabilnost vraćaju u  normalu, bez posebne intervencije od strane drž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125360"/>
            <a:ext cx="86421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.   Obilježja stabi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sustvo značanijih fluktuacija (nestalnosti) u procesu društv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produkci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Odsustvo inflacije - stabilna razina ci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Postojanje prihvatljive (niske) stope nezaposle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Stabilni ekonomski odnosi sa inozemstvom, odnosno stabilna platn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ilnačana pozicija zemlje, ili, uravnoteženost platne bi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1. Odsustvo fluktuacija u procesu društvene reprodu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u gospodarstvu postoje veće fluktuacije, koje se izražavaju kroz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elike razlike u stopama rasta i pada društvene proizvod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nda takvo gospodarstvo, promatrano na dugi rok, a dugi rok je uvijek vrijeme razvoja, neće moći dostići stupanj potencijalne proizvodnje, s obzirom na raspoložive resurse, a niti mogući gospodarski 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2720" y="1125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ra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48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0920" y="112536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ekonomskoj teoriji  ove su promjene poznate ka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ospodarski ciklus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Dugi ciklusi N. Kondratijeva, ruskog ekonom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netaristi objašnjavaju gospodarska kolebanja  promjenom u količini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vca u opticaju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ldova teorija smatra da do neravnoteže dolazi uslijed poremećaja 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nosu između investicija i štedn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Keynes cikluse tumači  promjenom kamatne st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umpeterovo tumačenje ciklusa -  četiri faze gospodarskih ciklusa: blagostanje, recesije, depresije i oživljavan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klička kretanja prouzrokuju nestabilnost gospodarstva i nedovoljno korištenje proizvodnih faktora, a time i sporiju stopu rasta. Zbog toga i potreba za njihovom kontrolom, odnosno ublažavanjem velikih fluktuac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2. Odsustvo inf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nost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 druga komponenta stabilnog gospodarstva. Porast opće razine cijena naziva s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obzirom na godišnju stopu  porasta cijena razlikuje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ispod 10% godišnje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mjeren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dvoznamenkaste ili troznamenkaste godišnje stope rasta opće razine cijena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lopirajuć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iznad 1000% godišnje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hiper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1125360"/>
            <a:ext cx="86421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zroci infl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ast potraž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gospodarstvo ne može trenutno reagirati dodatnom ponudom roba po postojećim cijenama. Dolazi, zbog veće potražnje od mogućnosti ponude, do povećanja cijena odnosno tzv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JE POTRAŽ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većanje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faktora proizvodnje - tzv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OŠKOVN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ni poremećaji gospodarskog susta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najteži je slučaj kombinacija troškovne inflacije i inflacije potražnje, kada se one međusobno isprepliću i stimuliraju jedna drugu, dolazi do poznat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one spiral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govorimo  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NOJ INFLACIJ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isoka inflacija, uz ekonomske posljedice, izaziva i socijalno raslojavanje među stanovništvom, nemire i socijalne tenz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eml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 visokom inflacijom spada u ekonomije visokog ekonomskog rizika za inozemne partnere. Zbog svega toga borba protiv inflacije predstavlja jedno od centralnih pitanja svake Vl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0920" y="112536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3. Nezaposl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eća je komponentna ekonomske stabilnost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tizanje pune razine zaposlenosti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je stanje u kojem radno sposobno stanovništvo na svojim radnim mjestima obavlja koristan posao i ostvaruje adekvatne prih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definira kao stanje u kojem se radna snaga koristi u manjem obimu od njene ponude, ili kao stanje u kojemu dio radne snage traži posao na tržištu rada, dakle želi zaposlenje i ostaje bez radnog mj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ezaposlenosti mjeri se stopom nezaposl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opa nezaposlen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 ekonomski pokazatelj koji  se dobije tako da se stavi u odnos broj nezaposlenih s radno sposobnim stanovništvom neke zemlje. Izražava se u posto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1125360"/>
            <a:ext cx="864216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blici nezaposle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brovoljna (frikcionalna) ili normaln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Ona se javlja kada zaposleni napuštaju jedan posao da bi potražili drugi, ovaj oblik nezaposlenosti ne smatra se ozbiljnim gospodarskim proble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aln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uzrokuju je prostorne i profesionalne neusklađenosti između ponude rada i potražnje za radom. Na tržištu ponude rada mogu postojati zanimanja kojih ima previše u odnosu na potrebe gospodarstva. Ili, u nekim regijama zemlje može postojati višak radne snage zbog njihove manje gospodarske razvij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kličk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najteža, nastaje uslijed usporavanja, stagnacije ili pada proizvodnje tijekom gospodarskih ciklusa. Povezana je s fazom depresije. Često nije ograničena samo na jedno gospodarstvo, nego se proteže i izvan nacionalnih granice, može čak imati i svjetske razmj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Nezaposlenost dovodi do  negativnih ekonomskih, socijalnih i političkih poremećaja u zemlji, te do neefikasnog korištenja ljudskih resur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112536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 početka 70-tih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odina – rješenje nezaposlenosti tražilo se  prema Kenzijanskom modelu pune zaposlenosti, odnosno poticanjem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punske potraž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(odnosno povećanjem ukupne agregatne potražnje, porastom državnih rashoda i indirektnim mjerama ekonomske politike - smanjenjem kamatnih stopa, poreznim olakšicama, subvencioniranjem investicija). Smatralo se da povećanje potražnja povećava  interes za novu proizvodnju, i otvara prostor za novo zapošljavanje, što je prema Keynesovu modelu  trebalo dovesti do uspostavljanja ravnoteže na višoj razini nacionalnog dohotka i zaposle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đutim,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70-tih god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dnosno u vrijeme velike svjetske krize, dolazi do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gfla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dnosno pada zaposlenosti uz istovremeni rast inflacije i čak negativni gospodarski  rast. Svaka mjera koja se donosila u smislu porasta proizvodnje i zaposlenosti, sudarala se s prijetnjom ponovnog porasta razine cijena, a svaki je antiinflacioni program ugrožavao gospodarski rast i zaposle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bog toga se rješenja počinju tražiti 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ani ponud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pristupilo s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strukturiranju gospodar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seljenju faktora proizvodnje iz grane koje su se identificirale kao nerentabilne, u grane koje su omogućile postizanje visokog profita, i povećanje  konkurentnosti gospodarst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arajućom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vojnom politiko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timulira se i seljenje radne snage, znanja i kapitala u grane i djelatnosti brzog tehnološkog napretka, što je dovelo do porasta proizvodnje i zaposlenosti, uz istovremeno stabiliziranje cijena faktora i cijena  proizvoda, te je omogućilo uključivanje zemlje u međunarodnu razmje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vaj se model svladavanja nezaposlenosti i inflacije u velikom broju zemalja pokazao uspješn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125360"/>
            <a:ext cx="86421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2. Nositelji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ržavni sabo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zakonodavni  vrhovni nositelj odlučivanja u pravnom djelovanju ekonomske politike, iako nacrte zakona pripremaju i oblikuju pojedina Minist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la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ima  veliku ulogu u  svim fazama vođenja ekonomske politike, a unutar Vlade na formiranje i provođenje ekonomske politike posebnu utječu  Ministarstvo gospodarstva i Ministarstvo financija, ali i svi ostali  (Ministarstvo okoliša, Ministarstvo znanosti i drug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entralna ban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BH – nezavisna je državna institucija s osnovnom zadaćom da očuva stabilnost monetarnog sustava (zadužena je za održavanje ekonomske stabilnosti u užem smislu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a upra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vrlo je značajan nositelj ekonomske politike koja priprema većinu zakonskih prijedloga koji  dolaze na usvajanje Vladi i Saboru, pa o njihovoj stručnosti uvelike ovisi efikasnost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0920" y="1125360"/>
            <a:ext cx="864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4. Stabilnost platne b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ki deficiti i zaduženja, pokazatelj su nestabilnosti nacionalnog gospodarstva. U tom slučaju, veliki dio deviznog priliva zemlje ide na otplatu inozemnih zaduženja, što objektivno smanjuje mogućnost dinamičkog razvoja nekog gospod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stabilnost ne proizlazi toliko iz veličine samog duga, koliko iz neefikasno korištenih sredstava inozemne akumulacije, koja obično nije korištena za ulaganja u tehnološki propulzivne programe i modernizaciju postojeće strukture, na prestrukturiranje gospodarstva i porast međunarodne konkurentnosti, što onda rezultira i neadekvatnim izvoz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125360"/>
            <a:ext cx="86421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 Ekonomska politika  stabil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sitelji ekonomske politike da bi osigurali stabilnost gospodarstva provod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u politik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ima za cilj uspostaviti ravnotežu gospodarstva, neutralizirati negativne ekonomske trendove, te  osigurati uvjete što potpunijeg korištenja resursa, ravnomjernije raspodjele dohotka, te postizanja kontinuiranog rasta i razvo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 definicije proizlazi i sva složenost takvog cilja : potrebno je  primjeniti takve mjere i instrumente koji će u kratkom vremenskom periodu osigurati rast gospodarstva (mjere tekuće ekonomske politike )  ali i mjere razvojne politike koje  dugoročno trebaju osigurati kvalitativne gospodarske promjene.  To bi bil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a politika u 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u provođenju konkretne politike nedostaju razvojni aspekti, riječ je 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ratkoročnoj stabilizacijskoj politic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0920" y="1125360"/>
            <a:ext cx="864216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ratkoročna stabilizacijsk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tržišnim uvjetima privređivanja  kratkoročna stabilizacijska politika najćešće se odnosi 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"smirivanje" kretanja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bilo nekog konkretnog tržišta, ili opće razine cijena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orba protiv infla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- osnovni cilj stabilizacijske polit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ostizanju stabilnosti cijena najvažniju ulogu 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onetarn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Name, bez realnog povećanja količine novca u opticaju inflacija praktički nije moguć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entralna banka osnovni je nositelj stabilizacijske politike  - a to proizlazi iz njene dvojake ulo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 uloga snabdijevanja novca za potrebe gospodarst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institucionalni položaj – CB osnovana je upravo sa ciljem da čuva stabilnost,  nezavisna je od Vlade i kratkoročnih političkih promjena, a njeni zaposlenici su specijalizirani stručnj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0920" y="1125360"/>
            <a:ext cx="8642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Osim monetarne politike i uloge Centralne banke, na  stabilnost cijena moguće je djelovati i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fiskalnom politikom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,. U ekonomskoj teoriji  fiskalna se politika promovirala kao mjera stabilizacije. Smatralo se  da državna potrošnja u fazi depresije u  obliku javnih radova može djelovati anticiklički tako što će poticati zaposlenost  i kupovnu moć, te utjecati na kretanje cije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Međutim, u praksi je fiskalna politika često suočena s mnogo problema i nije dovoljno aktivna u provođenju  stabilnosti. Što više, mjere fiskalne politike mogu dovesti do tzv.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fiskalne neravnoteže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Činitelji fiskalne neravnotež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Na moguću fiskalnu neravnotežu od strane Državnih financija utječu slijedeći činitelj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mogućnost  dodatnih državnih izdata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kratkoročnost planiranja izdata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3) dugotrajnost procesa političkog odlučivanj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4) institut rebalansa proračuna kojim se mijenja već zakonom donesen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oraču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1125360"/>
            <a:ext cx="864216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ugoročna stabilizacijska politika ili: stabilizacijska politika u širem smi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pješnost kratkoročne stabilizacijske politike  prvenstveno se ogleda u očuvanju stabilnosti cijena, odnosno stabilnosti vrijednosti nov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i, za postizanje  dugoročne stabilnosti nacionalnog gospodarstva potrebno 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mbinirati mjer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tekuće i razvojne ekonomske politike, odnosno provoditi stabilizacijsku politiku u širem smi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ime, (ne)inflacija kao jedan od kriterija stabilnosti gospodarstva pitanje je odgovarajuće tehnike tekuće ekonomske polit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 je pitanje i tekuće i razvojne politi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1125360"/>
            <a:ext cx="86421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orijski, inflacija od npr. 15% ne mora nužno značiti nestabilnost, ako se na toj razini kretanja cijena ostvaruju razvojni optimumi neke zemlje kao i osnovni ciljevi ekonomske politike   - rast zaposlenosti, izvoza, proizvodnosti i konkuren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todobno, inflacija od cca 3% može značiti nestabilnost ako se  istovremeno ne uspijeva polučiti rast i razvoj, te se razvojni problemi produblju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uvjetima gospodarske krize,  zaustavljena inflacija prvenstveno znači dobivanje na vremenu za nositelje ekonomske politike,  ( ona je samo simptom  bolesti, a ne i uzrok)  koji moraju to vrijeme iskoristiti za rješavanje uzroka gospodarske krize. To zahtjeva koordinaciju i usklađenost mjera tekuće ekonomske politike, te razvojne politi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ekvatne i  usklađene mjere tekuće i razvojn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politiku ekonomske stabilizaciju u širem smislu, a ona ima za cilj osigurati poticajno okružje za prestrukturiranje gospodarstva, povećanja njegove efikasnosti i konkurentnosti na mikrora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125360"/>
            <a:ext cx="8642160" cy="53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Kada je riječ o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publici Hrvatskoj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, da bi se na  razini poduzeća ostvarilo neophodno prestrukturiranje,  potrebno je slijedeć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1) na razini samih poduzeć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provođenje adekvatnih mjera razvojne politike koje će omogućiti povećanje efikasnosti proizvodne strukture, bolju organizaciju i kvalitetniji menadžmen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2) na makrorazini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- odgovarajuće kombinacije mjera tekuće i razvojne ekonomske politike . Moguće rješenje je u kombinaciji slijedećih politik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a) ekonomska politika ponude – radi bržeg rasta i većeg zapošljavanja u kratkom roku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b) ekonomska politika potražnje – koja podrazumijeva usklađenost s ekonomskom politikom ponude, ali istodobno ublažava i kontrolira cikličke poremećaje, te time stabilizira gospodarstv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c) fiskalna politika – koja treba biti usmjerena na smanjenje fiskalne presije, ali sa čvrstim ograničenjima – pri tome je vrlo važno da smanjenje poreznog opterećenja rezultira povećanoj sklonosti investiranja, a ne porasta potražnje i potrošnje 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d) adekvatna politika za područje obrazovanja, zdravstva, kulture i znano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se stabilizacijskom politikom  u širem smislu ne uspiju riješiti uzroci gospodarske krize  moguća je ponovna pojava inflacije koja se neće moći neutralizir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ostvarivanje ciljeva stabilizacijske politike  u širem smislu, nužno je postojanje moderne razvojne strategije koja podrazumijeva stabilnu makroekonomiju i konkurentnu mikroekonomi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guća varijanta takve moderne razvojne strategije  je slijedeća: (udžbenik, str.2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ika  - Varijanta moderne razvojne strate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4901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1125360"/>
            <a:ext cx="86421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4. Index stabil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vantitativni pokazatelj  ekonomske stabilnosti zve se index stabil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ex ekonomske stabilnosti –  sintetička je veličina koja mjeri: gospodarski rast, zaposlenost, stabilnost cijena i saldo  platne bi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ex ekonomske stabilnosti je izvedena veličina dobivena mjerenjem stope gospodarskog rasta, stope inflacije, stope nezaposlenosti i udjela salda platne bilance u BD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 = stopa rasta B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 = stopa inf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 = stopa nezaposl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B/BDP = udio salda platne bilance u B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12345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25360"/>
            <a:ext cx="864216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3. Nositelji utje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im navedenih nositelja odlučivanja koji direktno utječu na kreiranje i provođenje ekonomske politike,  postoje 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, iako nemaju  snagu donošenja odluka, ipak utječu na  oblikovanje ekonomske politike zeml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značajnij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litičke stran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eophodne su za funkcioniranje parlamentarne demokracije. Zaključci i prijedlozi stranačkih tijela nisu po automatizmu obvezujući za Vladu i Parlament, ali utječu na njihove odlu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drug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od posebnog su utjecaja na ekonomsku politiku Sindikati  i Udruge poslodavaca, koje sklapanjem kolektivnih ugovora o plaćama djelatnika bitno određuju tekuću ekonomsku politiku i politiku raspodj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0920" y="112536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praksi, index stabilnosti  se kreće od  +10 do   -1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zitivna vrijednost izražava izuzetno visoku stabilnost gospodarst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ijednosti od 0 do –10 mogu se označiti kao relativno zadovoljavajuće, pri čemu su prisutni određeni problemi, ali u tolerantnim granic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ijednosti ispod –10 upozoravaju na   teže gospodarske poremećaje, dok vrijednosti ispod – 30 ukazuju da gospodarski procesi izmiču kontroli i zahtijevaju  brze i  adekvatne mjere stabilizacij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125360"/>
            <a:ext cx="864216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značajnij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nastava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i medij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(televizija, radio, novine) formiranjem javnog mijenja posredno mogu bitno utjecati na pojedine mjere ekonomske politike, te pokretanje pojedinih akcija od strane  nositelja odluči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nanstvenic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– kao priznati stručnjaci svojim javnim nastupima i objavljenim radovima, znanstvenim i stručnim studijama, također  utječu na formiranje ekonomske politike. Oni se često  biraju za članove pojedinih povjerenstava ili savjetnike nositelja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 najširem smislu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nositelje ekonomske politike ubrajamo sve ostale institucije, npr. razne institucije osiguranja i fondove, te sve gospodarske organizacije, posebice velike koje utječu na  razvoj regije ili čitavog gospodarstva, ili imaju veliku infrastrukturnu ulogu (HEP, željeznice, zrakoplovne kompanij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125360"/>
            <a:ext cx="8642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4. Nositelji ekonomske politike prema fazi vođ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đenje ekonomske politike odvija se 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i osnovne faz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faza utvrđivanja cilje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faza izbora  sredstava, instrumenata i mjera ekonomske politi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faza provođenje 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1) – U fazi utvrđivanja ciljeva temeljni je nositelj ekonomske politike Parlament (Sabor u Republici Hrvatskoj), kao zakonodavno tijelo koje donosi ciljeve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2) – Druga faza slijedi nakon izbora ciljeva; potrebno je izabrati načine kako ih ostvariti – kojim mjerama, sredstvima i  instrumentima. U većini demokratskih zemlja, u  drugoj fazi je najvažniji nositelj ekonomske politike Vlada – ona predstavlja odraz određenih političkih snaga i utjecaja, a na osnovu povjerenja od strane biračkog  tij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21:07Z</dcterms:created>
  <dc:creator>***</dc:creator>
  <dc:description/>
  <dc:language>en-US</dc:language>
  <cp:lastModifiedBy>Nada</cp:lastModifiedBy>
  <dcterms:modified xsi:type="dcterms:W3CDTF">2007-03-06T10:11:02Z</dcterms:modified>
  <cp:revision>276</cp:revision>
  <dc:subject/>
  <dc:title>Slide 1</dc:title>
</cp:coreProperties>
</file>