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348-94DF-4B92-86D2-184FA073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8E1-EC4B-42A2-A4EF-11E763D4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A95-1C67-4FCC-91B1-D972293B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FBD-944C-47C3-939A-265D1FC7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A4C0-5766-4255-8882-7C0C826D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0EFD-2208-4C32-8CD0-E6B747FA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1FD4-3D55-4B58-B1D5-5D2F408F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583B-0352-467E-B9B6-A7EEFD77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F401-D1DB-4ED6-A061-FD0FA39A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DB8C-93F2-4671-A931-131D5CD8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B748-C8E0-4C66-8C0F-B276E6B7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C44-E99C-4E78-83CE-FB2BF352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F6CB-118D-498E-B880-8C2FDEB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0143-AE79-4273-B583-9C0E0EF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0210-F642-41FE-B7B9-424682AF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2EB5-DC65-4159-9433-35B750B0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6DFE-87EF-4AB3-9E11-58014007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6B6-B015-4407-89FF-E2BD7ED7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D51-FF70-4F41-AE87-E6172223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7D8-9B4A-43C5-B9B6-262251FC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AFD-2720-4330-A67C-63293D88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B38-BAEB-4EB7-BE06-F78CCAD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98C-94DD-4E02-9167-3E783F6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AF3-B4F3-46E9-8E3E-7F31599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FCB7-93F8-498D-A3A6-F484069B2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BAD3-0857-4B38-9D44-EF10D49D0A4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rmakologija autonomnog živčanog susta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360" y="3733920"/>
            <a:ext cx="7391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6F68-A6FE-41C4-9411-C868118DEE43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33520" y="0"/>
          <a:ext cx="830556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85800" y="533412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58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AC8-4325-49AB-89E4-EB97FE5D0B97}" type="slidenum">
              <a:t>10</a:t>
            </a:fld>
          </a:p>
        </p:txBody>
      </p:sp>
    </p:spTree>
  </p:cSld>
  <p:transition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GONISTI KOLINERGIČKIH RECEPTORA (PARASIMPATOMIMETICI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zravno djelovanj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metakolin, karbahol, betane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nhibicija acetilkolinesteraz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neostigmin, piridostigmin, edrofonij, pralidoksim, organofosfatni bojni otr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A6A-DCDC-4BFE-83D1-F88DCB821145}" type="slidenum">
              <a:t>11</a:t>
            </a:fld>
          </a:p>
        </p:txBody>
      </p:sp>
    </p:spTree>
  </p:cSld>
  <p:transition>
    <p:blinds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AGONISTI KOLINERGIČKIH RECEPTOR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Muskarinski blokator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atropin, skopolamin, homatrop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ganglij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heksametoni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neuromuskularnih vez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kurare, pankuronij, suksametoni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4FC-C4BC-49F1-8858-B8250F3D0D50}" type="slidenum">
              <a:t>12</a:t>
            </a:fld>
          </a:p>
        </p:txBody>
      </p:sp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GONISTI ADRENERGIČKIH RECEPTORA (SIMPATOMIMETICI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8120" y="274320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Adren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oradren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Izopren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Salbu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Ritod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D1F-718B-4774-B20D-3C68D083A6D2}" type="slidenum">
              <a:t>13</a:t>
            </a:fld>
          </a:p>
        </p:txBody>
      </p:sp>
    </p:spTree>
  </p:cSld>
  <p:transition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AGONISTI ADRENERGIČKIH RECEPTORA (SIMPATOLICI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alfadrenergičkih receptor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fentolamin, doksazo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betaadrenergičkih receptor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propranolol, atenol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lokatori adrenergičkih neuro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rezerpin, metildo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941-C4A6-4A4B-8FE5-2174F2577149}" type="slidenum">
              <a:t>14</a:t>
            </a:fld>
          </a:p>
        </p:txBody>
      </p:sp>
    </p:spTree>
  </p:cSld>
  <p:transition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LOKALNI ANESTETICI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reverzibilno prekidaju prijenos podražaja u perifernim živcima. Rezultat je lokalna analgezija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vršinsk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nfiltracijsk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vodn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pinalna anestez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9092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312408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58128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411480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OKAIN, PROKAIN, LIDOK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CCD-2D02-43C1-B2BB-45ED290148DE}" type="slidenum">
              <a:t>15</a:t>
            </a:fld>
          </a:p>
        </p:txBody>
      </p:sp>
    </p:spTree>
  </p:cSld>
  <p:transition>
    <p:blinds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utonomni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(ili vegetativni)</a:t>
            </a: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 živčani sustav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upravlja osnovnim životnim tjelesnim funkcijama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2666880"/>
            <a:ext cx="4343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irkulacija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is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b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jelesna temper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noje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etaboliz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B34-1F44-4A09-A2E8-38B8AE85123F}" type="slidenum">
              <a:t>2</a:t>
            </a:fld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SIMPATIČKI (torakolumbalni)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lakna iz neurona u lateraln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ogovima kralj. možd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048120"/>
            <a:ext cx="87631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PARASIMPATIČKI (kraniosakralni)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lakna iz mezencefalona, produžene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ždine i sakralnog dijela kralj.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žd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295280"/>
            <a:ext cx="609480" cy="15264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27672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03C-6470-42F2-9DD9-7DBD31FBAFE3}" type="slidenum">
              <a:t>3</a:t>
            </a:fld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238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utonomna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aferentna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vlakn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nose impulse s periferije prem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redišnjem živčanom susta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895480"/>
            <a:ext cx="7086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utonomna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eferentna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vlak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nose impulse od središnjeg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živčanog sustava prema periferiji.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avršavaju na vegetativnom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angliju (preganglijska vlakna), od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ojeg se prema efektornim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rganima šire postganglijsk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lak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91440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04812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56D-2353-45A2-B819-717D6BF286D7}" type="slidenum">
              <a:t>4</a:t>
            </a:fld>
          </a:p>
        </p:txBody>
      </p:sp>
    </p:spTree>
  </p:cSld>
  <p:transition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ganglijska vlakna na svojim okončinama (sinapse u ganglijima) otpuštaju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acetilkoli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 Acetilkolin oslobađaju i postganglijska parasimpatičk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 somatska motorna vlakna. Nazivaju se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kolinergička vlak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stganglijska simpatička vlakna na okončinama oslobađaju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noradrenali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 Nazivaju se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adrenergičk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vlak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92B-3FD3-48FC-87C6-66D39B8A2810}" type="slidenum">
              <a:t>5</a:t>
            </a:fld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654880" cy="6096240"/>
          </a:xfrm>
          <a:prstGeom prst="rect">
            <a:avLst/>
          </a:prstGeom>
          <a:ln w="38160">
            <a:solidFill>
              <a:srgbClr val="66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718-071C-4237-8AE9-911BAE529D2C}" type="slidenum">
              <a:t>6</a:t>
            </a:fld>
          </a:p>
        </p:txBody>
      </p:sp>
    </p:spTree>
  </p:cSld>
  <p:transition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81080" y="228600"/>
          <a:ext cx="5257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257800" cy="6324480"/>
                  </a:xfrm>
                  <a:prstGeom prst="rect">
                    <a:avLst/>
                  </a:prstGeom>
                  <a:ln w="38160">
                    <a:solidFill>
                      <a:srgbClr val="66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C00-9248-45A5-BE2B-45925145EED0}" type="slidenum">
              <a:t>7</a:t>
            </a:fld>
          </a:p>
        </p:txBody>
      </p:sp>
    </p:spTree>
  </p:cSld>
  <p:transition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34280" cy="6034320"/>
          </a:xfrm>
          <a:prstGeom prst="rect">
            <a:avLst/>
          </a:prstGeom>
          <a:ln w="28440">
            <a:solidFill>
              <a:srgbClr val="66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507-C369-435D-96C8-DFD3DF27325F}" type="slidenum">
              <a:t>8</a:t>
            </a:fld>
          </a:p>
        </p:txBody>
      </p:sp>
    </p:spTree>
  </p:cSld>
  <p:transition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Učinci stimulacije autonomnih živac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00200"/>
          <a:ext cx="7467840" cy="49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6784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8305920" y="175248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92C-CC2E-4BEE-96F4-9CA396AA5561}" type="slidenum">
              <a:t>9</a:t>
            </a:fld>
          </a:p>
        </p:txBody>
      </p:sp>
    </p:spTree>
  </p:cSld>
  <p:transition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2:19:59Z</dcterms:created>
  <dc:creator>Jelena</dc:creator>
  <dc:description/>
  <dc:language>en-US</dc:language>
  <cp:lastModifiedBy>KERAMEIKOS d.o.o.</cp:lastModifiedBy>
  <dcterms:modified xsi:type="dcterms:W3CDTF">2003-01-28T11:08:37Z</dcterms:modified>
  <cp:revision>22</cp:revision>
  <dc:subject/>
  <dc:title>Farmakologija autonomnog živčanog sustava</dc:title>
</cp:coreProperties>
</file>