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C75D-B80B-4291-801B-13D45129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0831-7785-44AA-AC70-36764F2B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08DF-F856-472C-9F1E-35E43FEC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5479-357A-43A2-AAAB-3C2D6539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B9A4-6DFB-4CC4-955B-AE256DD0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C135-AAB1-4B95-93D1-04AB556D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F901-A005-4CB1-9DF0-12CB10D4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9433-A878-41DD-A0CC-C1D70E47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FB36-F8F3-4FE1-90E0-D0B358EB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1DDB-A99D-4AF4-A220-170BACB4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FCDD-D281-4939-917D-F9FF905A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5BAE-A997-40B8-86EF-87ED4D17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0E48-83B1-47A6-898D-0FD6E78E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F133-C182-4578-9C8E-E373EB57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8443-7D31-4E79-A03C-6E8FC9A0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B497-C5BB-45B2-B04A-3332A973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3BFB-AF60-4619-9223-F0B585CD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EEDD-EEEE-4D62-A938-359B3B31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E1B1-A781-44EC-AF77-ACAE9E04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5074-554C-4B38-971B-3DC0164F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0AA2-221F-4C1E-A9A9-6557CBF7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BB8-8883-4329-9FB2-01F42443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1993-5E83-4697-9989-9E5ADCF3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20E2-313F-4161-B1ED-8D70984D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B80A-51AD-4805-84EB-DB79889E86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1AC0-B563-45D4-86D8-AE48EFDA1D5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FARMAKOLOGIJA PROBAVNOG SUSTAVA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6576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Prim. mr. sc. Josip Čulig, dr. m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34E7-3670-4B56-86E5-C8E4D852F765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680" y="380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ANTIEMETIC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Metoklopramid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je blokator centralnih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dopaminskih receptora. Povećava prag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osjetljivosti za povraćanj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ANTAGONISTI SEROTONINA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(5HT3)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su selektivni kompetitori 5HT3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receptora u perifernim neuronima i SŽS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Onemogućuju podražaj aferentnih vagalnih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završetaka u probavnom sustavu i centru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za povraćanje u produženoj moždini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57150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Ondasetron, Tropisetron, Granise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533520"/>
            <a:ext cx="838440" cy="228600"/>
          </a:xfrm>
          <a:custGeom>
            <a:avLst/>
            <a:gdLst>
              <a:gd name="textAreaLeft" fmla="*/ 104760 w 838440"/>
              <a:gd name="textAreaRight" fmla="*/ 733680 w 8384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2590920"/>
            <a:ext cx="838440" cy="228600"/>
          </a:xfrm>
          <a:custGeom>
            <a:avLst/>
            <a:gdLst>
              <a:gd name="textAreaLeft" fmla="*/ 104760 w 838440"/>
              <a:gd name="textAreaRight" fmla="*/ 733680 w 8384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01E0-D67E-45E1-A5DD-7A33F243EA6F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OPSTIPACIJA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- odsutno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pontane stol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KONSTIPACIJA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- rijetka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mala i suha stoli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1905120"/>
            <a:ext cx="762120" cy="228600"/>
          </a:xfrm>
          <a:custGeom>
            <a:avLst/>
            <a:gdLst>
              <a:gd name="textAreaLeft" fmla="*/ 118800 w 762120"/>
              <a:gd name="textAreaRight" fmla="*/ 667080 w 7621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3657600"/>
            <a:ext cx="762120" cy="228600"/>
          </a:xfrm>
          <a:custGeom>
            <a:avLst/>
            <a:gdLst>
              <a:gd name="textAreaLeft" fmla="*/ 118800 w 762120"/>
              <a:gd name="textAreaRight" fmla="*/ 667080 w 7621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73C5-B8CB-49F0-84A7-CBE6B2395CBE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KONTAKTNI LAKSATIVI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timulacija propulzije lokalnom iritacijom sluzn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ovišenje koncentracije cAMP u endotelu crije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373392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BISAKODIL - DULCOL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SENOZIDI - COLOCL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50292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iprema i pražnjenje crijeva prije radioloških i endoskopskih pregle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CD62-28A6-4388-B832-F1C5522645AC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OSMOTSKI LAKSATIVI 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se ne resorbiraju iz probavnog sustava. U kolonu se djelovanjem crijevnih bakterija razgrađuju u octenu i mliječnu kiselinu, snižavaju pH crijeva. Na taj se način izaziva lokalni hiperosmotski učinak i stimulira pražnjenje crijeva.</a:t>
            </a:r>
            <a:r>
              <a:rPr b="1" lang="en-US" sz="3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50292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LAKTULOZA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Portala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C28C-D7DE-47A9-B45E-023DBF59CBE3}" type="slidenum">
              <a:t>13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8483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ULKUSNA BOLEST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je ograničeno oštećenje sluznice koje prodire u mišićni sloj. Pojavljuje se u onim dijelovima probavnog sustava gdje postoji želučana kiselina.</a:t>
            </a:r>
            <a:endParaRPr b="0" lang="en-US" sz="28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52320" y="312372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jednj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želud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dvanaesn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početni dio jejunu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50E0-3D1C-4F44-8AA9-82728275247B}" type="slidenum">
              <a:t>2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Faktori koji doprinose razvoju </a:t>
            </a:r>
            <a:br>
              <a:rPr sz="3000"/>
            </a:b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ulkusne bolesti</a:t>
            </a:r>
            <a:endParaRPr b="0" lang="en-US" sz="3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uše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lkoh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jako začinjena h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213372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251460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297180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3809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lijeko stimulira izlučivanje želučane kisel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4648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ULKUS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su povezani s infekcijom Helicobacter pylori ili uzimanjem nesteroidnih antireumatik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C080-CD7B-42C4-8059-DCBEAA854AE1}" type="slidenum">
              <a:t>3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ANTACIDI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ublažavaju simptome dispepsije, gastroezofagealnog refluksa i ulkusne bolesti. Daju 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u obliku tableta i suspenzija. Suspenzije su djelotvornij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733920"/>
            <a:ext cx="739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ALUMINIJEV HIDROKSID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nakon reakcije sa želučanom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kiselinom stvara aluminijev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klorid i vod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1E35-FAB3-42EA-9C03-E92846B90EBC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2120" y="12193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ALUMINIJEV HIDROKSID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u crijevu veže fosfate. Zbog hipofosfatemije javlja se mišićna slabost i anoreksija. Izaziva opstipacij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30481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MAGNEZIJEV HIDROKSID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 u želucu pretvara u magnezijev klorid. U tankom crijevu djeluje kao osmotski laksati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4724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KOMBINACIJA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je vrlo popularna (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GASTAL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. Dozira se 4 - 6 puta dnev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233C-2EE5-493C-A138-20617D3FBA44}" type="slidenum">
              <a:t>5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ANTAGONISTI H</a:t>
            </a:r>
            <a:r>
              <a:rPr b="1" lang="en-US" sz="3600" spc="-1" strike="noStrike" baseline="-25000">
                <a:solidFill>
                  <a:srgbClr val="66ffcc"/>
                </a:solidFill>
                <a:latin typeface="Bookman Old Style"/>
              </a:rPr>
              <a:t>2</a:t>
            </a: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 RECEPTORA</a:t>
            </a:r>
            <a:br>
              <a:rPr sz="3600"/>
            </a:br>
            <a:r>
              <a:rPr b="0" lang="en-US" sz="2800" spc="-1" strike="noStrike">
                <a:solidFill>
                  <a:srgbClr val="66ffcc"/>
                </a:solidFill>
                <a:latin typeface="Bookman Old Style"/>
              </a:rPr>
              <a:t>inhibiraju lučenje želučane kiseline mehanizmom kompetitivne blokade H</a:t>
            </a:r>
            <a:r>
              <a:rPr b="0" lang="en-US" sz="2800" spc="-1" strike="noStrike" baseline="-25000">
                <a:solidFill>
                  <a:srgbClr val="66ffcc"/>
                </a:solidFill>
                <a:latin typeface="Bookman Old Style"/>
              </a:rPr>
              <a:t>2</a:t>
            </a:r>
            <a:r>
              <a:rPr b="0" lang="en-US" sz="2800" spc="-1" strike="noStrike">
                <a:solidFill>
                  <a:srgbClr val="66ffcc"/>
                </a:solidFill>
                <a:latin typeface="Bookman Old Style"/>
              </a:rPr>
              <a:t> receptora na razini parijentalne stanice.</a:t>
            </a:r>
            <a:endParaRPr b="0" lang="en-US" sz="28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95480" y="3657240"/>
            <a:ext cx="2819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CIMETID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RANITID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FAMOTID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BE64-10C3-4106-AC1D-9887F5ECE86F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INHIBITORI PROTONSKE PUMPE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djeluju na H-K-ATPazu na staničnoj membrani parijetalne stanice i potpuno inhibiraju lučenje želučane kiseline. Produkcija želučane kiseline obnavlja se 3 - 4 dana nakon prestanka terapije.</a:t>
            </a:r>
            <a:endParaRPr b="0" lang="en-US" sz="28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14600" y="3962160"/>
            <a:ext cx="4038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OMEPRAZ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PANTOPRAZ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LANSOPRAZ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3C3F-881C-4046-B28D-FCBCB904D49C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ANTIFLATULANSI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  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DIMETIKON 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smanjuje površinsku napetost plinskih mjehurića pa se plinovi na prirodan način odstranjuju iz crijeva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4191120"/>
            <a:ext cx="6019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erofag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eteoriz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iprema za dijagnostičke pregl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06C9-FD03-41A6-9B4E-BB375EBA1EAD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ANTIKOLINERGICI I SPAZMOLITICI 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manjuju motilitet, sekretornu aktivno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obavnog sustava, tonus ureter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mokraćnog mjehura, relaksiraju žučn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mjehur i vodo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41911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4114800"/>
            <a:ext cx="5410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ATROP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MEBEVER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TROSPI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- nije topljiv 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ipidima pa ne prodire u SŽ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02C0-1F05-4F44-ACDD-9002231C7998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9:09:19Z</dcterms:created>
  <dc:creator>Jelena</dc:creator>
  <dc:description/>
  <dc:language>en-US</dc:language>
  <cp:lastModifiedBy>KERAMEIKOS d.o.o.</cp:lastModifiedBy>
  <dcterms:modified xsi:type="dcterms:W3CDTF">2003-01-28T12:35:16Z</dcterms:modified>
  <cp:revision>17</cp:revision>
  <dc:subject/>
  <dc:title>FARMAKOLOGIJA PROBAVNOG SUSTAVA</dc:title>
</cp:coreProperties>
</file>