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B39-BDB6-4EB1-8F4F-6F4BB8DB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362-3B19-428B-800C-681FE130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519-BBFB-4B9E-A65D-3EB3008D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AE0-D1B4-4844-9F96-751486D9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B09B-1998-4DF9-A292-ADF7284E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5F56-8C7B-4172-89D7-33260BEC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8A1B-FC5D-43CE-BC2E-82F2B35C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43BE-5157-4551-9E25-77895F6C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C393-351E-4066-952B-25AB0C41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3822-D9C4-44DA-860B-C8912DBB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953E-EAB8-4D8A-B4B1-983EFAA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C72-11F9-49A6-A373-896746C0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52D8-F666-4031-A52F-86E89360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B3DA-27F5-416D-BBDA-F4BE507A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BEB4-345D-4ABE-82B9-7A02784A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8606-9408-439A-925A-65CCE6E0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7E35-AEB6-4A08-8949-8C466684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F48-5D67-4C25-AE6E-2A062226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370-938E-494B-9F47-F6A83C91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632-E407-423E-9E3C-1178C64F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6E9-67E8-49C9-80A8-6F24A3B9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A01-2C65-4213-821C-193F4818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6D5-43CD-4B64-9665-9B563633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78E-EE79-44E2-A501-A3B5205A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5D09-5046-484D-89CD-A5DD0DC19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C72E-A392-4160-AFAF-347C2BE18C0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RMAKOLOGIJA BOL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2590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ain-man-women%20copy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516400" cy="28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E88F-04F2-4B1B-BD69-70A142F3917E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Mjesto djelovanj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1752480"/>
            <a:ext cx="2666880" cy="7621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OSFOLIPI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895480"/>
            <a:ext cx="2666880" cy="7621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RAHIDONSK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KISEL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514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36196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3276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3276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4419720"/>
            <a:ext cx="3504960" cy="761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UKOTRI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419720"/>
            <a:ext cx="3429000" cy="761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PROSTAGLANDI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581280"/>
            <a:ext cx="2362320" cy="7621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pooksigena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3581280"/>
            <a:ext cx="2514600" cy="7621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klooksigena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5334120"/>
            <a:ext cx="3581280" cy="990360"/>
          </a:xfrm>
          <a:prstGeom prst="ellipse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G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PG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mboksan, prostacik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DC6-2537-4A91-9BF6-323F4B3CC4AF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ARACETA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SALICIL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IRAZOL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DERIVATI OCTENE KISELINE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- indometacin, diklofe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DERIVATI PROPIONSKE KISELINE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- ibupro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OKSIKAM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- piroksik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FENAM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CELEOKSI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056-274B-4D23-97C2-7C6AC49E4854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INHIBITORI PROSTAGLANDIN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PROTUUPALN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- pretežno COX-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ALGETSKI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- pretežno COX-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TIPIRETSK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198108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Djeluju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DBA-34EE-4835-9EBB-7D902B237683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Ciklooksigenaz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Izofor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COX 1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konstruktivni enzim (citoprotektivni učinak u sluznici želuca, inhibicija agregacije tromboci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COX 2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izomer, enzim koji induciraju medijatori upale (IL-1, TNF, mitogen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A08-DBD4-4141-B3C2-018275007AF7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Prednosti selektivne </a:t>
            </a:r>
            <a:br>
              <a:rPr sz="3600"/>
            </a:b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inhibicije COX-2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Podjednaka djelotvornost kao klasični NS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manjena učestalost nuspojava vezanih uz gastrointestinalni trak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DC8-A5D1-4252-8EB3-2E3B931C6DC4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bol2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2476800" cy="2438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Sekundarni analgetic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520" y="20570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ntidepres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ntiepilept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da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sihotropni lijek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ntimigren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išićni relaksa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Hladnoć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61A-278B-4B70-BF0E-53EA612854E0}" type="slidenum">
              <a:t>15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Definicija bol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(lat. dolor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Bol je neugodan osjetilni i emocionalni doživljaj povezan sa stvarnim ili potencijalnim oštećenjem tki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114800"/>
            <a:ext cx="7848720" cy="4572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029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finicija međunarodnog udruženja za istraživanje b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9CE-E3B3-418D-AA5D-970745CAB059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Bol u ljudskom životu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66% ljudi barem jednom tijekom života osjeti 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40% ljudi osjeća bol koja traje 6 mjese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1/3 populacije industrijskih zemalja boluje od kronične b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15 - 20%  ljudi ima dugotrajnu 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ajčešće se radi o populaciji između 45 - 64 godine živ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46C-9AEE-4FE9-BEDF-8DE22284BA13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162920" y="2666880"/>
            <a:ext cx="1143000" cy="10670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819520"/>
            <a:ext cx="1143000" cy="1066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Provođenje osjeta bol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86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ocicep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pinalni živ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Kralježnična možd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alam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oždana k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2133720"/>
            <a:ext cx="990720" cy="914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743200"/>
            <a:ext cx="9907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3657600"/>
            <a:ext cx="114300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4114800"/>
            <a:ext cx="1143000" cy="1066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724280"/>
            <a:ext cx="1143000" cy="1067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5334120"/>
            <a:ext cx="1143000" cy="10666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5943600"/>
            <a:ext cx="761760" cy="60948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5410080"/>
            <a:ext cx="1143000" cy="1067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CC6-BB53-4C6E-8484-DE1A69D11176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Vrste bol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MEHANI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ciceptorska - pobuđivanje nocicep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uropatska - poremećaji živčano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st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POVRŠIN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utana, epikritič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DUBO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matska i potpornih tkiva, protopat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VISCERAL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z tjelesnih šupljina u unutrašnje organe,   neprecizno prezenti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2AB-101D-47F6-8C0A-43B96C1D78A8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1219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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NALGETIC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manjuju osjet boli, ali          ne mijenjaju značajnije stanje svije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OPIOID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inhibiraju ili modificiraju prijenos bolnih impulsa u SŽ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0384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NEOPIOIDNI ANALGETIC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sprečavaju nastajanje bolnih impulsa na periferi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EEA-B2A0-4604-BD08-AECE07A9DDA2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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NKEFALI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metionin enkefalin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eucin enkef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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NDORFINI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endorf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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INORFI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dinorfin A i B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i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eoendorf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762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ENDOGENI OPIOI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8C1-6B8E-4A07-B119-8123201F0437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OPIOIDNI RECEPTORI </a:t>
            </a:r>
            <a:r>
              <a:rPr b="0" lang="en-US" sz="3600" spc="-1" strike="noStrike">
                <a:solidFill>
                  <a:srgbClr val="66ffcc"/>
                </a:solidFill>
                <a:latin typeface="Bookman Old Style"/>
              </a:rPr>
              <a:t>- </a:t>
            </a:r>
            <a:r>
              <a:rPr b="0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66ffcc"/>
                </a:solidFill>
                <a:latin typeface="Bookman Old Style"/>
              </a:rPr>
              <a:t>, </a:t>
            </a:r>
            <a:r>
              <a:rPr b="0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</a:t>
            </a:r>
            <a:r>
              <a:rPr b="0" lang="en-US" sz="3600" spc="-1" strike="noStrike">
                <a:solidFill>
                  <a:srgbClr val="66ffcc"/>
                </a:solidFill>
                <a:latin typeface="Bookman Old Style"/>
              </a:rPr>
              <a:t>, </a:t>
            </a:r>
            <a:r>
              <a:rPr b="0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5840" y="1143000"/>
          <a:ext cx="74376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143000"/>
                    <a:ext cx="7437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B1E-4137-4FE1-9FD0-E01D334BB11C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MORFIN - učinc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Analgezi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Eufori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Depresija respiraci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Depresija refleksa kašl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Mučn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Povraćan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Mioz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onus glatkih mišića u G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pazam sfinktera Odd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onus mokraćnog mjehur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Hipotenzi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Oslobađanje histam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105520" y="2057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05520" y="38858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161-A925-4F26-93A8-E78DBB0F40BC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3:13:41Z</dcterms:created>
  <dc:creator>Jelena</dc:creator>
  <dc:description/>
  <dc:language>en-US</dc:language>
  <cp:lastModifiedBy>KERAMEIKOS d.o.o.</cp:lastModifiedBy>
  <dcterms:modified xsi:type="dcterms:W3CDTF">2003-01-31T09:00:25Z</dcterms:modified>
  <cp:revision>16</cp:revision>
  <dc:subject/>
  <dc:title>FARMAKOLOGIJA BOLI</dc:title>
</cp:coreProperties>
</file>