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2A8-7040-4809-A1C2-F0C1E5E3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F5A-3EB3-4502-8D98-2508DE34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A2E-2087-428A-AEF7-12C68FAF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51D-067F-4CAA-91A7-4099F2A3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5FD-F3C0-4263-A0A9-58C11F61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122-9659-4AF0-8844-204D157A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C2A-F962-4E64-A832-3447D164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E1E-CB75-482B-9FB4-0564BB3C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6EA-B5C5-4F32-8E14-56F91D35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812-5BB7-4B8C-AF8C-B350CADF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9AE-6819-46F9-8037-60E7CF07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0B8-5B20-4FF1-A30D-5F0B96BB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CC3D-3E50-4ABE-A533-E38859C00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Bookman Old Style"/>
              </a:rPr>
              <a:t>MANAGEMENT VRE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isoka zdravstvena šk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anagement u zdravst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066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0C9-4636-4A99-B4B1-4740E0656CF9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Bookman Old Style"/>
              </a:rPr>
              <a:t>Problem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6933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eviše stvari odjedno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pterećenost upornim, dosadnim i energičnim ljudim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metanje svakih 15 minu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43A-5BE6-46F0-A169-0464F041CCAC}" type="slidenum">
              <a:t>2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UPRAVLJANJE VLASTITIM VREMENO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čitaj selektiv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okusiraj se na zadat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apravi listu prior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dijeli projekte u manje zadat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aretov zakon - 20% rada proizvo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80%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čuvaj najbolje doba dana za najvaž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e odlaži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9F4-A305-4916-B180-404367C5F82D}" type="slidenum">
              <a:t>3</a:t>
            </a:fld>
          </a:p>
        </p:txBody>
      </p:sp>
    </p:spTree>
  </p:cSld>
  <p:transition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UPRAVLJANJE VLASTITIM VREMENO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odi računa o korištenju svog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stavi konačne ro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e gubi vrijeme dok čeka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dredi doba dana za administr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apravi dnevni popis stvari koje ćeš obav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laži uredno materijale i arhi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0AA-8658-44FD-84F9-BAA4D880A550}" type="slidenum">
              <a:t>4</a:t>
            </a:fld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UPRAVLJANJE VLASTITIM VREMENOM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vaki dan dovrši barem jedan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laniraj dio dana za se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emoj neprekidno brinuti o neče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maj dugoročne cil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e prihvaćaj se radije malih poslova umjesto jednog velik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034-20E4-4294-B1AB-AFBAA1FCE065}" type="slidenum">
              <a:t>5</a:t>
            </a:fld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3:54:55Z</dcterms:created>
  <dc:creator>Jelena</dc:creator>
  <dc:description/>
  <dc:language>en-US</dc:language>
  <cp:lastModifiedBy>dr. Josip Čulig</cp:lastModifiedBy>
  <dcterms:modified xsi:type="dcterms:W3CDTF">2002-12-09T11:14:31Z</dcterms:modified>
  <cp:revision>4</cp:revision>
  <dc:subject/>
  <dc:title>MANAGEMENT VREMENA</dc:title>
</cp:coreProperties>
</file>