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F8E-0C13-4E83-A0B7-1DCEDA72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D5F-F599-459B-B612-BC219D7F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2B2-283D-4338-BF06-435BEDB9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526-A6C4-4BD3-A26F-DBB86DBD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6B60-E999-41B3-8F7B-C318D4FC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6BFC-2270-47CA-91C2-1A95FD6C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BCFB-6DEF-4FBF-B977-E5967817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8680-01BC-4DA6-83CE-12BFA0F7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43CB-EFE5-4BA0-8F1A-12E14DF6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5021-D9C1-469F-8114-D6B6BB93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95F2-43CC-45D3-9DF7-5673870B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9F2-E07C-4422-BC9B-67C0E8E8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0404-B0B4-4324-94E9-F0D1499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6425-DD08-43CB-8441-BB98025E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7C7B-F388-4DCB-BD14-C56C9790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F17C-EFDF-4CEC-B0C1-DF31341A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373F-C8CA-46CC-8743-9A92EF27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721-BFDF-4FCA-9763-47C68C8B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54F-6AC8-42A6-BD11-1D124A54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AA8-BB2B-43B8-A03F-2FD8D40E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E34-A626-4A0A-B7F6-E691F71F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F9D-B0D6-418B-89AC-067019A3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C15-BE83-4F86-898C-71B7F406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C6C-A19D-40F0-8CC8-B93D8824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1670-D6A2-4457-B5F4-B47700266F02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F8B4-C0E1-46E8-834F-B387494D5313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765000"/>
            <a:ext cx="842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Reakcijom kalcij-klorida i kalij-fosfata nastaje kalcij-fosfat i kalij-klorid. Napišite jednadžbu reakcije! Koliko kalcij-klorida i kalij-fosfata treba uzeti da se dobije 100 g kalcij-fofsfata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068640"/>
            <a:ext cx="7705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m(Ca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(PO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 = 100g 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310.18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?                  M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10.99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K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?                 M(K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212.27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5000" y="6165720"/>
            <a:ext cx="84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otrebno je uzeti 107.22 g kalcij-klorida i 136.7 g kalij-fosf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164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11280" y="19890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K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C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 K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2616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180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4653000"/>
            <a:ext cx="7705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C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00g / 310.18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= 0.322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: n(K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: 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n(Ca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(PO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 = 3 : 2 :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3 * 0.322 * 110.99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107.22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K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2 * 0.322 * 212.27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136.70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836640"/>
            <a:ext cx="842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8. Reakcijom otopine željezo(III)-sulfata i barij-klorida nastaje željezo(III)-klorid i bijelo talog barij-sulfata. Izračunaj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a) broj Ba</a:t>
            </a:r>
            <a:r>
              <a:rPr b="0" lang="hr-HR" sz="20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 iona u nastalom talogu mase 2.5 g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b) masu barij-klorida i željezo(III)-sulfata potrebnih da bi nastao talog te mase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3141720"/>
            <a:ext cx="43923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Ba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2.5g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Ba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233.3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BaCl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485.07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M(Fe</a:t>
            </a:r>
            <a:r>
              <a:rPr b="0" lang="hr-HR" sz="2200" spc="-1" strike="noStrike" u="sng" baseline="-25000">
                <a:solidFill>
                  <a:srgbClr val="004600"/>
                </a:solidFill>
                <a:uFillTx/>
                <a:latin typeface="Arial"/>
              </a:rPr>
              <a:t>2</a:t>
            </a: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(SO</a:t>
            </a:r>
            <a:r>
              <a:rPr b="0" lang="hr-HR" sz="2200" spc="-1" strike="noStrike" u="sng" baseline="-25000">
                <a:solidFill>
                  <a:srgbClr val="004600"/>
                </a:solidFill>
                <a:uFillTx/>
                <a:latin typeface="Arial"/>
              </a:rPr>
              <a:t>4</a:t>
            </a: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)</a:t>
            </a:r>
            <a:r>
              <a:rPr b="0" lang="hr-HR" sz="22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) = 399.7 gmol</a:t>
            </a:r>
            <a:r>
              <a:rPr b="0" lang="hr-HR" sz="2200" spc="-1" strike="noStrike" u="sng" baseline="30000">
                <a:solidFill>
                  <a:srgbClr val="004600"/>
                </a:solidFill>
                <a:uFillTx/>
                <a:latin typeface="Arial"/>
              </a:rPr>
              <a:t>-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m(BaSO4)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= ? m(Fe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(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640" y="6308640"/>
            <a:ext cx="88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Talog barij-sulfata mase 2.5 g nastaje iz 1.44 g željezo(III)-sulfata i 2.23 g barij-klor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00720" y="3141720"/>
                <a:ext cx="436536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16000" y="2565360"/>
            <a:ext cx="62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Fe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B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  <a:ea typeface="Arial"/>
              </a:rPr>
              <a:t>→ 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Fe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 Ba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2565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565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256536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6200" y="4941720"/>
            <a:ext cx="84978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n(Ba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2.5g / 233.3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 0.011 m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n(BaCl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: n(Fe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(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:n(Ba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3 : 1 : 3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BaCl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3/3 * 0.011 mola * 485.07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 2.23 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Fe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(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1/3 * 0.011 mola * 399.7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 1.44 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765000"/>
            <a:ext cx="8424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9. Zagrijavanjem nepoznate količine kalij-klorata (KCl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oslobodi se 0.96 g 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. Koja je masa KCl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2924280"/>
            <a:ext cx="42480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0.96 g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32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M(KClO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 = 122.55 gmol</a:t>
            </a:r>
            <a:r>
              <a:rPr b="0" lang="hr-HR" sz="2400" spc="-1" strike="noStrike" u="sng" baseline="30000">
                <a:solidFill>
                  <a:srgbClr val="004600"/>
                </a:solidFill>
                <a:uFillTx/>
                <a:latin typeface="Arial"/>
              </a:rPr>
              <a:t>-1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KCl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?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" y="6165720"/>
            <a:ext cx="90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122.55 g kalij-klorata zagrijavanjem je dalo 0.96 g kisi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156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611280" y="198900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2KCl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  <a:ea typeface="Arial"/>
              </a:rPr>
              <a:t>→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2KCl + 3 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4653000"/>
            <a:ext cx="770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0.96 g / 32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= 0.03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KCl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: n(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= 2 :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KCl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2/3 * 0.03 mola * 122.55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2.45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836640"/>
            <a:ext cx="8425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10. Oktan (C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) je tipična molekula koju sadrži benzin. Izračunaj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a) masu jedne molekule oktan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b) Broj molekula oktana u 1 ml tog spoja ako mu je gustoća 820 kgm</a:t>
            </a:r>
            <a:r>
              <a:rPr b="0" lang="hr-HR" sz="2000" spc="-1" strike="noStrike" baseline="30000">
                <a:solidFill>
                  <a:srgbClr val="0046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20500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990099"/>
                </a:solidFill>
                <a:latin typeface="Arial"/>
              </a:rPr>
              <a:t>a)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C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114.23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    </a:t>
            </a: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N(C</a:t>
            </a:r>
            <a:r>
              <a:rPr b="0" lang="hr-HR" sz="2200" spc="-1" strike="noStrike" u="sng" baseline="-25000">
                <a:solidFill>
                  <a:srgbClr val="004600"/>
                </a:solidFill>
                <a:uFillTx/>
                <a:latin typeface="Arial"/>
              </a:rPr>
              <a:t>8</a:t>
            </a: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H</a:t>
            </a:r>
            <a:r>
              <a:rPr b="0" lang="hr-HR" sz="2200" spc="-1" strike="noStrike" u="sng" baseline="-25000">
                <a:solidFill>
                  <a:srgbClr val="004600"/>
                </a:solidFill>
                <a:uFillTx/>
                <a:latin typeface="Arial"/>
              </a:rPr>
              <a:t>18</a:t>
            </a: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) =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C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2800" y="5899320"/>
            <a:ext cx="70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Masa jedne molekule oktana jest 1.89*10</a:t>
            </a:r>
            <a:r>
              <a:rPr b="0" lang="hr-HR" sz="2800" spc="-1" strike="noStrike" baseline="30000">
                <a:solidFill>
                  <a:srgbClr val="003300"/>
                </a:solidFill>
                <a:latin typeface="Arial"/>
              </a:rPr>
              <a:t>-22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357880" y="1844640"/>
                <a:ext cx="37861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468360" y="4653000"/>
            <a:ext cx="8497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C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n * M = N * N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A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* 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C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1 * 114.23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/ 6.022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23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= 1.89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22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836640"/>
            <a:ext cx="8425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10. Oktan (C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) je tipična molekula koju sadrži benzin. Izračunaj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a) masu jedne molekule oktan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b) broj molekula oktana u 1 ml tog spoja ako mu je gustoća 820 kgm</a:t>
            </a:r>
            <a:r>
              <a:rPr b="0" lang="hr-HR" sz="2000" spc="-1" strike="noStrike" baseline="30000">
                <a:solidFill>
                  <a:srgbClr val="990099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2205000"/>
            <a:ext cx="896472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990099"/>
                </a:solidFill>
                <a:latin typeface="Arial"/>
              </a:rPr>
              <a:t>b)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4600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) = 820 kgm</a:t>
            </a:r>
            <a:r>
              <a:rPr b="0" lang="hr-HR" sz="2000" spc="-1" strike="noStrike" baseline="30000">
                <a:solidFill>
                  <a:srgbClr val="0046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 = 820 gdm</a:t>
            </a:r>
            <a:r>
              <a:rPr b="0" lang="hr-HR" sz="2000" spc="-1" strike="noStrike" baseline="30000">
                <a:solidFill>
                  <a:srgbClr val="0046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 = 820*10</a:t>
            </a:r>
            <a:r>
              <a:rPr b="0" lang="hr-HR" sz="2000" spc="-1" strike="noStrike" baseline="30000">
                <a:solidFill>
                  <a:srgbClr val="0046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 gcm</a:t>
            </a:r>
            <a:r>
              <a:rPr b="0" lang="hr-HR" sz="2000" spc="-1" strike="noStrike" baseline="30000">
                <a:solidFill>
                  <a:srgbClr val="0046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 = 0.82*10</a:t>
            </a:r>
            <a:r>
              <a:rPr b="0" lang="hr-HR" sz="2000" spc="-1" strike="noStrike" baseline="30000">
                <a:solidFill>
                  <a:srgbClr val="0046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 gcm</a:t>
            </a:r>
            <a:r>
              <a:rPr b="0" lang="hr-HR" sz="2000" spc="-1" strike="noStrike" baseline="30000">
                <a:solidFill>
                  <a:srgbClr val="0046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M(C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) = 114.23 gmol</a:t>
            </a:r>
            <a:r>
              <a:rPr b="0" lang="hr-HR" sz="20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4600"/>
                </a:solidFill>
                <a:uFillTx/>
                <a:latin typeface="Arial"/>
              </a:rPr>
              <a:t>     </a:t>
            </a:r>
            <a:r>
              <a:rPr b="0" lang="hr-HR" sz="2000" spc="-1" strike="noStrike" u="sng">
                <a:solidFill>
                  <a:srgbClr val="004600"/>
                </a:solidFill>
                <a:uFillTx/>
                <a:latin typeface="Arial"/>
              </a:rPr>
              <a:t>V(C</a:t>
            </a:r>
            <a:r>
              <a:rPr b="0" lang="hr-HR" sz="2000" spc="-1" strike="noStrike" u="sng" baseline="-25000">
                <a:solidFill>
                  <a:srgbClr val="004600"/>
                </a:solidFill>
                <a:uFillTx/>
                <a:latin typeface="Arial"/>
              </a:rPr>
              <a:t>8</a:t>
            </a:r>
            <a:r>
              <a:rPr b="0" lang="hr-HR" sz="2000" spc="-1" strike="noStrike" u="sng">
                <a:solidFill>
                  <a:srgbClr val="004600"/>
                </a:solidFill>
                <a:uFillTx/>
                <a:latin typeface="Arial"/>
              </a:rPr>
              <a:t>H</a:t>
            </a:r>
            <a:r>
              <a:rPr b="0" lang="hr-HR" sz="2000" spc="-1" strike="noStrike" u="sng" baseline="-25000">
                <a:solidFill>
                  <a:srgbClr val="004600"/>
                </a:solidFill>
                <a:uFillTx/>
                <a:latin typeface="Arial"/>
              </a:rPr>
              <a:t>18</a:t>
            </a:r>
            <a:r>
              <a:rPr b="0" lang="hr-HR" sz="2000" spc="-1" strike="noStrike" u="sng">
                <a:solidFill>
                  <a:srgbClr val="004600"/>
                </a:solidFill>
                <a:uFillTx/>
                <a:latin typeface="Arial"/>
              </a:rPr>
              <a:t>) = 1 ml = 1 cm</a:t>
            </a:r>
            <a:r>
              <a:rPr b="0" lang="hr-HR" sz="2000" spc="-1" strike="noStrike" u="sng" baseline="30000">
                <a:solidFill>
                  <a:srgbClr val="004600"/>
                </a:solidFill>
                <a:uFillTx/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N(C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)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6560" y="6143760"/>
            <a:ext cx="51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1 ml oktana ima 4.3*10</a:t>
            </a:r>
            <a:r>
              <a:rPr b="0" lang="hr-HR" sz="2400" spc="-1" strike="noStrike" baseline="30000">
                <a:solidFill>
                  <a:srgbClr val="003300"/>
                </a:solidFill>
                <a:latin typeface="Arial"/>
              </a:rPr>
              <a:t>21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 moleku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356000" y="2924280"/>
                <a:ext cx="37609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68360" y="4653000"/>
            <a:ext cx="8497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C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1 cm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* 0.82 gcm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 0.82 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N(C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0.82 g * 6.022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23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/ 114.23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= 0.043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2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= 4.3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2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00"/>
                </a:solidFill>
                <a:latin typeface="Arial"/>
              </a:rPr>
              <a:t>OKSIDACIJA I REDUKCIJ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90727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eakcije u kojima se događa transport elektrona 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jedne tvari na drug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Arial"/>
              </a:rPr>
              <a:t>OKSIDACI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– gubitak elektr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3300"/>
                </a:solidFill>
                <a:latin typeface="Arial"/>
              </a:rPr>
              <a:t>REDUKCI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– dobitak elektr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93080" y="4581360"/>
            <a:ext cx="833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U slijedećoj oksido-redukcijskoj (redoks) reakciji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4Fe (s) + 3O2 (g)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2Fe2O3 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a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ant Fe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ima nulto oksidacijsko stanje, ali željezo u produktu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e2O3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ima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3+ o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k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da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cijsko stanj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Tri elektrona se transportiraju (</a:t>
            </a:r>
            <a:r>
              <a:rPr b="0" lang="hr-HR" sz="2400" spc="-1" strike="noStrike">
                <a:solidFill>
                  <a:srgbClr val="003366"/>
                </a:solidFill>
                <a:latin typeface="Arial Narrow"/>
              </a:rPr>
              <a:t>gubitak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željeza na kisik. Kisiku se oksidacijsko stanje mijenja od nultog do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2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0" lang="hr-HR" sz="2400" spc="-1" strike="noStrike">
                <a:solidFill>
                  <a:srgbClr val="cc3300"/>
                </a:solidFill>
                <a:latin typeface="Arial Narrow"/>
              </a:rPr>
              <a:t>dobitak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2 ele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ktrona po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atom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00"/>
                </a:solidFill>
                <a:latin typeface="Arial"/>
              </a:rPr>
              <a:t>OKSIDACIJA I REDUKCIJ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90727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eakcije u kojima se događa transport elektrona 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jedne tvari na drug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Arial"/>
              </a:rPr>
              <a:t>OKSIDACI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– proces u kojem jedinka otpušta elektr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3300"/>
                </a:solidFill>
                <a:latin typeface="Arial"/>
              </a:rPr>
              <a:t>REDUKCI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– proces u kojem jedinka prima elektr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" y="4581360"/>
            <a:ext cx="725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Atom, ion ili molekula koji otpušta elektrone – oksidira se – jest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 Narrow"/>
              </a:rPr>
              <a:t>REDUKCIJSKO sredstvo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ili </a:t>
            </a:r>
            <a:r>
              <a:rPr b="0" lang="hr-HR" sz="2400" spc="-1" strike="noStrike">
                <a:solidFill>
                  <a:srgbClr val="003366"/>
                </a:solidFill>
                <a:latin typeface="Arial Narrow"/>
              </a:rPr>
              <a:t>REDUCENS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Atom, ion ili molekula koji prima elektrone – reducira se  – jest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Arial Narrow"/>
              </a:rPr>
              <a:t>OKSIDACIJSKO sredstvo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ili </a:t>
            </a:r>
            <a:r>
              <a:rPr b="0" lang="hr-HR" sz="2400" spc="-1" strike="noStrike">
                <a:solidFill>
                  <a:srgbClr val="cc3300"/>
                </a:solidFill>
                <a:latin typeface="Arial Narrow"/>
              </a:rPr>
              <a:t>OKSIDANS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3300"/>
                </a:solidFill>
                <a:latin typeface="Times New Roman"/>
              </a:rPr>
              <a:t>Od atoma do io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9844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7696440" cy="4084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00000" y="6004080"/>
            <a:ext cx="7920000" cy="862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lijedeće tvari posloži prema radijusu (od najmanjeg do najveće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L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C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Xe, 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Cl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L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B, C, 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–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76579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3300"/>
                </a:solidFill>
                <a:latin typeface="Arial"/>
              </a:rPr>
              <a:t>OKSIDACIJSKI BRO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"/>
          <p:cNvSpPr/>
          <p:nvPr/>
        </p:nvSpPr>
        <p:spPr>
          <a:xfrm>
            <a:off x="959400" y="2008080"/>
            <a:ext cx="820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prema IUPAC-u – oksidacijski broj elementa u nekom spoju je naboj koji bi taj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element imao kada bi se elektroni koji tvore vezu pripisali elektronegativnij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atom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4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kod ionskih spojeva – oksidacijski broj jednak je naboju koji je ele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        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primio ili izgu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- kod kovalentnih spojeva – elektroni se pripisuju elektronegativnijem atom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87040" y="3881520"/>
            <a:ext cx="82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Npr. Oksidacijski broj Na u NaCl je 1+ (Na je izgubio jedan elektron), a oks. Bro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Cl je 1- (Cl je dobio jedan elektr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4724280"/>
            <a:ext cx="8001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3160"/>
                <a:tab algn="l" pos="736560"/>
                <a:tab algn="l" pos="1774800"/>
                <a:tab algn="l" pos="2914560"/>
                <a:tab algn="l" pos="3492360"/>
                <a:tab algn="l" pos="4343400"/>
                <a:tab algn="l" pos="5079960"/>
                <a:tab algn="l" pos="5888160"/>
                <a:tab algn="l" pos="67388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Koji su oksidacijski brojevi dušika u slijedećim spojevima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3160"/>
                <a:tab algn="l" pos="736560"/>
                <a:tab algn="l" pos="1774800"/>
                <a:tab algn="l" pos="2914560"/>
                <a:tab algn="l" pos="3492360"/>
                <a:tab algn="l" pos="4343400"/>
                <a:tab algn="l" pos="5079960"/>
                <a:tab algn="l" pos="5888160"/>
                <a:tab algn="l" pos="67388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H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5853240"/>
            <a:ext cx="80010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36560"/>
                <a:tab algn="l" pos="1601640"/>
                <a:tab algn="l" pos="2511360"/>
                <a:tab algn="l" pos="3492360"/>
                <a:tab algn="l" pos="4632480"/>
                <a:tab algn="l" pos="5657760"/>
                <a:tab algn="l" pos="67388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oji su oksidacijski brojevi klora u slijedećim spojevim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36560"/>
                <a:tab algn="l" pos="1601640"/>
                <a:tab algn="l" pos="2511360"/>
                <a:tab algn="l" pos="3492360"/>
                <a:tab algn="l" pos="4632480"/>
                <a:tab algn="l" pos="5657760"/>
                <a:tab algn="l" pos="67388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O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Narrow"/>
              </a:rPr>
              <a:t>3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 Narrow"/>
              </a:rPr>
              <a:t>4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76579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3300"/>
                </a:solidFill>
                <a:latin typeface="Arial"/>
              </a:rPr>
              <a:t>OKSIDACIJSKI BRO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481320" y="134136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ravila za određivanje oksidacijskog broja neionskih spojev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" y="1916280"/>
            <a:ext cx="92754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1. Oksidacijski broj svih elemenata u elementarnom stanju je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2. Oksid. Broj H je +1 u svim spojevima osim u metalnim hidridima u kojima j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      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-1 (LiH, MgH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..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3. Oksid. Broj O je -2 u svim spojevima osim u peroksidima u kojima je -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(H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BaO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Na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), superoksidima u kojima je -1/2 (NaO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LiO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), ozonidim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u kojima je -1/3 (KO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RbO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), spojevima s fluorom u kojima je +1 (F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r>
              <a:rPr b="0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4. Zbroj oksid. brojeva elemenata koji se nalaze u spoju mora biti jedank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5. Suma svih okid. brojeva elemenata u kompleksnim ionima ili radikalima m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biti jednaka naboju iona ili radika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6. U kovalentnim spojevima s poznatom strukturnom formulom oksid. Broj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pojedinog elementa jest naboj koji ostaje na elementu kada sve elektronsk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parove dodijelimo atomima elektronegativnijih elemen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7. Alkalijski metali su uvijek +1 (Li, Na, K, Rb, C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8. Zemnoalkalijski metali su uvijek +2 (Be, Mg, Ca, Sr, B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Neki metali i nemeatli mogu imati različite oksid. Brojeve (Fe</a:t>
            </a:r>
            <a:r>
              <a:rPr b="0" lang="hr-HR" sz="1800" spc="-1" strike="noStrike" baseline="30000">
                <a:solidFill>
                  <a:srgbClr val="004600"/>
                </a:solidFill>
                <a:latin typeface="Arial"/>
              </a:rPr>
              <a:t>3+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Fe</a:t>
            </a:r>
            <a:r>
              <a:rPr b="0" lang="hr-HR" sz="18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S</a:t>
            </a:r>
            <a:r>
              <a:rPr b="0" lang="hr-HR" sz="1800" spc="-1" strike="noStrike" baseline="30000">
                <a:solidFill>
                  <a:srgbClr val="004600"/>
                </a:solidFill>
                <a:latin typeface="Arial"/>
              </a:rPr>
              <a:t>4+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S</a:t>
            </a:r>
            <a:r>
              <a:rPr b="0" lang="hr-HR" sz="1800" spc="-1" strike="noStrike" baseline="30000">
                <a:solidFill>
                  <a:srgbClr val="004600"/>
                </a:solidFill>
                <a:latin typeface="Arial"/>
              </a:rPr>
              <a:t>6+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S</a:t>
            </a:r>
            <a:r>
              <a:rPr b="0" lang="hr-HR" sz="18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Mn</a:t>
            </a:r>
            <a:r>
              <a:rPr b="0" lang="hr-HR" sz="18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Mn</a:t>
            </a:r>
            <a:r>
              <a:rPr b="0" lang="hr-HR" sz="1800" spc="-1" strike="noStrike" baseline="30000">
                <a:solidFill>
                  <a:srgbClr val="004600"/>
                </a:solidFill>
                <a:latin typeface="Arial"/>
              </a:rPr>
              <a:t>3+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Mn</a:t>
            </a:r>
            <a:r>
              <a:rPr b="0" lang="hr-HR" sz="1800" spc="-1" strike="noStrike" baseline="30000">
                <a:solidFill>
                  <a:srgbClr val="004600"/>
                </a:solidFill>
                <a:latin typeface="Arial"/>
              </a:rPr>
              <a:t>4+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, Mn</a:t>
            </a:r>
            <a:r>
              <a:rPr b="0" lang="hr-HR" sz="1800" spc="-1" strike="noStrike" baseline="30000">
                <a:solidFill>
                  <a:srgbClr val="004600"/>
                </a:solidFill>
                <a:latin typeface="Arial"/>
              </a:rPr>
              <a:t>7+</a:t>
            </a: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627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3300"/>
                </a:solidFill>
                <a:latin typeface="Arial"/>
              </a:rPr>
              <a:t>FORMALNI NABO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1989000"/>
            <a:ext cx="8568000" cy="25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rmal</a:t>
            </a:r>
            <a:r>
              <a:rPr b="0" lang="hr-HR" sz="2000" spc="-1" strike="noStrike">
                <a:solidFill>
                  <a:srgbClr val="cc3300"/>
                </a:solidFill>
                <a:latin typeface="Arial"/>
              </a:rPr>
              <a:t>ni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cc3300"/>
                </a:solidFill>
                <a:latin typeface="Arial"/>
              </a:rPr>
              <a:t>nabo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ekog atoma 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ewis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vo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je brojodređen brojem valentnih elektrona atoma te brojem elektrona koji okružuju taj at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r-HR" sz="20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ormal</a:t>
            </a:r>
            <a:r>
              <a:rPr b="0" i="1" lang="hr-HR" sz="2000" spc="-1" strike="noStrike">
                <a:solidFill>
                  <a:srgbClr val="cc3300"/>
                </a:solidFill>
                <a:latin typeface="Arial"/>
              </a:rPr>
              <a:t>ni nabo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ekog atoma jednak je broju valentnih elektro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Arial"/>
              </a:rPr>
              <a:t>v.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manjenom za zrbopj nesparenih elektro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Arial"/>
              </a:rPr>
              <a:t>us.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te umanjenom za polovinu veznih elektro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½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Arial"/>
              </a:rPr>
              <a:t>b.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ormal</a:t>
            </a:r>
            <a:r>
              <a:rPr b="0" i="1" lang="hr-HR" sz="2000" spc="-1" strike="noStrike">
                <a:solidFill>
                  <a:srgbClr val="cc3300"/>
                </a:solidFill>
                <a:latin typeface="Arial"/>
              </a:rPr>
              <a:t>ni naboj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Arial"/>
              </a:rPr>
              <a:t>v.e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- N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Arial"/>
              </a:rPr>
              <a:t>us.e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- ½ N</a:t>
            </a:r>
            <a:r>
              <a:rPr b="0" i="1" lang="en-US" sz="2000" spc="-1" strike="noStrike" baseline="-30000">
                <a:solidFill>
                  <a:srgbClr val="ffffff"/>
                </a:solidFill>
                <a:latin typeface="Arial"/>
              </a:rPr>
              <a:t>b.e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51577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Pravilo stabilnosti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Najstabilnije strukture su one sa najmanjom veličinom formalnog naboja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e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negativ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niji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atom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u strukturama imaju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negativ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ni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formal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ni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naboj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765000"/>
            <a:ext cx="842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Reakcijom kalcij-klorida i kalij-fosfata nastaje kalcij-fosfat i kalij-klorid. Napišite jednadžbu reakcije! Koliko kalcij-klorida i kalij-fosfata treba uzeti da se dobije 100 g kalcij-fofsfata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781360"/>
            <a:ext cx="7705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m(Ca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(PO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 = 100g 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310.18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?                  M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10.99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K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?                 M(K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212.27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6120" y="6165720"/>
            <a:ext cx="84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otrebno je uzeti 107.22 g kalcij-klorida i 136.7 g kalij-fosf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164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11280" y="19890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K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C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 K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616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2616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1052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581360"/>
            <a:ext cx="7705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C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00g / 310.18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= 0.322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: n(K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: 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n(Ca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(PO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 = 3 : 2 :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3 * 0.322 * 110.99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107.22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K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2 * 0.322 * 212.27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136.70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60595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3300"/>
                </a:solidFill>
                <a:latin typeface="Arial"/>
              </a:rPr>
              <a:t>Pronađi f</a:t>
            </a: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ormal</a:t>
            </a:r>
            <a:r>
              <a:rPr b="0" lang="hr-HR" sz="4400" spc="-1" strike="noStrike">
                <a:solidFill>
                  <a:srgbClr val="993300"/>
                </a:solidFill>
                <a:latin typeface="Arial"/>
              </a:rPr>
              <a:t>ni</a:t>
            </a: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993300"/>
                </a:solidFill>
                <a:latin typeface="Arial"/>
              </a:rPr>
              <a:t>nabo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403280" y="2492280"/>
            <a:ext cx="61214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00"/>
                </a:solidFill>
                <a:latin typeface="Arial Black"/>
              </a:rPr>
              <a:t>Oksidacijski brojev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1836720"/>
            <a:ext cx="8382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2063880"/>
                <a:tab algn="l" pos="3083040"/>
                <a:tab algn="l" pos="3889440"/>
                <a:tab algn="l" pos="4802040"/>
                <a:tab algn="l" pos="5767560"/>
                <a:tab algn="l" pos="6627960"/>
                <a:tab algn="l" pos="748836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Oksidacijski brojevi su pridruženi brojevi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Koncept formalnog naboja može se primijeniti u određivanju oksidacijskih brojeva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2063880"/>
                <a:tab algn="l" pos="3083040"/>
                <a:tab algn="l" pos="3889440"/>
                <a:tab algn="l" pos="4802040"/>
                <a:tab algn="l" pos="5767560"/>
                <a:tab algn="l" pos="6627960"/>
                <a:tab algn="l" pos="748836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Odredi oksidacijske brojeve za slijedeće primjer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2063880"/>
                <a:tab algn="l" pos="3083040"/>
                <a:tab algn="l" pos="3889440"/>
                <a:tab algn="l" pos="4802040"/>
                <a:tab algn="l" pos="5767560"/>
                <a:tab algn="l" pos="6627960"/>
                <a:tab algn="l" pos="7488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H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2063880"/>
                <a:tab algn="l" pos="3083040"/>
                <a:tab algn="l" pos="3889440"/>
                <a:tab algn="l" pos="4802040"/>
                <a:tab algn="l" pos="5767560"/>
                <a:tab algn="l" pos="6627960"/>
                <a:tab algn="l" pos="7488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6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2063880"/>
                <a:tab algn="l" pos="3083040"/>
                <a:tab algn="l" pos="3889440"/>
                <a:tab algn="l" pos="4802040"/>
                <a:tab algn="l" pos="5767560"/>
                <a:tab algn="l" pos="6627960"/>
                <a:tab algn="l" pos="7488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3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2063880"/>
                <a:tab algn="l" pos="3083040"/>
                <a:tab algn="l" pos="3889440"/>
                <a:tab algn="l" pos="4802040"/>
                <a:tab algn="l" pos="5767560"/>
                <a:tab algn="l" pos="6627960"/>
                <a:tab algn="l" pos="7488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2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2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2063880"/>
                <a:tab algn="l" pos="3083040"/>
                <a:tab algn="l" pos="3889440"/>
                <a:tab algn="l" pos="4802040"/>
                <a:tab algn="l" pos="5767560"/>
                <a:tab algn="l" pos="6627960"/>
                <a:tab algn="l" pos="7488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M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M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r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Cr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7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3300"/>
                </a:solidFill>
                <a:latin typeface="Arial"/>
              </a:rPr>
              <a:t>OKSIDANSI I REDUCEN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2565360"/>
            <a:ext cx="8001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Oksidirajuće sredstv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l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k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dan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: reducira se u reakciji reduk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2e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2Cl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duci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rajuć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sredstv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l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uc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ens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: oksidira se u reakciji oksida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hr-H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Na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/*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Na </a:t>
            </a:r>
            <a:r>
              <a:rPr b="0" lang="hr-H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2Na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+ 2e</a:t>
            </a:r>
            <a:r>
              <a:rPr b="0" lang="hr-HR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4941720"/>
            <a:ext cx="7925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92280"/>
                <a:tab algn="l" pos="1544760"/>
                <a:tab algn="l" pos="2627280"/>
                <a:tab algn="l" pos="3319560"/>
                <a:tab algn="l" pos="4170240"/>
                <a:tab algn="l" pos="4978440"/>
                <a:tab algn="l" pos="5888160"/>
                <a:tab algn="l" pos="6738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H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3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5546880"/>
            <a:ext cx="15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TVARI KOJE SE DALJE NE MOGU REDUCIR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67640" y="5546880"/>
            <a:ext cx="14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TVARI KOJE SE DALJE NE MOGU OKSIDIR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48000" y="4581360"/>
            <a:ext cx="22096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 </a:t>
            </a: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k s i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 a n </a:t>
            </a: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 e d u c</a:t>
            </a: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 e n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544500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476360" y="494172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42200" y="2008080"/>
            <a:ext cx="703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4600"/>
                </a:solidFill>
                <a:latin typeface="Arial"/>
              </a:rPr>
              <a:t>Oksidoredukcijska reakcij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:                       2 Na + Cl</a:t>
            </a:r>
            <a:r>
              <a:rPr b="0" lang="hr-H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2 Na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+ 2 Cl</a:t>
            </a:r>
            <a:r>
              <a:rPr b="0" lang="hr-HR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765000"/>
            <a:ext cx="842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2. Kolika je masa kalcij-klorida potrebnog da u reakciji s AgNO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 nastane 12.4 g srebro-klorid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997360"/>
            <a:ext cx="770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m(AgCl) = 12.4 g       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AgCl) =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 143.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?                  M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10.98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9640" y="6093000"/>
            <a:ext cx="69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Potrebno je uzeti 4.83 g kalcij-klor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164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11280" y="19890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Ag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Ca(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 Ag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1052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581360"/>
            <a:ext cx="7705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AgCl) = 12.4 g / 143.3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= 0.087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: n(AgCl) 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= 1 :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/2 * 0.087 * 110.98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4.83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765000"/>
            <a:ext cx="842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3. Produkti izgaranja saharoze su C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i 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. Koja je masa saharoze koja može sagorjeti 5 mola čistog kisik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2997360"/>
            <a:ext cx="7705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5 mola           M(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32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1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1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?       M(C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1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1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342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0" y="5589720"/>
            <a:ext cx="91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Uz 5 mola čistog kisika može sagorjeti 142.5 g saharo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020000" y="184464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79280" y="1916280"/>
            <a:ext cx="633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1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1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12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12 C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11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653000"/>
            <a:ext cx="770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C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1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1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: n(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= 1 :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1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1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/12 * 5 mola * 342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142.5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76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4. Koliko grama fosfatne kiseline i kalcij-hidroksida treba uzeti za pripravu 100 g kalcij-fosf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2997360"/>
            <a:ext cx="7705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m(Ca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(PO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 = 100g 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310.18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(OH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?              M(Ca(OH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74.09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?                 M(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98.00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6035760"/>
            <a:ext cx="71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otrebno je uzeti 71.57 g kalcij-hidroksida i 63.11 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fosfatne kise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164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19890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Ca(OH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C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 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616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2616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944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581360"/>
            <a:ext cx="7705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C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00g / 310.18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= 0.322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Ca(OH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: n(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: 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n(Ca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(PO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 = 3 : 2 :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(OH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3 * 0.322 * 74.09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71.57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2 * 0.322 * 98.00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63.11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765000"/>
            <a:ext cx="8424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5. Koliko grama natrij-sulfata je potrebno da se iz otopine koja sadrži 100 g olovo(II)-nitrata istaloži sve olovo u obliku Pb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2997360"/>
            <a:ext cx="770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m(Pb(NO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 = 100g 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Pb(NO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331.21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?              M(N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42.04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" y="6021360"/>
            <a:ext cx="92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Potrebno je uzeti 42.88 g natrij-sulfata za taloženje olo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164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11280" y="19890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b(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N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Pb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Na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652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508640"/>
            <a:ext cx="770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Pb(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00g / 331.21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= 0.302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N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: n(Pb(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= 1 :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 = 1 * 0.302 * 142.04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42.88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836640"/>
            <a:ext cx="8425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6. Koliko kristalnog Na</a:t>
            </a:r>
            <a:r>
              <a:rPr b="0" lang="hr-HR" sz="20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S treba uzeti da se iz otopine koja sadrži 100 g bizmut(III)-nitrat pentahidrata istaloži sav bizmut u obliku bizmut(III)-sulfid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2781360"/>
            <a:ext cx="51847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Bi(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*5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) = 100g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*9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) = 240.18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Bi(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*5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) = 485.07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*9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) = ?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" y="6093000"/>
            <a:ext cx="78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Potrebno je uzeti 74.25 g kristalnog natrij-sulf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588000" y="2708280"/>
                <a:ext cx="16560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79280" y="1989000"/>
            <a:ext cx="871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2Bi(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*5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 + 3N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*9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 </a:t>
            </a:r>
            <a:r>
              <a:rPr b="0" lang="hr-HR" sz="2400" spc="-1" strike="noStrike">
                <a:solidFill>
                  <a:srgbClr val="0046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Bi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6Na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+ 14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724280"/>
            <a:ext cx="770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Bi(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*5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) = 100g / 485.07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= 0.206 m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n(N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*9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) : n(Bi(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*5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) 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= 3 :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S*9H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O) = 3/2 * 0.206 * 240.18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= 74.25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-451440" y="907920"/>
            <a:ext cx="9903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7. Kolika je masa živog vapna (CaO) koje se može proizves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termičkom razgradnjom 1 tone vapnenca u kojem je maseni ud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čistog CaC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90 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160" y="2133720"/>
            <a:ext cx="4995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vapnenca) = 1 t = 1000 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w(CaC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/vapnenac) = 9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O) = 56 gmol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M(CaCO</a:t>
            </a:r>
            <a:r>
              <a:rPr b="0" lang="hr-HR" sz="24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4600"/>
                </a:solidFill>
                <a:uFillTx/>
                <a:latin typeface="Arial"/>
              </a:rPr>
              <a:t>) = 100 gmol</a:t>
            </a:r>
            <a:r>
              <a:rPr b="0" lang="hr-HR" sz="2400" spc="-1" strike="noStrike" u="sng" baseline="30000">
                <a:solidFill>
                  <a:srgbClr val="004600"/>
                </a:solidFill>
                <a:uFillTx/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m(CaO)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0160" y="4581360"/>
            <a:ext cx="85597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CaC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0.90 * m(vapnenac) = 0.90*1000 kg = 900 kg = 9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5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n(CaC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9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5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g / 100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 9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mol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n(CaO) : n(CaC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1 : 1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CaO) = 9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mola * 56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 504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g = 504 k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14200" y="6278400"/>
            <a:ext cx="65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Može se dobiti 504 kg živog vap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33840" y="1916280"/>
                <a:ext cx="461016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CO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CO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pnena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932360" y="3213000"/>
                <a:ext cx="40323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aO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b7"/>
                </a:solidFill>
                <a:latin typeface="Arial Black"/>
              </a:rPr>
              <a:t>ZADACI ZA VJEŽBU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836640"/>
            <a:ext cx="842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8. Reakcijom otopine željezo(III)-sulfata i barij-klorida nastaje željezo(III)-klorid i bijelo talog barij-sulfata. Izračunaj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a) broj Ba</a:t>
            </a:r>
            <a:r>
              <a:rPr b="0" lang="hr-HR" sz="2000" spc="-1" strike="noStrike" baseline="30000">
                <a:solidFill>
                  <a:srgbClr val="990099"/>
                </a:solidFill>
                <a:latin typeface="Arial"/>
              </a:rPr>
              <a:t>2+</a:t>
            </a: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 iona u nastalom talogu mase 2.5 g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4600"/>
                </a:solidFill>
                <a:latin typeface="Arial"/>
              </a:rPr>
              <a:t>b) masu barij-klorida i željezo(III)-sulfata potrebnih da bi nastao talog te mas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997360"/>
            <a:ext cx="439272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Ba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2.5g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Ba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233.3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(BaCl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485.07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M(Fe</a:t>
            </a:r>
            <a:r>
              <a:rPr b="0" lang="hr-HR" sz="2200" spc="-1" strike="noStrike" u="sng" baseline="-25000">
                <a:solidFill>
                  <a:srgbClr val="004600"/>
                </a:solidFill>
                <a:uFillTx/>
                <a:latin typeface="Arial"/>
              </a:rPr>
              <a:t>2(</a:t>
            </a: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SO</a:t>
            </a:r>
            <a:r>
              <a:rPr b="0" lang="hr-HR" sz="2200" spc="-1" strike="noStrike" u="sng" baseline="-25000">
                <a:solidFill>
                  <a:srgbClr val="004600"/>
                </a:solidFill>
                <a:uFillTx/>
                <a:latin typeface="Arial"/>
              </a:rPr>
              <a:t>4</a:t>
            </a: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)</a:t>
            </a:r>
            <a:r>
              <a:rPr b="0" lang="hr-HR" sz="2200" spc="-1" strike="noStrike" u="sng" baseline="-25000">
                <a:solidFill>
                  <a:srgbClr val="004600"/>
                </a:solidFill>
                <a:uFillTx/>
                <a:latin typeface="Arial"/>
              </a:rPr>
              <a:t>3</a:t>
            </a:r>
            <a:r>
              <a:rPr b="0" lang="hr-HR" sz="2200" spc="-1" strike="noStrike" u="sng">
                <a:solidFill>
                  <a:srgbClr val="004600"/>
                </a:solidFill>
                <a:uFillTx/>
                <a:latin typeface="Arial"/>
              </a:rPr>
              <a:t>) = 399.7 gmol</a:t>
            </a:r>
            <a:r>
              <a:rPr b="0" lang="hr-HR" sz="2200" spc="-1" strike="noStrike" u="sng" baseline="30000">
                <a:solidFill>
                  <a:srgbClr val="004600"/>
                </a:solidFill>
                <a:uFillTx/>
                <a:latin typeface="Arial"/>
              </a:rPr>
              <a:t>-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N(Ba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" y="6143760"/>
            <a:ext cx="79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talogu barij-sulfata mase 2.5 g nalazi se 6.45*10</a:t>
            </a:r>
            <a:r>
              <a:rPr b="0" lang="hr-HR" sz="2400" spc="-1" strike="noStrike" baseline="30000">
                <a:solidFill>
                  <a:srgbClr val="003300"/>
                </a:solidFill>
                <a:latin typeface="Arial"/>
              </a:rPr>
              <a:t>21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 Ba</a:t>
            </a:r>
            <a:r>
              <a:rPr b="0" lang="hr-HR" sz="2400" spc="-1" strike="noStrike" baseline="30000">
                <a:solidFill>
                  <a:srgbClr val="003300"/>
                </a:solidFill>
                <a:latin typeface="Arial"/>
              </a:rPr>
              <a:t>2+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778280" y="2997360"/>
                <a:ext cx="436572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116000" y="2565360"/>
            <a:ext cx="62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Fe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Ba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  <a:ea typeface="Arial"/>
              </a:rPr>
              <a:t>→ 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FeCl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    BaS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450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816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94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6200" y="4869000"/>
            <a:ext cx="84978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n(Ba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2.5g / 233.3 g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 0.011 m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n(Ba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: n(BaS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1:1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N(Ba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 = 1 * 0.011 mol * 6.022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23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mol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= 6.45*10</a:t>
            </a:r>
            <a:r>
              <a:rPr b="0" lang="hr-HR" sz="2200" spc="-1" strike="noStrike" baseline="30000">
                <a:solidFill>
                  <a:srgbClr val="004600"/>
                </a:solidFill>
                <a:latin typeface="Arial"/>
              </a:rPr>
              <a:t>2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8:54:48Z</dcterms:created>
  <dc:creator>vrcek</dc:creator>
  <dc:description/>
  <dc:language>en-US</dc:language>
  <cp:lastModifiedBy>Ivana Vinković-Vrček</cp:lastModifiedBy>
  <dcterms:modified xsi:type="dcterms:W3CDTF">2006-11-14T09:44:44Z</dcterms:modified>
  <cp:revision>40</cp:revision>
  <dc:subject/>
  <dc:title>Chemical Formulas</dc:title>
</cp:coreProperties>
</file>