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DC1-B347-49F6-90F2-197A9006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2A8-5872-4FF4-AD95-DBC48E97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772-FF92-4940-89B5-267CDACE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201-BD6A-4DBD-B11F-DA0E8BEE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B17C-B70E-4170-8E99-E65F85D1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DC9F-3599-4FEB-9769-05F07CC3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0A01-9B14-43F5-857C-9FD5DE41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1384-8165-4F52-94A9-470950AA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5D60-5487-41F6-BD71-F5635965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AC80-9152-4932-81C2-2ADD83C8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AA1A-A345-40C8-8EC9-C54A4613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552-C771-4772-8CC7-645E79D4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0037-01A1-4088-9D59-D83C9DBC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55C9-D72E-4961-B67B-702CC142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6EC0-F293-4CE4-B644-5E39DEFC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0AA7-1653-41D3-B524-A6E9190B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F99F-F058-4EE6-BA2D-10F4783D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62D-AD36-4539-9BD7-A62C058E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7AD-7E93-4DEA-B223-AE07D345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899-2064-4579-8680-77C328A7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8D4-8D85-4B03-B252-EECFB002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46E-3FCD-409B-BB49-A0AC5671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7F6-F24D-492E-9AD8-3731216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06E-C331-428F-A512-4203383A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A105-A453-41DB-9A9B-6B5EF9FE3D0E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BDFA-293A-413D-9BDD-344198AC588C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79280" y="3573360"/>
            <a:ext cx="6264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Malo i srednje poduzetništv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vijesni razvo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efinic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nage i slab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avni obli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Budućn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itera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iropolis:5-35 st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eželjin:Poduzetnički menadžment; 225-26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edavan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280" y="1527120"/>
            <a:ext cx="80629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vijesni razvoj malo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vi poznati zapisi - prije </a:t>
            </a:r>
            <a:r>
              <a:rPr b="1" lang="hr-HR" sz="2000" spc="-1" strike="noStrike">
                <a:solidFill>
                  <a:srgbClr val="33cccc"/>
                </a:solidFill>
                <a:latin typeface="Arial"/>
              </a:rPr>
              <a:t>4000 god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cvjetanje“u starim kulturama: </a:t>
            </a:r>
            <a:r>
              <a:rPr b="0" lang="hr-HR" sz="2000" spc="-1" strike="noStrike">
                <a:solidFill>
                  <a:srgbClr val="33cccc"/>
                </a:solidFill>
                <a:latin typeface="Arial"/>
              </a:rPr>
              <a:t>Arapi, Babilonci, Egipćani, Židovi, Grci, Feničani i Rimlja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oši proizvodi </a:t>
            </a:r>
            <a:r>
              <a:rPr b="0" lang="hr-H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babilonski kralj 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Hamurabij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– Zakonik s 300 zakona za zaštitu potrošač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rednji vijek –mali poduzetnik na niskim granama sve do 19. stolj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 1980.g. – porast statusa malog poduzetništ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33cccc"/>
                </a:solidFill>
                <a:latin typeface="Arial"/>
              </a:rPr>
              <a:t>1. Konferencija Bijele kuć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o malom poduzeć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60 preporuka</a:t>
            </a:r>
            <a:r>
              <a:rPr b="0" lang="hr-H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40 pretočeno u zak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33cccc"/>
                </a:solidFill>
                <a:latin typeface="Arial"/>
              </a:rPr>
              <a:t>2. Konferencija Bijele kuć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- 1986.g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hr-HR" sz="2000" spc="-1" strike="noStrike">
                <a:solidFill>
                  <a:srgbClr val="33cccc"/>
                </a:solidFill>
                <a:latin typeface="Arial"/>
              </a:rPr>
              <a:t>Časopis Inc.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– naklada u 300.000 primjeraka u tri god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98984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efinicija malo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U većini zemalja Europe i SAD-a poduzeća se dijele na mala, srednja i vel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3 kriterija: prema ZOR-a (čl.17- 2.prosinca 2005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ih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Ak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Broj zaposlenih –otporno na inflaciju, transparentno, usporedivo, raspolož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4360" y="4941720"/>
          <a:ext cx="8207280" cy="1655640"/>
        </p:xfrm>
        <a:graphic>
          <a:graphicData uri="http://schemas.openxmlformats.org/drawingml/2006/table">
            <a:tbl>
              <a:tblPr/>
              <a:tblGrid>
                <a:gridCol w="2117880"/>
                <a:gridCol w="1814400"/>
                <a:gridCol w="1959120"/>
                <a:gridCol w="2315880"/>
              </a:tblGrid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Kriterij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l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rednj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Veli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27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108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eko 108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iho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54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216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eko 216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roj zaposleni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2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eko 2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280" y="1527120"/>
            <a:ext cx="87138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nage i slabosti malo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SNAGA: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 SLABOST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1. financijsko izvršenje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1. visok stupanj neuspjeh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2. inovacija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2. pomanjkanje menadžerske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3. ovisnost velikog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stručnos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poduzeća o malom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3. slaba zastupljenost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4. stvaranje novih radnih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manjin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mjesta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5. povećani udjel žena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u malom poduzeću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360" y="1526760"/>
            <a:ext cx="77724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Razlike velikih i malih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Japansko iskustvo uspostavljanja kooperativnih odnosa između malih i velikih poduzeća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Rukovođenje poduzeć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Kadro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Organizac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Tržišt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Nabava i sirovine (materij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Proizvodn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Istraživanje i razvo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Vlasništvo / financiran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avni obli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blik organizacije ovisi o brojnim činiteljim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djelatnost kojim se poduzetnik želi baviti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broj zaposlenih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financije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porezni sustav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podjela obveza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odgovor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INOKOSNO PODUZEĆE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PARTNERSTVO ili ORTAKLUK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DRUŠTVO S OGRANIČENIM ODGOVORNOŠĆ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DIONIČKO DRUŠTVO ili KOORPORAC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ruštva osob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Orta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Tajno dru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Javno trgovačko dru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Komanditno dru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Gospodarsko interesno udružen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Zadrug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Zadružni save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Udrug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ruštva kapita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Dioničko dru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Društvo s ograničenom odgovornoš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Društvo za uzajamno osiguran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Trgovačka društ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640" y="2276280"/>
            <a:ext cx="619272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Budućnost malih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apredak  gospodarst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utjecaj državne i lokalne vla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moć velikih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onošenja zakona 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litika za poticanje razvoja malih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0:07:59Z</dcterms:created>
  <dc:creator>User</dc:creator>
  <dc:description/>
  <dc:language>en-US</dc:language>
  <cp:lastModifiedBy>korisnik</cp:lastModifiedBy>
  <dcterms:modified xsi:type="dcterms:W3CDTF">2009-03-08T18:51:43Z</dcterms:modified>
  <cp:revision>12</cp:revision>
  <dc:subject/>
  <dc:title>Poduzetnički menadžment</dc:title>
</cp:coreProperties>
</file>