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A98-6462-4AD1-A56F-3D4B22C5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079-06DA-484D-AE59-395B6D5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8DE-83DF-4E06-B70A-EC6CD1BF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25D-3203-428A-8745-D6762BD5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70FF-A8DB-4C4C-9DFC-409F81259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2BBA-C653-47CC-9276-542B4178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9B56-0F18-4E97-BEC2-E55E1504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8B4F-C23A-4BDA-889D-0EA0283F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9BF2-500C-41BB-8DB1-079B7B7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CE0B-797C-427A-BA1F-1B4C6113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66BB-E35A-44C7-BF5B-360596E8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B45-DA60-4A71-92EF-E29068B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6E6-B68F-4C1A-8D6B-0E6B22CD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10C6-9F32-4C89-911A-A1B8927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ACF-FA24-4139-B116-180299F9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9837-5E75-4312-BADD-85BEE277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901A-3E12-4A1E-83AD-2771C157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9B23-D210-4FE2-9A51-A41BD9FB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C8A-469F-4FAC-9500-2C4D937F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41ED-81FB-44F9-9FC9-F5EDE1BE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59B-EAA1-48CB-95D9-EBA85B0A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CA6-7398-46E3-BC81-6ECF0449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B76-E463-41C7-83C9-67870F1E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0D4-5178-4ED4-91FC-17558F07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FE0-1739-4D1E-A767-A477ED8BA431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2DF00-8DAD-49D0-B24D-49AEB6707ECE}" type="slidenum">
              <a:rPr b="1" lang="hr-H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979280" y="3573360"/>
            <a:ext cx="6264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Malo i srednje poduzetništvo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vijesni razv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fini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nage i slab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avni obli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uduć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tera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iropolis:5-35 st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željin:Poduzetnički menadžment; 225-26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edava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1527120"/>
            <a:ext cx="80629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vijesni razvoj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vi poznati zapisi - prije 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4000 godi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cvjetanje“u starim kulturama: </a:t>
            </a:r>
            <a:r>
              <a:rPr b="0" lang="hr-HR" sz="2000" spc="-1" strike="noStrike">
                <a:solidFill>
                  <a:srgbClr val="33cccc"/>
                </a:solidFill>
                <a:latin typeface="Arial"/>
              </a:rPr>
              <a:t>Arapi, Babilonci, Egipćani, Židovi, Grci, Feničani i Rimlja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oši proizvodi </a:t>
            </a:r>
            <a:r>
              <a:rPr b="0" lang="hr-H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babilonski kralj 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Hamurabij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– Zakonik s 300 zakona za zaštitu potrošač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rednji vijek –mali poduzetnik na niskim granama sve do 19. stolj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 1980.g. – porast statusa malog poduzetniš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1. Konferencija Bijele kuć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o malom poduzeć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60 preporuka</a:t>
            </a:r>
            <a:r>
              <a:rPr b="0" lang="hr-HR" sz="18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40 pretočeno u zak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2. Konferencija Bijele kuć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- 1986.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hr-HR" sz="2000" spc="-1" strike="noStrike">
                <a:solidFill>
                  <a:srgbClr val="33cccc"/>
                </a:solidFill>
                <a:latin typeface="Arial"/>
              </a:rPr>
              <a:t>Časopis Inc.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– naklada u 300.000 primjeraka u tri god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989840" cy="29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efinicija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 većini zemalja Europe i SAD-a poduzeća se dijele na mala, srednja i vel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3 kriterija: prema ZOR-a (čl.17- 2.prosinca 2005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h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Ak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roj zaposlenih –otporno na inflaciju, transparentno, usporedivo, raspoloživ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84360" y="4941720"/>
          <a:ext cx="8207280" cy="1655640"/>
        </p:xfrm>
        <a:graphic>
          <a:graphicData uri="http://schemas.openxmlformats.org/drawingml/2006/table">
            <a:tbl>
              <a:tblPr/>
              <a:tblGrid>
                <a:gridCol w="2117880"/>
                <a:gridCol w="1814400"/>
                <a:gridCol w="1959120"/>
                <a:gridCol w="2315880"/>
              </a:tblGrid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Kriterij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l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rednj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Veli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7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108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108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iho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54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16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216 mil. k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roj zaposlenih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o 2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ko 25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280" y="1527120"/>
            <a:ext cx="87138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nage i slabosti malog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SNAGA: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Arial"/>
              </a:rPr>
              <a:t> SLABOSTI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. financijsko izvršenje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. visok stupanj neuspjeh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2. inovacija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2. pomanjkanje menadžerske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3. ovisnost velikog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stručno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duzeća o malom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3. slaba zastupljenost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4. stvaranje novih radnih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manji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mjesta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5. povećani udjel žena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u malom poduzeću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4360" y="1526760"/>
            <a:ext cx="77724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azlike velikih i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Japansko iskustvo uspostavljanja kooperativnih odnosa između malih i velikih poduzeća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ukovođenje poduzeć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Kadro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Organiza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Tržišt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Nabava i sirovine (materij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roizvod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Istraživanje i razvoj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Vlasništvo / financiran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41264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avni obli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lik organizacije ovisi o brojnim činiteljim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djelatnost kojim se poduzetnik želi baviti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roj zaposlenih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financije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rezni sustav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podjela obveza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odgovorno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INOKOSNO PODUZEĆE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ARTNERSTVO ili ORTAKLUK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DRUŠTVO S OGRANIČENIM ODGOVORNOŠĆ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DIONIČKO DRUŠTVO ili KOORPORACI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48392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ruštva osob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Orta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ajn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Javno trgovačk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Komanditn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Gospodarsko interesno udružen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Zadrug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Zadružni savez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Udrug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Društva kapita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ioničko društ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ruštvo s ograničenom odgovornošć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Društvo za uzajamno osiguranj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Trgovačka društ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640" y="2276280"/>
            <a:ext cx="619272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Budućnost malih poduze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predak  gospodarst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utjecaj državne i lokalne vla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moć velikih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onošenja zakona 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litika za poticanje razvoja malih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korisnik</cp:lastModifiedBy>
  <dcterms:modified xsi:type="dcterms:W3CDTF">2009-03-08T18:51:43Z</dcterms:modified>
  <cp:revision>12</cp:revision>
  <dc:subject/>
  <dc:title>Poduzetnički menadžment</dc:title>
</cp:coreProperties>
</file>