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A4B8-5F1F-43FB-A7FC-A8EF6652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BA20-E58E-4F8A-8AC3-2C00A782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1A2E-B811-42A3-9A6B-1FCFDB11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0689-1DD7-4C3F-A96A-E2322033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53DC-FAD2-4ED4-8030-1F25DA25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131F-5C55-40A4-A740-C1C127E8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4B5A-1B8F-476A-AA0D-E59E63F5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D877-B604-496A-AD93-00EC66FD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C95C-1A0E-4532-8F21-C8EC7AE1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8345-C100-4E2C-9DAF-528981AF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B233-7F5B-4059-B107-8CFA8E21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DC4B-4EDB-4C60-9A18-231AA36F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0BD7-C11C-4E66-937C-CF1DCF457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Teorije vanjske trgov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ERKANTILIZ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EORIJA APSOLUTNIH PREDNOSTI A. SMIT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EORIJA KOMPARATIVNIH PREDNOSTI D. RICA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HECKSCHER-OHLINOVA TEORIJA VANJSKE TRGOV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66"/>
                </a:solidFill>
                <a:latin typeface="Arial"/>
              </a:rPr>
              <a:t>NOVIJE TEORIJE VANJSKE TRGOV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 Linderove teorije mogu se izvesti slijedeći zaključc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duvjet za izvoz industrijskih proizvoda jest postojanje postojanje domaće potražnje za istim proizvodim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vozni sektori su samo oni koji su dovoljno veliki, tj. koji zadovoljavaju domaću potražnj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što je veća sličnost struktura privreda dviju zemalja, veća je mogućnost njihove međusobne razmjen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tencijalni volumen vanjske trgovine dviju zemalja je veći što je razina dohotka per capita u njima bliža,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1403280" y="2852640"/>
            <a:ext cx="3529080" cy="3168720"/>
          </a:xfrm>
          <a:custGeom>
            <a:avLst/>
            <a:gdLst/>
            <a:ahLst/>
            <a:rect l="l" t="t" r="r" b="b"/>
            <a:pathLst>
              <a:path w="2222" h="2177">
                <a:moveTo>
                  <a:pt x="0" y="0"/>
                </a:moveTo>
                <a:cubicBezTo>
                  <a:pt x="67" y="26"/>
                  <a:pt x="135" y="53"/>
                  <a:pt x="226" y="91"/>
                </a:cubicBezTo>
                <a:cubicBezTo>
                  <a:pt x="317" y="129"/>
                  <a:pt x="423" y="167"/>
                  <a:pt x="544" y="227"/>
                </a:cubicBezTo>
                <a:cubicBezTo>
                  <a:pt x="665" y="287"/>
                  <a:pt x="824" y="370"/>
                  <a:pt x="952" y="453"/>
                </a:cubicBezTo>
                <a:cubicBezTo>
                  <a:pt x="1080" y="536"/>
                  <a:pt x="1179" y="612"/>
                  <a:pt x="1315" y="726"/>
                </a:cubicBezTo>
                <a:cubicBezTo>
                  <a:pt x="1451" y="840"/>
                  <a:pt x="1633" y="968"/>
                  <a:pt x="1769" y="1134"/>
                </a:cubicBezTo>
                <a:cubicBezTo>
                  <a:pt x="1905" y="1300"/>
                  <a:pt x="2056" y="1550"/>
                  <a:pt x="2131" y="1724"/>
                </a:cubicBezTo>
                <a:cubicBezTo>
                  <a:pt x="2206" y="1898"/>
                  <a:pt x="2214" y="2037"/>
                  <a:pt x="2222" y="2177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rot="321600">
            <a:off x="1190520" y="2347560"/>
            <a:ext cx="6118200" cy="3456000"/>
          </a:xfrm>
          <a:custGeom>
            <a:avLst/>
            <a:gdLst/>
            <a:ahLst/>
            <a:rect l="l" t="t" r="r" b="b"/>
            <a:pathLst>
              <a:path w="3856" h="2358">
                <a:moveTo>
                  <a:pt x="0" y="0"/>
                </a:moveTo>
                <a:cubicBezTo>
                  <a:pt x="159" y="30"/>
                  <a:pt x="318" y="61"/>
                  <a:pt x="590" y="136"/>
                </a:cubicBezTo>
                <a:cubicBezTo>
                  <a:pt x="862" y="211"/>
                  <a:pt x="1346" y="347"/>
                  <a:pt x="1633" y="453"/>
                </a:cubicBezTo>
                <a:cubicBezTo>
                  <a:pt x="1920" y="559"/>
                  <a:pt x="2095" y="658"/>
                  <a:pt x="2314" y="771"/>
                </a:cubicBezTo>
                <a:cubicBezTo>
                  <a:pt x="2533" y="884"/>
                  <a:pt x="2730" y="953"/>
                  <a:pt x="2949" y="1134"/>
                </a:cubicBezTo>
                <a:cubicBezTo>
                  <a:pt x="3168" y="1315"/>
                  <a:pt x="3478" y="1655"/>
                  <a:pt x="3629" y="1859"/>
                </a:cubicBezTo>
                <a:cubicBezTo>
                  <a:pt x="3780" y="2063"/>
                  <a:pt x="3811" y="2252"/>
                  <a:pt x="3856" y="2358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500720" y="4869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724360" y="393372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4788000" y="4149720"/>
            <a:ext cx="86364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300720" y="61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47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76364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61928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21164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94036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059280" y="321300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427640" y="249228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411280" y="1916280"/>
            <a:ext cx="0" cy="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411280" y="2276640"/>
            <a:ext cx="6264360" cy="2881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995640" y="2997360"/>
            <a:ext cx="216000" cy="2394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 flipV="1">
            <a:off x="3058560" y="1116720"/>
            <a:ext cx="243756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76" y="201"/>
                </a:moveTo>
                <a:arcTo wR="10800" hR="10800" stAng="-4735068" swAng="3989257"/>
                <a:lnTo>
                  <a:pt x="10800" y="10800"/>
                </a:lnTo>
                <a:close/>
              </a:path>
              <a:path fill="none" w="21600" h="21600">
                <a:moveTo>
                  <a:pt x="12876" y="201"/>
                </a:moveTo>
                <a:arcTo wR="10800" hR="10800" stAng="-4735068" swAng="3989257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H="1" flipV="1">
            <a:off x="2698920" y="1121040"/>
            <a:ext cx="2437200" cy="289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38" y="194"/>
                </a:moveTo>
                <a:arcTo wR="10800" hR="10800" stAng="-4747398" swAng="4359760"/>
                <a:lnTo>
                  <a:pt x="10800" y="10800"/>
                </a:lnTo>
                <a:close/>
              </a:path>
              <a:path fill="none" w="21600" h="21600">
                <a:moveTo>
                  <a:pt x="12838" y="194"/>
                </a:moveTo>
                <a:arcTo wR="10800" hR="10800" stAng="-4747398" swAng="435976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 flipV="1" rot="20202000">
            <a:off x="2579760" y="-1440"/>
            <a:ext cx="243720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H="1" flipV="1">
            <a:off x="4500720" y="468000"/>
            <a:ext cx="243720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716360" y="292428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348000" y="2637000"/>
            <a:ext cx="216000" cy="2394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987640" y="357336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276720" y="3500280"/>
            <a:ext cx="21564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780000" y="30686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716360" y="2708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348000" y="2421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348000" y="3357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771640" y="371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435640" y="566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372360" y="479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308720" y="422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3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3000"/>
                            </p:stCondLst>
                            <p:childTnLst>
                              <p:par>
                                <p:cTn id="8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3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3000"/>
                            </p:stCondLst>
                            <p:childTnLst>
                              <p:par>
                                <p:cTn id="8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500"/>
                            </p:stCondLst>
                            <p:childTnLst>
                              <p:par>
                                <p:cTn id="8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8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tpostavljamo da je došlo do kvalitativnog ili kvantitativnog porasta proizvodnog faktora L u zemlji A koji se intenzivnije troši u proizvodnji izvoznog dobra x zemlje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rastom relativno obilnijeg proizvodnog faktora L mijenja se KP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mjenom krivulje transformacije uz isti odnos cijena – javlja se višak ponude dobra X nad potražnjom na svjetskom tržištu što uvjetuje opadanje njegove cij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04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d je odnos cijena manji od 1, odnos cijena se smanj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 tom se izjednačuje ponuda i potražnja za dobrom X na međunarodnom tržiš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 obzirom da je odnos cijena manji nego prije,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uvjeti razmjene zemlje A su se pogoršal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to zemlja ne može doseći krivulju indiferencije 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1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eć 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o znači ujedno da su se uvjeti razmjene za zemlju B poboljš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na kupi koristi od privrednog rasta u zemlji A koji je posljedica povećanja količine i/ili kvalitete relativno obilnog faktora te zemlje ili tehničkog napretka u proizvodnji izvoznog proizvoda zemlje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 je zemlja A željela i nakon porasta svog obilnog proizvodnog faktora smanjivati razmjenu, ona bi u cijelosti zadržala za sebe koristi od svog razvoja jer bi se njezini uvjeti razmjene poboljš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340000" y="54450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997080" y="9079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726520" y="256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989440" y="112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997440" y="2924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219640" y="270828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411280" y="1197000"/>
            <a:ext cx="3095640" cy="4248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340000" y="2637000"/>
            <a:ext cx="345600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851280" y="2421000"/>
            <a:ext cx="129528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2340000" y="1989000"/>
            <a:ext cx="3600360" cy="345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2340000" y="836640"/>
            <a:ext cx="2879640" cy="4680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148360" y="2565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780000" y="2781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340000" y="1557360"/>
            <a:ext cx="1655640" cy="388944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788000" y="47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651640" y="17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3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3000"/>
                            </p:stCondLst>
                            <p:childTnLst>
                              <p:par>
                                <p:cTn id="8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3500"/>
                            </p:stCondLst>
                            <p:childTnLst>
                              <p:par>
                                <p:cTn id="8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3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4000"/>
                            </p:stCondLst>
                            <p:childTnLst>
                              <p:par>
                                <p:cTn id="8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3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Utjecaj promjena svjetske cijene na domaća tržišt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2124000" y="155736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007680" y="1268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150960" y="4365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37160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2133720" y="3715920"/>
            <a:ext cx="3517920" cy="1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2124000" y="2997360"/>
            <a:ext cx="2160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403280" y="2781360"/>
            <a:ext cx="492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2124000" y="2133720"/>
            <a:ext cx="503280" cy="43164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195280" y="2421000"/>
            <a:ext cx="936360" cy="72072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2340000" y="2708280"/>
            <a:ext cx="1295280" cy="100800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131640" y="2924280"/>
            <a:ext cx="1079640" cy="86508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4140000" y="3213000"/>
            <a:ext cx="502920" cy="50328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5003640" y="3500280"/>
            <a:ext cx="216000" cy="21600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195640" y="3933720"/>
            <a:ext cx="43164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195640" y="3860640"/>
            <a:ext cx="64764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195640" y="4076640"/>
            <a:ext cx="36036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195640" y="4005360"/>
            <a:ext cx="36036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124000" y="3789360"/>
            <a:ext cx="79236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050920" y="4149720"/>
            <a:ext cx="28908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755280" y="4005360"/>
            <a:ext cx="1584360" cy="43164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45086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izvođačev 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H="1" flipV="1">
            <a:off x="1116000" y="981000"/>
            <a:ext cx="1511280" cy="172728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50920" y="260280"/>
            <a:ext cx="20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trošačev 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19280" y="3141720"/>
            <a:ext cx="0" cy="503280"/>
          </a:xfrm>
          <a:prstGeom prst="line">
            <a:avLst/>
          </a:prstGeom>
          <a:ln cap="rnd"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kon otvaranja i vanjske trgovine, pod pretpostavkom da je svjetska cijena niža, dolazi do slijedećih efek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e domaće ponu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većanje domaće potrošnj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većanja potrošačeva višk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a proizvođačeva viš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900000" y="620640"/>
            <a:ext cx="7920000" cy="704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Izvori dobitaka od trgov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24000" y="1700280"/>
            <a:ext cx="8280360" cy="4751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obici zemlje od trgovine koji povećavaju blagostanje mogu se podijeliti na dva dije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obici od razmje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tpostavimo da trgovina mijenja relativnu cijenu, a zemlja nastavlja proizvoditi u točki autarkične ravnoteže,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emlja će osjetiti korist u povećanju blagostanja krećući se od točke 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obici od specijalizaci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mjena relativne cijene dovodi do promjene proizvodnje od toč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 toč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Q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emlja će osjetiti dodatnu korist u blagostanju zbog proizvodne specijalizacije mjerene kretanjem od toč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C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 flipV="1">
            <a:off x="1547640" y="1125000"/>
            <a:ext cx="0" cy="496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47640" y="609300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284720" y="1844640"/>
            <a:ext cx="2158920" cy="3384720"/>
          </a:xfrm>
          <a:custGeom>
            <a:avLst/>
            <a:gdLst/>
            <a:ahLst/>
            <a:rect l="l" t="t" r="r" b="b"/>
            <a:pathLst>
              <a:path w="1315" h="2177">
                <a:moveTo>
                  <a:pt x="0" y="0"/>
                </a:moveTo>
                <a:cubicBezTo>
                  <a:pt x="11" y="136"/>
                  <a:pt x="22" y="272"/>
                  <a:pt x="45" y="408"/>
                </a:cubicBezTo>
                <a:cubicBezTo>
                  <a:pt x="68" y="544"/>
                  <a:pt x="98" y="688"/>
                  <a:pt x="136" y="816"/>
                </a:cubicBezTo>
                <a:cubicBezTo>
                  <a:pt x="174" y="944"/>
                  <a:pt x="219" y="1058"/>
                  <a:pt x="272" y="1179"/>
                </a:cubicBezTo>
                <a:cubicBezTo>
                  <a:pt x="325" y="1300"/>
                  <a:pt x="385" y="1436"/>
                  <a:pt x="453" y="1542"/>
                </a:cubicBezTo>
                <a:cubicBezTo>
                  <a:pt x="521" y="1648"/>
                  <a:pt x="597" y="1738"/>
                  <a:pt x="680" y="1814"/>
                </a:cubicBezTo>
                <a:cubicBezTo>
                  <a:pt x="763" y="1890"/>
                  <a:pt x="846" y="1935"/>
                  <a:pt x="952" y="1996"/>
                </a:cubicBezTo>
                <a:cubicBezTo>
                  <a:pt x="1058" y="2057"/>
                  <a:pt x="1262" y="2154"/>
                  <a:pt x="1315" y="2177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763640" y="2205000"/>
            <a:ext cx="5905440" cy="3240000"/>
          </a:xfrm>
          <a:prstGeom prst="line">
            <a:avLst/>
          </a:prstGeom>
          <a:ln w="38160">
            <a:solidFill>
              <a:srgbClr val="6c54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059280" y="3429000"/>
            <a:ext cx="3889080" cy="2160720"/>
          </a:xfrm>
          <a:prstGeom prst="line">
            <a:avLst/>
          </a:prstGeom>
          <a:ln w="38160">
            <a:solidFill>
              <a:srgbClr val="6c54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1618920" y="4797000"/>
            <a:ext cx="5040360" cy="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19280" y="422100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50072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547640" y="2997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132000" y="299736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651640" y="4869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659640" y="4869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348000" y="2205000"/>
            <a:ext cx="2016000" cy="3600360"/>
          </a:xfrm>
          <a:prstGeom prst="line">
            <a:avLst/>
          </a:prstGeom>
          <a:ln w="38160">
            <a:solidFill>
              <a:srgbClr val="6c54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771640" y="3068640"/>
            <a:ext cx="360360" cy="1728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284720" y="4292640"/>
            <a:ext cx="142920" cy="504720"/>
          </a:xfrm>
          <a:custGeom>
            <a:avLst/>
            <a:gdLst>
              <a:gd name="textAreaLeft" fmla="*/ 91440 w 142920"/>
              <a:gd name="textAreaRight" fmla="*/ 143280 w 14292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rot="16200000">
            <a:off x="4787640" y="3715920"/>
            <a:ext cx="289080" cy="3457440"/>
          </a:xfrm>
          <a:custGeom>
            <a:avLst/>
            <a:gdLst>
              <a:gd name="textAreaLeft" fmla="*/ 184680 w 289080"/>
              <a:gd name="textAreaRight" fmla="*/ 289080 w 289080"/>
              <a:gd name="textAreaTop" fmla="*/ 90000 h 3457440"/>
              <a:gd name="textAreaBottom" fmla="*/ 3367440 h 34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53"/>
                </a:lnTo>
                <a:cubicBezTo>
                  <a:pt x="10800" y="10453"/>
                  <a:pt x="5400" y="11353"/>
                  <a:pt x="0" y="11353"/>
                </a:cubicBezTo>
                <a:cubicBezTo>
                  <a:pt x="5400" y="11353"/>
                  <a:pt x="10800" y="12253"/>
                  <a:pt x="10800" y="1315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rot="16200000">
            <a:off x="4931640" y="4437720"/>
            <a:ext cx="288720" cy="1150920"/>
          </a:xfrm>
          <a:custGeom>
            <a:avLst/>
            <a:gdLst>
              <a:gd name="textAreaLeft" fmla="*/ 184680 w 288720"/>
              <a:gd name="textAreaRight" fmla="*/ 289080 w 28872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789"/>
                </a:lnTo>
                <a:cubicBezTo>
                  <a:pt x="10800" y="10689"/>
                  <a:pt x="5400" y="11589"/>
                  <a:pt x="0" y="11589"/>
                </a:cubicBezTo>
                <a:cubicBezTo>
                  <a:pt x="5400" y="11589"/>
                  <a:pt x="10800" y="12489"/>
                  <a:pt x="10800" y="1338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82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Efekti otvaranja i djelomična specijaliz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500720" y="400536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59280" y="2637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Q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863960" y="5661000"/>
            <a:ext cx="67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U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143800" y="38606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Iz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512160" y="43657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Iz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851280" y="1916280"/>
            <a:ext cx="2158920" cy="3456000"/>
          </a:xfrm>
          <a:custGeom>
            <a:avLst/>
            <a:gdLst/>
            <a:ahLst/>
            <a:rect l="l" t="t" r="r" b="b"/>
            <a:pathLst>
              <a:path w="1315" h="2177">
                <a:moveTo>
                  <a:pt x="0" y="0"/>
                </a:moveTo>
                <a:cubicBezTo>
                  <a:pt x="11" y="136"/>
                  <a:pt x="22" y="272"/>
                  <a:pt x="45" y="408"/>
                </a:cubicBezTo>
                <a:cubicBezTo>
                  <a:pt x="68" y="544"/>
                  <a:pt x="98" y="688"/>
                  <a:pt x="136" y="816"/>
                </a:cubicBezTo>
                <a:cubicBezTo>
                  <a:pt x="174" y="944"/>
                  <a:pt x="219" y="1058"/>
                  <a:pt x="272" y="1179"/>
                </a:cubicBezTo>
                <a:cubicBezTo>
                  <a:pt x="325" y="1300"/>
                  <a:pt x="385" y="1436"/>
                  <a:pt x="453" y="1542"/>
                </a:cubicBezTo>
                <a:cubicBezTo>
                  <a:pt x="521" y="1648"/>
                  <a:pt x="597" y="1738"/>
                  <a:pt x="680" y="1814"/>
                </a:cubicBezTo>
                <a:cubicBezTo>
                  <a:pt x="763" y="1890"/>
                  <a:pt x="846" y="1935"/>
                  <a:pt x="952" y="1996"/>
                </a:cubicBezTo>
                <a:cubicBezTo>
                  <a:pt x="1058" y="2057"/>
                  <a:pt x="1262" y="2154"/>
                  <a:pt x="1315" y="2177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719520" y="1557360"/>
            <a:ext cx="2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157280" y="1484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I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810320" y="1413000"/>
            <a:ext cx="34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I’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rot="21331200">
            <a:off x="5219640" y="1625760"/>
            <a:ext cx="2086200" cy="3668400"/>
          </a:xfrm>
          <a:custGeom>
            <a:avLst/>
            <a:gdLst/>
            <a:ahLst/>
            <a:rect l="l" t="t" r="r" b="b"/>
            <a:pathLst>
              <a:path w="1315" h="2177">
                <a:moveTo>
                  <a:pt x="0" y="0"/>
                </a:moveTo>
                <a:cubicBezTo>
                  <a:pt x="11" y="136"/>
                  <a:pt x="22" y="272"/>
                  <a:pt x="45" y="408"/>
                </a:cubicBezTo>
                <a:cubicBezTo>
                  <a:pt x="68" y="544"/>
                  <a:pt x="98" y="688"/>
                  <a:pt x="136" y="816"/>
                </a:cubicBezTo>
                <a:cubicBezTo>
                  <a:pt x="174" y="944"/>
                  <a:pt x="219" y="1058"/>
                  <a:pt x="272" y="1179"/>
                </a:cubicBezTo>
                <a:cubicBezTo>
                  <a:pt x="325" y="1300"/>
                  <a:pt x="385" y="1436"/>
                  <a:pt x="453" y="1542"/>
                </a:cubicBezTo>
                <a:cubicBezTo>
                  <a:pt x="521" y="1648"/>
                  <a:pt x="597" y="1738"/>
                  <a:pt x="680" y="1814"/>
                </a:cubicBezTo>
                <a:cubicBezTo>
                  <a:pt x="763" y="1890"/>
                  <a:pt x="846" y="1935"/>
                  <a:pt x="952" y="1996"/>
                </a:cubicBezTo>
                <a:cubicBezTo>
                  <a:pt x="1058" y="2057"/>
                  <a:pt x="1262" y="2154"/>
                  <a:pt x="1315" y="2177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863960" y="5157720"/>
            <a:ext cx="67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U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508720" y="458136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598080" y="4581360"/>
            <a:ext cx="35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C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453080" y="6165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189080" y="13413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060720" y="19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878880" y="5445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669440" y="530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285800" y="6021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436360" y="602136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444000" y="602136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916360" y="6021360"/>
            <a:ext cx="7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’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044360" y="4508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044720" y="39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042920" y="2781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547640" y="4797360"/>
            <a:ext cx="4104000" cy="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rot="549600">
            <a:off x="-2979720" y="2372040"/>
            <a:ext cx="7908840" cy="617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19" y="2"/>
                </a:moveTo>
                <a:arcTo wR="10800" hR="10800" stAng="-5330382" swAng="5355444"/>
                <a:lnTo>
                  <a:pt x="10800" y="10800"/>
                </a:lnTo>
                <a:close/>
              </a:path>
              <a:path fill="none" w="21600" h="21600">
                <a:moveTo>
                  <a:pt x="11019" y="2"/>
                </a:moveTo>
                <a:arcTo wR="10800" hR="10800" stAng="-5330382" swAng="53554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405080" y="602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7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500"/>
                            </p:stCondLst>
                            <p:childTnLst>
                              <p:par>
                                <p:cTn id="9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000"/>
                            </p:stCondLst>
                            <p:childTnLst>
                              <p:par>
                                <p:cTn id="9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500"/>
                            </p:stCondLst>
                            <p:childTnLst>
                              <p:par>
                                <p:cTn id="9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7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000"/>
                            </p:stCondLst>
                            <p:childTnLst>
                              <p:par>
                                <p:cTn id="9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2500"/>
                            </p:stCondLst>
                            <p:childTnLst>
                              <p:par>
                                <p:cTn id="9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3000"/>
                            </p:stCondLst>
                            <p:childTnLst>
                              <p:par>
                                <p:cTn id="9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500"/>
                            </p:stCondLst>
                            <p:childTnLst>
                              <p:par>
                                <p:cTn id="10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3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1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500"/>
                            </p:stCondLst>
                            <p:childTnLst>
                              <p:par>
                                <p:cTn id="10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1844640"/>
            <a:ext cx="8610480" cy="486900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ehnološka promjena utječe na svjetsku trgovinu stalnim uvođenjem novih dobara na tržište i unapređivanjem načina proizvodnje postojećih proizvo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bog toga što tehnologija nije podjednako dostupna svim zemljama nastaju tehnološki jazovi u kojima je najnaprednija tehnologija koncentrirana u relativno malo zemal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odel tehnološkog jaza naglašava vremenski pomak u imitaci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Teorija životnog ciklusa proizvo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Čim se zemlja otvori – novi odnos cijena p’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na i dalje proizvodi u Q – ne može tako brzo mijenjati proizvodn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Čim su potrošači ustanovili te cijene p’ – krenuli su kupovati preko granice i dosegli višu krivulju indiferencije I’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izvodnja je i dalje u Q. Potrošači su ti koji brzo reagiraju, imaju novce u ruk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ogu uvesti mm’ X-a, a izvesti nn’ Y-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kazalo se da imamo komparativnu prednost u Y-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okut pokazuje trgovinu te zemlje s inozemstv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govina nam je omogućila dosizanje više krivulje indiferen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avac p’ siječe krivulju proizvodnih mogućnosti, a to nije optimal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timalno bi bilo da p’ dodiruje KP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vučemo p’ tako da tangira KPM – dosežemo još višu krivulju proizvodnih mogućnos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mamo 2 troku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anji trokut je efekt otvaranja – ostala je ista struktura proizvodnje, promijenila se struktura potrošnje, dosegli smo višu krivulju indiferen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eći trokut je efekt specijalizacije – mijenja se i struktura proizvodn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3" name=""/>
          <p:cNvGraphicFramePr/>
          <p:nvPr/>
        </p:nvGraphicFramePr>
        <p:xfrm>
          <a:off x="1187280" y="1125360"/>
          <a:ext cx="6650280" cy="493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25360"/>
                    <a:ext cx="665028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5" name=""/>
          <p:cNvSpPr/>
          <p:nvPr/>
        </p:nvSpPr>
        <p:spPr>
          <a:xfrm>
            <a:off x="1979640" y="3500280"/>
            <a:ext cx="3313080" cy="1944720"/>
          </a:xfrm>
          <a:custGeom>
            <a:avLst/>
            <a:gdLst/>
            <a:ahLst/>
            <a:rect l="l" t="t" r="r" b="b"/>
            <a:pathLst>
              <a:path w="2360" h="1280">
                <a:moveTo>
                  <a:pt x="0" y="0"/>
                </a:moveTo>
                <a:cubicBezTo>
                  <a:pt x="300" y="82"/>
                  <a:pt x="1406" y="282"/>
                  <a:pt x="1800" y="496"/>
                </a:cubicBezTo>
                <a:cubicBezTo>
                  <a:pt x="2193" y="709"/>
                  <a:pt x="2243" y="1116"/>
                  <a:pt x="2360" y="1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013080" y="58053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rot="16200000">
            <a:off x="351000" y="2104920"/>
            <a:ext cx="14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rot="678000">
            <a:off x="2556000" y="2060280"/>
            <a:ext cx="1079280" cy="936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508720" y="5445000"/>
            <a:ext cx="122400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x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32720" y="4869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716360" y="436572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49236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572000" y="465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771640" y="2492280"/>
            <a:ext cx="216000" cy="241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rot="20409600">
            <a:off x="3348000" y="3284280"/>
            <a:ext cx="1079640" cy="93636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276720" y="1773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916360" y="19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411280" y="26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635280" y="3860640"/>
            <a:ext cx="216000" cy="241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916360" y="1341360"/>
            <a:ext cx="2519280" cy="39592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195640" y="1557360"/>
            <a:ext cx="2376360" cy="367200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340000" y="3357720"/>
            <a:ext cx="4464000" cy="180000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067280" y="566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x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3059280" y="2133720"/>
            <a:ext cx="288720" cy="28728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rot="763200">
            <a:off x="3203280" y="1557360"/>
            <a:ext cx="1079280" cy="936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708360" y="36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124000" y="1773360"/>
            <a:ext cx="2376720" cy="367164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203640" y="364500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987640" y="3860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5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8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fekti otvaran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 – p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= promjena ci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 – 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= efekt razm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= efekt proizvod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 – 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= ukupna korist od trgo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 – s = efekt supstitu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 - 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= dohodovni efek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1476360" y="620640"/>
            <a:ext cx="0" cy="496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476360" y="5589720"/>
            <a:ext cx="68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476360" y="2924280"/>
            <a:ext cx="93492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476360" y="2924280"/>
            <a:ext cx="345600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812000" y="558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900000" y="62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rot="21301200">
            <a:off x="2195640" y="3212640"/>
            <a:ext cx="1079280" cy="936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rot="763200">
            <a:off x="1763280" y="3933720"/>
            <a:ext cx="1079640" cy="936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476360" y="4076640"/>
            <a:ext cx="201600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979640" y="4292640"/>
            <a:ext cx="0" cy="12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908000" y="4221000"/>
            <a:ext cx="216000" cy="241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268360" y="465300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627280" y="378936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411280" y="4869000"/>
            <a:ext cx="0" cy="7207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771640" y="4005360"/>
            <a:ext cx="0" cy="1584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763640" y="566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195640" y="566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627280" y="566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780000" y="333360"/>
            <a:ext cx="467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 efekt supstitu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 efekt doho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067280" y="1628640"/>
            <a:ext cx="424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fekt supstitucije uvijek dovodi do povećanja potražnje za robom čija je cijena pa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fekt dohotka može ići u svakom pravcu ovisno o tome radi li se o normalnoj ili inferiornoj rob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3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7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1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5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Indeksi uvjeta trgov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stoje razni indeksi uvjeta trgov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OBNI UVJETI TRGOVINE – indeks izvoznih cijena podijeljen s indeksom uvoznih cijena. Poboljšava se ako je veći od 100, što znači da izvozne cijene rastu brže od cijena uvoznih ro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UT =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HODNI UVJETI TRGOVINE – ovo je mjera mogućnosti zemlje da uvozi ro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UT = (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*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gdje 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dstavlja indeks promjene količine izvo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oguće je primjerice da robni uvjeti trgovine budu ispod 100, a prihodni iznad 1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/>
          </p:nvPr>
        </p:nvSpPr>
        <p:spPr>
          <a:xfrm>
            <a:off x="456840" y="189000"/>
            <a:ext cx="8218440" cy="640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EDNOSTRUKI FAKTORSKI UVJETI TRGOV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FUT =(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)*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gdje 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predstavlja indeks porasta produktivnosti u proizvodnji izvozne ro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st jednostrukog faktorskog uvjeta trgovine znači da zemlja dobiva više uvoza za danu jedinicu uloženog r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oguće je i da robni i prihodni uvjeti budu loši, a jednostruki faktorski dob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Model životnog ciklusa proizvod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naglašava proces standardizaci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Stadij I: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Faza novog proizvod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Proizvodnja i potrošnja samo u zemlji inov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Stadij II: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Faza rasta proizvod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Rast potražnje kod kuće i u inozemstvu dovodi do izvoza proizvoda iz zemlje inov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Stadij III: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Faza starenja proizvod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Proizvod je standardiziran i licenciran drugim zemlj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Stadij IV: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Faza imitacije 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Zemlja imitacije prodaje proizvod u trećim zemlj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Stadij V: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Faza imitacije I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Zemlja imitacije izvozi proizvod u zemlju inov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075520" cy="6337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VOSTRUKI FAKTORSKI UVJETI TRGOV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FUT = =(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)*(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/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 gdje 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predstavlja inozemni indeks produktivnosti za uvezenu rob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st DFUT pokazuje da se dana količina domaćih faktora proizvodnje u njenim izvoznim djelatnostima razmjenjuje za veću količinu usluga faktora proizvodnje u izvoznim sektorima zemlje trgovinskog partn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4032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RUT i PUT i JFUT mogu biti nepovoljni, a ovaj indeks povolj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stoji još i ZAPOSLENOŠĆU PONDERIRANI DVOSTRUKI FAKTORSKI UVJETI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Izvozno usmjereni rast i njegov utjecaj na trgovin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o usmjereni rast je rast koji povećava nacionalne proizvodne mogućnosti više prema izvoznoj rob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o usmjereni rast teži da pogorša nacionalne uvjete trgovine u korist ostalih zemalja – mala zemlja preuzima svjetsku cijenu kakva jest, dok bi velika mogla na nju utjecati i imati neke koris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>
            <a:off x="1403280" y="2852640"/>
            <a:ext cx="3529080" cy="3168720"/>
          </a:xfrm>
          <a:custGeom>
            <a:avLst/>
            <a:gdLst/>
            <a:ahLst/>
            <a:rect l="l" t="t" r="r" b="b"/>
            <a:pathLst>
              <a:path w="2222" h="2177">
                <a:moveTo>
                  <a:pt x="0" y="0"/>
                </a:moveTo>
                <a:cubicBezTo>
                  <a:pt x="67" y="26"/>
                  <a:pt x="135" y="53"/>
                  <a:pt x="226" y="91"/>
                </a:cubicBezTo>
                <a:cubicBezTo>
                  <a:pt x="317" y="129"/>
                  <a:pt x="423" y="167"/>
                  <a:pt x="544" y="227"/>
                </a:cubicBezTo>
                <a:cubicBezTo>
                  <a:pt x="665" y="287"/>
                  <a:pt x="824" y="370"/>
                  <a:pt x="952" y="453"/>
                </a:cubicBezTo>
                <a:cubicBezTo>
                  <a:pt x="1080" y="536"/>
                  <a:pt x="1179" y="612"/>
                  <a:pt x="1315" y="726"/>
                </a:cubicBezTo>
                <a:cubicBezTo>
                  <a:pt x="1451" y="840"/>
                  <a:pt x="1633" y="968"/>
                  <a:pt x="1769" y="1134"/>
                </a:cubicBezTo>
                <a:cubicBezTo>
                  <a:pt x="1905" y="1300"/>
                  <a:pt x="2056" y="1550"/>
                  <a:pt x="2131" y="1724"/>
                </a:cubicBezTo>
                <a:cubicBezTo>
                  <a:pt x="2206" y="1898"/>
                  <a:pt x="2214" y="2037"/>
                  <a:pt x="2222" y="2177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rot="321600">
            <a:off x="1190520" y="2347560"/>
            <a:ext cx="6118200" cy="3456000"/>
          </a:xfrm>
          <a:custGeom>
            <a:avLst/>
            <a:gdLst/>
            <a:ahLst/>
            <a:rect l="l" t="t" r="r" b="b"/>
            <a:pathLst>
              <a:path w="3856" h="2358">
                <a:moveTo>
                  <a:pt x="0" y="0"/>
                </a:moveTo>
                <a:cubicBezTo>
                  <a:pt x="159" y="30"/>
                  <a:pt x="318" y="61"/>
                  <a:pt x="590" y="136"/>
                </a:cubicBezTo>
                <a:cubicBezTo>
                  <a:pt x="862" y="211"/>
                  <a:pt x="1346" y="347"/>
                  <a:pt x="1633" y="453"/>
                </a:cubicBezTo>
                <a:cubicBezTo>
                  <a:pt x="1920" y="559"/>
                  <a:pt x="2095" y="658"/>
                  <a:pt x="2314" y="771"/>
                </a:cubicBezTo>
                <a:cubicBezTo>
                  <a:pt x="2533" y="884"/>
                  <a:pt x="2730" y="953"/>
                  <a:pt x="2949" y="1134"/>
                </a:cubicBezTo>
                <a:cubicBezTo>
                  <a:pt x="3168" y="1315"/>
                  <a:pt x="3478" y="1655"/>
                  <a:pt x="3629" y="1859"/>
                </a:cubicBezTo>
                <a:cubicBezTo>
                  <a:pt x="3780" y="2063"/>
                  <a:pt x="3811" y="2252"/>
                  <a:pt x="3856" y="2358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500720" y="4869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724360" y="393372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4788000" y="4149720"/>
            <a:ext cx="86364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300720" y="61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47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76364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61928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21164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94036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059280" y="321300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427640" y="249228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3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1" dur="3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300720" y="6165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lativna količina X: (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q*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/ (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q*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47628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lativna cijena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rot="16070400">
            <a:off x="1992600" y="822600"/>
            <a:ext cx="3716280" cy="403200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rot="16070400">
            <a:off x="3963600" y="1223280"/>
            <a:ext cx="4326120" cy="36781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3419640" y="1484280"/>
            <a:ext cx="3889080" cy="3600360"/>
          </a:xfrm>
          <a:custGeom>
            <a:avLst/>
            <a:gdLst/>
            <a:ahLst/>
            <a:rect l="l" t="t" r="r" b="b"/>
            <a:pathLst>
              <a:path w="2036" h="1834">
                <a:moveTo>
                  <a:pt x="0" y="0"/>
                </a:moveTo>
                <a:cubicBezTo>
                  <a:pt x="87" y="169"/>
                  <a:pt x="188" y="718"/>
                  <a:pt x="528" y="1024"/>
                </a:cubicBezTo>
                <a:cubicBezTo>
                  <a:pt x="867" y="1329"/>
                  <a:pt x="1721" y="1665"/>
                  <a:pt x="2036" y="183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580000" y="1989000"/>
            <a:ext cx="158436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219640" y="4762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877080" y="836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804000" y="4508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1403280" y="3429000"/>
            <a:ext cx="29527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1402920" y="4437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68360" y="3141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68360" y="4221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ste ponuda, iz čega slijedi da pada cijen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o usmjereni rast ima za posljedicu pogoršanje uvjeta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o bi značilo da krivulja recipročne potražnje ide udesno. Imamo manje koristi od trgov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ecimo zemlja koja izvozi X: nudi više izvozne robe X, ali joj pada cijena. Malo više dobiva Y-a, a dala je mnogo više X-a jer je cijena pa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goršavaju se uvjeti razmj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Uvozno usmjereni rast i njegov utjecaj na trgovin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3743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zno usmjereni rast ili uvozno supstitutivni rast usmjeren je više prema uvoznoj rob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ži da popravi nacionalne uvjete trgovine na teret ostatka svij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>
            <a:off x="1403280" y="2852640"/>
            <a:ext cx="3529080" cy="3168720"/>
          </a:xfrm>
          <a:custGeom>
            <a:avLst/>
            <a:gdLst/>
            <a:ahLst/>
            <a:rect l="l" t="t" r="r" b="b"/>
            <a:pathLst>
              <a:path w="2222" h="2177">
                <a:moveTo>
                  <a:pt x="0" y="0"/>
                </a:moveTo>
                <a:cubicBezTo>
                  <a:pt x="67" y="26"/>
                  <a:pt x="135" y="53"/>
                  <a:pt x="226" y="91"/>
                </a:cubicBezTo>
                <a:cubicBezTo>
                  <a:pt x="317" y="129"/>
                  <a:pt x="423" y="167"/>
                  <a:pt x="544" y="227"/>
                </a:cubicBezTo>
                <a:cubicBezTo>
                  <a:pt x="665" y="287"/>
                  <a:pt x="824" y="370"/>
                  <a:pt x="952" y="453"/>
                </a:cubicBezTo>
                <a:cubicBezTo>
                  <a:pt x="1080" y="536"/>
                  <a:pt x="1179" y="612"/>
                  <a:pt x="1315" y="726"/>
                </a:cubicBezTo>
                <a:cubicBezTo>
                  <a:pt x="1451" y="840"/>
                  <a:pt x="1633" y="968"/>
                  <a:pt x="1769" y="1134"/>
                </a:cubicBezTo>
                <a:cubicBezTo>
                  <a:pt x="1905" y="1300"/>
                  <a:pt x="2056" y="1550"/>
                  <a:pt x="2131" y="1724"/>
                </a:cubicBezTo>
                <a:cubicBezTo>
                  <a:pt x="2206" y="1898"/>
                  <a:pt x="2214" y="2037"/>
                  <a:pt x="2222" y="2177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rot="321600">
            <a:off x="1157400" y="1415880"/>
            <a:ext cx="4784760" cy="4322880"/>
          </a:xfrm>
          <a:custGeom>
            <a:avLst/>
            <a:gdLst/>
            <a:ahLst/>
            <a:rect l="l" t="t" r="r" b="b"/>
            <a:pathLst>
              <a:path w="3856" h="2358">
                <a:moveTo>
                  <a:pt x="0" y="0"/>
                </a:moveTo>
                <a:cubicBezTo>
                  <a:pt x="159" y="30"/>
                  <a:pt x="318" y="61"/>
                  <a:pt x="590" y="136"/>
                </a:cubicBezTo>
                <a:cubicBezTo>
                  <a:pt x="862" y="211"/>
                  <a:pt x="1346" y="347"/>
                  <a:pt x="1633" y="453"/>
                </a:cubicBezTo>
                <a:cubicBezTo>
                  <a:pt x="1920" y="559"/>
                  <a:pt x="2095" y="658"/>
                  <a:pt x="2314" y="771"/>
                </a:cubicBezTo>
                <a:cubicBezTo>
                  <a:pt x="2533" y="884"/>
                  <a:pt x="2730" y="953"/>
                  <a:pt x="2949" y="1134"/>
                </a:cubicBezTo>
                <a:cubicBezTo>
                  <a:pt x="3168" y="1315"/>
                  <a:pt x="3478" y="1655"/>
                  <a:pt x="3629" y="1859"/>
                </a:cubicBezTo>
                <a:cubicBezTo>
                  <a:pt x="3780" y="2063"/>
                  <a:pt x="3811" y="2252"/>
                  <a:pt x="3856" y="2358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33200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500720" y="4869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500720" y="3213000"/>
            <a:ext cx="21564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300720" y="61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0" y="47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76364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61928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21164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788000" y="292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059280" y="321300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276720" y="1773360"/>
            <a:ext cx="2449440" cy="273672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556000" y="2133720"/>
            <a:ext cx="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2556000" y="2060280"/>
            <a:ext cx="0" cy="86364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3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3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3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2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549360"/>
            <a:ext cx="8458200" cy="5851440"/>
          </a:xfrm>
          <a:prstGeom prst="rect">
            <a:avLst/>
          </a:prstGeom>
          <a:solidFill>
            <a:srgbClr val="fdfd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13372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586728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2133720"/>
            <a:ext cx="0" cy="3886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133720"/>
            <a:ext cx="0" cy="3886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2133720"/>
            <a:ext cx="0" cy="3886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2133720"/>
            <a:ext cx="0" cy="3886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900000" y="3068640"/>
            <a:ext cx="7841160" cy="2819160"/>
            <a:chOff x="900000" y="3068640"/>
            <a:chExt cx="7841160" cy="2819160"/>
          </a:xfrm>
        </p:grpSpPr>
        <p:sp>
          <p:nvSpPr>
            <p:cNvPr id="66" name=""/>
            <p:cNvSpPr/>
            <p:nvPr/>
          </p:nvSpPr>
          <p:spPr>
            <a:xfrm>
              <a:off x="900000" y="3068640"/>
              <a:ext cx="6172200" cy="2819160"/>
            </a:xfrm>
            <a:custGeom>
              <a:avLst/>
              <a:gdLst/>
              <a:ahLst/>
              <a:rect l="l" t="t" r="r" b="b"/>
              <a:pathLst>
                <a:path w="3696" h="1768">
                  <a:moveTo>
                    <a:pt x="0" y="1768"/>
                  </a:moveTo>
                  <a:cubicBezTo>
                    <a:pt x="232" y="1620"/>
                    <a:pt x="464" y="1472"/>
                    <a:pt x="768" y="1192"/>
                  </a:cubicBezTo>
                  <a:cubicBezTo>
                    <a:pt x="1072" y="912"/>
                    <a:pt x="1336" y="176"/>
                    <a:pt x="1824" y="88"/>
                  </a:cubicBezTo>
                  <a:cubicBezTo>
                    <a:pt x="2312" y="0"/>
                    <a:pt x="3384" y="568"/>
                    <a:pt x="3696" y="664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19320" y="3678120"/>
              <a:ext cx="4876560" cy="1371600"/>
            </a:xfrm>
            <a:custGeom>
              <a:avLst/>
              <a:gdLst/>
              <a:ahLst/>
              <a:rect l="l" t="t" r="r" b="b"/>
              <a:pathLst>
                <a:path w="3648" h="1536">
                  <a:moveTo>
                    <a:pt x="0" y="1536"/>
                  </a:moveTo>
                  <a:cubicBezTo>
                    <a:pt x="188" y="1356"/>
                    <a:pt x="376" y="1176"/>
                    <a:pt x="768" y="960"/>
                  </a:cubicBezTo>
                  <a:cubicBezTo>
                    <a:pt x="1160" y="744"/>
                    <a:pt x="1872" y="400"/>
                    <a:pt x="2352" y="240"/>
                  </a:cubicBezTo>
                  <a:cubicBezTo>
                    <a:pt x="2832" y="80"/>
                    <a:pt x="3240" y="40"/>
                    <a:pt x="3648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18120" y="3500280"/>
              <a:ext cx="89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333399"/>
                  </a:solidFill>
                  <a:latin typeface="Times New Roman"/>
                </a:rPr>
                <a:t>Potrošnja</a:t>
              </a:r>
              <a:r>
                <a:rPr b="0" lang="hr-HR" sz="1200" spc="-1" strike="noStrike">
                  <a:solidFill>
                    <a:srgbClr val="333399"/>
                  </a:solidFill>
                  <a:latin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82760" y="355284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333399"/>
                  </a:solidFill>
                  <a:latin typeface="Times New Roman"/>
                </a:rPr>
                <a:t>Zeml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333399"/>
                  </a:solidFill>
                  <a:latin typeface="Times New Roman"/>
                </a:rPr>
                <a:t>inovaci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72200" y="3957480"/>
              <a:ext cx="69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333399"/>
                  </a:solidFill>
                  <a:latin typeface="Times New Roman"/>
                </a:rPr>
                <a:t>Proizv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3080" y="3449520"/>
              <a:ext cx="228600" cy="838080"/>
            </a:xfrm>
            <a:custGeom>
              <a:avLst/>
              <a:gdLst>
                <a:gd name="textAreaLeft" fmla="*/ 0 w 228600"/>
                <a:gd name="textAreaRight" fmla="*/ 160560 w 228600"/>
                <a:gd name="textAreaTop" fmla="*/ 34920 h 838080"/>
                <a:gd name="textAreaBottom" fmla="*/ 8031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286000" y="4648320"/>
            <a:ext cx="6292440" cy="1218960"/>
            <a:chOff x="2286000" y="4648320"/>
            <a:chExt cx="6292440" cy="1218960"/>
          </a:xfrm>
        </p:grpSpPr>
        <p:sp>
          <p:nvSpPr>
            <p:cNvPr id="73" name=""/>
            <p:cNvSpPr/>
            <p:nvPr/>
          </p:nvSpPr>
          <p:spPr>
            <a:xfrm>
              <a:off x="2286000" y="5257800"/>
              <a:ext cx="4495680" cy="609480"/>
            </a:xfrm>
            <a:custGeom>
              <a:avLst/>
              <a:gdLst/>
              <a:ahLst/>
              <a:rect l="l" t="t" r="r" b="b"/>
              <a:pathLst>
                <a:path w="2832" h="384">
                  <a:moveTo>
                    <a:pt x="0" y="384"/>
                  </a:moveTo>
                  <a:cubicBezTo>
                    <a:pt x="196" y="272"/>
                    <a:pt x="392" y="160"/>
                    <a:pt x="864" y="96"/>
                  </a:cubicBezTo>
                  <a:cubicBezTo>
                    <a:pt x="1336" y="32"/>
                    <a:pt x="2504" y="16"/>
                    <a:pt x="2832" y="0"/>
                  </a:cubicBezTo>
                </a:path>
              </a:pathLst>
            </a:custGeom>
            <a:noFill/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52680" y="4800600"/>
              <a:ext cx="3429000" cy="1066680"/>
            </a:xfrm>
            <a:custGeom>
              <a:avLst/>
              <a:gdLst/>
              <a:ahLst/>
              <a:rect l="l" t="t" r="r" b="b"/>
              <a:pathLst>
                <a:path w="2160" h="672">
                  <a:moveTo>
                    <a:pt x="0" y="672"/>
                  </a:moveTo>
                  <a:cubicBezTo>
                    <a:pt x="264" y="556"/>
                    <a:pt x="528" y="440"/>
                    <a:pt x="816" y="336"/>
                  </a:cubicBezTo>
                  <a:cubicBezTo>
                    <a:pt x="1104" y="232"/>
                    <a:pt x="1504" y="96"/>
                    <a:pt x="1728" y="48"/>
                  </a:cubicBezTo>
                  <a:cubicBezTo>
                    <a:pt x="1952" y="0"/>
                    <a:pt x="2088" y="48"/>
                    <a:pt x="2160" y="48"/>
                  </a:cubicBezTo>
                </a:path>
              </a:pathLst>
            </a:custGeom>
            <a:noFill/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704280" y="5156280"/>
              <a:ext cx="85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ff0066"/>
                  </a:solidFill>
                  <a:latin typeface="Times New Roman"/>
                </a:rPr>
                <a:t>Potrošn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705360" y="4699080"/>
              <a:ext cx="69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ff0066"/>
                  </a:solidFill>
                  <a:latin typeface="Times New Roman"/>
                </a:rPr>
                <a:t>Proizv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4648320"/>
              <a:ext cx="228600" cy="914400"/>
            </a:xfrm>
            <a:custGeom>
              <a:avLst/>
              <a:gdLst>
                <a:gd name="textAreaLeft" fmla="*/ 0 w 228600"/>
                <a:gd name="textAreaRight" fmla="*/ 160560 w 22860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44160" y="4827600"/>
              <a:ext cx="103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66"/>
                  </a:solidFill>
                  <a:latin typeface="Times New Roman"/>
                </a:rPr>
                <a:t>Zeml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66"/>
                  </a:solidFill>
                  <a:latin typeface="Times New Roman"/>
                </a:rPr>
                <a:t>imitaci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1144800" y="223668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Stadij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31360" y="2236680"/>
            <a:ext cx="10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Stadij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3440" y="223668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Stadij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6280" y="223668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Stadij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64480" y="2236680"/>
            <a:ext cx="9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Stadij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0800" y="18032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Količ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33000" y="584208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Vrij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019920" y="3684600"/>
            <a:ext cx="1363320" cy="1587600"/>
            <a:chOff x="6019920" y="3684600"/>
            <a:chExt cx="1363320" cy="1587600"/>
          </a:xfrm>
        </p:grpSpPr>
        <p:grpSp>
          <p:nvGrpSpPr>
            <p:cNvPr id="87" name=""/>
            <p:cNvGrpSpPr/>
            <p:nvPr/>
          </p:nvGrpSpPr>
          <p:grpSpPr>
            <a:xfrm>
              <a:off x="6097320" y="3684600"/>
              <a:ext cx="1285920" cy="1587600"/>
              <a:chOff x="6097320" y="3684600"/>
              <a:chExt cx="1285920" cy="1587600"/>
            </a:xfrm>
          </p:grpSpPr>
          <p:sp>
            <p:nvSpPr>
              <p:cNvPr id="88" name=""/>
              <p:cNvSpPr/>
              <p:nvPr/>
            </p:nvSpPr>
            <p:spPr>
              <a:xfrm>
                <a:off x="6097320" y="490392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ff0066"/>
                    </a:solidFill>
                    <a:latin typeface="Times New Roman"/>
                  </a:rPr>
                  <a:t>Izvo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07160" y="3684600"/>
                <a:ext cx="67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333399"/>
                    </a:solidFill>
                    <a:latin typeface="Times New Roman"/>
                  </a:rPr>
                  <a:t>Uvo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6019920" y="3733920"/>
              <a:ext cx="75960" cy="759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820960" y="3200400"/>
            <a:ext cx="1540080" cy="2681280"/>
            <a:chOff x="2820960" y="3200400"/>
            <a:chExt cx="1540080" cy="2681280"/>
          </a:xfrm>
        </p:grpSpPr>
        <p:sp>
          <p:nvSpPr>
            <p:cNvPr id="92" name=""/>
            <p:cNvSpPr/>
            <p:nvPr/>
          </p:nvSpPr>
          <p:spPr>
            <a:xfrm>
              <a:off x="2820960" y="551340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66"/>
                  </a:solidFill>
                  <a:latin typeface="Times New Roman"/>
                </a:rPr>
                <a:t>Uvo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659040" y="3200400"/>
              <a:ext cx="702000" cy="990720"/>
              <a:chOff x="3659040" y="3200400"/>
              <a:chExt cx="702000" cy="990720"/>
            </a:xfrm>
          </p:grpSpPr>
          <p:sp>
            <p:nvSpPr>
              <p:cNvPr id="94" name=""/>
              <p:cNvSpPr/>
              <p:nvPr/>
            </p:nvSpPr>
            <p:spPr>
              <a:xfrm>
                <a:off x="3659040" y="353232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333399"/>
                    </a:solidFill>
                    <a:latin typeface="Times New Roman"/>
                  </a:rPr>
                  <a:t>Izvo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3962520" y="320040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962520" y="38862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 flipV="1">
              <a:off x="3581280" y="54860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572000" y="3504960"/>
            <a:ext cx="1066680" cy="1905120"/>
            <a:chOff x="4572000" y="3504960"/>
            <a:chExt cx="1066680" cy="1905120"/>
          </a:xfrm>
        </p:grpSpPr>
        <p:sp>
          <p:nvSpPr>
            <p:cNvPr id="99" name=""/>
            <p:cNvSpPr/>
            <p:nvPr/>
          </p:nvSpPr>
          <p:spPr>
            <a:xfrm>
              <a:off x="4572000" y="5334120"/>
              <a:ext cx="76320" cy="759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638680" y="50288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410080" y="350496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300720" y="6165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lativna količina X: (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q*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/ (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q*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0" y="47628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lativna cijena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16070400">
            <a:off x="1992600" y="822600"/>
            <a:ext cx="3716280" cy="403200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rot="16070400">
            <a:off x="3963600" y="1223280"/>
            <a:ext cx="4326120" cy="36781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419640" y="1484280"/>
            <a:ext cx="3889080" cy="3600360"/>
          </a:xfrm>
          <a:custGeom>
            <a:avLst/>
            <a:gdLst/>
            <a:ahLst/>
            <a:rect l="l" t="t" r="r" b="b"/>
            <a:pathLst>
              <a:path w="2036" h="1834">
                <a:moveTo>
                  <a:pt x="0" y="0"/>
                </a:moveTo>
                <a:cubicBezTo>
                  <a:pt x="87" y="169"/>
                  <a:pt x="188" y="718"/>
                  <a:pt x="528" y="1024"/>
                </a:cubicBezTo>
                <a:cubicBezTo>
                  <a:pt x="867" y="1329"/>
                  <a:pt x="1721" y="1665"/>
                  <a:pt x="2036" y="183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219640" y="4762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877080" y="836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804000" y="4508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1403280" y="3429000"/>
            <a:ext cx="29527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1402920" y="4437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468360" y="3141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68360" y="4221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5580000" y="1844640"/>
            <a:ext cx="172872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9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4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4321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većava se proizvodnja uvoznog dobra Y, a smanjuje X-a, te njegova ponuda p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mim time X-u raste cij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zno usmjereni rast poboljšava uvjete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Osiromašujući 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3348000" y="404640"/>
            <a:ext cx="424836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Arial"/>
              </a:rPr>
              <a:t>Osiromašujući 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403280" y="2852640"/>
            <a:ext cx="3529080" cy="3168720"/>
          </a:xfrm>
          <a:custGeom>
            <a:avLst/>
            <a:gdLst/>
            <a:ahLst/>
            <a:rect l="l" t="t" r="r" b="b"/>
            <a:pathLst>
              <a:path w="2222" h="2177">
                <a:moveTo>
                  <a:pt x="0" y="0"/>
                </a:moveTo>
                <a:cubicBezTo>
                  <a:pt x="67" y="26"/>
                  <a:pt x="135" y="53"/>
                  <a:pt x="226" y="91"/>
                </a:cubicBezTo>
                <a:cubicBezTo>
                  <a:pt x="317" y="129"/>
                  <a:pt x="423" y="167"/>
                  <a:pt x="544" y="227"/>
                </a:cubicBezTo>
                <a:cubicBezTo>
                  <a:pt x="665" y="287"/>
                  <a:pt x="824" y="370"/>
                  <a:pt x="952" y="453"/>
                </a:cubicBezTo>
                <a:cubicBezTo>
                  <a:pt x="1080" y="536"/>
                  <a:pt x="1179" y="612"/>
                  <a:pt x="1315" y="726"/>
                </a:cubicBezTo>
                <a:cubicBezTo>
                  <a:pt x="1451" y="840"/>
                  <a:pt x="1633" y="968"/>
                  <a:pt x="1769" y="1134"/>
                </a:cubicBezTo>
                <a:cubicBezTo>
                  <a:pt x="1905" y="1300"/>
                  <a:pt x="2056" y="1550"/>
                  <a:pt x="2131" y="1724"/>
                </a:cubicBezTo>
                <a:cubicBezTo>
                  <a:pt x="2206" y="1898"/>
                  <a:pt x="2214" y="2037"/>
                  <a:pt x="2222" y="2177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908000" y="404640"/>
            <a:ext cx="3240360" cy="5400720"/>
          </a:xfrm>
          <a:prstGeom prst="line">
            <a:avLst/>
          </a:prstGeom>
          <a:ln w="76320">
            <a:solidFill>
              <a:srgbClr val="e41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403280" y="2492280"/>
            <a:ext cx="6121440" cy="3529080"/>
          </a:xfrm>
          <a:custGeom>
            <a:avLst/>
            <a:gdLst/>
            <a:ahLst/>
            <a:rect l="l" t="t" r="r" b="b"/>
            <a:pathLst>
              <a:path w="3856" h="2358">
                <a:moveTo>
                  <a:pt x="0" y="0"/>
                </a:moveTo>
                <a:cubicBezTo>
                  <a:pt x="159" y="30"/>
                  <a:pt x="318" y="61"/>
                  <a:pt x="590" y="136"/>
                </a:cubicBezTo>
                <a:cubicBezTo>
                  <a:pt x="862" y="211"/>
                  <a:pt x="1346" y="347"/>
                  <a:pt x="1633" y="453"/>
                </a:cubicBezTo>
                <a:cubicBezTo>
                  <a:pt x="1920" y="559"/>
                  <a:pt x="2095" y="658"/>
                  <a:pt x="2314" y="771"/>
                </a:cubicBezTo>
                <a:cubicBezTo>
                  <a:pt x="2533" y="884"/>
                  <a:pt x="2730" y="953"/>
                  <a:pt x="2949" y="1134"/>
                </a:cubicBezTo>
                <a:cubicBezTo>
                  <a:pt x="3168" y="1315"/>
                  <a:pt x="3478" y="1655"/>
                  <a:pt x="3629" y="1859"/>
                </a:cubicBezTo>
                <a:cubicBezTo>
                  <a:pt x="3780" y="2063"/>
                  <a:pt x="3811" y="2252"/>
                  <a:pt x="3856" y="2358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547640" y="1413000"/>
            <a:ext cx="5832720" cy="352872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619280" y="1125360"/>
            <a:ext cx="1512720" cy="1081440"/>
          </a:xfrm>
          <a:custGeom>
            <a:avLst/>
            <a:gdLst/>
            <a:ahLst/>
            <a:rect l="l" t="t" r="r" b="b"/>
            <a:pathLst>
              <a:path w="1270" h="772">
                <a:moveTo>
                  <a:pt x="0" y="0"/>
                </a:moveTo>
                <a:cubicBezTo>
                  <a:pt x="98" y="162"/>
                  <a:pt x="197" y="325"/>
                  <a:pt x="409" y="454"/>
                </a:cubicBezTo>
                <a:cubicBezTo>
                  <a:pt x="621" y="583"/>
                  <a:pt x="1134" y="719"/>
                  <a:pt x="1270" y="772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 flipH="1" flipV="1">
            <a:off x="2123640" y="-1258920"/>
            <a:ext cx="24379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500720" y="4869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724360" y="393372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979640" y="1628640"/>
            <a:ext cx="216000" cy="2160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4788000" y="4149720"/>
            <a:ext cx="86364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2195640" y="981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2123640" y="1197000"/>
            <a:ext cx="14436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300720" y="61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zvozna r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47628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vozna r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1" dur="3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6" dur="3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9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4" dur="3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9" dur="3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4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500"/>
                            </p:stCondLst>
                            <p:childTnLst>
                              <p:par>
                                <p:cTn id="1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8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7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2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emlja proizvodi sve više svega, a sve manje troš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većoj se mjeri pogoršali uvjeti trgovine nego što je rasla proizvod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dnos cijena je postao nepovoljniji i zemlja je dosegla nižu krivulju indiferen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ključak: izvozno usmjereni rast može pogoršati uvjete trgovine toliko da smanji blagostan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Efekti uvođenja car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882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ijena prije uvođenja carine (mala zemlja)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6296400" y="1916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222240" y="4365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044880" y="5334120"/>
            <a:ext cx="297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519560" y="5791320"/>
            <a:ext cx="305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209680" y="1916280"/>
            <a:ext cx="3299040" cy="17287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2195640" y="3716280"/>
            <a:ext cx="863640" cy="50472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rot="20226000">
            <a:off x="1523880" y="396216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26880" y="414972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izvođač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286000" y="2717640"/>
            <a:ext cx="15537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209680" y="3048120"/>
            <a:ext cx="2133720" cy="0"/>
          </a:xfrm>
          <a:prstGeom prst="line">
            <a:avLst/>
          </a:prstGeom>
          <a:ln w="12600">
            <a:solidFill>
              <a:srgbClr val="0210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3200400" y="2971440"/>
            <a:ext cx="1219320" cy="685800"/>
          </a:xfrm>
          <a:prstGeom prst="line">
            <a:avLst/>
          </a:prstGeom>
          <a:ln w="12600">
            <a:solidFill>
              <a:srgbClr val="021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TROŠAČEV VIŠAK mjeri se područjem cijene koju potrošač plaća i one cijene koju je spreman plaćati (krivulja D). Prikazan je kao prostor ispod krivulje potražnje D i iznad tržišne cij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IZVOĐAČEV VIŠAK mjeri se područjem između cijene koju proizvođač sada postiže i cijene po kojoj je spreman prodavati (krivulja 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748720" cy="1079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Cijena, ponuda i potražnja nakon uvođenja carine (mala zemlja)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rot="1648200">
            <a:off x="4788000" y="3212640"/>
            <a:ext cx="3124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maća potrošnja p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 rot="19775400">
            <a:off x="2057400" y="2590560"/>
            <a:ext cx="3529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maća ponuda r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715000" y="35812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733920" y="31240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800600" y="31240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971800" y="35812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H="1" flipV="1">
            <a:off x="5105160" y="32000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3048120" y="32000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rot="16200000">
            <a:off x="-170280" y="34750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badi MT Condensed Light"/>
              </a:rPr>
              <a:t>Cijena r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133720" y="1828800"/>
            <a:ext cx="472428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368040" y="1916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150960" y="429264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2209680" y="1981080"/>
            <a:ext cx="2438640" cy="12193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2209680" y="3351960"/>
            <a:ext cx="1447920" cy="83844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rot="20449200">
            <a:off x="1523880" y="396216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24000" y="400536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00cc"/>
                </a:solidFill>
                <a:latin typeface="Arial"/>
              </a:rPr>
              <a:t>Proizvođačev 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3352680" y="3351960"/>
            <a:ext cx="2133720" cy="30492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725720" y="541008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290520"/>
            <a:ext cx="7772400" cy="720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Potrošačev i proizvođačev višak nakon carine (mala zemlja)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3352680" y="3352680"/>
            <a:ext cx="533520" cy="304920"/>
          </a:xfrm>
          <a:prstGeom prst="rtTriangle">
            <a:avLst/>
          </a:prstGeom>
          <a:solidFill>
            <a:srgbClr val="1be5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3276000" y="3352680"/>
            <a:ext cx="609480" cy="304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Ekonomija razmjera i nesavršena konkurenc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9244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mithova, Ricardova, H-O teorija temelje se na pretpostavkama savršene konkurencije te razmjerno konstantnih ili opadajućih prin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emeljna pretpostavka novijih teorija – ekonomija masovne proizvodnje u kojoj djeluje zakon razmjerno rastućih prinosa na tržištu nesavršene konkurenci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Što se god više proizvodi, niži su jedinični troškovi, a time i cij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9999"/>
                </a:solidFill>
                <a:latin typeface="Arial"/>
              </a:rPr>
              <a:t>Prihod države nakon carine (mala zemlja)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2133720" y="1828800"/>
            <a:ext cx="472428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472800" y="190512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222240" y="429264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209680" y="1981080"/>
            <a:ext cx="2438640" cy="12193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2209680" y="3351960"/>
            <a:ext cx="1447920" cy="83844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523880" y="39625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0" y="371628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izvođačev 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3352680" y="3351960"/>
            <a:ext cx="2133720" cy="30492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4859280" y="3357720"/>
            <a:ext cx="1143000" cy="152280"/>
          </a:xfrm>
          <a:prstGeom prst="leftArrow">
            <a:avLst>
              <a:gd name="adj1" fmla="val 50000"/>
              <a:gd name="adj2" fmla="val 187648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7167240" y="3141720"/>
            <a:ext cx="16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ihod drž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d ca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717800" y="53737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6156360" y="3213000"/>
            <a:ext cx="99072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3276000" y="3352680"/>
            <a:ext cx="609480" cy="304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268720" y="2565360"/>
            <a:ext cx="155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Gubitak efikasnosti (mala zemlja)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133720" y="1828800"/>
            <a:ext cx="472428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472800" y="190512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6517800" y="4149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2195640" y="1989000"/>
            <a:ext cx="2452680" cy="12193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2209680" y="3351960"/>
            <a:ext cx="1447920" cy="83844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523880" y="39625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0" y="377028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izvođač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3352680" y="3351960"/>
            <a:ext cx="2133720" cy="30492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1be5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733920" y="3429000"/>
            <a:ext cx="1143000" cy="152280"/>
          </a:xfrm>
          <a:prstGeom prst="leftArrow">
            <a:avLst>
              <a:gd name="adj1" fmla="val 50000"/>
              <a:gd name="adj2" fmla="val 187648"/>
            </a:avLst>
          </a:prstGeom>
          <a:solidFill>
            <a:srgbClr val="1be5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248520" y="3284640"/>
            <a:ext cx="25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0066"/>
                </a:solidFill>
                <a:latin typeface="Arial"/>
              </a:rPr>
              <a:t>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– Gubitak efikas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3352680" y="3352680"/>
            <a:ext cx="533520" cy="304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876920" y="3352680"/>
            <a:ext cx="609480" cy="304920"/>
          </a:xfrm>
          <a:prstGeom prst="rtTriangl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886200" y="3429000"/>
            <a:ext cx="2133720" cy="152280"/>
          </a:xfrm>
          <a:prstGeom prst="leftArrow">
            <a:avLst>
              <a:gd name="adj1" fmla="val 50000"/>
              <a:gd name="adj2" fmla="val 35029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58308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11280" y="290520"/>
            <a:ext cx="7772400" cy="781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cc33"/>
                </a:solidFill>
                <a:latin typeface="Arial"/>
              </a:rPr>
              <a:t>Mrtvi teret gubitka (mala zemlja)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133720" y="1828800"/>
            <a:ext cx="472428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472800" y="190512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6531840" y="434340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proiz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209680" y="1981080"/>
            <a:ext cx="2438640" cy="12193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2209680" y="3351960"/>
            <a:ext cx="1447920" cy="83844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523880" y="39625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0" y="377028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izvođač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3352680" y="3351960"/>
            <a:ext cx="2133720" cy="30492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5181480" y="3352680"/>
            <a:ext cx="1143000" cy="152640"/>
          </a:xfrm>
          <a:prstGeom prst="leftArrow">
            <a:avLst>
              <a:gd name="adj1" fmla="val 50000"/>
              <a:gd name="adj2" fmla="val 18720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6480720" y="2819520"/>
            <a:ext cx="20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rtvi teret gubi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ez kompen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3352680" y="3352680"/>
            <a:ext cx="533520" cy="304920"/>
          </a:xfrm>
          <a:prstGeom prst="rtTriangle">
            <a:avLst/>
          </a:prstGeom>
          <a:solidFill>
            <a:srgbClr val="1be5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878720" y="3352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021360" y="28195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9999"/>
                </a:solidFill>
                <a:latin typeface="Arial"/>
              </a:rPr>
              <a:t>D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3276000" y="3352680"/>
            <a:ext cx="609480" cy="304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129440" cy="863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Utjecaji uvođenja car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68000" y="2243160"/>
            <a:ext cx="828036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omaći proizvođači postižu višu cijen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a ostvaruje prihode od cari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trošači plaćaju više cije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uje se potrošnja i potrošači imaju manji izb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-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09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Carina u maloj zeml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007680" y="1268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150960" y="4365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137160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611280" y="5734080"/>
            <a:ext cx="66546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jenja – mala zem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3123360" y="3276720"/>
            <a:ext cx="762120" cy="45720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5834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876920" y="3276720"/>
            <a:ext cx="914400" cy="457200"/>
          </a:xfrm>
          <a:prstGeom prst="rtTriangl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49550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26400" y="2209680"/>
            <a:ext cx="83916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em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 rot="16357800">
            <a:off x="341640" y="2781360"/>
            <a:ext cx="533520" cy="457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3886200" y="3276720"/>
            <a:ext cx="990720" cy="4572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388620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487692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09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Prohibitivni nivo ca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6007680" y="1268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6150960" y="4365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137160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3123360" y="3276720"/>
            <a:ext cx="762120" cy="45720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5834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876920" y="3276720"/>
            <a:ext cx="914400" cy="457200"/>
          </a:xfrm>
          <a:prstGeom prst="rtTriangl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9550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24000" y="1989000"/>
            <a:ext cx="181260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hibitivni n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flipH="1" rot="16357800">
            <a:off x="861120" y="2458800"/>
            <a:ext cx="533160" cy="457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3886200" y="3276720"/>
            <a:ext cx="990720" cy="4572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88620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487692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124000" y="2924280"/>
            <a:ext cx="2160720" cy="730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186200" y="2708280"/>
            <a:ext cx="964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987640" y="2492280"/>
            <a:ext cx="0" cy="432000"/>
          </a:xfrm>
          <a:prstGeom prst="line">
            <a:avLst/>
          </a:prstGeom>
          <a:ln cap="rnd"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Ekvivalentni efekti uvođenju car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Ekvivalentni efekti carine: subvencije proizvođačima i porez na potroš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729840" y="141300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517800" y="386064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37160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533520" y="5734080"/>
            <a:ext cx="66546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jenja – mala zem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3123360" y="3276720"/>
            <a:ext cx="762120" cy="45720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35834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4876920" y="3276720"/>
            <a:ext cx="914400" cy="457200"/>
          </a:xfrm>
          <a:prstGeom prst="rtTriangl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49550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26400" y="2209680"/>
            <a:ext cx="83916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em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 flipH="1" rot="16357800">
            <a:off x="341640" y="2781360"/>
            <a:ext cx="533520" cy="457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886200" y="3276720"/>
            <a:ext cx="990720" cy="4572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388620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487692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2411280" y="2421000"/>
            <a:ext cx="4287960" cy="2222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2340000" y="2060280"/>
            <a:ext cx="4419720" cy="25146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508720" y="2349360"/>
            <a:ext cx="215640" cy="28764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 flipH="1">
            <a:off x="6227640" y="4076640"/>
            <a:ext cx="144720" cy="289080"/>
          </a:xfrm>
          <a:prstGeom prst="line">
            <a:avLst/>
          </a:prstGeom>
          <a:ln cap="sq"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446520" y="2349360"/>
            <a:ext cx="1825920" cy="698760"/>
          </a:xfrm>
          <a:prstGeom prst="rect">
            <a:avLst/>
          </a:prstGeom>
          <a:noFill/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ubven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izvođač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807960" y="4365720"/>
            <a:ext cx="1271160" cy="69876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rez 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trošn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9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4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9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4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9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4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/>
          </p:nvPr>
        </p:nvSpPr>
        <p:spPr>
          <a:xfrm>
            <a:off x="456840" y="189000"/>
            <a:ext cx="8218440" cy="640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kvivalentni efekti carini bi se postigli pomoću subvencije proizvođačima na teret proračuna i poreza na potrošnju u korist prorač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o će pomaknuti krivulju ponude i potražnje i djelovati na povećanje proizvodnje te smanjenje potrošnje i uvo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ijene se ne povećavaju, a redistribucija ne ide od potrošača prema proizvođaču kao kod carine nego od potrošača prema proračunu i od proračuna prema proizvođač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Utjecaj carine na uvjete trgovi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lobalizacij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ultinacionalne kompanij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ntrakorporacijska trgovina (više od 1/3 uvoza i 2/5 izvoza SAD-a početkom ovog stoljeć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2702520" y="1773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2411280" y="2133720"/>
            <a:ext cx="1284480" cy="3240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3276720" y="2349360"/>
            <a:ext cx="129528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2268360" y="1413000"/>
            <a:ext cx="2087640" cy="396072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14836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995640" y="98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›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1" dur="3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5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3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4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3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4" dur="3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8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đenjem carine u zemlji A njeni uvjeti razmjene su se poboljšali i ona je u boljem položaju nego pr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boljšanje uvjeta razmjene znači povećanje njezina udjela u razdiobi koristi od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seg razmjene je manji nego pr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e opsega međunarodne razmjene utječe na pogoršanje položaja zeml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o je poboljšanje položaja zemlje A zbog povoljnijih uvjeta razmjene veće od pogoršanja položaja zbog smanjenja količine razmjene, zemlja A će biti u boljem položa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da bi zemlja A bila vrlo mala, uvjeti razmjene bi za nju bili dani pa bi rezultat uvođenja carine na uvoz dobra Y bilo samo smanjenje razmjene uz isti odnos cijena px/p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vdje pretpostavljamo da to nije sluča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14836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94036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93236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340000" y="3141720"/>
            <a:ext cx="3529080" cy="230328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5942520" y="2997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292720" y="2781360"/>
            <a:ext cx="0" cy="28728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2411280" y="2060280"/>
            <a:ext cx="3529080" cy="338436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95280" y="76500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ada bi zemlja B uvela carin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5" dur="3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9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4" dur="3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8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3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8" dur="3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2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14836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594036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493236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340000" y="3284640"/>
            <a:ext cx="3600360" cy="216036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942520" y="2997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292720" y="2781360"/>
            <a:ext cx="0" cy="28728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2411280" y="2060280"/>
            <a:ext cx="3529080" cy="338436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95280" y="76500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ada bi obje zemlje uvele carin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340000" y="1773360"/>
            <a:ext cx="1800360" cy="360036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853440" y="1341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 flipH="1">
            <a:off x="4284720" y="2205000"/>
            <a:ext cx="35856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2340000" y="1484280"/>
            <a:ext cx="2592360" cy="396072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4643280" y="105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4643280" y="256536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3924360" y="335772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3" dur="indefinite" restart="never" nodeType="tmRoot">
          <p:childTnLst>
            <p:seq>
              <p:cTn id="1374" dur="indefinite" nodeType="mainSeq">
                <p:childTnLst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9" dur="3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3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8" dur="3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2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7" dur="3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2" dur="3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6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1" dur="3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5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9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3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 flipV="1">
            <a:off x="1116000" y="1413000"/>
            <a:ext cx="71280" cy="46800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116000" y="6165720"/>
            <a:ext cx="568800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116000" y="1773360"/>
            <a:ext cx="3960720" cy="4392360"/>
          </a:xfrm>
          <a:custGeom>
            <a:avLst/>
            <a:gdLst/>
            <a:ahLst/>
            <a:rect l="l" t="t" r="r" b="b"/>
            <a:pathLst>
              <a:path w="2495" h="2767">
                <a:moveTo>
                  <a:pt x="0" y="2767"/>
                </a:moveTo>
                <a:cubicBezTo>
                  <a:pt x="227" y="2687"/>
                  <a:pt x="454" y="2608"/>
                  <a:pt x="635" y="2540"/>
                </a:cubicBezTo>
                <a:cubicBezTo>
                  <a:pt x="816" y="2472"/>
                  <a:pt x="937" y="2441"/>
                  <a:pt x="1088" y="2358"/>
                </a:cubicBezTo>
                <a:cubicBezTo>
                  <a:pt x="1239" y="2275"/>
                  <a:pt x="1406" y="2154"/>
                  <a:pt x="1542" y="2041"/>
                </a:cubicBezTo>
                <a:cubicBezTo>
                  <a:pt x="1678" y="1928"/>
                  <a:pt x="1799" y="1814"/>
                  <a:pt x="1905" y="1678"/>
                </a:cubicBezTo>
                <a:cubicBezTo>
                  <a:pt x="2011" y="1542"/>
                  <a:pt x="2102" y="1390"/>
                  <a:pt x="2177" y="1224"/>
                </a:cubicBezTo>
                <a:cubicBezTo>
                  <a:pt x="2252" y="1058"/>
                  <a:pt x="2313" y="846"/>
                  <a:pt x="2358" y="680"/>
                </a:cubicBezTo>
                <a:cubicBezTo>
                  <a:pt x="2403" y="514"/>
                  <a:pt x="2426" y="340"/>
                  <a:pt x="2449" y="227"/>
                </a:cubicBezTo>
                <a:cubicBezTo>
                  <a:pt x="2472" y="114"/>
                  <a:pt x="2495" y="38"/>
                  <a:pt x="2495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116000" y="1700280"/>
            <a:ext cx="2700360" cy="4464000"/>
          </a:xfrm>
          <a:custGeom>
            <a:avLst/>
            <a:gdLst/>
            <a:ahLst/>
            <a:rect l="l" t="t" r="r" b="b"/>
            <a:pathLst>
              <a:path w="1837" h="2767">
                <a:moveTo>
                  <a:pt x="0" y="2767"/>
                </a:moveTo>
                <a:cubicBezTo>
                  <a:pt x="121" y="2729"/>
                  <a:pt x="242" y="2691"/>
                  <a:pt x="363" y="2631"/>
                </a:cubicBezTo>
                <a:cubicBezTo>
                  <a:pt x="484" y="2571"/>
                  <a:pt x="575" y="2525"/>
                  <a:pt x="726" y="2404"/>
                </a:cubicBezTo>
                <a:cubicBezTo>
                  <a:pt x="877" y="2283"/>
                  <a:pt x="1119" y="2071"/>
                  <a:pt x="1270" y="1905"/>
                </a:cubicBezTo>
                <a:cubicBezTo>
                  <a:pt x="1421" y="1739"/>
                  <a:pt x="1542" y="1595"/>
                  <a:pt x="1633" y="1406"/>
                </a:cubicBezTo>
                <a:cubicBezTo>
                  <a:pt x="1724" y="1217"/>
                  <a:pt x="1791" y="1005"/>
                  <a:pt x="1814" y="771"/>
                </a:cubicBezTo>
                <a:cubicBezTo>
                  <a:pt x="1837" y="537"/>
                  <a:pt x="1776" y="121"/>
                  <a:pt x="1769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116000" y="2133720"/>
            <a:ext cx="1811520" cy="4032000"/>
          </a:xfrm>
          <a:custGeom>
            <a:avLst/>
            <a:gdLst/>
            <a:ahLst/>
            <a:rect l="l" t="t" r="r" b="b"/>
            <a:pathLst>
              <a:path w="1187" h="2540">
                <a:moveTo>
                  <a:pt x="0" y="2540"/>
                </a:moveTo>
                <a:cubicBezTo>
                  <a:pt x="196" y="2419"/>
                  <a:pt x="393" y="2298"/>
                  <a:pt x="544" y="2177"/>
                </a:cubicBezTo>
                <a:cubicBezTo>
                  <a:pt x="695" y="2056"/>
                  <a:pt x="809" y="1958"/>
                  <a:pt x="907" y="1814"/>
                </a:cubicBezTo>
                <a:cubicBezTo>
                  <a:pt x="1005" y="1670"/>
                  <a:pt x="1089" y="1511"/>
                  <a:pt x="1134" y="1315"/>
                </a:cubicBezTo>
                <a:cubicBezTo>
                  <a:pt x="1179" y="1119"/>
                  <a:pt x="1187" y="854"/>
                  <a:pt x="1179" y="635"/>
                </a:cubicBezTo>
                <a:cubicBezTo>
                  <a:pt x="1171" y="416"/>
                  <a:pt x="1103" y="98"/>
                  <a:pt x="1088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116000" y="2276640"/>
            <a:ext cx="4968720" cy="3889080"/>
          </a:xfrm>
          <a:custGeom>
            <a:avLst/>
            <a:gdLst/>
            <a:ahLst/>
            <a:rect l="l" t="t" r="r" b="b"/>
            <a:pathLst>
              <a:path w="3130" h="2450">
                <a:moveTo>
                  <a:pt x="0" y="2450"/>
                </a:moveTo>
                <a:cubicBezTo>
                  <a:pt x="57" y="2196"/>
                  <a:pt x="114" y="1943"/>
                  <a:pt x="227" y="1724"/>
                </a:cubicBezTo>
                <a:cubicBezTo>
                  <a:pt x="340" y="1505"/>
                  <a:pt x="529" y="1300"/>
                  <a:pt x="680" y="1134"/>
                </a:cubicBezTo>
                <a:cubicBezTo>
                  <a:pt x="831" y="968"/>
                  <a:pt x="945" y="862"/>
                  <a:pt x="1134" y="726"/>
                </a:cubicBezTo>
                <a:cubicBezTo>
                  <a:pt x="1323" y="590"/>
                  <a:pt x="1595" y="424"/>
                  <a:pt x="1814" y="318"/>
                </a:cubicBezTo>
                <a:cubicBezTo>
                  <a:pt x="2033" y="212"/>
                  <a:pt x="2230" y="144"/>
                  <a:pt x="2449" y="91"/>
                </a:cubicBezTo>
                <a:cubicBezTo>
                  <a:pt x="2668" y="38"/>
                  <a:pt x="2899" y="19"/>
                  <a:pt x="313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1116000" y="3213000"/>
            <a:ext cx="4824360" cy="2952720"/>
          </a:xfrm>
          <a:custGeom>
            <a:avLst/>
            <a:gdLst/>
            <a:ahLst/>
            <a:rect l="l" t="t" r="r" b="b"/>
            <a:pathLst>
              <a:path w="3039" h="1860">
                <a:moveTo>
                  <a:pt x="0" y="1860"/>
                </a:moveTo>
                <a:cubicBezTo>
                  <a:pt x="98" y="1644"/>
                  <a:pt x="196" y="1429"/>
                  <a:pt x="317" y="1270"/>
                </a:cubicBezTo>
                <a:cubicBezTo>
                  <a:pt x="438" y="1111"/>
                  <a:pt x="567" y="1028"/>
                  <a:pt x="726" y="907"/>
                </a:cubicBezTo>
                <a:cubicBezTo>
                  <a:pt x="885" y="786"/>
                  <a:pt x="1104" y="650"/>
                  <a:pt x="1270" y="544"/>
                </a:cubicBezTo>
                <a:cubicBezTo>
                  <a:pt x="1436" y="438"/>
                  <a:pt x="1542" y="348"/>
                  <a:pt x="1723" y="272"/>
                </a:cubicBezTo>
                <a:cubicBezTo>
                  <a:pt x="1904" y="196"/>
                  <a:pt x="2139" y="136"/>
                  <a:pt x="2358" y="91"/>
                </a:cubicBezTo>
                <a:cubicBezTo>
                  <a:pt x="2577" y="46"/>
                  <a:pt x="2888" y="8"/>
                  <a:pt x="3039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1116000" y="4125960"/>
            <a:ext cx="4680000" cy="2039760"/>
          </a:xfrm>
          <a:custGeom>
            <a:avLst/>
            <a:gdLst/>
            <a:ahLst/>
            <a:rect l="l" t="t" r="r" b="b"/>
            <a:pathLst>
              <a:path w="2948" h="1285">
                <a:moveTo>
                  <a:pt x="0" y="1285"/>
                </a:moveTo>
                <a:cubicBezTo>
                  <a:pt x="158" y="1062"/>
                  <a:pt x="317" y="839"/>
                  <a:pt x="453" y="695"/>
                </a:cubicBezTo>
                <a:cubicBezTo>
                  <a:pt x="589" y="551"/>
                  <a:pt x="718" y="483"/>
                  <a:pt x="816" y="423"/>
                </a:cubicBezTo>
                <a:cubicBezTo>
                  <a:pt x="914" y="363"/>
                  <a:pt x="937" y="370"/>
                  <a:pt x="1043" y="332"/>
                </a:cubicBezTo>
                <a:cubicBezTo>
                  <a:pt x="1149" y="294"/>
                  <a:pt x="1285" y="234"/>
                  <a:pt x="1451" y="196"/>
                </a:cubicBezTo>
                <a:cubicBezTo>
                  <a:pt x="1617" y="158"/>
                  <a:pt x="1852" y="135"/>
                  <a:pt x="2041" y="105"/>
                </a:cubicBezTo>
                <a:cubicBezTo>
                  <a:pt x="2230" y="75"/>
                  <a:pt x="2434" y="30"/>
                  <a:pt x="2585" y="15"/>
                </a:cubicBezTo>
                <a:cubicBezTo>
                  <a:pt x="2736" y="0"/>
                  <a:pt x="2888" y="15"/>
                  <a:pt x="2948" y="15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1187280" y="2421000"/>
            <a:ext cx="3745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1116000" y="4653000"/>
            <a:ext cx="165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2700360" y="4653000"/>
            <a:ext cx="0" cy="151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4932360" y="2421000"/>
            <a:ext cx="0" cy="3744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1116000" y="1628280"/>
            <a:ext cx="4680000" cy="453708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805080" y="595008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oizvod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828000" y="981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oizvo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086880" y="206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013440" y="2997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5941440" y="40035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4861440" y="134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3494160" y="1341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2557080" y="15573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85800" y="2276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686160" y="443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255816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479016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900000" y="2852640"/>
            <a:ext cx="0" cy="136836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2987280" y="6381720"/>
            <a:ext cx="158436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79280" y="260280"/>
            <a:ext cx="8496360" cy="647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vođenje carine na uvoznu robu i represal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829080" y="602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5292720" y="4581360"/>
            <a:ext cx="3527280" cy="916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presalije dovode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manjenja opsega trgovine bez popravljanja uvjeta trgo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0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0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500"/>
                            </p:stCondLst>
                            <p:childTnLst>
                              <p:par>
                                <p:cTn id="1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4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9" dur="30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3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3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2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7" dur="3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1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5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9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3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8" dur="3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2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7" dur="3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1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6" dur="3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0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5" dur="3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9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4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500"/>
                            </p:stCondLst>
                            <p:childTnLst>
                              <p:par>
                                <p:cTn id="15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8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3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500"/>
                            </p:stCondLst>
                            <p:childTnLst>
                              <p:par>
                                <p:cTn id="1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7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7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1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6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kon uvođenja carine u jednoj zemlji, ako partner odvrati odmazdom dolazi do konačnog rezultata smanjivanja opsega međunarodne razmjene uz isti odnos cijena px/p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ako su oba partnera u lošijoj situaciji nego prije uvođenja ca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Optimalna car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TIMALNA CARINA je stopa carinskog opterećenja koja maksimizira neto dobitak koji je posljedica poboljšanja uvjeta razmjene zemlje u odnosu na negativne učinke koji su posljedica smanjenja volumena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na dakle donosi optimalne uvjete razmjene što znači maksimalno društveno blagostan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svijetu bez poremećaja i savršenoj konkurenciji, zemlja može imati koristi od uvođenja carine, ali ta korist mora proizići iz njezine sposobnosti da utječe na odnose razmjene (mora imati monopsonsku moć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uvjetima nesavršene elastičnosti inozemne potražnje optimalna carinska zaštita ovisi o elastičnosti inozemne potražnje i o obliku domaće krivulje transforma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Pristup integrirane svjetske privr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lobalistički pristup (Krugma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stup integrirane svjetske privrede koja se onda dijeli na nacionalne privre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ključci u skladu s H-O teorijo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li: zemlja izvozi faktorske usluge svog relativno obilnog proizvodnog faktora – primjerice rada, kroz izvoz radno intenzivnog proizvoda 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2951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timalna carinska zaštita određuje se tako da se izabere skup carinskih stopa koji izjednačuje granični prihod, tj. granične uvjete razmjene s graničnim troškom, tj. graničnom stopom transforma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47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ptimalna ca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 flipH="1">
            <a:off x="468000" y="5445000"/>
            <a:ext cx="1871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1187280" y="1773000"/>
            <a:ext cx="3384720" cy="367164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2340000" y="299736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3492360" y="2997360"/>
            <a:ext cx="0" cy="2519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3277800" y="55166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973440" y="537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981080" y="2781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052360" y="3933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2702520" y="1773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4141800" y="10526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1980720" y="9079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ž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6157440" y="522936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lat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3494520" y="2924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4718160" y="2708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2411280" y="2276280"/>
            <a:ext cx="1368720" cy="3168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332360" y="57340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a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2556000" y="407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 rot="16200000">
            <a:off x="1564200" y="5067360"/>
            <a:ext cx="360360" cy="11145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8800 h 1114560"/>
              <a:gd name="textAreaBottom" fmla="*/ 1085760 h 111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492"/>
                </a:lnTo>
                <a:cubicBezTo>
                  <a:pt x="10800" y="8392"/>
                  <a:pt x="5400" y="9292"/>
                  <a:pt x="0" y="9292"/>
                </a:cubicBezTo>
                <a:cubicBezTo>
                  <a:pt x="5400" y="9292"/>
                  <a:pt x="10800" y="10192"/>
                  <a:pt x="10800" y="1109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411280" y="2133720"/>
            <a:ext cx="1284480" cy="3240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rot="21258600">
            <a:off x="1474560" y="1195200"/>
            <a:ext cx="2735280" cy="2733480"/>
          </a:xfrm>
          <a:custGeom>
            <a:avLst/>
            <a:gdLst/>
            <a:ahLst/>
            <a:rect l="l" t="t" r="r" b="b"/>
            <a:pathLst>
              <a:path w="2004" h="1641">
                <a:moveTo>
                  <a:pt x="0" y="1641"/>
                </a:moveTo>
                <a:lnTo>
                  <a:pt x="112" y="1624"/>
                </a:lnTo>
                <a:lnTo>
                  <a:pt x="223" y="1601"/>
                </a:lnTo>
                <a:lnTo>
                  <a:pt x="331" y="1576"/>
                </a:lnTo>
                <a:lnTo>
                  <a:pt x="438" y="1548"/>
                </a:lnTo>
                <a:lnTo>
                  <a:pt x="543" y="1517"/>
                </a:lnTo>
                <a:lnTo>
                  <a:pt x="643" y="1483"/>
                </a:lnTo>
                <a:lnTo>
                  <a:pt x="742" y="1448"/>
                </a:lnTo>
                <a:lnTo>
                  <a:pt x="838" y="1409"/>
                </a:lnTo>
                <a:lnTo>
                  <a:pt x="930" y="1367"/>
                </a:lnTo>
                <a:lnTo>
                  <a:pt x="1022" y="1324"/>
                </a:lnTo>
                <a:lnTo>
                  <a:pt x="1109" y="1279"/>
                </a:lnTo>
                <a:lnTo>
                  <a:pt x="1192" y="1231"/>
                </a:lnTo>
                <a:lnTo>
                  <a:pt x="1273" y="1181"/>
                </a:lnTo>
                <a:lnTo>
                  <a:pt x="1351" y="1130"/>
                </a:lnTo>
                <a:lnTo>
                  <a:pt x="1423" y="1077"/>
                </a:lnTo>
                <a:lnTo>
                  <a:pt x="1492" y="1022"/>
                </a:lnTo>
                <a:lnTo>
                  <a:pt x="1559" y="966"/>
                </a:lnTo>
                <a:lnTo>
                  <a:pt x="1621" y="908"/>
                </a:lnTo>
                <a:lnTo>
                  <a:pt x="1678" y="848"/>
                </a:lnTo>
                <a:lnTo>
                  <a:pt x="1731" y="788"/>
                </a:lnTo>
                <a:lnTo>
                  <a:pt x="1781" y="726"/>
                </a:lnTo>
                <a:lnTo>
                  <a:pt x="1826" y="663"/>
                </a:lnTo>
                <a:lnTo>
                  <a:pt x="1864" y="599"/>
                </a:lnTo>
                <a:lnTo>
                  <a:pt x="1899" y="534"/>
                </a:lnTo>
                <a:lnTo>
                  <a:pt x="1930" y="469"/>
                </a:lnTo>
                <a:lnTo>
                  <a:pt x="1956" y="405"/>
                </a:lnTo>
                <a:lnTo>
                  <a:pt x="1977" y="337"/>
                </a:lnTo>
                <a:lnTo>
                  <a:pt x="1990" y="270"/>
                </a:lnTo>
                <a:lnTo>
                  <a:pt x="2001" y="202"/>
                </a:lnTo>
                <a:lnTo>
                  <a:pt x="2004" y="136"/>
                </a:lnTo>
                <a:lnTo>
                  <a:pt x="2002" y="67"/>
                </a:lnTo>
                <a:lnTo>
                  <a:pt x="199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7" dur="indefinite" restart="never" nodeType="tmRoot">
          <p:childTnLst>
            <p:seq>
              <p:cTn id="1548" dur="indefinite" nodeType="mainSeq">
                <p:childTnLst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3" dur="3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7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2" dur="3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6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1" dur="3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5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0" dur="3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4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9" dur="3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2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7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1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6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9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2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5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0" dur="3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4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7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2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5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0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vnotežni je odnos cijena u T (odnos je 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da zemlja A uvodi carinu koja će joj donijeti max. blagostanje, naravno, uz pretpostavku da zemlja B neće odgovoriti istom mjerom, da neće biti odmaz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o je carina koja zemlji A omogućava da dosegne najvišu krivulju indiferentnosti prema trgovini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o je ona krivulja IT koja je tangenta na krivulji recipročne potražnje zemlje B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ptimalna carina i elastičnost inozemne pon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468000" y="5445000"/>
            <a:ext cx="1871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 flipV="1">
            <a:off x="1187280" y="1773000"/>
            <a:ext cx="3384720" cy="367164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340000" y="299736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3492360" y="2997360"/>
            <a:ext cx="0" cy="2519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277800" y="55166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973440" y="537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981080" y="2781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052360" y="3933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2702520" y="1773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4141800" y="10526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1980720" y="9079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ž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157440" y="522936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lat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3494520" y="2924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4718160" y="2708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2411280" y="2276280"/>
            <a:ext cx="1368720" cy="3168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4932360" y="27082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1332360" y="57340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a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3708720" y="292428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2556000" y="407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M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=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rot="16200000">
            <a:off x="1564200" y="5067360"/>
            <a:ext cx="360360" cy="11145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8800 h 1114560"/>
              <a:gd name="textAreaBottom" fmla="*/ 1085760 h 111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492"/>
                </a:lnTo>
                <a:cubicBezTo>
                  <a:pt x="10800" y="8392"/>
                  <a:pt x="5400" y="9292"/>
                  <a:pt x="0" y="9292"/>
                </a:cubicBezTo>
                <a:cubicBezTo>
                  <a:pt x="5400" y="9292"/>
                  <a:pt x="10800" y="10192"/>
                  <a:pt x="10800" y="1109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411280" y="2133720"/>
            <a:ext cx="1284480" cy="3240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759280" y="1484280"/>
            <a:ext cx="3384720" cy="35290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ptimalna carina zavisi od elastičnosti inozemne ponude i potražnje “B”. Elastičnost u točki T’ je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U0/R0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ptimalna carina u točki T’ je: S0/0Q=1/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-1)=1/(2-1)=1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ptimalna carina u točki M je 1/(∞−1)=0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ptimalna carina u točki T je  1/(1−1)=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 rot="21258600">
            <a:off x="1474560" y="1195200"/>
            <a:ext cx="2735280" cy="2733480"/>
          </a:xfrm>
          <a:custGeom>
            <a:avLst/>
            <a:gdLst/>
            <a:ahLst/>
            <a:rect l="l" t="t" r="r" b="b"/>
            <a:pathLst>
              <a:path w="2004" h="1641">
                <a:moveTo>
                  <a:pt x="0" y="1641"/>
                </a:moveTo>
                <a:lnTo>
                  <a:pt x="112" y="1624"/>
                </a:lnTo>
                <a:lnTo>
                  <a:pt x="223" y="1601"/>
                </a:lnTo>
                <a:lnTo>
                  <a:pt x="331" y="1576"/>
                </a:lnTo>
                <a:lnTo>
                  <a:pt x="438" y="1548"/>
                </a:lnTo>
                <a:lnTo>
                  <a:pt x="543" y="1517"/>
                </a:lnTo>
                <a:lnTo>
                  <a:pt x="643" y="1483"/>
                </a:lnTo>
                <a:lnTo>
                  <a:pt x="742" y="1448"/>
                </a:lnTo>
                <a:lnTo>
                  <a:pt x="838" y="1409"/>
                </a:lnTo>
                <a:lnTo>
                  <a:pt x="930" y="1367"/>
                </a:lnTo>
                <a:lnTo>
                  <a:pt x="1022" y="1324"/>
                </a:lnTo>
                <a:lnTo>
                  <a:pt x="1109" y="1279"/>
                </a:lnTo>
                <a:lnTo>
                  <a:pt x="1192" y="1231"/>
                </a:lnTo>
                <a:lnTo>
                  <a:pt x="1273" y="1181"/>
                </a:lnTo>
                <a:lnTo>
                  <a:pt x="1351" y="1130"/>
                </a:lnTo>
                <a:lnTo>
                  <a:pt x="1423" y="1077"/>
                </a:lnTo>
                <a:lnTo>
                  <a:pt x="1492" y="1022"/>
                </a:lnTo>
                <a:lnTo>
                  <a:pt x="1559" y="966"/>
                </a:lnTo>
                <a:lnTo>
                  <a:pt x="1621" y="908"/>
                </a:lnTo>
                <a:lnTo>
                  <a:pt x="1678" y="848"/>
                </a:lnTo>
                <a:lnTo>
                  <a:pt x="1731" y="788"/>
                </a:lnTo>
                <a:lnTo>
                  <a:pt x="1781" y="726"/>
                </a:lnTo>
                <a:lnTo>
                  <a:pt x="1826" y="663"/>
                </a:lnTo>
                <a:lnTo>
                  <a:pt x="1864" y="599"/>
                </a:lnTo>
                <a:lnTo>
                  <a:pt x="1899" y="534"/>
                </a:lnTo>
                <a:lnTo>
                  <a:pt x="1930" y="469"/>
                </a:lnTo>
                <a:lnTo>
                  <a:pt x="1956" y="405"/>
                </a:lnTo>
                <a:lnTo>
                  <a:pt x="1977" y="337"/>
                </a:lnTo>
                <a:lnTo>
                  <a:pt x="1990" y="270"/>
                </a:lnTo>
                <a:lnTo>
                  <a:pt x="2001" y="202"/>
                </a:lnTo>
                <a:lnTo>
                  <a:pt x="2004" y="136"/>
                </a:lnTo>
                <a:lnTo>
                  <a:pt x="2002" y="67"/>
                </a:lnTo>
                <a:lnTo>
                  <a:pt x="199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1" dur="indefinite" restart="never" nodeType="tmRoot">
          <p:childTnLst>
            <p:seq>
              <p:cTn id="1642" dur="indefinite" nodeType="mainSeq">
                <p:childTnLst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7" dur="3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1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6" dur="3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0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5" dur="3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9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4" dur="3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8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3" dur="3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6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1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fill="hold">
                            <p:stCondLst>
                              <p:cond delay="500"/>
                            </p:stCondLst>
                            <p:childTnLst>
                              <p:par>
                                <p:cTn id="16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5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0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3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6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9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4" dur="3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8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1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6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9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4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9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4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9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jere visine carinske zaštite u nekom gospodarstv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91520" cy="6335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utem nominalnih carinskih stop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PONDERIRANA PROSJEČNA CARINSKA STOPA – ne uzima u račun relativno značenje svake 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NDERIRANA PROSJEČNA CARINSKA STOPA – svaka carinska stopa ponderirana je udjelom pojedine robe u izvozu zem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HIBITIVNA CARINSKA STOPA – toliko visoka da sprečava uvoz robe u zeml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793116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FEKTIVNA STOPA ZAŠTITE – predstavlja u biti promjene u dodanoj vrijednosti pojedinog sektora zbog uspostavljene strukture zaštite intermedijarnih i finalnih dobara. Carina na input i carina output se uzima u obzir, pa vidimo koliko je proizvodnja u biti zaštiće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ominalna zaštita pokazuje efekte na potrošača, na proizvodnju ne znam – to pokazuje efektivna zašt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Necarinska ograničenja vanjske trgov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43588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va necarinska ograničenja vanjske trgovine mogu se svrstati u 3. grupe (3. tip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jere 1. tipa – ona necarinska ograničenja kojima je svrha zaštititi domaću privredu od vanjske konkurencije, ograničiti uvoz ili ojačati domaću privredu u konkurenciji, s uvozom na domaćem tržištu ili u konkurenciji za izvozna tržišta. Grupiraju se dalje u MJERE PREMA UVOZU i MJERE PREMA IZVO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jere 2. tipa – one mjere koje se odnose na probleme koji nisu direktno vezani uz trgovinu, ali se povremeno koriste za ograničavanje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jere 3. tipa – one mjere ekonomske politike koje se primjenjuju isključivo iz razloga koji nisu direktno vezani uz trgovinu, ali koje neizbježno dovode do iskrivljavanja uvjeta međunarodne razmjene i zbog toga utječu na vanjsku trgovi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govina proizvodima je zapravo MEDIJ preko kojega se izvoze faktorske usluge relativno obilnog proizvodnog fakt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1, TIP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usmjerene na uvo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koje djeluju na količine (direktne)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globalne uvozne kvote, selektivne uvozne kvote, dozvole diskretno restriktivne, dozvole liberalne, “dobrovoljna” ograničenja izvoza, embargo, državna trgovina, propisi o domaćem sadrža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2.  Mjere koje djeluju kroz troškove i cijene (indirektne)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varijabilni nameti i dodatne uvozne takse (prelevmani), zahtjevi za avansnim depozitom, antidampinška i kompenzatorna opterećenja (takse), direktne subvencije domaćim konkurentima uvoza, kreditna ograničenja uvoznicima, porezne olakšice i ostale indirektne subvencije domaćim proizvođačima koji konkuriraju uvozu, uključujući i kreditne koncesije, diskriminatorne tarife u unutarnjem transportu, međunarodni robni sporazu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jere usmjerene na izvo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koje djeluju na količine (direkt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na trgovi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e kvote i dozv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8002440" cy="547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koje djeluju kroz troškove i cijene (indirekt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rektne subvencije izvoznicim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direktne subvencije izvoznicima uključujući i kreditne olakši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mping koji podržava držav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i nameti (taks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eđunarodni robni sporazumi i sporazumi o marketingu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JERE 2. TI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koje djeluju na količine (direkt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graničenje pristupa medijima komuniciran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antitativna ograničenja marketinga i propaga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2. Mjere koje djeluju kroz troškove i cijene (indirekt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525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pisi o pakiranju i etiketiranju, zdravstveni, sanitarni i standardi o kvaliteti, sigurnosni i industrijski standardi i propisi, granične takse, uporabne takse, carinska procedura, konzularne formalnosti i sl., postupci carinske klasifikacije, postupci određivanja carinske osnovice, devizna ograničenja, državno poduzetništvo, financiranje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D i slične pomoći domaćim proizvođačima supstituta uvoza i izvoznim sektor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JERE 3. TIP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ni monopol proizvodnje, prodaje i distribucije proizvod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na strukturna politika i politika regionalnog razvoja koja utječe na trgovin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d hoc mjere ekonomske politike u vezi s bilancom plaćan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like u poreznim sustavim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like u sustavima socijalnog osiguran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like u sustavima amortizacij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anjske koristi od vladinih programa nabavke za obranu, zrakoplovstvo ili nevojne svr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konomija obujma uvjetovana državnim nabavkam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mjene nacionalnih standarda, propisa i prakse, tarife u vanjskom transportu i međudržavni transportni sporazum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učke pristoj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oličinska ograničenja vanjske trgovine - kv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3456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OTA – apsolutna granica do koje može ići vrijednost ili količina neke robe ili usluge u određenom vremenskom razdobl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zne i izvozne kv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Monopolistička konkuren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izvodnja jednog proizvoda 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toji puno proizvođača (ulaz u proizvodnju slobodan) sličnog, ali barem donekle različitog proizvo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kon relativno rastućih prinosa – ekonomija razmjera kod pojedinih proizvođač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475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LOBALNA ili NEDISKRIMINATORNA KVOTA – ako se kvotom ograničava ukupna trgovina neke robe ili usluge sa svijet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d je dosegnut limit određen kvotom, neovisno iz koje je zemlje roba uvezena, daljnja trgovina presta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6121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ELEKTIVNA ili DISKRIMINATORNA KVOTA – ako se kvota razlikuje prema zemljama podrijetla ili odredišta robe ili uslu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vozne granice se određuju bilateralnim sporazum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ebna vrsta –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obrovoljno ograničenje izvoz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koje se bilateralno dogovara zbog narušene ravnoteže u vanjskotrgovinskoj bilanci (japanski izvoz auta u SAD i EU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417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RINSKA KVOTA – stavlja limit na uvoz određene količine ili vrijednosti neke robe uz danu carinsku stop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jeđe li uvoz taj limit primjenjuje se druga, viša carinska stop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447560" y="3505320"/>
            <a:ext cx="45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476360" y="306864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133800" y="378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565800" y="378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3997080" y="378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4211640" y="3284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4860720" y="3789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5437440" y="378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356580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493416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6137280" y="14320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6372720" y="184464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+ U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3132000" y="3716280"/>
            <a:ext cx="1079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4211640" y="2133360"/>
            <a:ext cx="2736720" cy="157788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6589800" y="3789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kazana zemlja B koja uvozi X iz zemlje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oši u točki B, uvoz je 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đenjem kvote od AG, smanjuje se uvoz na AG, raste cijena u zemlji B, smanjuje se potrošnja sa PaDb na PD, raste domaća proizvodnja s PaA na PC, dolazi do preraspodjele realnog dohotka od potrošača proizvođač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e blagostanja za GDB (smanjenje potrošačeva probit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lada može prodavati dozvole za uvoz do veličine kvote – pri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li, dijeliti dozvole uvoznicima koji onda profitiraju na razlici cijena dobra X i Y u zemljama A i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o su izvoznici u zemlji A formirali kartel, a uvoznici u zemlji B međusobno konkuriraju, korist od uvođenja kvote imat će izvoznici u zemlji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2340000" y="1484280"/>
            <a:ext cx="2087640" cy="396072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514836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4140360" y="981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›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2340000" y="371628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2034000" y="3305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257640" y="323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4697640" y="330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197080" y="5445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6" dur="3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0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5" dur="3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9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4" dur="3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emlja A uvozi kvotu na uvoz Y-a od O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rivulja recipročne potražnje zemlje A ima lom u točki E pa sada izgleda OEC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jeti razmjene zemlje A su se uvođenjem kvote poboljšali (px/pY›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e li time položaj zemlje A poboljšan, ne možemo reći dok ne znamo nalazi li se zemlja A nakon uvođenja kvote na višoj ili nižoj krivulji indiferen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748720" cy="1079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Cijena, ponuda i potražnja nakon uvođenja carine (mala zemlja)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rot="1648200">
            <a:off x="4788000" y="3212640"/>
            <a:ext cx="3124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maća potrošnja p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 rot="19775400">
            <a:off x="2057400" y="2590560"/>
            <a:ext cx="3529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maća ponuda r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5715000" y="35812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3733920" y="31240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4800600" y="31240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2971800" y="35812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 flipH="1" flipV="1">
            <a:off x="5105160" y="32000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3048120" y="32000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rot="16200000">
            <a:off x="-170280" y="34750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badi MT Condensed Light"/>
              </a:rPr>
              <a:t>Cijena r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Argumenti za zašti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vijet podijelimo na 2 zemlje: A i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a bi se ostvarila ista proizvodnja u svijetu mora se proizvodnja određene vrste proizvoda X alocirati u potpunosti u pojedinoj zemlji (diferenciran proizvod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ako bi se očuvala ekonomija razmjera u proizvodnji iste vrste diferenciranog proizvoda X u pojedinoj zemlj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bje zemlje i izvoze i uvoze X (izvoze dio X-a u kojemu su se specijaliziral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362800" cy="619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Argumenti za zaštit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gument zaposlenosti i smanjenja nezaposle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gument nacionalne sigurnosti i o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gument mlade industr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gument nepravedne konkuren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pravljanje uvjeta trgo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boljšanje trgovinske bi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e nezaposlenosti u specifičnoj industri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mpenziranje stranih izvoznih subven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mpenziranje dampinških cijena (anti-dum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rina u korist oskudnog faktora proizvod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litički i socijalni razlo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Čisto fiskalni razlo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367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eđutim, protekcionizam se danas opravdava potrebom zaštite male zemlje od inozemne konkurencije dok ne postigne konkurentnost –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TRATEŠKA TRGOVINSKA POLITIK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Kriteriji aktivne zaštitne polit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36280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ALITATIVNI KRITERIJ: što štititi, tj. koje proizvode ili sektore proizvodnje? Na što uvesti veću carin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ANTITATIVNI KRITERIJ: koliko visoku stopu zaštite uves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STRUMENTALNI KRITERIJ: čime, tj. kojim instrumentima štititi? Izbor između: carina, izvoznih taksi i subvencija, necarinskih ograničenja, uvoznih kvota, izvoznih ograničenja, provizija i poreza na uvoznu robu, kontrole robe, administrativnih procedura, pristojbi za carinsko evidentiranje, porijekla robe i d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453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REMENSKI KRITERIJ: kako dugo štititi ili mijenjati intenzitet zaštite? Da li u vremenu smanjivati ili povećavati zaštit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ebalo bi koristiti FAZNI PRISTUP, a ne šok terapiju . Pomalo smanjivati zaštitu i najaviti njeno smanjivanje kako bi se određeni sektor mogao priviknuti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66"/>
                </a:solidFill>
                <a:latin typeface="Arial"/>
              </a:rPr>
              <a:t>Novije teorije vanjske trgov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ravisova teor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inderova teor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orija životnog ciklusa proizv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konomija razmjera i nesavršena konkuren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ravitacijski model trgo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likujemo 2. komponente vanjske trgov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NTERINDUSTRIJSKU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– trgovinu različitim vrstama proizvoda, komparativne prednosti prema H-O model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NTRAINDUSTRIJSKU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– trgovinu istom vrstom proizvoda, ali diferenciranih zbog djelovanja zakona razmjerno rastućih prinosa i postojanja ekonomije razmj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Multinacionalne kompan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ovoljno velike da mogu utjecati na promjenu ukupne tržišne ponude, a time i cij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lozi nastanka: industrijska organizacija – da se 2 ili više aktivnosti stave pod isto vlasništvo, lociranje aktivnosti prema komparativnim prednostima zemalja, pristup nacionalnom tržištu, izbjegavanje transportnih troškova i s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kspanzija se odvija uglavnom preko izravnih inozemnih ulag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a li su ove investicije i vanjska trgovina supstituti ili komplementarn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dgovor u motivima internacionalizacij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ko neko poduzeće postaje multinacionalno zbog komparativnih prednosti pojedinih zemalja – utječe na povećanje (stvaranje) V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ko neko poduzeće postaje multinacionalno da poboljša pristup lokalnom tržištu – ne utječe na V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569080" cy="922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Gravitacijski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96000" cy="468000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vitacijski model predstavlja ekonometrijsk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 p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hniku za ispitivanje determinanti bilateralnih trgovinskih tijeko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je model trgovinskih tijekova baziran na analogiji sa zakonom gravitacije u fizic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(Newt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kon gravitaci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ravitacija je razmjerna umnošku mase, a obrnuto razmjerna kvadratu udaljenosti dvaju tije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asu zemlje čini veličina zemlje i privredne razvije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9280" y="260280"/>
          <a:ext cx="878544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878544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6840" y="2565360"/>
            <a:ext cx="8435880" cy="388800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Xij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 izvoz zemlje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u zemlju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j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Y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 BDP zemlje izvozn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Yj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 BDP zemlje uvozn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Ypc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 BDP per capita zemlje izvozn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Ypcj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 BDP per capita zemlje uvozn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Dij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 geografska udaljenost između glavnih gradova zemlje izvoznice i zemlje uvozn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 stanovništvo zemlje izvozn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Nj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 stanovništvo zemlje uvozn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LANij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 jezik (varijabla koja je jedan ukoliko zemlje govore isti jezi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postavlja se da je trgovina među dvjema zemljama pozitivno povezana s njihovim veličinama i negativno s udaljenostima među nji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ođer, ukoliko se u zemlji uvoznici i zemlji izvoznici govori isti jezik, pretpostavlja se pozitivan utjecaj na međusobnu trg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jne varijable se dodaju u ovaj model i postoje brojne inač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59520" cy="45259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dj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i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izvoz zemlj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zemlju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BDP zemlje izvozni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BDP zemlje uvozni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pc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BDP per capita zemlje izvozni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pc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BDP per capita zemlje uvoznic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geografska udaljenost izmeu glavnih gradova zemlje izvoznice 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mlje uvozni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tanovništvo zemlje izvozni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tanovništvo zemlje uvozni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Ni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jezik (varijabla koja je jedan ukoliko zemlje govore isti jezi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obzirom da Hrvatska ne dijeli zajedn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 jezik s nijednom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icom EU-25, ov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varijabla isklj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 iz mode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jabla log BDP je isklj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 iz analize jer n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dovoljava elemente statistike tolerancije za uklj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anje u analizu. Stoga, je možem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klj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i ili njez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nder proglasiti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vo je r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 analiza izvoza Hrvatske u zeml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-25. Dobivena je slijed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jednadžb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truktura vanjske trgovine se određuje raspoloživošću dobara te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zemlja uvozi dobra koja nisu raspoloživa u zemlj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vanjska se trgovina ograničava na dobra koja nisu raspoloživa u zeml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arinska zaštita, kartelizacija, transportni troškovi,… teže eliminiranju iz vanjske trgovine onih dobara koja su raspoloživa u domaćoj proizvodnji, makar i uz više trošk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Kravisova teor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45262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kazano je kako su stanovništvo i udaljenost statist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 zn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ni prediktor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ateralnih trgovinskih tijeko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vr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 su p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ne pretpostavke da rast broj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ovnika djeluje pozitivno na trgovinu, a v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daljenost m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zemljama negativ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Za uvoz iz EU-25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ovom sl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u sve varijable su statist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 zn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ni prediktori: i BD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 capit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ovništvo i udaljenost. Dakle, sve varijable su statist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 zn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ni prediktori što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r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 je uvoz u Hrvatsku, za razliku od izvoza, bolje profiliran (kod izvoza još postoji nek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zidualni varijabilitet, tj. mora se objašnjavati još nekim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benicima koji su u ovakvoj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i svrstani u pogrešku prognoze, dok je uvoz gotovo u potpunosti definira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vr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 su p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ne pretpostavke da rast broja stanovnika i BDP-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 capit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jelu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zitivno na trgovinu, a v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daljenost m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zemljama negativ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Edgeworthov dijagram i krivulja ugov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oristi od razmjene zemalja A i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ko su granične stope supstitucije u zemljama A i B različite, razmjena dobara X i Y među tim zemljama bit će obostrano probitačna sve dok se granične stope supstitucije ne izjednač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(GSS-pokazuje koliko je jedinica dobra X društvo voljno žrtvovati za potrošnju dodatne jedinice dobra Y, a da mu razina zadovoljstva ostane ista, tj. da ostane na istoj krivulji indiferencij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692280"/>
            <a:ext cx="8064360" cy="5472000"/>
          </a:xfrm>
          <a:prstGeom prst="rect">
            <a:avLst/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08000" y="2852640"/>
            <a:ext cx="460872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1197000"/>
            <a:ext cx="2306520" cy="504180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2997360"/>
            <a:ext cx="2449440" cy="2520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00720" y="2205000"/>
            <a:ext cx="2592360" cy="280836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2169200">
            <a:off x="366480" y="3681360"/>
            <a:ext cx="3448080" cy="147960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2169200">
            <a:off x="2301480" y="3578400"/>
            <a:ext cx="2400480" cy="121896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2169200">
            <a:off x="1180440" y="2123640"/>
            <a:ext cx="5359320" cy="2322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5734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67280" y="522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501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79640" y="907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184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19280" y="26028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obro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308720" y="189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artne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23736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artn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2720" y="6237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obro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7022880" y="32083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obro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-1507680" y="328104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obro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19280" y="1268280"/>
            <a:ext cx="431640" cy="289080"/>
          </a:xfrm>
          <a:prstGeom prst="rect">
            <a:avLst/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87640" y="4581360"/>
            <a:ext cx="432000" cy="289080"/>
          </a:xfrm>
          <a:prstGeom prst="rect">
            <a:avLst/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95640" y="4076640"/>
            <a:ext cx="432000" cy="289080"/>
          </a:xfrm>
          <a:prstGeom prst="rect">
            <a:avLst/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76720" y="3429000"/>
            <a:ext cx="432000" cy="289080"/>
          </a:xfrm>
          <a:prstGeom prst="rect">
            <a:avLst/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 I su označene krivulje indiferencije zemlj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 Z su označene krivulje indiferencije zemlj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menzije dijagrama određene su ukupnom količinom dobara X i Y kojima zemlje raspolaž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točki C GSS zemlje A je veća od GSS zemlje B – osnova za obostrano probitačnu razmj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a zemlja A daje sve više jedinica dobra Y za sve više dobra X – sve dok ne dođu u točku S- GSS su jednake, samo je A na višoj krivulji indiferencije , pa je A pokupila sve koristi od razmj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čka F-obrnuto, B pokupila sve koristi od razmj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čka E-oba partnera profitiraju od razmjene, oba su na višim krivuljama indiferenc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pajajući sve točke dodira krivulja indiferencije partnera A i B dobivamo krivulju ugovora 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čke na toj krivulji pokazuju jednakosti graničnih stopa supstitucije partnera, što znači da je postignuta ravnoteža i eliminirani razlozi za razmje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147160" cy="56167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bra mogu biti neraspoloživa u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apsolutnom smisl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tj. zato jer ih zemlja uopće ne posjeduje, glavni razlog predstavlja nepostojanje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irodnih resurs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bra mogu biti neraspoloživa i u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relativnom smisl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njihova je domaća ponuda neelastična, npr. nedovoljne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novacij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ogu biti razlog za 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bra također mogu biti neraspoloživa zbog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iferencijacije proizvod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koja eventualno zemlji daje privremeni monopol u proizvodnji, dok druge zemlje ne počnu imitirati tu proizvodn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vako daljnje nastavljanje razmjene išlo bi na štetu jednog ili drugog partn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čke na krivulji ugovora predstavljaju Paretov optimum (položaj bilo koje stranke ne može se poboljšati, a da se time ne pogorša položaj dru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KRIVULJA RECIPROČNE POTRAŽ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Krivulja recipročne potraž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13240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Pokazuje ponudu izvoza i potražnju za uvozom neke zeml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07280" cy="93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0000"/>
                </a:solidFill>
                <a:latin typeface="Arial"/>
              </a:rPr>
              <a:t>Krivulja recipročne potražnj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36000" cy="46087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rivulja recipročne potražnje pokazuje kolika je potražnja zemlje za uvoznim proizvodima za koje je voljna ponuditi određenu količinu izvoznih proizvoda pri različitim relativnim cijenama proizvo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rivulja uključuje elemente potražn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tražnja za uvoz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 ponu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nuda izvoz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Izvođenje krivulja recipročne potražnje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8280360" cy="24476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lanjanje na granice proizvodnih moguć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vije zemlje i dva proizv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govinski trok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krivulja indiferentnosti trgov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am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d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952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410080" y="2057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5334120"/>
            <a:ext cx="3265560" cy="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190512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172360" y="544500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57800" y="533412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4267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0120" y="228600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80000" y="476280"/>
            <a:ext cx="2879640" cy="8254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rivulja recipročne potražnje zemlj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10080" y="1676520"/>
            <a:ext cx="2971800" cy="3657600"/>
          </a:xfrm>
          <a:custGeom>
            <a:avLst/>
            <a:gdLst/>
            <a:ahLst/>
            <a:rect l="l" t="t" r="r" b="b"/>
            <a:pathLst>
              <a:path w="1872" h="2304">
                <a:moveTo>
                  <a:pt x="0" y="2304"/>
                </a:moveTo>
                <a:cubicBezTo>
                  <a:pt x="156" y="2244"/>
                  <a:pt x="312" y="2184"/>
                  <a:pt x="480" y="2064"/>
                </a:cubicBezTo>
                <a:cubicBezTo>
                  <a:pt x="648" y="1944"/>
                  <a:pt x="808" y="1840"/>
                  <a:pt x="1008" y="1584"/>
                </a:cubicBezTo>
                <a:cubicBezTo>
                  <a:pt x="1208" y="1328"/>
                  <a:pt x="1544" y="768"/>
                  <a:pt x="1680" y="528"/>
                </a:cubicBezTo>
                <a:cubicBezTo>
                  <a:pt x="1816" y="288"/>
                  <a:pt x="1792" y="232"/>
                  <a:pt x="1824" y="144"/>
                </a:cubicBezTo>
                <a:cubicBezTo>
                  <a:pt x="1856" y="56"/>
                  <a:pt x="1864" y="24"/>
                  <a:pt x="1872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2349360"/>
            <a:ext cx="3311640" cy="3080160"/>
          </a:xfrm>
          <a:prstGeom prst="rect">
            <a:avLst/>
          </a:prstGeom>
          <a:solidFill>
            <a:srgbClr val="fdfd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Krivulja pokazuje koliko rob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udi zemlja 1 u zamjenu za uvoz rob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Y,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i različitim cijenam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62120" y="2057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533412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-2970000" y="3278160"/>
            <a:ext cx="746712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5" y="0"/>
                </a:moveTo>
                <a:arcTo wR="10800" hR="10800" stAng="-5401461" swAng="5401461"/>
                <a:lnTo>
                  <a:pt x="10800" y="10800"/>
                </a:lnTo>
                <a:close/>
              </a:path>
              <a:path fill="none" w="21600" h="21600">
                <a:moveTo>
                  <a:pt x="10795" y="0"/>
                </a:moveTo>
                <a:arcTo wR="10800" hR="10800" stAng="-5401461" swAng="5401461"/>
              </a:path>
            </a:pathLst>
          </a:custGeom>
          <a:noFill/>
          <a:ln cap="rnd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91120" y="53341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2057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5334120"/>
            <a:ext cx="3265560" cy="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177336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27640" y="1557360"/>
            <a:ext cx="30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vo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o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emlj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14800" y="541008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72360" y="5373720"/>
            <a:ext cx="241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zvoz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zemlj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2514600"/>
            <a:ext cx="3505320" cy="20574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81480" y="5410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1981080"/>
            <a:ext cx="1676160" cy="35053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1981080"/>
            <a:ext cx="3276360" cy="32004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95480" y="3124080"/>
            <a:ext cx="1143000" cy="1219320"/>
          </a:xfrm>
          <a:prstGeom prst="rtTriangle">
            <a:avLst/>
          </a:prstGeom>
          <a:solidFill>
            <a:srgbClr val="cc00cc">
              <a:alpha val="50000"/>
            </a:srgbClr>
          </a:solidFill>
          <a:ln w="12600">
            <a:solidFill>
              <a:srgbClr val="1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409360" y="4114800"/>
            <a:ext cx="1143000" cy="1219320"/>
          </a:xfrm>
          <a:prstGeom prst="rtTriangle">
            <a:avLst/>
          </a:prstGeom>
          <a:solidFill>
            <a:srgbClr val="cc00cc">
              <a:alpha val="50000"/>
            </a:srgbClr>
          </a:solidFill>
          <a:ln w="12600">
            <a:solidFill>
              <a:srgbClr val="1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38280" y="3276720"/>
            <a:ext cx="990720" cy="609480"/>
          </a:xfrm>
          <a:prstGeom prst="rtTriangle">
            <a:avLst/>
          </a:prstGeom>
          <a:solidFill>
            <a:srgbClr val="03fb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410080" y="4724280"/>
            <a:ext cx="990720" cy="609840"/>
          </a:xfrm>
          <a:prstGeom prst="rtTriangle">
            <a:avLst/>
          </a:prstGeom>
          <a:solidFill>
            <a:srgbClr val="03fb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2438280"/>
            <a:ext cx="1143000" cy="2438640"/>
          </a:xfrm>
          <a:prstGeom prst="rtTriangl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409360" y="2895480"/>
            <a:ext cx="1295640" cy="243864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333360"/>
            <a:ext cx="8497800" cy="1191240"/>
          </a:xfrm>
          <a:prstGeom prst="rect">
            <a:avLst/>
          </a:prstGeom>
          <a:solidFill>
            <a:srgbClr val="fdfd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Možemo zamisliti da je krivulja recipročne potražnje nastala od svih mogućih trokuta trgov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Točk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 2 and 3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u na toj krivulj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46748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67480" y="3886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467480" y="2590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6400800" y="4724280"/>
            <a:ext cx="914400" cy="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732720" y="2924280"/>
            <a:ext cx="576000" cy="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588000" y="4149720"/>
            <a:ext cx="720720" cy="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15200" y="2590920"/>
            <a:ext cx="533520" cy="243828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2438280"/>
              <a:gd name="textAreaBottom" fmla="*/ 2412360 h 2438280"/>
            </a:gdLst>
            <a:ahLst/>
            <a:rect l="textAreaLeft" t="textAreaTop" r="textAreaRight" b="textAreaBottom"/>
            <a:pathLst>
              <a:path w="21600" h="98664">
                <a:moveTo>
                  <a:pt x="3600" y="0"/>
                </a:moveTo>
                <a:arcTo wR="3600" hR="3600" stAng="16200000" swAng="-5400000"/>
                <a:lnTo>
                  <a:pt x="0" y="95064"/>
                </a:lnTo>
                <a:arcTo wR="3600" hR="3600" stAng="10800000" swAng="-5400000"/>
                <a:lnTo>
                  <a:pt x="18000" y="986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62120" y="2057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533412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-2970000" y="3278160"/>
            <a:ext cx="746712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5" y="0"/>
                </a:moveTo>
                <a:arcTo wR="10800" hR="10800" stAng="-5401461" swAng="5401461"/>
                <a:lnTo>
                  <a:pt x="10800" y="10800"/>
                </a:lnTo>
                <a:close/>
              </a:path>
              <a:path fill="none" w="21600" h="21600">
                <a:moveTo>
                  <a:pt x="10795" y="0"/>
                </a:moveTo>
                <a:arcTo wR="10800" hR="10800" stAng="-5401461" swAng="5401461"/>
              </a:path>
            </a:pathLst>
          </a:custGeom>
          <a:noFill/>
          <a:ln cap="rnd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53341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409720" y="2276640"/>
            <a:ext cx="25560" cy="305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10080" y="5334120"/>
            <a:ext cx="3265560" cy="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206064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40360" y="2349360"/>
            <a:ext cx="143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voz 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16360" y="537372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96360" y="537372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zvoz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2514600"/>
            <a:ext cx="3505320" cy="20574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3352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39625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57400" y="3429000"/>
            <a:ext cx="38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4038480"/>
            <a:ext cx="83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119700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rivulja recipročne potraž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410080" y="3580920"/>
            <a:ext cx="297180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404640"/>
            <a:ext cx="8064360" cy="5205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Nagib pravca je relativna cijena X prema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10080" y="1676520"/>
            <a:ext cx="2971800" cy="3657600"/>
          </a:xfrm>
          <a:custGeom>
            <a:avLst/>
            <a:gdLst/>
            <a:ahLst/>
            <a:rect l="l" t="t" r="r" b="b"/>
            <a:pathLst>
              <a:path w="1872" h="2304">
                <a:moveTo>
                  <a:pt x="0" y="2304"/>
                </a:moveTo>
                <a:cubicBezTo>
                  <a:pt x="156" y="2244"/>
                  <a:pt x="312" y="2184"/>
                  <a:pt x="480" y="2064"/>
                </a:cubicBezTo>
                <a:cubicBezTo>
                  <a:pt x="648" y="1944"/>
                  <a:pt x="808" y="1840"/>
                  <a:pt x="1008" y="1584"/>
                </a:cubicBezTo>
                <a:cubicBezTo>
                  <a:pt x="1208" y="1328"/>
                  <a:pt x="1544" y="768"/>
                  <a:pt x="1680" y="528"/>
                </a:cubicBezTo>
                <a:cubicBezTo>
                  <a:pt x="1816" y="288"/>
                  <a:pt x="1792" y="232"/>
                  <a:pt x="1824" y="144"/>
                </a:cubicBezTo>
                <a:cubicBezTo>
                  <a:pt x="1856" y="56"/>
                  <a:pt x="1864" y="24"/>
                  <a:pt x="1872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1143000"/>
            <a:ext cx="134604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Tahoma"/>
              </a:rPr>
              <a:t>X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/ p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16720" y="4653000"/>
            <a:ext cx="0" cy="69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435280" y="465300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132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1403280" y="1628640"/>
            <a:ext cx="2232000" cy="10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32360" y="1628640"/>
            <a:ext cx="2808360" cy="22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21109800">
            <a:off x="1838160" y="1846440"/>
            <a:ext cx="1800360" cy="1871640"/>
          </a:xfrm>
          <a:custGeom>
            <a:avLst/>
            <a:gdLst/>
            <a:ahLst/>
            <a:rect l="l" t="t" r="r" b="b"/>
            <a:pathLst>
              <a:path w="1152" h="1152">
                <a:moveTo>
                  <a:pt x="1152" y="1152"/>
                </a:moveTo>
                <a:lnTo>
                  <a:pt x="1093" y="1151"/>
                </a:lnTo>
                <a:lnTo>
                  <a:pt x="1034" y="1146"/>
                </a:lnTo>
                <a:lnTo>
                  <a:pt x="977" y="1139"/>
                </a:lnTo>
                <a:lnTo>
                  <a:pt x="920" y="1129"/>
                </a:lnTo>
                <a:lnTo>
                  <a:pt x="864" y="1116"/>
                </a:lnTo>
                <a:lnTo>
                  <a:pt x="810" y="1100"/>
                </a:lnTo>
                <a:lnTo>
                  <a:pt x="756" y="1082"/>
                </a:lnTo>
                <a:lnTo>
                  <a:pt x="704" y="1062"/>
                </a:lnTo>
                <a:lnTo>
                  <a:pt x="653" y="1038"/>
                </a:lnTo>
                <a:lnTo>
                  <a:pt x="603" y="1013"/>
                </a:lnTo>
                <a:lnTo>
                  <a:pt x="555" y="985"/>
                </a:lnTo>
                <a:lnTo>
                  <a:pt x="508" y="955"/>
                </a:lnTo>
                <a:lnTo>
                  <a:pt x="463" y="923"/>
                </a:lnTo>
                <a:lnTo>
                  <a:pt x="419" y="889"/>
                </a:lnTo>
                <a:lnTo>
                  <a:pt x="378" y="853"/>
                </a:lnTo>
                <a:lnTo>
                  <a:pt x="338" y="815"/>
                </a:lnTo>
                <a:lnTo>
                  <a:pt x="299" y="775"/>
                </a:lnTo>
                <a:lnTo>
                  <a:pt x="263" y="733"/>
                </a:lnTo>
                <a:lnTo>
                  <a:pt x="229" y="689"/>
                </a:lnTo>
                <a:lnTo>
                  <a:pt x="197" y="644"/>
                </a:lnTo>
                <a:lnTo>
                  <a:pt x="167" y="597"/>
                </a:lnTo>
                <a:lnTo>
                  <a:pt x="139" y="549"/>
                </a:lnTo>
                <a:lnTo>
                  <a:pt x="114" y="499"/>
                </a:lnTo>
                <a:lnTo>
                  <a:pt x="91" y="448"/>
                </a:lnTo>
                <a:lnTo>
                  <a:pt x="70" y="396"/>
                </a:lnTo>
                <a:lnTo>
                  <a:pt x="52" y="343"/>
                </a:lnTo>
                <a:lnTo>
                  <a:pt x="36" y="288"/>
                </a:lnTo>
                <a:lnTo>
                  <a:pt x="24" y="232"/>
                </a:lnTo>
                <a:lnTo>
                  <a:pt x="13" y="175"/>
                </a:lnTo>
                <a:lnTo>
                  <a:pt x="6" y="118"/>
                </a:lnTo>
                <a:lnTo>
                  <a:pt x="2" y="59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762120" y="2057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533412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-2970000" y="3278160"/>
            <a:ext cx="746712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5" y="0"/>
                </a:moveTo>
                <a:arcTo wR="10800" hR="10800" stAng="-5401461" swAng="5401461"/>
                <a:lnTo>
                  <a:pt x="10800" y="10800"/>
                </a:lnTo>
                <a:close/>
              </a:path>
              <a:path fill="none" w="21600" h="21600">
                <a:moveTo>
                  <a:pt x="10795" y="0"/>
                </a:moveTo>
                <a:arcTo wR="10800" hR="10800" stAng="-5401461" swAng="5401461"/>
              </a:path>
            </a:pathLst>
          </a:custGeom>
          <a:noFill/>
          <a:ln cap="rnd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91120" y="53341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2057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410080" y="5300280"/>
            <a:ext cx="319428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177336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00720" y="1557360"/>
            <a:ext cx="228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voz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14800" y="541008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80360" y="5516640"/>
            <a:ext cx="1365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zvoz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43000" y="2514600"/>
            <a:ext cx="3505320" cy="205740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3352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90920" y="39625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410080" y="3580920"/>
            <a:ext cx="297180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56386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410080" y="2361960"/>
            <a:ext cx="304812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1676520" y="2057040"/>
            <a:ext cx="3047760" cy="297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885080" y="2997360"/>
            <a:ext cx="0" cy="2303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35640" y="551664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52480" y="22096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752480" y="4572000"/>
            <a:ext cx="243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010280" y="2133720"/>
            <a:ext cx="101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va cij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92360" y="1341360"/>
            <a:ext cx="100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va cij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55640" y="333360"/>
            <a:ext cx="7886880" cy="947160"/>
          </a:xfrm>
          <a:prstGeom prst="rect">
            <a:avLst/>
          </a:prstGeom>
          <a:solidFill>
            <a:srgbClr val="fdfd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Trgovinski trokut se povećao zbog novih cije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1676520"/>
            <a:ext cx="2971800" cy="3657600"/>
          </a:xfrm>
          <a:custGeom>
            <a:avLst/>
            <a:gdLst/>
            <a:ahLst/>
            <a:rect l="l" t="t" r="r" b="b"/>
            <a:pathLst>
              <a:path w="1872" h="2304">
                <a:moveTo>
                  <a:pt x="0" y="2304"/>
                </a:moveTo>
                <a:cubicBezTo>
                  <a:pt x="156" y="2244"/>
                  <a:pt x="312" y="2184"/>
                  <a:pt x="480" y="2064"/>
                </a:cubicBezTo>
                <a:cubicBezTo>
                  <a:pt x="648" y="1944"/>
                  <a:pt x="808" y="1840"/>
                  <a:pt x="1008" y="1584"/>
                </a:cubicBezTo>
                <a:cubicBezTo>
                  <a:pt x="1208" y="1328"/>
                  <a:pt x="1544" y="768"/>
                  <a:pt x="1680" y="528"/>
                </a:cubicBezTo>
                <a:cubicBezTo>
                  <a:pt x="1816" y="288"/>
                  <a:pt x="1792" y="232"/>
                  <a:pt x="1824" y="144"/>
                </a:cubicBezTo>
                <a:cubicBezTo>
                  <a:pt x="1856" y="56"/>
                  <a:pt x="1864" y="24"/>
                  <a:pt x="1872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692360" y="2135160"/>
            <a:ext cx="6119640" cy="32385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 rot="21223200">
            <a:off x="1331640" y="907560"/>
            <a:ext cx="1828800" cy="1828800"/>
          </a:xfrm>
          <a:custGeom>
            <a:avLst/>
            <a:gdLst/>
            <a:ahLst/>
            <a:rect l="l" t="t" r="r" b="b"/>
            <a:pathLst>
              <a:path w="1152" h="1152">
                <a:moveTo>
                  <a:pt x="1152" y="1152"/>
                </a:moveTo>
                <a:lnTo>
                  <a:pt x="1093" y="1151"/>
                </a:lnTo>
                <a:lnTo>
                  <a:pt x="1034" y="1146"/>
                </a:lnTo>
                <a:lnTo>
                  <a:pt x="977" y="1139"/>
                </a:lnTo>
                <a:lnTo>
                  <a:pt x="920" y="1129"/>
                </a:lnTo>
                <a:lnTo>
                  <a:pt x="864" y="1116"/>
                </a:lnTo>
                <a:lnTo>
                  <a:pt x="810" y="1100"/>
                </a:lnTo>
                <a:lnTo>
                  <a:pt x="756" y="1082"/>
                </a:lnTo>
                <a:lnTo>
                  <a:pt x="704" y="1062"/>
                </a:lnTo>
                <a:lnTo>
                  <a:pt x="653" y="1038"/>
                </a:lnTo>
                <a:lnTo>
                  <a:pt x="603" y="1013"/>
                </a:lnTo>
                <a:lnTo>
                  <a:pt x="555" y="985"/>
                </a:lnTo>
                <a:lnTo>
                  <a:pt x="508" y="955"/>
                </a:lnTo>
                <a:lnTo>
                  <a:pt x="463" y="923"/>
                </a:lnTo>
                <a:lnTo>
                  <a:pt x="419" y="889"/>
                </a:lnTo>
                <a:lnTo>
                  <a:pt x="378" y="853"/>
                </a:lnTo>
                <a:lnTo>
                  <a:pt x="338" y="815"/>
                </a:lnTo>
                <a:lnTo>
                  <a:pt x="299" y="775"/>
                </a:lnTo>
                <a:lnTo>
                  <a:pt x="263" y="733"/>
                </a:lnTo>
                <a:lnTo>
                  <a:pt x="229" y="689"/>
                </a:lnTo>
                <a:lnTo>
                  <a:pt x="197" y="644"/>
                </a:lnTo>
                <a:lnTo>
                  <a:pt x="167" y="597"/>
                </a:lnTo>
                <a:lnTo>
                  <a:pt x="139" y="549"/>
                </a:lnTo>
                <a:lnTo>
                  <a:pt x="114" y="499"/>
                </a:lnTo>
                <a:lnTo>
                  <a:pt x="91" y="448"/>
                </a:lnTo>
                <a:lnTo>
                  <a:pt x="70" y="396"/>
                </a:lnTo>
                <a:lnTo>
                  <a:pt x="52" y="343"/>
                </a:lnTo>
                <a:lnTo>
                  <a:pt x="36" y="288"/>
                </a:lnTo>
                <a:lnTo>
                  <a:pt x="24" y="232"/>
                </a:lnTo>
                <a:lnTo>
                  <a:pt x="13" y="175"/>
                </a:lnTo>
                <a:lnTo>
                  <a:pt x="6" y="118"/>
                </a:lnTo>
                <a:lnTo>
                  <a:pt x="2" y="59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9797000">
            <a:off x="2136240" y="2057040"/>
            <a:ext cx="1828800" cy="1757520"/>
          </a:xfrm>
          <a:custGeom>
            <a:avLst/>
            <a:gdLst/>
            <a:ahLst/>
            <a:rect l="l" t="t" r="r" b="b"/>
            <a:pathLst>
              <a:path w="1152" h="1152">
                <a:moveTo>
                  <a:pt x="1152" y="1152"/>
                </a:moveTo>
                <a:lnTo>
                  <a:pt x="1093" y="1151"/>
                </a:lnTo>
                <a:lnTo>
                  <a:pt x="1034" y="1146"/>
                </a:lnTo>
                <a:lnTo>
                  <a:pt x="977" y="1139"/>
                </a:lnTo>
                <a:lnTo>
                  <a:pt x="920" y="1129"/>
                </a:lnTo>
                <a:lnTo>
                  <a:pt x="864" y="1116"/>
                </a:lnTo>
                <a:lnTo>
                  <a:pt x="810" y="1100"/>
                </a:lnTo>
                <a:lnTo>
                  <a:pt x="756" y="1082"/>
                </a:lnTo>
                <a:lnTo>
                  <a:pt x="704" y="1062"/>
                </a:lnTo>
                <a:lnTo>
                  <a:pt x="653" y="1038"/>
                </a:lnTo>
                <a:lnTo>
                  <a:pt x="603" y="1013"/>
                </a:lnTo>
                <a:lnTo>
                  <a:pt x="555" y="985"/>
                </a:lnTo>
                <a:lnTo>
                  <a:pt x="508" y="955"/>
                </a:lnTo>
                <a:lnTo>
                  <a:pt x="463" y="923"/>
                </a:lnTo>
                <a:lnTo>
                  <a:pt x="419" y="889"/>
                </a:lnTo>
                <a:lnTo>
                  <a:pt x="378" y="853"/>
                </a:lnTo>
                <a:lnTo>
                  <a:pt x="338" y="815"/>
                </a:lnTo>
                <a:lnTo>
                  <a:pt x="299" y="775"/>
                </a:lnTo>
                <a:lnTo>
                  <a:pt x="263" y="733"/>
                </a:lnTo>
                <a:lnTo>
                  <a:pt x="229" y="689"/>
                </a:lnTo>
                <a:lnTo>
                  <a:pt x="197" y="644"/>
                </a:lnTo>
                <a:lnTo>
                  <a:pt x="167" y="597"/>
                </a:lnTo>
                <a:lnTo>
                  <a:pt x="139" y="549"/>
                </a:lnTo>
                <a:lnTo>
                  <a:pt x="114" y="499"/>
                </a:lnTo>
                <a:lnTo>
                  <a:pt x="91" y="448"/>
                </a:lnTo>
                <a:lnTo>
                  <a:pt x="70" y="396"/>
                </a:lnTo>
                <a:lnTo>
                  <a:pt x="52" y="343"/>
                </a:lnTo>
                <a:lnTo>
                  <a:pt x="36" y="288"/>
                </a:lnTo>
                <a:lnTo>
                  <a:pt x="24" y="232"/>
                </a:lnTo>
                <a:lnTo>
                  <a:pt x="13" y="175"/>
                </a:lnTo>
                <a:lnTo>
                  <a:pt x="6" y="118"/>
                </a:lnTo>
                <a:lnTo>
                  <a:pt x="2" y="59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84360" y="333360"/>
            <a:ext cx="7991280" cy="68580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Times New Roman"/>
              </a:rPr>
              <a:t>Izvođenje krivulje recipročne potraž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1371600"/>
            <a:ext cx="8001000" cy="48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19810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5486400"/>
            <a:ext cx="373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-1523880" y="3048120"/>
            <a:ext cx="5181120" cy="487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2666880"/>
            <a:ext cx="2895480" cy="2057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3429000"/>
            <a:ext cx="76320" cy="763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3560" y="1752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21160" y="5486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86200" y="4114800"/>
            <a:ext cx="111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3300"/>
                </a:solidFill>
                <a:latin typeface="Times New Roman"/>
              </a:rPr>
              <a:t>(P</a:t>
            </a:r>
            <a:r>
              <a:rPr b="1" lang="hr-HR" sz="1800" spc="-1" strike="noStrike" baseline="-25000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hr-HR" sz="1800" spc="-1" strike="noStrike">
                <a:solidFill>
                  <a:srgbClr val="ff3300"/>
                </a:solidFill>
                <a:latin typeface="Times New Roman"/>
              </a:rPr>
              <a:t>/P</a:t>
            </a:r>
            <a:r>
              <a:rPr b="1" lang="hr-HR" sz="1800" spc="-1" strike="noStrike" baseline="-25000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hr-HR" sz="18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hr-HR" sz="1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362320" y="3505320"/>
            <a:ext cx="396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hr-HR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1599840" y="456840"/>
            <a:ext cx="24379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133720" y="3124080"/>
            <a:ext cx="75960" cy="763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81080" y="281952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hr-HR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981080" y="228600"/>
            <a:ext cx="2666520" cy="5136840"/>
            <a:chOff x="1981080" y="228600"/>
            <a:chExt cx="2666520" cy="5136840"/>
          </a:xfrm>
        </p:grpSpPr>
        <p:sp>
          <p:nvSpPr>
            <p:cNvPr id="279" name=""/>
            <p:cNvSpPr/>
            <p:nvPr/>
          </p:nvSpPr>
          <p:spPr>
            <a:xfrm>
              <a:off x="3124080" y="434340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hr-HR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86000" y="2362320"/>
              <a:ext cx="76320" cy="759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09880" y="5029200"/>
              <a:ext cx="789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6600"/>
                  </a:solidFill>
                  <a:latin typeface="Times New Roman"/>
                </a:rPr>
                <a:t>(P</a:t>
              </a:r>
              <a:r>
                <a:rPr b="1" lang="hr-HR" sz="1400" spc="-1" strike="noStrike" baseline="-25000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hr-HR" sz="1400" spc="-1" strike="noStrike">
                  <a:solidFill>
                    <a:srgbClr val="ff6600"/>
                  </a:solidFill>
                  <a:latin typeface="Times New Roman"/>
                </a:rPr>
                <a:t>/P</a:t>
              </a:r>
              <a:r>
                <a:rPr b="1" lang="hr-HR" sz="1400" spc="-1" strike="noStrike" baseline="-25000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hr-HR" sz="1400" spc="-1" strike="noStrike">
                  <a:solidFill>
                    <a:srgbClr val="ff6600"/>
                  </a:solidFill>
                  <a:latin typeface="Times New Roman"/>
                </a:rPr>
                <a:t>)</a:t>
              </a:r>
              <a:r>
                <a:rPr b="1" lang="hr-HR" sz="1400" spc="-1" strike="noStrike" baseline="-25000">
                  <a:solidFill>
                    <a:srgbClr val="ff66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1981080" y="1676520"/>
              <a:ext cx="1905120" cy="3657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352680" y="4343400"/>
              <a:ext cx="76320" cy="763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2209320" y="228240"/>
              <a:ext cx="2437920" cy="28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62320" y="213372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hr-HR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5181480" y="19810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029200" y="548640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06720" y="1650960"/>
            <a:ext cx="2193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Strani izvoz, Q*</a:t>
            </a:r>
            <a:r>
              <a:rPr b="1" lang="hr-HR" sz="16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 – C*</a:t>
            </a:r>
            <a:r>
              <a:rPr b="1" lang="hr-HR" sz="16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06000" y="1422360"/>
            <a:ext cx="208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Domaći uvoz, C</a:t>
            </a:r>
            <a:r>
              <a:rPr b="1" lang="hr-HR" sz="16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1" lang="hr-HR" sz="16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56360" y="5805360"/>
            <a:ext cx="2309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Strani uvoz, C*</a:t>
            </a:r>
            <a:r>
              <a:rPr b="1" lang="hr-HR" sz="1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 – Q*</a:t>
            </a:r>
            <a:r>
              <a:rPr b="1" lang="hr-HR" sz="1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56360" y="5516640"/>
            <a:ext cx="249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Domaći  izvoz, Q*</a:t>
            </a:r>
            <a:r>
              <a:rPr b="1" lang="hr-HR" sz="1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 – C*</a:t>
            </a:r>
            <a:r>
              <a:rPr b="1" lang="hr-HR" sz="1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181480" y="2286000"/>
            <a:ext cx="3227400" cy="3200400"/>
            <a:chOff x="5181480" y="2286000"/>
            <a:chExt cx="3227400" cy="3200400"/>
          </a:xfrm>
        </p:grpSpPr>
        <p:sp>
          <p:nvSpPr>
            <p:cNvPr id="293" name=""/>
            <p:cNvSpPr/>
            <p:nvPr/>
          </p:nvSpPr>
          <p:spPr>
            <a:xfrm flipH="1">
              <a:off x="5181480" y="2438280"/>
              <a:ext cx="2438640" cy="3048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620120" y="2286000"/>
              <a:ext cx="788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6600"/>
                  </a:solidFill>
                  <a:latin typeface="Times New Roman"/>
                </a:rPr>
                <a:t>(P</a:t>
              </a:r>
              <a:r>
                <a:rPr b="1" lang="hr-HR" sz="1400" spc="-1" strike="noStrike" baseline="-25000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hr-HR" sz="1400" spc="-1" strike="noStrike">
                  <a:solidFill>
                    <a:srgbClr val="ff6600"/>
                  </a:solidFill>
                  <a:latin typeface="Times New Roman"/>
                </a:rPr>
                <a:t>/P</a:t>
              </a:r>
              <a:r>
                <a:rPr b="1" lang="hr-HR" sz="1400" spc="-1" strike="noStrike" baseline="-25000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hr-HR" sz="1400" spc="-1" strike="noStrike">
                  <a:solidFill>
                    <a:srgbClr val="ff6600"/>
                  </a:solidFill>
                  <a:latin typeface="Times New Roman"/>
                </a:rPr>
                <a:t>)</a:t>
              </a:r>
              <a:r>
                <a:rPr b="1" lang="hr-HR" sz="1400" spc="-1" strike="noStrike" baseline="-25000">
                  <a:solidFill>
                    <a:srgbClr val="ff66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181120" y="3581280"/>
            <a:ext cx="3304080" cy="1905120"/>
            <a:chOff x="5181120" y="3581280"/>
            <a:chExt cx="3304080" cy="1905120"/>
          </a:xfrm>
        </p:grpSpPr>
        <p:sp>
          <p:nvSpPr>
            <p:cNvPr id="296" name=""/>
            <p:cNvSpPr/>
            <p:nvPr/>
          </p:nvSpPr>
          <p:spPr>
            <a:xfrm flipH="1">
              <a:off x="5181120" y="3962520"/>
              <a:ext cx="3048120" cy="1523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96080" y="3581280"/>
              <a:ext cx="789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3300"/>
                  </a:solidFill>
                  <a:latin typeface="Times New Roman"/>
                </a:rPr>
                <a:t>(P</a:t>
              </a:r>
              <a:r>
                <a:rPr b="1" lang="hr-HR" sz="1400" spc="-1" strike="noStrike" baseline="-25000">
                  <a:solidFill>
                    <a:srgbClr val="ff3300"/>
                  </a:solidFill>
                  <a:latin typeface="Times New Roman"/>
                </a:rPr>
                <a:t>X</a:t>
              </a:r>
              <a:r>
                <a:rPr b="1" lang="hr-HR" sz="1400" spc="-1" strike="noStrike">
                  <a:solidFill>
                    <a:srgbClr val="ff3300"/>
                  </a:solidFill>
                  <a:latin typeface="Times New Roman"/>
                </a:rPr>
                <a:t>/P</a:t>
              </a:r>
              <a:r>
                <a:rPr b="1" lang="hr-HR" sz="1400" spc="-1" strike="noStrike" baseline="-25000">
                  <a:solidFill>
                    <a:srgbClr val="ff3300"/>
                  </a:solidFill>
                  <a:latin typeface="Times New Roman"/>
                </a:rPr>
                <a:t>Y</a:t>
              </a:r>
              <a:r>
                <a:rPr b="1" lang="hr-HR" sz="1400" spc="-1" strike="noStrike">
                  <a:solidFill>
                    <a:srgbClr val="ff3300"/>
                  </a:solidFill>
                  <a:latin typeface="Times New Roman"/>
                </a:rPr>
                <a:t>)</a:t>
              </a:r>
              <a:r>
                <a:rPr b="1" lang="hr-HR" sz="1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86000" y="2362320"/>
            <a:ext cx="4876920" cy="3124080"/>
            <a:chOff x="2286000" y="2362320"/>
            <a:chExt cx="4876920" cy="3124080"/>
          </a:xfrm>
        </p:grpSpPr>
        <p:sp>
          <p:nvSpPr>
            <p:cNvPr id="299" name=""/>
            <p:cNvSpPr/>
            <p:nvPr/>
          </p:nvSpPr>
          <p:spPr>
            <a:xfrm>
              <a:off x="2286000" y="2362320"/>
              <a:ext cx="1143000" cy="205740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181480" y="3048120"/>
              <a:ext cx="198144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133720" y="3124080"/>
            <a:ext cx="4572000" cy="2362320"/>
            <a:chOff x="2133720" y="3124080"/>
            <a:chExt cx="4572000" cy="2362320"/>
          </a:xfrm>
        </p:grpSpPr>
        <p:sp>
          <p:nvSpPr>
            <p:cNvPr id="302" name=""/>
            <p:cNvSpPr/>
            <p:nvPr/>
          </p:nvSpPr>
          <p:spPr>
            <a:xfrm>
              <a:off x="2133720" y="3124080"/>
              <a:ext cx="457200" cy="38124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181480" y="4724280"/>
              <a:ext cx="1524240" cy="76212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200400" y="1085400"/>
            <a:ext cx="4664160" cy="4400280"/>
            <a:chOff x="3200400" y="1085400"/>
            <a:chExt cx="4664160" cy="4400280"/>
          </a:xfrm>
        </p:grpSpPr>
        <p:sp>
          <p:nvSpPr>
            <p:cNvPr id="305" name=""/>
            <p:cNvSpPr/>
            <p:nvPr/>
          </p:nvSpPr>
          <p:spPr>
            <a:xfrm flipV="1">
              <a:off x="3200400" y="1084680"/>
              <a:ext cx="3962160" cy="440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1572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157264"/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00800" y="1752480"/>
              <a:ext cx="14637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Domaća krivulja recipročne potražn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voz je posljedica elastičnosti vanjske ponude i neelastičnosti domaće ponude, a kod izvoza je obrnu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pravo je to razlog da izvozni sektori svake zemlje pokazuju natprosječnu stopu tehničkog napret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rivulja indiferentnosti prema trgovin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mbinacije proizvodnje i potrošnje koje zemlji daju istu razinu blagostanja uz razmjenu ili bez nje (tj. u autarkiji) predstavljaju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točke indiferentnosti zemlje prema trgovin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284720" y="476280"/>
            <a:ext cx="0" cy="547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9640" y="3357720"/>
            <a:ext cx="799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84720" y="2637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492360" y="3357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5056800">
            <a:off x="3471120" y="2519640"/>
            <a:ext cx="695520" cy="92700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5056800">
            <a:off x="4255560" y="1584360"/>
            <a:ext cx="695160" cy="92700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140360" y="2421000"/>
            <a:ext cx="86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003640" y="170028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43280" y="32130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056800">
            <a:off x="2079000" y="3176280"/>
            <a:ext cx="649440" cy="855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50920" y="3933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6070400">
            <a:off x="2734200" y="1306800"/>
            <a:ext cx="2305080" cy="32371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16070400">
            <a:off x="2193840" y="766440"/>
            <a:ext cx="2232000" cy="32353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27640" y="40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427640" y="530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74072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9640" y="2924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227640" y="981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92360" y="9079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58920" y="4581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24360" y="465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427640" y="3500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627280" y="39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32360" y="234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76720" y="2492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80000" y="177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84360" y="2421000"/>
            <a:ext cx="50508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84720" y="2133720"/>
            <a:ext cx="718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700360" y="3284640"/>
            <a:ext cx="0" cy="6490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635280" y="2852640"/>
            <a:ext cx="649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708360" y="2781360"/>
            <a:ext cx="0" cy="576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003640" y="1916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84720" y="270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92360" y="3357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05092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35640" y="1916280"/>
            <a:ext cx="431640" cy="0"/>
          </a:xfrm>
          <a:prstGeom prst="line">
            <a:avLst/>
          </a:prstGeom>
          <a:ln cap="rnd"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0360" y="1844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RIVULJA INDIFEREN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95640" y="2349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32000" y="3357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92360" y="39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356000" y="112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356000" y="21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84720" y="234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356000" y="1844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340000" y="3141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, E1 i  E2  predstavljaju istu razinu društvenog blagostanja jer leže na istoj krivulji indiferenci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točki E zemlja proizvodi i troši istu količinu proizvoda X i Y. To je situacija autarki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1 – troši OH1 proizvoda Y i H1 E1 proizvoda X, a proizvodi O1F1 proizvoda Y i E1 F1  proizvoda X (izvozi O1G1  proizvoda X i za to dobiva OG1 proizvoda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nalogija točka 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pajajući ishodišta ovih prostora moguće proizvodnje dobili smo krivulju indiferentnosti prema trgovini (I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svakoj točki na IT zemlja je indiferentna sudjeluje li u međunarodnoj razmjeni ili ne jer uvijek doseže istu razinu blagostanja, krivulju indiferencije 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763640" y="907920"/>
            <a:ext cx="0" cy="4824720"/>
          </a:xfrm>
          <a:prstGeom prst="line">
            <a:avLst/>
          </a:prstGeom>
          <a:ln cap="rnd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763640" y="5805360"/>
            <a:ext cx="6193080" cy="0"/>
          </a:xfrm>
          <a:prstGeom prst="line">
            <a:avLst/>
          </a:prstGeom>
          <a:ln cap="rnd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6070400">
            <a:off x="813600" y="-13320"/>
            <a:ext cx="3511440" cy="391644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6070400">
            <a:off x="1617480" y="1774800"/>
            <a:ext cx="2232000" cy="32353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6070400">
            <a:off x="1872000" y="2670840"/>
            <a:ext cx="2089440" cy="331308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6070400">
            <a:off x="2058120" y="3207240"/>
            <a:ext cx="1871640" cy="345744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763640" y="3499920"/>
            <a:ext cx="5329440" cy="2305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1763640" y="2420640"/>
            <a:ext cx="4824360" cy="338436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1763640" y="980640"/>
            <a:ext cx="3600360" cy="482436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763640" y="404640"/>
            <a:ext cx="2592360" cy="540072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597800" y="587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60720" y="83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2920" y="32320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28000" y="4076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01080" y="5013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972720" y="55897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435640" y="692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659640" y="2133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20000" y="3645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356000" y="18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išim krivuljama indiferencije odgovaraju više krivulj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p1 zemlja nema interesa za trgovi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p2 zemlja ima interesa za trgovinu, doseže višu krivulju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aljnje poboljšanje uvjeta razmjene, navodi zemlju na povećavanje razmj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kup točaka u kojima su različite krivulje odnosa cijena tangente na različite krivulje IT predstavljaju krivulju recipročne potražnje (zemlje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371600" y="1905120"/>
            <a:ext cx="0" cy="41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371600" y="609588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403280" y="1484280"/>
            <a:ext cx="4784760" cy="4540320"/>
          </a:xfrm>
          <a:custGeom>
            <a:avLst/>
            <a:gdLst/>
            <a:ahLst/>
            <a:rect l="l" t="t" r="r" b="b"/>
            <a:pathLst>
              <a:path w="3029" h="2881">
                <a:moveTo>
                  <a:pt x="0" y="2880"/>
                </a:moveTo>
                <a:lnTo>
                  <a:pt x="52" y="2870"/>
                </a:lnTo>
                <a:lnTo>
                  <a:pt x="87" y="2858"/>
                </a:lnTo>
                <a:lnTo>
                  <a:pt x="122" y="2846"/>
                </a:lnTo>
                <a:lnTo>
                  <a:pt x="157" y="2846"/>
                </a:lnTo>
                <a:lnTo>
                  <a:pt x="204" y="2835"/>
                </a:lnTo>
                <a:lnTo>
                  <a:pt x="240" y="2823"/>
                </a:lnTo>
                <a:lnTo>
                  <a:pt x="275" y="2811"/>
                </a:lnTo>
                <a:lnTo>
                  <a:pt x="310" y="2811"/>
                </a:lnTo>
                <a:lnTo>
                  <a:pt x="357" y="2788"/>
                </a:lnTo>
                <a:lnTo>
                  <a:pt x="404" y="2776"/>
                </a:lnTo>
                <a:lnTo>
                  <a:pt x="440" y="2764"/>
                </a:lnTo>
                <a:lnTo>
                  <a:pt x="487" y="2741"/>
                </a:lnTo>
                <a:lnTo>
                  <a:pt x="534" y="2729"/>
                </a:lnTo>
                <a:lnTo>
                  <a:pt x="581" y="2705"/>
                </a:lnTo>
                <a:lnTo>
                  <a:pt x="628" y="2694"/>
                </a:lnTo>
                <a:lnTo>
                  <a:pt x="687" y="2670"/>
                </a:lnTo>
                <a:lnTo>
                  <a:pt x="746" y="2658"/>
                </a:lnTo>
                <a:lnTo>
                  <a:pt x="793" y="2623"/>
                </a:lnTo>
                <a:lnTo>
                  <a:pt x="828" y="2611"/>
                </a:lnTo>
                <a:lnTo>
                  <a:pt x="887" y="2588"/>
                </a:lnTo>
                <a:lnTo>
                  <a:pt x="934" y="2552"/>
                </a:lnTo>
                <a:lnTo>
                  <a:pt x="969" y="2541"/>
                </a:lnTo>
                <a:lnTo>
                  <a:pt x="1028" y="2517"/>
                </a:lnTo>
                <a:lnTo>
                  <a:pt x="1075" y="2505"/>
                </a:lnTo>
                <a:lnTo>
                  <a:pt x="1110" y="2482"/>
                </a:lnTo>
                <a:lnTo>
                  <a:pt x="1157" y="2458"/>
                </a:lnTo>
                <a:lnTo>
                  <a:pt x="1204" y="2435"/>
                </a:lnTo>
                <a:lnTo>
                  <a:pt x="1240" y="2423"/>
                </a:lnTo>
                <a:lnTo>
                  <a:pt x="1275" y="2388"/>
                </a:lnTo>
                <a:lnTo>
                  <a:pt x="1310" y="2364"/>
                </a:lnTo>
                <a:lnTo>
                  <a:pt x="1357" y="2341"/>
                </a:lnTo>
                <a:lnTo>
                  <a:pt x="1393" y="2329"/>
                </a:lnTo>
                <a:lnTo>
                  <a:pt x="1428" y="2294"/>
                </a:lnTo>
                <a:lnTo>
                  <a:pt x="1463" y="2270"/>
                </a:lnTo>
                <a:lnTo>
                  <a:pt x="1510" y="2235"/>
                </a:lnTo>
                <a:lnTo>
                  <a:pt x="1545" y="2211"/>
                </a:lnTo>
                <a:lnTo>
                  <a:pt x="1593" y="2188"/>
                </a:lnTo>
                <a:lnTo>
                  <a:pt x="1640" y="2153"/>
                </a:lnTo>
                <a:lnTo>
                  <a:pt x="1687" y="2117"/>
                </a:lnTo>
                <a:lnTo>
                  <a:pt x="1722" y="2082"/>
                </a:lnTo>
                <a:lnTo>
                  <a:pt x="1757" y="2047"/>
                </a:lnTo>
                <a:lnTo>
                  <a:pt x="1793" y="2023"/>
                </a:lnTo>
                <a:lnTo>
                  <a:pt x="1840" y="1976"/>
                </a:lnTo>
                <a:lnTo>
                  <a:pt x="1875" y="1941"/>
                </a:lnTo>
                <a:lnTo>
                  <a:pt x="1910" y="1906"/>
                </a:lnTo>
                <a:lnTo>
                  <a:pt x="1945" y="1870"/>
                </a:lnTo>
                <a:lnTo>
                  <a:pt x="1992" y="1823"/>
                </a:lnTo>
                <a:lnTo>
                  <a:pt x="2040" y="1788"/>
                </a:lnTo>
                <a:lnTo>
                  <a:pt x="2087" y="1741"/>
                </a:lnTo>
                <a:lnTo>
                  <a:pt x="2122" y="1694"/>
                </a:lnTo>
                <a:lnTo>
                  <a:pt x="2181" y="1635"/>
                </a:lnTo>
                <a:lnTo>
                  <a:pt x="2216" y="1588"/>
                </a:lnTo>
                <a:lnTo>
                  <a:pt x="2251" y="1541"/>
                </a:lnTo>
                <a:lnTo>
                  <a:pt x="2287" y="1506"/>
                </a:lnTo>
                <a:lnTo>
                  <a:pt x="2322" y="1459"/>
                </a:lnTo>
                <a:lnTo>
                  <a:pt x="2357" y="1435"/>
                </a:lnTo>
                <a:lnTo>
                  <a:pt x="2392" y="1388"/>
                </a:lnTo>
                <a:lnTo>
                  <a:pt x="2416" y="1353"/>
                </a:lnTo>
                <a:lnTo>
                  <a:pt x="2439" y="1306"/>
                </a:lnTo>
                <a:lnTo>
                  <a:pt x="2475" y="1259"/>
                </a:lnTo>
                <a:lnTo>
                  <a:pt x="2510" y="1212"/>
                </a:lnTo>
                <a:lnTo>
                  <a:pt x="2522" y="1176"/>
                </a:lnTo>
                <a:lnTo>
                  <a:pt x="2569" y="1129"/>
                </a:lnTo>
                <a:lnTo>
                  <a:pt x="2581" y="1094"/>
                </a:lnTo>
                <a:lnTo>
                  <a:pt x="2616" y="1035"/>
                </a:lnTo>
                <a:lnTo>
                  <a:pt x="2639" y="1000"/>
                </a:lnTo>
                <a:lnTo>
                  <a:pt x="2675" y="941"/>
                </a:lnTo>
                <a:lnTo>
                  <a:pt x="2698" y="906"/>
                </a:lnTo>
                <a:lnTo>
                  <a:pt x="2734" y="847"/>
                </a:lnTo>
                <a:lnTo>
                  <a:pt x="2745" y="812"/>
                </a:lnTo>
                <a:lnTo>
                  <a:pt x="2769" y="777"/>
                </a:lnTo>
                <a:lnTo>
                  <a:pt x="2781" y="741"/>
                </a:lnTo>
                <a:lnTo>
                  <a:pt x="2816" y="683"/>
                </a:lnTo>
                <a:lnTo>
                  <a:pt x="2828" y="635"/>
                </a:lnTo>
                <a:lnTo>
                  <a:pt x="2851" y="577"/>
                </a:lnTo>
                <a:lnTo>
                  <a:pt x="2875" y="541"/>
                </a:lnTo>
                <a:lnTo>
                  <a:pt x="2898" y="483"/>
                </a:lnTo>
                <a:lnTo>
                  <a:pt x="2910" y="447"/>
                </a:lnTo>
                <a:lnTo>
                  <a:pt x="2934" y="389"/>
                </a:lnTo>
                <a:lnTo>
                  <a:pt x="2945" y="330"/>
                </a:lnTo>
                <a:lnTo>
                  <a:pt x="2945" y="294"/>
                </a:lnTo>
                <a:lnTo>
                  <a:pt x="2957" y="259"/>
                </a:lnTo>
                <a:lnTo>
                  <a:pt x="2969" y="224"/>
                </a:lnTo>
                <a:lnTo>
                  <a:pt x="2969" y="177"/>
                </a:lnTo>
                <a:lnTo>
                  <a:pt x="2981" y="130"/>
                </a:lnTo>
                <a:lnTo>
                  <a:pt x="2992" y="95"/>
                </a:lnTo>
                <a:lnTo>
                  <a:pt x="3004" y="47"/>
                </a:lnTo>
                <a:lnTo>
                  <a:pt x="3028" y="12"/>
                </a:lnTo>
                <a:lnTo>
                  <a:pt x="3024" y="0"/>
                </a:lnTo>
              </a:path>
            </a:pathLst>
          </a:custGeom>
          <a:noFill/>
          <a:ln cap="rnd"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371600" y="1844640"/>
            <a:ext cx="5505480" cy="4253040"/>
          </a:xfrm>
          <a:custGeom>
            <a:avLst/>
            <a:gdLst/>
            <a:ahLst/>
            <a:rect l="l" t="t" r="r" b="b"/>
            <a:pathLst>
              <a:path w="4033" h="2929">
                <a:moveTo>
                  <a:pt x="0" y="2928"/>
                </a:moveTo>
                <a:lnTo>
                  <a:pt x="40" y="2871"/>
                </a:lnTo>
                <a:lnTo>
                  <a:pt x="63" y="2836"/>
                </a:lnTo>
                <a:lnTo>
                  <a:pt x="87" y="2800"/>
                </a:lnTo>
                <a:lnTo>
                  <a:pt x="122" y="2777"/>
                </a:lnTo>
                <a:lnTo>
                  <a:pt x="146" y="2742"/>
                </a:lnTo>
                <a:lnTo>
                  <a:pt x="181" y="2706"/>
                </a:lnTo>
                <a:lnTo>
                  <a:pt x="204" y="2659"/>
                </a:lnTo>
                <a:lnTo>
                  <a:pt x="252" y="2612"/>
                </a:lnTo>
                <a:lnTo>
                  <a:pt x="275" y="2577"/>
                </a:lnTo>
                <a:lnTo>
                  <a:pt x="310" y="2542"/>
                </a:lnTo>
                <a:lnTo>
                  <a:pt x="346" y="2495"/>
                </a:lnTo>
                <a:lnTo>
                  <a:pt x="381" y="2459"/>
                </a:lnTo>
                <a:lnTo>
                  <a:pt x="416" y="2424"/>
                </a:lnTo>
                <a:lnTo>
                  <a:pt x="452" y="2389"/>
                </a:lnTo>
                <a:lnTo>
                  <a:pt x="463" y="2353"/>
                </a:lnTo>
                <a:lnTo>
                  <a:pt x="487" y="2318"/>
                </a:lnTo>
                <a:lnTo>
                  <a:pt x="534" y="2283"/>
                </a:lnTo>
                <a:lnTo>
                  <a:pt x="569" y="2236"/>
                </a:lnTo>
                <a:lnTo>
                  <a:pt x="593" y="2201"/>
                </a:lnTo>
                <a:lnTo>
                  <a:pt x="628" y="2165"/>
                </a:lnTo>
                <a:lnTo>
                  <a:pt x="663" y="2118"/>
                </a:lnTo>
                <a:lnTo>
                  <a:pt x="699" y="2071"/>
                </a:lnTo>
                <a:lnTo>
                  <a:pt x="734" y="2036"/>
                </a:lnTo>
                <a:lnTo>
                  <a:pt x="757" y="2001"/>
                </a:lnTo>
                <a:lnTo>
                  <a:pt x="793" y="1965"/>
                </a:lnTo>
                <a:lnTo>
                  <a:pt x="840" y="1918"/>
                </a:lnTo>
                <a:lnTo>
                  <a:pt x="875" y="1883"/>
                </a:lnTo>
                <a:lnTo>
                  <a:pt x="910" y="1860"/>
                </a:lnTo>
                <a:lnTo>
                  <a:pt x="946" y="1824"/>
                </a:lnTo>
                <a:lnTo>
                  <a:pt x="981" y="1777"/>
                </a:lnTo>
                <a:lnTo>
                  <a:pt x="1016" y="1742"/>
                </a:lnTo>
                <a:lnTo>
                  <a:pt x="1063" y="1695"/>
                </a:lnTo>
                <a:lnTo>
                  <a:pt x="1110" y="1660"/>
                </a:lnTo>
                <a:lnTo>
                  <a:pt x="1146" y="1624"/>
                </a:lnTo>
                <a:lnTo>
                  <a:pt x="1181" y="1589"/>
                </a:lnTo>
                <a:lnTo>
                  <a:pt x="1240" y="1530"/>
                </a:lnTo>
                <a:lnTo>
                  <a:pt x="1275" y="1495"/>
                </a:lnTo>
                <a:lnTo>
                  <a:pt x="1334" y="1448"/>
                </a:lnTo>
                <a:lnTo>
                  <a:pt x="1369" y="1424"/>
                </a:lnTo>
                <a:lnTo>
                  <a:pt x="1416" y="1377"/>
                </a:lnTo>
                <a:lnTo>
                  <a:pt x="1451" y="1354"/>
                </a:lnTo>
                <a:lnTo>
                  <a:pt x="1498" y="1319"/>
                </a:lnTo>
                <a:lnTo>
                  <a:pt x="1545" y="1272"/>
                </a:lnTo>
                <a:lnTo>
                  <a:pt x="1581" y="1248"/>
                </a:lnTo>
                <a:lnTo>
                  <a:pt x="1628" y="1201"/>
                </a:lnTo>
                <a:lnTo>
                  <a:pt x="1663" y="1177"/>
                </a:lnTo>
                <a:lnTo>
                  <a:pt x="1722" y="1130"/>
                </a:lnTo>
                <a:lnTo>
                  <a:pt x="1769" y="1095"/>
                </a:lnTo>
                <a:lnTo>
                  <a:pt x="1804" y="1072"/>
                </a:lnTo>
                <a:lnTo>
                  <a:pt x="1863" y="1036"/>
                </a:lnTo>
                <a:lnTo>
                  <a:pt x="1922" y="989"/>
                </a:lnTo>
                <a:lnTo>
                  <a:pt x="1992" y="954"/>
                </a:lnTo>
                <a:lnTo>
                  <a:pt x="2051" y="919"/>
                </a:lnTo>
                <a:lnTo>
                  <a:pt x="2110" y="883"/>
                </a:lnTo>
                <a:lnTo>
                  <a:pt x="2145" y="860"/>
                </a:lnTo>
                <a:lnTo>
                  <a:pt x="2204" y="836"/>
                </a:lnTo>
                <a:lnTo>
                  <a:pt x="2251" y="813"/>
                </a:lnTo>
                <a:lnTo>
                  <a:pt x="2322" y="766"/>
                </a:lnTo>
                <a:lnTo>
                  <a:pt x="2357" y="754"/>
                </a:lnTo>
                <a:lnTo>
                  <a:pt x="2392" y="731"/>
                </a:lnTo>
                <a:lnTo>
                  <a:pt x="2428" y="707"/>
                </a:lnTo>
                <a:lnTo>
                  <a:pt x="2463" y="695"/>
                </a:lnTo>
                <a:lnTo>
                  <a:pt x="2510" y="672"/>
                </a:lnTo>
                <a:lnTo>
                  <a:pt x="2545" y="648"/>
                </a:lnTo>
                <a:lnTo>
                  <a:pt x="2581" y="636"/>
                </a:lnTo>
                <a:lnTo>
                  <a:pt x="2616" y="613"/>
                </a:lnTo>
                <a:lnTo>
                  <a:pt x="2651" y="601"/>
                </a:lnTo>
                <a:lnTo>
                  <a:pt x="2698" y="589"/>
                </a:lnTo>
                <a:lnTo>
                  <a:pt x="2734" y="566"/>
                </a:lnTo>
                <a:lnTo>
                  <a:pt x="2769" y="554"/>
                </a:lnTo>
                <a:lnTo>
                  <a:pt x="2816" y="531"/>
                </a:lnTo>
                <a:lnTo>
                  <a:pt x="2851" y="507"/>
                </a:lnTo>
                <a:lnTo>
                  <a:pt x="2886" y="495"/>
                </a:lnTo>
                <a:lnTo>
                  <a:pt x="2934" y="472"/>
                </a:lnTo>
                <a:lnTo>
                  <a:pt x="2969" y="460"/>
                </a:lnTo>
                <a:lnTo>
                  <a:pt x="3004" y="437"/>
                </a:lnTo>
                <a:lnTo>
                  <a:pt x="3051" y="413"/>
                </a:lnTo>
                <a:lnTo>
                  <a:pt x="3086" y="401"/>
                </a:lnTo>
                <a:lnTo>
                  <a:pt x="3133" y="378"/>
                </a:lnTo>
                <a:lnTo>
                  <a:pt x="3181" y="366"/>
                </a:lnTo>
                <a:lnTo>
                  <a:pt x="3216" y="354"/>
                </a:lnTo>
                <a:lnTo>
                  <a:pt x="3251" y="331"/>
                </a:lnTo>
                <a:lnTo>
                  <a:pt x="3286" y="319"/>
                </a:lnTo>
                <a:lnTo>
                  <a:pt x="3333" y="307"/>
                </a:lnTo>
                <a:lnTo>
                  <a:pt x="3381" y="284"/>
                </a:lnTo>
                <a:lnTo>
                  <a:pt x="3416" y="260"/>
                </a:lnTo>
                <a:lnTo>
                  <a:pt x="3463" y="248"/>
                </a:lnTo>
                <a:lnTo>
                  <a:pt x="3510" y="225"/>
                </a:lnTo>
                <a:lnTo>
                  <a:pt x="3545" y="213"/>
                </a:lnTo>
                <a:lnTo>
                  <a:pt x="3580" y="201"/>
                </a:lnTo>
                <a:lnTo>
                  <a:pt x="3616" y="190"/>
                </a:lnTo>
                <a:lnTo>
                  <a:pt x="3663" y="166"/>
                </a:lnTo>
                <a:lnTo>
                  <a:pt x="3698" y="143"/>
                </a:lnTo>
                <a:lnTo>
                  <a:pt x="3757" y="119"/>
                </a:lnTo>
                <a:lnTo>
                  <a:pt x="3792" y="95"/>
                </a:lnTo>
                <a:lnTo>
                  <a:pt x="3851" y="72"/>
                </a:lnTo>
                <a:lnTo>
                  <a:pt x="3910" y="48"/>
                </a:lnTo>
                <a:lnTo>
                  <a:pt x="3945" y="37"/>
                </a:lnTo>
                <a:lnTo>
                  <a:pt x="3980" y="13"/>
                </a:lnTo>
                <a:lnTo>
                  <a:pt x="4016" y="1"/>
                </a:lnTo>
                <a:lnTo>
                  <a:pt x="4032" y="0"/>
                </a:ln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35640" y="3141720"/>
            <a:ext cx="158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zemlj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492360" y="2205000"/>
            <a:ext cx="187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zemlja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-129960" y="2227320"/>
            <a:ext cx="208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izvo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084720" y="6021360"/>
            <a:ext cx="180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izvod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532720" cy="86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rivulje recipročne potražnje za dvije zeml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371600" y="1905120"/>
            <a:ext cx="0" cy="41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1371600" y="6093000"/>
            <a:ext cx="543240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71600" y="1523880"/>
            <a:ext cx="4808520" cy="4573800"/>
          </a:xfrm>
          <a:custGeom>
            <a:avLst/>
            <a:gdLst/>
            <a:ahLst/>
            <a:rect l="l" t="t" r="r" b="b"/>
            <a:pathLst>
              <a:path w="3029" h="2881">
                <a:moveTo>
                  <a:pt x="0" y="2880"/>
                </a:moveTo>
                <a:lnTo>
                  <a:pt x="52" y="2870"/>
                </a:lnTo>
                <a:lnTo>
                  <a:pt x="87" y="2858"/>
                </a:lnTo>
                <a:lnTo>
                  <a:pt x="122" y="2846"/>
                </a:lnTo>
                <a:lnTo>
                  <a:pt x="157" y="2846"/>
                </a:lnTo>
                <a:lnTo>
                  <a:pt x="204" y="2835"/>
                </a:lnTo>
                <a:lnTo>
                  <a:pt x="240" y="2823"/>
                </a:lnTo>
                <a:lnTo>
                  <a:pt x="275" y="2811"/>
                </a:lnTo>
                <a:lnTo>
                  <a:pt x="310" y="2811"/>
                </a:lnTo>
                <a:lnTo>
                  <a:pt x="357" y="2788"/>
                </a:lnTo>
                <a:lnTo>
                  <a:pt x="404" y="2776"/>
                </a:lnTo>
                <a:lnTo>
                  <a:pt x="440" y="2764"/>
                </a:lnTo>
                <a:lnTo>
                  <a:pt x="487" y="2741"/>
                </a:lnTo>
                <a:lnTo>
                  <a:pt x="534" y="2729"/>
                </a:lnTo>
                <a:lnTo>
                  <a:pt x="581" y="2705"/>
                </a:lnTo>
                <a:lnTo>
                  <a:pt x="628" y="2694"/>
                </a:lnTo>
                <a:lnTo>
                  <a:pt x="687" y="2670"/>
                </a:lnTo>
                <a:lnTo>
                  <a:pt x="746" y="2658"/>
                </a:lnTo>
                <a:lnTo>
                  <a:pt x="793" y="2623"/>
                </a:lnTo>
                <a:lnTo>
                  <a:pt x="828" y="2611"/>
                </a:lnTo>
                <a:lnTo>
                  <a:pt x="887" y="2588"/>
                </a:lnTo>
                <a:lnTo>
                  <a:pt x="934" y="2552"/>
                </a:lnTo>
                <a:lnTo>
                  <a:pt x="969" y="2541"/>
                </a:lnTo>
                <a:lnTo>
                  <a:pt x="1028" y="2517"/>
                </a:lnTo>
                <a:lnTo>
                  <a:pt x="1075" y="2505"/>
                </a:lnTo>
                <a:lnTo>
                  <a:pt x="1110" y="2482"/>
                </a:lnTo>
                <a:lnTo>
                  <a:pt x="1157" y="2458"/>
                </a:lnTo>
                <a:lnTo>
                  <a:pt x="1204" y="2435"/>
                </a:lnTo>
                <a:lnTo>
                  <a:pt x="1240" y="2423"/>
                </a:lnTo>
                <a:lnTo>
                  <a:pt x="1275" y="2388"/>
                </a:lnTo>
                <a:lnTo>
                  <a:pt x="1310" y="2364"/>
                </a:lnTo>
                <a:lnTo>
                  <a:pt x="1357" y="2341"/>
                </a:lnTo>
                <a:lnTo>
                  <a:pt x="1393" y="2329"/>
                </a:lnTo>
                <a:lnTo>
                  <a:pt x="1428" y="2294"/>
                </a:lnTo>
                <a:lnTo>
                  <a:pt x="1463" y="2270"/>
                </a:lnTo>
                <a:lnTo>
                  <a:pt x="1510" y="2235"/>
                </a:lnTo>
                <a:lnTo>
                  <a:pt x="1545" y="2211"/>
                </a:lnTo>
                <a:lnTo>
                  <a:pt x="1593" y="2188"/>
                </a:lnTo>
                <a:lnTo>
                  <a:pt x="1640" y="2153"/>
                </a:lnTo>
                <a:lnTo>
                  <a:pt x="1687" y="2117"/>
                </a:lnTo>
                <a:lnTo>
                  <a:pt x="1722" y="2082"/>
                </a:lnTo>
                <a:lnTo>
                  <a:pt x="1757" y="2047"/>
                </a:lnTo>
                <a:lnTo>
                  <a:pt x="1793" y="2023"/>
                </a:lnTo>
                <a:lnTo>
                  <a:pt x="1840" y="1976"/>
                </a:lnTo>
                <a:lnTo>
                  <a:pt x="1875" y="1941"/>
                </a:lnTo>
                <a:lnTo>
                  <a:pt x="1910" y="1906"/>
                </a:lnTo>
                <a:lnTo>
                  <a:pt x="1945" y="1870"/>
                </a:lnTo>
                <a:lnTo>
                  <a:pt x="1992" y="1823"/>
                </a:lnTo>
                <a:lnTo>
                  <a:pt x="2040" y="1788"/>
                </a:lnTo>
                <a:lnTo>
                  <a:pt x="2087" y="1741"/>
                </a:lnTo>
                <a:lnTo>
                  <a:pt x="2122" y="1694"/>
                </a:lnTo>
                <a:lnTo>
                  <a:pt x="2181" y="1635"/>
                </a:lnTo>
                <a:lnTo>
                  <a:pt x="2216" y="1588"/>
                </a:lnTo>
                <a:lnTo>
                  <a:pt x="2251" y="1541"/>
                </a:lnTo>
                <a:lnTo>
                  <a:pt x="2287" y="1506"/>
                </a:lnTo>
                <a:lnTo>
                  <a:pt x="2322" y="1459"/>
                </a:lnTo>
                <a:lnTo>
                  <a:pt x="2357" y="1435"/>
                </a:lnTo>
                <a:lnTo>
                  <a:pt x="2392" y="1388"/>
                </a:lnTo>
                <a:lnTo>
                  <a:pt x="2416" y="1353"/>
                </a:lnTo>
                <a:lnTo>
                  <a:pt x="2439" y="1306"/>
                </a:lnTo>
                <a:lnTo>
                  <a:pt x="2475" y="1259"/>
                </a:lnTo>
                <a:lnTo>
                  <a:pt x="2510" y="1212"/>
                </a:lnTo>
                <a:lnTo>
                  <a:pt x="2522" y="1176"/>
                </a:lnTo>
                <a:lnTo>
                  <a:pt x="2569" y="1129"/>
                </a:lnTo>
                <a:lnTo>
                  <a:pt x="2581" y="1094"/>
                </a:lnTo>
                <a:lnTo>
                  <a:pt x="2616" y="1035"/>
                </a:lnTo>
                <a:lnTo>
                  <a:pt x="2639" y="1000"/>
                </a:lnTo>
                <a:lnTo>
                  <a:pt x="2675" y="941"/>
                </a:lnTo>
                <a:lnTo>
                  <a:pt x="2698" y="906"/>
                </a:lnTo>
                <a:lnTo>
                  <a:pt x="2734" y="847"/>
                </a:lnTo>
                <a:lnTo>
                  <a:pt x="2745" y="812"/>
                </a:lnTo>
                <a:lnTo>
                  <a:pt x="2769" y="777"/>
                </a:lnTo>
                <a:lnTo>
                  <a:pt x="2781" y="741"/>
                </a:lnTo>
                <a:lnTo>
                  <a:pt x="2816" y="683"/>
                </a:lnTo>
                <a:lnTo>
                  <a:pt x="2828" y="635"/>
                </a:lnTo>
                <a:lnTo>
                  <a:pt x="2851" y="577"/>
                </a:lnTo>
                <a:lnTo>
                  <a:pt x="2875" y="541"/>
                </a:lnTo>
                <a:lnTo>
                  <a:pt x="2898" y="483"/>
                </a:lnTo>
                <a:lnTo>
                  <a:pt x="2910" y="447"/>
                </a:lnTo>
                <a:lnTo>
                  <a:pt x="2934" y="389"/>
                </a:lnTo>
                <a:lnTo>
                  <a:pt x="2945" y="330"/>
                </a:lnTo>
                <a:lnTo>
                  <a:pt x="2945" y="294"/>
                </a:lnTo>
                <a:lnTo>
                  <a:pt x="2957" y="259"/>
                </a:lnTo>
                <a:lnTo>
                  <a:pt x="2969" y="224"/>
                </a:lnTo>
                <a:lnTo>
                  <a:pt x="2969" y="177"/>
                </a:lnTo>
                <a:lnTo>
                  <a:pt x="2981" y="130"/>
                </a:lnTo>
                <a:lnTo>
                  <a:pt x="2992" y="95"/>
                </a:lnTo>
                <a:lnTo>
                  <a:pt x="3004" y="47"/>
                </a:lnTo>
                <a:lnTo>
                  <a:pt x="3028" y="12"/>
                </a:lnTo>
                <a:lnTo>
                  <a:pt x="3024" y="0"/>
                </a:lnTo>
              </a:path>
            </a:pathLst>
          </a:custGeom>
          <a:noFill/>
          <a:ln cap="rnd"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03280" y="1773360"/>
            <a:ext cx="5545080" cy="4248000"/>
          </a:xfrm>
          <a:custGeom>
            <a:avLst/>
            <a:gdLst/>
            <a:ahLst/>
            <a:rect l="l" t="t" r="r" b="b"/>
            <a:pathLst>
              <a:path w="4033" h="2929">
                <a:moveTo>
                  <a:pt x="0" y="2928"/>
                </a:moveTo>
                <a:lnTo>
                  <a:pt x="40" y="2871"/>
                </a:lnTo>
                <a:lnTo>
                  <a:pt x="63" y="2836"/>
                </a:lnTo>
                <a:lnTo>
                  <a:pt x="87" y="2800"/>
                </a:lnTo>
                <a:lnTo>
                  <a:pt x="122" y="2777"/>
                </a:lnTo>
                <a:lnTo>
                  <a:pt x="146" y="2742"/>
                </a:lnTo>
                <a:lnTo>
                  <a:pt x="181" y="2706"/>
                </a:lnTo>
                <a:lnTo>
                  <a:pt x="204" y="2659"/>
                </a:lnTo>
                <a:lnTo>
                  <a:pt x="252" y="2612"/>
                </a:lnTo>
                <a:lnTo>
                  <a:pt x="275" y="2577"/>
                </a:lnTo>
                <a:lnTo>
                  <a:pt x="310" y="2542"/>
                </a:lnTo>
                <a:lnTo>
                  <a:pt x="346" y="2495"/>
                </a:lnTo>
                <a:lnTo>
                  <a:pt x="381" y="2459"/>
                </a:lnTo>
                <a:lnTo>
                  <a:pt x="416" y="2424"/>
                </a:lnTo>
                <a:lnTo>
                  <a:pt x="452" y="2389"/>
                </a:lnTo>
                <a:lnTo>
                  <a:pt x="463" y="2353"/>
                </a:lnTo>
                <a:lnTo>
                  <a:pt x="487" y="2318"/>
                </a:lnTo>
                <a:lnTo>
                  <a:pt x="534" y="2283"/>
                </a:lnTo>
                <a:lnTo>
                  <a:pt x="569" y="2236"/>
                </a:lnTo>
                <a:lnTo>
                  <a:pt x="593" y="2201"/>
                </a:lnTo>
                <a:lnTo>
                  <a:pt x="628" y="2165"/>
                </a:lnTo>
                <a:lnTo>
                  <a:pt x="663" y="2118"/>
                </a:lnTo>
                <a:lnTo>
                  <a:pt x="699" y="2071"/>
                </a:lnTo>
                <a:lnTo>
                  <a:pt x="734" y="2036"/>
                </a:lnTo>
                <a:lnTo>
                  <a:pt x="757" y="2001"/>
                </a:lnTo>
                <a:lnTo>
                  <a:pt x="793" y="1965"/>
                </a:lnTo>
                <a:lnTo>
                  <a:pt x="840" y="1918"/>
                </a:lnTo>
                <a:lnTo>
                  <a:pt x="875" y="1883"/>
                </a:lnTo>
                <a:lnTo>
                  <a:pt x="910" y="1860"/>
                </a:lnTo>
                <a:lnTo>
                  <a:pt x="946" y="1824"/>
                </a:lnTo>
                <a:lnTo>
                  <a:pt x="981" y="1777"/>
                </a:lnTo>
                <a:lnTo>
                  <a:pt x="1016" y="1742"/>
                </a:lnTo>
                <a:lnTo>
                  <a:pt x="1063" y="1695"/>
                </a:lnTo>
                <a:lnTo>
                  <a:pt x="1110" y="1660"/>
                </a:lnTo>
                <a:lnTo>
                  <a:pt x="1146" y="1624"/>
                </a:lnTo>
                <a:lnTo>
                  <a:pt x="1181" y="1589"/>
                </a:lnTo>
                <a:lnTo>
                  <a:pt x="1240" y="1530"/>
                </a:lnTo>
                <a:lnTo>
                  <a:pt x="1275" y="1495"/>
                </a:lnTo>
                <a:lnTo>
                  <a:pt x="1334" y="1448"/>
                </a:lnTo>
                <a:lnTo>
                  <a:pt x="1369" y="1424"/>
                </a:lnTo>
                <a:lnTo>
                  <a:pt x="1416" y="1377"/>
                </a:lnTo>
                <a:lnTo>
                  <a:pt x="1451" y="1354"/>
                </a:lnTo>
                <a:lnTo>
                  <a:pt x="1498" y="1319"/>
                </a:lnTo>
                <a:lnTo>
                  <a:pt x="1545" y="1272"/>
                </a:lnTo>
                <a:lnTo>
                  <a:pt x="1581" y="1248"/>
                </a:lnTo>
                <a:lnTo>
                  <a:pt x="1628" y="1201"/>
                </a:lnTo>
                <a:lnTo>
                  <a:pt x="1663" y="1177"/>
                </a:lnTo>
                <a:lnTo>
                  <a:pt x="1722" y="1130"/>
                </a:lnTo>
                <a:lnTo>
                  <a:pt x="1769" y="1095"/>
                </a:lnTo>
                <a:lnTo>
                  <a:pt x="1804" y="1072"/>
                </a:lnTo>
                <a:lnTo>
                  <a:pt x="1863" y="1036"/>
                </a:lnTo>
                <a:lnTo>
                  <a:pt x="1922" y="989"/>
                </a:lnTo>
                <a:lnTo>
                  <a:pt x="1992" y="954"/>
                </a:lnTo>
                <a:lnTo>
                  <a:pt x="2051" y="919"/>
                </a:lnTo>
                <a:lnTo>
                  <a:pt x="2110" y="883"/>
                </a:lnTo>
                <a:lnTo>
                  <a:pt x="2145" y="860"/>
                </a:lnTo>
                <a:lnTo>
                  <a:pt x="2204" y="836"/>
                </a:lnTo>
                <a:lnTo>
                  <a:pt x="2251" y="813"/>
                </a:lnTo>
                <a:lnTo>
                  <a:pt x="2322" y="766"/>
                </a:lnTo>
                <a:lnTo>
                  <a:pt x="2357" y="754"/>
                </a:lnTo>
                <a:lnTo>
                  <a:pt x="2392" y="731"/>
                </a:lnTo>
                <a:lnTo>
                  <a:pt x="2428" y="707"/>
                </a:lnTo>
                <a:lnTo>
                  <a:pt x="2463" y="695"/>
                </a:lnTo>
                <a:lnTo>
                  <a:pt x="2510" y="672"/>
                </a:lnTo>
                <a:lnTo>
                  <a:pt x="2545" y="648"/>
                </a:lnTo>
                <a:lnTo>
                  <a:pt x="2581" y="636"/>
                </a:lnTo>
                <a:lnTo>
                  <a:pt x="2616" y="613"/>
                </a:lnTo>
                <a:lnTo>
                  <a:pt x="2651" y="601"/>
                </a:lnTo>
                <a:lnTo>
                  <a:pt x="2698" y="589"/>
                </a:lnTo>
                <a:lnTo>
                  <a:pt x="2734" y="566"/>
                </a:lnTo>
                <a:lnTo>
                  <a:pt x="2769" y="554"/>
                </a:lnTo>
                <a:lnTo>
                  <a:pt x="2816" y="531"/>
                </a:lnTo>
                <a:lnTo>
                  <a:pt x="2851" y="507"/>
                </a:lnTo>
                <a:lnTo>
                  <a:pt x="2886" y="495"/>
                </a:lnTo>
                <a:lnTo>
                  <a:pt x="2934" y="472"/>
                </a:lnTo>
                <a:lnTo>
                  <a:pt x="2969" y="460"/>
                </a:lnTo>
                <a:lnTo>
                  <a:pt x="3004" y="437"/>
                </a:lnTo>
                <a:lnTo>
                  <a:pt x="3051" y="413"/>
                </a:lnTo>
                <a:lnTo>
                  <a:pt x="3086" y="401"/>
                </a:lnTo>
                <a:lnTo>
                  <a:pt x="3133" y="378"/>
                </a:lnTo>
                <a:lnTo>
                  <a:pt x="3181" y="366"/>
                </a:lnTo>
                <a:lnTo>
                  <a:pt x="3216" y="354"/>
                </a:lnTo>
                <a:lnTo>
                  <a:pt x="3251" y="331"/>
                </a:lnTo>
                <a:lnTo>
                  <a:pt x="3286" y="319"/>
                </a:lnTo>
                <a:lnTo>
                  <a:pt x="3333" y="307"/>
                </a:lnTo>
                <a:lnTo>
                  <a:pt x="3381" y="284"/>
                </a:lnTo>
                <a:lnTo>
                  <a:pt x="3416" y="260"/>
                </a:lnTo>
                <a:lnTo>
                  <a:pt x="3463" y="248"/>
                </a:lnTo>
                <a:lnTo>
                  <a:pt x="3510" y="225"/>
                </a:lnTo>
                <a:lnTo>
                  <a:pt x="3545" y="213"/>
                </a:lnTo>
                <a:lnTo>
                  <a:pt x="3580" y="201"/>
                </a:lnTo>
                <a:lnTo>
                  <a:pt x="3616" y="190"/>
                </a:lnTo>
                <a:lnTo>
                  <a:pt x="3663" y="166"/>
                </a:lnTo>
                <a:lnTo>
                  <a:pt x="3698" y="143"/>
                </a:lnTo>
                <a:lnTo>
                  <a:pt x="3757" y="119"/>
                </a:lnTo>
                <a:lnTo>
                  <a:pt x="3792" y="95"/>
                </a:lnTo>
                <a:lnTo>
                  <a:pt x="3851" y="72"/>
                </a:lnTo>
                <a:lnTo>
                  <a:pt x="3910" y="48"/>
                </a:lnTo>
                <a:lnTo>
                  <a:pt x="3945" y="37"/>
                </a:lnTo>
                <a:lnTo>
                  <a:pt x="3980" y="13"/>
                </a:lnTo>
                <a:lnTo>
                  <a:pt x="4016" y="1"/>
                </a:lnTo>
                <a:lnTo>
                  <a:pt x="4032" y="0"/>
                </a:lnTo>
              </a:path>
            </a:pathLst>
          </a:custGeom>
          <a:noFill/>
          <a:ln cap="rnd"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64000" y="3284640"/>
            <a:ext cx="13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emlj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564000" y="2421000"/>
            <a:ext cx="1584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eml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1403280" y="1628280"/>
            <a:ext cx="5256360" cy="446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403280" y="476280"/>
            <a:ext cx="6408720" cy="947160"/>
          </a:xfrm>
          <a:prstGeom prst="rect">
            <a:avLst/>
          </a:prstGeom>
          <a:solidFill>
            <a:srgbClr val="fdfd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esjek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krivulja određuje ravnotežne uvjete trgovine kao i količine proizvo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500720" y="6035760"/>
            <a:ext cx="28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vo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zeml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vo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eml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6200000">
            <a:off x="-504720" y="3104640"/>
            <a:ext cx="281484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vo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eml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vo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eml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84720" y="2060640"/>
            <a:ext cx="25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–Točka razmje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5940000" y="2205000"/>
            <a:ext cx="71640" cy="3888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402920" y="220500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95280" y="285840"/>
            <a:ext cx="8353440" cy="98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Recipročna potražnja i trgovinska ravnotež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8360" y="1530360"/>
            <a:ext cx="8207280" cy="46353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naliza recipročne potražnje je usmjerena na izvoz i uvoz zemlje pri nekom odnosu trgov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zmemo li funkciju proizvodnih mogućnosti (PM) i korisnosti koje pokazuju razliku proizvodnje i potrošnje za svaki proizvod pri nekoj relativnoj cijeni (trgovinski trokut pri svakoj relativnoj cijen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rivulja recipročne potražnje (ponude) sumira ove trgovinske trokute s relativnom cijenom jednakoj nagibu pravca iz ishodiš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čka presijecanja krivulja pokazuje uravnoteženu trgovinu, tj. jednaki su trgovinski troku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8243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inder razlikuje trgovinu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imarnim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i trgovinu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ndustrijskim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proizvod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govinu primarnim proizvodima objašnjava njihovom prirodnom raspoloživošću u skladu s H-O teorijom, dok za trgovinu industrijskim proizvodima tvrdi kako je funkcija mnogih faktora kao npr.: tehnološka superiornost, menadžerska vještina i ekonomija opse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Linderova teor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93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tjecaj promjene krivulje proizvodnih mogućnosti izazvana zbog povećanja relativno oskudnog proizvodnog fakto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krivulju recipročne potraž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403280" y="2852640"/>
            <a:ext cx="3529080" cy="3168720"/>
          </a:xfrm>
          <a:custGeom>
            <a:avLst/>
            <a:gdLst/>
            <a:ahLst/>
            <a:rect l="l" t="t" r="r" b="b"/>
            <a:pathLst>
              <a:path w="2222" h="2177">
                <a:moveTo>
                  <a:pt x="0" y="0"/>
                </a:moveTo>
                <a:cubicBezTo>
                  <a:pt x="67" y="26"/>
                  <a:pt x="135" y="53"/>
                  <a:pt x="226" y="91"/>
                </a:cubicBezTo>
                <a:cubicBezTo>
                  <a:pt x="317" y="129"/>
                  <a:pt x="423" y="167"/>
                  <a:pt x="544" y="227"/>
                </a:cubicBezTo>
                <a:cubicBezTo>
                  <a:pt x="665" y="287"/>
                  <a:pt x="824" y="370"/>
                  <a:pt x="952" y="453"/>
                </a:cubicBezTo>
                <a:cubicBezTo>
                  <a:pt x="1080" y="536"/>
                  <a:pt x="1179" y="612"/>
                  <a:pt x="1315" y="726"/>
                </a:cubicBezTo>
                <a:cubicBezTo>
                  <a:pt x="1451" y="840"/>
                  <a:pt x="1633" y="968"/>
                  <a:pt x="1769" y="1134"/>
                </a:cubicBezTo>
                <a:cubicBezTo>
                  <a:pt x="1905" y="1300"/>
                  <a:pt x="2056" y="1550"/>
                  <a:pt x="2131" y="1724"/>
                </a:cubicBezTo>
                <a:cubicBezTo>
                  <a:pt x="2206" y="1898"/>
                  <a:pt x="2214" y="2037"/>
                  <a:pt x="2222" y="2177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321600">
            <a:off x="1157400" y="1415880"/>
            <a:ext cx="4784760" cy="4322880"/>
          </a:xfrm>
          <a:custGeom>
            <a:avLst/>
            <a:gdLst/>
            <a:ahLst/>
            <a:rect l="l" t="t" r="r" b="b"/>
            <a:pathLst>
              <a:path w="3856" h="2358">
                <a:moveTo>
                  <a:pt x="0" y="0"/>
                </a:moveTo>
                <a:cubicBezTo>
                  <a:pt x="159" y="30"/>
                  <a:pt x="318" y="61"/>
                  <a:pt x="590" y="136"/>
                </a:cubicBezTo>
                <a:cubicBezTo>
                  <a:pt x="862" y="211"/>
                  <a:pt x="1346" y="347"/>
                  <a:pt x="1633" y="453"/>
                </a:cubicBezTo>
                <a:cubicBezTo>
                  <a:pt x="1920" y="559"/>
                  <a:pt x="2095" y="658"/>
                  <a:pt x="2314" y="771"/>
                </a:cubicBezTo>
                <a:cubicBezTo>
                  <a:pt x="2533" y="884"/>
                  <a:pt x="2730" y="953"/>
                  <a:pt x="2949" y="1134"/>
                </a:cubicBezTo>
                <a:cubicBezTo>
                  <a:pt x="3168" y="1315"/>
                  <a:pt x="3478" y="1655"/>
                  <a:pt x="3629" y="1859"/>
                </a:cubicBezTo>
                <a:cubicBezTo>
                  <a:pt x="3780" y="2063"/>
                  <a:pt x="3811" y="2252"/>
                  <a:pt x="3856" y="2358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33200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00720" y="4869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500720" y="3213000"/>
            <a:ext cx="21564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300720" y="61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47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87280" y="299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61928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21164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788000" y="292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59280" y="321300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76720" y="1773360"/>
            <a:ext cx="2449440" cy="273672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556000" y="2133720"/>
            <a:ext cx="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2556000" y="2060280"/>
            <a:ext cx="0" cy="86364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36400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724360" y="429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348000" y="765000"/>
            <a:ext cx="2519280" cy="468000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76720" y="414972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203640" y="333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 flipV="1" rot="20202000">
            <a:off x="1642680" y="574920"/>
            <a:ext cx="24379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 flipV="1">
            <a:off x="3419640" y="1549080"/>
            <a:ext cx="243720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 rot="21355800">
            <a:off x="3582000" y="67680"/>
            <a:ext cx="2437920" cy="2895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 flipV="1" rot="229200">
            <a:off x="3610080" y="-712800"/>
            <a:ext cx="243720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32360" y="43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067280" y="3357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124000" y="32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708360" y="378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635280" y="1197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64000" y="234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780000" y="4149720"/>
            <a:ext cx="21564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40000" y="314172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780000" y="2205000"/>
            <a:ext cx="21564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635280" y="126828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3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3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50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500"/>
                            </p:stCondLst>
                            <p:childTnLst>
                              <p:par>
                                <p:cTn id="3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500"/>
                            </p:stCondLst>
                            <p:childTnLst>
                              <p:par>
                                <p:cTn id="3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tpostavljamo da je došlo do povećanja kvalitativnog ili kvantitativnog faktora K u zemlji A koja ima komparativne prednosti u proizvodnji radno intenzivnog dobra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kon povećanja faktora K njezina se krivulja transformacije mijenja. Sad zemlja A proizvodi više dobra X, ali znatno više dobra Y koje je kapitalno intenzivno, a koje je prije uglavnom uvoz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z isti odnos cijena sada bi zemlja A proizvodila u F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 a trošila u 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z taj odnos cijena, zemlja B želi uvesti više proizvoda X nego što zemlja A želi izvozi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išak potražnje nad ponudom dobra X na svjetskom tržištu utječe na povećanje cijene tog dobra pa odnos cijena raste.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Na taj način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boljšali su se uvjeti razmjene zemlje 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33829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kle, porast proizvodnog faktora K koji se intenzivnije koristi u proizvodnji uvoznog dobra zemlje A (jer je Y kapitalno intenzivno dobro) utječe na porast udjela zemlje A u razdiobi koristi od razmjene jer se uvjeti razmjene zemlje A poboljšava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340000" y="54450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9780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726520" y="256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989080" y="11253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997080" y="29242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219640" y="270828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11280" y="1197000"/>
            <a:ext cx="3095640" cy="4248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340000" y="2637000"/>
            <a:ext cx="345600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340000" y="1989000"/>
            <a:ext cx="3600360" cy="345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2340000" y="836640"/>
            <a:ext cx="2879640" cy="4680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148360" y="2565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780000" y="2781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340000" y="1557360"/>
            <a:ext cx="1655640" cy="388944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788000" y="47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651640" y="17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3708000" y="2492280"/>
            <a:ext cx="115092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3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50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3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3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93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tjecaj promjene krivulje proizvodnih mogućnosti izazvana zbog povećanja relativno oskudnog proizvodnog fakto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krivulju recipročne potraž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403280" y="2852640"/>
            <a:ext cx="3529080" cy="3168720"/>
          </a:xfrm>
          <a:custGeom>
            <a:avLst/>
            <a:gdLst/>
            <a:ahLst/>
            <a:rect l="l" t="t" r="r" b="b"/>
            <a:pathLst>
              <a:path w="2222" h="2177">
                <a:moveTo>
                  <a:pt x="0" y="0"/>
                </a:moveTo>
                <a:cubicBezTo>
                  <a:pt x="67" y="26"/>
                  <a:pt x="135" y="53"/>
                  <a:pt x="226" y="91"/>
                </a:cubicBezTo>
                <a:cubicBezTo>
                  <a:pt x="317" y="129"/>
                  <a:pt x="423" y="167"/>
                  <a:pt x="544" y="227"/>
                </a:cubicBezTo>
                <a:cubicBezTo>
                  <a:pt x="665" y="287"/>
                  <a:pt x="824" y="370"/>
                  <a:pt x="952" y="453"/>
                </a:cubicBezTo>
                <a:cubicBezTo>
                  <a:pt x="1080" y="536"/>
                  <a:pt x="1179" y="612"/>
                  <a:pt x="1315" y="726"/>
                </a:cubicBezTo>
                <a:cubicBezTo>
                  <a:pt x="1451" y="840"/>
                  <a:pt x="1633" y="968"/>
                  <a:pt x="1769" y="1134"/>
                </a:cubicBezTo>
                <a:cubicBezTo>
                  <a:pt x="1905" y="1300"/>
                  <a:pt x="2056" y="1550"/>
                  <a:pt x="2131" y="1724"/>
                </a:cubicBezTo>
                <a:cubicBezTo>
                  <a:pt x="2206" y="1898"/>
                  <a:pt x="2214" y="2037"/>
                  <a:pt x="2222" y="2177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321600">
            <a:off x="1190520" y="2347560"/>
            <a:ext cx="6118200" cy="3456000"/>
          </a:xfrm>
          <a:custGeom>
            <a:avLst/>
            <a:gdLst/>
            <a:ahLst/>
            <a:rect l="l" t="t" r="r" b="b"/>
            <a:pathLst>
              <a:path w="3856" h="2358">
                <a:moveTo>
                  <a:pt x="0" y="0"/>
                </a:moveTo>
                <a:cubicBezTo>
                  <a:pt x="159" y="30"/>
                  <a:pt x="318" y="61"/>
                  <a:pt x="590" y="136"/>
                </a:cubicBezTo>
                <a:cubicBezTo>
                  <a:pt x="862" y="211"/>
                  <a:pt x="1346" y="347"/>
                  <a:pt x="1633" y="453"/>
                </a:cubicBezTo>
                <a:cubicBezTo>
                  <a:pt x="1920" y="559"/>
                  <a:pt x="2095" y="658"/>
                  <a:pt x="2314" y="771"/>
                </a:cubicBezTo>
                <a:cubicBezTo>
                  <a:pt x="2533" y="884"/>
                  <a:pt x="2730" y="953"/>
                  <a:pt x="2949" y="1134"/>
                </a:cubicBezTo>
                <a:cubicBezTo>
                  <a:pt x="3168" y="1315"/>
                  <a:pt x="3478" y="1655"/>
                  <a:pt x="3629" y="1859"/>
                </a:cubicBezTo>
                <a:cubicBezTo>
                  <a:pt x="3780" y="2063"/>
                  <a:pt x="3811" y="2252"/>
                  <a:pt x="3856" y="2358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500720" y="4869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724360" y="393372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788000" y="4149720"/>
            <a:ext cx="86364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300720" y="61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47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76364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61928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21164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94036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059280" y="321300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427640" y="249228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411280" y="1916280"/>
            <a:ext cx="0" cy="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411280" y="2276640"/>
            <a:ext cx="6264360" cy="2881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995640" y="2997360"/>
            <a:ext cx="216000" cy="2394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3058560" y="1116720"/>
            <a:ext cx="243756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76" y="201"/>
                </a:moveTo>
                <a:arcTo wR="10800" hR="10800" stAng="-4735068" swAng="3989257"/>
                <a:lnTo>
                  <a:pt x="10800" y="10800"/>
                </a:lnTo>
                <a:close/>
              </a:path>
              <a:path fill="none" w="21600" h="21600">
                <a:moveTo>
                  <a:pt x="12876" y="201"/>
                </a:moveTo>
                <a:arcTo wR="10800" hR="10800" stAng="-4735068" swAng="3989257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 flipV="1">
            <a:off x="2698920" y="1121040"/>
            <a:ext cx="2437200" cy="289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38" y="194"/>
                </a:moveTo>
                <a:arcTo wR="10800" hR="10800" stAng="-4747398" swAng="4359760"/>
                <a:lnTo>
                  <a:pt x="10800" y="10800"/>
                </a:lnTo>
                <a:close/>
              </a:path>
              <a:path fill="none" w="21600" h="21600">
                <a:moveTo>
                  <a:pt x="12838" y="194"/>
                </a:moveTo>
                <a:arcTo wR="10800" hR="10800" stAng="-4747398" swAng="435976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 rot="20202000">
            <a:off x="2579760" y="-1440"/>
            <a:ext cx="243720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 flipV="1">
            <a:off x="4500720" y="468000"/>
            <a:ext cx="243720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716360" y="292428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348000" y="2637000"/>
            <a:ext cx="216000" cy="2394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987640" y="357336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276720" y="3500280"/>
            <a:ext cx="21564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780000" y="30686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716360" y="2708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348000" y="2421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348000" y="3357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771640" y="371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435640" y="566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372360" y="479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08720" y="422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3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3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etpostavljamo da je došlo do kvalitativnog ili kvantitativnog porasta proizvodnog faktora L u zemlji A koji se intenzivnije troši u proizvodnji izvoznog dobra x zemlje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rastom relativno obilnijeg proizvodnog faktora L mijenja se KP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mjenom krivulje transformacije uz isti odnos cijena – javlja se višak ponude dobra X nad potražnjom na svjetskom tržištu što uvjetuje opadanje njegove cij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ad je odnos cijena manji od 1, odnos cijena se smanj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 tom se izjednačuje ponuda i potražnja za dobrom X na međunarodnom tržiš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 obzirom da je odnos cijena manji nego prije, 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uvjeti razmjene zemlje A su se pogoršal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to zemlja ne može doseći krivulju indiferencije CA1 već CA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inder je pokušao objasniti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relativnu veličinu vanjske trgovin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odnosno njen udio u nacionalnom dohotku, budući da strukturu nije moga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emeljna teza: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veličina trgovine među dvjema zemljama je veća što je veća sličnost strukture potražnje dotičnih zemalj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ličnost strukture potražnje nekih zemalja je veća što je veća sličnost per capita nacionalnih dohodaka tih zemal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 znači ujedno da su se uvjeti razmjene za zemlju B poboljša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na kupi koristi od privrednog rasta u zemlji A koji je posljedica povećanja količine i/ili kvalitete relativno obilnog faktora te zemlje ili tehničkog napretka u proizvodnji izvoznog proizvoda zemlje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a je zemlja A željela i nakon porasta svog obilnog proizvodnog faktora smanjivati razmjenu, ona bi u cijelosti zadržala za sebe koristi od svog razvoja jer bi se njezini uvjeti razmjene poboljša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40000" y="54450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997080" y="9079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726520" y="256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989440" y="112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97440" y="2924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219640" y="270828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411280" y="1197000"/>
            <a:ext cx="3095640" cy="4248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340000" y="2637000"/>
            <a:ext cx="345600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851280" y="2421000"/>
            <a:ext cx="129528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340000" y="1989000"/>
            <a:ext cx="3600360" cy="345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2340000" y="836640"/>
            <a:ext cx="2879640" cy="4680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148360" y="2565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780000" y="2781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340000" y="1557360"/>
            <a:ext cx="1655640" cy="388944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788000" y="47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651640" y="17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3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3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3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8134200" cy="273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ko na međunarodnu razmjenu i na odnose cijena utječe promjena ukusa u zemlji A u korist njezina izvoznog proizvoda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1" name=""/>
          <p:cNvGraphicFramePr/>
          <p:nvPr/>
        </p:nvGraphicFramePr>
        <p:xfrm>
          <a:off x="1187280" y="1197000"/>
          <a:ext cx="6650280" cy="49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97000"/>
                    <a:ext cx="665028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"/>
          <p:cNvSpPr/>
          <p:nvPr/>
        </p:nvSpPr>
        <p:spPr>
          <a:xfrm>
            <a:off x="4356000" y="4292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124000" y="2997360"/>
            <a:ext cx="4248360" cy="25192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835280" y="3716280"/>
            <a:ext cx="3549600" cy="1884600"/>
          </a:xfrm>
          <a:custGeom>
            <a:avLst/>
            <a:gdLst/>
            <a:ahLst/>
            <a:rect l="l" t="t" r="r" b="b"/>
            <a:pathLst>
              <a:path w="2360" h="1280">
                <a:moveTo>
                  <a:pt x="0" y="0"/>
                </a:moveTo>
                <a:cubicBezTo>
                  <a:pt x="300" y="82"/>
                  <a:pt x="1406" y="282"/>
                  <a:pt x="1800" y="496"/>
                </a:cubicBezTo>
                <a:cubicBezTo>
                  <a:pt x="2193" y="709"/>
                  <a:pt x="2243" y="1116"/>
                  <a:pt x="2360" y="1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013080" y="58053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rot="16200000">
            <a:off x="351000" y="2104920"/>
            <a:ext cx="14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0537400">
            <a:off x="2268000" y="2708280"/>
            <a:ext cx="1079640" cy="936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788000" y="4653000"/>
            <a:ext cx="152280" cy="149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124000" y="1413000"/>
            <a:ext cx="3672000" cy="42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20038200">
            <a:off x="2771640" y="3429000"/>
            <a:ext cx="1513080" cy="86364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619280" y="105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867280" y="544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348000" y="3933720"/>
            <a:ext cx="216000" cy="241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356000" y="429264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59280" y="465300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7672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067280" y="4365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500720" y="4797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556000" y="328464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rot="895800">
            <a:off x="2340000" y="1484280"/>
            <a:ext cx="1079640" cy="936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556000" y="191628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340000" y="335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26836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500720" y="38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08000" y="234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76720" y="220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8435880" cy="666900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mjene ukusa u zemlji A pokazuju promjene krivulja indiferencije od Z1, Z2,… na I1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rivulje indiferencije I,… nagnutije su prema osi X što znači da se sada intenzivnije želi izvozno dobro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je promjene ukusa zemlja A je proizvodila u točki FA, a trošila u CA uz px/pY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kon promjene ukusa u korist X, povećana je njegova proizvodnja u zemlji A, ali još je više povećana potrošnja X-a u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340000" y="54450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99780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726520" y="256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89080" y="11253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997080" y="29242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219640" y="270828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411280" y="1197000"/>
            <a:ext cx="3095640" cy="4248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340000" y="2637000"/>
            <a:ext cx="345600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340000" y="1989000"/>
            <a:ext cx="3600360" cy="345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340000" y="836640"/>
            <a:ext cx="2879640" cy="4680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148360" y="2565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80000" y="2781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340000" y="1557360"/>
            <a:ext cx="1655640" cy="388944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788000" y="47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51640" y="17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3708000" y="2492280"/>
            <a:ext cx="115092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3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3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500"/>
                            </p:stCondLst>
                            <p:childTnLst>
                              <p:par>
                                <p:cTn id="5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40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3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ako da se krivulja recipročne potražnje zemlje A pomiče ulijevo, rotira u smjeru suprotnom od kazaljke na sa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vjeti razmjene zemlje A se poboljšavaju te se povećavaju njene koristi od razmj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eđutim, smanjuje se opseg međunarodne ekonomske razmjene, što znači i smanjenje specijalizacije u proizvodnji pa zemlja A može biti u boljem ili lošijem položaju nego pr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37450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a li je zemlja A u boljem ili gorem položaju nego prije, ne možemo znati jer su se promijenile mape krivulja indiferencije, a to čini usporedbu nemoguću – ne znamo je li dosegla višu ili nižu krivulju indiferenc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989840" cy="316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ako na međunarodnu razmjenu i na odnose cijena utječe promjena ukusa u zemlji A u korist njezina uvoznog proizvoda 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3" name=""/>
          <p:cNvGraphicFramePr/>
          <p:nvPr/>
        </p:nvGraphicFramePr>
        <p:xfrm>
          <a:off x="1187280" y="1125360"/>
          <a:ext cx="6650280" cy="493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25360"/>
                    <a:ext cx="665028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"/>
          <p:cNvSpPr/>
          <p:nvPr/>
        </p:nvSpPr>
        <p:spPr>
          <a:xfrm>
            <a:off x="1979640" y="3500280"/>
            <a:ext cx="3313080" cy="1944720"/>
          </a:xfrm>
          <a:custGeom>
            <a:avLst/>
            <a:gdLst/>
            <a:ahLst/>
            <a:rect l="l" t="t" r="r" b="b"/>
            <a:pathLst>
              <a:path w="2360" h="1280">
                <a:moveTo>
                  <a:pt x="0" y="0"/>
                </a:moveTo>
                <a:cubicBezTo>
                  <a:pt x="300" y="82"/>
                  <a:pt x="1406" y="282"/>
                  <a:pt x="1800" y="496"/>
                </a:cubicBezTo>
                <a:cubicBezTo>
                  <a:pt x="2193" y="709"/>
                  <a:pt x="2243" y="1116"/>
                  <a:pt x="2360" y="1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13080" y="58053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16200000">
            <a:off x="351000" y="2104920"/>
            <a:ext cx="14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678000">
            <a:off x="2411280" y="2276280"/>
            <a:ext cx="1079640" cy="93636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415800">
            <a:off x="2916000" y="3428640"/>
            <a:ext cx="1368360" cy="64764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30072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93236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348000" y="378936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716360" y="436572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7672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851280" y="458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500720" y="4797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627280" y="278136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21408000">
            <a:off x="3059280" y="1413000"/>
            <a:ext cx="1079280" cy="93636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276720" y="1773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916360" y="19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26836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55600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08000" y="234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140360" y="220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284720" y="400536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40000" y="2637000"/>
            <a:ext cx="4103640" cy="295272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916360" y="1341360"/>
            <a:ext cx="2663640" cy="41752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5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z toga slijedi: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što god je iznos per capita nacionalnog dohotka među zemljama bliži, to je intenzitet njihove međusobne trgovine industrijskim proizvodima već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inder tvrdi kako vanjska trgovina više zavisi od sličnosti u ukusima potrošača raznih zemalja, negoli od razlika u troškovima proizvodn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mjena ukusa u zemlji A u korist uvoznog dobra Y odražava se na promjenu krivulja indiferencije koje su sada nagnutije prema dobru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emlja A je voljna ponuditi više dobra X za istu količinu dobra Y u međunarodnoj ekonomskoj razmje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bog toga njezina krivulja ponude u međunarodnoj razmjeni rotira u smjeru kazaljke na sa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446400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z nepromijenjenu krivulju ponude zemlje B, takva promjena ponude zemlje A određuje novi niži odnos cijena px/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 znači da se uvjeti razmjene zemlje A pogoršavaju, a da se volumen međunarodne ekonomske razmjene (to znači i specijalizacije u proizvodnji) poveća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340000" y="54450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997080" y="9079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726520" y="256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989440" y="112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997440" y="2924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219640" y="270828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411280" y="1197000"/>
            <a:ext cx="3095640" cy="4248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340000" y="2637000"/>
            <a:ext cx="345600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851280" y="2421000"/>
            <a:ext cx="129528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2340000" y="1989000"/>
            <a:ext cx="3600360" cy="345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2340000" y="836640"/>
            <a:ext cx="2879640" cy="4680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148360" y="2565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780000" y="2781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340000" y="1557360"/>
            <a:ext cx="1655640" cy="388944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788000" y="47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651640" y="17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3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3000"/>
                            </p:stCondLst>
                            <p:childTnLst>
                              <p:par>
                                <p:cTn id="6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500"/>
                            </p:stCondLst>
                            <p:childTnLst>
                              <p:par>
                                <p:cTn id="6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3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3000"/>
                            </p:stCondLst>
                            <p:childTnLst>
                              <p:par>
                                <p:cTn id="6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3500"/>
                            </p:stCondLst>
                            <p:childTnLst>
                              <p:par>
                                <p:cTn id="6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000"/>
                            </p:stCondLst>
                            <p:childTnLst>
                              <p:par>
                                <p:cTn id="6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3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KO JE ZBROJ ELASTIČNOSTI RECIPROČNE POTRAŽNJE OBIJU ZEMALJA VEĆI OD 1, TRŽIŠTE JE STABIL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(elastičnost potražnje za uvozom zemlje A pokazuje za koliko će se postotaka povećati njezina potražnja za uvozom dobra Y ako se relativna cijena tog uvoza smanji za 1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arshall-Lernerov uvjet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762120" y="1447920"/>
            <a:ext cx="7924680" cy="487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2209680"/>
            <a:ext cx="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057400" y="5562720"/>
            <a:ext cx="426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2195640" y="2924280"/>
            <a:ext cx="6704640" cy="5333400"/>
            <a:chOff x="2195640" y="2924280"/>
            <a:chExt cx="6704640" cy="5333400"/>
          </a:xfrm>
        </p:grpSpPr>
        <p:sp>
          <p:nvSpPr>
            <p:cNvPr id="627" name=""/>
            <p:cNvSpPr/>
            <p:nvPr/>
          </p:nvSpPr>
          <p:spPr>
            <a:xfrm flipH="1">
              <a:off x="2195640" y="2924280"/>
              <a:ext cx="6704640" cy="533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243400" y="3076560"/>
              <a:ext cx="1463400" cy="307080"/>
            </a:xfrm>
            <a:prstGeom prst="rect">
              <a:avLst/>
            </a:prstGeom>
            <a:noFill/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-89640" y="1004040"/>
            <a:ext cx="4967640" cy="4502160"/>
            <a:chOff x="-89640" y="1004040"/>
            <a:chExt cx="4967640" cy="4502160"/>
          </a:xfrm>
        </p:grpSpPr>
        <p:sp>
          <p:nvSpPr>
            <p:cNvPr id="630" name=""/>
            <p:cNvSpPr/>
            <p:nvPr/>
          </p:nvSpPr>
          <p:spPr>
            <a:xfrm flipV="1">
              <a:off x="-89280" y="1003680"/>
              <a:ext cx="4570560" cy="450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1572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157264"/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414600" y="1773360"/>
              <a:ext cx="146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211480" y="1905120"/>
            <a:ext cx="4510080" cy="3660120"/>
            <a:chOff x="2211480" y="1905120"/>
            <a:chExt cx="4510080" cy="3660120"/>
          </a:xfrm>
        </p:grpSpPr>
        <p:sp>
          <p:nvSpPr>
            <p:cNvPr id="633" name=""/>
            <p:cNvSpPr/>
            <p:nvPr/>
          </p:nvSpPr>
          <p:spPr>
            <a:xfrm flipV="1">
              <a:off x="2211480" y="2211120"/>
              <a:ext cx="3043080" cy="335412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257800" y="1905120"/>
              <a:ext cx="146376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Times New Roman"/>
                </a:rPr>
                <a:t>Ravnotežni odnos cijena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hr-HR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hr-HR" sz="16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hr-HR" sz="1600" spc="-1" strike="noStrike">
                  <a:solidFill>
                    <a:srgbClr val="000000"/>
                  </a:solidFill>
                  <a:latin typeface="Times New Roman"/>
                </a:rPr>
                <a:t> /P</a:t>
              </a:r>
              <a:r>
                <a:rPr b="1" lang="hr-HR" sz="16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1830240" y="2895480"/>
            <a:ext cx="2863440" cy="3050280"/>
            <a:chOff x="1830240" y="2895480"/>
            <a:chExt cx="2863440" cy="3050280"/>
          </a:xfrm>
        </p:grpSpPr>
        <p:sp>
          <p:nvSpPr>
            <p:cNvPr id="636" name=""/>
            <p:cNvSpPr/>
            <p:nvPr/>
          </p:nvSpPr>
          <p:spPr>
            <a:xfrm>
              <a:off x="4495680" y="3124080"/>
              <a:ext cx="0" cy="2438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345200" y="5638680"/>
              <a:ext cx="34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2209680" y="304812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30240" y="2895480"/>
              <a:ext cx="407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M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"/>
          <p:cNvSpPr/>
          <p:nvPr/>
        </p:nvSpPr>
        <p:spPr>
          <a:xfrm flipV="1">
            <a:off x="2195640" y="2708280"/>
            <a:ext cx="4105080" cy="792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4140000" y="1916280"/>
            <a:ext cx="502920" cy="3673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835280" y="3284640"/>
            <a:ext cx="64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N´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708360" y="5589720"/>
            <a:ext cx="64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476360" y="1916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084720" y="566100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348000" y="29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067280" y="530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14036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vjet stabilnosti tržišta je da krivulja recipročne potražnje zemlje A siječe krivulju recipročne potražnje zemlje B odoz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 znači da je tangens kuta koji tangenta na krivulji potražnje A u točki E zatvara s apscisom veći od tangensa kuta koji tangenta na krivulji B zatvara s apscisom u istoj toč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M/N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N´M´/E M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Transportni trošk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762120" y="404640"/>
            <a:ext cx="7924680" cy="591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209680" y="2209680"/>
            <a:ext cx="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057400" y="5562720"/>
            <a:ext cx="426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1854000" y="2939400"/>
            <a:ext cx="7323480" cy="6136200"/>
            <a:chOff x="1854000" y="2939400"/>
            <a:chExt cx="7323480" cy="6136200"/>
          </a:xfrm>
        </p:grpSpPr>
        <p:sp>
          <p:nvSpPr>
            <p:cNvPr id="655" name=""/>
            <p:cNvSpPr/>
            <p:nvPr/>
          </p:nvSpPr>
          <p:spPr>
            <a:xfrm flipH="1" rot="434400">
              <a:off x="2162880" y="3340440"/>
              <a:ext cx="6704640" cy="533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434400">
              <a:off x="5505120" y="3565440"/>
              <a:ext cx="1463400" cy="307080"/>
            </a:xfrm>
            <a:prstGeom prst="rect">
              <a:avLst/>
            </a:prstGeom>
            <a:noFill/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-75960" y="1059480"/>
            <a:ext cx="4968720" cy="4502520"/>
            <a:chOff x="-75960" y="1059480"/>
            <a:chExt cx="4968720" cy="4502520"/>
          </a:xfrm>
        </p:grpSpPr>
        <p:sp>
          <p:nvSpPr>
            <p:cNvPr id="658" name=""/>
            <p:cNvSpPr/>
            <p:nvPr/>
          </p:nvSpPr>
          <p:spPr>
            <a:xfrm flipV="1">
              <a:off x="-75600" y="1058760"/>
              <a:ext cx="4571280" cy="450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1572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157264"/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29000" y="1828800"/>
              <a:ext cx="1463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1692360" y="21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940360" y="5734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851280" y="1916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2195640" y="1700280"/>
            <a:ext cx="2952720" cy="3889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164360" y="400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2195640" y="2060640"/>
            <a:ext cx="3889080" cy="3456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580000" y="177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284720" y="1341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5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132000" y="3429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987640" y="530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276720" y="2852640"/>
            <a:ext cx="309708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564000" y="3716280"/>
            <a:ext cx="0" cy="187344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2195640" y="3716280"/>
            <a:ext cx="5976720" cy="1873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500720" y="3429000"/>
            <a:ext cx="0" cy="21607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348000" y="566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211640" y="57340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7931160" cy="49672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nemarimo li transportne troškove, ravnotežni odnos cijena je PX/ PY=1, a količine izvoza i uvoza određene su koordinatama točke CA1=CB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z transportne troškove, cijena svakog dobra bit će u zemlji uvoza veća od cijene u zemlji izvoznici za visinu transportnih troško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41767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pr. uz odnos cijena 5/4 zemlja B uvozi OG jedinica dobra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eđutim da bi zemlja A izvozila OG dobra X, odnos cijena treba biti svega 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z toga slijedi da troškovi transporta jedinice dobra X iz zemlje A u zemlju B iznose CB-CA dobra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duzeća u nekoj zemlji prvenstveno su orijentirana na proizvodnju onih dobara koja se mogu prodati na domaćem tržištu, a to određuje skup dobara koji će ta dobra imati za ponuditi kad počnu izvoziti, a takav izvoz je najperspektivnije izvoziti u zemlje sa sličnim ukus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36734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nalogno tome, sa stajališta izvoza Y, vidimo da bi uz odnos cijena 5/4 B bila voljna izvesti CBG dobra Y, dok bi zemlja A htjela uvesti CAG dobra Y uz odnos cijena 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ansportni troškovi iznose CB-CA dobra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569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tjecaj transportnih troškova na cijene i količine međunarodne razm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140360" y="549360"/>
            <a:ext cx="0" cy="5040360"/>
          </a:xfrm>
          <a:prstGeom prst="line">
            <a:avLst/>
          </a:prstGeom>
          <a:ln cap="rnd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26920" y="5589720"/>
            <a:ext cx="8066160" cy="0"/>
          </a:xfrm>
          <a:prstGeom prst="line">
            <a:avLst/>
          </a:prstGeom>
          <a:ln cap="rnd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2484360" y="3645000"/>
            <a:ext cx="1656000" cy="1944720"/>
          </a:xfrm>
          <a:prstGeom prst="line">
            <a:avLst/>
          </a:prstGeom>
          <a:ln cap="rnd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4140360" y="1989000"/>
            <a:ext cx="2736720" cy="3097440"/>
          </a:xfrm>
          <a:prstGeom prst="line">
            <a:avLst/>
          </a:prstGeom>
          <a:ln cap="rnd"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1402920" y="1844280"/>
            <a:ext cx="2737080" cy="3745080"/>
          </a:xfrm>
          <a:prstGeom prst="line">
            <a:avLst/>
          </a:prstGeom>
          <a:ln cap="rnd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4140360" y="1557000"/>
            <a:ext cx="2952720" cy="4032360"/>
          </a:xfrm>
          <a:prstGeom prst="line">
            <a:avLst/>
          </a:prstGeom>
          <a:ln cap="rnd"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140360" y="3500280"/>
            <a:ext cx="1368360" cy="0"/>
          </a:xfrm>
          <a:prstGeom prst="line">
            <a:avLst/>
          </a:prstGeom>
          <a:ln cap="rnd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492360" y="4508640"/>
            <a:ext cx="0" cy="0"/>
          </a:xfrm>
          <a:prstGeom prst="line">
            <a:avLst/>
          </a:prstGeom>
          <a:ln cap="rnd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419640" y="4581360"/>
            <a:ext cx="647640" cy="0"/>
          </a:xfrm>
          <a:prstGeom prst="line">
            <a:avLst/>
          </a:prstGeom>
          <a:ln cap="rnd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916360" y="4005360"/>
            <a:ext cx="3024000" cy="0"/>
          </a:xfrm>
          <a:prstGeom prst="line">
            <a:avLst/>
          </a:prstGeom>
          <a:ln cap="rnd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84720" y="40464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emlj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403280" y="33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emlj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140360" y="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71640" y="587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8101080" y="5950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492360" y="32130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708360" y="39337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 rot="10800000">
            <a:off x="3995280" y="4365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4328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635280" y="37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859280" y="36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940360" y="37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258920" y="155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948360" y="184464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659640" y="4869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4680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svakoj je zemlji cijena određena ponudom i potražnjom u toj zemlji u situaciji autark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zemlji A je cijena dobra X niža nego u zemlji B- razlog za razmje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emlja A bi izvozila dobro x, a zemlja B ga uvozila, čime bi se cijena polako izjednačavala (padala u B i rasla u 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3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o uvedemo transportne troškove, obje zemlje jednako podnose njihov teret jer je jednaka elastičnost ponude i potražnje u zeml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slučaju kad ne bi bile jednake, veći bi dio transportnih troškova padao na onu zemlju u kojoj su ponuda i potražnja neelastičnije (krivulje bi bile okomitij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 flipV="1">
            <a:off x="1116000" y="1413000"/>
            <a:ext cx="71280" cy="46800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116000" y="6165720"/>
            <a:ext cx="568800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116000" y="1773360"/>
            <a:ext cx="3960720" cy="4392360"/>
          </a:xfrm>
          <a:custGeom>
            <a:avLst/>
            <a:gdLst/>
            <a:ahLst/>
            <a:rect l="l" t="t" r="r" b="b"/>
            <a:pathLst>
              <a:path w="2495" h="2767">
                <a:moveTo>
                  <a:pt x="0" y="2767"/>
                </a:moveTo>
                <a:cubicBezTo>
                  <a:pt x="227" y="2687"/>
                  <a:pt x="454" y="2608"/>
                  <a:pt x="635" y="2540"/>
                </a:cubicBezTo>
                <a:cubicBezTo>
                  <a:pt x="816" y="2472"/>
                  <a:pt x="937" y="2441"/>
                  <a:pt x="1088" y="2358"/>
                </a:cubicBezTo>
                <a:cubicBezTo>
                  <a:pt x="1239" y="2275"/>
                  <a:pt x="1406" y="2154"/>
                  <a:pt x="1542" y="2041"/>
                </a:cubicBezTo>
                <a:cubicBezTo>
                  <a:pt x="1678" y="1928"/>
                  <a:pt x="1799" y="1814"/>
                  <a:pt x="1905" y="1678"/>
                </a:cubicBezTo>
                <a:cubicBezTo>
                  <a:pt x="2011" y="1542"/>
                  <a:pt x="2102" y="1390"/>
                  <a:pt x="2177" y="1224"/>
                </a:cubicBezTo>
                <a:cubicBezTo>
                  <a:pt x="2252" y="1058"/>
                  <a:pt x="2313" y="846"/>
                  <a:pt x="2358" y="680"/>
                </a:cubicBezTo>
                <a:cubicBezTo>
                  <a:pt x="2403" y="514"/>
                  <a:pt x="2426" y="340"/>
                  <a:pt x="2449" y="227"/>
                </a:cubicBezTo>
                <a:cubicBezTo>
                  <a:pt x="2472" y="114"/>
                  <a:pt x="2495" y="38"/>
                  <a:pt x="2495" y="0"/>
                </a:cubicBezTo>
              </a:path>
            </a:pathLst>
          </a:custGeom>
          <a:noFill/>
          <a:ln cap="sq"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116000" y="2276640"/>
            <a:ext cx="4968720" cy="3889080"/>
          </a:xfrm>
          <a:custGeom>
            <a:avLst/>
            <a:gdLst/>
            <a:ahLst/>
            <a:rect l="l" t="t" r="r" b="b"/>
            <a:pathLst>
              <a:path w="3130" h="2450">
                <a:moveTo>
                  <a:pt x="0" y="2450"/>
                </a:moveTo>
                <a:cubicBezTo>
                  <a:pt x="57" y="2196"/>
                  <a:pt x="114" y="1943"/>
                  <a:pt x="227" y="1724"/>
                </a:cubicBezTo>
                <a:cubicBezTo>
                  <a:pt x="340" y="1505"/>
                  <a:pt x="529" y="1300"/>
                  <a:pt x="680" y="1134"/>
                </a:cubicBezTo>
                <a:cubicBezTo>
                  <a:pt x="831" y="968"/>
                  <a:pt x="945" y="862"/>
                  <a:pt x="1134" y="726"/>
                </a:cubicBezTo>
                <a:cubicBezTo>
                  <a:pt x="1323" y="590"/>
                  <a:pt x="1595" y="424"/>
                  <a:pt x="1814" y="318"/>
                </a:cubicBezTo>
                <a:cubicBezTo>
                  <a:pt x="2033" y="212"/>
                  <a:pt x="2230" y="144"/>
                  <a:pt x="2449" y="91"/>
                </a:cubicBezTo>
                <a:cubicBezTo>
                  <a:pt x="2668" y="38"/>
                  <a:pt x="2899" y="19"/>
                  <a:pt x="3130" y="0"/>
                </a:cubicBezTo>
              </a:path>
            </a:pathLst>
          </a:custGeom>
          <a:noFill/>
          <a:ln cap="sq"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187280" y="2421000"/>
            <a:ext cx="3745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187280" y="3573360"/>
            <a:ext cx="1513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700360" y="3573360"/>
            <a:ext cx="0" cy="2592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32360" y="2421000"/>
            <a:ext cx="0" cy="3744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116000" y="1628280"/>
            <a:ext cx="4680000" cy="4537080"/>
          </a:xfrm>
          <a:prstGeom prst="line">
            <a:avLst/>
          </a:prstGeom>
          <a:ln cap="sq"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80472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lat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827640" y="9810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ž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086880" y="206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61440" y="134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84360" y="220500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3357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71052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9016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900000" y="2708280"/>
            <a:ext cx="0" cy="64944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4211280" y="6381720"/>
            <a:ext cx="57636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39640" y="189000"/>
            <a:ext cx="8136000" cy="576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pća ravnoteža s transportnim troškov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829080" y="602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084720" y="3357720"/>
            <a:ext cx="2880000" cy="253332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 transportnim troškovima odnos cijena u dvije zemlje se mora razlikovati. Zemlja A nudi platno za žito i transport, dok zemlja B nudi žito za platno i trans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116000" y="3789000"/>
            <a:ext cx="4392720" cy="23763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116000" y="1989000"/>
            <a:ext cx="2592360" cy="41767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924360" y="4653000"/>
            <a:ext cx="0" cy="151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187280" y="4653000"/>
            <a:ext cx="273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485440" y="6093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97800" y="126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710880" y="148428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511960" y="3500280"/>
            <a:ext cx="4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55640" y="450864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3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3000"/>
                            </p:stCondLst>
                            <p:childTnLst>
                              <p:par>
                                <p:cTn id="7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3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000"/>
                            </p:stCondLst>
                            <p:childTnLst>
                              <p:par>
                                <p:cTn id="7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3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3000"/>
                            </p:stCondLst>
                            <p:childTnLst>
                              <p:par>
                                <p:cTn id="7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3500"/>
                            </p:stCondLst>
                            <p:childTnLst>
                              <p:par>
                                <p:cTn id="7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4000"/>
                            </p:stCondLst>
                            <p:childTnLst>
                              <p:par>
                                <p:cTn id="7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500"/>
                            </p:stCondLst>
                            <p:childTnLst>
                              <p:par>
                                <p:cTn id="7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0"/>
                            </p:stCondLst>
                            <p:childTnLst>
                              <p:par>
                                <p:cTn id="7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500"/>
                            </p:stCondLst>
                            <p:childTnLst>
                              <p:par>
                                <p:cTn id="7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3000"/>
                            </p:stCondLst>
                            <p:childTnLst>
                              <p:par>
                                <p:cTn id="8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5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Transportni trošk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62800" cy="4680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like u cijeni u dvije zemlje prije trgovine moraju biti veće od troškova prijevoza. Nakon trgovine cijena robe je viša u zemlji uvoza nego u zemlji izvoza za iznos transportnih troško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ansportni troškovi mogu biti razlog nastanka vanjske trgovine (lokalna trgovina ili malogranični promet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oba se npr. uvozi na sjeveru zemlje, a izvozi na jugu zemlje. Stoga se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eto komparativna prednos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temelji na bruto komparativnoj prednosti i nedostacima zbog troškova prijevo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81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Transportni trošk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184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ijena prijevoza nije proporcionalna težini, volumenu i vrijednosti robe. Vrijedna roba može imati proporcionalno više troškove u odnosu na teži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arifa ne zavisi samo od težine i vrijednosti robe nego i od vrste prijevoznih sredstava i udaljenosti. Ove razlike su prikazane na slijedećem grafiko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Teorija loka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569440" cy="4464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orija lokacije uzima u obzir troškove prijevoza i objašnjava faktore za smještaj određene industrije bilo da se radi o međunarodnoj ili međuregionalnoj trgovi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dustrije koje proizvode robe mogu biti usmjerene na izvore inputa, na tržište ili mogu biti slobodne ako su troškovi prijevoza relativno m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930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tjecaj promjene krivulje proizvodnih mogućnosti izazvana zbog povećanja relativno obilnog proizvodnog fakto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krivulju recipročne potraž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0:35:06Z</dcterms:created>
  <dc:creator>Igor</dc:creator>
  <dc:description/>
  <dc:language>en-US</dc:language>
  <cp:lastModifiedBy>Igor</cp:lastModifiedBy>
  <dcterms:modified xsi:type="dcterms:W3CDTF">2007-03-28T19:20:38Z</dcterms:modified>
  <cp:revision>29</cp:revision>
  <dc:subject/>
  <dc:title>TEORIJE VANJSKE TRGOVINE</dc:title>
</cp:coreProperties>
</file>