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4E34C-E8E2-4782-812E-93489DCE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D3AF7-1FB1-4C3F-BC10-5FCE5904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B7767-B146-4346-A29F-91A18FF0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5EFA5-CBAE-492E-9A82-4E776258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8BB5-4B61-4AE4-834A-B6D5CE78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7494-3D29-43AC-B810-7CE16FDD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7AF7-BAF3-451D-85B8-9309C751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BFF7-47C7-466E-86FE-F4BEAA0B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42B6-FE13-4E26-88AC-20261DD9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3BFA-6FEC-4D25-8151-A87C80FC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82F6-63CA-44D8-A264-606A860B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D2BFE-42ED-4442-80D8-3571AC77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C266-47AA-4DCB-9554-031492FE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C5A2-AD4E-450B-BCAF-DB668BE8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F716-B485-430D-8C7A-3F5394C9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E242-9929-442C-BB10-724523A6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9D8F-D29D-4238-A0E6-F72C1710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212DA-8991-46EB-B143-62422D25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8C07A-D62E-46AF-9694-E8A25FF5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01464-4799-4405-AF5F-819B2EC5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2B292-E7A1-473F-9E64-A28B76C4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816B7-32FC-4CED-BDF6-75657167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4CD78-86C2-45C0-9587-BB77B238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2A82A-1258-4041-A805-942E8E7B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F61B-A5AE-4016-8C19-4E2397B1FC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6259-1D37-42CF-841C-9B29E1713C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Osiromašujući ras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348000" y="404640"/>
            <a:ext cx="42483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siromašujući 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404640"/>
            <a:ext cx="3240360" cy="5400720"/>
          </a:xfrm>
          <a:prstGeom prst="line">
            <a:avLst/>
          </a:prstGeom>
          <a:ln w="76320">
            <a:solidFill>
              <a:srgbClr val="e41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03280" y="2492280"/>
            <a:ext cx="6121440" cy="352908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1413000"/>
            <a:ext cx="5832720" cy="352872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1125360"/>
            <a:ext cx="1512720" cy="1081440"/>
          </a:xfrm>
          <a:custGeom>
            <a:avLst/>
            <a:gdLst/>
            <a:ahLst/>
            <a:rect l="l" t="t" r="r" b="b"/>
            <a:pathLst>
              <a:path w="1270" h="772">
                <a:moveTo>
                  <a:pt x="0" y="0"/>
                </a:moveTo>
                <a:cubicBezTo>
                  <a:pt x="98" y="162"/>
                  <a:pt x="197" y="325"/>
                  <a:pt x="409" y="454"/>
                </a:cubicBezTo>
                <a:cubicBezTo>
                  <a:pt x="621" y="583"/>
                  <a:pt x="1134" y="719"/>
                  <a:pt x="1270" y="772"/>
                </a:cubicBezTo>
              </a:path>
            </a:pathLst>
          </a:custGeom>
          <a:noFill/>
          <a:ln w="381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123640" y="-1258920"/>
            <a:ext cx="24379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3933720"/>
            <a:ext cx="216000" cy="23976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9640" y="1628640"/>
            <a:ext cx="216000" cy="21600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88000" y="4149720"/>
            <a:ext cx="86364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981000"/>
            <a:ext cx="215640" cy="24120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123640" y="1197000"/>
            <a:ext cx="14436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9:33:28Z</dcterms:created>
  <dc:creator>Mato Grgić</dc:creator>
  <dc:description/>
  <dc:language>en-US</dc:language>
  <cp:lastModifiedBy>Mato Grgić</cp:lastModifiedBy>
  <dcterms:modified xsi:type="dcterms:W3CDTF">2004-11-28T21:17:32Z</dcterms:modified>
  <cp:revision>3</cp:revision>
  <dc:subject/>
  <dc:title>Osiromašujući rast</dc:title>
</cp:coreProperties>
</file>