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9DE9E-207C-4D31-A569-16AA1711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ED4B-ADBD-43B5-9EF4-D913B3A3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B6C2-2A0F-4982-A2DE-DBB07B6C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1DAE-B8D4-4384-89DC-54CF1C76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A56F-5778-4271-9E21-E0B1EE77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8549-55D1-462A-AE06-9752F7B7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7181-A641-4D04-8FCD-01739F6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368-1086-4711-80C0-22A8430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127A-BDDC-40CC-BE6E-66BFBBDD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657D-00C1-4932-948F-00A5DA16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60FF-6CEA-49E4-986E-57000A3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435B-DE26-4082-8BB9-18928324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7E2A-E348-4BAB-BDF0-0BA15E5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829-7782-4CF4-9D02-81E9CA8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7C46-2F3C-4BCC-AB4C-DD7B78B8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3F9B-93DC-47FD-93B1-9787CA62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358-7B64-47E6-B8F3-2F8EFF39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C9C3-0CC1-42D3-9F72-5550ABF3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5057-8EB5-4EED-BFE8-26FB9C46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2C88-E6B6-4E21-B504-D2803830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2262-4A1C-42B7-8770-5862A4D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063E-1220-4D3A-8265-F507E4B9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E388-F937-40F1-B118-184A2711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E2E7-7426-4A62-8210-D57F7470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8C8-686C-49F0-A705-458B05307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686-E107-40C7-B3A4-E49ED2836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UVJETI TRGOVINE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51280" y="2924280"/>
            <a:ext cx="1295280" cy="2089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3645000"/>
            <a:ext cx="1143000" cy="9954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0920" y="482760"/>
            <a:ext cx="6228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goršanje uvjeta trgovine i smanjenje koristi od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2160" y="1752480"/>
            <a:ext cx="6120" cy="4337280"/>
          </a:xfrm>
          <a:custGeom>
            <a:avLst/>
            <a:gdLst/>
            <a:ahLst/>
            <a:rect l="l" t="t" r="r" b="b"/>
            <a:pathLst>
              <a:path w="4" h="2732">
                <a:moveTo>
                  <a:pt x="4" y="0"/>
                </a:moveTo>
                <a:lnTo>
                  <a:pt x="0" y="27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6095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308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77280" y="3963960"/>
            <a:ext cx="59425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19" y="21"/>
                </a:moveTo>
                <a:arcTo wR="10800" hR="10800" stAng="-5616952" swAng="5731024"/>
                <a:lnTo>
                  <a:pt x="10800" y="10800"/>
                </a:lnTo>
                <a:close/>
              </a:path>
              <a:path fill="none" w="21600" h="21600">
                <a:moveTo>
                  <a:pt x="10119" y="21"/>
                </a:moveTo>
                <a:arcTo wR="10800" hR="10800" stAng="-5616952" swAng="573102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3124080" y="1065960"/>
            <a:ext cx="47239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3132000" y="1915920"/>
            <a:ext cx="2735280" cy="4027320"/>
          </a:xfrm>
          <a:prstGeom prst="line">
            <a:avLst/>
          </a:prstGeom>
          <a:ln w="38160">
            <a:solidFill>
              <a:srgbClr val="00007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31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48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308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072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85720" y="479736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524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1916280"/>
            <a:ext cx="4267080" cy="3429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57320" y="434340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76360" y="4581000"/>
            <a:ext cx="28908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5000" y="41497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80560" y="4648320"/>
            <a:ext cx="12193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563640" y="3715920"/>
            <a:ext cx="12600" cy="93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3213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38000" y="3429000"/>
            <a:ext cx="3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581280" y="532800"/>
            <a:ext cx="47239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9200" y="2349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850200" y="5043960"/>
            <a:ext cx="1302480" cy="10080"/>
          </a:xfrm>
          <a:prstGeom prst="line">
            <a:avLst/>
          </a:prstGeom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51280" y="5084640"/>
            <a:ext cx="1370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851280" y="2923920"/>
            <a:ext cx="0" cy="2090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35920" y="544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2852640"/>
            <a:ext cx="4002120" cy="32432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evt="end">
                                        <p:tn val="289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333360"/>
            <a:ext cx="83516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vjeti trgovine za nerazvijene i razvijene zemlje 1972.-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981080"/>
          <a:ext cx="8483760" cy="2600280"/>
        </p:xfrm>
        <a:graphic>
          <a:graphicData uri="http://schemas.openxmlformats.org/drawingml/2006/table">
            <a:tbl>
              <a:tblPr/>
              <a:tblGrid>
                <a:gridCol w="2197080"/>
                <a:gridCol w="698760"/>
                <a:gridCol w="698400"/>
                <a:gridCol w="698400"/>
                <a:gridCol w="698760"/>
                <a:gridCol w="698400"/>
                <a:gridCol w="698400"/>
                <a:gridCol w="698400"/>
                <a:gridCol w="698760"/>
                <a:gridCol w="698400"/>
              </a:tblGrid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zvijene zeml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oznice naf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vijene zeml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95280" y="4941720"/>
            <a:ext cx="82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vjeti trgovine = Jedinična vrijednost izvoz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Jedinična vrijednost uvoza (1972 =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" y="566100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zvor: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MF,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</a:rPr>
              <a:t>International Financial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ksi izvoznih cijena primarnih i industrijskih proizvoda (1953 =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ni       Industrijski      Od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izvodi      proizvodi         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              100                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                 98               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                 99            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              103                  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               106                 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               106                  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              106                 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4               109                  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lain" startAt="195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2               110                  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308640"/>
            <a:ext cx="777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41040" y="404640"/>
            <a:ext cx="81946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a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95                      111                      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 98                      112                      8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98                      114                      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99                      118                      8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6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96                      119                      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7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96                      118                      8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 98                      122                      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6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103                      130                      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0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109                      138                      7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124                      149                      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   179                      173                    1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863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a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9                 173                      1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0                  187                      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1                  237                      1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30                  237                      13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87                  258                      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70                  296                      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9                  339                      1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00                  374                      18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31                  355                      20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7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90                  344                      201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475920"/>
            <a:ext cx="80805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ava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637                      333                      1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630                      325                      19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595                      325                      1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441                      378                      1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lain" startAt="198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462                      419                      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vor: UN, Monthly Bulletin of Statistics, New York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fekti pogoršavanja uvjeta trgovin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04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kt dohotka i efekt supstitucije kao rezultat promjene (pogoršanja)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676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61722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052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088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895480" y="3429000"/>
            <a:ext cx="74671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275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52680" y="50706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6200" y="5680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61080" y="1700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7080" y="234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371600"/>
            <a:ext cx="4648320" cy="327672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59720" y="53751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789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1447920"/>
            <a:ext cx="1866960" cy="4591080"/>
          </a:xfrm>
          <a:custGeom>
            <a:avLst/>
            <a:gdLst/>
            <a:ahLst/>
            <a:rect l="l" t="t" r="r" b="b"/>
            <a:pathLst>
              <a:path w="1176" h="2892">
                <a:moveTo>
                  <a:pt x="0" y="0"/>
                </a:moveTo>
                <a:lnTo>
                  <a:pt x="1176" y="2892"/>
                </a:lnTo>
              </a:path>
            </a:pathLst>
          </a:custGeom>
          <a:noFill/>
          <a:ln w="2844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 rot="21183000">
            <a:off x="2030400" y="813240"/>
            <a:ext cx="2199600" cy="294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8160" y="2286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308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6040" y="33526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9920" y="306864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*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4648320" cy="327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38080" y="1752120"/>
            <a:ext cx="312444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4149720"/>
            <a:ext cx="71640" cy="7128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5080" y="328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 rot="21339600">
            <a:off x="2932200" y="-168480"/>
            <a:ext cx="2197080" cy="29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10" y="55"/>
                </a:moveTo>
                <a:arcTo wR="10800" hR="10800" stAng="-5747614" swAng="5702457"/>
                <a:lnTo>
                  <a:pt x="10800" y="10800"/>
                </a:lnTo>
                <a:close/>
              </a:path>
              <a:path fill="none" w="21600" h="21600">
                <a:moveTo>
                  <a:pt x="9710" y="55"/>
                </a:moveTo>
                <a:arcTo wR="10800" hR="10800" stAng="-5747614" swAng="5702457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1844640"/>
            <a:ext cx="71640" cy="7164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kti pogoršavanja uvjeta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2276640"/>
            <a:ext cx="5400720" cy="295272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7524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8672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908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8160" y="580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123720" y="3505320"/>
            <a:ext cx="868608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1628640"/>
            <a:ext cx="3313080" cy="4176720"/>
          </a:xfrm>
          <a:prstGeom prst="line">
            <a:avLst/>
          </a:prstGeom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980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537372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058560" y="-603720"/>
            <a:ext cx="6138360" cy="43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9" y="0"/>
                </a:moveTo>
                <a:arcTo wR="10800" hR="10800" stAng="-5428965" swAng="5428965"/>
                <a:lnTo>
                  <a:pt x="10800" y="10800"/>
                </a:lnTo>
                <a:close/>
              </a:path>
              <a:path fill="none" w="21600" h="21600">
                <a:moveTo>
                  <a:pt x="10709" y="0"/>
                </a:moveTo>
                <a:arcTo wR="10800" hR="10800" stAng="-5428965" swAng="5428965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57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1000" y="3357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2708280"/>
            <a:ext cx="5473800" cy="2952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268000" y="-80280"/>
            <a:ext cx="64000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144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2997360"/>
            <a:ext cx="5040360" cy="2663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339640" y="-369000"/>
            <a:ext cx="64000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4160" y="38606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407664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2560" y="396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907920"/>
            <a:ext cx="4392360" cy="214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pogoršanje uvjeta razm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promjena proizvo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efekt supstitu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efekt dohotk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e ukupno smanjenje potroš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70160" y="285264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27280" y="4508280"/>
            <a:ext cx="431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263700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851280" y="3284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5229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013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21:32Z</dcterms:created>
  <dc:creator>Mato Grgić</dc:creator>
  <dc:description/>
  <dc:language>en-US</dc:language>
  <cp:lastModifiedBy>Mato Grgić</cp:lastModifiedBy>
  <dcterms:modified xsi:type="dcterms:W3CDTF">2004-11-28T21:25:39Z</dcterms:modified>
  <cp:revision>4</cp:revision>
  <dc:subject/>
  <dc:title>UVJETI TRGOVINE</dc:title>
</cp:coreProperties>
</file>