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3BF1-0E08-4C71-8CF7-6BE50DA1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2675-2D73-467D-BFB6-9FECBB2C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B502-4EA9-43B9-B460-E0DB5443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5D26-78BB-48B3-AAE5-1ED155DA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1767-1DD5-4315-BC38-C0E71683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F643-5729-4A07-8C7A-A67BC86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C764-E989-4CB5-B455-23B7186F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BFB-12CB-40F2-8E0A-C8BED299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25F7-5E5A-488F-9045-794072A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51DC-A695-487F-B2F5-03B28152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0787-01E5-4F61-9DCD-B65DF1F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7078-D572-4D29-B121-DC2F95D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72D-75F0-44D1-B619-21DEA44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CF8-7CF7-4947-BED9-915F74A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519-B226-487C-9A9F-ED41000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2E5-E73C-462E-8B62-840167D3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B0A-3E94-4367-95E1-B2FFDF8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F020-DC3F-41DF-AF47-ED77F93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C481-7713-470A-8B77-6A4F922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02C4-D6E9-4E2A-904A-D9CC7DC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1B30-1BB3-4EEF-B5B6-F460D4E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FAC8-C711-4599-B8B8-97D49F7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950E-90BB-4EFA-BBE4-16269DA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BBEE-963C-4A17-8644-1BE5A46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FF29-6CC8-403B-8385-69BB303F2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F7D-A608-47A0-B497-17D968D9B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UTJECAJ CARINE NA UVJETE TRGOVI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30400" y="2742120"/>
            <a:ext cx="1901880" cy="304956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0880" y="2734920"/>
            <a:ext cx="7044120" cy="5768280"/>
            <a:chOff x="1820880" y="2734920"/>
            <a:chExt cx="7044120" cy="5768280"/>
          </a:xfrm>
        </p:grpSpPr>
        <p:sp>
          <p:nvSpPr>
            <p:cNvPr id="111" name=""/>
            <p:cNvSpPr/>
            <p:nvPr/>
          </p:nvSpPr>
          <p:spPr>
            <a:xfrm flipV="1" rot="10570800">
              <a:off x="1991160" y="2952000"/>
              <a:ext cx="670356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77" y="155"/>
                  </a:moveTo>
                  <a:arcTo wR="10800" hR="10800" stAng="-5983074" swAng="5983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77" y="155"/>
                  </a:moveTo>
                  <a:arcTo wR="10800" hR="10800" stAng="-5983074" swAng="598307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277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1582560" y="382320"/>
            <a:ext cx="6947280" cy="5640120"/>
            <a:chOff x="-1582560" y="382320"/>
            <a:chExt cx="6947280" cy="5640120"/>
          </a:xfrm>
        </p:grpSpPr>
        <p:sp>
          <p:nvSpPr>
            <p:cNvPr id="114" name=""/>
            <p:cNvSpPr/>
            <p:nvPr/>
          </p:nvSpPr>
          <p:spPr>
            <a:xfrm flipV="1" rot="21439200">
              <a:off x="-1461600" y="535680"/>
              <a:ext cx="6705360" cy="533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45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4530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9360" y="2208240"/>
              <a:ext cx="41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97000" y="2436840"/>
            <a:ext cx="2387880" cy="405720"/>
            <a:chOff x="5697000" y="2436840"/>
            <a:chExt cx="2387880" cy="405720"/>
          </a:xfrm>
        </p:grpSpPr>
        <p:sp>
          <p:nvSpPr>
            <p:cNvPr id="117" name=""/>
            <p:cNvSpPr/>
            <p:nvPr/>
          </p:nvSpPr>
          <p:spPr>
            <a:xfrm>
              <a:off x="6031080" y="2436840"/>
              <a:ext cx="205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Nagi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697000" y="2590920"/>
              <a:ext cx="3049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79640" y="2491920"/>
            <a:ext cx="3809880" cy="3352680"/>
            <a:chOff x="1979640" y="2491920"/>
            <a:chExt cx="3809880" cy="3352680"/>
          </a:xfrm>
        </p:grpSpPr>
        <p:sp>
          <p:nvSpPr>
            <p:cNvPr id="120" name=""/>
            <p:cNvSpPr/>
            <p:nvPr/>
          </p:nvSpPr>
          <p:spPr>
            <a:xfrm flipV="1">
              <a:off x="1979640" y="2491920"/>
              <a:ext cx="3809880" cy="335268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4960" y="2898720"/>
              <a:ext cx="82440" cy="8244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86600" y="2947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44880" y="2363760"/>
            <a:ext cx="2053800" cy="534960"/>
            <a:chOff x="2144880" y="2363760"/>
            <a:chExt cx="2053800" cy="534960"/>
          </a:xfrm>
        </p:grpSpPr>
        <p:sp>
          <p:nvSpPr>
            <p:cNvPr id="124" name=""/>
            <p:cNvSpPr/>
            <p:nvPr/>
          </p:nvSpPr>
          <p:spPr>
            <a:xfrm>
              <a:off x="2144880" y="2363760"/>
              <a:ext cx="205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Nagi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87680" y="274644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52800" y="380520"/>
            <a:ext cx="3543840" cy="5486040"/>
            <a:chOff x="352800" y="380520"/>
            <a:chExt cx="3543840" cy="5486040"/>
          </a:xfrm>
        </p:grpSpPr>
        <p:sp>
          <p:nvSpPr>
            <p:cNvPr id="127" name=""/>
            <p:cNvSpPr/>
            <p:nvPr/>
          </p:nvSpPr>
          <p:spPr>
            <a:xfrm flipV="1">
              <a:off x="352800" y="379800"/>
              <a:ext cx="319968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173040" y="2832120"/>
              <a:ext cx="723600" cy="2120760"/>
              <a:chOff x="3173040" y="2832120"/>
              <a:chExt cx="723600" cy="2120760"/>
            </a:xfrm>
          </p:grpSpPr>
          <p:sp>
            <p:nvSpPr>
              <p:cNvPr id="129" name=""/>
              <p:cNvSpPr/>
              <p:nvPr/>
            </p:nvSpPr>
            <p:spPr>
              <a:xfrm>
                <a:off x="3173040" y="2832120"/>
                <a:ext cx="41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3352680"/>
                <a:ext cx="82800" cy="82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84560" y="4724280"/>
                <a:ext cx="82440" cy="82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78520" y="458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89560" y="3351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0" y="1773360"/>
            <a:ext cx="8001000" cy="4451040"/>
            <a:chOff x="0" y="1773360"/>
            <a:chExt cx="8001000" cy="4451040"/>
          </a:xfrm>
        </p:grpSpPr>
        <p:sp>
          <p:nvSpPr>
            <p:cNvPr id="135" name=""/>
            <p:cNvSpPr/>
            <p:nvPr/>
          </p:nvSpPr>
          <p:spPr>
            <a:xfrm>
              <a:off x="3048120" y="58561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Proizvod  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62000" y="2450880"/>
              <a:ext cx="0" cy="34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962000" y="5891040"/>
              <a:ext cx="511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773360"/>
              <a:ext cx="38098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Proizvod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38080" y="5848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1908000" y="3357720"/>
            <a:ext cx="3311640" cy="7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42900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1664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79640" y="5157720"/>
            <a:ext cx="2952720" cy="7192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429000"/>
            <a:ext cx="144360" cy="208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ina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voznu ro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35772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4282560" y="4941720"/>
            <a:ext cx="217440" cy="1513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27640" y="5229000"/>
            <a:ext cx="172872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8160" y="4724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zvozna tak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rob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581360"/>
            <a:ext cx="295272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33:29Z</dcterms:created>
  <dc:creator>Mato Grgić</dc:creator>
  <dc:description/>
  <dc:language>en-US</dc:language>
  <cp:lastModifiedBy>Mato Grgić</cp:lastModifiedBy>
  <dcterms:modified xsi:type="dcterms:W3CDTF">2004-11-28T21:27:53Z</dcterms:modified>
  <cp:revision>3</cp:revision>
  <dc:subject/>
  <dc:title>UTJECAJ CARINE NA UVJETE TRGOVINE</dc:title>
</cp:coreProperties>
</file>