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E9F6-0ED0-4CB2-8720-BEA9F470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4EDC-DD03-4F21-A388-ABACF1AD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726D-03E1-4692-8F89-01BC2838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B2B3-25AB-4D2E-8770-5B8028B3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A26B-2A8E-48B2-9BDA-0EE50CA2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5872-EB5C-400B-A222-E74FE265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3099-6493-4276-B31C-F4B870A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1471-C33C-4966-9C3D-3FA44DA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5928-B2A4-44FE-AE34-A5ABE9C5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5E0D-B1BF-49DD-AFFB-8CE49B51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7C7-9410-4F41-A61A-F1B1D335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7D55-96E6-4E15-AAA9-26D9218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A69-97FF-4C6B-AD02-C04F5640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C936-B2E0-48BF-8E0F-E09B755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9F71-3A5B-4349-BE78-419CBBA0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BADF-C5BF-4BF0-AEB3-4A2863D1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D6BC-2BB6-48BB-8696-1C81D7B5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54A4-8103-4347-94FC-FF10E894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F4AD-253D-4E59-9A21-F395AE24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7AA8-DBFF-4E9E-A85D-F090E34B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1F52-277C-4095-854A-A7074537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EE6D-4BF3-4159-8EBA-9BB189F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CFE0-5537-4263-827E-E09B45FC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ED22-065E-4FD4-9C90-22C6341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217A-06FA-489C-909B-50FB1FCB4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BA3B-57B3-4380-8784-CA9ECB1FB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988640"/>
            <a:ext cx="590364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ffffff"/>
                </a:solidFill>
                <a:latin typeface="Arial"/>
              </a:rPr>
              <a:t>Ravnoteža u Heckscher-Ohlin modelu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jednačavanje relativnih cijena faktora kao posljedica vanjske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476360" y="1483920"/>
            <a:ext cx="0" cy="453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02136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31640" y="1700280"/>
            <a:ext cx="43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1700280"/>
            <a:ext cx="0" cy="446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332000" y="3213000"/>
            <a:ext cx="619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321300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76360" y="4436640"/>
            <a:ext cx="518328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59280" y="3213000"/>
            <a:ext cx="86364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58920" y="1700280"/>
            <a:ext cx="2665080" cy="381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4248000" cy="4321080"/>
          </a:xfrm>
          <a:custGeom>
            <a:avLst/>
            <a:gdLst/>
            <a:ahLst/>
            <a:rect l="l" t="t" r="r" b="b"/>
            <a:pathLst>
              <a:path w="2676" h="2722">
                <a:moveTo>
                  <a:pt x="2676" y="0"/>
                </a:moveTo>
                <a:cubicBezTo>
                  <a:pt x="2600" y="238"/>
                  <a:pt x="2525" y="477"/>
                  <a:pt x="2449" y="681"/>
                </a:cubicBezTo>
                <a:cubicBezTo>
                  <a:pt x="2373" y="885"/>
                  <a:pt x="2328" y="1044"/>
                  <a:pt x="2222" y="1225"/>
                </a:cubicBezTo>
                <a:cubicBezTo>
                  <a:pt x="2116" y="1406"/>
                  <a:pt x="1958" y="1610"/>
                  <a:pt x="1814" y="1769"/>
                </a:cubicBezTo>
                <a:cubicBezTo>
                  <a:pt x="1670" y="1928"/>
                  <a:pt x="1519" y="2057"/>
                  <a:pt x="1360" y="2178"/>
                </a:cubicBezTo>
                <a:cubicBezTo>
                  <a:pt x="1201" y="2299"/>
                  <a:pt x="982" y="2427"/>
                  <a:pt x="861" y="2495"/>
                </a:cubicBezTo>
                <a:cubicBezTo>
                  <a:pt x="740" y="2563"/>
                  <a:pt x="710" y="2563"/>
                  <a:pt x="635" y="2586"/>
                </a:cubicBezTo>
                <a:cubicBezTo>
                  <a:pt x="560" y="2609"/>
                  <a:pt x="468" y="2616"/>
                  <a:pt x="408" y="2631"/>
                </a:cubicBezTo>
                <a:cubicBezTo>
                  <a:pt x="348" y="2646"/>
                  <a:pt x="340" y="2662"/>
                  <a:pt x="272" y="2677"/>
                </a:cubicBezTo>
                <a:cubicBezTo>
                  <a:pt x="204" y="2692"/>
                  <a:pt x="45" y="2722"/>
                  <a:pt x="0" y="272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213000"/>
            <a:ext cx="6048360" cy="2808360"/>
          </a:xfrm>
          <a:custGeom>
            <a:avLst/>
            <a:gdLst/>
            <a:ahLst/>
            <a:rect l="l" t="t" r="r" b="b"/>
            <a:pathLst>
              <a:path w="3810" h="1769">
                <a:moveTo>
                  <a:pt x="3810" y="0"/>
                </a:moveTo>
                <a:cubicBezTo>
                  <a:pt x="3757" y="121"/>
                  <a:pt x="3704" y="242"/>
                  <a:pt x="3628" y="363"/>
                </a:cubicBezTo>
                <a:cubicBezTo>
                  <a:pt x="3552" y="484"/>
                  <a:pt x="3469" y="628"/>
                  <a:pt x="3356" y="726"/>
                </a:cubicBezTo>
                <a:cubicBezTo>
                  <a:pt x="3243" y="824"/>
                  <a:pt x="3076" y="884"/>
                  <a:pt x="2948" y="952"/>
                </a:cubicBezTo>
                <a:cubicBezTo>
                  <a:pt x="2820" y="1020"/>
                  <a:pt x="2767" y="1066"/>
                  <a:pt x="2585" y="1134"/>
                </a:cubicBezTo>
                <a:cubicBezTo>
                  <a:pt x="2403" y="1202"/>
                  <a:pt x="2078" y="1293"/>
                  <a:pt x="1859" y="1361"/>
                </a:cubicBezTo>
                <a:cubicBezTo>
                  <a:pt x="1640" y="1429"/>
                  <a:pt x="1459" y="1489"/>
                  <a:pt x="1270" y="1542"/>
                </a:cubicBezTo>
                <a:cubicBezTo>
                  <a:pt x="1081" y="1595"/>
                  <a:pt x="899" y="1648"/>
                  <a:pt x="725" y="1678"/>
                </a:cubicBezTo>
                <a:cubicBezTo>
                  <a:pt x="551" y="1708"/>
                  <a:pt x="347" y="1709"/>
                  <a:pt x="226" y="1724"/>
                </a:cubicBezTo>
                <a:cubicBezTo>
                  <a:pt x="105" y="1739"/>
                  <a:pt x="30" y="1769"/>
                  <a:pt x="0" y="1769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99160" y="4365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515772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501336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47800" y="429264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5950080"/>
            <a:ext cx="2303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roba X u obje zeml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36880" y="292428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Y u zemlji 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57120" y="141300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roba Y u zemlji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7920" y="6165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9520" y="3714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k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651640" y="4652640"/>
            <a:ext cx="1008000" cy="5763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276360" y="4653000"/>
            <a:ext cx="86364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360" y="3213000"/>
            <a:ext cx="1942920" cy="180036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76360" y="5013360"/>
            <a:ext cx="4032360" cy="10080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76360" y="4436640"/>
            <a:ext cx="2951280" cy="158436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427640" y="1700280"/>
            <a:ext cx="1296720" cy="273672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4292640"/>
            <a:ext cx="144360" cy="14436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4365720"/>
            <a:ext cx="144720" cy="14436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5445000"/>
            <a:ext cx="144360" cy="14472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4941720"/>
            <a:ext cx="144360" cy="14472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2771640" y="54900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54936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92720" y="549360"/>
            <a:ext cx="712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71640" y="3357720"/>
            <a:ext cx="432144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093080" y="1916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916280"/>
            <a:ext cx="432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43280" y="2565000"/>
            <a:ext cx="388944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1915920"/>
            <a:ext cx="36036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635280" y="549000"/>
            <a:ext cx="1728720" cy="26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3080" y="2349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12000" y="2204640"/>
            <a:ext cx="1224000" cy="863640"/>
          </a:xfrm>
          <a:prstGeom prst="line">
            <a:avLst/>
          </a:prstGeom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32000" y="2637000"/>
            <a:ext cx="1511280" cy="865080"/>
          </a:xfrm>
          <a:prstGeom prst="line">
            <a:avLst/>
          </a:prstGeom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860640"/>
            <a:ext cx="0" cy="22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609300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4005360"/>
            <a:ext cx="2376360" cy="187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860640"/>
            <a:ext cx="1368360" cy="172908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4797360"/>
            <a:ext cx="2016360" cy="8636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213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19280" y="3213000"/>
            <a:ext cx="215640" cy="115272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708000" y="2781360"/>
            <a:ext cx="576360" cy="187164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27280" y="2924280"/>
            <a:ext cx="1368360" cy="223344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59280" y="2565360"/>
            <a:ext cx="1873440" cy="287964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1916280"/>
            <a:ext cx="4321440" cy="1512720"/>
          </a:xfrm>
          <a:custGeom>
            <a:avLst/>
            <a:gdLst/>
            <a:ahLst/>
            <a:rect l="l" t="t" r="r" b="b"/>
            <a:pathLst>
              <a:path w="2767" h="953">
                <a:moveTo>
                  <a:pt x="2767" y="0"/>
                </a:moveTo>
                <a:cubicBezTo>
                  <a:pt x="2755" y="95"/>
                  <a:pt x="2744" y="190"/>
                  <a:pt x="2676" y="273"/>
                </a:cubicBezTo>
                <a:cubicBezTo>
                  <a:pt x="2608" y="356"/>
                  <a:pt x="2486" y="439"/>
                  <a:pt x="2358" y="499"/>
                </a:cubicBezTo>
                <a:cubicBezTo>
                  <a:pt x="2230" y="559"/>
                  <a:pt x="2147" y="575"/>
                  <a:pt x="1905" y="635"/>
                </a:cubicBezTo>
                <a:cubicBezTo>
                  <a:pt x="1663" y="695"/>
                  <a:pt x="1224" y="809"/>
                  <a:pt x="907" y="862"/>
                </a:cubicBezTo>
                <a:cubicBezTo>
                  <a:pt x="590" y="915"/>
                  <a:pt x="144" y="930"/>
                  <a:pt x="0" y="953"/>
                </a:cubicBezTo>
              </a:path>
            </a:pathLst>
          </a:custGeom>
          <a:noFill/>
          <a:ln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71640" y="549360"/>
            <a:ext cx="2592360" cy="2879640"/>
          </a:xfrm>
          <a:custGeom>
            <a:avLst/>
            <a:gdLst/>
            <a:ahLst/>
            <a:rect l="l" t="t" r="r" b="b"/>
            <a:pathLst>
              <a:path w="1633" h="1822">
                <a:moveTo>
                  <a:pt x="1633" y="0"/>
                </a:moveTo>
                <a:cubicBezTo>
                  <a:pt x="1587" y="140"/>
                  <a:pt x="1542" y="280"/>
                  <a:pt x="1497" y="408"/>
                </a:cubicBezTo>
                <a:cubicBezTo>
                  <a:pt x="1452" y="536"/>
                  <a:pt x="1429" y="635"/>
                  <a:pt x="1361" y="771"/>
                </a:cubicBezTo>
                <a:cubicBezTo>
                  <a:pt x="1293" y="907"/>
                  <a:pt x="1172" y="1111"/>
                  <a:pt x="1089" y="1224"/>
                </a:cubicBezTo>
                <a:cubicBezTo>
                  <a:pt x="1006" y="1337"/>
                  <a:pt x="975" y="1360"/>
                  <a:pt x="862" y="1451"/>
                </a:cubicBezTo>
                <a:cubicBezTo>
                  <a:pt x="749" y="1542"/>
                  <a:pt x="552" y="1716"/>
                  <a:pt x="408" y="1769"/>
                </a:cubicBezTo>
                <a:cubicBezTo>
                  <a:pt x="264" y="1822"/>
                  <a:pt x="132" y="1795"/>
                  <a:pt x="0" y="1769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744400">
            <a:off x="3564000" y="3725640"/>
            <a:ext cx="1811160" cy="17906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44400">
            <a:off x="3708000" y="3716280"/>
            <a:ext cx="1800360" cy="16574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61560" y="4941720"/>
            <a:ext cx="4187520" cy="240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286" swAng="564637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286" swAng="5646377"/>
              </a:path>
            </a:pathLst>
          </a:custGeom>
          <a:noFill/>
          <a:ln cap="rnd"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08640"/>
            <a:ext cx="8964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rafička ilustracija Heckscher-Ohlin teo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10480" y="4365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6480" y="29242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73760" y="2421000"/>
            <a:ext cx="3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6120" y="4581360"/>
            <a:ext cx="3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0920" y="51577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3640" y="285264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92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95200" y="256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78960" y="5899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5360" y="32130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32240" y="16286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76240" y="33336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88400" y="609300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oba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3789360"/>
            <a:ext cx="9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oba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48560" y="6093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0560" y="47242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3840" y="60930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Book Antiqu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2560" y="4076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Book Antiqu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02120" y="162864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Zemlj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99760" y="3333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Zemlja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2028960" y="16790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k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7640" y="3429000"/>
            <a:ext cx="49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260280"/>
            <a:ext cx="49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6993720" y="243936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k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76400" y="515772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I</a:t>
            </a:r>
            <a:r>
              <a:rPr b="0" lang="en-US" sz="1200" spc="-1" strike="noStrike">
                <a:solidFill>
                  <a:srgbClr val="666699"/>
                </a:solidFill>
                <a:latin typeface="Book Antiqu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0760" y="486900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9880" y="55166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p</a:t>
            </a:r>
            <a:r>
              <a:rPr b="0" lang="en-US" sz="1200" spc="-1" strike="noStrike">
                <a:solidFill>
                  <a:srgbClr val="666699"/>
                </a:solidFill>
                <a:latin typeface="Book Antiqu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2560" y="551664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Book Antiqua"/>
              </a:rPr>
              <a:t>p</a:t>
            </a:r>
            <a:r>
              <a:rPr b="0" lang="en-US" sz="1200" spc="-1" strike="noStrike">
                <a:solidFill>
                  <a:srgbClr val="ff9900"/>
                </a:solidFill>
                <a:latin typeface="Book Antiqu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90920" y="573408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0" lang="hr-HR" sz="1200" spc="-1" strike="noStrike">
                <a:solidFill>
                  <a:srgbClr val="ff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71640" y="2708280"/>
            <a:ext cx="151308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84720" y="549000"/>
            <a:ext cx="1079280" cy="2158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71640" y="2852280"/>
            <a:ext cx="3095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1916280"/>
            <a:ext cx="129708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6280" y="45813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3240" y="32130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Zemlja A i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9564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2637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249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299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14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4941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234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22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4437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1640" y="4184640"/>
            <a:ext cx="1368720" cy="1908360"/>
          </a:xfrm>
          <a:custGeom>
            <a:avLst/>
            <a:gdLst/>
            <a:ahLst/>
            <a:rect l="l" t="t" r="r" b="b"/>
            <a:pathLst>
              <a:path w="862" h="1202">
                <a:moveTo>
                  <a:pt x="0" y="23"/>
                </a:moveTo>
                <a:cubicBezTo>
                  <a:pt x="52" y="11"/>
                  <a:pt x="105" y="0"/>
                  <a:pt x="181" y="23"/>
                </a:cubicBezTo>
                <a:cubicBezTo>
                  <a:pt x="257" y="46"/>
                  <a:pt x="363" y="76"/>
                  <a:pt x="454" y="159"/>
                </a:cubicBezTo>
                <a:cubicBezTo>
                  <a:pt x="545" y="242"/>
                  <a:pt x="658" y="348"/>
                  <a:pt x="726" y="522"/>
                </a:cubicBezTo>
                <a:cubicBezTo>
                  <a:pt x="794" y="696"/>
                  <a:pt x="839" y="1096"/>
                  <a:pt x="862" y="120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7:18:21Z</dcterms:created>
  <dc:creator>Mato Grgić</dc:creator>
  <dc:description/>
  <dc:language>en-US</dc:language>
  <cp:lastModifiedBy>Mato Grgić</cp:lastModifiedBy>
  <dcterms:modified xsi:type="dcterms:W3CDTF">2004-11-28T21:26:15Z</dcterms:modified>
  <cp:revision>2</cp:revision>
  <dc:subject/>
  <dc:title>Ravnoteža u Heckscher-Ohlin modelu</dc:title>
</cp:coreProperties>
</file>