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3B569-8F12-4EF4-A4F4-71B46A44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9E51-1A3F-492C-A467-5E49E8B6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66EC-7613-41AB-BD6A-939BBA64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419FC-3C23-4792-A84D-8E0D2774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2C69-B56A-437A-AAB0-2B115FE6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5059-056A-445A-A649-AA3EFCE5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AC88-211C-4678-A073-6FBC6531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697B-CFD1-41FB-BA12-5DA9CC40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65C7-AB63-46CF-92AE-BE994081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04C9-B25C-4877-9479-4DDD1861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F170-4AE0-4724-8A52-86E2335F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2E91-F87F-4094-B06E-18F02293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0818-41A3-4438-B59C-66F33D01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48ED-E18C-4935-B3F1-1A09C3D2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C341-2F85-440E-BF73-E2CD2C67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B332-6007-456F-AC9D-009269BF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73B0-3770-4EB9-A7AC-C9F3CC2D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9E2C4-9141-4B9D-BBD1-9041B078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9260-AF9B-4637-AF05-A1F637E7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B11DF-C432-4CF0-B6EB-EB2E607B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D893-4561-4135-92DD-32A2C4F9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DA98-ACEE-4254-9EFB-B8E373F0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6445-FE9E-457A-A30D-68A59FF9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F012-6009-4BA2-8BA0-807A58E3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BCAB-336E-4E0C-8F03-A116A484AF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87D4-47B0-4ABD-BCB8-3287B7EF61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RAVNOTEŽA PODZAPOSLENOSTI I IZVOZNA POLITIK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71640" y="549360"/>
            <a:ext cx="60483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lgoritam uspostave tržišne ravnoteže </a:t>
            </a: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 hrvatskim prilikama podzaposl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620640"/>
            <a:ext cx="32040" cy="555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219320" y="6165720"/>
            <a:ext cx="659268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4508640"/>
            <a:ext cx="669780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213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40759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44240" y="616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5800" y="5482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400536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256536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2565360"/>
            <a:ext cx="71280" cy="360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4508640"/>
            <a:ext cx="71640" cy="1657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549360"/>
            <a:ext cx="2879640" cy="540072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2637000"/>
            <a:ext cx="1655640" cy="32400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2276640"/>
            <a:ext cx="1944720" cy="36734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1197000"/>
            <a:ext cx="5832720" cy="3313080"/>
          </a:xfrm>
          <a:custGeom>
            <a:avLst/>
            <a:gdLst/>
            <a:ahLst/>
            <a:rect l="l" t="t" r="r" b="b"/>
            <a:pathLst>
              <a:path w="3530" h="2056">
                <a:moveTo>
                  <a:pt x="0" y="0"/>
                </a:moveTo>
                <a:cubicBezTo>
                  <a:pt x="52" y="223"/>
                  <a:pt x="105" y="446"/>
                  <a:pt x="181" y="635"/>
                </a:cubicBezTo>
                <a:cubicBezTo>
                  <a:pt x="257" y="824"/>
                  <a:pt x="340" y="953"/>
                  <a:pt x="453" y="1134"/>
                </a:cubicBezTo>
                <a:cubicBezTo>
                  <a:pt x="566" y="1315"/>
                  <a:pt x="733" y="1588"/>
                  <a:pt x="862" y="1724"/>
                </a:cubicBezTo>
                <a:cubicBezTo>
                  <a:pt x="991" y="1860"/>
                  <a:pt x="1074" y="1898"/>
                  <a:pt x="1225" y="1951"/>
                </a:cubicBezTo>
                <a:cubicBezTo>
                  <a:pt x="1376" y="2004"/>
                  <a:pt x="1626" y="2026"/>
                  <a:pt x="1769" y="2041"/>
                </a:cubicBezTo>
                <a:cubicBezTo>
                  <a:pt x="1912" y="2056"/>
                  <a:pt x="1829" y="2041"/>
                  <a:pt x="2086" y="2041"/>
                </a:cubicBezTo>
                <a:cubicBezTo>
                  <a:pt x="2343" y="2041"/>
                  <a:pt x="3092" y="2041"/>
                  <a:pt x="3311" y="2041"/>
                </a:cubicBezTo>
                <a:cubicBezTo>
                  <a:pt x="3530" y="2041"/>
                  <a:pt x="3387" y="2048"/>
                  <a:pt x="3402" y="2041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4005360"/>
            <a:ext cx="71640" cy="216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8000" y="1484280"/>
            <a:ext cx="5977080" cy="3384720"/>
          </a:xfrm>
          <a:custGeom>
            <a:avLst/>
            <a:gdLst/>
            <a:ahLst/>
            <a:rect l="l" t="t" r="r" b="b"/>
            <a:pathLst>
              <a:path w="3530" h="2056">
                <a:moveTo>
                  <a:pt x="0" y="0"/>
                </a:moveTo>
                <a:cubicBezTo>
                  <a:pt x="52" y="223"/>
                  <a:pt x="105" y="446"/>
                  <a:pt x="181" y="635"/>
                </a:cubicBezTo>
                <a:cubicBezTo>
                  <a:pt x="257" y="824"/>
                  <a:pt x="340" y="953"/>
                  <a:pt x="453" y="1134"/>
                </a:cubicBezTo>
                <a:cubicBezTo>
                  <a:pt x="566" y="1315"/>
                  <a:pt x="733" y="1588"/>
                  <a:pt x="862" y="1724"/>
                </a:cubicBezTo>
                <a:cubicBezTo>
                  <a:pt x="991" y="1860"/>
                  <a:pt x="1074" y="1898"/>
                  <a:pt x="1225" y="1951"/>
                </a:cubicBezTo>
                <a:cubicBezTo>
                  <a:pt x="1376" y="2004"/>
                  <a:pt x="1626" y="2026"/>
                  <a:pt x="1769" y="2041"/>
                </a:cubicBezTo>
                <a:cubicBezTo>
                  <a:pt x="1912" y="2056"/>
                  <a:pt x="1829" y="2041"/>
                  <a:pt x="2086" y="2041"/>
                </a:cubicBezTo>
                <a:cubicBezTo>
                  <a:pt x="2343" y="2041"/>
                  <a:pt x="3092" y="2041"/>
                  <a:pt x="3311" y="2041"/>
                </a:cubicBezTo>
                <a:cubicBezTo>
                  <a:pt x="3530" y="2041"/>
                  <a:pt x="3387" y="2048"/>
                  <a:pt x="3402" y="2041"/>
                </a:cubicBez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1844640"/>
            <a:ext cx="6337440" cy="3456000"/>
          </a:xfrm>
          <a:custGeom>
            <a:avLst/>
            <a:gdLst/>
            <a:ahLst/>
            <a:rect l="l" t="t" r="r" b="b"/>
            <a:pathLst>
              <a:path w="3530" h="2056">
                <a:moveTo>
                  <a:pt x="0" y="0"/>
                </a:moveTo>
                <a:cubicBezTo>
                  <a:pt x="52" y="223"/>
                  <a:pt x="105" y="446"/>
                  <a:pt x="181" y="635"/>
                </a:cubicBezTo>
                <a:cubicBezTo>
                  <a:pt x="257" y="824"/>
                  <a:pt x="340" y="953"/>
                  <a:pt x="453" y="1134"/>
                </a:cubicBezTo>
                <a:cubicBezTo>
                  <a:pt x="566" y="1315"/>
                  <a:pt x="733" y="1588"/>
                  <a:pt x="862" y="1724"/>
                </a:cubicBezTo>
                <a:cubicBezTo>
                  <a:pt x="991" y="1860"/>
                  <a:pt x="1074" y="1898"/>
                  <a:pt x="1225" y="1951"/>
                </a:cubicBezTo>
                <a:cubicBezTo>
                  <a:pt x="1376" y="2004"/>
                  <a:pt x="1626" y="2026"/>
                  <a:pt x="1769" y="2041"/>
                </a:cubicBezTo>
                <a:cubicBezTo>
                  <a:pt x="1912" y="2056"/>
                  <a:pt x="1829" y="2041"/>
                  <a:pt x="2086" y="2041"/>
                </a:cubicBezTo>
                <a:cubicBezTo>
                  <a:pt x="2343" y="2041"/>
                  <a:pt x="3092" y="2041"/>
                  <a:pt x="3311" y="2041"/>
                </a:cubicBezTo>
                <a:cubicBezTo>
                  <a:pt x="3530" y="2041"/>
                  <a:pt x="3387" y="2048"/>
                  <a:pt x="3402" y="2041"/>
                </a:cubicBez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85360" y="6195240"/>
            <a:ext cx="4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17560" y="6195240"/>
            <a:ext cx="4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06440" y="6195240"/>
            <a:ext cx="4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62200" y="609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24912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548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48360" y="45079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20000" y="494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76120" y="6195240"/>
            <a:ext cx="4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40042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5440" y="3643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5800" y="21326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43646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4435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67640" y="421992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29156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275560"/>
            <a:ext cx="8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37152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5229360"/>
            <a:ext cx="27370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508464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7232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012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5080" y="4651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36720" y="51566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5229360"/>
            <a:ext cx="71640" cy="93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9:05:21Z</dcterms:created>
  <dc:creator>Mato Grgić</dc:creator>
  <dc:description/>
  <dc:language>en-US</dc:language>
  <cp:lastModifiedBy>Mato Grgić</cp:lastModifiedBy>
  <dcterms:modified xsi:type="dcterms:W3CDTF">2004-11-28T21:31:17Z</dcterms:modified>
  <cp:revision>4</cp:revision>
  <dc:subject/>
  <dc:title>Slide 1</dc:title>
</cp:coreProperties>
</file>