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498F-3C2D-4D26-B444-7F57D09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BC1B-5772-4CA0-BD07-D04324FA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B967-612A-45D4-8EE8-71A298DD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E0FE-1F96-4BE3-8DB9-F30D011D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8F7-B130-483B-9D88-24A07203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E303-E130-4761-8A1D-087FFCCC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E23F-DC78-4662-8952-8A527A57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531-BD18-426A-B2F0-EA192AC3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D8C2-1DCE-4AFC-86D2-DA717B4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A2F4-6353-4810-977D-F6FD6742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C057-1255-47A2-93BE-E81F4BF4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D669-B60F-493D-9A5B-9761B0D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B81C-FA8D-4700-AC09-2F8AEDFD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B0E4-8284-4F5A-BAA9-DA301DC3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9B8A-EEFD-49B4-B9C6-98D1249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B345-B991-415F-B406-588796CA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3B3-F343-4C53-83B1-8E1E5E8B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E69C-7368-45FB-BA4F-B6F8B15F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944C-859D-4064-8D2A-2525BD4E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0AAB-EE49-4E49-AC15-E210D8C5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43E5-BD3D-4193-A7FD-0E061A2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4745-CBBF-4E07-9DDF-15DC175D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285A-92B3-44E1-AF53-726986D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B072-BCC8-4BEF-A6A0-5C0DC70E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C695-EF38-40C2-8683-E64480517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3FB0-A7EE-4B35-A450-3E979E726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AVNOTEŽA PODZAPOSLENOSTI I IZVOZNA POLITIK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71640" y="549360"/>
            <a:ext cx="604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lgoritam uspostave tržišne ravnoteže </a:t>
            </a: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hrvatskim prilikama podzaposl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620640"/>
            <a:ext cx="32040" cy="555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19320" y="6165720"/>
            <a:ext cx="65926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4508640"/>
            <a:ext cx="66978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213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4075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44240" y="616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5800" y="5482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400536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2565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2565360"/>
            <a:ext cx="7128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4508640"/>
            <a:ext cx="71640" cy="1657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49360"/>
            <a:ext cx="2879640" cy="5400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637000"/>
            <a:ext cx="1655640" cy="3240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1280" y="2276640"/>
            <a:ext cx="1944720" cy="3673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1197000"/>
            <a:ext cx="5832720" cy="3313080"/>
          </a:xfrm>
          <a:custGeom>
            <a:avLst/>
            <a:gdLst/>
            <a:ahLst/>
            <a:rect l="l" t="t" r="r" b="b"/>
            <a:pathLst>
              <a:path w="3530" h="2056">
                <a:moveTo>
                  <a:pt x="0" y="0"/>
                </a:moveTo>
                <a:cubicBezTo>
                  <a:pt x="52" y="223"/>
                  <a:pt x="105" y="446"/>
                  <a:pt x="181" y="635"/>
                </a:cubicBezTo>
                <a:cubicBezTo>
                  <a:pt x="257" y="824"/>
                  <a:pt x="340" y="953"/>
                  <a:pt x="453" y="1134"/>
                </a:cubicBezTo>
                <a:cubicBezTo>
                  <a:pt x="566" y="1315"/>
                  <a:pt x="733" y="1588"/>
                  <a:pt x="862" y="1724"/>
                </a:cubicBezTo>
                <a:cubicBezTo>
                  <a:pt x="991" y="1860"/>
                  <a:pt x="1074" y="1898"/>
                  <a:pt x="1225" y="1951"/>
                </a:cubicBezTo>
                <a:cubicBezTo>
                  <a:pt x="1376" y="2004"/>
                  <a:pt x="1626" y="2026"/>
                  <a:pt x="1769" y="2041"/>
                </a:cubicBezTo>
                <a:cubicBezTo>
                  <a:pt x="1912" y="2056"/>
                  <a:pt x="1829" y="2041"/>
                  <a:pt x="2086" y="2041"/>
                </a:cubicBezTo>
                <a:cubicBezTo>
                  <a:pt x="2343" y="2041"/>
                  <a:pt x="3092" y="2041"/>
                  <a:pt x="3311" y="2041"/>
                </a:cubicBezTo>
                <a:cubicBezTo>
                  <a:pt x="3530" y="2041"/>
                  <a:pt x="3387" y="2048"/>
                  <a:pt x="3402" y="2041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4005360"/>
            <a:ext cx="71640" cy="21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0" y="1484280"/>
            <a:ext cx="5977080" cy="3384720"/>
          </a:xfrm>
          <a:custGeom>
            <a:avLst/>
            <a:gdLst/>
            <a:ahLst/>
            <a:rect l="l" t="t" r="r" b="b"/>
            <a:pathLst>
              <a:path w="3530" h="2056">
                <a:moveTo>
                  <a:pt x="0" y="0"/>
                </a:moveTo>
                <a:cubicBezTo>
                  <a:pt x="52" y="223"/>
                  <a:pt x="105" y="446"/>
                  <a:pt x="181" y="635"/>
                </a:cubicBezTo>
                <a:cubicBezTo>
                  <a:pt x="257" y="824"/>
                  <a:pt x="340" y="953"/>
                  <a:pt x="453" y="1134"/>
                </a:cubicBezTo>
                <a:cubicBezTo>
                  <a:pt x="566" y="1315"/>
                  <a:pt x="733" y="1588"/>
                  <a:pt x="862" y="1724"/>
                </a:cubicBezTo>
                <a:cubicBezTo>
                  <a:pt x="991" y="1860"/>
                  <a:pt x="1074" y="1898"/>
                  <a:pt x="1225" y="1951"/>
                </a:cubicBezTo>
                <a:cubicBezTo>
                  <a:pt x="1376" y="2004"/>
                  <a:pt x="1626" y="2026"/>
                  <a:pt x="1769" y="2041"/>
                </a:cubicBezTo>
                <a:cubicBezTo>
                  <a:pt x="1912" y="2056"/>
                  <a:pt x="1829" y="2041"/>
                  <a:pt x="2086" y="2041"/>
                </a:cubicBezTo>
                <a:cubicBezTo>
                  <a:pt x="2343" y="2041"/>
                  <a:pt x="3092" y="2041"/>
                  <a:pt x="3311" y="2041"/>
                </a:cubicBezTo>
                <a:cubicBezTo>
                  <a:pt x="3530" y="2041"/>
                  <a:pt x="3387" y="2048"/>
                  <a:pt x="3402" y="2041"/>
                </a:cubicBez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1844640"/>
            <a:ext cx="6337440" cy="3456000"/>
          </a:xfrm>
          <a:custGeom>
            <a:avLst/>
            <a:gdLst/>
            <a:ahLst/>
            <a:rect l="l" t="t" r="r" b="b"/>
            <a:pathLst>
              <a:path w="3530" h="2056">
                <a:moveTo>
                  <a:pt x="0" y="0"/>
                </a:moveTo>
                <a:cubicBezTo>
                  <a:pt x="52" y="223"/>
                  <a:pt x="105" y="446"/>
                  <a:pt x="181" y="635"/>
                </a:cubicBezTo>
                <a:cubicBezTo>
                  <a:pt x="257" y="824"/>
                  <a:pt x="340" y="953"/>
                  <a:pt x="453" y="1134"/>
                </a:cubicBezTo>
                <a:cubicBezTo>
                  <a:pt x="566" y="1315"/>
                  <a:pt x="733" y="1588"/>
                  <a:pt x="862" y="1724"/>
                </a:cubicBezTo>
                <a:cubicBezTo>
                  <a:pt x="991" y="1860"/>
                  <a:pt x="1074" y="1898"/>
                  <a:pt x="1225" y="1951"/>
                </a:cubicBezTo>
                <a:cubicBezTo>
                  <a:pt x="1376" y="2004"/>
                  <a:pt x="1626" y="2026"/>
                  <a:pt x="1769" y="2041"/>
                </a:cubicBezTo>
                <a:cubicBezTo>
                  <a:pt x="1912" y="2056"/>
                  <a:pt x="1829" y="2041"/>
                  <a:pt x="2086" y="2041"/>
                </a:cubicBezTo>
                <a:cubicBezTo>
                  <a:pt x="2343" y="2041"/>
                  <a:pt x="3092" y="2041"/>
                  <a:pt x="3311" y="2041"/>
                </a:cubicBezTo>
                <a:cubicBezTo>
                  <a:pt x="3530" y="2041"/>
                  <a:pt x="3387" y="2048"/>
                  <a:pt x="3402" y="2041"/>
                </a:cubicBezTo>
              </a:path>
            </a:pathLst>
          </a:custGeom>
          <a:noFill/>
          <a:ln w="284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8536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756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0644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2200" y="609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2491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54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450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494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76120" y="6195240"/>
            <a:ext cx="4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40042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5440" y="3643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5800" y="21326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436464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4435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7640" y="42199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29156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275560"/>
            <a:ext cx="8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7152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5229360"/>
            <a:ext cx="27370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0846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7232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2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5080" y="4651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6720" y="51566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229360"/>
            <a:ext cx="71640" cy="93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9:05:21Z</dcterms:created>
  <dc:creator>Mato Grgić</dc:creator>
  <dc:description/>
  <dc:language>en-US</dc:language>
  <cp:lastModifiedBy>Mato Grgić</cp:lastModifiedBy>
  <dcterms:modified xsi:type="dcterms:W3CDTF">2004-11-28T21:31:17Z</dcterms:modified>
  <cp:revision>4</cp:revision>
  <dc:subject/>
  <dc:title>Slide 1</dc:title>
</cp:coreProperties>
</file>