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50BB97-8E8D-4755-9C4F-41D75C1DC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383678-7B91-472F-B3CD-595F35B12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0173D6-D8A7-4A50-BBCB-E230B3B14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792D13-51AD-4A3D-9E6B-9AF52EFB8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EABF7-8B31-4A04-8ED9-EA1036E7F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7AD79-BE9E-4A6E-8070-1A3AF3ED2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6358A-2634-4DD2-A6F2-56BA44B1D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823AC-48F9-40B2-96AF-F9D189254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C6C3B-B212-4083-9042-168A60CC1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34C4F-B8A4-4C77-A38A-03F95460C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942BB-16F3-4A39-968C-D0A1F3F7A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2B841A-5C3B-40BE-8AA1-767AB2DB3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1CD5E-7E3E-4902-9F4D-74378C9B0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BE21E-17AE-4705-9028-6D0FEE7FC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124F4-C90B-4F90-944B-E11470392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087B4-5816-4AD7-8370-A3E8340E2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81CA0-FB3C-4E93-8F27-FA98FA562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76410D-77BD-406E-A662-6E3432A97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8DCD49-387F-4BF3-A463-0EC90253D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DB0797-88DF-40A5-A085-60C9C1E46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F15783-14E4-4B12-AD2C-6826718FF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F1E520-384C-4ACA-B637-6B13D9CBE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02BAB4-61FC-4371-AB7F-B56C7B163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E765A6-0FFB-42A0-9AFE-20F8BC24D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D72AF-CFCD-4D91-95D9-656884B102C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C239B-D65D-4519-A9D0-53C9BCCA98E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440" y="1828800"/>
            <a:ext cx="61722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Arial"/>
              </a:rPr>
              <a:t>UTJECAJ CARINE NA UVJETE TRGOVINE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828036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Utjecaj carine na uvjete trgov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2030400" y="2742120"/>
            <a:ext cx="1901880" cy="3049560"/>
          </a:xfrm>
          <a:prstGeom prst="line">
            <a:avLst/>
          </a:prstGeom>
          <a:ln w="381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820880" y="2734920"/>
            <a:ext cx="7044120" cy="5768280"/>
            <a:chOff x="1820880" y="2734920"/>
            <a:chExt cx="7044120" cy="5768280"/>
          </a:xfrm>
        </p:grpSpPr>
        <p:sp>
          <p:nvSpPr>
            <p:cNvPr id="111" name=""/>
            <p:cNvSpPr/>
            <p:nvPr/>
          </p:nvSpPr>
          <p:spPr>
            <a:xfrm flipV="1" rot="10570800">
              <a:off x="1991160" y="2952000"/>
              <a:ext cx="6703560" cy="5333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8977" y="155"/>
                  </a:moveTo>
                  <a:arcTo wR="10800" hR="10800" stAng="-5983074" swAng="5983074"/>
                  <a:lnTo>
                    <a:pt x="10800" y="10800"/>
                  </a:lnTo>
                  <a:close/>
                </a:path>
                <a:path fill="none" w="21600" h="21600">
                  <a:moveTo>
                    <a:pt x="8977" y="155"/>
                  </a:moveTo>
                  <a:arcTo wR="10800" hR="10800" stAng="-5983074" swAng="5983074"/>
                </a:path>
              </a:pathLst>
            </a:custGeom>
            <a:noFill/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764320" y="277956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hr-HR" sz="1800" spc="-1" strike="noStrike">
                  <a:solidFill>
                    <a:srgbClr val="ff99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-1582560" y="382320"/>
            <a:ext cx="6947280" cy="5640120"/>
            <a:chOff x="-1582560" y="382320"/>
            <a:chExt cx="6947280" cy="5640120"/>
          </a:xfrm>
        </p:grpSpPr>
        <p:sp>
          <p:nvSpPr>
            <p:cNvPr id="114" name=""/>
            <p:cNvSpPr/>
            <p:nvPr/>
          </p:nvSpPr>
          <p:spPr>
            <a:xfrm flipV="1" rot="21439200">
              <a:off x="-1461600" y="535680"/>
              <a:ext cx="6705360" cy="5332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6145305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6145305"/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79360" y="2208240"/>
              <a:ext cx="41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hr-HR" sz="18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r>
                <a:rPr b="1" lang="en-US" sz="1800" spc="-1" strike="noStrike" baseline="30000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5697000" y="2436840"/>
            <a:ext cx="2387880" cy="405720"/>
            <a:chOff x="5697000" y="2436840"/>
            <a:chExt cx="2387880" cy="405720"/>
          </a:xfrm>
        </p:grpSpPr>
        <p:sp>
          <p:nvSpPr>
            <p:cNvPr id="117" name=""/>
            <p:cNvSpPr/>
            <p:nvPr/>
          </p:nvSpPr>
          <p:spPr>
            <a:xfrm>
              <a:off x="6031080" y="2436840"/>
              <a:ext cx="20538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800" spc="-1" strike="noStrike">
                  <a:solidFill>
                    <a:srgbClr val="000000"/>
                  </a:solidFill>
                  <a:latin typeface="Arial"/>
                </a:rPr>
                <a:t>Nagib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=  (</a:t>
              </a: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*</a:t>
              </a:r>
              <a:r>
                <a:rPr b="1" i="1" lang="hr-HR" sz="1800" spc="-1" strike="noStrike" baseline="-25000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*</a:t>
              </a:r>
              <a:r>
                <a:rPr b="1" i="1" lang="hr-HR" sz="1800" spc="-1" strike="noStrike" baseline="-25000">
                  <a:solidFill>
                    <a:srgbClr val="000000"/>
                  </a:solidFill>
                  <a:latin typeface="Arial"/>
                </a:rPr>
                <a:t>Y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5697000" y="2590920"/>
              <a:ext cx="304920" cy="76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979640" y="2491920"/>
            <a:ext cx="3809880" cy="3352680"/>
            <a:chOff x="1979640" y="2491920"/>
            <a:chExt cx="3809880" cy="3352680"/>
          </a:xfrm>
        </p:grpSpPr>
        <p:sp>
          <p:nvSpPr>
            <p:cNvPr id="120" name=""/>
            <p:cNvSpPr/>
            <p:nvPr/>
          </p:nvSpPr>
          <p:spPr>
            <a:xfrm flipV="1">
              <a:off x="1979640" y="2491920"/>
              <a:ext cx="3809880" cy="3352680"/>
            </a:xfrm>
            <a:prstGeom prst="line">
              <a:avLst/>
            </a:prstGeom>
            <a:ln w="381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214960" y="2898720"/>
              <a:ext cx="82440" cy="82440"/>
            </a:xfrm>
            <a:prstGeom prst="ellipse">
              <a:avLst/>
            </a:prstGeom>
            <a:solidFill>
              <a:srgbClr val="333399"/>
            </a:solidFill>
            <a:ln w="1260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286600" y="29476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2144880" y="2363760"/>
            <a:ext cx="2053800" cy="534960"/>
            <a:chOff x="2144880" y="2363760"/>
            <a:chExt cx="2053800" cy="534960"/>
          </a:xfrm>
        </p:grpSpPr>
        <p:sp>
          <p:nvSpPr>
            <p:cNvPr id="124" name=""/>
            <p:cNvSpPr/>
            <p:nvPr/>
          </p:nvSpPr>
          <p:spPr>
            <a:xfrm>
              <a:off x="2144880" y="2363760"/>
              <a:ext cx="20538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800" spc="-1" strike="noStrike">
                  <a:solidFill>
                    <a:srgbClr val="000000"/>
                  </a:solidFill>
                  <a:latin typeface="Arial"/>
                </a:rPr>
                <a:t>Nagib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=  (</a:t>
              </a: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*</a:t>
              </a:r>
              <a:r>
                <a:rPr b="1" i="1" lang="hr-HR" sz="1800" spc="-1" strike="noStrike" baseline="-25000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*</a:t>
              </a:r>
              <a:r>
                <a:rPr b="1" i="1" lang="hr-HR" sz="1800" spc="-1" strike="noStrike" baseline="-25000">
                  <a:solidFill>
                    <a:srgbClr val="000000"/>
                  </a:solidFill>
                  <a:latin typeface="Arial"/>
                </a:rPr>
                <a:t>Y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487680" y="2746440"/>
              <a:ext cx="228600" cy="152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352800" y="380520"/>
            <a:ext cx="3543840" cy="5486040"/>
            <a:chOff x="352800" y="380520"/>
            <a:chExt cx="3543840" cy="5486040"/>
          </a:xfrm>
        </p:grpSpPr>
        <p:sp>
          <p:nvSpPr>
            <p:cNvPr id="127" name=""/>
            <p:cNvSpPr/>
            <p:nvPr/>
          </p:nvSpPr>
          <p:spPr>
            <a:xfrm flipV="1">
              <a:off x="352800" y="379800"/>
              <a:ext cx="3199680" cy="5486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8" name=""/>
            <p:cNvGrpSpPr/>
            <p:nvPr/>
          </p:nvGrpSpPr>
          <p:grpSpPr>
            <a:xfrm>
              <a:off x="3173040" y="2832120"/>
              <a:ext cx="723600" cy="2120760"/>
              <a:chOff x="3173040" y="2832120"/>
              <a:chExt cx="723600" cy="2120760"/>
            </a:xfrm>
          </p:grpSpPr>
          <p:sp>
            <p:nvSpPr>
              <p:cNvPr id="129" name=""/>
              <p:cNvSpPr/>
              <p:nvPr/>
            </p:nvSpPr>
            <p:spPr>
              <a:xfrm>
                <a:off x="3173040" y="2832120"/>
                <a:ext cx="418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hr-HR" sz="1800" spc="-1" strike="noStrike">
                    <a:solidFill>
                      <a:srgbClr val="ff0000"/>
                    </a:solidFill>
                    <a:latin typeface="Arial"/>
                  </a:rPr>
                  <a:t>A</a:t>
                </a:r>
                <a:r>
                  <a:rPr b="1" lang="en-US" sz="1800" spc="-1" strike="noStrike" baseline="30000">
                    <a:solidFill>
                      <a:srgbClr val="ff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73280" y="3352680"/>
                <a:ext cx="82800" cy="8280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184560" y="4724280"/>
                <a:ext cx="82440" cy="8280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278520" y="458460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589560" y="335124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4" name=""/>
          <p:cNvGrpSpPr/>
          <p:nvPr/>
        </p:nvGrpSpPr>
        <p:grpSpPr>
          <a:xfrm>
            <a:off x="0" y="1773360"/>
            <a:ext cx="8001000" cy="4451040"/>
            <a:chOff x="0" y="1773360"/>
            <a:chExt cx="8001000" cy="4451040"/>
          </a:xfrm>
        </p:grpSpPr>
        <p:sp>
          <p:nvSpPr>
            <p:cNvPr id="135" name=""/>
            <p:cNvSpPr/>
            <p:nvPr/>
          </p:nvSpPr>
          <p:spPr>
            <a:xfrm>
              <a:off x="3048120" y="58561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800" spc="-1" strike="noStrike">
                  <a:solidFill>
                    <a:srgbClr val="000000"/>
                  </a:solidFill>
                  <a:latin typeface="Arial"/>
                </a:rPr>
                <a:t>                                      </a:t>
              </a:r>
              <a:r>
                <a:rPr b="1" lang="hr-HR" sz="1800" spc="-1" strike="noStrike">
                  <a:solidFill>
                    <a:srgbClr val="000000"/>
                  </a:solidFill>
                  <a:latin typeface="Arial"/>
                </a:rPr>
                <a:t>Proizvod  X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962000" y="2450880"/>
              <a:ext cx="0" cy="3439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 flipH="1">
              <a:off x="1962000" y="5891040"/>
              <a:ext cx="5112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0" y="1773360"/>
              <a:ext cx="3809880" cy="68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800" spc="-1" strike="noStrike">
                  <a:solidFill>
                    <a:srgbClr val="000000"/>
                  </a:solidFill>
                  <a:latin typeface="Arial"/>
                </a:rPr>
                <a:t>                  </a:t>
              </a:r>
              <a:r>
                <a:rPr b="1" lang="hr-HR" sz="1800" spc="-1" strike="noStrike">
                  <a:solidFill>
                    <a:srgbClr val="000000"/>
                  </a:solidFill>
                  <a:latin typeface="Arial"/>
                </a:rPr>
                <a:t>Proizvod 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738080" y="584820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"/>
          <p:cNvSpPr/>
          <p:nvPr/>
        </p:nvSpPr>
        <p:spPr>
          <a:xfrm flipV="1">
            <a:off x="1908000" y="3357720"/>
            <a:ext cx="3311640" cy="71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564000" y="3429000"/>
            <a:ext cx="0" cy="24480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979640" y="5516640"/>
            <a:ext cx="158436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79640" y="5157720"/>
            <a:ext cx="2952720" cy="719280"/>
          </a:xfrm>
          <a:prstGeom prst="line">
            <a:avLst/>
          </a:prstGeom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763640" y="3429000"/>
            <a:ext cx="144360" cy="2087640"/>
          </a:xfrm>
          <a:custGeom>
            <a:avLst/>
            <a:gdLst>
              <a:gd name="textAreaLeft" fmla="*/ 92160 w 144360"/>
              <a:gd name="textAreaRight" fmla="*/ 144360 w 144360"/>
              <a:gd name="textAreaTop" fmla="*/ 54360 h 2087640"/>
              <a:gd name="textAreaBottom" fmla="*/ 2033280 h 208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24000" y="4076640"/>
            <a:ext cx="16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rina n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voznu rob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219640" y="3357720"/>
            <a:ext cx="0" cy="2519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rot="5400000">
            <a:off x="4282560" y="4941720"/>
            <a:ext cx="217440" cy="1513080"/>
          </a:xfrm>
          <a:custGeom>
            <a:avLst/>
            <a:gdLst>
              <a:gd name="textAreaLeft" fmla="*/ 138960 w 217440"/>
              <a:gd name="textAreaRight" fmla="*/ 217800 w 217440"/>
              <a:gd name="textAreaTop" fmla="*/ 39240 h 1513080"/>
              <a:gd name="textAreaBottom" fmla="*/ 1473840 h 1513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4427640" y="5229000"/>
            <a:ext cx="1728720" cy="36036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158160" y="4724280"/>
            <a:ext cx="171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zvozna taks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a robu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00"/>
                            </p:stCondLst>
                            <p:childTnLst>
                              <p:par>
                                <p:cTn id="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000"/>
                            </p:stCondLst>
                            <p:childTnLst>
                              <p:par>
                                <p:cTn id="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500"/>
                            </p:stCondLst>
                            <p:childTnLst>
                              <p:par>
                                <p:cTn id="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 flipV="1">
            <a:off x="1116000" y="1413000"/>
            <a:ext cx="71280" cy="4680000"/>
          </a:xfrm>
          <a:prstGeom prst="line">
            <a:avLst/>
          </a:prstGeom>
          <a:ln cap="sq"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16000" y="6165720"/>
            <a:ext cx="5688000" cy="0"/>
          </a:xfrm>
          <a:prstGeom prst="line">
            <a:avLst/>
          </a:prstGeom>
          <a:ln cap="sq"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116000" y="1773360"/>
            <a:ext cx="3960720" cy="4392360"/>
          </a:xfrm>
          <a:custGeom>
            <a:avLst/>
            <a:gdLst/>
            <a:ahLst/>
            <a:rect l="l" t="t" r="r" b="b"/>
            <a:pathLst>
              <a:path w="2495" h="2767">
                <a:moveTo>
                  <a:pt x="0" y="2767"/>
                </a:moveTo>
                <a:cubicBezTo>
                  <a:pt x="227" y="2687"/>
                  <a:pt x="454" y="2608"/>
                  <a:pt x="635" y="2540"/>
                </a:cubicBezTo>
                <a:cubicBezTo>
                  <a:pt x="816" y="2472"/>
                  <a:pt x="937" y="2441"/>
                  <a:pt x="1088" y="2358"/>
                </a:cubicBezTo>
                <a:cubicBezTo>
                  <a:pt x="1239" y="2275"/>
                  <a:pt x="1406" y="2154"/>
                  <a:pt x="1542" y="2041"/>
                </a:cubicBezTo>
                <a:cubicBezTo>
                  <a:pt x="1678" y="1928"/>
                  <a:pt x="1799" y="1814"/>
                  <a:pt x="1905" y="1678"/>
                </a:cubicBezTo>
                <a:cubicBezTo>
                  <a:pt x="2011" y="1542"/>
                  <a:pt x="2102" y="1390"/>
                  <a:pt x="2177" y="1224"/>
                </a:cubicBezTo>
                <a:cubicBezTo>
                  <a:pt x="2252" y="1058"/>
                  <a:pt x="2313" y="846"/>
                  <a:pt x="2358" y="680"/>
                </a:cubicBezTo>
                <a:cubicBezTo>
                  <a:pt x="2403" y="514"/>
                  <a:pt x="2426" y="340"/>
                  <a:pt x="2449" y="227"/>
                </a:cubicBezTo>
                <a:cubicBezTo>
                  <a:pt x="2472" y="114"/>
                  <a:pt x="2495" y="38"/>
                  <a:pt x="2495" y="0"/>
                </a:cubicBezTo>
              </a:path>
            </a:pathLst>
          </a:custGeom>
          <a:noFill/>
          <a:ln cap="sq"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116000" y="1700280"/>
            <a:ext cx="2700360" cy="4464000"/>
          </a:xfrm>
          <a:custGeom>
            <a:avLst/>
            <a:gdLst/>
            <a:ahLst/>
            <a:rect l="l" t="t" r="r" b="b"/>
            <a:pathLst>
              <a:path w="1837" h="2767">
                <a:moveTo>
                  <a:pt x="0" y="2767"/>
                </a:moveTo>
                <a:cubicBezTo>
                  <a:pt x="121" y="2729"/>
                  <a:pt x="242" y="2691"/>
                  <a:pt x="363" y="2631"/>
                </a:cubicBezTo>
                <a:cubicBezTo>
                  <a:pt x="484" y="2571"/>
                  <a:pt x="575" y="2525"/>
                  <a:pt x="726" y="2404"/>
                </a:cubicBezTo>
                <a:cubicBezTo>
                  <a:pt x="877" y="2283"/>
                  <a:pt x="1119" y="2071"/>
                  <a:pt x="1270" y="1905"/>
                </a:cubicBezTo>
                <a:cubicBezTo>
                  <a:pt x="1421" y="1739"/>
                  <a:pt x="1542" y="1595"/>
                  <a:pt x="1633" y="1406"/>
                </a:cubicBezTo>
                <a:cubicBezTo>
                  <a:pt x="1724" y="1217"/>
                  <a:pt x="1791" y="1005"/>
                  <a:pt x="1814" y="771"/>
                </a:cubicBezTo>
                <a:cubicBezTo>
                  <a:pt x="1837" y="537"/>
                  <a:pt x="1776" y="121"/>
                  <a:pt x="1769" y="0"/>
                </a:cubicBezTo>
              </a:path>
            </a:pathLst>
          </a:custGeom>
          <a:noFill/>
          <a:ln cap="sq"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116000" y="2133720"/>
            <a:ext cx="1811520" cy="4032000"/>
          </a:xfrm>
          <a:custGeom>
            <a:avLst/>
            <a:gdLst/>
            <a:ahLst/>
            <a:rect l="l" t="t" r="r" b="b"/>
            <a:pathLst>
              <a:path w="1187" h="2540">
                <a:moveTo>
                  <a:pt x="0" y="2540"/>
                </a:moveTo>
                <a:cubicBezTo>
                  <a:pt x="196" y="2419"/>
                  <a:pt x="393" y="2298"/>
                  <a:pt x="544" y="2177"/>
                </a:cubicBezTo>
                <a:cubicBezTo>
                  <a:pt x="695" y="2056"/>
                  <a:pt x="809" y="1958"/>
                  <a:pt x="907" y="1814"/>
                </a:cubicBezTo>
                <a:cubicBezTo>
                  <a:pt x="1005" y="1670"/>
                  <a:pt x="1089" y="1511"/>
                  <a:pt x="1134" y="1315"/>
                </a:cubicBezTo>
                <a:cubicBezTo>
                  <a:pt x="1179" y="1119"/>
                  <a:pt x="1187" y="854"/>
                  <a:pt x="1179" y="635"/>
                </a:cubicBezTo>
                <a:cubicBezTo>
                  <a:pt x="1171" y="416"/>
                  <a:pt x="1103" y="98"/>
                  <a:pt x="1088" y="0"/>
                </a:cubicBezTo>
              </a:path>
            </a:pathLst>
          </a:custGeom>
          <a:noFill/>
          <a:ln cap="sq"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116000" y="2276640"/>
            <a:ext cx="4968720" cy="3889080"/>
          </a:xfrm>
          <a:custGeom>
            <a:avLst/>
            <a:gdLst/>
            <a:ahLst/>
            <a:rect l="l" t="t" r="r" b="b"/>
            <a:pathLst>
              <a:path w="3130" h="2450">
                <a:moveTo>
                  <a:pt x="0" y="2450"/>
                </a:moveTo>
                <a:cubicBezTo>
                  <a:pt x="57" y="2196"/>
                  <a:pt x="114" y="1943"/>
                  <a:pt x="227" y="1724"/>
                </a:cubicBezTo>
                <a:cubicBezTo>
                  <a:pt x="340" y="1505"/>
                  <a:pt x="529" y="1300"/>
                  <a:pt x="680" y="1134"/>
                </a:cubicBezTo>
                <a:cubicBezTo>
                  <a:pt x="831" y="968"/>
                  <a:pt x="945" y="862"/>
                  <a:pt x="1134" y="726"/>
                </a:cubicBezTo>
                <a:cubicBezTo>
                  <a:pt x="1323" y="590"/>
                  <a:pt x="1595" y="424"/>
                  <a:pt x="1814" y="318"/>
                </a:cubicBezTo>
                <a:cubicBezTo>
                  <a:pt x="2033" y="212"/>
                  <a:pt x="2230" y="144"/>
                  <a:pt x="2449" y="91"/>
                </a:cubicBezTo>
                <a:cubicBezTo>
                  <a:pt x="2668" y="38"/>
                  <a:pt x="2899" y="19"/>
                  <a:pt x="3130" y="0"/>
                </a:cubicBezTo>
              </a:path>
            </a:pathLst>
          </a:custGeom>
          <a:noFill/>
          <a:ln cap="sq" w="3816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116000" y="3213000"/>
            <a:ext cx="4824360" cy="2952720"/>
          </a:xfrm>
          <a:custGeom>
            <a:avLst/>
            <a:gdLst/>
            <a:ahLst/>
            <a:rect l="l" t="t" r="r" b="b"/>
            <a:pathLst>
              <a:path w="3039" h="1860">
                <a:moveTo>
                  <a:pt x="0" y="1860"/>
                </a:moveTo>
                <a:cubicBezTo>
                  <a:pt x="98" y="1644"/>
                  <a:pt x="196" y="1429"/>
                  <a:pt x="317" y="1270"/>
                </a:cubicBezTo>
                <a:cubicBezTo>
                  <a:pt x="438" y="1111"/>
                  <a:pt x="567" y="1028"/>
                  <a:pt x="726" y="907"/>
                </a:cubicBezTo>
                <a:cubicBezTo>
                  <a:pt x="885" y="786"/>
                  <a:pt x="1104" y="650"/>
                  <a:pt x="1270" y="544"/>
                </a:cubicBezTo>
                <a:cubicBezTo>
                  <a:pt x="1436" y="438"/>
                  <a:pt x="1542" y="348"/>
                  <a:pt x="1723" y="272"/>
                </a:cubicBezTo>
                <a:cubicBezTo>
                  <a:pt x="1904" y="196"/>
                  <a:pt x="2139" y="136"/>
                  <a:pt x="2358" y="91"/>
                </a:cubicBezTo>
                <a:cubicBezTo>
                  <a:pt x="2577" y="46"/>
                  <a:pt x="2888" y="8"/>
                  <a:pt x="3039" y="0"/>
                </a:cubicBezTo>
              </a:path>
            </a:pathLst>
          </a:custGeom>
          <a:noFill/>
          <a:ln cap="sq" w="3816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116000" y="4125960"/>
            <a:ext cx="4680000" cy="2039760"/>
          </a:xfrm>
          <a:custGeom>
            <a:avLst/>
            <a:gdLst/>
            <a:ahLst/>
            <a:rect l="l" t="t" r="r" b="b"/>
            <a:pathLst>
              <a:path w="2948" h="1285">
                <a:moveTo>
                  <a:pt x="0" y="1285"/>
                </a:moveTo>
                <a:cubicBezTo>
                  <a:pt x="158" y="1062"/>
                  <a:pt x="317" y="839"/>
                  <a:pt x="453" y="695"/>
                </a:cubicBezTo>
                <a:cubicBezTo>
                  <a:pt x="589" y="551"/>
                  <a:pt x="718" y="483"/>
                  <a:pt x="816" y="423"/>
                </a:cubicBezTo>
                <a:cubicBezTo>
                  <a:pt x="914" y="363"/>
                  <a:pt x="937" y="370"/>
                  <a:pt x="1043" y="332"/>
                </a:cubicBezTo>
                <a:cubicBezTo>
                  <a:pt x="1149" y="294"/>
                  <a:pt x="1285" y="234"/>
                  <a:pt x="1451" y="196"/>
                </a:cubicBezTo>
                <a:cubicBezTo>
                  <a:pt x="1617" y="158"/>
                  <a:pt x="1852" y="135"/>
                  <a:pt x="2041" y="105"/>
                </a:cubicBezTo>
                <a:cubicBezTo>
                  <a:pt x="2230" y="75"/>
                  <a:pt x="2434" y="30"/>
                  <a:pt x="2585" y="15"/>
                </a:cubicBezTo>
                <a:cubicBezTo>
                  <a:pt x="2736" y="0"/>
                  <a:pt x="2888" y="15"/>
                  <a:pt x="2948" y="15"/>
                </a:cubicBezTo>
              </a:path>
            </a:pathLst>
          </a:custGeom>
          <a:noFill/>
          <a:ln cap="sq" w="3816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87280" y="2421000"/>
            <a:ext cx="37450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116000" y="4653000"/>
            <a:ext cx="16556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00360" y="4653000"/>
            <a:ext cx="0" cy="15127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932360" y="2421000"/>
            <a:ext cx="0" cy="37447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1116000" y="1628280"/>
            <a:ext cx="4680000" cy="4537080"/>
          </a:xfrm>
          <a:prstGeom prst="line">
            <a:avLst/>
          </a:prstGeom>
          <a:ln cap="sq"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805080" y="5950080"/>
            <a:ext cx="172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izvod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828000" y="981000"/>
            <a:ext cx="172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izvod 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086880" y="20606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013440" y="29973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941440" y="400356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’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861440" y="13413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94160" y="13413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557080" y="155736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’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227664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86160" y="4435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558160" y="6093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790160" y="6093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900000" y="2852640"/>
            <a:ext cx="0" cy="1368360"/>
          </a:xfrm>
          <a:prstGeom prst="line">
            <a:avLst/>
          </a:prstGeom>
          <a:ln cap="sq"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2987280" y="6381720"/>
            <a:ext cx="1584360" cy="0"/>
          </a:xfrm>
          <a:prstGeom prst="line">
            <a:avLst/>
          </a:prstGeom>
          <a:ln cap="sq"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404640"/>
            <a:ext cx="914400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Uvođenje carine na uvoznu robu i represali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829080" y="60213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867280" y="4581360"/>
            <a:ext cx="2952720" cy="11912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resalije dovode 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manjenja opsega trgovine bez popravljanja uvjeta trgov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3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3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3000"/>
                            </p:stCondLst>
                            <p:childTnLst>
                              <p:par>
                                <p:cTn id="1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" dur="3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3000"/>
                            </p:stCondLst>
                            <p:childTnLst>
                              <p:par>
                                <p:cTn id="1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3500"/>
                            </p:stCondLst>
                            <p:childTnLst>
                              <p:par>
                                <p:cTn id="1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4000"/>
                            </p:stCondLst>
                            <p:childTnLst>
                              <p:par>
                                <p:cTn id="12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4500"/>
                            </p:stCondLst>
                            <p:childTnLst>
                              <p:par>
                                <p:cTn id="1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" dur="3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3000"/>
                            </p:stCondLst>
                            <p:childTnLst>
                              <p:par>
                                <p:cTn id="1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3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3000"/>
                            </p:stCondLst>
                            <p:childTnLst>
                              <p:par>
                                <p:cTn id="1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" dur="3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3000"/>
                            </p:stCondLst>
                            <p:childTnLst>
                              <p:par>
                                <p:cTn id="15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3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3000"/>
                            </p:stCondLst>
                            <p:childTnLst>
                              <p:par>
                                <p:cTn id="16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500"/>
                            </p:stCondLst>
                            <p:childTnLst>
                              <p:par>
                                <p:cTn id="17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500"/>
                            </p:stCondLst>
                            <p:childTnLst>
                              <p:par>
                                <p:cTn id="18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7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8T18:33:29Z</dcterms:created>
  <dc:creator>Mato Grgić</dc:creator>
  <dc:description/>
  <dc:language>en-US</dc:language>
  <cp:lastModifiedBy>Mato Grgić</cp:lastModifiedBy>
  <dcterms:modified xsi:type="dcterms:W3CDTF">2004-11-28T21:27:53Z</dcterms:modified>
  <cp:revision>3</cp:revision>
  <dc:subject/>
  <dc:title>UTJECAJ CARINE NA UVJETE TRGOVINE</dc:title>
</cp:coreProperties>
</file>