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breeze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40DA-7D14-48D1-B756-684CED26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4B67-A3A4-4AAF-8FC5-59EE56C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987F-C060-42B1-8CE0-720AB641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8A16-6E69-4AED-A27F-44576B8A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FCEB-E000-428F-8FFD-F46E97AB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7533-B1EF-40FF-B638-4BCAD269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C002-82F7-47CB-9A07-D22022AF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86B8-899D-42FF-B7CC-CF82C7CB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DF73-90E9-45B0-93F7-AF3D8B29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656-0F6E-4C1B-BB36-35423076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5779-A139-43ED-8E74-A6C0576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AE74-6F6E-4BF3-A130-503273A2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3AF3-54C5-437E-B079-3FEB7F7E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3145-3644-4F2A-A9EB-B51539EC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3C74-695B-4D99-9790-6ADD69E3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FD67-09DF-48C1-91BB-4B17BDBE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491A-D961-4AEE-A38D-45B92F61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B2CF-BE61-499F-A968-86CA3576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9220-CF7E-4D40-A28F-CCD274D0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2B87-700F-4635-A6FE-FEBF6CF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D51E-A061-456F-BCF5-9D3388C2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E652-3F41-4B87-889E-281E334A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886A-6162-47DA-90CD-7B42D823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3839-82B6-43B2-8BAF-79B8A26C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E863-F91D-4384-9BB6-61D0EF652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2B9E-0C03-4BBC-A3DC-79C25D469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TOPA EFEKTIVNE ZAŠTIT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476280"/>
            <a:ext cx="698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opa efektivne zašt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2133720"/>
            <a:ext cx="6840360" cy="3310920"/>
            <a:chOff x="1187280" y="2133720"/>
            <a:chExt cx="6840360" cy="33109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187280" y="2133720"/>
              <a:ext cx="6840360" cy="33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10040" y="2193840"/>
              <a:ext cx="6577560" cy="31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H="1">
            <a:off x="1907640" y="2708280"/>
            <a:ext cx="568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07640" y="2997360"/>
            <a:ext cx="3095640" cy="244764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08000" y="3933720"/>
            <a:ext cx="93528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7640" y="4797360"/>
            <a:ext cx="575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6093000"/>
            <a:ext cx="612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42920" y="907920"/>
            <a:ext cx="309708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7640" y="4221000"/>
            <a:ext cx="5759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08000" y="1197000"/>
            <a:ext cx="0" cy="489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7640" y="213372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07640" y="1700280"/>
            <a:ext cx="568836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716000" y="1700280"/>
            <a:ext cx="71640" cy="43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43280" y="2923920"/>
            <a:ext cx="576360" cy="93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92360" y="907920"/>
            <a:ext cx="2016360" cy="194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066920" y="2708280"/>
            <a:ext cx="73080" cy="338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47973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4221000"/>
            <a:ext cx="0" cy="18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1341360"/>
            <a:ext cx="1295640" cy="18716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1700280"/>
            <a:ext cx="142920" cy="43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2708280"/>
            <a:ext cx="73080" cy="338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5805360"/>
            <a:ext cx="504720" cy="0"/>
          </a:xfrm>
          <a:prstGeom prst="line">
            <a:avLst/>
          </a:prstGeom>
          <a:ln w="38160">
            <a:solidFill>
              <a:srgbClr val="f1a6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516720" y="5805360"/>
            <a:ext cx="503280" cy="0"/>
          </a:xfrm>
          <a:prstGeom prst="line">
            <a:avLst/>
          </a:prstGeom>
          <a:ln w="38160">
            <a:solidFill>
              <a:srgbClr val="f1a6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4221000"/>
            <a:ext cx="1295640" cy="5763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1700280"/>
            <a:ext cx="1584360" cy="9874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4221000"/>
            <a:ext cx="71640" cy="576360"/>
          </a:xfrm>
          <a:custGeom>
            <a:avLst/>
            <a:gdLst>
              <a:gd name="textAreaLeft" fmla="*/ 45720 w 71640"/>
              <a:gd name="textAreaRight" fmla="*/ 72000 w 71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opa efektivne zaštite= (S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GF)/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5320" y="83664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i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89280" y="64911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 Antiqua"/>
              </a:rPr>
              <a:t>količina inputa i finalnog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63120" y="153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55920" y="2538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4080" y="198900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40514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55560" y="462744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60960" y="508464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61680" y="537372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Book Antiqu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70760" y="6093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04440" y="6093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K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6320" y="6093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06920" y="6093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3840" y="6093000"/>
            <a:ext cx="3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80320" y="6093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88160" y="458136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64840" y="4005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42640" y="47973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16960" y="479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87880" y="38606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52000" y="38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9000" y="292428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Book Antiqua"/>
              </a:rPr>
              <a:t>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08440" y="3213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Book Antiqua"/>
              </a:rPr>
              <a:t>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0020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66640" y="6922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77240" y="3716280"/>
            <a:ext cx="2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83400" y="2781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10800" y="134136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9360" y="1413000"/>
            <a:ext cx="3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155736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88880" y="249228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42400" y="2637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3760" y="26370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64640" y="4365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8960" y="60930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8320" y="692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h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5364000" y="5013360"/>
            <a:ext cx="431640" cy="158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1a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37720" y="184464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5471640" y="3968640"/>
            <a:ext cx="216000" cy="28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49276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v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50:31Z</dcterms:created>
  <dc:creator>Mato Grgić</dc:creator>
  <dc:description/>
  <dc:language>en-US</dc:language>
  <cp:lastModifiedBy>Mato Grgić</cp:lastModifiedBy>
  <dcterms:modified xsi:type="dcterms:W3CDTF">2004-11-28T21:28:46Z</dcterms:modified>
  <cp:revision>2</cp:revision>
  <dc:subject/>
  <dc:title>STOPA EFEKTIVNE ZAŠTITE</dc:title>
</cp:coreProperties>
</file>