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CA8D-3E93-490A-9698-873DC065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7E3-5905-4975-933D-550E86E5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F03-C1BC-4B72-A4DB-E2B4BC6A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4A2-7C1A-428B-B76A-AD9AC068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B24-423D-4B59-A9E0-CFC1CDFE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074-0FA4-46CB-84FD-C63F061C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5771-A7BB-4FD1-AE05-9457693F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A9C-2C94-4397-99EF-B1E8708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597-4968-457C-9D23-D64B5257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8FC-6BCB-4353-8648-6504095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294-3151-43EB-86A7-DC7704D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5AB-E976-4E47-AC79-11D597A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6BD6-044B-4CA3-8F28-EAE850E5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148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151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154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157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176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179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3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3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3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3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3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3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3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50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3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3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3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3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3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korisnik</cp:lastModifiedBy>
  <dcterms:modified xsi:type="dcterms:W3CDTF">2007-04-26T11:11:30Z</dcterms:modified>
  <cp:revision>33</cp:revision>
  <dc:subject/>
  <dc:title>TEORIJE VANJSKE TRGOVINE</dc:title>
</cp:coreProperties>
</file>