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D58-7469-4815-8AD5-7F25A693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1AA-1376-4D7B-B91A-EC78920B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BCC-6D9B-4D23-B3BF-C89881F6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A14-355C-4A3B-9033-71F1F1CE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CFF-DBB1-4EC6-A63F-B41FAB90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46C-E3DD-4CD2-8C5E-0C2A3986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9D4-5A44-4E73-9654-B05D9A01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2C2-8AAE-468E-B562-31579719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272-C4F6-4303-AE24-CEEE91C6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162-3AAC-4C8B-9208-0231778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96A-E42A-43E8-830C-ECD03C56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11B-0CEC-42ED-8D40-594C5871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98F-C7CA-4CD9-8529-39A012A67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Edgeworthov dijagram i krivulja ugo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risti od razmjene zemalja A i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93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608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a recipročne potražnje pokazuje kolika je potražnja zemlje za uvoznim proizvodima za koje je voljna ponuditi određenu količinu izvoznih proizvoda pri različitim relativnim cijenama proizv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a uključuje elemente potraž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ražnja za uvoz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pon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uda izvo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348000" y="404640"/>
            <a:ext cx="4248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Arial"/>
              </a:rPr>
              <a:t>Osiromašujući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908000" y="404640"/>
            <a:ext cx="3240360" cy="5400720"/>
          </a:xfrm>
          <a:prstGeom prst="line">
            <a:avLst/>
          </a:prstGeom>
          <a:ln w="76320">
            <a:solidFill>
              <a:srgbClr val="e41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03280" y="2492280"/>
            <a:ext cx="6121440" cy="35290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547640" y="1413000"/>
            <a:ext cx="5832720" cy="352872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619280" y="1125360"/>
            <a:ext cx="1512720" cy="1081440"/>
          </a:xfrm>
          <a:custGeom>
            <a:avLst/>
            <a:gdLst/>
            <a:ahLst/>
            <a:rect l="l" t="t" r="r" b="b"/>
            <a:pathLst>
              <a:path w="1270" h="772">
                <a:moveTo>
                  <a:pt x="0" y="0"/>
                </a:moveTo>
                <a:cubicBezTo>
                  <a:pt x="98" y="162"/>
                  <a:pt x="197" y="325"/>
                  <a:pt x="409" y="454"/>
                </a:cubicBezTo>
                <a:cubicBezTo>
                  <a:pt x="621" y="583"/>
                  <a:pt x="1134" y="719"/>
                  <a:pt x="1270" y="772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2123640" y="-125892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979640" y="162864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195640" y="981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123640" y="119700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3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3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3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3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proizvodi sve više svega, a sve manje troš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većoj se mjeri pogoršali uvjeti trgovine nego što je rasla proizvod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nos cijena je postao nepovoljniji i zemlja je dosegla niž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ljučak: izvozno usmjereni rast može pogoršati uvjete trgovine toliko da smanji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fekti uvođenja car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88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 uvođenja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29640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22224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044880" y="5334120"/>
            <a:ext cx="297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519560" y="5791320"/>
            <a:ext cx="305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209680" y="1916280"/>
            <a:ext cx="3299040" cy="17287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195640" y="3716280"/>
            <a:ext cx="863640" cy="50472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202260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6880" y="414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2717640"/>
            <a:ext cx="1553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3048120"/>
            <a:ext cx="2133720" cy="0"/>
          </a:xfrm>
          <a:prstGeom prst="line">
            <a:avLst/>
          </a:prstGeom>
          <a:ln w="12600">
            <a:solidFill>
              <a:srgbClr val="0210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200400" y="2971440"/>
            <a:ext cx="1219320" cy="685800"/>
          </a:xfrm>
          <a:prstGeom prst="line">
            <a:avLst/>
          </a:prstGeom>
          <a:ln w="12600">
            <a:solidFill>
              <a:srgbClr val="02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EV VIŠAK mjeri se područjem cijene koju potrošač plaća i one cijene koju je spreman plaćati (krivulja D). Prikazan je kao prostor ispod krivulje potražnje D i iznad tržišn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ĐAČEV VIŠAK mjeri se područjem između cijene koju proizvođač sada postiže i cijene po kojoj je spreman prodavati (krivulja 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6804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096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204492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4000" y="4005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00cc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725720" y="541008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trošačev i proizvođačev višak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9999"/>
                </a:solidFill>
                <a:latin typeface="Arial"/>
              </a:rPr>
              <a:t>Prihod države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22224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3716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859280" y="335772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167240" y="314172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hod drž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 c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717800" y="53737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6360" y="321300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68720" y="256536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Gubitak efikasnosti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517800" y="4149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195640" y="1989000"/>
            <a:ext cx="245268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377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733920" y="34290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248520" y="328464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Gubitak efik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876920" y="3352680"/>
            <a:ext cx="609480" cy="30492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86200" y="3429000"/>
            <a:ext cx="2133720" cy="152280"/>
          </a:xfrm>
          <a:prstGeom prst="leftArrow">
            <a:avLst>
              <a:gd name="adj1" fmla="val 50000"/>
              <a:gd name="adj2" fmla="val 35029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583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11280" y="290520"/>
            <a:ext cx="7772400" cy="781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cc33"/>
                </a:solidFill>
                <a:latin typeface="Arial"/>
              </a:rPr>
              <a:t>Mrtvi teret gubitka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31840" y="434340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377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81480" y="33526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480720" y="28195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tvi teret gub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ez kompen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87872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21360" y="2819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zvođenje krivulja recipročne potražnj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280360" cy="24476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lanjanje na granice proizvodnih moguć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vije zemlje i dv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i trok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krivulja indiferentnosti trgov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a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d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944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i uvođenja ca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68000" y="2243160"/>
            <a:ext cx="82803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maći proizvođači postižu višu cij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ostvaruje prihode od car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i plaćaju više cij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uje se potrošnja i potrošači imaju manji iz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Carina u maloj zem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11280" y="5734080"/>
            <a:ext cx="6654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rohibitivni nivo c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24000" y="1989000"/>
            <a:ext cx="1812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hibitivni n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 rot="16357800">
            <a:off x="861120" y="2458800"/>
            <a:ext cx="533160" cy="457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124000" y="2924280"/>
            <a:ext cx="2160720" cy="73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186200" y="2708280"/>
            <a:ext cx="96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7640" y="2492280"/>
            <a:ext cx="0" cy="432000"/>
          </a:xfrm>
          <a:prstGeom prst="line">
            <a:avLst/>
          </a:prstGeom>
          <a:ln cap="rnd"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kvivalentni efekti uvođenju ca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kvivalentni efekti carine: subvencije proizvođačima i porez na potroš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729840" y="141300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517800" y="3860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33520" y="5734080"/>
            <a:ext cx="6654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411280" y="2421000"/>
            <a:ext cx="4287960" cy="222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2340000" y="2060280"/>
            <a:ext cx="441972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508720" y="2349360"/>
            <a:ext cx="215640" cy="28764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6227640" y="4076640"/>
            <a:ext cx="144720" cy="2890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446520" y="2349360"/>
            <a:ext cx="1825920" cy="69876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bven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đ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807960" y="4365720"/>
            <a:ext cx="1271160" cy="698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ez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vivalentni efekti carini bi se postigli pomoću subvencije proizvođačima na teret proračuna i poreza na potrošnju u korist prorač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će pomaknuti krivulju ponude i potražnje i djelovati na povećanje proizvodnje te smanjenje potrošnje i u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e se ne povećavaju, a redistribucija ne ide od potrošača prema proizvođaču kao kod carine nego od potrošača prema proračunu i od proračuna prem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 carine na uvjete trgov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3276720" y="234936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2268360" y="141300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95640" y="98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3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6" dur="3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3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3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carine u zemlji A njeni uvjeti razmjene su se poboljšali i ona je u boljem položaju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uvjeta razmjene znači povećanje njezina udjela u razdiobi koristi od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seg razmjene je manji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opsega međunarodne razmjene utječe na pogoršanje položaja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poboljšanje položaja zemlje A zbog povoljnijih uvjeta razmjene veće od pogoršanja položaja zbog smanjenja količine razmjene, zemlja A će biti u boljem polo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a bi zemlja A bila vrlo mala, uvjeti razmjene bi za nju bili dani pa bi rezultat uvođenja carine na uvoz dobra Y bilo samo smanjenj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vdje pretpostavljamo da to nije sluč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19051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72360" y="544500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53341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267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228600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476280"/>
            <a:ext cx="2879640" cy="825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ivulja recipročne potražnje zemlj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2349360"/>
            <a:ext cx="3311640" cy="3080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rivulja pokazuje koliko rob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udi zemlja 1 u zamjenu za uvoz rob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,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 različitim cijena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340000" y="3141720"/>
            <a:ext cx="3529080" cy="230328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zemlja B uvela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3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3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0000" y="3284640"/>
            <a:ext cx="3600360" cy="216036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obje zemlje uvele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340000" y="1773360"/>
            <a:ext cx="1800360" cy="360036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853440" y="1341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284720" y="2205000"/>
            <a:ext cx="3585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2340000" y="1484280"/>
            <a:ext cx="259236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643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643280" y="256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924360" y="3357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3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3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3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3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3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16000" y="1700280"/>
            <a:ext cx="2700360" cy="4464000"/>
          </a:xfrm>
          <a:custGeom>
            <a:avLst/>
            <a:gdLst/>
            <a:ahLst/>
            <a:rect l="l" t="t" r="r" b="b"/>
            <a:pathLst>
              <a:path w="1837" h="2767">
                <a:moveTo>
                  <a:pt x="0" y="2767"/>
                </a:moveTo>
                <a:cubicBezTo>
                  <a:pt x="121" y="2729"/>
                  <a:pt x="242" y="2691"/>
                  <a:pt x="363" y="2631"/>
                </a:cubicBezTo>
                <a:cubicBezTo>
                  <a:pt x="484" y="2571"/>
                  <a:pt x="575" y="2525"/>
                  <a:pt x="726" y="2404"/>
                </a:cubicBezTo>
                <a:cubicBezTo>
                  <a:pt x="877" y="2283"/>
                  <a:pt x="1119" y="2071"/>
                  <a:pt x="1270" y="1905"/>
                </a:cubicBezTo>
                <a:cubicBezTo>
                  <a:pt x="1421" y="1739"/>
                  <a:pt x="1542" y="1595"/>
                  <a:pt x="1633" y="1406"/>
                </a:cubicBezTo>
                <a:cubicBezTo>
                  <a:pt x="1724" y="1217"/>
                  <a:pt x="1791" y="1005"/>
                  <a:pt x="1814" y="771"/>
                </a:cubicBezTo>
                <a:cubicBezTo>
                  <a:pt x="1837" y="537"/>
                  <a:pt x="1776" y="121"/>
                  <a:pt x="1769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116000" y="2133720"/>
            <a:ext cx="1811520" cy="4032000"/>
          </a:xfrm>
          <a:custGeom>
            <a:avLst/>
            <a:gdLst/>
            <a:ahLst/>
            <a:rect l="l" t="t" r="r" b="b"/>
            <a:pathLst>
              <a:path w="1187" h="2540">
                <a:moveTo>
                  <a:pt x="0" y="2540"/>
                </a:moveTo>
                <a:cubicBezTo>
                  <a:pt x="196" y="2419"/>
                  <a:pt x="393" y="2298"/>
                  <a:pt x="544" y="2177"/>
                </a:cubicBezTo>
                <a:cubicBezTo>
                  <a:pt x="695" y="2056"/>
                  <a:pt x="809" y="1958"/>
                  <a:pt x="907" y="1814"/>
                </a:cubicBezTo>
                <a:cubicBezTo>
                  <a:pt x="1005" y="1670"/>
                  <a:pt x="1089" y="1511"/>
                  <a:pt x="1134" y="1315"/>
                </a:cubicBezTo>
                <a:cubicBezTo>
                  <a:pt x="1179" y="1119"/>
                  <a:pt x="1187" y="854"/>
                  <a:pt x="1179" y="635"/>
                </a:cubicBezTo>
                <a:cubicBezTo>
                  <a:pt x="1171" y="416"/>
                  <a:pt x="1103" y="98"/>
                  <a:pt x="1088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116000" y="3213000"/>
            <a:ext cx="4824360" cy="2952720"/>
          </a:xfrm>
          <a:custGeom>
            <a:avLst/>
            <a:gdLst/>
            <a:ahLst/>
            <a:rect l="l" t="t" r="r" b="b"/>
            <a:pathLst>
              <a:path w="3039" h="1860">
                <a:moveTo>
                  <a:pt x="0" y="1860"/>
                </a:moveTo>
                <a:cubicBezTo>
                  <a:pt x="98" y="1644"/>
                  <a:pt x="196" y="1429"/>
                  <a:pt x="317" y="1270"/>
                </a:cubicBezTo>
                <a:cubicBezTo>
                  <a:pt x="438" y="1111"/>
                  <a:pt x="567" y="1028"/>
                  <a:pt x="726" y="907"/>
                </a:cubicBezTo>
                <a:cubicBezTo>
                  <a:pt x="885" y="786"/>
                  <a:pt x="1104" y="650"/>
                  <a:pt x="1270" y="544"/>
                </a:cubicBezTo>
                <a:cubicBezTo>
                  <a:pt x="1436" y="438"/>
                  <a:pt x="1542" y="348"/>
                  <a:pt x="1723" y="272"/>
                </a:cubicBezTo>
                <a:cubicBezTo>
                  <a:pt x="1904" y="196"/>
                  <a:pt x="2139" y="136"/>
                  <a:pt x="2358" y="91"/>
                </a:cubicBezTo>
                <a:cubicBezTo>
                  <a:pt x="2577" y="46"/>
                  <a:pt x="2888" y="8"/>
                  <a:pt x="3039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116000" y="4125960"/>
            <a:ext cx="4680000" cy="2039760"/>
          </a:xfrm>
          <a:custGeom>
            <a:avLst/>
            <a:gdLst/>
            <a:ahLst/>
            <a:rect l="l" t="t" r="r" b="b"/>
            <a:pathLst>
              <a:path w="2948" h="1285">
                <a:moveTo>
                  <a:pt x="0" y="1285"/>
                </a:moveTo>
                <a:cubicBezTo>
                  <a:pt x="158" y="1062"/>
                  <a:pt x="317" y="839"/>
                  <a:pt x="453" y="695"/>
                </a:cubicBezTo>
                <a:cubicBezTo>
                  <a:pt x="589" y="551"/>
                  <a:pt x="718" y="483"/>
                  <a:pt x="816" y="423"/>
                </a:cubicBezTo>
                <a:cubicBezTo>
                  <a:pt x="914" y="363"/>
                  <a:pt x="937" y="370"/>
                  <a:pt x="1043" y="332"/>
                </a:cubicBezTo>
                <a:cubicBezTo>
                  <a:pt x="1149" y="294"/>
                  <a:pt x="1285" y="234"/>
                  <a:pt x="1451" y="196"/>
                </a:cubicBezTo>
                <a:cubicBezTo>
                  <a:pt x="1617" y="158"/>
                  <a:pt x="1852" y="135"/>
                  <a:pt x="2041" y="105"/>
                </a:cubicBezTo>
                <a:cubicBezTo>
                  <a:pt x="2230" y="75"/>
                  <a:pt x="2434" y="30"/>
                  <a:pt x="2585" y="15"/>
                </a:cubicBezTo>
                <a:cubicBezTo>
                  <a:pt x="2736" y="0"/>
                  <a:pt x="2888" y="15"/>
                  <a:pt x="2948" y="15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116000" y="465300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700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805080" y="5950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828000" y="981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013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941440" y="4003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49416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557080" y="1557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86160" y="443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558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900000" y="2852640"/>
            <a:ext cx="0" cy="1368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2987280" y="6381720"/>
            <a:ext cx="1584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79280" y="260280"/>
            <a:ext cx="849636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vođenje carine na uvoznu robu i represal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92720" y="4581360"/>
            <a:ext cx="352728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presalije dovod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anjenja opsega trgovine bez popravljanja uvjeta trgo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0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3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3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3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3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3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2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3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3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7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uvođenja carine u jednoj zemlji, ako partner odvrati odmazdom dolazi do konačnog rezultata smanjivanja opsega međunarodn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ko su oba partnera u lošijoj situaciji nego prije uvođenja c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A je stopa carinskog opterećenja koja maksimizira neto dobitak koji je posljedica poboljšanja uvjeta razmjene zemlje u odnosu na negativne učinke koji su posljedica smanjenja volumen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dakle donosi optimalne uvjete razmjene što znači maksimalno društveno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ijetu bez poremećaja i savršenoj konkurenciji, zemlja može imati koristi od uvođenja carine, ali ta korist mora proizići iz njezine sposobnosti da utječe na odnose razmjene (mora imati monopsonsku moć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uvjetima nesavršene elastičnosti inozemne potražnje optimalna carinska zaštita ovisi o elastičnosti inozemne potražnje i o obliku domaće krivulje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9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ska zaštita određuje se tako da se izabere skup carinskih stopa koji izjednačuje granični prihod, tj. granične uvjete razmjene s graničnim troškom, tj. graničnom stopom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9" dur="3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3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3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3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5" dur="3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3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3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0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vnotežni je odnos cijena u T (odnos je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a zemlja A uvodi carinu koja će joj donijeti max. blagostanje, naravno, uz pretpostavku da zemlja B neće odgovoriti istom mjerom, da neće biti odmaz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carina koja zemlji A omogućava da dosegne najvišu krivulju indiferentnosti prema trgovini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ona krivulja IT koja je tangenta na krivulji recipročne potražnje zemlje 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77336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155736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541008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2360" y="5373720"/>
            <a:ext cx="24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zemlj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410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981080"/>
            <a:ext cx="1676160" cy="3505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981080"/>
            <a:ext cx="3276360" cy="3200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124080"/>
            <a:ext cx="1143000" cy="1219320"/>
          </a:xfrm>
          <a:prstGeom prst="rtTriangle">
            <a:avLst/>
          </a:prstGeom>
          <a:solidFill>
            <a:srgbClr val="cc00cc">
              <a:alpha val="50000"/>
            </a:srgbClr>
          </a:solidFill>
          <a:ln w="12600">
            <a:solidFill>
              <a:srgbClr val="1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09360" y="4114800"/>
            <a:ext cx="1143000" cy="1219320"/>
          </a:xfrm>
          <a:prstGeom prst="rtTriangle">
            <a:avLst/>
          </a:prstGeom>
          <a:solidFill>
            <a:srgbClr val="cc00cc">
              <a:alpha val="50000"/>
            </a:srgbClr>
          </a:solidFill>
          <a:ln w="12600">
            <a:solidFill>
              <a:srgbClr val="1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276720"/>
            <a:ext cx="990720" cy="609480"/>
          </a:xfrm>
          <a:prstGeom prst="rtTriangle">
            <a:avLst/>
          </a:prstGeom>
          <a:solidFill>
            <a:srgbClr val="03fb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10080" y="4724280"/>
            <a:ext cx="990720" cy="609840"/>
          </a:xfrm>
          <a:prstGeom prst="rtTriangle">
            <a:avLst/>
          </a:prstGeom>
          <a:solidFill>
            <a:srgbClr val="03fb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438280"/>
            <a:ext cx="1143000" cy="24386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409360" y="2895480"/>
            <a:ext cx="129564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33360"/>
            <a:ext cx="8497800" cy="119124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žemo zamisliti da je krivulja recipročne potražnje nastala od svih mogućih trokuta trgov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očk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 2 and 3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 na toj krivulj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00800" y="4724280"/>
            <a:ext cx="91440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732720" y="2924280"/>
            <a:ext cx="57600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88000" y="4149720"/>
            <a:ext cx="72072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590920"/>
            <a:ext cx="533520" cy="24382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2438280"/>
              <a:gd name="textAreaBottom" fmla="*/ 2412360 h 2438280"/>
            </a:gdLst>
            <a:ahLst/>
            <a:rect l="textAreaLeft" t="textAreaTop" r="textAreaRight" b="textAreaBottom"/>
            <a:pathLst>
              <a:path w="21600" h="98664">
                <a:moveTo>
                  <a:pt x="3600" y="0"/>
                </a:moveTo>
                <a:arcTo wR="3600" hR="3600" stAng="16200000" swAng="-5400000"/>
                <a:lnTo>
                  <a:pt x="0" y="95064"/>
                </a:lnTo>
                <a:arcTo wR="3600" hR="3600" stAng="10800000" swAng="-5400000"/>
                <a:lnTo>
                  <a:pt x="18000" y="98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timalna carina i elastičnost inozemn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932360" y="27082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708720" y="29242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759280" y="1484280"/>
            <a:ext cx="3384720" cy="3529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zavisi od elastičnosti inozemne ponude i potražnje “B”. Elastičnost u točki T’ je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U0/R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u točki T’ je: S0/0Q=1/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1)=1/(2-1)=1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M je 1/(∞−1)=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T je  1/(1−1)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3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2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0" dur="3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3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6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9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5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jere visine carinske zaštite u nekom gospodar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33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em nominalnih carinskih sto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PONDERIRANA PROSJEČNA CARINSKA STOPA – ne uzima u račun relativno značenje svake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DERIRANA PROSJEČNA CARINSKA STOPA – svaka carinska stopa ponderirana je udjelom pojedine robe u izvozu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HIBITIVNA CARINSKA STOPA – toliko visoka da sprečava uvoz robe u zem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FEKTIVNA STOPA ZAŠTITE – predstavlja u biti promjene u dodanoj vrijednosti pojedinog sektora zbog uspostavljene strukture zaštite intermedijarnih i finalnih dobara. Carina na input i carina output se uzima u obzir, pa vidimo koliko je proizvodnja u biti zaštić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minalna zaštita pokazuje efekte na potrošača, na proizvodnju ne znam – to pokazuje efektivna zašt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carinska ograničenja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 necarinska ograničenja vanjske trgovine mogu se svrstati u 3. grupe (3. tip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1. tipa – ona necarinska ograničenja kojima je svrha zaštititi domaću privredu od vanjske konkurencije, ograničiti uvoz ili ojačati domaću privredu u konkurenciji, s uvozom na domaćem tržištu ili u konkurenciji za izvozna tržišta. Grupiraju se dalje u MJERE PREMA UVOZU i MJERE PREMA IZVO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2. tipa – one mjere koje se odnose na probleme koji nisu direktno vezani uz trgovinu, ali se povremeno koriste za ograničavanj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3. tipa – one mjere ekonomske politike koje se primjenjuju isključivo iz razloga koji nisu direktno vezani uz trgovinu, ali koje neizbježno dovode do iskrivljavanja uvjeta međunarodne razmjene i zbog toga utječu na vanjsku trgov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1, T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usmjerene na uv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globalne uvozne kvote, selektivne uvozne kvote, dozvole diskretno restriktivne, dozvole liberalne, “dobrovoljna” ograničenja izvoza, embargo, državna trgovina, propisi o domaćem sadr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 Mjere koje djeluju kroz troškove i cijene (in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varijabilni nameti i dodatne uvozne takse (prelevmani), zahtjevi za avansnim depozitom, antidampinška i kompenzatorna opterećenja (takse), direktne subvencije domaćim konkurentima uvoza, kreditna ograničenja uvoznicima, porezne olakšice i ostale indirektne subvencije domaćim proizvođačima koji konkuriraju uvozu, uključujući i kreditne koncesije, diskriminatorne tarife u unutarnjem transportu, međunarodni robni sporazu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usmjerene na iz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trgov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e kvote i dozv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09720" y="2276640"/>
            <a:ext cx="25560" cy="30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06064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2349360"/>
            <a:ext cx="143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53737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96360" y="53737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962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42900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403848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1197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ivulja recipročne potraž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0080" y="3580920"/>
            <a:ext cx="2971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404640"/>
            <a:ext cx="8064360" cy="5205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agib pravca je relativna cijena X prem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1143000"/>
            <a:ext cx="13460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ahoma"/>
              </a:rPr>
              <a:t>X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/ 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16720" y="4653000"/>
            <a:ext cx="0" cy="69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35280" y="46530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403280" y="1628640"/>
            <a:ext cx="223200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1628640"/>
            <a:ext cx="280836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1109800">
            <a:off x="1838160" y="1846440"/>
            <a:ext cx="1800360" cy="187164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002440" cy="547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rektne subvencije izvoznic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rektne subvencije izvoznicima uključujući i kreditne olakš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mping koji podržava drž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i nameti (tak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robni sporazumi i sporazumi o marketing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2. TI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enje pristupa medijima komunici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a ograničenja marketinga i propag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pisi o pakiranju i etiketiranju, zdravstveni, sanitarni i standardi o kvaliteti, sigurnosni i industrijski standardi i propisi, granične takse, uporabne takse, carinska procedura, konzularne formalnosti i sl., postupci carinske klasifikacije, postupci određivanja carinske osnovice, devizna ograničenja, državno poduzetništvo, financiranje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 i slične pomoći domaćim proizvođačima supstituta uvoza i izvoznim sektor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3. TIP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i monopol proizvodnje, prodaje i distribucije proizvo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strukturna politika i politika regionalnog razvoja koja utječe na trgovin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d hoc mjere ekonomske politike u vezi s bilancom plać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poreznim sustav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socijalnog osigu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amortizaci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njske koristi od vladinih programa nabavke za obranu, zrakoplovstvo ili nevojne svr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obujma uvjetovana državnim nabavk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nacionalnih standarda, propisa i prakse, tarife u vanjskom transportu i međudržavni transportni sporazu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učke pristoj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ličinska ograničenja vanjske trgovine - k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OTA – apsolutna granica do koje može ići vrijednost ili količina neke robe ili usluge u određenom vremenskom razdob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e i izvozne k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75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OBALNA ili NEDISKRIMINATORNA KVOTA – ako se kvotom ograničava ukupna trgovina neke robe ili usluge sa svij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je dosegnut limit određen kvotom, neovisno iz koje je zemlje roba uvezena, daljnja trgovina prest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LEKTIVNA ili DISKRIMINATORNA KVOTA – ako se kvota razlikuje prema zemljama podrijetla ili odredišta robe ili usl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ne granice se određuju bilateralnim sporazum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ebna vrsta –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voljno ograničenje izvoz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bilateralno dogovara zbog narušene ravnoteže u vanjskotrgovinskoj bilanci (japanski izvoz auta u SAD i E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KVOTA – stavlja limit na uvoz određene količine ili vrijednosti neke robe uz danu carinsku sto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đe li uvoz taj limit primjenjuje se druga, viša carinska sto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410080" y="5300280"/>
            <a:ext cx="319428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77336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155736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541008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80360" y="5516640"/>
            <a:ext cx="136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962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410080" y="3580920"/>
            <a:ext cx="2971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5638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410080" y="2361960"/>
            <a:ext cx="304812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676520" y="2057040"/>
            <a:ext cx="304776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85080" y="2997360"/>
            <a:ext cx="0" cy="23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35640" y="551664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2209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45720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10280" y="2133720"/>
            <a:ext cx="10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a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34136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a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333360"/>
            <a:ext cx="7886880" cy="947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rgovinski trokut se povećao zbog novih cij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92360" y="2135160"/>
            <a:ext cx="6119640" cy="323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21223200">
            <a:off x="1331640" y="907560"/>
            <a:ext cx="1828800" cy="182880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797000">
            <a:off x="2136240" y="2057040"/>
            <a:ext cx="1828800" cy="175752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47560" y="350532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476360" y="3068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33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565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99708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11640" y="328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86072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43744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56580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934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37280" y="1432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372720" y="1844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4211640" y="2133360"/>
            <a:ext cx="2736720" cy="157788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589800" y="3789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zana zemlja B koja uvozi X iz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ši u točki B, uvoz j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kvote od AG, smanjuje se uvoz na AG, raste cijena u zemlji B, smanjuje se potrošnja sa PaDb na PD, raste domaća proizvodnja s PaA na PC, dolazi do preraspodjele realnog dohotka od potrošač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blagostanja za GDB (smanjenje potrošačeva probi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da može prodavati dozvole za uvoz do veličine kvote – pri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i, dijeliti dozvole uvoznicima koji onda profitiraju na razlici cijena dobra X i Y u zemljama A i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su izvoznici u zemlji A formirali kartel, a uvoznici u zemlji B međusobno konkuriraju, korist od uvođenja kvote imat će izvoznici u zemlji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2340000" y="148428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140360" y="981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340000" y="3716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034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257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69764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19708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3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3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3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uvozi kvotu na uvoz Y-a od 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vulja recipročne potražnje zemlje A ima lom u točki E pa sada izgleda OE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jeti razmjene zemlje A su se uvođenjem kvote poboljšali (px/pY›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li time položaj zemlje A poboljšan, ne možemo reći dok ne znamo nalazi li se zemlja A nakon uvođenja kvote na višoj ili nižoj krivulji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rgumenti za zašt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1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rgumenti za zašti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zaposlenosti i smanjenja nezaposl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acionalne sigurnosti i o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mlade industr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epraved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ravljanje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trgovinsk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nezaposlenosti u specifičnoj indust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stranih izvoznih sub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dampinških cijena (anti-d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a u korist oskudnog faktor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itički i socij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sto fisk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tim, protekcionizam se danas opravdava potrebom zaštite male zemlje od inozemne konkurencije dok ne postigne konkurentnos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4360" y="333360"/>
            <a:ext cx="7991280" cy="6858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Izvođenje krivulje recipročne po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371600"/>
            <a:ext cx="8001000" cy="48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4864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1523880" y="3048120"/>
            <a:ext cx="518112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2666880"/>
            <a:ext cx="2895480" cy="2057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175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21160" y="5486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114800"/>
            <a:ext cx="11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(P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/P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505320"/>
            <a:ext cx="39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hr-H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599840" y="45684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124080"/>
            <a:ext cx="75960" cy="76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2819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hr-H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81080" y="228600"/>
            <a:ext cx="2666520" cy="5136840"/>
            <a:chOff x="1981080" y="228600"/>
            <a:chExt cx="2666520" cy="5136840"/>
          </a:xfrm>
        </p:grpSpPr>
        <p:sp>
          <p:nvSpPr>
            <p:cNvPr id="187" name=""/>
            <p:cNvSpPr/>
            <p:nvPr/>
          </p:nvSpPr>
          <p:spPr>
            <a:xfrm>
              <a:off x="3124080" y="43434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hr-H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6000" y="2362320"/>
              <a:ext cx="76320" cy="75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5029200"/>
              <a:ext cx="78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1981080" y="1676520"/>
              <a:ext cx="1905120" cy="3657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52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209320" y="228240"/>
              <a:ext cx="243792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21337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hr-H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18148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54864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06720" y="1650960"/>
            <a:ext cx="219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Strani izvoz,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06000" y="1422360"/>
            <a:ext cx="208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Domaći uvoz, C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5805360"/>
            <a:ext cx="2309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Strani uvoz,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5516640"/>
            <a:ext cx="249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Domaći  izvoz,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181480" y="2286000"/>
            <a:ext cx="3227400" cy="3200400"/>
            <a:chOff x="5181480" y="2286000"/>
            <a:chExt cx="3227400" cy="3200400"/>
          </a:xfrm>
        </p:grpSpPr>
        <p:sp>
          <p:nvSpPr>
            <p:cNvPr id="201" name=""/>
            <p:cNvSpPr/>
            <p:nvPr/>
          </p:nvSpPr>
          <p:spPr>
            <a:xfrm flipH="1">
              <a:off x="5181480" y="2438280"/>
              <a:ext cx="2438640" cy="3048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0120" y="2286000"/>
              <a:ext cx="788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181120" y="3581280"/>
            <a:ext cx="3304080" cy="1905120"/>
            <a:chOff x="5181120" y="3581280"/>
            <a:chExt cx="3304080" cy="1905120"/>
          </a:xfrm>
        </p:grpSpPr>
        <p:sp>
          <p:nvSpPr>
            <p:cNvPr id="204" name=""/>
            <p:cNvSpPr/>
            <p:nvPr/>
          </p:nvSpPr>
          <p:spPr>
            <a:xfrm flipH="1">
              <a:off x="5181120" y="3962520"/>
              <a:ext cx="304812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96080" y="3581280"/>
              <a:ext cx="78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86000" y="2362320"/>
            <a:ext cx="4876920" cy="3124080"/>
            <a:chOff x="2286000" y="2362320"/>
            <a:chExt cx="4876920" cy="3124080"/>
          </a:xfrm>
        </p:grpSpPr>
        <p:sp>
          <p:nvSpPr>
            <p:cNvPr id="207" name=""/>
            <p:cNvSpPr/>
            <p:nvPr/>
          </p:nvSpPr>
          <p:spPr>
            <a:xfrm>
              <a:off x="2286000" y="2362320"/>
              <a:ext cx="1143000" cy="205740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181480" y="3048120"/>
              <a:ext cx="198144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133720" y="3124080"/>
            <a:ext cx="4572000" cy="2362320"/>
            <a:chOff x="2133720" y="3124080"/>
            <a:chExt cx="4572000" cy="2362320"/>
          </a:xfrm>
        </p:grpSpPr>
        <p:sp>
          <p:nvSpPr>
            <p:cNvPr id="210" name=""/>
            <p:cNvSpPr/>
            <p:nvPr/>
          </p:nvSpPr>
          <p:spPr>
            <a:xfrm>
              <a:off x="2133720" y="3124080"/>
              <a:ext cx="457200" cy="38124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181480" y="4724280"/>
              <a:ext cx="1524240" cy="76212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0400" y="1085400"/>
            <a:ext cx="4664160" cy="4400280"/>
            <a:chOff x="3200400" y="1085400"/>
            <a:chExt cx="4664160" cy="4400280"/>
          </a:xfrm>
        </p:grpSpPr>
        <p:sp>
          <p:nvSpPr>
            <p:cNvPr id="213" name=""/>
            <p:cNvSpPr/>
            <p:nvPr/>
          </p:nvSpPr>
          <p:spPr>
            <a:xfrm flipV="1">
              <a:off x="3200400" y="1084680"/>
              <a:ext cx="3962160" cy="44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00800" y="1752480"/>
              <a:ext cx="1463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Domaća krivulja recipročne potraž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aktivne zaštitne polit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ATIVNI KRITERIJ: što štititi, tj. koje proizvode ili sektore proizvodnje? Na što uvesti veću cari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I KRITERIJ: koliko visoku stopu zaštite uve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RUMENTALNI KRITERIJ: čime, tj. kojim instrumentima štititi? Izbor između: carina, izvoznih taksi i subvencija, necarinskih ograničenja, uvoznih kvota, izvoznih ograničenja, provizija i poreza na uvoznu robu, kontrole robe, administrativnih procedura, pristojbi za carinsko evidentiranje, porijekla robe i d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MENSKI KRITERIJ: kako dugo štititi ili mijenjati intenzitet zaštite? Da li u vremenu smanjivati ili povećavati zašt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balo bi koristiti FAZNI PRISTUP, a ne šok terapiju . Pomalo smanjivati zaštitu i najaviti njeno smanjivanje kako bi se određeni sektor mogao priviknut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rivulja indiferentnosti prema trgovi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mbinacije proizvodnje i potrošnje koje zemlji daju istu razinu blagostanja uz razmjenu ili bez nje (tj. u autarkiji) predstavljaj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očke indiferentnosti zemlje prema trgovi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284720" y="476280"/>
            <a:ext cx="0" cy="547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335772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472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056800">
            <a:off x="3471120" y="2519640"/>
            <a:ext cx="695520" cy="927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056800">
            <a:off x="4255560" y="1584360"/>
            <a:ext cx="695160" cy="927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40360" y="242100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3640" y="1700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43280" y="321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056800">
            <a:off x="2079000" y="3176280"/>
            <a:ext cx="649440" cy="855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3933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070400">
            <a:off x="2734200" y="1306800"/>
            <a:ext cx="2305080" cy="3237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070400">
            <a:off x="2193840" y="766440"/>
            <a:ext cx="2232000" cy="32353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40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27640" y="530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072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27640" y="98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907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58920" y="458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2764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2728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17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2421000"/>
            <a:ext cx="50508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2133720"/>
            <a:ext cx="718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3284640"/>
            <a:ext cx="0" cy="649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2852640"/>
            <a:ext cx="649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08360" y="2781360"/>
            <a:ext cx="0" cy="576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0364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47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36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35640" y="1916280"/>
            <a:ext cx="431640" cy="0"/>
          </a:xfrm>
          <a:prstGeom prst="line">
            <a:avLst/>
          </a:prstGeom>
          <a:ln cap="rnd"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0360" y="184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IVULJA INDIFEREN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95640" y="234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9236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56000" y="112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8472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1844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0000" y="31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su granične stope supstitucije u zemljama A i B različite, razmjena dobara X i Y među tim zemljama bit će obostrano probitačna sve dok se granične stope supstitucije ne izjednač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GSS-pokazuje koliko je jedinica dobra X društvo voljno žrtvovati za potrošnju dodatne jedinice dobra Y, a da mu razina zadovoljstva ostane ista, tj. da ostane na istoj krivulji indiferencij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, E1 i  E2  predstavljaju istu razinu društvenog blagostanja jer leže na istoj krivulji indiferen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točki E zemlja proizvodi i troši istu količinu proizvoda X i Y. To je situacija autark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1 – troši OH1 proizvoda Y i H1 E1 proizvoda X, a proizvodi O1F1 proizvoda Y i E1 F1  proizvoda X (izvozi O1G1  proizvoda X i za to dobiva OG1 proizvoda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logija točka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ajajući ishodišta ovih prostora moguće proizvodnje dobili smo krivulju indiferentnosti prema trgovini (I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vakoj točki na IT zemlja je indiferentna sudjeluje li u međunarodnoj razmjeni ili ne jer uvijek doseže istu razinu blagostanja, krivulju indiferencije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763640" y="907920"/>
            <a:ext cx="0" cy="482472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63640" y="5805360"/>
            <a:ext cx="619308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070400">
            <a:off x="813600" y="-13320"/>
            <a:ext cx="3511440" cy="3916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070400">
            <a:off x="1617480" y="1774800"/>
            <a:ext cx="2232000" cy="32353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070400">
            <a:off x="1872000" y="2670840"/>
            <a:ext cx="2089440" cy="331308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070400">
            <a:off x="2058120" y="3207240"/>
            <a:ext cx="1871640" cy="3457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63640" y="3499920"/>
            <a:ext cx="5329440" cy="2305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1763640" y="2420640"/>
            <a:ext cx="4824360" cy="338436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763640" y="980640"/>
            <a:ext cx="3600360" cy="482436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763640" y="404640"/>
            <a:ext cx="2592360" cy="5400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7800" y="587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60720" y="83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2920" y="3232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8000" y="4076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1080" y="5013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72720" y="5589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5640" y="692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20000" y="36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1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šim krivuljama indiferencije odgovaraju više krivulj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1 zemlja nema interesa za trgovi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2 zemlja ima interesa za trgovinu, doseže višu krivulju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aljnje poboljšanje uvjeta razmjene, navodi zemlju na povećavanje razmj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kup točaka u kojima su različite krivulje odnosa cijena tangente na različite krivulje IT predstavljaju krivulju recipročne potražnje (zemlj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7160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60958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1484280"/>
            <a:ext cx="4784760" cy="4540320"/>
          </a:xfrm>
          <a:custGeom>
            <a:avLst/>
            <a:gdLst/>
            <a:ahLst/>
            <a:rect l="l" t="t" r="r" b="b"/>
            <a:pathLst>
              <a:path w="3029" h="2881">
                <a:moveTo>
                  <a:pt x="0" y="2880"/>
                </a:moveTo>
                <a:lnTo>
                  <a:pt x="52" y="2870"/>
                </a:lnTo>
                <a:lnTo>
                  <a:pt x="87" y="2858"/>
                </a:lnTo>
                <a:lnTo>
                  <a:pt x="122" y="2846"/>
                </a:lnTo>
                <a:lnTo>
                  <a:pt x="157" y="2846"/>
                </a:lnTo>
                <a:lnTo>
                  <a:pt x="204" y="2835"/>
                </a:lnTo>
                <a:lnTo>
                  <a:pt x="240" y="2823"/>
                </a:lnTo>
                <a:lnTo>
                  <a:pt x="275" y="2811"/>
                </a:lnTo>
                <a:lnTo>
                  <a:pt x="310" y="2811"/>
                </a:lnTo>
                <a:lnTo>
                  <a:pt x="357" y="2788"/>
                </a:lnTo>
                <a:lnTo>
                  <a:pt x="404" y="2776"/>
                </a:lnTo>
                <a:lnTo>
                  <a:pt x="440" y="2764"/>
                </a:lnTo>
                <a:lnTo>
                  <a:pt x="487" y="2741"/>
                </a:lnTo>
                <a:lnTo>
                  <a:pt x="534" y="2729"/>
                </a:lnTo>
                <a:lnTo>
                  <a:pt x="581" y="2705"/>
                </a:lnTo>
                <a:lnTo>
                  <a:pt x="628" y="2694"/>
                </a:lnTo>
                <a:lnTo>
                  <a:pt x="687" y="2670"/>
                </a:lnTo>
                <a:lnTo>
                  <a:pt x="746" y="2658"/>
                </a:lnTo>
                <a:lnTo>
                  <a:pt x="793" y="2623"/>
                </a:lnTo>
                <a:lnTo>
                  <a:pt x="828" y="2611"/>
                </a:lnTo>
                <a:lnTo>
                  <a:pt x="887" y="2588"/>
                </a:lnTo>
                <a:lnTo>
                  <a:pt x="934" y="2552"/>
                </a:lnTo>
                <a:lnTo>
                  <a:pt x="969" y="2541"/>
                </a:lnTo>
                <a:lnTo>
                  <a:pt x="1028" y="2517"/>
                </a:lnTo>
                <a:lnTo>
                  <a:pt x="1075" y="2505"/>
                </a:lnTo>
                <a:lnTo>
                  <a:pt x="1110" y="2482"/>
                </a:lnTo>
                <a:lnTo>
                  <a:pt x="1157" y="2458"/>
                </a:lnTo>
                <a:lnTo>
                  <a:pt x="1204" y="2435"/>
                </a:lnTo>
                <a:lnTo>
                  <a:pt x="1240" y="2423"/>
                </a:lnTo>
                <a:lnTo>
                  <a:pt x="1275" y="2388"/>
                </a:lnTo>
                <a:lnTo>
                  <a:pt x="1310" y="2364"/>
                </a:lnTo>
                <a:lnTo>
                  <a:pt x="1357" y="2341"/>
                </a:lnTo>
                <a:lnTo>
                  <a:pt x="1393" y="2329"/>
                </a:lnTo>
                <a:lnTo>
                  <a:pt x="1428" y="2294"/>
                </a:lnTo>
                <a:lnTo>
                  <a:pt x="1463" y="2270"/>
                </a:lnTo>
                <a:lnTo>
                  <a:pt x="1510" y="2235"/>
                </a:lnTo>
                <a:lnTo>
                  <a:pt x="1545" y="2211"/>
                </a:lnTo>
                <a:lnTo>
                  <a:pt x="1593" y="2188"/>
                </a:lnTo>
                <a:lnTo>
                  <a:pt x="1640" y="2153"/>
                </a:lnTo>
                <a:lnTo>
                  <a:pt x="1687" y="2117"/>
                </a:lnTo>
                <a:lnTo>
                  <a:pt x="1722" y="2082"/>
                </a:lnTo>
                <a:lnTo>
                  <a:pt x="1757" y="2047"/>
                </a:lnTo>
                <a:lnTo>
                  <a:pt x="1793" y="2023"/>
                </a:lnTo>
                <a:lnTo>
                  <a:pt x="1840" y="1976"/>
                </a:lnTo>
                <a:lnTo>
                  <a:pt x="1875" y="1941"/>
                </a:lnTo>
                <a:lnTo>
                  <a:pt x="1910" y="1906"/>
                </a:lnTo>
                <a:lnTo>
                  <a:pt x="1945" y="1870"/>
                </a:lnTo>
                <a:lnTo>
                  <a:pt x="1992" y="1823"/>
                </a:lnTo>
                <a:lnTo>
                  <a:pt x="2040" y="1788"/>
                </a:lnTo>
                <a:lnTo>
                  <a:pt x="2087" y="1741"/>
                </a:lnTo>
                <a:lnTo>
                  <a:pt x="2122" y="1694"/>
                </a:lnTo>
                <a:lnTo>
                  <a:pt x="2181" y="1635"/>
                </a:lnTo>
                <a:lnTo>
                  <a:pt x="2216" y="1588"/>
                </a:lnTo>
                <a:lnTo>
                  <a:pt x="2251" y="1541"/>
                </a:lnTo>
                <a:lnTo>
                  <a:pt x="2287" y="1506"/>
                </a:lnTo>
                <a:lnTo>
                  <a:pt x="2322" y="1459"/>
                </a:lnTo>
                <a:lnTo>
                  <a:pt x="2357" y="1435"/>
                </a:lnTo>
                <a:lnTo>
                  <a:pt x="2392" y="1388"/>
                </a:lnTo>
                <a:lnTo>
                  <a:pt x="2416" y="1353"/>
                </a:lnTo>
                <a:lnTo>
                  <a:pt x="2439" y="1306"/>
                </a:lnTo>
                <a:lnTo>
                  <a:pt x="2475" y="1259"/>
                </a:lnTo>
                <a:lnTo>
                  <a:pt x="2510" y="1212"/>
                </a:lnTo>
                <a:lnTo>
                  <a:pt x="2522" y="1176"/>
                </a:lnTo>
                <a:lnTo>
                  <a:pt x="2569" y="1129"/>
                </a:lnTo>
                <a:lnTo>
                  <a:pt x="2581" y="1094"/>
                </a:lnTo>
                <a:lnTo>
                  <a:pt x="2616" y="1035"/>
                </a:lnTo>
                <a:lnTo>
                  <a:pt x="2639" y="1000"/>
                </a:lnTo>
                <a:lnTo>
                  <a:pt x="2675" y="941"/>
                </a:lnTo>
                <a:lnTo>
                  <a:pt x="2698" y="906"/>
                </a:lnTo>
                <a:lnTo>
                  <a:pt x="2734" y="847"/>
                </a:lnTo>
                <a:lnTo>
                  <a:pt x="2745" y="812"/>
                </a:lnTo>
                <a:lnTo>
                  <a:pt x="2769" y="777"/>
                </a:lnTo>
                <a:lnTo>
                  <a:pt x="2781" y="741"/>
                </a:lnTo>
                <a:lnTo>
                  <a:pt x="2816" y="683"/>
                </a:lnTo>
                <a:lnTo>
                  <a:pt x="2828" y="635"/>
                </a:lnTo>
                <a:lnTo>
                  <a:pt x="2851" y="577"/>
                </a:lnTo>
                <a:lnTo>
                  <a:pt x="2875" y="541"/>
                </a:lnTo>
                <a:lnTo>
                  <a:pt x="2898" y="483"/>
                </a:lnTo>
                <a:lnTo>
                  <a:pt x="2910" y="447"/>
                </a:lnTo>
                <a:lnTo>
                  <a:pt x="2934" y="389"/>
                </a:lnTo>
                <a:lnTo>
                  <a:pt x="2945" y="330"/>
                </a:lnTo>
                <a:lnTo>
                  <a:pt x="2945" y="294"/>
                </a:lnTo>
                <a:lnTo>
                  <a:pt x="2957" y="259"/>
                </a:lnTo>
                <a:lnTo>
                  <a:pt x="2969" y="224"/>
                </a:lnTo>
                <a:lnTo>
                  <a:pt x="2969" y="177"/>
                </a:lnTo>
                <a:lnTo>
                  <a:pt x="2981" y="130"/>
                </a:lnTo>
                <a:lnTo>
                  <a:pt x="2992" y="95"/>
                </a:lnTo>
                <a:lnTo>
                  <a:pt x="3004" y="47"/>
                </a:lnTo>
                <a:lnTo>
                  <a:pt x="3028" y="12"/>
                </a:lnTo>
                <a:lnTo>
                  <a:pt x="3024" y="0"/>
                </a:lnTo>
              </a:path>
            </a:pathLst>
          </a:custGeom>
          <a:noFill/>
          <a:ln cap="rnd"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1844640"/>
            <a:ext cx="5505480" cy="4253040"/>
          </a:xfrm>
          <a:custGeom>
            <a:avLst/>
            <a:gdLst/>
            <a:ahLst/>
            <a:rect l="l" t="t" r="r" b="b"/>
            <a:pathLst>
              <a:path w="4033" h="2929">
                <a:moveTo>
                  <a:pt x="0" y="2928"/>
                </a:moveTo>
                <a:lnTo>
                  <a:pt x="40" y="2871"/>
                </a:lnTo>
                <a:lnTo>
                  <a:pt x="63" y="2836"/>
                </a:lnTo>
                <a:lnTo>
                  <a:pt x="87" y="2800"/>
                </a:lnTo>
                <a:lnTo>
                  <a:pt x="122" y="2777"/>
                </a:lnTo>
                <a:lnTo>
                  <a:pt x="146" y="2742"/>
                </a:lnTo>
                <a:lnTo>
                  <a:pt x="181" y="2706"/>
                </a:lnTo>
                <a:lnTo>
                  <a:pt x="204" y="2659"/>
                </a:lnTo>
                <a:lnTo>
                  <a:pt x="252" y="2612"/>
                </a:lnTo>
                <a:lnTo>
                  <a:pt x="275" y="2577"/>
                </a:lnTo>
                <a:lnTo>
                  <a:pt x="310" y="2542"/>
                </a:lnTo>
                <a:lnTo>
                  <a:pt x="346" y="2495"/>
                </a:lnTo>
                <a:lnTo>
                  <a:pt x="381" y="2459"/>
                </a:lnTo>
                <a:lnTo>
                  <a:pt x="416" y="2424"/>
                </a:lnTo>
                <a:lnTo>
                  <a:pt x="452" y="2389"/>
                </a:lnTo>
                <a:lnTo>
                  <a:pt x="463" y="2353"/>
                </a:lnTo>
                <a:lnTo>
                  <a:pt x="487" y="2318"/>
                </a:lnTo>
                <a:lnTo>
                  <a:pt x="534" y="2283"/>
                </a:lnTo>
                <a:lnTo>
                  <a:pt x="569" y="2236"/>
                </a:lnTo>
                <a:lnTo>
                  <a:pt x="593" y="2201"/>
                </a:lnTo>
                <a:lnTo>
                  <a:pt x="628" y="2165"/>
                </a:lnTo>
                <a:lnTo>
                  <a:pt x="663" y="2118"/>
                </a:lnTo>
                <a:lnTo>
                  <a:pt x="699" y="2071"/>
                </a:lnTo>
                <a:lnTo>
                  <a:pt x="734" y="2036"/>
                </a:lnTo>
                <a:lnTo>
                  <a:pt x="757" y="2001"/>
                </a:lnTo>
                <a:lnTo>
                  <a:pt x="793" y="1965"/>
                </a:lnTo>
                <a:lnTo>
                  <a:pt x="840" y="1918"/>
                </a:lnTo>
                <a:lnTo>
                  <a:pt x="875" y="1883"/>
                </a:lnTo>
                <a:lnTo>
                  <a:pt x="910" y="1860"/>
                </a:lnTo>
                <a:lnTo>
                  <a:pt x="946" y="1824"/>
                </a:lnTo>
                <a:lnTo>
                  <a:pt x="981" y="1777"/>
                </a:lnTo>
                <a:lnTo>
                  <a:pt x="1016" y="1742"/>
                </a:lnTo>
                <a:lnTo>
                  <a:pt x="1063" y="1695"/>
                </a:lnTo>
                <a:lnTo>
                  <a:pt x="1110" y="1660"/>
                </a:lnTo>
                <a:lnTo>
                  <a:pt x="1146" y="1624"/>
                </a:lnTo>
                <a:lnTo>
                  <a:pt x="1181" y="1589"/>
                </a:lnTo>
                <a:lnTo>
                  <a:pt x="1240" y="1530"/>
                </a:lnTo>
                <a:lnTo>
                  <a:pt x="1275" y="1495"/>
                </a:lnTo>
                <a:lnTo>
                  <a:pt x="1334" y="1448"/>
                </a:lnTo>
                <a:lnTo>
                  <a:pt x="1369" y="1424"/>
                </a:lnTo>
                <a:lnTo>
                  <a:pt x="1416" y="1377"/>
                </a:lnTo>
                <a:lnTo>
                  <a:pt x="1451" y="1354"/>
                </a:lnTo>
                <a:lnTo>
                  <a:pt x="1498" y="1319"/>
                </a:lnTo>
                <a:lnTo>
                  <a:pt x="1545" y="1272"/>
                </a:lnTo>
                <a:lnTo>
                  <a:pt x="1581" y="1248"/>
                </a:lnTo>
                <a:lnTo>
                  <a:pt x="1628" y="1201"/>
                </a:lnTo>
                <a:lnTo>
                  <a:pt x="1663" y="1177"/>
                </a:lnTo>
                <a:lnTo>
                  <a:pt x="1722" y="1130"/>
                </a:lnTo>
                <a:lnTo>
                  <a:pt x="1769" y="1095"/>
                </a:lnTo>
                <a:lnTo>
                  <a:pt x="1804" y="1072"/>
                </a:lnTo>
                <a:lnTo>
                  <a:pt x="1863" y="1036"/>
                </a:lnTo>
                <a:lnTo>
                  <a:pt x="1922" y="989"/>
                </a:lnTo>
                <a:lnTo>
                  <a:pt x="1992" y="954"/>
                </a:lnTo>
                <a:lnTo>
                  <a:pt x="2051" y="919"/>
                </a:lnTo>
                <a:lnTo>
                  <a:pt x="2110" y="883"/>
                </a:lnTo>
                <a:lnTo>
                  <a:pt x="2145" y="860"/>
                </a:lnTo>
                <a:lnTo>
                  <a:pt x="2204" y="836"/>
                </a:lnTo>
                <a:lnTo>
                  <a:pt x="2251" y="813"/>
                </a:lnTo>
                <a:lnTo>
                  <a:pt x="2322" y="766"/>
                </a:lnTo>
                <a:lnTo>
                  <a:pt x="2357" y="754"/>
                </a:lnTo>
                <a:lnTo>
                  <a:pt x="2392" y="731"/>
                </a:lnTo>
                <a:lnTo>
                  <a:pt x="2428" y="707"/>
                </a:lnTo>
                <a:lnTo>
                  <a:pt x="2463" y="695"/>
                </a:lnTo>
                <a:lnTo>
                  <a:pt x="2510" y="672"/>
                </a:lnTo>
                <a:lnTo>
                  <a:pt x="2545" y="648"/>
                </a:lnTo>
                <a:lnTo>
                  <a:pt x="2581" y="636"/>
                </a:lnTo>
                <a:lnTo>
                  <a:pt x="2616" y="613"/>
                </a:lnTo>
                <a:lnTo>
                  <a:pt x="2651" y="601"/>
                </a:lnTo>
                <a:lnTo>
                  <a:pt x="2698" y="589"/>
                </a:lnTo>
                <a:lnTo>
                  <a:pt x="2734" y="566"/>
                </a:lnTo>
                <a:lnTo>
                  <a:pt x="2769" y="554"/>
                </a:lnTo>
                <a:lnTo>
                  <a:pt x="2816" y="531"/>
                </a:lnTo>
                <a:lnTo>
                  <a:pt x="2851" y="507"/>
                </a:lnTo>
                <a:lnTo>
                  <a:pt x="2886" y="495"/>
                </a:lnTo>
                <a:lnTo>
                  <a:pt x="2934" y="472"/>
                </a:lnTo>
                <a:lnTo>
                  <a:pt x="2969" y="460"/>
                </a:lnTo>
                <a:lnTo>
                  <a:pt x="3004" y="437"/>
                </a:lnTo>
                <a:lnTo>
                  <a:pt x="3051" y="413"/>
                </a:lnTo>
                <a:lnTo>
                  <a:pt x="3086" y="401"/>
                </a:lnTo>
                <a:lnTo>
                  <a:pt x="3133" y="378"/>
                </a:lnTo>
                <a:lnTo>
                  <a:pt x="3181" y="366"/>
                </a:lnTo>
                <a:lnTo>
                  <a:pt x="3216" y="354"/>
                </a:lnTo>
                <a:lnTo>
                  <a:pt x="3251" y="331"/>
                </a:lnTo>
                <a:lnTo>
                  <a:pt x="3286" y="319"/>
                </a:lnTo>
                <a:lnTo>
                  <a:pt x="3333" y="307"/>
                </a:lnTo>
                <a:lnTo>
                  <a:pt x="3381" y="284"/>
                </a:lnTo>
                <a:lnTo>
                  <a:pt x="3416" y="260"/>
                </a:lnTo>
                <a:lnTo>
                  <a:pt x="3463" y="248"/>
                </a:lnTo>
                <a:lnTo>
                  <a:pt x="3510" y="225"/>
                </a:lnTo>
                <a:lnTo>
                  <a:pt x="3545" y="213"/>
                </a:lnTo>
                <a:lnTo>
                  <a:pt x="3580" y="201"/>
                </a:lnTo>
                <a:lnTo>
                  <a:pt x="3616" y="190"/>
                </a:lnTo>
                <a:lnTo>
                  <a:pt x="3663" y="166"/>
                </a:lnTo>
                <a:lnTo>
                  <a:pt x="3698" y="143"/>
                </a:lnTo>
                <a:lnTo>
                  <a:pt x="3757" y="119"/>
                </a:lnTo>
                <a:lnTo>
                  <a:pt x="3792" y="95"/>
                </a:lnTo>
                <a:lnTo>
                  <a:pt x="3851" y="72"/>
                </a:lnTo>
                <a:lnTo>
                  <a:pt x="3910" y="48"/>
                </a:lnTo>
                <a:lnTo>
                  <a:pt x="3945" y="37"/>
                </a:lnTo>
                <a:lnTo>
                  <a:pt x="3980" y="13"/>
                </a:lnTo>
                <a:lnTo>
                  <a:pt x="4016" y="1"/>
                </a:lnTo>
                <a:lnTo>
                  <a:pt x="4032" y="0"/>
                </a:ln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3141720"/>
            <a:ext cx="15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eml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92360" y="2205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emlja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-129960" y="2227320"/>
            <a:ext cx="20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84720" y="6021360"/>
            <a:ext cx="180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53272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recipročne potražnje za dvi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37160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371600" y="6093000"/>
            <a:ext cx="54324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1523880"/>
            <a:ext cx="4808520" cy="4573800"/>
          </a:xfrm>
          <a:custGeom>
            <a:avLst/>
            <a:gdLst/>
            <a:ahLst/>
            <a:rect l="l" t="t" r="r" b="b"/>
            <a:pathLst>
              <a:path w="3029" h="2881">
                <a:moveTo>
                  <a:pt x="0" y="2880"/>
                </a:moveTo>
                <a:lnTo>
                  <a:pt x="52" y="2870"/>
                </a:lnTo>
                <a:lnTo>
                  <a:pt x="87" y="2858"/>
                </a:lnTo>
                <a:lnTo>
                  <a:pt x="122" y="2846"/>
                </a:lnTo>
                <a:lnTo>
                  <a:pt x="157" y="2846"/>
                </a:lnTo>
                <a:lnTo>
                  <a:pt x="204" y="2835"/>
                </a:lnTo>
                <a:lnTo>
                  <a:pt x="240" y="2823"/>
                </a:lnTo>
                <a:lnTo>
                  <a:pt x="275" y="2811"/>
                </a:lnTo>
                <a:lnTo>
                  <a:pt x="310" y="2811"/>
                </a:lnTo>
                <a:lnTo>
                  <a:pt x="357" y="2788"/>
                </a:lnTo>
                <a:lnTo>
                  <a:pt x="404" y="2776"/>
                </a:lnTo>
                <a:lnTo>
                  <a:pt x="440" y="2764"/>
                </a:lnTo>
                <a:lnTo>
                  <a:pt x="487" y="2741"/>
                </a:lnTo>
                <a:lnTo>
                  <a:pt x="534" y="2729"/>
                </a:lnTo>
                <a:lnTo>
                  <a:pt x="581" y="2705"/>
                </a:lnTo>
                <a:lnTo>
                  <a:pt x="628" y="2694"/>
                </a:lnTo>
                <a:lnTo>
                  <a:pt x="687" y="2670"/>
                </a:lnTo>
                <a:lnTo>
                  <a:pt x="746" y="2658"/>
                </a:lnTo>
                <a:lnTo>
                  <a:pt x="793" y="2623"/>
                </a:lnTo>
                <a:lnTo>
                  <a:pt x="828" y="2611"/>
                </a:lnTo>
                <a:lnTo>
                  <a:pt x="887" y="2588"/>
                </a:lnTo>
                <a:lnTo>
                  <a:pt x="934" y="2552"/>
                </a:lnTo>
                <a:lnTo>
                  <a:pt x="969" y="2541"/>
                </a:lnTo>
                <a:lnTo>
                  <a:pt x="1028" y="2517"/>
                </a:lnTo>
                <a:lnTo>
                  <a:pt x="1075" y="2505"/>
                </a:lnTo>
                <a:lnTo>
                  <a:pt x="1110" y="2482"/>
                </a:lnTo>
                <a:lnTo>
                  <a:pt x="1157" y="2458"/>
                </a:lnTo>
                <a:lnTo>
                  <a:pt x="1204" y="2435"/>
                </a:lnTo>
                <a:lnTo>
                  <a:pt x="1240" y="2423"/>
                </a:lnTo>
                <a:lnTo>
                  <a:pt x="1275" y="2388"/>
                </a:lnTo>
                <a:lnTo>
                  <a:pt x="1310" y="2364"/>
                </a:lnTo>
                <a:lnTo>
                  <a:pt x="1357" y="2341"/>
                </a:lnTo>
                <a:lnTo>
                  <a:pt x="1393" y="2329"/>
                </a:lnTo>
                <a:lnTo>
                  <a:pt x="1428" y="2294"/>
                </a:lnTo>
                <a:lnTo>
                  <a:pt x="1463" y="2270"/>
                </a:lnTo>
                <a:lnTo>
                  <a:pt x="1510" y="2235"/>
                </a:lnTo>
                <a:lnTo>
                  <a:pt x="1545" y="2211"/>
                </a:lnTo>
                <a:lnTo>
                  <a:pt x="1593" y="2188"/>
                </a:lnTo>
                <a:lnTo>
                  <a:pt x="1640" y="2153"/>
                </a:lnTo>
                <a:lnTo>
                  <a:pt x="1687" y="2117"/>
                </a:lnTo>
                <a:lnTo>
                  <a:pt x="1722" y="2082"/>
                </a:lnTo>
                <a:lnTo>
                  <a:pt x="1757" y="2047"/>
                </a:lnTo>
                <a:lnTo>
                  <a:pt x="1793" y="2023"/>
                </a:lnTo>
                <a:lnTo>
                  <a:pt x="1840" y="1976"/>
                </a:lnTo>
                <a:lnTo>
                  <a:pt x="1875" y="1941"/>
                </a:lnTo>
                <a:lnTo>
                  <a:pt x="1910" y="1906"/>
                </a:lnTo>
                <a:lnTo>
                  <a:pt x="1945" y="1870"/>
                </a:lnTo>
                <a:lnTo>
                  <a:pt x="1992" y="1823"/>
                </a:lnTo>
                <a:lnTo>
                  <a:pt x="2040" y="1788"/>
                </a:lnTo>
                <a:lnTo>
                  <a:pt x="2087" y="1741"/>
                </a:lnTo>
                <a:lnTo>
                  <a:pt x="2122" y="1694"/>
                </a:lnTo>
                <a:lnTo>
                  <a:pt x="2181" y="1635"/>
                </a:lnTo>
                <a:lnTo>
                  <a:pt x="2216" y="1588"/>
                </a:lnTo>
                <a:lnTo>
                  <a:pt x="2251" y="1541"/>
                </a:lnTo>
                <a:lnTo>
                  <a:pt x="2287" y="1506"/>
                </a:lnTo>
                <a:lnTo>
                  <a:pt x="2322" y="1459"/>
                </a:lnTo>
                <a:lnTo>
                  <a:pt x="2357" y="1435"/>
                </a:lnTo>
                <a:lnTo>
                  <a:pt x="2392" y="1388"/>
                </a:lnTo>
                <a:lnTo>
                  <a:pt x="2416" y="1353"/>
                </a:lnTo>
                <a:lnTo>
                  <a:pt x="2439" y="1306"/>
                </a:lnTo>
                <a:lnTo>
                  <a:pt x="2475" y="1259"/>
                </a:lnTo>
                <a:lnTo>
                  <a:pt x="2510" y="1212"/>
                </a:lnTo>
                <a:lnTo>
                  <a:pt x="2522" y="1176"/>
                </a:lnTo>
                <a:lnTo>
                  <a:pt x="2569" y="1129"/>
                </a:lnTo>
                <a:lnTo>
                  <a:pt x="2581" y="1094"/>
                </a:lnTo>
                <a:lnTo>
                  <a:pt x="2616" y="1035"/>
                </a:lnTo>
                <a:lnTo>
                  <a:pt x="2639" y="1000"/>
                </a:lnTo>
                <a:lnTo>
                  <a:pt x="2675" y="941"/>
                </a:lnTo>
                <a:lnTo>
                  <a:pt x="2698" y="906"/>
                </a:lnTo>
                <a:lnTo>
                  <a:pt x="2734" y="847"/>
                </a:lnTo>
                <a:lnTo>
                  <a:pt x="2745" y="812"/>
                </a:lnTo>
                <a:lnTo>
                  <a:pt x="2769" y="777"/>
                </a:lnTo>
                <a:lnTo>
                  <a:pt x="2781" y="741"/>
                </a:lnTo>
                <a:lnTo>
                  <a:pt x="2816" y="683"/>
                </a:lnTo>
                <a:lnTo>
                  <a:pt x="2828" y="635"/>
                </a:lnTo>
                <a:lnTo>
                  <a:pt x="2851" y="577"/>
                </a:lnTo>
                <a:lnTo>
                  <a:pt x="2875" y="541"/>
                </a:lnTo>
                <a:lnTo>
                  <a:pt x="2898" y="483"/>
                </a:lnTo>
                <a:lnTo>
                  <a:pt x="2910" y="447"/>
                </a:lnTo>
                <a:lnTo>
                  <a:pt x="2934" y="389"/>
                </a:lnTo>
                <a:lnTo>
                  <a:pt x="2945" y="330"/>
                </a:lnTo>
                <a:lnTo>
                  <a:pt x="2945" y="294"/>
                </a:lnTo>
                <a:lnTo>
                  <a:pt x="2957" y="259"/>
                </a:lnTo>
                <a:lnTo>
                  <a:pt x="2969" y="224"/>
                </a:lnTo>
                <a:lnTo>
                  <a:pt x="2969" y="177"/>
                </a:lnTo>
                <a:lnTo>
                  <a:pt x="2981" y="130"/>
                </a:lnTo>
                <a:lnTo>
                  <a:pt x="2992" y="95"/>
                </a:lnTo>
                <a:lnTo>
                  <a:pt x="3004" y="47"/>
                </a:lnTo>
                <a:lnTo>
                  <a:pt x="3028" y="12"/>
                </a:lnTo>
                <a:lnTo>
                  <a:pt x="3024" y="0"/>
                </a:lnTo>
              </a:path>
            </a:pathLst>
          </a:custGeom>
          <a:noFill/>
          <a:ln cap="rnd"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1773360"/>
            <a:ext cx="5545080" cy="4248000"/>
          </a:xfrm>
          <a:custGeom>
            <a:avLst/>
            <a:gdLst/>
            <a:ahLst/>
            <a:rect l="l" t="t" r="r" b="b"/>
            <a:pathLst>
              <a:path w="4033" h="2929">
                <a:moveTo>
                  <a:pt x="0" y="2928"/>
                </a:moveTo>
                <a:lnTo>
                  <a:pt x="40" y="2871"/>
                </a:lnTo>
                <a:lnTo>
                  <a:pt x="63" y="2836"/>
                </a:lnTo>
                <a:lnTo>
                  <a:pt x="87" y="2800"/>
                </a:lnTo>
                <a:lnTo>
                  <a:pt x="122" y="2777"/>
                </a:lnTo>
                <a:lnTo>
                  <a:pt x="146" y="2742"/>
                </a:lnTo>
                <a:lnTo>
                  <a:pt x="181" y="2706"/>
                </a:lnTo>
                <a:lnTo>
                  <a:pt x="204" y="2659"/>
                </a:lnTo>
                <a:lnTo>
                  <a:pt x="252" y="2612"/>
                </a:lnTo>
                <a:lnTo>
                  <a:pt x="275" y="2577"/>
                </a:lnTo>
                <a:lnTo>
                  <a:pt x="310" y="2542"/>
                </a:lnTo>
                <a:lnTo>
                  <a:pt x="346" y="2495"/>
                </a:lnTo>
                <a:lnTo>
                  <a:pt x="381" y="2459"/>
                </a:lnTo>
                <a:lnTo>
                  <a:pt x="416" y="2424"/>
                </a:lnTo>
                <a:lnTo>
                  <a:pt x="452" y="2389"/>
                </a:lnTo>
                <a:lnTo>
                  <a:pt x="463" y="2353"/>
                </a:lnTo>
                <a:lnTo>
                  <a:pt x="487" y="2318"/>
                </a:lnTo>
                <a:lnTo>
                  <a:pt x="534" y="2283"/>
                </a:lnTo>
                <a:lnTo>
                  <a:pt x="569" y="2236"/>
                </a:lnTo>
                <a:lnTo>
                  <a:pt x="593" y="2201"/>
                </a:lnTo>
                <a:lnTo>
                  <a:pt x="628" y="2165"/>
                </a:lnTo>
                <a:lnTo>
                  <a:pt x="663" y="2118"/>
                </a:lnTo>
                <a:lnTo>
                  <a:pt x="699" y="2071"/>
                </a:lnTo>
                <a:lnTo>
                  <a:pt x="734" y="2036"/>
                </a:lnTo>
                <a:lnTo>
                  <a:pt x="757" y="2001"/>
                </a:lnTo>
                <a:lnTo>
                  <a:pt x="793" y="1965"/>
                </a:lnTo>
                <a:lnTo>
                  <a:pt x="840" y="1918"/>
                </a:lnTo>
                <a:lnTo>
                  <a:pt x="875" y="1883"/>
                </a:lnTo>
                <a:lnTo>
                  <a:pt x="910" y="1860"/>
                </a:lnTo>
                <a:lnTo>
                  <a:pt x="946" y="1824"/>
                </a:lnTo>
                <a:lnTo>
                  <a:pt x="981" y="1777"/>
                </a:lnTo>
                <a:lnTo>
                  <a:pt x="1016" y="1742"/>
                </a:lnTo>
                <a:lnTo>
                  <a:pt x="1063" y="1695"/>
                </a:lnTo>
                <a:lnTo>
                  <a:pt x="1110" y="1660"/>
                </a:lnTo>
                <a:lnTo>
                  <a:pt x="1146" y="1624"/>
                </a:lnTo>
                <a:lnTo>
                  <a:pt x="1181" y="1589"/>
                </a:lnTo>
                <a:lnTo>
                  <a:pt x="1240" y="1530"/>
                </a:lnTo>
                <a:lnTo>
                  <a:pt x="1275" y="1495"/>
                </a:lnTo>
                <a:lnTo>
                  <a:pt x="1334" y="1448"/>
                </a:lnTo>
                <a:lnTo>
                  <a:pt x="1369" y="1424"/>
                </a:lnTo>
                <a:lnTo>
                  <a:pt x="1416" y="1377"/>
                </a:lnTo>
                <a:lnTo>
                  <a:pt x="1451" y="1354"/>
                </a:lnTo>
                <a:lnTo>
                  <a:pt x="1498" y="1319"/>
                </a:lnTo>
                <a:lnTo>
                  <a:pt x="1545" y="1272"/>
                </a:lnTo>
                <a:lnTo>
                  <a:pt x="1581" y="1248"/>
                </a:lnTo>
                <a:lnTo>
                  <a:pt x="1628" y="1201"/>
                </a:lnTo>
                <a:lnTo>
                  <a:pt x="1663" y="1177"/>
                </a:lnTo>
                <a:lnTo>
                  <a:pt x="1722" y="1130"/>
                </a:lnTo>
                <a:lnTo>
                  <a:pt x="1769" y="1095"/>
                </a:lnTo>
                <a:lnTo>
                  <a:pt x="1804" y="1072"/>
                </a:lnTo>
                <a:lnTo>
                  <a:pt x="1863" y="1036"/>
                </a:lnTo>
                <a:lnTo>
                  <a:pt x="1922" y="989"/>
                </a:lnTo>
                <a:lnTo>
                  <a:pt x="1992" y="954"/>
                </a:lnTo>
                <a:lnTo>
                  <a:pt x="2051" y="919"/>
                </a:lnTo>
                <a:lnTo>
                  <a:pt x="2110" y="883"/>
                </a:lnTo>
                <a:lnTo>
                  <a:pt x="2145" y="860"/>
                </a:lnTo>
                <a:lnTo>
                  <a:pt x="2204" y="836"/>
                </a:lnTo>
                <a:lnTo>
                  <a:pt x="2251" y="813"/>
                </a:lnTo>
                <a:lnTo>
                  <a:pt x="2322" y="766"/>
                </a:lnTo>
                <a:lnTo>
                  <a:pt x="2357" y="754"/>
                </a:lnTo>
                <a:lnTo>
                  <a:pt x="2392" y="731"/>
                </a:lnTo>
                <a:lnTo>
                  <a:pt x="2428" y="707"/>
                </a:lnTo>
                <a:lnTo>
                  <a:pt x="2463" y="695"/>
                </a:lnTo>
                <a:lnTo>
                  <a:pt x="2510" y="672"/>
                </a:lnTo>
                <a:lnTo>
                  <a:pt x="2545" y="648"/>
                </a:lnTo>
                <a:lnTo>
                  <a:pt x="2581" y="636"/>
                </a:lnTo>
                <a:lnTo>
                  <a:pt x="2616" y="613"/>
                </a:lnTo>
                <a:lnTo>
                  <a:pt x="2651" y="601"/>
                </a:lnTo>
                <a:lnTo>
                  <a:pt x="2698" y="589"/>
                </a:lnTo>
                <a:lnTo>
                  <a:pt x="2734" y="566"/>
                </a:lnTo>
                <a:lnTo>
                  <a:pt x="2769" y="554"/>
                </a:lnTo>
                <a:lnTo>
                  <a:pt x="2816" y="531"/>
                </a:lnTo>
                <a:lnTo>
                  <a:pt x="2851" y="507"/>
                </a:lnTo>
                <a:lnTo>
                  <a:pt x="2886" y="495"/>
                </a:lnTo>
                <a:lnTo>
                  <a:pt x="2934" y="472"/>
                </a:lnTo>
                <a:lnTo>
                  <a:pt x="2969" y="460"/>
                </a:lnTo>
                <a:lnTo>
                  <a:pt x="3004" y="437"/>
                </a:lnTo>
                <a:lnTo>
                  <a:pt x="3051" y="413"/>
                </a:lnTo>
                <a:lnTo>
                  <a:pt x="3086" y="401"/>
                </a:lnTo>
                <a:lnTo>
                  <a:pt x="3133" y="378"/>
                </a:lnTo>
                <a:lnTo>
                  <a:pt x="3181" y="366"/>
                </a:lnTo>
                <a:lnTo>
                  <a:pt x="3216" y="354"/>
                </a:lnTo>
                <a:lnTo>
                  <a:pt x="3251" y="331"/>
                </a:lnTo>
                <a:lnTo>
                  <a:pt x="3286" y="319"/>
                </a:lnTo>
                <a:lnTo>
                  <a:pt x="3333" y="307"/>
                </a:lnTo>
                <a:lnTo>
                  <a:pt x="3381" y="284"/>
                </a:lnTo>
                <a:lnTo>
                  <a:pt x="3416" y="260"/>
                </a:lnTo>
                <a:lnTo>
                  <a:pt x="3463" y="248"/>
                </a:lnTo>
                <a:lnTo>
                  <a:pt x="3510" y="225"/>
                </a:lnTo>
                <a:lnTo>
                  <a:pt x="3545" y="213"/>
                </a:lnTo>
                <a:lnTo>
                  <a:pt x="3580" y="201"/>
                </a:lnTo>
                <a:lnTo>
                  <a:pt x="3616" y="190"/>
                </a:lnTo>
                <a:lnTo>
                  <a:pt x="3663" y="166"/>
                </a:lnTo>
                <a:lnTo>
                  <a:pt x="3698" y="143"/>
                </a:lnTo>
                <a:lnTo>
                  <a:pt x="3757" y="119"/>
                </a:lnTo>
                <a:lnTo>
                  <a:pt x="3792" y="95"/>
                </a:lnTo>
                <a:lnTo>
                  <a:pt x="3851" y="72"/>
                </a:lnTo>
                <a:lnTo>
                  <a:pt x="3910" y="48"/>
                </a:lnTo>
                <a:lnTo>
                  <a:pt x="3945" y="37"/>
                </a:lnTo>
                <a:lnTo>
                  <a:pt x="3980" y="13"/>
                </a:lnTo>
                <a:lnTo>
                  <a:pt x="4016" y="1"/>
                </a:lnTo>
                <a:lnTo>
                  <a:pt x="4032" y="0"/>
                </a:lnTo>
              </a:path>
            </a:pathLst>
          </a:custGeom>
          <a:noFill/>
          <a:ln cap="rnd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64000" y="328464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2421000"/>
            <a:ext cx="158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403280" y="1628280"/>
            <a:ext cx="5256360" cy="446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03280" y="476280"/>
            <a:ext cx="6408720" cy="947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esje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rivulja određuje ravnotežne uvjete trgovine kao i količine proizv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00720" y="60357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-504720" y="3104640"/>
            <a:ext cx="28148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2060640"/>
            <a:ext cx="25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Točka razmj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940000" y="2205000"/>
            <a:ext cx="71640" cy="3888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402920" y="220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5280" y="285840"/>
            <a:ext cx="8353440" cy="98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ecipročna potražnja i trgovinska ravnote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1530360"/>
            <a:ext cx="8207280" cy="4635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a recipročne potražnje je usmjerena na izvoz i uvoz zemlje pri nekom odnosu trgo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zmemo li funkciju proizvodnih mogućnosti (PM) i korisnosti koje pokazuju razliku proizvodnje i potrošnje za svaki proizvod pri nekoj relativnoj cijeni (trgovinski trokut pri svakoj relativnoj cijen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ivulja recipročne potražnje (ponude) sumira ove trgovinske trokute s relativnom cijenom jednakoj nagibu pravca iz ishod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presijecanja krivulja pokazuje uravnoteženu trgovinu, tj. jednaki su trgovinski trok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skud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2436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48000" y="765000"/>
            <a:ext cx="2519280" cy="468000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4149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3640" y="33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 rot="20202000">
            <a:off x="1642680" y="574920"/>
            <a:ext cx="24379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3419640" y="154908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 rot="21355800">
            <a:off x="3582000" y="67680"/>
            <a:ext cx="24379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 rot="229200">
            <a:off x="3610080" y="-7128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3236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67280" y="33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2400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0836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119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64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5280" y="3716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40000" y="3141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0" y="2205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35280" y="1268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tpostavljamo da je došlo do povećanja kvalitativnog ili kvantitativnog faktora K u zemlji A koja ima komparativne prednosti u proizvodnji radno intenzivnog dobra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povećanja faktora K njezina se krivulja transformacije mijenja. Sad zemlja A proizvodi više dobra X, ali znatno više dobra Y koje je kapitalno intenzivno, a koje je prije uglavnom uvoz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692280"/>
            <a:ext cx="8064360" cy="54720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8000" y="2852640"/>
            <a:ext cx="460872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1197000"/>
            <a:ext cx="2306520" cy="50418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997360"/>
            <a:ext cx="2449440" cy="2520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205000"/>
            <a:ext cx="2592360" cy="2808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2169200">
            <a:off x="366480" y="3681360"/>
            <a:ext cx="3448080" cy="14796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2169200">
            <a:off x="2301480" y="3578400"/>
            <a:ext cx="2400480" cy="12189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2169200">
            <a:off x="1180440" y="2123640"/>
            <a:ext cx="5359320" cy="2322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522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260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872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rtn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3736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rtn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7022880" y="3208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1507680" y="32810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268280"/>
            <a:ext cx="43164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458136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407664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342900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isti odnos cijena sada bi zemlja A proizvodila u F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a trošila u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taj odnos cijena, zemlja B želi uvesti više proizvoda X nego što zemlja A želi izvoz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šak potražnje nad ponudom dobra X na svjetskom tržištu utječe na povećanje cijene tog dobra pa odnos cijena raste.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a taj način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boljšali su se uvjeti razmjene zemlje 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382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kle, porast proizvodnog faktora K koji se intenzivnije koristi u proizvodnji uvoznog dobra zemlje A (jer je Y kapitalno intenzivno dobro) utječe na porast udjela zemlje A u razdiobi koristi od razmjene jer se uvjeti razmjene zemlje A poboljšav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bil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4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191628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11280" y="2133720"/>
            <a:ext cx="6193080" cy="309564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299736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3058560" y="1116720"/>
            <a:ext cx="24375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6" y="201"/>
                </a:moveTo>
                <a:arcTo wR="10800" hR="10800" stAng="-4735068" swAng="3989257"/>
                <a:lnTo>
                  <a:pt x="10800" y="10800"/>
                </a:lnTo>
                <a:close/>
              </a:path>
              <a:path fill="none" w="21600" h="21600">
                <a:moveTo>
                  <a:pt x="12876" y="201"/>
                </a:moveTo>
                <a:arcTo wR="10800" hR="10800" stAng="-4735068" swAng="3989257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698920" y="1121040"/>
            <a:ext cx="243720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38" y="194"/>
                </a:moveTo>
                <a:arcTo wR="10800" hR="10800" stAng="-4747398" swAng="4359760"/>
                <a:lnTo>
                  <a:pt x="10800" y="10800"/>
                </a:lnTo>
                <a:close/>
              </a:path>
              <a:path fill="none" w="21600" h="21600">
                <a:moveTo>
                  <a:pt x="12838" y="194"/>
                </a:moveTo>
                <a:arcTo wR="10800" hR="10800" stAng="-4747398" swAng="435976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 rot="20202000">
            <a:off x="2579760" y="-145800"/>
            <a:ext cx="24372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500720" y="4680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2924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2349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987640" y="3573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76720" y="350028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1636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48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164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43564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7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0872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tpostavljamo da je došlo do kvalitativnog ili kvantitativnog porasta proizvodnog faktora L u zemlji A koji se intenzivnije troši u proizvodnji izvoznog dobra x zemlj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rastom relativno obilnijeg proizvodnog faktora L mijenja se K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om krivulje transformacije uz isti odnos cijena – javlja se višak ponude dobra X nad potražnjom na svjetskom tržištu što uvjetuje opadanje njegove ci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d je odnos cijena manji od 1, odnos cijena se smanj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 tom se izjednačuje ponuda i potražnja za dobrom X na međunarodnom tržiš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 obzirom da je odnos cijena manji nego prije,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uvjeti razmjene zemlje A su se pogoršal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to zemlja ne može doseći krivulju indiferencije CA1 već CA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ujedno da su se uvjeti razmjene za zemlju B poboljš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na kupi koristi od privrednog rasta u zemlji A koji je posljedica povećanja količine i/ili kvalitete relativno obilnog faktora te zemlje ili tehničkog napretka u proizvodnji izvoznog proizvoda zemlj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je zemlja A željela i nakon porasta svog obilnog proizvodnog faktora smanjivati razmjenu, ona bi u cijelosti zadržala za sebe koristi od svog razvoja jer bi se njezini uvjeti razmjene poboljš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13420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izvoznog proizvoda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I su označene krivulje indiferencije zemlj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Z su označene krivulje indiferencije zemlj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menzije dijagrama određene su ukupnom količinom dobara X i Y kojima zemlje ras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točki C GSS zemlje A je veća od GSS zemlje B – osnova za obostrano probitačnu razmj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1187280" y="1197000"/>
          <a:ext cx="665028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65028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435600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24000" y="2997360"/>
            <a:ext cx="4248360" cy="2519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35280" y="3716280"/>
            <a:ext cx="3549600" cy="188460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20537400">
            <a:off x="2268000" y="2708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88000" y="4653000"/>
            <a:ext cx="152280" cy="14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24000" y="1413000"/>
            <a:ext cx="3672000" cy="42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20038200">
            <a:off x="2771640" y="3429000"/>
            <a:ext cx="1513080" cy="863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19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67280" y="54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48000" y="393372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56000" y="429264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672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0" y="328464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895800">
            <a:off x="2340000" y="1484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0" y="191628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4000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68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0072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6669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ukusa u zemlji A pokazuju promjene krivulja indiferencije od Z1, Z2,… na I1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indiferencije I,… nagnutije su prema osi X što znači da se sada intenzivnije želi izvozno dobro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e promjene ukusa zemlja A je proizvodila u točki FA, a trošila u CA uz px/p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promjene ukusa u korist X, povećana je njegova proizvodnja u zemlji A, ali još je više povećana potrošnja X-a u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o da se krivulja recipročne potražnje zemlje A pomiče ulijevo, rotira u smjeru suprotnom od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i razmjene zemlje A se poboljšavaju te se povećavaju njen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, smanjuje se opseg međunarodne ekonomske razmjene, što znači i smanjenje specijalizacije u proizvodnji pa zemlja A može biti u boljem ili lošijem položaju nego pr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3745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li je zemlja A u boljem ili gorem položaju nego prije, ne možemo znati jer su se promijenile mape krivulja indiferencije, a to čini usporedbu nemoguću – ne znamo je li dosegla višu ili nižu krivulju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989840" cy="316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uvoznog proizvoda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678000">
            <a:off x="2411280" y="2276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415800">
            <a:off x="2916000" y="3428640"/>
            <a:ext cx="1368360" cy="647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4800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5128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2781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21408000">
            <a:off x="3059280" y="1413000"/>
            <a:ext cx="107928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26836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56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40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84720" y="400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40000" y="2637000"/>
            <a:ext cx="4103640" cy="2952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16360" y="1341360"/>
            <a:ext cx="2663640" cy="4175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a ukusa u zemlji A u korist uvoznog dobra Y odražava se na promjenu krivulja indiferencije koje su sada nagnutije prema dobru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emlja A je voljna ponuditi više dobra X za istu količinu dobra Y u međunarodnoj ekonomskoj razmj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bog toga njezina krivulja ponude u međunarodnoj razmjeni rotira u smjeru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464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nepromijenjenu krivulju ponude zemlje B, takva promjena ponude zemlje A određuje novi niži odnos cijena px/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se uvjeti razmjene zemlje A pogoršavaju, a da se volumen međunarodne ekonomske razmjene (to znači i specijalizacije u proizvodnji) poveća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500"/>
                            </p:stCondLst>
                            <p:childTnLst>
                              <p:par>
                                <p:cTn id="6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zemlja A daje sve više jedinica dobra Y za sve više dobra X – sve dok ne dođu u točku S- GSS su jednake, samo je A na višoj krivulji indiferencije , pa je A pokupila sv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F-obrnuto, B pokupila sv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E-oba partnera profitiraju od razmjene, oba su na višim krivuljama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JE ZBROJ ELASTIČNOSTI RECIPROČNE POTRAŽNJE OBIJU ZEMALJA VEĆI OD 1, TRŽIŠTE JE STABI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elastičnost potražnje za uvozom zemlje A pokazuje za koliko će se postotaka povećati njezina potražnja za uvozom dobra Y ako se relativna cijena tog uvoza smanji za 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arshall-Lernerov uvjet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2120" y="1447920"/>
            <a:ext cx="7924680" cy="48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195640" y="2924280"/>
            <a:ext cx="6704640" cy="5333400"/>
            <a:chOff x="2195640" y="2924280"/>
            <a:chExt cx="6704640" cy="5333400"/>
          </a:xfrm>
        </p:grpSpPr>
        <p:sp>
          <p:nvSpPr>
            <p:cNvPr id="535" name=""/>
            <p:cNvSpPr/>
            <p:nvPr/>
          </p:nvSpPr>
          <p:spPr>
            <a:xfrm flipH="1">
              <a:off x="2195640" y="2924280"/>
              <a:ext cx="670464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43400" y="307656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-89640" y="1004040"/>
            <a:ext cx="4967640" cy="4502160"/>
            <a:chOff x="-89640" y="1004040"/>
            <a:chExt cx="4967640" cy="4502160"/>
          </a:xfrm>
        </p:grpSpPr>
        <p:sp>
          <p:nvSpPr>
            <p:cNvPr id="538" name=""/>
            <p:cNvSpPr/>
            <p:nvPr/>
          </p:nvSpPr>
          <p:spPr>
            <a:xfrm flipV="1">
              <a:off x="-89280" y="1003680"/>
              <a:ext cx="4570560" cy="450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14600" y="1773360"/>
              <a:ext cx="14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211480" y="1905120"/>
            <a:ext cx="4510080" cy="3660120"/>
            <a:chOff x="2211480" y="1905120"/>
            <a:chExt cx="4510080" cy="3660120"/>
          </a:xfrm>
        </p:grpSpPr>
        <p:sp>
          <p:nvSpPr>
            <p:cNvPr id="541" name=""/>
            <p:cNvSpPr/>
            <p:nvPr/>
          </p:nvSpPr>
          <p:spPr>
            <a:xfrm flipV="1">
              <a:off x="2211480" y="2211120"/>
              <a:ext cx="3043080" cy="33541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57800" y="1905120"/>
              <a:ext cx="14637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Ravnotežni odnos cijena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/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830240" y="2895480"/>
            <a:ext cx="2863440" cy="3050280"/>
            <a:chOff x="1830240" y="2895480"/>
            <a:chExt cx="2863440" cy="3050280"/>
          </a:xfrm>
        </p:grpSpPr>
        <p:sp>
          <p:nvSpPr>
            <p:cNvPr id="544" name=""/>
            <p:cNvSpPr/>
            <p:nvPr/>
          </p:nvSpPr>
          <p:spPr>
            <a:xfrm>
              <a:off x="4495680" y="31240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45200" y="5638680"/>
              <a:ext cx="34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2209680" y="30481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30240" y="2895480"/>
              <a:ext cx="40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 flipV="1">
            <a:off x="2195640" y="2708280"/>
            <a:ext cx="4105080" cy="79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140000" y="1916280"/>
            <a:ext cx="502920" cy="36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35280" y="328464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08360" y="558972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6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84720" y="5661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34800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6728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140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 stabilnosti tržišta je da krivulja recipročne potražnje zemlje A siječe krivulju recipročne potražnje zemlje B odoz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je tangens kuta koji tangenta na krivulji potražnje A u točki E zatvara s apscisom veći od tangensa kuta koji tangenta na krivulji B zatvara s apscisom u istoj toč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M/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´M´/E M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762120" y="404640"/>
            <a:ext cx="7924680" cy="591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854000" y="2939400"/>
            <a:ext cx="7323480" cy="6136200"/>
            <a:chOff x="1854000" y="2939400"/>
            <a:chExt cx="7323480" cy="6136200"/>
          </a:xfrm>
        </p:grpSpPr>
        <p:sp>
          <p:nvSpPr>
            <p:cNvPr id="563" name=""/>
            <p:cNvSpPr/>
            <p:nvPr/>
          </p:nvSpPr>
          <p:spPr>
            <a:xfrm flipH="1" rot="434400">
              <a:off x="2162880" y="3340440"/>
              <a:ext cx="6704640" cy="533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434400">
              <a:off x="5505120" y="356544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-75960" y="1059480"/>
            <a:ext cx="4968720" cy="4502520"/>
            <a:chOff x="-75960" y="1059480"/>
            <a:chExt cx="4968720" cy="4502520"/>
          </a:xfrm>
        </p:grpSpPr>
        <p:sp>
          <p:nvSpPr>
            <p:cNvPr id="566" name=""/>
            <p:cNvSpPr/>
            <p:nvPr/>
          </p:nvSpPr>
          <p:spPr>
            <a:xfrm flipV="1">
              <a:off x="-75600" y="1058760"/>
              <a:ext cx="4571280" cy="450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29000" y="1828800"/>
              <a:ext cx="146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69236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036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5128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195640" y="1700280"/>
            <a:ext cx="2952720" cy="3889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4360" y="40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195640" y="2060640"/>
            <a:ext cx="3889080" cy="3456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8000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4720" y="134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3200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98764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2852640"/>
            <a:ext cx="3097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64000" y="3716280"/>
            <a:ext cx="0" cy="18734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195640" y="3716280"/>
            <a:ext cx="5976720" cy="18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42900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1164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49672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nemarimo li transportne troškove, ravnotežni odnos cijena je PX/ PY=1, a količine izvoza i uvoza određene su koordinatama točke CA1=CB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transportne troškove, cijena svakog dobra bit će u zemlji uvoza veća od cijene u zemlji izvoznici za visinu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pr. uz odnos cijena 5/4 zemlja B uvozi OG jedinica dobra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 da bi zemlja A izvozila OG dobra X, odnos cijena treba biti sveg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 toga slijedi da troškovi transporta jedinice dobra X iz zemlje A u zemlju B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673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ogno tome, sa stajališta izvoza Y, vidimo da bi uz odnos cijena 5/4 B bila voljna izvesti CBG dobra Y, dok bi zemlja A htjela uvesti CAG dobra Y uz odnos cijen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6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transportnih troškova na cijene i količine međ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140360" y="549360"/>
            <a:ext cx="0" cy="504036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26920" y="5589720"/>
            <a:ext cx="806616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484360" y="3645000"/>
            <a:ext cx="1656000" cy="194472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140360" y="1989000"/>
            <a:ext cx="2736720" cy="309744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1402920" y="1844280"/>
            <a:ext cx="2737080" cy="374508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4140360" y="1557000"/>
            <a:ext cx="2952720" cy="403236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40360" y="3500280"/>
            <a:ext cx="136836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492360" y="4508640"/>
            <a:ext cx="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419640" y="4581360"/>
            <a:ext cx="64764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16360" y="4005360"/>
            <a:ext cx="302400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84720" y="40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0328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40360" y="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71640" y="587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0108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92360" y="3213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0836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 rot="10800000">
            <a:off x="3995280" y="436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43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35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5928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40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58920" y="155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948360" y="1844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659640" y="486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ajajući sve točke dodira krivulja indiferencije partnera A i B dobivamo krivulju ugovora 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e na toj krivulji pokazuju jednakosti graničnih stopa supstitucije partnera, što znači da je postignuta ravnoteža i eliminirani razlozi za razmj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akoj je zemlji cijena određena ponudom i potražnjom u toj zemlji u situaciji autark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zemlji A je cijena dobra X niža nego u zemlji B- razlog za razmj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bi izvozila dobro x, a zemlja B ga uvozila, čime bi se cijena polako izjednačavala (padala u B i rasla u 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uvedemo transportne troškove, obje zemlje jednako podnose njihov teret jer je jednaka elastičnost ponude i potražnje u zeml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lučaju kad ne bi bile jednake, veći bi dio transportnih troškova padao na onu zemlju u kojoj su ponuda i potražnja neelastičnije (krivulje bi bile okomiti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87280" y="357336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00360" y="3573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047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27640" y="981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4360" y="2205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" y="33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71052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00000" y="2708280"/>
            <a:ext cx="0" cy="6494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4211280" y="6381720"/>
            <a:ext cx="576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9640" y="189000"/>
            <a:ext cx="813600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ća ravnoteža s transportnim trošk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84720" y="3357720"/>
            <a:ext cx="2880000" cy="25333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 transportnim troškovima odnos cijena u dvije zemlje se mora razlikovati. Zemlja A nudi platno za žito i transport, dok zemlja B nudi žito za platno i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116000" y="3789000"/>
            <a:ext cx="4392720" cy="2376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116000" y="1989000"/>
            <a:ext cx="259236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87280" y="4653000"/>
            <a:ext cx="27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85440" y="609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79780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10880" y="14842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11960" y="350028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5640" y="450864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3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500"/>
                            </p:stCondLst>
                            <p:childTnLst>
                              <p:par>
                                <p:cTn id="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4500"/>
                            </p:stCondLst>
                            <p:childTnLst>
                              <p:par>
                                <p:cTn id="6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0"/>
                            </p:stCondLst>
                            <p:childTnLst>
                              <p:par>
                                <p:cTn id="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e u cijeni u dvije zemlje prije trgovine moraju biti veće od troškova prijevoza. Nakon trgovine cijena robe je viša u zemlji uvoza nego u zemlji izvoza za iznos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mogu biti razlog nastanka vanjske trgovine (lokalna trgovina ili malogranični prome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oba se npr. uvozi na sjeveru zemlje, a izvozi na jugu zemlje. Stoga se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to komparativna pred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emelji na bruto komparativnoj prednosti i nedostacima zbog troškova prijevo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18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voza nije proporcionalna težini, volumenu i vrijednosti robe. Vrijedna roba može imati proporcionalno više troškove u odnosu na tež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rifa ne zavisi samo od težine i vrijednosti robe nego i od vrste prijevoznih sredstava i udaljenosti. Ove razlike su prikazane na slijedećem grafiko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orija lok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446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a lokacije uzima u obzir troškove prijevoza i objašnjava faktore za smještaj određene industrije bilo da se radi o međunarodnoj ili međuregionalnoj trgov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ustrije koje proizvode robe mogu biti usmjerene na izvore inputa, na tržište ili mogu biti slobodne ako su troškovi prijevoza relativno m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bil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94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11280" y="191628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411280" y="2276640"/>
            <a:ext cx="6264360" cy="2881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95640" y="299736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3058560" y="1116720"/>
            <a:ext cx="24375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6" y="201"/>
                </a:moveTo>
                <a:arcTo wR="10800" hR="10800" stAng="-4735068" swAng="3989257"/>
                <a:lnTo>
                  <a:pt x="10800" y="10800"/>
                </a:lnTo>
                <a:close/>
              </a:path>
              <a:path fill="none" w="21600" h="21600">
                <a:moveTo>
                  <a:pt x="12876" y="201"/>
                </a:moveTo>
                <a:arcTo wR="10800" hR="10800" stAng="-4735068" swAng="3989257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2698920" y="1121040"/>
            <a:ext cx="243720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38" y="194"/>
                </a:moveTo>
                <a:arcTo wR="10800" hR="10800" stAng="-4747398" swAng="4359760"/>
                <a:lnTo>
                  <a:pt x="10800" y="10800"/>
                </a:lnTo>
                <a:close/>
              </a:path>
              <a:path fill="none" w="21600" h="21600">
                <a:moveTo>
                  <a:pt x="12838" y="194"/>
                </a:moveTo>
                <a:arcTo wR="10800" hR="10800" stAng="-4747398" swAng="435976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flipV="1" rot="20202000">
            <a:off x="2579760" y="-1440"/>
            <a:ext cx="24372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4500720" y="4680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16360" y="2924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348000" y="263700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87640" y="3573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350028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1636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4800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348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7164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43564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30872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3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3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tpostavljamo da je došlo do kvalitativnog ili kvantitativnog porasta proizvodnog faktora L u zemlji A koji se intenzivnije troši u proizvodnji izvoznog dobra x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astom relativno obilnijeg proizvodnog faktora L mijenja se K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om krivulje transformacije uz isti odnos cijena – javlja se višak ponude dobra X nad potražnjom na svjetskom tržištu što uvjetuje opadanje njegov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04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 je odnos cijena manji od 1, odnos cijena se smanj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 tom se izjednačuje ponuda i potražnja za dobrom X na međunarodnom tržiš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obzirom da je odnos cijena manji nego prije,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vjeti razmjene zemlje A su se pogoršal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to zemlja ne može doseći krivulju indiferencije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 daljnje nastavljanje razmjene išlo bi na štetu jednog ili drugog partn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e na krivulji ugovora predstavljaju Paretov optimum (položaj bilo koje stranke ne može se poboljšati, a da se time ne pogorša položaj dru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znači ujedno da su se uvjeti razmjene za zemlju B poboljš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kupi koristi od privrednog rasta u zemlji A koji je posljedica povećanja količine i/ili kvalitete relativno obilnog faktora te zemlje ili tehničkog napretka u proizvodnji izvoznog proizvoda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je zemlja A željela i nakon porasta svog obilnog proizvodnog faktora smanjivati razmjenu, ona bi u cijelosti zadržala za sebe koristi od svog razvoja jer bi se njezini uvjeti razmjene poboljš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3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3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5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3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tjecaj promjena svjetske cijene na domaća tržiš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124000" y="15573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133720" y="3715920"/>
            <a:ext cx="351792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124000" y="2997360"/>
            <a:ext cx="2160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03280" y="278136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124000" y="2133720"/>
            <a:ext cx="503280" cy="43164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195280" y="2421000"/>
            <a:ext cx="936360" cy="72072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340000" y="2708280"/>
            <a:ext cx="1295280" cy="1008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131640" y="2924280"/>
            <a:ext cx="1079640" cy="8650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140000" y="3213000"/>
            <a:ext cx="502920" cy="5032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003640" y="3500280"/>
            <a:ext cx="216000" cy="216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95640" y="3933720"/>
            <a:ext cx="431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95640" y="3860640"/>
            <a:ext cx="647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95640" y="407664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95640" y="400536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124000" y="3789360"/>
            <a:ext cx="792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50920" y="4149720"/>
            <a:ext cx="28908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55280" y="4005360"/>
            <a:ext cx="1584360" cy="431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4508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1116000" y="981000"/>
            <a:ext cx="1511280" cy="172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50920" y="26028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roš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619280" y="3141720"/>
            <a:ext cx="0" cy="503280"/>
          </a:xfrm>
          <a:prstGeom prst="line">
            <a:avLst/>
          </a:prstGeom>
          <a:ln cap="rnd"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otvaranja i vanjske trgovine, pod pretpostavkom da je svjetska cijena niža, dolazi do slijedećih efek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domaće pon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e domaće potroš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a potrošačeva viš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a proizvođačeva viš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900000" y="620640"/>
            <a:ext cx="7920000" cy="704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Izvori dobitaka od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24000" y="1700280"/>
            <a:ext cx="8280360" cy="47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bici zemlje od trgovine koji povećavaju blagostanje mogu se podijeliti na dva dij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bici od razmj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postavimo da trgovina mijenja relativnu cijenu, a zemlja nastavlja proizvoditi u točki autarkične ravnoteže,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će osjetiti korist u povećanju blagostanja krećući se od točke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bici od specijalizaci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jena relativne cijene dovodi do promjene proizvodnje od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će osjetiti dodatnu korist u blagostanju zbog proizvodne specijalizacije mjerene kretanjem od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 flipV="1">
            <a:off x="1547640" y="1125000"/>
            <a:ext cx="0" cy="496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47640" y="6093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84720" y="1844640"/>
            <a:ext cx="2158920" cy="338472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63640" y="2205000"/>
            <a:ext cx="5905440" cy="324000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59280" y="3429000"/>
            <a:ext cx="3889080" cy="216072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1618920" y="4797000"/>
            <a:ext cx="504036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619280" y="422100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0072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47640" y="29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132000" y="2997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51640" y="486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659640" y="486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348000" y="2205000"/>
            <a:ext cx="2016000" cy="360036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771640" y="3068640"/>
            <a:ext cx="360360" cy="172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284720" y="4292640"/>
            <a:ext cx="142920" cy="504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4787640" y="3715920"/>
            <a:ext cx="289080" cy="3457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53"/>
                </a:lnTo>
                <a:cubicBezTo>
                  <a:pt x="10800" y="10453"/>
                  <a:pt x="5400" y="11353"/>
                  <a:pt x="0" y="11353"/>
                </a:cubicBezTo>
                <a:cubicBezTo>
                  <a:pt x="5400" y="11353"/>
                  <a:pt x="10800" y="12253"/>
                  <a:pt x="10800" y="1315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6200000">
            <a:off x="4931640" y="4437720"/>
            <a:ext cx="288720" cy="1150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89"/>
                </a:lnTo>
                <a:cubicBezTo>
                  <a:pt x="10800" y="10689"/>
                  <a:pt x="5400" y="11589"/>
                  <a:pt x="0" y="11589"/>
                </a:cubicBezTo>
                <a:cubicBezTo>
                  <a:pt x="5400" y="11589"/>
                  <a:pt x="10800" y="12489"/>
                  <a:pt x="10800" y="133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8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fekti otvaranja i djelomična specij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500720" y="400536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5928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Q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863960" y="566100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43800" y="38606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512160" y="43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851280" y="1916280"/>
            <a:ext cx="2158920" cy="345600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19520" y="155736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157280" y="1484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10320" y="1413000"/>
            <a:ext cx="34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’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21331200">
            <a:off x="5219640" y="1625760"/>
            <a:ext cx="2086200" cy="366840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63960" y="51577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508720" y="458136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98080" y="458136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53080" y="6165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189080" y="1341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060720" y="19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878880" y="544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69440" y="530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436360" y="60213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44000" y="602136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16360" y="602136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044360" y="450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04472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042920" y="2781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547640" y="4797360"/>
            <a:ext cx="410400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549600">
            <a:off x="-2979720" y="2372040"/>
            <a:ext cx="7908840" cy="617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9" y="2"/>
                </a:moveTo>
                <a:arcTo wR="10800" hR="10800" stAng="-5330382" swAng="5355444"/>
                <a:lnTo>
                  <a:pt x="10800" y="10800"/>
                </a:lnTo>
                <a:close/>
              </a:path>
              <a:path fill="none" w="21600" h="21600">
                <a:moveTo>
                  <a:pt x="11019" y="2"/>
                </a:moveTo>
                <a:arcTo wR="10800" hR="10800" stAng="-5330382" swAng="53554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405080" y="60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50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m se zemlja otvori – novi odnos cijena p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i dalje proizvodi u Q – ne može tako brzo mijenjati proizvodn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m su potrošači ustanovili te cijene p’ – krenuli su kupovati preko granice i dosegli višu krivulju indiferencije I’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nja je i dalje u Q. Potrošači su ti koji brzo reagiraju, imaju novce u ruk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 uvesti mm’ X-a, a izvesti nn’ Y-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kazalo se da imamo komparativnu prednost u Y-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kut pokazuje trgovinu te zemlje s inozemstv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a nam je omogućila dosizanje više krivulje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ac p’ siječe krivulju proizvodnih mogućnosti, a to nije optimal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o bi bilo da p’ dodiruje K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učemo p’ tako da tangira KPM – dosežemo još višu krivulju proizvodnih moguć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amo 2 troku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nji trokut je efekt otvaranja – ostala je ista struktura proizvodnje, promijenila se struktura potrošnje, dosegli smo viš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i trokut je efekt specijalizacije – mijenja se i struktura proizvod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1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3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678000">
            <a:off x="2556000" y="206028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508720" y="5445000"/>
            <a:ext cx="12240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x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32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4923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771640" y="249228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20409600">
            <a:off x="3348000" y="3284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41128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35280" y="386064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16360" y="1341360"/>
            <a:ext cx="2519280" cy="3959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195640" y="1557360"/>
            <a:ext cx="2376360" cy="367200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340000" y="3357720"/>
            <a:ext cx="4464000" cy="180000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06728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x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059280" y="2133720"/>
            <a:ext cx="28872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763200">
            <a:off x="3203280" y="155736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70836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24000" y="1773360"/>
            <a:ext cx="2376720" cy="367164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203640" y="3645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987640" y="386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fekti otvara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 – 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promjena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efekt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efekt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ukupna korist od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s = efekt supstitu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-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dohodovni efek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476360" y="62064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476360" y="558972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6360" y="2924280"/>
            <a:ext cx="93492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476360" y="2924280"/>
            <a:ext cx="345600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81200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900000" y="62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21301200">
            <a:off x="2195640" y="321264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763200">
            <a:off x="1763280" y="393372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476360" y="4076640"/>
            <a:ext cx="2016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979640" y="4292640"/>
            <a:ext cx="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8000" y="422100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6836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62728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71640" y="4005360"/>
            <a:ext cx="0" cy="1584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76364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9564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62728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780000" y="333360"/>
            <a:ext cx="46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 efekt supstitu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 efekt doh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67280" y="1628640"/>
            <a:ext cx="424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ekt supstitucije uvijek dovodi do povećanja potražnje za robom čija je cijena p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ekt dohotka može ići u svakom pravcu ovisno o tome radi li se o normalnoj ili inferiornoj rob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ndeksi uvjeta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e razni indeksi uvjeta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BNI UVJETI TRGOVINE – indeks izvoznih cijena podijeljen s indeksom uvoznih cijena. Poboljšava se ako je veći od 100, što znači da izvozne cijene rastu brže od cijena uvoznih r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UT =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HODNI UVJETI TRGOVINE – ovo je mjera mogućnosti zemlje da uvozi r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 = 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*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dje 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dstavlja indeks promjene količine iz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e je primjerice da robni uvjeti trgovine budu ispod 100, a prihodni iznad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DNOSTRUKI FAKTORSKI UVJETI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FUT =(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*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dje 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edstavlja indeks porasta produktivnosti u proizvodnji izvozne r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 jednostrukog faktorskog uvjeta trgovine znači da zemlja dobiva više uvoza za danu jedinicu uloženog 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e je i da robni i prihodni uvjeti budu loši, a jednostruki faktorski dob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075520" cy="633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VOSTRUKI FAKTORSKI UVJETI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FUT = =(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*(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gdje 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edstavlja inozemni indeks produktivnosti za uvezenu ro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 DFUT pokazuje da se dana količina domaćih faktora proizvodnje u njenim izvoznim djelatnostima razmjenjuje za veću količinu usluga faktora proizvodnje u izvoznim sektorima zemlje trgovinskog part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403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RUT i PUT i JFUT mogu biti nepovoljni, a ovaj indeks povolj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i još i ZAPOSLENOŠĆU PONDERIRANI DVOSTRUKI FAKTORSKI UVJETI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z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1324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okazuje ponudu izvoza i potražnju za uvozom neke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je rast koji povećava nacionalne proizvodne mogućnosti više prema iz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teži da pogorša nacionalne uvjete trgovine u korist ostalih zemalja – mala zemlja preuzima svjetsku cijenu kakva jest, dok bi velika mogla na nju utjecati i imati neke kori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94036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3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3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580000" y="1989000"/>
            <a:ext cx="15843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e ponuda, iz čega slijedi da pada cije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ima za posljedicu pogoršanje uvjet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bi značilo da krivulja recipročne potražnje ide udesno. Imamo manje koristi od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cimo zemlja koja izvozi X: nudi više izvozne robe X, ali joj pada cijena. Malo više dobiva Y-a, a dala je mnogo više X-a jer je cijena p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oršavaju se uvjeti razm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74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ili uvozno supstitutivni rast usmjeren je više prema u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ži da popravi nacionalne uvjete trgovine na teret ostatka svi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3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580000" y="1844640"/>
            <a:ext cx="17287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321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va se proizvodnja uvoznog dobra Y, a smanjuje X-a, te njegova ponuda p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im time X-u raste ci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poboljšava uvjet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iromašujući 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0:35:06Z</dcterms:created>
  <dc:creator>Igor</dc:creator>
  <dc:description/>
  <dc:language>en-US</dc:language>
  <cp:lastModifiedBy>Josip</cp:lastModifiedBy>
  <dcterms:modified xsi:type="dcterms:W3CDTF">2007-05-02T12:40:21Z</dcterms:modified>
  <cp:revision>33</cp:revision>
  <dc:subject/>
  <dc:title>TEORIJE VANJSKE TRGOVINE</dc:title>
</cp:coreProperties>
</file>