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6BB0-B552-4D53-8331-2C568D00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8457-BA0D-401F-8EF1-F5FF475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8270-5656-4A08-8650-4D70A4C6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184D-05D3-476D-9415-F0679F5C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30F1-B132-4478-828D-FF7671E1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BD47-5B93-4D10-A07E-66EC3DD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DC1D-B3BC-4CC7-BC73-4CAEA1C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9265-4DF1-431B-B61A-ED7EB8F3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65FF-7701-4BF5-B159-610794C4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8E0-4779-4A92-A704-D1D5A7B6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164D-FD14-4680-9821-067E2EB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D78E0-6E2B-4675-8600-A6197FC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F50-2E42-4884-A945-12ECCE5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D214-CBA4-4C64-980B-D389A73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D9C8-52F3-4AE1-B984-0D0777F3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C21F-AB29-4C6B-9B4B-9F9BE314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AD79-2262-492D-BBE8-AC7CC007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5CC0-5A5C-4664-810D-218ADE62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A223-0E46-400B-B46C-F81883D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DD899-48B9-4F77-A2CD-F35FF3D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6FCF-582E-46B8-B6A1-DB9B693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75DD-D8F9-4E05-9946-C0D74213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D30F-1113-4F70-A5AE-AC719E0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CFB2-EC5F-4E2C-BFE5-48C9D4C3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7972-D8AB-45DD-94A6-2A7D5BD48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C78-1D15-41EC-9883-B22F70935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1989000"/>
            <a:ext cx="6875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žišna ravnoteža i određivanje međunarodnih odnosa razmje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oteža prije trgovine u dvije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1413000"/>
          <a:ext cx="664992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664992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427640" y="4292640"/>
            <a:ext cx="144360" cy="144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2160" y="40053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0440" y="1711440"/>
            <a:ext cx="2426040" cy="3657600"/>
          </a:xfrm>
          <a:custGeom>
            <a:avLst/>
            <a:gdLst/>
            <a:ahLst/>
            <a:rect l="l" t="t" r="r" b="b"/>
            <a:pathLst>
              <a:path w="2264" h="2504">
                <a:moveTo>
                  <a:pt x="0" y="0"/>
                </a:moveTo>
                <a:lnTo>
                  <a:pt x="2264" y="25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11200" y="27543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997360"/>
            <a:ext cx="152640" cy="1490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5920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3080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1480" y="2892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0080" y="48798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2760" y="1866960"/>
            <a:ext cx="3314520" cy="3217680"/>
          </a:xfrm>
          <a:custGeom>
            <a:avLst/>
            <a:gdLst/>
            <a:ahLst/>
            <a:rect l="l" t="t" r="r" b="b"/>
            <a:pathLst>
              <a:path w="2096" h="2016">
                <a:moveTo>
                  <a:pt x="0" y="0"/>
                </a:moveTo>
                <a:cubicBezTo>
                  <a:pt x="121" y="204"/>
                  <a:pt x="378" y="880"/>
                  <a:pt x="728" y="1216"/>
                </a:cubicBezTo>
                <a:cubicBezTo>
                  <a:pt x="1077" y="1551"/>
                  <a:pt x="1810" y="1849"/>
                  <a:pt x="2096" y="20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2997360"/>
            <a:ext cx="4248360" cy="25192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3716280"/>
            <a:ext cx="3549600" cy="188460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57160" y="51465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3080" y="5805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51000" y="21049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1989000"/>
            <a:ext cx="2025360" cy="3611880"/>
          </a:xfrm>
          <a:custGeom>
            <a:avLst/>
            <a:gdLst/>
            <a:ahLst/>
            <a:rect l="l" t="t" r="r" b="b"/>
            <a:pathLst>
              <a:path w="1388" h="2365">
                <a:moveTo>
                  <a:pt x="1388" y="2365"/>
                </a:moveTo>
                <a:cubicBezTo>
                  <a:pt x="1317" y="2098"/>
                  <a:pt x="1163" y="1150"/>
                  <a:pt x="932" y="757"/>
                </a:cubicBezTo>
                <a:cubicBezTo>
                  <a:pt x="700" y="363"/>
                  <a:pt x="194" y="15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03440" y="1866960"/>
            <a:ext cx="2705400" cy="2692440"/>
          </a:xfrm>
          <a:custGeom>
            <a:avLst/>
            <a:gdLst/>
            <a:ahLst/>
            <a:rect l="l" t="t" r="r" b="b"/>
            <a:pathLst>
              <a:path w="1704" h="1696">
                <a:moveTo>
                  <a:pt x="0" y="0"/>
                </a:moveTo>
                <a:cubicBezTo>
                  <a:pt x="87" y="169"/>
                  <a:pt x="244" y="741"/>
                  <a:pt x="528" y="1024"/>
                </a:cubicBezTo>
                <a:cubicBezTo>
                  <a:pt x="812" y="1306"/>
                  <a:pt x="1458" y="1555"/>
                  <a:pt x="1704" y="16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4437000"/>
            <a:ext cx="45720" cy="116388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1880" y="4374360"/>
            <a:ext cx="2832120" cy="1260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44480" y="3092400"/>
            <a:ext cx="1498680" cy="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74840" y="3174840"/>
            <a:ext cx="0" cy="24260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4175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72120" y="203976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563640" y="2422440"/>
            <a:ext cx="1617480" cy="50184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26360" y="3429000"/>
            <a:ext cx="22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32360" y="3705120"/>
            <a:ext cx="1440000" cy="44460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67160" y="148428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20560" y="1484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vnoteža nakon trgo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e6"/>
                </a:solidFill>
                <a:latin typeface="Arial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4760" y="1378080"/>
          <a:ext cx="665028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378080"/>
                    <a:ext cx="665028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56000" y="4292640"/>
            <a:ext cx="10188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3800" y="420516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4480" y="3071880"/>
            <a:ext cx="5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044880"/>
            <a:ext cx="10188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0200" y="564840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5360" y="564840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1480" y="2448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46160" y="1784520"/>
            <a:ext cx="3826080" cy="3701880"/>
          </a:xfrm>
          <a:prstGeom prst="line">
            <a:avLst/>
          </a:prstGeom>
          <a:ln w="38160">
            <a:solidFill>
              <a:srgbClr val="5272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3645000"/>
            <a:ext cx="3549600" cy="1955880"/>
          </a:xfrm>
          <a:custGeom>
            <a:avLst/>
            <a:gdLst/>
            <a:ahLst/>
            <a:rect l="l" t="t" r="r" b="b"/>
            <a:pathLst>
              <a:path w="2360" h="1280">
                <a:moveTo>
                  <a:pt x="0" y="0"/>
                </a:moveTo>
                <a:cubicBezTo>
                  <a:pt x="300" y="82"/>
                  <a:pt x="1406" y="282"/>
                  <a:pt x="1800" y="496"/>
                </a:cubicBezTo>
                <a:cubicBezTo>
                  <a:pt x="2193" y="709"/>
                  <a:pt x="2243" y="1116"/>
                  <a:pt x="2360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10040" y="508320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7440" y="566100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352080" y="2322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1916280"/>
            <a:ext cx="2097000" cy="3684600"/>
          </a:xfrm>
          <a:custGeom>
            <a:avLst/>
            <a:gdLst/>
            <a:ahLst/>
            <a:rect l="l" t="t" r="r" b="b"/>
            <a:pathLst>
              <a:path w="1388" h="2365">
                <a:moveTo>
                  <a:pt x="1388" y="2365"/>
                </a:moveTo>
                <a:cubicBezTo>
                  <a:pt x="1317" y="2098"/>
                  <a:pt x="1163" y="1150"/>
                  <a:pt x="932" y="757"/>
                </a:cubicBezTo>
                <a:cubicBezTo>
                  <a:pt x="700" y="363"/>
                  <a:pt x="194" y="15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4240" y="2025720"/>
            <a:ext cx="3232440" cy="2911320"/>
          </a:xfrm>
          <a:custGeom>
            <a:avLst/>
            <a:gdLst/>
            <a:ahLst/>
            <a:rect l="l" t="t" r="r" b="b"/>
            <a:pathLst>
              <a:path w="2036" h="1834">
                <a:moveTo>
                  <a:pt x="0" y="0"/>
                </a:moveTo>
                <a:cubicBezTo>
                  <a:pt x="87" y="169"/>
                  <a:pt x="188" y="718"/>
                  <a:pt x="528" y="1024"/>
                </a:cubicBezTo>
                <a:cubicBezTo>
                  <a:pt x="867" y="1329"/>
                  <a:pt x="1721" y="1665"/>
                  <a:pt x="2036" y="183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1360" y="4711680"/>
            <a:ext cx="0" cy="8762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3960" y="2730600"/>
            <a:ext cx="0" cy="285732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1480" y="4429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9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916000" y="2205000"/>
            <a:ext cx="1871640" cy="36036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emlj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003280" y="4365720"/>
            <a:ext cx="1297080" cy="215640"/>
          </a:xfrm>
          <a:prstGeom prst="line">
            <a:avLst/>
          </a:prstGeom>
          <a:ln w="2844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2587680"/>
            <a:ext cx="10152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0040" y="2635200"/>
            <a:ext cx="1092240" cy="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565520"/>
            <a:ext cx="101520" cy="101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4480" y="4626720"/>
            <a:ext cx="3137040" cy="180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6160" y="2565360"/>
            <a:ext cx="6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48040" y="3613320"/>
            <a:ext cx="101520" cy="1015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89840" y="4599000"/>
            <a:ext cx="6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264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31880" y="3675240"/>
            <a:ext cx="2184480" cy="144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98800" y="3645000"/>
            <a:ext cx="0" cy="1955880"/>
          </a:xfrm>
          <a:prstGeom prst="line">
            <a:avLst/>
          </a:prstGeom>
          <a:ln w="381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41680" y="56484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28880" y="3502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2760" y="1866960"/>
            <a:ext cx="3314520" cy="3217680"/>
          </a:xfrm>
          <a:custGeom>
            <a:avLst/>
            <a:gdLst/>
            <a:ahLst/>
            <a:rect l="l" t="t" r="r" b="b"/>
            <a:pathLst>
              <a:path w="2096" h="2016">
                <a:moveTo>
                  <a:pt x="0" y="0"/>
                </a:moveTo>
                <a:cubicBezTo>
                  <a:pt x="121" y="204"/>
                  <a:pt x="378" y="880"/>
                  <a:pt x="728" y="1216"/>
                </a:cubicBezTo>
                <a:cubicBezTo>
                  <a:pt x="1077" y="1551"/>
                  <a:pt x="1810" y="1849"/>
                  <a:pt x="2096" y="20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637000"/>
            <a:ext cx="1008000" cy="10080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3716280"/>
            <a:ext cx="1008000" cy="9367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95520" y="148428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33280" y="1557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 flipV="1">
            <a:off x="1402920" y="1267920"/>
            <a:ext cx="73080" cy="504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63086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4341960"/>
            <a:ext cx="5183280" cy="1966680"/>
          </a:xfrm>
          <a:custGeom>
            <a:avLst/>
            <a:gdLst/>
            <a:ahLst/>
            <a:rect l="l" t="t" r="r" b="b"/>
            <a:pathLst>
              <a:path w="3265" h="1194">
                <a:moveTo>
                  <a:pt x="0" y="15"/>
                </a:moveTo>
                <a:cubicBezTo>
                  <a:pt x="143" y="15"/>
                  <a:pt x="287" y="15"/>
                  <a:pt x="453" y="15"/>
                </a:cubicBezTo>
                <a:cubicBezTo>
                  <a:pt x="619" y="15"/>
                  <a:pt x="778" y="0"/>
                  <a:pt x="997" y="15"/>
                </a:cubicBezTo>
                <a:cubicBezTo>
                  <a:pt x="1216" y="30"/>
                  <a:pt x="1565" y="75"/>
                  <a:pt x="1769" y="105"/>
                </a:cubicBezTo>
                <a:cubicBezTo>
                  <a:pt x="1973" y="135"/>
                  <a:pt x="2063" y="143"/>
                  <a:pt x="2222" y="196"/>
                </a:cubicBezTo>
                <a:cubicBezTo>
                  <a:pt x="2381" y="249"/>
                  <a:pt x="2577" y="325"/>
                  <a:pt x="2721" y="423"/>
                </a:cubicBezTo>
                <a:cubicBezTo>
                  <a:pt x="2865" y="521"/>
                  <a:pt x="2993" y="657"/>
                  <a:pt x="3084" y="786"/>
                </a:cubicBezTo>
                <a:cubicBezTo>
                  <a:pt x="3175" y="915"/>
                  <a:pt x="3242" y="1126"/>
                  <a:pt x="3265" y="119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1916280"/>
            <a:ext cx="3888000" cy="2665080"/>
          </a:xfrm>
          <a:custGeom>
            <a:avLst/>
            <a:gdLst/>
            <a:ahLst/>
            <a:rect l="l" t="t" r="r" b="b"/>
            <a:pathLst>
              <a:path w="2404" h="1724">
                <a:moveTo>
                  <a:pt x="0" y="0"/>
                </a:moveTo>
                <a:cubicBezTo>
                  <a:pt x="56" y="253"/>
                  <a:pt x="113" y="507"/>
                  <a:pt x="181" y="681"/>
                </a:cubicBezTo>
                <a:cubicBezTo>
                  <a:pt x="249" y="855"/>
                  <a:pt x="310" y="916"/>
                  <a:pt x="408" y="1044"/>
                </a:cubicBezTo>
                <a:cubicBezTo>
                  <a:pt x="506" y="1172"/>
                  <a:pt x="612" y="1346"/>
                  <a:pt x="771" y="1452"/>
                </a:cubicBezTo>
                <a:cubicBezTo>
                  <a:pt x="930" y="1558"/>
                  <a:pt x="1156" y="1634"/>
                  <a:pt x="1360" y="1679"/>
                </a:cubicBezTo>
                <a:cubicBezTo>
                  <a:pt x="1564" y="1724"/>
                  <a:pt x="1821" y="1724"/>
                  <a:pt x="1995" y="1724"/>
                </a:cubicBezTo>
                <a:cubicBezTo>
                  <a:pt x="2169" y="1724"/>
                  <a:pt x="2336" y="1694"/>
                  <a:pt x="2404" y="1679"/>
                </a:cubicBezTo>
              </a:path>
            </a:pathLst>
          </a:custGeom>
          <a:noFill/>
          <a:ln w="57240">
            <a:solidFill>
              <a:srgbClr val="6c54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1916280"/>
            <a:ext cx="3456000" cy="2304720"/>
          </a:xfrm>
          <a:custGeom>
            <a:avLst/>
            <a:gdLst/>
            <a:ahLst/>
            <a:rect l="l" t="t" r="r" b="b"/>
            <a:pathLst>
              <a:path w="2086" h="1451">
                <a:moveTo>
                  <a:pt x="0" y="0"/>
                </a:moveTo>
                <a:cubicBezTo>
                  <a:pt x="3" y="79"/>
                  <a:pt x="7" y="159"/>
                  <a:pt x="45" y="272"/>
                </a:cubicBezTo>
                <a:cubicBezTo>
                  <a:pt x="83" y="385"/>
                  <a:pt x="144" y="544"/>
                  <a:pt x="227" y="680"/>
                </a:cubicBezTo>
                <a:cubicBezTo>
                  <a:pt x="310" y="816"/>
                  <a:pt x="438" y="990"/>
                  <a:pt x="544" y="1088"/>
                </a:cubicBezTo>
                <a:cubicBezTo>
                  <a:pt x="650" y="1186"/>
                  <a:pt x="726" y="1217"/>
                  <a:pt x="862" y="1270"/>
                </a:cubicBezTo>
                <a:cubicBezTo>
                  <a:pt x="998" y="1323"/>
                  <a:pt x="1210" y="1376"/>
                  <a:pt x="1361" y="1406"/>
                </a:cubicBezTo>
                <a:cubicBezTo>
                  <a:pt x="1512" y="1436"/>
                  <a:pt x="1648" y="1451"/>
                  <a:pt x="1769" y="1451"/>
                </a:cubicBezTo>
                <a:cubicBezTo>
                  <a:pt x="1890" y="1451"/>
                  <a:pt x="1988" y="1428"/>
                  <a:pt x="2086" y="1406"/>
                </a:cubicBezTo>
              </a:path>
            </a:pathLst>
          </a:custGeom>
          <a:noFill/>
          <a:ln w="57240">
            <a:solidFill>
              <a:srgbClr val="6c54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2276640"/>
            <a:ext cx="5545440" cy="352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005360"/>
            <a:ext cx="4608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844640"/>
            <a:ext cx="2521080" cy="374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2924280"/>
            <a:ext cx="71640" cy="33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3860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3860640"/>
            <a:ext cx="7164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494172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51640" y="4941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ređenje međunarodnog odnosa raz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95640" y="3860640"/>
            <a:ext cx="1656000" cy="10810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51160" y="155736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88560" y="1557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8720" y="3213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5040" y="386064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47080" y="5013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z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8320" y="429264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42120" y="5445000"/>
            <a:ext cx="43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01720" y="4869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65000" y="54450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2492280"/>
            <a:ext cx="2232000" cy="3816360"/>
          </a:xfrm>
          <a:custGeom>
            <a:avLst/>
            <a:gdLst/>
            <a:ahLst/>
            <a:rect l="l" t="t" r="r" b="b"/>
            <a:pathLst>
              <a:path w="1406" h="2404">
                <a:moveTo>
                  <a:pt x="0" y="0"/>
                </a:moveTo>
                <a:cubicBezTo>
                  <a:pt x="223" y="45"/>
                  <a:pt x="446" y="91"/>
                  <a:pt x="635" y="227"/>
                </a:cubicBezTo>
                <a:cubicBezTo>
                  <a:pt x="824" y="363"/>
                  <a:pt x="1006" y="454"/>
                  <a:pt x="1134" y="817"/>
                </a:cubicBezTo>
                <a:cubicBezTo>
                  <a:pt x="1262" y="1180"/>
                  <a:pt x="1368" y="2140"/>
                  <a:pt x="1406" y="2404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852640"/>
            <a:ext cx="1584360" cy="10080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7440" y="6461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352080" y="23223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izvo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6:17:09Z</dcterms:created>
  <dc:creator>Mato Grgić</dc:creator>
  <dc:description/>
  <dc:language>en-US</dc:language>
  <cp:lastModifiedBy>Mato Grgić</cp:lastModifiedBy>
  <dcterms:modified xsi:type="dcterms:W3CDTF">2004-11-28T21:23:54Z</dcterms:modified>
  <cp:revision>3</cp:revision>
  <dc:subject/>
  <dc:title>Tržišna ravnoteža i određivanje međunarodnih odnosa razmjene</dc:title>
</cp:coreProperties>
</file>