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8A0B1-B92F-4E55-836D-5385577C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E1635-A931-4DFC-95E4-78B964DE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CC2C0-DBDF-47FF-A518-5C98DA90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57EB5-6BA4-482B-B07E-85DA2544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30D3-EEDD-43C7-BA85-4F7EF465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CE7C-4907-44C8-BD39-1205EAF6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E792-BAFC-4F07-A68D-B2914AB8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A506-F564-4FA1-AC37-EE05F095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7AC0-09D4-47FE-B85D-2D393E95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09F3-5692-41A4-8016-9CCA7F88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18B3-4BDD-4381-BA1B-52888A42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51C1-241A-426F-B36B-5DF931DF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4161-E830-4B10-97DC-241AED4B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F6B1-A961-42A7-875C-553DDF98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8C12-563E-44C5-8256-45A767E3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FA43-B03C-4F2E-90B4-6179BA4C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4B7E-92E0-4AB5-87A5-778D799C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D3D43-198E-4174-9BA8-9A3EBC38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9BF31-CC0C-42E9-B7FF-FE655B1D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7EA8B-BFE6-4748-9DAF-F644FD9E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B4F6D-53A4-44A3-9445-DAF28AC6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5F319-9B46-4BB7-B19A-AF26A991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07D9E-DDEF-43BC-944F-E5471CA2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825BB-B517-4C9A-AD47-4706E672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F1E3-ABA9-4E8D-87D1-038077BA4891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1135-48BC-4ABB-90E8-ED156B6D8EE5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000" y="1989000"/>
            <a:ext cx="6227640" cy="222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Rast faktorske raspoloživosti </a:t>
            </a:r>
            <a:br>
              <a:rPr sz="4400"/>
            </a:b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( Rybczynski teorem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05120" y="380880"/>
            <a:ext cx="3429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1905120"/>
            <a:ext cx="0" cy="358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5486400"/>
            <a:ext cx="5486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3809880"/>
            <a:ext cx="4647960" cy="914400"/>
          </a:xfrm>
          <a:prstGeom prst="line">
            <a:avLst/>
          </a:prstGeom>
          <a:ln w="25560">
            <a:solidFill>
              <a:srgbClr val="66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981080" y="3390840"/>
            <a:ext cx="2592360" cy="2098800"/>
            <a:chOff x="1981080" y="3390840"/>
            <a:chExt cx="2592360" cy="2098800"/>
          </a:xfrm>
        </p:grpSpPr>
        <p:sp>
          <p:nvSpPr>
            <p:cNvPr id="112" name=""/>
            <p:cNvSpPr/>
            <p:nvPr/>
          </p:nvSpPr>
          <p:spPr>
            <a:xfrm>
              <a:off x="1981080" y="3429000"/>
              <a:ext cx="2592360" cy="2060640"/>
            </a:xfrm>
            <a:custGeom>
              <a:avLst/>
              <a:gdLst/>
              <a:ahLst/>
              <a:rect l="l" t="t" r="r" b="b"/>
              <a:pathLst>
                <a:path w="1633" h="1298">
                  <a:moveTo>
                    <a:pt x="0" y="0"/>
                  </a:moveTo>
                  <a:lnTo>
                    <a:pt x="137" y="9"/>
                  </a:lnTo>
                  <a:lnTo>
                    <a:pt x="272" y="22"/>
                  </a:lnTo>
                  <a:lnTo>
                    <a:pt x="340" y="33"/>
                  </a:lnTo>
                  <a:lnTo>
                    <a:pt x="409" y="47"/>
                  </a:lnTo>
                  <a:lnTo>
                    <a:pt x="477" y="65"/>
                  </a:lnTo>
                  <a:lnTo>
                    <a:pt x="545" y="89"/>
                  </a:lnTo>
                  <a:lnTo>
                    <a:pt x="614" y="118"/>
                  </a:lnTo>
                  <a:lnTo>
                    <a:pt x="685" y="152"/>
                  </a:lnTo>
                  <a:lnTo>
                    <a:pt x="757" y="190"/>
                  </a:lnTo>
                  <a:lnTo>
                    <a:pt x="829" y="233"/>
                  </a:lnTo>
                  <a:lnTo>
                    <a:pt x="899" y="276"/>
                  </a:lnTo>
                  <a:lnTo>
                    <a:pt x="966" y="322"/>
                  </a:lnTo>
                  <a:lnTo>
                    <a:pt x="1030" y="368"/>
                  </a:lnTo>
                  <a:lnTo>
                    <a:pt x="1088" y="413"/>
                  </a:lnTo>
                  <a:lnTo>
                    <a:pt x="1193" y="506"/>
                  </a:lnTo>
                  <a:lnTo>
                    <a:pt x="1284" y="606"/>
                  </a:lnTo>
                  <a:lnTo>
                    <a:pt x="1363" y="705"/>
                  </a:lnTo>
                  <a:lnTo>
                    <a:pt x="1428" y="796"/>
                  </a:lnTo>
                  <a:lnTo>
                    <a:pt x="1456" y="838"/>
                  </a:lnTo>
                  <a:lnTo>
                    <a:pt x="1478" y="877"/>
                  </a:lnTo>
                  <a:lnTo>
                    <a:pt x="1513" y="954"/>
                  </a:lnTo>
                  <a:lnTo>
                    <a:pt x="1540" y="1025"/>
                  </a:lnTo>
                  <a:lnTo>
                    <a:pt x="1564" y="1090"/>
                  </a:lnTo>
                  <a:lnTo>
                    <a:pt x="1587" y="1149"/>
                  </a:lnTo>
                  <a:lnTo>
                    <a:pt x="1605" y="1202"/>
                  </a:lnTo>
                  <a:lnTo>
                    <a:pt x="1619" y="1250"/>
                  </a:lnTo>
                  <a:lnTo>
                    <a:pt x="1632" y="1297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62280" y="3390840"/>
              <a:ext cx="17524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5320" y="3886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981080" y="3276720"/>
            <a:ext cx="4878360" cy="2212920"/>
          </a:xfrm>
          <a:custGeom>
            <a:avLst/>
            <a:gdLst/>
            <a:ahLst/>
            <a:rect l="l" t="t" r="r" b="b"/>
            <a:pathLst>
              <a:path w="3073" h="1394">
                <a:moveTo>
                  <a:pt x="0" y="0"/>
                </a:moveTo>
                <a:lnTo>
                  <a:pt x="256" y="9"/>
                </a:lnTo>
                <a:lnTo>
                  <a:pt x="513" y="24"/>
                </a:lnTo>
                <a:lnTo>
                  <a:pt x="768" y="51"/>
                </a:lnTo>
                <a:lnTo>
                  <a:pt x="1024" y="95"/>
                </a:lnTo>
                <a:lnTo>
                  <a:pt x="1289" y="163"/>
                </a:lnTo>
                <a:lnTo>
                  <a:pt x="1561" y="250"/>
                </a:lnTo>
                <a:lnTo>
                  <a:pt x="1693" y="298"/>
                </a:lnTo>
                <a:lnTo>
                  <a:pt x="1819" y="347"/>
                </a:lnTo>
                <a:lnTo>
                  <a:pt x="1940" y="396"/>
                </a:lnTo>
                <a:lnTo>
                  <a:pt x="2049" y="444"/>
                </a:lnTo>
                <a:lnTo>
                  <a:pt x="2244" y="545"/>
                </a:lnTo>
                <a:lnTo>
                  <a:pt x="2416" y="652"/>
                </a:lnTo>
                <a:lnTo>
                  <a:pt x="2565" y="757"/>
                </a:lnTo>
                <a:lnTo>
                  <a:pt x="2689" y="854"/>
                </a:lnTo>
                <a:lnTo>
                  <a:pt x="2741" y="900"/>
                </a:lnTo>
                <a:lnTo>
                  <a:pt x="2782" y="943"/>
                </a:lnTo>
                <a:lnTo>
                  <a:pt x="2849" y="1025"/>
                </a:lnTo>
                <a:lnTo>
                  <a:pt x="2899" y="1101"/>
                </a:lnTo>
                <a:lnTo>
                  <a:pt x="2945" y="1171"/>
                </a:lnTo>
                <a:lnTo>
                  <a:pt x="2988" y="1234"/>
                </a:lnTo>
                <a:lnTo>
                  <a:pt x="3021" y="1291"/>
                </a:lnTo>
                <a:lnTo>
                  <a:pt x="3072" y="1393"/>
                </a:lnTo>
              </a:path>
            </a:pathLst>
          </a:custGeom>
          <a:noFill/>
          <a:ln cap="rnd"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029200" y="3733920"/>
            <a:ext cx="1752480" cy="1218960"/>
            <a:chOff x="5029200" y="3733920"/>
            <a:chExt cx="1752480" cy="1218960"/>
          </a:xfrm>
        </p:grpSpPr>
        <p:sp>
          <p:nvSpPr>
            <p:cNvPr id="117" name=""/>
            <p:cNvSpPr/>
            <p:nvPr/>
          </p:nvSpPr>
          <p:spPr>
            <a:xfrm>
              <a:off x="5029200" y="3733920"/>
              <a:ext cx="175248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5040" y="4363920"/>
              <a:ext cx="149400" cy="1494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571400" y="1638360"/>
            <a:ext cx="42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5173560"/>
            <a:ext cx="42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3962520"/>
            <a:ext cx="15242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396252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4419720"/>
            <a:ext cx="4038840" cy="0"/>
          </a:xfrm>
          <a:prstGeom prst="line">
            <a:avLst/>
          </a:prstGeom>
          <a:ln w="2556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4419720"/>
            <a:ext cx="0" cy="1066680"/>
          </a:xfrm>
          <a:prstGeom prst="line">
            <a:avLst/>
          </a:prstGeom>
          <a:ln w="2556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59080" y="40384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57913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16440" y="2592360"/>
            <a:ext cx="2283120" cy="835200"/>
            <a:chOff x="5716440" y="2592360"/>
            <a:chExt cx="2283120" cy="835200"/>
          </a:xfrm>
        </p:grpSpPr>
        <p:sp>
          <p:nvSpPr>
            <p:cNvPr id="128" name=""/>
            <p:cNvSpPr/>
            <p:nvPr/>
          </p:nvSpPr>
          <p:spPr>
            <a:xfrm>
              <a:off x="5716440" y="2592360"/>
              <a:ext cx="2283120" cy="8352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6156000" y="2705040"/>
              <a:ext cx="549720" cy="519120"/>
              <a:chOff x="6156000" y="2705040"/>
              <a:chExt cx="549720" cy="519120"/>
            </a:xfrm>
          </p:grpSpPr>
          <p:sp>
            <p:nvSpPr>
              <p:cNvPr id="130" name=""/>
              <p:cNvSpPr/>
              <p:nvPr/>
            </p:nvSpPr>
            <p:spPr>
              <a:xfrm>
                <a:off x="6156000" y="2705040"/>
                <a:ext cx="421200" cy="5191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7d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6705720" y="2819520"/>
                <a:ext cx="0" cy="380880"/>
              </a:xfrm>
              <a:prstGeom prst="line">
                <a:avLst/>
              </a:prstGeom>
              <a:ln w="25560">
                <a:solidFill>
                  <a:srgbClr val="666699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949800" y="2735280"/>
              <a:ext cx="441720" cy="519120"/>
              <a:chOff x="6949800" y="2735280"/>
              <a:chExt cx="441720" cy="519120"/>
            </a:xfrm>
          </p:grpSpPr>
          <p:sp>
            <p:nvSpPr>
              <p:cNvPr id="133" name=""/>
              <p:cNvSpPr/>
              <p:nvPr/>
            </p:nvSpPr>
            <p:spPr>
              <a:xfrm>
                <a:off x="6949800" y="2735280"/>
                <a:ext cx="421200" cy="5191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7d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7391520" y="2819520"/>
                <a:ext cx="0" cy="380880"/>
              </a:xfrm>
              <a:prstGeom prst="line">
                <a:avLst/>
              </a:prstGeom>
              <a:ln w="25560">
                <a:solidFill>
                  <a:srgbClr val="666699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6416640" y="5589720"/>
            <a:ext cx="272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adom-intenziv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3960" y="1670040"/>
            <a:ext cx="316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apitalom-intenziv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48360" y="4005360"/>
            <a:ext cx="30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Arial"/>
              </a:rPr>
              <a:t>Rybczynski pra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71960" y="56325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6200" y="56325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39720" y="42609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39720" y="372744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05120" y="380880"/>
            <a:ext cx="3429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1989000"/>
            <a:ext cx="1440" cy="349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5486400"/>
            <a:ext cx="5486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4000" y="3429000"/>
            <a:ext cx="4608720" cy="1295280"/>
          </a:xfrm>
          <a:prstGeom prst="line">
            <a:avLst/>
          </a:prstGeom>
          <a:ln w="57240">
            <a:solidFill>
              <a:srgbClr val="66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3213000"/>
            <a:ext cx="2522520" cy="2235240"/>
          </a:xfrm>
          <a:custGeom>
            <a:avLst/>
            <a:gdLst/>
            <a:ahLst/>
            <a:rect l="l" t="t" r="r" b="b"/>
            <a:pathLst>
              <a:path w="1633" h="1298">
                <a:moveTo>
                  <a:pt x="0" y="0"/>
                </a:moveTo>
                <a:lnTo>
                  <a:pt x="137" y="9"/>
                </a:lnTo>
                <a:lnTo>
                  <a:pt x="272" y="22"/>
                </a:lnTo>
                <a:lnTo>
                  <a:pt x="340" y="33"/>
                </a:lnTo>
                <a:lnTo>
                  <a:pt x="409" y="47"/>
                </a:lnTo>
                <a:lnTo>
                  <a:pt x="477" y="65"/>
                </a:lnTo>
                <a:lnTo>
                  <a:pt x="545" y="89"/>
                </a:lnTo>
                <a:lnTo>
                  <a:pt x="614" y="118"/>
                </a:lnTo>
                <a:lnTo>
                  <a:pt x="685" y="152"/>
                </a:lnTo>
                <a:lnTo>
                  <a:pt x="757" y="190"/>
                </a:lnTo>
                <a:lnTo>
                  <a:pt x="829" y="233"/>
                </a:lnTo>
                <a:lnTo>
                  <a:pt x="899" y="276"/>
                </a:lnTo>
                <a:lnTo>
                  <a:pt x="966" y="322"/>
                </a:lnTo>
                <a:lnTo>
                  <a:pt x="1030" y="368"/>
                </a:lnTo>
                <a:lnTo>
                  <a:pt x="1088" y="413"/>
                </a:lnTo>
                <a:lnTo>
                  <a:pt x="1193" y="506"/>
                </a:lnTo>
                <a:lnTo>
                  <a:pt x="1284" y="606"/>
                </a:lnTo>
                <a:lnTo>
                  <a:pt x="1363" y="705"/>
                </a:lnTo>
                <a:lnTo>
                  <a:pt x="1428" y="796"/>
                </a:lnTo>
                <a:lnTo>
                  <a:pt x="1456" y="838"/>
                </a:lnTo>
                <a:lnTo>
                  <a:pt x="1478" y="877"/>
                </a:lnTo>
                <a:lnTo>
                  <a:pt x="1513" y="954"/>
                </a:lnTo>
                <a:lnTo>
                  <a:pt x="1540" y="1025"/>
                </a:lnTo>
                <a:lnTo>
                  <a:pt x="1564" y="1090"/>
                </a:lnTo>
                <a:lnTo>
                  <a:pt x="1587" y="1149"/>
                </a:lnTo>
                <a:lnTo>
                  <a:pt x="1605" y="1202"/>
                </a:lnTo>
                <a:lnTo>
                  <a:pt x="1619" y="1250"/>
                </a:lnTo>
                <a:lnTo>
                  <a:pt x="1632" y="1297"/>
                </a:lnTo>
              </a:path>
            </a:pathLst>
          </a:custGeom>
          <a:noFill/>
          <a:ln cap="rnd"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3500280"/>
            <a:ext cx="152640" cy="1666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2997360"/>
            <a:ext cx="4879800" cy="2492280"/>
          </a:xfrm>
          <a:custGeom>
            <a:avLst/>
            <a:gdLst/>
            <a:ahLst/>
            <a:rect l="l" t="t" r="r" b="b"/>
            <a:pathLst>
              <a:path w="3073" h="1394">
                <a:moveTo>
                  <a:pt x="0" y="0"/>
                </a:moveTo>
                <a:lnTo>
                  <a:pt x="256" y="9"/>
                </a:lnTo>
                <a:lnTo>
                  <a:pt x="513" y="24"/>
                </a:lnTo>
                <a:lnTo>
                  <a:pt x="768" y="51"/>
                </a:lnTo>
                <a:lnTo>
                  <a:pt x="1024" y="95"/>
                </a:lnTo>
                <a:lnTo>
                  <a:pt x="1289" y="163"/>
                </a:lnTo>
                <a:lnTo>
                  <a:pt x="1561" y="250"/>
                </a:lnTo>
                <a:lnTo>
                  <a:pt x="1693" y="298"/>
                </a:lnTo>
                <a:lnTo>
                  <a:pt x="1819" y="347"/>
                </a:lnTo>
                <a:lnTo>
                  <a:pt x="1940" y="396"/>
                </a:lnTo>
                <a:lnTo>
                  <a:pt x="2049" y="444"/>
                </a:lnTo>
                <a:lnTo>
                  <a:pt x="2244" y="545"/>
                </a:lnTo>
                <a:lnTo>
                  <a:pt x="2416" y="652"/>
                </a:lnTo>
                <a:lnTo>
                  <a:pt x="2565" y="757"/>
                </a:lnTo>
                <a:lnTo>
                  <a:pt x="2689" y="854"/>
                </a:lnTo>
                <a:lnTo>
                  <a:pt x="2741" y="900"/>
                </a:lnTo>
                <a:lnTo>
                  <a:pt x="2782" y="943"/>
                </a:lnTo>
                <a:lnTo>
                  <a:pt x="2849" y="1025"/>
                </a:lnTo>
                <a:lnTo>
                  <a:pt x="2899" y="1101"/>
                </a:lnTo>
                <a:lnTo>
                  <a:pt x="2945" y="1171"/>
                </a:lnTo>
                <a:lnTo>
                  <a:pt x="2988" y="1234"/>
                </a:lnTo>
                <a:lnTo>
                  <a:pt x="3021" y="1291"/>
                </a:lnTo>
                <a:lnTo>
                  <a:pt x="3072" y="1393"/>
                </a:lnTo>
              </a:path>
            </a:pathLst>
          </a:custGeom>
          <a:noFill/>
          <a:ln cap="rnd"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16360" y="2421000"/>
            <a:ext cx="2232000" cy="28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2852640"/>
            <a:ext cx="182520" cy="222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1484280"/>
            <a:ext cx="420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67640" y="5373720"/>
            <a:ext cx="42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79640" y="3573360"/>
            <a:ext cx="576360" cy="0"/>
          </a:xfrm>
          <a:prstGeom prst="line">
            <a:avLst/>
          </a:prstGeom>
          <a:ln w="126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4365720"/>
            <a:ext cx="17280" cy="1120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4581360"/>
            <a:ext cx="4392720" cy="0"/>
          </a:xfrm>
          <a:prstGeom prst="line">
            <a:avLst/>
          </a:prstGeom>
          <a:ln w="255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72360" y="4508640"/>
            <a:ext cx="0" cy="1066680"/>
          </a:xfrm>
          <a:prstGeom prst="line">
            <a:avLst/>
          </a:prstGeom>
          <a:ln w="255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3645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916360" y="5949720"/>
            <a:ext cx="3240000" cy="14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877080" y="2997360"/>
            <a:ext cx="2050920" cy="834840"/>
            <a:chOff x="6877080" y="2997360"/>
            <a:chExt cx="2050920" cy="834840"/>
          </a:xfrm>
        </p:grpSpPr>
        <p:sp>
          <p:nvSpPr>
            <p:cNvPr id="160" name=""/>
            <p:cNvSpPr/>
            <p:nvPr/>
          </p:nvSpPr>
          <p:spPr>
            <a:xfrm>
              <a:off x="6877080" y="2997360"/>
              <a:ext cx="2050920" cy="834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7272000" y="3109680"/>
              <a:ext cx="493200" cy="519120"/>
              <a:chOff x="7272000" y="3109680"/>
              <a:chExt cx="493200" cy="519120"/>
            </a:xfrm>
          </p:grpSpPr>
          <p:sp>
            <p:nvSpPr>
              <p:cNvPr id="162" name=""/>
              <p:cNvSpPr/>
              <p:nvPr/>
            </p:nvSpPr>
            <p:spPr>
              <a:xfrm>
                <a:off x="7272000" y="3109680"/>
                <a:ext cx="377280" cy="5191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6699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7765200" y="3223440"/>
                <a:ext cx="0" cy="380520"/>
              </a:xfrm>
              <a:prstGeom prst="line">
                <a:avLst/>
              </a:prstGeom>
              <a:ln w="25560">
                <a:solidFill>
                  <a:srgbClr val="666699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984800" y="3139920"/>
              <a:ext cx="421200" cy="519120"/>
              <a:chOff x="7984800" y="3139920"/>
              <a:chExt cx="421200" cy="519120"/>
            </a:xfrm>
          </p:grpSpPr>
          <p:sp>
            <p:nvSpPr>
              <p:cNvPr id="165" name=""/>
              <p:cNvSpPr/>
              <p:nvPr/>
            </p:nvSpPr>
            <p:spPr>
              <a:xfrm>
                <a:off x="7984800" y="3139920"/>
                <a:ext cx="421200" cy="5191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6699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8381160" y="3223440"/>
                <a:ext cx="0" cy="380520"/>
              </a:xfrm>
              <a:prstGeom prst="line">
                <a:avLst/>
              </a:prstGeom>
              <a:ln w="25560">
                <a:solidFill>
                  <a:srgbClr val="666699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6516720" y="580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adom-intenzivna ro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2600" y="1557360"/>
            <a:ext cx="359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Zemljištem – intenzivna ro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61040" y="5589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15960" y="5589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35040" y="4437000"/>
            <a:ext cx="4460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81040" y="3357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3429000"/>
            <a:ext cx="1224000" cy="2087640"/>
          </a:xfrm>
          <a:custGeom>
            <a:avLst/>
            <a:gdLst/>
            <a:ahLst/>
            <a:rect l="l" t="t" r="r" b="b"/>
            <a:pathLst>
              <a:path w="726" h="1330">
                <a:moveTo>
                  <a:pt x="0" y="15"/>
                </a:moveTo>
                <a:cubicBezTo>
                  <a:pt x="19" y="7"/>
                  <a:pt x="38" y="0"/>
                  <a:pt x="91" y="15"/>
                </a:cubicBezTo>
                <a:cubicBezTo>
                  <a:pt x="144" y="30"/>
                  <a:pt x="258" y="61"/>
                  <a:pt x="318" y="106"/>
                </a:cubicBezTo>
                <a:cubicBezTo>
                  <a:pt x="378" y="151"/>
                  <a:pt x="416" y="219"/>
                  <a:pt x="454" y="287"/>
                </a:cubicBezTo>
                <a:cubicBezTo>
                  <a:pt x="492" y="355"/>
                  <a:pt x="515" y="408"/>
                  <a:pt x="545" y="514"/>
                </a:cubicBezTo>
                <a:cubicBezTo>
                  <a:pt x="575" y="620"/>
                  <a:pt x="605" y="786"/>
                  <a:pt x="635" y="922"/>
                </a:cubicBezTo>
                <a:cubicBezTo>
                  <a:pt x="665" y="1058"/>
                  <a:pt x="718" y="1262"/>
                  <a:pt x="726" y="133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3141720"/>
            <a:ext cx="2117520" cy="179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4292640"/>
            <a:ext cx="181080" cy="220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3111480"/>
            <a:ext cx="3240000" cy="2333520"/>
          </a:xfrm>
          <a:custGeom>
            <a:avLst/>
            <a:gdLst/>
            <a:ahLst/>
            <a:rect l="l" t="t" r="r" b="b"/>
            <a:pathLst>
              <a:path w="1633" h="1298">
                <a:moveTo>
                  <a:pt x="0" y="0"/>
                </a:moveTo>
                <a:lnTo>
                  <a:pt x="137" y="9"/>
                </a:lnTo>
                <a:lnTo>
                  <a:pt x="272" y="22"/>
                </a:lnTo>
                <a:lnTo>
                  <a:pt x="340" y="33"/>
                </a:lnTo>
                <a:lnTo>
                  <a:pt x="409" y="47"/>
                </a:lnTo>
                <a:lnTo>
                  <a:pt x="477" y="65"/>
                </a:lnTo>
                <a:lnTo>
                  <a:pt x="545" y="89"/>
                </a:lnTo>
                <a:lnTo>
                  <a:pt x="614" y="118"/>
                </a:lnTo>
                <a:lnTo>
                  <a:pt x="685" y="152"/>
                </a:lnTo>
                <a:lnTo>
                  <a:pt x="757" y="190"/>
                </a:lnTo>
                <a:lnTo>
                  <a:pt x="829" y="233"/>
                </a:lnTo>
                <a:lnTo>
                  <a:pt x="899" y="276"/>
                </a:lnTo>
                <a:lnTo>
                  <a:pt x="966" y="322"/>
                </a:lnTo>
                <a:lnTo>
                  <a:pt x="1030" y="368"/>
                </a:lnTo>
                <a:lnTo>
                  <a:pt x="1088" y="413"/>
                </a:lnTo>
                <a:lnTo>
                  <a:pt x="1193" y="506"/>
                </a:lnTo>
                <a:lnTo>
                  <a:pt x="1284" y="606"/>
                </a:lnTo>
                <a:lnTo>
                  <a:pt x="1363" y="705"/>
                </a:lnTo>
                <a:lnTo>
                  <a:pt x="1428" y="796"/>
                </a:lnTo>
                <a:lnTo>
                  <a:pt x="1456" y="838"/>
                </a:lnTo>
                <a:lnTo>
                  <a:pt x="1478" y="877"/>
                </a:lnTo>
                <a:lnTo>
                  <a:pt x="1513" y="954"/>
                </a:lnTo>
                <a:lnTo>
                  <a:pt x="1540" y="1025"/>
                </a:lnTo>
                <a:lnTo>
                  <a:pt x="1564" y="1090"/>
                </a:lnTo>
                <a:lnTo>
                  <a:pt x="1587" y="1149"/>
                </a:lnTo>
                <a:lnTo>
                  <a:pt x="1605" y="1202"/>
                </a:lnTo>
                <a:lnTo>
                  <a:pt x="1619" y="1250"/>
                </a:lnTo>
                <a:lnTo>
                  <a:pt x="1632" y="1297"/>
                </a:lnTo>
              </a:path>
            </a:pathLst>
          </a:custGeom>
          <a:noFill/>
          <a:ln cap="rnd"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00720" y="4508640"/>
            <a:ext cx="152640" cy="1666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4365720"/>
            <a:ext cx="14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3645000"/>
            <a:ext cx="0" cy="1871640"/>
          </a:xfrm>
          <a:prstGeom prst="line">
            <a:avLst/>
          </a:prstGeom>
          <a:ln w="126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48360" y="2997360"/>
            <a:ext cx="71280" cy="2447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2924280"/>
            <a:ext cx="3168720" cy="73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44680" y="3141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8320" y="4149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0680" y="3933720"/>
            <a:ext cx="451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36680" y="2492280"/>
            <a:ext cx="451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24800" y="4581360"/>
            <a:ext cx="2422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Putanja proizvod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419640" y="2565000"/>
            <a:ext cx="2232000" cy="187164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48760" y="2349360"/>
            <a:ext cx="216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anja potroš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18440" y="55166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8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0800" y="55166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5516640"/>
            <a:ext cx="5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9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79160" y="55166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9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91880" y="55166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9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8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jena komparativne prednosti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 robi intenzivnoj zemljište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5633640" y="4130640"/>
            <a:ext cx="287640" cy="1189080"/>
          </a:xfrm>
          <a:custGeom>
            <a:avLst/>
            <a:gdLst>
              <a:gd name="textAreaLeft" fmla="*/ 0 w 287640"/>
              <a:gd name="textAreaRight" fmla="*/ 103680 w 287640"/>
              <a:gd name="textAreaTop" fmla="*/ 30960 h 1189080"/>
              <a:gd name="textAreaBottom" fmla="*/ 1158120 h 11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2807640" y="4041000"/>
            <a:ext cx="288720" cy="792000"/>
          </a:xfrm>
          <a:custGeom>
            <a:avLst/>
            <a:gdLst>
              <a:gd name="textAreaLeft" fmla="*/ 0 w 288720"/>
              <a:gd name="textAreaRight" fmla="*/ 104040 w 288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1575"/>
                </a:lnTo>
                <a:cubicBezTo>
                  <a:pt x="10800" y="12475"/>
                  <a:pt x="16200" y="13375"/>
                  <a:pt x="21600" y="13375"/>
                </a:cubicBezTo>
                <a:cubicBezTo>
                  <a:pt x="16200" y="13375"/>
                  <a:pt x="10800" y="14275"/>
                  <a:pt x="10800" y="151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29520" y="477360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iz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45200" y="4508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u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9640" y="3357720"/>
            <a:ext cx="1944720" cy="2087280"/>
          </a:xfrm>
          <a:custGeom>
            <a:avLst/>
            <a:gdLst/>
            <a:ahLst/>
            <a:rect l="l" t="t" r="r" b="b"/>
            <a:pathLst>
              <a:path w="1225" h="1315">
                <a:moveTo>
                  <a:pt x="0" y="0"/>
                </a:moveTo>
                <a:cubicBezTo>
                  <a:pt x="128" y="7"/>
                  <a:pt x="257" y="15"/>
                  <a:pt x="363" y="45"/>
                </a:cubicBezTo>
                <a:cubicBezTo>
                  <a:pt x="469" y="75"/>
                  <a:pt x="552" y="121"/>
                  <a:pt x="635" y="181"/>
                </a:cubicBezTo>
                <a:cubicBezTo>
                  <a:pt x="718" y="241"/>
                  <a:pt x="786" y="310"/>
                  <a:pt x="862" y="408"/>
                </a:cubicBezTo>
                <a:cubicBezTo>
                  <a:pt x="938" y="506"/>
                  <a:pt x="1036" y="665"/>
                  <a:pt x="1089" y="771"/>
                </a:cubicBezTo>
                <a:cubicBezTo>
                  <a:pt x="1142" y="877"/>
                  <a:pt x="1156" y="952"/>
                  <a:pt x="1179" y="1043"/>
                </a:cubicBezTo>
                <a:cubicBezTo>
                  <a:pt x="1202" y="1134"/>
                  <a:pt x="1213" y="1224"/>
                  <a:pt x="1225" y="1315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11280" y="3573360"/>
            <a:ext cx="144720" cy="792360"/>
          </a:xfrm>
          <a:custGeom>
            <a:avLst/>
            <a:gdLst>
              <a:gd name="textAreaLeft" fmla="*/ 92520 w 144720"/>
              <a:gd name="textAreaRight" fmla="*/ 145080 w 1447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92360" y="3789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iz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03640" y="2997360"/>
            <a:ext cx="144720" cy="1584000"/>
          </a:xfrm>
          <a:custGeom>
            <a:avLst/>
            <a:gdLst>
              <a:gd name="textAreaLeft" fmla="*/ 92520 w 144720"/>
              <a:gd name="textAreaRight" fmla="*/ 145080 w 144720"/>
              <a:gd name="textAreaTop" fmla="*/ 41040 h 1584000"/>
              <a:gd name="textAreaBottom" fmla="*/ 154296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16840" y="3621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u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0" y="3860640"/>
            <a:ext cx="1019160" cy="755640"/>
          </a:xfrm>
          <a:custGeom>
            <a:avLst/>
            <a:gdLst/>
            <a:ahLst/>
            <a:rect l="l" t="t" r="r" b="b"/>
            <a:pathLst>
              <a:path w="642" h="476">
                <a:moveTo>
                  <a:pt x="0" y="0"/>
                </a:moveTo>
                <a:cubicBezTo>
                  <a:pt x="49" y="86"/>
                  <a:pt x="98" y="173"/>
                  <a:pt x="136" y="226"/>
                </a:cubicBezTo>
                <a:cubicBezTo>
                  <a:pt x="174" y="279"/>
                  <a:pt x="159" y="279"/>
                  <a:pt x="227" y="317"/>
                </a:cubicBezTo>
                <a:cubicBezTo>
                  <a:pt x="295" y="355"/>
                  <a:pt x="476" y="430"/>
                  <a:pt x="544" y="453"/>
                </a:cubicBezTo>
                <a:cubicBezTo>
                  <a:pt x="612" y="476"/>
                  <a:pt x="642" y="460"/>
                  <a:pt x="635" y="453"/>
                </a:cubicBezTo>
              </a:path>
            </a:pathLst>
          </a:cu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649800">
            <a:off x="4858920" y="2492280"/>
            <a:ext cx="1019160" cy="755640"/>
          </a:xfrm>
          <a:custGeom>
            <a:avLst/>
            <a:gdLst/>
            <a:ahLst/>
            <a:rect l="l" t="t" r="r" b="b"/>
            <a:pathLst>
              <a:path w="642" h="476">
                <a:moveTo>
                  <a:pt x="0" y="0"/>
                </a:moveTo>
                <a:cubicBezTo>
                  <a:pt x="49" y="86"/>
                  <a:pt x="98" y="173"/>
                  <a:pt x="136" y="226"/>
                </a:cubicBezTo>
                <a:cubicBezTo>
                  <a:pt x="174" y="279"/>
                  <a:pt x="159" y="279"/>
                  <a:pt x="227" y="317"/>
                </a:cubicBezTo>
                <a:cubicBezTo>
                  <a:pt x="295" y="355"/>
                  <a:pt x="476" y="430"/>
                  <a:pt x="544" y="453"/>
                </a:cubicBezTo>
                <a:cubicBezTo>
                  <a:pt x="612" y="476"/>
                  <a:pt x="642" y="460"/>
                  <a:pt x="635" y="453"/>
                </a:cubicBezTo>
              </a:path>
            </a:pathLst>
          </a:cu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4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24160" y="1143000"/>
            <a:ext cx="0" cy="487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32080" y="6019920"/>
            <a:ext cx="601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6858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91160" y="579132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47960" y="-1668600"/>
            <a:ext cx="563796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8" y="21600"/>
                </a:moveTo>
                <a:arcTo wR="10800" hR="10800" stAng="5403874" swAng="5396126"/>
                <a:lnTo>
                  <a:pt x="10800" y="10800"/>
                </a:lnTo>
                <a:close/>
              </a:path>
              <a:path fill="none" w="21600" h="21600">
                <a:moveTo>
                  <a:pt x="10788" y="21600"/>
                </a:moveTo>
                <a:arcTo wR="10800" hR="10800" stAng="5403874" swAng="5396126"/>
              </a:path>
            </a:pathLst>
          </a:custGeom>
          <a:noFill/>
          <a:ln cap="rnd"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58960" y="762120"/>
            <a:ext cx="493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1828800"/>
            <a:ext cx="4190760" cy="419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500720" y="5300640"/>
                <a:ext cx="4316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3448080" y="-159840"/>
            <a:ext cx="5638680" cy="56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8" y="21600"/>
                </a:moveTo>
                <a:arcTo wR="10800" hR="10800" stAng="5403874" swAng="5498687"/>
                <a:lnTo>
                  <a:pt x="10800" y="10800"/>
                </a:lnTo>
                <a:close/>
              </a:path>
              <a:path fill="none" w="21600" h="21600">
                <a:moveTo>
                  <a:pt x="10788" y="21600"/>
                </a:moveTo>
                <a:arcTo wR="10800" hR="10800" stAng="5403874" swAng="5498687"/>
              </a:path>
            </a:pathLst>
          </a:custGeom>
          <a:noFill/>
          <a:ln cap="rnd"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33880" y="2133720"/>
            <a:ext cx="493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438200" y="3755520"/>
            <a:ext cx="4668840" cy="224172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432080" y="1519200"/>
            <a:ext cx="2036520" cy="448632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300720" y="3213000"/>
                <a:ext cx="5479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564000" y="907920"/>
                <a:ext cx="5731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 flipV="1">
            <a:off x="1422360" y="1309680"/>
            <a:ext cx="4586400" cy="4705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130800" y="712800"/>
                <a:ext cx="420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 flipV="1">
            <a:off x="1403280" y="1557360"/>
            <a:ext cx="5761080" cy="446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7273800" y="1170000"/>
                <a:ext cx="420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2373480" y="1752120"/>
            <a:ext cx="4545000" cy="2190960"/>
            <a:chOff x="2373480" y="1752120"/>
            <a:chExt cx="4545000" cy="2190960"/>
          </a:xfrm>
        </p:grpSpPr>
        <p:sp>
          <p:nvSpPr>
            <p:cNvPr id="225" name=""/>
            <p:cNvSpPr/>
            <p:nvPr/>
          </p:nvSpPr>
          <p:spPr>
            <a:xfrm flipV="1">
              <a:off x="2373480" y="1763280"/>
              <a:ext cx="4539960" cy="2179800"/>
            </a:xfrm>
            <a:prstGeom prst="line">
              <a:avLst/>
            </a:prstGeom>
            <a:ln w="28440">
              <a:solidFill>
                <a:srgbClr val="66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977080" y="1752120"/>
              <a:ext cx="941400" cy="2073240"/>
            </a:xfrm>
            <a:prstGeom prst="line">
              <a:avLst/>
            </a:prstGeom>
            <a:ln w="28440">
              <a:solidFill>
                <a:srgbClr val="66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143000" y="58672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9000" y="-970560"/>
            <a:ext cx="5639400" cy="5636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18" y="21311"/>
                </a:moveTo>
                <a:arcTo wR="10800" hR="10800" stAng="6197092" swAng="3640070"/>
                <a:lnTo>
                  <a:pt x="10800" y="10800"/>
                </a:lnTo>
                <a:close/>
              </a:path>
              <a:path fill="none" w="21600" h="21600">
                <a:moveTo>
                  <a:pt x="8318" y="21311"/>
                </a:moveTo>
                <a:arcTo wR="10800" hR="10800" stAng="6197092" swAng="3640070"/>
              </a:path>
            </a:pathLst>
          </a:custGeom>
          <a:noFill/>
          <a:ln cap="rnd"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78440" y="2209680"/>
            <a:ext cx="547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ＭＳ Ｐゴシック"/>
              </a:rPr>
              <a:t>X'</a:t>
            </a:r>
            <a:r>
              <a:rPr b="0" lang="en-US" sz="2400" spc="-1" strike="noStrike" baseline="-25000">
                <a:solidFill>
                  <a:srgbClr val="666699"/>
                </a:solidFill>
                <a:latin typeface="Times New Roman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57360" y="-990360"/>
            <a:ext cx="5635800" cy="563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60" y="21070"/>
                </a:moveTo>
                <a:arcTo wR="10800" hR="10800" stAng="6480957" swAng="2699946"/>
                <a:lnTo>
                  <a:pt x="10800" y="10800"/>
                </a:lnTo>
                <a:close/>
              </a:path>
              <a:path fill="none" w="21600" h="21600">
                <a:moveTo>
                  <a:pt x="7460" y="21070"/>
                </a:moveTo>
                <a:arcTo wR="10800" hR="10800" stAng="6480957" swAng="2699946"/>
              </a:path>
            </a:pathLst>
          </a:custGeom>
          <a:noFill/>
          <a:ln cap="rnd"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93440" y="4343400"/>
            <a:ext cx="547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ＭＳ Ｐゴシック"/>
              </a:rPr>
              <a:t>Y'</a:t>
            </a:r>
            <a:r>
              <a:rPr b="0" lang="en-US" sz="2400" spc="-1" strike="noStrike" baseline="-25000">
                <a:solidFill>
                  <a:srgbClr val="666699"/>
                </a:solidFill>
                <a:latin typeface="Times New Roman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749680" y="1743120"/>
            <a:ext cx="2827080" cy="2892240"/>
            <a:chOff x="2749680" y="1743120"/>
            <a:chExt cx="2827080" cy="2892240"/>
          </a:xfrm>
        </p:grpSpPr>
        <p:sp>
          <p:nvSpPr>
            <p:cNvPr id="233" name=""/>
            <p:cNvSpPr/>
            <p:nvPr/>
          </p:nvSpPr>
          <p:spPr>
            <a:xfrm flipV="1">
              <a:off x="2749680" y="1753920"/>
              <a:ext cx="2820960" cy="13539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264200" y="1743120"/>
              <a:ext cx="1312560" cy="2892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444680" y="1752480"/>
            <a:ext cx="4118040" cy="4267440"/>
            <a:chOff x="1444680" y="1752480"/>
            <a:chExt cx="4118040" cy="4267440"/>
          </a:xfrm>
        </p:grpSpPr>
        <p:sp>
          <p:nvSpPr>
            <p:cNvPr id="236" name=""/>
            <p:cNvSpPr/>
            <p:nvPr/>
          </p:nvSpPr>
          <p:spPr>
            <a:xfrm>
              <a:off x="1444680" y="1766880"/>
              <a:ext cx="4118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62720" y="175248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651640" y="177336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340000" y="3141720"/>
            <a:ext cx="28728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427640" y="3933720"/>
            <a:ext cx="151272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5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Teorem Rybczynsk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rast količine raspoloživog rada uz fiksnu količinu kapitala uvjetuje porast količine proizvodnje robe x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z nepromijenjenu faktorsku intenzivnost dolazi do realokacije kapitala u proizvodnju robe 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ima za posljedicu smanjenje proizvodnje robe 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lativno povećanje robe x je veće od relativnog povećanja rada i relativnog smanjenja proizvodnje robe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7:29:38Z</dcterms:created>
  <dc:creator>Mato Grgić</dc:creator>
  <dc:description/>
  <dc:language>en-US</dc:language>
  <cp:lastModifiedBy>Mato Grgić</cp:lastModifiedBy>
  <dcterms:modified xsi:type="dcterms:W3CDTF">2004-11-28T21:26:43Z</dcterms:modified>
  <cp:revision>2</cp:revision>
  <dc:subject/>
  <dc:title>Rast faktorske raspoloživosti  ( Rybczynski teorem)</dc:title>
</cp:coreProperties>
</file>