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breeze.wav" ContentType="audio/x-wav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C3755-A993-44E6-81F2-B7346449D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EEAAB-3CA3-4E37-B838-1FB434F0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06AC3-A7A2-49E1-815E-FDAA3F93F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C7904-E3F9-4512-B796-04E6CBAD7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0879-8021-44E6-8A69-F3311954C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43B7-FF75-446B-98B1-B410EF8E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FEC9-2C42-42D4-8D53-D6BA0391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0332-C8E9-4671-A1FF-1F92105E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B8FD-EB05-4DA5-8A7C-C0DEB35F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18A5-53EE-4C67-B0F9-1DC97BA9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1616-C992-4128-A625-29AD09B0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B22CC-2240-4602-82C5-2796A7C4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A6E3-D257-484D-B3F4-81D2182B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98B6-DE44-44D4-B076-FD691B7D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E68E-D94A-4AD5-9340-7435DD82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A56D-6770-42BB-81DF-CD6EDA2C7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2687-092A-42CB-847E-179A2B21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7E50D-584B-4827-870C-59019440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A2E35-7C24-4BE3-94EB-D006E650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6557B-6A7E-44CE-BE72-CA89E161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5B4E3-E3C1-480F-8D54-806118D7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8225A-86B9-4F94-A29B-9C764D23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151F9-24CF-4A67-A4D2-1434E8E9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ED36D-FEDE-4685-B84C-BB663927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2786-8C54-4920-8AC2-D7241BD42F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E388-601F-4473-ACF1-367130DAFC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STOPA EFEKTIVNE ZAŠTIT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42920" y="476280"/>
            <a:ext cx="69850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topa efektivne zašt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187280" y="2133720"/>
            <a:ext cx="6840360" cy="3310920"/>
            <a:chOff x="1187280" y="2133720"/>
            <a:chExt cx="6840360" cy="331092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1187280" y="2133720"/>
              <a:ext cx="6840360" cy="331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10040" y="2193840"/>
              <a:ext cx="6577560" cy="31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spcBef>
                  <a:spcPts val="451"/>
                </a:spcBef>
                <a:buClr>
                  <a:srgbClr val="000000"/>
                </a:buClr>
                <a:buSzPct val="75000"/>
                <a:buFont typeface="Monotype Sort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 flipH="1">
            <a:off x="1907640" y="2708280"/>
            <a:ext cx="5688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07640" y="2997360"/>
            <a:ext cx="3095640" cy="2447640"/>
          </a:xfrm>
          <a:prstGeom prst="line">
            <a:avLst/>
          </a:prstGeom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08000" y="3933720"/>
            <a:ext cx="935280" cy="13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07640" y="4797360"/>
            <a:ext cx="575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8000" y="6093000"/>
            <a:ext cx="612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842920" y="907920"/>
            <a:ext cx="3097080" cy="302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907640" y="4221000"/>
            <a:ext cx="5759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908000" y="1197000"/>
            <a:ext cx="0" cy="489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907640" y="2133720"/>
            <a:ext cx="2808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907640" y="1700280"/>
            <a:ext cx="5688360" cy="1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716000" y="1700280"/>
            <a:ext cx="71640" cy="439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843280" y="2923920"/>
            <a:ext cx="576360" cy="936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492360" y="907920"/>
            <a:ext cx="2016360" cy="1943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4066920" y="2708280"/>
            <a:ext cx="73080" cy="338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71640" y="479736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92360" y="4221000"/>
            <a:ext cx="0" cy="187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84720" y="1341360"/>
            <a:ext cx="1295640" cy="1871640"/>
          </a:xfrm>
          <a:prstGeom prst="line">
            <a:avLst/>
          </a:prstGeom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00720" y="1700280"/>
            <a:ext cx="142920" cy="439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20000" y="2708280"/>
            <a:ext cx="73080" cy="338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11640" y="5805360"/>
            <a:ext cx="504720" cy="0"/>
          </a:xfrm>
          <a:prstGeom prst="line">
            <a:avLst/>
          </a:prstGeom>
          <a:ln w="38160">
            <a:solidFill>
              <a:srgbClr val="f1a6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516720" y="5805360"/>
            <a:ext cx="503280" cy="0"/>
          </a:xfrm>
          <a:prstGeom prst="line">
            <a:avLst/>
          </a:prstGeom>
          <a:ln w="38160">
            <a:solidFill>
              <a:srgbClr val="f1a6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92360" y="4221000"/>
            <a:ext cx="1295640" cy="5763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16360" y="1700280"/>
            <a:ext cx="1584360" cy="98748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03280" y="4221000"/>
            <a:ext cx="71640" cy="576360"/>
          </a:xfrm>
          <a:custGeom>
            <a:avLst/>
            <a:gdLst>
              <a:gd name="textAreaLeft" fmla="*/ 45720 w 71640"/>
              <a:gd name="textAreaRight" fmla="*/ 72000 w 7164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03280" y="162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opa efektivne zaštite= (ST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GF)/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25320" y="836640"/>
            <a:ext cx="8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ij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89280" y="6491160"/>
            <a:ext cx="39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Book Antiqua"/>
              </a:rPr>
              <a:t>količina inputa i finalnog proizv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63120" y="1530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55920" y="2538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04080" y="1989000"/>
            <a:ext cx="4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M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58800" y="405144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55560" y="4627440"/>
            <a:ext cx="35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60960" y="5084640"/>
            <a:ext cx="35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61680" y="5373720"/>
            <a:ext cx="31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99"/>
                </a:solidFill>
                <a:latin typeface="Book Antiqu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70760" y="60930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04440" y="609300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K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46320" y="60930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06920" y="609300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43840" y="6093000"/>
            <a:ext cx="3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80320" y="6093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88160" y="458136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G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764840" y="400536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F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42640" y="479736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16960" y="4797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87880" y="386064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52000" y="3860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V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959000" y="2924280"/>
            <a:ext cx="35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99"/>
                </a:solidFill>
                <a:latin typeface="Book Antiqua"/>
              </a:rPr>
              <a:t>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408440" y="32130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ff"/>
                </a:solidFill>
                <a:latin typeface="Book Antiqua"/>
              </a:rPr>
              <a:t>D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00200" y="112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ff"/>
                </a:solidFill>
                <a:latin typeface="Book Antiqu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66640" y="69228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H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77240" y="3716280"/>
            <a:ext cx="29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J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83400" y="278136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L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10800" y="1341360"/>
            <a:ext cx="3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09360" y="141300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96080" y="1557360"/>
            <a:ext cx="35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T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88880" y="2492280"/>
            <a:ext cx="35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42400" y="26370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23760" y="263700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64640" y="43657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58960" y="609300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68320" y="69228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h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5400000">
            <a:off x="5364000" y="5013360"/>
            <a:ext cx="431640" cy="158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1a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37720" y="1844640"/>
            <a:ext cx="3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5471640" y="3968640"/>
            <a:ext cx="216000" cy="2879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74880 h 2879640"/>
              <a:gd name="textAreaBottom" fmla="*/ 280476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19640" y="49276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vo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8T18:50:31Z</dcterms:created>
  <dc:creator>Mato Grgić</dc:creator>
  <dc:description/>
  <dc:language>en-US</dc:language>
  <cp:lastModifiedBy>Mato Grgić</cp:lastModifiedBy>
  <dcterms:modified xsi:type="dcterms:W3CDTF">2004-11-28T21:28:46Z</dcterms:modified>
  <cp:revision>2</cp:revision>
  <dc:subject/>
  <dc:title>STOPA EFEKTIVNE ZAŠTITE</dc:title>
</cp:coreProperties>
</file>