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307-6BBB-4C54-BD14-2F867A35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9D7-AF33-4C05-98B0-A05FEAE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66A-B54D-4AB2-AEC0-16F47242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199-54F3-4166-95B8-97922BF3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17C-255C-41CA-9C43-560B6392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45D-8353-4D1A-94AD-EB5FF740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735-693A-4AD5-95B7-1A2D7191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37F-E27B-4AFA-80CD-CEF391EA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7E1-40A5-4D6E-AE54-5B395725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145-1E37-45A4-A002-48745AC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511-7514-47F2-9162-632769D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257-5800-4637-AB30-C18437F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3AC-DA56-458C-B6EE-7A4163C5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Teorije vanjske trgo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RKANTILI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A APSOLUTNIH PREDNOSTI A. SMIT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ORIJA KOMPARATIVNIH PREDNOSTI D. RIC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ECKSCHER-OHLINOVA TEORIJA VANJSK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66"/>
                </a:solidFill>
                <a:latin typeface="Arial"/>
              </a:rPr>
              <a:t>NOVIJE TEORIJE VANJSKE TRG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 Linderove teorije mogu se izvesti slijedeći zaključc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uvjet za izvoz industrijskih proizvoda jest postojanje postojanje domaće potražnje za istim proizvod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vozni sektori su samo oni koji su dovoljno veliki, tj. koji zadovoljavaju domaću potražnj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je veća sličnost struktura privreda dviju zemalja, veća je mogućnost njihove međusobne razmje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encijalni volumen vanjske trgovine dviju zemalja je veći što je razina dohotka per capita u njima bliža,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11280" y="2276640"/>
            <a:ext cx="6264360" cy="2881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 flipV="1" rot="20202000">
            <a:off x="2579760" y="-144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48000" y="263700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34800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3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3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04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to zemlja ne može doseći krivulju indiferencije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500"/>
                            </p:stCondLst>
                            <p:childTnLst>
                              <p:par>
                                <p:cTn id="8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3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3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tjecaj promjena svjetske cijene na domaća tržiš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124000" y="155736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133720" y="3715920"/>
            <a:ext cx="351792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2124000" y="2997360"/>
            <a:ext cx="2160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03280" y="2781360"/>
            <a:ext cx="49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124000" y="2133720"/>
            <a:ext cx="503280" cy="43164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195280" y="2421000"/>
            <a:ext cx="936360" cy="72072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340000" y="2708280"/>
            <a:ext cx="1295280" cy="1008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131640" y="2924280"/>
            <a:ext cx="1079640" cy="8650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140000" y="3213000"/>
            <a:ext cx="502920" cy="50328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003640" y="3500280"/>
            <a:ext cx="216000" cy="216000"/>
          </a:xfrm>
          <a:prstGeom prst="line">
            <a:avLst/>
          </a:prstGeom>
          <a:ln cap="rnd"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195640" y="3933720"/>
            <a:ext cx="431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95640" y="3860640"/>
            <a:ext cx="64764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195640" y="407664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195640" y="4005360"/>
            <a:ext cx="360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124000" y="3789360"/>
            <a:ext cx="79236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050920" y="4149720"/>
            <a:ext cx="289080" cy="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55280" y="4005360"/>
            <a:ext cx="1584360" cy="431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4508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1116000" y="981000"/>
            <a:ext cx="1511280" cy="172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0920" y="26028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roš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19280" y="3141720"/>
            <a:ext cx="0" cy="503280"/>
          </a:xfrm>
          <a:prstGeom prst="line">
            <a:avLst/>
          </a:prstGeom>
          <a:ln cap="rnd"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otvaranja i vanjske trgovine, pod pretpostavkom da je svjetska cijena niža, dolazi do slijedećih efek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domaće pon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e domaće potrošn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nja potrošačeva viš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a proizvođačeva viš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900000" y="620640"/>
            <a:ext cx="7920000" cy="704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Izvori dobitaka od trgov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4000" y="1700280"/>
            <a:ext cx="8280360" cy="47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bici zemlje od trgovine koji povećavaju blagostanje mogu se podijeliti na dva dij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postavimo da trgovina mijenja relativnu cijenu, a zemlja nastavlja proizvoditi u točki autarkične ravnoteže,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korist u povećanju blagostanja krećući se od točke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bici od specijalizaci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mjena relativne cijene dovodi do promjene proizvodnje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a će osjetiti dodatnu korist u blagostanju zbog proizvodne specijalizacije mjerene kretanjem od to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 flipV="1">
            <a:off x="1547640" y="112500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47640" y="609300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284720" y="1844640"/>
            <a:ext cx="2158920" cy="338472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63640" y="2205000"/>
            <a:ext cx="5905440" cy="324000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059280" y="3429000"/>
            <a:ext cx="3889080" cy="216072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618920" y="4797000"/>
            <a:ext cx="504036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19280" y="422100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0072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47640" y="29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32000" y="299736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651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659640" y="486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348000" y="2205000"/>
            <a:ext cx="2016000" cy="3600360"/>
          </a:xfrm>
          <a:prstGeom prst="line">
            <a:avLst/>
          </a:prstGeom>
          <a:ln w="38160">
            <a:solidFill>
              <a:srgbClr val="6c5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771640" y="3068640"/>
            <a:ext cx="360360" cy="172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284720" y="4292640"/>
            <a:ext cx="142920" cy="504720"/>
          </a:xfrm>
          <a:custGeom>
            <a:avLst/>
            <a:gdLst>
              <a:gd name="textAreaLeft" fmla="*/ 91440 w 142920"/>
              <a:gd name="textAreaRight" fmla="*/ 1432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7640" y="3715920"/>
            <a:ext cx="289080" cy="3457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53"/>
                </a:lnTo>
                <a:cubicBezTo>
                  <a:pt x="10800" y="10453"/>
                  <a:pt x="5400" y="11353"/>
                  <a:pt x="0" y="11353"/>
                </a:cubicBezTo>
                <a:cubicBezTo>
                  <a:pt x="5400" y="11353"/>
                  <a:pt x="10800" y="12253"/>
                  <a:pt x="10800" y="131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6200000">
            <a:off x="4931640" y="4437720"/>
            <a:ext cx="288720" cy="115092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89"/>
                </a:lnTo>
                <a:cubicBezTo>
                  <a:pt x="10800" y="10689"/>
                  <a:pt x="5400" y="11589"/>
                  <a:pt x="0" y="11589"/>
                </a:cubicBezTo>
                <a:cubicBezTo>
                  <a:pt x="5400" y="11589"/>
                  <a:pt x="10800" y="12489"/>
                  <a:pt x="10800" y="133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fekti otvaranja i djelomična specij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00720" y="4005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5928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Q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863960" y="566100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143800" y="38606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512160" y="4365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851280" y="1916280"/>
            <a:ext cx="2158920" cy="34560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719520" y="155736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157280" y="148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810320" y="1413000"/>
            <a:ext cx="3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I’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21331200">
            <a:off x="5219640" y="1625760"/>
            <a:ext cx="2086200" cy="3668400"/>
          </a:xfrm>
          <a:custGeom>
            <a:avLst/>
            <a:gdLst/>
            <a:ahLst/>
            <a:rect l="l" t="t" r="r" b="b"/>
            <a:pathLst>
              <a:path w="1315" h="2177">
                <a:moveTo>
                  <a:pt x="0" y="0"/>
                </a:moveTo>
                <a:cubicBezTo>
                  <a:pt x="11" y="136"/>
                  <a:pt x="22" y="272"/>
                  <a:pt x="45" y="408"/>
                </a:cubicBezTo>
                <a:cubicBezTo>
                  <a:pt x="68" y="544"/>
                  <a:pt x="98" y="688"/>
                  <a:pt x="136" y="816"/>
                </a:cubicBezTo>
                <a:cubicBezTo>
                  <a:pt x="174" y="944"/>
                  <a:pt x="219" y="1058"/>
                  <a:pt x="272" y="1179"/>
                </a:cubicBezTo>
                <a:cubicBezTo>
                  <a:pt x="325" y="1300"/>
                  <a:pt x="385" y="1436"/>
                  <a:pt x="453" y="1542"/>
                </a:cubicBezTo>
                <a:cubicBezTo>
                  <a:pt x="521" y="1648"/>
                  <a:pt x="597" y="1738"/>
                  <a:pt x="680" y="1814"/>
                </a:cubicBezTo>
                <a:cubicBezTo>
                  <a:pt x="763" y="1890"/>
                  <a:pt x="846" y="1935"/>
                  <a:pt x="952" y="1996"/>
                </a:cubicBezTo>
                <a:cubicBezTo>
                  <a:pt x="1058" y="2057"/>
                  <a:pt x="1262" y="2154"/>
                  <a:pt x="1315" y="2177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63960" y="515772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08720" y="4581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598080" y="458136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53080" y="6165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189080" y="1341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060720" y="19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878880" y="5445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669440" y="530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8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436360" y="60213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44000" y="602136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916360" y="6021360"/>
            <a:ext cx="7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4436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04472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042920" y="278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547640" y="4797360"/>
            <a:ext cx="4104000" cy="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549600">
            <a:off x="-2979720" y="2372040"/>
            <a:ext cx="7908840" cy="617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9" y="2"/>
                </a:moveTo>
                <a:arcTo wR="10800" hR="10800" stAng="-5330382" swAng="5355444"/>
                <a:lnTo>
                  <a:pt x="10800" y="10800"/>
                </a:lnTo>
                <a:close/>
              </a:path>
              <a:path fill="none" w="21600" h="21600">
                <a:moveTo>
                  <a:pt x="11019" y="2"/>
                </a:moveTo>
                <a:arcTo wR="10800" hR="10800" stAng="-5330382" swAng="53554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405080" y="602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9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2500"/>
                            </p:stCondLst>
                            <p:childTnLst>
                              <p:par>
                                <p:cTn id="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3000"/>
                            </p:stCondLst>
                            <p:childTnLst>
                              <p:par>
                                <p:cTn id="9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44640"/>
            <a:ext cx="8610480" cy="48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hnološka promjena utječe na svjetsku trgovinu stalnim uvođenjem novih dobara na tržište i unapređivanjem načina proizvodnje postojećih proizv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bog toga što tehnologija nije podjednako dostupna svim zemljama nastaju tehnološki jazovi u kojima je najnaprednija tehnologija koncentrirana u relativno malo zemal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del tehnološkog jaza naglašava vremenski pomak u imita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Teorija životnog ciklusa proizv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e zemlja otvori – novi odnos cijena p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i dalje proizvodi u Q – ne može tako brzo mijenjati proizvod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m su potrošači ustanovili te cijene p’ – krenuli su kupovati preko granice i dosegli višu krivulju indiferencije I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nja je i dalje u Q. Potrošači su ti koji brzo reagiraju, imaju novce u ruk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 uvesti mm’ X-a, a izvesti nn’ Y-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kazalo se da imamo komparativnu prednost u Y-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kut pokazuje trgovinu te zemlje s inozemstv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a nam je omogućila dosizanje više krivulje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ac p’ siječe krivulju proizvodnih mogućnosti, a to nije optimal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o bi bilo da p’ dodiruje K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učemo p’ tako da tangira KPM – dosežemo još višu krivulju proizvodnih moguć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mamo 2 troku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ji trokut je efekt otvaranja – ostala je ista struktura proizvodnje, promijenila se struktura potrošnje, dosegli smo viš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ći trokut je efekt specijalizacije – mijenja se i struktura proizvod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5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rot="678000">
            <a:off x="2556000" y="206028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08720" y="5445000"/>
            <a:ext cx="122400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32720" y="486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4923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71640" y="249228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rot="20409600">
            <a:off x="3348000" y="3284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41128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635280" y="386064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16360" y="1341360"/>
            <a:ext cx="2519280" cy="3959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195640" y="1557360"/>
            <a:ext cx="2376360" cy="3672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340000" y="3357720"/>
            <a:ext cx="4464000" cy="180000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06728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x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3059280" y="2133720"/>
            <a:ext cx="28872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rot="763200">
            <a:off x="3203280" y="155736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70836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24000" y="1773360"/>
            <a:ext cx="2376720" cy="367164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03640" y="3645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987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fekti otvaran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 – 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promjena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efekt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 efekt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ukupna korist od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 – s = efekt supstitu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-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= dohodovni efek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1476360" y="620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476360" y="558972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2924280"/>
            <a:ext cx="9349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76360" y="2924280"/>
            <a:ext cx="345600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812000" y="558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00000" y="62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rot="21301200">
            <a:off x="2195640" y="3212640"/>
            <a:ext cx="107928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763200">
            <a:off x="1763280" y="393372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476360" y="4076640"/>
            <a:ext cx="2016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979640" y="4292640"/>
            <a:ext cx="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08000" y="422100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6836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2728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771640" y="4005360"/>
            <a:ext cx="0" cy="1584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763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9564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62728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33360"/>
            <a:ext cx="46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supstitu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 efekt doho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067280" y="1628640"/>
            <a:ext cx="424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supstitucije uvijek dovodi do povećanja potražnje za robom čija je cijena 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fekt dohotka može ići u svakom pravcu ovisno o tome radi li se o normalnoj ili inferiornoj rob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ndeksi uvjeta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e razni indeksi uvjeta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BNI UVJETI TRGOVINE – indeks izvoznih cijena podijeljen s indeksom uvoznih cijena. Poboljšava se ako je veći od 100, što znači da izvozne cijene rastu brže od cijena uvoznih r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T =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HODNI UVJETI TRGOVINE – ovo je mjera mogućnosti zemlje da uvozi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 = 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*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stavlja indeks promjene količine iz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primjerice da robni uvjeti trgovine budu ispod 100, a prihodni iznad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N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FUT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deks porasta produktivnosti u proizvodnji izvozne r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jednostrukog faktorskog uvjeta trgovine znači da zemlja dobiva više uvoza za danu jedinicu uloženog 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e je i da robni i prihodni uvjeti budu loši, a jednostruki faktorski dob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odel životnog ciklusa proizvo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glašava proces standardiza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novog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izvodnja i potrošnja samo u zemlji inov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rasta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Rast potražnje kod kuće i u inozemstvu dovodi do izvoza proizvoda iz zemlje inov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II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starenja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Proizvod je standardiziran i licenciran drugim zemlj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IV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imitacije 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Zemlja imitacije prodaje proizvod u trećim zemlj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Stadij V: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Faza imitacije I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Zemlja imitacije izvozi proizvod u zemlju inov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075520" cy="633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OSTRUKI FAKTORSKI UVJETI TRGO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FUT = =(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*(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gdje 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edstavlja inozemni indeks produktivnosti za uvezenu rob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 DFUT pokazuje da se dana količina domaćih faktora proizvodnje u njenim izvoznim djelatnostima razmjenjuje za veću količinu usluga faktora proizvodnje u izvoznim sektorima zemlje trgovinskog part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4032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RUT i PUT i JFUT mogu biti nepovoljni, a ovaj indeks povolj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oji još i ZAPOSLENOŠĆU PONDERIRANI DVOSTRUKI FAKTORSKI UVJETI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je rast koji povećava nacionalne proizvodne mogućnosti više prema iz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teži da pogorša nacionalne uvjete trgovine u korist ostalih zemalja – mala zemlja preuzima svjetsku cijenu kakva jest, dok bi velika mogla na nju utjecati i imati neke kori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94036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3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3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580000" y="1989000"/>
            <a:ext cx="15843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te ponuda, iz čega slijedi da pada cije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o usmjereni rast ima za posljedicu pogoršanje uvjet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bi značilo da krivulja recipročne potražnje ide udesno. Imamo manje koristi od trgov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cimo zemlja koja izvozi X: nudi više izvozne robe X, ali joj pada cijena. Malo više dobiva Y-a, a dala je mnogo više X-a jer je cijena p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goršavaju se uvjeti razm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Uvozno usmjereni rast i njegov utjecaj na trgovin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743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ili uvozno supstitutivni rast usmjeren je više prema uvoznoj ro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ži da popravi nacionalne uvjete trgovine na teret ostatka svi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3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3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549360"/>
            <a:ext cx="8458200" cy="585144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86728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133720"/>
            <a:ext cx="0" cy="3886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00000" y="3068640"/>
            <a:ext cx="7841160" cy="2819160"/>
            <a:chOff x="900000" y="3068640"/>
            <a:chExt cx="7841160" cy="2819160"/>
          </a:xfrm>
        </p:grpSpPr>
        <p:sp>
          <p:nvSpPr>
            <p:cNvPr id="66" name=""/>
            <p:cNvSpPr/>
            <p:nvPr/>
          </p:nvSpPr>
          <p:spPr>
            <a:xfrm>
              <a:off x="900000" y="3068640"/>
              <a:ext cx="6172200" cy="2819160"/>
            </a:xfrm>
            <a:custGeom>
              <a:avLst/>
              <a:gdLst/>
              <a:ahLst/>
              <a:rect l="l" t="t" r="r" b="b"/>
              <a:pathLst>
                <a:path w="3696" h="1768">
                  <a:moveTo>
                    <a:pt x="0" y="1768"/>
                  </a:moveTo>
                  <a:cubicBezTo>
                    <a:pt x="232" y="1620"/>
                    <a:pt x="464" y="1472"/>
                    <a:pt x="768" y="1192"/>
                  </a:cubicBezTo>
                  <a:cubicBezTo>
                    <a:pt x="1072" y="912"/>
                    <a:pt x="1336" y="176"/>
                    <a:pt x="1824" y="88"/>
                  </a:cubicBezTo>
                  <a:cubicBezTo>
                    <a:pt x="2312" y="0"/>
                    <a:pt x="3384" y="568"/>
                    <a:pt x="3696" y="66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19320" y="3678120"/>
              <a:ext cx="4876560" cy="1371600"/>
            </a:xfrm>
            <a:custGeom>
              <a:avLst/>
              <a:gdLst/>
              <a:ahLst/>
              <a:rect l="l" t="t" r="r" b="b"/>
              <a:pathLst>
                <a:path w="3648" h="1536">
                  <a:moveTo>
                    <a:pt x="0" y="1536"/>
                  </a:moveTo>
                  <a:cubicBezTo>
                    <a:pt x="188" y="1356"/>
                    <a:pt x="376" y="1176"/>
                    <a:pt x="768" y="960"/>
                  </a:cubicBezTo>
                  <a:cubicBezTo>
                    <a:pt x="1160" y="744"/>
                    <a:pt x="1872" y="400"/>
                    <a:pt x="2352" y="240"/>
                  </a:cubicBezTo>
                  <a:cubicBezTo>
                    <a:pt x="2832" y="80"/>
                    <a:pt x="3240" y="40"/>
                    <a:pt x="3648" y="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18120" y="350028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333399"/>
                  </a:solidFill>
                  <a:latin typeface="Times New Roman"/>
                </a:rPr>
                <a:t>Potrošnja</a:t>
              </a:r>
              <a:r>
                <a:rPr b="0" lang="hr-HR" sz="1200" spc="-1" strike="noStrike">
                  <a:solidFill>
                    <a:srgbClr val="333399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82760" y="3552840"/>
              <a:ext cx="105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333399"/>
                  </a:solidFill>
                  <a:latin typeface="Times New Roman"/>
                </a:rPr>
                <a:t>Zeml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333399"/>
                  </a:solidFill>
                  <a:latin typeface="Times New Roman"/>
                </a:rPr>
                <a:t>inov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2200" y="395748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333399"/>
                  </a:solidFill>
                  <a:latin typeface="Times New Roman"/>
                </a:rPr>
                <a:t>Proiz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3080" y="3449520"/>
              <a:ext cx="228600" cy="83808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34920 h 838080"/>
                <a:gd name="textAreaBottom" fmla="*/ 8031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86000" y="4648320"/>
            <a:ext cx="6292440" cy="1218960"/>
            <a:chOff x="2286000" y="4648320"/>
            <a:chExt cx="6292440" cy="1218960"/>
          </a:xfrm>
        </p:grpSpPr>
        <p:sp>
          <p:nvSpPr>
            <p:cNvPr id="73" name=""/>
            <p:cNvSpPr/>
            <p:nvPr/>
          </p:nvSpPr>
          <p:spPr>
            <a:xfrm>
              <a:off x="2286000" y="5257800"/>
              <a:ext cx="4495680" cy="609480"/>
            </a:xfrm>
            <a:custGeom>
              <a:avLst/>
              <a:gdLst/>
              <a:ahLst/>
              <a:rect l="l" t="t" r="r" b="b"/>
              <a:pathLst>
                <a:path w="2832" h="384">
                  <a:moveTo>
                    <a:pt x="0" y="384"/>
                  </a:moveTo>
                  <a:cubicBezTo>
                    <a:pt x="196" y="272"/>
                    <a:pt x="392" y="160"/>
                    <a:pt x="864" y="96"/>
                  </a:cubicBezTo>
                  <a:cubicBezTo>
                    <a:pt x="1336" y="32"/>
                    <a:pt x="2504" y="16"/>
                    <a:pt x="2832" y="0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2680" y="4800600"/>
              <a:ext cx="3429000" cy="1066680"/>
            </a:xfrm>
            <a:custGeom>
              <a:avLst/>
              <a:gdLst/>
              <a:ahLst/>
              <a:rect l="l" t="t" r="r" b="b"/>
              <a:pathLst>
                <a:path w="2160" h="672">
                  <a:moveTo>
                    <a:pt x="0" y="672"/>
                  </a:moveTo>
                  <a:cubicBezTo>
                    <a:pt x="264" y="556"/>
                    <a:pt x="528" y="440"/>
                    <a:pt x="816" y="336"/>
                  </a:cubicBezTo>
                  <a:cubicBezTo>
                    <a:pt x="1104" y="232"/>
                    <a:pt x="1504" y="96"/>
                    <a:pt x="1728" y="48"/>
                  </a:cubicBezTo>
                  <a:cubicBezTo>
                    <a:pt x="1952" y="0"/>
                    <a:pt x="2088" y="48"/>
                    <a:pt x="2160" y="48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04280" y="5156280"/>
              <a:ext cx="85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ff0066"/>
                  </a:solidFill>
                  <a:latin typeface="Times New Roman"/>
                </a:rPr>
                <a:t>Potrošn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05360" y="4699080"/>
              <a:ext cx="69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ff0066"/>
                  </a:solidFill>
                  <a:latin typeface="Times New Roman"/>
                </a:rPr>
                <a:t>Proiz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4648320"/>
              <a:ext cx="228600" cy="9144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44160" y="4827600"/>
              <a:ext cx="103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66"/>
                  </a:solidFill>
                  <a:latin typeface="Times New Roman"/>
                </a:rPr>
                <a:t>Zeml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66"/>
                  </a:solidFill>
                  <a:latin typeface="Times New Roman"/>
                </a:rPr>
                <a:t>imita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144800" y="223668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1360" y="223668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3440" y="22366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6280" y="223668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4480" y="22366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Stadij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0800" y="18032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Koli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33000" y="58420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Vrij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19920" y="3684600"/>
            <a:ext cx="1363320" cy="1587600"/>
            <a:chOff x="6019920" y="3684600"/>
            <a:chExt cx="1363320" cy="1587600"/>
          </a:xfrm>
        </p:grpSpPr>
        <p:grpSp>
          <p:nvGrpSpPr>
            <p:cNvPr id="87" name=""/>
            <p:cNvGrpSpPr/>
            <p:nvPr/>
          </p:nvGrpSpPr>
          <p:grpSpPr>
            <a:xfrm>
              <a:off x="6097320" y="3684600"/>
              <a:ext cx="1285920" cy="1587600"/>
              <a:chOff x="6097320" y="3684600"/>
              <a:chExt cx="1285920" cy="1587600"/>
            </a:xfrm>
          </p:grpSpPr>
          <p:sp>
            <p:nvSpPr>
              <p:cNvPr id="88" name=""/>
              <p:cNvSpPr/>
              <p:nvPr/>
            </p:nvSpPr>
            <p:spPr>
              <a:xfrm>
                <a:off x="6097320" y="49039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ff0066"/>
                    </a:solidFill>
                    <a:latin typeface="Times New Roman"/>
                  </a:rPr>
                  <a:t>Izvo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07160" y="368460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333399"/>
                    </a:solidFill>
                    <a:latin typeface="Times New Roman"/>
                  </a:rPr>
                  <a:t>Uvo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6019920" y="3733920"/>
              <a:ext cx="7596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20960" y="3200400"/>
            <a:ext cx="1540080" cy="2681280"/>
            <a:chOff x="2820960" y="3200400"/>
            <a:chExt cx="1540080" cy="2681280"/>
          </a:xfrm>
        </p:grpSpPr>
        <p:sp>
          <p:nvSpPr>
            <p:cNvPr id="92" name=""/>
            <p:cNvSpPr/>
            <p:nvPr/>
          </p:nvSpPr>
          <p:spPr>
            <a:xfrm>
              <a:off x="2820960" y="551340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ff0066"/>
                  </a:solidFill>
                  <a:latin typeface="Times New Roman"/>
                </a:rPr>
                <a:t>Uvo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659040" y="3200400"/>
              <a:ext cx="702000" cy="990720"/>
              <a:chOff x="3659040" y="3200400"/>
              <a:chExt cx="702000" cy="990720"/>
            </a:xfrm>
          </p:grpSpPr>
          <p:sp>
            <p:nvSpPr>
              <p:cNvPr id="94" name=""/>
              <p:cNvSpPr/>
              <p:nvPr/>
            </p:nvSpPr>
            <p:spPr>
              <a:xfrm>
                <a:off x="3659040" y="35323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800" spc="-1" strike="noStrike">
                    <a:solidFill>
                      <a:srgbClr val="333399"/>
                    </a:solidFill>
                    <a:latin typeface="Times New Roman"/>
                  </a:rPr>
                  <a:t>Izvo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962520" y="320040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62520" y="388620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3581280" y="54860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0" y="3504960"/>
            <a:ext cx="1066680" cy="1905120"/>
            <a:chOff x="4572000" y="3504960"/>
            <a:chExt cx="1066680" cy="1905120"/>
          </a:xfrm>
        </p:grpSpPr>
        <p:sp>
          <p:nvSpPr>
            <p:cNvPr id="99" name=""/>
            <p:cNvSpPr/>
            <p:nvPr/>
          </p:nvSpPr>
          <p:spPr>
            <a:xfrm>
              <a:off x="4572000" y="5334120"/>
              <a:ext cx="7632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638680" y="50288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410080" y="350496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300720" y="61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količina X: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 (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+q*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lativna cijen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6070400">
            <a:off x="1992600" y="822600"/>
            <a:ext cx="3716280" cy="4032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6070400">
            <a:off x="3963600" y="1223280"/>
            <a:ext cx="4326120" cy="3678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19640" y="1484280"/>
            <a:ext cx="3889080" cy="360036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219640" y="476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77080" y="83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04000" y="45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1403280" y="3429000"/>
            <a:ext cx="29527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1402920" y="4437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8360" y="3141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68360" y="4221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580000" y="1844640"/>
            <a:ext cx="17287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321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većava se proizvodnja uvoznog dobra Y, a smanjuje X-a, te njegova ponuda p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im time X-u raste cij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o usmjereni rast poboljšava uvjet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iromašujući 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476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vozna r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1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3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3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proizvodi sve više svega, a sve manje troš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većoj se mjeri pogoršali uvjeti trgovine nego što je rasla proizvod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cijena je postao nepovoljniji i zemlja je dosegla nižu krivulju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ključak: izvozno usmjereni rast može pogoršati uvjete trgovine toliko da smanji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fekti uvođenja ca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88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 uvođenja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29640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2224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044880" y="5334120"/>
            <a:ext cx="297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519560" y="5791320"/>
            <a:ext cx="305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209680" y="1916280"/>
            <a:ext cx="3299040" cy="17287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195640" y="3716280"/>
            <a:ext cx="863640" cy="50472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rot="202260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26880" y="4149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0" y="2717640"/>
            <a:ext cx="1553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048120"/>
            <a:ext cx="2133720" cy="0"/>
          </a:xfrm>
          <a:prstGeom prst="line">
            <a:avLst/>
          </a:prstGeom>
          <a:ln w="12600">
            <a:solidFill>
              <a:srgbClr val="0210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200400" y="2971440"/>
            <a:ext cx="1219320" cy="685800"/>
          </a:xfrm>
          <a:prstGeom prst="line">
            <a:avLst/>
          </a:prstGeom>
          <a:ln w="12600">
            <a:solidFill>
              <a:srgbClr val="021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EV VIŠAK mjeri se područjem cijene koju potrošač plaća i one cijene koju je spreman plaćati (krivulja D). Prikazan je kao prostor ispod krivulje potražnje D i iznad tržišne cij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ĐAČEV VIŠAK mjeri se područjem između cijene koju proizvođač sada postiže i cijene po kojoj je spreman prodavati (krivulja 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368040" y="1916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15096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rot="20449200">
            <a:off x="1523880" y="396216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24000" y="4005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00cc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725720" y="541008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trošačev i proizvođačev višak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onomija razmjera i nesavršena konkuren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mithova, Ricardova, H-O teorija temelje se na pretpostavkama savršene konkurencije te razmjerno konstantnih ili opadajućih prin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meljna pretpostavka novijih teorija – ekonomija masovne proizvodnje u kojoj djeluje zakon razmjerno rastućih prinosa na tržištu nesavršene konkurenc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Što se god više proizvodi, niži su jedinični troškovi, a time i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9999"/>
                </a:solidFill>
                <a:latin typeface="Arial"/>
              </a:rPr>
              <a:t>Prihod države nakon carine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22240" y="4292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3716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 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859280" y="335772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167240" y="314172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hod drž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 ca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717800" y="53737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156360" y="321300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268720" y="256536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Gubitak efikasnosti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517800" y="4149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195640" y="1989000"/>
            <a:ext cx="245268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377028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33920" y="3429000"/>
            <a:ext cx="1143000" cy="152280"/>
          </a:xfrm>
          <a:prstGeom prst="leftArrow">
            <a:avLst>
              <a:gd name="adj1" fmla="val 50000"/>
              <a:gd name="adj2" fmla="val 187648"/>
            </a:avLst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248520" y="328464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0066"/>
                </a:solidFill>
                <a:latin typeface="Arial"/>
              </a:rPr>
              <a:t>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Gubitak efikas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876920" y="3352680"/>
            <a:ext cx="609480" cy="30492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86200" y="3429000"/>
            <a:ext cx="2133720" cy="152280"/>
          </a:xfrm>
          <a:prstGeom prst="leftArrow">
            <a:avLst>
              <a:gd name="adj1" fmla="val 50000"/>
              <a:gd name="adj2" fmla="val 35029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5830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11280" y="290520"/>
            <a:ext cx="7772400" cy="781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cc33"/>
                </a:solidFill>
                <a:latin typeface="Arial"/>
              </a:rPr>
              <a:t>Mrtvi teret gubitka (mala zemlja)</a:t>
            </a:r>
            <a:r>
              <a:rPr b="0" lang="hr-H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133720" y="1828800"/>
            <a:ext cx="472428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472800" y="190512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531840" y="434340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09680" y="1981080"/>
            <a:ext cx="2438640" cy="1219320"/>
          </a:xfrm>
          <a:prstGeom prst="rtTriangl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Potrošač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2209680" y="3351960"/>
            <a:ext cx="1447920" cy="838440"/>
          </a:xfrm>
          <a:prstGeom prst="rtTriangl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39625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377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đa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iš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3352680" y="3351960"/>
            <a:ext cx="2133720" cy="304920"/>
          </a:xfrm>
          <a:custGeom>
            <a:avLst/>
            <a:gdLst>
              <a:gd name="textAreaLeft" fmla="*/ 469080 w 2133720"/>
              <a:gd name="textAreaRight" fmla="*/ 1664640 w 2133720"/>
              <a:gd name="textAreaTop" fmla="*/ 66960 h 304920"/>
              <a:gd name="textAreaBottom" fmla="*/ 237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181480" y="3352680"/>
            <a:ext cx="1143000" cy="152640"/>
          </a:xfrm>
          <a:prstGeom prst="leftArrow">
            <a:avLst>
              <a:gd name="adj1" fmla="val 50000"/>
              <a:gd name="adj2" fmla="val 187205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80720" y="28195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i teret gubit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ez kompen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86200" y="3352680"/>
            <a:ext cx="990720" cy="30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3352680" y="3352680"/>
            <a:ext cx="533520" cy="304920"/>
          </a:xfrm>
          <a:prstGeom prst="rtTriangle">
            <a:avLst/>
          </a:prstGeom>
          <a:solidFill>
            <a:srgbClr val="1be52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87872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021360" y="28195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3276000" y="3352680"/>
            <a:ext cx="609480" cy="30492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12944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i uvođenja ca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68000" y="2243160"/>
            <a:ext cx="828036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maći proizvođači postižu višu cij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ostvaruje prihode od car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trošači plaćaju više cije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se potrošnja i potrošači imaju manji iz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-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Carina u maloj zeml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11280" y="5734080"/>
            <a:ext cx="6654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rohibitivni nivo c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007680" y="126828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50960" y="436572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4000" y="1989000"/>
            <a:ext cx="1812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hibitivni n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 rot="16357800">
            <a:off x="861120" y="2458800"/>
            <a:ext cx="533160" cy="457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124000" y="2924280"/>
            <a:ext cx="2160720" cy="73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186200" y="2708280"/>
            <a:ext cx="96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987640" y="2492280"/>
            <a:ext cx="0" cy="432000"/>
          </a:xfrm>
          <a:prstGeom prst="line">
            <a:avLst/>
          </a:prstGeom>
          <a:ln cap="rnd"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Ekvivalentni efekti uvođenju car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kvivalentni efekti carine: subvencije proizvođačima i porez na potroš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729840" y="1413000"/>
            <a:ext cx="241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 (domaća pon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517800" y="3860640"/>
            <a:ext cx="263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 (domaća potražn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37160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33520" y="5734080"/>
            <a:ext cx="6654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jenja – mala zem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3123360" y="3276720"/>
            <a:ext cx="762120" cy="45720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5834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76920" y="3276720"/>
            <a:ext cx="914400" cy="457200"/>
          </a:xfrm>
          <a:prstGeom prst="rtTriangle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9550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26400" y="2209680"/>
            <a:ext cx="8391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 rot="16357800">
            <a:off x="341640" y="2781360"/>
            <a:ext cx="533520" cy="457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886200" y="3276720"/>
            <a:ext cx="990720" cy="4572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88620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876920" y="3276720"/>
            <a:ext cx="0" cy="1981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411280" y="2421000"/>
            <a:ext cx="4287960" cy="222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340000" y="2060280"/>
            <a:ext cx="4419720" cy="25146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508720" y="2349360"/>
            <a:ext cx="215640" cy="28764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6227640" y="4076640"/>
            <a:ext cx="144720" cy="289080"/>
          </a:xfrm>
          <a:prstGeom prst="line">
            <a:avLst/>
          </a:prstGeom>
          <a:ln cap="sq"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446520" y="2349360"/>
            <a:ext cx="1825920" cy="698760"/>
          </a:xfrm>
          <a:prstGeom prst="rect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bven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đ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807960" y="4365720"/>
            <a:ext cx="1271160" cy="698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rez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vivalentni efekti carini bi se postigli pomoću subvencije proizvođačima na teret proračuna i poreza na potrošnju u korist prorač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će pomaknuti krivulju ponude i potražnje i djelovati na povećanje proizvodnje te smanjenje potrošnje i uvo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e se ne povećavaju, a redistribucija ne ide od potrošača prema proizvođaču kao kod carine nego od potrošača prema proračunu i od proračuna prem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obaliza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ultinacionalne kompani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trakorporacijska trgovina (više od 1/3 uvoza i 2/5 izvoza SAD-a početkom ovog stoljeć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3276720" y="234936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268360" y="141300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99564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3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5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3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3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carine u zemlji A njeni uvjeti razmjene su se poboljšali i ona je u boljem položaju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uvjeta razmjene znači povećanje njezina udjela u razdiobi koristi od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seg razmjene je manji nego pr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opsega međunarodne razmjene utječe na pogoršanje položaja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je poboljšanje položaja zemlje A zbog povoljnijih uvjeta razmjene veće od pogoršanja položaja zbog smanjenja količine razmjene, zemlja A će biti u boljem polo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a bi zemlja A bila vrlo mala, uvjeti razmjene bi za nju bili dani pa bi rezultat uvođenja carine na uvoz dobra Y bilo samo smanjenj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vdje pretpostavljamo da to nije sluč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340000" y="3141720"/>
            <a:ext cx="3529080" cy="230328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zemlja B uvela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3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3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3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94036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340000" y="3284640"/>
            <a:ext cx="3600360" cy="216036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942520" y="2997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292720" y="2781360"/>
            <a:ext cx="0" cy="28728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2411280" y="2060280"/>
            <a:ext cx="3529080" cy="338436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5280" y="7650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bi obje zemlje uvele carin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340000" y="1773360"/>
            <a:ext cx="1800360" cy="360036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853440" y="1341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4284720" y="2205000"/>
            <a:ext cx="35856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340000" y="1484280"/>
            <a:ext cx="259236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643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643280" y="256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924360" y="3357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3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3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3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79280" y="260280"/>
            <a:ext cx="8496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292720" y="4581360"/>
            <a:ext cx="3527280" cy="916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3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3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8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3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3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8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6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uvođenja carine u jednoj zemlji, ako partner odvrati odmazdom dolazi do konačnog rezultata smanjivanja opsega međunarodne razmjene uz isti odnos cijena px/p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ko su oba partnera u lošijoj situaciji nego prije uvođenja c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A je stopa carinskog opterećenja koja maksimizira neto dobitak koji je posljedica poboljšanja uvjeta razmjene zemlje u odnosu na negativne učinke koji su posljedica smanjenja volumena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na dakle donosi optimalne uvjete razmjene što znači maksimalno društveno blagostan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ijetu bez poremećaja i savršenoj konkurenciji, zemlja može imati koristi od uvođenja carine, ali ta korist mora proizići iz njezine sposobnosti da utječe na odnose razmjene (mora imati monopsonsku moć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uvjetima nesavršene elastičnosti inozemne potražnje optimalna carinska zaštita ovisi o elastičnosti inozemne potražnje i o obliku domaće krivulje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istup integrirane svjetske privre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obalistički pristup (Krugma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stup integrirane svjetske privrede koja se onda dijeli na nacionalne priv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ljučci u skladu s H-O teorijo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i: zemlja izvozi faktorske usluge svog relativno obilnog proizvodnog faktora – primjerice rada, kroz izvoz radno intenzivnog proizvoda 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951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timalna carinska zaštita određuje se tako da se izabere skup carinskih stopa koji izjednačuje granični prihod, tj. granične uvjete razmjene s graničnim troškom, tj. graničnom stopom transforma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ptimalna c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3" dur="3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7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3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6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3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3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2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0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vnotežni je odnos cijena u T (odnos je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da zemlja A uvodi carinu koja će joj donijeti max. blagostanje, naravno, uz pretpostavku da zemlja B neće odgovoriti istom mjerom, da neće biti odmaz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carina koja zemlji A omogućava da dosegne najvišu krivulju indiferentnosti prema trgovini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o je ona krivulja IT koja je tangenta na krivulji recipročne potražnje zemlje B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i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3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3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5" dur="3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3" dur="3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9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3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1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4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jere visine carinske zaštite u nekom gospodar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91520" cy="633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utem nominalnih carinskih sto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PONDERIRANA PROSJEČNA CARINSKA STOPA – ne uzima u račun relativno značenje svake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NDERIRANA PROSJEČNA CARINSKA STOPA – svaka carinska stopa ponderirana je udjelom pojedine robe u izvozu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HIBITIVNA CARINSKA STOPA – toliko visoka da sprečava uvoz robe u zeml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FEKTIVNA STOPA ZAŠTITE – predstavlja u biti promjene u dodanoj vrijednosti pojedinog sektora zbog uspostavljene strukture zaštite intermedijarnih i finalnih dobara. Carina na input i carina output se uzima u obzir, pa vidimo koliko je proizvodnja u biti zaštić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minalna zaštita pokazuje efekte na potrošača, na proizvodnju ne znam – to pokazuje efektivna zašt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ecarinska ograničenja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 necarinska ograničenja vanjske trgovine mogu se svrstati u 3. grupe (3. tip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1. tipa – ona necarinska ograničenja kojima je svrha zaštititi domaću privredu od vanjske konkurencije, ograničiti uvoz ili ojačati domaću privredu u konkurenciji, s uvozom na domaćem tržištu ili u konkurenciji za izvozna tržišta. Grupiraju se dalje u MJERE PREMA UVOZU i MJERE PREMA IZVO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2. tipa – one mjere koje se odnose na probleme koji nisu direktno vezani uz trgovinu, ali se povremeno koriste za ograničavanje trgo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e 3. tipa – one mjere ekonomske politike koje se primjenjuju isključivo iz razloga koji nisu direktno vezani uz trgovinu, ali koje neizbježno dovode do iskrivljavanja uvjeta međunarodne razmjene i zbog toga utječu na vanjsku trg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govina proizvodima je zapravo MEDIJ preko kojega se izvoze faktorske usluge relativno obilnog proizvodnog fak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1, TI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usmjerene na uv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globalne uvozne kvote, selektivne uvozne kvote, dozvole diskretno restriktivne, dozvole liberalne, “dobrovoljna” ograničenja izvoza, embargo, državna trgovina, propisi o domaćem sadrž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 Mjere koje djeluju kroz troškove i cijene (indirektne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– varijabilni nameti i dodatne uvozne takse (prelevmani), zahtjevi za avansnim depozitom, antidampinška i kompenzatorna opterećenja (takse), direktne subvencije domaćim konkurentima uvoza, kreditna ograničenja uvoznicima, porezne olakšice i ostale indirektne subvencije domaćim proizvođačima koji konkuriraju uvozu, uključujući i kreditne koncesije, diskriminatorne tarife u unutarnjem transportu, međunarodni robni sporazu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usmjerene na iz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trgovi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e kvote i dozv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002440" cy="547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rektne subvencije izvoznic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irektne subvencije izvoznicima uključujući i kreditne olakši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mping koji podržava držav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ozni nameti (tak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narodni robni sporazumi i sporazumi o marketingu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2. TI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jere koje djeluju na količine (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graničenje pristupa medijima komunici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a ograničenja marketinga i propag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Mjere koje djeluju kroz troškove i cijene (indirektn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25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pisi o pakiranju i etiketiranju, zdravstveni, sanitarni i standardi o kvaliteti, sigurnosni i industrijski standardi i propisi, granične takse, uporabne takse, carinska procedura, konzularne formalnosti i sl., postupci carinske klasifikacije, postupci određivanja carinske osnovice, devizna ograničenja, državno poduzetništvo, financiranje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 i slične pomoći domaćim proizvođačima supstituta uvoza i izvoznim sektor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JERE 3. TIP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i monopol proizvodnje, prodaje i distribucije proiz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na strukturna politika i politika regionalnog razvoja koja utječe na trgovin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d hoc mjere ekonomske politike u vezi s bilancom plać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poreznim sustavi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socijalnog osiguranj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like u sustavima amortizaci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e koristi od vladinih programa nabavke za obranu, zrakoplovstvo ili nevojne svr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obujma uvjetovana državnim nabavkam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mjene nacionalnih standarda, propisa i prakse, tarife u vanjskom transportu i međudržavni transportni sporazum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učke pristoj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ličinska ograničenja vanjske trgovine - k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45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OTA – apsolutna granica do koje može ići vrijednost ili količina neke robe ili usluge u određenom vremenskom razdobl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zne i izvozne k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nopolistička konkuren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dnja jednog proizvoda 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i puno proizvođača (ulaz u proizvodnju slobodan) sličnog, ali barem donekle različitog proizvo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on relativno rastućih prinosa – ekonomija razmjera kod pojedinih proizvođač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75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OBALNA ili NEDISKRIMINATORNA KVOTA – ako se kvotom ograničava ukupna trgovina neke robe ili usluge sa svije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d je dosegnut limit određen kvotom, neovisno iz koje je zemlje roba uvezena, daljnja trgovina prest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1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KTIVNA ili DISKRIMINATORNA KVOTA – ako se kvota razlikuje prema zemljama podrijetla ili odredišta robe ili usl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ne granice se određuju bilateralnim sporazum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a vrsta –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brovoljno ograničenje izvoz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e se bilateralno dogovara zbog narušene ravnoteže u vanjskotrgovinskoj bilanci (japanski izvoz auta u SAD i E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SKA KVOTA – stavlja limit na uvoz određene količine ili vrijednosti neke robe uz danu carinsku sto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đe li uvoz taj limit primjenjuje se druga, viša carinska sto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447560" y="3505320"/>
            <a:ext cx="45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476360" y="306864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133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5658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99708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211640" y="3284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860720" y="3789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43744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56580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934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137280" y="14320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372720" y="1844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+ 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132000" y="3716280"/>
            <a:ext cx="1079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4211640" y="2133360"/>
            <a:ext cx="2736720" cy="157788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589800" y="3789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azana zemlja B koja uvozi X iz zemlj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oši u točki B, uvoz je 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ođenjem kvote od AG, smanjuje se uvoz na AG, raste cijena u zemlji B, smanjuje se potrošnja sa PaDb na PD, raste domaća proizvodnja s PaA na PC, dolazi do preraspodjele realnog dohotka od potrošača proizvođač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blagostanja za GDB (smanjenje potrošačeva probi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lada može prodavati dozvole za uvoz do veličine kvote – pri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li, dijeliti dozvole uvoznicima koji onda profitiraju na razlici cijena dobra X i Y u zemljama A i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su izvoznici u zemlji A formirali kartel, a uvoznici u zemlji B međusobno konkuriraju, korist od uvođenja kvote imat će izvoznici u zemlji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2340000" y="1484280"/>
            <a:ext cx="2087640" cy="3960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14836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140360" y="981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›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340000" y="371628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034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257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69764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7080" y="54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3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0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3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4" dur="3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uvozi kvotu na uvoz Y-a od O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vulja recipročne potražnje zemlje A ima lom u točki E pa sada izgleda OE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jeti razmjene zemlje A su se uvođenjem kvote poboljšali (px/pY›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 li time položaj zemlje A poboljšan, ne možemo reći dok ne znamo nalazi li se zemlja A nakon uvođenja kvote na višoj ili nižoj krivulji indiferenc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74872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Cijena, ponuda i potražnja nakon uvođenja carine (mala zemlja)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133720" y="1523880"/>
            <a:ext cx="0" cy="373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33720" y="5257800"/>
            <a:ext cx="471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33720" y="1828800"/>
            <a:ext cx="4647960" cy="2438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2133720" y="1752120"/>
            <a:ext cx="4419360" cy="2514600"/>
          </a:xfrm>
          <a:prstGeom prst="line">
            <a:avLst/>
          </a:prstGeom>
          <a:ln w="38160">
            <a:solidFill>
              <a:srgbClr val="1be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124080" y="3733920"/>
            <a:ext cx="26672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133720" y="373392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rot="1648200">
            <a:off x="4788000" y="3212640"/>
            <a:ext cx="312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trošnja 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rot="19775400">
            <a:off x="2057400" y="2590560"/>
            <a:ext cx="352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maća ponuda r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447920" y="3505320"/>
            <a:ext cx="5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970000" y="5334120"/>
            <a:ext cx="31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                     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515960" y="5791320"/>
            <a:ext cx="463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– svjetska cijena 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 +  t  =  domaća cijena nakon ca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886200" y="3276720"/>
            <a:ext cx="99072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133720" y="3276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065600" y="3048120"/>
            <a:ext cx="89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w +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659400" y="5334120"/>
            <a:ext cx="462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725720" y="5334120"/>
            <a:ext cx="477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7150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73392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800600" y="31240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971800" y="3581280"/>
            <a:ext cx="22860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10516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3048120" y="320004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rot="16200000">
            <a:off x="-170280" y="3475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badi MT Condensed Light"/>
              </a:rPr>
              <a:t>Cijena 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rgumenti za zašti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ijet podijelimo na 2 zemlje: A i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bi se ostvarila ista proizvodnja u svijetu mora se proizvodnja određene vrste proizvoda X alocirati u potpunosti u pojedinoj zemlji (diferenciran proizvo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bi se očuvala ekonomija razmjera u proizvodnji iste vrste diferenciranog proizvoda X u pojedinoj zemlj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je zemlje i izvoze i uvoze X (izvoze dio X-a u kojemu su se specijaliziral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19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rgumenti za zašti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zaposlenosti i smanjenja nezaposle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acionalne sigurnosti i o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mlade industr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rgument nepravedne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ravljanje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boljšanje trgovinske b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enje nezaposlenosti u specifičnoj industr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stranih izvoznih subv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enziranje dampinških cijena (anti-d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arina u korist oskudnog faktora proizvod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litički i socij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Čisto fiskalni razl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36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đutim, protekcionizam se danas opravdava potrebom zaštite male zemlje od inozemne konkurencije dok ne postigne konkurentnost –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ATEŠKA TRGOVINSKA POLITIK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teriji aktivne zaštitne polit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362800" cy="626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LITATIVNI KRITERIJ: što štititi, tj. koje proizvode ili sektore proizvodnje? Na što uvesti veću car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ANTITATIVNI KRITERIJ: koliko visoku stopu zaštite uve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RUMENTALNI KRITERIJ: čime, tj. kojim instrumentima štititi? Izbor između: carina, izvoznih taksi i subvencija, necarinskih ograničenja, uvoznih kvota, izvoznih ograničenja, provizija i poreza na uvoznu robu, kontrole robe, administrativnih procedura, pristojbi za carinsko evidentiranje, porijekla robe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EMENSKI KRITERIJ: kako dugo štititi ili mijenjati intenzitet zaštite? Da li u vremenu smanjivati ili povećavati zašti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ebalo bi koristiti FAZNI PRISTUP, a ne šok terapiju . Pomalo smanjivati zaštitu i najaviti njeno smanjivanje kako bi se određeni sektor mogao priviknut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66"/>
                </a:solidFill>
                <a:latin typeface="Arial"/>
              </a:rPr>
              <a:t>Novije teorije vanjske trgo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vis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Linderova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životnog ciklus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konomija razmjera i nesavršena konkur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ravitacijski model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ujemo 2. komponente vanjske trgov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INDUSTRIJSK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trgovinu različitim vrstama proizvoda, komparativne prednosti prema H-O model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RAINDUSTRIJSK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trgovinu istom vrstom proizvoda, ali diferenciranih zbog djelovanja zakona razmjerno rastućih prinosa i postojanja ekonomije razmj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ultinacionalne kompan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voljno velike da mogu utjecati na promjenu ukupne tržišne ponude, a time i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ozi nastanka: industrijska organizacija – da se 2 ili više aktivnosti stave pod isto vlasništvo, lociranje aktivnosti prema komparativnim prednostima zemalja, pristup nacionalnom tržištu, izbjegavanje transportnih troškova i s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kspanzija se odvija uglavnom preko izravnih inozemnih ulag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su ove investicije i vanjska trgovina supstituti ili komplementar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govor u motivima internacionalizacij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neko poduzeće postaje multinacionalno zbog komparativnih prednosti pojedinih zemalja – utječe na povećanje (stvaranje) 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neko poduzeće postaje multinacionalno da poboljša pristup lokalnom tržištu – ne utječe na 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2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ravitacijski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680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itacijski model predstavlja ekonometrijsk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 p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hniku za ispitivanje determinanti bilateralnih trgovinskih tijek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je model trgovinskih tijekova baziran na analogiji sa zakonom gravitacije u fizi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Newt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on gravitac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avitacija je razmjerna umnošku mase, a obrnuto razmjerna kvadratu udaljenosti dvaju tije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su zemlje čini veličina zemlje i privredne razvije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260280"/>
          <a:ext cx="878544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854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2565360"/>
            <a:ext cx="8435880" cy="3888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Xi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izvoz zemlje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u zemlj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zemlje iz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pc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per capita zemlje iz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Ypc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BDP per capita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Di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geografska udaljenost između glavnih gradova zemlje izvoznice i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stanovništvo zemlje iz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stanovništvo zemlje uvozn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LANi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 jezik (varijabla koja je jedan ukoliko zemlje govore isti jezi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postavlja se da je trgovina među dvjema zemljama pozitivno povezana s njihovim veličinama i negativno s udaljenostima među nj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ođer, ukoliko se u zemlji uvoznici i zemlji izvoznici govori isti jezik, pretpostavlja se pozitivan utjecaj na međusobnu trg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jne varijable se dodaju u ovaj model i postoje brojne inač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d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zvoz zemlj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zemlj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zemlje iz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zemlje u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pc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per capita zemlje iz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pc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DP per capita zemlje uvozn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eografska udaljenost izmeu glavnih gradova zemlje izvoznice 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mlje u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ovništvo zemlje iz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ovništvo zemlje uvoz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Nij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jezik (varijabla koja je jedan ukoliko zemlje govore isti jezi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bzirom da Hrvatska ne dijeli zajed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jezik s nijedn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icom EU-25, ov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arijabla is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iz mod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jabla log BDP je is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iz analize jer 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ovoljava elemente statistike tolerancije za u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anje u analizu. Stoga, je može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l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i ili njez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nder proglasiti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o je r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 analiza izvoza Hrvatske u zeml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-25. Dobivena je slijed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dnadž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uktura vanjske trgovine se određuje raspoloživošću dobara t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emlja uvozi dobra koja nisu raspoloživa u zemlj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vanjska se trgovina ograničava na dobra koja nisu raspoloživa u zeml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arinska zaštita, kartelizacija, transportni troškovi,… teže eliminiranju iz vanjske trgovine onih dobara koja su raspoloživa u domaćoj proizvodnji, makar i uz više trošk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avisova teor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azano je kako su stanovništvo i udaljenost statis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 z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ni predikto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teralnih trgovinskih tijeko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v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 su p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ne pretpostavke da rast bro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ovnika djeluje pozitivno na trgovinu, a 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daljenost m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zemljama negativ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 uvoz iz EU-2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ovom 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u sve varijable su stati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z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ni prediktori: i BD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capit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ovništvo i udaljenost. Dakle, sve varijable su stati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 z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ni prediktori št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je uvoz u Hrvatsku, za razliku od izvoza, bolje profiliran (kod izvoza još postoji nek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idualni varijabilitet, tj. mora se objašnjavati još neki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enicima koji su u ovakvo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i svrstani u pogrešku prognoze, dok je uvoz gotovo u potpunosti definira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v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su p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ne pretpostavke da rast broja stanovnika i BDP-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 capi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elu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zitivno na trgovinu, a v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daljenost m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zemljama negativ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Edgeworthov dijagram i krivulja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risti od razmjene zemalja A i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su granične stope supstitucije u zemljama A i B različite, razmjena dobara X i Y među tim zemljama bit će obostrano probitačna sve dok se granične stope supstitucije ne izjednač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GSS-pokazuje koliko je jedinica dobra X društvo voljno žrtvovati za potrošnju dodatne jedinice dobra Y, a da mu razina zadovoljstva ostane ista, tj. da ostane na istoj krivulji indiferencij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692280"/>
            <a:ext cx="8064360" cy="547200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08000" y="2852640"/>
            <a:ext cx="460872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1197000"/>
            <a:ext cx="2306520" cy="50418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997360"/>
            <a:ext cx="2449440" cy="2520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205000"/>
            <a:ext cx="2592360" cy="2808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2169200">
            <a:off x="366480" y="3681360"/>
            <a:ext cx="3448080" cy="14796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2169200">
            <a:off x="2301480" y="3578400"/>
            <a:ext cx="2400480" cy="12189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169200">
            <a:off x="1180440" y="2123640"/>
            <a:ext cx="5359320" cy="2322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2602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23736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rtn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022880" y="3208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-1507680" y="32810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br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1268280"/>
            <a:ext cx="43164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87640" y="458136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5640" y="407664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3429000"/>
            <a:ext cx="432000" cy="289080"/>
          </a:xfrm>
          <a:prstGeom prst="rect">
            <a:avLst/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I su označene krivulje indiferencije zemlj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 Z su označene krivulje indiferencije zemlj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menzije dijagrama određene su ukupnom količinom dobara X i Y kojima zemlje ras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točki C GSS zemlje A je veća od GSS zemlje B – osnova za obostrano probitačnu razmj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zemlja A daje sve više jedinica dobra Y za sve više dobra X – sve dok ne dođu u točku S- GSS su jednake, samo je A na višoj krivulji indiferencije , pa je A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F-obrnuto, B pokupila sv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E-oba partnera profitiraju od razmjene, oba su na višim krivuljama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sve točke dodira krivulja indiferencije partnera A i B dobivamo krivulju ugovora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toj krivulji pokazuju jednakosti graničnih stopa supstitucije partnera, što znači da je postignuta ravnoteža i eliminirani razlozi za razmj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1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ra mogu biti neraspoloživa 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apsolutnom smi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tj. zato jer ih zemlja uopće ne posjeduje, glavni razlog predstavlja nepostojanj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irodnih resurs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ra mogu biti neraspoloživa i u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relativnom smisl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jihova je domaća ponuda neelastična, npr. nedovoljn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ovaci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 biti razlog za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bra također mogu biti neraspoloživa zbog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iferencijacije proizvo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a eventualno zemlji daje privremeni monopol u proizvodnji, dok druge zemlje ne počnu imitirati tu proizvod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ako daljnje nastavljanje razmjene išlo bi na štetu jednog ili drugog partn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e na krivulji ugovora predstavljaju Paretov optimum (položaj bilo koje stranke ne može se poboljšati, a da se time ne pogorša položaj dru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1324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okazuje ponudu izvoza i potražnju za uvozom neke zeml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Krivulja recipročne potražnj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08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recipročne potražnje pokazuje kolika je potražnja zemlje za uvoznim proizvodima za koje je voljna ponuditi određenu količinu izvoznih proizvoda pri različitim relativnim cijenama proizv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a uključuje elemente potraž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ražnja za uvoz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pon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uda izvo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vođenje krivulja recipročne potražnj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280360" cy="24476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lanjanje na granice proizvodnih moguć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vije zemlje i dv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govinski trok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krivulja indiferentnosti trgov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a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1905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72360" y="544500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53341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4267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228600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476280"/>
            <a:ext cx="2879640" cy="825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2349360"/>
            <a:ext cx="3311640" cy="3080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rivulja pokazuje koliko rob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udi zemlja 1 u zamjenu za uvoz rob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,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i različitim cijena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155736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5373720"/>
            <a:ext cx="24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zemlj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1981080"/>
            <a:ext cx="1676160" cy="3505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1981080"/>
            <a:ext cx="3276360" cy="3200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12408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09360" y="4114800"/>
            <a:ext cx="1143000" cy="1219320"/>
          </a:xfrm>
          <a:prstGeom prst="rtTriangle">
            <a:avLst/>
          </a:prstGeom>
          <a:solidFill>
            <a:srgbClr val="cc00cc">
              <a:alpha val="50000"/>
            </a:srgbClr>
          </a:solidFill>
          <a:ln w="12600">
            <a:solidFill>
              <a:srgbClr val="1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276720"/>
            <a:ext cx="990720" cy="60948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410080" y="4724280"/>
            <a:ext cx="990720" cy="609840"/>
          </a:xfrm>
          <a:prstGeom prst="rtTriangle">
            <a:avLst/>
          </a:prstGeom>
          <a:solidFill>
            <a:srgbClr val="03fb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2438280"/>
            <a:ext cx="1143000" cy="2438640"/>
          </a:xfrm>
          <a:prstGeom prst="rtTriangl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409360" y="2895480"/>
            <a:ext cx="129564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33360"/>
            <a:ext cx="8497800" cy="119124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mo zamisliti da je krivulja recipročne potražnje nastala od svih mogućih trokuta trgov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oč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 2 and 3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 na toj krivulj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400800" y="4724280"/>
            <a:ext cx="9144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732720" y="2924280"/>
            <a:ext cx="57600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588000" y="4149720"/>
            <a:ext cx="720720" cy="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590920"/>
            <a:ext cx="533520" cy="24382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2438280"/>
              <a:gd name="textAreaBottom" fmla="*/ 2412360 h 2438280"/>
            </a:gdLst>
            <a:ahLst/>
            <a:rect l="textAreaLeft" t="textAreaTop" r="textAreaRight" b="textAreaBottom"/>
            <a:pathLst>
              <a:path w="21600" h="98664">
                <a:moveTo>
                  <a:pt x="3600" y="0"/>
                </a:moveTo>
                <a:arcTo wR="3600" hR="3600" stAng="16200000" swAng="-5400000"/>
                <a:lnTo>
                  <a:pt x="0" y="95064"/>
                </a:lnTo>
                <a:arcTo wR="3600" hR="3600" stAng="10800000" swAng="-5400000"/>
                <a:lnTo>
                  <a:pt x="18000" y="9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409720" y="2276640"/>
            <a:ext cx="25560" cy="30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5334120"/>
            <a:ext cx="3265560" cy="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206064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2349360"/>
            <a:ext cx="143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537372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96360" y="53737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42900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4038480"/>
            <a:ext cx="83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1197000"/>
            <a:ext cx="15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vulja recipročne potraž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404640"/>
            <a:ext cx="8064360" cy="5205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Nagib pravca je relativna cijena X prem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1143000"/>
            <a:ext cx="13460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X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/ p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4653000"/>
            <a:ext cx="0" cy="69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35280" y="4653000"/>
            <a:ext cx="10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403280" y="1628640"/>
            <a:ext cx="223200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32360" y="1628640"/>
            <a:ext cx="280836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1109800">
            <a:off x="1838160" y="1846440"/>
            <a:ext cx="1800360" cy="187164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212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53341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-2970000" y="3278160"/>
            <a:ext cx="74671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3341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057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410080" y="5300280"/>
            <a:ext cx="319428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7336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1557360"/>
            <a:ext cx="228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5410080"/>
            <a:ext cx="45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516640"/>
            <a:ext cx="136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oz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2514600"/>
            <a:ext cx="3505320" cy="205740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3962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10080" y="3580920"/>
            <a:ext cx="297180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410080" y="2361960"/>
            <a:ext cx="304812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676520" y="2057040"/>
            <a:ext cx="304776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5080" y="2997360"/>
            <a:ext cx="0" cy="23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551664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2209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45720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2133720"/>
            <a:ext cx="10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92360" y="134136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a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333360"/>
            <a:ext cx="788688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rgovinski trokut se povećao zbog novih cij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1676520"/>
            <a:ext cx="2971800" cy="3657600"/>
          </a:xfrm>
          <a:custGeom>
            <a:avLst/>
            <a:gdLst/>
            <a:ahLst/>
            <a:rect l="l" t="t" r="r" b="b"/>
            <a:pathLst>
              <a:path w="1872" h="2304">
                <a:moveTo>
                  <a:pt x="0" y="2304"/>
                </a:moveTo>
                <a:cubicBezTo>
                  <a:pt x="156" y="2244"/>
                  <a:pt x="312" y="2184"/>
                  <a:pt x="480" y="2064"/>
                </a:cubicBezTo>
                <a:cubicBezTo>
                  <a:pt x="648" y="1944"/>
                  <a:pt x="808" y="1840"/>
                  <a:pt x="1008" y="1584"/>
                </a:cubicBezTo>
                <a:cubicBezTo>
                  <a:pt x="1208" y="1328"/>
                  <a:pt x="1544" y="768"/>
                  <a:pt x="1680" y="528"/>
                </a:cubicBezTo>
                <a:cubicBezTo>
                  <a:pt x="1816" y="288"/>
                  <a:pt x="1792" y="232"/>
                  <a:pt x="1824" y="144"/>
                </a:cubicBezTo>
                <a:cubicBezTo>
                  <a:pt x="1856" y="56"/>
                  <a:pt x="1864" y="24"/>
                  <a:pt x="18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692360" y="2135160"/>
            <a:ext cx="6119640" cy="3238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21223200">
            <a:off x="1331640" y="907560"/>
            <a:ext cx="1828800" cy="182880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9797000">
            <a:off x="2136240" y="2057040"/>
            <a:ext cx="1828800" cy="1757520"/>
          </a:xfrm>
          <a:custGeom>
            <a:avLst/>
            <a:gdLst/>
            <a:ahLst/>
            <a:rect l="l" t="t" r="r" b="b"/>
            <a:pathLst>
              <a:path w="1152" h="1152">
                <a:moveTo>
                  <a:pt x="1152" y="1152"/>
                </a:moveTo>
                <a:lnTo>
                  <a:pt x="1093" y="1151"/>
                </a:lnTo>
                <a:lnTo>
                  <a:pt x="1034" y="1146"/>
                </a:lnTo>
                <a:lnTo>
                  <a:pt x="977" y="1139"/>
                </a:lnTo>
                <a:lnTo>
                  <a:pt x="920" y="1129"/>
                </a:lnTo>
                <a:lnTo>
                  <a:pt x="864" y="1116"/>
                </a:lnTo>
                <a:lnTo>
                  <a:pt x="810" y="1100"/>
                </a:lnTo>
                <a:lnTo>
                  <a:pt x="756" y="1082"/>
                </a:lnTo>
                <a:lnTo>
                  <a:pt x="704" y="1062"/>
                </a:lnTo>
                <a:lnTo>
                  <a:pt x="653" y="1038"/>
                </a:lnTo>
                <a:lnTo>
                  <a:pt x="603" y="1013"/>
                </a:lnTo>
                <a:lnTo>
                  <a:pt x="555" y="985"/>
                </a:lnTo>
                <a:lnTo>
                  <a:pt x="508" y="955"/>
                </a:lnTo>
                <a:lnTo>
                  <a:pt x="463" y="923"/>
                </a:lnTo>
                <a:lnTo>
                  <a:pt x="419" y="889"/>
                </a:lnTo>
                <a:lnTo>
                  <a:pt x="378" y="853"/>
                </a:lnTo>
                <a:lnTo>
                  <a:pt x="338" y="815"/>
                </a:lnTo>
                <a:lnTo>
                  <a:pt x="299" y="775"/>
                </a:lnTo>
                <a:lnTo>
                  <a:pt x="263" y="733"/>
                </a:lnTo>
                <a:lnTo>
                  <a:pt x="229" y="689"/>
                </a:lnTo>
                <a:lnTo>
                  <a:pt x="197" y="644"/>
                </a:lnTo>
                <a:lnTo>
                  <a:pt x="167" y="597"/>
                </a:lnTo>
                <a:lnTo>
                  <a:pt x="139" y="549"/>
                </a:lnTo>
                <a:lnTo>
                  <a:pt x="114" y="499"/>
                </a:lnTo>
                <a:lnTo>
                  <a:pt x="91" y="448"/>
                </a:lnTo>
                <a:lnTo>
                  <a:pt x="70" y="396"/>
                </a:lnTo>
                <a:lnTo>
                  <a:pt x="52" y="343"/>
                </a:lnTo>
                <a:lnTo>
                  <a:pt x="36" y="288"/>
                </a:lnTo>
                <a:lnTo>
                  <a:pt x="24" y="232"/>
                </a:lnTo>
                <a:lnTo>
                  <a:pt x="13" y="175"/>
                </a:lnTo>
                <a:lnTo>
                  <a:pt x="6" y="118"/>
                </a:lnTo>
                <a:lnTo>
                  <a:pt x="2" y="5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4360" y="333360"/>
            <a:ext cx="7991280" cy="6858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Izvođenje krivulje recipročne potraž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371600"/>
            <a:ext cx="8001000" cy="48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54864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523880" y="3048120"/>
            <a:ext cx="518112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2666880"/>
            <a:ext cx="2895480" cy="2057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429000"/>
            <a:ext cx="7632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560" y="1752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1160" y="5486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114800"/>
            <a:ext cx="11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(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/P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hr-HR" sz="1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hr-HR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3505320"/>
            <a:ext cx="39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599840" y="45684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124080"/>
            <a:ext cx="75960" cy="763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28195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hr-HR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81080" y="228600"/>
            <a:ext cx="2666520" cy="5136840"/>
            <a:chOff x="1981080" y="228600"/>
            <a:chExt cx="2666520" cy="5136840"/>
          </a:xfrm>
        </p:grpSpPr>
        <p:sp>
          <p:nvSpPr>
            <p:cNvPr id="279" name=""/>
            <p:cNvSpPr/>
            <p:nvPr/>
          </p:nvSpPr>
          <p:spPr>
            <a:xfrm>
              <a:off x="3124080" y="4343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362320"/>
              <a:ext cx="76320" cy="75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09880" y="502920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1981080" y="1676520"/>
              <a:ext cx="1905120" cy="3657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4343400"/>
              <a:ext cx="76320" cy="76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209320" y="228240"/>
              <a:ext cx="243792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62320" y="21337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hr-H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18148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5486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06720" y="1650960"/>
            <a:ext cx="219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06000" y="1422360"/>
            <a:ext cx="208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uvoz, C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5805360"/>
            <a:ext cx="2309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Strani uvoz,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56360" y="5516640"/>
            <a:ext cx="249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Domaći  izvoz, Q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– C*</a:t>
            </a:r>
            <a:r>
              <a:rPr b="1" lang="hr-HR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181480" y="2286000"/>
            <a:ext cx="3227400" cy="3200400"/>
            <a:chOff x="5181480" y="2286000"/>
            <a:chExt cx="3227400" cy="3200400"/>
          </a:xfrm>
        </p:grpSpPr>
        <p:sp>
          <p:nvSpPr>
            <p:cNvPr id="293" name=""/>
            <p:cNvSpPr/>
            <p:nvPr/>
          </p:nvSpPr>
          <p:spPr>
            <a:xfrm flipH="1">
              <a:off x="5181480" y="2438280"/>
              <a:ext cx="2438640" cy="3048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0120" y="2286000"/>
              <a:ext cx="788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81120" y="3581280"/>
            <a:ext cx="3304080" cy="1905120"/>
            <a:chOff x="5181120" y="3581280"/>
            <a:chExt cx="3304080" cy="1905120"/>
          </a:xfrm>
        </p:grpSpPr>
        <p:sp>
          <p:nvSpPr>
            <p:cNvPr id="296" name=""/>
            <p:cNvSpPr/>
            <p:nvPr/>
          </p:nvSpPr>
          <p:spPr>
            <a:xfrm flipH="1">
              <a:off x="5181120" y="3962520"/>
              <a:ext cx="304812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96080" y="3581280"/>
              <a:ext cx="789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(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/P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hr-HR" sz="14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r>
                <a:rPr b="1" lang="hr-HR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86000" y="2362320"/>
            <a:ext cx="4876920" cy="3124080"/>
            <a:chOff x="2286000" y="2362320"/>
            <a:chExt cx="4876920" cy="3124080"/>
          </a:xfrm>
        </p:grpSpPr>
        <p:sp>
          <p:nvSpPr>
            <p:cNvPr id="299" name=""/>
            <p:cNvSpPr/>
            <p:nvPr/>
          </p:nvSpPr>
          <p:spPr>
            <a:xfrm>
              <a:off x="2286000" y="2362320"/>
              <a:ext cx="1143000" cy="205740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181480" y="3048120"/>
              <a:ext cx="198144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133720" y="3124080"/>
            <a:ext cx="4572000" cy="2362320"/>
            <a:chOff x="2133720" y="3124080"/>
            <a:chExt cx="4572000" cy="2362320"/>
          </a:xfrm>
        </p:grpSpPr>
        <p:sp>
          <p:nvSpPr>
            <p:cNvPr id="302" name=""/>
            <p:cNvSpPr/>
            <p:nvPr/>
          </p:nvSpPr>
          <p:spPr>
            <a:xfrm>
              <a:off x="2133720" y="3124080"/>
              <a:ext cx="457200" cy="3812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181480" y="4724280"/>
              <a:ext cx="1524240" cy="76212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200400" y="1085400"/>
            <a:ext cx="4664160" cy="4400280"/>
            <a:chOff x="3200400" y="1085400"/>
            <a:chExt cx="4664160" cy="4400280"/>
          </a:xfrm>
        </p:grpSpPr>
        <p:sp>
          <p:nvSpPr>
            <p:cNvPr id="305" name=""/>
            <p:cNvSpPr/>
            <p:nvPr/>
          </p:nvSpPr>
          <p:spPr>
            <a:xfrm flipV="1">
              <a:off x="3200400" y="1084680"/>
              <a:ext cx="3962160" cy="44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00800" y="1752480"/>
              <a:ext cx="1463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Domaća krivulja recipročne potražn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oz je posljedica elastičnosti vanjske ponude i neelastičnosti domaće ponude, a kod izvoza je obrn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ravo je to razlog da izvozni sektori svake zemlje pokazuju natprosječnu stopu tehničkog napret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rivulja indiferentnosti prema trgovi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binacije proizvodnje i potrošnje koje zemlji daju istu razinu blagostanja uz razmjenu ili bez nje (tj. u autarkiji) predstavlja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očke indiferentnosti zemlje prema trgovi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84720" y="476280"/>
            <a:ext cx="0" cy="547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335772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8472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056800">
            <a:off x="3471120" y="2519640"/>
            <a:ext cx="69552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5056800">
            <a:off x="4255560" y="1584360"/>
            <a:ext cx="695160" cy="92700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242100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17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321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056800">
            <a:off x="2079000" y="3176280"/>
            <a:ext cx="649440" cy="855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0920" y="3933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070400">
            <a:off x="2734200" y="1306800"/>
            <a:ext cx="2305080" cy="32371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6070400">
            <a:off x="2193840" y="76644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0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7640" y="98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92360" y="907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458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27640" y="3500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2728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236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72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8000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2421000"/>
            <a:ext cx="50508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84720" y="2133720"/>
            <a:ext cx="718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700360" y="3284640"/>
            <a:ext cx="0" cy="649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2852640"/>
            <a:ext cx="649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2781360"/>
            <a:ext cx="0" cy="576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0364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09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5640" y="1916280"/>
            <a:ext cx="431640" cy="0"/>
          </a:xfrm>
          <a:prstGeom prst="line">
            <a:avLst/>
          </a:prstGeom>
          <a:ln cap="rnd"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0360" y="184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IVULJA INDIFEREN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5640" y="2349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33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56000" y="112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56000" y="184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40000" y="31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, E1 i  E2  predstavljaju istu razinu društvenog blagostanja jer leže na istoj krivulji indiferen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očki E zemlja proizvodi i troši istu količinu proizvoda X i Y. To je situacija autark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1 – troši OH1 proizvoda Y i H1 E1 proizvoda X, a proizvodi O1F1 proizvoda Y i E1 F1  proizvoda X (izvozi O1G1  proizvoda X i za to dobiva OG1 proizvoda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alogija točka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ajajući ishodišta ovih prostora moguće proizvodnje dobili smo krivulju indiferentnosti prema trgovini (I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vakoj točki na IT zemlja je indiferentna sudjeluje li u međunarodnoj razmjeni ili ne jer uvijek doseže istu razinu blagostanja, krivulju indiferencije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63640" y="907920"/>
            <a:ext cx="0" cy="482472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63640" y="5805360"/>
            <a:ext cx="619308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070400">
            <a:off x="813600" y="-13320"/>
            <a:ext cx="3511440" cy="3916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070400">
            <a:off x="1617480" y="1774800"/>
            <a:ext cx="2232000" cy="32353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070400">
            <a:off x="1872000" y="2670840"/>
            <a:ext cx="2089440" cy="331308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070400">
            <a:off x="2058120" y="3207240"/>
            <a:ext cx="1871640" cy="3457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763640" y="3499920"/>
            <a:ext cx="5329440" cy="2305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63640" y="2420640"/>
            <a:ext cx="4824360" cy="338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763640" y="980640"/>
            <a:ext cx="3600360" cy="482436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763640" y="404640"/>
            <a:ext cx="2592360" cy="5400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97800" y="587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60720" y="83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2920" y="3232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8000" y="4076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01080" y="5013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2720" y="55897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435640" y="6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59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20000" y="36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600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im krivuljama indiferencije odgovaraju više krivulj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1 zemlja nema interesa za trgovi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2 zemlja ima interesa za trgovinu, doseže višu krivulju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aljnje poboljšanje uvjeta razmjene, navodi zemlju na povećavanje razmj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kup točaka u kojima su različite krivulje odnosa cijena tangente na različite krivulje IT predstavljaju krivulju recipročne potražnje (zemlj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60958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3280" y="1484280"/>
            <a:ext cx="4784760" cy="454032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1844640"/>
            <a:ext cx="5505480" cy="425304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5640" y="314172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92360" y="2205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emlj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29960" y="2227320"/>
            <a:ext cx="20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021360"/>
            <a:ext cx="180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53272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recipročne potražnje za dvije zem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371600" y="19051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71600" y="6093000"/>
            <a:ext cx="54324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1523880"/>
            <a:ext cx="4808520" cy="4573800"/>
          </a:xfrm>
          <a:custGeom>
            <a:avLst/>
            <a:gdLst/>
            <a:ahLst/>
            <a:rect l="l" t="t" r="r" b="b"/>
            <a:pathLst>
              <a:path w="3029" h="2881">
                <a:moveTo>
                  <a:pt x="0" y="2880"/>
                </a:moveTo>
                <a:lnTo>
                  <a:pt x="52" y="2870"/>
                </a:lnTo>
                <a:lnTo>
                  <a:pt x="87" y="2858"/>
                </a:lnTo>
                <a:lnTo>
                  <a:pt x="122" y="2846"/>
                </a:lnTo>
                <a:lnTo>
                  <a:pt x="157" y="2846"/>
                </a:lnTo>
                <a:lnTo>
                  <a:pt x="204" y="2835"/>
                </a:lnTo>
                <a:lnTo>
                  <a:pt x="240" y="2823"/>
                </a:lnTo>
                <a:lnTo>
                  <a:pt x="275" y="2811"/>
                </a:lnTo>
                <a:lnTo>
                  <a:pt x="310" y="2811"/>
                </a:lnTo>
                <a:lnTo>
                  <a:pt x="357" y="2788"/>
                </a:lnTo>
                <a:lnTo>
                  <a:pt x="404" y="2776"/>
                </a:lnTo>
                <a:lnTo>
                  <a:pt x="440" y="2764"/>
                </a:lnTo>
                <a:lnTo>
                  <a:pt x="487" y="2741"/>
                </a:lnTo>
                <a:lnTo>
                  <a:pt x="534" y="2729"/>
                </a:lnTo>
                <a:lnTo>
                  <a:pt x="581" y="2705"/>
                </a:lnTo>
                <a:lnTo>
                  <a:pt x="628" y="2694"/>
                </a:lnTo>
                <a:lnTo>
                  <a:pt x="687" y="2670"/>
                </a:lnTo>
                <a:lnTo>
                  <a:pt x="746" y="2658"/>
                </a:lnTo>
                <a:lnTo>
                  <a:pt x="793" y="2623"/>
                </a:lnTo>
                <a:lnTo>
                  <a:pt x="828" y="2611"/>
                </a:lnTo>
                <a:lnTo>
                  <a:pt x="887" y="2588"/>
                </a:lnTo>
                <a:lnTo>
                  <a:pt x="934" y="2552"/>
                </a:lnTo>
                <a:lnTo>
                  <a:pt x="969" y="2541"/>
                </a:lnTo>
                <a:lnTo>
                  <a:pt x="1028" y="2517"/>
                </a:lnTo>
                <a:lnTo>
                  <a:pt x="1075" y="2505"/>
                </a:lnTo>
                <a:lnTo>
                  <a:pt x="1110" y="2482"/>
                </a:lnTo>
                <a:lnTo>
                  <a:pt x="1157" y="2458"/>
                </a:lnTo>
                <a:lnTo>
                  <a:pt x="1204" y="2435"/>
                </a:lnTo>
                <a:lnTo>
                  <a:pt x="1240" y="2423"/>
                </a:lnTo>
                <a:lnTo>
                  <a:pt x="1275" y="2388"/>
                </a:lnTo>
                <a:lnTo>
                  <a:pt x="1310" y="2364"/>
                </a:lnTo>
                <a:lnTo>
                  <a:pt x="1357" y="2341"/>
                </a:lnTo>
                <a:lnTo>
                  <a:pt x="1393" y="2329"/>
                </a:lnTo>
                <a:lnTo>
                  <a:pt x="1428" y="2294"/>
                </a:lnTo>
                <a:lnTo>
                  <a:pt x="1463" y="2270"/>
                </a:lnTo>
                <a:lnTo>
                  <a:pt x="1510" y="2235"/>
                </a:lnTo>
                <a:lnTo>
                  <a:pt x="1545" y="2211"/>
                </a:lnTo>
                <a:lnTo>
                  <a:pt x="1593" y="2188"/>
                </a:lnTo>
                <a:lnTo>
                  <a:pt x="1640" y="2153"/>
                </a:lnTo>
                <a:lnTo>
                  <a:pt x="1687" y="2117"/>
                </a:lnTo>
                <a:lnTo>
                  <a:pt x="1722" y="2082"/>
                </a:lnTo>
                <a:lnTo>
                  <a:pt x="1757" y="2047"/>
                </a:lnTo>
                <a:lnTo>
                  <a:pt x="1793" y="2023"/>
                </a:lnTo>
                <a:lnTo>
                  <a:pt x="1840" y="1976"/>
                </a:lnTo>
                <a:lnTo>
                  <a:pt x="1875" y="1941"/>
                </a:lnTo>
                <a:lnTo>
                  <a:pt x="1910" y="1906"/>
                </a:lnTo>
                <a:lnTo>
                  <a:pt x="1945" y="1870"/>
                </a:lnTo>
                <a:lnTo>
                  <a:pt x="1992" y="1823"/>
                </a:lnTo>
                <a:lnTo>
                  <a:pt x="2040" y="1788"/>
                </a:lnTo>
                <a:lnTo>
                  <a:pt x="2087" y="1741"/>
                </a:lnTo>
                <a:lnTo>
                  <a:pt x="2122" y="1694"/>
                </a:lnTo>
                <a:lnTo>
                  <a:pt x="2181" y="1635"/>
                </a:lnTo>
                <a:lnTo>
                  <a:pt x="2216" y="1588"/>
                </a:lnTo>
                <a:lnTo>
                  <a:pt x="2251" y="1541"/>
                </a:lnTo>
                <a:lnTo>
                  <a:pt x="2287" y="1506"/>
                </a:lnTo>
                <a:lnTo>
                  <a:pt x="2322" y="1459"/>
                </a:lnTo>
                <a:lnTo>
                  <a:pt x="2357" y="1435"/>
                </a:lnTo>
                <a:lnTo>
                  <a:pt x="2392" y="1388"/>
                </a:lnTo>
                <a:lnTo>
                  <a:pt x="2416" y="1353"/>
                </a:lnTo>
                <a:lnTo>
                  <a:pt x="2439" y="1306"/>
                </a:lnTo>
                <a:lnTo>
                  <a:pt x="2475" y="1259"/>
                </a:lnTo>
                <a:lnTo>
                  <a:pt x="2510" y="1212"/>
                </a:lnTo>
                <a:lnTo>
                  <a:pt x="2522" y="1176"/>
                </a:lnTo>
                <a:lnTo>
                  <a:pt x="2569" y="1129"/>
                </a:lnTo>
                <a:lnTo>
                  <a:pt x="2581" y="1094"/>
                </a:lnTo>
                <a:lnTo>
                  <a:pt x="2616" y="1035"/>
                </a:lnTo>
                <a:lnTo>
                  <a:pt x="2639" y="1000"/>
                </a:lnTo>
                <a:lnTo>
                  <a:pt x="2675" y="941"/>
                </a:lnTo>
                <a:lnTo>
                  <a:pt x="2698" y="906"/>
                </a:lnTo>
                <a:lnTo>
                  <a:pt x="2734" y="847"/>
                </a:lnTo>
                <a:lnTo>
                  <a:pt x="2745" y="812"/>
                </a:lnTo>
                <a:lnTo>
                  <a:pt x="2769" y="777"/>
                </a:lnTo>
                <a:lnTo>
                  <a:pt x="2781" y="741"/>
                </a:lnTo>
                <a:lnTo>
                  <a:pt x="2816" y="683"/>
                </a:lnTo>
                <a:lnTo>
                  <a:pt x="2828" y="635"/>
                </a:lnTo>
                <a:lnTo>
                  <a:pt x="2851" y="577"/>
                </a:lnTo>
                <a:lnTo>
                  <a:pt x="2875" y="541"/>
                </a:lnTo>
                <a:lnTo>
                  <a:pt x="2898" y="483"/>
                </a:lnTo>
                <a:lnTo>
                  <a:pt x="2910" y="447"/>
                </a:lnTo>
                <a:lnTo>
                  <a:pt x="2934" y="389"/>
                </a:lnTo>
                <a:lnTo>
                  <a:pt x="2945" y="330"/>
                </a:lnTo>
                <a:lnTo>
                  <a:pt x="2945" y="294"/>
                </a:lnTo>
                <a:lnTo>
                  <a:pt x="2957" y="259"/>
                </a:lnTo>
                <a:lnTo>
                  <a:pt x="2969" y="224"/>
                </a:lnTo>
                <a:lnTo>
                  <a:pt x="2969" y="177"/>
                </a:lnTo>
                <a:lnTo>
                  <a:pt x="2981" y="130"/>
                </a:lnTo>
                <a:lnTo>
                  <a:pt x="2992" y="95"/>
                </a:lnTo>
                <a:lnTo>
                  <a:pt x="3004" y="47"/>
                </a:lnTo>
                <a:lnTo>
                  <a:pt x="3028" y="12"/>
                </a:lnTo>
                <a:lnTo>
                  <a:pt x="3024" y="0"/>
                </a:lnTo>
              </a:path>
            </a:pathLst>
          </a:custGeom>
          <a:noFill/>
          <a:ln cap="rnd"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1773360"/>
            <a:ext cx="5545080" cy="4248000"/>
          </a:xfrm>
          <a:custGeom>
            <a:avLst/>
            <a:gdLst/>
            <a:ahLst/>
            <a:rect l="l" t="t" r="r" b="b"/>
            <a:pathLst>
              <a:path w="4033" h="2929">
                <a:moveTo>
                  <a:pt x="0" y="2928"/>
                </a:moveTo>
                <a:lnTo>
                  <a:pt x="40" y="2871"/>
                </a:lnTo>
                <a:lnTo>
                  <a:pt x="63" y="2836"/>
                </a:lnTo>
                <a:lnTo>
                  <a:pt x="87" y="2800"/>
                </a:lnTo>
                <a:lnTo>
                  <a:pt x="122" y="2777"/>
                </a:lnTo>
                <a:lnTo>
                  <a:pt x="146" y="2742"/>
                </a:lnTo>
                <a:lnTo>
                  <a:pt x="181" y="2706"/>
                </a:lnTo>
                <a:lnTo>
                  <a:pt x="204" y="2659"/>
                </a:lnTo>
                <a:lnTo>
                  <a:pt x="252" y="2612"/>
                </a:lnTo>
                <a:lnTo>
                  <a:pt x="275" y="2577"/>
                </a:lnTo>
                <a:lnTo>
                  <a:pt x="310" y="2542"/>
                </a:lnTo>
                <a:lnTo>
                  <a:pt x="346" y="2495"/>
                </a:lnTo>
                <a:lnTo>
                  <a:pt x="381" y="2459"/>
                </a:lnTo>
                <a:lnTo>
                  <a:pt x="416" y="2424"/>
                </a:lnTo>
                <a:lnTo>
                  <a:pt x="452" y="2389"/>
                </a:lnTo>
                <a:lnTo>
                  <a:pt x="463" y="2353"/>
                </a:lnTo>
                <a:lnTo>
                  <a:pt x="487" y="2318"/>
                </a:lnTo>
                <a:lnTo>
                  <a:pt x="534" y="2283"/>
                </a:lnTo>
                <a:lnTo>
                  <a:pt x="569" y="2236"/>
                </a:lnTo>
                <a:lnTo>
                  <a:pt x="593" y="2201"/>
                </a:lnTo>
                <a:lnTo>
                  <a:pt x="628" y="2165"/>
                </a:lnTo>
                <a:lnTo>
                  <a:pt x="663" y="2118"/>
                </a:lnTo>
                <a:lnTo>
                  <a:pt x="699" y="2071"/>
                </a:lnTo>
                <a:lnTo>
                  <a:pt x="734" y="2036"/>
                </a:lnTo>
                <a:lnTo>
                  <a:pt x="757" y="2001"/>
                </a:lnTo>
                <a:lnTo>
                  <a:pt x="793" y="1965"/>
                </a:lnTo>
                <a:lnTo>
                  <a:pt x="840" y="1918"/>
                </a:lnTo>
                <a:lnTo>
                  <a:pt x="875" y="1883"/>
                </a:lnTo>
                <a:lnTo>
                  <a:pt x="910" y="1860"/>
                </a:lnTo>
                <a:lnTo>
                  <a:pt x="946" y="1824"/>
                </a:lnTo>
                <a:lnTo>
                  <a:pt x="981" y="1777"/>
                </a:lnTo>
                <a:lnTo>
                  <a:pt x="1016" y="1742"/>
                </a:lnTo>
                <a:lnTo>
                  <a:pt x="1063" y="1695"/>
                </a:lnTo>
                <a:lnTo>
                  <a:pt x="1110" y="1660"/>
                </a:lnTo>
                <a:lnTo>
                  <a:pt x="1146" y="1624"/>
                </a:lnTo>
                <a:lnTo>
                  <a:pt x="1181" y="1589"/>
                </a:lnTo>
                <a:lnTo>
                  <a:pt x="1240" y="1530"/>
                </a:lnTo>
                <a:lnTo>
                  <a:pt x="1275" y="1495"/>
                </a:lnTo>
                <a:lnTo>
                  <a:pt x="1334" y="1448"/>
                </a:lnTo>
                <a:lnTo>
                  <a:pt x="1369" y="1424"/>
                </a:lnTo>
                <a:lnTo>
                  <a:pt x="1416" y="1377"/>
                </a:lnTo>
                <a:lnTo>
                  <a:pt x="1451" y="1354"/>
                </a:lnTo>
                <a:lnTo>
                  <a:pt x="1498" y="1319"/>
                </a:lnTo>
                <a:lnTo>
                  <a:pt x="1545" y="1272"/>
                </a:lnTo>
                <a:lnTo>
                  <a:pt x="1581" y="1248"/>
                </a:lnTo>
                <a:lnTo>
                  <a:pt x="1628" y="1201"/>
                </a:lnTo>
                <a:lnTo>
                  <a:pt x="1663" y="1177"/>
                </a:lnTo>
                <a:lnTo>
                  <a:pt x="1722" y="1130"/>
                </a:lnTo>
                <a:lnTo>
                  <a:pt x="1769" y="1095"/>
                </a:lnTo>
                <a:lnTo>
                  <a:pt x="1804" y="1072"/>
                </a:lnTo>
                <a:lnTo>
                  <a:pt x="1863" y="1036"/>
                </a:lnTo>
                <a:lnTo>
                  <a:pt x="1922" y="989"/>
                </a:lnTo>
                <a:lnTo>
                  <a:pt x="1992" y="954"/>
                </a:lnTo>
                <a:lnTo>
                  <a:pt x="2051" y="919"/>
                </a:lnTo>
                <a:lnTo>
                  <a:pt x="2110" y="883"/>
                </a:lnTo>
                <a:lnTo>
                  <a:pt x="2145" y="860"/>
                </a:lnTo>
                <a:lnTo>
                  <a:pt x="2204" y="836"/>
                </a:lnTo>
                <a:lnTo>
                  <a:pt x="2251" y="813"/>
                </a:lnTo>
                <a:lnTo>
                  <a:pt x="2322" y="766"/>
                </a:lnTo>
                <a:lnTo>
                  <a:pt x="2357" y="754"/>
                </a:lnTo>
                <a:lnTo>
                  <a:pt x="2392" y="731"/>
                </a:lnTo>
                <a:lnTo>
                  <a:pt x="2428" y="707"/>
                </a:lnTo>
                <a:lnTo>
                  <a:pt x="2463" y="695"/>
                </a:lnTo>
                <a:lnTo>
                  <a:pt x="2510" y="672"/>
                </a:lnTo>
                <a:lnTo>
                  <a:pt x="2545" y="648"/>
                </a:lnTo>
                <a:lnTo>
                  <a:pt x="2581" y="636"/>
                </a:lnTo>
                <a:lnTo>
                  <a:pt x="2616" y="613"/>
                </a:lnTo>
                <a:lnTo>
                  <a:pt x="2651" y="601"/>
                </a:lnTo>
                <a:lnTo>
                  <a:pt x="2698" y="589"/>
                </a:lnTo>
                <a:lnTo>
                  <a:pt x="2734" y="566"/>
                </a:lnTo>
                <a:lnTo>
                  <a:pt x="2769" y="554"/>
                </a:lnTo>
                <a:lnTo>
                  <a:pt x="2816" y="531"/>
                </a:lnTo>
                <a:lnTo>
                  <a:pt x="2851" y="507"/>
                </a:lnTo>
                <a:lnTo>
                  <a:pt x="2886" y="495"/>
                </a:lnTo>
                <a:lnTo>
                  <a:pt x="2934" y="472"/>
                </a:lnTo>
                <a:lnTo>
                  <a:pt x="2969" y="460"/>
                </a:lnTo>
                <a:lnTo>
                  <a:pt x="3004" y="437"/>
                </a:lnTo>
                <a:lnTo>
                  <a:pt x="3051" y="413"/>
                </a:lnTo>
                <a:lnTo>
                  <a:pt x="3086" y="401"/>
                </a:lnTo>
                <a:lnTo>
                  <a:pt x="3133" y="378"/>
                </a:lnTo>
                <a:lnTo>
                  <a:pt x="3181" y="366"/>
                </a:lnTo>
                <a:lnTo>
                  <a:pt x="3216" y="354"/>
                </a:lnTo>
                <a:lnTo>
                  <a:pt x="3251" y="331"/>
                </a:lnTo>
                <a:lnTo>
                  <a:pt x="3286" y="319"/>
                </a:lnTo>
                <a:lnTo>
                  <a:pt x="3333" y="307"/>
                </a:lnTo>
                <a:lnTo>
                  <a:pt x="3381" y="284"/>
                </a:lnTo>
                <a:lnTo>
                  <a:pt x="3416" y="260"/>
                </a:lnTo>
                <a:lnTo>
                  <a:pt x="3463" y="248"/>
                </a:lnTo>
                <a:lnTo>
                  <a:pt x="3510" y="225"/>
                </a:lnTo>
                <a:lnTo>
                  <a:pt x="3545" y="213"/>
                </a:lnTo>
                <a:lnTo>
                  <a:pt x="3580" y="201"/>
                </a:lnTo>
                <a:lnTo>
                  <a:pt x="3616" y="190"/>
                </a:lnTo>
                <a:lnTo>
                  <a:pt x="3663" y="166"/>
                </a:lnTo>
                <a:lnTo>
                  <a:pt x="3698" y="143"/>
                </a:lnTo>
                <a:lnTo>
                  <a:pt x="3757" y="119"/>
                </a:lnTo>
                <a:lnTo>
                  <a:pt x="3792" y="95"/>
                </a:lnTo>
                <a:lnTo>
                  <a:pt x="3851" y="72"/>
                </a:lnTo>
                <a:lnTo>
                  <a:pt x="3910" y="48"/>
                </a:lnTo>
                <a:lnTo>
                  <a:pt x="3945" y="37"/>
                </a:lnTo>
                <a:lnTo>
                  <a:pt x="3980" y="13"/>
                </a:lnTo>
                <a:lnTo>
                  <a:pt x="4016" y="1"/>
                </a:lnTo>
                <a:lnTo>
                  <a:pt x="4032" y="0"/>
                </a:lnTo>
              </a:path>
            </a:pathLst>
          </a:custGeom>
          <a:noFill/>
          <a:ln cap="rnd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3284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64000" y="242100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403280" y="1628280"/>
            <a:ext cx="5256360" cy="446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476280"/>
            <a:ext cx="6408720" cy="947160"/>
          </a:xfrm>
          <a:prstGeom prst="rect">
            <a:avLst/>
          </a:prstGeom>
          <a:solidFill>
            <a:srgbClr val="fdfd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sje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rivulja određuje ravnotežne uvjete trgovine kao i količine proizvo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00720" y="603576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-504720" y="3104640"/>
            <a:ext cx="28148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vo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eml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206064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–Točka razmj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940000" y="2205000"/>
            <a:ext cx="71640" cy="388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402920" y="220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95280" y="285840"/>
            <a:ext cx="8353440" cy="98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ecipročna potražnja i trgovinska ravnote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1530360"/>
            <a:ext cx="8207280" cy="4635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iza recipročne potražnje je usmjerena na izvoz i uvoz zemlje pri nekom odnosu trgo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memo li funkciju proizvodnih mogućnosti (PM) i korisnosti koje pokazuju razliku proizvodnje i potrošnje za svaki proizvod pri nekoj relativnoj cijeni (trgovinski trokut pri svakoj relativnoj cije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rivulja recipročne potražnje (ponude) sumira ove trgovinske trokute s relativnom cijenom jednakoj nagibu pravca iz ishod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ka presijecanja krivulja pokazuje uravnoteženu trgovinu, tj. jednaki su trgovinski trok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der razlikuje trgovin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imarni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trgovin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dustrijski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roizvod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govinu primarnim proizvodima objašnjava njihovom prirodnom raspoloživošću u skladu s H-O teorijom, dok za trgovinu industrijskim proizvodima tvrdi kako je funkcija mnogih faktora kao npr.: tehnološka superiornost, menadžerska vještina i ekonomija opse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nderova teor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skud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321600">
            <a:off x="1157400" y="1415880"/>
            <a:ext cx="4784760" cy="43228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3200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00720" y="3213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8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1773360"/>
            <a:ext cx="2449440" cy="273672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56000" y="213372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56000" y="2060280"/>
            <a:ext cx="0" cy="86364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6400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24360" y="429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48000" y="765000"/>
            <a:ext cx="2519280" cy="468000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76720" y="4149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3640" y="333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 rot="20202000">
            <a:off x="1642680" y="574920"/>
            <a:ext cx="24379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419640" y="154908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 rot="21355800">
            <a:off x="3582000" y="67680"/>
            <a:ext cx="24379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 rot="229200">
            <a:off x="3610080" y="-7128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236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6728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24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0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35280" y="119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64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80000" y="414972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40000" y="3141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220500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35280" y="1268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tpostavljamo da je došlo do povećanja kvalitativnog ili kvantitativnog faktora K u zemlji A koja ima komparativne prednosti u proizvodnji radno intenzivnog dobra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kon povećanja faktora K njezina se krivulja transformacije mijenja. Sad zemlja A proizvodi više dobra X, ali znatno više dobra Y koje je kapitalno intenzivno, a koje je prije uglavnom uvoz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isti odnos cijena sada bi zemlja A proizvodila u 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 trošila u 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z taj odnos cijena, zemlja B želi uvesti više proizvoda X nego što zemlja A želi izvoz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išak potražnje nad ponudom dobra X na svjetskom tržištu utječe na povećanje cijene tog dobra pa odnos cijena raste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a taj način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boljšali su se uvjeti razmjene zemlje 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33829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kle, porast proizvodnog faktora K koji se intenzivnije koristi u proizvodnji uvoznog dobra zemlje A (jer je Y kapitalno intenzivno dobro) utječe na porast udjela zemlje A u razdiobi koristi od razmjene jer se uvjeti razmjene zemlje A poboljšava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skud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21600">
            <a:off x="1190520" y="2347560"/>
            <a:ext cx="6118200" cy="345600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300720" y="6165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47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M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21164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4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59280" y="321300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27640" y="2492280"/>
            <a:ext cx="2449440" cy="2737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11280" y="1916280"/>
            <a:ext cx="0" cy="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11280" y="2276640"/>
            <a:ext cx="6264360" cy="28810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5640" y="299736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3058560" y="1116720"/>
            <a:ext cx="24375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76" y="201"/>
                </a:moveTo>
                <a:arcTo wR="10800" hR="10800" stAng="-4735068" swAng="3989257"/>
                <a:lnTo>
                  <a:pt x="10800" y="10800"/>
                </a:lnTo>
                <a:close/>
              </a:path>
              <a:path fill="none" w="21600" h="21600">
                <a:moveTo>
                  <a:pt x="12876" y="201"/>
                </a:moveTo>
                <a:arcTo wR="10800" hR="10800" stAng="-4735068" swAng="3989257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2698920" y="1121040"/>
            <a:ext cx="2437200" cy="289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38" y="194"/>
                </a:moveTo>
                <a:arcTo wR="10800" hR="10800" stAng="-4747398" swAng="4359760"/>
                <a:lnTo>
                  <a:pt x="10800" y="10800"/>
                </a:lnTo>
                <a:close/>
              </a:path>
              <a:path fill="none" w="21600" h="21600">
                <a:moveTo>
                  <a:pt x="12838" y="194"/>
                </a:moveTo>
                <a:arcTo wR="10800" hR="10800" stAng="-4747398" swAng="435976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 rot="20202000">
            <a:off x="2579760" y="-1440"/>
            <a:ext cx="24372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4500720" y="468000"/>
            <a:ext cx="243720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16360" y="292428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48000" y="2637000"/>
            <a:ext cx="2160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87640" y="3573360"/>
            <a:ext cx="21600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3500280"/>
            <a:ext cx="21564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4800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48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7164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35640" y="566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7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422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postavljamo da je došlo do kvalitativnog ili kvantitativnog porasta proizvodnog faktora L u zemlji A koji se intenzivnije troši u proizvodnji izvoznog dobra x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rastom relativno obilnijeg proizvodnog faktora L mijenja se K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om krivulje transformacije uz isti odnos cijena – javlja se višak ponude dobra X nad potražnjom na svjetskom tržištu što uvjetuje opadanje njegove ci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 je odnos cijena manji od 1, odnos cijena se smanj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 tom se izjednačuje ponuda i potražnja za dobrom X na međunarodnom tržiš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 obzirom da je odnos cijena manji nego prije,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vjeti razmjene zemlje A su se pogoršal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to zemlja ne može doseći krivulju indiferencije CA1 već C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der je pokušao objasniti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relativnu veličinu vanjske trgovi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odnosno njen udio u nacionalnom dohotku, budući da strukturu nije mog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meljna teza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veličina trgovine među dvjema zemljama je veća što je veća sličnost strukture potražnje dotičnih zemal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ličnost strukture potražnje nekih zemalja je veća što je veća sličnost per capita nacionalnih dohodaka tih zemal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ujedno da su se uvjeti razmjene za zemlju B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na kupi koristi od privrednog rasta u zemlji A koji je posljedica povećanja količine i/ili kvalitete relativno obilnog faktora te zemlje ili tehničkog napretka u proizvodnji izvoznog proizvoda zemlj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je zemlja A željela i nakon porasta svog obilnog proizvodnog faktora smanjivati razmjenu, ona bi u cijelosti zadržala za sebe koristi od svog razvoja jer bi se njezini uvjeti razmjene poboljš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3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813420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izvoznog proizvoda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1187280" y="119700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4356000" y="4292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537400">
            <a:off x="2268000" y="2708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88000" y="4653000"/>
            <a:ext cx="152280" cy="14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24000" y="1413000"/>
            <a:ext cx="3672000" cy="42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20038200">
            <a:off x="2771640" y="3429000"/>
            <a:ext cx="1513080" cy="863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1928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4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48000" y="3933720"/>
            <a:ext cx="216000" cy="241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56000" y="429264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465300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0672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56000" y="328464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895800">
            <a:off x="2340000" y="1484280"/>
            <a:ext cx="1079640" cy="93672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56000" y="191628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4000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68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00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7672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669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e ukusa u zemlji A pokazuju promjene krivulja indiferencije od Z1, Z2,… na I1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vulje indiferencije I,… nagnutije su prema osi X što znači da se sada intenzivnije želi izvozno dobro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je promjene ukusa zemlja A je proizvodila u točki FA, a trošila u CA uz px/pY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on promjene ukusa u korist X, povećana je njegova proizvodnja u zemlji A, ali još je više povećana potrošnja X-a u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9780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9080" y="11253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97080" y="292428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708000" y="2492280"/>
            <a:ext cx="115092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3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o da se krivulja recipročne potražnje zemlje A pomiče ulijevo, rotira u smjeru suprotnom od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i razmjene zemlje A se poboljšavaju te se povećavaju njene koristi od razmj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, smanjuje se opseg međunarodne ekonomske razmjene, što znači i smanjenje specijalizacije u proizvodnji pa zemlja A može biti u boljem ili lošijem položaju nego p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37450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li je zemlja A u boljem ili gorem položaju nego prije, ne možemo znati jer su se promijenile mape krivulja indiferencije, a to čini usporedbu nemoguću – ne znamo je li dosegla višu ili nižu krivulju indifer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989840" cy="31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ako na međunarodnu razmjenu i na odnose cijena utječe promjena ukusa u zemlji A u korist njezina uvoznog proizvoda 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1187280" y="1125360"/>
          <a:ext cx="665028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65028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979640" y="3500280"/>
            <a:ext cx="3313080" cy="194472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678000">
            <a:off x="2411280" y="2276280"/>
            <a:ext cx="107964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415800">
            <a:off x="2916000" y="3428640"/>
            <a:ext cx="1368360" cy="6476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32360" y="551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348000" y="3789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716360" y="436572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5128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500720" y="47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2781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21408000">
            <a:off x="3059280" y="1413000"/>
            <a:ext cx="1079280" cy="93636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1773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916360" y="19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0800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40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005360"/>
            <a:ext cx="21600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40000" y="2637000"/>
            <a:ext cx="4103640" cy="2952720"/>
          </a:xfrm>
          <a:prstGeom prst="line">
            <a:avLst/>
          </a:prstGeom>
          <a:ln cap="rnd"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16360" y="1341360"/>
            <a:ext cx="2663640" cy="4175280"/>
          </a:xfrm>
          <a:prstGeom prst="line">
            <a:avLst/>
          </a:prstGeom>
          <a:ln cap="rnd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što god je iznos per capita nacionalnog dohotka među zemljama bliži, to je intenzitet njihove međusobne trgovine industrijskim proizvodima već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nder tvrdi kako vanjska trgovina više zavisi od sličnosti u ukusima potrošača raznih zemalja, negoli od razlika u troškovima proizvod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jena ukusa u zemlji A u korist uvoznog dobra Y odražava se na promjenu krivulja indiferencije koje su sada nagnutije prema dobru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emlja A je voljna ponuditi više dobra X za istu količinu dobra Y u međunarodnoj ekonomskoj razmj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toga njezina krivulja ponude u međunarodnoj razmjeni rotira u smjeru kazaljke na sa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46400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nepromijenjenu krivulju ponude zemlje B, takva promjena ponude zemlje A određuje novi niži odnos cijena px/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uvjeti razmjene zemlje A pogoršavaju, a da se volumen međunarodne ekonomske razmjene (to znači i specijalizacije u proizvodnji) poveća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40000" y="54450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997080" y="9079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`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726520" y="256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89440" y="1125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440" y="90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58160" y="5229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97440" y="2924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19640" y="270828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1197000"/>
            <a:ext cx="3095640" cy="4248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40000" y="2637000"/>
            <a:ext cx="345600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51280" y="2421000"/>
            <a:ext cx="1295280" cy="0"/>
          </a:xfrm>
          <a:prstGeom prst="line">
            <a:avLst/>
          </a:prstGeom>
          <a:ln cap="rnd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2340000" y="1989000"/>
            <a:ext cx="3600360" cy="3456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340000" y="836640"/>
            <a:ext cx="2879640" cy="4680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8360" y="2565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780000" y="2781360"/>
            <a:ext cx="215640" cy="241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340000" y="1557360"/>
            <a:ext cx="1655640" cy="388944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800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164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3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O JE ZBROJ ELASTIČNOSTI RECIPROČNE POTRAŽNJE OBIJU ZEMALJA VEĆI OD 1, TRŽIŠTE JE STABI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elastičnost potražnje za uvozom zemlje A pokazuje za koliko će se postotaka povećati njezina potražnja za uvozom dobra Y ako se relativna cijena tog uvoza smanji za 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arshall-Lernerov uvjet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762120" y="1447920"/>
            <a:ext cx="7924680" cy="48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2195640" y="2924280"/>
            <a:ext cx="6704640" cy="5333400"/>
            <a:chOff x="2195640" y="2924280"/>
            <a:chExt cx="6704640" cy="5333400"/>
          </a:xfrm>
        </p:grpSpPr>
        <p:sp>
          <p:nvSpPr>
            <p:cNvPr id="627" name=""/>
            <p:cNvSpPr/>
            <p:nvPr/>
          </p:nvSpPr>
          <p:spPr>
            <a:xfrm flipH="1">
              <a:off x="2195640" y="2924280"/>
              <a:ext cx="67046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43400" y="307656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-89640" y="1004040"/>
            <a:ext cx="4967640" cy="4502160"/>
            <a:chOff x="-89640" y="1004040"/>
            <a:chExt cx="4967640" cy="4502160"/>
          </a:xfrm>
        </p:grpSpPr>
        <p:sp>
          <p:nvSpPr>
            <p:cNvPr id="630" name=""/>
            <p:cNvSpPr/>
            <p:nvPr/>
          </p:nvSpPr>
          <p:spPr>
            <a:xfrm flipV="1">
              <a:off x="-89280" y="1003680"/>
              <a:ext cx="4570560" cy="450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414600" y="1773360"/>
              <a:ext cx="146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211480" y="1905120"/>
            <a:ext cx="4510080" cy="3660120"/>
            <a:chOff x="2211480" y="1905120"/>
            <a:chExt cx="4510080" cy="3660120"/>
          </a:xfrm>
        </p:grpSpPr>
        <p:sp>
          <p:nvSpPr>
            <p:cNvPr id="633" name=""/>
            <p:cNvSpPr/>
            <p:nvPr/>
          </p:nvSpPr>
          <p:spPr>
            <a:xfrm flipV="1">
              <a:off x="2211480" y="2211120"/>
              <a:ext cx="3043080" cy="335412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57800" y="1905120"/>
              <a:ext cx="14637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Ravnotežni odnos cijena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hr-HR" sz="1600" spc="-1" strike="noStrike">
                  <a:solidFill>
                    <a:srgbClr val="000000"/>
                  </a:solidFill>
                  <a:latin typeface="Times New Roman"/>
                </a:rPr>
                <a:t> /P</a:t>
              </a:r>
              <a:r>
                <a:rPr b="1" lang="hr-HR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830240" y="2895480"/>
            <a:ext cx="2863440" cy="3050280"/>
            <a:chOff x="1830240" y="2895480"/>
            <a:chExt cx="2863440" cy="3050280"/>
          </a:xfrm>
        </p:grpSpPr>
        <p:sp>
          <p:nvSpPr>
            <p:cNvPr id="636" name=""/>
            <p:cNvSpPr/>
            <p:nvPr/>
          </p:nvSpPr>
          <p:spPr>
            <a:xfrm>
              <a:off x="4495680" y="31240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45200" y="5638680"/>
              <a:ext cx="34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2209680" y="30481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30240" y="2895480"/>
              <a:ext cx="407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M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 flipV="1">
            <a:off x="2195640" y="2708280"/>
            <a:ext cx="4105080" cy="79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4140000" y="1916280"/>
            <a:ext cx="502920" cy="36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35280" y="328464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´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08360" y="5589720"/>
            <a:ext cx="64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7636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84720" y="566100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34800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067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40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t stabilnosti tržišta je da krivulja recipročne potražnje zemlje A siječe krivulju recipročne potražnje zemlje B odoz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je tangens kuta koji tangenta na krivulji potražnje A u točki E zatvara s apscisom veći od tangensa kuta koji tangenta na krivulji B zatvara s apscisom u istoj toč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M/N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´M´/E M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762120" y="404640"/>
            <a:ext cx="7924680" cy="591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209680" y="220968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57400" y="556272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854000" y="2939400"/>
            <a:ext cx="7323480" cy="6136200"/>
            <a:chOff x="1854000" y="2939400"/>
            <a:chExt cx="7323480" cy="6136200"/>
          </a:xfrm>
        </p:grpSpPr>
        <p:sp>
          <p:nvSpPr>
            <p:cNvPr id="655" name=""/>
            <p:cNvSpPr/>
            <p:nvPr/>
          </p:nvSpPr>
          <p:spPr>
            <a:xfrm flipH="1" rot="434400">
              <a:off x="2162880" y="3340440"/>
              <a:ext cx="6704640" cy="533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434400">
              <a:off x="5505120" y="3565440"/>
              <a:ext cx="1463400" cy="30708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-75960" y="1059480"/>
            <a:ext cx="4968720" cy="4502520"/>
            <a:chOff x="-75960" y="1059480"/>
            <a:chExt cx="4968720" cy="4502520"/>
          </a:xfrm>
        </p:grpSpPr>
        <p:sp>
          <p:nvSpPr>
            <p:cNvPr id="658" name=""/>
            <p:cNvSpPr/>
            <p:nvPr/>
          </p:nvSpPr>
          <p:spPr>
            <a:xfrm flipV="1">
              <a:off x="-75600" y="1058760"/>
              <a:ext cx="4571280" cy="450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1572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15726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1828800"/>
              <a:ext cx="146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69236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4036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51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2195640" y="1700280"/>
            <a:ext cx="2952720" cy="3889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4360" y="40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95640" y="2060640"/>
            <a:ext cx="3889080" cy="3456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8000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28472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5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32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8764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276720" y="2852640"/>
            <a:ext cx="309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64000" y="3716280"/>
            <a:ext cx="0" cy="18734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95640" y="3716280"/>
            <a:ext cx="5976720" cy="18734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00720" y="342900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4800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21164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496728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nemarimo li transportne troškove, ravnotežni odnos cijena je PX/ PY=1, a količine izvoza i uvoza određene su koordinatama točke CA1=CB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z transportne troškove, cijena svakog dobra bit će u zemlji uvoza veća od cijene u zemlji izvoznici za visinu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417672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. uz odnos cijena 5/4 zemlja B uvozi OG jedinica dobra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eđutim da bi zemlja A izvozila OG dobra X, odnos cijena treba biti sveg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 toga slijedi da troškovi transporta jedinice dobra X iz zemlje A u zemlju B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uzeća u nekoj zemlji prvenstveno su orijentirana na proizvodnju onih dobara koja se mogu prodati na domaćem tržištu, a to određuje skup dobara koji će ta dobra imati za ponuditi kad počnu izvoziti, a takav izvoz je najperspektivnije izvoziti u zemlje sa sličnim ukus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3673440"/>
          </a:xfrm>
          <a:prstGeom prst="rect">
            <a:avLst/>
          </a:prstGeom>
          <a:solidFill>
            <a:srgbClr val="fdfda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alogno tome, sa stajališta izvoza Y, vidimo da bi uz odnos cijena 5/4 B bila voljna izvesti CBG dobra Y, dok bi zemlja A htjela uvesti CAG dobra Y uz odnos cijena 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iznose CB-CA dobra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569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transportnih troškova na cijene i količine međunarodne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140360" y="549360"/>
            <a:ext cx="0" cy="504036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6920" y="5589720"/>
            <a:ext cx="806616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2484360" y="3645000"/>
            <a:ext cx="1656000" cy="194472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140360" y="1989000"/>
            <a:ext cx="2736720" cy="309744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1402920" y="1844280"/>
            <a:ext cx="2737080" cy="3745080"/>
          </a:xfrm>
          <a:prstGeom prst="line">
            <a:avLst/>
          </a:prstGeom>
          <a:ln cap="rnd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4140360" y="1557000"/>
            <a:ext cx="2952720" cy="4032360"/>
          </a:xfrm>
          <a:prstGeom prst="line">
            <a:avLst/>
          </a:prstGeom>
          <a:ln cap="rnd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40360" y="3500280"/>
            <a:ext cx="136836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92360" y="4508640"/>
            <a:ext cx="0" cy="0"/>
          </a:xfrm>
          <a:prstGeom prst="line">
            <a:avLst/>
          </a:prstGeom>
          <a:ln cap="rnd"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419640" y="4581360"/>
            <a:ext cx="64764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cap="rnd"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84720" y="40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403280" y="33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40360" y="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71640" y="587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1010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2360" y="3213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0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 rot="10800000">
            <a:off x="3995280" y="4365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43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35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5928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940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58920" y="155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948360" y="1844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659640" y="4869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vakoj je zemlji cijena određena ponudom i potražnjom u toj zemlji u situaciji autark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emlji A je cijena dobra X niža nego u zemlji B- razlog za razm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emlja A bi izvozila dobro x, a zemlja B ga uvozila, čime bi se cijena polako izjednačavala (padala u B i rasla u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o uvedemo transportne troškove, obje zemlje jednako podnose njihov teret jer je jednaka elastičnost ponude i potražnje u zeml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slučaju kad ne bi bile jednake, veći bi dio transportnih troškova padao na onu zemlju u kojoj su ponuda i potražnja neelastičnije (krivulje bi bile okomit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7280" y="3573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00360" y="3573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047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27640" y="981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4360" y="2205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3357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1052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00000" y="2708280"/>
            <a:ext cx="0" cy="64944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211280" y="6381720"/>
            <a:ext cx="576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39640" y="189000"/>
            <a:ext cx="813600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a ravnoteža s transportnim trošk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84720" y="3357720"/>
            <a:ext cx="2880000" cy="25333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 transportnim troškovima odnos cijena u dvije zemlje se mora razlikovati. Zemlja A nudi platno za žito i transport, dok zemlja B nudi žito za platno i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116000" y="3789000"/>
            <a:ext cx="4392720" cy="2376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16000" y="1989000"/>
            <a:ext cx="259236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24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187280" y="465300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485440" y="609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97800" y="126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710880" y="14842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511960" y="350028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55640" y="450864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3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like u cijeni u dvije zemlje prije trgovine moraju biti veće od troškova prijevoza. Nakon trgovine cijena robe je viša u zemlji uvoza nego u zemlji izvoza za iznos transportnih trošk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nsportni troškovi mogu biti razlog nastanka vanjske trgovine (lokalna trgovina ili malogranični prome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oba se npr. uvozi na sjeveru zemlje, a izvozi na jugu zemlje. Stoga se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to komparativna pred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melji na bruto komparativnoj prednosti i nedostacima zbog troškova prijev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ransportni troš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18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 prijevoza nije proporcionalna težini, volumenu i vrijednosti robe. Vrijedna roba može imati proporcionalno više troškove u odnosu na tež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arifa ne zavisi samo od težine i vrijednosti robe nego i od vrste prijevoznih sredstava i udaljenosti. Ove razlike su prikazane na slijedećem grafiko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Teorija loka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46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eorija lokacije uzima u obzir troškove prijevoza i objašnjava faktore za smještaj određene industrije bilo da se radi o međunarodnoj ili međuregionalnoj trgov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e koje proizvode robe mogu biti usmjerene na izvore inputa, na tržište ili mogu biti slobodne ako su troškovi prijevoza relativno m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930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tjecaj promjene krivulje proizvodnih mogućnosti izazvana zbog povećanja relativno obilnog proizvodnog fakt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 krivulju recipročn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0:35:06Z</dcterms:created>
  <dc:creator>Igor</dc:creator>
  <dc:description/>
  <dc:language>en-US</dc:language>
  <cp:lastModifiedBy>Igor</cp:lastModifiedBy>
  <dcterms:modified xsi:type="dcterms:W3CDTF">2007-03-28T19:20:38Z</dcterms:modified>
  <cp:revision>29</cp:revision>
  <dc:subject/>
  <dc:title>TEORIJE VANJSKE TRGOVINE</dc:title>
</cp:coreProperties>
</file>