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2F0-5E62-44F8-AC31-7797B09D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96B4-5AFF-4517-9B68-F4CB4CCA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6D0-CCD8-49C9-AE81-FC419307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3C7-4C57-47D8-830F-DBBC4952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AE4-CDB9-40DE-8EE5-08F496F1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B7E-F5CB-48AE-B061-CCBA767C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25BC-4908-4C1B-A4F8-AD944A9F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AE1-C0AA-4BAC-BCA1-1D6FA10B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228-E607-4899-A5ED-8242DB09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3FB-C2C8-47CB-9CA0-33CFA8B6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161F-A044-488D-BB9A-3B0CBC03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AB2-4AA8-4EDE-AB24-90B54031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A0A8-31F6-434E-921F-30907F7AA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jere visine carinske zaštite u nekom gospodarstv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kazana zemlja B koja uvozi X iz zemlj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oši u točki B, uvoz j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đenjem kvote od AG, smanjuje se uvoz na AG, raste cijena u zemlji B, smanjuje se potrošnja sa PaDb na PD, raste domaća proizvodnja s PaA na PC, dolazi do preraspodjele realnog dohotka od potrošača proizvođač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blagostanja za GDB (smanjenje potrošačeva probit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lada može prodavati dozvole za uvoz do veličine kvote – pri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li, dijeliti dozvole uvoznicima koji onda profitiraju na razlici cijena dobra X i Y u zemljama A i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su izvoznici u zemlji A formirali kartel, a uvoznici u zemlji B međusobno konkuriraju, korist od uvođenja kvote imat će izvoznici u zemlji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340000" y="1484280"/>
            <a:ext cx="2087640" cy="3960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981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›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40000" y="371628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34000" y="330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57640" y="32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97640" y="330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7080" y="54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emlja A uvozi kvotu na uvoz Y-a od O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ivulja recipročne potražnje zemlje A ima lom u točki E pa sada izgleda OE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jeti razmjene zemlje A su se uvođenjem kvote poboljšali (px/pY›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 li time položaj zemlje A poboljšan, ne možemo reći dok ne znamo nalazi li se zemlja A nakon uvođenja kvote na višoj ili nižoj krivulji indiferen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Argumenti za zašti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19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rgumenti za zaštit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zaposlenosti i smanjenja nezaposle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nacionalne sigurnosti i o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mlade industr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nepravedne konkure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pravljanje uvjeta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boljšanje trgovinske bi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nezaposlenosti u specifičnoj industr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enziranje stranih izvoznih subven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enziranje dampinških cijena (anti-dum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rina u korist oskudnog faktora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litički i socijalni razlo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isto fiskalni razlo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67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đutim, protekcionizam se danas opravdava potrebom zaštite male zemlje od inozemne konkurencije dok ne postigne konkurentnost –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TRATEŠKA TRGOVINSKA POLITIK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riteriji aktivne zaštitne polit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LITATIVNI KRITERIJ: što štititi, tj. koje proizvode ili sektore proizvodnje? Na što uvesti veću carin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NTITATIVNI KRITERIJ: koliko visoku stopu zaštite uves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STRUMENTALNI KRITERIJ: čime, tj. kojim instrumentima štititi? Izbor između: carina, izvoznih taksi i subvencija, necarinskih ograničenja, uvoznih kvota, izvoznih ograničenja, provizija i poreza na uvoznu robu, kontrole robe, administrativnih procedura, pristojbi za carinsko evidentiranje, porijekla robe i d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91520" cy="633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utem nominalnih carinskih sto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PONDERIRANA PROSJEČNA CARINSKA STOPA – ne uzima u račun relativno značenje svake 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NDERIRANA PROSJEČNA CARINSKA STOPA – svaka carinska stopa ponderirana je udjelom pojedine robe u izvozu zem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HIBITIVNA CARINSKA STOPA – toliko visoka da sprečava uvoz robe u zeml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453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REMENSKI KRITERIJ: kako dugo štititi ili mijenjati intenzitet zaštite? Da li u vremenu smanjivati ili povećavati zaštit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ebalo bi koristiti FAZNI PRISTUP, a ne šok terapiju . Pomalo smanjivati zaštitu i najaviti njeno smanjivanje kako bi se određeni sektor mogao priviknuti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ecarinska ograničenja vanjske trgo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43588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a necarinska ograničenja vanjske trgovine mogu se svrstati u 3. grupe (3. tip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1. tipa – ona necarinska ograničenja kojima je svrha zaštititi domaću privredu od vanjske konkurencije, ograničiti uvoz ili ojačati domaću privredu u konkurenciji, s uvozom na domaćem tržištu ili u konkurenciji za izvozna tržišta. Grupiraju se dalje u MJERE PREMA UVOZU i MJERE PREMA IZVO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2. tipa – one mjere koje se odnose na probleme koji nisu direktno vezani uz trgovinu, ali se povremeno koriste za ograničavanje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3. tipa – one mjere ekonomske politike koje se primjenjuju isključivo iz razloga koji nisu direktno vezani uz trgovinu, ali koje neizbježno dovode do iskrivljavanja uvjeta međunarodne razmjene i zbog toga utječu na vanjsku trgov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1, TI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usmjerene na uvo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globalne uvozne kvote, selektivne uvozne kvote, dozvole diskretno restriktivne, dozvole liberalne, “dobrovoljna” ograničenja izvoza, embargo, državna trgovina, propisi o domaćem sadrž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.  Mjere koje djeluju kroz troškove i cijene (indirektne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varijabilni nameti i dodatne uvozne takse (prelevmani), zahtjevi za avansnim depozitom, antidampinška i kompenzatorna opterećenja (takse), direktne subvencije domaćim konkurentima uvoza, kreditna ograničenja uvoznicima, porezne olakšice i ostale indirektne subvencije domaćim proizvođačima koji konkuriraju uvozu, uključujući i kreditne koncesije, diskriminatorne tarife u unutarnjem transportu, međunarodni robni sporazu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usmjerene na izvo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a trgovi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e kvote i dozv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002440" cy="547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kroz troškove i cijene (in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rektne subvencije izvoznici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irektne subvencije izvoznicima uključujući i kreditne olakši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mping koji podržava držav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i nameti (taks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đunarodni robni sporazumi i sporazumi o marketingu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2. TI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graničenje pristupa medijima komunicir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ntitativna ograničenja marketinga i propag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. Mjere koje djeluju kroz troškove i cijene (in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25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pisi o pakiranju i etiketiranju, zdravstveni, sanitarni i standardi o kvaliteti, sigurnosni i industrijski standardi i propisi, granične takse, uporabne takse, carinska procedura, konzularne formalnosti i sl., postupci carinske klasifikacije, postupci određivanja carinske osnovice, devizna ograničenja, državno poduzetništvo, financiranje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D i slične pomoći domaćim proizvođačima supstituta uvoza i izvoznim sektor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793116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FEKTIVNA STOPA ZAŠTITE – predstavlja u biti promjene u dodanoj vrijednosti pojedinog sektora zbog uspostavljene strukture zaštite intermedijarnih i finalnih dobara. Carina na input i carina output se uzima u obzir, pa vidimo koliko je proizvodnja u biti zaštić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ominalna zaštita pokazuje efekte na potrošača, na proizvodnju ne znam – to pokazuje efektivna zašt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3. TIP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i monopol proizvodnje, prodaje i distribucije proizvod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a strukturna politika i politika regionalnog razvoja koja utječe na trgovin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d hoc mjere ekonomske politike u vezi s bilancom plać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poreznim sustavi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sustavima socijalnog osigur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sustavima amortizaci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anjske koristi od vladinih programa nabavke za obranu, zrakoplovstvo ili nevojne svr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konomija obujma uvjetovana državnim nabavka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mjene nacionalnih standarda, propisa i prakse, tarife u vanjskom transportu i međudržavni transportni sporazum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učke pristoj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Arial"/>
              </a:rPr>
              <a:t>SVJETSKA TRGOVINSKA ORGANIZA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4465800" cy="1513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484360" y="3716280"/>
            <a:ext cx="40323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adrža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govinska politika i liberali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đunarodni ugovori i trgovinska politik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ATT i poslijeratna liberalizacija trgov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unde pregovora i postupna liberalizacija trgov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zultati urugvajske runde pregovor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 GATT-a do WT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WTO – osporavana organi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timalni redoslijed liberaliz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RGOVINSK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OLI</a:t>
            </a: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IKA I LIBERALIZA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28760" y="260280"/>
            <a:ext cx="705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Industrijska politika S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4106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će politike za poticanje ekonomskog r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rinska zaštita stagnirajućih sek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moć ciljanim sekto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ljoprivreda, brodogradnja, energija, tehnologija, industrija (automobili, npr.),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reski poticaji za invest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mocija i financiranje izv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znanju zasnovan 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Japanska “industrijska politik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govinska zaštita i subvencije (naročito ran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moć ciljanim sekto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rodogradnja, čelik, automobili, strojevi, visoka tehn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inistarstvo vanjske trgovine i industrije daje pomoć obećavajućim sektor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ije lako procijeniti koliko se uspjeh Japana može objasniti vladinom pomoći i industrijskom politik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Strateška trgovinska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akcija na situaciju u sektorima s imperfektnom konkurencijom – mali broj proizvođača, svaki dovoljno velik da utječe na tržišnu cij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ubvencije mogu dati prednost domaćim proizvođačima u odnosu na inozemnog proizvođ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Ekonomske sank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govinske san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inancijske san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pjeh sankcija zavisi 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roja zemalja koje nameću sank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rode veza između zemalja pod sankcijama i zemalja koje nameću sank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Širine političke opozicije u zemlji pod sankc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ulturnih čimbenika u zemlji pod sankc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124000" y="2276640"/>
            <a:ext cx="504036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Međunarodni sporazumi i trgovinska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oličinska ograničenja vanjske trgovine - kv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960" y="333360"/>
            <a:ext cx="88167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eđunarodni sporazumi i trgovinska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đunarodna integracija je jako porasla od sred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0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ih d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i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r su razvijene zemlje postupno smanjivale carine i druga necarinska ograničenja trgovi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ivanje carina se može provoditi </a:t>
            </a:r>
            <a:r>
              <a:rPr b="1" lang="hr-HR" sz="3200" spc="-1" strike="noStrike">
                <a:solidFill>
                  <a:srgbClr val="a50021"/>
                </a:solidFill>
                <a:latin typeface="Arial"/>
              </a:rPr>
              <a:t>unilateralno, bilateralno i multilateral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351640" cy="5235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sječna stopa carine u SAD 1915.–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900000" y="404640"/>
            <a:ext cx="7343640" cy="5540040"/>
            <a:chOff x="900000" y="404640"/>
            <a:chExt cx="7343640" cy="5540040"/>
          </a:xfrm>
        </p:grpSpPr>
        <p:sp>
          <p:nvSpPr>
            <p:cNvPr id="138" name=""/>
            <p:cNvSpPr/>
            <p:nvPr/>
          </p:nvSpPr>
          <p:spPr>
            <a:xfrm>
              <a:off x="1625760" y="2748960"/>
              <a:ext cx="0" cy="27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25760" y="5535000"/>
              <a:ext cx="581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18520" y="44359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18520" y="39222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18520" y="34826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18520" y="304308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18520" y="260388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63600" y="487548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63600" y="531504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07960" y="230940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35600" y="5607360"/>
              <a:ext cx="6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19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89720" y="560736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19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44200" y="5607360"/>
              <a:ext cx="6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19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71760" y="5607360"/>
              <a:ext cx="6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19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25880" y="5607360"/>
              <a:ext cx="6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19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81440" y="5607360"/>
              <a:ext cx="6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19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07920" y="5607360"/>
              <a:ext cx="6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19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61680" y="5607360"/>
              <a:ext cx="6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197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17600" y="5607360"/>
              <a:ext cx="6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5920" y="5607360"/>
              <a:ext cx="6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5760" y="2823120"/>
              <a:ext cx="5817600" cy="2357280"/>
            </a:xfrm>
            <a:custGeom>
              <a:avLst/>
              <a:gdLst/>
              <a:ahLst/>
              <a:rect l="l" t="t" r="r" b="b"/>
              <a:pathLst>
                <a:path w="3629" h="1459">
                  <a:moveTo>
                    <a:pt x="0" y="90"/>
                  </a:moveTo>
                  <a:cubicBezTo>
                    <a:pt x="15" y="45"/>
                    <a:pt x="31" y="0"/>
                    <a:pt x="46" y="0"/>
                  </a:cubicBezTo>
                  <a:cubicBezTo>
                    <a:pt x="61" y="0"/>
                    <a:pt x="68" y="67"/>
                    <a:pt x="91" y="90"/>
                  </a:cubicBezTo>
                  <a:cubicBezTo>
                    <a:pt x="114" y="113"/>
                    <a:pt x="159" y="98"/>
                    <a:pt x="182" y="136"/>
                  </a:cubicBezTo>
                  <a:cubicBezTo>
                    <a:pt x="205" y="174"/>
                    <a:pt x="212" y="294"/>
                    <a:pt x="227" y="317"/>
                  </a:cubicBezTo>
                  <a:cubicBezTo>
                    <a:pt x="242" y="340"/>
                    <a:pt x="258" y="264"/>
                    <a:pt x="273" y="272"/>
                  </a:cubicBezTo>
                  <a:cubicBezTo>
                    <a:pt x="288" y="280"/>
                    <a:pt x="303" y="363"/>
                    <a:pt x="318" y="363"/>
                  </a:cubicBezTo>
                  <a:cubicBezTo>
                    <a:pt x="333" y="363"/>
                    <a:pt x="348" y="257"/>
                    <a:pt x="363" y="272"/>
                  </a:cubicBezTo>
                  <a:cubicBezTo>
                    <a:pt x="378" y="287"/>
                    <a:pt x="386" y="408"/>
                    <a:pt x="409" y="453"/>
                  </a:cubicBezTo>
                  <a:cubicBezTo>
                    <a:pt x="432" y="498"/>
                    <a:pt x="476" y="514"/>
                    <a:pt x="499" y="544"/>
                  </a:cubicBezTo>
                  <a:cubicBezTo>
                    <a:pt x="522" y="574"/>
                    <a:pt x="530" y="590"/>
                    <a:pt x="545" y="635"/>
                  </a:cubicBezTo>
                  <a:cubicBezTo>
                    <a:pt x="560" y="680"/>
                    <a:pt x="575" y="778"/>
                    <a:pt x="590" y="816"/>
                  </a:cubicBezTo>
                  <a:cubicBezTo>
                    <a:pt x="605" y="854"/>
                    <a:pt x="620" y="794"/>
                    <a:pt x="635" y="862"/>
                  </a:cubicBezTo>
                  <a:cubicBezTo>
                    <a:pt x="650" y="930"/>
                    <a:pt x="658" y="1148"/>
                    <a:pt x="681" y="1224"/>
                  </a:cubicBezTo>
                  <a:cubicBezTo>
                    <a:pt x="704" y="1300"/>
                    <a:pt x="742" y="1307"/>
                    <a:pt x="772" y="1315"/>
                  </a:cubicBezTo>
                  <a:cubicBezTo>
                    <a:pt x="802" y="1323"/>
                    <a:pt x="839" y="1345"/>
                    <a:pt x="862" y="1270"/>
                  </a:cubicBezTo>
                  <a:cubicBezTo>
                    <a:pt x="885" y="1195"/>
                    <a:pt x="885" y="938"/>
                    <a:pt x="908" y="862"/>
                  </a:cubicBezTo>
                  <a:cubicBezTo>
                    <a:pt x="931" y="786"/>
                    <a:pt x="975" y="816"/>
                    <a:pt x="998" y="816"/>
                  </a:cubicBezTo>
                  <a:cubicBezTo>
                    <a:pt x="1021" y="816"/>
                    <a:pt x="1029" y="839"/>
                    <a:pt x="1044" y="862"/>
                  </a:cubicBezTo>
                  <a:cubicBezTo>
                    <a:pt x="1059" y="885"/>
                    <a:pt x="1066" y="952"/>
                    <a:pt x="1089" y="952"/>
                  </a:cubicBezTo>
                  <a:cubicBezTo>
                    <a:pt x="1112" y="952"/>
                    <a:pt x="1157" y="869"/>
                    <a:pt x="1180" y="862"/>
                  </a:cubicBezTo>
                  <a:cubicBezTo>
                    <a:pt x="1203" y="855"/>
                    <a:pt x="1195" y="960"/>
                    <a:pt x="1225" y="907"/>
                  </a:cubicBezTo>
                  <a:cubicBezTo>
                    <a:pt x="1255" y="854"/>
                    <a:pt x="1308" y="574"/>
                    <a:pt x="1361" y="544"/>
                  </a:cubicBezTo>
                  <a:cubicBezTo>
                    <a:pt x="1414" y="514"/>
                    <a:pt x="1498" y="687"/>
                    <a:pt x="1543" y="725"/>
                  </a:cubicBezTo>
                  <a:cubicBezTo>
                    <a:pt x="1588" y="763"/>
                    <a:pt x="1610" y="741"/>
                    <a:pt x="1633" y="771"/>
                  </a:cubicBezTo>
                  <a:cubicBezTo>
                    <a:pt x="1656" y="801"/>
                    <a:pt x="1664" y="892"/>
                    <a:pt x="1679" y="907"/>
                  </a:cubicBezTo>
                  <a:cubicBezTo>
                    <a:pt x="1694" y="922"/>
                    <a:pt x="1709" y="847"/>
                    <a:pt x="1724" y="862"/>
                  </a:cubicBezTo>
                  <a:cubicBezTo>
                    <a:pt x="1739" y="877"/>
                    <a:pt x="1746" y="968"/>
                    <a:pt x="1769" y="998"/>
                  </a:cubicBezTo>
                  <a:cubicBezTo>
                    <a:pt x="1792" y="1028"/>
                    <a:pt x="1837" y="1020"/>
                    <a:pt x="1860" y="1043"/>
                  </a:cubicBezTo>
                  <a:cubicBezTo>
                    <a:pt x="1883" y="1066"/>
                    <a:pt x="1891" y="1134"/>
                    <a:pt x="1906" y="1134"/>
                  </a:cubicBezTo>
                  <a:cubicBezTo>
                    <a:pt x="1921" y="1134"/>
                    <a:pt x="1928" y="1013"/>
                    <a:pt x="1951" y="1043"/>
                  </a:cubicBezTo>
                  <a:cubicBezTo>
                    <a:pt x="1974" y="1073"/>
                    <a:pt x="2012" y="1270"/>
                    <a:pt x="2042" y="1315"/>
                  </a:cubicBezTo>
                  <a:cubicBezTo>
                    <a:pt x="2072" y="1360"/>
                    <a:pt x="2102" y="1307"/>
                    <a:pt x="2132" y="1315"/>
                  </a:cubicBezTo>
                  <a:cubicBezTo>
                    <a:pt x="2162" y="1323"/>
                    <a:pt x="2193" y="1353"/>
                    <a:pt x="2223" y="1361"/>
                  </a:cubicBezTo>
                  <a:cubicBezTo>
                    <a:pt x="2253" y="1369"/>
                    <a:pt x="2291" y="1369"/>
                    <a:pt x="2314" y="1361"/>
                  </a:cubicBezTo>
                  <a:cubicBezTo>
                    <a:pt x="2337" y="1353"/>
                    <a:pt x="2336" y="1323"/>
                    <a:pt x="2359" y="1315"/>
                  </a:cubicBezTo>
                  <a:cubicBezTo>
                    <a:pt x="2382" y="1307"/>
                    <a:pt x="2420" y="1330"/>
                    <a:pt x="2450" y="1315"/>
                  </a:cubicBezTo>
                  <a:cubicBezTo>
                    <a:pt x="2480" y="1300"/>
                    <a:pt x="2511" y="1231"/>
                    <a:pt x="2541" y="1224"/>
                  </a:cubicBezTo>
                  <a:cubicBezTo>
                    <a:pt x="2571" y="1217"/>
                    <a:pt x="2608" y="1270"/>
                    <a:pt x="2631" y="1270"/>
                  </a:cubicBezTo>
                  <a:cubicBezTo>
                    <a:pt x="2654" y="1270"/>
                    <a:pt x="2654" y="1232"/>
                    <a:pt x="2677" y="1224"/>
                  </a:cubicBezTo>
                  <a:cubicBezTo>
                    <a:pt x="2700" y="1216"/>
                    <a:pt x="2744" y="1231"/>
                    <a:pt x="2767" y="1224"/>
                  </a:cubicBezTo>
                  <a:cubicBezTo>
                    <a:pt x="2790" y="1217"/>
                    <a:pt x="2790" y="1179"/>
                    <a:pt x="2813" y="1179"/>
                  </a:cubicBezTo>
                  <a:cubicBezTo>
                    <a:pt x="2836" y="1179"/>
                    <a:pt x="2880" y="1209"/>
                    <a:pt x="2903" y="1224"/>
                  </a:cubicBezTo>
                  <a:cubicBezTo>
                    <a:pt x="2926" y="1239"/>
                    <a:pt x="2926" y="1255"/>
                    <a:pt x="2949" y="1270"/>
                  </a:cubicBezTo>
                  <a:cubicBezTo>
                    <a:pt x="2972" y="1285"/>
                    <a:pt x="3010" y="1300"/>
                    <a:pt x="3040" y="1315"/>
                  </a:cubicBezTo>
                  <a:cubicBezTo>
                    <a:pt x="3070" y="1330"/>
                    <a:pt x="3107" y="1346"/>
                    <a:pt x="3130" y="1361"/>
                  </a:cubicBezTo>
                  <a:cubicBezTo>
                    <a:pt x="3153" y="1376"/>
                    <a:pt x="3146" y="1391"/>
                    <a:pt x="3176" y="1406"/>
                  </a:cubicBezTo>
                  <a:cubicBezTo>
                    <a:pt x="3206" y="1421"/>
                    <a:pt x="3274" y="1443"/>
                    <a:pt x="3312" y="1451"/>
                  </a:cubicBezTo>
                  <a:cubicBezTo>
                    <a:pt x="3350" y="1459"/>
                    <a:pt x="3364" y="1451"/>
                    <a:pt x="3402" y="1451"/>
                  </a:cubicBezTo>
                  <a:cubicBezTo>
                    <a:pt x="3440" y="1451"/>
                    <a:pt x="3500" y="1451"/>
                    <a:pt x="3538" y="1451"/>
                  </a:cubicBezTo>
                  <a:cubicBezTo>
                    <a:pt x="3576" y="1451"/>
                    <a:pt x="3614" y="1458"/>
                    <a:pt x="3629" y="145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17560" y="326304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Car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17600" y="3922200"/>
              <a:ext cx="1379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ff0066"/>
                  </a:solidFill>
                  <a:latin typeface="Arial"/>
                </a:rPr>
                <a:t>Necarinska zašti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00000" y="404640"/>
              <a:ext cx="7343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00"/>
                  </a:solidFill>
                  <a:latin typeface="Arial"/>
                </a:rPr>
                <a:t>Carinska i necarinska zaštita u SAD od 1900. – 1984. god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5760" y="4142160"/>
              <a:ext cx="5891400" cy="1379880"/>
            </a:xfrm>
            <a:custGeom>
              <a:avLst/>
              <a:gdLst/>
              <a:ahLst/>
              <a:rect l="l" t="t" r="r" b="b"/>
              <a:pathLst>
                <a:path w="3675" h="854">
                  <a:moveTo>
                    <a:pt x="0" y="847"/>
                  </a:moveTo>
                  <a:cubicBezTo>
                    <a:pt x="234" y="847"/>
                    <a:pt x="469" y="847"/>
                    <a:pt x="635" y="847"/>
                  </a:cubicBezTo>
                  <a:cubicBezTo>
                    <a:pt x="801" y="847"/>
                    <a:pt x="930" y="854"/>
                    <a:pt x="998" y="847"/>
                  </a:cubicBezTo>
                  <a:cubicBezTo>
                    <a:pt x="1066" y="840"/>
                    <a:pt x="953" y="810"/>
                    <a:pt x="1044" y="802"/>
                  </a:cubicBezTo>
                  <a:cubicBezTo>
                    <a:pt x="1135" y="794"/>
                    <a:pt x="1369" y="802"/>
                    <a:pt x="1543" y="802"/>
                  </a:cubicBezTo>
                  <a:cubicBezTo>
                    <a:pt x="1717" y="802"/>
                    <a:pt x="1944" y="802"/>
                    <a:pt x="2087" y="802"/>
                  </a:cubicBezTo>
                  <a:cubicBezTo>
                    <a:pt x="2230" y="802"/>
                    <a:pt x="2344" y="817"/>
                    <a:pt x="2404" y="802"/>
                  </a:cubicBezTo>
                  <a:cubicBezTo>
                    <a:pt x="2464" y="787"/>
                    <a:pt x="2435" y="764"/>
                    <a:pt x="2450" y="711"/>
                  </a:cubicBezTo>
                  <a:cubicBezTo>
                    <a:pt x="2465" y="658"/>
                    <a:pt x="2488" y="552"/>
                    <a:pt x="2495" y="484"/>
                  </a:cubicBezTo>
                  <a:cubicBezTo>
                    <a:pt x="2502" y="416"/>
                    <a:pt x="2495" y="371"/>
                    <a:pt x="2495" y="303"/>
                  </a:cubicBezTo>
                  <a:cubicBezTo>
                    <a:pt x="2495" y="235"/>
                    <a:pt x="2472" y="114"/>
                    <a:pt x="2495" y="76"/>
                  </a:cubicBezTo>
                  <a:cubicBezTo>
                    <a:pt x="2518" y="38"/>
                    <a:pt x="2533" y="76"/>
                    <a:pt x="2631" y="76"/>
                  </a:cubicBezTo>
                  <a:cubicBezTo>
                    <a:pt x="2729" y="76"/>
                    <a:pt x="2994" y="76"/>
                    <a:pt x="3085" y="76"/>
                  </a:cubicBezTo>
                  <a:cubicBezTo>
                    <a:pt x="3176" y="76"/>
                    <a:pt x="3161" y="0"/>
                    <a:pt x="3176" y="76"/>
                  </a:cubicBezTo>
                  <a:cubicBezTo>
                    <a:pt x="3191" y="152"/>
                    <a:pt x="3176" y="417"/>
                    <a:pt x="3176" y="530"/>
                  </a:cubicBezTo>
                  <a:cubicBezTo>
                    <a:pt x="3176" y="643"/>
                    <a:pt x="3153" y="733"/>
                    <a:pt x="3176" y="756"/>
                  </a:cubicBezTo>
                  <a:cubicBezTo>
                    <a:pt x="3199" y="779"/>
                    <a:pt x="3275" y="689"/>
                    <a:pt x="3312" y="666"/>
                  </a:cubicBezTo>
                  <a:cubicBezTo>
                    <a:pt x="3349" y="643"/>
                    <a:pt x="3372" y="620"/>
                    <a:pt x="3402" y="620"/>
                  </a:cubicBezTo>
                  <a:cubicBezTo>
                    <a:pt x="3432" y="620"/>
                    <a:pt x="3448" y="666"/>
                    <a:pt x="3493" y="666"/>
                  </a:cubicBezTo>
                  <a:cubicBezTo>
                    <a:pt x="3538" y="666"/>
                    <a:pt x="3645" y="635"/>
                    <a:pt x="3675" y="620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440" y="1557000"/>
            <a:ext cx="792468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ko je uklanjanje carina bilo moguć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lijeratna liberalizacija trgovine je postignut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međunarodnim sporazumim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990033"/>
                </a:solidFill>
                <a:latin typeface="Arial"/>
              </a:rPr>
              <a:t>Prednosti multilateralnih sporaz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kše je postići smanjenje carina putem multilateralnih sporazuma nego s unilateralnom politikom, j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bilizira izvoznike za slobodnu trgovin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maže vladama da zaobiđu destruktivn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trgovinske ratov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eđunarodni sporazumi i trgovinska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8497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0033"/>
                </a:solidFill>
                <a:latin typeface="Arial"/>
              </a:rPr>
              <a:t>Međunarodni trgovinski sporazumi: povij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eđunarodno usklađeno smanjenje carina kao trgovinska politika datira o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0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ih godi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ultilateralno smanjenje carina nakon II svjetskog rata odvijalo se u okvir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pćeg sporazuma o carinama i trgovini (GATT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Agreement on Tariffs and Trade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stignutog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947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 i lociranog u Ženev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n je danas prerastao u Svjetsku trgovinsku organizaciju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(WTO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 Trade Organizatio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T-WTO s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stav je legalna organizacija koja utjelovljuje niz pravila ponašanja za međunarodnu trgovinsku politi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4360" y="0"/>
            <a:ext cx="79912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đunarodni sporazumi i trgovinska politi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000" y="1773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ATT-WTO sustav zabranjuje uvođen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Izvoznih subvenci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osim za agrarne proizv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Uvoznih kvot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osim ako uvoz dovodi do “poremećaja tržiš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Cari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svaka nova carina ili povećanje carina mora se kompenzirati smanjenjem drugih carina kako bi se izbjegao nepovoljan utjecaj na zemlju izvo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Trgovinske runde prego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emlje se zajedno dogovaraju o smanjenju carina i drugih ograničenja slobodnoj trgovi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Međunarodni sporazumi i trgovinska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88930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am trgovinskih rundi održano 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vih pet je imalo oblik “paralelnih” bilateralnih sporazu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p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jemačka s Francuskom i Italij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Šesti multilateralni trgovinski sporazum, poznat ka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nnedy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run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e postignut 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vaj sporazum je odredio smanjenje carina za industrijske zemlje, osim za specificirane industrije čije se carine nisu mijenjal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edy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unda je smanjila prosječnu carinsku stopu za ok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Međunarodni sporazumi i trgovinska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560" y="2060280"/>
            <a:ext cx="8281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Tokijska rund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trgovinskih pregovora je završena  1979. i dovela je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manjenja car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ova pravila za kontrolu necarinskih ograniče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sma,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rugvajska runda pregovor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je završena u 199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Međunarodni sporazumi i trgovinska politi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Rezultati urugvajske runde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štita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intelektualnog vlasništv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tvaranje tržišta za trgovinu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usluga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iberalizacija trgovine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poljoprivrednim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izvodi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klanjanje ograničenja na 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teksti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graničavanje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subvencija i dumping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Stvaranje Svjetske trgovinske organiz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TO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 stvo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iječn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95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o rezult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ak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porazu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akođer se spominje ka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TO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poraz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avnj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TO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porazum uključuje tek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AT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te tak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ATT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stavlja da postoji kao snažan sporazum o multilateralnoj liberalizaciji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TO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 izgrađen n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T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proširu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ATT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nova područ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78520" y="549360"/>
            <a:ext cx="148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45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OTA – apsolutna granica do koje može ići vrijednost ili količina neke robe ili usluge u određenom vremenskom razdobl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zne i izvozne k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Glavne zadaće W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pravljanje trgovinskim sporazum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orum za trgovinske prego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ješavanje trgovinskih spor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dziranje nacionalnih trgovinskih poli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hnička pomoć i obučavanje za zemlje u razvo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uradnja s drugim međunarodnim agenc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209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981000"/>
            <a:ext cx="8569080" cy="554364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Norme međuzavi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a50021"/>
                </a:solidFill>
                <a:latin typeface="Times New Roman"/>
              </a:rPr>
              <a:t>Liberalizacija</a:t>
            </a:r>
            <a:r>
              <a:rPr b="0" lang="hr-HR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sporazumijevanje za smanjivanje zaštite između zemalja član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a50021"/>
                </a:solidFill>
                <a:latin typeface="Times New Roman"/>
              </a:rPr>
              <a:t>Nediskriminacija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koja se čuva pomoću koncepta </a:t>
            </a:r>
            <a:r>
              <a:rPr b="0" lang="hr-HR" sz="3200" spc="-1" strike="noStrike">
                <a:solidFill>
                  <a:srgbClr val="006600"/>
                </a:solidFill>
                <a:latin typeface="Times New Roman"/>
              </a:rPr>
              <a:t>najpovlaštenije nacije: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svaka članica  WTO mora postupati sa svojim trgovinskim partnerom kao što postupa sa svojim najpovlaštenijim partne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a50021"/>
                </a:solidFill>
                <a:latin typeface="Times New Roman"/>
              </a:rPr>
              <a:t>Nacionalno postupanje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prema uvozu se mora postupati na domaćem tržištu kao sa proizvodima iz domaće proizvod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orme suvereni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a50021"/>
                </a:solidFill>
                <a:latin typeface="Arial"/>
              </a:rPr>
              <a:t>Reciprocitet</a:t>
            </a:r>
            <a:r>
              <a:rPr b="1" lang="hr-HR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– nastavak sporazumijevanja o zamjeni “koncesija” kako bi se postiglo obostrano i uravnoteženo otvaranje tržiš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a50021"/>
                </a:solidFill>
                <a:latin typeface="Arial"/>
              </a:rPr>
              <a:t>Zaštit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pravo zemlje da osigura ekonomsku stabilnost nediskriminacijskim mjerama zašt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8208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WTO dozvoljava tri vrste preferencijalnih trgovinskih aranžmana: područje slobodne trgovine, carinska unija i zajedničko tržiš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su li preferencijalni trgovinski sporazumi dob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zavisi od toga dovode li do stvaranja trgovine ili skretanja trgov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referencijalni trgovinski sporazumi i W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158400"/>
            <a:ext cx="8569080" cy="125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993300"/>
                </a:solidFill>
                <a:latin typeface="Arial"/>
              </a:rPr>
              <a:t>Regionalni trgovinski sporazumi</a:t>
            </a:r>
            <a:br>
              <a:rPr sz="4000"/>
            </a:br>
            <a:r>
              <a:rPr b="0" lang="hr-HR" sz="4000" spc="-1" strike="noStrike">
                <a:solidFill>
                  <a:srgbClr val="993300"/>
                </a:solidFill>
                <a:latin typeface="Arial"/>
              </a:rPr>
              <a:t>Regional Trade Agreements (RT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eferencijalni trgovinski sporazumi (Preferential Trade Agreements (PTA) su drugo bolje rješenje trgovinske liberaliza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a regionalne trgovinske sporazume se gleda kao na stepenicu izgradnje eventualne buduće globalne slobodne trgov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koro sve članice WTO sudjeluju u jednoj ili drugoj vrsti sporazuma RTA (PTAs- Preferential Trade Agreements ili FTAs-Free Trade Agreeme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Više od 200 regionalnih trgovinskih sporazuma je prijavljeno u GATT/W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čekuje se da će 2005. biti 250 RTA sporazuma, a ako se trend nastavi do 2007. tada bi bilo 300 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60280"/>
            <a:ext cx="82915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Trend </a:t>
            </a: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prem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hr-HR" sz="4000" spc="-1" strike="noStrike">
                <a:solidFill>
                  <a:srgbClr val="000000"/>
                </a:solidFill>
                <a:latin typeface="Arial"/>
                <a:ea typeface="MS PGothic"/>
              </a:rPr>
              <a:t>egional</a:t>
            </a: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nim i bilateralnim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sporazumima o slobodnoj trgovi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713560" y="903240"/>
            <a:ext cx="2862000" cy="300060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21462600">
            <a:off x="7125840" y="1817280"/>
            <a:ext cx="63504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0800800">
            <a:off x="6472080" y="4135320"/>
            <a:ext cx="24624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31800" y="2151000"/>
            <a:ext cx="3009960" cy="281952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491600">
            <a:off x="3789000" y="1071360"/>
            <a:ext cx="360360" cy="37573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11400" y="5840280"/>
            <a:ext cx="3200400" cy="83844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8310200">
            <a:off x="3942360" y="3891600"/>
            <a:ext cx="644400" cy="3071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84960" y="1501920"/>
            <a:ext cx="10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7280" y="431172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7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23120" y="413244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7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65600" y="1008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7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Kore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03520" y="5160960"/>
            <a:ext cx="13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7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ong K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1773360"/>
            <a:ext cx="9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7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3440" y="1150920"/>
            <a:ext cx="8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7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82920" y="6022800"/>
            <a:ext cx="12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7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ustrali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40160" y="629748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66"/>
                </a:solidFill>
                <a:latin typeface="Times New Roman"/>
                <a:ea typeface="MS PGothic"/>
              </a:rPr>
              <a:t>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19440" y="2303640"/>
            <a:ext cx="253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66"/>
                </a:solidFill>
                <a:latin typeface="Times New Roman"/>
                <a:ea typeface="MS PGothic"/>
              </a:rPr>
              <a:t>ASEAN (AF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mbo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dž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  Vi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tnam Laos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l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ezija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lip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ini        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done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   Brune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60400" y="4011480"/>
            <a:ext cx="122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a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j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91440" y="1014480"/>
            <a:ext cx="10587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66"/>
                </a:solidFill>
                <a:latin typeface="Times New Roman"/>
                <a:ea typeface="MS PGothic"/>
              </a:rPr>
              <a:t>NAF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819400">
            <a:off x="3030480" y="4374720"/>
            <a:ext cx="665280" cy="2193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2997000">
            <a:off x="4646160" y="707760"/>
            <a:ext cx="417600" cy="4754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3673800">
            <a:off x="5127840" y="653040"/>
            <a:ext cx="385920" cy="5286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0554200">
            <a:off x="6764040" y="1424160"/>
            <a:ext cx="480960" cy="340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00320" y="446868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78280" y="40226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ingap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11960" y="3081240"/>
            <a:ext cx="118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e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00800" y="1949400"/>
            <a:ext cx="98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A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9512600">
            <a:off x="6750000" y="2976120"/>
            <a:ext cx="533520" cy="1887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89400" y="6053040"/>
            <a:ext cx="19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ovi Z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9194000">
            <a:off x="2381400" y="3679560"/>
            <a:ext cx="758520" cy="3011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280" y="189000"/>
            <a:ext cx="858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Verdana"/>
                <a:ea typeface="MS PGothic"/>
              </a:rPr>
              <a:t>R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egionalni trgovinski sporazumi u 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  <a:ea typeface="MS PGothic"/>
              </a:rPr>
              <a:t>APEC regi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ji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  <a:ea typeface="MS PGothic"/>
              </a:rPr>
              <a:t> 2003</a:t>
            </a:r>
            <a:r>
              <a:rPr b="1" lang="hr-HR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143920" y="849240"/>
            <a:ext cx="98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8599400">
            <a:off x="7025400" y="1369080"/>
            <a:ext cx="1797120" cy="350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20438400">
            <a:off x="6364080" y="1147680"/>
            <a:ext cx="2163600" cy="351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20334000">
            <a:off x="2811240" y="3688920"/>
            <a:ext cx="3938400" cy="41112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2706600">
            <a:off x="4069440" y="2121120"/>
            <a:ext cx="3019320" cy="41112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47200">
            <a:off x="2711160" y="1006560"/>
            <a:ext cx="2074680" cy="52704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20415000">
            <a:off x="5802120" y="774360"/>
            <a:ext cx="3008160" cy="479088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25720" y="4275000"/>
            <a:ext cx="4595760" cy="41148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2706600">
            <a:off x="459000" y="1661400"/>
            <a:ext cx="4300560" cy="291780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931200">
            <a:off x="1652760" y="5630760"/>
            <a:ext cx="3904920" cy="41112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9174200">
            <a:off x="4722840" y="5170320"/>
            <a:ext cx="3162240" cy="41148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2148000">
            <a:off x="2147400" y="2614680"/>
            <a:ext cx="5953320" cy="41112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8692400">
            <a:off x="1260360" y="1645920"/>
            <a:ext cx="4379760" cy="253548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3320" y="3502080"/>
            <a:ext cx="1592280" cy="29847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66"/>
                </a:solidFill>
                <a:latin typeface="Times New Roman"/>
                <a:ea typeface="MS PGothic"/>
              </a:rPr>
              <a:t>SA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di</a:t>
            </a:r>
            <a:r>
              <a:rPr b="1" lang="hr-HR" sz="17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hr-HR" sz="17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anglade</a:t>
            </a:r>
            <a:r>
              <a:rPr b="1" lang="hr-HR" sz="1700" spc="-1" strike="noStrike">
                <a:solidFill>
                  <a:srgbClr val="000000"/>
                </a:solidFill>
                <a:latin typeface="Times New Roman"/>
              </a:rPr>
              <a:t>š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ri Lank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Times New Roman"/>
              </a:rPr>
              <a:t>Nep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Times New Roman"/>
              </a:rPr>
              <a:t>But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Times New Roman"/>
              </a:rPr>
              <a:t>Pakist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aldiv</a:t>
            </a:r>
            <a:r>
              <a:rPr b="1" lang="hr-HR" sz="17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6039000">
            <a:off x="-646560" y="2603160"/>
            <a:ext cx="3522600" cy="158580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8266200">
            <a:off x="157320" y="4066920"/>
            <a:ext cx="2033280" cy="126360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Preferencijalni sporazumi u Azi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" y="1557360"/>
            <a:ext cx="8515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Zemlje južne Azije su razmijenile preferencijalne carine - 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SAP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a, Indi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, Sri Lanka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anglade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š su članic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Bangkok </a:t>
            </a:r>
            <a:r>
              <a:rPr b="1" lang="hr-HR" sz="2600" spc="-1" strike="noStrike">
                <a:solidFill>
                  <a:srgbClr val="ff0066"/>
                </a:solidFill>
                <a:latin typeface="Arial"/>
              </a:rPr>
              <a:t>sporazum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i razmijenile su preferencijalne tarif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Zemlj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-77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su razmijenil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ferenc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ije u okviru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GSTP (Global System of Trade Preference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nglade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 Butan, Indi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, Nepal, Sri Lanka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a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nd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su članice grupacij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BIMST-E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di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je potpisa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TAs/FTAs - ASEAN, BIMST-EC, MERCOSUR, SAFTA, Singap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u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a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436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3200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Osporavana organizacija i anti-globalizacijski pokr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36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9900"/>
                </a:solidFill>
                <a:latin typeface="Arial"/>
              </a:rPr>
              <a:t>ATTAC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4000"/>
            </a:br>
            <a:r>
              <a:rPr b="1" lang="hr-HR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sociation for the </a:t>
            </a:r>
            <a:r>
              <a:rPr b="1" lang="hr-HR" sz="32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xation of Financial </a:t>
            </a:r>
            <a:r>
              <a:rPr b="1" lang="hr-HR" sz="32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ransactions for the </a:t>
            </a:r>
            <a:r>
              <a:rPr b="1" lang="hr-HR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d of </a:t>
            </a:r>
            <a:r>
              <a:rPr b="1" lang="hr-HR" sz="32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tizens</a:t>
            </a: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ttac je osnovan 1998. u Francuskoj kao udruga građana koja se zalaže za demokratsku kontrolu međunarodnih financijskih tržišta i uvođenje Tobinovog porez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et godina kasnije je Attac zastupljen u  50 zemalja na svijet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tavlja se kritički prema svim aspektima neoliberalne globalizacije i zalaže se socijalno pravednu i ekološku globalizaciju putem solidarnog svjetskog gospodarst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475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LOBALNA ili NEDISKRIMINATORNA KVOTA – ako se kvotom ograničava ukupna trgovina neke robe ili usluge sa svije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d je dosegnut limit određen kvotom, neovisno iz koje je zemlje roba uvezena, daljnja trgovina prest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8360" y="2625840"/>
            <a:ext cx="820080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Uvođenje Tobinovog por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Zaustavljanje izbjegavanja por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Reforma WTO , IMF i 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Preuređenje financijskih tržiš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76280"/>
            <a:ext cx="9144000" cy="1008000"/>
          </a:xfrm>
          <a:prstGeom prst="rect">
            <a:avLst/>
          </a:prstGeom>
          <a:solidFill>
            <a:srgbClr val="ffd5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Verdana"/>
              </a:rPr>
              <a:t>Alternativa neoliberalnoj globalizac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280" y="234936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OPTIMALNI REDOSLIJED LIBERALIZ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-327240"/>
            <a:ext cx="9144000" cy="770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9900"/>
                </a:solidFill>
                <a:latin typeface="Garamond"/>
              </a:rPr>
              <a:t>OPTIMALNI REDOSLJED LIBERALIZACIJE (fazni prist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aramond"/>
              </a:rPr>
              <a:t>                                      </a:t>
            </a:r>
            <a:r>
              <a:rPr b="1" lang="hr-HR" sz="2000" spc="-1" strike="noStrike">
                <a:solidFill>
                  <a:srgbClr val="000000"/>
                </a:solidFill>
                <a:latin typeface="Garamond"/>
              </a:rPr>
              <a:t>I   Liberalizacija tekućih transakcija ( </a:t>
            </a:r>
            <a:r>
              <a:rPr b="0" lang="hr-HR" sz="2000" spc="-1" strike="noStrike">
                <a:solidFill>
                  <a:srgbClr val="000000"/>
                </a:solidFill>
                <a:latin typeface="Garamond"/>
              </a:rPr>
              <a:t>GATT i WTO</a:t>
            </a:r>
            <a:r>
              <a:rPr b="0" lang="hr-HR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1/ Tržište ro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2/ Tržište uslu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                    </a:t>
            </a: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3/ Intelektualno vlasništ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</a:t>
            </a: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4/ Osjetljivi sektori ( sektori "prošlosti" i "budućnosti"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aramond"/>
              </a:rPr>
              <a:t>                                          </a:t>
            </a:r>
            <a:r>
              <a:rPr b="1" lang="hr-HR" sz="2000" spc="-1" strike="noStrike">
                <a:solidFill>
                  <a:srgbClr val="000000"/>
                </a:solidFill>
                <a:latin typeface="Garamond"/>
              </a:rPr>
              <a:t>II  Liberalizacija međunarodnih kapitalnih transak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Garamond"/>
              </a:rPr>
              <a:t>                                                 </a:t>
            </a: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1/ Liberalizacija priljeva dugoročnog kapit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a) izravne inozemne investicije u "tradable" sek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b) komercijalni kredi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c) financijski kredi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</a:t>
            </a: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2/ Razvoj i liberalizacija internog financijskog tržiš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a) novčano tržiš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b) tržište kapit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                    </a:t>
            </a: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3/ Liberalizacija odljeva kapit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a) financijske institucije i poduzeć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b) građa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aramond"/>
              </a:rPr>
              <a:t>III Pristupanje u EU i E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</a:t>
            </a: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1/ Liberalizacija kretanja kratkoročnog kapit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a) ulazak u ERM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                                      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b) priljev i odljev kratkoročnog kapit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c) privatizacija banaka - ulaganje u dionice i preuzim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                                  </a:t>
            </a:r>
            <a:r>
              <a:rPr b="0" lang="hr-HR" sz="1600" spc="-1" strike="noStrike">
                <a:solidFill>
                  <a:srgbClr val="000000"/>
                </a:solidFill>
                <a:latin typeface="Garamond"/>
              </a:rPr>
              <a:t>d) špekulativni kratkoročni kapital</a:t>
            </a: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                                                 </a:t>
            </a:r>
            <a:r>
              <a:rPr b="1" lang="hr-HR" sz="1600" spc="-1" strike="noStrike">
                <a:solidFill>
                  <a:srgbClr val="000000"/>
                </a:solidFill>
                <a:latin typeface="Garamond"/>
              </a:rPr>
              <a:t>2/ Preuzimanje zajedničke valute i ulazak u EM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387440" y="476280"/>
            <a:ext cx="925560" cy="1512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547640" y="2565360"/>
            <a:ext cx="849600" cy="1511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547640" y="4941720"/>
            <a:ext cx="863640" cy="16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d GATT do WTO</a:t>
            </a:r>
            <a:br>
              <a:rPr sz="4000"/>
            </a:b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- Dodatak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ATT je funkcionirao putem </a:t>
            </a:r>
            <a:r>
              <a:rPr b="0" lang="hr-HR" sz="2800" spc="-1" strike="noStrike">
                <a:solidFill>
                  <a:srgbClr val="009999"/>
                </a:solidFill>
                <a:latin typeface="Arial"/>
              </a:rPr>
              <a:t>trgovinskih rundi pregovor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međudržavni sporazumi o smanjivanju carina i ostalih ograničenja trgovini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kon Tokijske runde 1970-ih, carine su značajno smanj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rugvajska runda je započela 1986. i proširila je proces liberalizacije na nova područja (poljoprivreda, tekstil, usluge, intelektualno vlasništvo), a stvorena je i Svjetska trgovinska organizacija – W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-1430280" y="5760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1430280" y="829800"/>
            <a:ext cx="21888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-1430280" y="5760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67680"/>
            <a:ext cx="9144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unde u okviru GAT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692280"/>
          <a:ext cx="9144000" cy="6170400"/>
        </p:xfrm>
        <a:graphic>
          <a:graphicData uri="http://schemas.openxmlformats.org/drawingml/2006/table">
            <a:tbl>
              <a:tblPr/>
              <a:tblGrid>
                <a:gridCol w="971640"/>
                <a:gridCol w="995400"/>
                <a:gridCol w="1741320"/>
                <a:gridCol w="1689120"/>
                <a:gridCol w="1268280"/>
                <a:gridCol w="1032120"/>
                <a:gridCol w="14461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oj zemal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držaj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alite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av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rijednost pokrivene trgov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sječno smanjenje tari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sječna tarifa nakon run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in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razum po stavk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cesije na 45,000 stava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10 biliju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ne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in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razum po stavk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anjenje car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rq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in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razum po stavk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700 carinskih konces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in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razum po stavk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anjenje car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.5 biliju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ll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0-19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in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razum po stavk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lagođavanje carina zbog stvaranja EE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4.9 biliju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nne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2-19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in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earno smanje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000 carinskih stavki obavez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40 biliju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kij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3-19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ine; NTB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earno smanjenje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v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55 biliju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ugvaj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86-1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 početak, 128 kra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ine; NTB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 stavkama i linearno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beralizacija trgov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.7 triliju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-1430280" y="5760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121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ELEKTIVNA ili DISKRIMINATORNA KVOTA – ako se kvota razlikuje prema zemljama podrijetla ili odredišta robe ili uslu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ozne granice se određuju bilateralnim sporazum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ebna vrsta –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obrovoljno ograničenje izvoz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koje se bilateralno dogovara zbog narušene ravnoteže u vanjskotrgovinskoj bilanci (japanski izvoz auta u SAD i E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417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RINSKA KVOTA – stavlja limit na uvoz određene količine ili vrijednosti neke robe uz danu carinsku stop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jeđe li uvoz taj limit primjenjuje se druga, viša carinska sto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7560" y="3505320"/>
            <a:ext cx="45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306864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380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6580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7080" y="378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11640" y="3284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60720" y="3789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744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580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416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37280" y="14320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72720" y="184464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+ U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32000" y="3716280"/>
            <a:ext cx="1079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211640" y="2133360"/>
            <a:ext cx="2736720" cy="157788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9800" y="3789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0:35:06Z</dcterms:created>
  <dc:creator>Igor</dc:creator>
  <dc:description/>
  <dc:language>en-US</dc:language>
  <cp:lastModifiedBy>Igor</cp:lastModifiedBy>
  <dcterms:modified xsi:type="dcterms:W3CDTF">2007-04-25T21:12:08Z</dcterms:modified>
  <cp:revision>34</cp:revision>
  <dc:subject/>
  <dc:title>TEORIJE VANJSKE TRGOVINE</dc:title>
</cp:coreProperties>
</file>