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CF1-42F1-4A31-8444-C44FE624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EA9-4D4E-46B0-96F6-E53C251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D20-0D17-4521-BD74-4899EDF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3DD-C130-4908-8741-EBFD4B3C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1AA-BE9E-4AA9-BAA7-A3ED840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064-E0D3-4AF9-BB01-A97D998A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481-4FA0-4062-985A-FAF438D6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E6E-D1B4-4EFE-8E9D-18E7BA3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5AA-E1BC-4429-BDD6-4299E95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6BE-B786-44BC-B7C2-59FCE5E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013-FC47-47A9-807E-701ADF9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009-CBF3-4FCA-B7C8-04031E3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B2A-664F-4EC9-9870-27F353BA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Arial"/>
              </a:rPr>
              <a:t>SVJETSKA TRGOVINSKA ORGANIZ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4465800" cy="151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484360" y="3716280"/>
            <a:ext cx="4032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a politika i liber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ugovori i trgovinska politik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ATT i poslijeratna liberalizacija trgo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nde pregovora i postupna liberalizacija trgo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zultati urugvajske runde pregovor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 GATT-a do W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TO – osporavana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i redoslijed liberal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GOVINSK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LI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IKA I LIBERALIZ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8760" y="260280"/>
            <a:ext cx="705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ndustrijska politika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106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će politike za poticanje ekonomskog r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zaštita stagnirajućih sek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 ciljanim sekto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joprivreda, brodogradnja, energija, tehnologija, industrija (automobili, npr.)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eski poticaji za inves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ocija i financiranje iz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znanju zasnovan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Japanska “industrijska politik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a zaštita i subvencije (naročito ran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 ciljanim sekto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odogradnja, čelik, automobili, strojevi, visoka tehn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nistarstvo vanjske trgovine i industrije daje pomoć obećavajućim sekt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ije lako procijeniti koliko se uspjeh Japana može objasniti vladinom pomoći i industrijskom politik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akcija na situaciju u sektorima s imperfektnom konkurencijom – mali broj proizvođača, svaki dovoljno velik da utječe na tržišnu ci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bvencije mogu dati prednost domaćim proizvođačima u odnosu na inozemnog proizvođ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Ekonomske sa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e sa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nancijske sa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jeh sankcija zavisi 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oja zemalja koje nameću sa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rode veza između zemalja pod sankcijama i zemalja koje nameću sa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irine političke opozicije u zemlji pod sank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ulturnih čimbenika u zemlji pod sank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24000" y="2276640"/>
            <a:ext cx="50403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333360"/>
            <a:ext cx="8816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a integracija je jako porasla od sred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ih 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r su razvijene zemlje postupno smanjivale carine i druga necarinska ograničenja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ivanje carina se može provoditi </a:t>
            </a: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unilateralno, bilateralno i multilater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23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ječna stopa carine u SAD 1915.–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900000" y="404640"/>
            <a:ext cx="7343640" cy="5540040"/>
            <a:chOff x="900000" y="404640"/>
            <a:chExt cx="7343640" cy="5540040"/>
          </a:xfrm>
        </p:grpSpPr>
        <p:sp>
          <p:nvSpPr>
            <p:cNvPr id="138" name=""/>
            <p:cNvSpPr/>
            <p:nvPr/>
          </p:nvSpPr>
          <p:spPr>
            <a:xfrm>
              <a:off x="1625760" y="2748960"/>
              <a:ext cx="0" cy="27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5760" y="5535000"/>
              <a:ext cx="58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8520" y="443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8520" y="3922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8520" y="3482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8520" y="30430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8520" y="2603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63600" y="48754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3600" y="53150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07960" y="23094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56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9720" y="560736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42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7176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588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8144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792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168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76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592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5760" y="2823120"/>
              <a:ext cx="5817600" cy="2357280"/>
            </a:xfrm>
            <a:custGeom>
              <a:avLst/>
              <a:gdLst/>
              <a:ahLst/>
              <a:rect l="l" t="t" r="r" b="b"/>
              <a:pathLst>
                <a:path w="3629" h="1459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68" y="67"/>
                    <a:pt x="91" y="90"/>
                  </a:cubicBezTo>
                  <a:cubicBezTo>
                    <a:pt x="114" y="113"/>
                    <a:pt x="159" y="98"/>
                    <a:pt x="182" y="136"/>
                  </a:cubicBezTo>
                  <a:cubicBezTo>
                    <a:pt x="205" y="174"/>
                    <a:pt x="212" y="294"/>
                    <a:pt x="227" y="317"/>
                  </a:cubicBezTo>
                  <a:cubicBezTo>
                    <a:pt x="242" y="340"/>
                    <a:pt x="258" y="264"/>
                    <a:pt x="273" y="272"/>
                  </a:cubicBezTo>
                  <a:cubicBezTo>
                    <a:pt x="288" y="280"/>
                    <a:pt x="303" y="363"/>
                    <a:pt x="318" y="363"/>
                  </a:cubicBezTo>
                  <a:cubicBezTo>
                    <a:pt x="333" y="363"/>
                    <a:pt x="348" y="257"/>
                    <a:pt x="363" y="272"/>
                  </a:cubicBezTo>
                  <a:cubicBezTo>
                    <a:pt x="378" y="287"/>
                    <a:pt x="386" y="408"/>
                    <a:pt x="409" y="453"/>
                  </a:cubicBezTo>
                  <a:cubicBezTo>
                    <a:pt x="432" y="498"/>
                    <a:pt x="476" y="514"/>
                    <a:pt x="499" y="544"/>
                  </a:cubicBezTo>
                  <a:cubicBezTo>
                    <a:pt x="522" y="574"/>
                    <a:pt x="530" y="590"/>
                    <a:pt x="545" y="635"/>
                  </a:cubicBezTo>
                  <a:cubicBezTo>
                    <a:pt x="560" y="680"/>
                    <a:pt x="575" y="778"/>
                    <a:pt x="590" y="816"/>
                  </a:cubicBezTo>
                  <a:cubicBezTo>
                    <a:pt x="605" y="854"/>
                    <a:pt x="620" y="794"/>
                    <a:pt x="635" y="862"/>
                  </a:cubicBezTo>
                  <a:cubicBezTo>
                    <a:pt x="650" y="930"/>
                    <a:pt x="658" y="1148"/>
                    <a:pt x="681" y="1224"/>
                  </a:cubicBezTo>
                  <a:cubicBezTo>
                    <a:pt x="704" y="1300"/>
                    <a:pt x="742" y="1307"/>
                    <a:pt x="772" y="1315"/>
                  </a:cubicBezTo>
                  <a:cubicBezTo>
                    <a:pt x="802" y="1323"/>
                    <a:pt x="839" y="1345"/>
                    <a:pt x="862" y="1270"/>
                  </a:cubicBezTo>
                  <a:cubicBezTo>
                    <a:pt x="885" y="1195"/>
                    <a:pt x="885" y="938"/>
                    <a:pt x="908" y="862"/>
                  </a:cubicBezTo>
                  <a:cubicBezTo>
                    <a:pt x="931" y="786"/>
                    <a:pt x="975" y="816"/>
                    <a:pt x="998" y="816"/>
                  </a:cubicBezTo>
                  <a:cubicBezTo>
                    <a:pt x="1021" y="816"/>
                    <a:pt x="1029" y="839"/>
                    <a:pt x="1044" y="862"/>
                  </a:cubicBezTo>
                  <a:cubicBezTo>
                    <a:pt x="1059" y="885"/>
                    <a:pt x="1066" y="952"/>
                    <a:pt x="1089" y="952"/>
                  </a:cubicBezTo>
                  <a:cubicBezTo>
                    <a:pt x="1112" y="952"/>
                    <a:pt x="1157" y="869"/>
                    <a:pt x="1180" y="862"/>
                  </a:cubicBezTo>
                  <a:cubicBezTo>
                    <a:pt x="1203" y="855"/>
                    <a:pt x="1195" y="960"/>
                    <a:pt x="1225" y="907"/>
                  </a:cubicBezTo>
                  <a:cubicBezTo>
                    <a:pt x="1255" y="854"/>
                    <a:pt x="1308" y="574"/>
                    <a:pt x="1361" y="544"/>
                  </a:cubicBezTo>
                  <a:cubicBezTo>
                    <a:pt x="1414" y="514"/>
                    <a:pt x="1498" y="687"/>
                    <a:pt x="1543" y="725"/>
                  </a:cubicBezTo>
                  <a:cubicBezTo>
                    <a:pt x="1588" y="763"/>
                    <a:pt x="1610" y="741"/>
                    <a:pt x="1633" y="771"/>
                  </a:cubicBezTo>
                  <a:cubicBezTo>
                    <a:pt x="1656" y="801"/>
                    <a:pt x="1664" y="892"/>
                    <a:pt x="1679" y="907"/>
                  </a:cubicBezTo>
                  <a:cubicBezTo>
                    <a:pt x="1694" y="922"/>
                    <a:pt x="1709" y="847"/>
                    <a:pt x="1724" y="862"/>
                  </a:cubicBezTo>
                  <a:cubicBezTo>
                    <a:pt x="1739" y="877"/>
                    <a:pt x="1746" y="968"/>
                    <a:pt x="1769" y="998"/>
                  </a:cubicBezTo>
                  <a:cubicBezTo>
                    <a:pt x="1792" y="1028"/>
                    <a:pt x="1837" y="1020"/>
                    <a:pt x="1860" y="1043"/>
                  </a:cubicBezTo>
                  <a:cubicBezTo>
                    <a:pt x="1883" y="1066"/>
                    <a:pt x="1891" y="1134"/>
                    <a:pt x="1906" y="1134"/>
                  </a:cubicBezTo>
                  <a:cubicBezTo>
                    <a:pt x="1921" y="1134"/>
                    <a:pt x="1928" y="1013"/>
                    <a:pt x="1951" y="1043"/>
                  </a:cubicBezTo>
                  <a:cubicBezTo>
                    <a:pt x="1974" y="1073"/>
                    <a:pt x="2012" y="1270"/>
                    <a:pt x="2042" y="1315"/>
                  </a:cubicBezTo>
                  <a:cubicBezTo>
                    <a:pt x="2072" y="1360"/>
                    <a:pt x="2102" y="1307"/>
                    <a:pt x="2132" y="1315"/>
                  </a:cubicBezTo>
                  <a:cubicBezTo>
                    <a:pt x="2162" y="1323"/>
                    <a:pt x="2193" y="1353"/>
                    <a:pt x="2223" y="1361"/>
                  </a:cubicBezTo>
                  <a:cubicBezTo>
                    <a:pt x="2253" y="1369"/>
                    <a:pt x="2291" y="1369"/>
                    <a:pt x="2314" y="1361"/>
                  </a:cubicBezTo>
                  <a:cubicBezTo>
                    <a:pt x="2337" y="1353"/>
                    <a:pt x="2336" y="1323"/>
                    <a:pt x="2359" y="1315"/>
                  </a:cubicBezTo>
                  <a:cubicBezTo>
                    <a:pt x="2382" y="1307"/>
                    <a:pt x="2420" y="1330"/>
                    <a:pt x="2450" y="1315"/>
                  </a:cubicBezTo>
                  <a:cubicBezTo>
                    <a:pt x="2480" y="1300"/>
                    <a:pt x="2511" y="1231"/>
                    <a:pt x="2541" y="1224"/>
                  </a:cubicBezTo>
                  <a:cubicBezTo>
                    <a:pt x="2571" y="1217"/>
                    <a:pt x="2608" y="1270"/>
                    <a:pt x="2631" y="1270"/>
                  </a:cubicBezTo>
                  <a:cubicBezTo>
                    <a:pt x="2654" y="1270"/>
                    <a:pt x="2654" y="1232"/>
                    <a:pt x="2677" y="1224"/>
                  </a:cubicBezTo>
                  <a:cubicBezTo>
                    <a:pt x="2700" y="1216"/>
                    <a:pt x="2744" y="1231"/>
                    <a:pt x="2767" y="1224"/>
                  </a:cubicBezTo>
                  <a:cubicBezTo>
                    <a:pt x="2790" y="1217"/>
                    <a:pt x="2790" y="1179"/>
                    <a:pt x="2813" y="1179"/>
                  </a:cubicBezTo>
                  <a:cubicBezTo>
                    <a:pt x="2836" y="1179"/>
                    <a:pt x="2880" y="1209"/>
                    <a:pt x="2903" y="1224"/>
                  </a:cubicBezTo>
                  <a:cubicBezTo>
                    <a:pt x="2926" y="1239"/>
                    <a:pt x="2926" y="1255"/>
                    <a:pt x="2949" y="1270"/>
                  </a:cubicBezTo>
                  <a:cubicBezTo>
                    <a:pt x="2972" y="1285"/>
                    <a:pt x="3010" y="1300"/>
                    <a:pt x="3040" y="1315"/>
                  </a:cubicBezTo>
                  <a:cubicBezTo>
                    <a:pt x="3070" y="1330"/>
                    <a:pt x="3107" y="1346"/>
                    <a:pt x="3130" y="1361"/>
                  </a:cubicBezTo>
                  <a:cubicBezTo>
                    <a:pt x="3153" y="1376"/>
                    <a:pt x="3146" y="1391"/>
                    <a:pt x="3176" y="1406"/>
                  </a:cubicBezTo>
                  <a:cubicBezTo>
                    <a:pt x="3206" y="1421"/>
                    <a:pt x="3274" y="1443"/>
                    <a:pt x="3312" y="1451"/>
                  </a:cubicBezTo>
                  <a:cubicBezTo>
                    <a:pt x="3350" y="1459"/>
                    <a:pt x="3364" y="1451"/>
                    <a:pt x="3402" y="1451"/>
                  </a:cubicBezTo>
                  <a:cubicBezTo>
                    <a:pt x="3440" y="1451"/>
                    <a:pt x="3500" y="1451"/>
                    <a:pt x="3538" y="1451"/>
                  </a:cubicBezTo>
                  <a:cubicBezTo>
                    <a:pt x="3576" y="1451"/>
                    <a:pt x="3614" y="1458"/>
                    <a:pt x="3629" y="145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7560" y="32630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Car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17600" y="3922200"/>
              <a:ext cx="137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66"/>
                  </a:solidFill>
                  <a:latin typeface="Arial"/>
                </a:rPr>
                <a:t>Necarinska zašt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0000" y="404640"/>
              <a:ext cx="7343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00"/>
                  </a:solidFill>
                  <a:latin typeface="Arial"/>
                </a:rPr>
                <a:t>Carinska i necarinska zaštita u SAD od 1900. – 1984. god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5760" y="4142160"/>
              <a:ext cx="5891400" cy="1379880"/>
            </a:xfrm>
            <a:custGeom>
              <a:avLst/>
              <a:gdLst/>
              <a:ahLst/>
              <a:rect l="l" t="t" r="r" b="b"/>
              <a:pathLst>
                <a:path w="3675" h="854">
                  <a:moveTo>
                    <a:pt x="0" y="847"/>
                  </a:moveTo>
                  <a:cubicBezTo>
                    <a:pt x="234" y="847"/>
                    <a:pt x="469" y="847"/>
                    <a:pt x="635" y="847"/>
                  </a:cubicBezTo>
                  <a:cubicBezTo>
                    <a:pt x="801" y="847"/>
                    <a:pt x="930" y="854"/>
                    <a:pt x="998" y="847"/>
                  </a:cubicBezTo>
                  <a:cubicBezTo>
                    <a:pt x="1066" y="840"/>
                    <a:pt x="953" y="810"/>
                    <a:pt x="1044" y="802"/>
                  </a:cubicBezTo>
                  <a:cubicBezTo>
                    <a:pt x="1135" y="794"/>
                    <a:pt x="1369" y="802"/>
                    <a:pt x="1543" y="802"/>
                  </a:cubicBezTo>
                  <a:cubicBezTo>
                    <a:pt x="1717" y="802"/>
                    <a:pt x="1944" y="802"/>
                    <a:pt x="2087" y="802"/>
                  </a:cubicBezTo>
                  <a:cubicBezTo>
                    <a:pt x="2230" y="802"/>
                    <a:pt x="2344" y="817"/>
                    <a:pt x="2404" y="802"/>
                  </a:cubicBezTo>
                  <a:cubicBezTo>
                    <a:pt x="2464" y="787"/>
                    <a:pt x="2435" y="764"/>
                    <a:pt x="2450" y="711"/>
                  </a:cubicBezTo>
                  <a:cubicBezTo>
                    <a:pt x="2465" y="658"/>
                    <a:pt x="2488" y="552"/>
                    <a:pt x="2495" y="484"/>
                  </a:cubicBezTo>
                  <a:cubicBezTo>
                    <a:pt x="2502" y="416"/>
                    <a:pt x="2495" y="371"/>
                    <a:pt x="2495" y="303"/>
                  </a:cubicBezTo>
                  <a:cubicBezTo>
                    <a:pt x="2495" y="235"/>
                    <a:pt x="2472" y="114"/>
                    <a:pt x="2495" y="76"/>
                  </a:cubicBezTo>
                  <a:cubicBezTo>
                    <a:pt x="2518" y="38"/>
                    <a:pt x="2533" y="76"/>
                    <a:pt x="2631" y="76"/>
                  </a:cubicBezTo>
                  <a:cubicBezTo>
                    <a:pt x="2729" y="76"/>
                    <a:pt x="2994" y="76"/>
                    <a:pt x="3085" y="76"/>
                  </a:cubicBezTo>
                  <a:cubicBezTo>
                    <a:pt x="3176" y="76"/>
                    <a:pt x="3161" y="0"/>
                    <a:pt x="3176" y="76"/>
                  </a:cubicBezTo>
                  <a:cubicBezTo>
                    <a:pt x="3191" y="152"/>
                    <a:pt x="3176" y="417"/>
                    <a:pt x="3176" y="530"/>
                  </a:cubicBezTo>
                  <a:cubicBezTo>
                    <a:pt x="3176" y="643"/>
                    <a:pt x="3153" y="733"/>
                    <a:pt x="3176" y="756"/>
                  </a:cubicBezTo>
                  <a:cubicBezTo>
                    <a:pt x="3199" y="779"/>
                    <a:pt x="3275" y="689"/>
                    <a:pt x="3312" y="666"/>
                  </a:cubicBezTo>
                  <a:cubicBezTo>
                    <a:pt x="3349" y="643"/>
                    <a:pt x="3372" y="620"/>
                    <a:pt x="3402" y="620"/>
                  </a:cubicBezTo>
                  <a:cubicBezTo>
                    <a:pt x="3432" y="620"/>
                    <a:pt x="3448" y="666"/>
                    <a:pt x="3493" y="666"/>
                  </a:cubicBezTo>
                  <a:cubicBezTo>
                    <a:pt x="3538" y="666"/>
                    <a:pt x="3645" y="635"/>
                    <a:pt x="3675" y="62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55700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je uklanjanje carina bilo moguć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ijeratna liberalizacija trgovine je postignut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eđunarodnim sporazum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33"/>
                </a:solidFill>
                <a:latin typeface="Arial"/>
              </a:rPr>
              <a:t>Prednosti multilateralnih sporaz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kše je postići smanjenje carina putem multilateralnih sporazuma nego s unilateralnom politikom, 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bilizira izvoznike za slobodnu trgovi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maže vladama da zaobiđu destruktiv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rgovinske rato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0033"/>
                </a:solidFill>
                <a:latin typeface="Arial"/>
              </a:rPr>
              <a:t>Međunarodni trgovinski sporazumi: povij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đunarodno usklađeno smanjenje carina kao trgovinska politika datira 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ih god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ultilateralno smanjenje carina nakon II svjetskog rata odvijalo se u okvi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pćeg sporazuma o carinama i trgovini (GAT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Agreement on Tariffs and Trad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ignutog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4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i lociranog u Žene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n je danas prerastao u Svjetsku trgovinsku organizacij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WTO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Trade Organiz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-WTO 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tav je legalna organizacija koja utjelovljuje niz pravila ponašanja za međunarodnu trgovinsku polit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ATT-WTO sustav zabranjuje uvođen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zvoznih subvenc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osim za agrarne proizv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voznih kvo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osim ako uvoz dovodi do “poremećaja tržiš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Cari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svaka nova carina ili povećanje carina mora se kompenzirati smanjenjem drugih carina kako bi se izbjegao nepovoljan utjecaj na zemlju izvo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govinske runde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e se zajedno dogovaraju o smanjenju carina i drugih ograničenja slobodnoj trgov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am trgovinskih rundi održano 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vih pet je imalo oblik “paralelnih” bilateralnih sporaz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jemačka s Francuskom i Italij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esti multilateralni trgovinski sporazum, poznat ka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un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 postignut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aj sporazum je odredio smanjenje carina za industrijske zemlje, osim za specificirane industrije čije se carine nisu mijenja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dy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unda je smanjila prosječnu carinsku stopu za o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2060280"/>
            <a:ext cx="828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kijska rund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rgovinskih pregovora je završena  1979. i dovela je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anjenja car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va pravila za kontrolu necarinskih ogranič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ma,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rugvajska runda pregovo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 završena u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ezultati urugvajske rund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ita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ntelektualnog vlasništv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tvaranje tržišta za trgovinu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sluga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beralizacija trgovin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ljoprivrednim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lanjanje ograničenja na 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tekst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avanj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ubvencija i dumping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varanje Svjetske trgovinske organ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stvo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ječ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5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rezult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a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đer se spominje ka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vn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 uključuje tek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te ta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vlja da postoji kao snažan sporazum o multilateralnoj liberalizacij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izgrađen 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prošir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nova područ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8520" y="54936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lavne zadaće W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ravljanje trgovinskim sporazum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um za trgovinske prego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ješavanje trgovinskih spo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dziranje nacionalnih trgovinskih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hnička pomoć i obučavanje za zemlje u razvo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radnja s drugim međunarodnim agen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981000"/>
            <a:ext cx="8569080" cy="5543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orme međuzavi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Liberalizacija</a:t>
            </a:r>
            <a:r>
              <a:rPr b="0" lang="hr-HR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sporazumijevanje za smanjivanje zaštite između zemalja čla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Nediskriminacij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koja se čuva pomoću koncepta </a:t>
            </a:r>
            <a:r>
              <a:rPr b="0" lang="hr-HR" sz="3200" spc="-1" strike="noStrike">
                <a:solidFill>
                  <a:srgbClr val="006600"/>
                </a:solidFill>
                <a:latin typeface="Times New Roman"/>
              </a:rPr>
              <a:t>najpovlaštenije nacije: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svaka članica  WTO mora postupati sa svojim trgovinskim partnerom kao što postupa sa svojim najpovlaštenijim partne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Nacionalno postupanj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prema uvozu se mora postupati na domaćem tržištu kao sa proizvodima iz domaće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orme suveren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Reciprocitet</a:t>
            </a: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nastavak sporazumijevanja o zamjeni “koncesija” kako bi se postiglo obostrano i uravnoteženo otvaranje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Zaštit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pravo zemlje da osigura ekonomsku stabilnost nediskriminacijskim mjerama zašt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TO dozvoljava tri vrste preferencijalnih trgovinskih aranžmana: područje slobodne trgovine, carinska unija i zajedničko tržiš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su li preferencijalni trgovinski sporazumi dob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avisi od toga dovode li do stvaranja trgovine ili skretanja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eferencijalni trgovinski sporazumi i W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158400"/>
            <a:ext cx="8569080" cy="12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3300"/>
                </a:solidFill>
                <a:latin typeface="Arial"/>
              </a:rPr>
              <a:t>Regionalni trgovinski sporazumi</a:t>
            </a:r>
            <a:br>
              <a:rPr sz="4000"/>
            </a:br>
            <a:r>
              <a:rPr b="0" lang="hr-HR" sz="4000" spc="-1" strike="noStrike">
                <a:solidFill>
                  <a:srgbClr val="993300"/>
                </a:solidFill>
                <a:latin typeface="Arial"/>
              </a:rPr>
              <a:t>Regional Trade Agreements (RT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ferencijalni trgovinski sporazumi (Preferential Trade Agreements (PTA) su drugo bolje rješenje trgovinske liberaliz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 regionalne trgovinske sporazume se gleda kao na stepenicu izgradnje eventualne buduće globalne slobodne trgov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koro sve članice WTO sudjeluju u jednoj ili drugoj vrsti sporazuma RTA (PTAs- Preferential Trade Agreements ili FTAs-Free Trade Agre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iše od 200 regionalnih trgovinskih sporazuma je prijavljeno u GATT/W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čekuje se da će 2005. biti 250 RTA sporazuma, a ako se trend nastavi do 2007. tada bi bilo 300 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915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Trend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MS PGothic"/>
              </a:rPr>
              <a:t>egional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im i bilateralni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sporazumima o slobodnoj trgov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13560" y="903240"/>
            <a:ext cx="2862000" cy="30006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462600">
            <a:off x="7125840" y="1817280"/>
            <a:ext cx="63504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800800">
            <a:off x="6472080" y="4135320"/>
            <a:ext cx="2462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1800" y="2151000"/>
            <a:ext cx="3009960" cy="28195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491600">
            <a:off x="3789000" y="1071360"/>
            <a:ext cx="360360" cy="3757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11400" y="5840280"/>
            <a:ext cx="3200400" cy="838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8310200">
            <a:off x="3942360" y="3891600"/>
            <a:ext cx="644400" cy="3071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84960" y="15019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431172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23120" y="41324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65600" y="1008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or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3520" y="51609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77336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3440" y="11509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82920" y="602280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ustral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2974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2303640"/>
            <a:ext cx="25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ASEAN (AF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bo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d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 V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tnam Laos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l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ezij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ip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i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don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  Brun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0400" y="4011480"/>
            <a:ext cx="12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91440" y="1014480"/>
            <a:ext cx="1058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NAF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819400">
            <a:off x="3030480" y="4374720"/>
            <a:ext cx="665280" cy="219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997000">
            <a:off x="4646160" y="707760"/>
            <a:ext cx="417600" cy="475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673800">
            <a:off x="5127840" y="653040"/>
            <a:ext cx="385920" cy="5286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554200">
            <a:off x="6764040" y="1424160"/>
            <a:ext cx="480960" cy="340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00320" y="4468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8280" y="40226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ap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11960" y="3081240"/>
            <a:ext cx="118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1949400"/>
            <a:ext cx="98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512600">
            <a:off x="6750000" y="2976120"/>
            <a:ext cx="533520" cy="18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9400" y="605304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vi Z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194000">
            <a:off x="2381400" y="3679560"/>
            <a:ext cx="758520" cy="301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189000"/>
            <a:ext cx="858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egionalni trgovinski sporazumi u 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PEC regi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ji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 2003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43920" y="849240"/>
            <a:ext cx="98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8599400">
            <a:off x="7025400" y="1369080"/>
            <a:ext cx="1797120" cy="350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438400">
            <a:off x="6364080" y="1147680"/>
            <a:ext cx="2163600" cy="351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0334000">
            <a:off x="2811240" y="3688920"/>
            <a:ext cx="393840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706600">
            <a:off x="4069440" y="2121120"/>
            <a:ext cx="30193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47200">
            <a:off x="2711160" y="1006560"/>
            <a:ext cx="2074680" cy="5270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415000">
            <a:off x="5802120" y="774360"/>
            <a:ext cx="3008160" cy="47908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5720" y="4275000"/>
            <a:ext cx="4595760" cy="411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706600">
            <a:off x="459000" y="1661400"/>
            <a:ext cx="4300560" cy="29178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931200">
            <a:off x="1652760" y="5630760"/>
            <a:ext cx="39049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174200">
            <a:off x="4722840" y="5170320"/>
            <a:ext cx="3162240" cy="411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48000">
            <a:off x="2147400" y="2614680"/>
            <a:ext cx="59533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8692400">
            <a:off x="1260360" y="1645920"/>
            <a:ext cx="4379760" cy="2535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3320" y="3502080"/>
            <a:ext cx="1592280" cy="29847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SA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di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nglade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ri Lank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Nep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Bu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ldiv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6039000">
            <a:off x="-646560" y="2603160"/>
            <a:ext cx="3522600" cy="15858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66200">
            <a:off x="157320" y="4066920"/>
            <a:ext cx="2033280" cy="12636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eferencijalni sporazumi u Azi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557360"/>
            <a:ext cx="8515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emlje južne Azije su razmijenile preferencijalne carine -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SAP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a, 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, Sri Lank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anglad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š su članic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Bangkok </a:t>
            </a:r>
            <a:r>
              <a:rPr b="1" lang="hr-HR" sz="2600" spc="-1" strike="noStrike">
                <a:solidFill>
                  <a:srgbClr val="ff0066"/>
                </a:solidFill>
                <a:latin typeface="Arial"/>
              </a:rPr>
              <a:t>sporazum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 razmijenile su preferencijalne tarif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eml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-77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u razmijeni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ferenc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je u okvir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GSTP (Global System of Trade Preferenc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glad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Butan, 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, Nepal, Sri Lank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a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nd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u članice grupaci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BIMST-E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e potpisa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s/FTAs - ASEAN, BIMST-EC, MERCOSUR, SAFTA, Singap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a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sporavana organizacija i anti-globalizacijski pokr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ATTAC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000"/>
            </a:b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sociation for the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xation of Financial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nsactions for the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d of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tizens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ttac je osnovan 1998. u Francuskoj kao udruga građana koja se zalaže za demokratsku kontrolu međunarodnih financijskih tržišta i uvođenje Tobinovog pore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t godina kasnije je Attac zastupljen u  50 zemalja na svije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avlja se kritički prema svim aspektima neoliberalne globalizacije i zalaže se socijalno pravednu i ekološku globalizaciju putem solidarnog svjetskog gospoda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2625840"/>
            <a:ext cx="82008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Uvođenje Tobinovog po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Zaustavljanje izbjegavanja po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Reforma WTO , IMF i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Preuređenje financijskih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6280"/>
            <a:ext cx="9144000" cy="1008000"/>
          </a:xfrm>
          <a:prstGeom prst="rect">
            <a:avLst/>
          </a:prstGeom>
          <a:solidFill>
            <a:srgbClr val="ffd5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Verdana"/>
              </a:rPr>
              <a:t>Alternativa neoliberalnoj globaliz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3493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PTIMALNI REDOSLIJED LIBERALIZ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-327240"/>
            <a:ext cx="9144000" cy="77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Garamond"/>
              </a:rPr>
              <a:t>OPTIMALNI REDOSLJED LIBERALIZACIJE (fazni prist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   Liberalizacija tekućih transakcija (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GATT i WTO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Tržište ro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Tržište uslu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3/ Intelektualno vlasništ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4/ Osjetljivi sektori ( sektori "prošlosti" i "budućnosti"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I  Liberalizacija međunarodnih kapitalnih transa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Liberalizacija priljeva dug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izravne inozemne investicije u "tradable" s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komercijalni kred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c) financijski kred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Razvoj i liberalizacija internog financijskog tržiš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novčano trži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tržište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3/ Liberalizacija odljeva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financijske institucije i poduze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građ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II Pristupanje u EU i 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Liberalizacija kretanja kratk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ulazak u ERM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priljev i odljev kratk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c) privatizacija banaka - ulaganje u dionice i preuzim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d) špekulativni kratkoročni kapital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Preuzimanje zajedničke valute i ulazak u E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387440" y="476280"/>
            <a:ext cx="925560" cy="1512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849600" cy="1511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547640" y="4941720"/>
            <a:ext cx="86364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d GATT do WTO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- Dodatak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ATT je funkcionirao putem </a:t>
            </a:r>
            <a:r>
              <a:rPr b="0" lang="hr-HR" sz="2800" spc="-1" strike="noStrike">
                <a:solidFill>
                  <a:srgbClr val="009999"/>
                </a:solidFill>
                <a:latin typeface="Arial"/>
              </a:rPr>
              <a:t>trgovinskih rundi pregovo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međudržavni sporazumi o smanjivanju carina i ostalih ograničenja trgovini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Tokijske runde 1970-ih, carine su značajno sman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rugvajska runda je započela 1986. i proširila je proces liberalizacije na nova područja (poljoprivreda, tekstil, usluge, intelektualno vlasništvo), a stvorena je i Svjetska trgovinska organizacija – W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430280" y="829800"/>
            <a:ext cx="2188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680"/>
            <a:ext cx="9144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nde u okviru GAT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692280"/>
          <a:ext cx="9144000" cy="6170400"/>
        </p:xfrm>
        <a:graphic>
          <a:graphicData uri="http://schemas.openxmlformats.org/drawingml/2006/table">
            <a:tbl>
              <a:tblPr/>
              <a:tblGrid>
                <a:gridCol w="971640"/>
                <a:gridCol w="995400"/>
                <a:gridCol w="1741320"/>
                <a:gridCol w="1689120"/>
                <a:gridCol w="1268280"/>
                <a:gridCol w="1032120"/>
                <a:gridCol w="1446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j zema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držaj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t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av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ijednost pokrivene trgov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ječno smanjenje tar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ječna tarifa nakon ru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cesije na 45,000 stav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0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e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njenje c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q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00 carinskih konces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njenje c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5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l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-1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lagođavanje carina zbog stvaranja E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9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nne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2-1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no smanje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00 carinskih stavki obavez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0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k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3-1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 NT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no smanjenj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5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ugva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6-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 početak, 128 kr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 NT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 stavkama i linearn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eralizacija trgov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7 tr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Igor</cp:lastModifiedBy>
  <dcterms:modified xsi:type="dcterms:W3CDTF">2007-04-25T21:12:08Z</dcterms:modified>
  <cp:revision>34</cp:revision>
  <dc:subject/>
  <dc:title>TEORIJE VANJSKE TRGOVINE</dc:title>
</cp:coreProperties>
</file>