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B6862-05E0-47B6-899B-2AC3C033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DBFC6-7048-4B64-9E06-445D22C0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D8170-900D-4AE4-81B6-B2B54709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9A07B-9BB2-44F2-88E9-00848FDD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2B4E-CA16-434A-96F1-0B721640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C2B5-B2ED-40BE-A4DF-C22D1751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1BE8-7CB0-4987-890E-C66874AA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E5EB-1868-4666-A70E-82988D56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E680-B8B0-4FD0-9155-39A7912C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186B-14B3-4819-BE02-D9BC1CC9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5A4D-A6EF-4AE3-A818-DE74A28A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27180-1832-4999-8EEF-6C14C1D3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B1CF-C6FD-4AB7-B72A-53554223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FBB0-1983-4EE3-B047-CD3B77F0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5F8A-F7E2-48AB-84A2-2835B3F0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245D-841C-43AC-986B-381F2AD5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055E-E8F5-4505-B980-D4CA0C32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CF574-F011-47D0-908B-A9CF5059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A27F0-55E4-4C3B-BCF9-6766C032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D7828-9312-423F-8D7A-1435F0ED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9BAED-9EC3-49A2-BEED-ABB2F670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38E8B-6B3C-4BC3-A7ED-FA71CE8E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D02FB-B6AF-41E3-A213-4984DBE5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53685-2667-4C42-872B-C9E126D7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73B1-6A80-4911-A2D9-F276A13AC3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CB85-3FE9-4C3B-8A01-D9E27A33DB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OPTIMALNA CARIN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malna carina i elastičnost inozemne pon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340000" y="1341000"/>
            <a:ext cx="0" cy="4103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40000" y="5445000"/>
            <a:ext cx="381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68000" y="5445000"/>
            <a:ext cx="1871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340000" y="1989000"/>
            <a:ext cx="3024000" cy="345600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187280" y="1773000"/>
            <a:ext cx="3384720" cy="3671640"/>
          </a:xfrm>
          <a:prstGeom prst="line">
            <a:avLst/>
          </a:prstGeom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299736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2997360"/>
            <a:ext cx="0" cy="2519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7800" y="55166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7080" y="5445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3440" y="537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278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2360" y="393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5440" y="177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94520" y="2421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2520" y="17733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1800" y="105264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0720" y="9079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ž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57440" y="522936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94520" y="2924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8160" y="2708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411280" y="2276280"/>
            <a:ext cx="1368720" cy="3168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32360" y="27082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2360" y="57340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08720" y="292428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6000" y="407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=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1564200" y="5067360"/>
            <a:ext cx="360360" cy="11145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8800 h 1114560"/>
              <a:gd name="textAreaBottom" fmla="*/ 1085760 h 111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492"/>
                </a:lnTo>
                <a:cubicBezTo>
                  <a:pt x="10800" y="8392"/>
                  <a:pt x="5400" y="9292"/>
                  <a:pt x="0" y="9292"/>
                </a:cubicBezTo>
                <a:cubicBezTo>
                  <a:pt x="5400" y="9292"/>
                  <a:pt x="10800" y="10192"/>
                  <a:pt x="10800" y="1109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2133720"/>
            <a:ext cx="2448000" cy="3311280"/>
          </a:xfrm>
          <a:custGeom>
            <a:avLst/>
            <a:gdLst/>
            <a:ahLst/>
            <a:rect l="l" t="t" r="r" b="b"/>
            <a:pathLst>
              <a:path w="1542" h="2086">
                <a:moveTo>
                  <a:pt x="0" y="2086"/>
                </a:moveTo>
                <a:cubicBezTo>
                  <a:pt x="253" y="2036"/>
                  <a:pt x="507" y="1987"/>
                  <a:pt x="726" y="1859"/>
                </a:cubicBezTo>
                <a:cubicBezTo>
                  <a:pt x="945" y="1731"/>
                  <a:pt x="1186" y="1542"/>
                  <a:pt x="1315" y="1315"/>
                </a:cubicBezTo>
                <a:cubicBezTo>
                  <a:pt x="1444" y="1088"/>
                  <a:pt x="1459" y="717"/>
                  <a:pt x="1497" y="498"/>
                </a:cubicBezTo>
                <a:cubicBezTo>
                  <a:pt x="1535" y="279"/>
                  <a:pt x="1535" y="75"/>
                  <a:pt x="1542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2133720"/>
            <a:ext cx="1284480" cy="3240000"/>
          </a:xfrm>
          <a:custGeom>
            <a:avLst/>
            <a:gdLst/>
            <a:ahLst/>
            <a:rect l="l" t="t" r="r" b="b"/>
            <a:pathLst>
              <a:path w="809" h="2041">
                <a:moveTo>
                  <a:pt x="0" y="2041"/>
                </a:moveTo>
                <a:cubicBezTo>
                  <a:pt x="166" y="1984"/>
                  <a:pt x="333" y="1928"/>
                  <a:pt x="454" y="1814"/>
                </a:cubicBezTo>
                <a:cubicBezTo>
                  <a:pt x="575" y="1700"/>
                  <a:pt x="673" y="1519"/>
                  <a:pt x="726" y="1360"/>
                </a:cubicBezTo>
                <a:cubicBezTo>
                  <a:pt x="779" y="1201"/>
                  <a:pt x="809" y="1050"/>
                  <a:pt x="771" y="861"/>
                </a:cubicBezTo>
                <a:cubicBezTo>
                  <a:pt x="733" y="672"/>
                  <a:pt x="567" y="369"/>
                  <a:pt x="499" y="226"/>
                </a:cubicBezTo>
                <a:cubicBezTo>
                  <a:pt x="431" y="83"/>
                  <a:pt x="378" y="30"/>
                  <a:pt x="363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59280" y="1484280"/>
            <a:ext cx="3384720" cy="35290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timalna carina zavisi od elastičnost inozemne ponude i potražnje “B”. Elastičnost u točki T’ je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=U0/R0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timalna carina u točki T’ je: S0/0Q=1/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-1)=1/(2-1)=1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ptimalna carina u točki M je 1/(∞−1)=0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ptimalna carina u točki T je  1/(1−1)=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2637000"/>
            <a:ext cx="2952720" cy="2808000"/>
          </a:xfrm>
          <a:custGeom>
            <a:avLst/>
            <a:gdLst/>
            <a:ahLst/>
            <a:rect l="l" t="t" r="r" b="b"/>
            <a:pathLst>
              <a:path w="1860" h="1769">
                <a:moveTo>
                  <a:pt x="0" y="1769"/>
                </a:moveTo>
                <a:cubicBezTo>
                  <a:pt x="38" y="1561"/>
                  <a:pt x="76" y="1353"/>
                  <a:pt x="136" y="1179"/>
                </a:cubicBezTo>
                <a:cubicBezTo>
                  <a:pt x="196" y="1005"/>
                  <a:pt x="272" y="877"/>
                  <a:pt x="363" y="726"/>
                </a:cubicBezTo>
                <a:cubicBezTo>
                  <a:pt x="454" y="575"/>
                  <a:pt x="544" y="385"/>
                  <a:pt x="680" y="272"/>
                </a:cubicBezTo>
                <a:cubicBezTo>
                  <a:pt x="816" y="159"/>
                  <a:pt x="982" y="90"/>
                  <a:pt x="1179" y="45"/>
                </a:cubicBezTo>
                <a:cubicBezTo>
                  <a:pt x="1376" y="0"/>
                  <a:pt x="1754" y="0"/>
                  <a:pt x="1860" y="0"/>
                </a:cubicBezTo>
              </a:path>
            </a:pathLst>
          </a:custGeom>
          <a:noFill/>
          <a:ln cap="sq" w="381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1258600">
            <a:off x="1474560" y="1195200"/>
            <a:ext cx="2735280" cy="2733480"/>
          </a:xfrm>
          <a:custGeom>
            <a:avLst/>
            <a:gdLst/>
            <a:ahLst/>
            <a:rect l="l" t="t" r="r" b="b"/>
            <a:pathLst>
              <a:path w="2004" h="1641">
                <a:moveTo>
                  <a:pt x="0" y="1641"/>
                </a:moveTo>
                <a:lnTo>
                  <a:pt x="112" y="1624"/>
                </a:lnTo>
                <a:lnTo>
                  <a:pt x="223" y="1601"/>
                </a:lnTo>
                <a:lnTo>
                  <a:pt x="331" y="1576"/>
                </a:lnTo>
                <a:lnTo>
                  <a:pt x="438" y="1548"/>
                </a:lnTo>
                <a:lnTo>
                  <a:pt x="543" y="1517"/>
                </a:lnTo>
                <a:lnTo>
                  <a:pt x="643" y="1483"/>
                </a:lnTo>
                <a:lnTo>
                  <a:pt x="742" y="1448"/>
                </a:lnTo>
                <a:lnTo>
                  <a:pt x="838" y="1409"/>
                </a:lnTo>
                <a:lnTo>
                  <a:pt x="930" y="1367"/>
                </a:lnTo>
                <a:lnTo>
                  <a:pt x="1022" y="1324"/>
                </a:lnTo>
                <a:lnTo>
                  <a:pt x="1109" y="1279"/>
                </a:lnTo>
                <a:lnTo>
                  <a:pt x="1192" y="1231"/>
                </a:lnTo>
                <a:lnTo>
                  <a:pt x="1273" y="1181"/>
                </a:lnTo>
                <a:lnTo>
                  <a:pt x="1351" y="1130"/>
                </a:lnTo>
                <a:lnTo>
                  <a:pt x="1423" y="1077"/>
                </a:lnTo>
                <a:lnTo>
                  <a:pt x="1492" y="1022"/>
                </a:lnTo>
                <a:lnTo>
                  <a:pt x="1559" y="966"/>
                </a:lnTo>
                <a:lnTo>
                  <a:pt x="1621" y="908"/>
                </a:lnTo>
                <a:lnTo>
                  <a:pt x="1678" y="848"/>
                </a:lnTo>
                <a:lnTo>
                  <a:pt x="1731" y="788"/>
                </a:lnTo>
                <a:lnTo>
                  <a:pt x="1781" y="726"/>
                </a:lnTo>
                <a:lnTo>
                  <a:pt x="1826" y="663"/>
                </a:lnTo>
                <a:lnTo>
                  <a:pt x="1864" y="599"/>
                </a:lnTo>
                <a:lnTo>
                  <a:pt x="1899" y="534"/>
                </a:lnTo>
                <a:lnTo>
                  <a:pt x="1930" y="469"/>
                </a:lnTo>
                <a:lnTo>
                  <a:pt x="1956" y="405"/>
                </a:lnTo>
                <a:lnTo>
                  <a:pt x="1977" y="337"/>
                </a:lnTo>
                <a:lnTo>
                  <a:pt x="1990" y="270"/>
                </a:lnTo>
                <a:lnTo>
                  <a:pt x="2001" y="202"/>
                </a:lnTo>
                <a:lnTo>
                  <a:pt x="2004" y="136"/>
                </a:lnTo>
                <a:lnTo>
                  <a:pt x="2002" y="67"/>
                </a:lnTo>
                <a:lnTo>
                  <a:pt x="199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8:09:01Z</dcterms:created>
  <dc:creator>Mato Grgić</dc:creator>
  <dc:description/>
  <dc:language>en-US</dc:language>
  <cp:lastModifiedBy>Mato Grgić</cp:lastModifiedBy>
  <dcterms:modified xsi:type="dcterms:W3CDTF">2004-11-28T21:28:12Z</dcterms:modified>
  <cp:revision>2</cp:revision>
  <dc:subject/>
  <dc:title>OPTIMALNA CARINA</dc:title>
</cp:coreProperties>
</file>