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5D0-D73E-45A0-B8E3-8CA20FC4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00E-956C-40D4-B14F-09A2B789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356-8B5D-4840-9337-7D0D0AE1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D98-AB48-48FF-A054-1567821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E56-E43A-4535-9829-3CD40B0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CE5-03E0-410B-88FA-85986BE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854-2231-4899-A470-D7E7060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414-EB9A-4689-85B0-7A45804C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77A-02E4-46A3-9619-AD7723FB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618-D76E-44CD-84F3-88651C6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88D-6964-4ECB-BE03-FF5AE7F3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FE4-195C-4DFC-B134-4D726EEA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6881-10F8-440F-98E6-005AFB61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Edgeworthov dijagram i krivulja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risti od razmjene zemalja A i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08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recipročne potražnje pokazuje kolika je potražnja zemlje za uvoznim proizvodima za koje je voljna ponuditi određenu količinu izvoznih proizvoda pri različitim relativnim cijenama proizv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uključuje elemente potraž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ražnja za uvoz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pon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uda izvo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3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3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3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3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proizvodi sve više svega, a sve manje troš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većoj se mjeri pogoršali uvjeti trgovine nego što je rasla proizvod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cijena je postao nepovoljniji i zemlja je dosegla niž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ljučak: izvozno usmjereni rast može pogoršati uvjete trgovine toliko da smanji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fekti uvođenja ca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EV VIŠAK mjeri se područjem cijene koju potrošač plaća i one cijene koju je spreman plaćati (krivulja D). Prikazan je kao prostor ispod krivulje potražnje D i iznad tržišn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ĐAČEV VIŠAK mjeri se područjem između cijene koju proizvođač sada postiže i cijene po kojoj je spreman prodavati (krivulja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Prihod države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11280" y="290520"/>
            <a:ext cx="7772400" cy="78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vođenje krivulja recipročne potražnj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280360" cy="24476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lanjanje na granice proizvodnih moguć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ije zemlje i dv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i trok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krivulja indiferentnosti trgov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ohibitivni nivo c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24000" y="1989000"/>
            <a:ext cx="1812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hibitivni n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 rot="16357800">
            <a:off x="861120" y="2458800"/>
            <a:ext cx="533160" cy="457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24000" y="2924280"/>
            <a:ext cx="2160720" cy="7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186200" y="2708280"/>
            <a:ext cx="96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7640" y="2492280"/>
            <a:ext cx="0" cy="432000"/>
          </a:xfrm>
          <a:prstGeom prst="line">
            <a:avLst/>
          </a:prstGeom>
          <a:ln cap="rnd"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vivalentni efekti uvođenju c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vivalentni efekti carini bi se postigli pomoću subvencije proizvođačima na teret proračuna i poreza na potrošnju u korist prorač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će pomaknuti krivulju ponude i potražnje i djelovati na povećanje proizvodnje te smanjenje potrošnje i u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se ne povećavaju, a redistribucija ne ide od potrošača prema proizvođaču kao kod carine nego od potrošača prema proračunu i od proračuna prem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3276720" y="234936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268360" y="141300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9564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3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3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3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3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u zemlji A njeni uvjeti razmjene su se poboljšali i ona je u boljem položaju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uvjeta razmjene znači povećanje njezina udjela u razdiobi koristi od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seg razmjene je manji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opsega međunarodne razmjene utječe na pogoršanje položaja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poboljšanje položaja zemlje A zbog povoljnijih uvjeta razmjene veće od pogoršanja položaja zbog smanjenja količine razmjene, zemlja A će biti u boljem polo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bi zemlja A bila vrlo mala, uvjeti razmjene bi za nju bili dani pa bi rezultat uvođenja carine na uvoz dobra Y bilo samo smanjenj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pretpostavljamo da to nije sluč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1905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2360" y="544500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5334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267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228600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476280"/>
            <a:ext cx="2879640" cy="825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349360"/>
            <a:ext cx="3311640" cy="3080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rivulja pokazuje koliko rob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udi zemlja 1 u zamjenu za uvoz rob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 različitim cijena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40000" y="3141720"/>
            <a:ext cx="3529080" cy="230328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zemlja B uvela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3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3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0000" y="3284640"/>
            <a:ext cx="3600360" cy="216036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obje zemlje uvele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340000" y="1773360"/>
            <a:ext cx="1800360" cy="360036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853440" y="1341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284720" y="2205000"/>
            <a:ext cx="3585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340000" y="1484280"/>
            <a:ext cx="259236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643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643280" y="256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924360" y="3357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3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3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3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3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3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79280" y="260280"/>
            <a:ext cx="8496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92720" y="4581360"/>
            <a:ext cx="35272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3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3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3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3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carine u jednoj zemlji, ako partner odvrati odmazdom dolazi do konačnog rezultata smanjivanja opsega međunarodn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su oba partnera u lošijoj situaciji nego prije uvođenja c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A je stopa carinskog opterećenja koja maksimizira neto dobitak koji je posljedica poboljšanja uvjeta razmjene zemlje u odnosu na negativne učinke koji su posljedica smanjenja volumen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dakle donosi optimalne uvjete razmjene što znači maksimalno društveno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jetu bez poremećaja i savršenoj konkurenciji, zemlja može imati koristi od uvođenja carine, ali ta korist mora proizići iz njezine sposobnosti da utječe na odnose razmjene (mora imati monopsonsku moć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nesavršene elastičnosti inozemne potražnje optimalna carinska zaštita ovisi o elastičnosti inozemne potražnje i o obliku domaće krivulje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ska zaštita određuje se tako da se izabere skup carinskih stopa koji izjednačuje granični prihod, tj. granične uvjete razmjene s graničnim troškom, tj. graničnom stopom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3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3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3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3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3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3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ni je odnos cijena u T (odnos je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a zemlja A uvodi carinu koja će joj donijeti max. blagostanje, naravno, uz pretpostavku da zemlja B neće odgovoriti istom mjerom, da neće biti odmaz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carina koja zemlji A omogućava da dosegne najvišu krivulju indiferentnosti prema trgovini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ona krivulja IT koja je tangenta na krivulji recipročne potražnje zemlje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155736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5373720"/>
            <a:ext cx="24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981080"/>
            <a:ext cx="1676160" cy="3505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3276360" cy="3200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12408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09360" y="411480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276720"/>
            <a:ext cx="990720" cy="60948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10080" y="4724280"/>
            <a:ext cx="990720" cy="60984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438280"/>
            <a:ext cx="1143000" cy="24386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09360" y="2895480"/>
            <a:ext cx="129564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mo zamisliti da je krivulja recipročne potražnje nastala od svih mogućih trokuta trgov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oč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 2 and 3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 na toj krivulj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00800" y="4724280"/>
            <a:ext cx="9144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32720" y="2924280"/>
            <a:ext cx="5760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88000" y="4149720"/>
            <a:ext cx="72072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590920"/>
            <a:ext cx="533520" cy="24382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2438280"/>
              <a:gd name="textAreaBottom" fmla="*/ 2412360 h 2438280"/>
            </a:gdLst>
            <a:ahLst/>
            <a:rect l="textAreaLeft" t="textAreaTop" r="textAreaRight" b="textAreaBottom"/>
            <a:pathLst>
              <a:path w="21600" h="98664">
                <a:moveTo>
                  <a:pt x="3600" y="0"/>
                </a:moveTo>
                <a:arcTo wR="3600" hR="3600" stAng="16200000" swAng="-5400000"/>
                <a:lnTo>
                  <a:pt x="0" y="95064"/>
                </a:lnTo>
                <a:arcTo wR="3600" hR="3600" stAng="10800000" swAng="-5400000"/>
                <a:lnTo>
                  <a:pt x="18000" y="9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i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0" dur="3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3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9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720" y="2276640"/>
            <a:ext cx="25560" cy="30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06064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2349360"/>
            <a:ext cx="143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53737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96360" y="53737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42900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0384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1197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04640"/>
            <a:ext cx="8064360" cy="5205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agib pravca je relativna cijena X prem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1143000"/>
            <a:ext cx="13460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/ 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4653000"/>
            <a:ext cx="0" cy="69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35280" y="46530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403280" y="1628640"/>
            <a:ext cx="223200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1628640"/>
            <a:ext cx="280836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109800">
            <a:off x="1838160" y="1846440"/>
            <a:ext cx="1800360" cy="18716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10080" y="5300280"/>
            <a:ext cx="319428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155736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80360" y="5516640"/>
            <a:ext cx="136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10080" y="2361960"/>
            <a:ext cx="304812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676520" y="2057040"/>
            <a:ext cx="304776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2997360"/>
            <a:ext cx="0" cy="23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551664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209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45720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2133720"/>
            <a:ext cx="10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34136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333360"/>
            <a:ext cx="788688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rgovinski trokut se povećao zbog novih cij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92360" y="2135160"/>
            <a:ext cx="6119640" cy="323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21223200">
            <a:off x="1331640" y="907560"/>
            <a:ext cx="1828800" cy="182880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797000">
            <a:off x="2136240" y="2057040"/>
            <a:ext cx="1828800" cy="175752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3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3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3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4360" y="333360"/>
            <a:ext cx="7991280" cy="6858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Izvođenje krivulje recipročne po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371600"/>
            <a:ext cx="80010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486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523880" y="3048120"/>
            <a:ext cx="518112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2666880"/>
            <a:ext cx="28954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175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1160" y="5486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114800"/>
            <a:ext cx="11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(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/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505320"/>
            <a:ext cx="39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599840" y="45684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124080"/>
            <a:ext cx="7596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2819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81080" y="228600"/>
            <a:ext cx="2666520" cy="5136840"/>
            <a:chOff x="1981080" y="228600"/>
            <a:chExt cx="2666520" cy="5136840"/>
          </a:xfrm>
        </p:grpSpPr>
        <p:sp>
          <p:nvSpPr>
            <p:cNvPr id="187" name=""/>
            <p:cNvSpPr/>
            <p:nvPr/>
          </p:nvSpPr>
          <p:spPr>
            <a:xfrm>
              <a:off x="3124080" y="4343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0" y="2362320"/>
              <a:ext cx="7632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502920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981080" y="1676520"/>
              <a:ext cx="1905120" cy="3657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09320" y="228240"/>
              <a:ext cx="24379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21337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1814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5486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06720" y="1650960"/>
            <a:ext cx="219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06000" y="1422360"/>
            <a:ext cx="208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uvoz, C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5805360"/>
            <a:ext cx="2309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uvoz,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5516640"/>
            <a:ext cx="249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181480" y="2286000"/>
            <a:ext cx="3227400" cy="3200400"/>
            <a:chOff x="5181480" y="2286000"/>
            <a:chExt cx="3227400" cy="3200400"/>
          </a:xfrm>
        </p:grpSpPr>
        <p:sp>
          <p:nvSpPr>
            <p:cNvPr id="201" name=""/>
            <p:cNvSpPr/>
            <p:nvPr/>
          </p:nvSpPr>
          <p:spPr>
            <a:xfrm flipH="1">
              <a:off x="5181480" y="2438280"/>
              <a:ext cx="2438640" cy="3048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0120" y="2286000"/>
              <a:ext cx="788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181120" y="3581280"/>
            <a:ext cx="3304080" cy="1905120"/>
            <a:chOff x="5181120" y="3581280"/>
            <a:chExt cx="3304080" cy="1905120"/>
          </a:xfrm>
        </p:grpSpPr>
        <p:sp>
          <p:nvSpPr>
            <p:cNvPr id="204" name=""/>
            <p:cNvSpPr/>
            <p:nvPr/>
          </p:nvSpPr>
          <p:spPr>
            <a:xfrm flipH="1">
              <a:off x="5181120" y="3962520"/>
              <a:ext cx="304812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96080" y="358128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0" y="2362320"/>
            <a:ext cx="4876920" cy="3124080"/>
            <a:chOff x="2286000" y="2362320"/>
            <a:chExt cx="4876920" cy="3124080"/>
          </a:xfrm>
        </p:grpSpPr>
        <p:sp>
          <p:nvSpPr>
            <p:cNvPr id="207" name=""/>
            <p:cNvSpPr/>
            <p:nvPr/>
          </p:nvSpPr>
          <p:spPr>
            <a:xfrm>
              <a:off x="2286000" y="2362320"/>
              <a:ext cx="1143000" cy="205740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181480" y="3048120"/>
              <a:ext cx="198144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133720" y="3124080"/>
            <a:ext cx="4572000" cy="2362320"/>
            <a:chOff x="2133720" y="3124080"/>
            <a:chExt cx="4572000" cy="2362320"/>
          </a:xfrm>
        </p:grpSpPr>
        <p:sp>
          <p:nvSpPr>
            <p:cNvPr id="210" name=""/>
            <p:cNvSpPr/>
            <p:nvPr/>
          </p:nvSpPr>
          <p:spPr>
            <a:xfrm>
              <a:off x="2133720" y="3124080"/>
              <a:ext cx="457200" cy="3812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181480" y="4724280"/>
              <a:ext cx="1524240" cy="76212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0400" y="1085400"/>
            <a:ext cx="4664160" cy="4400280"/>
            <a:chOff x="3200400" y="1085400"/>
            <a:chExt cx="4664160" cy="4400280"/>
          </a:xfrm>
        </p:grpSpPr>
        <p:sp>
          <p:nvSpPr>
            <p:cNvPr id="213" name=""/>
            <p:cNvSpPr/>
            <p:nvPr/>
          </p:nvSpPr>
          <p:spPr>
            <a:xfrm flipV="1">
              <a:off x="3200400" y="1084680"/>
              <a:ext cx="3962160" cy="44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0800" y="1752480"/>
              <a:ext cx="1463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Domaća krivulja recipročne potraž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rivulja indiferentnosti prema trgovi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binacije proizvodnje i potrošnje koje zemlji daju istu razinu blagostanja uz razmjenu ili bez nje (tj. u autarkiji) predstavlja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očke indiferentnosti zemlje prema trgovi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284720" y="476280"/>
            <a:ext cx="0" cy="547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35772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056800">
            <a:off x="3471120" y="2519640"/>
            <a:ext cx="69552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056800">
            <a:off x="4255560" y="1584360"/>
            <a:ext cx="69516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242100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17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321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056800">
            <a:off x="2079000" y="3176280"/>
            <a:ext cx="649440" cy="855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39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070400">
            <a:off x="2734200" y="1306800"/>
            <a:ext cx="2305080" cy="3237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070400">
            <a:off x="2193840" y="76644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40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764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072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98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907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458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2421000"/>
            <a:ext cx="505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2133720"/>
            <a:ext cx="718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3284640"/>
            <a:ext cx="0" cy="649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852640"/>
            <a:ext cx="649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08360" y="2781360"/>
            <a:ext cx="0" cy="576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364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1916280"/>
            <a:ext cx="431640" cy="0"/>
          </a:xfrm>
          <a:prstGeom prst="line">
            <a:avLst/>
          </a:prstGeom>
          <a:ln cap="rnd"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184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IVULJA INDIFEREN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564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472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184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su granične stope supstitucije u zemljama A i B različite, razmjena dobara X i Y među tim zemljama bit će obostrano probitačna sve dok se granične stope supstitucije ne izjednač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GSS-pokazuje koliko je jedinica dobra X društvo voljno žrtvovati za potrošnju dodatne jedinice dobra Y, a da mu razina zadovoljstva ostane ista, tj. da ostane na istoj krivulji indiferencij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, E1 i  E2  predstavljaju istu razinu društvenog blagostanja jer leže na istoj krivulji indiferen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očki E zemlja proizvodi i troši istu količinu proizvoda X i Y. To je situacija autark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1 – troši OH1 proizvoda Y i H1 E1 proizvoda X, a proizvodi O1F1 proizvoda Y i E1 F1  proizvoda X (izvozi O1G1  proizvoda X i za to dobiva OG1 proizvoda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ogija točka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ishodišta ovih prostora moguće proizvodnje dobili smo krivulju indiferentnosti prema trgovini (I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vakoj točki na IT zemlja je indiferentna sudjeluje li u međunarodnoj razmjeni ili ne jer uvijek doseže istu razinu blagostanja, krivulju indiferencije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763640" y="907920"/>
            <a:ext cx="0" cy="482472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5805360"/>
            <a:ext cx="619308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070400">
            <a:off x="813600" y="-13320"/>
            <a:ext cx="3511440" cy="3916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070400">
            <a:off x="1617480" y="177480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070400">
            <a:off x="1872000" y="2670840"/>
            <a:ext cx="2089440" cy="331308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070400">
            <a:off x="2058120" y="3207240"/>
            <a:ext cx="1871640" cy="3457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63640" y="3499920"/>
            <a:ext cx="5329440" cy="2305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763640" y="2420640"/>
            <a:ext cx="4824360" cy="338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763640" y="980640"/>
            <a:ext cx="3600360" cy="482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763640" y="404640"/>
            <a:ext cx="2592360" cy="5400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7800" y="587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60720" y="83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2920" y="3232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8000" y="4076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1080" y="5013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2720" y="5589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6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000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im krivuljama indiferencije odgovaraju više krivulj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1 zemlja nema interesa za trgovi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2 zemlja ima interesa za trgovinu, doseže višu krivulju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ljnje poboljšanje uvjeta razmjene, navodi zemlju na povećavanje razmj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kup točaka u kojima su različite krivulje odnosa cijena tangente na različite krivulje IT predstavljaju krivulju recipročne potražnje (zemlj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60958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1484280"/>
            <a:ext cx="4784760" cy="454032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1844640"/>
            <a:ext cx="5505480" cy="425304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314172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2205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-129960" y="2227320"/>
            <a:ext cx="20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602136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53272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recipročne potražnje za dvi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371600" y="6093000"/>
            <a:ext cx="54324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1523880"/>
            <a:ext cx="4808520" cy="457380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1773360"/>
            <a:ext cx="5545080" cy="424800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64000" y="3284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242100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03280" y="1628280"/>
            <a:ext cx="5256360" cy="446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476280"/>
            <a:ext cx="640872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sje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rivulja određuje ravnotežne uvjete trgovine kao i količine proizv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00720" y="60357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-504720" y="3104640"/>
            <a:ext cx="28148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206064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Točka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940000" y="2205000"/>
            <a:ext cx="71640" cy="388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402920" y="220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285840"/>
            <a:ext cx="8353440" cy="98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ecipročna potražnja i trgovinska ravnote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1530360"/>
            <a:ext cx="8207280" cy="4635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 recipročne potražnje je usmjerena na izvoz i uvoz zemlje pri nekom odnosu trgo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memo li funkciju proizvodnih mogućnosti (PM) i korisnosti koje pokazuju razliku proizvodnje i potrošnje za svaki proizvod pri nekoj relativnoj cijeni (trgovinski trokut pri svakoj relativnoj cije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ivulja recipročne potražnje (ponude) sumira ove trgovinske trokute s relativnom cijenom jednakoj nagibu pravca iz ishod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presijecanja krivulja pokazuje uravnoteženu trgovinu, tj. jednaki su trgovinski trok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skud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2436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8000" y="765000"/>
            <a:ext cx="2519280" cy="4680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4149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3640" y="33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 rot="20202000">
            <a:off x="1642680" y="574920"/>
            <a:ext cx="24379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419640" y="154908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 rot="21355800">
            <a:off x="3582000" y="67680"/>
            <a:ext cx="24379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 rot="229200">
            <a:off x="3610080" y="-7128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3236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6728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24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11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64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716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40000" y="3141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0" y="2205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35280" y="1268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povećanja kvalitativnog ili kvantitativnog faktora K u zemlji A koja ima komparativne prednosti u proizvodnji radno intenzivnog dobr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povećanja faktora K njezina se krivulja transformacije mijenja. Sad zemlja A proizvodi više dobra X, ali znatno više dobra Y koje je kapitalno intenzivno, a koje je prije uglavnom uvoz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92280"/>
            <a:ext cx="8064360" cy="54720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8000" y="2852640"/>
            <a:ext cx="460872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1197000"/>
            <a:ext cx="2306520" cy="50418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997360"/>
            <a:ext cx="2449440" cy="2520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205000"/>
            <a:ext cx="2592360" cy="2808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169200">
            <a:off x="366480" y="3681360"/>
            <a:ext cx="3448080" cy="14796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2169200">
            <a:off x="2301480" y="3578400"/>
            <a:ext cx="2400480" cy="12189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2169200">
            <a:off x="1180440" y="2123640"/>
            <a:ext cx="5359320" cy="2322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26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37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7022880" y="3208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1507680" y="32810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268280"/>
            <a:ext cx="43164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458136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407664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342900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isti odnos cijena sada bi zemlja A proizvodila u 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 trošila u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taj odnos cijena, zemlja B želi uvesti više proizvoda X nego što zemlja A želi izvoz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ak potražnje nad ponudom dobra X na svjetskom tržištu utječe na povećanje cijene tog dobra pa odnos cijena raste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a taj način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boljšali su se uvjeti razmjene zemlje 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382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kle, porast proizvodnog faktora K koji se intenzivnije koristi u proizvodnji uvoznog dobra zemlje A (jer je Y kapitalno intenzivno dobro) utječe na porast udjela zemlje A u razdiobi koristi od razmjene jer se uvjeti razmjene zemlje A poboljšav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bil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2133720"/>
            <a:ext cx="6193080" cy="309564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 rot="20202000">
            <a:off x="2579760" y="-14580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2349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to zemlja ne može doseći krivulju indiferencije CA1 već C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13420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izvoznog proizvoda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I su označene krivulje indiferencije zemlj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Z su označene krivulje indiferencije zemlj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enzije dijagrama određene su ukupnom količinom dobara X i Y kojima zemlje ras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točki C GSS zemlje A je veća od GSS zemlje B – osnova za obostrano probitačnu razmj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187280" y="119700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435600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20537400">
            <a:off x="2268000" y="2708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4653000"/>
            <a:ext cx="152280" cy="14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24000" y="1413000"/>
            <a:ext cx="3672000" cy="42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20038200">
            <a:off x="2771640" y="3429000"/>
            <a:ext cx="1513080" cy="863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8000" y="393372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56000" y="429264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328464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895800">
            <a:off x="2340000" y="1484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0" y="191628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40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68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00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kusa u zemlji A pokazuju promjene krivulja indiferencije od Z1, Z2,… na I1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indiferencije I,… nagnutije su prema osi X što znači da se sada intenzivnije želi izvozno dobro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romjene ukusa zemlja A je proizvodila u točki FA, a trošila u CA uz px/p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mjene ukusa u korist X, povećana je njegova proizvodnja u zemlji A, ali još je više povećana potrošnja X-a u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da se krivulja recipročne potražnje zemlje A pomiče ulijevo, rotira u smjeru suprotnom od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i razmjene zemlje A se poboljšavaju te se povećavaju njen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, smanjuje se opseg međunarodne ekonomske razmjene, što znači i smanjenje specijalizacije u proizvodnji pa zemlja A može biti u boljem ili lošijem položaju nego p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745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je zemlja A u boljem ili gorem položaju nego prije, ne možemo znati jer su se promijenile mape krivulja indiferencije, a to čini usporedbu nemoguću – ne znamo je li dosegla višu ili nižu krivulju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989840" cy="31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uvoznog proizvoda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678000">
            <a:off x="2411280" y="2276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415800">
            <a:off x="2916000" y="3428640"/>
            <a:ext cx="1368360" cy="647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4800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5128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781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21408000">
            <a:off x="3059280" y="1413000"/>
            <a:ext cx="107928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268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40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84720" y="400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40000" y="2637000"/>
            <a:ext cx="4103640" cy="2952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16360" y="1341360"/>
            <a:ext cx="2663640" cy="4175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a ukusa u zemlji A u korist uvoznog dobra Y odražava se na promjenu krivulja indiferencije koje su sada nagnutije prema dobru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emlja A je voljna ponuditi više dobra X za istu količinu dobra Y u međunarodnoj ekonomskoj razmj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toga njezina krivulja ponude u međunarodnoj razmjeni rotira u smjeru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krivulju ponude zemlje B, takva promjena ponude zemlje A određuje novi niži odnos cijena px/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uvjeti razmjene zemlje A pogoršavaju, a da se volumen međunarodne ekonomske razmjene (to znači i specijalizacije u proizvodnji) poveć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50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zemlja A daje sve više jedinica dobra Y za sve više dobra X – sve dok ne dođu u točku S- GSS su jednake, samo je A na višoj krivulji indiferencije , pa je A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F-obrnuto, B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E-oba partnera profitiraju od razmjene, oba su na višim krivuljama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ZBROJ ELASTIČNOSTI RECIPROČNE POTRAŽNJE OBIJU ZEMALJA VEĆI OD 1, TRŽIŠTE JE STABI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elastičnost potražnje za uvozom zemlje A pokazuje za koliko će se postotaka povećati njezina potražnja za uvozom dobra Y ako se relativna cijena tog uvoza smanji za 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rshall-Lernerov uvjet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1447920"/>
            <a:ext cx="792468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195640" y="2924280"/>
            <a:ext cx="6704640" cy="5333400"/>
            <a:chOff x="2195640" y="2924280"/>
            <a:chExt cx="6704640" cy="5333400"/>
          </a:xfrm>
        </p:grpSpPr>
        <p:sp>
          <p:nvSpPr>
            <p:cNvPr id="535" name=""/>
            <p:cNvSpPr/>
            <p:nvPr/>
          </p:nvSpPr>
          <p:spPr>
            <a:xfrm flipH="1">
              <a:off x="2195640" y="2924280"/>
              <a:ext cx="67046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43400" y="307656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-89640" y="1004040"/>
            <a:ext cx="4967640" cy="4502160"/>
            <a:chOff x="-89640" y="1004040"/>
            <a:chExt cx="4967640" cy="4502160"/>
          </a:xfrm>
        </p:grpSpPr>
        <p:sp>
          <p:nvSpPr>
            <p:cNvPr id="538" name=""/>
            <p:cNvSpPr/>
            <p:nvPr/>
          </p:nvSpPr>
          <p:spPr>
            <a:xfrm flipV="1">
              <a:off x="-89280" y="1003680"/>
              <a:ext cx="4570560" cy="450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14600" y="1773360"/>
              <a:ext cx="14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211480" y="1905120"/>
            <a:ext cx="4510080" cy="3660120"/>
            <a:chOff x="2211480" y="1905120"/>
            <a:chExt cx="4510080" cy="3660120"/>
          </a:xfrm>
        </p:grpSpPr>
        <p:sp>
          <p:nvSpPr>
            <p:cNvPr id="541" name=""/>
            <p:cNvSpPr/>
            <p:nvPr/>
          </p:nvSpPr>
          <p:spPr>
            <a:xfrm flipV="1">
              <a:off x="2211480" y="2211120"/>
              <a:ext cx="3043080" cy="33541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57800" y="1905120"/>
              <a:ext cx="14637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Ravnotežni odnos cijen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/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830240" y="2895480"/>
            <a:ext cx="2863440" cy="3050280"/>
            <a:chOff x="1830240" y="2895480"/>
            <a:chExt cx="2863440" cy="3050280"/>
          </a:xfrm>
        </p:grpSpPr>
        <p:sp>
          <p:nvSpPr>
            <p:cNvPr id="544" name=""/>
            <p:cNvSpPr/>
            <p:nvPr/>
          </p:nvSpPr>
          <p:spPr>
            <a:xfrm>
              <a:off x="4495680" y="31240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5200" y="563868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209680" y="3048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0240" y="2895480"/>
              <a:ext cx="40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2195640" y="2708280"/>
            <a:ext cx="4105080" cy="79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40000" y="1916280"/>
            <a:ext cx="502920" cy="36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35280" y="328464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08360" y="558972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84720" y="5661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34800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67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140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 stabilnosti tržišta je da krivulja recipročne potražnje zemlje A siječe krivulju recipročne potražnje zemlje B odoz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je tangens kuta koji tangenta na krivulji potražnje A u točki E zatvara s apscisom veći od tangensa kuta koji tangenta na krivulji B zatvara s apscisom u istoj toč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M/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´M´/E M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62120" y="404640"/>
            <a:ext cx="7924680" cy="591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854000" y="2939400"/>
            <a:ext cx="7323480" cy="6136200"/>
            <a:chOff x="1854000" y="2939400"/>
            <a:chExt cx="7323480" cy="6136200"/>
          </a:xfrm>
        </p:grpSpPr>
        <p:sp>
          <p:nvSpPr>
            <p:cNvPr id="563" name=""/>
            <p:cNvSpPr/>
            <p:nvPr/>
          </p:nvSpPr>
          <p:spPr>
            <a:xfrm flipH="1" rot="434400">
              <a:off x="2162880" y="3340440"/>
              <a:ext cx="67046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434400">
              <a:off x="5505120" y="356544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-75960" y="1059480"/>
            <a:ext cx="4968720" cy="4502520"/>
            <a:chOff x="-75960" y="1059480"/>
            <a:chExt cx="4968720" cy="4502520"/>
          </a:xfrm>
        </p:grpSpPr>
        <p:sp>
          <p:nvSpPr>
            <p:cNvPr id="566" name=""/>
            <p:cNvSpPr/>
            <p:nvPr/>
          </p:nvSpPr>
          <p:spPr>
            <a:xfrm flipV="1">
              <a:off x="-75600" y="1058760"/>
              <a:ext cx="4571280" cy="45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9000" y="1828800"/>
              <a:ext cx="146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69236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195640" y="1700280"/>
            <a:ext cx="2952720" cy="3889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195640" y="2060640"/>
            <a:ext cx="3889080" cy="3456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8000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32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8764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52640"/>
            <a:ext cx="309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64000" y="3716280"/>
            <a:ext cx="0" cy="18734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195640" y="3716280"/>
            <a:ext cx="5976720" cy="18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42900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1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4967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nemarimo li transportne troškove, ravnotežni odnos cijena je PX/ PY=1, a količine izvoza i uvoza određene su koordinatama točke CA1=CB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transportne troškove, cijena svakog dobra bit će u zemlji uvoza veća od cijene u zemlji izvoznici za visinu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 uz odnos cijena 5/4 zemlja B uvozi OG jedinica dobra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 da bi zemlja A izvozila OG dobra X, odnos cijena treba biti sveg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 da troškovi transporta jedinice dobra X iz zemlje A u zemlju B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673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ogno tome, sa stajališta izvoza Y, vidimo da bi uz odnos cijena 5/4 B bila voljna izvesti CBG dobra Y, dok bi zemlja A htjela uvesti CAG dobra Y uz odnos cijen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transportnih troškova na cijene i količine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140360" y="549360"/>
            <a:ext cx="0" cy="504036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6920" y="5589720"/>
            <a:ext cx="806616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84360" y="3645000"/>
            <a:ext cx="1656000" cy="194472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140360" y="1989000"/>
            <a:ext cx="2736720" cy="309744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1402920" y="1844280"/>
            <a:ext cx="2737080" cy="374508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4140360" y="1557000"/>
            <a:ext cx="2952720" cy="403236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40360" y="3500280"/>
            <a:ext cx="136836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492360" y="4508640"/>
            <a:ext cx="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4581360"/>
            <a:ext cx="64764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84720" y="40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0328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40360" y="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7164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010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92360" y="3213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 rot="10800000">
            <a:off x="3995280" y="436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43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35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5928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40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8920" y="155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948360" y="184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sve točke dodira krivulja indiferencije partnera A i B dobivamo krivulju ugovora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toj krivulji pokazuju jednakosti graničnih stopa supstitucije partnera, što znači da je postignuta ravnoteža i eliminirani razlozi za razmj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akoj je zemlji cijena određena ponudom i potražnjom u toj zemlji u situaciji autark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emlji A je cijena dobra X niža nego u zemlji B- razlog za razm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bi izvozila dobro x, a zemlja B ga uvozila, čime bi se cijena polako izjednačavala (padala u B i rasla u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uvedemo transportne troškove, obje zemlje jednako podnose njihov teret jer je jednaka elastičnost ponude i potražnje u zeml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lučaju kad ne bi bile jednake, veći bi dio transportnih troškova padao na onu zemlju u kojoj su ponuda i potražnja neelastičnije (krivulje bi bile okomit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87280" y="3573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00360" y="3573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047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27640" y="981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4360" y="220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7105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00000" y="2708280"/>
            <a:ext cx="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211280" y="6381720"/>
            <a:ext cx="576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" y="189000"/>
            <a:ext cx="813600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a ravnoteža s transport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84720" y="3357720"/>
            <a:ext cx="2880000" cy="25333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transportnim troškovima odnos cijena u dvije zemlje se mora razlikovati. Zemlja A nudi platno za žito i transport, dok zemlja B nudi žito za platno i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16000" y="3789000"/>
            <a:ext cx="43927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16000" y="1989000"/>
            <a:ext cx="259236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465300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85440" y="609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9780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10880" y="14842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11960" y="3500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5640" y="45086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3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500"/>
                            </p:stCondLst>
                            <p:childTnLst>
                              <p:par>
                                <p:cTn id="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e u cijeni u dvije zemlje prije trgovine moraju biti veće od troškova prijevoza. Nakon trgovine cijena robe je viša u zemlji uvoza nego u zemlji izvoza za iznos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mogu biti razlog nastanka vanjske trgovine (lokalna trgovina ili malogranični prom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ba se npr. uvozi na sjeveru zemlje, a izvozi na jugu zemlje. Stoga se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to komparativna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melji na bruto komparativnoj prednosti i nedostacima zbog troškova prijev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1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voza nije proporcionalna težini, volumenu i vrijednosti robe. Vrijedna roba može imati proporcionalno više troškove u odnosu na tež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rifa ne zavisi samo od težine i vrijednosti robe nego i od vrste prijevoznih sredstava i udaljenosti. Ove razlike su prikazane na slijedećem grafiko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orija lo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46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lokacije uzima u obzir troškove prijevoza i objašnjava faktore za smještaj određene industrije bilo da se radi o međunarodnoj ili međuregionalnoj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e koje proizvode robe mogu biti usmjerene na izvore inputa, na tržište ili mogu biti slobodne ako su troškovi prijevoza relativno m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bil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11280" y="2276640"/>
            <a:ext cx="6264360" cy="2881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 rot="20202000">
            <a:off x="2579760" y="-144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348000" y="263700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4800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04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to zemlja ne može doseći krivulju indiferencije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daljnje nastavljanje razmjene išlo bi na štetu jednog ili drugog partn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krivulji ugovora predstavljaju Paretov optimum (položaj bilo koje stranke ne može se poboljšati, a da se time ne pogorša položaj dru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3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3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tjecaj promjena svjetske cijene na domaća tržiš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12400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133720" y="3715920"/>
            <a:ext cx="351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124000" y="2997360"/>
            <a:ext cx="2160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03280" y="27813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124000" y="2133720"/>
            <a:ext cx="503280" cy="43164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195280" y="2421000"/>
            <a:ext cx="936360" cy="72072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340000" y="2708280"/>
            <a:ext cx="1295280" cy="1008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131640" y="2924280"/>
            <a:ext cx="1079640" cy="8650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140000" y="3213000"/>
            <a:ext cx="502920" cy="5032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003640" y="3500280"/>
            <a:ext cx="216000" cy="216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95640" y="3933720"/>
            <a:ext cx="431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95640" y="3860640"/>
            <a:ext cx="647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95640" y="407664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95640" y="400536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124000" y="3789360"/>
            <a:ext cx="792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50920" y="4149720"/>
            <a:ext cx="28908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55280" y="4005360"/>
            <a:ext cx="1584360" cy="431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4508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1116000" y="981000"/>
            <a:ext cx="1511280" cy="172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0920" y="260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oš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19280" y="3141720"/>
            <a:ext cx="0" cy="503280"/>
          </a:xfrm>
          <a:prstGeom prst="line">
            <a:avLst/>
          </a:prstGeom>
          <a:ln cap="rnd"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tvaranja i vanjske trgovine, pod pretpostavkom da je svjetska cijena niža, dolazi do slijedećih efek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domaće pon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 domaće potroš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a potrošačeva viš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a proizvođačeva viš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900000" y="620640"/>
            <a:ext cx="7920000" cy="704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Izvori dobitaka od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24000" y="1700280"/>
            <a:ext cx="8280360" cy="47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bici zemlje od trgovine koji povećavaju blagostanje mogu se podijeliti na dva dij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imo da trgovina mijenja relativnu cijenu, a zemlja nastavlja proizvoditi u točki autarkične ravnoteže,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korist u povećanju blagostanja krećući se od točke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specijalizaci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a relativne cijene dovodi do promjene proizvodnje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dodatnu korist u blagostanju zbog proizvodne specijalizacije mjerene kretanjem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 flipV="1">
            <a:off x="1547640" y="112500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47640" y="6093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84720" y="1844640"/>
            <a:ext cx="2158920" cy="338472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63640" y="2205000"/>
            <a:ext cx="5905440" cy="324000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59280" y="3429000"/>
            <a:ext cx="3889080" cy="216072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1618920" y="4797000"/>
            <a:ext cx="504036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19280" y="4221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0072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132000" y="2997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51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659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348000" y="2205000"/>
            <a:ext cx="2016000" cy="360036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71640" y="3068640"/>
            <a:ext cx="360360" cy="172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84720" y="429264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4787640" y="3715920"/>
            <a:ext cx="289080" cy="3457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53"/>
                </a:lnTo>
                <a:cubicBezTo>
                  <a:pt x="10800" y="10453"/>
                  <a:pt x="5400" y="11353"/>
                  <a:pt x="0" y="11353"/>
                </a:cubicBezTo>
                <a:cubicBezTo>
                  <a:pt x="5400" y="11353"/>
                  <a:pt x="10800" y="12253"/>
                  <a:pt x="10800" y="131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4931640" y="4437720"/>
            <a:ext cx="288720" cy="1150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89"/>
                </a:lnTo>
                <a:cubicBezTo>
                  <a:pt x="10800" y="10689"/>
                  <a:pt x="5400" y="11589"/>
                  <a:pt x="0" y="11589"/>
                </a:cubicBezTo>
                <a:cubicBezTo>
                  <a:pt x="5400" y="11589"/>
                  <a:pt x="10800" y="12489"/>
                  <a:pt x="10800" y="133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fekti otvaranja i djelomična specij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00720" y="4005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5928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63960" y="566100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43800" y="38606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512160" y="43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851280" y="1916280"/>
            <a:ext cx="2158920" cy="34560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19520" y="155736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157280" y="148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10320" y="1413000"/>
            <a:ext cx="3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21331200">
            <a:off x="5219640" y="1625760"/>
            <a:ext cx="2086200" cy="36684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63960" y="51577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508720" y="4581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98080" y="458136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53080" y="6165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89080" y="1341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60720" y="19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78880" y="54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69440" y="530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436360" y="6021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44000" y="6021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16360" y="602136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04436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04472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042920" y="278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547640" y="4797360"/>
            <a:ext cx="410400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549600">
            <a:off x="-2979720" y="2372040"/>
            <a:ext cx="7908840" cy="617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9" y="2"/>
                </a:moveTo>
                <a:arcTo wR="10800" hR="10800" stAng="-5330382" swAng="5355444"/>
                <a:lnTo>
                  <a:pt x="10800" y="10800"/>
                </a:lnTo>
                <a:close/>
              </a:path>
              <a:path fill="none" w="21600" h="21600">
                <a:moveTo>
                  <a:pt x="11019" y="2"/>
                </a:moveTo>
                <a:arcTo wR="10800" hR="10800" stAng="-5330382" swAng="53554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05080" y="60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e zemlja otvori – novi odnos cijena p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i dalje proizvodi u Q – ne može tako brzo mijenjati proizvod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u potrošači ustanovili te cijene p’ – krenuli su kupovati preko granice i dosegli višu krivulju indiferencije I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nja je i dalje u Q. Potrošači su ti koji brzo reagiraju, imaju novce u ruk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 uvesti mm’ X-a, a izvesti nn’ Y-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kazalo se da imamo komparativnu prednost u Y-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kut pokazuje trgovinu te zemlje s inozemst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a nam je omogućila dosizanje više krivulje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ac p’ siječe krivulju proizvodnih mogućnosti, a to nije optimal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o bi bilo da p’ dodiruj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učemo p’ tako da tangira KPM – dosežemo još višu krivulju proizvodnih moguć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amo 2 trok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i trokut je efekt otvaranja – ostala je ista struktura proizvodnje, promijenila se struktura potrošnje, dosegli smo viš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 trokut je efekt specijalizacije – mijenja se i struktura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678000">
            <a:off x="2556000" y="206028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08720" y="5445000"/>
            <a:ext cx="1224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32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71640" y="249228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409600">
            <a:off x="3348000" y="3284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1128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35280" y="386064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16360" y="1341360"/>
            <a:ext cx="2519280" cy="3959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195640" y="1557360"/>
            <a:ext cx="2376360" cy="3672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340000" y="3357720"/>
            <a:ext cx="4464000" cy="180000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06728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059280" y="2133720"/>
            <a:ext cx="28872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763200">
            <a:off x="3203280" y="155736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70836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1773360"/>
            <a:ext cx="2376720" cy="367164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203640" y="3645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fekti otvar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 –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promjena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efekt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efekt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ukupna korist od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s = efekt supstitu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-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dohodovni efek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476360" y="620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76360" y="558972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6360" y="2924280"/>
            <a:ext cx="9349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476360" y="2924280"/>
            <a:ext cx="345600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812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900000" y="62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21301200">
            <a:off x="2195640" y="321264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763200">
            <a:off x="1763280" y="393372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476360" y="4076640"/>
            <a:ext cx="2016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79640" y="4292640"/>
            <a:ext cx="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8000" y="422100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6836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2728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71640" y="4005360"/>
            <a:ext cx="0" cy="1584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763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95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62728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80000" y="333360"/>
            <a:ext cx="46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supstitu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doh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67280" y="1628640"/>
            <a:ext cx="424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supstitucije uvijek dovodi do povećanja potražnje za robom čija je cijena 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dohotka može ići u svakom pravcu ovisno o tome radi li se o normalnoj ili inferiornoj ro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ndeksi uvjeta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ni indeksi uvjeta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BNI UVJETI TRGOVINE – indeks izvoznih cijena podijeljen s indeksom uvoznih cijena. Poboljšava se ako je veći od 100, što znači da izvozne cijene rastu brže od cijena uvoznih r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T =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HODNI UVJETI TRGOVINE – ovo je mjera mogućnosti zemlje da uvozi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 = 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*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stavlja indeks promjene količine iz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primjerice da robni uvjeti trgovine budu ispod 100, a prihodni iznad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FUT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deks porasta produktivnosti u proizvodnji izvozne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jednostrukog faktorskog uvjeta trgovine znači da zemlja dobiva više uvoza za danu jedinicu uloženog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i da robni i prihodni uvjeti budu loši, a jednostruki faktorski dob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075520" cy="633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FUT =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(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ozemni indeks produktivnosti za uvezenu ro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DFUT pokazuje da se dana količina domaćih faktora proizvodnje u njenim izvoznim djelatnostima razmjenjuje za veću količinu usluga faktora proizvodnje u izvoznim sektorima zemlje trgovinskog part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03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RUT i PUT i JFUT mogu biti nepovoljni, a ovaj indeks povolj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i još i ZAPOSLENOŠĆU PONDERIRANI DVOSTRUKI FAKTORSKI UVJETI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324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okazuje ponudu izvoza i potražnju za uvozom neke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je rast koji povećava nacionalne proizvodne mogućnosti više prema iz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teži da pogorša nacionalne uvjete trgovine u korist ostalih zemalja – mala zemlja preuzima svjetsku cijenu kakva jest, dok bi velika mogla na nju utjecati i imati neke kor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94036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3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3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580000" y="1989000"/>
            <a:ext cx="15843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e ponuda, iz čega slijedi da pada cij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ima za posljedicu pogoršanje uvjet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bi značilo da krivulja recipročne potražnje ide udesno. Imamo manje koristi od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cimo zemlja koja izvozi X: nudi više izvozne robe X, ali joj pada cijena. Malo više dobiva Y-a, a dala je mnogo više X-a jer je cijena p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oršavaju se uvjeti razm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ili uvozno supstitutivni rast usmjeren je više prema u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 da popravi nacionalne uvjete trgovine na teret ostatka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3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580000" y="1844640"/>
            <a:ext cx="17287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va se proizvodnja uvoznog dobra Y, a smanjuje X-a, te njegova ponuda p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im time X-u raste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poboljšava uvjet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iromašujući 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Josip</cp:lastModifiedBy>
  <dcterms:modified xsi:type="dcterms:W3CDTF">2007-05-02T12:40:21Z</dcterms:modified>
  <cp:revision>33</cp:revision>
  <dc:subject/>
  <dc:title>TEORIJE VANJSKE TRGOVINE</dc:title>
</cp:coreProperties>
</file>