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581FF-D0A9-46B8-82A0-6CC416B1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B1C68-56E0-40B7-A39F-3DFF4C7F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89584-531D-44F2-B327-79EC38A0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F041B-14AF-4323-A9C2-49566DD9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35E7-08F7-4EF0-B6F0-52C4BCCE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DDC6-1980-4431-921B-CC64CF0F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8056-0F5F-40E6-BF24-DCC57A67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E19C-7A38-45F8-9313-08F7E0ED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44CE-999E-47D9-8AB2-577CC773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7723-9B20-450A-A3CC-B23B3E29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4391-5AA3-4E9D-B544-8ECEBB5A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51D80-C39D-4B3F-B911-40F1C88F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489A-C573-4A33-9FE0-110C4668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2A6C-6846-4FE2-8EAB-F0CD6192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9B28-BFBF-4C1C-BE6D-5E9774FA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FDA0-A258-4E19-9D15-4E37AC4A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AF0F-F611-40FB-83A1-2D14BE03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1758F-193A-4AFB-B379-79BCD0A7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F1AF3-1485-44CF-AB58-32632906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C8D04-2579-4A46-BE1C-5B0B406B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D509B-31E2-49BA-B5A5-5148F7E1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C5696-3F07-4F1C-A960-0F8CF417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C4988-7960-4CDC-9B8C-6D40CA0C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03324-5FBA-4269-B0E5-1C11D3D8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9E8F-778F-460B-B075-3AF98972F7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99BA-B373-46D9-A06B-9D53D8BEEF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Osiromašujući ras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348000" y="404640"/>
            <a:ext cx="424836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Osiromašujući 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852640"/>
            <a:ext cx="3529080" cy="3168720"/>
          </a:xfrm>
          <a:custGeom>
            <a:avLst/>
            <a:gdLst/>
            <a:ahLst/>
            <a:rect l="l" t="t" r="r" b="b"/>
            <a:pathLst>
              <a:path w="2222" h="2177">
                <a:moveTo>
                  <a:pt x="0" y="0"/>
                </a:moveTo>
                <a:cubicBezTo>
                  <a:pt x="67" y="26"/>
                  <a:pt x="135" y="53"/>
                  <a:pt x="226" y="91"/>
                </a:cubicBezTo>
                <a:cubicBezTo>
                  <a:pt x="317" y="129"/>
                  <a:pt x="423" y="167"/>
                  <a:pt x="544" y="227"/>
                </a:cubicBezTo>
                <a:cubicBezTo>
                  <a:pt x="665" y="287"/>
                  <a:pt x="824" y="370"/>
                  <a:pt x="952" y="453"/>
                </a:cubicBezTo>
                <a:cubicBezTo>
                  <a:pt x="1080" y="536"/>
                  <a:pt x="1179" y="612"/>
                  <a:pt x="1315" y="726"/>
                </a:cubicBezTo>
                <a:cubicBezTo>
                  <a:pt x="1451" y="840"/>
                  <a:pt x="1633" y="968"/>
                  <a:pt x="1769" y="1134"/>
                </a:cubicBezTo>
                <a:cubicBezTo>
                  <a:pt x="1905" y="1300"/>
                  <a:pt x="2056" y="1550"/>
                  <a:pt x="2131" y="1724"/>
                </a:cubicBezTo>
                <a:cubicBezTo>
                  <a:pt x="2206" y="1898"/>
                  <a:pt x="2214" y="2037"/>
                  <a:pt x="2222" y="2177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8000" y="404640"/>
            <a:ext cx="3240360" cy="5400720"/>
          </a:xfrm>
          <a:prstGeom prst="line">
            <a:avLst/>
          </a:prstGeom>
          <a:ln w="76320">
            <a:solidFill>
              <a:srgbClr val="e41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03280" y="2492280"/>
            <a:ext cx="6121440" cy="3529080"/>
          </a:xfrm>
          <a:custGeom>
            <a:avLst/>
            <a:gdLst/>
            <a:ahLst/>
            <a:rect l="l" t="t" r="r" b="b"/>
            <a:pathLst>
              <a:path w="3856" h="2358">
                <a:moveTo>
                  <a:pt x="0" y="0"/>
                </a:moveTo>
                <a:cubicBezTo>
                  <a:pt x="159" y="30"/>
                  <a:pt x="318" y="61"/>
                  <a:pt x="590" y="136"/>
                </a:cubicBezTo>
                <a:cubicBezTo>
                  <a:pt x="862" y="211"/>
                  <a:pt x="1346" y="347"/>
                  <a:pt x="1633" y="453"/>
                </a:cubicBezTo>
                <a:cubicBezTo>
                  <a:pt x="1920" y="559"/>
                  <a:pt x="2095" y="658"/>
                  <a:pt x="2314" y="771"/>
                </a:cubicBezTo>
                <a:cubicBezTo>
                  <a:pt x="2533" y="884"/>
                  <a:pt x="2730" y="953"/>
                  <a:pt x="2949" y="1134"/>
                </a:cubicBezTo>
                <a:cubicBezTo>
                  <a:pt x="3168" y="1315"/>
                  <a:pt x="3478" y="1655"/>
                  <a:pt x="3629" y="1859"/>
                </a:cubicBezTo>
                <a:cubicBezTo>
                  <a:pt x="3780" y="2063"/>
                  <a:pt x="3811" y="2252"/>
                  <a:pt x="3856" y="2358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1413000"/>
            <a:ext cx="5832720" cy="352872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03280" y="602136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19280" y="1125360"/>
            <a:ext cx="1512720" cy="1081440"/>
          </a:xfrm>
          <a:custGeom>
            <a:avLst/>
            <a:gdLst/>
            <a:ahLst/>
            <a:rect l="l" t="t" r="r" b="b"/>
            <a:pathLst>
              <a:path w="1270" h="772">
                <a:moveTo>
                  <a:pt x="0" y="0"/>
                </a:moveTo>
                <a:cubicBezTo>
                  <a:pt x="98" y="162"/>
                  <a:pt x="197" y="325"/>
                  <a:pt x="409" y="454"/>
                </a:cubicBezTo>
                <a:cubicBezTo>
                  <a:pt x="621" y="583"/>
                  <a:pt x="1134" y="719"/>
                  <a:pt x="1270" y="772"/>
                </a:cubicBezTo>
              </a:path>
            </a:pathLst>
          </a:custGeom>
          <a:noFill/>
          <a:ln w="381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123640" y="-1258920"/>
            <a:ext cx="24379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403280" y="404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4869000"/>
            <a:ext cx="215640" cy="241200"/>
          </a:xfrm>
          <a:prstGeom prst="flowChart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3933720"/>
            <a:ext cx="216000" cy="239760"/>
          </a:xfrm>
          <a:prstGeom prst="flowChart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9640" y="1628640"/>
            <a:ext cx="216000" cy="216000"/>
          </a:xfrm>
          <a:prstGeom prst="flowChart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88000" y="4149720"/>
            <a:ext cx="86364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981000"/>
            <a:ext cx="215640" cy="241200"/>
          </a:xfrm>
          <a:prstGeom prst="flowChart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123640" y="1197000"/>
            <a:ext cx="14436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19:33:28Z</dcterms:created>
  <dc:creator>Mato Grgić</dc:creator>
  <dc:description/>
  <dc:language>en-US</dc:language>
  <cp:lastModifiedBy>Mato Grgić</cp:lastModifiedBy>
  <dcterms:modified xsi:type="dcterms:W3CDTF">2004-11-28T21:17:32Z</dcterms:modified>
  <cp:revision>3</cp:revision>
  <dc:subject/>
  <dc:title>Osiromašujući rast</dc:title>
</cp:coreProperties>
</file>