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E6355-FA8E-49A7-AC81-ACEE549A8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2305D-F320-4EB3-975F-E708D1F8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522C4-4C8D-464E-9EFA-6ABDFD147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A49C5-E183-46FF-8A44-75641DE3E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0BA6-049C-4748-B7C2-B111A9C26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820C-A74C-4C08-9FAE-69553A00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0E48-510D-4130-AB9F-2F990D2F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DD2B-D3A6-46BB-8330-08B75D38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2AAD-409A-4EF0-A20D-B3FCFF58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0DCA-8FE1-4950-90EC-5D982208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BBB7-A018-43F9-B423-EFBBEB12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83069-CB60-4E19-9D12-0FC4C4EE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CECE5-A097-47E5-A9B4-215382B4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26E2-7BE1-4ACF-90DE-E1F09C5B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8E73-FC5B-4D6D-912E-378F4745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1CF9-D1D3-4E34-AF07-C2827F918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9C18-E21C-4BA2-ABA4-9C6A2200B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F45E7-FD09-48B5-9366-F7A2C465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7C089-6E6A-40A4-923C-E0F4877C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6D6EB-9232-4B65-BED0-A2021EAD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37DAB-BF12-4D7C-8F23-E323EF7D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29D16-FCDF-47CD-A039-B32C55F3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9C50A-B37C-491B-BE54-0133813C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60D52-1A07-41E7-BE3C-DD19D5EA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9B7E-5273-444E-9233-59AB8158BD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1384-0B56-4CBD-9DE3-E82DBDAF5B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68000" y="1989000"/>
            <a:ext cx="6875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ržišna ravnoteža i određivanje međunarodnih odnosa razmje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9214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vnoteža prije trgovine u dvije zeml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971640" y="1413000"/>
          <a:ext cx="6649920" cy="49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413000"/>
                    <a:ext cx="6649920" cy="49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4427640" y="4292640"/>
            <a:ext cx="144360" cy="144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02160" y="4005360"/>
            <a:ext cx="5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60440" y="1711440"/>
            <a:ext cx="2426040" cy="3657600"/>
          </a:xfrm>
          <a:custGeom>
            <a:avLst/>
            <a:gdLst/>
            <a:ahLst/>
            <a:rect l="l" t="t" r="r" b="b"/>
            <a:pathLst>
              <a:path w="2264" h="2504">
                <a:moveTo>
                  <a:pt x="0" y="0"/>
                </a:moveTo>
                <a:lnTo>
                  <a:pt x="2264" y="250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11200" y="2754360"/>
            <a:ext cx="5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2997360"/>
            <a:ext cx="152640" cy="1490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59200" y="564840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30800" y="564840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41480" y="2892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060080" y="487980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52760" y="1866960"/>
            <a:ext cx="3314520" cy="3217680"/>
          </a:xfrm>
          <a:custGeom>
            <a:avLst/>
            <a:gdLst/>
            <a:ahLst/>
            <a:rect l="l" t="t" r="r" b="b"/>
            <a:pathLst>
              <a:path w="2096" h="2016">
                <a:moveTo>
                  <a:pt x="0" y="0"/>
                </a:moveTo>
                <a:cubicBezTo>
                  <a:pt x="121" y="204"/>
                  <a:pt x="378" y="880"/>
                  <a:pt x="728" y="1216"/>
                </a:cubicBezTo>
                <a:cubicBezTo>
                  <a:pt x="1077" y="1551"/>
                  <a:pt x="1810" y="1849"/>
                  <a:pt x="2096" y="201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24000" y="2997360"/>
            <a:ext cx="4248360" cy="251928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835280" y="3716280"/>
            <a:ext cx="3549600" cy="1884600"/>
          </a:xfrm>
          <a:custGeom>
            <a:avLst/>
            <a:gdLst/>
            <a:ahLst/>
            <a:rect l="l" t="t" r="r" b="b"/>
            <a:pathLst>
              <a:path w="2360" h="1280">
                <a:moveTo>
                  <a:pt x="0" y="0"/>
                </a:moveTo>
                <a:cubicBezTo>
                  <a:pt x="300" y="82"/>
                  <a:pt x="1406" y="282"/>
                  <a:pt x="1800" y="496"/>
                </a:cubicBezTo>
                <a:cubicBezTo>
                  <a:pt x="2193" y="709"/>
                  <a:pt x="2243" y="1116"/>
                  <a:pt x="2360" y="1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57160" y="514656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3080" y="580536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oizvod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351000" y="2104920"/>
            <a:ext cx="149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oizvod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35280" y="1989000"/>
            <a:ext cx="2025360" cy="3611880"/>
          </a:xfrm>
          <a:custGeom>
            <a:avLst/>
            <a:gdLst/>
            <a:ahLst/>
            <a:rect l="l" t="t" r="r" b="b"/>
            <a:pathLst>
              <a:path w="1388" h="2365">
                <a:moveTo>
                  <a:pt x="1388" y="2365"/>
                </a:moveTo>
                <a:cubicBezTo>
                  <a:pt x="1317" y="2098"/>
                  <a:pt x="1163" y="1150"/>
                  <a:pt x="932" y="757"/>
                </a:cubicBezTo>
                <a:cubicBezTo>
                  <a:pt x="700" y="363"/>
                  <a:pt x="194" y="15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03440" y="1866960"/>
            <a:ext cx="2705400" cy="269244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00720" y="4437000"/>
            <a:ext cx="45720" cy="1163880"/>
          </a:xfrm>
          <a:prstGeom prst="line">
            <a:avLst/>
          </a:prstGeom>
          <a:ln w="38160">
            <a:solidFill>
              <a:srgbClr val="99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31880" y="4374360"/>
            <a:ext cx="2832120" cy="12600"/>
          </a:xfrm>
          <a:prstGeom prst="line">
            <a:avLst/>
          </a:prstGeom>
          <a:ln w="38160">
            <a:solidFill>
              <a:srgbClr val="99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44480" y="3092400"/>
            <a:ext cx="1498680" cy="0"/>
          </a:xfrm>
          <a:prstGeom prst="line">
            <a:avLst/>
          </a:prstGeom>
          <a:ln w="38160">
            <a:solidFill>
              <a:srgbClr val="99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4840" y="3174840"/>
            <a:ext cx="0" cy="2426040"/>
          </a:xfrm>
          <a:prstGeom prst="line">
            <a:avLst/>
          </a:prstGeom>
          <a:ln w="38160">
            <a:solidFill>
              <a:srgbClr val="99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41480" y="4175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72120" y="2039760"/>
            <a:ext cx="34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emlja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563640" y="2422440"/>
            <a:ext cx="1617480" cy="501840"/>
          </a:xfrm>
          <a:prstGeom prst="line">
            <a:avLst/>
          </a:prstGeom>
          <a:ln w="28440">
            <a:solidFill>
              <a:srgbClr val="99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26360" y="3429000"/>
            <a:ext cx="22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emlj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932360" y="3705120"/>
            <a:ext cx="1440000" cy="444600"/>
          </a:xfrm>
          <a:prstGeom prst="line">
            <a:avLst/>
          </a:prstGeom>
          <a:ln w="28440">
            <a:solidFill>
              <a:srgbClr val="99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67160" y="1484280"/>
            <a:ext cx="25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20560" y="14842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184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vnoteža nakon trgov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e6"/>
                </a:solidFill>
                <a:latin typeface="Arial"/>
              </a:rPr>
              <a:t>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004760" y="1378080"/>
          <a:ext cx="6650280" cy="49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1378080"/>
                    <a:ext cx="6650280" cy="49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4356000" y="4292640"/>
            <a:ext cx="101880" cy="1015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033800" y="4205160"/>
            <a:ext cx="5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14480" y="3071880"/>
            <a:ext cx="5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3044880"/>
            <a:ext cx="101880" cy="1015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70200" y="5648400"/>
            <a:ext cx="4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35360" y="5648400"/>
            <a:ext cx="4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41480" y="2448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46160" y="1784520"/>
            <a:ext cx="3826080" cy="3701880"/>
          </a:xfrm>
          <a:prstGeom prst="line">
            <a:avLst/>
          </a:prstGeom>
          <a:ln w="38160">
            <a:solidFill>
              <a:srgbClr val="5272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35280" y="3645000"/>
            <a:ext cx="3549600" cy="1955880"/>
          </a:xfrm>
          <a:custGeom>
            <a:avLst/>
            <a:gdLst/>
            <a:ahLst/>
            <a:rect l="l" t="t" r="r" b="b"/>
            <a:pathLst>
              <a:path w="2360" h="1280">
                <a:moveTo>
                  <a:pt x="0" y="0"/>
                </a:moveTo>
                <a:cubicBezTo>
                  <a:pt x="300" y="82"/>
                  <a:pt x="1406" y="282"/>
                  <a:pt x="1800" y="496"/>
                </a:cubicBezTo>
                <a:cubicBezTo>
                  <a:pt x="2193" y="709"/>
                  <a:pt x="2243" y="1116"/>
                  <a:pt x="2360" y="1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10040" y="5083200"/>
            <a:ext cx="39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7440" y="566100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oizvod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352080" y="232236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oizvod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63640" y="1916280"/>
            <a:ext cx="2097000" cy="3684600"/>
          </a:xfrm>
          <a:custGeom>
            <a:avLst/>
            <a:gdLst/>
            <a:ahLst/>
            <a:rect l="l" t="t" r="r" b="b"/>
            <a:pathLst>
              <a:path w="1388" h="2365">
                <a:moveTo>
                  <a:pt x="1388" y="2365"/>
                </a:moveTo>
                <a:cubicBezTo>
                  <a:pt x="1317" y="2098"/>
                  <a:pt x="1163" y="1150"/>
                  <a:pt x="932" y="757"/>
                </a:cubicBezTo>
                <a:cubicBezTo>
                  <a:pt x="700" y="363"/>
                  <a:pt x="194" y="15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54240" y="2025720"/>
            <a:ext cx="3232440" cy="2911320"/>
          </a:xfrm>
          <a:custGeom>
            <a:avLst/>
            <a:gdLst/>
            <a:ahLst/>
            <a:rect l="l" t="t" r="r" b="b"/>
            <a:pathLst>
              <a:path w="2036" h="1834">
                <a:moveTo>
                  <a:pt x="0" y="0"/>
                </a:moveTo>
                <a:cubicBezTo>
                  <a:pt x="87" y="169"/>
                  <a:pt x="188" y="718"/>
                  <a:pt x="528" y="1024"/>
                </a:cubicBezTo>
                <a:cubicBezTo>
                  <a:pt x="867" y="1329"/>
                  <a:pt x="1721" y="1665"/>
                  <a:pt x="2036" y="183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51360" y="4711680"/>
            <a:ext cx="0" cy="876240"/>
          </a:xfrm>
          <a:prstGeom prst="line">
            <a:avLst/>
          </a:prstGeom>
          <a:ln w="38160">
            <a:solidFill>
              <a:srgbClr val="99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93960" y="2730600"/>
            <a:ext cx="0" cy="2857320"/>
          </a:xfrm>
          <a:prstGeom prst="line">
            <a:avLst/>
          </a:prstGeom>
          <a:ln w="38160">
            <a:solidFill>
              <a:srgbClr val="99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41480" y="4429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88000" y="1916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emlja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916000" y="2205000"/>
            <a:ext cx="1871640" cy="360360"/>
          </a:xfrm>
          <a:prstGeom prst="line">
            <a:avLst/>
          </a:prstGeom>
          <a:ln w="28440">
            <a:solidFill>
              <a:srgbClr val="99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076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emlj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003280" y="4365720"/>
            <a:ext cx="1297080" cy="215640"/>
          </a:xfrm>
          <a:prstGeom prst="line">
            <a:avLst/>
          </a:prstGeom>
          <a:ln w="28440">
            <a:solidFill>
              <a:srgbClr val="99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43200" y="2587680"/>
            <a:ext cx="101520" cy="1015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0040" y="2635200"/>
            <a:ext cx="1092240" cy="0"/>
          </a:xfrm>
          <a:prstGeom prst="line">
            <a:avLst/>
          </a:prstGeom>
          <a:ln w="38160">
            <a:solidFill>
              <a:srgbClr val="99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4565520"/>
            <a:ext cx="101520" cy="101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44480" y="4626720"/>
            <a:ext cx="3137040" cy="1800"/>
          </a:xfrm>
          <a:prstGeom prst="line">
            <a:avLst/>
          </a:prstGeom>
          <a:ln w="38160">
            <a:solidFill>
              <a:srgbClr val="99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26160" y="2565360"/>
            <a:ext cx="6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48040" y="3613320"/>
            <a:ext cx="101520" cy="1015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89840" y="4599000"/>
            <a:ext cx="6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32640" y="330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31880" y="3675240"/>
            <a:ext cx="2184480" cy="1440"/>
          </a:xfrm>
          <a:prstGeom prst="line">
            <a:avLst/>
          </a:prstGeom>
          <a:ln w="38160">
            <a:solidFill>
              <a:srgbClr val="99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98800" y="3645000"/>
            <a:ext cx="0" cy="1955880"/>
          </a:xfrm>
          <a:prstGeom prst="line">
            <a:avLst/>
          </a:prstGeom>
          <a:ln w="38160">
            <a:solidFill>
              <a:srgbClr val="99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641680" y="564840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28880" y="3502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52760" y="1866960"/>
            <a:ext cx="3314520" cy="3217680"/>
          </a:xfrm>
          <a:custGeom>
            <a:avLst/>
            <a:gdLst/>
            <a:ahLst/>
            <a:rect l="l" t="t" r="r" b="b"/>
            <a:pathLst>
              <a:path w="2096" h="2016">
                <a:moveTo>
                  <a:pt x="0" y="0"/>
                </a:moveTo>
                <a:cubicBezTo>
                  <a:pt x="121" y="204"/>
                  <a:pt x="378" y="880"/>
                  <a:pt x="728" y="1216"/>
                </a:cubicBezTo>
                <a:cubicBezTo>
                  <a:pt x="1077" y="1551"/>
                  <a:pt x="1810" y="1849"/>
                  <a:pt x="2096" y="201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43280" y="2637000"/>
            <a:ext cx="1008000" cy="100800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3716280"/>
            <a:ext cx="1008000" cy="93672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95520" y="1484280"/>
            <a:ext cx="25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33280" y="15573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 flipH="1" flipV="1">
            <a:off x="1402920" y="1267920"/>
            <a:ext cx="73080" cy="504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76360" y="630864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76360" y="4341960"/>
            <a:ext cx="5183280" cy="1966680"/>
          </a:xfrm>
          <a:custGeom>
            <a:avLst/>
            <a:gdLst/>
            <a:ahLst/>
            <a:rect l="l" t="t" r="r" b="b"/>
            <a:pathLst>
              <a:path w="3265" h="1194">
                <a:moveTo>
                  <a:pt x="0" y="15"/>
                </a:moveTo>
                <a:cubicBezTo>
                  <a:pt x="143" y="15"/>
                  <a:pt x="287" y="15"/>
                  <a:pt x="453" y="15"/>
                </a:cubicBezTo>
                <a:cubicBezTo>
                  <a:pt x="619" y="15"/>
                  <a:pt x="778" y="0"/>
                  <a:pt x="997" y="15"/>
                </a:cubicBezTo>
                <a:cubicBezTo>
                  <a:pt x="1216" y="30"/>
                  <a:pt x="1565" y="75"/>
                  <a:pt x="1769" y="105"/>
                </a:cubicBezTo>
                <a:cubicBezTo>
                  <a:pt x="1973" y="135"/>
                  <a:pt x="2063" y="143"/>
                  <a:pt x="2222" y="196"/>
                </a:cubicBezTo>
                <a:cubicBezTo>
                  <a:pt x="2381" y="249"/>
                  <a:pt x="2577" y="325"/>
                  <a:pt x="2721" y="423"/>
                </a:cubicBezTo>
                <a:cubicBezTo>
                  <a:pt x="2865" y="521"/>
                  <a:pt x="2993" y="657"/>
                  <a:pt x="3084" y="786"/>
                </a:cubicBezTo>
                <a:cubicBezTo>
                  <a:pt x="3175" y="915"/>
                  <a:pt x="3242" y="1126"/>
                  <a:pt x="3265" y="1194"/>
                </a:cubicBez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84360" y="1916280"/>
            <a:ext cx="3888000" cy="2665080"/>
          </a:xfrm>
          <a:custGeom>
            <a:avLst/>
            <a:gdLst/>
            <a:ahLst/>
            <a:rect l="l" t="t" r="r" b="b"/>
            <a:pathLst>
              <a:path w="2404" h="1724">
                <a:moveTo>
                  <a:pt x="0" y="0"/>
                </a:moveTo>
                <a:cubicBezTo>
                  <a:pt x="56" y="253"/>
                  <a:pt x="113" y="507"/>
                  <a:pt x="181" y="681"/>
                </a:cubicBezTo>
                <a:cubicBezTo>
                  <a:pt x="249" y="855"/>
                  <a:pt x="310" y="916"/>
                  <a:pt x="408" y="1044"/>
                </a:cubicBezTo>
                <a:cubicBezTo>
                  <a:pt x="506" y="1172"/>
                  <a:pt x="612" y="1346"/>
                  <a:pt x="771" y="1452"/>
                </a:cubicBezTo>
                <a:cubicBezTo>
                  <a:pt x="930" y="1558"/>
                  <a:pt x="1156" y="1634"/>
                  <a:pt x="1360" y="1679"/>
                </a:cubicBezTo>
                <a:cubicBezTo>
                  <a:pt x="1564" y="1724"/>
                  <a:pt x="1821" y="1724"/>
                  <a:pt x="1995" y="1724"/>
                </a:cubicBezTo>
                <a:cubicBezTo>
                  <a:pt x="2169" y="1724"/>
                  <a:pt x="2336" y="1694"/>
                  <a:pt x="2404" y="1679"/>
                </a:cubicBezTo>
              </a:path>
            </a:pathLst>
          </a:custGeom>
          <a:noFill/>
          <a:ln w="57240">
            <a:solidFill>
              <a:srgbClr val="6c54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16360" y="1916280"/>
            <a:ext cx="3456000" cy="2304720"/>
          </a:xfrm>
          <a:custGeom>
            <a:avLst/>
            <a:gdLst/>
            <a:ahLst/>
            <a:rect l="l" t="t" r="r" b="b"/>
            <a:pathLst>
              <a:path w="2086" h="1451">
                <a:moveTo>
                  <a:pt x="0" y="0"/>
                </a:moveTo>
                <a:cubicBezTo>
                  <a:pt x="3" y="79"/>
                  <a:pt x="7" y="159"/>
                  <a:pt x="45" y="272"/>
                </a:cubicBezTo>
                <a:cubicBezTo>
                  <a:pt x="83" y="385"/>
                  <a:pt x="144" y="544"/>
                  <a:pt x="227" y="680"/>
                </a:cubicBezTo>
                <a:cubicBezTo>
                  <a:pt x="310" y="816"/>
                  <a:pt x="438" y="990"/>
                  <a:pt x="544" y="1088"/>
                </a:cubicBezTo>
                <a:cubicBezTo>
                  <a:pt x="650" y="1186"/>
                  <a:pt x="726" y="1217"/>
                  <a:pt x="862" y="1270"/>
                </a:cubicBezTo>
                <a:cubicBezTo>
                  <a:pt x="998" y="1323"/>
                  <a:pt x="1210" y="1376"/>
                  <a:pt x="1361" y="1406"/>
                </a:cubicBezTo>
                <a:cubicBezTo>
                  <a:pt x="1512" y="1436"/>
                  <a:pt x="1648" y="1451"/>
                  <a:pt x="1769" y="1451"/>
                </a:cubicBezTo>
                <a:cubicBezTo>
                  <a:pt x="1890" y="1451"/>
                  <a:pt x="1988" y="1428"/>
                  <a:pt x="2086" y="1406"/>
                </a:cubicBezTo>
              </a:path>
            </a:pathLst>
          </a:custGeom>
          <a:noFill/>
          <a:ln w="57240">
            <a:solidFill>
              <a:srgbClr val="6c54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47640" y="2276640"/>
            <a:ext cx="5545440" cy="35287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11280" y="4005360"/>
            <a:ext cx="4608720" cy="10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79640" y="1844640"/>
            <a:ext cx="2521080" cy="374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03280" y="2852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11280" y="2924280"/>
            <a:ext cx="71640" cy="338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403280" y="386064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95640" y="3860640"/>
            <a:ext cx="71640" cy="24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476360" y="4941720"/>
            <a:ext cx="417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651640" y="49417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820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dređenje međunarodnog odnosa razmj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979640" y="2852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19640" y="4941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24360" y="3429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95640" y="3860640"/>
            <a:ext cx="1656000" cy="10810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51160" y="1557360"/>
            <a:ext cx="25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788560" y="15573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38720" y="321300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zvo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705040" y="3860640"/>
            <a:ext cx="67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Uvo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447080" y="501336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zvo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08320" y="4292640"/>
            <a:ext cx="67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Uvo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242120" y="5445000"/>
            <a:ext cx="43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101720" y="486900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365000" y="544500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403280" y="2492280"/>
            <a:ext cx="2232000" cy="3816360"/>
          </a:xfrm>
          <a:custGeom>
            <a:avLst/>
            <a:gdLst/>
            <a:ahLst/>
            <a:rect l="l" t="t" r="r" b="b"/>
            <a:pathLst>
              <a:path w="1406" h="2404">
                <a:moveTo>
                  <a:pt x="0" y="0"/>
                </a:moveTo>
                <a:cubicBezTo>
                  <a:pt x="223" y="45"/>
                  <a:pt x="446" y="91"/>
                  <a:pt x="635" y="227"/>
                </a:cubicBezTo>
                <a:cubicBezTo>
                  <a:pt x="824" y="363"/>
                  <a:pt x="1006" y="454"/>
                  <a:pt x="1134" y="817"/>
                </a:cubicBezTo>
                <a:cubicBezTo>
                  <a:pt x="1262" y="1180"/>
                  <a:pt x="1368" y="2140"/>
                  <a:pt x="1406" y="2404"/>
                </a:cubicBezTo>
              </a:path>
            </a:pathLst>
          </a:custGeom>
          <a:noFill/>
          <a:ln w="3816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11280" y="2852640"/>
            <a:ext cx="1584360" cy="100800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7440" y="646128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oizvod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16200000">
            <a:off x="352080" y="232236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oizvod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0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5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000"/>
                            </p:stCondLst>
                            <p:childTnLst>
                              <p:par>
                                <p:cTn id="2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5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8T16:17:09Z</dcterms:created>
  <dc:creator>Mato Grgić</dc:creator>
  <dc:description/>
  <dc:language>en-US</dc:language>
  <cp:lastModifiedBy>Mato Grgić</cp:lastModifiedBy>
  <dcterms:modified xsi:type="dcterms:W3CDTF">2004-11-28T21:23:54Z</dcterms:modified>
  <cp:revision>3</cp:revision>
  <dc:subject/>
  <dc:title>Tržišna ravnoteža i određivanje međunarodnih odnosa razmjene</dc:title>
</cp:coreProperties>
</file>