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444018-451B-4441-8DDA-45F6C2820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2E40FF-3C7E-430B-8EFC-E7B60541E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9397D7-B51C-4309-958D-5FB60FBAA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7A7B14-4E87-457C-ABBA-E4206428C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F5E75-A605-4FF1-A77B-9DC66FA04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2D629-2D38-430B-8CE7-871A37BDE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5F3CD-5310-4A28-9E2F-ED1016D2B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CB463-AB5D-489B-8E83-052AA46AB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D859C-AA02-438D-B025-18D4AF09B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F2DFF-CC4F-4309-9F69-3716920FB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E6225-1C60-41AF-BB47-FC3365D6E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BFAD7E-EA3A-41AB-8D54-FA5687C5D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59251-9550-48C3-B0D1-890D18D2B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32B21-275A-42BB-8026-76D84C26A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7F3DE-9530-47D6-8A42-A281E0876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E308B-6DBA-4665-96BF-82906E574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4547F-8EB7-4588-9574-8CF8873EE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67F81E-7447-4540-A694-6CFF5B2D0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14E7C9-A67A-44BA-905D-3B49D27EA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A98DE7-4635-425D-9E92-827B67D04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F67356-BF36-4166-8EC6-02716197F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07B4D5-4917-42D2-8F1D-8DF2A68F5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C86283-DEEC-4A68-9586-A9AC535A7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7FC68F-06A0-4187-9B27-F6673F0C2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38AB9-4CCB-409C-9D6B-2699EA21520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BBCC5-A4BB-4DC8-8C43-E424A4EA533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ffffff"/>
                </a:solidFill>
                <a:latin typeface="Arial"/>
              </a:rPr>
              <a:t>UVJETI TRGOVINE</a:t>
            </a:r>
            <a:endParaRPr b="0" lang="en-US" sz="5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3851280" y="2924280"/>
            <a:ext cx="1295280" cy="2089080"/>
          </a:xfrm>
          <a:prstGeom prst="rtTriangl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564000" y="3645000"/>
            <a:ext cx="1143000" cy="995400"/>
          </a:xfrm>
          <a:prstGeom prst="rtTriangl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050920" y="482760"/>
            <a:ext cx="62280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goršanje uvjeta trgovine i smanjenje koristi od trgov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432160" y="1752480"/>
            <a:ext cx="6120" cy="4337280"/>
          </a:xfrm>
          <a:custGeom>
            <a:avLst/>
            <a:gdLst/>
            <a:ahLst/>
            <a:rect l="l" t="t" r="r" b="b"/>
            <a:pathLst>
              <a:path w="4" h="2732">
                <a:moveTo>
                  <a:pt x="4" y="0"/>
                </a:moveTo>
                <a:lnTo>
                  <a:pt x="0" y="273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438280" y="6095880"/>
            <a:ext cx="4800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053080" y="16286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238160" y="60213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-377280" y="3963960"/>
            <a:ext cx="5942520" cy="4114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119" y="21"/>
                </a:moveTo>
                <a:arcTo wR="10800" hR="10800" stAng="-5616952" swAng="5731024"/>
                <a:lnTo>
                  <a:pt x="10800" y="10800"/>
                </a:lnTo>
                <a:close/>
              </a:path>
              <a:path fill="none" w="21600" h="21600">
                <a:moveTo>
                  <a:pt x="10119" y="21"/>
                </a:moveTo>
                <a:arcTo wR="10800" hR="10800" stAng="-5616952" swAng="5731024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3124080" y="1065960"/>
            <a:ext cx="4723920" cy="3200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 flipV="1">
            <a:off x="3132000" y="1915920"/>
            <a:ext cx="2735280" cy="4027320"/>
          </a:xfrm>
          <a:prstGeom prst="line">
            <a:avLst/>
          </a:prstGeom>
          <a:ln w="38160">
            <a:solidFill>
              <a:srgbClr val="00007d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793120" y="5562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294880" y="47242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853080" y="24922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420720" y="170028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66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085720" y="4797360"/>
            <a:ext cx="30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552480" y="2590920"/>
            <a:ext cx="4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556000" y="1916280"/>
            <a:ext cx="4267080" cy="342900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657320" y="4343400"/>
            <a:ext cx="30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H="1" flipV="1">
            <a:off x="5076360" y="4581000"/>
            <a:ext cx="289080" cy="287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725000" y="414972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3580560" y="4648320"/>
            <a:ext cx="1219320" cy="14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 flipV="1">
            <a:off x="3563640" y="3715920"/>
            <a:ext cx="12600" cy="9320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419640" y="321300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38000" y="3429000"/>
            <a:ext cx="30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3581280" y="532800"/>
            <a:ext cx="4723920" cy="3200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779200" y="2349360"/>
            <a:ext cx="354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6600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0066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850200" y="5043960"/>
            <a:ext cx="1302480" cy="10080"/>
          </a:xfrm>
          <a:prstGeom prst="line">
            <a:avLst/>
          </a:prstGeom>
          <a:ln cap="rnd" w="38160">
            <a:solidFill>
              <a:srgbClr val="00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720" bIns="-36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809880" y="2895480"/>
            <a:ext cx="0" cy="2133720"/>
          </a:xfrm>
          <a:prstGeom prst="line">
            <a:avLst/>
          </a:prstGeom>
          <a:ln cap="rnd" w="38160">
            <a:solidFill>
              <a:srgbClr val="00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3851280" y="5084640"/>
            <a:ext cx="137016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3851280" y="2923920"/>
            <a:ext cx="0" cy="20905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235920" y="544500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627280" y="2852640"/>
            <a:ext cx="4002120" cy="324324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9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95" dur="1" fill="hold">
                                    <p:stCondLst>
                                      <p:cond evt="end">
                                        <p:tn val="289"/>
                                      </p:cond>
                                    </p:stCondLst>
                                  </p:cTn>
                                  <p:tgtEl>
                                    <p:spTgt spid="1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500"/>
                            </p:stCondLst>
                            <p:childTnLst>
                              <p:par>
                                <p:cTn id="3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9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500"/>
                            </p:stCondLst>
                            <p:childTnLst>
                              <p:par>
                                <p:cTn id="3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73" dur="1" fill="hold">
                                    <p:stCondLst>
                                      <p:cond evt="end">
                                        <p:tn val="369"/>
                                      </p:cond>
                                    </p:stCondLst>
                                  </p:cTn>
                                  <p:tgtEl>
                                    <p:spTgt spid="19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324000" y="333360"/>
            <a:ext cx="835164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vjeti trgovine za nerazvijene i razvijene zemlje 1972.-1988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380880" y="1981080"/>
          <a:ext cx="8483760" cy="2600280"/>
        </p:xfrm>
        <a:graphic>
          <a:graphicData uri="http://schemas.openxmlformats.org/drawingml/2006/table">
            <a:tbl>
              <a:tblPr/>
              <a:tblGrid>
                <a:gridCol w="2197080"/>
                <a:gridCol w="698760"/>
                <a:gridCol w="698400"/>
                <a:gridCol w="698400"/>
                <a:gridCol w="698760"/>
                <a:gridCol w="698400"/>
                <a:gridCol w="698400"/>
                <a:gridCol w="698400"/>
                <a:gridCol w="698760"/>
                <a:gridCol w="698400"/>
              </a:tblGrid>
              <a:tr h="525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Godi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197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19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19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1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19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198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198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198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3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razvijene zeml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1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zvoznice naf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3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sta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zvijene zeml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0" name=""/>
          <p:cNvSpPr/>
          <p:nvPr/>
        </p:nvSpPr>
        <p:spPr>
          <a:xfrm>
            <a:off x="395280" y="4941720"/>
            <a:ext cx="826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vjeti trgovine = Jedinična vrijednost izvoza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÷ Jedinična vrijednost uvoza (1972 = 10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36400" y="5661000"/>
            <a:ext cx="440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Times New Roman"/>
              </a:rPr>
              <a:t>Izvor: </a:t>
            </a:r>
            <a:r>
              <a:rPr b="0" lang="hr-HR" sz="1800" spc="-1" strike="noStrike">
                <a:solidFill>
                  <a:srgbClr val="000000"/>
                </a:solidFill>
                <a:latin typeface="Times New Roman"/>
              </a:rPr>
              <a:t>IMF, </a:t>
            </a:r>
            <a:r>
              <a:rPr b="0" i="1" lang="hr-HR" sz="1800" spc="-1" strike="noStrike">
                <a:solidFill>
                  <a:srgbClr val="000000"/>
                </a:solidFill>
                <a:latin typeface="Times New Roman"/>
              </a:rPr>
              <a:t>International Financial Statis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000" y="333360"/>
            <a:ext cx="867564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eksi izvoznih cijena primarnih i industrijskih proizvoda (1953 = 10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24000" y="126828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______________________________________________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marni       Industrijski      Odn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izvodi      proizvodi         cije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AutoNum type="arabicPlain" startAt="195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0               100                   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AutoNum type="arabicPlain" startAt="195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4                 98                1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AutoNum type="arabicPlain" startAt="195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9                 99                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AutoNum type="arabicPlain" startAt="195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0               103                  9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AutoNum type="arabicPlain" startAt="195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2               106                  9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AutoNum type="arabicPlain" startAt="195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6               106                  9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AutoNum type="arabicPlain" startAt="195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4               106                  8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AutoNum type="arabicPlain" startAt="195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4               109                  8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AutoNum type="arabicPlain" startAt="195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2               110                  8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39640" y="6308640"/>
            <a:ext cx="7777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41040" y="404640"/>
            <a:ext cx="819468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stavak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4000" y="1268280"/>
            <a:ext cx="842472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962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             95                      111                      86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963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             98                      112                      87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964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            98                      114                      86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965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            99                      118                      8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966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           96                      119                      8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967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           96                      118                      8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968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            98                      122                      8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969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          103                      130                      79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970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        109                      138                      79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971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          124                      149                      8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972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           179                      173                    10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00000" y="333000"/>
            <a:ext cx="78631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stavak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0728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Arial"/>
              <a:buAutoNum type="arabicPlain" startAt="197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79                 173                      10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Arial"/>
              <a:buAutoNum type="arabicPlain" startAt="197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280                  187                      15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Arial"/>
              <a:buAutoNum type="arabicPlain" startAt="197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311                  237                      13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Arial"/>
              <a:buAutoNum type="arabicPlain" startAt="197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330                  237                      139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Arial"/>
              <a:buAutoNum type="arabicPlain" startAt="197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387                  258                      15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Arial"/>
              <a:buAutoNum type="arabicPlain" startAt="197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370                  296                      12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Arial"/>
              <a:buAutoNum type="arabicPlain" startAt="197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479                  339                      14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Arial"/>
              <a:buAutoNum type="arabicPlain" startAt="197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700                  374                      187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Arial"/>
              <a:buAutoNum type="arabicPlain" startAt="197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731                  355                      206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Arial"/>
              <a:buAutoNum type="arabicPlain" startAt="197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690                  344                      201            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2560" y="475920"/>
            <a:ext cx="808056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stavak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39640" y="1484280"/>
            <a:ext cx="8064720" cy="36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--------------------------------------------------------------------------------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50"/>
              </a:spcBef>
              <a:buClr>
                <a:srgbClr val="00007d"/>
              </a:buClr>
              <a:buSzPct val="75000"/>
              <a:buFont typeface="Arial"/>
              <a:buAutoNum type="arabicPlain" startAt="198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637                      333                      19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50"/>
              </a:spcBef>
              <a:buClr>
                <a:srgbClr val="00007d"/>
              </a:buClr>
              <a:buSzPct val="75000"/>
              <a:buFont typeface="Arial"/>
              <a:buAutoNum type="arabicPlain" startAt="198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630                      325                      19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50"/>
              </a:spcBef>
              <a:buClr>
                <a:srgbClr val="00007d"/>
              </a:buClr>
              <a:buSzPct val="75000"/>
              <a:buFont typeface="Arial"/>
              <a:buAutoNum type="arabicPlain" startAt="198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595                      325                      18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50"/>
              </a:spcBef>
              <a:buClr>
                <a:srgbClr val="00007d"/>
              </a:buClr>
              <a:buSzPct val="75000"/>
              <a:buFont typeface="Arial"/>
              <a:buAutoNum type="arabicPlain" startAt="198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441                      378                      117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50"/>
              </a:spcBef>
              <a:buClr>
                <a:srgbClr val="00007d"/>
              </a:buClr>
              <a:buSzPct val="75000"/>
              <a:buFont typeface="Arial"/>
              <a:buAutoNum type="arabicPlain" startAt="198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462                      419                      11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_________________________________________________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Izvor: UN, Monthly Bulletin of Statistics, New York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Efekti pogoršavanja uvjeta trgovin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404640"/>
            <a:ext cx="9144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fekt dohotka i efekt supstitucije kao rezultat promjene (pogoršanja) uvjeta trgov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838080" y="1676520"/>
            <a:ext cx="0" cy="4495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838080" y="61722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70520" y="1413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310880" y="6165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-2895480" y="3429000"/>
            <a:ext cx="7467120" cy="5486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327560" y="5222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252680" y="507060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356000" y="5013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786200" y="56800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061080" y="170028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997080" y="2349360"/>
            <a:ext cx="27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6600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752480" y="1371600"/>
            <a:ext cx="4648320" cy="3276720"/>
          </a:xfrm>
          <a:prstGeom prst="line">
            <a:avLst/>
          </a:prstGeom>
          <a:ln cap="rnd" w="38160">
            <a:solidFill>
              <a:srgbClr val="ff99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59720" y="5375160"/>
            <a:ext cx="57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*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276720" y="3789360"/>
            <a:ext cx="71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*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819520" y="1447920"/>
            <a:ext cx="1866960" cy="4591080"/>
          </a:xfrm>
          <a:custGeom>
            <a:avLst/>
            <a:gdLst/>
            <a:ahLst/>
            <a:rect l="l" t="t" r="r" b="b"/>
            <a:pathLst>
              <a:path w="1176" h="2892">
                <a:moveTo>
                  <a:pt x="0" y="0"/>
                </a:moveTo>
                <a:lnTo>
                  <a:pt x="1176" y="2892"/>
                </a:lnTo>
              </a:path>
            </a:pathLst>
          </a:custGeom>
          <a:noFill/>
          <a:ln w="28440">
            <a:solidFill>
              <a:srgbClr val="00007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H="1" flipV="1" rot="21183000">
            <a:off x="2030400" y="813240"/>
            <a:ext cx="2199600" cy="2949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278160" y="228600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583080" y="21337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516040" y="335268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19920" y="3068640"/>
            <a:ext cx="6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*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258920" y="2637000"/>
            <a:ext cx="4648320" cy="327636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838080" y="1752120"/>
            <a:ext cx="312444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348000" y="4149720"/>
            <a:ext cx="71640" cy="71280"/>
          </a:xfrm>
          <a:prstGeom prst="flowChartConnector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205080" y="3284640"/>
            <a:ext cx="27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6600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 flipV="1" rot="21339600">
            <a:off x="2932200" y="-168480"/>
            <a:ext cx="2197080" cy="294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710" y="55"/>
                </a:moveTo>
                <a:arcTo wR="10800" hR="10800" stAng="-5747614" swAng="5702457"/>
                <a:lnTo>
                  <a:pt x="10800" y="10800"/>
                </a:lnTo>
                <a:close/>
              </a:path>
              <a:path fill="none" w="21600" h="21600">
                <a:moveTo>
                  <a:pt x="9710" y="55"/>
                </a:moveTo>
                <a:arcTo wR="10800" hR="10800" stAng="-5747614" swAng="5702457"/>
              </a:path>
            </a:pathLst>
          </a:cu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987640" y="1844640"/>
            <a:ext cx="71640" cy="71640"/>
          </a:xfrm>
          <a:prstGeom prst="flowChartConnector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5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000"/>
                            </p:stCondLst>
                            <p:childTnLst>
                              <p:par>
                                <p:cTn id="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500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000"/>
                            </p:stCondLst>
                            <p:childTnLst>
                              <p:par>
                                <p:cTn id="9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fekti pogoršavanja uvjeta trgov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340000" y="2276640"/>
            <a:ext cx="5400720" cy="2952720"/>
          </a:xfrm>
          <a:prstGeom prst="line">
            <a:avLst/>
          </a:prstGeom>
          <a:ln cap="rnd" w="38160">
            <a:solidFill>
              <a:srgbClr val="ff99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219320" y="175248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219320" y="5867280"/>
            <a:ext cx="632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829080" y="16286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238160" y="58053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-3123720" y="3505320"/>
            <a:ext cx="8686080" cy="4723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627280" y="1628640"/>
            <a:ext cx="3313080" cy="4176720"/>
          </a:xfrm>
          <a:prstGeom prst="line">
            <a:avLst/>
          </a:prstGeom>
          <a:ln w="381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581800" y="5373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349800" y="22766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516720" y="5373720"/>
            <a:ext cx="576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H="1" flipV="1">
            <a:off x="3058560" y="-603720"/>
            <a:ext cx="6138360" cy="4321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09" y="0"/>
                </a:moveTo>
                <a:arcTo wR="10800" hR="10800" stAng="-5428965" swAng="5428965"/>
                <a:lnTo>
                  <a:pt x="10800" y="10800"/>
                </a:lnTo>
                <a:close/>
              </a:path>
              <a:path fill="none" w="21600" h="21600">
                <a:moveTo>
                  <a:pt x="10709" y="0"/>
                </a:moveTo>
                <a:arcTo wR="10800" hR="10800" stAng="-5428965" swAng="5428965"/>
              </a:path>
            </a:pathLst>
          </a:cu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419640" y="3573360"/>
            <a:ext cx="3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501000" y="3357720"/>
            <a:ext cx="47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619280" y="2708280"/>
            <a:ext cx="5473800" cy="295272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H="1" flipV="1">
            <a:off x="2268000" y="-80280"/>
            <a:ext cx="6400080" cy="4571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861440" y="47973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547640" y="2997360"/>
            <a:ext cx="5040360" cy="266364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H="1" flipV="1">
            <a:off x="2339640" y="-369000"/>
            <a:ext cx="6400080" cy="4571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134160" y="386064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C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995640" y="4076640"/>
            <a:ext cx="506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192560" y="396252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427640" y="907920"/>
            <a:ext cx="4392360" cy="214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r-HR" sz="2000" spc="-1" strike="noStrike">
                <a:solidFill>
                  <a:srgbClr val="000000"/>
                </a:solidFill>
                <a:latin typeface="Times New Roman"/>
              </a:rPr>
              <a:t>je pogoršanje uvjeta razmje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0" lang="hr-HR" sz="2000" spc="-1" strike="noStrike">
                <a:solidFill>
                  <a:srgbClr val="000000"/>
                </a:solidFill>
                <a:latin typeface="Times New Roman"/>
              </a:rPr>
              <a:t>je promjena proizvodn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hr-HR" sz="2000" spc="-1" strike="noStrike">
                <a:solidFill>
                  <a:srgbClr val="000000"/>
                </a:solidFill>
                <a:latin typeface="Times New Roman"/>
              </a:rPr>
              <a:t>je efekt supstituci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hr-HR" sz="2000" spc="-1" strike="noStrike">
                <a:solidFill>
                  <a:srgbClr val="000000"/>
                </a:solidFill>
                <a:latin typeface="Times New Roman"/>
              </a:rPr>
              <a:t>je efekt dohotka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r-HR" sz="2000" spc="-1" strike="noStrike">
                <a:solidFill>
                  <a:srgbClr val="000000"/>
                </a:solidFill>
                <a:latin typeface="Times New Roman"/>
              </a:rPr>
              <a:t>je ukupno smanjenje potrošn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070160" y="2852640"/>
            <a:ext cx="42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 flipV="1">
            <a:off x="4427280" y="4508280"/>
            <a:ext cx="431640" cy="43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635280" y="2637000"/>
            <a:ext cx="50328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3851280" y="3284640"/>
            <a:ext cx="21600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948360" y="5229360"/>
            <a:ext cx="576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524720" y="5013360"/>
            <a:ext cx="576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500"/>
                            </p:stCondLst>
                            <p:childTnLst>
                              <p:par>
                                <p:cTn id="12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1000"/>
                            </p:stCondLst>
                            <p:childTnLst>
                              <p:par>
                                <p:cTn id="15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500"/>
                            </p:stCondLst>
                            <p:childTnLst>
                              <p:par>
                                <p:cTn id="15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8T19:21:32Z</dcterms:created>
  <dc:creator>Mato Grgić</dc:creator>
  <dc:description/>
  <dc:language>en-US</dc:language>
  <cp:lastModifiedBy>Mato Grgić</cp:lastModifiedBy>
  <dcterms:modified xsi:type="dcterms:W3CDTF">2004-11-28T21:25:39Z</dcterms:modified>
  <cp:revision>4</cp:revision>
  <dc:subject/>
  <dc:title>UVJETI TRGOVINE</dc:title>
</cp:coreProperties>
</file>