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FC0BD-CD2D-408B-8084-201F88871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2FC8E-F510-43CE-B2A4-1295D3843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8E59B-E6E6-4F75-9D9F-0E2F47243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9D7E2-47D0-4B5E-91F3-8004E8C57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BA537-333E-47AA-9E6B-5C45D7F75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A6DB2-3D7A-404D-A0DF-CBB9EE1A3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E51C3-F6D7-43BD-A002-770115CB4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3046C-9CD3-4FAF-AD0A-BBAD67132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E25D6-CDEB-4ACB-9BA3-5A758FB9D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0E803-C5DE-4D8E-BC3E-5F1A793FB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8AD2A-2249-4C2B-8E1E-6641730D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5036A-129B-4451-B5DE-F91698378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4E6DE-5300-49DE-A258-78F35194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20925-2448-4AC0-AFA3-411E703A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7ACE7-97F6-43F3-9279-500451C30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2A516-BC0A-4D3D-A518-860C44A8F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FD534-BBB0-46F5-A40B-28092208B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C15A6-6481-4819-B774-4C7415D67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59074-723D-4B16-9AC1-A36942E71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4BA07-7C7D-49D1-BB21-78F89CBED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A5504-16FF-4DD8-A0EF-2B40DED8B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8FF3A-EAEC-4303-9D50-445D773B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FB49F-172A-4E61-84F3-178B6E2F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ECCAE-7807-4CFA-BAB3-74B0F969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A9FF2-6FAF-4963-9922-D889F190DC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A8764-D687-41A7-A890-1DE46C7889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268360" y="1773360"/>
            <a:ext cx="687564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oškovi i koristi od zaštitne politike za male  zeml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692360" y="2349360"/>
            <a:ext cx="577800" cy="5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kvivalentni efekti carine: subvencije proizvođačima i porez na potrošn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133720" y="152388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133720" y="5257800"/>
            <a:ext cx="471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133720" y="1828800"/>
            <a:ext cx="4647960" cy="2438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2133720" y="1752120"/>
            <a:ext cx="4419360" cy="2514600"/>
          </a:xfrm>
          <a:prstGeom prst="line">
            <a:avLst/>
          </a:prstGeom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124080" y="3733920"/>
            <a:ext cx="2667240" cy="152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729840" y="1413000"/>
            <a:ext cx="24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(domaća ponu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517800" y="3860640"/>
            <a:ext cx="263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(domaća potražn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371600" y="3505320"/>
            <a:ext cx="534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970000" y="5334120"/>
            <a:ext cx="3145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33520" y="5734080"/>
            <a:ext cx="66546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 +  t  =  domaća cijena nakon carinjenja – mala zeml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133720" y="32767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065600" y="3048120"/>
            <a:ext cx="894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+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659400" y="5334120"/>
            <a:ext cx="462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725720" y="5334120"/>
            <a:ext cx="477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133720" y="3733920"/>
            <a:ext cx="135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3123360" y="3276720"/>
            <a:ext cx="762120" cy="457200"/>
          </a:xfrm>
          <a:prstGeom prst="rtTriangl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58344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876920" y="3276720"/>
            <a:ext cx="914400" cy="457200"/>
          </a:xfrm>
          <a:prstGeom prst="rtTriangl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95504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26400" y="2209680"/>
            <a:ext cx="83916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ml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 rot="16357800">
            <a:off x="341640" y="2781360"/>
            <a:ext cx="533520" cy="457200"/>
          </a:xfrm>
          <a:custGeom>
            <a:avLst/>
            <a:gdLst>
              <a:gd name="textAreaLeft" fmla="*/ 360 w 533520"/>
              <a:gd name="textAreaRight" fmla="*/ 534240 w 533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886200" y="3276720"/>
            <a:ext cx="990720" cy="45720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886200" y="3276720"/>
            <a:ext cx="0" cy="198108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876920" y="3276720"/>
            <a:ext cx="0" cy="198108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55780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1280" y="2421000"/>
            <a:ext cx="4287960" cy="2222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2340000" y="2060280"/>
            <a:ext cx="4419720" cy="2514600"/>
          </a:xfrm>
          <a:prstGeom prst="line">
            <a:avLst/>
          </a:prstGeom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508720" y="2349360"/>
            <a:ext cx="215640" cy="287640"/>
          </a:xfrm>
          <a:prstGeom prst="line">
            <a:avLst/>
          </a:prstGeom>
          <a:ln cap="sq" w="38160">
            <a:solidFill>
              <a:srgbClr val="6666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6227640" y="4076640"/>
            <a:ext cx="144720" cy="289080"/>
          </a:xfrm>
          <a:prstGeom prst="line">
            <a:avLst/>
          </a:prstGeom>
          <a:ln cap="sq" w="38160">
            <a:solidFill>
              <a:srgbClr val="ffcc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446520" y="2349360"/>
            <a:ext cx="1825920" cy="698760"/>
          </a:xfrm>
          <a:prstGeom prst="rect">
            <a:avLst/>
          </a:prstGeom>
          <a:noFill/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vencij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izvođač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807960" y="4365720"/>
            <a:ext cx="1271160" cy="698760"/>
          </a:xfrm>
          <a:prstGeom prst="rect">
            <a:avLst/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ez 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rošn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8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ijena prije uvođenja carine (mala zemlja)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33720" y="152388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5257800"/>
            <a:ext cx="471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33720" y="1828800"/>
            <a:ext cx="4647960" cy="2438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133720" y="1752120"/>
            <a:ext cx="4419360" cy="2514600"/>
          </a:xfrm>
          <a:prstGeom prst="line">
            <a:avLst/>
          </a:prstGeom>
          <a:ln w="38160">
            <a:solidFill>
              <a:srgbClr val="1be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3733920"/>
            <a:ext cx="2667240" cy="152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33720" y="3733920"/>
            <a:ext cx="135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296400" y="1916280"/>
            <a:ext cx="24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(domaća ponu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22240" y="4365720"/>
            <a:ext cx="263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(domaća potražn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47920" y="3505320"/>
            <a:ext cx="534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4880" y="5334120"/>
            <a:ext cx="2976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19560" y="5791320"/>
            <a:ext cx="305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– svjetska cijena ro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09680" y="1916280"/>
            <a:ext cx="3299040" cy="1728720"/>
          </a:xfrm>
          <a:prstGeom prst="rtTriangl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2195640" y="3716280"/>
            <a:ext cx="863640" cy="504720"/>
          </a:xfrm>
          <a:prstGeom prst="rtTriangle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20226000">
            <a:off x="1523880" y="396216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6880" y="414972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izvođač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š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2717640"/>
            <a:ext cx="15537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trošač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š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09680" y="3048120"/>
            <a:ext cx="2133720" cy="0"/>
          </a:xfrm>
          <a:prstGeom prst="line">
            <a:avLst/>
          </a:prstGeom>
          <a:ln w="12600">
            <a:solidFill>
              <a:srgbClr val="02100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200400" y="2971440"/>
            <a:ext cx="1219320" cy="685800"/>
          </a:xfrm>
          <a:prstGeom prst="line">
            <a:avLst/>
          </a:prstGeom>
          <a:ln w="12600">
            <a:solidFill>
              <a:srgbClr val="0210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748720" cy="107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ijena, ponuda i potražnja nakon uvođenja carine (mala zemlja)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33720" y="152388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33720" y="5257800"/>
            <a:ext cx="471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33720" y="1828800"/>
            <a:ext cx="4647960" cy="2438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133720" y="1752120"/>
            <a:ext cx="4419360" cy="2514600"/>
          </a:xfrm>
          <a:prstGeom prst="line">
            <a:avLst/>
          </a:prstGeom>
          <a:ln w="38160">
            <a:solidFill>
              <a:srgbClr val="1be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24080" y="3733920"/>
            <a:ext cx="2667240" cy="152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33720" y="3733920"/>
            <a:ext cx="135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648200">
            <a:off x="4788000" y="3212640"/>
            <a:ext cx="3124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aća potrošnja p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9775400">
            <a:off x="2057400" y="2590560"/>
            <a:ext cx="3529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aća ponuda ra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47920" y="3505320"/>
            <a:ext cx="534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70000" y="5334120"/>
            <a:ext cx="3145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515960" y="5791320"/>
            <a:ext cx="4637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– svjetska cijena ro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 +  t  =  domaća cijena nakon car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86200" y="3276720"/>
            <a:ext cx="990720" cy="198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33720" y="32767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65600" y="3048120"/>
            <a:ext cx="894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+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659400" y="5334120"/>
            <a:ext cx="462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5720" y="5334120"/>
            <a:ext cx="477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15000" y="3581280"/>
            <a:ext cx="228600" cy="228600"/>
          </a:xfrm>
          <a:prstGeom prst="ellipse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733920" y="3124080"/>
            <a:ext cx="228600" cy="228600"/>
          </a:xfrm>
          <a:prstGeom prst="ellipse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3124080"/>
            <a:ext cx="228600" cy="228600"/>
          </a:xfrm>
          <a:prstGeom prst="ellipse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3581280"/>
            <a:ext cx="228600" cy="228600"/>
          </a:xfrm>
          <a:prstGeom prst="ellipse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5105160" y="3200040"/>
            <a:ext cx="6094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048120" y="3200040"/>
            <a:ext cx="6094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16200000">
            <a:off x="-170280" y="347508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badi MT Condensed Light"/>
              </a:rPr>
              <a:t>Cijena ra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152388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3720" y="5257800"/>
            <a:ext cx="471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33720" y="1828800"/>
            <a:ext cx="4724280" cy="2438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2133720" y="1752120"/>
            <a:ext cx="4419360" cy="2514600"/>
          </a:xfrm>
          <a:prstGeom prst="line">
            <a:avLst/>
          </a:prstGeom>
          <a:ln w="38160">
            <a:solidFill>
              <a:srgbClr val="1be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24080" y="3733920"/>
            <a:ext cx="2667240" cy="152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133720" y="3733920"/>
            <a:ext cx="135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368040" y="1916280"/>
            <a:ext cx="24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(domaća ponu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50960" y="4292640"/>
            <a:ext cx="263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(domaća potražn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447920" y="3505320"/>
            <a:ext cx="534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70000" y="5334120"/>
            <a:ext cx="3145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15960" y="5791320"/>
            <a:ext cx="4637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– svjetska cijena ro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 +  t  =  domaća cijena nakon car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86200" y="3276720"/>
            <a:ext cx="990720" cy="198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33720" y="32767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65600" y="3048120"/>
            <a:ext cx="894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+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209680" y="1981080"/>
            <a:ext cx="2438640" cy="1219320"/>
          </a:xfrm>
          <a:prstGeom prst="rtTriangl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trošač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š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2209680" y="3351960"/>
            <a:ext cx="1447920" cy="838440"/>
          </a:xfrm>
          <a:prstGeom prst="rtTriangle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20449200">
            <a:off x="1523880" y="396216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4000" y="400536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Proizvođačev viš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352680" y="3351960"/>
            <a:ext cx="2133720" cy="304920"/>
          </a:xfrm>
          <a:custGeom>
            <a:avLst/>
            <a:gdLst>
              <a:gd name="textAreaLeft" fmla="*/ 469080 w 2133720"/>
              <a:gd name="textAreaRight" fmla="*/ 1664640 w 213372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659400" y="5334120"/>
            <a:ext cx="462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5720" y="5410080"/>
            <a:ext cx="477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trošačev i proizvođačev višak nakon carine (mala zemlja)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86200" y="3352680"/>
            <a:ext cx="990720" cy="30492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352680" y="3352680"/>
            <a:ext cx="533520" cy="304920"/>
          </a:xfrm>
          <a:prstGeom prst="rtTriangle">
            <a:avLst/>
          </a:prstGeom>
          <a:solidFill>
            <a:srgbClr val="1be52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276000" y="3352680"/>
            <a:ext cx="609480" cy="304920"/>
          </a:xfrm>
          <a:prstGeom prst="rtTriangl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Arial"/>
              </a:rPr>
              <a:t>Prihod države nakon carine (mala zemlja)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33720" y="152388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33720" y="5257800"/>
            <a:ext cx="471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133720" y="1828800"/>
            <a:ext cx="4724280" cy="2438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133720" y="1752120"/>
            <a:ext cx="4419360" cy="2514600"/>
          </a:xfrm>
          <a:prstGeom prst="line">
            <a:avLst/>
          </a:prstGeom>
          <a:ln w="38160">
            <a:solidFill>
              <a:srgbClr val="1be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3733920"/>
            <a:ext cx="2667240" cy="152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3733920"/>
            <a:ext cx="135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72800" y="1905120"/>
            <a:ext cx="24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(domaća ponu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22240" y="4292640"/>
            <a:ext cx="263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(domaća potražn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447920" y="3505320"/>
            <a:ext cx="534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970000" y="5334120"/>
            <a:ext cx="3145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15960" y="5791320"/>
            <a:ext cx="4637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– svjetska cijena ro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 +  t  =  domaća cijena nakon car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86200" y="3276720"/>
            <a:ext cx="990720" cy="198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33720" y="32767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65600" y="3048120"/>
            <a:ext cx="894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+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209680" y="1981080"/>
            <a:ext cx="2438640" cy="1219320"/>
          </a:xfrm>
          <a:prstGeom prst="rtTriangl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209680" y="3351960"/>
            <a:ext cx="1447920" cy="838440"/>
          </a:xfrm>
          <a:prstGeom prst="rtTriangle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523880" y="396252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71628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izvođačev viš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352680" y="3351960"/>
            <a:ext cx="2133720" cy="304920"/>
          </a:xfrm>
          <a:custGeom>
            <a:avLst/>
            <a:gdLst>
              <a:gd name="textAreaLeft" fmla="*/ 469080 w 2133720"/>
              <a:gd name="textAreaRight" fmla="*/ 1664640 w 213372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859280" y="3357720"/>
            <a:ext cx="1143000" cy="152280"/>
          </a:xfrm>
          <a:prstGeom prst="leftArrow">
            <a:avLst>
              <a:gd name="adj1" fmla="val 50000"/>
              <a:gd name="adj2" fmla="val 187648"/>
            </a:avLst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167240" y="3141720"/>
            <a:ext cx="165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hod drža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 car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86200" y="3352680"/>
            <a:ext cx="990720" cy="30492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659400" y="5334120"/>
            <a:ext cx="462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717800" y="5373720"/>
            <a:ext cx="477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56360" y="3213000"/>
            <a:ext cx="990720" cy="30492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3276000" y="3352680"/>
            <a:ext cx="609480" cy="304920"/>
          </a:xfrm>
          <a:prstGeom prst="rtTriangl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268720" y="2565360"/>
            <a:ext cx="1553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trošač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š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ubitak efikasnosti (mala zemlja)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33720" y="152388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133720" y="5257800"/>
            <a:ext cx="471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133720" y="1828800"/>
            <a:ext cx="4724280" cy="2438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2133720" y="1752120"/>
            <a:ext cx="4419360" cy="2514600"/>
          </a:xfrm>
          <a:prstGeom prst="line">
            <a:avLst/>
          </a:prstGeom>
          <a:ln w="38160">
            <a:solidFill>
              <a:srgbClr val="1be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24080" y="3733920"/>
            <a:ext cx="2667240" cy="152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133720" y="3733920"/>
            <a:ext cx="135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2800" y="1905120"/>
            <a:ext cx="24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(domaća ponu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17800" y="4149720"/>
            <a:ext cx="263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(domaća potražn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3505320"/>
            <a:ext cx="534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970000" y="5334120"/>
            <a:ext cx="3145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515960" y="5791320"/>
            <a:ext cx="4637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– svjetska cijena ro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 +  t  =  domaća cijena nakon car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86200" y="3276720"/>
            <a:ext cx="990720" cy="198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33720" y="32767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065600" y="3048120"/>
            <a:ext cx="894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+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95640" y="1989000"/>
            <a:ext cx="2452680" cy="1219320"/>
          </a:xfrm>
          <a:prstGeom prst="rtTriangl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trošač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š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209680" y="3351960"/>
            <a:ext cx="1447920" cy="838440"/>
          </a:xfrm>
          <a:prstGeom prst="rtTriangle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523880" y="396252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377028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izvođač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š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3352680" y="3351960"/>
            <a:ext cx="2133720" cy="304920"/>
          </a:xfrm>
          <a:custGeom>
            <a:avLst/>
            <a:gdLst>
              <a:gd name="textAreaLeft" fmla="*/ 469080 w 2133720"/>
              <a:gd name="textAreaRight" fmla="*/ 1664640 w 213372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1be52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733920" y="3429000"/>
            <a:ext cx="1143000" cy="152280"/>
          </a:xfrm>
          <a:prstGeom prst="leftArrow">
            <a:avLst>
              <a:gd name="adj1" fmla="val 50000"/>
              <a:gd name="adj2" fmla="val 187648"/>
            </a:avLst>
          </a:prstGeom>
          <a:solidFill>
            <a:srgbClr val="1be52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248520" y="3284640"/>
            <a:ext cx="258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Gubitak efikas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886200" y="3352680"/>
            <a:ext cx="990720" cy="30492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725720" y="5334120"/>
            <a:ext cx="477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659400" y="5334120"/>
            <a:ext cx="462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3352680" y="3352680"/>
            <a:ext cx="533520" cy="304920"/>
          </a:xfrm>
          <a:prstGeom prst="rtTriangl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876920" y="3352680"/>
            <a:ext cx="609480" cy="304920"/>
          </a:xfrm>
          <a:prstGeom prst="rtTriangl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86200" y="3429000"/>
            <a:ext cx="2133720" cy="152280"/>
          </a:xfrm>
          <a:prstGeom prst="leftArrow">
            <a:avLst>
              <a:gd name="adj1" fmla="val 50000"/>
              <a:gd name="adj2" fmla="val 35029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583080" y="33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Mrtvi teret gubitka (mala zemlja)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133720" y="152388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5257800"/>
            <a:ext cx="471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133720" y="1828800"/>
            <a:ext cx="4724280" cy="2438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2133720" y="1752120"/>
            <a:ext cx="4419360" cy="2514600"/>
          </a:xfrm>
          <a:prstGeom prst="line">
            <a:avLst/>
          </a:prstGeom>
          <a:ln w="38160">
            <a:solidFill>
              <a:srgbClr val="1be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124080" y="3733920"/>
            <a:ext cx="2667240" cy="152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3733920"/>
            <a:ext cx="135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472800" y="1905120"/>
            <a:ext cx="24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(domaća ponu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531840" y="4343400"/>
            <a:ext cx="263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(domaća potražn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447920" y="3505320"/>
            <a:ext cx="534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970000" y="5334120"/>
            <a:ext cx="3145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15960" y="5791320"/>
            <a:ext cx="4637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– svjetska cijena proizv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 +  t  =  domaća cijena nakon car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86200" y="3276720"/>
            <a:ext cx="990720" cy="198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133720" y="32767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065600" y="3048120"/>
            <a:ext cx="894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+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209680" y="1981080"/>
            <a:ext cx="2438640" cy="1219320"/>
          </a:xfrm>
          <a:prstGeom prst="rtTriangl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trošač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š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2209680" y="3351960"/>
            <a:ext cx="1447920" cy="838440"/>
          </a:xfrm>
          <a:prstGeom prst="rtTriangle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523880" y="396252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377028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izvođač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š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352680" y="3351960"/>
            <a:ext cx="2133720" cy="304920"/>
          </a:xfrm>
          <a:custGeom>
            <a:avLst/>
            <a:gdLst>
              <a:gd name="textAreaLeft" fmla="*/ 469080 w 2133720"/>
              <a:gd name="textAreaRight" fmla="*/ 1664640 w 213372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181480" y="3352680"/>
            <a:ext cx="1143000" cy="152640"/>
          </a:xfrm>
          <a:prstGeom prst="leftArrow">
            <a:avLst>
              <a:gd name="adj1" fmla="val 50000"/>
              <a:gd name="adj2" fmla="val 187205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480720" y="2819520"/>
            <a:ext cx="203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tvi teret gubit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z kompenz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86200" y="3352680"/>
            <a:ext cx="990720" cy="30492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725720" y="5334120"/>
            <a:ext cx="477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9400" y="5334120"/>
            <a:ext cx="462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3352680" y="3352680"/>
            <a:ext cx="533520" cy="304920"/>
          </a:xfrm>
          <a:prstGeom prst="rtTriangle">
            <a:avLst/>
          </a:prstGeom>
          <a:solidFill>
            <a:srgbClr val="1be52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878720" y="3352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021360" y="281952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6699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3276000" y="3352680"/>
            <a:ext cx="609480" cy="304920"/>
          </a:xfrm>
          <a:prstGeom prst="rtTriangl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71640" y="404280"/>
            <a:ext cx="7129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Utjecaji uvođenja car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8000" y="2243160"/>
            <a:ext cx="8280360" cy="35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omaći proizvođači postižu višu cijen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+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ržava ostvaruje prihode od carin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+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trošači plaćaju više cije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manjuje se potrošnja i potrošači imaju manji izb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-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rina u maloj zemlj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133720" y="152388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5257800"/>
            <a:ext cx="471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133720" y="1828800"/>
            <a:ext cx="4647960" cy="2438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2133720" y="1752120"/>
            <a:ext cx="4419360" cy="2514600"/>
          </a:xfrm>
          <a:prstGeom prst="line">
            <a:avLst/>
          </a:prstGeom>
          <a:ln w="38160">
            <a:solidFill>
              <a:srgbClr val="1be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124080" y="3733920"/>
            <a:ext cx="2667240" cy="152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007680" y="1268280"/>
            <a:ext cx="24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(domaća ponu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50960" y="4365720"/>
            <a:ext cx="263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(domaća potražn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371600" y="3505320"/>
            <a:ext cx="534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970000" y="5334120"/>
            <a:ext cx="3145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1280" y="5734080"/>
            <a:ext cx="665460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 +  t  =  domaća cijena nakon carinjenja – mala zeml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33720" y="32767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065600" y="3048120"/>
            <a:ext cx="894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+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659400" y="5334120"/>
            <a:ext cx="462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725720" y="5334120"/>
            <a:ext cx="477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133720" y="3733920"/>
            <a:ext cx="135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3123360" y="3276720"/>
            <a:ext cx="762120" cy="457200"/>
          </a:xfrm>
          <a:prstGeom prst="rtTriangl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58344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76920" y="3276720"/>
            <a:ext cx="914400" cy="457200"/>
          </a:xfrm>
          <a:prstGeom prst="rtTriangl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95504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26400" y="2209680"/>
            <a:ext cx="83916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ml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 rot="16357800">
            <a:off x="341640" y="2781360"/>
            <a:ext cx="533520" cy="457200"/>
          </a:xfrm>
          <a:custGeom>
            <a:avLst/>
            <a:gdLst>
              <a:gd name="textAreaLeft" fmla="*/ 360 w 533520"/>
              <a:gd name="textAreaRight" fmla="*/ 534240 w 533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886200" y="3276720"/>
            <a:ext cx="990720" cy="45720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3276720"/>
            <a:ext cx="0" cy="198108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876920" y="3276720"/>
            <a:ext cx="0" cy="198108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5780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8T18:24:20Z</dcterms:created>
  <dc:creator>Mato Grgić</dc:creator>
  <dc:description/>
  <dc:language>en-US</dc:language>
  <cp:lastModifiedBy>Mato Grgić</cp:lastModifiedBy>
  <dcterms:modified xsi:type="dcterms:W3CDTF">2004-11-28T21:27:28Z</dcterms:modified>
  <cp:revision>2</cp:revision>
  <dc:subject/>
  <dc:title>Slide 1</dc:title>
</cp:coreProperties>
</file>