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4A79-D414-4AD1-97FA-A5F85D4F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F199-FCC5-4DB9-A0D5-E4D50AC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FA4D-2D15-468D-88EC-8B06A7FA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2B2C-4A85-4E5B-A2BF-3111802C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ACBE-65E5-4E66-9610-FEE45446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0066-EB9B-455D-B762-ED702937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3A27-2738-4AED-8E7D-0A850128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D065-CEF0-431D-99F1-1F93BC2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C04-CFF4-46FD-B296-F633174D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4842-3224-4876-BB28-7CD4DB8F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E5C2-8332-480F-8488-DE84683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1A61-D31F-45A0-9D23-AA275944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5ECF-D2FA-4BFC-B275-147152C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9B7F-B697-48D1-966F-4178597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1B55-0B64-4618-93A8-019ECFB0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667C-B22B-4DE7-8FDD-F680ADFB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AC66-C8D6-4C20-B18A-F525BAF2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347E-2B1A-4CC3-AD5B-E6A6749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4607-A7B2-47EE-8D46-AEA7FA1F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497B-77B5-455A-A344-52B20B50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D673-38A9-4D90-8DCC-8AEC95E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EEEF-89DA-4A6E-8C1E-282ACBCD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7D3B-7164-422E-B034-4AE35722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F352-97EE-4250-A676-721E881F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B41A-F11F-425B-AB38-E04C79280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739C-15DE-40F9-A016-A9E589308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68360" y="1773360"/>
            <a:ext cx="68756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škovi i koristi od zaštitne politike za male  zem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7780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vivalentni efekti carine: subvencije proizvođačima i porez na potroš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29840" y="141300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17800" y="3860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5734080"/>
            <a:ext cx="665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2421000"/>
            <a:ext cx="4287960" cy="222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340000" y="2060280"/>
            <a:ext cx="4419720" cy="251460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08720" y="2349360"/>
            <a:ext cx="215640" cy="287640"/>
          </a:xfrm>
          <a:prstGeom prst="line">
            <a:avLst/>
          </a:prstGeom>
          <a:ln cap="sq" w="38160">
            <a:solidFill>
              <a:srgbClr val="66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4076640"/>
            <a:ext cx="144720" cy="2890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46520" y="2349360"/>
            <a:ext cx="1825920" cy="698760"/>
          </a:xfrm>
          <a:prstGeom prst="rect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izvođ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07960" y="4365720"/>
            <a:ext cx="1271160" cy="698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ez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roš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jena prije uvođenja carine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9640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224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4880" y="5334120"/>
            <a:ext cx="29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9560" y="5791320"/>
            <a:ext cx="305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1916280"/>
            <a:ext cx="3299040" cy="17287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95640" y="3716280"/>
            <a:ext cx="863640" cy="50472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2260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688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717640"/>
            <a:ext cx="1553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048120"/>
            <a:ext cx="2133720" cy="0"/>
          </a:xfrm>
          <a:prstGeom prst="line">
            <a:avLst/>
          </a:prstGeom>
          <a:ln w="12600">
            <a:solidFill>
              <a:srgbClr val="0210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00400" y="2971440"/>
            <a:ext cx="1219320" cy="685800"/>
          </a:xfrm>
          <a:prstGeom prst="line">
            <a:avLst/>
          </a:prstGeom>
          <a:ln w="12600">
            <a:solidFill>
              <a:srgbClr val="02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6804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096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4492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005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5720" y="541008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rošačev i proizvođačev višak nakon carine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Prihod države nakon carine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2224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3577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7240" y="314172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hod drž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c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17800" y="53737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3213000"/>
            <a:ext cx="990720" cy="3049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720" y="256536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bitak efikasnosti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7800" y="4149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1989000"/>
            <a:ext cx="245268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4290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32846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Gubitak efik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3352680"/>
            <a:ext cx="609480" cy="30492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3429000"/>
            <a:ext cx="2133720" cy="152280"/>
          </a:xfrm>
          <a:prstGeom prst="leftArrow">
            <a:avLst>
              <a:gd name="adj1" fmla="val 50000"/>
              <a:gd name="adj2" fmla="val 3502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3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rtvi teret gubitka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31840" y="434340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77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zvođ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3526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80720" y="28195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tvi teret gub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 kompen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7872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21360" y="2819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i uvođenja ca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2243160"/>
            <a:ext cx="82803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proizvođači postižu višu cij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ostvaruje prihode od car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i plaćaju više cij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se potrošnja i potrošači imaju manji iz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ina u maloj zem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5734080"/>
            <a:ext cx="6654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24:20Z</dcterms:created>
  <dc:creator>Mato Grgić</dc:creator>
  <dc:description/>
  <dc:language>en-US</dc:language>
  <cp:lastModifiedBy>Mato Grgić</cp:lastModifiedBy>
  <dcterms:modified xsi:type="dcterms:W3CDTF">2004-11-28T21:27:28Z</dcterms:modified>
  <cp:revision>2</cp:revision>
  <dc:subject/>
  <dc:title>Slide 1</dc:title>
</cp:coreProperties>
</file>