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C735D-EEC0-4B0F-A556-C28D4B641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98855-31DC-4030-814E-EA56B5DA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9D721-C86B-4038-98D4-F7A295E5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CB80D-5AF0-4C9E-8A0C-ED6F5E9DC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0DB8-52B7-45EF-94CC-89BE3B03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1597-8B40-44EC-8E49-14F033CD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A4C3-5958-46C9-A0AB-86DDB121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22A9-1F05-4A65-93F0-7E75C842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87A0-68EF-431C-A9D8-BA843E84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8B54-1D05-49A5-B561-1318C1DE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DB5B-A434-453C-9212-A22381AE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4FA4B-3742-4C6B-B861-E7194CD8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8A87-7AC7-4332-8D76-828981DA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BF21-6745-49F0-B33B-D88FCB08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4AD2-626B-4CA0-BB68-7FFFD4DF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300E-84D7-413E-A384-AD2C10F2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8BA6-E8CC-42D0-A6B5-1D1CDDC6F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B0AD2-F309-4813-8FBD-379450F2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144EF-9224-493E-9859-530896D7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B6134-52F4-4555-B680-B42BAA68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43641-42B0-4D3C-A87D-0DE06B6E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5EF3A-1142-4F48-A95D-CB94D499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1DC50-0192-4CB6-8453-548E596F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4981B-ADED-49AE-A40C-CBA9BD9E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343E-94FA-494C-99F7-AE5F9EFBCF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872B-3519-4B73-AE79-F714A8D3B9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16000" y="1988640"/>
            <a:ext cx="5903640" cy="20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600" spc="-1" strike="noStrike">
                <a:solidFill>
                  <a:srgbClr val="ffffff"/>
                </a:solidFill>
                <a:latin typeface="Arial"/>
              </a:rPr>
              <a:t>Ravnoteža u Heckscher-Ohlin modelu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748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zjednačavanje relativnih cijena faktora kao posljedica vanjske trgov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476360" y="1483920"/>
            <a:ext cx="0" cy="453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76360" y="6021360"/>
            <a:ext cx="640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331640" y="1700280"/>
            <a:ext cx="43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24360" y="1700280"/>
            <a:ext cx="0" cy="4465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332000" y="3213000"/>
            <a:ext cx="6192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24720" y="3213000"/>
            <a:ext cx="0" cy="302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476360" y="4436640"/>
            <a:ext cx="5183280" cy="158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659280" y="3213000"/>
            <a:ext cx="863640" cy="12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058920" y="1700280"/>
            <a:ext cx="2665080" cy="381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76360" y="1700280"/>
            <a:ext cx="4248000" cy="4321080"/>
          </a:xfrm>
          <a:custGeom>
            <a:avLst/>
            <a:gdLst/>
            <a:ahLst/>
            <a:rect l="l" t="t" r="r" b="b"/>
            <a:pathLst>
              <a:path w="2676" h="2722">
                <a:moveTo>
                  <a:pt x="2676" y="0"/>
                </a:moveTo>
                <a:cubicBezTo>
                  <a:pt x="2600" y="238"/>
                  <a:pt x="2525" y="477"/>
                  <a:pt x="2449" y="681"/>
                </a:cubicBezTo>
                <a:cubicBezTo>
                  <a:pt x="2373" y="885"/>
                  <a:pt x="2328" y="1044"/>
                  <a:pt x="2222" y="1225"/>
                </a:cubicBezTo>
                <a:cubicBezTo>
                  <a:pt x="2116" y="1406"/>
                  <a:pt x="1958" y="1610"/>
                  <a:pt x="1814" y="1769"/>
                </a:cubicBezTo>
                <a:cubicBezTo>
                  <a:pt x="1670" y="1928"/>
                  <a:pt x="1519" y="2057"/>
                  <a:pt x="1360" y="2178"/>
                </a:cubicBezTo>
                <a:cubicBezTo>
                  <a:pt x="1201" y="2299"/>
                  <a:pt x="982" y="2427"/>
                  <a:pt x="861" y="2495"/>
                </a:cubicBezTo>
                <a:cubicBezTo>
                  <a:pt x="740" y="2563"/>
                  <a:pt x="710" y="2563"/>
                  <a:pt x="635" y="2586"/>
                </a:cubicBezTo>
                <a:cubicBezTo>
                  <a:pt x="560" y="2609"/>
                  <a:pt x="468" y="2616"/>
                  <a:pt x="408" y="2631"/>
                </a:cubicBezTo>
                <a:cubicBezTo>
                  <a:pt x="348" y="2646"/>
                  <a:pt x="340" y="2662"/>
                  <a:pt x="272" y="2677"/>
                </a:cubicBezTo>
                <a:cubicBezTo>
                  <a:pt x="204" y="2692"/>
                  <a:pt x="45" y="2722"/>
                  <a:pt x="0" y="2722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76360" y="3213000"/>
            <a:ext cx="6048360" cy="2808360"/>
          </a:xfrm>
          <a:custGeom>
            <a:avLst/>
            <a:gdLst/>
            <a:ahLst/>
            <a:rect l="l" t="t" r="r" b="b"/>
            <a:pathLst>
              <a:path w="3810" h="1769">
                <a:moveTo>
                  <a:pt x="3810" y="0"/>
                </a:moveTo>
                <a:cubicBezTo>
                  <a:pt x="3757" y="121"/>
                  <a:pt x="3704" y="242"/>
                  <a:pt x="3628" y="363"/>
                </a:cubicBezTo>
                <a:cubicBezTo>
                  <a:pt x="3552" y="484"/>
                  <a:pt x="3469" y="628"/>
                  <a:pt x="3356" y="726"/>
                </a:cubicBezTo>
                <a:cubicBezTo>
                  <a:pt x="3243" y="824"/>
                  <a:pt x="3076" y="884"/>
                  <a:pt x="2948" y="952"/>
                </a:cubicBezTo>
                <a:cubicBezTo>
                  <a:pt x="2820" y="1020"/>
                  <a:pt x="2767" y="1066"/>
                  <a:pt x="2585" y="1134"/>
                </a:cubicBezTo>
                <a:cubicBezTo>
                  <a:pt x="2403" y="1202"/>
                  <a:pt x="2078" y="1293"/>
                  <a:pt x="1859" y="1361"/>
                </a:cubicBezTo>
                <a:cubicBezTo>
                  <a:pt x="1640" y="1429"/>
                  <a:pt x="1459" y="1489"/>
                  <a:pt x="1270" y="1542"/>
                </a:cubicBezTo>
                <a:cubicBezTo>
                  <a:pt x="1081" y="1595"/>
                  <a:pt x="899" y="1648"/>
                  <a:pt x="725" y="1678"/>
                </a:cubicBezTo>
                <a:cubicBezTo>
                  <a:pt x="551" y="1708"/>
                  <a:pt x="347" y="1709"/>
                  <a:pt x="226" y="1724"/>
                </a:cubicBezTo>
                <a:cubicBezTo>
                  <a:pt x="105" y="1739"/>
                  <a:pt x="30" y="1769"/>
                  <a:pt x="0" y="1769"/>
                </a:cubicBezTo>
              </a:path>
            </a:pathLst>
          </a:custGeom>
          <a:noFill/>
          <a:ln w="381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99160" y="436572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Q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27280" y="5157720"/>
            <a:ext cx="5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Q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19640" y="5013360"/>
            <a:ext cx="5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47800" y="4292640"/>
            <a:ext cx="45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5950080"/>
            <a:ext cx="23032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(roba X u obje zemlj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36880" y="2924280"/>
            <a:ext cx="171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0 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(Y u zemlji 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57120" y="1413000"/>
            <a:ext cx="21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0 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(roba Y u zemlji 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67920" y="616572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569520" y="371448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k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651640" y="4652640"/>
            <a:ext cx="1008000" cy="57636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276360" y="4653000"/>
            <a:ext cx="863640" cy="647640"/>
          </a:xfrm>
          <a:prstGeom prst="line">
            <a:avLst/>
          </a:prstGeom>
          <a:ln w="57240">
            <a:solidFill>
              <a:srgbClr val="ff99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508360" y="3213000"/>
            <a:ext cx="1942920" cy="1800360"/>
          </a:xfrm>
          <a:prstGeom prst="line">
            <a:avLst/>
          </a:prstGeom>
          <a:ln w="2844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476360" y="5013360"/>
            <a:ext cx="4032360" cy="1008000"/>
          </a:xfrm>
          <a:prstGeom prst="line">
            <a:avLst/>
          </a:prstGeom>
          <a:ln w="2844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476360" y="4436640"/>
            <a:ext cx="2951280" cy="1584360"/>
          </a:xfrm>
          <a:prstGeom prst="line">
            <a:avLst/>
          </a:prstGeom>
          <a:ln w="2844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427640" y="1700280"/>
            <a:ext cx="1296720" cy="2736720"/>
          </a:xfrm>
          <a:prstGeom prst="line">
            <a:avLst/>
          </a:prstGeom>
          <a:ln w="2844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27640" y="4292640"/>
            <a:ext cx="144360" cy="144360"/>
          </a:xfrm>
          <a:prstGeom prst="flowChartConnector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88000" y="4365720"/>
            <a:ext cx="144720" cy="144360"/>
          </a:xfrm>
          <a:prstGeom prst="flowChartConnector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5445000"/>
            <a:ext cx="144360" cy="144720"/>
          </a:xfrm>
          <a:prstGeom prst="flowChartConnector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08720" y="4941720"/>
            <a:ext cx="144360" cy="144720"/>
          </a:xfrm>
          <a:prstGeom prst="flowChartConnector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 flipV="1">
            <a:off x="2771640" y="549000"/>
            <a:ext cx="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71640" y="549360"/>
            <a:ext cx="259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292720" y="549360"/>
            <a:ext cx="7128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771640" y="3357720"/>
            <a:ext cx="432144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7093080" y="1916280"/>
            <a:ext cx="0" cy="144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1916280"/>
            <a:ext cx="432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843280" y="2565000"/>
            <a:ext cx="3889440" cy="792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732720" y="1915920"/>
            <a:ext cx="360360" cy="64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635280" y="549000"/>
            <a:ext cx="1728720" cy="266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93080" y="234936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012000" y="2204640"/>
            <a:ext cx="1224000" cy="863640"/>
          </a:xfrm>
          <a:prstGeom prst="line">
            <a:avLst/>
          </a:prstGeom>
          <a:ln w="1260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132000" y="2637000"/>
            <a:ext cx="1511280" cy="865080"/>
          </a:xfrm>
          <a:prstGeom prst="line">
            <a:avLst/>
          </a:prstGeom>
          <a:ln w="1260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3860640"/>
            <a:ext cx="0" cy="223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71640" y="6093000"/>
            <a:ext cx="324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87640" y="4005360"/>
            <a:ext cx="2376360" cy="18716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59280" y="3860640"/>
            <a:ext cx="1368360" cy="172908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92360" y="4797360"/>
            <a:ext cx="2016360" cy="86364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35280" y="32130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419280" y="3213000"/>
            <a:ext cx="215640" cy="1152720"/>
          </a:xfrm>
          <a:prstGeom prst="line">
            <a:avLst/>
          </a:prstGeom>
          <a:ln w="57240">
            <a:solidFill>
              <a:srgbClr val="ff99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708000" y="2781360"/>
            <a:ext cx="576360" cy="1871640"/>
          </a:xfrm>
          <a:prstGeom prst="line">
            <a:avLst/>
          </a:prstGeom>
          <a:ln w="57240">
            <a:solidFill>
              <a:srgbClr val="ff99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427280" y="2924280"/>
            <a:ext cx="1368360" cy="2233440"/>
          </a:xfrm>
          <a:prstGeom prst="line">
            <a:avLst/>
          </a:prstGeom>
          <a:ln w="57240">
            <a:solidFill>
              <a:srgbClr val="ff99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859280" y="2565360"/>
            <a:ext cx="1873440" cy="2879640"/>
          </a:xfrm>
          <a:prstGeom prst="line">
            <a:avLst/>
          </a:prstGeom>
          <a:ln w="57240">
            <a:solidFill>
              <a:srgbClr val="ff99ff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71640" y="1916280"/>
            <a:ext cx="4321440" cy="1512720"/>
          </a:xfrm>
          <a:custGeom>
            <a:avLst/>
            <a:gdLst/>
            <a:ahLst/>
            <a:rect l="l" t="t" r="r" b="b"/>
            <a:pathLst>
              <a:path w="2767" h="953">
                <a:moveTo>
                  <a:pt x="2767" y="0"/>
                </a:moveTo>
                <a:cubicBezTo>
                  <a:pt x="2755" y="95"/>
                  <a:pt x="2744" y="190"/>
                  <a:pt x="2676" y="273"/>
                </a:cubicBezTo>
                <a:cubicBezTo>
                  <a:pt x="2608" y="356"/>
                  <a:pt x="2486" y="439"/>
                  <a:pt x="2358" y="499"/>
                </a:cubicBezTo>
                <a:cubicBezTo>
                  <a:pt x="2230" y="559"/>
                  <a:pt x="2147" y="575"/>
                  <a:pt x="1905" y="635"/>
                </a:cubicBezTo>
                <a:cubicBezTo>
                  <a:pt x="1663" y="695"/>
                  <a:pt x="1224" y="809"/>
                  <a:pt x="907" y="862"/>
                </a:cubicBezTo>
                <a:cubicBezTo>
                  <a:pt x="590" y="915"/>
                  <a:pt x="144" y="930"/>
                  <a:pt x="0" y="953"/>
                </a:cubicBezTo>
              </a:path>
            </a:pathLst>
          </a:custGeom>
          <a:noFill/>
          <a:ln w="381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71640" y="549360"/>
            <a:ext cx="2592360" cy="2879640"/>
          </a:xfrm>
          <a:custGeom>
            <a:avLst/>
            <a:gdLst/>
            <a:ahLst/>
            <a:rect l="l" t="t" r="r" b="b"/>
            <a:pathLst>
              <a:path w="1633" h="1822">
                <a:moveTo>
                  <a:pt x="1633" y="0"/>
                </a:moveTo>
                <a:cubicBezTo>
                  <a:pt x="1587" y="140"/>
                  <a:pt x="1542" y="280"/>
                  <a:pt x="1497" y="408"/>
                </a:cubicBezTo>
                <a:cubicBezTo>
                  <a:pt x="1452" y="536"/>
                  <a:pt x="1429" y="635"/>
                  <a:pt x="1361" y="771"/>
                </a:cubicBezTo>
                <a:cubicBezTo>
                  <a:pt x="1293" y="907"/>
                  <a:pt x="1172" y="1111"/>
                  <a:pt x="1089" y="1224"/>
                </a:cubicBezTo>
                <a:cubicBezTo>
                  <a:pt x="1006" y="1337"/>
                  <a:pt x="975" y="1360"/>
                  <a:pt x="862" y="1451"/>
                </a:cubicBezTo>
                <a:cubicBezTo>
                  <a:pt x="749" y="1542"/>
                  <a:pt x="552" y="1716"/>
                  <a:pt x="408" y="1769"/>
                </a:cubicBezTo>
                <a:cubicBezTo>
                  <a:pt x="264" y="1822"/>
                  <a:pt x="132" y="1795"/>
                  <a:pt x="0" y="1769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20744400">
            <a:off x="3564000" y="3725640"/>
            <a:ext cx="1811160" cy="1790640"/>
          </a:xfrm>
          <a:custGeom>
            <a:avLst/>
            <a:gdLst/>
            <a:ahLst/>
            <a:rect l="l" t="t" r="r" b="b"/>
            <a:pathLst>
              <a:path w="1152" h="1152">
                <a:moveTo>
                  <a:pt x="1152" y="1152"/>
                </a:moveTo>
                <a:lnTo>
                  <a:pt x="1093" y="1151"/>
                </a:lnTo>
                <a:lnTo>
                  <a:pt x="1034" y="1146"/>
                </a:lnTo>
                <a:lnTo>
                  <a:pt x="977" y="1139"/>
                </a:lnTo>
                <a:lnTo>
                  <a:pt x="920" y="1129"/>
                </a:lnTo>
                <a:lnTo>
                  <a:pt x="864" y="1116"/>
                </a:lnTo>
                <a:lnTo>
                  <a:pt x="810" y="1100"/>
                </a:lnTo>
                <a:lnTo>
                  <a:pt x="756" y="1082"/>
                </a:lnTo>
                <a:lnTo>
                  <a:pt x="704" y="1062"/>
                </a:lnTo>
                <a:lnTo>
                  <a:pt x="653" y="1038"/>
                </a:lnTo>
                <a:lnTo>
                  <a:pt x="603" y="1013"/>
                </a:lnTo>
                <a:lnTo>
                  <a:pt x="555" y="985"/>
                </a:lnTo>
                <a:lnTo>
                  <a:pt x="508" y="955"/>
                </a:lnTo>
                <a:lnTo>
                  <a:pt x="463" y="923"/>
                </a:lnTo>
                <a:lnTo>
                  <a:pt x="419" y="889"/>
                </a:lnTo>
                <a:lnTo>
                  <a:pt x="378" y="853"/>
                </a:lnTo>
                <a:lnTo>
                  <a:pt x="338" y="815"/>
                </a:lnTo>
                <a:lnTo>
                  <a:pt x="299" y="775"/>
                </a:lnTo>
                <a:lnTo>
                  <a:pt x="263" y="733"/>
                </a:lnTo>
                <a:lnTo>
                  <a:pt x="229" y="689"/>
                </a:lnTo>
                <a:lnTo>
                  <a:pt x="197" y="644"/>
                </a:lnTo>
                <a:lnTo>
                  <a:pt x="167" y="597"/>
                </a:lnTo>
                <a:lnTo>
                  <a:pt x="139" y="549"/>
                </a:lnTo>
                <a:lnTo>
                  <a:pt x="114" y="499"/>
                </a:lnTo>
                <a:lnTo>
                  <a:pt x="91" y="448"/>
                </a:lnTo>
                <a:lnTo>
                  <a:pt x="70" y="396"/>
                </a:lnTo>
                <a:lnTo>
                  <a:pt x="52" y="343"/>
                </a:lnTo>
                <a:lnTo>
                  <a:pt x="36" y="288"/>
                </a:lnTo>
                <a:lnTo>
                  <a:pt x="24" y="232"/>
                </a:lnTo>
                <a:lnTo>
                  <a:pt x="13" y="175"/>
                </a:lnTo>
                <a:lnTo>
                  <a:pt x="6" y="118"/>
                </a:lnTo>
                <a:lnTo>
                  <a:pt x="2" y="59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20744400">
            <a:off x="3708000" y="3716280"/>
            <a:ext cx="1800360" cy="1657440"/>
          </a:xfrm>
          <a:custGeom>
            <a:avLst/>
            <a:gdLst/>
            <a:ahLst/>
            <a:rect l="l" t="t" r="r" b="b"/>
            <a:pathLst>
              <a:path w="1152" h="1152">
                <a:moveTo>
                  <a:pt x="1152" y="1152"/>
                </a:moveTo>
                <a:lnTo>
                  <a:pt x="1093" y="1151"/>
                </a:lnTo>
                <a:lnTo>
                  <a:pt x="1034" y="1146"/>
                </a:lnTo>
                <a:lnTo>
                  <a:pt x="977" y="1139"/>
                </a:lnTo>
                <a:lnTo>
                  <a:pt x="920" y="1129"/>
                </a:lnTo>
                <a:lnTo>
                  <a:pt x="864" y="1116"/>
                </a:lnTo>
                <a:lnTo>
                  <a:pt x="810" y="1100"/>
                </a:lnTo>
                <a:lnTo>
                  <a:pt x="756" y="1082"/>
                </a:lnTo>
                <a:lnTo>
                  <a:pt x="704" y="1062"/>
                </a:lnTo>
                <a:lnTo>
                  <a:pt x="653" y="1038"/>
                </a:lnTo>
                <a:lnTo>
                  <a:pt x="603" y="1013"/>
                </a:lnTo>
                <a:lnTo>
                  <a:pt x="555" y="985"/>
                </a:lnTo>
                <a:lnTo>
                  <a:pt x="508" y="955"/>
                </a:lnTo>
                <a:lnTo>
                  <a:pt x="463" y="923"/>
                </a:lnTo>
                <a:lnTo>
                  <a:pt x="419" y="889"/>
                </a:lnTo>
                <a:lnTo>
                  <a:pt x="378" y="853"/>
                </a:lnTo>
                <a:lnTo>
                  <a:pt x="338" y="815"/>
                </a:lnTo>
                <a:lnTo>
                  <a:pt x="299" y="775"/>
                </a:lnTo>
                <a:lnTo>
                  <a:pt x="263" y="733"/>
                </a:lnTo>
                <a:lnTo>
                  <a:pt x="229" y="689"/>
                </a:lnTo>
                <a:lnTo>
                  <a:pt x="197" y="644"/>
                </a:lnTo>
                <a:lnTo>
                  <a:pt x="167" y="597"/>
                </a:lnTo>
                <a:lnTo>
                  <a:pt x="139" y="549"/>
                </a:lnTo>
                <a:lnTo>
                  <a:pt x="114" y="499"/>
                </a:lnTo>
                <a:lnTo>
                  <a:pt x="91" y="448"/>
                </a:lnTo>
                <a:lnTo>
                  <a:pt x="70" y="396"/>
                </a:lnTo>
                <a:lnTo>
                  <a:pt x="52" y="343"/>
                </a:lnTo>
                <a:lnTo>
                  <a:pt x="36" y="288"/>
                </a:lnTo>
                <a:lnTo>
                  <a:pt x="24" y="232"/>
                </a:lnTo>
                <a:lnTo>
                  <a:pt x="13" y="175"/>
                </a:lnTo>
                <a:lnTo>
                  <a:pt x="6" y="118"/>
                </a:lnTo>
                <a:lnTo>
                  <a:pt x="2" y="59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61560" y="4941720"/>
            <a:ext cx="4187520" cy="2403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46" y="98"/>
                </a:moveTo>
                <a:arcTo wR="10800" hR="10800" stAng="-5864286" swAng="5646377"/>
                <a:lnTo>
                  <a:pt x="10800" y="10800"/>
                </a:lnTo>
                <a:close/>
              </a:path>
              <a:path fill="none" w="21600" h="21600">
                <a:moveTo>
                  <a:pt x="9346" y="98"/>
                </a:moveTo>
                <a:arcTo wR="10800" hR="10800" stAng="-5864286" swAng="5646377"/>
              </a:path>
            </a:pathLst>
          </a:custGeom>
          <a:noFill/>
          <a:ln cap="rnd"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6308640"/>
            <a:ext cx="896472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Grafička ilustracija Heckscher-Ohlin teor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10480" y="43657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26480" y="292428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73760" y="2421000"/>
            <a:ext cx="30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6120" y="4581360"/>
            <a:ext cx="30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0920" y="5157720"/>
            <a:ext cx="2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23640" y="2852640"/>
            <a:ext cx="2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920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95200" y="2565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78960" y="58993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05360" y="321300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0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032240" y="162864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0(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76240" y="33336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0(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88400" y="6093000"/>
            <a:ext cx="84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Roba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08000" y="3789360"/>
            <a:ext cx="90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Roba 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948560" y="60930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99"/>
                </a:solidFill>
                <a:latin typeface="Book Antiqu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00560" y="472428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99"/>
                </a:solidFill>
                <a:latin typeface="Book Antiqu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93840" y="609300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Book Antiqu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82560" y="407664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Book Antiqu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02120" y="1628640"/>
            <a:ext cx="10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99"/>
                </a:solidFill>
                <a:latin typeface="Book Antiqua"/>
              </a:rPr>
              <a:t>Zemlja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99760" y="33336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99"/>
                </a:solidFill>
                <a:latin typeface="Book Antiqua"/>
              </a:rPr>
              <a:t>Zemlja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6200000">
            <a:off x="2028960" y="1679040"/>
            <a:ext cx="8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ka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27640" y="3429000"/>
            <a:ext cx="490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r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80000" y="260280"/>
            <a:ext cx="490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r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6993720" y="2439360"/>
            <a:ext cx="8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ka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76400" y="5157720"/>
            <a:ext cx="33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99"/>
                </a:solidFill>
                <a:latin typeface="Book Antiqua"/>
              </a:rPr>
              <a:t>I</a:t>
            </a:r>
            <a:r>
              <a:rPr b="0" lang="en-US" sz="1200" spc="-1" strike="noStrike">
                <a:solidFill>
                  <a:srgbClr val="666699"/>
                </a:solidFill>
                <a:latin typeface="Book Antiqu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20760" y="4869000"/>
            <a:ext cx="33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19880" y="5516640"/>
            <a:ext cx="40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99"/>
                </a:solidFill>
                <a:latin typeface="Book Antiqua"/>
              </a:rPr>
              <a:t>p</a:t>
            </a:r>
            <a:r>
              <a:rPr b="0" lang="en-US" sz="1200" spc="-1" strike="noStrike">
                <a:solidFill>
                  <a:srgbClr val="666699"/>
                </a:solidFill>
                <a:latin typeface="Book Antiqu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82560" y="5516640"/>
            <a:ext cx="40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Book Antiqua"/>
              </a:rPr>
              <a:t>p</a:t>
            </a:r>
            <a:r>
              <a:rPr b="0" lang="en-US" sz="1200" spc="-1" strike="noStrike">
                <a:solidFill>
                  <a:srgbClr val="ff9900"/>
                </a:solidFill>
                <a:latin typeface="Book Antiqu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90920" y="5734080"/>
            <a:ext cx="38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0000"/>
                </a:solidFill>
                <a:latin typeface="Book Antiqua"/>
              </a:rPr>
              <a:t>p</a:t>
            </a:r>
            <a:r>
              <a:rPr b="0" lang="hr-HR" sz="1200" spc="-1" strike="noStrike">
                <a:solidFill>
                  <a:srgbClr val="ff0000"/>
                </a:solidFill>
                <a:latin typeface="Book Antiqu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771640" y="2708280"/>
            <a:ext cx="1513080" cy="720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284720" y="549000"/>
            <a:ext cx="1079280" cy="21589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771640" y="2852280"/>
            <a:ext cx="3095640" cy="576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795640" y="1916280"/>
            <a:ext cx="1297080" cy="1008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76280" y="458136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03240" y="3213000"/>
            <a:ext cx="129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99"/>
                </a:solidFill>
                <a:latin typeface="Book Antiqua"/>
              </a:rPr>
              <a:t>Zemlja A i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95640" y="4653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24360" y="2637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40360" y="249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92360" y="299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4149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11640" y="4941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16720" y="2349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43280" y="5229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64000" y="4437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771640" y="4184640"/>
            <a:ext cx="1368720" cy="1908360"/>
          </a:xfrm>
          <a:custGeom>
            <a:avLst/>
            <a:gdLst/>
            <a:ahLst/>
            <a:rect l="l" t="t" r="r" b="b"/>
            <a:pathLst>
              <a:path w="862" h="1202">
                <a:moveTo>
                  <a:pt x="0" y="23"/>
                </a:moveTo>
                <a:cubicBezTo>
                  <a:pt x="52" y="11"/>
                  <a:pt x="105" y="0"/>
                  <a:pt x="181" y="23"/>
                </a:cubicBezTo>
                <a:cubicBezTo>
                  <a:pt x="257" y="46"/>
                  <a:pt x="363" y="76"/>
                  <a:pt x="454" y="159"/>
                </a:cubicBezTo>
                <a:cubicBezTo>
                  <a:pt x="545" y="242"/>
                  <a:pt x="658" y="348"/>
                  <a:pt x="726" y="522"/>
                </a:cubicBezTo>
                <a:cubicBezTo>
                  <a:pt x="794" y="696"/>
                  <a:pt x="839" y="1096"/>
                  <a:pt x="862" y="1202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6000"/>
                            </p:stCondLst>
                            <p:childTnLst>
                              <p:par>
                                <p:cTn id="2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650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8T17:18:21Z</dcterms:created>
  <dc:creator>Mato Grgić</dc:creator>
  <dc:description/>
  <dc:language>en-US</dc:language>
  <cp:lastModifiedBy>Mato Grgić</cp:lastModifiedBy>
  <dcterms:modified xsi:type="dcterms:W3CDTF">2004-11-28T21:26:15Z</dcterms:modified>
  <cp:revision>2</cp:revision>
  <dc:subject/>
  <dc:title>Ravnoteža u Heckscher-Ohlin modelu</dc:title>
</cp:coreProperties>
</file>