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82F-F7F0-49F5-8EEE-61283FC0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FE4-6A53-42D3-ACBF-974A79E4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023-189B-44B0-A263-687CE5AC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3DE-E19E-47BE-9817-8BDCF591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728-5D29-4B68-A0B7-A973A8C8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EEE-7E48-419E-95E5-4A2B6C3F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85C-3659-41D7-991E-DFDE585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70E-7A3E-4D6B-AE13-053CE9D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BEC-D1DE-44F7-B414-4628D5CA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A3F-B2BB-44C9-A415-C7314D8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D8A-CB49-4512-968E-6D27090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816-0F67-4989-9F87-2D1692F2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292B-9189-441C-B2A6-36D77EBB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13420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izvoznog proizvoda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464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nepromijenjenu krivulju ponude zemlje B, takva promjena ponude zemlje A određuje novi niži odnos cijena px/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se uvjeti razmjene zemlje A pogoršavaju, a da se volumen međunarodne ekonomske razmjene (to znači i specijalizacije u proizvodnji) poveća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tim, protekcionizam se danas opravdava potrebom zaštite male zemlje od inozemne konkurencije dok ne postigne konkurentnos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aktivne zaštitne polit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ATIVNI KRITERIJ: što štititi, tj. koje proizvode ili sektore proizvodnje? Na što uvesti veću cari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I KRITERIJ: koliko visoku stopu zaštite uve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RUMENTALNI KRITERIJ: čime, tj. kojim instrumentima štititi? Izbor između: carina, izvoznih taksi i subvencija, necarinskih ograničenja, uvoznih kvota, izvoznih ograničenja, provizija i poreza na uvoznu robu, kontrole robe, administrativnih procedura, pristojbi za carinsko evidentiranje, porijekla robe i d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MENSKI KRITERIJ: kako dugo štititi ili mijenjati intenzitet zaštite? Da li u vremenu smanjivati ili povećavati zašt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balo bi koristiti FAZNI PRISTUP, a ne šok terapiju . Pomalo smanjivati zaštitu i najaviti njeno smanjivanje kako bi se određeni sektor mogao priviknut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JE ZBROJ ELASTIČNOSTI RECIPROČNE POTRAŽNJE OBIJU ZEMALJA VEĆI OD 1, TRŽIŠTE JE STABI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elastičnost potražnje za uvozom zemlje A pokazuje za koliko će se postotaka povećati njezina potražnja za uvozom dobra Y ako se relativna cijena tog uvoza smanji za 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arshall-Lernerov uvjet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1447920"/>
            <a:ext cx="7924680" cy="48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95640" y="2924280"/>
            <a:ext cx="6704640" cy="5333400"/>
            <a:chOff x="2195640" y="2924280"/>
            <a:chExt cx="6704640" cy="5333400"/>
          </a:xfrm>
        </p:grpSpPr>
        <p:sp>
          <p:nvSpPr>
            <p:cNvPr id="148" name=""/>
            <p:cNvSpPr/>
            <p:nvPr/>
          </p:nvSpPr>
          <p:spPr>
            <a:xfrm flipH="1">
              <a:off x="2195640" y="2924280"/>
              <a:ext cx="670464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43400" y="307656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-89640" y="1004040"/>
            <a:ext cx="4967640" cy="4502160"/>
            <a:chOff x="-89640" y="1004040"/>
            <a:chExt cx="4967640" cy="4502160"/>
          </a:xfrm>
        </p:grpSpPr>
        <p:sp>
          <p:nvSpPr>
            <p:cNvPr id="151" name=""/>
            <p:cNvSpPr/>
            <p:nvPr/>
          </p:nvSpPr>
          <p:spPr>
            <a:xfrm flipV="1">
              <a:off x="-89280" y="1003680"/>
              <a:ext cx="4570560" cy="450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14600" y="1773360"/>
              <a:ext cx="14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11480" y="1905120"/>
            <a:ext cx="4510080" cy="3660120"/>
            <a:chOff x="2211480" y="1905120"/>
            <a:chExt cx="4510080" cy="3660120"/>
          </a:xfrm>
        </p:grpSpPr>
        <p:sp>
          <p:nvSpPr>
            <p:cNvPr id="154" name=""/>
            <p:cNvSpPr/>
            <p:nvPr/>
          </p:nvSpPr>
          <p:spPr>
            <a:xfrm flipV="1">
              <a:off x="2211480" y="2211120"/>
              <a:ext cx="3043080" cy="33541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57800" y="1905120"/>
              <a:ext cx="14637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Ravnotežni odnos cijena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/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830240" y="2895480"/>
            <a:ext cx="2863440" cy="3050280"/>
            <a:chOff x="1830240" y="2895480"/>
            <a:chExt cx="2863440" cy="3050280"/>
          </a:xfrm>
        </p:grpSpPr>
        <p:sp>
          <p:nvSpPr>
            <p:cNvPr id="157" name=""/>
            <p:cNvSpPr/>
            <p:nvPr/>
          </p:nvSpPr>
          <p:spPr>
            <a:xfrm>
              <a:off x="4495680" y="31240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5200" y="5638680"/>
              <a:ext cx="34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09680" y="30481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30240" y="2895480"/>
              <a:ext cx="40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V="1">
            <a:off x="2195640" y="2708280"/>
            <a:ext cx="4105080" cy="79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40000" y="1916280"/>
            <a:ext cx="502920" cy="36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328464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58972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5661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 stabilnosti tržišta je da krivulja recipročne potražnje zemlje A siječe krivulju recipročne potražnje zemlje B odoz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je tangens kuta koji tangenta na krivulji potražnje A u točki E zatvara s apscisom veći od tangensa kuta koji tangenta na krivulji B zatvara s apscisom u istoj toč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M/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´M´/E M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404640"/>
            <a:ext cx="7924680" cy="591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54000" y="2939400"/>
            <a:ext cx="7323480" cy="6136200"/>
            <a:chOff x="1854000" y="2939400"/>
            <a:chExt cx="7323480" cy="6136200"/>
          </a:xfrm>
        </p:grpSpPr>
        <p:sp>
          <p:nvSpPr>
            <p:cNvPr id="176" name=""/>
            <p:cNvSpPr/>
            <p:nvPr/>
          </p:nvSpPr>
          <p:spPr>
            <a:xfrm flipH="1" rot="434400">
              <a:off x="2162880" y="3340440"/>
              <a:ext cx="6704640" cy="533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434400">
              <a:off x="5505120" y="356544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-75960" y="1059480"/>
            <a:ext cx="4968720" cy="4502520"/>
            <a:chOff x="-75960" y="1059480"/>
            <a:chExt cx="4968720" cy="4502520"/>
          </a:xfrm>
        </p:grpSpPr>
        <p:sp>
          <p:nvSpPr>
            <p:cNvPr id="179" name=""/>
            <p:cNvSpPr/>
            <p:nvPr/>
          </p:nvSpPr>
          <p:spPr>
            <a:xfrm flipV="1">
              <a:off x="-75600" y="1058760"/>
              <a:ext cx="4571280" cy="450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1828800"/>
              <a:ext cx="146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69236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195640" y="1700280"/>
            <a:ext cx="2952720" cy="3889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4360" y="40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2060640"/>
            <a:ext cx="3889080" cy="3456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134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852640"/>
            <a:ext cx="3097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3716280"/>
            <a:ext cx="0" cy="18734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95640" y="3716280"/>
            <a:ext cx="5976720" cy="18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42900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49672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nemarimo li transportne troškove, ravnotežni odnos cijena je PX/ PY=1, a količine izvoza i uvoza određene su koordinatama točke CA1=CB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transportne troškove, cijena svakog dobra bit će u zemlji uvoza veća od cijene u zemlji izvoznici za visinu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pr. uz odnos cijena 5/4 zemlja B uvozi OG jedinica dobra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 da bi zemlja A izvozila OG dobra X, odnos cijena treba biti sveg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 toga slijedi da troškovi transporta jedinice dobra X iz zemlje A u zemlju B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673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ogno tome, sa stajališta izvoza Y, vidimo da bi uz odnos cijena 5/4 B bila voljna izvesti CBG dobra Y, dok bi zemlja A htjela uvesti CAG dobra Y uz odnos cijen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187280" y="1197000"/>
          <a:ext cx="665028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65028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35600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2997360"/>
            <a:ext cx="4248360" cy="2519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3716280"/>
            <a:ext cx="3549600" cy="188460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537400">
            <a:off x="2268000" y="2708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4653000"/>
            <a:ext cx="152280" cy="14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1413000"/>
            <a:ext cx="3672000" cy="42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038200">
            <a:off x="2771640" y="3429000"/>
            <a:ext cx="1513080" cy="863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54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93372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29264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328464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95800">
            <a:off x="2340000" y="1484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6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transportnih troškova na cijene i količine međ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140360" y="549360"/>
            <a:ext cx="0" cy="504036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5589720"/>
            <a:ext cx="806616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84360" y="3645000"/>
            <a:ext cx="1656000" cy="194472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140360" y="1989000"/>
            <a:ext cx="2736720" cy="309744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1402920" y="1844280"/>
            <a:ext cx="2737080" cy="374508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140360" y="1557000"/>
            <a:ext cx="2952720" cy="403236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40360" y="3500280"/>
            <a:ext cx="136836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4508640"/>
            <a:ext cx="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4581360"/>
            <a:ext cx="64764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4005360"/>
            <a:ext cx="302400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0328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587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0108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3213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0836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 rot="10800000">
            <a:off x="3995280" y="436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43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155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48360" y="1844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486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akoj je zemlji cijena određena ponudom i potražnjom u toj zemlji u situaciji autark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zemlji A je cijena dobra X niža nego u zemlji B- razlog za razmj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bi izvozila dobro x, a zemlja B ga uvozila, čime bi se cijena polako izjednačavala (padala u B i rasla u 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uvedemo transportne troškove, obje zemlje jednako podnose njihov teret jer je jednaka elastičnost ponude i potražnje u zeml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lučaju kad ne bi bile jednake, veći bi dio transportnih troškova padao na onu zemlju u kojoj su ponuda i potražnja neelastičnije (krivulje bi bile okomiti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357336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3573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047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7640" y="981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2205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3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1052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2708280"/>
            <a:ext cx="0" cy="6494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211280" y="6381720"/>
            <a:ext cx="576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189000"/>
            <a:ext cx="813600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ća ravnoteža s transportnim trošk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3357720"/>
            <a:ext cx="2880000" cy="25333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 transportnim troškovima odnos cijena u dvije zemlje se mora razlikovati. Zemlja A nudi platno za žito i transport, dok zemlja B nudi žito za platno i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116000" y="3789000"/>
            <a:ext cx="4392720" cy="2376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116000" y="1989000"/>
            <a:ext cx="259236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4653000"/>
            <a:ext cx="27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5440" y="609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780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10880" y="14842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1960" y="350028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450864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e u cijeni u dvije zemlje prije trgovine moraju biti veće od troškova prijevoza. Nakon trgovine cijena robe je viša u zemlji uvoza nego u zemlji izvoza za iznos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mogu biti razlog nastanka vanjske trgovine (lokalna trgovina ili malogranični prome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oba se npr. uvozi na sjeveru zemlje, a izvozi na jugu zemlje. Stoga se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to komparativna pred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emelji na bruto komparativnoj prednosti i nedostacima zbog troškova prijevo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18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voza nije proporcionalna težini, volumenu i vrijednosti robe. Vrijedna roba može imati proporcionalno više troškove u odnosu na tež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rifa ne zavisi samo od težine i vrijednosti robe nego i od vrste prijevoznih sredstava i udaljenosti. Ove razlike su prikazane na slijedećem grafiko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orija lok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446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a lokacije uzima u obzir troškove prijevoza i objašnjava faktore za smještaj određene industrije bilo da se radi o međunarodnoj ili međuregionalnoj trgov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ustrije koje proizvode robe mogu biti usmjerene na izvore inputa, na tržište ili mogu biti slobodne ako su troškovi prijevoza relativno m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tjecaj promjena svjetske cijene na domaća tržiš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4000" y="15573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133720" y="3715920"/>
            <a:ext cx="351792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124000" y="2997360"/>
            <a:ext cx="2160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03280" y="278136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124000" y="2133720"/>
            <a:ext cx="503280" cy="43164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195280" y="2421000"/>
            <a:ext cx="936360" cy="72072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40000" y="2708280"/>
            <a:ext cx="1295280" cy="1008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131640" y="2924280"/>
            <a:ext cx="1079640" cy="8650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140000" y="3213000"/>
            <a:ext cx="502920" cy="5032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003640" y="3500280"/>
            <a:ext cx="216000" cy="216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95640" y="3933720"/>
            <a:ext cx="431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3860640"/>
            <a:ext cx="647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407664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95640" y="400536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3789360"/>
            <a:ext cx="792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4149720"/>
            <a:ext cx="28908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55280" y="4005360"/>
            <a:ext cx="1584360" cy="431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508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116000" y="981000"/>
            <a:ext cx="1511280" cy="172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26028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roš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3141720"/>
            <a:ext cx="0" cy="503280"/>
          </a:xfrm>
          <a:prstGeom prst="line">
            <a:avLst/>
          </a:prstGeom>
          <a:ln cap="rnd"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6669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ukusa u zemlji A pokazuju promjene krivulja indiferencije od Z1, Z2,… na I1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indiferencije I,… nagnutije su prema osi X što znači da se sada intenzivnije želi izvozno dobro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e promjene ukusa zemlja A je proizvodila u točki FA, a trošila u CA uz px/p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promjene ukusa u korist X, povećana je njegova proizvodnja u zemlji A, ali još je više povećana potrošnja X-a u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otvaranja i vanjske trgovine, pod pretpostavkom da je svjetska cijena niža, dolazi do slijedećih efek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domaće pon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e domaće potroš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a potrošačeva viš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a proizvođačeva viš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z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je rast koji povećava nacionalne proizvodne mogućnosti više prema iz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teži da pogorša nacionalne uvjete trgovine u korist ostalih zemalja – mala zemlja preuzima svjetsku cijenu kakva jest, dok bi velika mogla na nju utjecati i imati neke kori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036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0000" y="1989000"/>
            <a:ext cx="15843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e ponuda, iz čega slijedi da pada cije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ima za posljedicu pogoršanje uvjet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bi značilo da krivulja recipročne potražnje ide udesno. Imamo manje koristi od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cimo zemlja koja izvozi X: nudi više izvozne robe X, ali joj pada cijena. Malo više dobiva Y-a, a dala je mnogo više X-a jer je cijena p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oršavaju se uvjeti razm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74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ili uvozno supstitutivni rast usmjeren je više prema u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ži da popravi nacionalne uvjete trgovine na teret ostatka svi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580000" y="1844640"/>
            <a:ext cx="17287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321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va se proizvodnja uvoznog dobra Y, a smanjuje X-a, te njegova ponuda p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im time X-u raste ci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poboljšava uvjet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iromašujući 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348000" y="404640"/>
            <a:ext cx="4248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Arial"/>
              </a:rPr>
              <a:t>Osiromašujući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404640"/>
            <a:ext cx="3240360" cy="5400720"/>
          </a:xfrm>
          <a:prstGeom prst="line">
            <a:avLst/>
          </a:prstGeom>
          <a:ln w="76320">
            <a:solidFill>
              <a:srgbClr val="e41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03280" y="2492280"/>
            <a:ext cx="6121440" cy="35290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47640" y="1413000"/>
            <a:ext cx="5832720" cy="352872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19280" y="1125360"/>
            <a:ext cx="1512720" cy="1081440"/>
          </a:xfrm>
          <a:custGeom>
            <a:avLst/>
            <a:gdLst/>
            <a:ahLst/>
            <a:rect l="l" t="t" r="r" b="b"/>
            <a:pathLst>
              <a:path w="1270" h="772">
                <a:moveTo>
                  <a:pt x="0" y="0"/>
                </a:moveTo>
                <a:cubicBezTo>
                  <a:pt x="98" y="162"/>
                  <a:pt x="197" y="325"/>
                  <a:pt x="409" y="454"/>
                </a:cubicBezTo>
                <a:cubicBezTo>
                  <a:pt x="621" y="583"/>
                  <a:pt x="1134" y="719"/>
                  <a:pt x="1270" y="772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123640" y="-125892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79640" y="162864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981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123640" y="119700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proizvodi sve više svega, a sve manje troš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većoj se mjeri pogoršali uvjeti trgovine nego što je rasla proizvod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nos cijena je postao nepovoljniji i zemlja je dosegla niž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ljučak: izvozno usmjereni rast može pogoršati uvjete trgovine toliko da smanji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fekti uvođenja car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88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 uvođenja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9640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224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4880" y="5334120"/>
            <a:ext cx="297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19560" y="5791320"/>
            <a:ext cx="305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09680" y="1916280"/>
            <a:ext cx="3299040" cy="17287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195640" y="3716280"/>
            <a:ext cx="863640" cy="50472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202260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6880" y="414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0" y="2717640"/>
            <a:ext cx="1553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3048120"/>
            <a:ext cx="2133720" cy="0"/>
          </a:xfrm>
          <a:prstGeom prst="line">
            <a:avLst/>
          </a:prstGeom>
          <a:ln w="12600">
            <a:solidFill>
              <a:srgbClr val="0210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200400" y="2971440"/>
            <a:ext cx="1219320" cy="685800"/>
          </a:xfrm>
          <a:prstGeom prst="line">
            <a:avLst/>
          </a:prstGeom>
          <a:ln w="12600">
            <a:solidFill>
              <a:srgbClr val="02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EV VIŠAK mjeri se područjem cijene koju potrošač plaća i one cijene koju je spreman plaćati (krivulja D). Prikazan je kao prostor ispod krivulje potražnje D i iznad tržišn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ĐAČEV VIŠAK mjeri se područjem između cijene koju proizvođač sada postiže i cijene po kojoj je spreman prodavati (krivulja 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6804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096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204492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4000" y="4005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00cc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25720" y="541008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trošačev i proizvođačev višak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9999"/>
                </a:solidFill>
                <a:latin typeface="Arial"/>
              </a:rPr>
              <a:t>Prihod države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2224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716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59280" y="335772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67240" y="314172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hod drž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 c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7800" y="53737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156360" y="321300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68720" y="256536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o da se krivulja recipročne potražnje zemlje A pomiče ulijevo, rotira u smjeru suprotnom od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i razmjene zemlje A se poboljšavaju te se povećavaju njen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, smanjuje se opseg međunarodne ekonomske razmjene, što znači i smanjenje specijalizacije u proizvodnji pa zemlja A može biti u boljem ili lošijem položaju nego pr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Gubitak efikasnosti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17800" y="4149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95640" y="1989000"/>
            <a:ext cx="245268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77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34290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328464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Gubitak efik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76920" y="3352680"/>
            <a:ext cx="609480" cy="30492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3429000"/>
            <a:ext cx="2133720" cy="152280"/>
          </a:xfrm>
          <a:prstGeom prst="leftArrow">
            <a:avLst>
              <a:gd name="adj1" fmla="val 50000"/>
              <a:gd name="adj2" fmla="val 35029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83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1280" y="290520"/>
            <a:ext cx="7772400" cy="781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cc33"/>
                </a:solidFill>
                <a:latin typeface="Arial"/>
              </a:rPr>
              <a:t>Mrtvi teret gubitka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31840" y="434340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77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33526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480720" y="28195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tvi teret gub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ez kompen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7872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21360" y="2819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944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i uvođenja ca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000" y="2243160"/>
            <a:ext cx="82803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maći proizvođači postižu višu cij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ostvaruje prihode od car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i plaćaju više cij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uje se potrošnja i potrošači imaju manji iz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Carina u maloj zem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5734080"/>
            <a:ext cx="6654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rohibitivni nivo c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4000" y="1989000"/>
            <a:ext cx="1812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hibitivni n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rot="16357800">
            <a:off x="861120" y="2458800"/>
            <a:ext cx="533160" cy="457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124000" y="2924280"/>
            <a:ext cx="2160720" cy="73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86200" y="2708280"/>
            <a:ext cx="96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87640" y="2492280"/>
            <a:ext cx="0" cy="432000"/>
          </a:xfrm>
          <a:prstGeom prst="line">
            <a:avLst/>
          </a:prstGeom>
          <a:ln cap="rnd"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kvivalentni efekti uvođenju ca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kvivalentni efekti carine: subvencije proizvođačima i porez na potroš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29840" y="141300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17800" y="3860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3520" y="5734080"/>
            <a:ext cx="6654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11280" y="2421000"/>
            <a:ext cx="4287960" cy="222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340000" y="2060280"/>
            <a:ext cx="441972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508720" y="2349360"/>
            <a:ext cx="215640" cy="28764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227640" y="4076640"/>
            <a:ext cx="144720" cy="2890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446520" y="2349360"/>
            <a:ext cx="1825920" cy="69876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bven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đ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07960" y="4365720"/>
            <a:ext cx="1271160" cy="698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ez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vivalentni efekti carini bi se postigli pomoću subvencije proizvođačima na teret proračuna i poreza na potrošnju u korist prorač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će pomaknuti krivulju ponude i potražnje i djelovati na povećanje proizvodnje te smanjenje potrošnje i u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e se ne povećavaju, a redistribucija ne ide od potrošača prema proizvođaču kao kod carine nego od potrošača prema proračunu i od proračuna prem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 carine na uvjete trgov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276720" y="234936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268360" y="141300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95640" y="98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3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3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3745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li je zemlja A u boljem ili gorem položaju nego prije, ne možemo znati jer su se promijenile mape krivulja indiferencije, a to čini usporedbu nemoguću – ne znamo je li dosegla višu ili nižu krivulju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carine u zemlji A njeni uvjeti razmjene su se poboljšali i ona je u boljem položaju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uvjeta razmjene znači povećanje njezina udjela u razdiobi koristi od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seg razmjene je manji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opsega međunarodne razmjene utječe na pogoršanje položaja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poboljšanje položaja zemlje A zbog povoljnijih uvjeta razmjene veće od pogoršanja položaja zbog smanjenja količine razmjene, zemlja A će biti u boljem polo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a bi zemlja A bila vrlo mala, uvjeti razmjene bi za nju bili dani pa bi rezultat uvođenja carine na uvoz dobra Y bilo samo smanjenj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vdje pretpostavljamo da to nije sluč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3141720"/>
            <a:ext cx="3529080" cy="230328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zemlja B uvela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3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3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340000" y="3284640"/>
            <a:ext cx="3600360" cy="216036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obje zemlje uvele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40000" y="1773360"/>
            <a:ext cx="1800360" cy="360036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53440" y="1341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284720" y="2205000"/>
            <a:ext cx="3585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2340000" y="1484280"/>
            <a:ext cx="259236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643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43280" y="256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24360" y="3357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3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3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3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3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116000" y="1700280"/>
            <a:ext cx="2700360" cy="4464000"/>
          </a:xfrm>
          <a:custGeom>
            <a:avLst/>
            <a:gdLst/>
            <a:ahLst/>
            <a:rect l="l" t="t" r="r" b="b"/>
            <a:pathLst>
              <a:path w="1837" h="2767">
                <a:moveTo>
                  <a:pt x="0" y="2767"/>
                </a:moveTo>
                <a:cubicBezTo>
                  <a:pt x="121" y="2729"/>
                  <a:pt x="242" y="2691"/>
                  <a:pt x="363" y="2631"/>
                </a:cubicBezTo>
                <a:cubicBezTo>
                  <a:pt x="484" y="2571"/>
                  <a:pt x="575" y="2525"/>
                  <a:pt x="726" y="2404"/>
                </a:cubicBezTo>
                <a:cubicBezTo>
                  <a:pt x="877" y="2283"/>
                  <a:pt x="1119" y="2071"/>
                  <a:pt x="1270" y="1905"/>
                </a:cubicBezTo>
                <a:cubicBezTo>
                  <a:pt x="1421" y="1739"/>
                  <a:pt x="1542" y="1595"/>
                  <a:pt x="1633" y="1406"/>
                </a:cubicBezTo>
                <a:cubicBezTo>
                  <a:pt x="1724" y="1217"/>
                  <a:pt x="1791" y="1005"/>
                  <a:pt x="1814" y="771"/>
                </a:cubicBezTo>
                <a:cubicBezTo>
                  <a:pt x="1837" y="537"/>
                  <a:pt x="1776" y="121"/>
                  <a:pt x="1769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16000" y="2133720"/>
            <a:ext cx="1811520" cy="4032000"/>
          </a:xfrm>
          <a:custGeom>
            <a:avLst/>
            <a:gdLst/>
            <a:ahLst/>
            <a:rect l="l" t="t" r="r" b="b"/>
            <a:pathLst>
              <a:path w="1187" h="2540">
                <a:moveTo>
                  <a:pt x="0" y="2540"/>
                </a:moveTo>
                <a:cubicBezTo>
                  <a:pt x="196" y="2419"/>
                  <a:pt x="393" y="2298"/>
                  <a:pt x="544" y="2177"/>
                </a:cubicBezTo>
                <a:cubicBezTo>
                  <a:pt x="695" y="2056"/>
                  <a:pt x="809" y="1958"/>
                  <a:pt x="907" y="1814"/>
                </a:cubicBezTo>
                <a:cubicBezTo>
                  <a:pt x="1005" y="1670"/>
                  <a:pt x="1089" y="1511"/>
                  <a:pt x="1134" y="1315"/>
                </a:cubicBezTo>
                <a:cubicBezTo>
                  <a:pt x="1179" y="1119"/>
                  <a:pt x="1187" y="854"/>
                  <a:pt x="1179" y="635"/>
                </a:cubicBezTo>
                <a:cubicBezTo>
                  <a:pt x="1171" y="416"/>
                  <a:pt x="1103" y="98"/>
                  <a:pt x="1088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16000" y="3213000"/>
            <a:ext cx="4824360" cy="2952720"/>
          </a:xfrm>
          <a:custGeom>
            <a:avLst/>
            <a:gdLst/>
            <a:ahLst/>
            <a:rect l="l" t="t" r="r" b="b"/>
            <a:pathLst>
              <a:path w="3039" h="1860">
                <a:moveTo>
                  <a:pt x="0" y="1860"/>
                </a:moveTo>
                <a:cubicBezTo>
                  <a:pt x="98" y="1644"/>
                  <a:pt x="196" y="1429"/>
                  <a:pt x="317" y="1270"/>
                </a:cubicBezTo>
                <a:cubicBezTo>
                  <a:pt x="438" y="1111"/>
                  <a:pt x="567" y="1028"/>
                  <a:pt x="726" y="907"/>
                </a:cubicBezTo>
                <a:cubicBezTo>
                  <a:pt x="885" y="786"/>
                  <a:pt x="1104" y="650"/>
                  <a:pt x="1270" y="544"/>
                </a:cubicBezTo>
                <a:cubicBezTo>
                  <a:pt x="1436" y="438"/>
                  <a:pt x="1542" y="348"/>
                  <a:pt x="1723" y="272"/>
                </a:cubicBezTo>
                <a:cubicBezTo>
                  <a:pt x="1904" y="196"/>
                  <a:pt x="2139" y="136"/>
                  <a:pt x="2358" y="91"/>
                </a:cubicBezTo>
                <a:cubicBezTo>
                  <a:pt x="2577" y="46"/>
                  <a:pt x="2888" y="8"/>
                  <a:pt x="3039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116000" y="4125960"/>
            <a:ext cx="4680000" cy="2039760"/>
          </a:xfrm>
          <a:custGeom>
            <a:avLst/>
            <a:gdLst/>
            <a:ahLst/>
            <a:rect l="l" t="t" r="r" b="b"/>
            <a:pathLst>
              <a:path w="2948" h="1285">
                <a:moveTo>
                  <a:pt x="0" y="1285"/>
                </a:moveTo>
                <a:cubicBezTo>
                  <a:pt x="158" y="1062"/>
                  <a:pt x="317" y="839"/>
                  <a:pt x="453" y="695"/>
                </a:cubicBezTo>
                <a:cubicBezTo>
                  <a:pt x="589" y="551"/>
                  <a:pt x="718" y="483"/>
                  <a:pt x="816" y="423"/>
                </a:cubicBezTo>
                <a:cubicBezTo>
                  <a:pt x="914" y="363"/>
                  <a:pt x="937" y="370"/>
                  <a:pt x="1043" y="332"/>
                </a:cubicBezTo>
                <a:cubicBezTo>
                  <a:pt x="1149" y="294"/>
                  <a:pt x="1285" y="234"/>
                  <a:pt x="1451" y="196"/>
                </a:cubicBezTo>
                <a:cubicBezTo>
                  <a:pt x="1617" y="158"/>
                  <a:pt x="1852" y="135"/>
                  <a:pt x="2041" y="105"/>
                </a:cubicBezTo>
                <a:cubicBezTo>
                  <a:pt x="2230" y="75"/>
                  <a:pt x="2434" y="30"/>
                  <a:pt x="2585" y="15"/>
                </a:cubicBezTo>
                <a:cubicBezTo>
                  <a:pt x="2736" y="0"/>
                  <a:pt x="2888" y="15"/>
                  <a:pt x="2948" y="15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16000" y="465300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700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05080" y="5950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28000" y="981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13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941440" y="4003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9416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557080" y="1557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6160" y="443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558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00000" y="2852640"/>
            <a:ext cx="0" cy="1368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987280" y="6381720"/>
            <a:ext cx="1584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9280" y="260280"/>
            <a:ext cx="849636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vođenje carine na uvoznu robu i represal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292720" y="4581360"/>
            <a:ext cx="352728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presalije dovod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anjenja opsega trgovine bez popravljanja uvjeta trgo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3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3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3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50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3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3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uvođenja carine u jednoj zemlji, ako partner odvrati odmazdom dolazi do konačnog rezultata smanjivanja opsega međunarodn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ko su oba partnera u lošijoj situaciji nego prije uvođenja c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A je stopa carinskog opterećenja koja maksimizira neto dobitak koji je posljedica poboljšanja uvjeta razmjene zemlje u odnosu na negativne učinke koji su posljedica smanjenja volumen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dakle donosi optimalne uvjete razmjene što znači maksimalno društveno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ijetu bez poremećaja i savršenoj konkurenciji, zemlja može imati koristi od uvođenja carine, ali ta korist mora proizići iz njezine sposobnosti da utječe na odnose razmjene (mora imati monopsonsku moć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uvjetima nesavršene elastičnosti inozemne potražnje optimalna carinska zaštita ovisi o elastičnosti inozemne potražnje i o obliku domaće krivulje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9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ska zaštita određuje se tako da se izabere skup carinskih stopa koji izjednačuje granični prihod, tj. granične uvjete razmjene s graničnim troškom, tj. graničnom stopom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989840" cy="316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uvoznog proizvoda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3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vnotežni je odnos cijena u T (odnos je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a zemlja A uvodi carinu koja će joj donijeti max. blagostanje, naravno, uz pretpostavku da zemlja B neće odgovoriti istom mjerom, da neće biti odmaz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carina koja zemlji A omogućava da dosegne najvišu krivulju indiferentnosti prema trgovini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ona krivulja IT koja je tangenta na krivulji recipročne potražnje zemlje 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timalna carina i elastičnost inozemn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32360" y="27082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08720" y="29242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759280" y="1484280"/>
            <a:ext cx="3384720" cy="3529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zavisi od elastičnosti inozemne ponude i potražnje “B”. Elastičnost u točki T’ je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U0/R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u točki T’ je: S0/0Q=1/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1)=1/(2-1)=1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M je 1/(∞−1)=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T je  1/(1−1)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3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3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3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000"/>
                            </p:stCondLst>
                            <p:childTnLst>
                              <p:par>
                                <p:cTn id="8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3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jere visine carinske zaštite u nekom gospodar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33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em nominalnih carinskih sto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PONDERIRANA PROSJEČNA CARINSKA STOPA – ne uzima u račun relativno značenje svake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DERIRANA PROSJEČNA CARINSKA STOPA – svaka carinska stopa ponderirana je udjelom pojedine robe u izvozu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HIBITIVNA CARINSKA STOPA – toliko visoka da sprečava uvoz robe u zem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FEKTIVNA STOPA ZAŠTITE – predstavlja u biti promjene u dodanoj vrijednosti pojedinog sektora zbog uspostavljene strukture zaštite intermedijarnih i finalnih dobara. Carina na input i carina output se uzima u obzir, pa vidimo koliko je proizvodnja u biti zaštić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minalna zaštita pokazuje efekte na potrošača, na proizvodnju ne znam – to pokazuje efektivna zašt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carinska ograničenja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 necarinska ograničenja vanjske trgovine mogu se svrstati u 3. grupe (3. tip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1. tipa – ona necarinska ograničenja kojima je svrha zaštititi domaću privredu od vanjske konkurencije, ograničiti uvoz ili ojačati domaću privredu u konkurenciji, s uvozom na domaćem tržištu ili u konkurenciji za izvozna tržišta. Grupiraju se dalje u MJERE PREMA UVOZU i MJERE PREMA IZVO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2. tipa – one mjere koje se odnose na probleme koji nisu direktno vezani uz trgovinu, ali se povremeno koriste za ograničavanj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3. tipa – one mjere ekonomske politike koje se primjenjuju isključivo iz razloga koji nisu direktno vezani uz trgovinu, ali koje neizbježno dovode do iskrivljavanja uvjeta međunarodne razmjene i zbog toga utječu na vanjsku trgov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1, T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usmjerene na uv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globalne uvozne kvote, selektivne uvozne kvote, dozvole diskretno restriktivne, dozvole liberalne, “dobrovoljna” ograničenja izvoza, embargo, državna trgovina, propisi o domaćem sadr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678000">
            <a:off x="2411280" y="2276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415800">
            <a:off x="2916000" y="3428640"/>
            <a:ext cx="1368360" cy="647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781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1408000">
            <a:off x="3059280" y="1413000"/>
            <a:ext cx="107928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4720" y="400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637000"/>
            <a:ext cx="4103640" cy="2952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1341360"/>
            <a:ext cx="2663640" cy="4175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 Mjere koje djeluju kroz troškove i cijene (in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varijabilni nameti i dodatne uvozne takse (prelevmani), zahtjevi za avansnim depozitom, antidampinška i kompenzatorna opterećenja (takse), direktne subvencije domaćim konkurentima uvoza, kreditna ograničenja uvoznicima, porezne olakšice i ostale indirektne subvencije domaćim proizvođačima koji konkuriraju uvozu, uključujući i kreditne koncesije, diskriminatorne tarife u unutarnjem transportu, međunarodni robni sporazu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usmjerene na iz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trgov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e kvote i dozv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002440" cy="547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rektne subvencije izvoznic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rektne subvencije izvoznicima uključujući i kreditne olakš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mping koji podržava drž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i nameti (tak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robni sporazumi i sporazumi o marketing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2. TI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enje pristupa medijima komunici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a ograničenja marketinga i propag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pisi o pakiranju i etiketiranju, zdravstveni, sanitarni i standardi o kvaliteti, sigurnosni i industrijski standardi i propisi, granične takse, uporabne takse, carinska procedura, konzularne formalnosti i sl., postupci carinske klasifikacije, postupci određivanja carinske osnovice, devizna ograničenja, državno poduzetništvo, financiranje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 i slične pomoći domaćim proizvođačima supstituta uvoza i izvoznim sektor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3. TIP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i monopol proizvodnje, prodaje i distribucije proizvo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strukturna politika i politika regionalnog razvoja koja utječe na trgovin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d hoc mjere ekonomske politike u vezi s bilancom plać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poreznim sustav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socijalnog osigu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amortizaci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njske koristi od vladinih programa nabavke za obranu, zrakoplovstvo ili nevojne svr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obujma uvjetovana državnim nabavk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nacionalnih standarda, propisa i prakse, tarife u vanjskom transportu i međudržavni transportni sporazu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učke pristoj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ličinska ograničenja vanjske trgovine - k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OTA – apsolutna granica do koje može ići vrijednost ili količina neke robe ili usluge u određenom vremenskom razdob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e i izvozne k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75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OBALNA ili NEDISKRIMINATORNA KVOTA – ako se kvotom ograničava ukupna trgovina neke robe ili usluge sa svij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je dosegnut limit određen kvotom, neovisno iz koje je zemlje roba uvezena, daljnja trgovina prest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a ukusa u zemlji A u korist uvoznog dobra Y odražava se na promjenu krivulja indiferencije koje su sada nagnutije prema dobru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emlja A je voljna ponuditi više dobra X za istu količinu dobra Y u međunarodnoj ekonomskoj razmj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bog toga njezina krivulja ponude u međunarodnoj razmjeni rotira u smjeru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LEKTIVNA ili DISKRIMINATORNA KVOTA – ako se kvota razlikuje prema zemljama podrijetla ili odredišta robe ili usl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ne granice se određuju bilateralnim sporazum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ebna vrsta –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voljno ograničenje izvoz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bilateralno dogovara zbog narušene ravnoteže u vanjskotrgovinskoj bilanci (japanski izvoz auta u SAD i E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KVOTA – stavlja limit na uvoz određene količine ili vrijednosti neke robe uz danu carinsku sto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đe li uvoz taj limit primjenjuje se druga, viša carinska sto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447560" y="350532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76360" y="3068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33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565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99708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211640" y="328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86072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44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80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4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137280" y="1432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372720" y="1844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4211640" y="2133360"/>
            <a:ext cx="2736720" cy="157788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89800" y="3789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zana zemlja B koja uvozi X iz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ši u točki B, uvoz j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kvote od AG, smanjuje se uvoz na AG, raste cijena u zemlji B, smanjuje se potrošnja sa PaDb na PD, raste domaća proizvodnja s PaA na PC, dolazi do preraspodjele realnog dohotka od potrošač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blagostanja za GDB (smanjenje potrošačeva probi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da može prodavati dozvole za uvoz do veličine kvote – pri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i, dijeliti dozvole uvoznicima koji onda profitiraju na razlici cijena dobra X i Y u zemljama A i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su izvoznici u zemlji A formirali kartel, a uvoznici u zemlji B međusobno konkuriraju, korist od uvođenja kvote imat će izvoznici u zemlji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340000" y="148428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40360" y="981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340000" y="3716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34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257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9764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9708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3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3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uvozi kvotu na uvoz Y-a od 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vulja recipročne potražnje zemlje A ima lom u točki E pa sada izgleda OE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jeti razmjene zemlje A su se uvođenjem kvote poboljšali (px/pY›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li time položaj zemlje A poboljšan, ne možemo reći dok ne znamo nalazi li se zemlja A nakon uvođenja kvote na višoj ili nižoj krivulji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rgumenti za zašt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1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rgumenti za zašti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zaposlenosti i smanjenja nezaposl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acionalne sigurnosti i o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mlade industr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epraved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ravljanje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trgovinsk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nezaposlenosti u specifičnoj indust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stranih izvoznih sub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dampinških cijena (anti-d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a u korist oskudnog faktor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itički i socij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sto fisk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0:35:06Z</dcterms:created>
  <dc:creator>Igor</dc:creator>
  <dc:description/>
  <dc:language>en-US</dc:language>
  <cp:lastModifiedBy>korisnik</cp:lastModifiedBy>
  <dcterms:modified xsi:type="dcterms:W3CDTF">2007-04-26T11:11:30Z</dcterms:modified>
  <cp:revision>33</cp:revision>
  <dc:subject/>
  <dc:title>TEORIJE VANJSKE TRGOVINE</dc:title>
</cp:coreProperties>
</file>