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2583-6ADD-4332-819D-78CB40C5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EA8C-B5E7-46B9-8888-6E1A4F2E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F3E8-9057-48CF-B4CC-0D9F5B45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C8CE-A0B7-4F59-908B-6754756F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1B0D-83A8-4259-9B50-174D2D16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4B70-BA09-4448-8EF7-5568195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ABC4-0487-48E5-B5BE-61D5D20B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4410-C45C-4DDB-ADF6-F57B17E8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AF0-1DAE-4E18-B3C5-FA86E6F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DF90-2D08-47D9-B5F7-A1FFE7B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781-082C-461F-837B-186713F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044B-BDAA-4E4B-B81D-20556C5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4B2-5864-4DBD-A340-C733F4A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E45A-645E-45D5-A158-809D497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030-3B35-4AD7-B595-7B87CFFE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E64C-3AFD-49C2-8CC1-3E6047BF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65CF-C031-48A9-9FF0-740256D4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593C-3ED0-42B8-9949-7CA7FE1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FD8A-1A2C-4D92-9427-C4BD113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844B-FCCA-4B87-8079-E27F9BF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627D-6801-4AA9-8C24-2357364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E639-918D-41D3-BF2F-472A83C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603F-10E1-4D68-A419-2D673A0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517C-20EB-40F1-9D5C-7CAF0E8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C21E-D7C0-4446-AAEE-1A8240CB4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A271-00DF-4CFA-8063-D2F21DEAD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PTIMALNA CARIN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09:01Z</dcterms:created>
  <dc:creator>Mato Grgić</dc:creator>
  <dc:description/>
  <dc:language>en-US</dc:language>
  <cp:lastModifiedBy>Mato Grgić</cp:lastModifiedBy>
  <dcterms:modified xsi:type="dcterms:W3CDTF">2004-11-28T21:28:12Z</dcterms:modified>
  <cp:revision>2</cp:revision>
  <dc:subject/>
  <dc:title>OPTIMALNA CARINA</dc:title>
</cp:coreProperties>
</file>