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85C-CAFC-4E65-8EAF-752DE504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B69-5151-4253-B290-E966B2DA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74C1-40D8-493E-8300-82E2A8F9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299-90B9-4E4F-8F1D-93A3D2F4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00B-6A72-492C-92BD-1F42E27C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22C-8AB3-4A2C-842F-7F89BE65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385-7A48-4F76-B40F-38409F37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EFC-2C9F-4E71-B93C-13D1F11D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184-D359-4EAF-8330-46FC1884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14F-C176-49C3-AA07-48FA2EE2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F2D-34C2-4830-BEA9-73BA8D0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9F2-6F8E-4C64-93E9-D665D4E3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8D83-F60B-40A1-B56B-2EEAED08A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1640" y="190188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00"/>
                </a:solidFill>
                <a:latin typeface="Times New Roman"/>
              </a:rPr>
              <a:t>NUSPOJAVE I INTERAKCIJE LIJEKO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407664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Zavod za kliničku farmakolog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Klinika za unutrašnje bolesti Re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08252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Što prijavit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v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uspojave (“kultura prijavljivanja nuspojava”), naročito novijih lijekova/medicinsk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voljna samo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umnj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sebno je važno i obvezno prijaviti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OZBILJNU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nuspojavu: koja je dovela do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mrti,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opasna po živo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bila razlogom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hospitalizacije i njenog produljenj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uzrok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rajne ili značajn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nesposobnosti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odnosno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oštećenja fetus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neočekivan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svaka do sada nepoznata nuspo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90720" y="1676520"/>
            <a:ext cx="7391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Nuspojave kao uzrok hitne hospital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2.9 – 8.4 % (&gt; 70 g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24 – 3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Nuspojave tijekom hospitaliza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1.6 – 20.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imes New Roman"/>
              </a:rPr>
              <a:t>Lazarou J i sur JAMA,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2860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Meta analiza 39 prospektivnih studija (1966-1996, SAD): učestalost ozbiljnih (“serious”) nuspojava i nuspojava sa smrtnim ishodom (“fatal ADR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2374920"/>
          <a:ext cx="6705720" cy="4254480"/>
        </p:xfrm>
        <a:graphic>
          <a:graphicData uri="http://schemas.openxmlformats.org/drawingml/2006/table">
            <a:tbl>
              <a:tblPr/>
              <a:tblGrid>
                <a:gridCol w="3353040"/>
                <a:gridCol w="33526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USPOJA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ČESTALOST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IJEKOM HOSPITALIZACIJE (ADR I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zbilj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mrtni ish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OSPITALIZACIJA ZBOG NUSPOJAVE (ADR Ad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zbiljn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mrtni ish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DR In + ADR 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zbilj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mrtni ish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1828800"/>
            <a:ext cx="7543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Sve (blage – ozbiljne) nuspojave tijekom hospitalizacije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10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76.2 % tip A  predvid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23.8 % ti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14479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- smrt zbog nuspojava na 6. mjestu uzroka smrti (nakon srčanih bolesti, neoplazma, mozdanog udara, plućnih bolesti i nesreć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30942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- ekonomske posljedice 1.56 – 4 milijarde dolara godišnje u S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267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- oko 22% nuspojava na hospitaliziranim bolesnicima posljedica interakcije lije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765000"/>
            <a:ext cx="882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KUTNA STANJA UZROKOV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UPOJAVAMA LIJE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ardiovaskular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kutni infarkt miokard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sumatriptan, nikotin, nifedipin, kokain, amfet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itmij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digitalis, antiaritmici grupe I, neki antibiotici, antihistaminici- produženje QT interv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kutna srčana insuficijencij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ciklofosfamid, ciklosporin, beta blokatori, opći anestetici, takrolimus, antagonisti kalcijskih kanala, NSAR, kortikosteroidi, antacidi koji sadrže Na, Na bikarbon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439560"/>
            <a:ext cx="882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strointestinal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rvarenje iz gornjeg dijela probavnog trakt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NSAR- u SAD svake godine u starijoj dobnoj skupini 41000 hospitalizacija, 3300 smrti povezano s primjenom NS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kutni hepatitis i akutno zatajenje jetr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izoniazid, Na valproat, halotan, fenitoin, sulfonamidi, amoksicilin +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lavulanska kiselina, propiltiouracil, amiodaron, dap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ljev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- pseudomembranozni kolitis (penicilini, makrolidi, cefalosporini, tetraciklini, kinoloni, sulfonami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8000" y="260280"/>
            <a:ext cx="903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ož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Steven-Johnsonov sindrom, toksična epidermalna nekroliza (sulfasalazin, karbamazepin, fenitoin, aminopenicilini, kotrimoksazol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piroksikam, alopurinol), reakcije preosjetljivosti, vaskulitis, serumska bolest, angioed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ubrež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manjenje renalne perfuzij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diuretici, NSAR, ACE inhibi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kutno tubularno oštećenj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aminoglikozidi, tetraciklini, karbamazep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kutni intersticijski nefriti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penicilin, rifampicin, tiaz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štećenje bazalne membrane glomerul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zlato, penicilamin, ACE inhibi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ematurij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ciklofosfamid: hemoragični cist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9440" y="30240"/>
            <a:ext cx="8926560" cy="67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eurološ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pi napa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direktno ekscitacijom neurona: anestetici- halotan, beta 2 agonisti, antidepresivi, antimalarici ili indirektno: hipoglikemici, selektivni inhibitori ponovne pohrane serotonina- hiponatre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kstapiramidni poremećaji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istoničke reakcij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antipsihotici, antiemetici, antidepresivi)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euroleptički maligni sind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KUTNA ANAFILAKSIJ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penicilin, NSAR, opijati, anestetici, kontrasna sredst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AŽNOST ANAMNEZ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sadašnja th, nedavna th, lijekovi u slobodnoj prodaji, biljni priprav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MNJA NA NUSPOJAVU - PREKID TERAPIJ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447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ORALNI KONTRACEPTI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666880"/>
            <a:ext cx="8610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razvoj cervikalnog karcinoma u žena s HPV (tip visokog rizi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3 x </a:t>
            </a:r>
            <a:r>
              <a:rPr b="0" lang="hr-HR" sz="3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 rizika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5 – 9 god. 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4 x </a:t>
            </a:r>
            <a:r>
              <a:rPr b="0" lang="hr-HR" sz="3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 rizika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 10 god. 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20606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NUSPOJAVA LIJEKA (adverse drug reaction) je svaka štetna neželjena reakcija na lijek primijenjen u pravoj indikaciji u terapijskoj do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763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GINGKO BILOBA - </a:t>
            </a:r>
            <a:r>
              <a:rPr b="0" lang="hr-HR" sz="3600" spc="-1" strike="noStrike">
                <a:solidFill>
                  <a:srgbClr val="ffff00"/>
                </a:solidFill>
                <a:latin typeface="Times New Roman"/>
              </a:rPr>
              <a:t>krvaren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00200" y="779400"/>
          <a:ext cx="6095880" cy="5468760"/>
        </p:xfrm>
        <a:graphic>
          <a:graphicData uri="http://schemas.openxmlformats.org/drawingml/2006/table">
            <a:tbl>
              <a:tblPr/>
              <a:tblGrid>
                <a:gridCol w="3825720"/>
                <a:gridCol w="2270160"/>
              </a:tblGrid>
              <a:tr h="55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j prijava SZ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erebraln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pistaks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I krvarenj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ematemez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ematurij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trakranijalno krvarenj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čn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tinaln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terina hemoragij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KUPN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533520" y="6338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 interakcija s ASK, varfari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16000" y="1547640"/>
            <a:ext cx="73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DA: u biljnim proizvodima </a:t>
            </a:r>
            <a:r>
              <a:rPr b="0" lang="hr-HR" sz="3200" spc="-1" strike="noStrike">
                <a:solidFill>
                  <a:srgbClr val="ffff00"/>
                </a:solidFill>
                <a:latin typeface="Arial Black"/>
              </a:rPr>
              <a:t>nađeni: 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gliburid, sildenafil, kolhicin, alprazolam, adrenalni steroidi, fenfluramin, varfarin, dietilstilbestrol, indometa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2200" y="62064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INTERAKCIJA – promjena učinka jednog lijeka (pojačanje ili smanjenje) ukoliko se prije ili istovremeno primjeni drugi lijek, biljni pripravak (npr. Gospina trava – induktor CYP3A), alkohol, hrana, organska otapala – induktori CYP2E1; pušenje cigar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364320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FARMAKOKINETS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FARMAKODINAMS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KOMBINI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4720" y="3357720"/>
            <a:ext cx="39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P-GLIKOPROTEIN (PG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CITOKROM 450 : CYP3A4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CYP2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CYP2D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3573360"/>
            <a:ext cx="6490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4149720"/>
            <a:ext cx="6490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724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često koristimo u terapiji (liječenje TBC, složenih infekcija, hipertenzije, bronhalne ast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že biti razlogom nuspojava ili smanjenog terapijskog djelovan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Farmakokinetske interakcij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ijekom apsorpcije, raspodjele, metabolizma i izlučivanja lijeka iz tije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26920" y="105264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apsorpcij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tvaranje kelata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pr.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resorpcija tetraciklina, uz istovremenu primjenu lijekova koji sadrže metalne ione (Ca, Mg, Al, 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pl-PL" sz="3200" spc="-1" strike="noStrike">
                <a:solidFill>
                  <a:srgbClr val="ffff00"/>
                </a:solidFill>
                <a:latin typeface="Times New Roman"/>
              </a:rPr>
              <a:t>ntacidi</a:t>
            </a: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 apsorpciju kinolona, glikozida digitalisa, beta-blokatora, a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 bioraspoloživost levod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 u="sng">
                <a:solidFill>
                  <a:srgbClr val="ffff00"/>
                </a:solidFill>
                <a:uFillTx/>
                <a:latin typeface="Times New Roman"/>
              </a:rPr>
              <a:t>metaboliz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00"/>
                </a:solidFill>
                <a:latin typeface="Times New Roman"/>
              </a:rPr>
              <a:t>induktori mikrosomalnih enzima jetre</a:t>
            </a: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 (barbiturati, karbamazepin, fenitoin, primidon, rifampicin, rifabutin, policiklički ugljikovodici u dimu cigarete, troglitazon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900" spc="-1" strike="noStrike">
                <a:solidFill>
                  <a:srgbClr val="ffff00"/>
                </a:solidFill>
                <a:latin typeface="Times New Roman"/>
              </a:rPr>
              <a:t>inhibitori mikrosomalnih enzima jetre</a:t>
            </a:r>
            <a:r>
              <a:rPr b="0" lang="pl-PL" sz="2900" spc="-1" strike="noStrike">
                <a:solidFill>
                  <a:srgbClr val="ffff00"/>
                </a:solidFill>
                <a:latin typeface="Times New Roman"/>
              </a:rPr>
              <a:t> (alopurinol, amiodaron, androgeni, cimetidin, ciprofloksacin, diltiazem, disulfiram, enoksacin, eritromicin, flukonazol, fluoksetin, fluvoksamin, sok od grejpa, izoniazid, itrakonazol, ketokonazol, kinidin, kloramfenikol, kotrimoksazol, metronidazol, meksiletin, mikonazol, omeprazol, paroksetin, ritonavir, sulfonamidi, verapamil, zafirlukast, zileuton</a:t>
            </a:r>
            <a:r>
              <a:rPr b="0" lang="pl-PL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aktivne komponente soka od grejpa (furanokumarini koje inhibiraju CYP3A4 i druge nepoznate koje inhibiraju p-glikoprotein)- </a:t>
            </a:r>
            <a:r>
              <a:rPr b="0" lang="pl-PL" sz="3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 koncentracije makrolidnih antibiotika, terfenadina, midazolama, triazolama, felodipina, nifedipina, nimodipina, nizoldipina, nitrendipina, etinilestradiola, ciklosporina i statina u seru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 u="sng">
                <a:solidFill>
                  <a:srgbClr val="ffff00"/>
                </a:solidFill>
                <a:uFillTx/>
                <a:latin typeface="Times New Roman"/>
              </a:rPr>
              <a:t>Farmakodinamske interakci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pl-PL" sz="3600" spc="-1" strike="noStrike" u="sng">
                <a:solidFill>
                  <a:srgbClr val="ffff00"/>
                </a:solidFill>
                <a:uFillTx/>
                <a:latin typeface="Times New Roman"/>
              </a:rPr>
              <a:t>kompetitivni antagonizam</a:t>
            </a:r>
            <a:r>
              <a:rPr b="0" lang="pl-PL" sz="3600" spc="-1" strike="noStrike">
                <a:solidFill>
                  <a:srgbClr val="ffff00"/>
                </a:solidFill>
                <a:latin typeface="Times New Roman"/>
              </a:rPr>
              <a:t> (na nivou receptora: atropin </a:t>
            </a:r>
            <a:r>
              <a:rPr b="0" lang="pl-PL" sz="36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pl-PL" sz="3600" spc="-1" strike="noStrike">
                <a:solidFill>
                  <a:srgbClr val="ffff00"/>
                </a:solidFill>
                <a:latin typeface="Times New Roman"/>
              </a:rPr>
              <a:t> učinke parasimpatikomimetika, nalokson opijata, betablokatori kateholamina, Vit. K oralnih antikoagulansa)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138400" y="0"/>
          <a:ext cx="486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0"/>
                    <a:ext cx="486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alni sinergizam i antagonizam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- različitim receptorima ili mehanizmima koji dovode do istog ili suprotnog učin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kardiotonici (tiazidi </a:t>
            </a:r>
            <a:r>
              <a:rPr b="0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kalij i </a:t>
            </a:r>
            <a:r>
              <a:rPr b="0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učestalost digitalisnih aritm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istovremena primjena diuretika koji štede kalij i ACE inhibitora može dovesti do ili pojačati hiperkalem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diuretici hipokalemijom </a:t>
            </a:r>
            <a:r>
              <a:rPr b="0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učinak antiarit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NSAR inhibicijom prostaglandina u bubregu </a:t>
            </a:r>
            <a:r>
              <a:rPr b="0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učinak antihipertenz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suzbijanjem simpatičke reakcije na hipoglikemiju neselektivni beta blokatori otežavaju kliničko prepoznavanje inzulinske hipoglikemij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Interakcija beta blokatora i verapamila može dovesti do kardijalnog aresta zbog sinergističkog djelovanja na inotropnost i dromotrop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amiodaron </a:t>
            </a:r>
            <a:r>
              <a:rPr b="0" lang="pl-PL" sz="3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 koncentraciju varfarina što može dovesti do opasnih krvarenja, a </a:t>
            </a:r>
            <a:r>
              <a:rPr b="0" lang="pl-PL" sz="3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 i koncentraciju digoksi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nergistički učin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 enterokoknog endokarditisa (penicilin+aminoglikoz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 infekcija uzrokovanih pseudomonasom (betalaktamski antibiotik +aminoglikoz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 teških infekcija uzrokovanih klebsijelom (cefalosporin+aminoglikoz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oksicilin+klavulanska kiselina, ampicilin+sulbaktam (inhibitori betalaktamaz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liječenj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V infek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liječenj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BC (sprečavanje selekcije rezistentnih soje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1937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Korištenje interak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ipenem+cilasta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ilastatin-selektivni inhibitor enzima dehidropeptidaze I koja otvara betalaktamski prsten imipenema te ga inaktiv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manjuje nefr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ksični učinak imipenema (sprečava akumulaciju u stanicama tub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dužen i potenciran antimikrobni učinak imipenema uz manje nuspo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akcija s oralnim antikoagulans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tikoagulantnog učin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efalosporini, eritromicin, izoniazid, kinoloni, kloramfenikol, metronidazol, tetraciklini, sulfonamidi, trimetorpim, kotrimoksaz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tikoagulantnog učin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alkoho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rifampi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većana nefrotoksič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fotericin B+aminoglikozi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inoglikozidi+cefalospo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etokonazol+ciklospo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metoprim+ciklospo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većan učinak digoks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fotericin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ritromi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tracikl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metopr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manjen učinak digoks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inoglikozi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fampi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lfonami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907920"/>
            <a:ext cx="79930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ffcc"/>
                </a:solidFill>
                <a:latin typeface="Verdana"/>
              </a:rPr>
              <a:t>    </a:t>
            </a:r>
            <a:r>
              <a:rPr b="1" lang="hr-HR" sz="1400" spc="-1" strike="noStrike">
                <a:solidFill>
                  <a:srgbClr val="66ffcc"/>
                </a:solidFill>
                <a:latin typeface="Verdana"/>
              </a:rPr>
              <a:t>WHO GENEVA</a:t>
            </a:r>
            <a:r>
              <a:rPr b="1" lang="hr-HR" sz="2200" spc="-1" strike="noStrike">
                <a:solidFill>
                  <a:srgbClr val="66ffcc"/>
                </a:solidFill>
                <a:latin typeface="Verdana"/>
              </a:rPr>
              <a:t>  </a:t>
            </a:r>
            <a:r>
              <a:rPr b="1" lang="hr-HR" sz="2200" spc="-1" strike="noStrike">
                <a:solidFill>
                  <a:srgbClr val="66ffcc"/>
                </a:solidFill>
                <a:latin typeface="Verdana"/>
              </a:rPr>
              <a:t>	</a:t>
            </a:r>
            <a:r>
              <a:rPr b="1" lang="hr-HR" sz="2200" spc="-1" strike="noStrike">
                <a:solidFill>
                  <a:srgbClr val="66ffcc"/>
                </a:solidFill>
                <a:latin typeface="Verdana"/>
              </a:rPr>
              <a:t> WHO UPPSALA</a:t>
            </a:r>
            <a:r>
              <a:rPr b="1" lang="hr-HR" sz="2200" spc="-1" strike="noStrike">
                <a:solidFill>
                  <a:srgbClr val="66ffcc"/>
                </a:solidFill>
                <a:latin typeface="Verdana"/>
              </a:rPr>
              <a:t>	</a:t>
            </a:r>
            <a:r>
              <a:rPr b="1" lang="hr-HR" sz="2200" spc="-1" strike="noStrike">
                <a:solidFill>
                  <a:srgbClr val="66ffcc"/>
                </a:solidFill>
                <a:latin typeface="Verdana"/>
              </a:rPr>
              <a:t>	</a:t>
            </a:r>
            <a:r>
              <a:rPr b="1" lang="hr-HR" sz="2200" spc="-1" strike="noStrike">
                <a:solidFill>
                  <a:srgbClr val="66ffcc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28526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ff"/>
                </a:solidFill>
                <a:latin typeface="Verdana"/>
              </a:rPr>
              <a:t>CROATIAN ADR NATIONAL CENTRE ZAGR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828800"/>
            <a:ext cx="25905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Stimulation of repor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Legislation (Croatian Drug Committ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Objective sources (Pharmaca, Drug Bullet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Teaching (UG, P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013360"/>
            <a:ext cx="554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cc99"/>
                </a:solidFill>
                <a:latin typeface="Verdana"/>
              </a:rPr>
              <a:t>REPORTING      Health Min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cc99"/>
                </a:solidFill>
                <a:latin typeface="Verdana"/>
              </a:rPr>
              <a:t>PHYSIC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486400" y="21337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3429000"/>
            <a:ext cx="110016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8098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819520" y="38098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60280"/>
            <a:ext cx="8515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00"/>
                </a:solidFill>
                <a:uFillTx/>
                <a:latin typeface="Verdana"/>
              </a:rPr>
              <a:t>WHO ADR MONITORING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3716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00200" y="1447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447920"/>
            <a:ext cx="0" cy="1218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81280" y="1447920"/>
            <a:ext cx="0" cy="1218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0872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435640" y="3357360"/>
            <a:ext cx="698400" cy="20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3500280"/>
            <a:ext cx="122400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5516640"/>
            <a:ext cx="2089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cc99"/>
                </a:solidFill>
                <a:latin typeface="Tahoma"/>
              </a:rPr>
              <a:t>(Drug Age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cc99"/>
                </a:solidFill>
                <a:latin typeface="Tahoma"/>
              </a:rPr>
              <a:t>- w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cc99"/>
                </a:solidFill>
                <a:latin typeface="Tahoma"/>
              </a:rPr>
              <a:t>- withdraw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cc99"/>
                </a:solidFill>
                <a:latin typeface="Tahoma"/>
              </a:rPr>
              <a:t>- invest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115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</a:rPr>
              <a:t>ZAKLJUČA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907920"/>
            <a:ext cx="8915400" cy="58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spcBef>
                <a:spcPts val="6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Times New Roman"/>
              </a:rPr>
              <a:t>nuspojave imaju značajnu ulogu u morbiditetu bolesnik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spcBef>
                <a:spcPts val="6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Times New Roman"/>
              </a:rPr>
              <a:t>interakcije mogu biti razlogom nuspojava ili smanjenog th djelovanj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spcBef>
                <a:spcPts val="6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Times New Roman"/>
              </a:rPr>
              <a:t>istovremeno propisivati što manje lijek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spcBef>
                <a:spcPts val="6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Times New Roman"/>
              </a:rPr>
              <a:t>misliti na korisne (iskorištavati ih) i nekorisne (izbjegavati ih) interakcij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spcBef>
                <a:spcPts val="6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Times New Roman"/>
              </a:rPr>
              <a:t>oprez kod bolesnika starije dobi, oštećene funkcije bubrega, istovremenog uzimanja više lijekova, u trudnoći i laktacij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spcBef>
                <a:spcPts val="6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Times New Roman"/>
              </a:rPr>
              <a:t>medicinski proizvodi i biljni proizvodi mogu uzrokovati nuspojave i interakcij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spcBef>
                <a:spcPts val="6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Times New Roman"/>
              </a:rPr>
              <a:t>posebna pažnja kod novih lijekova na tržišt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spcBef>
                <a:spcPts val="6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Times New Roman"/>
              </a:rPr>
              <a:t>faza IV nezamjenjiva u stjecanju pravih informacija o nuspojavama lijeka (učestalost, profi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944640"/>
            <a:ext cx="835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kupine nuspojava i mehanizam nasta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ip 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- kao posljedica pretjeranog farmakološkog učinka primijenjenog lijeka (predvidive, ovisne o dozi, visoka učestalost, nizak mortalitet, liječenje podešavanjem doze lijek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ip B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- neovisne o osnovnom farmakološkom učinku (neočekivane, niska učestalost, visok mortalitet, liječenje-prekid lijek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ip 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– porast učestalosti određene bolesti tijekom primjene određenog lijeka (tzv. statistički učinak), mehanizam nepoznat, duga lat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60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cjena uzročno-posljedične veze lijeka i nuspo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upnjevi povezanosti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nuspojave i lijeka (Karch i Lasagna (l975.g.)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igurn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vremenski slijed nakon uzimanja lijeka logičan, odgovara onome što je poznato o lijeku, nestaje nakon prestanka primjene lijeka, a nastaje nakon ponovne primjene (pozitivan “rechalleng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vjerojatn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- osnovna razlika prema prethodnoj je što se ne zahtijeva rechalle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oguć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- može biti posljedica bolesti ili druge terapije, informacija o prekidu primjene može nedostajati ili biti nejas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133720"/>
            <a:ext cx="77724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uvjetn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- ne odgovara podacima o lijeku, ne može se objasniti bolešću, potrebne su dodatne činjen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mnjiv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- ne odgovara niti jednom od navedenih kriterija, podaci nedostatni ili kontradiktor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1280" y="800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snovn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tode prikupljanja podataka o nuspojavam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klinički terapijski poku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epidemiološke tehni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ontano praćenje nuspojava koje predstavlja glavni izvor podatak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Suradni centar za nuspojave SZO u Upps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d l978.g. ukupno 2.85 milijuna pri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roj zemalja članica 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d 7.01.-6.02. oko 162000 prijava (1. SAD - 74000, 2. Vel. Britanija- 20000, 3. Tajland- 17000,  4. Njemačka- 10000,  5. Australija-8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63640" y="404640"/>
            <a:ext cx="61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HRVATSKI NACIONALNI CENTAR ZA NUSPO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643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 izvršni odbor HLK 1996. – prijavljivanje nuspojava boduje (1 prijava – 0.5 boda) kao aktivnost u kontinuiranoj eduk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0920" y="2209680"/>
          <a:ext cx="8743680" cy="1722600"/>
        </p:xfrm>
        <a:graphic>
          <a:graphicData uri="http://schemas.openxmlformats.org/drawingml/2006/table">
            <a:tbl>
              <a:tblPr/>
              <a:tblGrid>
                <a:gridCol w="1225440"/>
                <a:gridCol w="939960"/>
                <a:gridCol w="939600"/>
                <a:gridCol w="939960"/>
                <a:gridCol w="939600"/>
                <a:gridCol w="939960"/>
                <a:gridCol w="939600"/>
                <a:gridCol w="939960"/>
                <a:gridCol w="93960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odi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9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99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99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9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99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99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j prijav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8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6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5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7086600" y="3276720"/>
            <a:ext cx="11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09:32:00Z</dcterms:created>
  <dc:creator>KBC REBRO </dc:creator>
  <dc:description/>
  <dc:language>en-US</dc:language>
  <cp:lastModifiedBy>Tamara</cp:lastModifiedBy>
  <dcterms:modified xsi:type="dcterms:W3CDTF">2004-01-09T10:49:28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83383817</vt:r8>
  </property>
  <property fmtid="{D5CDD505-2E9C-101B-9397-08002B2CF9AE}" pid="3" name="_AuthorEmail">
    <vt:lpwstr>tamara@zkf.hr</vt:lpwstr>
  </property>
  <property fmtid="{D5CDD505-2E9C-101B-9397-08002B2CF9AE}" pid="4" name="_AuthorEmailDisplayName">
    <vt:lpwstr>Tamara Herceg Bojković</vt:lpwstr>
  </property>
  <property fmtid="{D5CDD505-2E9C-101B-9397-08002B2CF9AE}" pid="5" name="_EmailSubject">
    <vt:lpwstr>Studentski seminari</vt:lpwstr>
  </property>
  <property fmtid="{D5CDD505-2E9C-101B-9397-08002B2CF9AE}" pid="6" name="_PreviousAdHocReviewCycleID">
    <vt:r8>983383817</vt:r8>
  </property>
</Properties>
</file>