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291-6451-4A66-99A9-120B3EE2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577-1F40-4EE8-95B1-ED191F33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279-2F88-47EA-8484-CB49565E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D50-5BCE-4E0D-8AAF-5CDB7314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D97-D407-47A2-8EC1-7A250C7D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FB3-8752-4C2C-AA1C-CE0D3746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3DE-45F1-4135-89F6-7BA837D5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1A7-BAA3-46AB-9FE9-1268849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75B-C216-4F6E-BA94-040D0F92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49B-9569-45B2-BB34-AF9192D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88E-B6EA-437D-BAB8-38F68766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287-C083-45EA-9203-112646DB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495B7-C05E-4057-B405-EC951B91CDC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1773000"/>
            <a:ext cx="8099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javljivati će se 30 pit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 će biti će na ekranu po minu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 papiru uz broj prekrižite kemijskom slovo za odgovor za koji mislite da je toč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ijek izaberite samo jedan odgovor. Nije dozvoljeno prepravljati odgov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jprije na papir koji ste dobili upišite svoje ime, prezime i JMB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dite samostalno. Tko razgovara predaje papir i gubi pravo daljnjeg pisanja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792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je to G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Grafičko korisničko suče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lavni usmjerivač inform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dij za pohranu podat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a kartica ugrađena u matičnu plo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i program za prepoznavanje znak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 kojoj se jedinici ne mjere performanse proceso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G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p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FL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928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ko je glavni svjetski proizvođač proceso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I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d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820360" cy="61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oja je prednost interpretera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Programi rade brž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Nije potrebno da budu instalirani na računa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Podesni su za pronalaženje pogreša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ff0000"/>
                </a:solidFill>
                <a:latin typeface="Arial"/>
              </a:rPr>
              <a:t>Kada se oni koriste programi se pišu u strojnom jezik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Kada se oni koriste nije potrebno programiran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9640"/>
            <a:ext cx="822960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je to OC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Program za prepoznavanje znak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perativni sustav za grafičke sist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raka sa alat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a kartica ugrađena u matičnu plo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o korisničko suče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ardver potreban da se na njemu pokrene neki softver zove 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ehnološka zast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Minimalna konfigur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perativni sust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irtualna memor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3928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 Što se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že dodati na matičnu ploč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Razvojni soft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ocesorski č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ski č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a kar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uzička kar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Koliki je kapacitet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disk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1,44 G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1,44 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1,44 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baj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60360"/>
            <a:ext cx="8229600" cy="61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to je to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mori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Memorija na čipu, koja se briše kada se računalo ugas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a se ugrađuje u proce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a se nalazi na USB štapić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u se ne može bris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rugo ime za virtualnu memorij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je to RIS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perativni sustav za nepouzdane sist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Jedinica kapaciteta memor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Vrsta mikroproces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fičko korisničko suče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ogram za prepoznavanje znak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0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Zašto se koriste SPEC-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Za procjenu performansi račun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Za instalaciju sistemskog softv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Za kontrolu virtualne memor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 tome nismo ništa uč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Za razvoj 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oftver neophodan za povezivanje komponenti računala zove 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Operativni sust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irtualna memor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ehnološka zast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inimalna konfigur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Razvojni soft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60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. Što se može dodati na matičnu ploč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Grafička kar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Razvojni soft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irtualna memor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792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zbaci ulj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P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FORT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je to 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perativni sust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Hrvatski telekomunikacijski modemski 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Jezik za izradu Internet stra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Jezik za izradu 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nedžerski alat za potporu odlučivanj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39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23. Koja se formula nalzi u F2, ako je kopiranjem možemo koristiti u F3 i F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569440" cy="1249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24000" y="3068640"/>
            <a:ext cx="820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)  F2=IF(E2&gt;2000;E$2*25%;E$2*10%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2=IF(E2&gt;2000;25%;10%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)  F2=IF(E2&gt;2000;E2;E2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) F2=IF(E2&gt;2000;E2*25%;E2*10%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) F2=IF(E2&gt;2000;1350;180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816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4. Ako se otplaćuje kroz dvije godine mjesečno po 1000 kuna, a kamate kredita su 5% godišnje, želimo doznati koliki smo kredit digli. Koristit će se funk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=PMT(5%/12;24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 =PV(5%;2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=PV(5%/12;24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) =Rate(5%/12;24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) =PMT(5%;2;1000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8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25. Koliko tablica je najbolje imati u bazi podatak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</a:rPr>
              <a:t>Koliko ima entiteta u dijagramu objekt v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oliko korisnik odluč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oliko menedžer odluč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oliko ima atributa u dijagramu objekt v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Onoliko koliko atributa čini primarni klju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81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26. Kako se rješava veza n: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odavanjem stranog ključa na stranu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odavanjem vezne tabl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Dodavanjem stranog ključa na stranu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pajanjem ta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odavanjem n redaka u prvu tabli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816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27. Izbacite uljez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O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N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816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28. Što je to Q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rtica za kreiranje ve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rtica ve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reža za izradu upita putem GUI sučel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Čarobnjak za izradu ta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Jezik up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7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Što se može dodati na matičnu ploč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Ništa ne treba dodati za nove matične ploč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ocesorsku karti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Memorijski i procesorski č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istemski soft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ape i datote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arni ključ je sastavljen od šifre hobija i broja studenta. U kojoj je normalnoj formi tab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4076640"/>
            <a:ext cx="568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prvoj, ali nije u drugo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drugoj, ali nije u pr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drugoj, ali nije u trećo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treć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7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ije ni u prvoj 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064360" cy="2070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468360" y="6308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81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30. Koji atributi su relevantni za baz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 tome odlučuje menedž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ni koji su redundantni poda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ni koje odabere korisnik u suradnji s organizato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ni koji čuvaju referencijalni integrit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ogički poda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što su se udružili IBM, Motorola i Ap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a razviju novi proce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a razviju memoriju račun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a razviju operativni sust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Oni se nikada nisu udruž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Za razvoj 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54244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ja je glavna razlika između magnetskih medija i CD ROM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magnetskog se medija može čitati, a sa CD ROM-a 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magnetski medij se može samo jednom pis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CD ROM se može samo jednom pisati, a na magnetski medij više pu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Na magnetski se medij ne mogu snimati zvučne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CD ROM se ne mogu upisati po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360000"/>
            <a:ext cx="8507520" cy="56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Koliki je kapacitet CD ROM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700 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K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G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MH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700 baj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79280"/>
            <a:ext cx="836280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Što je to virtualna memori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a se ugrađuje u proce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rsta ROM memor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Dio čvrstog diska koji se koristi kao pomoćni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io CD ROM-a koji se koristi kao pomoćni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morija koja se nalazi na USB štapić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oja je tvrdnja toč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Jedan bajt može poprimiti 256 različitih st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 jedan bajt (odjednom) stane osam sl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ajt je dio b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vaki bit može poprimiti osam st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Jedan bajt može poprimiti samo dva različita stanja, 0 ili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60360"/>
            <a:ext cx="8229600" cy="62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oliko često se koristi kompaj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i svakom korištenju 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amo jedn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Kad se program prvi put razvija i kasnije svaki put kada se mije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ko korisnik odluč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amo kada se program prvi put razv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 Cicin-Sain</dc:creator>
  <dc:description/>
  <dc:language>en-US</dc:language>
  <cp:lastModifiedBy>helena</cp:lastModifiedBy>
  <dcterms:modified xsi:type="dcterms:W3CDTF">2010-02-27T17:29:49Z</dcterms:modified>
  <cp:revision>9</cp:revision>
  <dc:subject/>
  <dc:title>Test</dc:title>
</cp:coreProperties>
</file>