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68C-BA74-4145-8A20-B7DCC117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D5B-AC9A-439E-9037-1EDBF7BA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5AC-F01B-4551-9F15-CFEA7B7B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05EF-F2BD-4189-A8E0-B3B4327E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828-E27B-49C6-A8DB-06701193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81DD-3BD0-40A8-9EA5-BCB57E4D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8607-B6EF-4ED7-AE79-ED3A9B91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C1C0-CC1A-44AC-B029-A881B6E4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BA7B-ADF0-4A8B-AC04-C2924962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C3E8-479E-4EF6-AE0B-64F30393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2497-1612-49D9-9891-98574B0D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5C1D-AED6-4DB3-B56E-D1D7A350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5C35-907D-4129-8154-C2BF560A4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UPRAVLJANJE SASTANK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Bookman Old Style"/>
              </a:rPr>
              <a:t>Visoka zdravstvena šk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Bookman Old Style"/>
              </a:rPr>
              <a:t>Management u zdravstv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1430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Bookman Old Style"/>
              </a:rPr>
              <a:t>Prim. mr. sc. Josip Čulig, dr. 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3CA9-41C9-4377-9461-0605D35FED49}" type="slidenum">
              <a:t>1</a:t>
            </a:fld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Bookman Old Style"/>
              </a:rPr>
              <a:t>Uspješan sastanak je onaj u kojem 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Bookman Old Style"/>
              </a:rPr>
              <a:t>svim sudionicima jasno što 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Bookman Old Style"/>
              </a:rPr>
              <a:t>dogovoreno, koje aktivnosti trebaj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Bookman Old Style"/>
              </a:rPr>
              <a:t>poduzeti, u kojem roku i tko je 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Bookman Old Style"/>
              </a:rPr>
              <a:t>njih odgovor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6E3-42AD-43D9-9EB1-BEA67E3B01F7}" type="slidenum">
              <a:t>2</a:t>
            </a:fld>
          </a:p>
        </p:txBody>
      </p:sp>
    </p:spTree>
  </p:cSld>
  <p:transition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Bookman Old Style"/>
              </a:rPr>
              <a:t>PREDNOST SASTANKA PRE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Bookman Old Style"/>
              </a:rPr>
              <a:t>DRUGIM OBLICIMA DOGOVA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320" y="23619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osjećaj zajedničke viz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kontinuirano uspoređivanje postignut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razmjenjivanje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trenutni povrat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pojašnjavanje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brzo rješavanje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jačanje 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057-C9E9-4910-8787-A225ACE0B7B3}" type="slidenum">
              <a:t>3</a:t>
            </a:fld>
          </a:p>
        </p:txBody>
      </p:sp>
    </p:spTree>
  </p:cSld>
  <p:transition>
    <p:checke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PRIPREMA SASTAN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133360"/>
            <a:ext cx="71629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Bookman Old Style"/>
              </a:rPr>
              <a:t>svrha sastan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Bookman Old Style"/>
              </a:rPr>
              <a:t>poziv na sastanak (vrijeme početka i završetka, mjesto održavanja, popis tema, imena referenat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16DB-7B29-4677-BAAB-6A76DAF49E1D}" type="slidenum">
              <a:t>4</a:t>
            </a:fld>
          </a:p>
        </p:txBody>
      </p:sp>
    </p:spTree>
  </p:cSld>
  <p:transition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SASTANA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Bookman Old Style"/>
              </a:rPr>
              <a:t>Voditel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Bookman Old Style"/>
              </a:rPr>
              <a:t>kontrolira tijek, sadržaj i trajanje rasp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Bookman Old Style"/>
              </a:rPr>
              <a:t>vodi i potiče raspra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Bookman Old Style"/>
              </a:rPr>
              <a:t>nastoji spriječiti prikrivene namjere i tenz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F17C-BB2E-4B0A-A184-C9E9EF65CD27}" type="slidenum">
              <a:t>5</a:t>
            </a:fld>
          </a:p>
        </p:txBody>
      </p:sp>
    </p:spTree>
  </p:cSld>
  <p:transition>
    <p:checke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Bookman Old Style"/>
              </a:rPr>
              <a:t>DONOŠENJE ODLU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56390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formalno glaso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dogo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zaključak vodite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Na kraju sastanka dogovori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vrijeme sljedeće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409-DA2B-4AAF-B9C0-B1320DEC265E}" type="slidenum">
              <a:t>6</a:t>
            </a:fld>
          </a:p>
        </p:txBody>
      </p:sp>
    </p:spTree>
  </p:cSld>
  <p:transition>
    <p:checker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Bookman Old Style"/>
              </a:rPr>
              <a:t>EVALUACI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362320"/>
            <a:ext cx="7238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Bookman Old Style"/>
              </a:rPr>
              <a:t>samoanali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Bookman Old Style"/>
              </a:rPr>
              <a:t>neformalni razgovori sa suradni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Bookman Old Style"/>
              </a:rPr>
              <a:t>formalna povratna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13B-4DE2-4A8E-A50A-5A58A5558623}" type="slidenum">
              <a:t>7</a:t>
            </a:fld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Bookman Old Style"/>
              </a:rPr>
              <a:t>NAJČEŠĆE POGREŠ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kašnjenje na sastan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loše odabrano mjesto održ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nejasna svrha sastan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irelevantne 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suviše deta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nedostatak fleksibil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loše upravljanje sastank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A4E-937A-492B-AE41-4FC29939BAA6}" type="slidenum">
              <a:t>8</a:t>
            </a:fld>
          </a:p>
        </p:txBody>
      </p:sp>
    </p:spTree>
  </p:cSld>
  <p:transition>
    <p:checker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15:00:41Z</dcterms:created>
  <dc:creator>Jelena</dc:creator>
  <dc:description/>
  <dc:language>en-US</dc:language>
  <cp:lastModifiedBy>dr. Josip Čulig</cp:lastModifiedBy>
  <dcterms:modified xsi:type="dcterms:W3CDTF">2002-12-09T11:14:50Z</dcterms:modified>
  <cp:revision>2</cp:revision>
  <dc:subject/>
  <dc:title>UPRAVLJANJE SASTANKOM</dc:title>
</cp:coreProperties>
</file>