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D81-7BAD-485C-96FF-AF4A5657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DF6-0DA2-412F-8018-CE4A9D0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BE1-D8F2-4C3B-BAB3-E830E41E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F1F-DB9B-44E6-88BD-EE6DC0ED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3FEE-58FC-4473-9995-3454B7A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DE58-9919-4131-9FE8-898BF23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631-173A-423D-A465-2130D18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9F8-0812-4F59-8865-2B97797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122-9ED8-44E2-BD65-510F178B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DB9-DC11-470A-AC1A-150ABE05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666E-243C-4FC9-87B2-8BCDD23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A30-868E-4603-BBAD-CDAC154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B133-83FF-46EF-879B-7CBA855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9DEF-0376-4591-AAC4-2711A44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FEA0-6155-4454-BF95-111EC93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3563-95F2-4CEC-A934-938CE28A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4A12-6933-40A0-A23E-58B3FFC5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F52-C83B-4276-9E6D-FFB3F61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B40-A3B1-40F6-8241-6811654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115-A48F-44B4-81AE-4E0EABE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57E-19A3-4DB5-9D7F-8C930E7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84D-8ED6-48AE-935E-E35382B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190-997C-4D0F-B759-253DE03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846-330F-4CE9-9ECA-A506C43C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61B-F375-4136-8686-E852C0E93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D4A-72F5-442A-A7DA-8A823E803D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PĆA FARMAKOLOGIJA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Bookman Old Style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Farmakoterapijski</a:t>
            </a:r>
            <a:r>
              <a:rPr b="1" lang="en-US" sz="2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priručnik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3. izdanje, Med-Ekon d.d., 2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Interna medicin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2. izdanje, Naprijed, 19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(4. poglavl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Medicinska farmakologij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Medicinska naklada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3A1-11D4-4C35-8CDD-3168DDF60280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lanak 2. (Zakon o lijekovima i medicinskim proizvodi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otov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oizvodi koji se stavljaju u promet pod nazivom odabranim od proizvođač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Imunološk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cjepiva, serumi, alergeni, antigen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Radioaktiv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visoke tehnologije/biotehnolog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iz ljudske krvi ili plazme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albumin, faktori zgrušavan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rirod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B1C-C402-4DC2-B300-2BF363C6C560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s vitaminima, odnosno minerali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Tvari kemijskog, mineralnog, biljnog, životinjskog ili ljudskog podrijetl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koje se koriste za proizvodnju lijeko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Magistraln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ipremaju se u ljekarni prema liječničkom receptu za specifičnog (pojedinačnog) bolesnik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alensk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izrađuju se u ljekarnama do 100 dnevno, prema postupku opisanom u farmakopej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Krv i krvni sastojc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751-C8E7-4EB0-A86D-A5CC97D22CF9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DRIJETLO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Miner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jod, talk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Životinjsk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inzulin, antitoksin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Bilj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brokula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Kemijska sintez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acetilsalicilna kiselina, vitamin C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Semisintetski lijekov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prirodne ljekovite tvari koje se dodatno prerađuj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C55-CF12-44FB-B422-5BA43F23C897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rganske prirodne ljekovite tvari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- nalaze se u biljkama i životinjama, a nazivaju se više prema biološkim, nego kemijskim svojstvima</a:t>
            </a:r>
            <a:endParaRPr b="0" lang="en-US" sz="2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lkalo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bazične tvari koje sadrže duš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likoz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spojevi različitih šeć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apo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glikozidi koji se pjene u 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Masti i mas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esteri masnih kiselina (ricin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Eterič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ako hlapljivi spojevi specifičnog mir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Treslovine i ta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adstringen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orke tvar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amara) - ksilostein, vrlo otrovan (pospješuje probav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luz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viskozne tekućine (macerat sljezovog korije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ntibiotic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proizvodi mikroorganizama koji djeluju inhibitorno na rast drugih mikroorganiz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C50-11CB-4339-B4DC-49805808BF33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ASIFIKACIJA I NAZIVI LIJEKOVA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a) Farmakodinam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hanizmu djelovanja</a:t>
            </a: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b) Farmakoterapij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dicinskoj upotrebi</a:t>
            </a:r>
            <a:endParaRPr b="0" lang="en-US" sz="2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DINAM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agonisti kal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hipertenz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hipertenziv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- Antiaritm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rotuupalni lijek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trombo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3EE-EB1D-42EA-88CF-BE7E27927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ATC (ATK)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- klasifikacij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atomsko - terapijsko - kemij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eporuka S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pr. A 10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imentarni sust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ijekovi za liječenje šećerne bole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z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114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648320"/>
            <a:ext cx="228600" cy="759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5257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97D-F7C5-42E2-9E70-95A247DF51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AZIVI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adicionaln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alk, morfin, ric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emijsk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skorbinska kise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rički nazivi (INN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nijazid (izonikotinska kiselina hidraz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Zaštićena ime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umam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azitromi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3D4-E7B8-4204-A18E-6B15A219C0F1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Djelovanje i primjena lijek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066680"/>
          <a:ext cx="7745400" cy="54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745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571-6A19-4093-B9A5-7EB1814F9301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67080" y="4114800"/>
            <a:ext cx="152640" cy="1600200"/>
          </a:xfrm>
          <a:prstGeom prst="downArrow">
            <a:avLst>
              <a:gd name="adj1" fmla="val 50000"/>
              <a:gd name="adj2" fmla="val 26208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udbina lijeka u organizmu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295280"/>
            <a:ext cx="5257800" cy="132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UČIN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200400"/>
            <a:ext cx="5181480" cy="14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Krvna cirkul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VEZANI LIJ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ezani lije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etabo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SORP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09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IZLUČ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029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5638680"/>
            <a:ext cx="2819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05520"/>
            <a:ext cx="2514600" cy="1066680"/>
          </a:xfrm>
          <a:custGeom>
            <a:avLst/>
            <a:gdLst>
              <a:gd name="textAreaLeft" fmla="*/ 721800 w 2514600"/>
              <a:gd name="textAreaRight" fmla="*/ 2153880 w 25146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16765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82880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8862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8862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04812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79132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004-262E-428E-96F1-5C6C7354B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olaz lijekova kroz stanične membran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e se membrane sastoje o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lipida i protein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a je membrana selektivn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opusna; voda i neke drug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olekule mogu brzo proći kroz nju, 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drugih je prolaz ograničen il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priječe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060-D482-4D2E-AA4E-F607F6547456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o lijekovima, odnosno, znanost o međudjelovanju lijeka i organiz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C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i struka koja se bavi pripremom i izradom lijeko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KLINIČKA 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specijalnost znanstvenog proučavanja djelovanja lijekova na čov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D04-7C1D-4621-A4FC-E2477FDA807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ehanizmi prolaza lijekova kroz membranu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5232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osolubil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ni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akšana 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ocit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7DC-C5C0-4E2C-AC87-420CC77CEA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LOŠKA RASPOLOŽIVOST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peroralne primjene označava postotak lijeka koji dospije u opću cirkulaciju i raspoloživ je za farmakološko djelovanj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EKVIVALENTNOS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- dva su lijeka jednake bioraspoloživosti.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D10-8E6E-4C91-9046-08B2708D3C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liminaci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Ekskrecija nepromijenjenog li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iotransformacij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vi prolaz kroz jetr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Izlučivanje bubrez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lomerularna filtr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novna apsorpcija u tubul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ubularna sekre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791-7CC0-4A88-B6FE-D91C953E762B}" type="slidenum">
              <a:t>22</a:t>
            </a:fld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ze biotransformacije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ksid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Redu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Hidro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Deza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romjene 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st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988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2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njugacija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kuronsk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mporn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Aminokiselin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tatio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0680" y="54856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IZLUČI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685-05BC-4D6C-B149-495E76FA14C0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kinetski parametr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05160" y="5986440"/>
          <a:ext cx="287640" cy="1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5986440"/>
                    <a:ext cx="287640" cy="1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0360" y="2035080"/>
            <a:ext cx="302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a stal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zinom izluč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 brzi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učivanja ovisno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centr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Graf%20-%20Opća%20farmakologijazelena%20copy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1143000" y="1600200"/>
            <a:ext cx="3352680" cy="434340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6F1-A540-44FB-9D48-18DD5FE08C3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</a:t>
            </a:r>
            <a:r>
              <a:rPr b="1" lang="en-US" sz="3200" spc="-1" strike="noStrike" baseline="30000">
                <a:solidFill>
                  <a:srgbClr val="66ffcc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/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oluvrijeme eliminacije, vrijeme potrebno da se koncentracija lijeka spusti na polovi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C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aksimalna koncentracija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vrijeme potrebno za postizanje maksimalne koncentracije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UC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površina ispod krivulje eliminacije lije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D2C-918E-4AD3-AC20-18155B181431}" type="slidenum">
              <a:t>25</a:t>
            </a:fld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RECEPTOR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mjesto u organizmu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 koje djeluje lijek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ecifični recep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vezano mjesto lije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gulatorni prote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3160" y="45712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ODEL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“KLJUČ - KLJUČAON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B02-539A-44A8-9621-405097C489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Vrste 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GONIST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EKSCITATO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MIME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LI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NTAGONISTI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kemij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farmakokinet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na razini receptor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) 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b) ne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c) fiziološ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2004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6576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19112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20F-EE97-4F5F-A820-F6073F6FB1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lekularni mehanizmi djelovanja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zikalnim svojstv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emijskom reak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loženim biokemijs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ces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enzimatski sust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ionski kan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) fiziološki re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CD2-C6DB-43BB-8A2A-C876C0FA9D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Čimbenici koji modificiraju djelovanje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z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b i spol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rst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nje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ološka varij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asljedna reaktivnost na lijek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leran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hifilaks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, fizička ili metabolička ovisn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ergija na lijeko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9810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4382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8954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7339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1055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5627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9436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A28-6D0C-4E16-9624-755F833EE5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VIJEST MODERNE FARMAKOLOGI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HIPOKRAT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(460-355. B. C.) - PRIMUM NON NOCERE - Ponekad je dobar lijek kad se ne uzme ništa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ARACELSUS</a:t>
            </a:r>
            <a:r>
              <a:rPr b="0" lang="en-US" sz="26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493-1541) - Sve je otrov i ništa nije bezazleno, samo o doziranju ovisi da li je nešto otrovno ili nije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SLER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865) - Čovjek ima urođenu težnju za uzimanjem lijekova. To je jedno od obilježja koje čovjeka razlikuje od životi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9DA-6AD4-472F-A522-B14D26FA18B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stovremena primjena 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iše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erg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gon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cije (farmakokinetske, farmakodinams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pragma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634-B02B-4888-B9C7-CE6E21B8A84C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eželjena i štetna </a:t>
            </a:r>
            <a:br>
              <a:rPr sz="4400"/>
            </a:b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USPOJA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 štetno neželj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e lij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jenjenog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običajenoj doz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OT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 pojavljuje kad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oza na mjes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a dovolj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l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636-DBBF-4FDF-AEE4-AE58CA0B13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Štetne reakcije na lijekov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tr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prevelika do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hiperreaktiv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tski poremećaj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diosinkraz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arcinogenost, teratogenost, mutag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erg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zrelost organiz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osredne štetne reakcij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npr. poremećaj crijevne fl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248-F08C-4977-B69F-8CE7DB1F3B30}" type="slidenum">
              <a:t>32</a:t>
            </a:fld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Istraživanje novih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o probiranje, 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i prof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tklinička istraž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dbina u organiz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dinam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kine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ksi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862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8006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4290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693-04C1-46A5-994C-3638E4584F04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linička ispit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zdravi dobrovolj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kliničk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aćenje lijekova u klinič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usporedn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ekonomske stud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aćenje nuspo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22096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6668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5053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39625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44197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665-3D3D-4BD6-9C6F-8AB16A405474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protno se liječi suprot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iegoriy (1735-18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štanje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me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g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OME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lično se liječi slič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ahnemann (1755-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činak lijekova povećava se njihovim razrijeđenj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2EF-2EDF-4485-B7BD-3E9922F36CFC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VI FARMAKOLOŠKI LABORATORIJ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osnovan je 1846. godine u Dorpatu (Estonija). Rudolf Buckheim ustanovljuje farmakologiju kao eksperimentalnu struku, nasuprot dotadašnjoj praksi prenošenja iskustva.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 Hrvatskoj je prvi farmakološki laboratorij osnovan 1919. godine na Šalati.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074-211E-4473-912B-70B937DCEC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DERNA KLINIČKA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Claude Bernar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865) - Moral ne zabranjuje provođenje pokusa na susjedima ili na nama samima. Zabranjeni su samo oni pokusi koji mogu naškod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homas Lew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34) - Principi kliničkog ispitivanja lijekova - rano kliničko ispitivanje k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Harry Gol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52) - Čovjek je prikladna studija čovječan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inička medicina + farmakologija = klinička farma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962-D900-486F-B411-2D9CC688E1A1}" type="slidenum">
              <a:t>6</a:t>
            </a:fld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KINE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kako se lijek ponaša u organizmu od mjesta primjene do izluč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plikacija, distribucija, biotransformacija, eli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DINAM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mehanizam djelovanja lijekova; kako lijek utječe na funkcije organizma, pojačavanje ili supresija, poboljšanje bolesti, doze, nuspoj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129-A6D8-4300-86A9-22154FD72E3C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im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loških spoznaja u medicins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GRAF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receptura) - propis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OKSIKOLOG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znanost o interakciji tvari 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ovj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PE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opisi o sastav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vojstvima, postupcima za ispitivanje čistoće, čuvanj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FICIN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farmakopejs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MAGISTR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jekarnič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PSOLENT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zastarj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966-5F46-4DDF-A7CF-2ADF43F1710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EGISLATIV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zakoni i propisi koji su obvezatni za liječnika i farmaceuta, a osiguravaju pravilnu primjenu i postupak s lijekovima, u cilju sprečavanja štetnog utjecaja na lju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ZAKON O LIJEKOVIMA I MEDICINSKIM PROIZVODIM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 Zastupnički dom Sabora RH, 1997. “… ovim se Zakonom utvrđuje način ispitivanja, proizvodnje i izradbe, promet, provjera kakvoće, oglašavanje i obavještavanje, nadzor nad lijekovima i medicinskim proizvodima…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2CF-6C17-4468-ADD2-8756BC80302C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1:19:38Z</dcterms:created>
  <dc:creator>Jelena</dc:creator>
  <dc:description/>
  <dc:language>en-US</dc:language>
  <cp:lastModifiedBy>KERAMEIKOS d.o.o.</cp:lastModifiedBy>
  <dcterms:modified xsi:type="dcterms:W3CDTF">2003-01-31T09:46:03Z</dcterms:modified>
  <cp:revision>43</cp:revision>
  <dc:subject/>
  <dc:title>OPĆA FARMAKOLOGIJA Prim. mr. sc. Josip Čulig, dr. med.</dc:title>
</cp:coreProperties>
</file>