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MERA.WAV" ContentType="audio/x-wav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59C-6CE4-432F-A405-4A91C7D1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2EB-CA8D-4B3D-B5E0-4A993B42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DD6C-306F-43E0-A23F-58F82117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E61-C264-4EAB-8AC2-CCED3C8E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D0E1-AFBA-4E2A-92A8-525279A7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0DEC-3539-489C-96C4-56941902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90C2-7E46-4648-B607-CFC7F543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F558-7E31-42C7-B136-D08A8F54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5859-A84D-4CA6-86A9-13A9F2E1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E39E-0887-4D20-AEE4-494F7A03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441B-2371-4AE8-A242-226044B6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C30-134E-4548-B492-E09BF28A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2F73-B2C2-4AA5-9C2A-F8B359E1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4B95-6568-4B4C-8E2D-1D218334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454F-8201-443B-A2C0-747AE9FC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8442-505B-4BDC-904C-B1EE7AE4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C607-B9F8-441B-9048-D2CDD580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4F2-C708-40C0-B6E7-61ECF200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ECE-1AFD-4972-9877-38F65F3E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D3AA-97BE-478F-8A97-DA095210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DE72-75C9-476E-8B90-A9A0544A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351F-1BC6-4839-AAE3-BAD470E0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EE64-89C9-48A3-B276-81E5537E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1CE-BA27-4985-9BE4-7F031CF2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6DE1-B54E-4764-A801-9E2DC348FB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3A30-D4D1-4DBC-988F-1E57E039805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FARMAKOLOGIJA KARDIOVASKULARNOG SUSTA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7720" y="33523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Prim. mr. sc. Josip Čulig, dr. m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733920" y="4572000"/>
            <a:ext cx="1600200" cy="93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026E-A218-4E9C-A27F-D7C8A3F1E83C}" type="slidenum">
              <a:t>1</a:t>
            </a:fld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POREMEĆAJI RITMA uzrokuju smanjenje udarnog volumena srca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radiaritmi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ahiaritmi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Mehanizmi antiaritmičkog učin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lokada Na kan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lokada Ca kan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Utjecaj na K kan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lokada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recep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BF1-47F4-4971-ADBF-3FEE6F6FAE47}" type="slidenum">
              <a:t>10</a:t>
            </a:fld>
          </a:p>
        </p:txBody>
      </p:sp>
    </p:spTree>
  </p:cSld>
  <p:transition>
    <p:strips dir="l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Klasifikacija antiaritmik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171880" y="1447920"/>
          <a:ext cx="4493880" cy="479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1880" y="1447920"/>
                    <a:ext cx="449388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2920" y="1523880"/>
            <a:ext cx="0" cy="4648320"/>
          </a:xfrm>
          <a:prstGeom prst="line">
            <a:avLst/>
          </a:prstGeom>
          <a:ln w="9360">
            <a:solidFill>
              <a:srgbClr val="002f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7511-8D12-4E99-89F8-B769BE959F64}" type="slidenum">
              <a:t>11</a:t>
            </a:fld>
          </a:p>
        </p:txBody>
      </p:sp>
    </p:spTree>
  </p:cSld>
  <p:transition>
    <p:cover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ANGINA PEKTORIS (stenokardija)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je sindrom boli kao posljedice ishemije miokard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UZROK: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najčešće ateroskleroz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koronarnih krvnih ži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2666880"/>
            <a:ext cx="457200" cy="15264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4267080"/>
            <a:ext cx="457200" cy="15264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2A7-0ABD-4C32-AFDB-675C41751D94}" type="slidenum">
              <a:t>12</a:t>
            </a:fld>
          </a:p>
        </p:txBody>
      </p:sp>
    </p:spTree>
  </p:cSld>
  <p:transition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NITRATI - gliceriltrinitrat,</a:t>
            </a:r>
            <a:br>
              <a:rPr sz="4000"/>
            </a:b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izosorbitinitrat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Oslobađa NO (dušični monoksid) koji u glatkim mišićima djeluje dilatacijs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timulira G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nastaje cGMP koji uzrokuje dilataciju glatkih mišić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0120" y="3505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4495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699C-4D1F-4228-AA30-9D369DCA9E0E}" type="slidenum">
              <a:t>13</a:t>
            </a:fld>
          </a:p>
        </p:txBody>
      </p:sp>
    </p:spTree>
  </p:cSld>
  <p:transition>
    <p:randomBar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BLOKATORI - koče refleksnu aktivaciju simpatikusa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smanjuju frekvenciju srca, smanjuju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kontraktilnost         smanjuju potreb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miokarda za kisikom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34290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39625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B1D-EA8B-418B-ACD4-F9D4EE633E24}" type="slidenum">
              <a:t>14</a:t>
            </a:fld>
          </a:p>
        </p:txBody>
      </p:sp>
    </p:spTree>
  </p:cSld>
  <p:transition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952880" y="3352680"/>
            <a:ext cx="1828800" cy="1828800"/>
          </a:xfrm>
          <a:prstGeom prst="rect">
            <a:avLst/>
          </a:prstGeom>
          <a:ln w="9360">
            <a:solidFill>
              <a:srgbClr val="66ffcc"/>
            </a:solidFill>
            <a:miter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BLOKATORI Ca KANALA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09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manjuju periferni otpor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manjuju potrebu miokard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za kisik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Verapam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iltiaz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Nifedip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2362320"/>
            <a:ext cx="381240" cy="152280"/>
          </a:xfrm>
          <a:custGeom>
            <a:avLst/>
            <a:gdLst>
              <a:gd name="textAreaLeft" fmla="*/ 59400 w 381240"/>
              <a:gd name="textAreaRight" fmla="*/ 333720 w 3812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1D8A-1AC9-4783-B6F8-F444BA8DA0DB}" type="slidenum">
              <a:t>15</a:t>
            </a:fld>
          </a:p>
        </p:txBody>
      </p:sp>
    </p:spTree>
  </p:cSld>
  <p:transition>
    <p:strips dir="l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POVIŠENI KRVNI TLAK - povećan periferni otpor, povećan minutni volumen</a:t>
            </a:r>
            <a:endParaRPr b="0" lang="en-US" sz="3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IURETICI -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manjuju volumen tekućine u krvotok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IMPATOLITIC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smanjuju vazokonstriktorni tonus simpatikusa, smanjuju minutni volumen s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VAZODILATATORI -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ilatiraju glatke mišiće krvnih ži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LOKATORI RENIN - ANGIOTENZINSKOG SUSTAVA -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lokiraju konvertirajući enzim angiotenzina, blokiraju angiotenzinske recept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45B-C709-4453-93E2-C47C4C62319D}" type="slidenum">
              <a:t>16</a:t>
            </a:fld>
          </a:p>
        </p:txBody>
      </p:sp>
    </p:spTree>
  </p:cSld>
  <p:transition>
    <p:dissolv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Hemodinamski učinci simpatolitika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3520" y="1523880"/>
          <a:ext cx="7602480" cy="50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7602480" cy="50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8153280" y="167652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54CF-734B-47FE-ABB6-B78D37A64D62}" type="slidenum">
              <a:t>17</a:t>
            </a:fld>
          </a:p>
        </p:txBody>
      </p:sp>
    </p:spTree>
  </p:cSld>
  <p:transition>
    <p:randomBar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TEROSKLEROTSKI PLAKOVI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u stijenci krvnih žila sastoje se od lip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HMG-CaA reduktaza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regulira količinu kolester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STATINI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blokiraju reduktazu u jet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lovastatin, simvastatin, provastatin, atorvastat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9F7-AF4E-4DC5-90A0-28CDE7E5F970}" type="slidenum">
              <a:t>18</a:t>
            </a:fld>
          </a:p>
        </p:txBody>
      </p:sp>
    </p:spTree>
  </p:cSld>
  <p:transition>
    <p:pull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KARDIOVASKULARNE BOLESTI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1. Uzrok mortalite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91D-5EAE-45D7-B67C-34EA4D602763}" type="slidenum">
              <a:t>2</a:t>
            </a:fld>
          </a:p>
        </p:txBody>
      </p:sp>
    </p:spTree>
  </p:cSld>
  <p:transition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Rizični faktori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11280" y="1905120"/>
          <a:ext cx="7762680" cy="470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05120"/>
                    <a:ext cx="776268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85800" y="2057400"/>
            <a:ext cx="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1880" y="2057400"/>
            <a:ext cx="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2057400"/>
            <a:ext cx="0" cy="396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2057400"/>
            <a:ext cx="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67E-16EF-4A3F-906C-0E71339DD01A}" type="slidenum">
              <a:t>3</a:t>
            </a:fld>
          </a:p>
        </p:txBody>
      </p:sp>
    </p:spTree>
  </p:cSld>
  <p:transition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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KARDIOTONICI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inotropni lijekovi)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ardioaktivni glikozidi, inhibitori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osfodiestera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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NTIARITMICI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blokatori Na kanala,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lokatori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receptora, blokatori C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ana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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IJEKOVI ZA ANGINU PEKTOR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itrati, blokatori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receptora, blokator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Ca kana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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NTIHIPERTENZIVI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diuretici, simpatolitici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vazodilatatori, blokatori renin-angiotenzinsko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ust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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HIPOLIPEMICI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inhibitori HMG-Co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eduktaze, stimulatori lipoprotein lipaze, niac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6CEC-E0C7-4F31-97B5-33519B9019C7}" type="slidenum">
              <a:t>4</a:t>
            </a:fld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Bookman Old Style"/>
              </a:rPr>
              <a:t>Ca ++</a:t>
            </a:r>
            <a:r>
              <a:rPr b="0" lang="en-US" sz="44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Bookman Old Style"/>
              </a:rPr>
              <a:t>- ima središnju ulogu u 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Bookman Old Style"/>
              </a:rPr>
              <a:t>           procesu kontrakcije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) Povećava koncentraciju 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B) Povećava afinitet kontraktilni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roteina prema 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) Tvari koje djeluju na ob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mehaniz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E693-6502-46B2-B9FA-42B77CB5FEF2}" type="slidenum">
              <a:t>5</a:t>
            </a:fld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INHIBITORI  FOSFODIESTERAZ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prečavaju razgradnju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ovećavaju koncentraciju 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MRIN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MILRIN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kratkotrajna parental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rimj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276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743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5638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FF0-0E32-4C04-BC30-B0B10014B246}" type="slidenum">
              <a:t>6</a:t>
            </a:fld>
          </a:p>
        </p:txBody>
      </p:sp>
    </p:spTree>
  </p:cSld>
  <p:transition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SIMPATOMIMETICI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agonisti 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BUTA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agonisti 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LBUTAM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paminomimetici 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PA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acij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ceptora u srcu dovodi 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višenja cAMP-a i pove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ja koncentracije C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7C16-DD36-48BB-9219-FA043C17186E}" type="slidenum">
              <a:t>7</a:t>
            </a:fld>
          </a:p>
        </p:txBody>
      </p:sp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DOPAMIN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većava glomerularnu filtraciju i natriurezu - D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Vazodilatacija - D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lokira oslobađanje NA - DA 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timulira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receptore na sr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  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DOZA: 2 - 4 mikrograma/kg/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D513-A155-4F79-843B-3D8FF755CE53}" type="slidenum">
              <a:t>8</a:t>
            </a:fld>
          </a:p>
        </p:txBody>
      </p:sp>
    </p:spTree>
  </p:cSld>
  <p:transition>
    <p:cover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KARDIOTONICI - digoksin, medigoksin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iljka </a:t>
            </a:r>
            <a:r>
              <a:rPr b="0" lang="en-US" sz="2400" spc="-1" strike="noStrike">
                <a:solidFill>
                  <a:srgbClr val="66ffcc"/>
                </a:solidFill>
                <a:latin typeface="Bookman Old Style"/>
              </a:rPr>
              <a:t>Digital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1785. g. W. With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lokiraju 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/K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ATP-az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ovećavaju unutarstaničnu koncentraciju Ca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KARDIOVASKULARNI UČIN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ozitivno inotropno - povećavaju snag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ozitivno batmotropno - povećavaju ekscitabil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egativno dromotropno - smanjuju brzinu provođenja podraž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egativno kronotropno - smanjuju frekvenciju s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921-B84E-4589-B4DE-F7F81953B556}" type="slidenum">
              <a:t>9</a:t>
            </a:fld>
          </a:p>
        </p:txBody>
      </p:sp>
    </p:spTree>
  </p:cSld>
  <p:transition>
    <p:strips dir="l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3:27:54Z</dcterms:created>
  <dc:creator>Jelena</dc:creator>
  <dc:description/>
  <dc:language>en-US</dc:language>
  <cp:lastModifiedBy>KERAMEIKOS d.o.o.</cp:lastModifiedBy>
  <dcterms:modified xsi:type="dcterms:W3CDTF">2003-01-28T12:24:17Z</dcterms:modified>
  <cp:revision>27</cp:revision>
  <dc:subject/>
  <dc:title>FARMAKOLOGIJA KARDIOVASKULARNOG SUSTAVA</dc:title>
</cp:coreProperties>
</file>