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0F5-5C1F-421D-82ED-AF93C594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DB5-1EEC-4FC6-B2FE-B188FD8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2BA-D673-4909-BB04-1145A330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B7C-7D23-4208-8BB8-42B5C37A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1652-E18E-4B7C-8B9E-BE5D0AC1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C1EE-6A15-4983-9A6E-2D723C2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F469-B44C-40E5-9644-8CEA2FF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6649-03E9-43AB-B69D-D10B7CF7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EB30-A4AF-430A-830B-0B343842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16AF-5ABE-4AA9-B906-7A9028E6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F393-CCFD-4DC1-944F-619A5C7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400-4CFE-48CF-B516-5C2DC0F4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57F7-105B-4DBD-8CA7-81AC5660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CFD0-472D-4832-9E12-E229E9C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CD60-C0C1-41CB-BF13-7D61BB1A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44B6-5720-4042-A0FD-9AE18066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C04D-FCDE-4E26-8373-5D1D43AE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B21-939F-483C-9E1C-C7C9FFF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80E-842A-40B9-A942-A287A7C9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760-39BA-4598-A3AF-50190AAA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9BA-09D0-429F-AD1B-4AADC128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B91-1818-4045-AACE-DCB40BA2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F57-5ADB-41BD-9D9A-C67EF8D9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154-5C34-4D30-9644-5800B13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3F00-1CB8-4C71-9575-14314E8D3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3B93-7E91-497C-BD4A-B164C80D13D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autonomnog živčanog susta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360" y="3733920"/>
            <a:ext cx="7391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6198-42A7-4330-A8A2-4B3C84234284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33520" y="0"/>
          <a:ext cx="830556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85800" y="533412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58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964-735D-4343-B621-C8EB51D027C9}" type="slidenum">
              <a:t>10</a:t>
            </a:fld>
          </a:p>
        </p:txBody>
      </p:sp>
    </p:spTree>
  </p:cSld>
  <p:transition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GONISTI KOLINERGIČKIH RECEPTORA (PARASIMPATOMIMET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zravno djelovanj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metakolin, karbahol, betane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nhibicija acetilkolinesteraz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neostigmin, piridostigmin, edrofonij, pralidoksim, organofosfatni bojni otr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15A-0530-43D2-8DBF-770A344C5A51}" type="slidenum">
              <a:t>11</a:t>
            </a:fld>
          </a:p>
        </p:txBody>
      </p:sp>
    </p:spTree>
  </p:cSld>
  <p:transition>
    <p:blinds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GONISTI KOLINERGIČKIH RECEPTOR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Muskarinski blokator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atropin, skopolamin, homatrop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ganglij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heksameton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neuromuskularnih vez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kurare, pankuronij, suksameton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A97-27A4-44F3-9D79-869F98F89CD3}" type="slidenum">
              <a:t>12</a:t>
            </a:fld>
          </a:p>
        </p:txBody>
      </p:sp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GONISTI ADRENERGIČKIH RECEPTORA (SIMPATOMIMET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8120" y="274320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Ad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orad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Izop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Salbu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Ritod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20B-9220-40F6-A054-7F0A75C84C62}" type="slidenum">
              <a:t>13</a:t>
            </a:fld>
          </a:p>
        </p:txBody>
      </p:sp>
    </p:spTree>
  </p:cSld>
  <p:transition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GONISTI ADRENERGIČKIH RECEPTORA (SIMPATOL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alfadrenergičkih receptor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fentolamin, doksaz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betaadrenergičkih receptor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propranolol, atenol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adrenergičkih neuro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rezerpin, metildo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A44-B0C6-48EF-8BE7-4DC958D885E5}" type="slidenum">
              <a:t>14</a:t>
            </a:fld>
          </a:p>
        </p:txBody>
      </p:sp>
    </p:spTree>
  </p:cSld>
  <p:transition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LOKALNI ANESTETICI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reverzibilno prekidaju prijenos podražaja u perifernim živcima. Rezultat je lokalna analgezija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ršinsk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filtracijsk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vodn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pinaln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9092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312408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58128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411480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OKAIN, PROKAIN, LIDOK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A72-ED0B-4111-8FAB-8641E62EE2BF}" type="slidenum">
              <a:t>15</a:t>
            </a:fld>
          </a:p>
        </p:txBody>
      </p:sp>
    </p:spTree>
  </p:cSld>
  <p:transition>
    <p:blinds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utonomni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(ili vegetativni)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 živčani sustav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upravlja osnovnim životnim tjelesnim funkcijama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2666880"/>
            <a:ext cx="4343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irkulacija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is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b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jelesna temper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noje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etaboliz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C0D-AC5F-4163-832D-4DF50E363BDE}" type="slidenum">
              <a:t>2</a:t>
            </a:fld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SIMPATIČKI (torakolumbalni)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 iz neurona u lateraln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ogovima kralj. možd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048120"/>
            <a:ext cx="87631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PARASIMPATIČKI (kraniosakralni)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 iz mezencefalona, produžene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ždine i sakralnog dijela kralj.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žd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295280"/>
            <a:ext cx="609480" cy="15264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27672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2A7-48DF-430F-8C12-FF0AEB429FD6}" type="slidenum">
              <a:t>3</a:t>
            </a:fld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238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utonomna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ferentna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vlakn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nose impulse s periferije prem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redišnjem živčanom susta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895480"/>
            <a:ext cx="7086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utonomna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eferentna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vlak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nose impulse od središnjeg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živčanog sustava prema periferiji.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avršavaju na vegetativnom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angliju (preganglijska vlakna), od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ojeg se prema efektornim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rganima šire postganglijsk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91440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04812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293-AD0B-4184-9402-61EDDD252186}" type="slidenum">
              <a:t>4</a:t>
            </a:fld>
          </a:p>
        </p:txBody>
      </p:sp>
    </p:spTree>
  </p:cSld>
  <p:transition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ganglijska vlakna na svojim okončinama (sinapse u ganglijima) otpuštaju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cetilkoli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Acetilkolin oslobađaju i postganglijska parasimpatičk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 somatska motorna vlakna. Nazivaju se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kolinergička vlak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stganglijska simpatička vlakna na okončinama oslobađaju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noradrenali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Nazivaju se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drenergič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vlak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66B-6204-4F42-9C3A-57E38D4328CF}" type="slidenum">
              <a:t>5</a:t>
            </a:fld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654880" cy="6096240"/>
          </a:xfrm>
          <a:prstGeom prst="rect">
            <a:avLst/>
          </a:prstGeom>
          <a:ln w="38160">
            <a:solidFill>
              <a:srgbClr val="66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1E7-9E22-489B-8859-A44EC3BDF5AC}" type="slidenum">
              <a:t>6</a:t>
            </a:fld>
          </a:p>
        </p:txBody>
      </p:sp>
    </p:spTree>
  </p:cSld>
  <p:transition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81080" y="228600"/>
          <a:ext cx="5257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257800" cy="6324480"/>
                  </a:xfrm>
                  <a:prstGeom prst="rect">
                    <a:avLst/>
                  </a:prstGeom>
                  <a:ln w="38160">
                    <a:solidFill>
                      <a:srgbClr val="66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23F-0745-4FF6-8781-4D671B9697FC}" type="slidenum">
              <a:t>7</a:t>
            </a:fld>
          </a:p>
        </p:txBody>
      </p:sp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34280" cy="6034320"/>
          </a:xfrm>
          <a:prstGeom prst="rect">
            <a:avLst/>
          </a:prstGeom>
          <a:ln w="28440">
            <a:solidFill>
              <a:srgbClr val="66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D80-F3DF-45F0-A068-A3EF10AEAE7D}" type="slidenum">
              <a:t>8</a:t>
            </a:fld>
          </a:p>
        </p:txBody>
      </p:sp>
    </p:spTree>
  </p:cSld>
  <p:transition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Učinci stimulacije autonomnih živac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00200"/>
          <a:ext cx="746784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8305920" y="175248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02E-55E3-4700-A5DD-F10608FB4240}" type="slidenum">
              <a:t>9</a:t>
            </a:fld>
          </a:p>
        </p:txBody>
      </p:sp>
    </p:spTree>
  </p:cSld>
  <p:transition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19:59Z</dcterms:created>
  <dc:creator>Jelena</dc:creator>
  <dc:description/>
  <dc:language>en-US</dc:language>
  <cp:lastModifiedBy>KERAMEIKOS d.o.o.</cp:lastModifiedBy>
  <dcterms:modified xsi:type="dcterms:W3CDTF">2003-01-28T11:08:37Z</dcterms:modified>
  <cp:revision>22</cp:revision>
  <dc:subject/>
  <dc:title>Farmakologija autonomnog živčanog sustava</dc:title>
</cp:coreProperties>
</file>