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4901-22A9-497A-A010-D4F6311E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3BA3-41F6-4F55-A734-D5584AB1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BD2A-71B7-454A-8F5D-D730F028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12FB-052F-4D4C-A389-1F3B9375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8F81-FA89-4930-8831-BC41DEEB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5812-2383-46F9-AEE8-C225CDC1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2A40-1BE4-40B0-939B-4A6493A1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3F8A-C212-49DC-9DB1-8DE03444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E28A-2168-437C-B792-5F42DD18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2B18-F7FD-4425-AAFB-8AC1DAB5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5B6A-EBBE-4886-B212-6AEEDFA5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9E48-971E-46B8-8FAE-2F25F44C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4249-3BC9-4285-A625-1ADFBCE6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D665-FEF8-4F51-A11A-0E073087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1852-389E-49FA-97BB-D5273E63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5EFB-A4BE-45DB-89C4-5F80958A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BD0A-D297-4E1D-BA87-90A35EFA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4D6F-4A62-4F7D-9AF0-98F6C70F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19B0-2ABA-41EF-8920-5ECDFE3A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BF3-21FC-43EF-A11F-C1B9A046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F3A1-1E14-42AB-B607-41974822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9EA4-D2A2-4E04-88F7-A55FEF26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A955-CF76-4C3B-B5F3-C57542B6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4190-1743-4B48-B650-C2634E88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0350-CB92-4625-8558-781295225E27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C99B-66D8-414B-B747-3F4D7C7433C2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FARMAKOLOGIJA BUBREG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m.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mr. sc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ip Čulig, dr. m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OSMOTSKI DIURETICI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44332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NIT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 tubulima se slabo reapsorbira &gt; povećani osmotski tlak primarnog urina &gt; inhibirana reapsorpcija vo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.V. primjena:- forsirana diureza razrjeđenog ur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zo sniženje intrakranijalnog te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intraokularnog tla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INHIBITORI BUBREŽNOG TUBULARNOG TRANSPORTA ORGANSKIH TVARI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2895480"/>
            <a:ext cx="8381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BENE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0440" indent="-190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transport drugih organskih kisel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0440" indent="-190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okira bubrežni tubularni ekskrecijski prijenos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enicilina,    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cefalospor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0440" indent="-190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LFINPIRAZ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0440" indent="-190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hibira ponovnu reapsorpciju mokraćne kise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dbbd71"/>
                </a:solidFill>
                <a:latin typeface="Arial"/>
              </a:rPr>
              <a:t>Sretno na ispitu!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132000" y="2133720"/>
            <a:ext cx="2384640" cy="257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FUNKCIJA BUBREG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419280" y="1412640"/>
            <a:ext cx="554508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filtrira plazmu, odvaja i eliminira suvišne tvar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regulira volumen i tlak krvi eliminacijom/zadržavanjem vo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regulira osmolarnost tjelesnih tekuć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luči enzim renin koji sudjeluje u kontroli krvnog tlaka i elektrolitne ravnotež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luči hormon eritropoet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sudjeluje u kontroli homeostaze 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......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2160720" cy="25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NEFRON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svaki bubreg sadrži oko 1.2 miliona funkcionalnih jedinica:nefro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sastoji se od: krvnih žila, renalnog tjelešca i renalnog tubu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renalni tubul se dijeli u 4 dijela:proksimalni tubul, nefronsku petlju, distalni tubul i sabirni kanali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1846440"/>
            <a:ext cx="2921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Nefron - nastavak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6912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7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IURETIC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981000"/>
            <a:ext cx="8610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kupina lijekova koja se primjenjuje kako bi se promijenio volumen ili sastav tjelesnih tekuć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jelovanje: uglavnom smanjuju tubularnu reapsorpciju natrijevih iona, a gubitak vode i tvari otopljenih u njoj je onda pasivan pro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djela: prema mjestu njihova djelovanja duž nefrona ili prema načinu djelov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činak ostvaruju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kcijom sa spec. membranskim transportnim proteini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smotskim učinkom - smanjuje se reapsorpcija vo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kcijom s enzimi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kcijom s hormonskim receptori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INHIBITORI KARBOANHIDRAZE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91120" y="2819160"/>
            <a:ext cx="4572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ksimalni tub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zivno izlučivanje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natrija, kalija, smanjeno izlučivanje klorida &gt; povećanje volumena ur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ETAZOLAM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35200" y="2238480"/>
            <a:ext cx="282384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TIAZIDSKI DIURETIC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81280" y="1483920"/>
            <a:ext cx="556272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jelaz završnog dijela uzlaznog kraka Henleove petlje u distalni tub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hibiraju aktivnu reapsorpciju Na &gt; natriureza, izlučivanje klorida te kal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IDROKLOROTIAZID, CIKLOPENTAZ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 farmakološkom djelovanju slični nizu diuretika koji nisu tiazidi: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LORTALIDON, MEFRUZID, INDAPAM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60320" y="2238480"/>
            <a:ext cx="251640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DIURETICI HENLEOVE PETLJE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86200" y="1844280"/>
            <a:ext cx="50292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UROSEMI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BUMETAN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mpetira kao anion za vezna mjesta klorida iz lumena tubula (blokator kloridnih ion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ličina urina raste i do 30-40 ml/m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ago vazodilatatorno djelovanje u bubrezima (povećana sinteza P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nearan odnos doze i učin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0320" y="2238480"/>
            <a:ext cx="255744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DIURETICI KOJI ČUVAJU KALIJ</a:t>
            </a:r>
            <a:br>
              <a:rPr sz="3600"/>
            </a:b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- čuvaju kalij u organizmu, obično u kombinaciji s tiazidima ili diureticima Henleove petlje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2205000"/>
            <a:ext cx="4114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TRIAMTEREN, AMILORI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okatori Na kanala s luminalne strane distalnog tubula i sabirnih kanalića (inhibicija reapsorpcije Na u zamjenu za K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+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 H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 kombinaciji s hidroklorotiazido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ugodjelujuć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1640" y="2060640"/>
            <a:ext cx="434340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SPIRONOLAKTON, KANRENO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teroidna jezgr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kompetitivni inhibitor aldosterona čime sprečava njegove učinke na sintezu proteina ionskih kanala te nekih enzim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lab diuretički učinak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astup učinka je spor (do 72 h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16:20:38Z</dcterms:created>
  <dc:creator>KERAMEIKOS d.o.o.</dc:creator>
  <dc:description/>
  <dc:language>en-US</dc:language>
  <cp:lastModifiedBy>Zlatokosa</cp:lastModifiedBy>
  <dcterms:modified xsi:type="dcterms:W3CDTF">2003-04-25T19:15:39Z</dcterms:modified>
  <cp:revision>7</cp:revision>
  <dc:subject/>
  <dc:title>FARMAKOLOGIJA BUBREGA</dc:title>
</cp:coreProperties>
</file>