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0EB-F993-442E-AF0C-59FDD65C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D56-9855-4058-8FC7-EBE0603A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69B-4B13-46E8-87D1-47DEA9D7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CB3-9D0C-4CB3-81E4-A60DA477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4D16-9E85-45A5-B0CC-C694874E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AA3-BE17-4352-89EF-8DBE4A6B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AA89-C81D-4377-B7EA-97ACB0D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EF1-F0E7-4D8E-9122-D1F2881E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DDDF-395F-482B-B221-D3B64836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AF2D-6F12-4129-BFAF-8AFF6665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110-12BE-4D32-8F16-8E9648C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6F7-2656-4DD6-9EF3-0C50C20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A568-1639-42E0-8B69-493FB4E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0D86-F07F-4C17-A1EC-EABAED5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86D7-2099-406F-8E02-1F3AD37E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F28-2EE9-419D-9BA2-336C56CE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3BC8-E833-4BA5-AD74-732357B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F48-7187-48A5-B6A7-D13FBEB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E9E-ACD6-4D91-AD47-907FFFD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E03-A660-4A79-A6E5-A16149A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E30-A6DA-4FC2-BFA2-A4CA214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AB8-623D-4B26-BCE5-2799B7E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6AC-8D03-46AB-9AB8-32B70E4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323-04C5-4BC5-9ED5-F7F91BF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B57-263F-4F0E-A953-947A90464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FA5-EE65-436E-A77A-A313763DE0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PĆA FARMAKOLOGIJA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Bookman Old Style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Farmakoterapijski</a:t>
            </a:r>
            <a:r>
              <a:rPr b="1" lang="en-US" sz="2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priručnik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3. izdanje, Med-Ekon d.d., 2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Interna medicin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2. izdanje, Naprijed, 19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(4. poglavl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Medicinska farmakologij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Medicinska naklada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4D8-DFAF-44FA-A153-04C5B5813214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lanak 2. (Zakon o lijekovima i medicinskim proizvodi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otov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oizvodi koji se stavljaju u promet pod nazivom odabranim od proizvođač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Imunološk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cjepiva, serumi, alergeni, antigen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Radioaktiv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visoke tehnologije/biotehnolog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iz ljudske krvi ili plazme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albumin, faktori zgrušavan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rirod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0FC-DEA7-4F5A-9A33-1287867D9F98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s vitaminima, odnosno minerali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Tvari kemijskog, mineralnog, biljnog, životinjskog ili ljudskog podrijetl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koje se koriste za proizvodnju lijeko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Magistraln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ipremaju se u ljekarni prema liječničkom receptu za specifičnog (pojedinačnog) bolesnik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alensk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izrađuju se u ljekarnama do 100 dnevno, prema postupku opisanom u farmakopej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Krv i krvni sastojc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4D1-0793-4654-A68E-D1785AC14A0C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DRIJETLO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Miner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jod, talk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Životinjsk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inzulin, antitoksin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Bilj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brokula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Kemijska sintez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acetilsalicilna kiselina, vitamin C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Semisintetski lijekov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prirodne ljekovite tvari koje se dodatno prerađuj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134-78A5-4517-8F9D-3A15F04586C8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rganske prirodne ljekovite tvari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- nalaze se u biljkama i životinjama, a nazivaju se više prema biološkim, nego kemijskim svojstvima</a:t>
            </a:r>
            <a:endParaRPr b="0" lang="en-US" sz="2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lkalo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bazične tvari koje sadrže duš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likoz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spojevi različitih šeć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apo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glikozidi koji se pjene u 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Masti i mas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esteri masnih kiselina (ricin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Eterič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ako hlapljivi spojevi specifičnog mir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Treslovine i ta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adstringen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orke tvar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amara) - ksilostein, vrlo otrovan (pospješuje probav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luz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viskozne tekućine (macerat sljezovog korije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ntibiotic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proizvodi mikroorganizama koji djeluju inhibitorno na rast drugih mikroorganiz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B4A-E78E-403C-BC6A-F7C367D81D9B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ASIFIKACIJA I NAZIVI LIJEKOVA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a) Farmakodinam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hanizmu djelovanja</a:t>
            </a: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b) Farmakoterapij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dicinskoj upotrebi</a:t>
            </a:r>
            <a:endParaRPr b="0" lang="en-US" sz="2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DINAM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agonisti kal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hipertenz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hipertenziv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- Antiaritm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rotuupalni lijek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trombo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E47-D01E-436E-9F1A-437CBF260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ATC (ATK)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- klasifikacij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atomsko - terapijsko - kemij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eporuka S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pr. A 10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imentarni sust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ijekovi za liječenje šećerne bole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z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114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648320"/>
            <a:ext cx="228600" cy="759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5257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CB4-3C50-45B5-BDDB-BB4A7A9DD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AZIVI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adicionaln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alk, morfin, ric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emijsk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skorbinska kise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rički nazivi (INN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nijazid (izonikotinska kiselina hidraz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Zaštićena ime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umam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azitromi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90F-F23B-4A7A-8B38-50F82C786241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Djelovanje i primjena lijek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066680"/>
          <a:ext cx="7745400" cy="54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745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160-5DC9-4566-B50E-0A05827BEA30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67080" y="4114800"/>
            <a:ext cx="152640" cy="1600200"/>
          </a:xfrm>
          <a:prstGeom prst="downArrow">
            <a:avLst>
              <a:gd name="adj1" fmla="val 50000"/>
              <a:gd name="adj2" fmla="val 26208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udbina lijeka u organizmu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295280"/>
            <a:ext cx="5257800" cy="132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UČIN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200400"/>
            <a:ext cx="5181480" cy="14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Krvna cirkul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VEZANI LIJ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ezani lije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etabo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SORP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09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IZLUČ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029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5638680"/>
            <a:ext cx="2819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05520"/>
            <a:ext cx="2514600" cy="1066680"/>
          </a:xfrm>
          <a:custGeom>
            <a:avLst/>
            <a:gdLst>
              <a:gd name="textAreaLeft" fmla="*/ 721800 w 2514600"/>
              <a:gd name="textAreaRight" fmla="*/ 2153880 w 25146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16765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82880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8862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8862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04812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79132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FC8-B1FE-4CB0-A3D4-9B32F3284A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olaz lijekova kroz stanične membran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e se membrane sastoje o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lipida i protein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a je membrana selektivn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opusna; voda i neke drug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olekule mogu brzo proći kroz nju, 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drugih je prolaz ograničen il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priječe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CB8-86E8-4E0D-A7DC-E47B4C199907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o lijekovima, odnosno, znanost o međudjelovanju lijeka i organiz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C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i struka koja se bavi pripremom i izradom lijeko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KLINIČKA 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specijalnost znanstvenog proučavanja djelovanja lijekova na čov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F88-53F3-40D8-94CE-2905FEEB6EE1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ehanizmi prolaza lijekova kroz membranu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5232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osolubil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ni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akšana 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ocit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A8C-2AA3-42E9-B722-3F8BB7AF8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LOŠKA RASPOLOŽIVOST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peroralne primjene označava postotak lijeka koji dospije u opću cirkulaciju i raspoloživ je za farmakološko djelovanj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EKVIVALENTNOS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- dva su lijeka jednake bioraspoloživosti.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83A-DF3D-4EA0-BB64-B8DC0401F9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liminaci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Ekskrecija nepromijenjenog li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iotransformacij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vi prolaz kroz jetr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Izlučivanje bubrez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lomerularna filtr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novna apsorpcija u tubul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ubularna sekre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AB2-1B0C-4D50-A744-B5420FC3F6D9}" type="slidenum">
              <a:t>22</a:t>
            </a:fld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ze biotransformacije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ksid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Redu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Hidro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Deza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romjene 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st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988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2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njugacija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kuronsk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mporn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Aminokiselin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tatio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0680" y="54856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IZLUČI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A2A-6FD3-4C9C-9D2E-10F6B9D40E3C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kinetski parametr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05160" y="5986440"/>
          <a:ext cx="287640" cy="1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5986440"/>
                    <a:ext cx="287640" cy="1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0360" y="2035080"/>
            <a:ext cx="302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a stal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zinom izluč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 brzi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učivanja ovisno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centr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Graf%20-%20Opća%20farmakologijazelena%20copy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1143000" y="1600200"/>
            <a:ext cx="3352680" cy="434340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7EF-F0B3-44BC-B5CD-156A7EB5166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</a:t>
            </a:r>
            <a:r>
              <a:rPr b="1" lang="en-US" sz="3200" spc="-1" strike="noStrike" baseline="30000">
                <a:solidFill>
                  <a:srgbClr val="66ffcc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/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oluvrijeme eliminacije, vrijeme potrebno da se koncentracija lijeka spusti na polovi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C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aksimalna koncentracija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vrijeme potrebno za postizanje maksimalne koncentracije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UC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površina ispod krivulje eliminacije lije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FD0-F049-45E9-BC63-65B90DC010E8}" type="slidenum">
              <a:t>25</a:t>
            </a:fld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RECEPTOR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mjesto u organizmu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 koje djeluje lijek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ecifični recep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vezano mjesto lije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gulatorni prote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3160" y="45712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ODEL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“KLJUČ - KLJUČAON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5B3-257D-4498-95AD-A51A1D4D75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Vrste 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GONIST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EKSCITATO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MIME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LI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NTAGONISTI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kemij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farmakokinet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na razini receptor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) 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b) ne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c) fiziološ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2004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6576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19112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6CC-FF2E-42AC-84FB-C5889E39B5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lekularni mehanizmi djelovanja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zikalnim svojstv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emijskom reak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loženim biokemijs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ces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enzimatski sust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ionski kan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) fiziološki re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F7E-11CB-46C8-B9E8-B3457AF6A4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Čimbenici koji modificiraju djelovanje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z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b i spol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rst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nje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ološka varij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asljedna reaktivnost na lijek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leran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hifilaks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, fizička ili metabolička ovisn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ergija na lijeko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9810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4382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8954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7339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1055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5627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9436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137-26B4-4F0B-8ECE-246F684A86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VIJEST MODERNE FARMAKOLOGI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HIPOKRAT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(460-355. B. C.) - PRIMUM NON NOCERE - Ponekad je dobar lijek kad se ne uzme ništa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ARACELSUS</a:t>
            </a:r>
            <a:r>
              <a:rPr b="0" lang="en-US" sz="26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493-1541) - Sve je otrov i ništa nije bezazleno, samo o doziranju ovisi da li je nešto otrovno ili nije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SLER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865) - Čovjek ima urođenu težnju za uzimanjem lijekova. To je jedno od obilježja koje čovjeka razlikuje od životi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647-F1AF-4CBB-A691-E70CAC3315E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stovremena primjena 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iše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erg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gon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cije (farmakokinetske, farmakodinams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pragma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9CC-93C2-46FE-AB21-CD326F8894DC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eželjena i štetna </a:t>
            </a:r>
            <a:br>
              <a:rPr sz="4400"/>
            </a:b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USPOJA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 štetno neželj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e lij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jenjenog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običajenoj doz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OT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 pojavljuje kad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oza na mjes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a dovolj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l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FE9-A67A-4371-BA2B-D468A28229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Štetne reakcije na lijekov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tr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prevelika do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hiperreaktiv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tski poremećaj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diosinkraz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arcinogenost, teratogenost, mutag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erg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zrelost organiz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osredne štetne reakcij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npr. poremećaj crijevne fl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61A-F961-4C36-B8DD-B8BED157C31A}" type="slidenum">
              <a:t>32</a:t>
            </a:fld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Istraživanje novih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o probiranje, 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i prof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tklinička istraž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dbina u organiz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dinam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kine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ksi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862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8006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4290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53E-C8B2-464F-A5B3-ECFA5F3825F5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linička ispit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zdravi dobrovolj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kliničk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aćenje lijekova u klinič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usporedn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ekonomske stud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aćenje nuspo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22096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6668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5053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39625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44197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D60-D97E-4BAB-9702-B6530EDD219C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protno se liječi suprot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iegoriy (1735-18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štanje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me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g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OME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lično se liječi slič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ahnemann (1755-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činak lijekova povećava se njihovim razrijeđenj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0A3-51C4-4676-875E-57E061F683DE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VI FARMAKOLOŠKI LABORATORIJ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osnovan je 1846. godine u Dorpatu (Estonija). Rudolf Buckheim ustanovljuje farmakologiju kao eksperimentalnu struku, nasuprot dotadašnjoj praksi prenošenja iskustva.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 Hrvatskoj je prvi farmakološki laboratorij osnovan 1919. godine na Šalati.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30A-A288-4962-B711-81323525B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DERNA KLINIČKA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Claude Bernar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865) - Moral ne zabranjuje provođenje pokusa na susjedima ili na nama samima. Zabranjeni su samo oni pokusi koji mogu naškod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homas Lew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34) - Principi kliničkog ispitivanja lijekova - rano kliničko ispitivanje k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Harry Gol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52) - Čovjek je prikladna studija čovječan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inička medicina + farmakologija = klinička farma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202-1526-441C-B868-7AE9CBAA9CBA}" type="slidenum">
              <a:t>6</a:t>
            </a:fld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KINE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kako se lijek ponaša u organizmu od mjesta primjene do izluč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plikacija, distribucija, biotransformacija, eli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DINAM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mehanizam djelovanja lijekova; kako lijek utječe na funkcije organizma, pojačavanje ili supresija, poboljšanje bolesti, doze, nuspoj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F02-1D06-4793-9951-C36481323A2E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im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loških spoznaja u medicins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GRAF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receptura) - propis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OKSIKOLOG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znanost o interakciji tvari 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ovj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PE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opisi o sastav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vojstvima, postupcima za ispitivanje čistoće, čuvanj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FICIN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farmakopejs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MAGISTR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jekarnič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PSOLENT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zastarj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E73-6F53-4C94-B041-16FE7856E905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EGISLATIV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zakoni i propisi koji su obvezatni za liječnika i farmaceuta, a osiguravaju pravilnu primjenu i postupak s lijekovima, u cilju sprečavanja štetnog utjecaja na lju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ZAKON O LIJEKOVIMA I MEDICINSKIM PROIZVODIM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 Zastupnički dom Sabora RH, 1997. “… ovim se Zakonom utvrđuje način ispitivanja, proizvodnje i izradbe, promet, provjera kakvoće, oglašavanje i obavještavanje, nadzor nad lijekovima i medicinskim proizvodima…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DA4-39CF-4150-9BB2-B1C7C09D5A7B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1:19:38Z</dcterms:created>
  <dc:creator>Jelena</dc:creator>
  <dc:description/>
  <dc:language>en-US</dc:language>
  <cp:lastModifiedBy>KERAMEIKOS d.o.o.</cp:lastModifiedBy>
  <dcterms:modified xsi:type="dcterms:W3CDTF">2003-01-31T09:46:03Z</dcterms:modified>
  <cp:revision>43</cp:revision>
  <dc:subject/>
  <dc:title>OPĆA FARMAKOLOGIJA Prim. mr. sc. Josip Čulig, dr. med.</dc:title>
</cp:coreProperties>
</file>