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5F3-A207-4A73-9207-DFF36A69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6DF-7E6C-4866-BD18-770CF39C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CC7-9533-41B6-8380-198677C8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049-BE0C-4242-8842-4E93B0DF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87B2-E6B3-4F67-B07E-D0E45B5E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1301-C3E0-4EF0-AD58-FA7F1DC6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237-769E-40BA-BC9C-7DF3755A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148D-3995-4DF2-884A-940421CF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47F1-99DF-4828-B3B1-4EB7DD72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1343-3988-48F4-9B43-F316ACEC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9CB1-A7E2-45EF-95AD-2AF44D25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1F21-C479-4F7D-98C1-16AB026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B84-0865-4639-9C80-174ED7C7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6CC9-BBD0-4FE4-9851-49D63AF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B6BA-EB92-4C17-B81E-0E69A10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9E88-A52C-48EB-8985-85C04C9F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3E7A-960F-4585-82AD-D54CA796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39489-6AA4-405F-BF56-2FDC22B2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27C9-CA3A-45FE-A016-84AC6D5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36F6-B871-4A37-AFF8-84F44231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E181-3837-41E0-9004-4467AD4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B3A6-62A4-488C-B3EB-89AC4D85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812-C8A4-4473-B202-D9882407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8C84-8AA2-446D-BA17-CF072C6F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D922-D6F3-4A0C-8792-B183AAF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1568-0DA0-48E2-A4C9-F7AEBC4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D771F-0425-4D9A-8B81-740525B1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06C0-1C07-45FC-BBBC-8559D97E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C897-51E0-488B-BB09-127ED3A7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8F30C-DCD4-475D-AABC-954988DB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A08-A1CE-42F6-BC77-479B1293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67C-B10E-4B73-8AD0-85BF271F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C24-3890-4B41-9291-568D0BA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FE2-5277-42CF-A1DE-D4CAE13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E50-AD99-4F5B-A8EF-74498D4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0BF-7174-4904-857F-4FB503F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CBA-5099-4201-9446-A8C171E4B5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F9D8-E6D0-4E93-A4A3-AB3385D9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8A35-DC95-4DA8-A4AB-1DE13432EA23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4443-4B95-40D2-AAD9-31EF1C631B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9FC-8293-4D9A-A75C-1346F3DB81F4}" type="datetime">
              <a:rPr b="0" lang="en-US" sz="1400" spc="-1" strike="noStrike">
                <a:solidFill>
                  <a:srgbClr val="1c1c1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1BE4-72B6-4AF5-9D6C-541877760A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76360" y="69228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MJERE ASIMETR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 MJERA ZAOBLJE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C87-D0A5-43EC-AF20-426D702924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A3EFB45-56E9-4064-B423-2ED97A1C3C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32000" y="5445000"/>
            <a:ext cx="2232000" cy="93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5373720"/>
            <a:ext cx="2376360" cy="934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55640" y="220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1081080" y="2204640"/>
            <a:ext cx="3059280" cy="2476800"/>
            <a:chOff x="1081080" y="2204640"/>
            <a:chExt cx="3059280" cy="2476800"/>
          </a:xfrm>
        </p:grpSpPr>
        <p:sp>
          <p:nvSpPr>
            <p:cNvPr id="236" name=""/>
            <p:cNvSpPr/>
            <p:nvPr/>
          </p:nvSpPr>
          <p:spPr>
            <a:xfrm>
              <a:off x="1081080" y="467028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81080" y="2204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446120" y="2378160"/>
              <a:ext cx="2129040" cy="2303280"/>
              <a:chOff x="1446120" y="2378160"/>
              <a:chExt cx="2129040" cy="2303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446120" y="2378160"/>
                <a:ext cx="2129040" cy="2023920"/>
              </a:xfrm>
              <a:custGeom>
                <a:avLst/>
                <a:gdLst/>
                <a:ahLst/>
                <a:rect l="l" t="t" r="r" b="b"/>
                <a:pathLst>
                  <a:path w="1341" h="1275">
                    <a:moveTo>
                      <a:pt x="1341" y="1275"/>
                    </a:moveTo>
                    <a:cubicBezTo>
                      <a:pt x="1305" y="1266"/>
                      <a:pt x="1201" y="1254"/>
                      <a:pt x="1125" y="1224"/>
                    </a:cubicBezTo>
                    <a:cubicBezTo>
                      <a:pt x="1049" y="1194"/>
                      <a:pt x="948" y="1156"/>
                      <a:pt x="883" y="1097"/>
                    </a:cubicBezTo>
                    <a:cubicBezTo>
                      <a:pt x="818" y="1038"/>
                      <a:pt x="772" y="947"/>
                      <a:pt x="735" y="871"/>
                    </a:cubicBezTo>
                    <a:cubicBezTo>
                      <a:pt x="698" y="795"/>
                      <a:pt x="688" y="723"/>
                      <a:pt x="662" y="643"/>
                    </a:cubicBezTo>
                    <a:cubicBezTo>
                      <a:pt x="636" y="563"/>
                      <a:pt x="610" y="468"/>
                      <a:pt x="580" y="391"/>
                    </a:cubicBezTo>
                    <a:cubicBezTo>
                      <a:pt x="550" y="314"/>
                      <a:pt x="511" y="236"/>
                      <a:pt x="481" y="183"/>
                    </a:cubicBezTo>
                    <a:cubicBezTo>
                      <a:pt x="451" y="129"/>
                      <a:pt x="424" y="95"/>
                      <a:pt x="399" y="68"/>
                    </a:cubicBezTo>
                    <a:cubicBezTo>
                      <a:pt x="374" y="41"/>
                      <a:pt x="360" y="31"/>
                      <a:pt x="333" y="20"/>
                    </a:cubicBezTo>
                    <a:cubicBezTo>
                      <a:pt x="306" y="9"/>
                      <a:pt x="272" y="0"/>
                      <a:pt x="237" y="0"/>
                    </a:cubicBezTo>
                    <a:cubicBezTo>
                      <a:pt x="202" y="0"/>
                      <a:pt x="162" y="5"/>
                      <a:pt x="123" y="21"/>
                    </a:cubicBezTo>
                    <a:cubicBezTo>
                      <a:pt x="84" y="37"/>
                      <a:pt x="26" y="83"/>
                      <a:pt x="0" y="9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828800" y="2395440"/>
                <a:ext cx="1440" cy="228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832120" y="4116240"/>
                <a:ext cx="3240" cy="540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108160" y="2527200"/>
                <a:ext cx="1440" cy="2135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5219640" y="2204640"/>
            <a:ext cx="3059280" cy="2486520"/>
            <a:chOff x="5219640" y="2204640"/>
            <a:chExt cx="3059280" cy="2486520"/>
          </a:xfrm>
        </p:grpSpPr>
        <p:sp>
          <p:nvSpPr>
            <p:cNvPr id="244" name=""/>
            <p:cNvSpPr/>
            <p:nvPr/>
          </p:nvSpPr>
          <p:spPr>
            <a:xfrm>
              <a:off x="5219640" y="467028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219640" y="2204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584680" y="2387520"/>
              <a:ext cx="2129040" cy="2024280"/>
            </a:xfrm>
            <a:custGeom>
              <a:avLst/>
              <a:gdLst/>
              <a:ahLst/>
              <a:rect l="l" t="t" r="r" b="b"/>
              <a:pathLst>
                <a:path w="1341" h="1275">
                  <a:moveTo>
                    <a:pt x="1341" y="1275"/>
                  </a:moveTo>
                  <a:cubicBezTo>
                    <a:pt x="1305" y="1266"/>
                    <a:pt x="1201" y="1254"/>
                    <a:pt x="1125" y="1224"/>
                  </a:cubicBezTo>
                  <a:cubicBezTo>
                    <a:pt x="1049" y="1194"/>
                    <a:pt x="948" y="1156"/>
                    <a:pt x="883" y="1097"/>
                  </a:cubicBezTo>
                  <a:cubicBezTo>
                    <a:pt x="818" y="1038"/>
                    <a:pt x="772" y="947"/>
                    <a:pt x="735" y="871"/>
                  </a:cubicBezTo>
                  <a:cubicBezTo>
                    <a:pt x="698" y="795"/>
                    <a:pt x="688" y="723"/>
                    <a:pt x="662" y="643"/>
                  </a:cubicBezTo>
                  <a:cubicBezTo>
                    <a:pt x="636" y="563"/>
                    <a:pt x="610" y="468"/>
                    <a:pt x="580" y="391"/>
                  </a:cubicBezTo>
                  <a:cubicBezTo>
                    <a:pt x="550" y="314"/>
                    <a:pt x="511" y="236"/>
                    <a:pt x="481" y="183"/>
                  </a:cubicBezTo>
                  <a:cubicBezTo>
                    <a:pt x="451" y="129"/>
                    <a:pt x="424" y="95"/>
                    <a:pt x="399" y="68"/>
                  </a:cubicBezTo>
                  <a:cubicBezTo>
                    <a:pt x="374" y="41"/>
                    <a:pt x="360" y="31"/>
                    <a:pt x="333" y="20"/>
                  </a:cubicBezTo>
                  <a:cubicBezTo>
                    <a:pt x="306" y="9"/>
                    <a:pt x="272" y="0"/>
                    <a:pt x="237" y="0"/>
                  </a:cubicBezTo>
                  <a:cubicBezTo>
                    <a:pt x="202" y="0"/>
                    <a:pt x="162" y="5"/>
                    <a:pt x="123" y="21"/>
                  </a:cubicBezTo>
                  <a:cubicBezTo>
                    <a:pt x="84" y="37"/>
                    <a:pt x="26" y="83"/>
                    <a:pt x="0" y="9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9600" y="2405160"/>
              <a:ext cx="1440" cy="22860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24480" y="4125960"/>
              <a:ext cx="3240" cy="539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50240" y="2536920"/>
              <a:ext cx="1440" cy="2135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5128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59280" y="220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5128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8028000" y="4724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037160" y="1042920"/>
            <a:ext cx="27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Pozitivno asimetr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1800" y="1052640"/>
            <a:ext cx="29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Negativno asimetri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19280" y="479736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79640" y="4830840"/>
                <a:ext cx="4190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00360" y="4797360"/>
                <a:ext cx="317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332000" y="5516640"/>
                <a:ext cx="2158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796000" y="5445000"/>
                <a:ext cx="21589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236000" y="4724280"/>
                <a:ext cx="317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32720" y="4797360"/>
                <a:ext cx="419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156360" y="472428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258920" y="5445000"/>
            <a:ext cx="730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773-C6F5-413A-97F8-7BD6C0413FC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759F2-CD43-4386-84ED-F25AD89158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97160" y="2714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OWLEYJE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6712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11280" y="1249200"/>
          <a:ext cx="43927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249200"/>
                    <a:ext cx="43927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4784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98720" y="4294080"/>
            <a:ext cx="2862000" cy="1656000"/>
            <a:chOff x="2898720" y="4294080"/>
            <a:chExt cx="2862000" cy="1656000"/>
          </a:xfrm>
        </p:grpSpPr>
        <p:graphicFrame>
          <p:nvGraphicFramePr>
            <p:cNvPr id="271" name=""/>
            <p:cNvGraphicFramePr/>
            <p:nvPr/>
          </p:nvGraphicFramePr>
          <p:xfrm>
            <a:off x="2898720" y="4294080"/>
            <a:ext cx="702000" cy="165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8720" y="4294080"/>
                      <a:ext cx="702000" cy="165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"/>
            <p:cNvSpPr/>
            <p:nvPr/>
          </p:nvSpPr>
          <p:spPr>
            <a:xfrm>
              <a:off x="4107240" y="4351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prvi kvar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19040" y="5002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09400" y="493020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treći kvar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04000" y="5551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medij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239840" y="2795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03640" y="2924280"/>
          <a:ext cx="280836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2924280"/>
                    <a:ext cx="28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24B1-3438-4854-BDCC-3CD0A92F08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24DB292-D764-4372-9355-D2B523C3F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979640" y="1844640"/>
          <a:ext cx="252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252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2268360" y="765000"/>
            <a:ext cx="462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JERA ZAOBLJ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(koeficijent zaobljenos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651640" y="2133720"/>
          <a:ext cx="2016000" cy="57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133720"/>
                    <a:ext cx="2016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611280" y="3429000"/>
            <a:ext cx="792144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rojčana mjera zaobljenosti modalnog vrha     distrib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oeficijent zaobljenosti normalne distribucije j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Zaobljenost vrha empirijske distribucije se uspoređuje sa zaobljenošću vrha normalne distribu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53DC-DD75-4B50-8F5F-05FEB3CE265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9CA0CBC-5B4A-4008-885B-F99B957B3A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611280" y="1125360"/>
          <a:ext cx="763272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25360"/>
                    <a:ext cx="763272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DE3-27CD-4598-A4EF-18AC04ECCF2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E95A3-DE73-44C8-ABCF-D661B8B700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4608360" y="2287080"/>
            <a:ext cx="3058920" cy="2870280"/>
            <a:chOff x="4608360" y="2287080"/>
            <a:chExt cx="3058920" cy="2870280"/>
          </a:xfrm>
        </p:grpSpPr>
        <p:sp>
          <p:nvSpPr>
            <p:cNvPr id="289" name=""/>
            <p:cNvSpPr/>
            <p:nvPr/>
          </p:nvSpPr>
          <p:spPr>
            <a:xfrm>
              <a:off x="4608360" y="515592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608360" y="228708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928760" y="2976480"/>
              <a:ext cx="2511360" cy="1900080"/>
              <a:chOff x="4928760" y="2976480"/>
              <a:chExt cx="2511360" cy="190008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177960" y="2976480"/>
                <a:ext cx="126216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28760" y="2976480"/>
                <a:ext cx="126216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826920" y="776160"/>
            <a:ext cx="78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4000" y="2023920"/>
            <a:ext cx="33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4680" y="3159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6280" y="4599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63640" y="2421000"/>
                <a:ext cx="1800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868320" y="3860640"/>
                <a:ext cx="1935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014480" y="5391000"/>
                <a:ext cx="17859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284720" y="234936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451640" y="537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732720" y="3213000"/>
                <a:ext cx="8413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72A-C307-4C43-A8BF-DFA03E088A3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99028-72C9-4C55-B2F2-E653EF9C6C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2239920"/>
            <a:ext cx="33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0680" y="3375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72280" y="4815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79640" y="2637000"/>
                <a:ext cx="1800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084320" y="4076640"/>
                <a:ext cx="1935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230480" y="5607000"/>
                <a:ext cx="1785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500720" y="2565360"/>
                <a:ext cx="266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667640" y="5589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611280" y="1197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826160" y="2669760"/>
            <a:ext cx="3058920" cy="2846520"/>
            <a:chOff x="4826160" y="2669760"/>
            <a:chExt cx="3058920" cy="2846520"/>
          </a:xfrm>
        </p:grpSpPr>
        <p:sp>
          <p:nvSpPr>
            <p:cNvPr id="314" name=""/>
            <p:cNvSpPr/>
            <p:nvPr/>
          </p:nvSpPr>
          <p:spPr>
            <a:xfrm>
              <a:off x="4826160" y="551484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826160" y="2669760"/>
              <a:ext cx="0" cy="284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146560" y="3353400"/>
              <a:ext cx="2510280" cy="1884240"/>
              <a:chOff x="5146560" y="3353400"/>
              <a:chExt cx="2510280" cy="1884240"/>
            </a:xfrm>
          </p:grpSpPr>
          <p:sp>
            <p:nvSpPr>
              <p:cNvPr id="317" name=""/>
              <p:cNvSpPr/>
              <p:nvPr/>
            </p:nvSpPr>
            <p:spPr>
              <a:xfrm flipH="1">
                <a:off x="6394680" y="3353400"/>
                <a:ext cx="1261800" cy="18842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46560" y="3353400"/>
                <a:ext cx="1261800" cy="18842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150880" y="2842920"/>
              <a:ext cx="2501640" cy="2515680"/>
              <a:chOff x="5150880" y="2842920"/>
              <a:chExt cx="2501640" cy="2515680"/>
            </a:xfrm>
          </p:grpSpPr>
          <p:sp>
            <p:nvSpPr>
              <p:cNvPr id="320" name=""/>
              <p:cNvSpPr/>
              <p:nvPr/>
            </p:nvSpPr>
            <p:spPr>
              <a:xfrm>
                <a:off x="6397200" y="2842920"/>
                <a:ext cx="1255320" cy="251568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5150520" y="2842920"/>
                <a:ext cx="1255320" cy="251568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732720" y="2852640"/>
                <a:ext cx="89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B9A-2C7A-424B-8A23-5A930BD7FEE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84B0F-58D6-4190-B7AB-AE26ADF065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539640" y="2239920"/>
            <a:ext cx="339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Normal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0680" y="337500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oblj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72280" y="4815000"/>
            <a:ext cx="31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- Distribucija s v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spuštenijim od norm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79640" y="2637000"/>
                <a:ext cx="1800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084320" y="4076640"/>
                <a:ext cx="1935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230480" y="5607000"/>
                <a:ext cx="17856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κ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500720" y="2798640"/>
                <a:ext cx="266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667640" y="5589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755640" y="8571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 modalnog vrha distribu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826160" y="2707920"/>
            <a:ext cx="3058920" cy="2870280"/>
            <a:chOff x="4826160" y="2707920"/>
            <a:chExt cx="3058920" cy="2870280"/>
          </a:xfrm>
        </p:grpSpPr>
        <p:sp>
          <p:nvSpPr>
            <p:cNvPr id="333" name=""/>
            <p:cNvSpPr/>
            <p:nvPr/>
          </p:nvSpPr>
          <p:spPr>
            <a:xfrm>
              <a:off x="4826160" y="557676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826160" y="270792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146560" y="3397320"/>
              <a:ext cx="2510280" cy="1900080"/>
              <a:chOff x="5146560" y="3397320"/>
              <a:chExt cx="2510280" cy="190008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6394680" y="3397320"/>
                <a:ext cx="126180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46560" y="3397320"/>
                <a:ext cx="1261800" cy="190008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150880" y="2882880"/>
              <a:ext cx="2501640" cy="2536920"/>
              <a:chOff x="5150880" y="2882880"/>
              <a:chExt cx="2501640" cy="2536920"/>
            </a:xfrm>
          </p:grpSpPr>
          <p:sp>
            <p:nvSpPr>
              <p:cNvPr id="339" name=""/>
              <p:cNvSpPr/>
              <p:nvPr/>
            </p:nvSpPr>
            <p:spPr>
              <a:xfrm>
                <a:off x="6397200" y="2882880"/>
                <a:ext cx="1255320" cy="253692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150520" y="2882880"/>
                <a:ext cx="1255320" cy="2536920"/>
              </a:xfrm>
              <a:custGeom>
                <a:avLst/>
                <a:gdLst/>
                <a:ahLst/>
                <a:rect l="l" t="t" r="r" b="b"/>
                <a:pathLst>
                  <a:path w="791" h="1598">
                    <a:moveTo>
                      <a:pt x="791" y="1598"/>
                    </a:moveTo>
                    <a:cubicBezTo>
                      <a:pt x="767" y="1589"/>
                      <a:pt x="691" y="1581"/>
                      <a:pt x="647" y="1550"/>
                    </a:cubicBezTo>
                    <a:cubicBezTo>
                      <a:pt x="603" y="1519"/>
                      <a:pt x="562" y="1469"/>
                      <a:pt x="527" y="1410"/>
                    </a:cubicBezTo>
                    <a:cubicBezTo>
                      <a:pt x="492" y="1351"/>
                      <a:pt x="462" y="1275"/>
                      <a:pt x="435" y="1194"/>
                    </a:cubicBezTo>
                    <a:cubicBezTo>
                      <a:pt x="408" y="1113"/>
                      <a:pt x="387" y="1008"/>
                      <a:pt x="367" y="922"/>
                    </a:cubicBezTo>
                    <a:cubicBezTo>
                      <a:pt x="347" y="836"/>
                      <a:pt x="334" y="762"/>
                      <a:pt x="315" y="678"/>
                    </a:cubicBezTo>
                    <a:cubicBezTo>
                      <a:pt x="296" y="594"/>
                      <a:pt x="278" y="501"/>
                      <a:pt x="255" y="418"/>
                    </a:cubicBezTo>
                    <a:cubicBezTo>
                      <a:pt x="232" y="335"/>
                      <a:pt x="202" y="242"/>
                      <a:pt x="179" y="182"/>
                    </a:cubicBezTo>
                    <a:cubicBezTo>
                      <a:pt x="156" y="122"/>
                      <a:pt x="137" y="86"/>
                      <a:pt x="115" y="57"/>
                    </a:cubicBezTo>
                    <a:cubicBezTo>
                      <a:pt x="93" y="28"/>
                      <a:pt x="68" y="19"/>
                      <a:pt x="49" y="9"/>
                    </a:cubicBezTo>
                    <a:cubicBezTo>
                      <a:pt x="30" y="0"/>
                      <a:pt x="10" y="4"/>
                      <a:pt x="0" y="2"/>
                    </a:cubicBezTo>
                  </a:path>
                </a:pathLst>
              </a:custGeom>
              <a:noFill/>
              <a:ln w="38160">
                <a:solidFill>
                  <a:srgbClr val="33cc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125680" y="4263840"/>
              <a:ext cx="2552760" cy="958680"/>
              <a:chOff x="5125680" y="4263840"/>
              <a:chExt cx="2552760" cy="958680"/>
            </a:xfrm>
          </p:grpSpPr>
          <p:sp>
            <p:nvSpPr>
              <p:cNvPr id="342" name=""/>
              <p:cNvSpPr/>
              <p:nvPr/>
            </p:nvSpPr>
            <p:spPr>
              <a:xfrm>
                <a:off x="6402240" y="4263840"/>
                <a:ext cx="1276200" cy="958680"/>
              </a:xfrm>
              <a:custGeom>
                <a:avLst/>
                <a:gdLst/>
                <a:ahLst/>
                <a:rect l="l" t="t" r="r" b="b"/>
                <a:pathLst>
                  <a:path w="804" h="604">
                    <a:moveTo>
                      <a:pt x="804" y="604"/>
                    </a:moveTo>
                    <a:cubicBezTo>
                      <a:pt x="787" y="600"/>
                      <a:pt x="740" y="593"/>
                      <a:pt x="696" y="580"/>
                    </a:cubicBezTo>
                    <a:cubicBezTo>
                      <a:pt x="652" y="567"/>
                      <a:pt x="590" y="553"/>
                      <a:pt x="540" y="528"/>
                    </a:cubicBezTo>
                    <a:cubicBezTo>
                      <a:pt x="490" y="503"/>
                      <a:pt x="437" y="470"/>
                      <a:pt x="396" y="432"/>
                    </a:cubicBezTo>
                    <a:cubicBezTo>
                      <a:pt x="355" y="394"/>
                      <a:pt x="327" y="349"/>
                      <a:pt x="293" y="298"/>
                    </a:cubicBezTo>
                    <a:cubicBezTo>
                      <a:pt x="259" y="247"/>
                      <a:pt x="221" y="167"/>
                      <a:pt x="192" y="124"/>
                    </a:cubicBezTo>
                    <a:cubicBezTo>
                      <a:pt x="163" y="81"/>
                      <a:pt x="139" y="59"/>
                      <a:pt x="116" y="40"/>
                    </a:cubicBezTo>
                    <a:cubicBezTo>
                      <a:pt x="93" y="21"/>
                      <a:pt x="75" y="19"/>
                      <a:pt x="56" y="12"/>
                    </a:cubicBezTo>
                    <a:cubicBezTo>
                      <a:pt x="37" y="5"/>
                      <a:pt x="12" y="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125320" y="4263840"/>
                <a:ext cx="1276200" cy="958680"/>
              </a:xfrm>
              <a:custGeom>
                <a:avLst/>
                <a:gdLst/>
                <a:ahLst/>
                <a:rect l="l" t="t" r="r" b="b"/>
                <a:pathLst>
                  <a:path w="804" h="604">
                    <a:moveTo>
                      <a:pt x="804" y="604"/>
                    </a:moveTo>
                    <a:cubicBezTo>
                      <a:pt x="787" y="600"/>
                      <a:pt x="740" y="593"/>
                      <a:pt x="696" y="580"/>
                    </a:cubicBezTo>
                    <a:cubicBezTo>
                      <a:pt x="652" y="567"/>
                      <a:pt x="590" y="553"/>
                      <a:pt x="540" y="528"/>
                    </a:cubicBezTo>
                    <a:cubicBezTo>
                      <a:pt x="490" y="503"/>
                      <a:pt x="437" y="470"/>
                      <a:pt x="396" y="432"/>
                    </a:cubicBezTo>
                    <a:cubicBezTo>
                      <a:pt x="355" y="394"/>
                      <a:pt x="327" y="349"/>
                      <a:pt x="293" y="298"/>
                    </a:cubicBezTo>
                    <a:cubicBezTo>
                      <a:pt x="259" y="247"/>
                      <a:pt x="221" y="167"/>
                      <a:pt x="192" y="124"/>
                    </a:cubicBezTo>
                    <a:cubicBezTo>
                      <a:pt x="163" y="81"/>
                      <a:pt x="139" y="59"/>
                      <a:pt x="116" y="40"/>
                    </a:cubicBezTo>
                    <a:cubicBezTo>
                      <a:pt x="93" y="21"/>
                      <a:pt x="75" y="19"/>
                      <a:pt x="56" y="12"/>
                    </a:cubicBezTo>
                    <a:cubicBezTo>
                      <a:pt x="37" y="5"/>
                      <a:pt x="12" y="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7308720" y="4886280"/>
                <a:ext cx="9367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6732720" y="4581360"/>
            <a:ext cx="57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36E-1328-48BF-8A06-89A962FDF6F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27D4B-275D-4EEC-BE57-98F27498B1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2050920" y="2358720"/>
            <a:ext cx="3059280" cy="2870280"/>
            <a:chOff x="2050920" y="2358720"/>
            <a:chExt cx="3059280" cy="2870280"/>
          </a:xfrm>
        </p:grpSpPr>
        <p:sp>
          <p:nvSpPr>
            <p:cNvPr id="347" name=""/>
            <p:cNvSpPr/>
            <p:nvPr/>
          </p:nvSpPr>
          <p:spPr>
            <a:xfrm>
              <a:off x="2050920" y="522756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50920" y="2358720"/>
              <a:ext cx="0" cy="287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2373480" y="2755800"/>
              <a:ext cx="2571120" cy="2106720"/>
              <a:chOff x="2373480" y="2755800"/>
              <a:chExt cx="2571120" cy="210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2373480" y="2755800"/>
                <a:ext cx="1282680" cy="2106720"/>
              </a:xfrm>
              <a:custGeom>
                <a:avLst/>
                <a:gdLst/>
                <a:ahLst/>
                <a:rect l="l" t="t" r="r" b="b"/>
                <a:pathLst>
                  <a:path w="808" h="1327">
                    <a:moveTo>
                      <a:pt x="0" y="0"/>
                    </a:moveTo>
                    <a:cubicBezTo>
                      <a:pt x="9" y="44"/>
                      <a:pt x="29" y="170"/>
                      <a:pt x="48" y="264"/>
                    </a:cubicBezTo>
                    <a:cubicBezTo>
                      <a:pt x="67" y="358"/>
                      <a:pt x="92" y="472"/>
                      <a:pt x="116" y="564"/>
                    </a:cubicBezTo>
                    <a:cubicBezTo>
                      <a:pt x="140" y="656"/>
                      <a:pt x="163" y="737"/>
                      <a:pt x="192" y="816"/>
                    </a:cubicBezTo>
                    <a:cubicBezTo>
                      <a:pt x="221" y="895"/>
                      <a:pt x="247" y="975"/>
                      <a:pt x="288" y="1040"/>
                    </a:cubicBezTo>
                    <a:cubicBezTo>
                      <a:pt x="329" y="1105"/>
                      <a:pt x="376" y="1163"/>
                      <a:pt x="436" y="1208"/>
                    </a:cubicBezTo>
                    <a:cubicBezTo>
                      <a:pt x="496" y="1253"/>
                      <a:pt x="586" y="1289"/>
                      <a:pt x="648" y="1308"/>
                    </a:cubicBezTo>
                    <a:cubicBezTo>
                      <a:pt x="710" y="1327"/>
                      <a:pt x="781" y="1322"/>
                      <a:pt x="808" y="13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661560" y="2755800"/>
                <a:ext cx="1282680" cy="2106720"/>
              </a:xfrm>
              <a:custGeom>
                <a:avLst/>
                <a:gdLst/>
                <a:ahLst/>
                <a:rect l="l" t="t" r="r" b="b"/>
                <a:pathLst>
                  <a:path w="808" h="1327">
                    <a:moveTo>
                      <a:pt x="0" y="0"/>
                    </a:moveTo>
                    <a:cubicBezTo>
                      <a:pt x="9" y="44"/>
                      <a:pt x="29" y="170"/>
                      <a:pt x="48" y="264"/>
                    </a:cubicBezTo>
                    <a:cubicBezTo>
                      <a:pt x="67" y="358"/>
                      <a:pt x="92" y="472"/>
                      <a:pt x="116" y="564"/>
                    </a:cubicBezTo>
                    <a:cubicBezTo>
                      <a:pt x="140" y="656"/>
                      <a:pt x="163" y="737"/>
                      <a:pt x="192" y="816"/>
                    </a:cubicBezTo>
                    <a:cubicBezTo>
                      <a:pt x="221" y="895"/>
                      <a:pt x="247" y="975"/>
                      <a:pt x="288" y="1040"/>
                    </a:cubicBezTo>
                    <a:cubicBezTo>
                      <a:pt x="329" y="1105"/>
                      <a:pt x="376" y="1163"/>
                      <a:pt x="436" y="1208"/>
                    </a:cubicBezTo>
                    <a:cubicBezTo>
                      <a:pt x="496" y="1253"/>
                      <a:pt x="586" y="1289"/>
                      <a:pt x="648" y="1308"/>
                    </a:cubicBezTo>
                    <a:cubicBezTo>
                      <a:pt x="710" y="1327"/>
                      <a:pt x="781" y="1322"/>
                      <a:pt x="808" y="132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2055960" y="4089240"/>
              <a:ext cx="299700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692360" y="249228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859280" y="537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508720" y="2843280"/>
            <a:ext cx="262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U -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724360" y="3213000"/>
                <a:ext cx="914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932360" y="3141720"/>
            <a:ext cx="43164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08720" y="3922560"/>
            <a:ext cx="237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avokut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867280" y="4653000"/>
                <a:ext cx="9144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2376360" y="631800"/>
            <a:ext cx="49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Posebni oblici distribucija pr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zaoblje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160-6781-4973-A3BD-2E3AD9D9C02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A4468-F6EA-4E54-99C7-1758A17B47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311120" y="1139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5120" y="343080"/>
            <a:ext cx="8157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jer (distribucija frekvencij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Verdana"/>
              </a:rPr>
              <a:t>Zaposleni u prerađivačkoj industriji u županiji 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Verdana"/>
              </a:rPr>
              <a:t>stanje 30.8.2003. godine, prema godinama star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759280" cy="34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F8B-53AA-4CCB-9158-84A62A17891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FC691-8307-4A9B-A291-31A8B4DC0B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5219640" y="549360"/>
          <a:ext cx="273708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549360"/>
                    <a:ext cx="27370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826920" y="692280"/>
          <a:ext cx="331344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692280"/>
                    <a:ext cx="3313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2195640" y="4221000"/>
          <a:ext cx="4897440" cy="14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4221000"/>
                    <a:ext cx="489744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E83-338F-4999-B523-047F805247C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00C99-906B-4895-85EF-97A130DFF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95280" y="333360"/>
            <a:ext cx="8424720" cy="1535760"/>
            <a:chOff x="395280" y="333360"/>
            <a:chExt cx="8424720" cy="1535760"/>
          </a:xfrm>
        </p:grpSpPr>
        <p:sp>
          <p:nvSpPr>
            <p:cNvPr id="141" name=""/>
            <p:cNvSpPr/>
            <p:nvPr/>
          </p:nvSpPr>
          <p:spPr>
            <a:xfrm>
              <a:off x="2572920" y="333360"/>
              <a:ext cx="29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MJERE ASIMETRI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5280" y="1165320"/>
              <a:ext cx="842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jerama asimetrije se mjeri način rasporeda podataka prema nekoj srednjoj vrijednosti, odnosno osi simetri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5120" y="2276640"/>
            <a:ext cx="5157720" cy="1715760"/>
            <a:chOff x="735120" y="2276640"/>
            <a:chExt cx="5157720" cy="1715760"/>
          </a:xfrm>
        </p:grpSpPr>
        <p:sp>
          <p:nvSpPr>
            <p:cNvPr id="144" name=""/>
            <p:cNvSpPr/>
            <p:nvPr/>
          </p:nvSpPr>
          <p:spPr>
            <a:xfrm>
              <a:off x="735120" y="2276640"/>
              <a:ext cx="49086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r-HR" sz="2000" spc="-1" strike="noStrike">
                  <a:solidFill>
                    <a:srgbClr val="3333cc"/>
                  </a:solidFill>
                  <a:latin typeface="Verdana"/>
                </a:rPr>
                <a:t>Mjere asimetrije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1. Koeficijent asimetrije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2. Pearsonova mjera asimetrij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000000"/>
                  </a:solidFill>
                  <a:latin typeface="Verdana"/>
                </a:rPr>
                <a:t>3. Bowleyjeva mjera asimetrije,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427640" y="2852640"/>
                  <a:ext cx="3427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435640" y="3213000"/>
                  <a:ext cx="368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5435640" y="3573360"/>
                  <a:ext cx="457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k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"/>
          <p:cNvSpPr/>
          <p:nvPr/>
        </p:nvSpPr>
        <p:spPr>
          <a:xfrm>
            <a:off x="684360" y="4005360"/>
            <a:ext cx="77040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Verdana"/>
              </a:rPr>
              <a:t>Raspored podataka može bi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etričan (mjere asimetrije su jednake nu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zitivno asimetričan (mjere asimetrije su veće od nu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gativno asimetričan (mjere asimetrije su manje od nu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AB2-260C-4438-AF9B-042934C78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5B2BA-90FB-44BB-AB85-4E18066897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05080" y="981000"/>
          <a:ext cx="547200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981000"/>
                    <a:ext cx="547200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1189080" y="3497400"/>
          <a:ext cx="6335640" cy="115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3497400"/>
                    <a:ext cx="63356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B927-E20C-41A7-8DA9-6AB28D706A6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6836D-A8D1-4C20-9FCC-A7583ACE0B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138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1042920" y="3789360"/>
            <a:ext cx="7129440" cy="2376360"/>
            <a:chOff x="1042920" y="3789360"/>
            <a:chExt cx="7129440" cy="2376360"/>
          </a:xfrm>
        </p:grpSpPr>
        <p:graphicFrame>
          <p:nvGraphicFramePr>
            <p:cNvPr id="376" name=""/>
            <p:cNvGraphicFramePr/>
            <p:nvPr/>
          </p:nvGraphicFramePr>
          <p:xfrm>
            <a:off x="1260360" y="3933720"/>
            <a:ext cx="1440000" cy="194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60360" y="3933720"/>
                      <a:ext cx="144000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8" name=""/>
            <p:cNvSpPr/>
            <p:nvPr/>
          </p:nvSpPr>
          <p:spPr>
            <a:xfrm>
              <a:off x="3963240" y="4599000"/>
              <a:ext cx="3530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blago pozitivno asimetrič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Verdana"/>
                </a:rPr>
                <a:t>distribuci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42920" y="3789360"/>
              <a:ext cx="1873440" cy="2376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76720" y="4508640"/>
              <a:ext cx="4895640" cy="865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16360" y="4869000"/>
              <a:ext cx="36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826920" y="404640"/>
            <a:ext cx="7490160" cy="12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9C4-C4B8-409D-90B4-F9DAFE547A3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5E99D-4161-45F2-9743-86D58670F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3" name=""/>
          <p:cNvGraphicFramePr/>
          <p:nvPr/>
        </p:nvGraphicFramePr>
        <p:xfrm>
          <a:off x="1258920" y="1557360"/>
          <a:ext cx="626436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26436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755640" y="4365720"/>
            <a:ext cx="7893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oeficijent zaobljenosti je manji od 3 što znač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a je vrh distribucije “spušteniji” u odnosu na v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ormalne distribu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B71-7450-4F00-AAA5-650C848ECCB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3CB18-F450-417C-A889-528573C8A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735120" y="538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12200" y="250920"/>
            <a:ext cx="639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rimjer (negrupirani numerički podac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5.25. Šošić I. (2003.) Primijenjena statistika. Zagr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          </a:t>
            </a:r>
            <a:r>
              <a:rPr b="1" i="1" lang="hr-HR" sz="2000" spc="-1" strike="noStrike">
                <a:solidFill>
                  <a:srgbClr val="6600ff"/>
                </a:solidFill>
                <a:latin typeface="Verdana"/>
              </a:rPr>
              <a:t>Školska knji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74640" y="1700280"/>
            <a:ext cx="8218440" cy="4344480"/>
            <a:chOff x="674640" y="1700280"/>
            <a:chExt cx="8218440" cy="4344480"/>
          </a:xfrm>
        </p:grpSpPr>
        <p:sp>
          <p:nvSpPr>
            <p:cNvPr id="389" name=""/>
            <p:cNvSpPr/>
            <p:nvPr/>
          </p:nvSpPr>
          <p:spPr>
            <a:xfrm>
              <a:off x="674640" y="1700280"/>
              <a:ext cx="8218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daci o plaćama zaposlenika, u kunama, tvrtke TRADE u rujnu 2002. godine. Podaci su dani u S-L dijagramu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26920" y="2816640"/>
              <a:ext cx="3616560" cy="32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  56888899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  0000111123344444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  56677777888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  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3  55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=1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Verdana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B24-1175-4077-84E3-518EC8E64CF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87724-6F02-45E5-BEBF-04DE018881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9200" y="508320"/>
            <a:ext cx="90648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ourier New"/>
              </a:rPr>
              <a:t>Osnovni pokazatelji za varijablu 'place‘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Broj vrijednosti.....       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Najmanja vrijednost..      1446.000   Najveca vrijednost..    4056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z - min..............        -1.675   z - max.............       2.796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S R E D I N 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Aritmeticka sredina...............................      2423.8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Medijan...........................................      2370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66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M J E R E  D I S P E R Z I J 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Raspon varijacije.................................      26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Varijanca.........................................      34078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3366ff"/>
                </a:solidFill>
                <a:latin typeface="Courier New"/>
              </a:rPr>
              <a:t>Standardna devijacija.............................       583.7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Koeficijent varijacije............................        24.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K O E F I C I J E N T  A S I M E T R I J E........        0.73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hr-HR" sz="1600" spc="-1" strike="noStrike">
                <a:solidFill>
                  <a:srgbClr val="ff0000"/>
                </a:solidFill>
                <a:latin typeface="Courier New"/>
              </a:rPr>
              <a:t>K O E F I C I J E N T  Z A O B L J E N O S T I....         3.3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41040" y="131760"/>
            <a:ext cx="71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Dani su neki rezultati obrade pomoću programa Stat Mas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7840" y="60102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0920" y="5300640"/>
            <a:ext cx="914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Umjereno pozitivno asimetrična distribucija podataka o plać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prosječnoj veličini plać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- Vrh distribucije je “zaobljeniji” u odnosu na normalnu distribuci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22B-50BE-4154-929C-1AF7ADE3AEC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70502-F91B-4B09-A49E-3C00EFC3C4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52640"/>
            <a:ext cx="813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tandardizirana mjera smjera i veličin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oeficijent asimetrije je potpuna mjera asimetrij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brojnik koeficijenta je treći glavni moment (on 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jenja predznak odstupanja vrijednosti od aritmeti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red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-da bi se uklonio utjecaj mjernih jedinica obilježja 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jeru asimetrije, u nazivniku je standardna devijaci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dignuta na treću potencij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KOEFICIJENT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1413000"/>
            <a:ext cx="309744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CA52-2A57-4CCA-91E6-7DA5EB5D5F6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108F439-82E0-4740-9286-FBB1503E01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993080" cy="46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0FB-B2E1-4D54-B687-D8B0BE85A2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38075-2BE4-4417-AC20-506B3B19D2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836640"/>
            <a:ext cx="799128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Mjere asimetrije koje se temelje na odnos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srednjih vrijednosti i kvart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- Pearsonova mjera asimetr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melji se na odnosima aritmetičke sredine, medijana i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0000"/>
                </a:solidFill>
                <a:latin typeface="Verdana"/>
              </a:rPr>
              <a:t>- Bowleyje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temelji se na odnosu kvartila i medij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9BF-0D5B-4C78-A399-041100BF81F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27C5B-C356-4174-A948-72562A4136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492360" y="5661000"/>
            <a:ext cx="1584360" cy="2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120" y="4665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3059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2200" y="3201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711520" y="2997360"/>
            <a:ext cx="3012840" cy="2472840"/>
            <a:chOff x="2711520" y="2997360"/>
            <a:chExt cx="3012840" cy="2472840"/>
          </a:xfrm>
        </p:grpSpPr>
        <p:sp>
          <p:nvSpPr>
            <p:cNvPr id="160" name=""/>
            <p:cNvSpPr/>
            <p:nvPr/>
          </p:nvSpPr>
          <p:spPr>
            <a:xfrm>
              <a:off x="2711520" y="5462280"/>
              <a:ext cx="301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11520" y="2997360"/>
              <a:ext cx="0" cy="24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015000" y="3197160"/>
              <a:ext cx="2485080" cy="1899720"/>
              <a:chOff x="3015000" y="3197160"/>
              <a:chExt cx="2485080" cy="1899720"/>
            </a:xfrm>
          </p:grpSpPr>
          <p:sp>
            <p:nvSpPr>
              <p:cNvPr id="163" name=""/>
              <p:cNvSpPr/>
              <p:nvPr/>
            </p:nvSpPr>
            <p:spPr>
              <a:xfrm>
                <a:off x="3015000" y="3197160"/>
                <a:ext cx="1242360" cy="189972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4257360" y="3197160"/>
                <a:ext cx="1242360" cy="189972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251600" y="3209760"/>
              <a:ext cx="1080" cy="22604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56000" y="227664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imetrič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40240" y="5661000"/>
                <a:ext cx="15364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103480" y="3346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340000" y="306864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580000" y="5445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525680" y="950760"/>
            <a:ext cx="57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dnosi srednjih vrijed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u distribuciji frekv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E2D-D734-4484-9302-694B78A4751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71056-6F18-43FB-BEAC-48DCAC9270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372360" y="5300640"/>
            <a:ext cx="1584360" cy="289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5229360"/>
            <a:ext cx="1584360" cy="287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36720" y="1888920"/>
            <a:ext cx="3058920" cy="2476800"/>
            <a:chOff x="936720" y="1888920"/>
            <a:chExt cx="3058920" cy="2476800"/>
          </a:xfrm>
        </p:grpSpPr>
        <p:sp>
          <p:nvSpPr>
            <p:cNvPr id="175" name=""/>
            <p:cNvSpPr/>
            <p:nvPr/>
          </p:nvSpPr>
          <p:spPr>
            <a:xfrm>
              <a:off x="936720" y="435456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36720" y="188892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301400" y="2062440"/>
              <a:ext cx="2128680" cy="2303280"/>
              <a:chOff x="1301400" y="2062440"/>
              <a:chExt cx="2128680" cy="2303280"/>
            </a:xfrm>
          </p:grpSpPr>
          <p:sp>
            <p:nvSpPr>
              <p:cNvPr id="178" name=""/>
              <p:cNvSpPr/>
              <p:nvPr/>
            </p:nvSpPr>
            <p:spPr>
              <a:xfrm>
                <a:off x="1301400" y="2062440"/>
                <a:ext cx="2128680" cy="2023920"/>
              </a:xfrm>
              <a:custGeom>
                <a:avLst/>
                <a:gdLst/>
                <a:ahLst/>
                <a:rect l="l" t="t" r="r" b="b"/>
                <a:pathLst>
                  <a:path w="1341" h="1275">
                    <a:moveTo>
                      <a:pt x="1341" y="1275"/>
                    </a:moveTo>
                    <a:cubicBezTo>
                      <a:pt x="1305" y="1266"/>
                      <a:pt x="1201" y="1254"/>
                      <a:pt x="1125" y="1224"/>
                    </a:cubicBezTo>
                    <a:cubicBezTo>
                      <a:pt x="1049" y="1194"/>
                      <a:pt x="948" y="1156"/>
                      <a:pt x="883" y="1097"/>
                    </a:cubicBezTo>
                    <a:cubicBezTo>
                      <a:pt x="818" y="1038"/>
                      <a:pt x="772" y="947"/>
                      <a:pt x="735" y="871"/>
                    </a:cubicBezTo>
                    <a:cubicBezTo>
                      <a:pt x="698" y="795"/>
                      <a:pt x="688" y="723"/>
                      <a:pt x="662" y="643"/>
                    </a:cubicBezTo>
                    <a:cubicBezTo>
                      <a:pt x="636" y="563"/>
                      <a:pt x="610" y="468"/>
                      <a:pt x="580" y="391"/>
                    </a:cubicBezTo>
                    <a:cubicBezTo>
                      <a:pt x="550" y="314"/>
                      <a:pt x="511" y="236"/>
                      <a:pt x="481" y="183"/>
                    </a:cubicBezTo>
                    <a:cubicBezTo>
                      <a:pt x="451" y="129"/>
                      <a:pt x="424" y="95"/>
                      <a:pt x="399" y="68"/>
                    </a:cubicBezTo>
                    <a:cubicBezTo>
                      <a:pt x="374" y="41"/>
                      <a:pt x="360" y="31"/>
                      <a:pt x="333" y="20"/>
                    </a:cubicBezTo>
                    <a:cubicBezTo>
                      <a:pt x="306" y="9"/>
                      <a:pt x="272" y="0"/>
                      <a:pt x="237" y="0"/>
                    </a:cubicBezTo>
                    <a:cubicBezTo>
                      <a:pt x="202" y="0"/>
                      <a:pt x="162" y="5"/>
                      <a:pt x="123" y="21"/>
                    </a:cubicBezTo>
                    <a:cubicBezTo>
                      <a:pt x="84" y="37"/>
                      <a:pt x="26" y="83"/>
                      <a:pt x="0" y="99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684080" y="2079720"/>
                <a:ext cx="1080" cy="228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687400" y="3800520"/>
                <a:ext cx="2880" cy="5400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963440" y="2211480"/>
                <a:ext cx="1080" cy="2135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5292720" y="1916280"/>
            <a:ext cx="3059280" cy="2485440"/>
            <a:chOff x="5292720" y="1916280"/>
            <a:chExt cx="3059280" cy="2485440"/>
          </a:xfrm>
        </p:grpSpPr>
        <p:sp>
          <p:nvSpPr>
            <p:cNvPr id="183" name=""/>
            <p:cNvSpPr/>
            <p:nvPr/>
          </p:nvSpPr>
          <p:spPr>
            <a:xfrm>
              <a:off x="5292720" y="4381200"/>
              <a:ext cx="305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292720" y="1916280"/>
              <a:ext cx="0" cy="24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57760" y="2098440"/>
              <a:ext cx="2129040" cy="2023920"/>
            </a:xfrm>
            <a:custGeom>
              <a:avLst/>
              <a:gdLst/>
              <a:ahLst/>
              <a:rect l="l" t="t" r="r" b="b"/>
              <a:pathLst>
                <a:path w="1341" h="1275">
                  <a:moveTo>
                    <a:pt x="1341" y="1275"/>
                  </a:moveTo>
                  <a:cubicBezTo>
                    <a:pt x="1305" y="1266"/>
                    <a:pt x="1201" y="1254"/>
                    <a:pt x="1125" y="1224"/>
                  </a:cubicBezTo>
                  <a:cubicBezTo>
                    <a:pt x="1049" y="1194"/>
                    <a:pt x="948" y="1156"/>
                    <a:pt x="883" y="1097"/>
                  </a:cubicBezTo>
                  <a:cubicBezTo>
                    <a:pt x="818" y="1038"/>
                    <a:pt x="772" y="947"/>
                    <a:pt x="735" y="871"/>
                  </a:cubicBezTo>
                  <a:cubicBezTo>
                    <a:pt x="698" y="795"/>
                    <a:pt x="688" y="723"/>
                    <a:pt x="662" y="643"/>
                  </a:cubicBezTo>
                  <a:cubicBezTo>
                    <a:pt x="636" y="563"/>
                    <a:pt x="610" y="468"/>
                    <a:pt x="580" y="391"/>
                  </a:cubicBezTo>
                  <a:cubicBezTo>
                    <a:pt x="550" y="314"/>
                    <a:pt x="511" y="236"/>
                    <a:pt x="481" y="183"/>
                  </a:cubicBezTo>
                  <a:cubicBezTo>
                    <a:pt x="451" y="129"/>
                    <a:pt x="424" y="95"/>
                    <a:pt x="399" y="68"/>
                  </a:cubicBezTo>
                  <a:cubicBezTo>
                    <a:pt x="374" y="41"/>
                    <a:pt x="360" y="31"/>
                    <a:pt x="333" y="20"/>
                  </a:cubicBezTo>
                  <a:cubicBezTo>
                    <a:pt x="306" y="9"/>
                    <a:pt x="272" y="0"/>
                    <a:pt x="237" y="0"/>
                  </a:cubicBezTo>
                  <a:cubicBezTo>
                    <a:pt x="202" y="0"/>
                    <a:pt x="162" y="5"/>
                    <a:pt x="123" y="21"/>
                  </a:cubicBezTo>
                  <a:cubicBezTo>
                    <a:pt x="84" y="37"/>
                    <a:pt x="26" y="83"/>
                    <a:pt x="0" y="99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680" y="2116080"/>
              <a:ext cx="1440" cy="228564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97560" y="3836880"/>
              <a:ext cx="3240" cy="539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23320" y="2247840"/>
              <a:ext cx="1440" cy="213480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932360" y="1989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39640" y="1989000"/>
                <a:ext cx="2667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28960" y="4437000"/>
                <a:ext cx="311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1080" y="4437000"/>
                <a:ext cx="311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877680" y="106848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Pozitivno asimetrič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995400"/>
            <a:ext cx="34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Negativno asimetrič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distrib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27280" y="443700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300720" y="4437000"/>
                <a:ext cx="216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776240" y="4437000"/>
                <a:ext cx="4194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04000" y="4437000"/>
                <a:ext cx="419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258920" y="4437000"/>
                <a:ext cx="4316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308720" y="4437000"/>
                <a:ext cx="4320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239840" y="517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372360" y="5300640"/>
                <a:ext cx="152388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03280" y="5229360"/>
                <a:ext cx="15242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M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BEE-B6FB-4FA2-981C-D23FB579C68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115ED-BE1A-44D9-AFB2-5974A50D05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32000" y="2714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EARSONOVA MJERA ASIMET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63480" y="1216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7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411280" y="907920"/>
          <a:ext cx="331308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907920"/>
                    <a:ext cx="331308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1042920" y="4437000"/>
            <a:ext cx="5401800" cy="2000160"/>
            <a:chOff x="1042920" y="4437000"/>
            <a:chExt cx="5401800" cy="2000160"/>
          </a:xfrm>
        </p:grpSpPr>
        <p:sp>
          <p:nvSpPr>
            <p:cNvPr id="210" name=""/>
            <p:cNvSpPr/>
            <p:nvPr/>
          </p:nvSpPr>
          <p:spPr>
            <a:xfrm>
              <a:off x="3283920" y="5305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11" name=""/>
            <p:cNvGraphicFramePr/>
            <p:nvPr/>
          </p:nvGraphicFramePr>
          <p:xfrm>
            <a:off x="1042920" y="4494240"/>
            <a:ext cx="957960" cy="1942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2920" y="4494240"/>
                      <a:ext cx="95796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2303640" y="4437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aritmetička sred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75840" y="494496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- m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75840" y="5449680"/>
              <a:ext cx="209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medij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75840" y="6026040"/>
              <a:ext cx="426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- standardna devij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21E6-F149-4B39-8C0C-69AFB7E9A51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C242B3-E9DC-47E7-8544-D8EAADDE2E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03640" y="5445000"/>
            <a:ext cx="237636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808360" y="1988640"/>
            <a:ext cx="3058920" cy="2467080"/>
            <a:chOff x="2808360" y="1988640"/>
            <a:chExt cx="3058920" cy="2467080"/>
          </a:xfrm>
        </p:grpSpPr>
        <p:sp>
          <p:nvSpPr>
            <p:cNvPr id="219" name=""/>
            <p:cNvSpPr/>
            <p:nvPr/>
          </p:nvSpPr>
          <p:spPr>
            <a:xfrm>
              <a:off x="2808360" y="4454640"/>
              <a:ext cx="305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08360" y="1988640"/>
              <a:ext cx="0" cy="246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116160" y="2189160"/>
              <a:ext cx="2523600" cy="1900440"/>
              <a:chOff x="3116160" y="2189160"/>
              <a:chExt cx="2523600" cy="1900440"/>
            </a:xfrm>
          </p:grpSpPr>
          <p:sp>
            <p:nvSpPr>
              <p:cNvPr id="222" name=""/>
              <p:cNvSpPr/>
              <p:nvPr/>
            </p:nvSpPr>
            <p:spPr>
              <a:xfrm>
                <a:off x="3116160" y="2189160"/>
                <a:ext cx="1261440" cy="19004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378320" y="2189160"/>
                <a:ext cx="1261440" cy="1900440"/>
              </a:xfrm>
              <a:custGeom>
                <a:avLst/>
                <a:gdLst/>
                <a:ahLst/>
                <a:rect l="l" t="t" r="r" b="b"/>
                <a:pathLst>
                  <a:path w="1347" h="2028">
                    <a:moveTo>
                      <a:pt x="0" y="2028"/>
                    </a:moveTo>
                    <a:cubicBezTo>
                      <a:pt x="55" y="1997"/>
                      <a:pt x="235" y="1938"/>
                      <a:pt x="332" y="1840"/>
                    </a:cubicBezTo>
                    <a:cubicBezTo>
                      <a:pt x="429" y="1742"/>
                      <a:pt x="518" y="1568"/>
                      <a:pt x="580" y="1440"/>
                    </a:cubicBezTo>
                    <a:cubicBezTo>
                      <a:pt x="642" y="1312"/>
                      <a:pt x="662" y="1204"/>
                      <a:pt x="706" y="1071"/>
                    </a:cubicBezTo>
                    <a:cubicBezTo>
                      <a:pt x="750" y="938"/>
                      <a:pt x="794" y="774"/>
                      <a:pt x="845" y="644"/>
                    </a:cubicBezTo>
                    <a:cubicBezTo>
                      <a:pt x="896" y="514"/>
                      <a:pt x="962" y="382"/>
                      <a:pt x="1013" y="291"/>
                    </a:cubicBezTo>
                    <a:cubicBezTo>
                      <a:pt x="1064" y="200"/>
                      <a:pt x="1110" y="142"/>
                      <a:pt x="1152" y="96"/>
                    </a:cubicBezTo>
                    <a:cubicBezTo>
                      <a:pt x="1194" y="50"/>
                      <a:pt x="1232" y="32"/>
                      <a:pt x="1264" y="16"/>
                    </a:cubicBezTo>
                    <a:cubicBezTo>
                      <a:pt x="1296" y="0"/>
                      <a:pt x="1330" y="6"/>
                      <a:pt x="1347" y="3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2484360" y="1557360"/>
            <a:ext cx="47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imetrična distribu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340000" y="213372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724360" y="4508640"/>
                <a:ext cx="2667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900000" y="41580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Odnosi kvartila i medij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u distribuciji frekv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348000" y="4437000"/>
                <a:ext cx="30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932360" y="4437000"/>
                <a:ext cx="317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140360" y="4508640"/>
                <a:ext cx="41904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348000" y="5056200"/>
                <a:ext cx="2158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 dr. sc. Mirjana Čižmeši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DD9-EE54-4DEA-8078-630F7166D12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21CF-48B9-4176-A143-B9E85C4FA3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2:46:30Z</dcterms:created>
  <dc:creator>Mirjana Čižmešija</dc:creator>
  <dc:description/>
  <dc:language>en-US</dc:language>
  <cp:lastModifiedBy>mcizmesija</cp:lastModifiedBy>
  <dcterms:modified xsi:type="dcterms:W3CDTF">2007-03-29T12:53:54Z</dcterms:modified>
  <cp:revision>51</cp:revision>
  <dc:subject/>
  <dc:title>Slide 1</dc:title>
</cp:coreProperties>
</file>