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A68-3391-4B89-930E-6F11E0B0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ABB-2FDB-4650-BF97-5E58324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AB8-B036-4B5A-96F2-5DA5D862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E36-C468-4935-8F60-76BB0D64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CA2C-9C78-4759-AD66-3564A734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0E5-1DFF-49A6-BD86-D76F672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0444-5FCF-4ABE-8278-8BE9C677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1188-D534-47B4-AEC6-6BE4A86E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C82-B233-45F5-87D3-3AE031B4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D039-8370-4846-A943-9D87C02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623-B359-4C66-91A7-C4083DB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758-8227-4B20-8479-71853F88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2CC-3E96-48AD-92D9-041DF5E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B72-3F70-49C7-B627-B526450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60E9-7541-4230-B09D-FE5627C1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C14-4B2A-4A28-AB4E-66E9464D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CDA-C680-4751-84C0-D5C5E330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8F50-B432-42CD-96D7-5C49CA9A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391A-302E-48DA-8C42-D98B59F8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0506-9603-4931-9C11-01FC97E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7223-9389-4A31-BDA4-AD1EA55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3B0D-8AE3-4852-821D-BDA9387E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FE3-B749-4E2C-AFE8-B2EE0037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00EE-D9B1-4327-AF59-2407BC9B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B3C7-6A39-4486-9C77-466967C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6B81-4BC9-487F-8FD7-267D137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1A8D-3DEF-4F41-B185-5C3DC04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B37E-7190-4382-BF83-6507C4A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DC7D-D0E5-41F5-AF34-3179F773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886C-44EE-433C-96DF-A11C2C03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834-CA58-4CCE-ABC5-41521FD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51D-32CB-40B2-9812-73531AA5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FC0-C1CC-47EC-B2F7-26A5DC2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793-C76B-4349-A0A1-1E37ABD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046-17B5-446E-BE56-1F83B5A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1E6-CAB0-4374-B253-83C1626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E014-2DA7-48E1-A580-A3F5926CBB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150-6EC9-435D-9EBF-819EADAB6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A96-9FBC-4823-9BBC-C789B47712E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87BD-2652-4737-A597-28B3EA515C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3A36-B869-4805-8EFA-7ACDB3CA445A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D7D-F45C-4F81-A2AC-CD94447FD2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76360" y="692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MJERE ASIMETR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 MJERA ZAOBLJE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4E10-1AB1-4D17-A8C2-DC76A5D65A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1C1636-E0C9-464B-987A-88EC7D754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32000" y="5445000"/>
            <a:ext cx="2232000" cy="9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5373720"/>
            <a:ext cx="2376360" cy="93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55640" y="220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081080" y="2204640"/>
            <a:ext cx="3059280" cy="2476800"/>
            <a:chOff x="1081080" y="2204640"/>
            <a:chExt cx="3059280" cy="2476800"/>
          </a:xfrm>
        </p:grpSpPr>
        <p:sp>
          <p:nvSpPr>
            <p:cNvPr id="236" name=""/>
            <p:cNvSpPr/>
            <p:nvPr/>
          </p:nvSpPr>
          <p:spPr>
            <a:xfrm>
              <a:off x="1081080" y="467028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81080" y="2204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446120" y="2378160"/>
              <a:ext cx="2129040" cy="2303280"/>
              <a:chOff x="1446120" y="2378160"/>
              <a:chExt cx="2129040" cy="2303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446120" y="2378160"/>
                <a:ext cx="2129040" cy="2023920"/>
              </a:xfrm>
              <a:custGeom>
                <a:avLst/>
                <a:gdLst/>
                <a:ahLst/>
                <a:rect l="l" t="t" r="r" b="b"/>
                <a:pathLst>
                  <a:path w="1341" h="1275">
                    <a:moveTo>
                      <a:pt x="1341" y="1275"/>
                    </a:moveTo>
                    <a:cubicBezTo>
                      <a:pt x="1305" y="1266"/>
                      <a:pt x="1201" y="1254"/>
                      <a:pt x="1125" y="1224"/>
                    </a:cubicBezTo>
                    <a:cubicBezTo>
                      <a:pt x="1049" y="1194"/>
                      <a:pt x="948" y="1156"/>
                      <a:pt x="883" y="1097"/>
                    </a:cubicBezTo>
                    <a:cubicBezTo>
                      <a:pt x="818" y="1038"/>
                      <a:pt x="772" y="947"/>
                      <a:pt x="735" y="871"/>
                    </a:cubicBezTo>
                    <a:cubicBezTo>
                      <a:pt x="698" y="795"/>
                      <a:pt x="688" y="723"/>
                      <a:pt x="662" y="643"/>
                    </a:cubicBezTo>
                    <a:cubicBezTo>
                      <a:pt x="636" y="563"/>
                      <a:pt x="610" y="468"/>
                      <a:pt x="580" y="391"/>
                    </a:cubicBezTo>
                    <a:cubicBezTo>
                      <a:pt x="550" y="314"/>
                      <a:pt x="511" y="236"/>
                      <a:pt x="481" y="183"/>
                    </a:cubicBezTo>
                    <a:cubicBezTo>
                      <a:pt x="451" y="129"/>
                      <a:pt x="424" y="95"/>
                      <a:pt x="399" y="68"/>
                    </a:cubicBezTo>
                    <a:cubicBezTo>
                      <a:pt x="374" y="41"/>
                      <a:pt x="360" y="31"/>
                      <a:pt x="333" y="20"/>
                    </a:cubicBezTo>
                    <a:cubicBezTo>
                      <a:pt x="306" y="9"/>
                      <a:pt x="272" y="0"/>
                      <a:pt x="237" y="0"/>
                    </a:cubicBezTo>
                    <a:cubicBezTo>
                      <a:pt x="202" y="0"/>
                      <a:pt x="162" y="5"/>
                      <a:pt x="123" y="21"/>
                    </a:cubicBezTo>
                    <a:cubicBezTo>
                      <a:pt x="84" y="37"/>
                      <a:pt x="26" y="83"/>
                      <a:pt x="0" y="9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828800" y="2395440"/>
                <a:ext cx="1440" cy="228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832120" y="4116240"/>
                <a:ext cx="3240" cy="540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108160" y="2527200"/>
                <a:ext cx="1440" cy="2135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5219640" y="2204640"/>
            <a:ext cx="3059280" cy="2486520"/>
            <a:chOff x="5219640" y="2204640"/>
            <a:chExt cx="3059280" cy="2486520"/>
          </a:xfrm>
        </p:grpSpPr>
        <p:sp>
          <p:nvSpPr>
            <p:cNvPr id="244" name=""/>
            <p:cNvSpPr/>
            <p:nvPr/>
          </p:nvSpPr>
          <p:spPr>
            <a:xfrm>
              <a:off x="5219640" y="467028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219640" y="2204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584680" y="2387520"/>
              <a:ext cx="2129040" cy="2024280"/>
            </a:xfrm>
            <a:custGeom>
              <a:avLst/>
              <a:gdLst/>
              <a:ahLst/>
              <a:rect l="l" t="t" r="r" b="b"/>
              <a:pathLst>
                <a:path w="1341" h="1275">
                  <a:moveTo>
                    <a:pt x="1341" y="1275"/>
                  </a:moveTo>
                  <a:cubicBezTo>
                    <a:pt x="1305" y="1266"/>
                    <a:pt x="1201" y="1254"/>
                    <a:pt x="1125" y="1224"/>
                  </a:cubicBezTo>
                  <a:cubicBezTo>
                    <a:pt x="1049" y="1194"/>
                    <a:pt x="948" y="1156"/>
                    <a:pt x="883" y="1097"/>
                  </a:cubicBezTo>
                  <a:cubicBezTo>
                    <a:pt x="818" y="1038"/>
                    <a:pt x="772" y="947"/>
                    <a:pt x="735" y="871"/>
                  </a:cubicBezTo>
                  <a:cubicBezTo>
                    <a:pt x="698" y="795"/>
                    <a:pt x="688" y="723"/>
                    <a:pt x="662" y="643"/>
                  </a:cubicBezTo>
                  <a:cubicBezTo>
                    <a:pt x="636" y="563"/>
                    <a:pt x="610" y="468"/>
                    <a:pt x="580" y="391"/>
                  </a:cubicBezTo>
                  <a:cubicBezTo>
                    <a:pt x="550" y="314"/>
                    <a:pt x="511" y="236"/>
                    <a:pt x="481" y="183"/>
                  </a:cubicBezTo>
                  <a:cubicBezTo>
                    <a:pt x="451" y="129"/>
                    <a:pt x="424" y="95"/>
                    <a:pt x="399" y="68"/>
                  </a:cubicBezTo>
                  <a:cubicBezTo>
                    <a:pt x="374" y="41"/>
                    <a:pt x="360" y="31"/>
                    <a:pt x="333" y="20"/>
                  </a:cubicBezTo>
                  <a:cubicBezTo>
                    <a:pt x="306" y="9"/>
                    <a:pt x="272" y="0"/>
                    <a:pt x="237" y="0"/>
                  </a:cubicBezTo>
                  <a:cubicBezTo>
                    <a:pt x="202" y="0"/>
                    <a:pt x="162" y="5"/>
                    <a:pt x="123" y="21"/>
                  </a:cubicBezTo>
                  <a:cubicBezTo>
                    <a:pt x="84" y="37"/>
                    <a:pt x="26" y="83"/>
                    <a:pt x="0" y="9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9600" y="2405160"/>
              <a:ext cx="1440" cy="22860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4480" y="4125960"/>
              <a:ext cx="3240" cy="539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0240" y="2536920"/>
              <a:ext cx="1440" cy="2135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5128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59280" y="220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5128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802800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037160" y="1042920"/>
            <a:ext cx="27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Pozitivno asimetr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1800" y="1052640"/>
            <a:ext cx="29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Negativno asimetr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479736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79640" y="4830840"/>
                <a:ext cx="4190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00360" y="4797360"/>
                <a:ext cx="317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32000" y="5516640"/>
                <a:ext cx="2158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796000" y="5445000"/>
                <a:ext cx="21589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236000" y="4724280"/>
                <a:ext cx="317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32720" y="4797360"/>
                <a:ext cx="419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156360" y="472428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258920" y="5445000"/>
            <a:ext cx="730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A13-DDA8-4985-B130-E88B64A5A11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4AF01-4ECE-40C4-B847-3FF6BD25BC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97160" y="2714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OWLEYJE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67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11280" y="1249200"/>
          <a:ext cx="43927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249200"/>
                    <a:ext cx="43927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4784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98720" y="4294080"/>
            <a:ext cx="2862000" cy="1656000"/>
            <a:chOff x="2898720" y="4294080"/>
            <a:chExt cx="2862000" cy="1656000"/>
          </a:xfrm>
        </p:grpSpPr>
        <p:graphicFrame>
          <p:nvGraphicFramePr>
            <p:cNvPr id="271" name=""/>
            <p:cNvGraphicFramePr/>
            <p:nvPr/>
          </p:nvGraphicFramePr>
          <p:xfrm>
            <a:off x="2898720" y="4294080"/>
            <a:ext cx="702000" cy="165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8720" y="4294080"/>
                      <a:ext cx="702000" cy="16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107240" y="4351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prvi kvar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19040" y="5002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09400" y="4930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treći kvar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04000" y="5551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medij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23984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03640" y="2924280"/>
          <a:ext cx="280836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2924280"/>
                    <a:ext cx="28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43BF-5DBC-4530-BAC2-8A2EA366B5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A69301-7675-4B04-A31E-5C565C2FB1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979640" y="1844640"/>
          <a:ext cx="252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252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68360" y="76500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JERA ZAOBLJ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koeficijent zaoblje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651640" y="2133720"/>
          <a:ext cx="201600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133720"/>
                    <a:ext cx="2016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11280" y="3429000"/>
            <a:ext cx="792144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ojčana mjera zaobljenosti modalnog vrha     distrib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oeficijent zaobljenosti normalne distribucije j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aobljenost vrha empirijske distribucije se uspoređuje sa zaobljenošću vrha normalne distribu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BF72-C9A0-4B24-928F-11A53819F0D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212CC5-BEE9-45BA-8E5A-B722DEC40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611280" y="1125360"/>
          <a:ext cx="763272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63272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F1C-2274-48EE-8E9C-EB56790E4E0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4B0E-CC83-407A-8636-18CC634BAF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608360" y="2287080"/>
            <a:ext cx="3058920" cy="2870280"/>
            <a:chOff x="4608360" y="2287080"/>
            <a:chExt cx="3058920" cy="2870280"/>
          </a:xfrm>
        </p:grpSpPr>
        <p:sp>
          <p:nvSpPr>
            <p:cNvPr id="289" name=""/>
            <p:cNvSpPr/>
            <p:nvPr/>
          </p:nvSpPr>
          <p:spPr>
            <a:xfrm>
              <a:off x="4608360" y="515592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608360" y="228708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928760" y="2976480"/>
              <a:ext cx="2511360" cy="1900080"/>
              <a:chOff x="4928760" y="2976480"/>
              <a:chExt cx="2511360" cy="190008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177960" y="2976480"/>
                <a:ext cx="126216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28760" y="2976480"/>
                <a:ext cx="126216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826920" y="776160"/>
            <a:ext cx="78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023920"/>
            <a:ext cx="33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680" y="3159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6280" y="4599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63640" y="2421000"/>
                <a:ext cx="1800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68320" y="3860640"/>
                <a:ext cx="1935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14480" y="5391000"/>
                <a:ext cx="1785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284720" y="234936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451640" y="537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732720" y="3213000"/>
                <a:ext cx="8413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977-4D22-412E-82B2-31C67444277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A2AFE-0CBB-422E-B5FF-0D23695766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2239920"/>
            <a:ext cx="33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0680" y="3375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72280" y="4815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79640" y="2637000"/>
                <a:ext cx="1800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084320" y="4076640"/>
                <a:ext cx="1935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230480" y="5607000"/>
                <a:ext cx="1785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500720" y="2565360"/>
                <a:ext cx="266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667640" y="5589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611280" y="1197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826160" y="2669760"/>
            <a:ext cx="3058920" cy="2846520"/>
            <a:chOff x="4826160" y="2669760"/>
            <a:chExt cx="3058920" cy="2846520"/>
          </a:xfrm>
        </p:grpSpPr>
        <p:sp>
          <p:nvSpPr>
            <p:cNvPr id="314" name=""/>
            <p:cNvSpPr/>
            <p:nvPr/>
          </p:nvSpPr>
          <p:spPr>
            <a:xfrm>
              <a:off x="4826160" y="551484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826160" y="2669760"/>
              <a:ext cx="0" cy="284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146560" y="3353400"/>
              <a:ext cx="2510280" cy="1884240"/>
              <a:chOff x="5146560" y="3353400"/>
              <a:chExt cx="2510280" cy="188424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6394680" y="3353400"/>
                <a:ext cx="1261800" cy="18842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6560" y="3353400"/>
                <a:ext cx="1261800" cy="18842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150880" y="2842920"/>
              <a:ext cx="2501640" cy="2515680"/>
              <a:chOff x="5150880" y="2842920"/>
              <a:chExt cx="2501640" cy="2515680"/>
            </a:xfrm>
          </p:grpSpPr>
          <p:sp>
            <p:nvSpPr>
              <p:cNvPr id="320" name=""/>
              <p:cNvSpPr/>
              <p:nvPr/>
            </p:nvSpPr>
            <p:spPr>
              <a:xfrm>
                <a:off x="6397200" y="2842920"/>
                <a:ext cx="1255320" cy="251568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150520" y="2842920"/>
                <a:ext cx="1255320" cy="251568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732720" y="2852640"/>
                <a:ext cx="89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45F-9ABC-48DB-9637-CE20E3A8F17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61A19-FA79-4036-88D5-2C497C6881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9640" y="2239920"/>
            <a:ext cx="33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0680" y="3375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2280" y="4815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79640" y="2637000"/>
                <a:ext cx="1800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84320" y="4076640"/>
                <a:ext cx="1935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230480" y="5607000"/>
                <a:ext cx="1785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500720" y="2798640"/>
                <a:ext cx="266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667640" y="5589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755640" y="8571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826160" y="2707920"/>
            <a:ext cx="3058920" cy="2870280"/>
            <a:chOff x="4826160" y="2707920"/>
            <a:chExt cx="3058920" cy="2870280"/>
          </a:xfrm>
        </p:grpSpPr>
        <p:sp>
          <p:nvSpPr>
            <p:cNvPr id="333" name=""/>
            <p:cNvSpPr/>
            <p:nvPr/>
          </p:nvSpPr>
          <p:spPr>
            <a:xfrm>
              <a:off x="4826160" y="557676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826160" y="270792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146560" y="3397320"/>
              <a:ext cx="2510280" cy="1900080"/>
              <a:chOff x="5146560" y="3397320"/>
              <a:chExt cx="2510280" cy="190008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6394680" y="3397320"/>
                <a:ext cx="126180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46560" y="3397320"/>
                <a:ext cx="126180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150880" y="2882880"/>
              <a:ext cx="2501640" cy="2536920"/>
              <a:chOff x="5150880" y="2882880"/>
              <a:chExt cx="2501640" cy="2536920"/>
            </a:xfrm>
          </p:grpSpPr>
          <p:sp>
            <p:nvSpPr>
              <p:cNvPr id="339" name=""/>
              <p:cNvSpPr/>
              <p:nvPr/>
            </p:nvSpPr>
            <p:spPr>
              <a:xfrm>
                <a:off x="6397200" y="2882880"/>
                <a:ext cx="1255320" cy="253692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150520" y="2882880"/>
                <a:ext cx="1255320" cy="253692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125680" y="4263840"/>
              <a:ext cx="2552760" cy="958680"/>
              <a:chOff x="5125680" y="4263840"/>
              <a:chExt cx="2552760" cy="958680"/>
            </a:xfrm>
          </p:grpSpPr>
          <p:sp>
            <p:nvSpPr>
              <p:cNvPr id="342" name=""/>
              <p:cNvSpPr/>
              <p:nvPr/>
            </p:nvSpPr>
            <p:spPr>
              <a:xfrm>
                <a:off x="6402240" y="4263840"/>
                <a:ext cx="1276200" cy="958680"/>
              </a:xfrm>
              <a:custGeom>
                <a:avLst/>
                <a:gdLst/>
                <a:ahLst/>
                <a:rect l="l" t="t" r="r" b="b"/>
                <a:pathLst>
                  <a:path w="804" h="604">
                    <a:moveTo>
                      <a:pt x="804" y="604"/>
                    </a:moveTo>
                    <a:cubicBezTo>
                      <a:pt x="787" y="600"/>
                      <a:pt x="740" y="593"/>
                      <a:pt x="696" y="580"/>
                    </a:cubicBezTo>
                    <a:cubicBezTo>
                      <a:pt x="652" y="567"/>
                      <a:pt x="590" y="553"/>
                      <a:pt x="540" y="528"/>
                    </a:cubicBezTo>
                    <a:cubicBezTo>
                      <a:pt x="490" y="503"/>
                      <a:pt x="437" y="470"/>
                      <a:pt x="396" y="432"/>
                    </a:cubicBezTo>
                    <a:cubicBezTo>
                      <a:pt x="355" y="394"/>
                      <a:pt x="327" y="349"/>
                      <a:pt x="293" y="298"/>
                    </a:cubicBezTo>
                    <a:cubicBezTo>
                      <a:pt x="259" y="247"/>
                      <a:pt x="221" y="167"/>
                      <a:pt x="192" y="124"/>
                    </a:cubicBezTo>
                    <a:cubicBezTo>
                      <a:pt x="163" y="81"/>
                      <a:pt x="139" y="59"/>
                      <a:pt x="116" y="40"/>
                    </a:cubicBezTo>
                    <a:cubicBezTo>
                      <a:pt x="93" y="21"/>
                      <a:pt x="75" y="19"/>
                      <a:pt x="56" y="12"/>
                    </a:cubicBezTo>
                    <a:cubicBezTo>
                      <a:pt x="37" y="5"/>
                      <a:pt x="12" y="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125320" y="4263840"/>
                <a:ext cx="1276200" cy="958680"/>
              </a:xfrm>
              <a:custGeom>
                <a:avLst/>
                <a:gdLst/>
                <a:ahLst/>
                <a:rect l="l" t="t" r="r" b="b"/>
                <a:pathLst>
                  <a:path w="804" h="604">
                    <a:moveTo>
                      <a:pt x="804" y="604"/>
                    </a:moveTo>
                    <a:cubicBezTo>
                      <a:pt x="787" y="600"/>
                      <a:pt x="740" y="593"/>
                      <a:pt x="696" y="580"/>
                    </a:cubicBezTo>
                    <a:cubicBezTo>
                      <a:pt x="652" y="567"/>
                      <a:pt x="590" y="553"/>
                      <a:pt x="540" y="528"/>
                    </a:cubicBezTo>
                    <a:cubicBezTo>
                      <a:pt x="490" y="503"/>
                      <a:pt x="437" y="470"/>
                      <a:pt x="396" y="432"/>
                    </a:cubicBezTo>
                    <a:cubicBezTo>
                      <a:pt x="355" y="394"/>
                      <a:pt x="327" y="349"/>
                      <a:pt x="293" y="298"/>
                    </a:cubicBezTo>
                    <a:cubicBezTo>
                      <a:pt x="259" y="247"/>
                      <a:pt x="221" y="167"/>
                      <a:pt x="192" y="124"/>
                    </a:cubicBezTo>
                    <a:cubicBezTo>
                      <a:pt x="163" y="81"/>
                      <a:pt x="139" y="59"/>
                      <a:pt x="116" y="40"/>
                    </a:cubicBezTo>
                    <a:cubicBezTo>
                      <a:pt x="93" y="21"/>
                      <a:pt x="75" y="19"/>
                      <a:pt x="56" y="12"/>
                    </a:cubicBezTo>
                    <a:cubicBezTo>
                      <a:pt x="37" y="5"/>
                      <a:pt x="12" y="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308720" y="4886280"/>
                <a:ext cx="936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732720" y="458136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317-2772-4BA6-B24A-9AF37990C90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0600A-4A32-4CBF-9799-FD66623B46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2050920" y="2358720"/>
            <a:ext cx="3059280" cy="2870280"/>
            <a:chOff x="2050920" y="2358720"/>
            <a:chExt cx="3059280" cy="2870280"/>
          </a:xfrm>
        </p:grpSpPr>
        <p:sp>
          <p:nvSpPr>
            <p:cNvPr id="347" name=""/>
            <p:cNvSpPr/>
            <p:nvPr/>
          </p:nvSpPr>
          <p:spPr>
            <a:xfrm>
              <a:off x="2050920" y="522756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50920" y="235872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373480" y="2755800"/>
              <a:ext cx="2571120" cy="2106720"/>
              <a:chOff x="2373480" y="2755800"/>
              <a:chExt cx="2571120" cy="210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2373480" y="2755800"/>
                <a:ext cx="1282680" cy="2106720"/>
              </a:xfrm>
              <a:custGeom>
                <a:avLst/>
                <a:gdLst/>
                <a:ahLst/>
                <a:rect l="l" t="t" r="r" b="b"/>
                <a:pathLst>
                  <a:path w="808" h="1327">
                    <a:moveTo>
                      <a:pt x="0" y="0"/>
                    </a:moveTo>
                    <a:cubicBezTo>
                      <a:pt x="9" y="44"/>
                      <a:pt x="29" y="170"/>
                      <a:pt x="48" y="264"/>
                    </a:cubicBezTo>
                    <a:cubicBezTo>
                      <a:pt x="67" y="358"/>
                      <a:pt x="92" y="472"/>
                      <a:pt x="116" y="564"/>
                    </a:cubicBezTo>
                    <a:cubicBezTo>
                      <a:pt x="140" y="656"/>
                      <a:pt x="163" y="737"/>
                      <a:pt x="192" y="816"/>
                    </a:cubicBezTo>
                    <a:cubicBezTo>
                      <a:pt x="221" y="895"/>
                      <a:pt x="247" y="975"/>
                      <a:pt x="288" y="1040"/>
                    </a:cubicBezTo>
                    <a:cubicBezTo>
                      <a:pt x="329" y="1105"/>
                      <a:pt x="376" y="1163"/>
                      <a:pt x="436" y="1208"/>
                    </a:cubicBezTo>
                    <a:cubicBezTo>
                      <a:pt x="496" y="1253"/>
                      <a:pt x="586" y="1289"/>
                      <a:pt x="648" y="1308"/>
                    </a:cubicBezTo>
                    <a:cubicBezTo>
                      <a:pt x="710" y="1327"/>
                      <a:pt x="781" y="1322"/>
                      <a:pt x="808" y="13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661560" y="2755800"/>
                <a:ext cx="1282680" cy="2106720"/>
              </a:xfrm>
              <a:custGeom>
                <a:avLst/>
                <a:gdLst/>
                <a:ahLst/>
                <a:rect l="l" t="t" r="r" b="b"/>
                <a:pathLst>
                  <a:path w="808" h="1327">
                    <a:moveTo>
                      <a:pt x="0" y="0"/>
                    </a:moveTo>
                    <a:cubicBezTo>
                      <a:pt x="9" y="44"/>
                      <a:pt x="29" y="170"/>
                      <a:pt x="48" y="264"/>
                    </a:cubicBezTo>
                    <a:cubicBezTo>
                      <a:pt x="67" y="358"/>
                      <a:pt x="92" y="472"/>
                      <a:pt x="116" y="564"/>
                    </a:cubicBezTo>
                    <a:cubicBezTo>
                      <a:pt x="140" y="656"/>
                      <a:pt x="163" y="737"/>
                      <a:pt x="192" y="816"/>
                    </a:cubicBezTo>
                    <a:cubicBezTo>
                      <a:pt x="221" y="895"/>
                      <a:pt x="247" y="975"/>
                      <a:pt x="288" y="1040"/>
                    </a:cubicBezTo>
                    <a:cubicBezTo>
                      <a:pt x="329" y="1105"/>
                      <a:pt x="376" y="1163"/>
                      <a:pt x="436" y="1208"/>
                    </a:cubicBezTo>
                    <a:cubicBezTo>
                      <a:pt x="496" y="1253"/>
                      <a:pt x="586" y="1289"/>
                      <a:pt x="648" y="1308"/>
                    </a:cubicBezTo>
                    <a:cubicBezTo>
                      <a:pt x="710" y="1327"/>
                      <a:pt x="781" y="1322"/>
                      <a:pt x="808" y="13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55960" y="4089240"/>
              <a:ext cx="299700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692360" y="2492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59280" y="537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508720" y="284328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 -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724360" y="3213000"/>
                <a:ext cx="914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932360" y="3141720"/>
            <a:ext cx="4316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392256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avokut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867280" y="4653000"/>
                <a:ext cx="914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2376360" y="63180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Posebni oblici distribucija 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CC7-8E70-47F5-A8E5-85EB541918E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2084-E1BD-4FCE-87CA-599449005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311120" y="113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5120" y="343080"/>
            <a:ext cx="81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jer (distribucija frekvencij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Verdana"/>
              </a:rPr>
              <a:t>Zaposleni u prerađivačkoj industriji u županiji 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Verdana"/>
              </a:rPr>
              <a:t>stanje 30.8.2003. godine, prema godinama star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759280" cy="34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229-801D-4C78-A937-32BA0B1BAEC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3B252-FEF8-4044-9726-4DDF5C553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5219640" y="549360"/>
          <a:ext cx="2737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549360"/>
                    <a:ext cx="2737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826920" y="692280"/>
          <a:ext cx="331344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692280"/>
                    <a:ext cx="3313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195640" y="4221000"/>
          <a:ext cx="4897440" cy="14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221000"/>
                    <a:ext cx="489744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1CE-9120-469C-B6FB-6F92B40C4C7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900E0-C485-43AA-B435-F7EF14140E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95280" y="333360"/>
            <a:ext cx="8424720" cy="1535760"/>
            <a:chOff x="395280" y="333360"/>
            <a:chExt cx="8424720" cy="1535760"/>
          </a:xfrm>
        </p:grpSpPr>
        <p:sp>
          <p:nvSpPr>
            <p:cNvPr id="141" name=""/>
            <p:cNvSpPr/>
            <p:nvPr/>
          </p:nvSpPr>
          <p:spPr>
            <a:xfrm>
              <a:off x="2572920" y="333360"/>
              <a:ext cx="29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MJERE ASIMETRI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280" y="1165320"/>
              <a:ext cx="842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jerama asimetrije se mjeri način rasporeda podataka prema nekoj srednjoj vrijednosti, odnosno osi simetri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5120" y="2276640"/>
            <a:ext cx="5157720" cy="1715760"/>
            <a:chOff x="735120" y="2276640"/>
            <a:chExt cx="5157720" cy="1715760"/>
          </a:xfrm>
        </p:grpSpPr>
        <p:sp>
          <p:nvSpPr>
            <p:cNvPr id="144" name=""/>
            <p:cNvSpPr/>
            <p:nvPr/>
          </p:nvSpPr>
          <p:spPr>
            <a:xfrm>
              <a:off x="735120" y="2276640"/>
              <a:ext cx="49086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000" spc="-1" strike="noStrike">
                  <a:solidFill>
                    <a:srgbClr val="3333cc"/>
                  </a:solidFill>
                  <a:latin typeface="Verdana"/>
                </a:rPr>
                <a:t>Mjere asimetrij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1. Koeficijent asimetrije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2. Pearsonova mjera asimetrij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3. Bowleyjeva mjera asimetrije,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427640" y="2852640"/>
                  <a:ext cx="3427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435640" y="3213000"/>
                  <a:ext cx="368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435640" y="3573360"/>
                  <a:ext cx="457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684360" y="4005360"/>
            <a:ext cx="77040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aspored podataka može bi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etričan (mjere asimetrije su jednake nu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zitivno asimetričan (mjere asimetrije su veće od n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gativno asimetričan (mjere asimetrije su manje od nu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C94-F01A-4AA6-A4D7-548BD4F1D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F8FD2-B747-47AE-B054-5A79D4F478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05080" y="981000"/>
          <a:ext cx="54720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981000"/>
                    <a:ext cx="5472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1189080" y="3497400"/>
          <a:ext cx="633564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3497400"/>
                    <a:ext cx="6335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3F6-75F1-4001-862D-58D571DB7E6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62F78-3D87-400E-B9D9-171C25122A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42920" y="3789360"/>
            <a:ext cx="7129440" cy="2376360"/>
            <a:chOff x="1042920" y="3789360"/>
            <a:chExt cx="7129440" cy="2376360"/>
          </a:xfrm>
        </p:grpSpPr>
        <p:graphicFrame>
          <p:nvGraphicFramePr>
            <p:cNvPr id="376" name=""/>
            <p:cNvGraphicFramePr/>
            <p:nvPr/>
          </p:nvGraphicFramePr>
          <p:xfrm>
            <a:off x="1260360" y="3933720"/>
            <a:ext cx="1440000" cy="194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60360" y="3933720"/>
                      <a:ext cx="144000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"/>
            <p:cNvSpPr/>
            <p:nvPr/>
          </p:nvSpPr>
          <p:spPr>
            <a:xfrm>
              <a:off x="3963240" y="4599000"/>
              <a:ext cx="353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blago pozitivno asimetrič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distribuci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2920" y="3789360"/>
              <a:ext cx="1873440" cy="2376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6720" y="4508640"/>
              <a:ext cx="4895640" cy="865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16360" y="4869000"/>
              <a:ext cx="36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826920" y="404640"/>
            <a:ext cx="7490160" cy="12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E81-C67E-4977-AA15-DC9F00F9E75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14FB3-884B-4E54-AC8E-027CE17A6D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58920" y="1557360"/>
          <a:ext cx="626436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264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55640" y="4365720"/>
            <a:ext cx="7893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oeficijent zaobljenosti je manji od 3 što zna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a je vrh distribucije “spušteniji” u odnosu na v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ormalne distrib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924-999C-44B9-8528-F58EB3DC57B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47CD2-140D-441F-B032-78443511A0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35120" y="538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12200" y="250920"/>
            <a:ext cx="639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rimjer (negrupirani numerički podac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5.25. Šošić I. (2003.) Primijenjena statistika. Zagr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          </a:t>
            </a: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Školska knji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74640" y="1700280"/>
            <a:ext cx="8218440" cy="4344480"/>
            <a:chOff x="674640" y="1700280"/>
            <a:chExt cx="8218440" cy="4344480"/>
          </a:xfrm>
        </p:grpSpPr>
        <p:sp>
          <p:nvSpPr>
            <p:cNvPr id="389" name=""/>
            <p:cNvSpPr/>
            <p:nvPr/>
          </p:nvSpPr>
          <p:spPr>
            <a:xfrm>
              <a:off x="674640" y="1700280"/>
              <a:ext cx="8218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daci o plaćama zaposlenika, u kunama, tvrtke TRADE u rujnu 2002. godine. Podaci su dani u S-L dijagram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6920" y="2816640"/>
              <a:ext cx="3616560" cy="32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  56888899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  000011112334444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  56677777888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  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  55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=1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921-5A7E-467F-9901-9D03D9EA95F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676CB-4D3D-48A0-9A84-3586C3D2FD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9200" y="508320"/>
            <a:ext cx="90648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urier New"/>
              </a:rPr>
              <a:t>Osnovni pokazatelji za varijablu 'place‘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Broj vrijednosti.....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Najmanja vrijednost..      1446.000   Najveca vrijednost..    4056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z - min..............        -1.675   z - max.............       2.796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S R E D I N 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Aritmeticka sredina...............................      2423.8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Medijan...........................................      2370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66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M J E R E  D I S P E R Z I J 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Raspon varijacije.................................      26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Varijanca.........................................      34078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Standardna devijacija.............................       583.7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Koeficijent varijacije............................        24.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K O E F I C I J E N T  A S I M E T R I J E........        0.73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K O E F I C I J E N T  Z A O B L J E N O S T I....         3.3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41040" y="13176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ani su neki rezultati obrade pomoću programa Stat Ma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7840" y="60102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300640"/>
            <a:ext cx="91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mjereno pozitivno asimetrična distribucija podataka o pla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prosječnoj veličini plać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Vrh distribucije je “zaobljeniji” u odnosu na normalnu distribuci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729-8FA3-46B9-AA03-E704C0B66F3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A1807-E0D4-4D4E-B367-1B12B3B8FE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52640"/>
            <a:ext cx="813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izirana mjera smjera i veličin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oeficijent asimetrije je potpuna mjera asimetri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brojnik koeficijenta je treći glavni moment (on 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jenja predznak odstupanja vrijednosti od aritmeti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re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da bi se uklonio utjecaj mjernih jedinica obilježja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jeru asimetrije, u nazivniku je standardna devij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dignuta na treću potenci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OEFICIJENT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09744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343-F9F2-458F-AF1B-623DE6EBF0E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F957D3-EF7A-454E-AFF2-68D177B5B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46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43D-39F6-497C-B2B8-87F476FD63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02F10-0479-440C-A9B2-F765B23B5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836640"/>
            <a:ext cx="79912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Mjere asimetrije koje se temelje na odnos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rednjih vrijednosti i kvart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- Pearsonova mjera asimetr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melji se na odnosima aritmetičke sredine, medijana i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- Bowleyje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melji se na odnosu kvartila i med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924-8FBB-4894-A1E8-90F32AE65E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1D400-4F46-4DCB-B492-B6BFC945FE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492360" y="5661000"/>
            <a:ext cx="1584360" cy="2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120" y="466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3059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3201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711520" y="2997360"/>
            <a:ext cx="3012840" cy="2472840"/>
            <a:chOff x="2711520" y="2997360"/>
            <a:chExt cx="3012840" cy="2472840"/>
          </a:xfrm>
        </p:grpSpPr>
        <p:sp>
          <p:nvSpPr>
            <p:cNvPr id="160" name=""/>
            <p:cNvSpPr/>
            <p:nvPr/>
          </p:nvSpPr>
          <p:spPr>
            <a:xfrm>
              <a:off x="2711520" y="5462280"/>
              <a:ext cx="301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11520" y="2997360"/>
              <a:ext cx="0" cy="24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015000" y="3197160"/>
              <a:ext cx="2485080" cy="1899720"/>
              <a:chOff x="3015000" y="3197160"/>
              <a:chExt cx="2485080" cy="189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3015000" y="3197160"/>
                <a:ext cx="1242360" cy="189972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4257360" y="3197160"/>
                <a:ext cx="1242360" cy="189972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251600" y="3209760"/>
              <a:ext cx="1080" cy="22604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56000" y="227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imetrič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40240" y="5661000"/>
                <a:ext cx="15364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103480" y="3346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340000" y="306864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80000" y="544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525680" y="950760"/>
            <a:ext cx="57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dnosi srednjih vrijed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u distribuciji frekv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E65-90AD-4A42-ABFB-2B968540B99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50D32-AA66-4EC4-9A57-AA3A917709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72360" y="5300640"/>
            <a:ext cx="1584360" cy="2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5229360"/>
            <a:ext cx="1584360" cy="28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36720" y="1888920"/>
            <a:ext cx="3058920" cy="2476800"/>
            <a:chOff x="936720" y="1888920"/>
            <a:chExt cx="3058920" cy="2476800"/>
          </a:xfrm>
        </p:grpSpPr>
        <p:sp>
          <p:nvSpPr>
            <p:cNvPr id="175" name=""/>
            <p:cNvSpPr/>
            <p:nvPr/>
          </p:nvSpPr>
          <p:spPr>
            <a:xfrm>
              <a:off x="936720" y="435456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36720" y="188892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301400" y="2062440"/>
              <a:ext cx="2128680" cy="2303280"/>
              <a:chOff x="1301400" y="2062440"/>
              <a:chExt cx="2128680" cy="2303280"/>
            </a:xfrm>
          </p:grpSpPr>
          <p:sp>
            <p:nvSpPr>
              <p:cNvPr id="178" name=""/>
              <p:cNvSpPr/>
              <p:nvPr/>
            </p:nvSpPr>
            <p:spPr>
              <a:xfrm>
                <a:off x="1301400" y="2062440"/>
                <a:ext cx="2128680" cy="2023920"/>
              </a:xfrm>
              <a:custGeom>
                <a:avLst/>
                <a:gdLst/>
                <a:ahLst/>
                <a:rect l="l" t="t" r="r" b="b"/>
                <a:pathLst>
                  <a:path w="1341" h="1275">
                    <a:moveTo>
                      <a:pt x="1341" y="1275"/>
                    </a:moveTo>
                    <a:cubicBezTo>
                      <a:pt x="1305" y="1266"/>
                      <a:pt x="1201" y="1254"/>
                      <a:pt x="1125" y="1224"/>
                    </a:cubicBezTo>
                    <a:cubicBezTo>
                      <a:pt x="1049" y="1194"/>
                      <a:pt x="948" y="1156"/>
                      <a:pt x="883" y="1097"/>
                    </a:cubicBezTo>
                    <a:cubicBezTo>
                      <a:pt x="818" y="1038"/>
                      <a:pt x="772" y="947"/>
                      <a:pt x="735" y="871"/>
                    </a:cubicBezTo>
                    <a:cubicBezTo>
                      <a:pt x="698" y="795"/>
                      <a:pt x="688" y="723"/>
                      <a:pt x="662" y="643"/>
                    </a:cubicBezTo>
                    <a:cubicBezTo>
                      <a:pt x="636" y="563"/>
                      <a:pt x="610" y="468"/>
                      <a:pt x="580" y="391"/>
                    </a:cubicBezTo>
                    <a:cubicBezTo>
                      <a:pt x="550" y="314"/>
                      <a:pt x="511" y="236"/>
                      <a:pt x="481" y="183"/>
                    </a:cubicBezTo>
                    <a:cubicBezTo>
                      <a:pt x="451" y="129"/>
                      <a:pt x="424" y="95"/>
                      <a:pt x="399" y="68"/>
                    </a:cubicBezTo>
                    <a:cubicBezTo>
                      <a:pt x="374" y="41"/>
                      <a:pt x="360" y="31"/>
                      <a:pt x="333" y="20"/>
                    </a:cubicBezTo>
                    <a:cubicBezTo>
                      <a:pt x="306" y="9"/>
                      <a:pt x="272" y="0"/>
                      <a:pt x="237" y="0"/>
                    </a:cubicBezTo>
                    <a:cubicBezTo>
                      <a:pt x="202" y="0"/>
                      <a:pt x="162" y="5"/>
                      <a:pt x="123" y="21"/>
                    </a:cubicBezTo>
                    <a:cubicBezTo>
                      <a:pt x="84" y="37"/>
                      <a:pt x="26" y="83"/>
                      <a:pt x="0" y="9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684080" y="2079720"/>
                <a:ext cx="1080" cy="228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687400" y="3800520"/>
                <a:ext cx="2880" cy="540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963440" y="2211480"/>
                <a:ext cx="1080" cy="2135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292720" y="1916280"/>
            <a:ext cx="3059280" cy="2485440"/>
            <a:chOff x="5292720" y="1916280"/>
            <a:chExt cx="3059280" cy="2485440"/>
          </a:xfrm>
        </p:grpSpPr>
        <p:sp>
          <p:nvSpPr>
            <p:cNvPr id="183" name=""/>
            <p:cNvSpPr/>
            <p:nvPr/>
          </p:nvSpPr>
          <p:spPr>
            <a:xfrm>
              <a:off x="5292720" y="438120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292720" y="1916280"/>
              <a:ext cx="0" cy="24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57760" y="2098440"/>
              <a:ext cx="2129040" cy="2023920"/>
            </a:xfrm>
            <a:custGeom>
              <a:avLst/>
              <a:gdLst/>
              <a:ahLst/>
              <a:rect l="l" t="t" r="r" b="b"/>
              <a:pathLst>
                <a:path w="1341" h="1275">
                  <a:moveTo>
                    <a:pt x="1341" y="1275"/>
                  </a:moveTo>
                  <a:cubicBezTo>
                    <a:pt x="1305" y="1266"/>
                    <a:pt x="1201" y="1254"/>
                    <a:pt x="1125" y="1224"/>
                  </a:cubicBezTo>
                  <a:cubicBezTo>
                    <a:pt x="1049" y="1194"/>
                    <a:pt x="948" y="1156"/>
                    <a:pt x="883" y="1097"/>
                  </a:cubicBezTo>
                  <a:cubicBezTo>
                    <a:pt x="818" y="1038"/>
                    <a:pt x="772" y="947"/>
                    <a:pt x="735" y="871"/>
                  </a:cubicBezTo>
                  <a:cubicBezTo>
                    <a:pt x="698" y="795"/>
                    <a:pt x="688" y="723"/>
                    <a:pt x="662" y="643"/>
                  </a:cubicBezTo>
                  <a:cubicBezTo>
                    <a:pt x="636" y="563"/>
                    <a:pt x="610" y="468"/>
                    <a:pt x="580" y="391"/>
                  </a:cubicBezTo>
                  <a:cubicBezTo>
                    <a:pt x="550" y="314"/>
                    <a:pt x="511" y="236"/>
                    <a:pt x="481" y="183"/>
                  </a:cubicBezTo>
                  <a:cubicBezTo>
                    <a:pt x="451" y="129"/>
                    <a:pt x="424" y="95"/>
                    <a:pt x="399" y="68"/>
                  </a:cubicBezTo>
                  <a:cubicBezTo>
                    <a:pt x="374" y="41"/>
                    <a:pt x="360" y="31"/>
                    <a:pt x="333" y="20"/>
                  </a:cubicBezTo>
                  <a:cubicBezTo>
                    <a:pt x="306" y="9"/>
                    <a:pt x="272" y="0"/>
                    <a:pt x="237" y="0"/>
                  </a:cubicBezTo>
                  <a:cubicBezTo>
                    <a:pt x="202" y="0"/>
                    <a:pt x="162" y="5"/>
                    <a:pt x="123" y="21"/>
                  </a:cubicBezTo>
                  <a:cubicBezTo>
                    <a:pt x="84" y="37"/>
                    <a:pt x="26" y="83"/>
                    <a:pt x="0" y="9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680" y="2116080"/>
              <a:ext cx="1440" cy="2285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97560" y="3836880"/>
              <a:ext cx="3240" cy="539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3320" y="2247840"/>
              <a:ext cx="1440" cy="21348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932360" y="1989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9640" y="1989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28960" y="4437000"/>
                <a:ext cx="31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1080" y="4437000"/>
                <a:ext cx="311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877680" y="106848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Pozitivno asimetrič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99540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Negativno asimetrič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27280" y="443700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300720" y="443700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6240" y="4437000"/>
                <a:ext cx="4194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04000" y="4437000"/>
                <a:ext cx="419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4437000"/>
                <a:ext cx="431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308720" y="4437000"/>
                <a:ext cx="432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239840" y="517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372360" y="5300640"/>
                <a:ext cx="1523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5229360"/>
                <a:ext cx="15242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CB3-BCEB-4F68-B498-FF4A0D83611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415D5-20F7-43BC-906C-32358CDA7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32000" y="2714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EARSONO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3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7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411280" y="907920"/>
          <a:ext cx="331308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907920"/>
                    <a:ext cx="33130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1042920" y="4437000"/>
            <a:ext cx="5401800" cy="2000160"/>
            <a:chOff x="1042920" y="4437000"/>
            <a:chExt cx="5401800" cy="2000160"/>
          </a:xfrm>
        </p:grpSpPr>
        <p:sp>
          <p:nvSpPr>
            <p:cNvPr id="210" name=""/>
            <p:cNvSpPr/>
            <p:nvPr/>
          </p:nvSpPr>
          <p:spPr>
            <a:xfrm>
              <a:off x="3283920" y="5305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1042920" y="4494240"/>
            <a:ext cx="95796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2920" y="4494240"/>
                      <a:ext cx="95796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2303640" y="4437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aritmetička sre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5840" y="494496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m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5840" y="5449680"/>
              <a:ext cx="20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medij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5840" y="6026040"/>
              <a:ext cx="42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standardna devij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D6F5-1D94-4233-9A6B-624505A47B3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2E06AF-16A4-4562-90DB-221F20B6B8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03640" y="5445000"/>
            <a:ext cx="237636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08360" y="1988640"/>
            <a:ext cx="3058920" cy="2467080"/>
            <a:chOff x="2808360" y="1988640"/>
            <a:chExt cx="3058920" cy="2467080"/>
          </a:xfrm>
        </p:grpSpPr>
        <p:sp>
          <p:nvSpPr>
            <p:cNvPr id="219" name=""/>
            <p:cNvSpPr/>
            <p:nvPr/>
          </p:nvSpPr>
          <p:spPr>
            <a:xfrm>
              <a:off x="2808360" y="445464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08360" y="1988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116160" y="2189160"/>
              <a:ext cx="2523600" cy="1900440"/>
              <a:chOff x="3116160" y="2189160"/>
              <a:chExt cx="2523600" cy="190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3116160" y="2189160"/>
                <a:ext cx="1261440" cy="19004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378320" y="2189160"/>
                <a:ext cx="1261440" cy="19004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2484360" y="1557360"/>
            <a:ext cx="47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imetrič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40000" y="213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724360" y="450864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900000" y="41580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Odnosi kvartila i medij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u distribuciji frekv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348000" y="443700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932360" y="4437000"/>
                <a:ext cx="317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40360" y="4508640"/>
                <a:ext cx="4190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48000" y="5056200"/>
                <a:ext cx="2158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734-9F47-4DEF-B675-5DB1E054A15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67A65-2A16-4A33-AACC-034AEB927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2:46:30Z</dcterms:created>
  <dc:creator>Mirjana Čižmešija</dc:creator>
  <dc:description/>
  <dc:language>en-US</dc:language>
  <cp:lastModifiedBy>mcizmesija</cp:lastModifiedBy>
  <dcterms:modified xsi:type="dcterms:W3CDTF">2007-03-29T12:53:54Z</dcterms:modified>
  <cp:revision>51</cp:revision>
  <dc:subject/>
  <dc:title>Slide 1</dc:title>
</cp:coreProperties>
</file>