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364-3A16-4FB6-A9FF-5BBE74DB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E69-1A42-4944-A793-59E4A4F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D69-525C-4307-895A-8FB461B9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C04-2E44-4286-92A6-14259F69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BA8-F7F6-4958-8358-F9B07AC4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2DFC-CAFF-488C-8482-5353377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A71-E238-46E4-B43A-AEF6111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1CFF-D84E-4BBF-8F41-D0E5B788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B4B7-6942-4CE1-82BD-87BBAD5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941D-942D-4A62-B556-90A75E4E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3657-BEB2-414C-8B7E-777EC21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77D-6CE3-4CD0-B182-5BE2FA98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7CB-DAB0-4DA0-88B0-973D2C6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91C-92C2-4952-B466-7CDCE526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B0FA-F7F9-441E-A105-7F62EA5E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5699-9A27-4933-84AD-B8AE06A8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BCA-6415-4EE3-BF59-0BC7E0C2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0DA-4ECB-43A6-8350-54B8B66E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CA8-8B38-4601-9551-23A8546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D94-40D8-4D2D-A7A0-02170006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EE4-3004-488C-B45E-05C7EAF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636-2EB3-41FB-B4D7-9E70A68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2A0-172E-4F17-9763-D704B4F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F9-1763-46A6-9775-55173844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9DE-80D8-4010-B8AA-402076F9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70C2-37A5-412F-A392-FA2B848F140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00000"/>
                </a:solidFill>
                <a:latin typeface="Arial"/>
              </a:rPr>
              <a:t>STREPTOKOKNE INFEKCIJ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63320" y="3378240"/>
            <a:ext cx="721044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ije teže boloval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pidemiološki: ide u vrti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edovito cijeplj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p na Amoxil s godinu dana, kasnije pila Klavocin bez reak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na, bistre svijesti, opće stanje nije poremećen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nfluirajući sitni makulozni osip po trbuhu, aksilarno, po rukama i n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koljen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c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Ždrijelo crveno, eksudat na tonzil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bostrano angularno bolni limfni čv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linast jez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E 30 CRP 7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 15.6 ne 77 ly 20 mo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tali nalazi ured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ris ždrijela: negativ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ijagnoz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erap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HS 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irogeni toksini (eritrogen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bično upala ždrije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že uz infekciju kože/potkožnog tk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jeca predškolske dob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ladno doba god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apljični prije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mu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ugotraj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Tip-specifič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kubacija 3-5 d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gli počet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itet, opći simptomi (često bolovi u trbuhu, povraćanje, glavobolj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rlobol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d drugog d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itnotočkast konfluirajuć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ksile, donji dio trbuha, ingvinal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ureća” kož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juštenje ko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astijin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ilatovljev troku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akunarna ang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nantem na mekom nepc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linast jez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tok limfnih čvor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64800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ram-pozitivni ko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 paru ili lanc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ko 1 n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pokretni, asporoge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Više od 25 vrsta (specijes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- nalaz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eukocitoza sa skretanjem u lije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asnije eozinofili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ris ždrijela/kož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- komplikac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oksič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Hiperpireksija, šok, poremećaj svijesti, mi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vaziv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eritonzilarni aps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munološ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eumatska groznica, glomerulonefr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- terapi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enicili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ema rezistentnih soj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euspjeh –kliconoštvo beta-laktamaza producer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efalosporini, makroli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rajanje 10 dana (azitro 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olesnik, 62 godine, umirovljen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 jučer febrilan do 39 uz zimice, povratio jedn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anas bolovi u lijevoj potkoljenici, primjetio crveni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iječen simptomatski (antipireti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bolio duboku vensku trombozu lijeve femoralne i ilijačne vene prije 3 god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 uzima nikakve lijeko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pidemiološki: nema slično bolesni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lergičan na penicilin (osi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an, bistre svijesti, teže pokret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štro ograničeno crveno i bolnost lijeve potkoljenice skoro čitavim opsegom, koža topla i edematozn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račak crvenila duž natkoljen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moralno bolan limfni čvor 2 c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terdigitalna miko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E 50 CRP 11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 18,9 ne 80 ly 11 mo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ijagnoz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erap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RYSIPELAS, crveni vjet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pala limfnih prostora koriuma kože, širenje limfnim žil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HS A, rijetko C D 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laz kroz sitna (ili veća) oštećenja kož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- predispozic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okal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Varikoziteti, limfedem, ožilj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terdigitalna miko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eboljeli erizip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pć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ronične bolesti (DM, ciroza jetre, alkoholizam, neoplaz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Placeholder 4" descr="str.bmp"/>
          <p:cNvPicPr/>
          <p:nvPr/>
        </p:nvPicPr>
        <p:blipFill>
          <a:blip r:embed="rId2"/>
          <a:srcRect l="8109" t="0" r="810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– klinička sl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kubacije 1-7 d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gli počet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itet i opći simpto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rvenilo i bolnost kož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oge (potkoljenice), lice, ruk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ijetko sluznice, usna šuplji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- kožne promje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štro ograničeno crvenilo, uzdigunti r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ezbolan ed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ža toplija od oko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kad vezikule ili b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jušte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imfangitis, limfadenit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2010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mplika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okalne –celulitis, miozitis, nekrotizirajući fasc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istemske –bakteriemija, ST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munološke –RF, glomerulonefr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linička s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- terapi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enicilin, cefalosporini, klindamic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arem 10 d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okalno borna kisel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irovanje, povišen položaj no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T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TREPTOKOKNI TOKSIČNI ŠOK SINDR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ras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fekcija kože, potkožnog tk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krotizirajući fasciit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T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itet, prostrira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okalna bol, edem, eritem, nekad vezikule i b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goršanje – MODS (poremećaj svijesti, AZB, ARDS, DIK, toksična kardiomiopatija, lezija jet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kulozan eritematozan os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T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50% ima bakteriemi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mrtnost 20-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h: Penicilin + klindamic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ote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-protein –faktor virulen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gzotoksi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treptokokni pirogeni egzotoksi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treptolizini (O, 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NK-a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treptokina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hijaluronida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-podje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emoli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lfa –djelomična, promjena boje u zele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Beta –potpu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Gama –nema hemol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-podje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erogrupe (R. Lancefiel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ntigena svojstva ugljikohidrata stanične stijenk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, B, C, D i G –če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E, L, U i V –rijetk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Verdana"/>
              </a:rPr>
              <a:t>S. pneumoniae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-neklasificir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IOGENA SKUP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S. pyogenes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(BHS 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S. agalactiae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(BHS 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Enterococcus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(grupa 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NGINOSUS SKUP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psces mozga, intraabdominalni apscesi, periapikalni zubni aps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ITIS SKUP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zubni plak, end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Verdana"/>
              </a:rPr>
              <a:t>S. Pneumonia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ALIVARIUS SKUPIN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-end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OVIS SKUPIN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-end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UTANS SKUPINA –zubni pl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jevojčic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dobi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5 go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 jučer febrilna do 39 uz glavobolju, grlobolju i bolove u trbuh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vratila 2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Jučer pregledana kod nadležnog liječnika, započeto liječenje Klavocin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anas pojava osipa koji svrb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2:32:13Z</dcterms:created>
  <dc:creator>korisnik</dc:creator>
  <dc:description/>
  <dc:language>en-US</dc:language>
  <cp:lastModifiedBy>korisnik</cp:lastModifiedBy>
  <dcterms:modified xsi:type="dcterms:W3CDTF">2009-04-07T11:35:51Z</dcterms:modified>
  <cp:revision>23</cp:revision>
  <dc:subject/>
  <dc:title>STREPTOKOKNE INFEKCIJE</dc:title>
</cp:coreProperties>
</file>