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9F95-7FF4-47EC-8DCD-61F8D67B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84C-4287-4B61-A9AA-526D2438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180-0F40-4F58-92BC-581E6CC6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11A-9624-401E-8086-05ED65A2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6D4-460A-42A5-BC35-8C27D781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D9F1-F7E1-4B76-B2E9-6985D001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73A5-1F19-467B-909C-96431A7E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EDE5-7C8F-48E2-9047-BA6D8509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9D3-3A4D-4D2F-9A71-240B85C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B68-7FA4-47C0-BF7E-69E31E60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317B-6F21-4BF4-B6CD-A8F3ED6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85D-6F94-462F-BE8D-45DB112B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54C6-9015-4502-AD4E-C8C0118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3946-B975-4F6F-9082-1DCF458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D8B-F4B9-44C3-8C7E-2B4DB403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9676-0C04-41A8-AAAF-06527EED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0376-EB84-4C71-997B-0B8210E5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D5A-D404-4380-BD88-4E7C8DB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39D-30A5-403A-B21C-3EE2B240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F43-D7B2-41BB-AB22-75B9F54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E5F-2FA6-4EE8-B5A7-ABA04297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A97-33D8-41D6-B61D-2F16C21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56A-5B3F-4D1C-BED6-60F307C8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071-2ADF-427C-AA57-F7BBB2C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8BAB-42C6-419E-9515-6A1F047F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5D3A-0AF4-4475-998A-89D517AA419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00000"/>
                </a:solidFill>
                <a:latin typeface="Arial"/>
              </a:rPr>
              <a:t>STREPTOKOKNE INFEKCIJ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63320" y="3378240"/>
            <a:ext cx="721044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ije teže boloval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pidemiološki: ide u vrti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edovito cijeplj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 na Amoxil s godinu dana, kasnije pila Klavocin bez reak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na, bistre svijesti, opće stanje nije poremećen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nfluirajući sitni makulozni osip po trbuhu, aksilarno, po rukama i n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koljen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c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Ždrijelo crveno, eksudat na tonzil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bostrano angularno bolni limfni čv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linast jez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 30 CRP 7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 15.6 ne 77 ly 20 mo 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tali nalazi ured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ris ždrijela: negativ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ijagnoz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erap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HS 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irogeni toksini (eritrogen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bično upala ždrije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že uz infekciju kože/potkožnog tk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jeca predškolske dob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ladno doba god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apljični prijen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mu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ugotraj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ip-specifič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kubacija 3-5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gli počet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, opći simptomi (često bolovi u trbuhu, povraćanje, glavobolj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rlobol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d drugog d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itnotočkast konfluirajuć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ksile, donji dio trbuha, ingvinal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ureća” kož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juštenje ko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astijin zn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ilatovljev troku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(scarlatina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akunarna ang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nantem na mekom nepc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linast jez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tok limfnih čvor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64800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ram-pozitivni ko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paru ili lanc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ko 1 n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pokretni, asporoge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Više od 25 vrsta (specijes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nalaz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eukocitoza sa skretanjem u lije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asnije eozinofili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ris ždrijela/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komplika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oksič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iperpireksija, šok, poremećaj svijesti, mi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vaziv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eritonzilarni aps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munološ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eumatska groznica, glomerulonefr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ŠARLAH - terapi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enicili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ema rezistentnih soj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euspjeh –kliconoštvo beta-laktamaza producer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efalosporini, makroli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ajanje 10 dana (azitro 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olesnik, 62 godine, umirovljeni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 jučer febrilan do 39 uz zimice, povratio jedn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anas bolovi u lijevoj potkoljenici, primjetio crveni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iječen simptomatski (antipireti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bolio duboku vensku trombozu lijeve femoralne i ilijačne vene prije 3 god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 uzima nikakve lijeko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pidemiološki: nema slično bolesni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lergičan na penicilin (osi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an, bistre svijesti, teže pokret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štro ograničeno crveno i bolnost lijeve potkoljenice skoro čitavim opsegom, koža topla i edematozn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ačak crvenila duž natkoljen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moralno bolan limfni čvor 2 c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terdigitalna miko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 50 CRP 11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 18,9 ne 80 ly 11 mo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ijagnoz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erap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RYSIPELAS, crveni vje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pala limfnih prostora koriuma kože, širenje limfnim žil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HS A, rijetko C D 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laz kroz sitna (ili veća) oštećenja 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predispozi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Varikoziteti, limfedem, ožiljc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digitalna miko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boljeli erizip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pć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ronične bolesti (DM, ciroza jetre, alkoholizam, neoplaz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Placeholder 4" descr="str.bmp"/>
          <p:cNvPicPr/>
          <p:nvPr/>
        </p:nvPicPr>
        <p:blipFill>
          <a:blip r:embed="rId2"/>
          <a:srcRect l="8109" t="0" r="810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– klinička sl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kubacije 1-7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gli počet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 i opći simpto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rvenilo i bolnost kož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Noge (potkoljenice), lice, ru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ijetko sluznice, usna šuplji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kožne promje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štro ograničeno crvenilo, uzdigunti r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ezbolan ed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ža toplija od oko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kad vezikule ili b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jušte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imfangitis, limfadenit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201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mplika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okalne –celulitis, miozitis, nekrotizirajući fasc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istemske –bakteriemija, ST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munološke –RF, glomerulonefr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ijagno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linička sli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ERIZIPEL - terapij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enicilin, cefalosporini, klindamic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arem 10 d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o borna kisel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irovanje, povišen položaj no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TREPTOKOKNI TOKSIČNI ŠOK SINDR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ras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nfekcija kože, potkožnog tk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krotizirajući fasciit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ebrilitet, prostrirano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okalna bol, edem, eritem, nekad vezikule i b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goršanje – MODS (poremećaj svijesti, AZB, ARDS, DIK, toksična kardiomiopatija, lezija jet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kulozan eritematozan osi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STŠ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50% ima bakteriemi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mrtnost 20-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h: Penicilin + klindamic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ote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-protein –faktor virulen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egzotoksi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kokni pirogeni egzotoksi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lizini (O, 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NK-a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treptokina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hijaluronida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-podje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emoli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lfa –djelomična, promjena boje u zel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Beta –potpu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Gama –nema hemoliz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-podje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erogrupe (R. Lancefiel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ntigena svojstva ugljikohidrata stanične stijen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, B, C, D i G –če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E, L, U i V –rijetk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Verdana"/>
              </a:rPr>
              <a:t>S. pneumoniae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-neklasificir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IOGENA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S. pyogenes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(BHS 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S. agalactia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(BHS 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Enterococcus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(grupa 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Rod </a:t>
            </a:r>
            <a:r>
              <a:rPr b="0" i="1" lang="hr-HR" sz="3800" spc="-1" strike="noStrike">
                <a:solidFill>
                  <a:srgbClr val="000000"/>
                </a:solidFill>
                <a:latin typeface="Verdana"/>
              </a:rPr>
              <a:t>Streptococc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NGINOSUS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psces mozga, intraabdominalni apscesi, periapikalni zubni aps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ITIS SKUP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zubni plak, 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Verdana"/>
              </a:rPr>
              <a:t>S. Pneumonia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ALIVARIUS SKUPIN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-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OVIS SKUPIN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-endokardit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UTANS SKUPINA –zubni pl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PRIKAZ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jevojčic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dobi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5 go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 jučer febrilna do 39 uz glavobolju, grlobolju i bolove u trbuh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vratila 2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Jučer pregledana kod nadležnog liječnika, započeto liječenje Klavocin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anas pojava osipa koji svrb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2:32:13Z</dcterms:created>
  <dc:creator>korisnik</dc:creator>
  <dc:description/>
  <dc:language>en-US</dc:language>
  <cp:lastModifiedBy>korisnik</cp:lastModifiedBy>
  <dcterms:modified xsi:type="dcterms:W3CDTF">2009-04-07T11:35:51Z</dcterms:modified>
  <cp:revision>23</cp:revision>
  <dc:subject/>
  <dc:title>STREPTOKOKNE INFEKCIJE</dc:title>
</cp:coreProperties>
</file>