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3CF85-634D-40E9-BFF9-9EC07F889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1D76F-2C7D-4396-8373-68117F3F7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C00156-4EF8-4EF6-ABF9-31EE853D00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012E24-5F59-4FBA-B98A-16BA1036C4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69CB95-15C4-46F1-A0C4-1D2185FE35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911BC3-3B57-4117-8FB6-4C25463BB3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624F9A-492F-4935-A345-6C37DFB7C6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D9536E-FDDF-48C3-814E-3D2EE762BF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400CE1-7FCC-4509-9E9F-0A9137F116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783C6D-3455-4782-BDC9-200B77984A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5A9EAD-4FEB-4A16-9A91-0F55B1713E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141DC8-8A6E-46DF-AC9C-82946FCF899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919DC-DFBB-4D1D-B6C7-2BD15CC74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1F2070-A739-44D6-8646-6C7644064F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B47520-E71B-40FD-BDF4-4E09B9E89C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8FF5EE-3F00-42FD-BB75-F58E985B71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4986BD-1D17-48E8-8DE4-C1F1D51BF9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2812EA-5F0C-4A05-AFE8-CA9E957224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09C787-A57D-4C26-A11F-F760A30546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EC15BD-92B5-412C-BED6-FD21EBCBDF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751063-CDFD-406E-B284-880AF38215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379540-5199-4F99-933B-95338EF386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AC0B9C-6AEA-4CB9-9DFE-25173DFCF5F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5BE22-9C39-493D-8C00-F9E71B77C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E5529F-93A5-48E2-806D-BCAC069F3CB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950471-E414-48D8-B0F4-F0512FEE28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BD816F-B403-4A9B-8224-6A55938FB5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0BCF9F-76E5-40FB-B32B-0FB156E1F5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048EDC-5A1A-4659-A531-390A4C3FE9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B49AAF-5034-4CB3-B9BB-46A586DA56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EC621F-063C-4FD3-A4E9-45B3FBE51C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AAEFA6-2DA0-430F-992D-6ED4DBF5AF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5A89F5-9BA0-4F7E-83E7-05A831E2B0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CC4856-8E3A-4C2A-96D7-409DF8F883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D0301-E205-40A0-8B25-781DF48F0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88E15F-7638-4833-BADA-7CC177038A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1A07DF-F92C-4A17-B1FB-1C02836884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DBDC027-FB9E-4AD1-862C-F2A44B270C7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04CD61-93C3-4789-9D6E-3BCDADBB7F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415315-7EDE-4BBA-BC6F-4E11CD1F00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2453FB-DC9F-4F0D-AD2B-111C86FC50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1B6470-7B20-47EB-84F2-30F1CC3701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0A17AE-FAC7-437C-A38A-F2BBEE58E5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9DA083-C8A3-4D8C-B073-E41E932CEE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C43576-C5FE-4C63-83AC-1874452C4C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5ECC6-A5F3-4141-93B5-80CA43857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FFBA13-0388-46D4-929A-0485934B40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056EB7-CE23-4742-8395-8A74AC518E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583C05-30F4-44C2-8A2E-6550773005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FE2DD2C-D954-4F58-AA42-9399EED61BD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943476-AF80-4F0A-B318-34FBCE14E63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5BF7F-CA70-4F74-8E80-0ECD78050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62C75-0210-44BC-B983-3F1BD5FD9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EC59A-DABA-4287-B1EB-24D5CCF87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E732D-BA3B-4E01-AA37-80CDD9206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15BBB-C039-4D2D-8AE2-99CE5BA8C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280E5-7696-4BA3-8475-F90B2BF4C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0F0E8-B35F-4843-A5AD-31D65C1F5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D1EB7-1C05-4400-BB89-95A3B18DE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8EC8F-C81A-4F3B-A9E2-F7AED9182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CCC3A-08F6-4813-A612-E0A67593C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6809C-C0CE-4024-ABCD-EA46C62C6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E2EB97-B389-47B3-8AD5-5AD025AFFB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CCC842-0EE5-42B9-A7ED-EE031F1EA4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14AFA-29B5-4862-BFF2-BD392E2A15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F9CCA9-E245-40FA-8B4F-CE77296ACE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EA282-8A43-49FB-AEE4-76ADC5E7F9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6FF8C-F138-41E9-9462-1CF356F54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6A43E-E6A5-4A1D-BC69-A1E45AB329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03ED7F-BCED-41CE-B4F0-5D43F1CFAF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2D0C4-0057-41CC-BC8E-BC8E7C448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192F3C-0094-4C84-8CAC-CE5FF42E4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B62D2-D182-459A-9EB0-80571B4E54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644B99-2940-495D-9266-BC225AC7E3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606DBC-4D37-47B3-87C4-AA7555FB0E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5D237C-8B30-4706-BBD3-30466B4F94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268F20-BEB2-4B26-8C31-AF343A4A9F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D403FF-A812-4A58-A6D0-5C99954A6F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07542-6078-40E6-8AE1-422BF4C1E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BD439-155B-4AE3-A7CB-62AAFA4E33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6C8F62-A95F-40A9-A9D3-11627B38DC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7DA464-EFAD-4B3C-84C5-1C42A0858F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86D11-092F-40CE-9315-7E1EF7909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5905C4-F508-444A-8332-501D907C9A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59077D-BC72-49D6-BB8F-D47E72303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921004-36CE-4A80-B289-8668C1503D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F1F34E-2729-4DA0-B25C-25CF4B2098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5E048E-B3EA-49F9-AF77-7A173C6BF2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BBC95E-1D66-4B21-9F47-B5F669A945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F42AF-3E21-4E0E-BEA4-7CE9147F1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3F8B93-2701-4CFB-BDC4-E2C008A8FC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A32E7-379B-4E8D-8F9F-C84ACD714C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6A933E-7265-4603-BDFD-F28B33652D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55F3E6-EEA0-4395-B21F-E80DE9AE4F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483F59-3E22-46A8-AEED-8E2718210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4FE608-68B1-4B76-AA80-1664EF511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F218F-0E41-4EE8-B6AF-3079069FD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17239D-0761-48F5-9FE4-BD39912E1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232209-2E2E-4184-B145-B5B676ECC6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A50D63-92D4-483A-A2AE-7204613D74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8AC3D-4B34-488E-A0B7-03906C243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CEADD8-25EB-49F6-9C39-A1EE324C8C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69B373-D8C5-41ED-9B97-2071CA8D9D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6CECE7-BF4E-46F9-A7B4-3F16888FC0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8C295F-C06A-4040-A847-63E3CA5B86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E3C585-971B-410D-94BF-018E6BFD8E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35E207-50E6-4079-BF9E-75B309222F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BBDE4C-B0D1-41B5-8160-154888E4D8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DE4F92-A40C-46EC-95EC-8261B24E1E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9E3859-844B-4E8E-8027-FA0921986A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1C834F-AB89-4F45-B779-A5636D6198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412A5-4CFF-47BB-9E6C-7FEC4EF99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70F95A-8E5C-409D-82D8-8BC08C8B5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628D90-DA59-4275-A7D2-329C01F7CA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D0F394-0FF3-40B3-838D-1CA84BC952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49EFC1-625C-4674-9581-E52054E088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1484F6-A4F8-4328-9F94-6AAA4CFD7A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F64B6C-48AE-47AA-980A-4E77B34A6D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550A42-AF5E-47B5-BFFB-C22A4CFE44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8AA533-CB37-421D-A7D6-AD1E4A482F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949378-61A2-4662-8DA8-1F2B7B4F1A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E5EE06-6AA7-44A8-8696-1DFA1A159B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D6E2-732D-4A23-8CCB-CD70DB345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03CE70-1713-4F22-B6E9-F2404D6D8F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5CEB45-CF22-4B2C-AD2A-DE24397AE0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56E6D5-1B7F-4480-91B7-29A30F0813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5F0C2E-7E3E-4A00-B75D-6EB853D9E7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83C680-ECAD-4386-8C1F-E9BEEFEA66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DA1E4A-1EB3-4EDE-8189-3CC3031A86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ECEDF3-1DE4-4DEC-853A-2C9224D898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B6DD54-E497-40B4-AC41-105C0D80B6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9AC8F0-5D10-4808-9ADA-15F6B697FE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AC748E-951F-4BBD-A172-6DB98C8578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60BDF-6191-4255-ADD0-93793A278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1B37AF-3FC1-4055-BFDF-ACE2F88310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497F0A-4716-4D0F-8B03-D37247F389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4209B-A289-4461-A483-3D9033740A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D7978C-489B-4301-9740-58B051013A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E3371F-90E8-4D7C-BDA4-5AF8E3FA9D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557FBC-D298-4045-A359-8EA74926D9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598C91-7456-4613-8FD5-03360B23F3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8D348D-1317-4A06-959A-9F903C93B8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C0A1FF-4F8D-4146-B030-9CF78A5428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8D3797-F64E-47B1-B69B-7EFADEBAC8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Prsten 10"/>
          <p:cNvGrpSpPr/>
          <p:nvPr/>
        </p:nvGrpSpPr>
        <p:grpSpPr>
          <a:xfrm>
            <a:off x="165240" y="1036800"/>
            <a:ext cx="1170000" cy="1170000"/>
            <a:chOff x="165240" y="1036800"/>
            <a:chExt cx="1170000" cy="1170000"/>
          </a:xfrm>
        </p:grpSpPr>
        <p:pic>
          <p:nvPicPr>
            <p:cNvPr id="3" name="Prsten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799E-2E03-42D1-B99D-28D5AA827E0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Pravokutnik 12"/>
          <p:cNvGrpSpPr/>
          <p:nvPr/>
        </p:nvGrpSpPr>
        <p:grpSpPr>
          <a:xfrm>
            <a:off x="646200" y="969840"/>
            <a:ext cx="4803840" cy="4802400"/>
            <a:chOff x="646200" y="969840"/>
            <a:chExt cx="4803840" cy="4802400"/>
          </a:xfrm>
        </p:grpSpPr>
        <p:pic>
          <p:nvPicPr>
            <p:cNvPr id="417" name="Pravokutnik 12" descr=""/>
            <p:cNvPicPr/>
            <p:nvPr/>
          </p:nvPicPr>
          <p:blipFill>
            <a:blip r:embed="rId3"/>
            <a:stretch/>
          </p:blipFill>
          <p:spPr>
            <a:xfrm>
              <a:off x="646200" y="969840"/>
              <a:ext cx="4803840" cy="480240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Dijagram toka: Postupak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Dijagram toka: Postupak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0D68-F464-4317-9DB2-087F930B439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Prsten 10"/>
          <p:cNvGrpSpPr/>
          <p:nvPr/>
        </p:nvGrpSpPr>
        <p:grpSpPr>
          <a:xfrm>
            <a:off x="165240" y="1036800"/>
            <a:ext cx="1170000" cy="1170000"/>
            <a:chOff x="165240" y="1036800"/>
            <a:chExt cx="1170000" cy="1170000"/>
          </a:xfrm>
        </p:grpSpPr>
        <p:pic>
          <p:nvPicPr>
            <p:cNvPr id="465" name="Prsten 10"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E2C5-C699-4A81-822C-8EDAB9AC7CD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Prsten 10"/>
          <p:cNvGrpSpPr/>
          <p:nvPr/>
        </p:nvGrpSpPr>
        <p:grpSpPr>
          <a:xfrm>
            <a:off x="165240" y="1036800"/>
            <a:ext cx="1170000" cy="1170000"/>
            <a:chOff x="165240" y="1036800"/>
            <a:chExt cx="1170000" cy="1170000"/>
          </a:xfrm>
        </p:grpSpPr>
        <p:pic>
          <p:nvPicPr>
            <p:cNvPr id="513" name="Prsten 10"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FE18-DE14-45D3-9D16-80F6B21CC4A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Prsten 10"/>
          <p:cNvGrpSpPr/>
          <p:nvPr/>
        </p:nvGrpSpPr>
        <p:grpSpPr>
          <a:xfrm>
            <a:off x="165240" y="1036800"/>
            <a:ext cx="1170000" cy="1170000"/>
            <a:chOff x="165240" y="1036800"/>
            <a:chExt cx="1170000" cy="1170000"/>
          </a:xfrm>
        </p:grpSpPr>
        <p:pic>
          <p:nvPicPr>
            <p:cNvPr id="51" name="Prsten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Elipsa 12"/>
          <p:cNvGrpSpPr/>
          <p:nvPr/>
        </p:nvGrpSpPr>
        <p:grpSpPr>
          <a:xfrm>
            <a:off x="914400" y="1407960"/>
            <a:ext cx="231840" cy="225720"/>
            <a:chOff x="914400" y="1407960"/>
            <a:chExt cx="231840" cy="225720"/>
          </a:xfrm>
        </p:grpSpPr>
        <p:pic>
          <p:nvPicPr>
            <p:cNvPr id="56" name="Elipsa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Elipsa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9F85-EEB0-44FB-9BED-4DA5435A659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Prsten 10"/>
          <p:cNvGrpSpPr/>
          <p:nvPr/>
        </p:nvGrpSpPr>
        <p:grpSpPr>
          <a:xfrm>
            <a:off x="165240" y="1036800"/>
            <a:ext cx="1170000" cy="1170000"/>
            <a:chOff x="165240" y="1036800"/>
            <a:chExt cx="1170000" cy="1170000"/>
          </a:xfrm>
        </p:grpSpPr>
        <p:pic>
          <p:nvPicPr>
            <p:cNvPr id="103" name="Prsten 10"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3E57-1B6D-4369-A15D-A4DC0E51116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Pravokutnik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ravokutnik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Elipsa 15"/>
          <p:cNvGrpSpPr/>
          <p:nvPr/>
        </p:nvGrpSpPr>
        <p:grpSpPr>
          <a:xfrm>
            <a:off x="2163600" y="2809800"/>
            <a:ext cx="231840" cy="225360"/>
            <a:chOff x="2163600" y="2809800"/>
            <a:chExt cx="231840" cy="225360"/>
          </a:xfrm>
        </p:grpSpPr>
        <p:pic>
          <p:nvPicPr>
            <p:cNvPr id="151" name="Elipsa 15"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Elipsa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2EF8-824D-474E-816A-1709A8E54A2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Prsten 10"/>
          <p:cNvGrpSpPr/>
          <p:nvPr/>
        </p:nvGrpSpPr>
        <p:grpSpPr>
          <a:xfrm>
            <a:off x="165240" y="1036800"/>
            <a:ext cx="1170000" cy="1170000"/>
            <a:chOff x="165240" y="1036800"/>
            <a:chExt cx="1170000" cy="1170000"/>
          </a:xfrm>
        </p:grpSpPr>
        <p:pic>
          <p:nvPicPr>
            <p:cNvPr id="198" name="Prsten 10" descr=""/>
            <p:cNvPicPr/>
            <p:nvPr/>
          </p:nvPicPr>
          <p:blipFill>
            <a:blip r:embed="rId3"/>
            <a:stretch/>
          </p:blipFill>
          <p:spPr>
            <a:xfrm>
              <a:off x="165240" y="1036800"/>
              <a:ext cx="1170000" cy="117000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A2BF-F8DB-42C7-9E74-4C15DC9A634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1194-AF53-48D2-8AC8-531A7A70241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Elipsa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Prsten 10"/>
          <p:cNvGrpSpPr/>
          <p:nvPr/>
        </p:nvGrpSpPr>
        <p:grpSpPr>
          <a:xfrm>
            <a:off x="165240" y="1036800"/>
            <a:ext cx="1170000" cy="1170000"/>
            <a:chOff x="165240" y="1036800"/>
            <a:chExt cx="1170000" cy="1170000"/>
          </a:xfrm>
        </p:grpSpPr>
        <p:pic>
          <p:nvPicPr>
            <p:cNvPr id="287" name="Prsten 10" descr=""/>
            <p:cNvPicPr/>
            <p:nvPr/>
          </p:nvPicPr>
          <p:blipFill>
            <a:blip r:embed="rId3"/>
            <a:stretch/>
          </p:blipFill>
          <p:spPr>
            <a:xfrm>
              <a:off x="165240" y="1036800"/>
              <a:ext cx="1170000" cy="117000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Pravokutnik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ravokutnik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4CC5-7807-40A3-A48E-6C4AB043B60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Pravokutnik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ravokutnik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6675-5733-4FDD-9B51-6C0F2D1C53C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74CC-A5FD-461F-92CD-24B9B655014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MODELIRANJE PODATAKA</a:t>
            </a:r>
            <a:endParaRPr b="0" lang="en-US" sz="4300" spc="-1" strike="noStrike">
              <a:solidFill>
                <a:srgbClr val="572314"/>
              </a:solidFill>
              <a:latin typeface="Gill Sans MT"/>
            </a:endParaRPr>
          </a:p>
        </p:txBody>
      </p:sp>
      <p:sp>
        <p:nvSpPr>
          <p:cNvPr id="55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320e04"/>
                </a:solidFill>
                <a:latin typeface="Gill Sans MT"/>
              </a:rPr>
              <a:t>Vježb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1" name=""/>
          <p:cNvSpPr txBox="1"/>
          <p:nvPr/>
        </p:nvSpPr>
        <p:spPr>
          <a:xfrm>
            <a:off x="1000080" y="1447560"/>
            <a:ext cx="7934400" cy="4800600"/>
          </a:xfrm>
          <a:prstGeom prst="rect">
            <a:avLst/>
          </a:prstGeom>
          <a:noFill/>
          <a:ln w="0">
            <a:noFill/>
          </a:ln>
        </p:spPr>
        <p:txBody>
          <a:bodyPr anchor="t">
            <a:normAutofit fontScale="89000"/>
          </a:bodyPr>
          <a:p>
            <a:pPr marL="324720" indent="-251280">
              <a:lnSpc>
                <a:spcPct val="12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Gill Sans MT"/>
              </a:rPr>
              <a:t>Potrebno je napraviti model objekti-veze na osnovu slijedećeg opisa: „U okviru manifestacije Fashion Week biti će održano više modnih revija na kojima će kreatori (KreatorID, ImeIPrezime) predstaviti jednu ili više svojih najnovijih kolekcija (KolekcijaID, NazivKolekcije). Tim povodom na održanom castingu izabran je veći broj manekenki i manekena iz različitih modnih agencija (ModnaAgencijaID, NazivAgencije, Mjesto). Na pojedinim modnim revijama u svojstvu manekena pojaviti će se i specijalni gosti, tj. poznate ličnosti iz javnog života. Za modnu reviju treba voditi evidenciju o broju modne revije, nazivu revije, datumu, vremenu i mjestu održavanja. Za svaku manekenku (manekena) treba evidentirati pored šifre i imena, i konfekcijski broj. Jedna modna kolekcija prikazuje se samo na jednoj modnoj reviji ali se na jednoj modnoj reviji može prikazati više modnih kolekcija istog ili različitih modnih kreatora. Maneken može sudjelovati u prikazivanju više modnih kolekcija jednog ili više modnih kreatora. Ukoliko maneken pripada modnoj agenciji mora se znati za koju modnu agenciju radi. (Uočite: maneken koji ne pripada ni jednoj modnoj agenciji je specijalni gost tj. poznata ličnosti iz javnog života.)“. Odredite atribute tipova entiteta i veza, funkcionalnost veza i članstvo u vezama pojedinih tipova entiteta.</a:t>
            </a: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3" name=""/>
          <p:cNvSpPr txBox="1"/>
          <p:nvPr/>
        </p:nvSpPr>
        <p:spPr>
          <a:xfrm>
            <a:off x="1434960" y="1447560"/>
            <a:ext cx="7499520" cy="48006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Gill Sans MT"/>
              </a:rPr>
              <a:t>Napravite model objekti-veze za podsustav informacijskog sustava Evropskog prvenstva u nogometu. Potrebno je voditi evidenciju o reprezentacijama koje učestvuju na prvenstvu sa osnovnim atributima ŠifraDržave, NazivDržave, te  o igračima koji nastupaju za svaku reprezentaciju sa slijedećim osnovnim atributima: BrojNaDresu, ImePrezime, Pozicija, Godište. Svaka reprezentacija je raspoređena u jednu i samo jednu kvalifikacijsku skupinu. Treba omogućiti evidentiranje utakmica, gdje se točno zna koja je reprezentacija u ulozi domaćina a koja u ulozi gosta, kada i gdje se utakmica odigrala. Za svaku utakmicu mora se evidentirati faza natjecanja u kojem se utakmica odigrala (kvalifikacije u skupini, četvrtfinale, polufinale, finale). Za svakog igrača je potrebno voditi statistiku učinka na svakoj odigranoj utakmici, gdje se pod učinkom podrazumijeva broj postignutih golova, broj postignutih autogolova, broja udaraca u okvir gola, kao i da li je dobio žuti ili crveni karton. Kako su dvije države organizatori prvenstva, mjesto odigravanja utakmice mora biti vezano na državu domaćina prvenstva. Nacrtajte dijagram objekti i veze, odredite tipova entiteta i veza, njihove atribute (podcrtajte ključne atribute), te odredite funkcionalnost veza i članstvo u vezama.</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fontScale="91000"/>
          </a:bodyPr>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Gill Sans MT"/>
              </a:rPr>
              <a:t>Potrebno je napraviti model objekti-veze koji pokriva neke funkcije mobilnog telefona na osnovu slijedećeg opisa:  Zahtjeva se da telefon ima mogućnost kreiranja grupa (atributi: ŠifraGrupe, NazivGrupe), svakoj grupi pripada jedan ili više brojeva telefona kontakt osobe, s druge strane broj telefona kontakt osobe pripada jednoj i samo jednoj grupi. Također, svaka grupa može a ne mora imati pridodanu melodiju (ŠifraMelodije, NazivMelodije) koja se aktivira kada zove pozivatelj iz promatrane grupe, jedna melodija može biti pridodana u više grupa. Nadalje, mobitel podržava definiranje situacija (npr. raspoloživ, na sastanku, rekreacija, odmara se). Za svaki par grupa-situacija treba definirati da li se aktivira melodija ili vibracija i definira se jedna ili više akcija određenog tipa akcije, akcija može biti povezana sa više parova grupa-situacija. Tip akcije (atributi: ŠifraTipaAkcije, OpisTipaAkcije) može imati slijedeća pojavljivanja: Prebaci na uslugu sekretarice kod mobitel provider-a, prebaci pozi sekretarici u uredu, pošalji SMS pozivatelju, pošalji e-mail na zadanu e-mail adresu i sl.. Konkretna akcija koja će se obaviti neka ima atribute: ŠifraAkcije, Tekst SMS poruke, BrojTelefona, E-mail adresa.</a:t>
            </a:r>
            <a:endParaRPr b="0" lang="en-US" sz="2000" spc="-1" strike="noStrike">
              <a:solidFill>
                <a:srgbClr val="000000"/>
              </a:solidFill>
              <a:latin typeface="Gill Sans MT"/>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7"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ill Sans MT"/>
              </a:rPr>
              <a:t>Napraviti model objekti-veze za dio informacijskog sustava biblioteke. Potrebno je voditi evidenciju o </a:t>
            </a:r>
            <a:r>
              <a:rPr b="1" lang="hr-HR" sz="2200" spc="-1" strike="noStrike">
                <a:solidFill>
                  <a:srgbClr val="000000"/>
                </a:solidFill>
                <a:latin typeface="Gill Sans MT"/>
              </a:rPr>
              <a:t>publikacijama</a:t>
            </a:r>
            <a:r>
              <a:rPr b="0" lang="hr-HR" sz="2200" spc="-1" strike="noStrike">
                <a:solidFill>
                  <a:srgbClr val="000000"/>
                </a:solidFill>
                <a:latin typeface="Gill Sans MT"/>
              </a:rPr>
              <a:t> sa slijedećim osnovnim atributima: PublikacijaID, Naziv, BrojPrimjeraka. Publikacija može biti (</a:t>
            </a:r>
            <a:r>
              <a:rPr b="1" lang="hr-HR" sz="2200" spc="-1" strike="noStrike">
                <a:solidFill>
                  <a:srgbClr val="000000"/>
                </a:solidFill>
                <a:latin typeface="Gill Sans MT"/>
              </a:rPr>
              <a:t>je</a:t>
            </a:r>
            <a:r>
              <a:rPr b="0" lang="hr-HR" sz="2200" spc="-1" strike="noStrike">
                <a:solidFill>
                  <a:srgbClr val="000000"/>
                </a:solidFill>
                <a:latin typeface="Gill Sans MT"/>
              </a:rPr>
              <a:t>): </a:t>
            </a:r>
            <a:r>
              <a:rPr b="1" lang="hr-HR" sz="2200" spc="-1" strike="noStrike">
                <a:solidFill>
                  <a:srgbClr val="000000"/>
                </a:solidFill>
                <a:latin typeface="Gill Sans MT"/>
              </a:rPr>
              <a:t>knjiga, časopis</a:t>
            </a:r>
            <a:r>
              <a:rPr b="0" lang="hr-HR" sz="2200" spc="-1" strike="noStrike">
                <a:solidFill>
                  <a:srgbClr val="000000"/>
                </a:solidFill>
                <a:latin typeface="Gill Sans MT"/>
              </a:rPr>
              <a:t> ili </a:t>
            </a:r>
            <a:r>
              <a:rPr b="1" lang="hr-HR" sz="2200" spc="-1" strike="noStrike">
                <a:solidFill>
                  <a:srgbClr val="000000"/>
                </a:solidFill>
                <a:latin typeface="Gill Sans MT"/>
              </a:rPr>
              <a:t>dnevne novine</a:t>
            </a:r>
            <a:r>
              <a:rPr b="0" lang="hr-HR" sz="2200" spc="-1" strike="noStrike">
                <a:solidFill>
                  <a:srgbClr val="000000"/>
                </a:solidFill>
                <a:latin typeface="Gill Sans MT"/>
              </a:rPr>
              <a:t>. Knjiga ima osnovne atribute: redni broj izdanja i godinu izdanja, a pored toga potrebno je zapisati sve </a:t>
            </a:r>
            <a:r>
              <a:rPr b="1" lang="hr-HR" sz="2200" spc="-1" strike="noStrike">
                <a:solidFill>
                  <a:srgbClr val="000000"/>
                </a:solidFill>
                <a:latin typeface="Gill Sans MT"/>
              </a:rPr>
              <a:t>autore</a:t>
            </a:r>
            <a:r>
              <a:rPr b="0" lang="hr-HR" sz="2200" spc="-1" strike="noStrike">
                <a:solidFill>
                  <a:srgbClr val="000000"/>
                </a:solidFill>
                <a:latin typeface="Gill Sans MT"/>
              </a:rPr>
              <a:t> knjige. Za časopis potrebno je pamtiti: broj časopisa, mjesec i godinu izdavanja i kratak sadržaj; za dnevne novine: broj izdanja, datum izdanja i tiražu. Za časopise i za dnevne novine potrebno je znati </a:t>
            </a:r>
            <a:r>
              <a:rPr b="1" lang="hr-HR" sz="2200" spc="-1" strike="noStrike">
                <a:solidFill>
                  <a:srgbClr val="000000"/>
                </a:solidFill>
                <a:latin typeface="Gill Sans MT"/>
              </a:rPr>
              <a:t>tiskaru</a:t>
            </a:r>
            <a:r>
              <a:rPr b="0" lang="hr-HR" sz="2200" spc="-1" strike="noStrike">
                <a:solidFill>
                  <a:srgbClr val="000000"/>
                </a:solidFill>
                <a:latin typeface="Gill Sans MT"/>
              </a:rPr>
              <a:t> koja je tiskala ta izdanja. Za knjigu, časopis i za dnevne novine treba voditi evidenciju o </a:t>
            </a:r>
            <a:r>
              <a:rPr b="1" lang="hr-HR" sz="2200" spc="-1" strike="noStrike">
                <a:solidFill>
                  <a:srgbClr val="000000"/>
                </a:solidFill>
                <a:latin typeface="Gill Sans MT"/>
              </a:rPr>
              <a:t>izdavaču</a:t>
            </a:r>
            <a:r>
              <a:rPr b="0" lang="hr-HR" sz="2200" spc="-1" strike="noStrike">
                <a:solidFill>
                  <a:srgbClr val="000000"/>
                </a:solidFill>
                <a:latin typeface="Gill Sans MT"/>
              </a:rPr>
              <a:t>. Za svaku publikaciju treba evidentirati: datuma zaduženja i datuma razduženja od strane </a:t>
            </a:r>
            <a:r>
              <a:rPr b="1" lang="hr-HR" sz="2200" spc="-1" strike="noStrike">
                <a:solidFill>
                  <a:srgbClr val="000000"/>
                </a:solidFill>
                <a:latin typeface="Gill Sans MT"/>
              </a:rPr>
              <a:t>člana biblioteke</a:t>
            </a:r>
            <a:r>
              <a:rPr b="0" lang="hr-HR" sz="2200" spc="-1" strike="noStrike">
                <a:solidFill>
                  <a:srgbClr val="000000"/>
                </a:solidFill>
                <a:latin typeface="Gill Sans MT"/>
              </a:rPr>
              <a:t>. </a:t>
            </a:r>
            <a:endParaRPr b="0" lang="en-US" sz="2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ill Sans MT"/>
              </a:rPr>
              <a:t>	</a:t>
            </a:r>
            <a:r>
              <a:rPr b="0" lang="hr-HR" sz="2200" spc="-1" strike="noStrike">
                <a:solidFill>
                  <a:srgbClr val="000000"/>
                </a:solidFill>
                <a:latin typeface="Gill Sans MT"/>
              </a:rPr>
              <a:t>Nacrtajte model objekti-veze, utvrdite funkcionalnost veza, popišite tipove entiteta i tipove veza, odredite njihove atribute i podcrtajte primarne ključeve.</a:t>
            </a:r>
            <a:endParaRPr b="0" lang="en-US" sz="2200" spc="-1" strike="noStrike">
              <a:solidFill>
                <a:srgbClr val="000000"/>
              </a:solidFill>
              <a:latin typeface="Gill Sans MT"/>
            </a:endParaRPr>
          </a:p>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69" name=""/>
          <p:cNvSpPr txBox="1"/>
          <p:nvPr/>
        </p:nvSpPr>
        <p:spPr>
          <a:xfrm>
            <a:off x="1434960" y="1447560"/>
            <a:ext cx="7499520" cy="4800600"/>
          </a:xfrm>
          <a:prstGeom prst="rect">
            <a:avLst/>
          </a:prstGeom>
          <a:noFill/>
          <a:ln w="0">
            <a:noFill/>
          </a:ln>
        </p:spPr>
        <p:txBody>
          <a:bodyPr anchor="t">
            <a:normAutofit fontScale="96000"/>
          </a:bodyPr>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Nacrtati dijagram objekti-veze za videoteku. Potrebno je omogućiti pretraživanje filmova koje videoteka iznajmljuje: po nazivu filma, žanru, režiseru, glumcima, scenaristima i autorima muzike. Treba voditi i evidenciju o članovima videoteke (osnovni atributi: JMBG, Ime, Prezime, Status). Videoteka ima više medija (kopija) istog filma. Potrebno je omogućiti praćenje povijesti izdavanja i vraćanja svakog medija. Jedan član kluba može dnevno posuditi više medija. Na svakom mediju se nalazi samo po jedan film, i nije važno razlikovati da li je medij video kazeta ili DVD. </a:t>
            </a:r>
            <a:endParaRPr b="0" lang="en-US" sz="24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ill Sans MT"/>
              </a:rPr>
              <a:t>	</a:t>
            </a:r>
            <a:r>
              <a:rPr b="0" lang="hr-HR" sz="2400" spc="-1" strike="noStrike">
                <a:solidFill>
                  <a:srgbClr val="000000"/>
                </a:solidFill>
                <a:latin typeface="Gill Sans MT"/>
              </a:rPr>
              <a:t>Nacrtajte model objekti-veze, utvrdite funkcionalnost veza, popišite tipove entiteta i tipove veza, odredite njihove atribute i podcrtajte primarne ključeve.</a:t>
            </a:r>
            <a:endParaRPr b="0" lang="en-US" sz="24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71"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Gill Sans MT"/>
              </a:rPr>
              <a:t>Nacrtati dijagram objekti-veze za praćenje poslova u zubarskoj ordinaciji. Potrebno je voditi evidenciju o kartonima pacijenata sa osnovnim podacima o pacijentu i o stanju njegovih zuba nakon svakog pregleda ili intervencije. Za svaku intervenciju se zapisuju zubi nad kojima je intervencija obavljena, vrsta intervencije kao i svi zubari koji su u intervenciji učestvovali. Osim toga potrebno je voditi evidenciju o zakazanim pregledima uzimajući u obzir da u ordinaciji radi više zubara i da se pacijent može naručiti kod bilo kojeg zubara.</a:t>
            </a:r>
            <a:endParaRPr b="0" lang="en-US" sz="2700" spc="-1" strike="noStrike">
              <a:solidFill>
                <a:srgbClr val="000000"/>
              </a:solidFill>
              <a:latin typeface="Gill Sans MT"/>
            </a:endParaRPr>
          </a:p>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73"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700" spc="-1" strike="noStrike">
                <a:solidFill>
                  <a:srgbClr val="000000"/>
                </a:solidFill>
                <a:latin typeface="Gill Sans MT"/>
              </a:rPr>
              <a:t>Nacrtati model objekti-veze za jednu turističku agenciju sa sljedećim opisom: Agencija organizira razne tipove aranžmana (ljetovanja, zimovanja, ekskurzije, poslovna putovanja itd.). Potrebno je za svaki aranžman voditi podatke o jednoj krajnjoj destinaciji (mjestu) kao i o svim prolaznim mjestima koja se posjećuju. Za svako prolazno mjesto u aranžmanu treba dati sadržaj posjete sa satnicom. Svaki aranžman se realizira u većem broju termina, za koje se vodi evidencija o datumu polaska, datumu povratka, cijeni aranžmana. Za svaku realizaciju aranžmana angažira se jedno ili više vozila istog ili različitog tipa.</a:t>
            </a:r>
            <a:endParaRPr b="0" lang="en-US" sz="27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300" spc="-1" strike="noStrike">
                <a:solidFill>
                  <a:srgbClr val="572314"/>
                </a:solidFill>
                <a:latin typeface="Gill Sans MT"/>
              </a:rPr>
              <a:t>Zadatak </a:t>
            </a:r>
            <a:endParaRPr b="0" lang="en-US" sz="4300" spc="-1" strike="noStrike">
              <a:solidFill>
                <a:srgbClr val="572314"/>
              </a:solidFill>
              <a:latin typeface="Gill Sans MT"/>
            </a:endParaRPr>
          </a:p>
        </p:txBody>
      </p:sp>
      <p:sp>
        <p:nvSpPr>
          <p:cNvPr id="575" name=""/>
          <p:cNvSpPr txBox="1"/>
          <p:nvPr/>
        </p:nvSpPr>
        <p:spPr>
          <a:xfrm>
            <a:off x="1434960" y="1447560"/>
            <a:ext cx="7499520" cy="480060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ill Sans MT"/>
              </a:rPr>
              <a:t>Napraviti model objekti-veze za dio informacijskog sistema banaka. Potrebno je voditi podatke o svim bankama u našoj zemlji (šifra banke, naziv banke, sjedište, godina osnivanja, vlasnički odnos, kapital). Svaka banka je jednog i samo jednog tipa (komercijalna, kreditna, razvojna itd.). Jedna banka može preuzeti više drugih banaka, s druge strane može a ne mora biti preuzeta od najviše jedne banke. Za svaku banku se na kraju godine evidentira godišnji profit. Ukoliko je banka sa većinskim stranim vlasništvom, potrebno je evidentirati od kada je banka u stranom vlasništvu, a ukoliko je banka sa većinskim domaćim vlasništvom onda se vodi evidencija UkupneAktive i UkupnogDuga. Banka sa većinskim domaćim vlasništvom nalazi se u jednom i samo jednom stanju (likvidna, u stečaju, u likvidaciji, likvidirana, preuzeta itd.) koje se kroz vrijeme može mijenjati.</a:t>
            </a:r>
            <a:endParaRPr b="0" lang="en-US" sz="22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1:47:19Z</dcterms:created>
  <dc:creator>Marasović Renco</dc:creator>
  <dc:description/>
  <dc:language>en-US</dc:language>
  <cp:lastModifiedBy>Marasović Renco</cp:lastModifiedBy>
  <dcterms:modified xsi:type="dcterms:W3CDTF">2009-03-19T14:01:01Z</dcterms:modified>
  <cp:revision>12</cp:revision>
  <dc:subject/>
  <dc:title>MODELIRANJE PODATAKA</dc:title>
</cp:coreProperties>
</file>