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BD0-DDF2-44BC-B2E3-5E70AB23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95C-95B6-4290-8D47-298ADFCE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B91-CBFA-4084-A385-81C6A7FD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84A-B610-4CD0-8E17-37F5306C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C92E-4749-44D6-B287-5F3338D8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A81F-2669-4E48-A24F-041BFEC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3C94-0114-4488-9A2A-9722F8C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151-6A2A-44FE-BBF4-A60F32AE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D661-8453-4B50-9E2F-560CCA6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E37A-A620-4EBC-B3E3-8B1103E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0ED0-D91C-4BAA-8797-5BD83C47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AF5-25CA-4F47-A106-620B187C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D87-E803-45AF-8286-79A6797A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21CB-D05E-4BEF-8648-B2134C2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1D5A-DB8C-4E8F-BB8C-1A00C1C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6A6E-B33A-4B17-9971-B7095DE1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CAC-4968-4816-9078-9729FF0F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7C5-DDC6-4A10-8A38-7BFBCB52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A2B-8CAB-439B-B071-4830977E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EF9-57D4-4751-BC4B-3D267AB4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37D-CF4D-4D4C-8031-9AD7F4F9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AB2-BA74-4BFF-A484-3D1DB482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E51-F900-4758-9B78-7D72BDD9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465-3680-4316-A95B-A6C4AE1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ADCD-B065-4454-9A44-A59E4966A4D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C2FB-10BA-486E-907D-DDBC8CF012E3}" type="slidenum">
              <a:rPr b="0" lang="hr-H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ZBOR POTROŠAČ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Točke jednakog zadovolj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0"/>
          <p:cNvSpPr/>
          <p:nvPr/>
        </p:nvSpPr>
        <p:spPr>
          <a:xfrm>
            <a:off x="325440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71"/>
          <p:cNvSpPr/>
          <p:nvPr/>
        </p:nvSpPr>
        <p:spPr>
          <a:xfrm>
            <a:off x="390852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72"/>
          <p:cNvSpPr/>
          <p:nvPr/>
        </p:nvSpPr>
        <p:spPr>
          <a:xfrm>
            <a:off x="457200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3"/>
          <p:cNvSpPr/>
          <p:nvPr/>
        </p:nvSpPr>
        <p:spPr>
          <a:xfrm>
            <a:off x="5889600" y="53341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rivulja indiferen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57"/>
          <p:cNvSpPr/>
          <p:nvPr/>
        </p:nvSpPr>
        <p:spPr>
          <a:xfrm>
            <a:off x="325440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58"/>
          <p:cNvSpPr/>
          <p:nvPr/>
        </p:nvSpPr>
        <p:spPr>
          <a:xfrm>
            <a:off x="390852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59"/>
          <p:cNvSpPr/>
          <p:nvPr/>
        </p:nvSpPr>
        <p:spPr>
          <a:xfrm>
            <a:off x="457200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60"/>
          <p:cNvSpPr/>
          <p:nvPr/>
        </p:nvSpPr>
        <p:spPr>
          <a:xfrm>
            <a:off x="5889600" y="53341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61"/>
          <p:cNvSpPr/>
          <p:nvPr/>
        </p:nvSpPr>
        <p:spPr>
          <a:xfrm rot="10983600">
            <a:off x="3212640" y="19983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6095880" y="5105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apa indiferencije = skup krivulja indiferen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rc 61"/>
          <p:cNvSpPr/>
          <p:nvPr/>
        </p:nvSpPr>
        <p:spPr>
          <a:xfrm rot="10983600">
            <a:off x="3212640" y="19983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rc 62"/>
          <p:cNvSpPr/>
          <p:nvPr/>
        </p:nvSpPr>
        <p:spPr>
          <a:xfrm rot="10983600">
            <a:off x="2811240" y="2424960"/>
            <a:ext cx="343692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rc 63"/>
          <p:cNvSpPr/>
          <p:nvPr/>
        </p:nvSpPr>
        <p:spPr>
          <a:xfrm rot="10983600">
            <a:off x="3580920" y="14475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64"/>
          <p:cNvSpPr/>
          <p:nvPr/>
        </p:nvSpPr>
        <p:spPr>
          <a:xfrm>
            <a:off x="6742080" y="476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65"/>
          <p:cNvSpPr/>
          <p:nvPr/>
        </p:nvSpPr>
        <p:spPr>
          <a:xfrm>
            <a:off x="6554880" y="5321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6"/>
          <p:cNvSpPr/>
          <p:nvPr/>
        </p:nvSpPr>
        <p:spPr>
          <a:xfrm>
            <a:off x="6095880" y="5638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Granična stopa supstitu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ličina jednog dobra koje se potrošač spreman odreći kako bi dobio jednu jedinicu drugog dobra, ostajući pritom na istoj razini zadovolj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8"/>
              <p:cNvSpPr txBox="1"/>
              <p:nvPr/>
            </p:nvSpPr>
            <p:spPr>
              <a:xfrm>
                <a:off x="2057400" y="4191120"/>
                <a:ext cx="5105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R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R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MRS pada niz krivulju indiferenci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rc 61"/>
          <p:cNvSpPr/>
          <p:nvPr/>
        </p:nvSpPr>
        <p:spPr>
          <a:xfrm rot="10983600">
            <a:off x="3212640" y="1998360"/>
            <a:ext cx="343692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62"/>
          <p:cNvSpPr/>
          <p:nvPr/>
        </p:nvSpPr>
        <p:spPr>
          <a:xfrm>
            <a:off x="6095880" y="5105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3"/>
          <p:cNvSpPr/>
          <p:nvPr/>
        </p:nvSpPr>
        <p:spPr>
          <a:xfrm>
            <a:off x="3657600" y="3657600"/>
            <a:ext cx="0" cy="1447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64"/>
          <p:cNvSpPr/>
          <p:nvPr/>
        </p:nvSpPr>
        <p:spPr>
          <a:xfrm>
            <a:off x="3657600" y="5105520"/>
            <a:ext cx="1523880" cy="0"/>
          </a:xfrm>
          <a:prstGeom prst="line">
            <a:avLst/>
          </a:prstGeom>
          <a:ln w="1260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5"/>
          <p:cNvSpPr/>
          <p:nvPr/>
        </p:nvSpPr>
        <p:spPr>
          <a:xfrm>
            <a:off x="3257640" y="422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66"/>
          <p:cNvSpPr/>
          <p:nvPr/>
        </p:nvSpPr>
        <p:spPr>
          <a:xfrm>
            <a:off x="4114800" y="5081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Kako izgledaju krivulje indiferencije za savršene supstitut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63"/>
          <p:cNvSpPr/>
          <p:nvPr/>
        </p:nvSpPr>
        <p:spPr>
          <a:xfrm>
            <a:off x="2666880" y="4038480"/>
            <a:ext cx="1981440" cy="2057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64"/>
          <p:cNvSpPr/>
          <p:nvPr/>
        </p:nvSpPr>
        <p:spPr>
          <a:xfrm>
            <a:off x="2666880" y="3352680"/>
            <a:ext cx="2667240" cy="2743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666880" y="2666880"/>
            <a:ext cx="3276720" cy="3429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Kako izgledaju krivulje indiferencije za savršene komplement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60"/>
          <p:cNvSpPr/>
          <p:nvPr/>
        </p:nvSpPr>
        <p:spPr>
          <a:xfrm>
            <a:off x="3330720" y="3048120"/>
            <a:ext cx="0" cy="2361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61"/>
          <p:cNvSpPr/>
          <p:nvPr/>
        </p:nvSpPr>
        <p:spPr>
          <a:xfrm>
            <a:off x="3330720" y="541008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62"/>
          <p:cNvSpPr/>
          <p:nvPr/>
        </p:nvSpPr>
        <p:spPr>
          <a:xfrm>
            <a:off x="3995640" y="2362320"/>
            <a:ext cx="0" cy="2361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63"/>
          <p:cNvSpPr/>
          <p:nvPr/>
        </p:nvSpPr>
        <p:spPr>
          <a:xfrm>
            <a:off x="3995640" y="472428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64"/>
          <p:cNvSpPr/>
          <p:nvPr/>
        </p:nvSpPr>
        <p:spPr>
          <a:xfrm>
            <a:off x="4648320" y="1685880"/>
            <a:ext cx="0" cy="2362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65"/>
          <p:cNvSpPr/>
          <p:nvPr/>
        </p:nvSpPr>
        <p:spPr>
          <a:xfrm>
            <a:off x="4648320" y="404820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oris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im pomoću krivulja indiferencije, potrošačeve preferencije mogu se izražavati i pomoću koncepta korisno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risnost = apstraktna mjera zadovoljstva koju potrošaču pruža neka košarica dobara; izražava se brojem jedinica koris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2. BUDŽETSKO OGRANIČE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spoloživa visina dohotka kojim se mogu kupiti različite kombinacije doba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udžetski pravac = skup točaka koji pokazuje različite kombinacije dobara koje potrošač može kupiti raspoloživim dohotko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udžetski prav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59"/>
          <p:cNvSpPr/>
          <p:nvPr/>
        </p:nvSpPr>
        <p:spPr>
          <a:xfrm>
            <a:off x="2666880" y="2666880"/>
            <a:ext cx="3276720" cy="3429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6934320" y="259092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Tahoma"/>
              </a:rPr>
              <a:t>P(A) = P(B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trošačev izb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matra se kroz nekoliko dimenzi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potrošač žel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si potrošač može priuštit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potrošač stvarno odabi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ako je P(B) = 2 P(A)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54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55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56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        7        8       9       10      11     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57"/>
          <p:cNvSpPr/>
          <p:nvPr/>
        </p:nvSpPr>
        <p:spPr>
          <a:xfrm>
            <a:off x="928800" y="2733840"/>
            <a:ext cx="6615000" cy="343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 = dohod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3200" spc="-1" strike="noStrike" baseline="-10000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= cijena jedne jedinice dobra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3200" spc="-1" strike="noStrike" baseline="-10000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= cijena jedne jedinice dobra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x = količina dobra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y = količina dobra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895480" y="1839960"/>
                <a:ext cx="28958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spoloživi dohodak iznosi 2000 kuna. Moguće je birati između proizvoda A po cijeni od 100 kuna i proizvoda B po 500 ku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Prikažite budžetski prava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Što će se dogoditi ako proizvod A poskupi na 200 ku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Zatim prikažite utjecaj povećanja dohotka na 2400 ku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ko bi se dohodak potrošio samo na jedno dobro, tada bi se mogla kupiti količ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590920" y="3276720"/>
                <a:ext cx="2995560" cy="32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udžetski prav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96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97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98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2        4       6        8      10      12      14     16      18      20      22    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99"/>
          <p:cNvSpPr/>
          <p:nvPr/>
        </p:nvSpPr>
        <p:spPr>
          <a:xfrm>
            <a:off x="914400" y="3429000"/>
            <a:ext cx="6629400" cy="2743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(b) Moguće je kupiti duplo manje jedinica dobra A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96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2        4       6        8      10      12      14     16      18      20      22    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99"/>
          <p:cNvSpPr/>
          <p:nvPr/>
        </p:nvSpPr>
        <p:spPr>
          <a:xfrm>
            <a:off x="914400" y="3429000"/>
            <a:ext cx="3352680" cy="2743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Tahoma"/>
              </a:rPr>
              <a:t>(c) Sada je moguće kupiti više dobara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28800" y="2048040"/>
          <a:ext cx="7924680" cy="41148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96"/>
          <p:cNvSpPr/>
          <p:nvPr/>
        </p:nvSpPr>
        <p:spPr>
          <a:xfrm>
            <a:off x="822960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7"/>
          <p:cNvSpPr/>
          <p:nvPr/>
        </p:nvSpPr>
        <p:spPr>
          <a:xfrm>
            <a:off x="152280" y="1971720"/>
            <a:ext cx="6858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797040" y="623880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2        4       6        8      10      12      14     16      18      20      22    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99"/>
          <p:cNvSpPr/>
          <p:nvPr/>
        </p:nvSpPr>
        <p:spPr>
          <a:xfrm>
            <a:off x="914400" y="2819520"/>
            <a:ext cx="3962520" cy="335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3. POTROŠAČEV IZB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Što potrošač stvarno izabi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ošač bira kombinaciju dobara koja maksimizira zadovoljstvo uz dani raspoloživi dohod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bog budžetskog ograničenja optimalan izbor mora se nalaziti na budžetskoj krivul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o se postiže u točki gdje se krivulja indiferencije i budžetski pravac dodiruj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T(2,3) – dodir budžetskog pravca i krivulje indiferencije U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57"/>
          <p:cNvSpPr/>
          <p:nvPr/>
        </p:nvSpPr>
        <p:spPr>
          <a:xfrm rot="10983600">
            <a:off x="3067200" y="1697760"/>
            <a:ext cx="342720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58"/>
          <p:cNvSpPr/>
          <p:nvPr/>
        </p:nvSpPr>
        <p:spPr>
          <a:xfrm rot="10983600">
            <a:off x="2655720" y="2125440"/>
            <a:ext cx="3437280" cy="336528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rc 59"/>
          <p:cNvSpPr/>
          <p:nvPr/>
        </p:nvSpPr>
        <p:spPr>
          <a:xfrm rot="10983600">
            <a:off x="2682720" y="2526480"/>
            <a:ext cx="296568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60"/>
          <p:cNvSpPr/>
          <p:nvPr/>
        </p:nvSpPr>
        <p:spPr>
          <a:xfrm>
            <a:off x="6248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61"/>
          <p:cNvSpPr/>
          <p:nvPr/>
        </p:nvSpPr>
        <p:spPr>
          <a:xfrm>
            <a:off x="662940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62"/>
          <p:cNvSpPr/>
          <p:nvPr/>
        </p:nvSpPr>
        <p:spPr>
          <a:xfrm>
            <a:off x="58672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63"/>
          <p:cNvSpPr/>
          <p:nvPr/>
        </p:nvSpPr>
        <p:spPr>
          <a:xfrm>
            <a:off x="2678040" y="2666880"/>
            <a:ext cx="3276720" cy="3429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Arc 64"/>
          <p:cNvSpPr/>
          <p:nvPr/>
        </p:nvSpPr>
        <p:spPr>
          <a:xfrm rot="10983600">
            <a:off x="3479760" y="1294560"/>
            <a:ext cx="330192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65"/>
          <p:cNvSpPr/>
          <p:nvPr/>
        </p:nvSpPr>
        <p:spPr>
          <a:xfrm>
            <a:off x="54100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aksimizacija koris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3124080" y="1920960"/>
                <a:ext cx="18288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380880" y="3124080"/>
            <a:ext cx="8153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gib budžetske krivulje je – P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/P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a krivulje indiferencije – MU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/MU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dnosno – MRS</a:t>
            </a:r>
            <a:r>
              <a:rPr b="0" lang="hr-HR" sz="2400" spc="-1" strike="noStrike" baseline="-10000">
                <a:solidFill>
                  <a:srgbClr val="000000"/>
                </a:solidFill>
                <a:latin typeface="Tahoma"/>
              </a:rPr>
              <a:t>xy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pa je uvijet tangencijal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7"/>
              <p:cNvSpPr txBox="1"/>
              <p:nvPr/>
            </p:nvSpPr>
            <p:spPr>
              <a:xfrm>
                <a:off x="2362320" y="3987720"/>
                <a:ext cx="4343400" cy="23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U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1. PREFERENCIJE POTROŠAČ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ržišna košarica – skup različitih količina različitih doba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ferencije potrošača – individualni ukusi potrošača koji određuju izbor određene tržišne košar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ošač raspolaže s 1800 kn mjesečno kojeg u cijelosti troši na kupnju proizvoda x i y. Uz dano budžetsko ograničenje potrošač može kupiti maksimalno 50 jedinica dobra x, odnosno 40 jedinica dobra y. Ako potrošačeva krivulja indiferencije ima oblik y=450/x, analitički odredite i grafički prikažite kombinaciju proizvoda x i y koja maksimizira zadovoljstvo potrošača. Je li potrošač postigao ravnotež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620720" y="1905120"/>
                <a:ext cx="3556080" cy="40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447920" y="2133720"/>
                <a:ext cx="4114800" cy="30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50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2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10      20      30     40      50     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Arc 57"/>
          <p:cNvSpPr/>
          <p:nvPr/>
        </p:nvSpPr>
        <p:spPr>
          <a:xfrm rot="10983600">
            <a:off x="2991960" y="2142360"/>
            <a:ext cx="3427560" cy="33656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6019920" y="5530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63"/>
          <p:cNvSpPr/>
          <p:nvPr/>
        </p:nvSpPr>
        <p:spPr>
          <a:xfrm>
            <a:off x="2666880" y="3352680"/>
            <a:ext cx="3287880" cy="2743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udžetski pravac i krivulja indiferencije se ne dodiruju, nego se sijek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to ravnoteža nije uspostavlj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takav zaključak upućuje i dvostruko pozitivno rješenje kvadratne jednadž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unkcija korisnosti pri potrošnji dvaju dobara X i Y dana je funkcijom U = x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ahoma"/>
              </a:rPr>
              <a:t>α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ahoma"/>
              </a:rPr>
              <a:t>β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pri čemu su sklonosti potrošnji jednog i drugog dobra jednake, i u zbroju su jednake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Popunite donju tablicu za 3 krivulje indiferencije, za razine korisnosti U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= 2, U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= 4 i U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= 8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Protumačite na primjeru jednu proizvoljnu toč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914400" y="2057400"/>
          <a:ext cx="7596360" cy="4086360"/>
        </p:xfrm>
        <a:graphic>
          <a:graphicData uri="http://schemas.openxmlformats.org/drawingml/2006/table">
            <a:tbl>
              <a:tblPr/>
              <a:tblGrid>
                <a:gridCol w="1266840"/>
                <a:gridCol w="1265400"/>
                <a:gridCol w="1266480"/>
                <a:gridCol w="1265400"/>
                <a:gridCol w="1266840"/>
                <a:gridCol w="1265400"/>
              </a:tblGrid>
              <a:tr h="58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vo trebamo zaključiti kakav je oblik funkcije korisnosti. Ona glasi U = x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tj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tim odabiremo vrijednosti x-a i pronalazimo vrijednosti y-a da U bude jednak traženoj vrijedno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3554280" y="3200400"/>
                <a:ext cx="1882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1295280" y="1905120"/>
                <a:ext cx="153360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,5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4952880" y="1981080"/>
                <a:ext cx="1533600" cy="42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</m:e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/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4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914400" y="2057400"/>
          <a:ext cx="7596360" cy="4086360"/>
        </p:xfrm>
        <a:graphic>
          <a:graphicData uri="http://schemas.openxmlformats.org/drawingml/2006/table">
            <a:tbl>
              <a:tblPr/>
              <a:tblGrid>
                <a:gridCol w="1266840"/>
                <a:gridCol w="1265400"/>
                <a:gridCol w="1266480"/>
                <a:gridCol w="1265400"/>
                <a:gridCol w="1266840"/>
                <a:gridCol w="1265400"/>
              </a:tblGrid>
              <a:tr h="58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pokazuje točka T1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58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9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0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61"/>
          <p:cNvSpPr/>
          <p:nvPr/>
        </p:nvSpPr>
        <p:spPr>
          <a:xfrm>
            <a:off x="3244680" y="4648320"/>
            <a:ext cx="15264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2"/>
          <p:cNvSpPr/>
          <p:nvPr/>
        </p:nvSpPr>
        <p:spPr>
          <a:xfrm>
            <a:off x="3300480" y="430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ka je proizvoljna točka jednaka (2,2). U toj točki se ostvaruje korisnost U = 2. Ako potrošač želi zadržati istu razinu korisnosti, a mora otpustiti jedan proizvod x, tada taj proizvod može nadoknaditi samo s 2 proizvoda y, pa će konzumirati (1,4). Isto tako, ako mora otpustiti jedan proizvod y, morat će ga nadoknaditi s 2 proizvoda x kako bi ostao na istoj razini korisnosti, te će se naći u točki (4,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4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trošač kupuje hranu (F) i odjeću (C). Njegova krivulja korisnosti je U = F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Nacrtajte krivulju indiferencije na razini U = 12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Ako je dohodak jednak 12, hrana košta 1, a odjeća 3, odredite i nacrtajte budžetsku krivulj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Odredite optimalnu košaru doba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d) Koliko iznosi MRS u točki gdje se maksimizira korisnost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182600" y="2017800"/>
          <a:ext cx="1179720" cy="3962160"/>
        </p:xfrm>
        <a:graphic>
          <a:graphicData uri="http://schemas.openxmlformats.org/drawingml/2006/table">
            <a:tbl>
              <a:tblPr/>
              <a:tblGrid>
                <a:gridCol w="630360"/>
                <a:gridCol w="5493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=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0" name="Group 130"/>
          <p:cNvGrpSpPr/>
          <p:nvPr/>
        </p:nvGrpSpPr>
        <p:grpSpPr>
          <a:xfrm>
            <a:off x="3352680" y="1905120"/>
            <a:ext cx="4800240" cy="4468320"/>
            <a:chOff x="3352680" y="1905120"/>
            <a:chExt cx="4800240" cy="4468320"/>
          </a:xfrm>
        </p:grpSpPr>
        <p:sp>
          <p:nvSpPr>
            <p:cNvPr id="301" name="AutoShape 131"/>
            <p:cNvSpPr/>
            <p:nvPr/>
          </p:nvSpPr>
          <p:spPr>
            <a:xfrm>
              <a:off x="3352680" y="1905120"/>
              <a:ext cx="4800240" cy="44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32"/>
            <p:cNvSpPr/>
            <p:nvPr/>
          </p:nvSpPr>
          <p:spPr>
            <a:xfrm>
              <a:off x="3917160" y="2167920"/>
              <a:ext cx="1440" cy="36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133"/>
            <p:cNvSpPr/>
            <p:nvPr/>
          </p:nvSpPr>
          <p:spPr>
            <a:xfrm>
              <a:off x="3917160" y="5847840"/>
              <a:ext cx="395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134"/>
            <p:cNvSpPr/>
            <p:nvPr/>
          </p:nvSpPr>
          <p:spPr>
            <a:xfrm>
              <a:off x="3917160" y="5585040"/>
              <a:ext cx="33883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35"/>
            <p:cNvSpPr/>
            <p:nvPr/>
          </p:nvSpPr>
          <p:spPr>
            <a:xfrm>
              <a:off x="3917160" y="5322240"/>
              <a:ext cx="16941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136"/>
            <p:cNvSpPr/>
            <p:nvPr/>
          </p:nvSpPr>
          <p:spPr>
            <a:xfrm>
              <a:off x="7305840" y="5585040"/>
              <a:ext cx="1440" cy="26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137"/>
            <p:cNvSpPr/>
            <p:nvPr/>
          </p:nvSpPr>
          <p:spPr>
            <a:xfrm>
              <a:off x="3917160" y="2693520"/>
              <a:ext cx="2822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138"/>
            <p:cNvSpPr/>
            <p:nvPr/>
          </p:nvSpPr>
          <p:spPr>
            <a:xfrm flipV="1">
              <a:off x="4199760" y="2693520"/>
              <a:ext cx="1440" cy="3154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139"/>
            <p:cNvSpPr/>
            <p:nvPr/>
          </p:nvSpPr>
          <p:spPr>
            <a:xfrm>
              <a:off x="5611680" y="532224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140"/>
            <p:cNvSpPr/>
            <p:nvPr/>
          </p:nvSpPr>
          <p:spPr>
            <a:xfrm>
              <a:off x="3917160" y="5059440"/>
              <a:ext cx="11293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Line 141"/>
            <p:cNvSpPr/>
            <p:nvPr/>
          </p:nvSpPr>
          <p:spPr>
            <a:xfrm>
              <a:off x="5046840" y="5059440"/>
              <a:ext cx="1440" cy="78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142"/>
            <p:cNvSpPr/>
            <p:nvPr/>
          </p:nvSpPr>
          <p:spPr>
            <a:xfrm>
              <a:off x="3917160" y="4796280"/>
              <a:ext cx="8470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Line 143"/>
            <p:cNvSpPr/>
            <p:nvPr/>
          </p:nvSpPr>
          <p:spPr>
            <a:xfrm>
              <a:off x="4764240" y="479628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Line 144"/>
            <p:cNvSpPr/>
            <p:nvPr/>
          </p:nvSpPr>
          <p:spPr>
            <a:xfrm>
              <a:off x="3917160" y="4270680"/>
              <a:ext cx="564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45"/>
            <p:cNvSpPr/>
            <p:nvPr/>
          </p:nvSpPr>
          <p:spPr>
            <a:xfrm>
              <a:off x="4482000" y="4270680"/>
              <a:ext cx="1440" cy="157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Freeform 146"/>
            <p:cNvSpPr/>
            <p:nvPr/>
          </p:nvSpPr>
          <p:spPr>
            <a:xfrm>
              <a:off x="4199760" y="2693520"/>
              <a:ext cx="3106080" cy="2891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47"/>
            <p:cNvSpPr/>
            <p:nvPr/>
          </p:nvSpPr>
          <p:spPr>
            <a:xfrm>
              <a:off x="7305840" y="5847840"/>
              <a:ext cx="564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Text Box 148"/>
            <p:cNvSpPr/>
            <p:nvPr/>
          </p:nvSpPr>
          <p:spPr>
            <a:xfrm>
              <a:off x="3352680" y="2167920"/>
              <a:ext cx="564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F + 3C = 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1219320" y="2590920"/>
                <a:ext cx="2176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3" name="Group 6"/>
          <p:cNvGrpSpPr/>
          <p:nvPr/>
        </p:nvGrpSpPr>
        <p:grpSpPr>
          <a:xfrm>
            <a:off x="3962520" y="2057400"/>
            <a:ext cx="4876200" cy="4266720"/>
            <a:chOff x="3962520" y="2057400"/>
            <a:chExt cx="4876200" cy="4266720"/>
          </a:xfrm>
        </p:grpSpPr>
        <p:sp>
          <p:nvSpPr>
            <p:cNvPr id="324" name="AutoShape 7"/>
            <p:cNvSpPr/>
            <p:nvPr/>
          </p:nvSpPr>
          <p:spPr>
            <a:xfrm>
              <a:off x="3962520" y="2057400"/>
              <a:ext cx="4876200" cy="42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4732200" y="2308320"/>
              <a:ext cx="1440" cy="35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4732200" y="5822280"/>
              <a:ext cx="359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4732200" y="5571360"/>
              <a:ext cx="3079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4732200" y="5320080"/>
              <a:ext cx="1539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7812360" y="5571360"/>
              <a:ext cx="1440" cy="2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>
              <a:off x="4732200" y="2810160"/>
              <a:ext cx="2563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4988880" y="2810160"/>
              <a:ext cx="1440" cy="301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6272280" y="532008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4732200" y="5069160"/>
              <a:ext cx="102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5758920" y="5069160"/>
              <a:ext cx="1440" cy="75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4732200" y="4818240"/>
              <a:ext cx="769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5502240" y="4818240"/>
              <a:ext cx="1440" cy="1003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4732200" y="4316400"/>
              <a:ext cx="513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5245560" y="4316400"/>
              <a:ext cx="1440" cy="150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Text Box 22"/>
            <p:cNvSpPr/>
            <p:nvPr/>
          </p:nvSpPr>
          <p:spPr>
            <a:xfrm>
              <a:off x="4732200" y="5822280"/>
              <a:ext cx="41065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                              </a:t>
              </a: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6                              12       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4732200" y="4818240"/>
              <a:ext cx="3079800" cy="10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24"/>
            <p:cNvSpPr/>
            <p:nvPr/>
          </p:nvSpPr>
          <p:spPr>
            <a:xfrm>
              <a:off x="4218840" y="2308320"/>
              <a:ext cx="1026360" cy="37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12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4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>
              <a:off x="4988880" y="2810160"/>
              <a:ext cx="2823120" cy="2760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RS je apsolutna vrijednost derivacije krivulje indiferencije u točk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2 = 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3276720" y="1905120"/>
                <a:ext cx="182880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R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Rectangle 9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8"/>
              <p:cNvSpPr txBox="1"/>
              <p:nvPr/>
            </p:nvSpPr>
            <p:spPr>
              <a:xfrm>
                <a:off x="1600200" y="4648320"/>
                <a:ext cx="18414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 se izjednači s nagibom pravca (ako ostavimo minus ispred derivacije) ili s odnosom cijena (ako uzmemo apsolutnu vrijednost derivacij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2514600" y="4114800"/>
                <a:ext cx="3200400" cy="25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"/>
              <p:cNvSpPr txBox="1"/>
              <p:nvPr/>
            </p:nvSpPr>
            <p:spPr>
              <a:xfrm>
                <a:off x="2590920" y="2286000"/>
                <a:ext cx="36576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5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ko je budžet jednak 50, cijena dobra x 10, a cijena dobra y 5 novčanih jedinica, te ako je funkcija korisnosti jednaka U = xy, odredite kombinaciju dobara koja maksimizira korisnost. Prikažite grafičk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reba riješiti sustav max U(x,y) = xy, uz ograničenje 10x + 5y = 5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 se može napraviti supstitucij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5y = 50 – 10x → y= 10 – 2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(x) = x(10 – 2x)=10x – 2x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'(x) = 10 – 4x = 0 (nužni uvjet za ekstrem funkcij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x = 2.5 , y = 5, U = 1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1523880" y="1828800"/>
            <a:ext cx="5790960" cy="4687560"/>
            <a:chOff x="1523880" y="1828800"/>
            <a:chExt cx="5790960" cy="4687560"/>
          </a:xfrm>
        </p:grpSpPr>
        <p:sp>
          <p:nvSpPr>
            <p:cNvPr id="362" name="AutoShape 5"/>
            <p:cNvSpPr/>
            <p:nvPr/>
          </p:nvSpPr>
          <p:spPr>
            <a:xfrm>
              <a:off x="1523880" y="1828800"/>
              <a:ext cx="5790960" cy="46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2350440" y="2103840"/>
              <a:ext cx="1800" cy="38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7"/>
            <p:cNvSpPr/>
            <p:nvPr/>
          </p:nvSpPr>
          <p:spPr>
            <a:xfrm>
              <a:off x="2350440" y="5964120"/>
              <a:ext cx="441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2350440" y="2655720"/>
              <a:ext cx="1655640" cy="331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9"/>
            <p:cNvSpPr/>
            <p:nvPr/>
          </p:nvSpPr>
          <p:spPr>
            <a:xfrm>
              <a:off x="3179520" y="3759840"/>
              <a:ext cx="16509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E(2.5,5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2627280" y="5966280"/>
              <a:ext cx="413748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        </a:t>
              </a: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2.5              5                                             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1523880" y="1828800"/>
              <a:ext cx="826560" cy="27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12"/>
            <p:cNvSpPr/>
            <p:nvPr/>
          </p:nvSpPr>
          <p:spPr>
            <a:xfrm>
              <a:off x="3179520" y="4309920"/>
              <a:ext cx="0" cy="165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 flipH="1">
              <a:off x="2350440" y="43099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rc 14"/>
            <p:cNvSpPr/>
            <p:nvPr/>
          </p:nvSpPr>
          <p:spPr>
            <a:xfrm flipH="1" flipV="1">
              <a:off x="2901600" y="3207240"/>
              <a:ext cx="2477880" cy="248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pokazuje točka T2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57"/>
          <p:cNvSpPr/>
          <p:nvPr/>
        </p:nvSpPr>
        <p:spPr>
          <a:xfrm>
            <a:off x="588960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5975280" y="3638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Je li bolja kombinacija T1 ili T2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Bolje je kombinacija T2 jer je u njoj sadržana veća količina oba dob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ja je najbolja moguća kombinacij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ako odrediti točke između kojih je potrošaču svejedno koju odabe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Jesu li ostale točke bolje ili lošije od točke </a:t>
            </a:r>
            <a:r>
              <a:rPr b="1" lang="hr-HR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666880" y="1981080"/>
          <a:ext cx="3962520" cy="411480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  <a:gridCol w="660240"/>
                <a:gridCol w="660600"/>
                <a:gridCol w="66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4"/>
          <p:cNvSpPr/>
          <p:nvPr/>
        </p:nvSpPr>
        <p:spPr>
          <a:xfrm>
            <a:off x="6324480" y="6424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1600200" y="1905120"/>
            <a:ext cx="9144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Q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2535120" y="61722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1        2       3        4       5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57"/>
          <p:cNvSpPr/>
          <p:nvPr/>
        </p:nvSpPr>
        <p:spPr>
          <a:xfrm>
            <a:off x="588960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40384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59"/>
          <p:cNvSpPr/>
          <p:nvPr/>
        </p:nvSpPr>
        <p:spPr>
          <a:xfrm>
            <a:off x="3908520" y="46483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61"/>
          <p:cNvSpPr/>
          <p:nvPr/>
        </p:nvSpPr>
        <p:spPr>
          <a:xfrm>
            <a:off x="588960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62"/>
          <p:cNvSpPr/>
          <p:nvPr/>
        </p:nvSpPr>
        <p:spPr>
          <a:xfrm>
            <a:off x="390852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63"/>
          <p:cNvSpPr/>
          <p:nvPr/>
        </p:nvSpPr>
        <p:spPr>
          <a:xfrm>
            <a:off x="3908520" y="25909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64"/>
          <p:cNvSpPr/>
          <p:nvPr/>
        </p:nvSpPr>
        <p:spPr>
          <a:xfrm>
            <a:off x="4572000" y="3962520"/>
            <a:ext cx="152280" cy="1522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5"/>
          <p:cNvSpPr/>
          <p:nvPr/>
        </p:nvSpPr>
        <p:spPr>
          <a:xfrm>
            <a:off x="6019920" y="4332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6"/>
          <p:cNvSpPr/>
          <p:nvPr/>
        </p:nvSpPr>
        <p:spPr>
          <a:xfrm>
            <a:off x="46483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67"/>
          <p:cNvSpPr/>
          <p:nvPr/>
        </p:nvSpPr>
        <p:spPr>
          <a:xfrm>
            <a:off x="403848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68"/>
          <p:cNvSpPr/>
          <p:nvPr/>
        </p:nvSpPr>
        <p:spPr>
          <a:xfrm>
            <a:off x="60199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9"/>
          <p:cNvSpPr/>
          <p:nvPr/>
        </p:nvSpPr>
        <p:spPr>
          <a:xfrm>
            <a:off x="4038480" y="2297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a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je lošija jer daje manju količinu oba dob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a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je bolja jer daje veću količinu oba dob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a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je lošija jer uz istu količinu dobra A daje manju količinu dobra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očke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ne možemo uspoređivati bez dodatnih informaci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Krivulja indiferen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kup točaka koji pokazuje različite kombinacije dobara pri kojima je zadovoljstvo potrošača is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diferencija = ravnodušnost; stanje u kojem je izbor između dvije mogućnosti jednako poželj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3-02T20:48:1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