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E41D-922E-41E4-B55C-F21AB2338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27D1-2052-4DD3-9AC0-1C3CD669C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E4D8-53E7-4B70-A78A-45C93F1D3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09D4-B40F-4359-B4B2-D0FEDAF38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7644D-508A-44D0-8795-F7DEB9D93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A345B-8996-4A81-83D6-4C76BA95B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FEC1C-0A19-4E23-A9F5-A7D4F0787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98C59-CF2F-45FD-92B0-DFD7E4563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0BE30-2FAF-41BB-BBA9-1E649D353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54AC2-F202-49B7-9813-24A63D0A3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4BD20-C979-4725-825E-88C32357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0EA7-4940-4E1D-949E-DB4CECD1A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6BDC1-3760-4847-8FC3-59DA8972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42F18-1C5B-4221-BF4C-29ABC7C2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0D67F-CD9F-4BE3-9501-8B11E13DF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68A20-C69A-4B8F-8764-85B484494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7BAD9-655B-44D3-9BC9-21DAAC6C1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6DB1-F7BB-4E40-86DE-598F58E97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3EDE-3D50-4145-A69E-E10159B94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91A9-375F-4826-8CCD-7414484DA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08B0-F579-4A29-9EA6-E85A28C8E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2511-5F5A-44B1-96C0-5F471A60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BAFE-C8CA-4260-9D9A-CB2B95FB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43B1-B14E-44FC-9625-6A198EC5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264CF-AA48-4526-A0E6-DE84C69E837F}" type="slidenum">
              <a:rPr b="0" lang="hr-H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DFAB3-4E79-43C8-9C52-1025A1526BEE}" type="slidenum">
              <a:rPr b="0" lang="hr-H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UTJECAJ POREZA NA TRŽIŠNU RAVNOTEŽ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Fran Galeti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2268360" y="1916280"/>
          <a:ext cx="4680000" cy="4176360"/>
        </p:xfrm>
        <a:graphic>
          <a:graphicData uri="http://schemas.openxmlformats.org/drawingml/2006/table">
            <a:tbl>
              <a:tblPr/>
              <a:tblGrid>
                <a:gridCol w="936000"/>
                <a:gridCol w="936000"/>
                <a:gridCol w="935640"/>
                <a:gridCol w="936360"/>
                <a:gridCol w="936000"/>
              </a:tblGrid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"/>
          <p:cNvSpPr/>
          <p:nvPr/>
        </p:nvSpPr>
        <p:spPr>
          <a:xfrm flipV="1">
            <a:off x="2268360" y="2565000"/>
            <a:ext cx="3959280" cy="352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2205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79640" y="616572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  2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  4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   6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   8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19280" y="1844640"/>
            <a:ext cx="504720" cy="44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258920" y="1844640"/>
            <a:ext cx="50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36000" y="6237360"/>
            <a:ext cx="50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68360" y="2708280"/>
            <a:ext cx="3743640" cy="338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651640" y="5445000"/>
            <a:ext cx="4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268360" y="1773360"/>
            <a:ext cx="3959280" cy="3527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00720" y="1557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5435640" y="256500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Cijena po kojoj kupac plaća proizvod iznosi 5 novčanih jedinica. Od tih 5, prodavatelj mora uplatiti 2 na ime poreza, pa mu ostaje 3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Nova ravnotežna količina iznosi 3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2268360" y="1916280"/>
          <a:ext cx="4680000" cy="4176360"/>
        </p:xfrm>
        <a:graphic>
          <a:graphicData uri="http://schemas.openxmlformats.org/drawingml/2006/table">
            <a:tbl>
              <a:tblPr/>
              <a:tblGrid>
                <a:gridCol w="936000"/>
                <a:gridCol w="936000"/>
                <a:gridCol w="935640"/>
                <a:gridCol w="936360"/>
                <a:gridCol w="936000"/>
              </a:tblGrid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 flipV="1">
            <a:off x="2268360" y="2565000"/>
            <a:ext cx="3959280" cy="352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227640" y="2205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79640" y="616572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  2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  4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   6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   8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619280" y="1844640"/>
            <a:ext cx="504720" cy="44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258920" y="1844640"/>
            <a:ext cx="50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236000" y="6237360"/>
            <a:ext cx="50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68360" y="2708280"/>
            <a:ext cx="3743640" cy="338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651640" y="5445000"/>
            <a:ext cx="4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268360" y="1955880"/>
            <a:ext cx="3743640" cy="331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64000" y="1916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435640" y="256500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2268360" y="4005360"/>
            <a:ext cx="1440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268360" y="4797360"/>
            <a:ext cx="1440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3686040" y="4005000"/>
            <a:ext cx="0" cy="2087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63640" y="3789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63640" y="4581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468600" y="61578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15640" y="2017800"/>
            <a:ext cx="783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Efekti uvođenja poreza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Ravnotežna količina se smanjuje s 4 na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Cijena koju plaća kupac raste s 4 na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Cijena koju prima prodavatelj pada s 4 na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Porez je razdijeljen između prodavatelja i kup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Što se događa ako prodavatelj zadrži istu cijenu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Ako prodavatelj zadrži istu cijenu, to znači da je on u tu cijenu uračunao iznos poreza. Zbog toga će kupci i dalje plaćati 4 novčane jedinice, ravnotežna količina i dalje ostaje 4, ali prodavatelj sada zarađuje samo 2 (jer je uračunao porez u iznosu od 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2268360" y="1916280"/>
          <a:ext cx="4680000" cy="4176360"/>
        </p:xfrm>
        <a:graphic>
          <a:graphicData uri="http://schemas.openxmlformats.org/drawingml/2006/table">
            <a:tbl>
              <a:tblPr/>
              <a:tblGrid>
                <a:gridCol w="936000"/>
                <a:gridCol w="936000"/>
                <a:gridCol w="935640"/>
                <a:gridCol w="936360"/>
                <a:gridCol w="936000"/>
              </a:tblGrid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"/>
          <p:cNvSpPr/>
          <p:nvPr/>
        </p:nvSpPr>
        <p:spPr>
          <a:xfrm flipV="1">
            <a:off x="2268360" y="2565000"/>
            <a:ext cx="3959280" cy="352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227640" y="2205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979640" y="616572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  2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hr-HR" sz="1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   6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   8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619280" y="1844640"/>
            <a:ext cx="504720" cy="44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58920" y="1844640"/>
            <a:ext cx="50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236000" y="6237360"/>
            <a:ext cx="50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268360" y="2708280"/>
            <a:ext cx="3743640" cy="338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651640" y="5445000"/>
            <a:ext cx="4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3203640" y="3357720"/>
            <a:ext cx="3097080" cy="27352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227640" y="3429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012000" y="2708280"/>
            <a:ext cx="144360" cy="865080"/>
          </a:xfrm>
          <a:custGeom>
            <a:avLst/>
            <a:gdLst>
              <a:gd name="textAreaLeft" fmla="*/ 0 w 144360"/>
              <a:gd name="textAreaRight" fmla="*/ 52200 w 14436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05600" y="29242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por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71280" y="214200"/>
            <a:ext cx="79722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Zadatak 2: Prevaljivanje porez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Krivulja ponude određena je jednadžbom P = Qs, a krivulja potražnje P = 8 – Qd. Odredite za koliko će se promijeniti ravnotežna cijena i količina u slučaju uvođenja poreza od 2 novčane jedinice koji u cijelosti snosi kupac. Prikažite grafičk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2268360" y="1916280"/>
          <a:ext cx="4680000" cy="4176360"/>
        </p:xfrm>
        <a:graphic>
          <a:graphicData uri="http://schemas.openxmlformats.org/drawingml/2006/table">
            <a:tbl>
              <a:tblPr/>
              <a:tblGrid>
                <a:gridCol w="936000"/>
                <a:gridCol w="936000"/>
                <a:gridCol w="935640"/>
                <a:gridCol w="936360"/>
                <a:gridCol w="936000"/>
              </a:tblGrid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"/>
          <p:cNvSpPr/>
          <p:nvPr/>
        </p:nvSpPr>
        <p:spPr>
          <a:xfrm flipV="1">
            <a:off x="2268360" y="2565000"/>
            <a:ext cx="3959280" cy="352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227640" y="2205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979640" y="616572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  2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  4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   6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   8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19280" y="1844640"/>
            <a:ext cx="504720" cy="44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258920" y="1844640"/>
            <a:ext cx="50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236000" y="6237360"/>
            <a:ext cx="50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268360" y="2708280"/>
            <a:ext cx="3743640" cy="338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651640" y="5445000"/>
            <a:ext cx="4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Prije uvođenja poreza tržišna ravnoteža formira se pri cijeni 4 i količini 4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Međutim, uvođenje poreza smanjuje potražnju i uvjetuje VERTIKALNI pomak krivulje potražnje prema DOLJE za iznos nametnutog poreza. Sada je krivulja potražnje D’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2268360" y="1916280"/>
          <a:ext cx="4680000" cy="4176360"/>
        </p:xfrm>
        <a:graphic>
          <a:graphicData uri="http://schemas.openxmlformats.org/drawingml/2006/table">
            <a:tbl>
              <a:tblPr/>
              <a:tblGrid>
                <a:gridCol w="936000"/>
                <a:gridCol w="936000"/>
                <a:gridCol w="935640"/>
                <a:gridCol w="936360"/>
                <a:gridCol w="936000"/>
              </a:tblGrid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"/>
          <p:cNvSpPr/>
          <p:nvPr/>
        </p:nvSpPr>
        <p:spPr>
          <a:xfrm flipV="1">
            <a:off x="2268360" y="2565000"/>
            <a:ext cx="3959280" cy="352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227640" y="2205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79640" y="616572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  2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  4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   6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   8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619280" y="1844640"/>
            <a:ext cx="504720" cy="44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258920" y="1844640"/>
            <a:ext cx="50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236000" y="6237360"/>
            <a:ext cx="50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68360" y="2708280"/>
            <a:ext cx="3743640" cy="338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651640" y="5445000"/>
            <a:ext cx="4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268360" y="3573360"/>
            <a:ext cx="2808360" cy="2519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211640" y="5661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527200" y="3062160"/>
            <a:ext cx="0" cy="64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2279160" y="48466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2268000" y="401004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4005360"/>
            <a:ext cx="0" cy="20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POREZ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Najvažniji instrument prikupljanja javnih priho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Osnovne vrst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orez na dohoda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orez na do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orez na imovin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orez na promet (opći i posebn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15640" y="2017800"/>
            <a:ext cx="783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Efekti uvođenja poreza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Ravnotežna količina se smanjuje s 4 na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Cijena koju plaća kupac raste s 4 na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Cijena koju prima prodavatelj pada s 4 na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Efekti su ISTI kao i kod poreza koji snosi prodavatelj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Mrtvi teret oporezivnja i prihod koji prikupi drža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Mrtvi teret oporezivanja – gubitak efikasnosti uslijed nametanja porez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MTO = 0,5 * t *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  <a:ea typeface="Tahoma"/>
              </a:rPr>
              <a:t>Δ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  <a:ea typeface="Tahoma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  <a:ea typeface="Tahoma"/>
              </a:rPr>
              <a:t>(t = visina porez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Prihod koji prikupi država – iznos koji država dobiva zbog uvođenja porez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DP = Q *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Zadatak 3: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Za prethodni zadatak izračunajt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iznos koji prikupi drž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mrtvi teret oporezivnj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"/>
          <p:cNvGraphicFramePr/>
          <p:nvPr/>
        </p:nvGraphicFramePr>
        <p:xfrm>
          <a:off x="2268360" y="1916280"/>
          <a:ext cx="4680000" cy="4176360"/>
        </p:xfrm>
        <a:graphic>
          <a:graphicData uri="http://schemas.openxmlformats.org/drawingml/2006/table">
            <a:tbl>
              <a:tblPr/>
              <a:tblGrid>
                <a:gridCol w="936000"/>
                <a:gridCol w="936000"/>
                <a:gridCol w="935640"/>
                <a:gridCol w="936360"/>
                <a:gridCol w="936000"/>
              </a:tblGrid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"/>
          <p:cNvSpPr/>
          <p:nvPr/>
        </p:nvSpPr>
        <p:spPr>
          <a:xfrm flipV="1">
            <a:off x="2268360" y="2565000"/>
            <a:ext cx="3959280" cy="352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227640" y="2205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979640" y="616572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  2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  4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   6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   8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619280" y="1844640"/>
            <a:ext cx="504720" cy="44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258920" y="1844640"/>
            <a:ext cx="50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236000" y="6237360"/>
            <a:ext cx="50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268360" y="2708280"/>
            <a:ext cx="3743640" cy="338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651640" y="5445000"/>
            <a:ext cx="4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11640" y="5661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27200" y="3062160"/>
            <a:ext cx="0" cy="64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2279160" y="48466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2268000" y="401004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657600" y="4005360"/>
            <a:ext cx="0" cy="20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268360" y="3933720"/>
            <a:ext cx="1366920" cy="935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5400000">
            <a:off x="3419640" y="4148640"/>
            <a:ext cx="935280" cy="505080"/>
          </a:xfrm>
          <a:prstGeom prst="triangle">
            <a:avLst>
              <a:gd name="adj" fmla="val 49574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268360" y="3608280"/>
            <a:ext cx="2808360" cy="2519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308720" y="1916280"/>
            <a:ext cx="1366920" cy="9349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4360" y="299736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Državni pri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rot="5400000">
            <a:off x="7525440" y="4507560"/>
            <a:ext cx="934920" cy="504720"/>
          </a:xfrm>
          <a:prstGeom prst="triangle">
            <a:avLst>
              <a:gd name="adj" fmla="val 49574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236000" y="5373720"/>
            <a:ext cx="129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Mrtvi ter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MTO = 0,5 * t *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  <a:ea typeface="Tahoma"/>
              </a:rPr>
              <a:t>Δ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  <a:ea typeface="Tahoma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MTO = 0,5 * 2 * (4 – 3) = 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DP = Q *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DP = 3 * 2 = 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Temeljna obilježja porez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risilnost (neplaćanje donosi sankcij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izvedenost (država ima pravo sama regulirati materiju oporezivanj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nepovratnost (plaćeni porez postaje trajno vlasnoštvo držav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odsutnost neposredne nakna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nedestiniranost (namjena nije unaprijed određen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javni inte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novčani prihod drž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Porezi prema vrsti stop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Količinsk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Novčani iznos koji treba platiti određen je apsolutno, za svaku jedinicu dob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Iznos poreza = cijena + apsolutni izn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Ad valorem (vrijednosn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novčani iznos koji treba platiti određuje se kao postotak ukupne vrijed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Iznos poreza = (1 + stopa) * cije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Primjer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Odredite iznos poreza i ukupne prodajne cijene ako se promet oporezuje količinskim porezom u iznosu od 5 kuna po komad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5003640" y="1989000"/>
          <a:ext cx="3816360" cy="4237200"/>
        </p:xfrm>
        <a:graphic>
          <a:graphicData uri="http://schemas.openxmlformats.org/drawingml/2006/table">
            <a:tbl>
              <a:tblPr/>
              <a:tblGrid>
                <a:gridCol w="1152720"/>
                <a:gridCol w="1079640"/>
                <a:gridCol w="1584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ije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re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dajna cije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Kolika bi bila prodajna cijena da se porez određuje kao postotak vrijednosti u iznosu od 10%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5076720" y="2017800"/>
          <a:ext cx="3878280" cy="4141800"/>
        </p:xfrm>
        <a:graphic>
          <a:graphicData uri="http://schemas.openxmlformats.org/drawingml/2006/table">
            <a:tbl>
              <a:tblPr/>
              <a:tblGrid>
                <a:gridCol w="1219320"/>
                <a:gridCol w="1077840"/>
                <a:gridCol w="15811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ije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re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dajna cije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Zadatak 1: Uvođenje porez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Krivulja ponude određena je jednadžbom P = Qs, a krivulja potražnje P = 8 – Qd. Odredite za koliko će se promijeniti ravnotežna cijena i količina u slučaju uvođenja poreza od 2 novčane jedinice koji u cijelosti snosi prodavatelj. Prikažite grafičk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2268360" y="1916280"/>
          <a:ext cx="4680000" cy="4176360"/>
        </p:xfrm>
        <a:graphic>
          <a:graphicData uri="http://schemas.openxmlformats.org/drawingml/2006/table">
            <a:tbl>
              <a:tblPr/>
              <a:tblGrid>
                <a:gridCol w="936000"/>
                <a:gridCol w="936000"/>
                <a:gridCol w="935640"/>
                <a:gridCol w="936360"/>
                <a:gridCol w="936000"/>
              </a:tblGrid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 flipV="1">
            <a:off x="2268360" y="2565000"/>
            <a:ext cx="3959280" cy="352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227640" y="2205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79640" y="616572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  2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  4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   6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   8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19280" y="1844640"/>
            <a:ext cx="504720" cy="44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58920" y="1844640"/>
            <a:ext cx="50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236000" y="6237360"/>
            <a:ext cx="50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68360" y="2708280"/>
            <a:ext cx="3743640" cy="338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445000"/>
            <a:ext cx="4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Prije uvođenja poreza tržišna ravnoteža formira se pri cijeni 4 i količini 4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Međutim, uvođenje poreza smanjuje ponudu i uvjetuje VERTIKALNI pomak krivulje ponude prema GORE za iznos nametnutog poreza. Sada je krivulja ponude S’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3T12:21:44Z</dcterms:created>
  <dc:creator>Ivan</dc:creator>
  <dc:description/>
  <dc:language>en-US</dc:language>
  <cp:lastModifiedBy>Ivan</cp:lastModifiedBy>
  <dcterms:modified xsi:type="dcterms:W3CDTF">2007-03-20T22:25:40Z</dcterms:modified>
  <cp:revision>15</cp:revision>
  <dc:subject/>
  <dc:title>UTJECAJ POREZA NA TRŽIŠNU RAVNOTEŽU</dc:title>
</cp:coreProperties>
</file>