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B15-297B-4410-833E-65163E1A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AD3-B3DB-424A-9F73-9A3E138D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922-B537-40BB-B602-6F8FC045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9E5-4C48-4179-B2AD-76B7A798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261A-E958-4EC9-BF46-41608A46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19D7-BCFC-4064-9A74-6B2FEAAC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87D6-07D5-4C02-A782-12816936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BBAC-2C3E-4277-9615-A8C64EEA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AEEB-C37C-4420-8503-9142BD62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EAAF-8312-4449-8FD1-25D9F585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A8F6-1733-4E10-8E3A-C79D2C32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CABE-1AAB-4DF6-A296-562F3424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03B1-878F-4610-9901-F53C8990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7261-A675-4513-B737-5227FBF0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3FB9-0611-4E79-AFC9-4A4CB4EB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D4B7-3A3F-4263-9871-BA43D18B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E67D-CFC8-434D-8A23-532BDDB2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93C-9971-41FA-98E9-9AC7FCAF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B52-4D4B-4801-8F0B-5982E417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720-8E39-4C15-9710-1C90764B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419-1571-4793-AF8E-9B607237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4AA-E502-4DE7-B656-58E64218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D5F-02BB-47A8-813B-62D893B6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051-30DF-423F-AC15-D40A6C89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A8D9-D9EF-4CE1-B5E8-3603F57C80A6}" type="slidenum">
              <a:rPr b="0" lang="hr-H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B278-C569-4C3B-B852-4DFFB14C1DD8}" type="slidenum">
              <a:rPr b="0" lang="hr-H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UTJECAJ POREZA NA TRŽIŠNU RAVNOTEŽ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ran Galet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268360" y="1916280"/>
          <a:ext cx="4680000" cy="4176360"/>
        </p:xfrm>
        <a:graphic>
          <a:graphicData uri="http://schemas.openxmlformats.org/drawingml/2006/table">
            <a:tbl>
              <a:tblPr/>
              <a:tblGrid>
                <a:gridCol w="936000"/>
                <a:gridCol w="936000"/>
                <a:gridCol w="935640"/>
                <a:gridCol w="936360"/>
                <a:gridCol w="9360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 flipV="1">
            <a:off x="2268360" y="2565000"/>
            <a:ext cx="3959280" cy="352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6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8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1844640"/>
            <a:ext cx="50472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184464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6000" y="623736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68360" y="2708280"/>
            <a:ext cx="3743640" cy="338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51640" y="54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268360" y="1773360"/>
            <a:ext cx="3959280" cy="352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155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435640" y="2565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Cijena po kojoj kupac plaća proizvod iznosi 5 novčanih jedinica. Od tih 5, prodavatelj mora uplatiti 2 na ime poreza, pa mu ostaje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ova ravnotežna količina iznosi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268360" y="1916280"/>
          <a:ext cx="4680000" cy="4176360"/>
        </p:xfrm>
        <a:graphic>
          <a:graphicData uri="http://schemas.openxmlformats.org/drawingml/2006/table">
            <a:tbl>
              <a:tblPr/>
              <a:tblGrid>
                <a:gridCol w="936000"/>
                <a:gridCol w="936000"/>
                <a:gridCol w="935640"/>
                <a:gridCol w="936360"/>
                <a:gridCol w="9360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2268360" y="2565000"/>
            <a:ext cx="3959280" cy="352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2764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6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8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1844640"/>
            <a:ext cx="50472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184464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236000" y="623736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68360" y="2708280"/>
            <a:ext cx="3743640" cy="338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51640" y="54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68360" y="1955880"/>
            <a:ext cx="3743640" cy="331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35640" y="2565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268360" y="4005360"/>
            <a:ext cx="14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360" y="4797360"/>
            <a:ext cx="14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686040" y="4005000"/>
            <a:ext cx="0" cy="208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364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5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68600" y="6157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5640" y="2017800"/>
            <a:ext cx="78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fekti uvođenja porez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vnotežna količina se smanjuje s 4 na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Cijena koju plaća kupac raste s 4 na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Cijena koju prima prodavatelj pada s 4 na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rez je razdijeljen između prodavatelja i kup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Što se događa ako prodavatelj zadrži istu cijen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Ako prodavatelj zadrži istu cijenu, to znači da je on u tu cijenu uračunao iznos poreza. Zbog toga će kupci i dalje plaćati 4 novčane jedinice, ravnotežna količina i dalje ostaje 4, ali prodavatelj sada zarađuje samo 2 (jer je uračunao porez u iznosu od 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268360" y="1916280"/>
          <a:ext cx="4680000" cy="4176360"/>
        </p:xfrm>
        <a:graphic>
          <a:graphicData uri="http://schemas.openxmlformats.org/drawingml/2006/table">
            <a:tbl>
              <a:tblPr/>
              <a:tblGrid>
                <a:gridCol w="936000"/>
                <a:gridCol w="936000"/>
                <a:gridCol w="935640"/>
                <a:gridCol w="936360"/>
                <a:gridCol w="9360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 flipV="1">
            <a:off x="2268360" y="2565000"/>
            <a:ext cx="3959280" cy="352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764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6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8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19280" y="1844640"/>
            <a:ext cx="50472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184464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36000" y="623736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68360" y="2708280"/>
            <a:ext cx="3743640" cy="338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1640" y="54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203640" y="3357720"/>
            <a:ext cx="3097080" cy="2735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27640" y="342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2708280"/>
            <a:ext cx="144360" cy="86508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05600" y="2924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o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2: Prevaljivanje porez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rivulja ponude određena je jednadžbom P = Qs, a krivulja potražnje P = 8 – Qd. Odredite za koliko će se promijeniti ravnotežna cijena i količina u slučaju uvođenja poreza od 2 novčane jedinice koji u cijelosti snosi kupac. Prikažite grafičk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68360" y="1916280"/>
          <a:ext cx="4680000" cy="4176360"/>
        </p:xfrm>
        <a:graphic>
          <a:graphicData uri="http://schemas.openxmlformats.org/drawingml/2006/table">
            <a:tbl>
              <a:tblPr/>
              <a:tblGrid>
                <a:gridCol w="936000"/>
                <a:gridCol w="936000"/>
                <a:gridCol w="935640"/>
                <a:gridCol w="936360"/>
                <a:gridCol w="9360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 flipV="1">
            <a:off x="2268360" y="2565000"/>
            <a:ext cx="3959280" cy="352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6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8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1844640"/>
            <a:ext cx="50472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184464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6000" y="623736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2708280"/>
            <a:ext cx="3743640" cy="338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54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je uvođenja poreza tržišna ravnoteža formira se pri cijeni 4 i količini 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eđutim, uvođenje poreza smanjuje potražnju i uvjetuje VERTIKALNI pomak krivulje potražnje prema DOLJE za iznos nametnutog poreza. Sada je krivulja potražnje D’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68360" y="1916280"/>
          <a:ext cx="4680000" cy="4176360"/>
        </p:xfrm>
        <a:graphic>
          <a:graphicData uri="http://schemas.openxmlformats.org/drawingml/2006/table">
            <a:tbl>
              <a:tblPr/>
              <a:tblGrid>
                <a:gridCol w="936000"/>
                <a:gridCol w="936000"/>
                <a:gridCol w="935640"/>
                <a:gridCol w="936360"/>
                <a:gridCol w="9360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 flipV="1">
            <a:off x="2268360" y="2565000"/>
            <a:ext cx="3959280" cy="352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2764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6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8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9280" y="1844640"/>
            <a:ext cx="50472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184464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6000" y="623736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2708280"/>
            <a:ext cx="3743640" cy="338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1640" y="54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68360" y="3573360"/>
            <a:ext cx="2808360" cy="251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11640" y="566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27200" y="306216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279160" y="48466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268000" y="40100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4005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OREZ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ajvažniji instrument prikupljanja javnih priho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snovne vrs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rez na dohod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rez na do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rez na imovi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rez na promet (opći i posebn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5640" y="2017800"/>
            <a:ext cx="78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fekti uvođenja porez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vnotežna količina se smanjuje s 4 na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Cijena koju plaća kupac raste s 4 na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Cijena koju prima prodavatelj pada s 4 na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fekti su ISTI kao i kod poreza koji snosi prodavatelj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Mrtvi teret oporezivnja i prihod koji prikupi drž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rtvi teret oporezivanja – gubitak efikasnosti uslijed nametanja pore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TO = 0,5 * t *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(t = visina porez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hod koji prikupi država – iznos koji država dobiva zbog uvođenja pore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P = Q *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3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a prethodni zadatak izračunaj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znos koji prikupi drž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mrtvi teret oporezivn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268360" y="1916280"/>
          <a:ext cx="4680000" cy="4176360"/>
        </p:xfrm>
        <a:graphic>
          <a:graphicData uri="http://schemas.openxmlformats.org/drawingml/2006/table">
            <a:tbl>
              <a:tblPr/>
              <a:tblGrid>
                <a:gridCol w="936000"/>
                <a:gridCol w="936000"/>
                <a:gridCol w="935640"/>
                <a:gridCol w="936360"/>
                <a:gridCol w="9360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 flipV="1">
            <a:off x="2268360" y="2565000"/>
            <a:ext cx="3959280" cy="352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2764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6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8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1844640"/>
            <a:ext cx="50472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184464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6000" y="623736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68360" y="2708280"/>
            <a:ext cx="3743640" cy="338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54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566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27200" y="306216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279160" y="48466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268000" y="40100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4005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68360" y="3933720"/>
            <a:ext cx="1366920" cy="935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3419640" y="4148640"/>
            <a:ext cx="935280" cy="505080"/>
          </a:xfrm>
          <a:prstGeom prst="triangle">
            <a:avLst>
              <a:gd name="adj" fmla="val 4957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68360" y="3608280"/>
            <a:ext cx="2808360" cy="251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08720" y="1916280"/>
            <a:ext cx="136692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4360" y="2997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ržavni pri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7525440" y="4507560"/>
            <a:ext cx="934920" cy="504720"/>
          </a:xfrm>
          <a:prstGeom prst="triangle">
            <a:avLst>
              <a:gd name="adj" fmla="val 4957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36000" y="5373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Mrtvi te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TO = 0,5 * t *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TO = 0,5 * 2 * (4 – 3)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P = Q *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P = 3 * 2 = 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Temeljna obilježja porez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isilnost (neplaćanje donosi sankcij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zvedenost (država ima pravo sama regulirati materiju oporezivanj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povratnost (plaćeni porez postaje trajno vlasnoštvo držav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dsutnost neposredne nakna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destiniranost (namjena nije unaprijed određe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javni inte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ovčani prihod drž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orezi prema vrsti sto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oličins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ovčani iznos koji treba platiti određen je apsolutno, za svaku jedinicu dob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znos poreza = cijena + apsolutni iz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Ad valorem (vrijedno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ovčani iznos koji treba platiti određuje se kao postotak ukupne vrijed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znos poreza = (1 + stopa) * cij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rimj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dredite iznos poreza i ukupne prodajne cijene ako se promet oporezuje količinskim porezom u iznosu od 5 kuna po komad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003640" y="1989000"/>
          <a:ext cx="3816360" cy="4237200"/>
        </p:xfrm>
        <a:graphic>
          <a:graphicData uri="http://schemas.openxmlformats.org/drawingml/2006/table">
            <a:tbl>
              <a:tblPr/>
              <a:tblGrid>
                <a:gridCol w="1152720"/>
                <a:gridCol w="1079640"/>
                <a:gridCol w="158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j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r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ajna cij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olika bi bila prodajna cijena da se porez određuje kao postotak vrijednosti u iznosu od 10%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076720" y="2017800"/>
          <a:ext cx="3878280" cy="4141800"/>
        </p:xfrm>
        <a:graphic>
          <a:graphicData uri="http://schemas.openxmlformats.org/drawingml/2006/table">
            <a:tbl>
              <a:tblPr/>
              <a:tblGrid>
                <a:gridCol w="1219320"/>
                <a:gridCol w="1077840"/>
                <a:gridCol w="1581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j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r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ajna cij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1: Uvođenje porez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rivulja ponude određena je jednadžbom P = Qs, a krivulja potražnje P = 8 – Qd. Odredite za koliko će se promijeniti ravnotežna cijena i količina u slučaju uvođenja poreza od 2 novčane jedinice koji u cijelosti snosi prodavatelj. Prikažite grafičk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268360" y="1916280"/>
          <a:ext cx="4680000" cy="4176360"/>
        </p:xfrm>
        <a:graphic>
          <a:graphicData uri="http://schemas.openxmlformats.org/drawingml/2006/table">
            <a:tbl>
              <a:tblPr/>
              <a:tblGrid>
                <a:gridCol w="936000"/>
                <a:gridCol w="936000"/>
                <a:gridCol w="935640"/>
                <a:gridCol w="936360"/>
                <a:gridCol w="9360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 flipV="1">
            <a:off x="2268360" y="2565000"/>
            <a:ext cx="3959280" cy="352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6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8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1844640"/>
            <a:ext cx="50472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184464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623736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2708280"/>
            <a:ext cx="3743640" cy="338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4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je uvođenja poreza tržišna ravnoteža formira se pri cijeni 4 i količini 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eđutim, uvođenje poreza smanjuje ponudu i uvjetuje VERTIKALNI pomak krivulje ponude prema GORE za iznos nametnutog poreza. Sada je krivulja ponude S’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2:21:44Z</dcterms:created>
  <dc:creator>Ivan</dc:creator>
  <dc:description/>
  <dc:language>en-US</dc:language>
  <cp:lastModifiedBy>Ivan</cp:lastModifiedBy>
  <dcterms:modified xsi:type="dcterms:W3CDTF">2007-03-20T22:25:40Z</dcterms:modified>
  <cp:revision>15</cp:revision>
  <dc:subject/>
  <dc:title>UTJECAJ POREZA NA TRŽIŠNU RAVNOTEŽU</dc:title>
</cp:coreProperties>
</file>