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979-53D4-44BA-A1B4-088F82CA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F08-4FC7-4BF4-9B11-7E7967D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658-6AED-4614-BEC8-26C36506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DFB-45B8-4A21-A14B-B5A5B0F6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7880-0CD8-4056-B25D-432ACEFE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B678-8202-4973-BCAE-AC78049E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7DE6-8BFA-44A8-9007-10A1EDBF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6BE9-F0FB-4C7B-A15A-B21A64DF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10F5-1EA0-4405-BF20-2CB95993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1ACE-C692-4E58-A139-101AF22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C24C-2FAA-4379-AE81-48BC351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D37-7A86-4147-ADA0-C06C9FD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20B2-C83A-4346-8D7D-E620D300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C878-3B03-4A92-AE80-F3B94DD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D8E8-8FA7-472B-A1EA-CB597FAB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9865-C30D-4608-889D-E87B9B80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9F5F-73BE-420C-ADEC-F8574422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C1B-2249-475F-AEA7-6FA8F6E4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606-2DE3-463A-BCF6-5EC520AF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FC9-6A41-40F0-B5E2-D24C7003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4C4-72C9-4EB6-8D5F-C6B7BB5C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EFF-5D6C-4A38-81E5-6A1E766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1BD-41E3-451F-A4F3-164478B5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E25-D13F-4DE6-826E-D171E85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974E-BB75-473B-8391-B0AF4F7D7C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D31E-499B-4211-A118-A896D368BC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333399"/>
              </a:solidFill>
              <a:latin typeface="Arial"/>
              <a:ea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825560"/>
          <a:ext cx="7897680" cy="464832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  <a:gridCol w="790560"/>
                <a:gridCol w="787320"/>
                <a:gridCol w="790560"/>
                <a:gridCol w="789120"/>
                <a:gridCol w="790560"/>
                <a:gridCol w="787320"/>
                <a:gridCol w="79056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14400" y="64882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      1          2         3         4         5          6         7         8          9   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1982880"/>
            <a:ext cx="9144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,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267080"/>
            <a:ext cx="7162920" cy="654120"/>
          </a:xfrm>
          <a:custGeom>
            <a:avLst/>
            <a:gdLst/>
            <a:ahLst/>
            <a:rect l="l" t="t" r="r" b="b"/>
            <a:pathLst>
              <a:path w="4512" h="392">
                <a:moveTo>
                  <a:pt x="0" y="392"/>
                </a:moveTo>
                <a:cubicBezTo>
                  <a:pt x="180" y="372"/>
                  <a:pt x="360" y="352"/>
                  <a:pt x="528" y="296"/>
                </a:cubicBezTo>
                <a:cubicBezTo>
                  <a:pt x="696" y="240"/>
                  <a:pt x="848" y="104"/>
                  <a:pt x="1008" y="56"/>
                </a:cubicBezTo>
                <a:cubicBezTo>
                  <a:pt x="1168" y="8"/>
                  <a:pt x="1320" y="16"/>
                  <a:pt x="1488" y="8"/>
                </a:cubicBezTo>
                <a:cubicBezTo>
                  <a:pt x="1656" y="0"/>
                  <a:pt x="1848" y="0"/>
                  <a:pt x="2016" y="8"/>
                </a:cubicBezTo>
                <a:cubicBezTo>
                  <a:pt x="2184" y="16"/>
                  <a:pt x="2336" y="40"/>
                  <a:pt x="2496" y="56"/>
                </a:cubicBezTo>
                <a:cubicBezTo>
                  <a:pt x="2656" y="72"/>
                  <a:pt x="2808" y="88"/>
                  <a:pt x="2976" y="104"/>
                </a:cubicBezTo>
                <a:cubicBezTo>
                  <a:pt x="3144" y="120"/>
                  <a:pt x="3336" y="128"/>
                  <a:pt x="3504" y="152"/>
                </a:cubicBezTo>
                <a:cubicBezTo>
                  <a:pt x="3672" y="176"/>
                  <a:pt x="3816" y="208"/>
                  <a:pt x="3984" y="248"/>
                </a:cubicBezTo>
                <a:cubicBezTo>
                  <a:pt x="4152" y="288"/>
                  <a:pt x="4424" y="368"/>
                  <a:pt x="4512" y="392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848040"/>
            <a:ext cx="7086600" cy="2095560"/>
          </a:xfrm>
          <a:custGeom>
            <a:avLst/>
            <a:gdLst/>
            <a:ahLst/>
            <a:rect l="l" t="t" r="r" b="b"/>
            <a:pathLst>
              <a:path w="4464" h="1320">
                <a:moveTo>
                  <a:pt x="0" y="696"/>
                </a:moveTo>
                <a:cubicBezTo>
                  <a:pt x="156" y="652"/>
                  <a:pt x="312" y="608"/>
                  <a:pt x="480" y="504"/>
                </a:cubicBezTo>
                <a:cubicBezTo>
                  <a:pt x="648" y="400"/>
                  <a:pt x="840" y="144"/>
                  <a:pt x="1008" y="72"/>
                </a:cubicBezTo>
                <a:cubicBezTo>
                  <a:pt x="1176" y="0"/>
                  <a:pt x="1328" y="40"/>
                  <a:pt x="1488" y="72"/>
                </a:cubicBezTo>
                <a:cubicBezTo>
                  <a:pt x="1648" y="104"/>
                  <a:pt x="1808" y="192"/>
                  <a:pt x="1968" y="264"/>
                </a:cubicBezTo>
                <a:cubicBezTo>
                  <a:pt x="2128" y="336"/>
                  <a:pt x="2280" y="416"/>
                  <a:pt x="2448" y="504"/>
                </a:cubicBezTo>
                <a:cubicBezTo>
                  <a:pt x="2616" y="592"/>
                  <a:pt x="2800" y="704"/>
                  <a:pt x="2976" y="792"/>
                </a:cubicBezTo>
                <a:cubicBezTo>
                  <a:pt x="3152" y="880"/>
                  <a:pt x="3336" y="968"/>
                  <a:pt x="3504" y="1032"/>
                </a:cubicBezTo>
                <a:cubicBezTo>
                  <a:pt x="3672" y="1096"/>
                  <a:pt x="3824" y="1128"/>
                  <a:pt x="3984" y="1176"/>
                </a:cubicBezTo>
                <a:cubicBezTo>
                  <a:pt x="4144" y="1224"/>
                  <a:pt x="4384" y="1296"/>
                  <a:pt x="4464" y="13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5334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2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nite tablicu i prikažite grafički TP, MP i 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3276720"/>
          <a:ext cx="7772400" cy="21906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izvodnja automobilskih motora opisana je funkcijom                             pri čemu je K ulog kapitala, a L broj radni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Odredite prosječnu i graničnu proizvodnost radnika pri ulogu od 7 jedinica kapita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Koliko je radnika potrebno za proizvodnju 12 motor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025960" y="2436840"/>
                <a:ext cx="3124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r>
                      <m:t xml:space="preserve">0,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71600" y="1784520"/>
                <a:ext cx="4952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,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L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,7</m:t>
                        </m:r>
                        <m:r>
                          <m:t xml:space="preserve">∗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L</m:t>
                                </m:r>
                              </m:e>
                            </m:rad>
                          </m:den>
                        </m:f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stući – granična proizvodnost varijabilnog inputa raste s porastom količ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nstantni – promjena TP po jedinici promjene inputa je konstant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adajući – granična proizvodnost varijabilnog inputa pada s porastom količ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stući 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2013120"/>
          <a:ext cx="8153640" cy="43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3120"/>
                    <a:ext cx="8153640" cy="43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tantni 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014560"/>
          <a:ext cx="8153640" cy="43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4560"/>
                    <a:ext cx="81536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ajući granični prino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8040" y="2028960"/>
          <a:ext cx="815328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028960"/>
                    <a:ext cx="815328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0"/>
          <a:ext cx="5333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333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astičnost proizvod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stotna promjena proizvodnje kad se varijabilni input promijeni za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181480" y="2057400"/>
                <a:ext cx="331308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ΔL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Δ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OSNOVNI POJMO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izvodni inputi – zemlja, rad, sirovine, oprema i sve ostalo potrebno za proizvodn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utput – rezultat proizvodnje u kojoj su utrošeni proizvodni inpu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74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m inputa output raste po rastućoj sto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m inputa output raste po padajućoj sto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većanjem inputa output se smanju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7960" y="2286000"/>
                <a:ext cx="177804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8120" y="0"/>
          <a:ext cx="5486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486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6320" y="3581280"/>
            <a:ext cx="281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Faze proizvodne fun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za I/Faza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icu između faza I i II određuje maksimum funkcije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da je MP =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astičnost u toj točki iznosi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ječna proizvodnost je tada maksimal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7760" y="2590920"/>
            <a:ext cx="4916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ojanje ekstrema funk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rem funkcije je njezin maksi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25360" y="2514600"/>
                <a:ext cx="173232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aza II/Faza 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icu između faza II i III određuje maksimum funkcije 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da je MP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astičnost u toj točki iznosi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7760" y="2590920"/>
            <a:ext cx="4916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ojanje ekstrema funk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rem funkcije je njezin maksi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7200" y="2602080"/>
                <a:ext cx="2895480" cy="27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4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 proizvodnu funkciju oblika             TP = 35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4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dred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) funkcije prosječne i granične proizvod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) potrebnu količinu rada pri kojoj je elastičnost jednaka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) potrebnu količinu rada da bi se ostvarila maksimalna proizvod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77880" y="1838160"/>
                <a:ext cx="402588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15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3. PROIZVODNJA U DUGOM ROK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vi inputi su varijabil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vi troškovi su varijabil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zokvanta – krivulja koja povezuje sva kombinacije inputa koje daju istu razinu outp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apa izokvanti – skup svih izokvanti za zadanu proizvodnu funkci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a fun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unkcija koja pokazuje odnos između proizvodnih inputa i outp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Q = f (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...,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jjednostavniji oblik proizvodne funkcije je: Q = f (L, 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izvodna fun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882800"/>
          <a:ext cx="9144000" cy="49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82800"/>
                    <a:ext cx="91440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5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dana je funkcija proizvodnje cipela oblika TP = 0,4 K</a:t>
            </a:r>
            <a:r>
              <a:rPr b="0" lang="hr-HR" sz="3200" spc="-1" strike="noStrike" baseline="50000">
                <a:solidFill>
                  <a:srgbClr val="000000"/>
                </a:solidFill>
                <a:latin typeface="Tahoma"/>
              </a:rPr>
              <a:t>3/2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hr-HR" sz="3200" spc="-1" strike="noStrike" baseline="50000">
                <a:solidFill>
                  <a:srgbClr val="000000"/>
                </a:solidFill>
                <a:latin typeface="Tahoma"/>
              </a:rPr>
              <a:t>1/2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, pri čemu je K broj sati korištenja stroja i L broj angažiranih radni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Odredite prosječnu i graničnu proizvodnost radnika u slučaju kada se stroj koristi 70 sa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Odredite izokvantu oblika K = f(L) za 30 cipel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Prikažite izokvantu grafičk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523880" y="1981080"/>
                <a:ext cx="5867640" cy="39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8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48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4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2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95280" y="1828800"/>
                <a:ext cx="227340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num>
                          <m:den>
                            <m:r>
                              <m:t xml:space="preserve">0,4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deg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g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num>
                              <m:den>
                                <m:r>
                                  <m:t xml:space="preserve">0,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deg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g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t xml:space="preserve">0,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4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5791320" y="2057400"/>
          <a:ext cx="2401920" cy="4114440"/>
        </p:xfrm>
        <a:graphic>
          <a:graphicData uri="http://schemas.openxmlformats.org/drawingml/2006/table">
            <a:tbl>
              <a:tblPr/>
              <a:tblGrid>
                <a:gridCol w="1200960"/>
                <a:gridCol w="1200960"/>
              </a:tblGrid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09680" y="1981080"/>
          <a:ext cx="5181840" cy="4114440"/>
        </p:xfrm>
        <a:graphic>
          <a:graphicData uri="http://schemas.openxmlformats.org/drawingml/2006/table">
            <a:tbl>
              <a:tblPr/>
              <a:tblGrid>
                <a:gridCol w="1036440"/>
                <a:gridCol w="1036440"/>
                <a:gridCol w="1036080"/>
                <a:gridCol w="1036440"/>
                <a:gridCol w="10364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905120" y="62485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      5            10          15          20           25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981080"/>
            <a:ext cx="68580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666880"/>
            <a:ext cx="4114800" cy="1295640"/>
          </a:xfrm>
          <a:custGeom>
            <a:avLst/>
            <a:gdLst/>
            <a:ahLst/>
            <a:rect l="l" t="t" r="r" b="b"/>
            <a:pathLst>
              <a:path w="2592" h="816">
                <a:moveTo>
                  <a:pt x="0" y="0"/>
                </a:moveTo>
                <a:cubicBezTo>
                  <a:pt x="204" y="136"/>
                  <a:pt x="408" y="272"/>
                  <a:pt x="624" y="384"/>
                </a:cubicBezTo>
                <a:cubicBezTo>
                  <a:pt x="840" y="496"/>
                  <a:pt x="1080" y="608"/>
                  <a:pt x="1296" y="672"/>
                </a:cubicBezTo>
                <a:cubicBezTo>
                  <a:pt x="1512" y="736"/>
                  <a:pt x="1704" y="744"/>
                  <a:pt x="1920" y="768"/>
                </a:cubicBezTo>
                <a:cubicBezTo>
                  <a:pt x="2136" y="792"/>
                  <a:pt x="2480" y="808"/>
                  <a:pt x="2592" y="81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ična stopa tehničke supstitucije (MR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za koliko se mora povećati količina jednog inputa ako se smanji količina drugog inputa smanji za 1 jedinicu da bi količina outputa ostala 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00360" y="4572000"/>
                <a:ext cx="49338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T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rPr>
                        <m:lit/>
                        <m:nor/>
                      </m:rPr>
                      <m:t xml:space="preserve">MRT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6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duzeće “Speed” proizvodi specijalnu vrstu trkaćih motora koji motoristima omogućavaju postizanje izuzetno velikih brzina uz izrazito veliku akceleraciju. Proizvodna funkcija s kojom se poduzeće susreće ima oblik           Q = 25L</a:t>
            </a:r>
            <a:r>
              <a:rPr b="0" lang="hr-HR" sz="2800" spc="-1" strike="noStrike" baseline="50000">
                <a:solidFill>
                  <a:srgbClr val="000000"/>
                </a:solidFill>
                <a:latin typeface="Tahoma"/>
              </a:rPr>
              <a:t>0,8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hr-HR" sz="2800" spc="-1" strike="noStrike" baseline="50000">
                <a:solidFill>
                  <a:srgbClr val="000000"/>
                </a:solidFill>
                <a:latin typeface="Tahoma"/>
              </a:rPr>
              <a:t>0,7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gdje Q predstavlja broj mjesečno proizvedenih motora, L sate rada radnika koji sudjeluju u proizvodnji, a K broj angažiranih stroje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Odredite graničnu stopu tehničke supstitucije izokvante oblika L = f(K) za proizvodnju od 500 motora i pri korištenju 30 strojeva. Interpretirajte dobivenu vrijedn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Ispitajte je li izokvanta efikasna na razini proizvodnje od 500 proizvoda ako bi funkcija proizvodnje poprimila oblik          Q = 25LK</a:t>
            </a:r>
            <a:r>
              <a:rPr b="0" lang="hr-HR" sz="2800" spc="-1" strike="noStrike" baseline="50000">
                <a:solidFill>
                  <a:srgbClr val="000000"/>
                </a:solidFill>
                <a:latin typeface="Tahoma"/>
              </a:rPr>
              <a:t>0,7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19320" y="1828800"/>
                <a:ext cx="6705360" cy="36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0,8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0,7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17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17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49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RT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49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sup>
                        </m:sSup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T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29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914400" y="5638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njenjem broja angažiranih strojeva za 1, broj sati rada radnika mora se povećati za 0,06291 da bi proizvodnja ostala na istoj ra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1233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bi izokvanta bila efikasna, ona mora imati padajući nagib i biti konveksna prema ishodištu. To znači da njena prva derivacija mora biti manja od 0, a druga veća od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76520" y="3733920"/>
                <a:ext cx="2743200" cy="25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,7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,7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952880" y="4267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a uvjeta su zadovoljena, pa je ova izokvanta efikas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iksni i varijabilni inpu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iksni inputi – inputi koji se u određenom vremenskom razdoblju ne mijenja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arijabilni inputi – inputi koji se u određenom vremenskom razdoblju mogu mijenjati i prilagođavati željenoj količini proizvod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7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uzeće se susreće s proizvodnom funkcijom oblika Q = 8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,6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,3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gdje je Q broj godišnje proizvedenih foto-aparata, L broj radnika angažiranih u proizvodnji, a K visina uloženog kapita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Odredite koliko se jedinica kapitala mora uložiti ako se želi sa 70 radnika proizvesti 515 foto-apar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Jesu li prinosi na opseg rastući, padajući ili konstantni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Odredite visinu nadnice koju će poduzeće isplatiti radniku ako je visina nadnice jednaka graničnoj produktivnosti r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ako je Thomas Malthus forimirao teoriju o rastu stanovništva i problemima populacij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Je li se teorija potvrdila u stvarnosti? Zaš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 odgovaranju koristite mikroekonomske pojmove iz teorije proizvodnj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remenski horiz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atki rok – vremensko razdoblje u kojem je barem jedan proizvodni input fiks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ugi rok – vremensko razdoblje u kojem su svi proizvodni inputi varijabil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2. PROIZVODNJA U KRATKOM ROKU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Q = f (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P – ukupna proizvodnost (total productiv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P – prosječna proizvodnost (average productiv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P – granična proizvodnost (marginal productiv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datak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redite prosječnu proizvodnost i graničnu proizvodnost za zadane razine rada i ukupne proizvodnos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kažite spomenute veličine grafičk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09680" y="4038480"/>
                <a:ext cx="43434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rPr>
                        <m:lit/>
                        <m:nor/>
                      </m:rPr>
                      <m:t xml:space="preserve">M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1981080"/>
          <a:ext cx="6096240" cy="4381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914400" y="1828800"/>
          <a:ext cx="7897680" cy="464832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  <a:gridCol w="790560"/>
                <a:gridCol w="787320"/>
                <a:gridCol w="790560"/>
                <a:gridCol w="789120"/>
                <a:gridCol w="790560"/>
                <a:gridCol w="787320"/>
                <a:gridCol w="79056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80880" y="2057400"/>
            <a:ext cx="457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4911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      1          2         3         4         5          6         7         8          9   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955880"/>
            <a:ext cx="7848720" cy="4521240"/>
          </a:xfrm>
          <a:custGeom>
            <a:avLst/>
            <a:gdLst/>
            <a:ahLst/>
            <a:rect l="l" t="t" r="r" b="b"/>
            <a:pathLst>
              <a:path w="4944" h="2848">
                <a:moveTo>
                  <a:pt x="0" y="2848"/>
                </a:moveTo>
                <a:cubicBezTo>
                  <a:pt x="156" y="2780"/>
                  <a:pt x="312" y="2712"/>
                  <a:pt x="480" y="2608"/>
                </a:cubicBezTo>
                <a:cubicBezTo>
                  <a:pt x="648" y="2504"/>
                  <a:pt x="840" y="2376"/>
                  <a:pt x="1008" y="2224"/>
                </a:cubicBezTo>
                <a:cubicBezTo>
                  <a:pt x="1176" y="2072"/>
                  <a:pt x="1328" y="1888"/>
                  <a:pt x="1488" y="1696"/>
                </a:cubicBezTo>
                <a:cubicBezTo>
                  <a:pt x="1648" y="1504"/>
                  <a:pt x="1800" y="1248"/>
                  <a:pt x="1968" y="1072"/>
                </a:cubicBezTo>
                <a:cubicBezTo>
                  <a:pt x="2136" y="896"/>
                  <a:pt x="2328" y="768"/>
                  <a:pt x="2496" y="640"/>
                </a:cubicBezTo>
                <a:cubicBezTo>
                  <a:pt x="2664" y="512"/>
                  <a:pt x="2816" y="392"/>
                  <a:pt x="2976" y="304"/>
                </a:cubicBezTo>
                <a:cubicBezTo>
                  <a:pt x="3136" y="216"/>
                  <a:pt x="3288" y="160"/>
                  <a:pt x="3456" y="112"/>
                </a:cubicBezTo>
                <a:cubicBezTo>
                  <a:pt x="3624" y="64"/>
                  <a:pt x="3816" y="32"/>
                  <a:pt x="3984" y="16"/>
                </a:cubicBezTo>
                <a:cubicBezTo>
                  <a:pt x="4152" y="0"/>
                  <a:pt x="4304" y="0"/>
                  <a:pt x="4464" y="16"/>
                </a:cubicBezTo>
                <a:cubicBezTo>
                  <a:pt x="4624" y="32"/>
                  <a:pt x="4864" y="96"/>
                  <a:pt x="4944" y="112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</cp:lastModifiedBy>
  <dcterms:modified xsi:type="dcterms:W3CDTF">2008-04-30T13:21:4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