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C64-C821-4106-867F-9F6888C5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DF45-592C-4C48-8EC6-4A773450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28D8-CD0D-4C50-A0EC-66E1154C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CCEF-03C8-4A71-A796-5F8CC76C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0B0E-CA27-40D2-96D2-48853FD5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2A58-609F-433D-8BE3-67F27424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EAE5-DDF5-4B41-AED1-EADEC355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4816-0868-4047-BD96-080EC366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7E12-EA06-4923-AE4F-223BB7E3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853E-0AEB-4115-9C72-82E042C1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6225-1BDE-428C-9DBF-E12D9B66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812-2F29-4211-B4A3-1CC8E307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9B13-FFAD-4077-ABF2-EF695A8C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48B1-97A6-4C5C-A4CE-030EE049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942B-1534-481A-9EA5-9CB29FE4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77C4-B4F9-49E6-B07C-50D8D3C8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8E68-5B05-4BB6-9E5A-0B870D56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CA3E-505C-4DED-BE2E-C86647DE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C829-BDE6-49A3-95EB-4416D1E1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176-728E-4EAB-BA92-B7593CF3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BB25-1C7A-49DB-A586-A96C3737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4785-DDD2-4212-A50B-918F5AC6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B32-94AB-4BD4-BA54-65859865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BB98-63B9-4D9C-AB9C-1F179C93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1EC8-CF57-42A3-A2B1-2C20B05797DA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9ED1-B37C-4265-A06A-E71A0C9C314B}" type="slidenum">
              <a:rPr b="0" lang="hr-H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ELASTIČ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Fran Galeti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916360" y="1916280"/>
          <a:ext cx="3809880" cy="906120"/>
        </p:xfrm>
        <a:graphic>
          <a:graphicData uri="http://schemas.openxmlformats.org/drawingml/2006/table">
            <a:tbl>
              <a:tblPr/>
              <a:tblGrid>
                <a:gridCol w="954000"/>
                <a:gridCol w="950760"/>
                <a:gridCol w="954360"/>
                <a:gridCol w="95076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042920" y="3068640"/>
          <a:ext cx="7489800" cy="3108240"/>
        </p:xfrm>
        <a:graphic>
          <a:graphicData uri="http://schemas.openxmlformats.org/drawingml/2006/table">
            <a:tbl>
              <a:tblPr/>
              <a:tblGrid>
                <a:gridCol w="831960"/>
                <a:gridCol w="830160"/>
                <a:gridCol w="835200"/>
                <a:gridCol w="831600"/>
                <a:gridCol w="831960"/>
                <a:gridCol w="831960"/>
                <a:gridCol w="834840"/>
                <a:gridCol w="830520"/>
                <a:gridCol w="831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104"/>
          <p:cNvSpPr/>
          <p:nvPr/>
        </p:nvSpPr>
        <p:spPr>
          <a:xfrm>
            <a:off x="900000" y="6308640"/>
            <a:ext cx="82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         40        80        120      160      200       240      280      320      360  </a:t>
            </a: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05"/>
          <p:cNvSpPr/>
          <p:nvPr/>
        </p:nvSpPr>
        <p:spPr>
          <a:xfrm>
            <a:off x="108000" y="2903400"/>
            <a:ext cx="863640" cy="34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r-HR" sz="17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 120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80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7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06"/>
          <p:cNvSpPr/>
          <p:nvPr/>
        </p:nvSpPr>
        <p:spPr>
          <a:xfrm>
            <a:off x="1042920" y="3068640"/>
            <a:ext cx="7489800" cy="3097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2457360" y="1844640"/>
                <a:ext cx="3868920" cy="27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7"/>
          <p:cNvSpPr/>
          <p:nvPr/>
        </p:nvSpPr>
        <p:spPr>
          <a:xfrm>
            <a:off x="826920" y="4653000"/>
            <a:ext cx="7417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Ako pri cijeni od 100 kuna cijena poraste za 1%, potraživana količina će se smanjiti za 5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Ako pri cijeni od 80 kuna cijena poraste za 1%, potraživana količina će se smanjiti za 2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Ako pri cijeni od 60 kuna cijena poraste za 1%, potraživana količina će se smanjiti za 1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1676520" y="2276640"/>
                <a:ext cx="535752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Text Box 7"/>
          <p:cNvSpPr/>
          <p:nvPr/>
        </p:nvSpPr>
        <p:spPr>
          <a:xfrm>
            <a:off x="900000" y="4005360"/>
            <a:ext cx="73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Ako u intervalu između 80 i 100 kuna dođe do porasta cijena od 1%, potražnja će se </a:t>
            </a: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u prosjeku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 smanjiti za 3%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3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straživanje je pokazalo da je ocijenjena potražnja za jednom knjigom P = 70 – 0,7 Q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a) Odredite cijenu i količinu pri kojima krivulja potražnje siječe koordinatne os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b) Je li potražnja cjenovno elastična ili neelastična na razini od 70 knjig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c) Izračunajte cjenovnu elastičnost za sljedeće kombinacije cijena/količina knjiga: 49/30, 28/6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d) Odredite kombinaciju cijena/količina pri kojoj je cjenovna elastičnost potražnje jedinič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oristeći zadanu krivulju potražnje, dobivamo sljedeće podatk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Dakle, točke sjecišta s koordinatnim osima su (0,70) i (100,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2916360" y="3141720"/>
                <a:ext cx="27367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1476360" y="2060640"/>
                <a:ext cx="6769080" cy="23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−</m:t>
                        </m:r>
                        <m:r>
                          <m:t xml:space="preserve">0,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2857</m:t>
                        </m:r>
                        <m:r>
                          <m:t xml:space="preserve">P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285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285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Text Box 7"/>
          <p:cNvSpPr/>
          <p:nvPr/>
        </p:nvSpPr>
        <p:spPr>
          <a:xfrm>
            <a:off x="826920" y="4724280"/>
            <a:ext cx="7993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Postotna promjena potraživane količina je manja od postotne promjene cijene, pa se potražnja smatra </a:t>
            </a:r>
            <a:r>
              <a:rPr b="1" lang="hr-HR" sz="2600" spc="-1" strike="noStrike">
                <a:solidFill>
                  <a:srgbClr val="000000"/>
                </a:solidFill>
                <a:latin typeface="Tahoma"/>
              </a:rPr>
              <a:t>neelastičnom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847880" y="1916280"/>
                <a:ext cx="5016600" cy="30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285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333</m:t>
                        </m:r>
                      </m:e>
                      <m:e/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285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666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" name="Text Box 7"/>
          <p:cNvSpPr/>
          <p:nvPr/>
        </p:nvSpPr>
        <p:spPr>
          <a:xfrm>
            <a:off x="1042920" y="5013360"/>
            <a:ext cx="720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Za kombinaciju 49/30 potražnja je elastična, a za kombinaciju 28/60 neelastična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547640" y="1844640"/>
                <a:ext cx="3722760" cy="482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2857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−</m:t>
                        </m:r>
                        <m:r>
                          <m:t xml:space="preserve">0,7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?,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  <m:r>
                              <m:t xml:space="preserve">−</m:t>
                            </m:r>
                            <m:r>
                              <m:t xml:space="preserve">0,7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2857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4 (DZ)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odavaonica specijalizirana za prodaju kristalnih vaza susreće se s mjesečnom krivuljom potražnje za vazama                     P = 390 – 0,8Q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a) Odredite cjenovnu elastičnost potražnje za sljedeće kombinacije cijena/količina vaza: 250/175, 70/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b) Odredite kombinaciju cijene/količine vaza pri kojoj je potražnja jedinično elastična, te nakon koje potražnja počinje biti elastič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61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 = 390 – 0,8Q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 = 0, Q = 487,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Q = 0, P = 39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2195640" y="3691080"/>
                <a:ext cx="4681440" cy="27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5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ΔP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7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90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8571</m:t>
                        </m:r>
                      </m:e>
                      <m:e/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ΔP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7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90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8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1. CJENOVNA ELASTIČNOST POTRAŽ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1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Jedinična elastičnost postiže se p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692360" y="2492280"/>
                <a:ext cx="236700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ΔP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90</m:t>
                        </m:r>
                        <m:r>
                          <m:t xml:space="preserve">−</m:t>
                        </m:r>
                        <m:r>
                          <m:t xml:space="preserve">0,8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?,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90</m:t>
                            </m:r>
                            <m:r>
                              <m:t xml:space="preserve">−</m:t>
                            </m:r>
                            <m:r>
                              <m:t xml:space="preserve">0,8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r>
                          <m:t xml:space="preserve">1,6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90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" name="Text Box 7"/>
          <p:cNvSpPr/>
          <p:nvPr/>
        </p:nvSpPr>
        <p:spPr>
          <a:xfrm>
            <a:off x="5076720" y="3500280"/>
            <a:ext cx="36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tražnja počinje biti elastična kad je P&gt;195 i Q&lt;243,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2. DOHODOVNA ELASTIČNOST POTRAŽ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Dohodovna elastičnost potražnje u jednoj točk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691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kazuje postotnu promjenu potraživane količine dobra koja nastaje kao rezultat postotne promjene dohot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2556000" y="3141720"/>
                <a:ext cx="3673440" cy="34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ΔQ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ΔI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ΔI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"/>
              <p:cNvSpPr txBox="1"/>
              <p:nvPr/>
            </p:nvSpPr>
            <p:spPr>
              <a:xfrm>
                <a:off x="4859280" y="2674800"/>
                <a:ext cx="1596960" cy="229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Text Box 4"/>
          <p:cNvSpPr/>
          <p:nvPr/>
        </p:nvSpPr>
        <p:spPr>
          <a:xfrm>
            <a:off x="1187280" y="2637000"/>
            <a:ext cx="7272360" cy="22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1. Normalna dobr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a) Nužna dobr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b) Luksuzna dobr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2. Inferiorna dobr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Lučna dohodovna elastič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1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e računa se u jednoj točki, nego na intervalu između dviju toča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2771640" y="3284640"/>
                <a:ext cx="2951280" cy="22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ΔI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5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Ako se pri razini dohotka od 5000 kn potražuje 300 jedinica nekog dobra, dok se pri dohotku od 7000 kn potražuje 400 jedinica tog istog dobra, odredite dohodovnu elastičnost u slučaj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a) Rasta dohotka s 5000 na 7000 k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b) Pada dohotka sa 7000 na 5000 k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c) Kada se promatra interval dohotka između 5000 i 7000 k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(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8"/>
              <p:cNvSpPr txBox="1"/>
              <p:nvPr/>
            </p:nvSpPr>
            <p:spPr>
              <a:xfrm>
                <a:off x="1403280" y="2133720"/>
                <a:ext cx="62643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333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 Box 9"/>
          <p:cNvSpPr/>
          <p:nvPr/>
        </p:nvSpPr>
        <p:spPr>
          <a:xfrm>
            <a:off x="900000" y="3789360"/>
            <a:ext cx="7632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Ako dohodak poraste za 1%, potražnja za promatranim dobrom raste za 0,83333%, uz uvijet da su sve ostale varijable ostale nepromijenjen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(b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3"/>
              <p:cNvSpPr txBox="1"/>
              <p:nvPr/>
            </p:nvSpPr>
            <p:spPr>
              <a:xfrm>
                <a:off x="1557360" y="2133720"/>
                <a:ext cx="595620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Text Box 4"/>
          <p:cNvSpPr/>
          <p:nvPr/>
        </p:nvSpPr>
        <p:spPr>
          <a:xfrm>
            <a:off x="900000" y="3789360"/>
            <a:ext cx="7632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Ako dohodak poraste za 1%, potražnja za promatranim dobrom raste za 0,875%, uz uvijet da su sve ostale varijable ostale nepromijenjen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(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3"/>
              <p:cNvSpPr txBox="1"/>
              <p:nvPr/>
            </p:nvSpPr>
            <p:spPr>
              <a:xfrm>
                <a:off x="971640" y="2349360"/>
                <a:ext cx="73454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57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Text Box 4"/>
          <p:cNvSpPr/>
          <p:nvPr/>
        </p:nvSpPr>
        <p:spPr>
          <a:xfrm>
            <a:off x="900000" y="3789360"/>
            <a:ext cx="7632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Ako u intervalu između 5000 i 7000 kn dohodak poraste za 1%, potražnja za promatranim dobrom u prosjeku raste za 0,85714%, uz uvijet da su sve ostale varijable ostale nepromijenjen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6 (DZ)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vakog dana trajekti Jadrolinije prevoze putnike na relaciji Split – Lastovo. Istraživanje koje je provela Jadrolinija pokazalo je da se s povećanjem cijene putne karte za 1% tjedna potražnja za trajektnim prijevozom smanjuje za 7,2%, te da se pri cijeni putne karte od 32 kn tjedno kupuje 800 kar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Mjere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ako promjena cijene utječe na promjenu potražnj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agib krivulje daje odgovor, ali ovisi o mjernim jedinicama, pa nije međusobno usporedi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to se razvio koncept elastičnosti koji pokazuje postotnu promjenu količine uzrokovanu postotnom promjenom cijen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a) Odredite ravnotežnu cijenu i količinu ako je funkcija ponude Q = 410 + 25P. Treba li Jadrolinija povećati ili smanjiti cijenu putnih karata ako želi povećati svoje prih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b) Na kupnju karata utječe i visina dohotka. Pod pretpostavkom da visina koeficijenta koji se nalazi uz dohodak iznosi 2, odredite dohodovnu elastičnost potražnje za trajektnim kartama pri razini dohotka od 3000 kn i cijeni od 25 kn. Interpretirajte dobivenu vrijednos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3. UNAKRSNA CJENOVNA ELASTIČNOST POTRAŽ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Unakrsna cjenovna elastičnost potražnje u jednoj točk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691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kazuje postotnu promjenu potraživane količine dobra koja nastaje kao rezultat postotne promjene cijene povezanog dob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2916360" y="3656160"/>
                <a:ext cx="3382920" cy="32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1187280" y="2643120"/>
                <a:ext cx="1643400" cy="250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Text Box 4"/>
          <p:cNvSpPr/>
          <p:nvPr/>
        </p:nvSpPr>
        <p:spPr>
          <a:xfrm>
            <a:off x="3203640" y="2637000"/>
            <a:ext cx="525600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Supstitut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Neovisna dobr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Komplement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Lučna unakrsna cjenovna elastičnost potraž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1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e računa se u jednoj točki, nego na intervalu između dviju toča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2484360" y="3357720"/>
                <a:ext cx="3595680" cy="25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7 (DZ)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Zadane su cijene i potraživane količine sljedećih dobar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eđutim, rast cijene pizze na 7 € po komadu uzrokovao je novu potraživanu količinu od 6000 pizza tjedn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484360" y="2997360"/>
          <a:ext cx="3792600" cy="1188720"/>
        </p:xfrm>
        <a:graphic>
          <a:graphicData uri="http://schemas.openxmlformats.org/drawingml/2006/table">
            <a:tbl>
              <a:tblPr/>
              <a:tblGrid>
                <a:gridCol w="1249560"/>
                <a:gridCol w="1293840"/>
                <a:gridCol w="124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lič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j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z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00 k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page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0 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a) Odredite cjenovnu elastičnost potražnje za pizzama u jednoj točk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b) Kolika je nova cijena špageta ako je poznato da je cjenovna elastičnost potražnje za špagetima -1,3, te da je nova potraživana količina 2000 k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c) Jesu li navedena dobra supstituti ili komplementi? Zašt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1187280" y="1989000"/>
                <a:ext cx="4753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00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7"/>
              <p:cNvSpPr txBox="1"/>
              <p:nvPr/>
            </p:nvSpPr>
            <p:spPr>
              <a:xfrm>
                <a:off x="1187280" y="2924280"/>
                <a:ext cx="2808360" cy="19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ΔP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  <m:r>
                          <m:t xml:space="preserve">1,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00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0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307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4"/>
              <p:cNvSpPr txBox="1"/>
              <p:nvPr/>
            </p:nvSpPr>
            <p:spPr>
              <a:xfrm>
                <a:off x="1187280" y="5157720"/>
                <a:ext cx="496908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00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Text Box 15"/>
          <p:cNvSpPr/>
          <p:nvPr/>
        </p:nvSpPr>
        <p:spPr>
          <a:xfrm>
            <a:off x="539640" y="213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53964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611280" y="537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6516720" y="5373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upstitu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4. CJENOVNA ELASTIČNOST PONU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61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kazuje postotnu promjenu ponuđene količine dobra koja nastaje kao rezultat postotne promjene cije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2843280" y="3357720"/>
                <a:ext cx="3024000" cy="30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ΔQ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ΔP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ΔP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1187280" y="2565360"/>
                <a:ext cx="164340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Text Box 4"/>
          <p:cNvSpPr/>
          <p:nvPr/>
        </p:nvSpPr>
        <p:spPr>
          <a:xfrm>
            <a:off x="3203640" y="2637000"/>
            <a:ext cx="525600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Elastična ponu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Jedinično elastična ponu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Neelastična ponu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Tahoma"/>
              </a:rPr>
              <a:t>Cjenovna elastičnost potražnje u jednoj točki (diskretan slučaj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1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kazuje postotnu promjenu potraživane količine dobra koja nastaje kao rezultat postotne promjene cije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2541600" y="3538440"/>
                <a:ext cx="369576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Lučna cjenovna elastič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1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e računa se u jednoj točki, nego na intervalu između dviju točaka na krivul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2484360" y="3141720"/>
                <a:ext cx="3306960" cy="25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ΔP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Tahoma"/>
              </a:rPr>
              <a:t>Cjenovna elastičnost potražnje u jednoj točki (kontinuirani slučaj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61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Ako je potražnja zadana kao funkcija, onda se elastičnost računa prema formu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2771640" y="3573360"/>
                <a:ext cx="35276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187280" y="2565360"/>
                <a:ext cx="164340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Text Box 7"/>
          <p:cNvSpPr/>
          <p:nvPr/>
        </p:nvSpPr>
        <p:spPr>
          <a:xfrm>
            <a:off x="3203640" y="2637000"/>
            <a:ext cx="525600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Elastična potražn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Jedinično elastična potražn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Neelastična potražn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Lučna cjenovna elastič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1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e računa se u jednoj točki, nego na intervalu između dviju toča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771640" y="3357720"/>
                <a:ext cx="323388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ΔP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1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3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tražnja za nekim proizvodom pri cijeni 10 kuna iznosi 5000 komada, a pri cijeni od 12 kuna 3000 komada. Kolika je cjenovna elastičnost potražnje za promatrani proizvo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2050920" y="4292640"/>
                <a:ext cx="4969080" cy="19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Δ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00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00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2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Regresijskom analizom ocijenjena je sljedeća funkcija potražnje: Q = 360 – 3P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a) Odredite potraživanu količinu pri cijenama od 60, 80 i 100 kuna, te prikažite grafički funkciju potražn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b) Na spomenutim razinama cijena odredite elastičnost potražnje i interpretirajte j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c) U kolikom će postotnom iznosu promjena cijene od 1% unutar raspona od 80 do 100 kuna uzrokovati promjenu potražnj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09:04:42Z</dcterms:created>
  <dc:creator>Ivan</dc:creator>
  <dc:description/>
  <dc:language>en-US</dc:language>
  <cp:lastModifiedBy>galerija</cp:lastModifiedBy>
  <dcterms:modified xsi:type="dcterms:W3CDTF">2009-02-18T14:39:00Z</dcterms:modified>
  <cp:revision>30</cp:revision>
  <dc:subject/>
  <dc:title>ELASTIČNOST PONUDE I POTRAŽNJE</dc:title>
</cp:coreProperties>
</file>