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CBA-60B4-44EA-A2E0-E1BFCA0C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0CE-AC18-438D-9716-D253F8D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736-4E9E-41F3-B019-BAB90E2E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078-1D0A-41F0-B591-FEA6B3B8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5F8-3B5B-429A-A6BD-11EF8E13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0D56-36FD-444A-8C96-FE678824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2F92-8718-4EBC-A892-E6F1E82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5196-33AF-4BD0-93B4-311AB9E9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DD3-5ECB-45C4-AE80-56A4792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BBB9-9D1C-43A3-A1C4-DD7D7CA9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A15F-4798-4E37-9531-2D38EA1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387-03D9-4189-83AD-A585AB38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863-F3FC-49A0-B5E6-B78D5BAD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724E-65C7-4823-A516-F2E748A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165-BD38-430D-9385-EE177B76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FF4-51E3-4F16-B7C9-CCB40EB3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0A67-A7E0-45CC-9789-5BC53B5D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D228-6314-4C51-828C-6A0AC447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643F-EB86-4E4C-8F1C-81D8253A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4D0C-8AF6-4663-9B76-E9321E3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92CD-F766-413A-9A66-DD819048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897A-27BC-4793-84FC-DBD6F85A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5C5-949E-460C-B00B-F6069161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861C-54EE-4687-AA3A-9BDAC978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3979-CBED-4C34-88E4-6899206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2EF6-0F89-41E8-A8F9-C0DE475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C45C-5B36-41FC-8967-C75BCDD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4927-E0AC-489D-862B-0B11FD73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9959-120A-41F0-8BFB-5971906C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54BF-001E-4CA5-B505-FB3E113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3EBF-2F3F-44CC-BD10-05083201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E187-83C2-4F6A-B993-62D7C86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C9F9-D603-41CB-B26A-D7F7FBD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0F9-CDFD-4102-9B2E-0E845C0A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9EC8-BD27-4CBD-BC7A-F523550B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B057-82BF-4AAA-8EA9-F76FB01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1CF1-5732-4F90-BBBF-B573EA5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B86D-4724-4002-A528-AEC7E1D3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3675-EAD6-43D3-A3E6-72425AB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929B-70A1-4DE2-979E-17883FD1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8BBB-F6BF-443A-BC6C-5DE8F20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5F8E-91AC-4518-BB92-A2D9ECA8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2F93-C411-411F-AFB3-0072BFF9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7C2A-E7FC-40D3-A5DE-6971CC78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020-E2BA-41F9-8450-2E68FB7E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9B1B5-B875-4365-8546-4B823187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9EE0-5DEA-4D00-B71E-D25B37E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EC03-ADF4-45E7-B602-6F1B66FA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1852-7E5B-4A6E-86A2-1235DE4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F8AB-5EA5-43E3-92A8-9705652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5A4F-202B-4DEC-9D8E-6CBD7B6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CAF0-2071-4D02-98D5-8624E81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4FCA4-4FA2-44A9-8EFB-5BEFDE6D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CB08-864B-4950-A9DD-A011DB1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F893-7FD9-40E0-B692-9F0E0290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BD9-EADB-4D42-850C-7DF539AE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66FD-71C9-4467-9585-65540443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30F2-FFBF-40D0-838B-90A033D2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0E77-1B80-496E-AB3E-DD7EAB1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1EBE8-2C24-46F5-BD97-9CB74DE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CB79-6DA7-4DC7-B69B-84BCBFF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3180-31ED-4B67-AA1E-FA56D15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3B79-1D35-4484-BFD1-0171831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6E453-FCCE-48E1-BBA8-06D3E21C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89EE-6D76-4F73-827E-2C89925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EC99-F144-4D58-87D3-CE26757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E45-4FC0-479A-B3D1-670AAF5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6E0D-F4A4-4267-991A-B86F1339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88EB-8DC7-4EBA-AFFE-7945612E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684B-B4FF-4017-AABF-2804979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BE1-EAEA-4BD2-A4B8-39DC31A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D87-942B-49C9-8700-EA52318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CA9D-5819-4247-BACD-89513F853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BCD-0F84-43FB-8A93-2645163A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7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8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92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9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8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grpSp>
            <p:nvGrpSpPr>
              <p:cNvPr id="99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00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4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5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6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2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15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6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7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8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9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1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2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4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5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7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8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7D4F-37DA-47AE-883A-AD05E76447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55FF-F875-4062-B570-9965DA16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050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212" name="Rectangle 2051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3" name="Rectangle 2052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214" name="Picture 2053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4EB0-56F8-49C4-8CDB-A5C9B878B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57" name="Group 3"/>
            <p:cNvGrpSpPr/>
            <p:nvPr/>
          </p:nvGrpSpPr>
          <p:grpSpPr>
            <a:xfrm>
              <a:off x="5409720" y="53640"/>
              <a:ext cx="3620520" cy="6138720"/>
              <a:chOff x="5409720" y="53640"/>
              <a:chExt cx="3620520" cy="6138720"/>
            </a:xfrm>
          </p:grpSpPr>
          <p:sp>
            <p:nvSpPr>
              <p:cNvPr id="258" name="Freeform 4"/>
              <p:cNvSpPr/>
              <p:nvPr/>
            </p:nvSpPr>
            <p:spPr>
              <a:xfrm flipV="1" rot="11970000">
                <a:off x="6582240" y="33876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59" name="Freeform 5"/>
              <p:cNvSpPr/>
              <p:nvPr/>
            </p:nvSpPr>
            <p:spPr>
              <a:xfrm flipV="1" rot="11970000">
                <a:off x="7421760" y="195156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 flipV="1" rot="11970000">
                <a:off x="6824520" y="258336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 flipV="1" rot="11970000">
                <a:off x="7250400" y="66600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V="1" rot="11970000">
                <a:off x="7147800" y="264528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3" name="Freeform 9"/>
              <p:cNvSpPr/>
              <p:nvPr/>
            </p:nvSpPr>
            <p:spPr>
              <a:xfrm flipV="1" rot="11970000">
                <a:off x="7134840" y="123732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26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27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1"/>
            <p:cNvGrpSpPr/>
            <p:nvPr/>
          </p:nvGrpSpPr>
          <p:grpSpPr>
            <a:xfrm>
              <a:off x="5647320" y="302400"/>
              <a:ext cx="897840" cy="812160"/>
              <a:chOff x="5647320" y="302400"/>
              <a:chExt cx="897840" cy="812160"/>
            </a:xfrm>
          </p:grpSpPr>
          <p:sp>
            <p:nvSpPr>
              <p:cNvPr id="276" name="Freeform 22"/>
              <p:cNvSpPr/>
              <p:nvPr/>
            </p:nvSpPr>
            <p:spPr>
              <a:xfrm rot="14908200">
                <a:off x="5759280" y="784080"/>
                <a:ext cx="17820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7" name="Freeform 23"/>
              <p:cNvSpPr/>
              <p:nvPr/>
            </p:nvSpPr>
            <p:spPr>
              <a:xfrm rot="14908200">
                <a:off x="5711400" y="4726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14908200">
                <a:off x="6256080" y="40212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280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2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284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5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6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288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9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90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291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5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7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A0D-7F7F-4015-9ADC-B5C2BF85A93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ugestibil</a:t>
            </a: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nost 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0" name="TekstniOkvir 2"/>
          <p:cNvSpPr/>
          <p:nvPr/>
        </p:nvSpPr>
        <p:spPr>
          <a:xfrm>
            <a:off x="3929040" y="6072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Tahoma"/>
              </a:rPr>
              <a:t>Ines Sučić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21932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Nakon što je sudionik odgovorio na svih 20 pitanja odlučnim glasom mu se kaže “ tijekom odgovaranja na pitanja počinio si brojne greške te je nužno da ti ponovno postavim sva pitanja još jednom. Trudi se ovaj puta na njih točnije odgovoriti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Ponovno se sudioniku postave ista pitanja čime se mjeri stupanj promjene tj. svaka promjena u odnosu na prethodno dani odgovor na svako od postavljenih sugestivnih pitanja. Broj pitanja kod kojih je došlo do promjene u odgovoru čine rezultat na skali “promjene”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Ukupan rezultat na skali sugestibilnosti predstavlja suma odgovora na subskali “podlijeganja sugestivnim pitanjima” i subskali “promjene odgovora na sugestivna pitanja”.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00cc"/>
                </a:solidFill>
                <a:latin typeface="Arial"/>
              </a:rPr>
              <a:t>Prigovori GS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klonost sugestibilnosti je pod utjecajem situacijskih čimbenika (npr. raspoloženje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Raste u funkciji deprivacije od sn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Valjanost provjeravana na malom broju sudionika – ne može se sa sigurnošću tvrditi da su njihova priznanja bila lažn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U nekim istraživanjima nije bio kontroliran IQ, prijašnja kriminalna karijera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250920" y="333360"/>
          <a:ext cx="8713800" cy="6273720"/>
        </p:xfrm>
        <a:graphic>
          <a:graphicData uri="http://schemas.openxmlformats.org/drawingml/2006/table">
            <a:tbl>
              <a:tblPr/>
              <a:tblGrid>
                <a:gridCol w="4817880"/>
                <a:gridCol w="1987560"/>
                <a:gridCol w="190836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IMBENICI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POSREDNA S.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GOĐENA S.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“</a:t>
                      </a: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U” distribucija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“</a:t>
                      </a: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U” distribucij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IQ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-r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r=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pokorav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popušt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Imaginacija (vizualizacija, zamišljanje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Disocijativno mišlj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Anksioznost - crt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 (jaka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Anksioznost – stanj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 (umjerena)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-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Ekstraverzija, neuroticizam, samoprocjena  nepoštenja, nisko samo-poštovanje, perceptivna defenzivnost i praznovjerje, deprivacija od sn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Broj prijašnjih kontakata s policijom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-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Primarna (hipnotička) sugestibilnost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r=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čini ispitivanja sugestibil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ndardizirani testovi (testovi koji se koriste u forenzičkog praksi npr. WST, TAS, SET-S, GSS, BT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avljanje sugestivnih pitanja tijekom uzimanja izjave (Arntzen, 1993; Raskin i Esplin, 199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250920" y="333360"/>
          <a:ext cx="8642160" cy="5943600"/>
        </p:xfrm>
        <a:graphic>
          <a:graphicData uri="http://schemas.openxmlformats.org/drawingml/2006/table">
            <a:tbl>
              <a:tblPr/>
              <a:tblGrid>
                <a:gridCol w="792000"/>
                <a:gridCol w="1432080"/>
                <a:gridCol w="1158840"/>
                <a:gridCol w="1270080"/>
                <a:gridCol w="1028520"/>
                <a:gridCol w="800280"/>
                <a:gridCol w="1139760"/>
                <a:gridCol w="102060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Authors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timuli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ypes of Questions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ub-scales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rget Age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 Norms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Remarks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</a:tr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WST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Bottenberg &amp; Wehner, 1971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ble #5 of the TAT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Affirmative sentence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on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2 to 13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169, only girls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group test, written form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Burger, 1971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30 slides, scenes of everyday lif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20 yes-no question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7 to 14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200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ET-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Zimmermann, 1978, 1982a, b, 1988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4 photo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8 yes-no (assertive sentences)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exual content sugg.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9 to 10 and 12 to 16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10 (younger) and 225 (older)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forms for younger and older children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24000" y="549360"/>
          <a:ext cx="8569080" cy="5543640"/>
        </p:xfrm>
        <a:graphic>
          <a:graphicData uri="http://schemas.openxmlformats.org/drawingml/2006/table">
            <a:tbl>
              <a:tblPr/>
              <a:tblGrid>
                <a:gridCol w="1225440"/>
                <a:gridCol w="1222200"/>
                <a:gridCol w="1225800"/>
                <a:gridCol w="1222200"/>
                <a:gridCol w="1225440"/>
                <a:gridCol w="1222560"/>
                <a:gridCol w="1225440"/>
              </a:tblGrid>
              <a:tr h="18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Authors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timul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ypes of Questions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ub-scale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rget Ag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 Norm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</a:tr>
              <a:tr h="18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GS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Gudjonsson, 1984, 1987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hort story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Yes-no and alternativ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yield, shift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195, children and adults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BTS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Endres &amp; Scholz, 1995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Illustrated short story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Yes-no, alternative, repeated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3 (div. Question formats)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4 to 1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62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79280" y="907920"/>
          <a:ext cx="8675640" cy="3017880"/>
        </p:xfrm>
        <a:graphic>
          <a:graphicData uri="http://schemas.openxmlformats.org/drawingml/2006/table">
            <a:tbl>
              <a:tblPr/>
              <a:tblGrid>
                <a:gridCol w="4338720"/>
                <a:gridCol w="433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Tip pitanja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rimjer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Otvorena pitanja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Što se desilo? Što si vidio? Tko, kada, gdje, zašto, kako…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itanja utvrđivanja činjenica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Koliko je bilo sati? Koje boje, veličine…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Odabir*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Je li se radilo o M ili Ž?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Da-ne pitanja**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Je li čovjek rekao nešto?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130"/>
          <p:cNvSpPr/>
          <p:nvPr/>
        </p:nvSpPr>
        <p:spPr>
          <a:xfrm>
            <a:off x="324000" y="189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93939"/>
                </a:solidFill>
                <a:latin typeface="Arial"/>
              </a:rPr>
              <a:t>PITANJA NISKE SUGESTIBILNOSTI</a:t>
            </a:r>
            <a:r>
              <a:rPr b="0" lang="hr-HR" sz="24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5" name="Text Box 142"/>
          <p:cNvSpPr/>
          <p:nvPr/>
        </p:nvSpPr>
        <p:spPr>
          <a:xfrm>
            <a:off x="250920" y="4292640"/>
            <a:ext cx="8642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*donekle sugestivna – pretpostavlja se da osoba zna odgovor, umanjuje se “ne znam” odgov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** malo do umjereno sugestivna – ovisi u kojem stupnju ograničavaju raspon mogućih odgovora i koliko dobro reprezentiraju različite opcije, posebno sugestivno ako se radi o potvrdnoj rečenici s upitnom intonacijom  npr. </a:t>
            </a:r>
            <a:r>
              <a:rPr b="0" i="1" lang="hr-HR" sz="2000" spc="-1" strike="noStrike">
                <a:solidFill>
                  <a:srgbClr val="393939"/>
                </a:solidFill>
                <a:latin typeface="Arial"/>
              </a:rPr>
              <a:t>I on je držao pištolj?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66"/>
                </a:solidFill>
                <a:latin typeface="Verdana"/>
              </a:rPr>
              <a:t>PITANJA VISOKE SUGESTIBILNOSTI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549360"/>
          <a:ext cx="8964720" cy="630396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ip pitanja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rimjer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Sugestivni poticaj s pretpostavljenim odgovorom (jasno naznačen odgovor koji se očekuje ili je dan detalj koji osoba nije još spomenula u razgovoru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 li stavio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ovac koji je ukrao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u svoj džep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ata te tukao, jel’ tako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: opisa ili vrednovanja (korištenje riječi koje imaju određeno konotativno značenje, Loftus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Koliko brzo je X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rčao</a:t>
                      </a:r>
                      <a:r>
                        <a:rPr b="0" i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kad si ga vidio da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bježi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iz dućana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: očekivanja (logičke pretpostavke, stereotipi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I tada je žrtva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zasigurno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zvala upomoć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Višestruki izbor s ograničenim alternativama (alternative koje nisu dane nisu točne) i da/ne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 li auto bio crn ili crven (ili se ne sjećaš)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 li ti tata rekao da ništa ne kažeš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onavljanje pitanja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si li siguran? Ponovno ću te pitati: je li X ukrao novac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egativna povratna informacija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oziv na spekulaciju…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dnostavno ne mogu vjerovati da se toga ne sjećaš…Da li misliš da…..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egativno i pozitivno potkrepljenje; prijetnja i obećanje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Hoćeš ispasti glup ili ćeš biti pametan i pomoći nam? Ispitivat ću te dok mi ne kažeš što je X učinio. Dok mi ne kažeš, neću te pustiti na miru. Osjećat ćeš se bolje nakon što mi kažeš.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ritisak konformizmu (socijalna usporedba) (Asch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A i B su rekli da…je si li i ti to vidio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itanje koje slijedi nakon elaboriranja sugestivnog sadržaja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A sada o tom hitcu koji si konačno priznao da si čuo. Od kuda je došao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Sugestivne fraze, intonacija (npr. zar ne?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i si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zaista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to vidio,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isi li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Verdana"/>
              </a:rPr>
              <a:t>Bonn je dobio slijedeć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cf5a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cf5a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Verdana"/>
              </a:rPr>
              <a:t>N=6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285920" y="2714760"/>
          <a:ext cx="7000920" cy="2301840"/>
        </p:xfrm>
        <a:graphic>
          <a:graphicData uri="http://schemas.openxmlformats.org/drawingml/2006/table">
            <a:tbl>
              <a:tblPr/>
              <a:tblGrid>
                <a:gridCol w="1751040"/>
                <a:gridCol w="1749240"/>
                <a:gridCol w="1751040"/>
                <a:gridCol w="17496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ubskal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ronbach’s </a:t>
                      </a: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 sa slobodnim dosjećanje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 sa dob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7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52**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72**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7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2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44**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7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1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2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324000" y="1052640"/>
          <a:ext cx="8496000" cy="4624200"/>
        </p:xfrm>
        <a:graphic>
          <a:graphicData uri="http://schemas.openxmlformats.org/drawingml/2006/table">
            <a:tbl>
              <a:tblPr/>
              <a:tblGrid>
                <a:gridCol w="1214280"/>
                <a:gridCol w="1212840"/>
                <a:gridCol w="1214280"/>
                <a:gridCol w="1213200"/>
                <a:gridCol w="1214280"/>
                <a:gridCol w="1212840"/>
                <a:gridCol w="121428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Subskal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C.  Alph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aralelna forma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etest r (7 tjedana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 s dosjećanje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 s IQ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 s dob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DA-N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9 čestica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4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84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7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52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71**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72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ALTERNATIV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7 čestica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7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3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5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27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36*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44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ONAVLJANJ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8 čestica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0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5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32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16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16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28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24 čestice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85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85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6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41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53**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62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Text Box 66"/>
          <p:cNvSpPr/>
          <p:nvPr/>
        </p:nvSpPr>
        <p:spPr>
          <a:xfrm>
            <a:off x="179280" y="6004080"/>
            <a:ext cx="856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40404"/>
                </a:solidFill>
                <a:latin typeface="Arial"/>
              </a:rPr>
              <a:t>Endres, 1997; </a:t>
            </a:r>
            <a:r>
              <a:rPr b="1" i="1" lang="en-US" sz="2000" spc="-1" strike="noStrike">
                <a:solidFill>
                  <a:srgbClr val="040404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=62</a:t>
            </a:r>
            <a:r>
              <a:rPr b="1" lang="hr-HR" sz="2000" spc="-1" strike="noStrike">
                <a:solidFill>
                  <a:srgbClr val="040404"/>
                </a:solidFill>
                <a:latin typeface="Arial"/>
              </a:rPr>
              <a:t> djece stare između 4 i 9 godina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** </a:t>
            </a:r>
            <a:r>
              <a:rPr b="1" i="1" lang="en-US" sz="20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 &lt; .001 * </a:t>
            </a:r>
            <a:r>
              <a:rPr b="1" i="1" lang="en-US" sz="20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 &lt; .01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2" name="Text Box 67"/>
          <p:cNvSpPr/>
          <p:nvPr/>
        </p:nvSpPr>
        <p:spPr>
          <a:xfrm>
            <a:off x="1908000" y="189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Bonn Test of Statement Suggesstibility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Defin</a:t>
            </a: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icije sugestibilnosti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KOGNITIVNA: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“….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upanj u kojem osobe prihvaćaju dijelove informacija koje su uslijedile nakon događaja (KD) i inkorporiraju ih u svoje pamćenje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” (Powers, Andriks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Loftus, 1979,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r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 339)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OCIO – EMOCIONALNA: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“….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upanj u kojem, tijekom zatvorene socijalne interakcije, osobe počinju prihvaćati poruke/ informacije izgovorene tijekom tog formalnog ispitivanja, pri čemu te poruke/informacije imaju utjecaja na kasnije reakcije tj. ponašanje osobe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” (Gudjonsson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Clark, 1986,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r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84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IMG00002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8276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205092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Bonn Test of Statement Suggesstibility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Primjena BTSS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932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nema još dovoljno podataka o konstruktnoj i prediktivnoj valjanosti; dvije komponente (kognitivna DA-NE skala, situacijska PONAVLJANJE skala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individualna sugestibilnost nije najvažniji psihološki konstrukt pri ispitivanju vjerodostojnosti izjava zato ne odbacivati izjavu djeteta ako je visok rezultat na BTSS (treba uzeti u obzir i sugestivni utjecaj koji postoji u okolini djeteta – npr. obitelj, ispitivač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U slučajevima s više svjedoka – može se koristiti da se vidi kod kojih su izjave pod utjecajem sugestije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U individualnim slučajevima treba se primjenjivati u kontekstu cjelokupnog ponašanja djeteta tijekom intervjua (posebno djetetovih reakcija na sugestivna pitanja povezana s manje bitnim detaljima slučaja) – ako dijete ima visok rezultat na BTSS, ali ne podliježe sugestivnim pitanjima u intervjuu onda dijete ima dobro pamćenje, ako obrnuto onda je pitanje vjerodostojnosti izjav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0950d"/>
                </a:solidFill>
                <a:latin typeface="Times New Roman"/>
              </a:rPr>
              <a:t>Istraživanje - usporedba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4920" y="790560"/>
          <a:ext cx="2664000" cy="2709720"/>
        </p:xfrm>
        <a:graphic>
          <a:graphicData uri="http://schemas.openxmlformats.org/drawingml/2006/table">
            <a:tbl>
              <a:tblPr/>
              <a:tblGrid>
                <a:gridCol w="1440000"/>
                <a:gridCol w="12240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10, n=18 (8m/10ž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tra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395280" y="3857760"/>
          <a:ext cx="8353440" cy="2595600"/>
        </p:xfrm>
        <a:graphic>
          <a:graphicData uri="http://schemas.openxmlformats.org/drawingml/2006/table">
            <a:tbl>
              <a:tblPr/>
              <a:tblGrid>
                <a:gridCol w="1368360"/>
                <a:gridCol w="1017720"/>
                <a:gridCol w="1193760"/>
                <a:gridCol w="1193760"/>
                <a:gridCol w="1192320"/>
                <a:gridCol w="1193760"/>
                <a:gridCol w="1193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b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-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4-6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6-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8-1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9-1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5,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6,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2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19,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9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,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M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9,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2987640" y="765000"/>
          <a:ext cx="2664000" cy="2808360"/>
        </p:xfrm>
        <a:graphic>
          <a:graphicData uri="http://schemas.openxmlformats.org/drawingml/2006/table">
            <a:tbl>
              <a:tblPr/>
              <a:tblGrid>
                <a:gridCol w="1368360"/>
                <a:gridCol w="129564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011, n=14 (9m/5ž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7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3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940360" y="765000"/>
          <a:ext cx="2664000" cy="2808360"/>
        </p:xfrm>
        <a:graphic>
          <a:graphicData uri="http://schemas.openxmlformats.org/drawingml/2006/table">
            <a:tbl>
              <a:tblPr/>
              <a:tblGrid>
                <a:gridCol w="1368360"/>
                <a:gridCol w="129564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2012, n=8 (5m/3ž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7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30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1403280" y="907920"/>
          <a:ext cx="6337440" cy="2124360"/>
        </p:xfrm>
        <a:graphic>
          <a:graphicData uri="http://schemas.openxmlformats.org/drawingml/2006/table">
            <a:tbl>
              <a:tblPr/>
              <a:tblGrid>
                <a:gridCol w="2203560"/>
                <a:gridCol w="202068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ški ispitanic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M (n=14; Mdob=7.6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5,1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3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,8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4.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,1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3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349280" y="4005360"/>
          <a:ext cx="6389640" cy="2265120"/>
        </p:xfrm>
        <a:graphic>
          <a:graphicData uri="http://schemas.openxmlformats.org/drawingml/2006/table">
            <a:tbl>
              <a:tblPr/>
              <a:tblGrid>
                <a:gridCol w="2158920"/>
                <a:gridCol w="2160720"/>
                <a:gridCol w="20700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Ženski ispitanic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M (n=8; Mdob=7.8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4,6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2.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9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9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9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Times New Roman"/>
              </a:rPr>
              <a:t>Zapažanja 2012</a:t>
            </a:r>
            <a:r>
              <a:rPr b="1" lang="hr-HR" sz="4400" spc="-1" strike="noStrike">
                <a:solidFill>
                  <a:srgbClr val="6600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1160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djece ispitana podjednako prije i poslije podne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podjednaki broj djece (ne)poznaje ispitivač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podjednako prisutna/odsutna odrasla osoba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tijekom pauze ispitivači su sa djecom gledali TV, igrali se, razgovarali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djeca su uglavnom bila vesela, zainteresirana i nasmijana (kao i ispitivači :=)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iskustva ispitivača uglavnom su bila pozitivna i vesela, no neki navode probleme kao što su nemir kod djece, dosadu i sl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cc"/>
                </a:solidFill>
                <a:latin typeface="Arial"/>
              </a:rPr>
              <a:t>Što uzrokuje sugestibilnost? 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postoje višestruki mehanizmi</a:t>
            </a: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(Eisen, Winograd </a:t>
            </a: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 Qin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A) kognitivni (IQ, dob, pamćenje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B)socio-emocionalni (konformizam, socijalna poželjnost, situacijski čimbenici)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Tipovi sugestibilnosti 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Eisen </a:t>
            </a: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i sur. razlikuju dva tipa sugestibilnosti</a:t>
            </a: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93939"/>
                </a:solidFill>
                <a:latin typeface="Arial"/>
              </a:rPr>
              <a:t>Odgođena sugestibilnost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–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javlja se pri dosjećanju događaja (npr. svjedoci)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93939"/>
                </a:solidFill>
                <a:latin typeface="Arial"/>
              </a:rPr>
              <a:t>Neposredna sugestibilnost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–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veći utjecaj socio-emocionalnih faktora uslijed sugestivnih pitanja i pritiska na davanje određenih odgovora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(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povezano s istražnim intervjuom i ispitivanjem svjedoka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187280" y="549360"/>
            <a:ext cx="4321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Neposredna ili istražna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3939"/>
                </a:solidFill>
                <a:latin typeface="Arial"/>
              </a:rPr>
              <a:t>sug</a:t>
            </a: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estibilnost: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kada je dana pogrešna informacija tijekom ispitivanja zapamćenog u obliku sugestivnog pitanja. Uzrok je socijalni pritisak, a ne zbunjenost ili poremćaj pamćenja.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93939"/>
                </a:solidFill>
                <a:latin typeface="Arial"/>
              </a:rPr>
              <a:t>Gudjonsson (1984) 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je razvio </a:t>
            </a:r>
            <a:r>
              <a:rPr b="0" lang="en-GB" sz="2000" spc="-1" strike="noStrike">
                <a:solidFill>
                  <a:srgbClr val="393939"/>
                </a:solidFill>
                <a:latin typeface="Arial"/>
              </a:rPr>
              <a:t>Gudjonsson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ovu Skalu Sugestibilnosti </a:t>
            </a:r>
            <a:r>
              <a:rPr b="0" lang="en-GB" sz="2000" spc="-1" strike="noStrike">
                <a:solidFill>
                  <a:srgbClr val="393939"/>
                </a:solidFill>
                <a:latin typeface="Arial"/>
              </a:rPr>
              <a:t>(GSS) 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kojom se mjeri neposredna sugestibilnost i osjetljivost pojedinaca na sugestivne informacije i socijalni pritisak.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Individual</a:t>
            </a: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ne razlik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većina istraživača se slaže da se pojedinci razlikuju u svojim stupnjevima sugestibilnosti (crta ličnosti) – Binet, Stern (europski istraživači)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istraživanja se usmjerila na ispitivanje tih individualnih razlika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Gudjonsson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je bio pionir u tom području te se većina istraživanja bavi ispitivanjem neposredne sugestivnosti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američki eksperimentalni psiholozi – usmjerili se na situacijske čimbenike koji dovode do sugestibilnosti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GSS (Gudjonsson, 1984; 1992; 1997)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Mjeri individualne razlike u stupnju neposredne tj. istražne sugestibilnosti i to u dva aspekta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Tendenciji podlijeganja sugestivnim pitanjima (Yield)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Tendenciji promjene odgovora pod utjecajem socijalnog pritiska (Shift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Omogućuje i mjeru kratkoročnog i dugoročnog pamćenja verbalnog sadržaja te konfabulacij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GSS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1196640"/>
            <a:ext cx="7448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Postoje 2 paralelne forme (GSS-1 priča koja opisuje izmišljenu pljačku i GSS-2 priča koja opisuje kako je par spasio dječaka od nesreće s biciklom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Molim te poslušaj kratku priču. Pažljivo slušaj jer kad završi reći ćeš mi sve čega se možeš dosjetiti.”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Pušta se audio snimka priče, nakon čega se kaže “Sada mi reci sve čega se možeš dosjetiti iz priče”.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980640"/>
            <a:ext cx="77724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Svaki detalj kojeg se sudionik dosjeti iz priče nosi po jedan bod, max. 40 bodova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Nakon toga se od sudionika traži da odgovori na 20 pitanja o priči, od kojih je: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15 sugestivnih i služe kako bi se saznalo hoće li sudionik “podleći” sugestivnim pitanjima (da-ne pitanja, višestruki izbor). Svako sugestivno pitanje na koje sudionik odgovori potvrdno donosi jedan bod, max. 15 bodova na skali “sugestibilnosti”.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5 pravih pitanja kojima je svrha maskirati pravu svrhu ispitivanja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58:51Z</dcterms:created>
  <dc:creator>ridley</dc:creator>
  <dc:description/>
  <dc:language>en-US</dc:language>
  <cp:lastModifiedBy>nom</cp:lastModifiedBy>
  <dcterms:modified xsi:type="dcterms:W3CDTF">2013-05-29T08:53:16Z</dcterms:modified>
  <cp:revision>138</cp:revision>
  <dc:subject/>
  <dc:title>PowerPoint Presentation</dc:title>
</cp:coreProperties>
</file>