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DE5-D001-4D97-AEC0-71B3F7A0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454-A9BB-46B0-8BBC-FB224511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3F4-2FDE-44FD-B2F6-3D591778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F0B-010A-4498-8EC8-D0FDC375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64F9-9A35-4DB6-984D-2E5BFE5D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5426-F2DF-4DEB-9D49-1B6AD5B0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F853-1898-4A3C-8D89-6BC5B1BD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B998-0857-4A0F-AAAE-38D6592C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2823-FED1-48F1-94C9-6F3ED3B0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2034-E9EF-4B9F-97B1-C4D3044B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52EF-E21A-4FA3-AD11-94B6D50A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CC6-72AC-4555-9278-A45A2898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C723-99D1-43FF-B548-FD347A92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271E-CC68-4F22-9D2E-C2889A79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7619-45E0-4677-9112-F85891F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123D-9A52-4913-A9B2-15C14246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EAB7-C3CF-4676-B5B8-924B3F25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C4A-FDC9-4181-B3CE-5A3F22E4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B34-ABF6-4FFE-ADA8-114825BD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425-4DC6-4D96-BEC9-0E9251F6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BC6-437E-4CCE-B9AC-C19694CF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609-507A-477A-9ED6-5798B551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A9E-8CE7-44BE-ACB3-EAC61EA7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CD8-DE54-4F2C-9905-B757B25A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E119-98E8-4114-9639-FF3252D36AD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0975-2209-462A-940C-8BE990806D5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 Narrow"/>
              </a:rPr>
              <a:t>Strategijsko planiran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1. Što je strategijsko planir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2. Priroda i svrha strategija i poli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3. Proces strategijskog planir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4. Swot analiza (TOWS matr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5. BCG mat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6. Pest anal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Seminar i vježba: Strategijsko planiranje na primjeru “Sea World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Misija; Poslan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Tko smo mi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Što mi činimo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Zašto, zbog čega smo tu; koja je naša svrh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Kakva smo mi organizacija danas, a kakva organizacija želimo biti u budućnost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Misija se izražava u posebnoj službenoj izjav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14400" y="1090440"/>
          <a:ext cx="7269120" cy="5011920"/>
        </p:xfrm>
        <a:graphic>
          <a:graphicData uri="http://schemas.openxmlformats.org/drawingml/2006/table">
            <a:tbl>
              <a:tblPr/>
              <a:tblGrid>
                <a:gridCol w="2540160"/>
                <a:gridCol w="472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Sastavnice u definiranju mis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ako se definira mi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1. Kupc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Tko su najvažniji kupci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2. Proizvodi ili uslu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oje su glavni organizacijski proizvodi i usluge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3. Lokac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Gdje organizacija konkurira drugima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4. Tehnolog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oja je osnovna tehnologija tvrtke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5. Briga za opstan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akva je organizacijska obveza prema ekonomskim ciljevima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6. Filozof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oje su osnovna vjerovanja, vrednote, težnje i filozofske prednosti organizacije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7. Samoshvaćan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oje su glavne snage organizacije i njezine konkurentske prednosti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8. Briga za javni ugl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oje su odgovornosti organizacije prema javnosti i što se ugledom želi postići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9. Briga za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poslenik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akav je odnos organizacije prema </a:t>
                      </a: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poslenicima</a:t>
                      </a: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Neke od “slavnih” izjava o misij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o make people happ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Connecting peo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he purpose of McKinsey &amp; Company is to help leading corporations and governments be more successfu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eriješene probleme rješavati inovativno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/3M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lomiti Adidas!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/Nik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 Narrow"/>
              </a:rPr>
              <a:t>Swot analiza</a:t>
            </a:r>
            <a:r>
              <a:rPr b="1" lang="hr-HR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Predstavlja konceptualni okvir za sustavnu analizu koja olakšava uspoređivanje vanjskih prijetnji i prilika s unutarnjim slabostima i snagama organiz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Model polazi od prijetnji jer u mnogim situacijama kompanije poduzimaju strategijsko planiranje kad uoče krizu, problem ili prijetn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 Narrow"/>
              </a:rPr>
              <a:t>SWOT (TOWS) MATRICA ZA FORMULIRANJE STRATEGIJE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066680"/>
          <a:ext cx="8610480" cy="5670720"/>
        </p:xfrm>
        <a:graphic>
          <a:graphicData uri="http://schemas.openxmlformats.org/drawingml/2006/table">
            <a:tbl>
              <a:tblPr/>
              <a:tblGrid>
                <a:gridCol w="2743200"/>
                <a:gridCol w="2895480"/>
                <a:gridCol w="2971800"/>
              </a:tblGrid>
              <a:tr h="19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utrašnji čimb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jski čimben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UTARNJE SNAGE (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snage u menedžmentu, operacijama, financijama, marketingu, istraživanju i razvitku, konstrukcij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UTARNJE SLABOSTI (W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slabosti u područji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kazanim u polju “snage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JSKE PRILIKE (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sadašnji i budući ekonomski uvjeti, političke i društvene promjene, novi proizvodi, usluge i tehnologija (vodeći računa i o rizicim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 STRATEGIJ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ksi – mak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tencijalno najuspješnija, strategija, uporaba snaga organizacije da bi se iskoristile prilik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 STRATEGIJ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i – mak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razvoj strategija prevladavanja slabosti u cilju iskorištavanja prili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JSKE PRIJETNJE (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nedostatak energije, konkurencija i područja slična onima u prethodnom polju “prilika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 STRATEGIJ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ksi – mi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uporaba snaga da bi se nosilo s prijetnjama ili ih se izbjeg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T STRATEGIJ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i – mi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smanjivanje opsega poslovanja, likvidacija ili zajednički pothv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04920" y="990720"/>
            <a:ext cx="28191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143000"/>
            <a:ext cx="281952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cc66"/>
                </a:solidFill>
                <a:latin typeface="Arial Narrow"/>
              </a:rPr>
              <a:t>B</a:t>
            </a:r>
            <a:r>
              <a:rPr b="0" lang="hr-HR" sz="4000" spc="-1" strike="noStrike">
                <a:solidFill>
                  <a:srgbClr val="ffcc66"/>
                </a:solidFill>
                <a:latin typeface="Arial Narrow"/>
              </a:rPr>
              <a:t>oston </a:t>
            </a:r>
            <a:r>
              <a:rPr b="1" lang="hr-HR" sz="4000" spc="-1" strike="noStrike">
                <a:solidFill>
                  <a:srgbClr val="ffcc66"/>
                </a:solidFill>
                <a:latin typeface="Arial Narrow"/>
              </a:rPr>
              <a:t>C</a:t>
            </a:r>
            <a:r>
              <a:rPr b="0" lang="hr-HR" sz="4000" spc="-1" strike="noStrike">
                <a:solidFill>
                  <a:srgbClr val="ffcc66"/>
                </a:solidFill>
                <a:latin typeface="Arial Narrow"/>
              </a:rPr>
              <a:t>onsulting </a:t>
            </a:r>
            <a:r>
              <a:rPr b="1" lang="hr-HR" sz="4000" spc="-1" strike="noStrike">
                <a:solidFill>
                  <a:srgbClr val="ffcc66"/>
                </a:solidFill>
                <a:latin typeface="Arial Narrow"/>
              </a:rPr>
              <a:t>G</a:t>
            </a:r>
            <a:r>
              <a:rPr b="0" lang="hr-HR" sz="4000" spc="-1" strike="noStrike">
                <a:solidFill>
                  <a:srgbClr val="ffcc66"/>
                </a:solidFill>
                <a:latin typeface="Arial Narrow"/>
              </a:rPr>
              <a:t>roup </a:t>
            </a:r>
            <a:br>
              <a:rPr sz="4000"/>
            </a:br>
            <a:r>
              <a:rPr b="0" lang="hr-HR" sz="4000" spc="-1" strike="noStrike">
                <a:solidFill>
                  <a:srgbClr val="ffcc66"/>
                </a:solidFill>
                <a:latin typeface="Arial Narrow"/>
              </a:rPr>
              <a:t>matrica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Pokazuje vezu između stope rasta posla i relativne konkurentnosti položaja tvrtke mjereno udjelom na tržiš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Razvijena je za velike korporacije s nekoliko zasebnih dijelova koji su često organizirani kao strategijske poslovne jedi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 Narrow"/>
              </a:rPr>
              <a:t>BCG matrica poslovnog portfelj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057400"/>
            <a:ext cx="3962520" cy="3657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886200"/>
            <a:ext cx="4038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13372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Zvijez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Visok udio na tržištu visokog ras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Trebaju puno investicija za brz razvoj i značajan 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/Microsoft, Nokia, ...?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Cash Cow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Značajan udio na tržištu, ali spori rast, gotovo beznačajan, veliki donos “cash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Često se taj “cash” koristi za financiranje zvijez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? Upitnic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Mali udio na visoko-rastućem tržiš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Upitnik su zato jer je pitanje da li treba u njih uložiti ”još” za veći udio na tržištu – da bi ih se pretvorilo u zvijez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/ISDN, maxADSL...?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trategijsko planiran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Što se dugoročno mora činiti da bismo ostvarili organizacijske ciljeve, odnosno da bi poduzeće bilo uspješ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Ps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Mali udio na slabo-rastućem tržištu, preživljavaju, isušuju izvore koji su zvijez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Primjer Agrokora – koji kombinira ovu matricu, npr.: sol, voda...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olitik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pćenite, opće smjernice za poduzimanje akcija, za djelo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efiniraju područje unutar kojeg treba donositi odlu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mažu da se pitanja riješe prije nego postanu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/npr.: vezano za zapošljavanje – “politika našeg poduzeća je takva da težimo zaposliti samo najtalentiranije inženjere” – vrlo široko, općenit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lanovi koji ustanovljavaju nužni način postupanja u budućim aktivnostima, oni su kronološki nizovi zahtijevanih postup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mjernice za akciju, ne za razmišlj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eciziraju točan način na koji određena aktivnost mora biti proved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pr.: politika kompanije odobrava godišnji odmor, a proceduru će odrediti raspoređivanje god. Odmora na način da se izbjegnu prekidi u ra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ravil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zričito nalažu određene akcije koje treba poduzeti i ne dopuštaju bilo kakvu slobodu odlučivanj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pr.: danas najčešće pravilo u kompanijama –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o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rogrami i proračun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sebno kreiran plan za pojedini projekt – koji nije vezan za život poduzeć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pr.: program usavršavanja za inženj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rojkama iskazan program /plan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oračun troškova, cash flow,  plan profita – izražen u radnim satima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riroda i svrha strategija i politi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trategije i politike su blisko povezane, obje usmjeravaju, određuju okvir za planove, temelj su za operativne planove i utječu na sva područja upravlj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trategija se odnosi na određivanje misije (svrhe), određivanje dugoročnih ciljeva, usvajanje smjera akcije i alociranja resursa za dostizanje cilj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olitike su opće izjave koje pomažu menedžerima pri odlučivanj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trategija podrazumijeva angažiranje resursa u danom smj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olitike usmjeravaju razmišljanje menedžera kad treba donijeti neku odlu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ea World – Wrap 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Da bi bilo konkurentno ostalim zabavnim parkovima, menedžment Sea Worlda razmišlja strategijs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To u stvari znači da menedžment mora osigurati da Sea World bude uspješan slijedećih tri do pet god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Naravno, to podrazumjeva razvoj parka koji će zadovoljito potrebe tržiš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ea World – Wrap 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Rezultat strategijskog planiranja bit će – strategija, sveobuhvatni plan u kojem će biti detaljno navedeno što treba činiti da bi se ostvarili dugoročni ciljevi te ostvarila svrha postojan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Nakon što se izabere strategija koristeći se analizom okruženja, menedžment mora usmjeriti pažnju na sprovođenje strateg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ea World – Wrap 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U analizi okruženja posebnu pažnju treba obratiti na sile promjena koje mogu utjecati na Sea World 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socijalnoj sferi (mladi ljudi koji traže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           “</a:t>
            </a: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drugu” vrstu zabave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             </a:t>
            </a: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broj zabavnih parkova s kojima se natječu, te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             </a:t>
            </a: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da li će taj broj rasti ili pad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ea World – Wrap 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ruga analiza treba uključiti jakosti i slabosti Sea Worlda u usporedbi s konkurencijo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razloge zašto ljudi plaćaju ulaznicu za zabavni park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e analizu promotivnih aktivnosti koje konkurentski parkovi poput Disney World i Universal Studios koriste za privlačenje svojih kupa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trategijsko planiranje</a:t>
            </a:r>
            <a:br>
              <a:rPr sz="36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je dugoročno planiranje koje se usredotočuje na poduzeće u cjel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odlikuje se općenitim i sveobuhvatnim pristupom u prosuđivanju pojava i akti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Obuhvaća dugoročne aspekte 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Usredotočen je na najvažnija pit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ea World – Wrap 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 određivanju pravca razvoja, Sea World je donio stratešku odluku – da zadrži svoju konkurentsku pozici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o će postići strategijom  - investirajući u novu atrakci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astavljanjem izjave o misiji, datće do znanja svim zaposlenima u kojem smjeruće se odvijati njihov budući ra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enedžment Sea Worlda imao je izbor od nekoliko alata za formulianje strategi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ea World – Wrap 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SWOT analizu, slabosti i jakosti, prilike i prijetnje, prema kojoj menedžment može zaključiti da su proizvodi konkurencije – prijetnja (novi simulatori kretanja uz film, koji se koriste u Universal Studi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Pomoću BCG matrice mngm. Sea Worlda može svaku atrakciju u parku klasificirati kao zvijezdu,upitnik, pas ili cash cow, ovisno o stopi rasta tržišta koje želi isprobati atrakciju, i ovisno o udjelu na tržištu koje već određena atrakcija ima, a prema dodjeli kategorije, SW može birati strategiju /rasta, stabilnog rasta, štednje ili defenzivnu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KORACI U PLANIRANJ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iti svjestan prilika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/u svjetlu: tržišta, naših snaga, naših slabosti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stavljanje cilje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Razmatranje pretpostavki planiranj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– postavljanje prem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dentificiranje i uspoređivanje alternativ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/koje alternative-izbori najviše obećavaju ostvarenje ciljev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bor altern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ormuliranje pratećih plano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trategija, Strategia, grč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U vojnim znanostima označava razmještanje naših snaga prije dodira s neprijateljem (Kad dođe do susreta, strategija ustupa mjesto taktici – uporaba trupa, ne više njihov raspo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U Staroj Grčkoj </a:t>
            </a:r>
            <a:r>
              <a:rPr b="1" i="1" lang="hr-HR" sz="2800" spc="-1" strike="noStrike">
                <a:solidFill>
                  <a:srgbClr val="ffffff"/>
                </a:solidFill>
                <a:latin typeface="Arial Narrow"/>
              </a:rPr>
              <a:t>stratezi </a:t>
            </a: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su bili članovi posebnog vijeća koje je odlučivalo o ratu i mi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U poslovnoj terminologiji (menedžment, marketing, planiranje) odnosi se na dugoročne, sveobuhvatne i najvažnije aspekte poslo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Svobuhvatni i opći plan kojem ćemo ostvarivati dugoročne cilje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trategijsko planiran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Gdje smo mi dan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Analiza postojećeg stanja (SWOT, BCG,..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Gdje želimo bit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Vizija (snovi, realnost, mogućnosti, poticaji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Kako ćemo stići tam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Taktički i operativni planovi, polit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Proces strategijskog planiran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Analiza okruž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Određivanje misije i dugoročnih cilje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Formuliranje strateg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Provođenje strateg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Provjera, kontro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Proces strategijskog planiran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622520"/>
            <a:ext cx="81536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Analiza okruženja</a:t>
            </a:r>
            <a:r>
              <a:rPr b="0" lang="hr-HR" sz="3600" spc="-1" strike="noStrike">
                <a:solidFill>
                  <a:srgbClr val="ffcc66"/>
                </a:solidFill>
                <a:latin typeface="Arial Narrow"/>
              </a:rPr>
              <a:t> </a:t>
            </a:r>
            <a:br>
              <a:rPr sz="3600"/>
            </a:br>
            <a:r>
              <a:rPr b="0" lang="hr-HR" sz="3600" spc="-1" strike="noStrike">
                <a:solidFill>
                  <a:srgbClr val="ffcc66"/>
                </a:solidFill>
                <a:latin typeface="Arial Narrow"/>
              </a:rPr>
              <a:t>istražuje kako to vanjske sile utječu na funkcioniranje poduzeća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Vanjsko okruženj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ekonomska kompon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 socijalna –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emografska i društvene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 vrijed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politič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tehnološ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 Narrow"/>
              </a:rPr>
              <a:t>PEST analiz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905120"/>
            <a:ext cx="8153280" cy="43434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286000"/>
            <a:ext cx="7010280" cy="43434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3200400"/>
            <a:ext cx="1828800" cy="838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Politički utjecaj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200400"/>
            <a:ext cx="1828800" cy="838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Ekonomski utjecaj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495680"/>
            <a:ext cx="1357200" cy="838440"/>
          </a:xfrm>
          <a:prstGeom prst="rightArrow">
            <a:avLst>
              <a:gd name="adj1" fmla="val 50000"/>
              <a:gd name="adj2" fmla="val 40468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Times New Roman"/>
              </a:rPr>
              <a:t>ANITICIPIRAT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419720"/>
            <a:ext cx="1981440" cy="9144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OPASNOSTI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ŠA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4495680"/>
            <a:ext cx="1524240" cy="838440"/>
          </a:xfrm>
          <a:prstGeom prst="leftArrow">
            <a:avLst>
              <a:gd name="adj1" fmla="val 50000"/>
              <a:gd name="adj2" fmla="val 45449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Times New Roman"/>
              </a:rPr>
              <a:t>REAGIRAT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Times New Roman"/>
              </a:rPr>
              <a:t>PROAKTIV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715000"/>
            <a:ext cx="1828800" cy="838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Socijalni utjecaj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5715000"/>
            <a:ext cx="1828800" cy="838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Tehnološki utjecaj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62520" y="5409720"/>
            <a:ext cx="6858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181120" y="5409720"/>
            <a:ext cx="68580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038480"/>
            <a:ext cx="6094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86040" y="4038480"/>
            <a:ext cx="6858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5:17:38Z</dcterms:created>
  <dc:creator>Ljiljana</dc:creator>
  <dc:description/>
  <dc:language>en-US</dc:language>
  <cp:lastModifiedBy>Prof</cp:lastModifiedBy>
  <dcterms:modified xsi:type="dcterms:W3CDTF">2005-11-28T11:01:00Z</dcterms:modified>
  <cp:revision>7</cp:revision>
  <dc:subject/>
  <dc:title>Strategijsko planiranje</dc:title>
</cp:coreProperties>
</file>