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564-DF6C-4F9B-B4A7-1243742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B6C-9990-4BC0-874E-ACC95F6C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E14-F7D9-4417-A3C6-08EAEC2A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B27-D3CC-4D1B-8A32-56C7849A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CBBD-2679-41F9-8BC9-3791711A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8E05-B95A-4705-8E14-912E35C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D27-8C06-4615-A8C4-CA292D7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F443-530D-4E33-B3D1-73FCB93E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FAE3-74C6-47A7-9107-6DC4CFA8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4481-69BC-4EC5-A5CB-5AB2F22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58C1-D4AE-4261-A304-F07F3CD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76B-C790-4A65-8C87-AFC8347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1C64-FA41-4C5B-B2C0-6BAA819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F77C-60D8-4835-99C8-5BFCA9BC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83E2-D916-49DB-A024-56EC1FA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390-475B-428F-BA52-83AD088D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0B33-62EC-40D3-A210-30F05FDF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73A-1885-4C6A-90F6-F935A42C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55F-93F5-4DEC-815D-528A75C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B91-E5C4-4876-BB60-A52F489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3A2-C874-41E3-881C-A836B726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8FD-E1AE-4628-A943-AACB8F4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CAF-892D-4A5E-9887-B34F8AC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FC1-C516-4671-BDB2-4E48CDC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F218-9CA1-49E1-9050-B7546A27A070}" type="slidenum">
              <a:rPr b="0" lang="hr-H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FDF4-99C5-4C2D-AC2C-79847A0C2714}" type="slidenum">
              <a:rPr b="0" lang="hr-H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EKONOMIK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znanstveno proučavanje kako društva upotrebljavaju sredstva da bi proizvela korisne robe i raspodijelila ih različitim ljudima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istraživanje kako ljudi pomoću ograničenih resursa pokušavaju zadovoljiti svoje neograničene žel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socijalni darvinizam (</a:t>
            </a: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Spenser, H.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) kapitalistčku ekonomiju doživljava kao arenu u kojoj samo najsposobniji preživljavaju           ovakav način razmišljanja ("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laisssez-fair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") smatra tržište najboljim i najefikasnijim oblikom društvene organizacije budući da je najsličnije prirodnom svije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razloge isticanja vlastitog, sebičnog interesa i ponašanja (u prirodi i u ljudskom društvu) valja tražiti u oskud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492280"/>
            <a:ext cx="720720" cy="287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1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Marx, Karl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Kapital, Kritika političke ekonomij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867.) izvrgao je kapitalističku ekonomiju kritici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naslijedivši teoriju radne vrijednosti i tezu da samo rad stvara bogatstvo pokušao je razotkriti zakone kretanja ljudskog društ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smatrao je da kapitalističku ekonomiju zbog eksploatacije (višak vrijednosti koji radnik proizvede prisvaja vlasnik kapitala), unutrašnjih razarajućih snaga (akumulacija koja nastaje pri porastu organskog sastava kapitala nužno obara profitnu stopu i dovodi u pitanje na privatnom vlasništvu izgrađenu ekonomiju) te zbog ekonomskih kriza nastalih zbog hiperprodukcije – treba zamijeniti drugi mehanizam alokacije koja bi se obavljala u uvjetima društvene-državne kontrole nad sredstvima za proizvodnj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1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Marshall, Alfred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Načela ekonomik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890.) pokušava pomiriti klasičnu (političku ekonomiju)  i novu ekonomiku koja nasta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prihvaća teoriju slobodnog poduzetništva (slobodne konkurencij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analizom ravnoteže ponude i potražnje pridonosi teoriji vrijednosti i cijene; razrađuje pojam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elastičnosti potraž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prvi upozorava da djelovanje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laissez-fairea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ne može riješiti probleme siromaštva i ostvariti blagostanje, pa se zalaže za reforme koje će očuvati privatno vlasništvo i individualnu inicijativ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18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velika ekonomska kriza (1929.-1933.) ukazuje na svu ranjivost kapitalističke ekonomij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najistaknutiji ekonomist tog doba bio je </a:t>
            </a:r>
            <a:r>
              <a:rPr b="1" lang="hr-HR" sz="2000" spc="-1" strike="noStrike">
                <a:solidFill>
                  <a:srgbClr val="00ff00"/>
                </a:solidFill>
                <a:latin typeface="Tahoma"/>
              </a:rPr>
              <a:t>John Maynard Keynes</a:t>
            </a: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 (</a:t>
            </a:r>
            <a:r>
              <a:rPr b="0" i="1" lang="hr-HR" sz="2000" spc="-1" strike="noStrike">
                <a:solidFill>
                  <a:srgbClr val="00ff00"/>
                </a:solidFill>
                <a:latin typeface="Tahoma"/>
              </a:rPr>
              <a:t>Opća teorija zaposlenosti, kamata i novca</a:t>
            </a: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, 1936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u središtu njegova istraživanja je problem nezaposlenosti kao trajna pojava u društvu (ukoliko štednja premaši investicije smanjit će se potrošnja pa dolazi do gomilanja zaliha i zastoja u proizvodnji, a to traje sve dok se taj proces ne uravnoteži – na razini nepotpune nezaposlenost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ovaj problem ne može riješiti mehanizam kapitalističkog gospodarstva pa je potrebna intervencija države koja svojim mjerama treba povećavati sklonost potrošnji i davati poticaj investicija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za Keynesovo ime vezana je suvremena makroekonomska teorij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ff00"/>
                </a:solidFill>
                <a:latin typeface="Tahoma"/>
              </a:rPr>
              <a:t>snažno je utjecao na proučavanje nacionalnog dohotka te na povezivanje ekonomske teorije s politikom i praksom gospodarskog živo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1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suparnici Keynesove teorije su neoliberalni ekonomisti: </a:t>
            </a: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Hayek, F.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i </a:t>
            </a: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Friedman, 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oni, kao suvremeni zagovornici Quesnayovih i Smithovih ideja (laissez-faire ekonomija) upozoravaju na ogromno značenje tržišta te na opasnosti uključivanja države u proces alok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suvremeni tumač moderne ekonomske znanosti je </a:t>
            </a: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Samuelson, P.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Ekonomija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više izdanja) smatra da kapitalistička ekonomija postaje mješovito gospodarstvo u kojem se rukuju "nevidljiva" Smithova ruka i "vidljiva" Keynesova ruka (država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1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s danim sredstvima i tehnologijom, izbor proizvodnje između takvih dvaju dobara kao što su maslac i revolveri može se sažeti u granici proizvodnih mogućnosti (</a:t>
            </a:r>
            <a:r>
              <a:rPr b="1" i="1" lang="hr-HR" sz="2400" spc="-1" strike="noStrike">
                <a:solidFill>
                  <a:srgbClr val="00ff00"/>
                </a:solidFill>
                <a:latin typeface="Tahoma"/>
              </a:rPr>
              <a:t>Production-possibility frontier</a:t>
            </a: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 – PPF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PPF prikazuje kako se proizvodnja jednog dobra (kao što su revolveri) razmjenjuje s proizvodnjom nekog drugog dobra (kao što je masla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alternativne proizvodne mogućnosti prikazane su u tablici 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pis alternativnih proizvodnih mogućnosti neke zeml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2492280"/>
          <a:ext cx="8424720" cy="4140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ne proizvodne mogućnos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gućnos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slac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il k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olver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0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598760"/>
            <a:ext cx="5688000" cy="5259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659640" y="1989000"/>
            <a:ext cx="223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točke izvan granice (točka I) nemoguće su i nedostiž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bilo koja točka od krivulje prema ishodištu (točka U) pokazuje da se određena količina sredstava ne koristi ili ne upotrebljava na najbolji mogući nač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Pomaci granice proizvodnih mogućnosti (PPF) dalje od ishodišta zbog ekonomskog ras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4032000" cy="4076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4033800" cy="4076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romašna zem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285264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Zemlja s visokim dohotkom p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rethodni grafikoni predočuju učinak ekonomskog rasta na proizvodne mogućnosti zeml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kao rezultat porasta utroška kapitala i rada i unapređenja tehnologije, granica proizvodnih mogućnosti (PPF) pomiče se dalje od ishodišta (zemlja može imati više </a:t>
            </a:r>
            <a:r>
              <a:rPr b="0" i="1" lang="en-US" sz="2800" spc="-1" strike="noStrike">
                <a:solidFill>
                  <a:srgbClr val="00ff00"/>
                </a:solidFill>
                <a:latin typeface="Tahoma"/>
              </a:rPr>
              <a:t>svih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dobara kad njezina ekonomija ra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EKONOMI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ključne su dvije zamisli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obra su oskud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ruštvo mora efikasno upotrebljavati svoja sredst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oskudnost – ograničenost dobara, a želje i potrebe su neograničen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efikasnost – nenazočnost rasipnosti ili upotreba ekonomskih sredstava što je moguće efikasnije da bi se zadovoljile potrebe i želje lju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konkretnije, ekonomija proizvodi efikasno kad ne može proizvesti više jednog dobra bez da proizvede manje nečeg drugo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ikaz kako ekonomije moraju birati između javnih dobara i dobara osobne potroš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3816360" cy="374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4033800" cy="3743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258920" y="342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Granična (siromašna) zem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357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Gradsko druš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00"/>
                </a:solidFill>
                <a:latin typeface="Tahoma"/>
              </a:rPr>
              <a:t>prethodni grafikon opisuje način na koji birači moraju birati između dobara osobne potrošnje (kupljenim po cijeni) i javnih dobara (plaćenim porezim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00"/>
                </a:solidFill>
                <a:latin typeface="Tahoma"/>
              </a:rPr>
              <a:t>siromašne zemlja mogu si priuštiti malo javnih dobara (javno zdravstvo, znanstvena istraživanja i dr.), a ekonomskim rastom, javna dobra kao i kvaliteta okoliša oduzimaju veći dio proizvodn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ikaz kako ulaganje za buduću potrošnju zahtijeva žrtvovanje tekuće potroš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3640" cy="403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4176720" cy="396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476360" y="3141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je ulag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285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oslije ulag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GRANICA PROIZVODNIH MOGUĆ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ethodni grafikon zorno prikazuje kako ekonomija bira između (a) dobara tekuće potrošnje i (b) ulaganja ili kapitalnih dobara (strojeva, tvornica,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žrtvujući tekuću potrošnju i proizvodeći više kapitalnih dobara, nacionalna ekonomija može rasti brže i u budućnosti omogućiti više dobara obiju vrsta (potrošnih i kapitalni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ri zemlje kreću izjednačene (imaju istu granicu PPF), ali različite stope ulaganja (zemlja 1 uopće ne ulaže u budućnost i ostaje u A1, a zemlja 3 žrtvuje veliki dio tekuće potrošnje i obilno ulaž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u slijedećim godinama, zemlje koje ulažu više, probijaju se naprijed (štedljiva zemlja 3 pomaknula je PPF vrlo daleko, a zemlja 1 uopće nije pomaknula svoju granicu proizvodnih mogućnost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TRI PROBLEMA EKONOMSKE ORGANIZACIJ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svako društvo mora imati način za određivanj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koje</a:t>
            </a:r>
            <a:r>
              <a:rPr b="0" i="1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će se robe proizvoditi i u kojim količinama?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kako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će se ta dobra proizvoditi? Društvo mora odrediti tko će ostvariti proizvodnju, s kojim sredstvima i koje tehnike će upotrijebiti, 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za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koga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će se ona proizvoditi? Društvo treba odrediti tko će uživati plod ekonomskih napo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ekonomija proučava ekonomske aktivnosti ljudi vezane za alokaciju resurs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EKONOMIJA – PITANJE ALOKACIJE RESUR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svako društvo posjeduje nekakav mehanizam društvene koordinacije i kooperacije između lju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Ekonomija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navodi velik broj različitih ljudi da poduzimaju povezane i isprepletene aktivnosti koje rezultiraju proizvodnjom dobara i usluga koje znače opstanak i napredak ljudskog društva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NAČINI ALOKACIJE RESURSA</a:t>
            </a:r>
            <a:br>
              <a:rPr sz="4000"/>
            </a:b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1. Centralizirana alokacija resursa (socijalistička ekonomij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ržava donosi sve odluke o proizvodnji i potrošn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ržava posjeduje većinu sredstava za proizvodnju (zemlja i kapit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ržava odlučuje kako se ukupna proizvodnja društva treba razdijeliti na različita dobra i uslu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ržava u naredbodavnoj (centraliziranoj) ekonomiji odgovara na glavna ekonomska pitanja preko svog vlasništva nad sredstvima i njezine moći da iznudi odlu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uspješno funkcioniranje ovakvog sustava pretpostavlja zadovoljenje slijedećih uvjet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savršena (potpuna) informiranost donositelja gospodarskih odlu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država u kratkom vremenu treba preraditi informacije i donijeti velik broj relevantnih odlu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posluš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NAČINI ALOKACIJE RESURSA</a:t>
            </a:r>
            <a:br>
              <a:rPr sz="4000"/>
            </a:b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2. Decentralizirana alokacija resursa (kapitalistička ekonomija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isključuje postojanje makroekonomskog autoriteta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vidljive ruk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); sve alokacijske odluke donose posredstvom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nevidljive ruk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– tržiš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u tržišnoj ekonomiji pojedinci i privatna poduzeća donose glavne odluke o proizvodnji i potrošn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sustav određuje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što, kako 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i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 za kog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proizvođači proizvodeći svoja dobra nastoje maksimalizirati svoj prof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potrošači nastoje realizirati onu kombinaciju dobara i usluga koja najbolje odgovara njihovim potreba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vjeruje se da profit (motiv) i tržište (mehanizam koordinacije) jače stimuliraju proizvodnju nego u centralnom planiranj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ekstreman slučaj tržišne ekonomije –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laissez-faire 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ekonomi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NAČINI ALOKACIJE RESURSA</a:t>
            </a:r>
            <a:br>
              <a:rPr sz="4000"/>
            </a:b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1.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ješovita ekonomij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najčešći oblik ekonomije u svije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ombinacija tržišne i naredbodavne ekonom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nikada nije postojala sto postotna tržišna ekonomi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većina odluka u zapadnim zemljama donosi se na tržiš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ržava donosi zakone i propise koji uređuju ekonomski život, pruža osnovne obrazovne i političke usluge te regulira zagađenost i poslova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Adam Smith 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– "teorijski otac kapitalizma"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Istraživanje prirode i uzroka bogatstva naroda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776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korektno je izložio osnovna načela tržišne ekonom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utemeljitelj mikroekonomike (grana ekonomike koja se bavi ponašanjem pojedinačnih entiteta - tržišta, poduzeća i kućanst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u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Bogatstvu naroda 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razmatra kako se određuju pojedinačne cijene, cijene zemlje, rada i kapitala te je istraživao prednosti i slabosti tržišnog mehaniz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identificirao je jedinstveno efikasno svojstvo tržišta,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"nevidljivu ruku"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 koja dovodi do opće dobrobiti iz djelovanja pojedinca za vlastiti probit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ORIJENTACIJA U RAZVITKU EKONOMSKE MISL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porast dobara i nadnica, izazvane kapitalističkom ekonomijom, nije međutim za sve značila porast bogatstva i blagostan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David Ricardo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Visoka cijena zlatnih poluga kao dokaz obezvrijeđivanja novčanica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810.,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Rasprava o utjecaju niske cijene žita na profit od kapitala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815.,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O načelima političke ekonomije i oporezivanja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817. i dr.) i </a:t>
            </a:r>
            <a:r>
              <a:rPr b="1" lang="hr-HR" sz="2400" spc="-1" strike="noStrike">
                <a:solidFill>
                  <a:srgbClr val="00ff00"/>
                </a:solidFill>
                <a:latin typeface="Tahoma"/>
              </a:rPr>
              <a:t>Thomas Robert Maltus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 (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Rasprava o načelu populacij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, 1798.) su razloge postojanja niskih nadnica vidjeli u u pretjeranom množenju radnika ("Rad je skup, kad je rijedak, a jeftin, kad ga ima obilno" Ricardo, D., </a:t>
            </a:r>
            <a:r>
              <a:rPr b="0" i="1" lang="hr-HR" sz="2400" spc="-1" strike="noStrike">
                <a:solidFill>
                  <a:srgbClr val="00ff00"/>
                </a:solidFill>
                <a:latin typeface="Tahoma"/>
              </a:rPr>
              <a:t>Načela političke ekonomije</a:t>
            </a: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ff00"/>
                </a:solidFill>
                <a:latin typeface="Tahoma"/>
              </a:rPr>
              <a:t>priznali su da kapitalistička ekonomija nije u stanju sve učiniti bogatima i zadovoljni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7:52:38Z</dcterms:created>
  <dc:creator>Ružica</dc:creator>
  <dc:description/>
  <dc:language>en-US</dc:language>
  <cp:lastModifiedBy>X</cp:lastModifiedBy>
  <dcterms:modified xsi:type="dcterms:W3CDTF">2006-12-22T09:05:07Z</dcterms:modified>
  <cp:revision>5</cp:revision>
  <dc:subject/>
  <dc:title>Slajd 1</dc:title>
</cp:coreProperties>
</file>