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270-67D7-4D20-A51F-52E1EBA3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F30-EF90-4279-9AE6-2DFDA7A8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6AB-2599-4AE2-8CC7-345CC241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FC82-421E-4E37-ADB3-DFB92BB5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90D8-1A3E-4521-B154-33C9FBE0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169C-3896-49FF-85D3-A4B5229B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ECCA-B2C3-4713-8FF3-5E628E61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EEEA-B524-431F-9E28-3EF68D17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5193-2313-4D59-9CDE-3EE23186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B4C4-0320-4F5D-8282-0CE64118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3F6B-E6FC-40F8-8E05-1217F131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0DD-62E2-47B0-8959-B391FD12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41F2-DDAB-4015-B87F-2BE94FBB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A5FB-1EF2-45EC-AE89-C3F82E42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B3A3-EA98-4FA6-BB5E-2A302D60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4559-CF16-4F50-916B-23434601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BF31-7580-4622-996E-9D8C8D33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CC5AC-ECAD-4EEC-A1BF-FC6301A2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327B-E63F-4255-9DA4-F8462844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7F1DA-24F6-4CAB-B1F6-38C3B487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D613D-D682-4238-9890-FE1911CD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092A-4974-4E16-A8ED-B31ADA94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D98-A265-4815-A965-E125A35B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4280-461E-4CA0-B22F-A54AC5F0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4656E-3F4F-4426-9EC1-FAFF41DB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E5F5E-33AB-4F35-827E-B80B96B1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443B6-DA3C-4DE2-B451-C6453B71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341E-88D8-484A-BCC3-55F3350C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D291A-F57F-4456-A3F8-713FDB5E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E7744-A616-4F75-8806-2DC733B6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DEFB-1E48-4A82-8C3A-DEC05AAE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0A2-FF23-4BA9-BCF6-47FC9DEC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AE3-2379-4BB6-BA54-E6F83264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D87-04C4-4624-85BD-F261D149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59A-6150-4365-B6D6-31D8AA3D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39E-3FD5-4B19-BB0C-E9F95B34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1B1C-D609-442C-BC7E-28D4F32D41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AFE6-689E-4B4F-8C5D-2A8A25B42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158A-37C0-4A00-B12E-AE863F1E14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2781360"/>
            <a:ext cx="828036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8000"/>
                </a:solidFill>
                <a:latin typeface="Verdana"/>
              </a:rPr>
              <a:t>KAZNENI POSTUPA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15640" y="5084280"/>
            <a:ext cx="7010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Ines Suči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Mještoviti KP –</a:t>
            </a:r>
            <a:r>
              <a:rPr b="1" lang="hr-HR" sz="2800" spc="-1" strike="noStrike">
                <a:solidFill>
                  <a:srgbClr val="008000"/>
                </a:solidFill>
                <a:latin typeface="Verdana"/>
              </a:rPr>
              <a:t>optuživanje</a:t>
            </a:r>
            <a:r>
              <a:rPr b="1" lang="hr-HR" sz="28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95280" y="1773360"/>
          <a:ext cx="8353440" cy="4176720"/>
        </p:xfrm>
        <a:graphic>
          <a:graphicData uri="http://schemas.openxmlformats.org/drawingml/2006/table">
            <a:tbl>
              <a:tblPr/>
              <a:tblGrid>
                <a:gridCol w="4178160"/>
                <a:gridCol w="417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Akuzatorski ele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Inkvizicijski element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dnošenjem optužnice sudu točno se određuje predmet spora, od tužitelja ovisi o čemu će se raspravljati u daljem tijeku postupk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zanost suda optužnicom omogućava okrivljeniku da se brani, jer točno zna što mu se i zbog kojih dokaza stavlja na ter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rivljenik optužnicu može pobijati prigovorom protiv optužnice (kontradiktorno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M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Mještoviti KP –</a:t>
            </a:r>
            <a:r>
              <a:rPr b="1" lang="hr-HR" sz="2800" spc="-1" strike="noStrike">
                <a:solidFill>
                  <a:srgbClr val="008000"/>
                </a:solidFill>
                <a:latin typeface="Verdana"/>
              </a:rPr>
              <a:t>glavna rasprava </a:t>
            </a:r>
            <a:r>
              <a:rPr b="1" lang="hr-HR" sz="28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5280" y="1773360"/>
          <a:ext cx="8353440" cy="4176720"/>
        </p:xfrm>
        <a:graphic>
          <a:graphicData uri="http://schemas.openxmlformats.org/drawingml/2006/table">
            <a:tbl>
              <a:tblPr/>
              <a:tblGrid>
                <a:gridCol w="4178160"/>
                <a:gridCol w="417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Akuzatorski ele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Inkvizicijski element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lj je razriješiti spor koji postoji među strankama-  spor rješava su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jprije se izjašnjavaju stranke, a zatim se njihovi navodi provjeravaju dokazima, spis istrage ne može biti osnovica odlučiv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ko tužitelj odustane od daljeg progona, sud mora donijeti odbijajuću presudu tj. okončati postup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o suda da na glavnoj raspravi ispituje okrivljenik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d ima daje ovlaštenje da sam izvodi dokaze bez obzira ne eventualne (čak i suprotne) prijedlog strana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24720" cy="36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8000"/>
                </a:solidFill>
                <a:latin typeface="Verdana"/>
              </a:rPr>
              <a:t>KAZNENI POSTUPAK RH</a:t>
            </a:r>
            <a:br>
              <a:rPr sz="3200"/>
            </a:br>
            <a:br>
              <a:rPr sz="3200"/>
            </a:br>
            <a:r>
              <a:rPr b="1" lang="hr-HR" sz="3200" spc="-1" strike="noStrike">
                <a:solidFill>
                  <a:srgbClr val="008000"/>
                </a:solidFill>
                <a:latin typeface="Verdana"/>
              </a:rPr>
              <a:t> - </a:t>
            </a: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predkazneno postupanje 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 - kazneni postupak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 - izvanredni pravni lijekovi (djelovanje nakon okončanja postupka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144000" cy="621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8964720" cy="5383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395280" y="476280"/>
            <a:ext cx="61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ff3300"/>
                </a:solidFill>
                <a:latin typeface="Verdana"/>
              </a:rPr>
              <a:t>Dokazivanj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8000"/>
                </a:solidFill>
                <a:latin typeface="Verdana"/>
              </a:rPr>
              <a:t>ZAKONOM ZABRANJENI NAČINI PRIBAVLJANJA DOKAZA</a:t>
            </a: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 (sila, prijetnja, prijevara, sugestivna i kapciozna pitanja, medicinske intervencije kojima se utječe na volju ispitanika) – pravno nevaljali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3300"/>
                </a:solidFill>
                <a:latin typeface="Verdana"/>
              </a:rPr>
              <a:t>VRSTE DOKAZA</a:t>
            </a: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a) </a:t>
            </a: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ISKAZ OKRIVLJENIKA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25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ispitivanje osumnjičenika – vrši policija i istražni sudac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25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ispitivanje okrivljenika u istrazi – vrši istražni sudac, a mogu biti nazočni državni odvjetnik/tužitelj i branitelj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25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ispitivanje optuženika na raspravi – pred sudom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b) </a:t>
            </a: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ISKAZ SVJEDOKA</a:t>
            </a: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c) </a:t>
            </a: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ISKAZ VJEŠTAKA</a:t>
            </a: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d) </a:t>
            </a: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UPOTREBA ISPRAV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e) </a:t>
            </a: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UPOTREBA TEHNIČKIH REGISTRACIJA ČINJENICA</a:t>
            </a: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00000"/>
                </a:solidFill>
                <a:latin typeface="Verdana"/>
              </a:rPr>
              <a:t>PSIHOLOZI U POLICIJI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8000"/>
                </a:solidFill>
                <a:latin typeface="Verdana"/>
              </a:rPr>
              <a:t>RAD PSIHOLOGA U POLICIJI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elekcija i predviđanje radne uspješnosti-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1917g. Terman – Stanford-Bin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rocjene stresnosti posla, savjetovanje i terap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rocjene radne kompetentnosti (</a:t>
            </a:r>
            <a:r>
              <a:rPr b="0" i="1" lang="hr-HR" sz="2400" spc="-1" strike="noStrike">
                <a:solidFill>
                  <a:srgbClr val="000000"/>
                </a:solidFill>
                <a:latin typeface="Verdana"/>
              </a:rPr>
              <a:t>fitness to duty evaluations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), obrazovanje i trening, procjene organizacijske struk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obiteljski problemi, odnosi s javnošću, policija u zajedni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ispitivanje osumnjičenih, svjedoka, izrada psiholoških profila, pregovori s taocima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1968g. Reiser LAPD – psihološka praksa – selekcija, savjetovanje, organizacija posl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0010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8000"/>
                </a:solidFill>
                <a:latin typeface="Verdana"/>
              </a:rPr>
              <a:t>Selekcija i predviđanje radne uspješ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re-dispozicijski model nasuprot socijalizacijskom (“mi protiv njih” mentalitet; autoritarnost, konzervativiza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određivanje prediktora i kriterija uspješ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intervju, testovi-upitnici nasuprot centrima za procjenu- situacijski testo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Policijska subkultura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rizici koje nosi policijski posa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specifične ovlasti (ograničavanje prava i sloboda građana, upotreba prinude itd.) i odgovornos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užnost međusobne solidarnosti u zajedničkim akcijam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osjećaj društvene izoliranosti policaja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česti kontakti s određenom vrstom ljudi sklonom asocijalnim ponašanjima, tip informacija do kojih dolaze policajci i koje koriste u svom radu, interni sustav obuke i profesionalnog znanja koje se stječe u praksi it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00100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KAZNENI POSTUPAK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458136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8000"/>
                </a:solidFill>
                <a:latin typeface="Verdana"/>
              </a:rPr>
              <a:t>TIPOVI KAZNENOG  POSTUPKA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akuzatorsk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inkvizicijsk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mješovit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(Hrvatsk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79280" y="177336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polazna točk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-  vjerojatnost o počinjenju kaznenog djela od strane točno određene osob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cilj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- utvrditi sa sigurnošću je li okrivljenik ujedno i počinitelj kaznenog djela i primjena kaznene sankcij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Faz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8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strag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8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ptuživanj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8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glavna rasprava s donošenjem i objavljivanjem presu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8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ostupanje povodom žalb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Policijska subkultura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kolnick (1966) - djelo "Pravda bez suđenja" (</a:t>
            </a:r>
            <a:r>
              <a:rPr b="0" i="1" lang="hr-HR" sz="2600" spc="-1" strike="noStrike">
                <a:solidFill>
                  <a:srgbClr val="000000"/>
                </a:solidFill>
                <a:latin typeface="Verdana"/>
              </a:rPr>
              <a:t>Justice without Trial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) - opisao "radnu ličnost policajca" („working personality„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klop socio-psiholoških osobina koji se u okviru grupe prihvaća i tolerira, a počiva na određenim stavovima, vrijednostima i definicijama određenih situaci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odnosno specifičan "društveni karakter" policajaca koji nastaje kao odgovor na opasnost posla i autoritet, te konstantan pritisak na policiju da bude efikas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Verdana"/>
              </a:rPr>
              <a:t>Robert Reiner (1992)</a:t>
            </a:r>
            <a:r>
              <a:rPr b="0" lang="pl-PL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7138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8000"/>
                </a:solidFill>
                <a:latin typeface="Verdana"/>
              </a:rPr>
              <a:t>Posvećenost misiji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 – to nije samo posao već stil života - svoju ulogu vide kao ključnu u očuvanju socijalnog poretka, ugrožavanje njihovog autoriteta ima pogubne posljedice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8000"/>
                </a:solidFill>
                <a:latin typeface="Verdana"/>
              </a:rPr>
              <a:t>Cinizam i policijski pesimizam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 – policijska predanost misiji sa cinizmom i pesimizmom u pogledu konačnog ishoda, policijska manjina jedina nada za obranu društv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8000"/>
                </a:solidFill>
                <a:latin typeface="Verdana"/>
              </a:rPr>
              <a:t>Konstantna sumnja u sve i svakog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– potreba za indicijama koje upućuju na KD, stereotipi sumnje pozitivna, ali opasna ako se neopravdano proširi na cijele društvene grupe, tipove pojava i aktivnosti, ili prerastu u paranoično ponašanje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  <a:ea typeface="굴림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8000"/>
                </a:solidFill>
                <a:latin typeface="Verdana"/>
              </a:rPr>
              <a:t>Socijalna izolacija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 - nedovoljno integrirani u društvenu zajednicu, specifično radno vrijeme, posljedica i preopterećenosti i težine posla, obaveza policajaca da i van radnog vremena budu policajci i da se ponašaju besprijekorno (izbjegavanje kontakata sa određenom vrstom ljudi i izbjegavanje nekih zadovoljstava koja drugi ljudi upražnjavaju) - okretanje jedni drugima – još veća izolacija, stereotip „mi” – „oni”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Reiner – nastavak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8000"/>
                </a:solidFill>
                <a:latin typeface="Verdana"/>
              </a:rPr>
              <a:t>solidarnost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- posao zahtjeva bezuvjetnu podršku i lojalnost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hr-HR" sz="2100" spc="-1" strike="noStrike">
                <a:solidFill>
                  <a:srgbClr val="000000"/>
                </a:solidFill>
                <a:latin typeface="Verdana"/>
              </a:rPr>
              <a:t>blue race, police brotherood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– SAD), skrivanje grešaka i propusta pojedinih policajaca od strane njihovih kolega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- dodatno potencira njihovu socijalnu izolacij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8000"/>
                </a:solidFill>
                <a:latin typeface="Verdana"/>
              </a:rPr>
              <a:t>k</a:t>
            </a:r>
            <a:r>
              <a:rPr b="0" lang="hr-HR" sz="2100" spc="-1" strike="noStrike">
                <a:solidFill>
                  <a:srgbClr val="008000"/>
                </a:solidFill>
                <a:latin typeface="Verdana"/>
                <a:ea typeface="굴림"/>
              </a:rPr>
              <a:t>onzervativizam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politi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čki i moralni-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posl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edica društvene uloge policije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o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uvanje vr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ij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ednosti konvencionalnog morala i utvr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đ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enog društvenog poretka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priroda posla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disciplina i hijerarhijska struktura policijske organizacij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8000"/>
                </a:solidFill>
                <a:latin typeface="Verdana"/>
              </a:rPr>
              <a:t>mačizam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snaga, osvajanje žena,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afići,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alkohol, sport i sli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ne muške zabav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8000"/>
                </a:solidFill>
                <a:latin typeface="Verdana"/>
                <a:ea typeface="굴림"/>
              </a:rPr>
              <a:t>predrasude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– rasne, etničke, prema određenim grupama koje odstupaju od konvencionalnih (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samo nešto izraženije od predrasuda društva u c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elini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) – vjerojatno posljedica obavljanja posl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8000"/>
                </a:solidFill>
                <a:latin typeface="Verdana"/>
              </a:rPr>
              <a:t>p</a:t>
            </a:r>
            <a:r>
              <a:rPr b="0" lang="hr-HR" sz="2100" spc="-1" strike="noStrike">
                <a:solidFill>
                  <a:srgbClr val="008000"/>
                </a:solidFill>
                <a:latin typeface="Verdana"/>
                <a:ea typeface="굴림"/>
              </a:rPr>
              <a:t>ragmatizam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pragmati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čna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, konkretn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, prizemn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, perspektiv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pogleda na svijet i posa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00100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000"/>
                </a:solidFill>
                <a:latin typeface="Verdana"/>
              </a:rPr>
              <a:t>Socijalizacijska perspektiva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640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rad u policiji potiče stvaranje autoritarne, rigidne, nefleksibilne i netolerantne ličnosti (Adorno) – nije dokazano, ali često su policajci konvencionalne ličnosti s konzervativnijim pogledima na svijet i nefleksibilno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Wortley &amp; Homel 412 policajaca, Australija- nakon 6 mjeseci nastave smanjena autoritarnost, nakon 12 mjeseci rada na terenu povećana autoritarnost i etnocentrizam (pogotovo onih koji su radili s Aboriđinim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Kozarić-Kovačić i  Ljubin (1996) – rezultati na prijemnom na policijsku akademiju i 8 mjeseci kasnije – 71 civil i 31 policajaca – povećanje ekstravertiranosti kod obje grupe, a otvorenost iskustvima kod policajac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socijalizacija novih policajaca u policijsku subkulturu  tijekom studija - priprema za obavljanje tog posla (određene vrijednosti i norme, razvijanje osjećaja solidarnosti i posvećenost misij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po zapošljavanju - šok stvarnosti (</a:t>
            </a:r>
            <a:r>
              <a:rPr b="0" i="1" lang="hr-HR" sz="1900" spc="-1" strike="noStrike">
                <a:solidFill>
                  <a:srgbClr val="000000"/>
                </a:solidFill>
                <a:latin typeface="Verdana"/>
              </a:rPr>
              <a:t>reality shock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) – ne uklapanje u vrijednosti i norme policijske kulture odbacivanje, izolacija i ignoriranje od strane kolega, integracija u profesionalnu kulturu pokazuje se kao nužnost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4247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000"/>
                </a:solidFill>
                <a:latin typeface="Verdana"/>
              </a:rPr>
              <a:t>Bartol (199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Uzorak: 152 policijska psihologa u SAD-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40 je stalno zaposleno u policiji, 36 stalni policijski konzultanti, 76 nepotpuno radno vrije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dob 48.7 godina, 25% že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89% ima doktor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specijalizacije: klinička (60.7%), savjetovanje (17%), industrijska/ organizacijska (8%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34.3% vremena rade na selekciji, 2% izrada psiholoških profila – 70% izjavilo da se ne osjećaju kompetentnima za izradu profila i sa sumnjaju u njegovu valjanost i korisnost; 20% reklo da je važna I/O edukacija, te psihološka procjena, testiranje, savjetovanje i krizne intervencije  (cijeli uzorak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stalno zaposleni psiholozi u policiji: 15% selekcija, 28.7% savjetovanje i tretman policajaca, uključeni i u pomoć obiteljima i procjene kompetentnosti policajaca za obavljanje posla (radne sposobnosti), jako malo vremena rad sa žrtvama, 3.4% izrada psiholoških profil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8000"/>
                </a:solidFill>
                <a:latin typeface="Verdana"/>
              </a:rPr>
              <a:t>Psihologijsko testiranje policaja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752120"/>
            <a:ext cx="864216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SAD (1973) – propis, selekcija policije treba uključivati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Pismeni test intelektualnih sposobnos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Psihološku procjen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Provjera anamnestičkih podatak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elprino &amp; Bahn (1988) – između 1979 i 1988. 52% policijskih postaja vrši psihologijsko testiranje pri selekcij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Bartol (1995) – 34.3% posla psihologa u policiji otpada na selekcij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ajčešće korišteni testovi – testovi ličnosti (MMPI; California Psychological Inventory (CPI); Sixten Personality Factor Questionnaire (16PF); Edwards Personal Preference Schedule, Inwald Personality Inventory; Rorsach, Eysenck Personality Questionnaire (EPQ); NEO-PI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anas u SAD-u ima 12.000 policijskih postaj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MMPI, IPI (Inwald Personality Inventory) – odbacivanje, nesofisticirano laganj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NEO-PI – prijem, specifični intere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68360" y="476280"/>
            <a:ext cx="80010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8000"/>
                </a:solidFill>
                <a:latin typeface="Verdana"/>
              </a:rPr>
              <a:t>Psihologijsko testiranje policajaca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0010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8000"/>
                </a:solidFill>
                <a:latin typeface="Verdana"/>
              </a:rPr>
              <a:t>Cochrane, Tett &amp; Vandecreek (200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Od 355 policijskih postaja – 155 odgovorilo na njihov upitni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više od 90% koristi provjeru anamneze i prošlosti kandidata, liječnički pregled, intervju i psihološku procjen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91% da zahtjeva psihološku provjeru svih novih policijskih kandidat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30% težine se daje psihološkom testiranju pri selekciji, ali se 5% kandidata odbacuje samo na temelju rezultata psihološkog testiranj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veliki dio koristi i norme i čak svoje analize radnih mjesta, a rezultat se izražava kao prošao/pao što nije dobr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8000"/>
                </a:solidFill>
                <a:latin typeface="Verdana"/>
              </a:rPr>
              <a:t>Cochrane, Tett &amp; Vandecreek (200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7956720" cy="4759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270560" cy="50529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5596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000"/>
                </a:solidFill>
                <a:latin typeface="Verdana"/>
              </a:rPr>
              <a:t>Cochrane, Tett &amp; Vandecreek (200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TKO JE TKO U KP?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8000"/>
                </a:solidFill>
                <a:latin typeface="Verdana"/>
              </a:rPr>
              <a:t>OŠTEĆENIK</a:t>
            </a: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soba čije je kakvo osobno ili imovinsko pravo povrijeđeno ili ugroženo počinjenjem kaznenog djela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8000"/>
                </a:solidFill>
                <a:latin typeface="Verdana"/>
              </a:rPr>
              <a:t>SVJEDOK </a:t>
            </a: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soba koja vjerojatno nešto zna o činjenicama važnim za kazneni postupak, o kaznenom djelu i počinitelju i o drugim važnim okolnostima pa je stoga pozvana da pred sudom iskazuj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8000"/>
                </a:solidFill>
                <a:latin typeface="Verdana"/>
              </a:rPr>
              <a:t>TUŽITELJ</a:t>
            </a: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 -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ržavni odvjetnik, privatni tužitelj i oštećenik kao tužitel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8000"/>
                </a:solidFill>
                <a:latin typeface="Verdana"/>
              </a:rPr>
              <a:t>REDARSTVENE VLASTI</a:t>
            </a: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vlaštene službene osobe Ministarstva unutarnjih poslova i ovlaštene službene osobe Ministarstva obrane (vojna policija) u okviru njihovog djelokruga na vojnim građevinama i drugim vojnim objektima koji služe potrebama obra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Verdana"/>
              </a:rPr>
              <a:t>Stresnost pos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569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negativne posljedice stres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izvori stresa, podložnosti stresu i sindromu izgaranj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stres menadžment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cc0000"/>
                </a:solidFill>
                <a:latin typeface="Verdana"/>
              </a:rPr>
              <a:t>Samodevill (1978) </a:t>
            </a: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– najviša stopa razvoda (75%), problem s alkoholo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(20%), 6 puta veća stopa suicida od prosječne populacije, znatan broj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kardiovaskularnih i psihosomatskih bolesti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cc0000"/>
                </a:solidFill>
                <a:latin typeface="Verdana"/>
              </a:rPr>
              <a:t>Kroes (1985)</a:t>
            </a: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 – N=2399 policajaca; 37% bračni problemi, 36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zdravstveni problemi, 23% problemi s alkoholom, 20% ima djecu 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emocionalnim problemima, 10% koristi tablete za smirenj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8000"/>
                </a:solidFill>
                <a:latin typeface="Verdana"/>
              </a:rPr>
              <a:t>Hart, Wearing &amp; Headey (1995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N=527 policajaca (1988- 1990 N=175 dvokratno testirano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Mjer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Skala psihološkog stresa i dobrobiti (kvaliteta života- afektivna, kognitivna i zdravstvena komponenta; +/- čestice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Skala dnevnih problema i dobrih stvari s kojima se susreću policajci – organizacijsko i operativno okruženj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Skala suočavanja sa stresom – 24 čestic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Skala ličnosti  - NEO P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000"/>
                </a:solidFill>
                <a:latin typeface="Verdana"/>
              </a:rPr>
              <a:t>Hart, Wearing &amp; Headey (1995)  -rezulta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569080" cy="43923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50920" y="5013360"/>
            <a:ext cx="88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ZAKLJUČCI: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Policija manje stresa od svih grupa, važnije odrednice psihološkog zdravlja su organizacijska, a ne operativna iskustva (policijska organizacija u glavni izvor stresa u policiji), osobine ličnosti, emocionalno suočavanje nije adaptivno, dok korištenje strategija usmjerenih na probleme pomaže suočavanju sa streso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8000"/>
                </a:solidFill>
                <a:latin typeface="Verdana"/>
              </a:rPr>
              <a:t>Stresnost posl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Testovi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perational Police Stress Questionnaire (PSQ-Op) – mjeri stres povezan s radnim obveza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rganizational Police Stress Questionnairs (</a:t>
            </a:r>
            <a:r>
              <a:rPr b="0" lang="hr-HR" sz="3000" spc="-1" strike="noStrike">
                <a:solidFill>
                  <a:srgbClr val="c00000"/>
                </a:solidFill>
                <a:latin typeface="Verdana"/>
              </a:rPr>
              <a:t>PSQ-Org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) – mjeri stres povezan s organizacijom u policiji (McReary i Thompson, 2006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Savjetovanje i terapij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KLA – zamijenjen s programima koji obuhvaćaju različite probleme – kratkoročna savjetovan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Debrifing nakon traumatskih iskustav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eispitivanje spolnih ulog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avjetovanje koleg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8000"/>
                </a:solidFill>
                <a:latin typeface="Verdana"/>
              </a:rPr>
              <a:t>Trening, obrazovanja, krizne intervencije i odnosi s javnošć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dnosi sa psihički bolesnim osobama, nasilje u obitelji, pregovori s taocima</a:t>
            </a:r>
            <a:r>
              <a:rPr b="1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(psihički bolesne osobe, “kriminalac u zamci”, pobuna u zatvoru, teroriza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eđuljudske vješt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tavovi prema policij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olicija u zajednici (Hrvatska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1_rajon"/>
          <p:cNvPicPr/>
          <p:nvPr/>
        </p:nvPicPr>
        <p:blipFill>
          <a:blip r:embed="rId1"/>
          <a:stretch/>
        </p:blipFill>
        <p:spPr>
          <a:xfrm>
            <a:off x="179280" y="189000"/>
            <a:ext cx="9217080" cy="6580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listic1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45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BosnianCops"/>
          <p:cNvPicPr/>
          <p:nvPr/>
        </p:nvPicPr>
        <p:blipFill>
          <a:blip r:embed="rId1"/>
          <a:stretch/>
        </p:blipFill>
        <p:spPr>
          <a:xfrm>
            <a:off x="395280" y="189000"/>
            <a:ext cx="8497800" cy="6372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TKO JE TKO U KP?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Verdana"/>
              </a:rPr>
              <a:t>OSUMNJI</a:t>
            </a:r>
            <a:r>
              <a:rPr b="1" lang="hr-HR" sz="1900" spc="-1" strike="noStrike">
                <a:solidFill>
                  <a:srgbClr val="008000"/>
                </a:solidFill>
                <a:latin typeface="Verdana"/>
              </a:rPr>
              <a:t>Č</a:t>
            </a:r>
            <a:r>
              <a:rPr b="1" lang="en-US" sz="1900" spc="-1" strike="noStrike">
                <a:solidFill>
                  <a:srgbClr val="008000"/>
                </a:solidFill>
                <a:latin typeface="Verdana"/>
              </a:rPr>
              <a:t>ENIK</a:t>
            </a:r>
            <a:r>
              <a:rPr b="1" lang="hr-HR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sob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oju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jel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znenog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on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i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arstvene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asti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aju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snov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njati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l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i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jeloval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jemu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tiv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je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o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š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ije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krenut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zneni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up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8000"/>
                </a:solidFill>
                <a:latin typeface="Verdana"/>
              </a:rPr>
              <a:t>UHIĆENIK</a:t>
            </a:r>
            <a:r>
              <a:rPr b="1" lang="hr-HR" sz="19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soba prema kojoj je primijenjena bilo koja mjera ili radnja koja dovodi do lišenja slobode te osob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8000"/>
                </a:solidFill>
                <a:latin typeface="Verdana"/>
              </a:rPr>
              <a:t>OKRIVLJENIK</a:t>
            </a:r>
            <a:r>
              <a:rPr b="1" lang="hr-HR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soba protiv koje je pokrenut kazneni postupak (čim se donese rješenje o provođenju istrage)</a:t>
            </a:r>
            <a:r>
              <a:rPr b="1" i="1" lang="hr-H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8000"/>
                </a:solidFill>
                <a:latin typeface="Verdana"/>
              </a:rPr>
              <a:t>OPTUŽENIK</a:t>
            </a:r>
            <a:r>
              <a:rPr b="1" lang="hr-HR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soba protiv koje je podignuta optužnica koja je stupila na pravnu snagu (postala pravomoćna) ili protiv koje je podnesena privatna tužba ili optužni prijedlog i zakazana glavna raspra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8000"/>
                </a:solidFill>
                <a:latin typeface="Verdana"/>
              </a:rPr>
              <a:t>OSUĐENIK</a:t>
            </a:r>
            <a:r>
              <a:rPr b="1" lang="hr-HR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soba koja je pravomoćno osuđena zbog počinjenja kaznenog djela tj. za koju je pravomoćnom presudom utvrđeno da je kriva za određeno kazneno dj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Akuzatorski KP  </a:t>
            </a: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008000"/>
                </a:solidFill>
                <a:latin typeface="Verdana"/>
              </a:rPr>
              <a:t>Inkvizicijski KP</a:t>
            </a: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4032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Verdana"/>
              </a:rPr>
              <a:t>odvojene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kazneni progon (ovlašteni tužitelj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obrana (optuženik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uđenje (sud)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načelo usmenosti i javnost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11280" y="16286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3 osnovne procesne funkcije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211640" y="2133720"/>
            <a:ext cx="493236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Verdana"/>
              </a:rPr>
              <a:t>kumulacija funkcija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ud -  obavlja sve funkcije – pokreće postupak i odlučuj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nema stranaka, niti spora među nji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008000"/>
                </a:solidFill>
                <a:latin typeface="Verdana"/>
              </a:rPr>
              <a:t>načelo pismenosti i tajnost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6443640" y="3573360"/>
            <a:ext cx="0" cy="4320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Akuzatorski KP  </a:t>
            </a: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496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ostupanje je spor međusobno suprotstavljenih 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ravnopravnih stranaka (tužitelja i optuženika) koji se rješava p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ud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ostupak se može pokrenuti isključivo po zahtjevu </a:t>
            </a:r>
            <a:r>
              <a:rPr b="0" lang="hr-HR" sz="1800" spc="-1" strike="noStrike">
                <a:solidFill>
                  <a:srgbClr val="008000"/>
                </a:solidFill>
                <a:latin typeface="Verdana"/>
              </a:rPr>
              <a:t>tužitelja</a:t>
            </a: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(oštećenik ili građanska tužba) koji na sudu mora dokazati osnovanost vlastite tužb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8000"/>
                </a:solidFill>
                <a:latin typeface="Verdana"/>
              </a:rPr>
              <a:t>optuženik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dužnost upuštanj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 nema obavezu davanja iskaza, a nitko mu, uključujući i sud, nema pravo postavljati pitanj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8000"/>
                </a:solidFill>
                <a:latin typeface="Verdana"/>
              </a:rPr>
              <a:t>sud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- donosi o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luku o sporu između tužitelja i optuženik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ne pokreće postupak po vlastitoj inicijativi pa ne pretpostavlja da je optuženik kri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ne izvodi dokaz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već ih ocjenjuje tijekom rasprave (stranke izvode dokaz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8000"/>
                </a:solidFill>
                <a:latin typeface="Verdana"/>
              </a:rPr>
              <a:t>OBJEKTIVNOS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Inkvizicijski KP  </a:t>
            </a: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ostupanje je jednostrano sudsko utvrđivanje je li počinjeno KD, te odmjeravanje kazne počinitelju, nema stranak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8000"/>
                </a:solidFill>
                <a:latin typeface="Verdana"/>
              </a:rPr>
              <a:t>istraga</a:t>
            </a:r>
            <a:r>
              <a:rPr b="0" lang="hr-HR" sz="1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rovodi ju poseban sudski istražitelj (</a:t>
            </a:r>
            <a:r>
              <a:rPr b="0" lang="hr-HR" sz="1600" spc="-1" strike="noStrike">
                <a:solidFill>
                  <a:srgbClr val="008000"/>
                </a:solidFill>
                <a:latin typeface="Verdana"/>
              </a:rPr>
              <a:t>inkvirent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) na temelju osnovi sumnj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o izvršenju KD - sustav zakonske ocjene dokaza (tzv. formalna dokazna teorija) - koliko i kakvih dokaza mora postojati da bi se neka činjenica smatrala utvrđen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osumnjičeni se lišava slob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inkvirent o procesnim radnjama sastavlja zapisnik - spis predmet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spis predmeta dostavlja sudskom vijeću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8000"/>
                </a:solidFill>
                <a:latin typeface="Verdana"/>
              </a:rPr>
              <a:t>suđenje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- sudsko vijeće isključivo temeljem spisa donosi odluku o krivnji tj. konačna sudska odluka se donosi na temelju istrag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- ne izvodi dokaze neposredno niti ispituje okrivljenik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retpostavka je da okrivljenika kriv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istragom se žele pronaći dokazi o krivnji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istraga je tajna, a okrivljenik u pritvoru te se nema mogućnosti braniti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najčešće rezultira osuđujućom presudom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8000"/>
                </a:solidFill>
                <a:latin typeface="Verdana"/>
              </a:rPr>
              <a:t>SUBJEKTIVNOS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Mještoviti KP  </a:t>
            </a: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funkcija kaznenog progona i suđenja su odvojene tako što ih vrše različiti subjek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8000"/>
                </a:solidFill>
                <a:latin typeface="Verdana"/>
              </a:rPr>
              <a:t>istraga (pripremni postupa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zahtjeva ili pokreće istragu državni odvjetnik, ali on NE odlučuje o krivnj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istragu provodi istražni sudac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načelo objektivnosti, ali i oficijelnosti i tajnosti istrag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okrivljeniku i branitelji – samo se iznimno dozvoljava pregled istražnog spisa (u slučaju pritvora -  okrivljenik nema pravo na slobodni kontakt s braniteljem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8000"/>
                </a:solidFill>
                <a:latin typeface="Verdana"/>
              </a:rPr>
              <a:t>suđenje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hr-HR" sz="1600" spc="-1" strike="noStrike">
                <a:solidFill>
                  <a:srgbClr val="008000"/>
                </a:solidFill>
                <a:latin typeface="Verdana"/>
              </a:rPr>
              <a:t>(glavna rasprava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-     na temelju prikupljenih dokaza državni odvjetnik podiže optužnic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resuda se izvodi temeljem dokaza izvedenih na raspravi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glavna rasprava je spor dvije ravnopravne stranke koji će riješiti su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načelo javnosti i usmenosti - sud se mora upoznati sa svim dokazima neposredno, a ne čitanjem zapisnika ili pregledom spisa istra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ali, sud sam odlučuje o dokazima koje će izvesti bez obzira ne prijedloge stranak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Mještoviti KP – </a:t>
            </a:r>
            <a:r>
              <a:rPr b="1" lang="hr-HR" sz="2800" spc="-1" strike="noStrike">
                <a:solidFill>
                  <a:srgbClr val="008000"/>
                </a:solidFill>
                <a:latin typeface="Verdana"/>
              </a:rPr>
              <a:t>istraga </a:t>
            </a: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cc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73360"/>
          <a:ext cx="8353440" cy="4176720"/>
        </p:xfrm>
        <a:graphic>
          <a:graphicData uri="http://schemas.openxmlformats.org/drawingml/2006/table">
            <a:tbl>
              <a:tblPr/>
              <a:tblGrid>
                <a:gridCol w="4178160"/>
                <a:gridCol w="417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Akuzatorski ele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Inkvizicijski element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rage ne može početi/ voditi 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z postojanja zahtje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laštenog tužitel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rivljenik ima neka prava ko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 dovode u (relativno) ravnopra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ožaj s ovlaštenim tužiteljem  (pra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ti nazočan prilikom vršenja istražni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nji, predlagati pojedine istraž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nje, pregledati spis predmeta, te 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zjašnjavati o stavovima pro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ank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đenje istrage od strane istražnog suc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o istražnog suca da ispituje okrivljen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jnost istr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7:11:06Z</dcterms:created>
  <dc:creator>stonea</dc:creator>
  <dc:description/>
  <dc:language>en-US</dc:language>
  <cp:lastModifiedBy>nom</cp:lastModifiedBy>
  <dcterms:modified xsi:type="dcterms:W3CDTF">2013-05-29T08:50:55Z</dcterms:modified>
  <cp:revision>495</cp:revision>
  <dc:subject/>
  <dc:title>Conceptual and Historical Issues in Psychology (CHIPs)</dc:title>
</cp:coreProperties>
</file>