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3A2-320B-4868-85B4-466B3564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599-776B-456E-86A7-291D7C61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CBE-A9D1-40FE-B563-1F010F28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E8F-C386-4A7C-8579-C3DCD806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1DFB-5A3E-4FC8-8B1A-58E77777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741D-12EB-497A-83A6-DBFC3005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2213-4AD6-4388-904A-D787DB73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A625-E997-44DE-BE5E-3D86879C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6B79-3CDF-4D97-B192-FB0C8E32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01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1B39-CCD5-4989-BE11-774F8FA8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0001-C0B6-46DC-BCB3-B02A2BFD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EBE-6075-4496-94E2-CA52D92B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6F95-64EF-4E6A-BA78-34D169DF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16D2-12D6-462D-BD44-248780B8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EC82-5BEC-42F2-A478-E2BFAD31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2E07-96DF-4B0E-9D05-9CA6233B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1C31-18FA-4391-83C8-08B856BB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BF0-8E0B-426D-85B3-B8FC3B13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8FD-C099-4E60-880B-63C40D0F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0B4-4A06-4CFA-8E0A-FD31DC37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01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03E-9500-4344-AE10-98DD48C1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E6C-1587-417F-A666-B5D36C99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A2A-15F7-40AF-90FD-0FF4BB93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FD3-243E-4C4E-B470-46996665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D35C-1F07-4C45-B77B-0C95313F6195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B7FA-3160-46A8-8C56-E61D625A20FD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413000"/>
            <a:ext cx="50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Zavod za kliničku farmakologi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Interna klinika KBC Reb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101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Verdana"/>
              </a:rPr>
              <a:t>IZBOR OPTIMALNOG LIJE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4920" y="36360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H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Sustavni hormonski pripravci 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izuzev spolnih horm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8000" y="1773360"/>
          <a:ext cx="8928000" cy="4170240"/>
        </p:xfrm>
        <a:graphic>
          <a:graphicData uri="http://schemas.openxmlformats.org/drawingml/2006/table">
            <a:tbl>
              <a:tblPr/>
              <a:tblGrid>
                <a:gridCol w="1158840"/>
                <a:gridCol w="7769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 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ipofiza, hipotalam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 01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prednji režanj – hormon rasta (stanje hrskavice?, nova indikacija + smanjeni rast, dopin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 01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tražnji režanj (vazopresin, oksitoci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 01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inhib. neuro endokrini tumori; oktreot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za prevenciju komplikacija upale pankrea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zaustavljanje krvarenja variksa ezofagu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 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kortikosteroidi sustavna primje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 02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glukokortikoidi-kraći t½ pokušaj alternativne sheme; indikacije preširoke. th Reakcija preosjetljivosti, velika latenc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 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štitnjača levotiroksin, tireostatici (propltiouracil i tiamaz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1280" y="36360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J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Liječenje sustavnih infek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20520" y="1574640"/>
          <a:ext cx="9144000" cy="5239080"/>
        </p:xfrm>
        <a:graphic>
          <a:graphicData uri="http://schemas.openxmlformats.org/drawingml/2006/table">
            <a:tbl>
              <a:tblPr/>
              <a:tblGrid>
                <a:gridCol w="1332000"/>
                <a:gridCol w="7812000"/>
              </a:tblGrid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J 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bakterijske infekcije sustav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dabir prema predmnijevanom uzročniku peni G bolji od ampicilina za streptokok, peni-aza rezistentan penicilin – kloksacilin bolji od amoksicilina za stafilokok (koža!); amoks.+klav.kis. preširoko, hepatotoks.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d7f0ff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uspojave: J 01 FF linkomicin, klindamicin nisu zamjena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 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za penicilin (pedijatri!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d7f0ff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ijena: penicilin, cefalosporini </a:t>
                      </a:r>
                      <a:r>
                        <a:rPr b="0" lang="hr-HR" sz="2000" spc="-1" strike="noStrike" u="sng">
                          <a:solidFill>
                            <a:srgbClr val="d7f0ff"/>
                          </a:solidFill>
                          <a:uFillTx/>
                          <a:latin typeface="Verdana"/>
                        </a:rPr>
                        <a:t>nisu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slabiji od kinolona z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 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ekomplicirane uroinfekcije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J 01F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zitromicin ukupno liječenje nije bitno skuplje od eritromicinskog, a spektar je ši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J 01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ulf+trim, nuspoj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koncept rezervnog antibiotika medicinski+ekonomski aspek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J 01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Uroantiseptici: norfloksacin – križana rezistencija; nitrofurantoin, trimetoprim nedosta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33720"/>
          <a:ext cx="8316720" cy="2280960"/>
        </p:xfrm>
        <a:graphic>
          <a:graphicData uri="http://schemas.openxmlformats.org/drawingml/2006/table">
            <a:tbl>
              <a:tblPr/>
              <a:tblGrid>
                <a:gridCol w="1008000"/>
                <a:gridCol w="730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J 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timikoti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J 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ikobakter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J 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ustavne virusne (aciklovir, zidovudin) politerapija HIV infekcija 3, 4 lijeka najedn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J 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imunoglobulini, imunoserum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J 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jepiva (bakterijska, virusn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1280" y="363600"/>
            <a:ext cx="8172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J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Liječenje sustavnih infek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nastav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1280" y="363600"/>
            <a:ext cx="817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L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Liječenje malignih bolesti i 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imunomodulat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920" y="2154240"/>
          <a:ext cx="9036000" cy="2138400"/>
        </p:xfrm>
        <a:graphic>
          <a:graphicData uri="http://schemas.openxmlformats.org/drawingml/2006/table">
            <a:tbl>
              <a:tblPr/>
              <a:tblGrid>
                <a:gridCol w="863640"/>
                <a:gridCol w="81723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 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itostatici subspecijalističko područ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 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ormonska terapija (hormoni, antagonisti hormona – tamoksifen, flutami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 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imuni sustav (stimulatori – citokini</a:t>
                      </a:r>
                      <a:r>
                        <a:rPr b="0" lang="hr-HR" sz="2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, interferon</a:t>
                      </a:r>
                      <a:r>
                        <a:rPr b="0" lang="hr-HR" sz="2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, peginterferon</a:t>
                      </a:r>
                      <a:r>
                        <a:rPr b="0" lang="hr-HR" sz="2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– grastimi; supresivi – ciklosporin</a:t>
                      </a:r>
                      <a:r>
                        <a:rPr b="0" lang="hr-HR" sz="2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4920" y="4292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baseline="30000">
                <a:solidFill>
                  <a:srgbClr val="ffffff"/>
                </a:solidFill>
                <a:latin typeface="Verdana"/>
              </a:rPr>
              <a:t>1 </a:t>
            </a:r>
            <a:r>
              <a:rPr b="0" lang="hr-HR" sz="1800" spc="-1" strike="noStrike">
                <a:solidFill>
                  <a:srgbClr val="d7f0ff"/>
                </a:solidFill>
                <a:latin typeface="Verdana"/>
              </a:rPr>
              <a:t>stroge indika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520" y="5261040"/>
            <a:ext cx="89647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d7f0ff"/>
                </a:solidFill>
                <a:latin typeface="Symbol"/>
                <a:ea typeface="Symbol"/>
              </a:rPr>
              <a:t></a:t>
            </a:r>
            <a:r>
              <a:rPr b="0" lang="hr-HR" sz="2000" spc="-1" strike="noStrike">
                <a:solidFill>
                  <a:srgbClr val="d7f0ff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d7f0ff"/>
                </a:solidFill>
                <a:latin typeface="Verdana"/>
              </a:rPr>
              <a:t>- hepatitis B, C, triholeukemija, Kaposi sarkoma, kron.mijel. leuk.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d7f0ff"/>
                </a:solidFill>
                <a:latin typeface="Verdana"/>
              </a:rPr>
              <a:t>     </a:t>
            </a:r>
            <a:r>
              <a:rPr b="0" lang="hr-HR" sz="2000" spc="-1" strike="noStrike">
                <a:solidFill>
                  <a:srgbClr val="d7f0ff"/>
                </a:solidFill>
                <a:latin typeface="Verdana"/>
              </a:rPr>
              <a:t>Ca bubrega, ne-Hodgkin limf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d7f0ff"/>
                </a:solidFill>
                <a:latin typeface="Symbol"/>
                <a:ea typeface="Symbol"/>
              </a:rPr>
              <a:t></a:t>
            </a:r>
            <a:r>
              <a:rPr b="0" lang="hr-HR" sz="2000" spc="-1" strike="noStrike">
                <a:solidFill>
                  <a:srgbClr val="d7f0ff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d7f0ff"/>
                </a:solidFill>
                <a:latin typeface="Verdana"/>
              </a:rPr>
              <a:t>- MS (azatiopr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4920" y="3636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M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Koštano-mišićni sust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360" y="1030320"/>
          <a:ext cx="9144000" cy="5783400"/>
        </p:xfrm>
        <a:graphic>
          <a:graphicData uri="http://schemas.openxmlformats.org/drawingml/2006/table">
            <a:tbl>
              <a:tblPr/>
              <a:tblGrid>
                <a:gridCol w="1332000"/>
                <a:gridCol w="781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 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protuupalni i antireumatski lijekov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 01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esteroidni priprav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 01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derivati octene kiseline (diklofenak, indometaci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 01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ksikami (meloksikam, piroksikam tenoksika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 01A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derivati propionske kiseline (ibuprofen, ketoprofen, naproksen, tiaprofenska kiselin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 01A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stali (nabumeto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elektivni inhibitori COX</a:t>
                      </a:r>
                      <a:r>
                        <a:rPr b="0" lang="hr-HR" sz="2000" spc="-1" strike="noStrike" baseline="-25000">
                          <a:solidFill>
                            <a:srgbClr val="d7f0ff"/>
                          </a:solidFill>
                          <a:latin typeface="Verdan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(celekoksib, rofekoksi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 01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pecifični – zl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 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okalni (učinak / nuspojave?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 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išićni relaksan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periferni: suksametonij, atrakurij, pankuronij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stali: bolutinum toks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entralni: klorzoksazon, ___+paracetam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stali: baklofen, tizanid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 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giht – alopurinol, urikozurika nema 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 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bolesti kostiju – bifosfonati (prim., sek. prevencij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1280" y="36360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N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Živčani sust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-34920" y="923760"/>
          <a:ext cx="9144000" cy="5942160"/>
        </p:xfrm>
        <a:graphic>
          <a:graphicData uri="http://schemas.openxmlformats.org/drawingml/2006/table">
            <a:tbl>
              <a:tblPr/>
              <a:tblGrid>
                <a:gridCol w="1077840"/>
                <a:gridCol w="8066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estetici opći, lokal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algeti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2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pijati (opioid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orfin, petidin, metadon, pentazocin, tramad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2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sta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SK, kombinac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pirazolon (metamizol 1:1700 agranulocitoza) 1995 odobren pa 1999 povučen – Šveds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ilidi: paracetamol, kombinac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2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timigrenici (dihidroergotamin, sumatripta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tiepileptici (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rbiturati: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fenob., primidon, metilfenobarb.;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ivati hidantoina: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fenitoin;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ivati sukcinimida: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etosuksimid;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ivati benzodiazepina: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 klonazepam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ivati karboksamida: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karbamazepin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ivati masnih kis.: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Na-valproat, valpromid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stali: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lamotrigin, topiramat, gabapentin), BDZ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karboksamid                 valpro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tiparkinsonici; antikolinergici, dopaminergici, der. adamantina, agonisti dopamina i inhibitori MAO tip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rot="5400000">
            <a:off x="2527560" y="5809320"/>
            <a:ext cx="303480" cy="327240"/>
          </a:xfrm>
          <a:custGeom>
            <a:avLst/>
            <a:gdLst>
              <a:gd name="textAreaLeft" fmla="*/ 101160 w 303480"/>
              <a:gd name="textAreaRight" fmla="*/ 259920 w 303480"/>
              <a:gd name="textAreaTop" fmla="*/ 200160 h 327240"/>
              <a:gd name="textAreaBottom" fmla="*/ 28044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6308"/>
                </a:moveTo>
                <a:lnTo>
                  <a:pt x="13208" y="16308"/>
                </a:lnTo>
                <a:lnTo>
                  <a:pt x="13208" y="7200"/>
                </a:lnTo>
                <a:lnTo>
                  <a:pt x="10108" y="7200"/>
                </a:lnTo>
                <a:lnTo>
                  <a:pt x="1585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d7f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920" y="3636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N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Živčani sustav    </a:t>
            </a: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nastav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6360" y="1100160"/>
          <a:ext cx="9144000" cy="5784840"/>
        </p:xfrm>
        <a:graphic>
          <a:graphicData uri="http://schemas.openxmlformats.org/drawingml/2006/table">
            <a:tbl>
              <a:tblPr/>
              <a:tblGrid>
                <a:gridCol w="1258920"/>
                <a:gridCol w="788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psiholeptici – psihijat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5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tipsihotici (neuroleptic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5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benzodiazepini (za opću medicinu, veoma slični, ne za tegobe “svakodnevnog života”. Lorazepam, alprazolam, ovisnos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5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ipnotici, sedativi, flurazepam, midazolam, nitrazepa, triazolam (paradoksne reakcij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psihoanalepti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6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tidepresivi triciklički amitriptilin puno jeftiniji od SSRI (fluvoksamin, fluoksetin, sertralin, parokseti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6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psihostimulansi piracetam – samo kortikalni mioklo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6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parasimpatomimetici – neostigminij, prostigminij, donepezil, rivastig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6D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ginkobiloba - ? djelotvnornost / n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7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redstva protiv pušenja – nikotin (Nicotinell TT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 07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redstva protiv vrtoglavice-betahistin, cinarizin (tinitus, vrtoglavic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1280" y="36360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R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Respiratorni sust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6360" y="1552680"/>
          <a:ext cx="9072720" cy="4900680"/>
        </p:xfrm>
        <a:graphic>
          <a:graphicData uri="http://schemas.openxmlformats.org/drawingml/2006/table">
            <a:tbl>
              <a:tblPr/>
              <a:tblGrid>
                <a:gridCol w="1422720"/>
                <a:gridCol w="765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 01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azalni dekongestivi, nafazolin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ksimetazolin – nuspojave “ovisnost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 01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evokabastin Livostin, azelastin Allergodil., mometazon Nason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 01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kortikosteroidi betametazon, flutikazon – 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deksa+klisometazolin – 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 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stma (reverzibilni bronhospazam!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glukokortikoidi (03 BA) prije započeti beklometazon, flutikazon, budesonid, flunisolid Bronilid, triamcinolon (Azmacor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 03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almeterol ne za akutni napad; fenoterol, salbutamol – da; teofilin (Aminophyllin; Teolin, Teotar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 03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kombinacije: salmeterol+flutikazon, salmeterol+ipratropi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 03B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ipratropi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1280" y="2205000"/>
          <a:ext cx="8964720" cy="3805200"/>
        </p:xfrm>
        <a:graphic>
          <a:graphicData uri="http://schemas.openxmlformats.org/drawingml/2006/table">
            <a:tbl>
              <a:tblPr/>
              <a:tblGrid>
                <a:gridCol w="1233720"/>
                <a:gridCol w="7731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 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iječenje kašlja i prehla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 05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ekspektoran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 05C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ukolitici (acetilcistein, ambroksol, bromheksin, eprazinon) = “čaši tople vode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 05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titusici, da (alkaloidi opija; slični lokalnim anesteticim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ko nema opasnosti zastoja sekreta – suhi kašal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 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tihistaminici (sustavno) – ne za astmu. Inhibiraju samo jedan autakoid – hista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edirajući nesedirajući (napušteni: astemizol, terfenadi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uspojave 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oratadin, feksofenad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1280" y="363600"/>
            <a:ext cx="81727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R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Respiratorni sust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nastav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1280" y="36360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S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Osjeti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573200"/>
          <a:ext cx="9144000" cy="5295960"/>
        </p:xfrm>
        <a:graphic>
          <a:graphicData uri="http://schemas.openxmlformats.org/drawingml/2006/table">
            <a:tbl>
              <a:tblPr/>
              <a:tblGrid>
                <a:gridCol w="1258920"/>
                <a:gridCol w="7885080"/>
              </a:tblGrid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 0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k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 01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tiinfektivi, AA antibiotici, AB sulfonamidi, AD antiviroti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 01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protuupalni pripravci, 01 BA kortikosteroidi,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01 C kombinacije protuupalnih i antiinfektivnih lijekov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 01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iječenje glaukoma (simpatomimetici, parasimpatomimetici, inhib. karboanhidraze, bb, levokabastin, lodoksamid)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 01E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atanopro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 01F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idrijatici i cikloplegici, 01 FA antikolinergi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 01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dekongestivi i antialergici – antazolin (Antistin-Privin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afazolin (Benil, tetrizolin, levokabastin (Livostin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či – antihist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os – alergijski riniti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 01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okalni anestetici – tetrakai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 01X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stali – hipromeloz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 0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uho – kloramfeniko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 0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uho + oko – hidrokortizon + oksitetraciklin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rot="5400000">
            <a:off x="5380560" y="4899600"/>
            <a:ext cx="374400" cy="360360"/>
          </a:xfrm>
          <a:custGeom>
            <a:avLst/>
            <a:gdLst>
              <a:gd name="textAreaLeft" fmla="*/ 124920 w 374400"/>
              <a:gd name="textAreaRight" fmla="*/ 320760 w 374400"/>
              <a:gd name="textAreaTop" fmla="*/ 2203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6308"/>
                </a:moveTo>
                <a:lnTo>
                  <a:pt x="13208" y="16308"/>
                </a:lnTo>
                <a:lnTo>
                  <a:pt x="13208" y="7200"/>
                </a:lnTo>
                <a:lnTo>
                  <a:pt x="10108" y="7200"/>
                </a:lnTo>
                <a:lnTo>
                  <a:pt x="1585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d7f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26028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d7f0ff"/>
                </a:solidFill>
                <a:latin typeface="Verdana"/>
              </a:rPr>
              <a:t>UV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162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7f0ff"/>
                </a:solidFill>
                <a:latin typeface="Verdana"/>
              </a:rPr>
              <a:t>Lijekovi su prikazani prema anatomsko-terapijsko kemijskoj podjeli (ATC) i prema njoj pogreške koje se najčešće čine u našoj farmakoterapiji. Shodno tome treba naglasak adaptirati običajima u propisivanju u pojedinoj zdravstvenoj ustanov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31752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V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Različ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7280" y="2022480"/>
          <a:ext cx="7956720" cy="974520"/>
        </p:xfrm>
        <a:graphic>
          <a:graphicData uri="http://schemas.openxmlformats.org/drawingml/2006/table">
            <a:tbl>
              <a:tblPr/>
              <a:tblGrid>
                <a:gridCol w="845280"/>
                <a:gridCol w="711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V 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lerge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V 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stali: disulfiram, flumazenil, Ca folinat mesna, polistiren sulfonat, nalok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90520"/>
            <a:ext cx="74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d7f0ff"/>
                </a:solidFill>
                <a:latin typeface="Verdana"/>
              </a:rPr>
              <a:t>Izbor optimalnog lijeka jedne farmakoterapijske skupine (podskup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287440"/>
            <a:ext cx="86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ccff"/>
                </a:solidFill>
                <a:latin typeface="Verdana"/>
              </a:rPr>
              <a:t>Definicija:</a:t>
            </a:r>
            <a:r>
              <a:rPr b="0" lang="hr-HR" sz="2800" spc="-1" strike="noStrike">
                <a:solidFill>
                  <a:srgbClr val="d7f0ff"/>
                </a:solidFill>
                <a:latin typeface="Verdana"/>
              </a:rPr>
              <a:t> optimalni lijek je onaj koji ima najpovoljniji odnos djelotvornosti, nuspojava, načina primjene (put primjene, čestoća, neugoda...) i cijene. U određenim situacijama važna je i stabilnost (potreba posebnih uvjeta skladištenja...) lijek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9528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A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Pripravci s učinkom na 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probavni sustav i mijenu tv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8000" y="1928880"/>
          <a:ext cx="8964720" cy="4595760"/>
        </p:xfrm>
        <a:graphic>
          <a:graphicData uri="http://schemas.openxmlformats.org/drawingml/2006/table">
            <a:tbl>
              <a:tblPr/>
              <a:tblGrid>
                <a:gridCol w="863640"/>
                <a:gridCol w="8101080"/>
              </a:tblGrid>
              <a:tr h="128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 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ijena, nuspojave, antiulkusni lijekovi, eradikacija H.pylori, inhibitori – H</a:t>
                      </a:r>
                      <a:r>
                        <a:rPr b="0" lang="hr-HR" sz="2000" spc="-1" strike="noStrike" baseline="-25000">
                          <a:solidFill>
                            <a:srgbClr val="d7f0ff"/>
                          </a:solidFill>
                          <a:latin typeface="Verdan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receptora (ranitidin, famotidin i dr.), - protonske pumpe (omeprazol, pantoprazol, lanzoprazol), antacidi, sukralf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 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pazmolitici – mebeverin (Rudakol), trospij (Spasmex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 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učinak, nuspojave (cisaprid), antiemetici (metoklopramid; antagonisti serotonina – setron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 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“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epatoprotektivi” ne postoje; silimarin (?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 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učinak, nuspojave, cijena laksativi; “antidijaroici” – SZO ih ne poznaje, antipropulziv – loperam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 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ulfasalazin, mesalazin (Crohn, nepodnošenje sulfasalazin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 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učinak digestivi, kombinacije enzima samo kod insuficijencije pankreasa, sa steatorej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33360"/>
            <a:ext cx="831708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A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Pripravci s učinkom na 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probavni sustav i mijenu tvar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nastav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4920" y="2197080"/>
          <a:ext cx="8964720" cy="3319560"/>
        </p:xfrm>
        <a:graphic>
          <a:graphicData uri="http://schemas.openxmlformats.org/drawingml/2006/table">
            <a:tbl>
              <a:tblPr/>
              <a:tblGrid>
                <a:gridCol w="863640"/>
                <a:gridCol w="8101080"/>
              </a:tblGrid>
              <a:tr h="18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ijekovi za liječenje dijabetesa. Dijeta je prva, o. antidijabetici isprika za nepridržavanje dijete? Kontrola bolesti (jedina?) važna za komplikacije: 1998+UKPDS Prospective Diabetes Study (tip II), 1993 DCCT Diabetes Control and Complication 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inhib. alfa glukozidaze (?), repaglinid (?), glitazo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 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vitamini, polipreparati = placebo, B</a:t>
                      </a:r>
                      <a:r>
                        <a:rPr b="0" lang="hr-HR" sz="2000" spc="-1" strike="noStrike" baseline="-25000">
                          <a:solidFill>
                            <a:srgbClr val="d7f0ff"/>
                          </a:solidFill>
                          <a:latin typeface="Verdana"/>
                        </a:rPr>
                        <a:t>12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(samo kod deficita), C vit.?, E vit.? “antioksidansi” ?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 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inerali, kalcij nije antialergik. Mg? (prati kalij), ravnoteža kalija važna (diuretici, steroidi, inhib. ang. 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1280" y="363600"/>
            <a:ext cx="817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B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Lijekovi s učinkom na krv i 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krvotvorne org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8000" y="1700280"/>
          <a:ext cx="8964720" cy="5027400"/>
        </p:xfrm>
        <a:graphic>
          <a:graphicData uri="http://schemas.openxmlformats.org/drawingml/2006/table">
            <a:tbl>
              <a:tblPr/>
              <a:tblGrid>
                <a:gridCol w="863640"/>
                <a:gridCol w="81010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B 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varfarin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SK puno dokazanih indikacija; dipiridamol – za dg; ASK+dipiridamol? streptokinaza + </a:t>
                      </a:r>
                      <a:r>
                        <a:rPr b="0" lang="hr-HR" sz="2000" spc="-1" strike="noStrike" u="sng">
                          <a:solidFill>
                            <a:srgbClr val="d7f0ff"/>
                          </a:solidFill>
                          <a:uFillTx/>
                          <a:latin typeface="Verdana"/>
                        </a:rPr>
                        <a:t>ASK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isko molekularni hepari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adroparin (Fraxiparine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dalteparin (Fragmi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eviparin (Clivarin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ertoparin (Frahepa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enoksaparin (Clexan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B 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vitamin K antagonist o. antikoagulansa; kod smetnje resorpcije iz crijeva; etamsilat? (Dicynone) “hemostatik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B 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iječenje slabokrvnosti preparati Fe (stalno uzimanje?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epoetin kriterij za primjenu hb 70 g/l, simptomatska anemija, komplikacije transfuz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B 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topine za parenteralnu prehranu – masti, UH, komb., elektroliti (Ringer? Ringer laktat?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1280" y="36360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C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Kardiovaskularni lijeko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560600"/>
          <a:ext cx="9144000" cy="4964040"/>
        </p:xfrm>
        <a:graphic>
          <a:graphicData uri="http://schemas.openxmlformats.org/drawingml/2006/table">
            <a:tbl>
              <a:tblPr/>
              <a:tblGrid>
                <a:gridCol w="1187280"/>
                <a:gridCol w="795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 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sr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 01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učinak: nuspojave: digoksin bez (tjedne) pauze, brza fibrilacija atrija+insuficijencija lijeve klijetke nakon što su iscrpljene sve druge th. mogućnosti (diuretici, ACE inhibitori, spironolakto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 01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(I, III skupina) svi i proaritmička djelovanja, najmanje amjodar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 01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miokardijalna terapija kor. vazodilatatori, tolerancija “razdoblje bez lijeka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 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tihipertenzivi (diuretici, centralni</a:t>
                      </a:r>
                      <a:r>
                        <a:rPr b="0" lang="hr-HR" sz="2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, alfa blokatori</a:t>
                      </a:r>
                      <a:r>
                        <a:rPr b="0" lang="hr-HR" sz="2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, komb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 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diuretici dilucijskog segmenta, Henleove petlje, kombinacije koje štede kalij. Titracij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 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perif. dilatatori pentoksifilin, dihidroergotoksin “umro prirodnom smrću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ijedan nema dokazano djelovan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6360" y="6492960"/>
            <a:ext cx="914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hr-HR" sz="1700" spc="-1" strike="noStrike">
                <a:solidFill>
                  <a:srgbClr val="d7f0ff"/>
                </a:solidFill>
                <a:latin typeface="Verdana"/>
              </a:rPr>
              <a:t>klonidin metildopa (nisu registrirani u Hrvatskoj; </a:t>
            </a:r>
            <a:r>
              <a:rPr b="1" lang="hr-HR" sz="17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hr-HR" sz="1700" spc="-1" strike="noStrike">
                <a:solidFill>
                  <a:srgbClr val="d7f0ff"/>
                </a:solidFill>
                <a:latin typeface="Verdana"/>
              </a:rPr>
              <a:t>doksazosin, prazosin, urapidi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1280" y="363600"/>
            <a:ext cx="817272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C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Kardiovaskularni lijeko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nastav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900080"/>
          <a:ext cx="9144000" cy="4994280"/>
        </p:xfrm>
        <a:graphic>
          <a:graphicData uri="http://schemas.openxmlformats.org/drawingml/2006/table">
            <a:tbl>
              <a:tblPr/>
              <a:tblGrid>
                <a:gridCol w="900000"/>
                <a:gridCol w="8244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 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vazoprotektivi i antivarikozna terapija – kombinacije lokalno (elast. zavoj, čarap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 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beta blokatori (selet., neselekt.) više indikacija, može i za hipertenziju u trudnoć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 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blokatori kalcijevih kanala (nifedipin kratkog trajanja ne!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nimodipin (subarahnoidalno krvarenj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verapamil (nije 1. lijek za konverziju fibrilacije atrija 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 sinus rita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 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renin-angiotenzin susta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inhib. konvertaze ang. I. nisu 1. lijek za hipertenziju !; antagonist A II receptora, kardijalna insuficijenc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ipolipemi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inhib. HMG CoA reduktaze, fibrati, kelati žučnih ki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kada početi; prim., sekundarna prevenc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važne nefarmakološke mjere (dijet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 rot="5400000">
            <a:off x="2019600" y="6141240"/>
            <a:ext cx="374760" cy="360360"/>
          </a:xfrm>
          <a:custGeom>
            <a:avLst/>
            <a:gdLst>
              <a:gd name="textAreaLeft" fmla="*/ 124920 w 374760"/>
              <a:gd name="textAreaRight" fmla="*/ 321120 w 374760"/>
              <a:gd name="textAreaTop" fmla="*/ 2203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6308"/>
                </a:moveTo>
                <a:lnTo>
                  <a:pt x="13208" y="16308"/>
                </a:lnTo>
                <a:lnTo>
                  <a:pt x="13208" y="7200"/>
                </a:lnTo>
                <a:lnTo>
                  <a:pt x="10108" y="7200"/>
                </a:lnTo>
                <a:lnTo>
                  <a:pt x="1585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d7f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71280" y="3636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7f0ff"/>
                </a:solidFill>
                <a:latin typeface="Verdana"/>
              </a:rPr>
              <a:t>G    Mokraćni sustav i spolni hormo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4920" y="1628640"/>
          <a:ext cx="8893080" cy="5087880"/>
        </p:xfrm>
        <a:graphic>
          <a:graphicData uri="http://schemas.openxmlformats.org/drawingml/2006/table">
            <a:tbl>
              <a:tblPr/>
              <a:tblGrid>
                <a:gridCol w="1365120"/>
                <a:gridCol w="7527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G 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antiinfektivi i antiseptici (nistatin, ekonazol..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(th sluznice vagine), povidon jodid, komb. antimikrobnih=(Geonisti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G 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ostali ginekološki: ražena glavnica, prostaglandini, intravaginalni kontraceptivi, ritodrin (+ beta blokatori ili verapamil+BDZ prečesto!!!), inhibitori prolaktina (bromokripti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G 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hormonski kontraceptivi, estrogeni, progestageni, supstitucijska terapija, progestageni+estrogeni, sekvencijski pripravci, Np, pušenje, gonadotropini, stimulator ovulacije (klomife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G 03 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ciproteron (antiandrogen) hiperseksualnost, akne, Ca pro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G 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ijekovi s učinkom na mokraćni sustav – spazmolitici, erektilna disfunkc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d7f0ff"/>
                          </a:solidFill>
                          <a:latin typeface="Verdana"/>
                        </a:rPr>
                        <a:t>liječenje bolesti prostate – finasterid (:doksazosin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4:15:17Z</dcterms:created>
  <dc:creator>Tamara</dc:creator>
  <dc:description/>
  <dc:language>en-US</dc:language>
  <cp:lastModifiedBy>Tamara</cp:lastModifiedBy>
  <dcterms:modified xsi:type="dcterms:W3CDTF">2004-01-02T09:17:35Z</dcterms:modified>
  <cp:revision>55</cp:revision>
  <dc:subject/>
  <dc:title>IZBOR OPTIMALNOG LIJEK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2705344</vt:r8>
  </property>
  <property fmtid="{D5CDD505-2E9C-101B-9397-08002B2CF9AE}" pid="3" name="_AuthorEmail">
    <vt:lpwstr>tamara@zkf.hr</vt:lpwstr>
  </property>
  <property fmtid="{D5CDD505-2E9C-101B-9397-08002B2CF9AE}" pid="4" name="_AuthorEmailDisplayName">
    <vt:lpwstr>Tamara Herceg Bojković</vt:lpwstr>
  </property>
  <property fmtid="{D5CDD505-2E9C-101B-9397-08002B2CF9AE}" pid="5" name="_EmailSubject">
    <vt:lpwstr>Studentski seminari</vt:lpwstr>
  </property>
</Properties>
</file>