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F58-FEA8-4F00-A43F-E4559B5D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8E4-8390-4CF4-BF2D-610EC916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83E-C7DF-471A-A501-8FC26621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9A3-FFA6-487C-BF35-1CDD02D5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61FD-EC4E-4F7B-AA89-DC201006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C40F-30AF-4B35-B4A3-BE6DBBDA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156B-F0A7-4D45-86A9-6AB5DE40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58EA-4FDB-445D-8268-A695B463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C8CE-CB99-4B2C-989A-32EB74B9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D364-A993-45C5-8A58-01BEA1A0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FA90-9C3F-4251-8549-85D1D60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636-18E2-4DB4-8729-736969A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57E5-C044-4076-B325-6C470C6D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9EA0-5E4A-4D4E-8385-725758C9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7459-9AA9-4996-9282-C62238C1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F6D8-87F6-498A-B4EF-B195BE84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2E46-8D76-4CBC-8A2C-7C0203B4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2C9-8E0F-4381-86E4-45637E0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6D6-35A4-48E6-971E-928D833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A3F-0761-49B5-A206-02606F98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F83-63FE-4E8B-B277-CA56E7CA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B73-0462-4589-9A10-C0BE74E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4CC-C097-45CD-A22B-E98A52F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23C-02B5-47AF-9440-9FC56EE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2A16-657B-4F1D-BFDB-5F0BAEADBF1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D5D4-3800-48BC-ACC3-5F4E4EC41D4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6666ff"/>
                </a:solidFill>
                <a:latin typeface="Bookman Old Style"/>
              </a:rPr>
              <a:t>V O Đ E N J E</a:t>
            </a:r>
            <a:br>
              <a:rPr sz="4800"/>
            </a:br>
            <a:r>
              <a:rPr b="1" lang="hr-HR" sz="4800" spc="-1" strike="noStrike">
                <a:solidFill>
                  <a:srgbClr val="6666ff"/>
                </a:solidFill>
                <a:latin typeface="Bookman Old Style"/>
              </a:rPr>
              <a:t>“Leadership”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a08366"/>
                </a:solidFill>
                <a:latin typeface="Times New Roman"/>
              </a:rPr>
              <a:t>Prim. mr. sc. Josip Čulig, dr. med.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0DD-B368-4338-800E-D7346CBA1670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76520" y="2133720"/>
            <a:ext cx="6324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Bookman Old Style"/>
              </a:rPr>
              <a:t>je stil vođenja kojim se ciljevi sljedbenika kontinuirano proširuju i povećavaju te putem kojeg se stječe veliko povjerenje svakog sljedbenika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9144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Bookman Old Style"/>
              </a:rPr>
              <a:t>Transformacijsko vođenje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16B-E37F-4DA1-92A9-91814BE6CC1D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Četiri dimenzije </a:t>
            </a:r>
            <a:br>
              <a:rPr sz="4000"/>
            </a:b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transakcijskog vođenj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828800"/>
            <a:ext cx="7696080" cy="914400"/>
          </a:xfrm>
          <a:prstGeom prst="roundRect">
            <a:avLst>
              <a:gd name="adj" fmla="val 16657"/>
            </a:avLst>
          </a:prstGeom>
          <a:solidFill>
            <a:srgbClr val="ffff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971800"/>
            <a:ext cx="7696080" cy="1157400"/>
          </a:xfrm>
          <a:prstGeom prst="roundRect">
            <a:avLst>
              <a:gd name="adj" fmla="val 16657"/>
            </a:avLst>
          </a:prstGeom>
          <a:solidFill>
            <a:srgbClr val="ffcc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486400"/>
            <a:ext cx="7696440" cy="838080"/>
          </a:xfrm>
          <a:prstGeom prst="roundRect">
            <a:avLst>
              <a:gd name="adj" fmla="val 16657"/>
            </a:avLst>
          </a:prstGeom>
          <a:solidFill>
            <a:srgbClr val="ff66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343400"/>
            <a:ext cx="7696080" cy="914400"/>
          </a:xfrm>
          <a:prstGeom prst="roundRect">
            <a:avLst>
              <a:gd name="adj" fmla="val 16657"/>
            </a:avLst>
          </a:prstGeom>
          <a:solidFill>
            <a:srgbClr val="ff99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828800"/>
            <a:ext cx="7467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Kontingentno nagrađivanje:</a:t>
            </a:r>
            <a:r>
              <a:rPr b="1" lang="en-US" sz="20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daje nagrade za ostvarivanje zajednički dogovorenog cilj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971800"/>
            <a:ext cx="7672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Aktivno upravljanje temeljem iznimaka:</a:t>
            </a:r>
            <a:r>
              <a:rPr b="1" i="1" lang="en-US" sz="20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odnosi se na kontinuirano praćenje odstupanja od definiranih standarda i provođenje korektivnih akcij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267080"/>
            <a:ext cx="770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Pasivno upravljanje temeljem iznimaka:</a:t>
            </a:r>
            <a:r>
              <a:rPr b="1" i="1" lang="en-US" sz="20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intervencije u suradnji s podređenima provode se samo ako standardi nisu zadovoljen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5562720"/>
            <a:ext cx="7620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Laissez Faire:</a:t>
            </a:r>
            <a:r>
              <a:rPr b="1" lang="en-US" sz="20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odnosi se na izbjegavanje odgovornosti i izbjegavanje donošenja odluk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A31-7599-48F0-BE53-D2BF7D8BF193}" type="slidenum">
              <a:t>11</a:t>
            </a:fld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Četiri dimenzije transformacijskog vođenj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828800"/>
            <a:ext cx="8001000" cy="914400"/>
          </a:xfrm>
          <a:prstGeom prst="roundRect">
            <a:avLst>
              <a:gd name="adj" fmla="val 16657"/>
            </a:avLst>
          </a:prstGeom>
          <a:solidFill>
            <a:srgbClr val="ffff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971800"/>
            <a:ext cx="8001000" cy="990720"/>
          </a:xfrm>
          <a:prstGeom prst="roundRect">
            <a:avLst>
              <a:gd name="adj" fmla="val 16657"/>
            </a:avLst>
          </a:prstGeom>
          <a:solidFill>
            <a:srgbClr val="ffcc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114800"/>
            <a:ext cx="8001000" cy="990720"/>
          </a:xfrm>
          <a:prstGeom prst="roundRect">
            <a:avLst>
              <a:gd name="adj" fmla="val 16657"/>
            </a:avLst>
          </a:prstGeom>
          <a:solidFill>
            <a:srgbClr val="ff99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5334120"/>
            <a:ext cx="8001000" cy="1143000"/>
          </a:xfrm>
          <a:prstGeom prst="roundRect">
            <a:avLst>
              <a:gd name="adj" fmla="val 16657"/>
            </a:avLst>
          </a:prstGeom>
          <a:solidFill>
            <a:srgbClr val="ff66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981080"/>
            <a:ext cx="7934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Karizma:</a:t>
            </a:r>
            <a:r>
              <a:rPr b="1" lang="en-US" sz="20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omogućuje viziju i osjećaj za svrhu, usađuje ponos u sljedbenike, omogućuje poštovanje i povjerenje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971800"/>
            <a:ext cx="7929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Inspiracija: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 prenosi visoka očekivanja, koristi rječnik simbola kako bi se usmjerili napori sljedbenika na postizanje ciljeva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267080"/>
            <a:ext cx="8001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Intelektualna stimulacija:</a:t>
            </a:r>
            <a:r>
              <a:rPr b="1" lang="en-US" sz="20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promovira inteligenciju, racionalnost i pažljivo rješavanje problem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410080"/>
            <a:ext cx="792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ff"/>
                </a:solidFill>
                <a:latin typeface="Bookman Old Style"/>
              </a:rPr>
              <a:t>Individualno uvažavanje:</a:t>
            </a:r>
            <a:r>
              <a:rPr b="1" lang="en-US" sz="20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svakom se zaposleniku daje individualna pažnja, svaka se osoba tretira pojedinačno i</a:t>
            </a:r>
            <a:r>
              <a:rPr b="1" lang="en-US" sz="20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Bookman Old Style"/>
              </a:rPr>
              <a:t>tutorsk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C88-6FA7-4119-966D-99F58899926F}" type="slidenum">
              <a:t>12</a:t>
            </a:fld>
          </a:p>
        </p:txBody>
      </p:sp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457200"/>
            <a:ext cx="810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Vođenje - nova paradigm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2680" y="2090880"/>
            <a:ext cx="262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Bookman Old Style"/>
              </a:rPr>
              <a:t>Stara paradigm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Bookman Old Style"/>
              </a:rPr>
              <a:t>vođenj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2057400"/>
            <a:ext cx="295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ff"/>
                </a:solidFill>
                <a:latin typeface="Bookman Old Style"/>
              </a:rPr>
              <a:t>Nova paradigm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ff"/>
                </a:solidFill>
                <a:latin typeface="Bookman Old Style"/>
              </a:rPr>
              <a:t>vođenj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55320" y="3130560"/>
            <a:ext cx="277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Industrijsko društv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0440" y="3130560"/>
            <a:ext cx="30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Bookman Old Style"/>
              </a:rPr>
              <a:t>Informacijsko društv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03480" y="3505320"/>
            <a:ext cx="199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Stabilnos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350532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Bookman Old Style"/>
              </a:rPr>
              <a:t>Promje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388620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Kontrol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886200"/>
            <a:ext cx="259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Bookman Old Style"/>
              </a:rPr>
              <a:t>Empowerm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427356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Natjecanj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36120" y="4267080"/>
            <a:ext cx="279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Bookman Old Style"/>
              </a:rPr>
              <a:t>Natjecanje/suradnj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654440"/>
            <a:ext cx="109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Stvar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4648320"/>
            <a:ext cx="236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Bookman Old Style"/>
              </a:rPr>
              <a:t>Ljudi i odnos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5029200"/>
            <a:ext cx="198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Ujednačenos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502920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Bookman Old Style"/>
              </a:rPr>
              <a:t>Raznolikos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E22-8279-4974-A072-2935FC8FB783}" type="slidenum">
              <a:t>13</a:t>
            </a:fld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9807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NAJVEĆE OTKRIĆE MOJE GENERACIJE JEST DA LJUDSKO BIĆE MOŽE PROMIJENITI SVOJ ŽIVOT PROMJENOM PONAŠANJA!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334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Bookman Old Style"/>
              </a:rPr>
              <a:t>William J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054-375A-40C7-AD96-2B564C5B9D19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ff"/>
                </a:solidFill>
                <a:latin typeface="Bookman Old Style"/>
              </a:rPr>
              <a:t>Osobine vođ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52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- 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dominantno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- inteligencij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- samopouzdanj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- visoki radni kapacit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- stručno znanj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Ali najvažnija pojedinačna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sposobnost j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hr-HR" sz="3200" spc="-1" strike="noStrike">
                <a:solidFill>
                  <a:srgbClr val="6666ff"/>
                </a:solidFill>
                <a:latin typeface="Bookman Old Style"/>
              </a:rPr>
              <a:t>OPHOĐENJE S LJUDIMA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A10-AFB2-4C69-A503-A89E408B3B2B}" type="slidenum">
              <a:t>15</a:t>
            </a:fld>
          </a:p>
        </p:txBody>
      </p:sp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3880" y="3808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Bookman Old Style"/>
              </a:rPr>
              <a:t>7 najvažnijih razloga zašto vođe ne uspijevaju kao “kreativni vođ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1981080"/>
            <a:ext cx="7238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1. Neosjetljivost, zastrašivanje, nasilnost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2. Hladnoća, distanca, arogancija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3. Izdaja osobnog povjerenja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4. Pretjerana ambicioznost, egocentričnost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    “</a:t>
            </a: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politikanstvo”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5. Jasni problemi vezani za poslovnu učinkovitost 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6. Pretjerano “manageriranje”, nesposobnost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    </a:t>
            </a: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izgradnje timova 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7. Nesposobnost izbora “timskih igrača”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Usporedite navedene razloge s novom i sa starom paradigmom vođenja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A92-76B7-4B72-9553-CAB6520FAE8A}" type="slidenum">
              <a:t>16</a:t>
            </a:fld>
          </a:p>
        </p:txBody>
      </p:sp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Zdravstveni management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Bookman Old Style"/>
              </a:rPr>
              <a:t>Proces kojim se planiraju, organiziraju, usmjeravaju, kontroliraju i koordiniraju resursi i procedure pomoću kojih se udovoljavaju potrebe i potražnja za zdravstvenim i medicinskim uslugama pružanjem specifičnih i standardiziranih usluga pojedinicima, organizacijama i zajednici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A20-47B1-4367-AB76-F986FB663390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Cilj je zdravstvenog management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proces pružanja zdravstvenih usluga kao jedne cjeline, kako bi se zadovoljile potrebe korisnika-kupaca usluga zdravstvenog sustava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4DE-E4BA-4695-AE08-E90D623C05E2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66ff"/>
                </a:solidFill>
                <a:latin typeface="Bookman Old Style"/>
              </a:rPr>
              <a:t>Vođenje zdravstvenih ustanova </a:t>
            </a:r>
            <a:br>
              <a:rPr sz="3600"/>
            </a:br>
            <a:r>
              <a:rPr b="1" lang="hr-HR" sz="3600" spc="-1" strike="noStrike">
                <a:solidFill>
                  <a:srgbClr val="6666ff"/>
                </a:solidFill>
                <a:latin typeface="Bookman Old Style"/>
              </a:rPr>
              <a:t>- specifičnosti -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1905120"/>
          <a:ext cx="6630840" cy="44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66308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A3E-E979-4105-8613-7823A72E5C1A}" type="slidenum">
              <a:t>19</a:t>
            </a:fld>
          </a:p>
        </p:txBody>
      </p:sp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53352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6666ff"/>
                </a:solidFill>
                <a:latin typeface="Bookman Old Style"/>
              </a:rPr>
              <a:t>Vođenje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- motiviranje i poticanje zaposlenika kako bi učinkovitim aktivnostima ostvarili ciljeve organizacij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A1C-CABC-4A48-85D1-60AB0B1E89E5}" type="slidenum">
              <a:t>2</a:t>
            </a:fld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Uloga zdravstvenih managera</a:t>
            </a:r>
            <a:br>
              <a:rPr sz="3200"/>
            </a:b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- medicinske sestre -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primarni alokatori resurs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koordiniraju medicinski i nemedicinski dio zdravstvene skrb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manageri “pacijenata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585-B1A0-4BA0-9D8D-A83349737370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Uloga zdravstvenih managera</a:t>
            </a:r>
            <a:br>
              <a:rPr sz="3200"/>
            </a:b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- medicinske sestre (2) -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28440" y="22856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srednje medicinske sestr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više medicinske sestr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medicinska sestra VS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AF6-AFF3-4F6F-B07D-5CE197E9CD8A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Sestra manag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* ključ kontrole troškova u zdravstv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* preduvjet za kontinuiranu i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ujednačenu kvalitetu zdravstvenih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uslug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* naglasak na suradnji i bliskosti s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klijentim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305-16CA-4798-90A8-20ECB73E963A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Management u tri minut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259056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Postavljanje ciljev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Pohval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Bookman Old Style"/>
              </a:rPr>
              <a:t>Kritik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0A9-1D37-4587-813D-85636C58D0DB}" type="slidenum">
              <a:t>23</a:t>
            </a:fld>
          </a:p>
        </p:txBody>
      </p:sp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NE MARI ZA </a:t>
            </a:r>
            <a:br>
              <a:rPr sz="4000"/>
            </a:b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99ccff"/>
                </a:solidFill>
                <a:latin typeface="Bookman Old Style"/>
              </a:rPr>
              <a:t>MALE STVARI</a:t>
            </a: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I OSTAT ĆE </a:t>
            </a:r>
            <a:br>
              <a:rPr sz="4000"/>
            </a:b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99ccff"/>
                </a:solidFill>
                <a:latin typeface="Bookman Old Style"/>
              </a:rPr>
              <a:t>MALE STVARI</a:t>
            </a: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5334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Bookman Old Style"/>
              </a:rPr>
              <a:t>Wayne Dy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6FA-3345-4707-8E89-9457E6F6FAEC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95280" y="45720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T &amp; T upitnik za vođenj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Za sve navedene izjave, podijelite pet bodova u skladu s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Vašim uvjerenjima, osobnim percepcijama ili prema tome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koja vas izjava najbolje opisuje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1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Moja primarna misija kao vođe je održavanje stabilnosti.                                             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Moja primarna misija kao vođe su promjen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2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ao vođa moram biti uzrok događajima.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ao vođa moram provoditi događaj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3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Od primarnog mi je interesa nagrađivanje sljedbenika 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skladu s obavljenim poslom.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Od primarnog su mi interesa životne orjentacije mojih sljedbenik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4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ratkoročno razmišljanje - Što bi moglo biti.                 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ratkoročno razmišljanje - Što je realno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2F3-662E-4A82-B911-6D5023DA862D}" type="slidenum">
              <a:t>25</a:t>
            </a:fld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22096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5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ao vođa velik dio energije trošim na upravljanje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različitim, ali povezanim ciljevima.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ao vođa velik dio energije trošim na poticanje,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privlačenje sljedbenika i razvoj njihovih ambicij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6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Vjerujem da se velik dio moje uloge kao vođe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odnosi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na ulogu učitelja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Vjerujem da se velik dio moje uloge kao vođe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odnosi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na ulogu pomagača mojim djelatnicim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7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ao vođa, moram raditi na razini moralnog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standarda svojih sljedbenika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    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Kao vođa moram postavljati više moralne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standard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7621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T &amp; T upitnik za vođenj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040-61F8-483D-BB69-BAAF2A8F1E85}" type="slidenum">
              <a:t>26</a:t>
            </a:fld>
          </a:p>
        </p:txBody>
      </p:sp>
    </p:spTree>
  </p:cSld>
  <p:transition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838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Bookman Old Style"/>
              </a:rPr>
              <a:t>T &amp; T upitnik za vođenj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438280"/>
            <a:ext cx="7013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8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Volim stimulirati sljedbenike da žele još više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zadatak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Volim nagrađivati sljedbenike za dobro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obavljen posao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9. 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Vođenje treba biti praktično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  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Vođenje treba biti inspirativno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10.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A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Moja moć utjecaja na druge proizlazi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prvenstveno iz prepoznavanja mene i mojih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idej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Bookman Old Style"/>
              </a:rPr>
              <a:t>B.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 Moja moć utjecaja na druge proizlazi 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Bookman Old Style"/>
              </a:rPr>
              <a:t>prvenstveno iz mog položaja u hijerarhiji.</a:t>
            </a: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6D6-FB0B-47B0-8783-A2FE1C8772E1}" type="slidenum">
              <a:t>27</a:t>
            </a:fld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2133720"/>
            <a:ext cx="66294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Bookman Old Style"/>
              </a:rPr>
              <a:t>Transformacijski stil vođenja</a:t>
            </a:r>
            <a:r>
              <a:rPr b="1" lang="en-US" sz="2000" spc="-1" strike="noStrike">
                <a:solidFill>
                  <a:srgbClr val="99cc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Bookman Old Style"/>
              </a:rPr>
              <a:t>Zbrojite bodove sljedećih tvrdnji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Bookman Old Style"/>
              </a:rPr>
              <a:t>1B, 2A, 3B, 4A, 5B, 6A, 7B, 8A, 9B, 10A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Bookman Old Style"/>
              </a:rPr>
              <a:t>Transakcijski stil vođenj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Bookman Old Style"/>
              </a:rPr>
              <a:t>Zbrojite bodove sljedećih tvrdnji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Bookman Old Style"/>
              </a:rPr>
              <a:t>1A, 2B, 3A, 4B, 5A, 6B, 7A, 8B, 9A, 10B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838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Bookman Old Style"/>
              </a:rPr>
              <a:t>Način bodovanja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2AF-F42E-4C87-B683-5F491F49F131}" type="slidenum">
              <a:t>28</a:t>
            </a:fld>
          </a:p>
        </p:txBody>
      </p: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66ff"/>
                </a:solidFill>
                <a:uFillTx/>
                <a:latin typeface="Bookman Old Style"/>
              </a:rPr>
              <a:t>Vođ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hr-HR" sz="3000" spc="-1" strike="noStrike">
                <a:solidFill>
                  <a:srgbClr val="402000"/>
                </a:solidFill>
                <a:latin typeface="Bookman Old Style"/>
              </a:rPr>
              <a:t>mora vladati konceptualnim vještinama -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02000"/>
                </a:solidFill>
                <a:latin typeface="Bookman Old Style"/>
              </a:rPr>
              <a:t>        </a:t>
            </a:r>
            <a:r>
              <a:rPr b="0" lang="hr-HR" sz="3000" spc="-1" strike="noStrike">
                <a:solidFill>
                  <a:srgbClr val="402000"/>
                </a:solidFill>
                <a:latin typeface="Bookman Old Style"/>
              </a:rPr>
              <a:t>sposobnost analize i dijagnoze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02000"/>
                </a:solidFill>
                <a:latin typeface="Bookman Old Style"/>
              </a:rPr>
              <a:t>složenih stanja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66ff"/>
                </a:solidFill>
                <a:uFillTx/>
                <a:latin typeface="Bookman Old Style"/>
              </a:rPr>
              <a:t>Manag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mora vladati tehničkim vještinama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    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- specifična stručna znanj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5DA-8E52-45BD-868D-C2D293CC6589}" type="slidenum">
              <a:t>3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66ff"/>
                </a:solidFill>
                <a:latin typeface="Bookman Old Style"/>
              </a:rPr>
              <a:t>Vođenje u 21. stoljeću</a:t>
            </a:r>
            <a:br>
              <a:rPr sz="4000"/>
            </a:br>
            <a:r>
              <a:rPr b="1" lang="hr-HR" sz="4000" spc="-1" strike="noStrike">
                <a:solidFill>
                  <a:srgbClr val="6666ff"/>
                </a:solidFill>
                <a:latin typeface="Bookman Old Style"/>
              </a:rPr>
              <a:t>Warren Bennis</a:t>
            </a:r>
            <a:r>
              <a:rPr b="1" lang="hr-HR" sz="4400" spc="-1" strike="noStrike">
                <a:solidFill>
                  <a:srgbClr val="996633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Manager  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    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administrir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                          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kopira      održav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                          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usredotočen na susta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  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Vođa          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inovira      kreir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402000"/>
                </a:solidFill>
                <a:latin typeface="Bookman Old Style"/>
              </a:rPr>
              <a:t>                    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razvija       usredotočen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            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na lju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514600"/>
            <a:ext cx="533160" cy="15228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971800"/>
            <a:ext cx="533520" cy="152280"/>
          </a:xfrm>
          <a:custGeom>
            <a:avLst/>
            <a:gdLst>
              <a:gd name="textAreaLeft" fmla="*/ 8316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971800"/>
            <a:ext cx="533160" cy="15228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2514600"/>
            <a:ext cx="533160" cy="15228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2971800"/>
            <a:ext cx="533520" cy="152280"/>
          </a:xfrm>
          <a:custGeom>
            <a:avLst/>
            <a:gdLst>
              <a:gd name="textAreaLeft" fmla="*/ 8316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3505320"/>
            <a:ext cx="533160" cy="15228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5181480"/>
            <a:ext cx="533160" cy="15264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181480"/>
            <a:ext cx="533160" cy="15264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572000"/>
            <a:ext cx="533520" cy="152280"/>
          </a:xfrm>
          <a:custGeom>
            <a:avLst/>
            <a:gdLst>
              <a:gd name="textAreaLeft" fmla="*/ 83160 w 533520"/>
              <a:gd name="textAreaRight" fmla="*/ 466920 w 533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572000"/>
            <a:ext cx="533160" cy="15228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572000"/>
            <a:ext cx="533160" cy="152280"/>
          </a:xfrm>
          <a:custGeom>
            <a:avLst/>
            <a:gdLst>
              <a:gd name="textAreaLeft" fmla="*/ 83160 w 533160"/>
              <a:gd name="textAreaRight" fmla="*/ 466560 w 5331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E30-370F-47C7-BB8F-FF42A589B112}" type="slidenum">
              <a:t>4</a:t>
            </a:fld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66ff"/>
                </a:solidFill>
                <a:latin typeface="Bookman Old Style"/>
              </a:rPr>
              <a:t>Vođenje u 21. stoljeću</a:t>
            </a:r>
            <a:br>
              <a:rPr sz="4000"/>
            </a:br>
            <a:r>
              <a:rPr b="1" lang="hr-HR" sz="4000" spc="-1" strike="noStrike">
                <a:solidFill>
                  <a:srgbClr val="6666ff"/>
                </a:solidFill>
                <a:latin typeface="Bookman Old Style"/>
              </a:rPr>
              <a:t>Warren Benni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Manager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kontrolira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ima kratkoročne ciljeve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planira </a:t>
            </a:r>
            <a:r>
              <a:rPr b="1" lang="hr-HR" sz="2800" spc="-1" strike="noStrike">
                <a:solidFill>
                  <a:srgbClr val="99ccff"/>
                </a:solidFill>
                <a:latin typeface="Bookman Old Style"/>
              </a:rPr>
              <a:t>kako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 i </a:t>
            </a:r>
            <a:r>
              <a:rPr b="1" lang="hr-HR" sz="2800" spc="-1" strike="noStrike">
                <a:solidFill>
                  <a:srgbClr val="99ccff"/>
                </a:solidFill>
                <a:latin typeface="Bookman Old Style"/>
              </a:rPr>
              <a:t>ka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02000"/>
                </a:solidFill>
                <a:latin typeface="Bookman Old Style"/>
              </a:rPr>
              <a:t>  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Vođa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stvara vjer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ima dugoročne cilje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planira </a:t>
            </a:r>
            <a:r>
              <a:rPr b="1" lang="hr-HR" sz="2800" spc="-1" strike="noStrike">
                <a:solidFill>
                  <a:srgbClr val="99ccff"/>
                </a:solidFill>
                <a:latin typeface="Bookman Old Style"/>
              </a:rPr>
              <a:t>što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 i </a:t>
            </a:r>
            <a:r>
              <a:rPr b="1" lang="hr-HR" sz="2800" spc="-1" strike="noStrike">
                <a:solidFill>
                  <a:srgbClr val="99ccff"/>
                </a:solidFill>
                <a:latin typeface="Bookman Old Style"/>
              </a:rPr>
              <a:t>zašt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1337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1337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25909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980480" y="6399360"/>
          <a:ext cx="12189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0480" y="6399360"/>
                    <a:ext cx="12189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00400" y="25909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200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343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343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9528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9528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54864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546-342D-4471-8BC9-6EF13F16BF6E}" type="slidenum">
              <a:t>5</a:t>
            </a:fld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66ff"/>
                </a:solidFill>
                <a:latin typeface="Bookman Old Style"/>
              </a:rPr>
              <a:t>Vođenje u 21. stoljeću</a:t>
            </a:r>
            <a:br>
              <a:rPr sz="4000"/>
            </a:br>
            <a:r>
              <a:rPr b="1" lang="hr-HR" sz="4000" spc="-1" strike="noStrike">
                <a:solidFill>
                  <a:srgbClr val="6666ff"/>
                </a:solidFill>
                <a:latin typeface="Bookman Old Style"/>
              </a:rPr>
              <a:t>Warren Benni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Manager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rješava zadani probl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čini stvari na pravi nači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  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Vođa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1" lang="hr-HR" sz="3200" spc="-1" strike="noStrike">
                <a:solidFill>
                  <a:srgbClr val="99ccff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preispituj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čini prave stvari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718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297180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053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6483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6483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5105520"/>
            <a:ext cx="457200" cy="15228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32A-2554-49AA-82EE-7C2AF1C1C5F9}" type="slidenum">
              <a:t>6</a:t>
            </a:fld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ff"/>
                </a:solidFill>
                <a:latin typeface="Bookman Old Style"/>
              </a:rPr>
              <a:t>Stilovi vođenj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0" y="2057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ff"/>
                </a:solidFill>
                <a:latin typeface="Bookman Old Style"/>
              </a:rPr>
              <a:t> </a:t>
            </a:r>
            <a:r>
              <a:rPr b="1" lang="hr-HR" sz="3200" spc="-1" strike="noStrike">
                <a:solidFill>
                  <a:srgbClr val="6666ff"/>
                </a:solidFill>
                <a:latin typeface="Bookman Old Style"/>
              </a:rPr>
              <a:t>AUTOKRATSKI STI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ff"/>
                </a:solidFill>
                <a:latin typeface="Bookman Old Style"/>
              </a:rPr>
              <a:t>direktivno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, usmjereno na zadata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ff"/>
                </a:solidFill>
                <a:latin typeface="Bookman Old Style"/>
              </a:rPr>
              <a:t>vođenje</a:t>
            </a:r>
            <a:r>
              <a:rPr b="0" lang="hr-HR" sz="2800" spc="-1" strike="noStrike">
                <a:solidFill>
                  <a:srgbClr val="402000"/>
                </a:solidFill>
                <a:latin typeface="Bookman Old Style"/>
              </a:rPr>
              <a:t>, usmjeravanj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ff"/>
                </a:solidFill>
                <a:latin typeface="Bookman Old Style"/>
              </a:rPr>
              <a:t>sudjelovanj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ccff"/>
                </a:solidFill>
                <a:latin typeface="Bookman Old Style"/>
              </a:rPr>
              <a:t>prepuštanj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ff"/>
                </a:solidFill>
                <a:latin typeface="Bookman Old Style"/>
              </a:rPr>
              <a:t> </a:t>
            </a:r>
            <a:r>
              <a:rPr b="1" lang="hr-HR" sz="3200" spc="-1" strike="noStrike">
                <a:solidFill>
                  <a:srgbClr val="6666ff"/>
                </a:solidFill>
                <a:latin typeface="Bookman Old Style"/>
              </a:rPr>
              <a:t>DEMOKRATSKI STI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015-0DB5-47B5-A975-EE99D971BBB8}" type="slidenum">
              <a:t>7</a:t>
            </a:fld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38280" y="1600200"/>
            <a:ext cx="5943600" cy="4114800"/>
          </a:xfrm>
          <a:prstGeom prst="rect">
            <a:avLst/>
          </a:prstGeom>
          <a:solidFill>
            <a:srgbClr val="ffff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0280" y="380880"/>
            <a:ext cx="888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Managerska mreža (mangerial grid) </a:t>
            </a:r>
            <a:br>
              <a:rPr sz="3200"/>
            </a:br>
            <a:r>
              <a:rPr b="1" lang="en-US" sz="3200" spc="-1" strike="noStrike">
                <a:solidFill>
                  <a:srgbClr val="6666ff"/>
                </a:solidFill>
                <a:latin typeface="Bookman Old Style"/>
              </a:rPr>
              <a:t> Blake i Mout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0720" y="1779480"/>
            <a:ext cx="185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200400"/>
            <a:ext cx="136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Bookman Old Style"/>
              </a:rPr>
              <a:t>Briga</a:t>
            </a:r>
            <a:r>
              <a:rPr b="1" i="1" lang="en-US" sz="18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1" i="1" lang="en-US" sz="1800" spc="-1" strike="noStrike">
                <a:solidFill>
                  <a:srgbClr val="99ccff"/>
                </a:solidFill>
                <a:latin typeface="Bookman Old Style"/>
              </a:rPr>
              <a:t>za ljud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3320" y="6095880"/>
            <a:ext cx="245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Bookman Old Style"/>
              </a:rPr>
              <a:t>Briga za proizvodnju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8000" y="5791320"/>
            <a:ext cx="570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1           2           3          4           5            6             7           8             9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8160" y="1752480"/>
            <a:ext cx="180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Country Club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Management - 1/9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63200" y="4648320"/>
            <a:ext cx="21967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Minimalno ulaganje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rada da bi se obavio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posao i održao položaj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u organizaciji - 1/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37560" y="3200400"/>
            <a:ext cx="2902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Ravnoteža između zadataka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i održavanje zadovoljavajućeg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morala ljudi - 5/5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21040" y="5105520"/>
            <a:ext cx="1788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Ljudi malo dolaze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do izražaja - 9/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0360" y="1752480"/>
            <a:ext cx="1722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Timski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Bookman Old Style"/>
              </a:rPr>
              <a:t>management-9/9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3505320"/>
            <a:ext cx="5927760" cy="11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048120"/>
            <a:ext cx="5927760" cy="11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590920"/>
            <a:ext cx="5927760" cy="11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419720"/>
            <a:ext cx="5927760" cy="11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876920"/>
            <a:ext cx="5927760" cy="11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334120"/>
            <a:ext cx="5927760" cy="11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962520"/>
            <a:ext cx="5927760" cy="11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00200"/>
            <a:ext cx="0" cy="41148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8920" y="525780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nisk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3680" y="1752480"/>
            <a:ext cx="9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visok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6840" y="609588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nisk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04480" y="6095880"/>
            <a:ext cx="9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Bookman Old Style"/>
              </a:rPr>
              <a:t>visok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2057400"/>
            <a:ext cx="5943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8840" y="1676520"/>
            <a:ext cx="27972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BA0-D55A-4A45-8C73-D6E71554161C}" type="slidenum">
              <a:t>8</a:t>
            </a:fld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6520" y="1828800"/>
            <a:ext cx="6781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Bookman Old Style"/>
              </a:rPr>
              <a:t>je</a:t>
            </a:r>
            <a:r>
              <a:rPr b="1" lang="en-US" sz="2800" spc="-1" strike="noStrike">
                <a:solidFill>
                  <a:srgbClr val="402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Bookman Old Style"/>
              </a:rPr>
              <a:t>stil vođenja tijekom kojeg vođa svakodnevno intervenira unutar odnosa vođa-podređeni. Temelji se na sustavu nagrada i kazni.</a:t>
            </a: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914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Bookman Old Style"/>
              </a:rPr>
              <a:t>Transakcijsko vođenje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CE2-32CE-446B-9627-923D9E4193C5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23:32:55Z</dcterms:created>
  <dc:creator>Spiro</dc:creator>
  <dc:description/>
  <dc:language>en-US</dc:language>
  <cp:lastModifiedBy>dr. Josip Čulig</cp:lastModifiedBy>
  <dcterms:modified xsi:type="dcterms:W3CDTF">2002-12-09T11:13:19Z</dcterms:modified>
  <cp:revision>85</cp:revision>
  <dc:subject/>
  <dc:title>PowerPoint Presentation</dc:title>
</cp:coreProperties>
</file>