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88D7-F472-4315-BB1F-F900FC92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1E4-FCCE-48BB-8D8C-A2C6549A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B6B3-4818-4589-AC6D-B6C2F29E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5A0-B344-4E55-A971-458F6866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1C4-04EB-4D8C-9AD6-64D97832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A533-7BF6-41A8-B0D1-6734D032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D1A3-6AE4-4147-8D55-573FB28E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5729-3731-46EC-B6AD-7D31517A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3F7B-282F-41E2-A220-FFE5608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6C3A-2921-44C2-A7F0-6065495D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BC73-156C-4C2E-9C48-59AE02D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96D-3E55-486D-BA44-6423C9B5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2AA9-B5E4-4E39-8455-FAF5DB6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5EA9-3C04-4847-9F49-B99009B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2241-2012-4E77-BC2F-9551DBC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D8C7-21EB-41A7-B291-98B8E34C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C3FA-1243-49D7-BF34-C946F308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A6E-C53E-4C96-A9F0-E55FD2E1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9197-EEA5-407A-B8CB-8CB3BAB5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306-187A-4356-A176-E420C79A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D7C-2172-4497-B1EE-FF12268A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12F-5A44-495A-BFDC-8377326C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F5A-1E80-416E-8848-97806106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276D-D579-49A9-9962-79966E7E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D103-16CD-4C0F-8DBD-401E324F9D68}" type="slidenum">
              <a:rPr b="0" lang="da-D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9B1D-D0CA-4336-BF54-2D88AC0301BC}" type="slidenum">
              <a:rPr b="0" lang="da-DK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dbbd71"/>
                </a:solidFill>
                <a:latin typeface="Arial"/>
              </a:rPr>
              <a:t>BANKARSTVO</a:t>
            </a:r>
            <a:br>
              <a:rPr sz="5400"/>
            </a:br>
            <a:r>
              <a:rPr b="0" lang="hr-HR" sz="5400" spc="-1" strike="noStrike">
                <a:solidFill>
                  <a:srgbClr val="dbbd71"/>
                </a:solidFill>
                <a:latin typeface="Arial"/>
              </a:rPr>
              <a:t>SKRIPT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pl.oec.dr.mr.sc.prof.Mar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sistent mi nije potreban </a:t>
            </a:r>
            <a:r>
              <a:rPr b="0" lang="hr-H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ŠTEDION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 specifične specijalizirane financijske (bankarske) institucije. Osnovna djelatnost je prikupljanje i plasman štednje najširih slojeva stanovništv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RINCIPI BANKARSKOG POSLOVANJ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1. Princip poslovnosti i urednog poslov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(stručnost, poslovnost, profesionalnost, dobri poslovni običaj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2. Princip rentabilnosti</a:t>
            </a:r>
            <a:r>
              <a:rPr b="1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(ostvarenje profita je osnovni cilj osnivanje svake banke, postizanje profita koji  će osigurati i kratkoročnu i dugoročnu stabilnos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3. Princip likvid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Pod likvidnom bankom podrazumijevamo banku koja može podmiriti sve svoje dospjele novčane obveze u cijelosti, ali i staviti u tečaj odobrene kredite</a:t>
            </a:r>
            <a:r>
              <a:rPr b="1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4. Princip sigurnosti i efikasnosti ulaganj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i="1" lang="hr-HR" sz="2400" spc="-1" strike="noStrike">
                <a:solidFill>
                  <a:srgbClr val="ffffff"/>
                </a:solidFill>
                <a:latin typeface="Tahoma"/>
              </a:rPr>
              <a:t>bankovni posao mora garantirati POVRAT polaniranih sredstava uz PRIHVATLJIV RIZIK</a:t>
            </a:r>
            <a:r>
              <a:rPr b="1" i="1" lang="da-DK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I SU KRITERIJI (okviri) POSLOVANJA BANAKA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ržiš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netarna polit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Što je to “likvidna banka”?!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koja ima mogućnost da sve svoje novčane obveze podmiri u cijelosti i stavi u tečaj odobrene kredite, te da po dospjeću izvrši sve svoje ugovorene obveze po izdanim garancijama, akreditivima i drugim instrumentima plaćan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AKO SE OSIGURAVA LIKVIDNOST BANKE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oz usklađivanje opsega angažiranja sredstava (plasmana) s izvorima sred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IGURNOST ZA BANKU IMA NAJMANJE 2 DIMENZI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1. BONITET KOMITEN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kreditna sposobnost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likvidnost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rentabilnost poslovanja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tržišna prihvaćenost proizvo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good will klijent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očekivanje i d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2. OSIGURANJE POKRIĆA (kolateral) i NJEGOVA ADEKVAT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realno pokrić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pravna i ekonomska dimenzija realnog pokrić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-partnerski od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4 KRITERIJA (načela) BANKOVNIH POSLOV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NAČELO ROČNOST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dugoročni i kratkoročni poslovi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ma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VALUTNOJ STRUKTUR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poslovi u nacionalnoj valuti, devizni poslovi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FUNKCIONALNOS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BILANČNO ANALITIČK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( pasivni bankovni poslovi, aktivni, posrednički, vlastiti, upravno kontroln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A JE ULOGA BANKE U POJEDINOM POSLU(4.NAČELU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Ž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JERO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BANKOVNI (BANKARSKI) POSLOV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 NAČELU FUNKCIONA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mobilizacije i koncentracije sred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n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čko-komision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titi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ntrolno-upra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dministrativno-plansk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BANKARSKI POSLOVI PREMA BILANČNOM-ANALITIČKOM KRITERIJU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asi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ktiv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redničk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ti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ravno-kontrol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84358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BANKOVNI SUSTA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vedenica gospodarskog su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naglašava značaj za svaku držav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korelacija između bankarskog sustava i razvijenosti financijskih institu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PRINCIPI BANKARSKOG POSLOVANJ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bankarskog su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Uloga HNB-a u HSVP-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nik su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perativni upravitel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RATKOROČNI PASIVNI BANKOVNI POSLOV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marna emisija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biliziranje i držanje kratkoročnih depozita po viđenju depozita bez ro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duživanje kod drug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misija kratk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Eskontiranje vlastitih mjen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AKTIVNI BANKOVNI POSLOVI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atkoročno kreditir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goročno kreditir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trošačko kreditiran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KREDIT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edit je ustupanje određene svote novčanih sredstava od strane financijske organizacije (banke) kao kreditora (vjerovnika, zajmodavca) nekoj osobi (debitoru, dužniku, zajmoprimcu) uz obvezu da mu ih ovaj vrati u dogovorenom roku i plati pripadajuću naknadu – kamatu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OVAC VS KRED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 – najlikvidniji oblik imovi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 – posuđena kupovna moć, obveza plaćanja u  novc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FUNKCIJE KREDIT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osiguranja neometanog procesa reproduk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stvaranja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realokacije novc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unkcija koncentracije sredstav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tjecaj na internacionalnu razmjenu.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KONTOKORENTNI KREDI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 PO TEKUĆEM RAČUNU, KAMATA SE PLAĆA SAMO NA VISINU ANGAŽIRANIH SRED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GOVORNO UREĐENJE ODNOSA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MOŽE PLAĆATI KAMATU NA SREDSTVA NA TEKUĆEM RAČU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E OBLIKE PLAČANJA U ZEMLJI POZNAJETE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ezgotovinsko – prijenos sredstava s računa na raču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otovinsko – izravna predaja gotovog novca između sudioni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čunsko – namira međusobnih novčanih obveza i potraživanja između sudionika p.p-a bez uporabe nov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ELEKTORNIČKA PLAČAN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jenos podataka se odvija bez kolanja dokumenata-elektroničk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eno je na računalnoj komunikaciji, globalnim komun.mrežama ili javnim telekomunikacijskim mrež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VOJSTVA ELEKTR. PLAČ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vatnost, identifikacija korisnika, integritet poruka, nemogućnost opovrgavanja transak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TALI NEUTRALNI BANKOVNI POSLOV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krbništvo nad imovinom klijen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savjetov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ovina/prodaja deviza/valuta za tuđi raču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davanje jamstva i garan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VLASTITI BANKOVNI POSLOV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Arbitraž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urzovne špekula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ivanje poduzeća ili sudjelovanje u dioničkom društv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BANKOVNI SUSTAV RH ČIN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Štedn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ambene štedioni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rvatska banka za obnovu i razvoj (HB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dbbd71"/>
                </a:solidFill>
                <a:latin typeface="Arial"/>
              </a:rPr>
              <a:t>REGULACIJA BANAKA</a:t>
            </a: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AZLOZ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osiguranje solventnosti banaka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osiguranje likvidnosti banaka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promicanje ekonomske efikasnost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LIKVIDNOST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Likvidan je onaj koji može ispuniti sve svoje dospjele novčane obveze u cijelost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ZAKON O HNB regulir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ložaj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lasnički statu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vlašten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stroj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nos sa: RH, bankama, međunarodnim institucijama i organizacijam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HNB j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Samostal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ustav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Neovis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u donošenju i provođenju svojih odluka, ne traži niti je vezana za upute tijela RH, EU ili dr osob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Odgovorna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je saboru R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CILJEV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tizanje i održavanje stabilnosti cije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dupire gospodarsku politik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jeluje u skladu s načelima otvorenog tržišta i slobodne konkurenc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ZADAC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tvrđivanje i provođenje monetarne i devizne politik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ržanje i upravljanje međunarodnim pričuvama R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novčanica i kovanog nov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i oduzimanje odobrenja i suglasnosti za rad institucija u skladu sa zakonom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vanje i oduzimanje odobrenja i suglasnosti za rad institucija u skladu sa zakonom kojim se uređuje poslovanje drugih instituci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6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poslova supervizije i nadzo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7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Reguliranje, unapređenje i nadzor p.p-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8</a:t>
            </a:r>
            <a:r>
              <a:rPr b="0" lang="hr-HR" sz="3200" spc="-1" strike="noStrike">
                <a:solidFill>
                  <a:srgbClr val="cca500"/>
                </a:solidFill>
                <a:latin typeface="Tahoma"/>
              </a:rPr>
              <a:t>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zakonom utvrđenih poslova za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9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Donošenje podzakonskih propisa u poslovima iz svoje nadležnost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a500"/>
                </a:solidFill>
                <a:latin typeface="Tahoma"/>
              </a:rPr>
              <a:t>10</a:t>
            </a:r>
            <a:r>
              <a:rPr b="0" lang="hr-HR" sz="3200" spc="-1" strike="noStrike">
                <a:solidFill>
                  <a:srgbClr val="cca500"/>
                </a:solidFill>
                <a:latin typeface="Tahoma"/>
              </a:rPr>
              <a:t>.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Obavljanje ostalih, zakonom utvrđenih poslo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VRSTE PRIČUV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vezna pričuva – HNB prepisuje obvezu banaka da izdvoje i održavaju obveznu pričuvu na različitim računi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a obvezna priču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eđunarodne priču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MEĐUNARODNE PRIČUVE ČIN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emenite kovine ,drago kame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rana valu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viz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a prava vuče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žnički vrijednosni papir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rminska kupnja i repo poslov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ruga imovi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UPRAVLJANJE MEĐUARODNIM PRIČUVAM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elo likvidnosti i sigur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lagođeno monetarnoj i deviznoj polit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LOG DRŽANJA MEĐUNARODNIH PRIČUV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nje vanjske likvidnosti zeml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nje kredibiliteta zeml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Lakši pristup tržištima kapit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ODGOVORNOSTI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sključivo pravo IZDAVANJA novc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govornosti za TISKANJE/KOVANJE novca, sigurnost i pohrana neizdanog novca, čuvanje i uništavanje novca povučenog iz opticaja…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lanira izdavanje i osigurava redovitu opskrbu novca te </a:t>
            </a: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upravlja ukupnim pričuvama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gotovin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mjenjuje novac koji je postao neprikladan za promet (istrošene i oštećene novčani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VOJ SUVREMENOG BANKARSTVA R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OBINE HR BANKARSKOG SUSTA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razito velika rascjepkanos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eliki broj malih privatn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sustvo specijalizacije u bankarskim poslovima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iska koncentracija kapitala 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PLATNI PROMET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ređuje PP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ređuje oblike plać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dređuje način plaćan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adzire obavljanje PP-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odi račune banke te obavlja PP po tim računi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opisuje i nadzire sustav za obračun međubankovnih platnih transkaci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zdaje odobrenje za rad tih sustava,određuje sudionike i plaćanja koja se izvršavaju preko njih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OSLOVI ZA RH</a:t>
            </a:r>
            <a:br>
              <a:rPr sz="4000"/>
            </a:b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HNB 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zitar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iskalni agent RH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avjetnik” ministarstvu financi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djeluje u zakonodavnoj procedur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TEMELJNI KAPITAL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HNB-a: 2.5milijardi k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čuve HNB-a: opće i poseb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TIJELA HNB-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Savjet HNB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odgovoran za ostvarivanje ciljeva i zadataka HNB, te utvrđuje politike koje su vezane uz djelovanje 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ffffff"/>
                </a:solidFill>
                <a:uFillTx/>
                <a:latin typeface="Tahoma"/>
              </a:rPr>
              <a:t>Guverner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odgovoran za provođenje odluka, savjeta, upravlja i rukovodi poslovanj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POSLOVANJE BANAKA-regulirano je zakonom,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 o bankama uređuje uvjete z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iv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an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stanak rada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nad poslovanj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AKO U RH DEFINIRAMO BANKU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A – financijska institucija koja je od HNB dobila odobrenje za rad i koja je osnovana kao d.d. sa sjedištem u R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novni iznos (temeljni kapital) potreban za osnivanje – 40 mil.k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ORGANI BANK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ahoma"/>
              </a:rPr>
              <a:t>UPRA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banka posluje u skladu s pravilima o upravljanju rizicima što je propisano Zakonom o bankama i ostalim zakonima koji uređuju bankovno poslovanje i propisima donesenim na temelju ovog i ostalih zakona.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aćenje rizika kojima je banka izložena u svom poslovanju i usvajanje procedura putem kojih banka upravlja rizicima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sustavno praćenje, procjenu i strategiju održavanja, odnosno dosezanja adekvatne razine kapitala u odnosu na rizike kojima je banka izložena u svom poslovanju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funkcioniranje sustava unutarnjih kontrola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nesmetano obavljanje unutarnje revizije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da banka vodi poslovne i druge knjige i poslovnu dokumentaciju,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banka izvješćuje i obavještava HNB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Tahoma"/>
              </a:rPr>
              <a:t>provođenje mjera naloženih od HNB</a:t>
            </a:r>
            <a:r>
              <a:rPr b="0" lang="da-DK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NI OD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 daje suglasnost upravi na poslovne politike banke,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uglasnost upravi na financijske planove bank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aje suglasnost na devizni godišnji program rada unutrašnje revizij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nosi odluke o drugim pitanjima određenim zakonom o bank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BANKA MOR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igurati adekvatnost kapital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iti likvidn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iti solvent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UPRAVLJANJE RIZICIM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k likvid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reditni rizik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kamatni, devizni i ostali tržišni rizici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izloženosti prema jednoj osobi 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povezani s kapitalnim ulaganjima, ulaganjima u nekretnine i drugu trajnu imovinu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rizici neispunjenja obveze druge ugovorne strane povezani s državom podrijetla druge ugovorne strane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perativni rizik, uključujući rizik koji proizlazi iz neadekvatnog upravljanja informacijskim i pridruženim tehnologijama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stali rizici</a:t>
            </a:r>
            <a:r>
              <a:rPr b="0" lang="da-DK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Rizik likvidnosti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banka mora upravljati svojom imovinom i obvezama tako da je sposobna ispuniti sve svoje dospjele obvez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Kreditni rizik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je rizik gubitka do kojeg dolazi uslijed neispunjenja dužnikove obveze prema ban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apital štedne banke- najmanji potreban za osnivanje 8 mil k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ANACIJA BANAKA U RAZDOBLJU TRANZICIJE RH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ijenos loših plasmana na Državnu agenciju za osiguranje štednih uloga i sanaciju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okapitalizaci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mjena dioniča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omjena uprave ban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FINANCIJSKA AGENCIJA (FINA)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 spada u bankovni sustav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avlja platni promet u zemlji u ime i za račun poslovnih banak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vorno bankarski poslovi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i sa gotov. novc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čunski susta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OBINE STAMBENE ŠTEDN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seban oblik namjenske štednje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tambena štednja je „organizirano prikupljanje novčanih sredstava - depozita od domaćih fizičkih i pravnih osoba radi rješavanja stambenih potreba građana odobravanjem kredita za stanogradnju hrvatskim državljanima uz financijsku potporu države na području RH.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Štediše i korisnici kredita mogu biti i općine i gradov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NAMJENA KREDIT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nju nekretnine i to stana ili obiteljske kuće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gradnju stana ili obiteljske kuć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ekonstrukciju, adaptaciju i popravak stana ili obiteljske kuće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upnju građevinske čestice, bez ili s djelomično izgrađenom građevinom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omunalno uređenje građevinske čes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33336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Nadzor i kontrola poslovanja stambe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štedionice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– nadzor obavlj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1. HN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2. Ministarstvo financij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3. državni ured za revizi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TRŽIŠTE NOVCA I KRATKOROČNIH VRIJEDNOSNICA d.d. (1990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nvesticija koja nije sastavnica bankovnog sustav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jesto javnog trgovanja sudionika novčanog trži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SNOVNA DJELATNOST TRŽIŠTA NOVC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rganizirano povezivanje ponude i potražnje istrumenata novčanog tržiš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ovca(kune i devize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atk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ugoročnih vrijednosnih papir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tali instr. novčanog tržiš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UDIONICI NOVČANOG TRŽIŠT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HNB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tale financijske institucij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inistarstvo financij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DJELATNOST TRŽIŠTA NOVCA I KRAT. VRJ. REGULIRANA J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o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atuto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ilnic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or nad tržištem novca regulira HN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 – reguliran zakonom i zakonskim akti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NI PROMET U RH: sva plaćanja u KUNAMA između sudionika u platnom promet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SUDIONICI PLATNOG PROMETA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lovni subjek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avne osob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ijela državne vlasti,uprave, jedinice…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Fizičke osobe koje reguliraju registriranu djelatn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Građa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trane fizičke i pravne oso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VRSTE BANAKA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REDIŠNJ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EPOZITNO-KREDIT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PECIJALIZIRA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NIVERZALN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ŠTEDIONIC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EBANKOVNE FINANCIJSKE INSTITUCIJE (štedno kreditne zadruge, stamb.štedionice, mir.fondovi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ŠTO REGULIRA ZAKON O </a:t>
            </a:r>
            <a:r>
              <a:rPr b="0" i="1" lang="hr-HR" sz="4000" spc="-1" strike="noStrike">
                <a:solidFill>
                  <a:srgbClr val="ffffff"/>
                </a:solidFill>
                <a:latin typeface="Arial"/>
              </a:rPr>
              <a:t>PP-u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avljanje poslova p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vlaštene organizacije pp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rste računa p.p.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čine i oblike plaćanja i izvršenje plać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govornost za izvršena plaćanj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osebne ovlasti u p.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ULOGA HNB-a U SEGMENTU P.P.-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dzire obavljanje platnog prome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Vodi račune banaka, račune HR i druge raču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OBRASCI P.P.-a (podzakonski akti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sci za gotovinska plać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platni nalog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splatni nal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brasci za bezgotovinska plaća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log za prijenos sredstav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ŠTO BANKA TREBA UČINITI PRILIKOM ODOBRENJA KREDITA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straži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ežnu sbosobnost tražitelja kredi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težnu volju tražitelja kredit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Zakonska sredstva koja osiguravaju povrat kredi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AZLOZI RESTRIKTIVNOG PLAĆANJA GOTOVINOM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Restriktivna regulacija – kontrola novčanih tijekova, sprječavanje porezne evaz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JAMSTVENI KAPIT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Sastoji se o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emeljnog i dopunskog koji ne može biti veći od iznosa temeljnog kapitala, temelj – ispunjavanja obveza prema vjerovnicima banke, u cjelosti služi za pokriće gubitak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RIZIK IZLOŽENOSTI PREMA JEDNOJ OSOBI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znos svih tražbina prema 1 osobi p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ima i dr. obvezama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ulaganjima u vrijednosne papir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uzetim obvez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najveća dopuštena izloženost – 25% jamstvenog kapita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THE END (NADAM SE “ HAPPY END ”) </a:t>
            </a:r>
            <a:r>
              <a:rPr b="0" lang="hr-H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EEP IT REAL, PEOPLE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KOJE SU ODGOVORNOSTI SREDIŠNJE BANKE?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dgovorne su za provođenje ekonomske politike zemlje kroz vođenje MONETARNE i DEVIZNE POLITIKE te kroz osiguranje STABILNOSTI NACIONALNE NOVČANE JEDINICE </a:t>
            </a:r>
            <a:r>
              <a:rPr b="0" i="1" lang="hr-HR" sz="3200" spc="-1" strike="noStrike">
                <a:solidFill>
                  <a:srgbClr val="663300"/>
                </a:solidFill>
                <a:latin typeface="Tahoma"/>
              </a:rPr>
              <a:t>(</a:t>
            </a:r>
            <a:r>
              <a:rPr b="0" i="1" lang="hr-HR" sz="3200" spc="-1" strike="noStrike">
                <a:solidFill>
                  <a:srgbClr val="dbbd71"/>
                </a:solidFill>
                <a:latin typeface="Tahoma"/>
              </a:rPr>
              <a:t>održavanje stabilnosti cijena, održivi neinflatarni rast, visoki stupanj konkurencije</a:t>
            </a:r>
            <a:r>
              <a:rPr b="0" lang="hr-HR" sz="3200" spc="-1" strike="noStrike">
                <a:solidFill>
                  <a:srgbClr val="663300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dbbd71"/>
                </a:solidFill>
                <a:latin typeface="Arial"/>
              </a:rPr>
              <a:t>DEPOZITNO – KREDITNE BANK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još se nazivaju i komercijalne bank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editiraju gospodarstvo, ali i stanovništvo – prikupljanje i izdavanje depozita. </a:t>
            </a:r>
            <a:r>
              <a:rPr b="0" lang="da-DK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dbbd71"/>
                </a:solidFill>
                <a:latin typeface="Arial"/>
              </a:rPr>
              <a:t>SPECIJALIZIRANE BANK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ednosti specijalizaci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1. potpunije i sveobuhvatnije sagledavanje potreba svojih klijen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. smanjenje rizika u poslovnim odnosim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3. osiguranje izvora sredstava putem suradnje sa sličnim bankama iz inozemstva bez obzira na oblik te suradnj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4. odgovarajuću kadrovsku ekipiran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Tahoma"/>
              </a:rPr>
              <a:t>Vrste specijalizaci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razvojne banke H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-investicijske banke i dr.</a:t>
            </a:r>
            <a:r>
              <a:rPr b="0" lang="da-DK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47:31Z</dcterms:created>
  <dc:creator>Ivan Stjepanek</dc:creator>
  <dc:description/>
  <dc:language>en-US</dc:language>
  <cp:lastModifiedBy>Ivan Stjepanek</cp:lastModifiedBy>
  <dcterms:modified xsi:type="dcterms:W3CDTF">2010-09-19T12:37:43Z</dcterms:modified>
  <cp:revision>8</cp:revision>
  <dc:subject/>
  <dc:title>BANKARSTVO SKRIPTA</dc:title>
</cp:coreProperties>
</file>