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760-5E33-47A5-A4D5-12842E19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9DA-923D-495C-86D3-5128E42D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476-FCA6-424C-A750-FE67EDFD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588-51FA-4E17-90BA-80B4E20A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FDA5-B3AF-48C9-B481-22B3ED2C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B3B9-1E9B-40BE-AC9B-87F3F1C1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64B0-067B-441F-8FD8-B7FF91E4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572B-CF02-4356-82B8-879FF94F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96D1-EA37-48BE-99C2-9B32B8FA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17A4-8F0C-4E00-BA41-9F76730E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2334-576A-4744-A4BE-80C656F2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7DA-77AF-497E-952D-566DB832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F252-0824-427B-A47E-C3BA041E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722C-4310-4878-A21F-2E410DDD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A501-CD10-4FA2-8B6C-0D712660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39AC-6383-49C1-BE91-5BB8DF47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F67A-3BA5-434D-991F-12ED28FF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E07-F861-4656-B9D6-44F82222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A55-A216-4AB1-AE01-CBE510A9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019-024B-4A2B-BFA9-3A9246B2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CA4-49C3-4FFD-9178-A1DBC299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17F-B017-46AE-81D9-6B04C6C0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000-796F-425A-AE6E-9D2062AC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837D-AD5B-43B8-B5F0-37761DA7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6275-626F-4CEE-A3A4-B28957FCD25B}" type="slidenum">
              <a:rPr b="0" lang="da-DK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E7F6-27B0-448C-B2CC-EC5409D59F9F}" type="slidenum">
              <a:rPr b="0" lang="da-DK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dbbd71"/>
                </a:solidFill>
                <a:latin typeface="Arial"/>
              </a:rPr>
              <a:t>BANKARSTVO</a:t>
            </a:r>
            <a:br>
              <a:rPr sz="5400"/>
            </a:br>
            <a:r>
              <a:rPr b="0" lang="hr-HR" sz="5400" spc="-1" strike="noStrike">
                <a:solidFill>
                  <a:srgbClr val="dbbd71"/>
                </a:solidFill>
                <a:latin typeface="Arial"/>
              </a:rPr>
              <a:t>SKRIPT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ipl.oec.dr.mr.sc.prof.Ma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sistent mi nije potreban </a:t>
            </a:r>
            <a:r>
              <a:rPr b="0" lang="hr-H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ŠTEDIONI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u specifične specijalizirane financijske (bankarske) institucije. Osnovna djelatnost je prikupljanje i plasman štednje najširih slojeva stanovništva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PRINCIPI BANKARSKOG POSLOVANJ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1. Princip poslovnosti i urednog poslov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Tahoma"/>
              </a:rPr>
              <a:t>(stručnost, poslovnost, profesionalnost, dobri poslovni običaj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2. Princip rentabilnosti</a:t>
            </a:r>
            <a:r>
              <a:rPr b="1" lang="da-DK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Tahoma"/>
              </a:rPr>
              <a:t>(ostvarenje profita je osnovni cilj osnivanje svake banke, postizanje profita koji  će osigurati i kratkoročnu i dugoročnu stabilnos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3. Princip likvidnost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i="1" lang="hr-HR" sz="2400" spc="-1" strike="noStrike">
                <a:solidFill>
                  <a:srgbClr val="ffffff"/>
                </a:solidFill>
                <a:latin typeface="Tahoma"/>
              </a:rPr>
              <a:t>Pod likvidnom bankom podrazumijevamo banku koja može podmiriti sve svoje dospjele novčane obveze u cijelosti, ali i staviti u tečaj odobrene kredite</a:t>
            </a:r>
            <a:r>
              <a:rPr b="1" lang="da-DK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4. Princip sigurnosti i efikasnosti ulaganj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i="1" lang="hr-HR" sz="2400" spc="-1" strike="noStrike">
                <a:solidFill>
                  <a:srgbClr val="ffffff"/>
                </a:solidFill>
                <a:latin typeface="Tahoma"/>
              </a:rPr>
              <a:t>bankovni posao mora garantirati POVRAT polaniranih sredstava uz PRIHVATLJIV RIZIK</a:t>
            </a:r>
            <a:r>
              <a:rPr b="1" i="1" lang="da-DK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KOJI SU KRITERIJI (okviri) POSLOVANJA BANAKA?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ržiš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onetarna polit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Što je to “likvidna banka”?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anka koja ima mogućnost da sve svoje novčane obveze podmiri u cijelosti i stavi u tečaj odobrene kredite, te da po dospjeću izvrši sve svoje ugovorene obveze po izdanim garancijama, akreditivima i drugim instrumentima plaćan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KAKO SE OSIGURAVA LIKVIDNOST BANKE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roz usklađivanje opsega angažiranja sredstava (plasmana) s izvorima sredst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SIGURNOST ZA BANKU IMA NAJMANJE 2 DIMENZIJE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1. BONITET KOMIT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kreditna sposobnost klijent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likvidnost klijent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rentabilnost poslovanja klijent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tržišna prihvaćenost proizvo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good will klijent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očekivanje i d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2. OSIGURANJE POKRIĆA (kolateral) i NJEGOVA ADEKVAT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realno pokrić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pravna i ekonomska dimenzija realnog pokrić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partnerski odn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4 KRITERIJA (načela) BANKOVNIH POSLOVA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NAČELO ROČNOST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(dugoročni i kratkoročni poslovi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ema </a:t>
            </a: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VALUTNOJ STRUKTUR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(poslovi u nacionalnoj valuti, devizni poslovi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čelo </a:t>
            </a: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FUNKCIONALNOST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čelo </a:t>
            </a: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BILANČNO ANALITIČK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( pasivni bankovni poslovi, aktivni, posrednički, vlastiti, upravno kontrolni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KOJA JE ULOGA BANKE U POJEDINOM POSLU(4.NAČELU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UŽ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JEROV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RED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BANKOVNI (BANKARSKI) POSLOV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 NAČELU FUNKCIONALNOST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lovi mobilizacije i koncentracije sredstav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reditni poslov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redničko-komisioni poslov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lastiti poslov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ontrolno-upravn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dministrativno-plansk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BANKARSKI POSLOVI PREMA BILANČNOM-ANALITIČKOM KRITERIJU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asivn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ktivn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redničk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lastit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pravno-kontroln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84358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BANKOVNI SUSTA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zvedenica gospodarskog sustav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 naglašava značaj za svaku državu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 korelacija između bankarskog sustava i razvijenosti financijskih institu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PRINCIPI BANKARSKOG POSLOVANJA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dzor bankarskog sust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Uloga HNB-a u HSVP-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lasnik sust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perativni upravitel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KRATKOROČNI PASIVNI BANKOVNI POSLOV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imarna emisija novc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obiliziranje i držanje kratkoročnih depozita po viđenju depozita bez rok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Zaduživanje kod drugih banak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Emisija kratkoročnih vrijednosnih papir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Eskontiranje vlastitih mjen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AKTIVNI BANKOVNI POSLOVI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ratkoročno kreditiran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ugoročno kreditiran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trošačko kreditiran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KREDIT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redit je ustupanje određene svote novčanih sredstava od strane financijske organizacije (banke) kao kreditora (vjerovnika, zajmodavca) nekoj osobi (debitoru, dužniku, zajmoprimcu) uz obvezu da mu ih ovaj vrati u dogovorenom roku i plati pripadajuću naknadu – kamatu</a:t>
            </a:r>
            <a:r>
              <a:rPr b="0" lang="da-D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OVAC VS KRED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 – najlikvidniji oblik imovin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 – posuđena kupovna moć, obveza plaćanja u  novc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FUNKCIJE KREDIT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funkcija osiguranja neometanog procesa reprodukci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funkcija stvaranja novc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funkcija realokacije novc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funkcija koncentracije sredstava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tjecaj na internacionalnu razmjenu.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KONTOKORENTNI KREDI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REDIT PO TEKUĆEM RAČUNU, KAMATA SE PLAĆA SAMO NA VISINU ANGAŽIRANIH SREDSTAV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GOVORNO UREĐENJE ODNOSA BANAK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ANKA MOŽE PLAĆATI KAMATU NA SREDSTVA NA TEKUĆEM RAČUN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KOJE OBLIKE PLAČANJA U ZEMLJI POZNAJETE?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ezgotovinsko – prijenos sredstava s računa na rač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Gotovinsko – izravna predaja gotovog novca između sudioni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bračunsko – namira međusobnih novčanih obveza i potraživanja između sudionika p.p-a bez uporabe nov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ELEKTORNIČKA PLAČAN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ijenos podataka se odvija bez kolanja dokumenata-elektroničk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emeljeno je na računalnoj komunikaciji, globalnim komun.mrežama ili javnim telekomunikacijskim mrež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VOJSTVA ELEKTR. PLAČANJ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ivatnost, identifikacija korisnika, integritet poruka, nemogućnost opovrgavanja transak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OSTALI NEUTRALNI BANKOVNI POSLOVI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epo poslov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krbništvo nad imovinom klijent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lovi savjetovanj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upovina/prodaja deviza/valuta za tuđi raču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zdavanje jamstva i garanci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VLASTITI BANKOVNI POSLOVI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rbitražn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urzovne špekulaci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nivanje poduzeća ili sudjelovanje u dioničkom društv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BANKOVNI SUSTAV RH ČIN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HNB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ank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Štedne bank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tambene štedionic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Hrvatska banka za obnovu i razvoj (HB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dbbd71"/>
                </a:solidFill>
                <a:latin typeface="Arial"/>
              </a:rPr>
              <a:t>REGULACIJA BANAKA</a:t>
            </a: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RAZLOZ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 osiguranje solventnosti banaka,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 osiguranje likvidnosti banaka,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 promicanje ekonomske efikasno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LIKVIDNOS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– Likvidan je onaj koji može ispuniti sve svoje dospjele novčane obveze u cijelost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ZAKON O HNB regulir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ložaj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lov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lasnički statu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vlaštenja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stroj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dnos sa: RH, bankama, međunarodnim institucijama i organizacija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HNB j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Samostalna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 ustav RH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Neovisna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 u donošenju i provođenju svojih odluka, ne traži niti je vezana za upute tijela RH, EU ili dr osob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Odgovorna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je saboru R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CILJEVI HNB-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tizanje i održavanje stabilnosti cijen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dupire gospodarsku politiku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jeluje u skladu s načelima otvorenog tržišta i slobodne konkuren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ZADACI HNB-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tvrđivanje i provođenje monetarne i devizne politik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ržanje i upravljanje međunarodnim pričuvama R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zdavanje novčanica i kovanog novc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zdavanje i oduzimanje odobrenja i suglasnosti za rad institucija u skladu sa zakonom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zdavanje i oduzimanje odobrenja i suglasnosti za rad institucija u skladu sa zakonom kojim se uređuje poslovanje drugih institucij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915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a500"/>
                </a:solidFill>
                <a:latin typeface="Tahoma"/>
              </a:rPr>
              <a:t>6.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Obavljanje poslova supervizije i nadzor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a500"/>
                </a:solidFill>
                <a:latin typeface="Tahoma"/>
              </a:rPr>
              <a:t>7.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Reguliranje, unapređenje i nadzor p.p-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a500"/>
                </a:solidFill>
                <a:latin typeface="Tahoma"/>
              </a:rPr>
              <a:t>8</a:t>
            </a:r>
            <a:r>
              <a:rPr b="0" lang="hr-HR" sz="3200" spc="-1" strike="noStrike">
                <a:solidFill>
                  <a:srgbClr val="cca500"/>
                </a:solidFill>
                <a:latin typeface="Tahoma"/>
              </a:rPr>
              <a:t>.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Obavljanje zakonom utvrđenih poslova za RH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a500"/>
                </a:solidFill>
                <a:latin typeface="Tahoma"/>
              </a:rPr>
              <a:t>9.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Donošenje podzakonskih propisa u poslovima iz svoje nadležnost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a500"/>
                </a:solidFill>
                <a:latin typeface="Tahoma"/>
              </a:rPr>
              <a:t>10</a:t>
            </a:r>
            <a:r>
              <a:rPr b="0" lang="hr-HR" sz="3200" spc="-1" strike="noStrike">
                <a:solidFill>
                  <a:srgbClr val="cca500"/>
                </a:solidFill>
                <a:latin typeface="Tahoma"/>
              </a:rPr>
              <a:t>.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Obavljanje ostalih, zakonom utvrđenih poslo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VRSTE PRIČUV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bvezna pričuva – HNB prepisuje obvezu banaka da izdvoje i održavaju obveznu pričuvu na različitim računim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ebna obvezna pričuv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eđunarodne priču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MEĐUNARODNE PRIČUVE ČINE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lemenite kovine ,drago kamen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trana valut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eviz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ebna prava vučenj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užnički vrijednosni papir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erminska kupnja i repo poslov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ruga imov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UPRAVLJANJE MEĐUARODNIM PRIČUVAMA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čelo likvidnosti i sigur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ilagođeno monetarnoj i deviznoj politi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RAZLOG DRŽANJA MEĐUNARODNIH PRIČUVA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iguranje vanjske likvidnosti zeml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iguranje kredibiliteta zeml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Lakši pristup tržištima kapita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ODGOVORNOSTI HNB-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sključivo pravo IZDAVANJA novc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dgovornosti za TISKANJE/KOVANJE novca, sigurnost i pohrana neizdanog novca, čuvanje i uništavanje novca povučenog iz opticaja…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lanira izdavanje i osigurava redovitu opskrbu novca te </a:t>
            </a: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upravlja ukupnim pričuvam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gotovin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Zamjenjuje novac koji je postao neprikladan za promet (istrošene i oštećene novčanic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RAZVOJ SUVREMENOG BANKARSTVA R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OBINE HR BANKARSKOG SUSTAV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zrazito velika rascjepkanost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eliki broj malih privatnih banak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dsustvo specijalizacije u bankarskim poslovima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iska koncentracija kapitala 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PLATNI PROMET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ređuje PP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dređuje oblike plaćanj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dređuje način plaćanj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adzire obavljanje PP-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Vodi račune banke te obavlja PP po tim računim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opisuje i nadzire sustav za obračun međubankovnih platnih transkacij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zdaje odobrenje za rad tih sustava,određuje sudionike i plaćanja koja se izvršavaju preko njih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POSLOVI ZA RH</a:t>
            </a:r>
            <a:br>
              <a:rPr sz="4000"/>
            </a:b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HNB je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epozitar RH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Fiskalni agent RH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avjetnik” ministarstvu financij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udjeluje u zakonodavnoj procedur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TEMELJNI KAPITAL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HNB-a: 2.5milijardi k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ičuve HNB-a: opće i poseb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TIJELA HNB-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Savjet HNB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– odgovoran za ostvarivanje ciljeva i zadataka HNB, te utvrđuje politike koje su vezane uz djelovanje HNB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Guverner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– odgovoran za provođenje odluka, savjeta, upravlja i rukovodi poslovanj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POSLOVANJE BANAKA-regulirano je zakonom,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Zakon o bankama uređuje uvjete z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nivan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lovan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estanak rada bank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dzor nad poslovanj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KAKO U RH DEFINIRAMO BANKU?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ANKA – financijska institucija koja je od HNB dobila odobrenje za rad i koja je osnovana kao d.d. sa sjedištem u R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novni iznos (temeljni kapital) potreban za osnivanje – 40 mil.k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ORGANI BANK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UPRAV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banka posluje u skladu s pravilima o upravljanju rizicima što je propisano Zakonom o bankama i ostalim zakonima koji uređuju bankovno poslovanje i propisima donesenim na temelju ovog i ostalih zakona.</a:t>
            </a:r>
            <a:r>
              <a:rPr b="0" lang="da-DK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aćenje rizika kojima je banka izložena u svom poslovanju i usvajanje procedura putem kojih banka upravlja rizicima</a:t>
            </a:r>
            <a:r>
              <a:rPr b="0" lang="da-DK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sustavno praćenje, procjenu i strategiju održavanja, odnosno dosezanja adekvatne razine kapitala u odnosu na rizike kojima je banka izložena u svom poslovanju</a:t>
            </a:r>
            <a:r>
              <a:rPr b="0" lang="da-DK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funkcioniranje sustava unutarnjih kontrola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nesmetano obavljanje unutarnje revizije</a:t>
            </a:r>
            <a:r>
              <a:rPr b="0" lang="da-DK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da banka vodi poslovne i druge knjige i poslovnu dokumentaciju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banka izvješćuje i obavještava HNB</a:t>
            </a:r>
            <a:r>
              <a:rPr b="0" lang="da-DK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ovođenje mjera naloženih od HNB</a:t>
            </a:r>
            <a:r>
              <a:rPr b="0" lang="da-DK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915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DZORNI ODB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 daje suglasnost upravi na poslovne politike banke,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uglasnost upravi na financijske planove banke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aje suglasnost na devizni godišnji program rada unutrašnje revizije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onosi odluke o drugim pitanjima određenim zakonom o bank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BANKA MOR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igurati adekvatnost kapital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iti likvidn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iti solvent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UPRAVLJANJE RIZICIM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izik likvidnost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reditni rizik</a:t>
            </a:r>
            <a:r>
              <a:rPr b="0" lang="da-DK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amatni, devizni i ostali tržišni rizici</a:t>
            </a:r>
            <a:r>
              <a:rPr b="0" lang="da-DK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izici izloženosti prema jednoj osobi 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izici povezani s kapitalnim ulaganjima, ulaganjima u nekretnine i drugu trajnu imovinu</a:t>
            </a:r>
            <a:r>
              <a:rPr b="0" lang="da-DK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izici neispunjenja obveze druge ugovorne strane povezani s državom podrijetla druge ugovorne strane</a:t>
            </a:r>
            <a:r>
              <a:rPr b="0" lang="da-DK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perativni rizik, uključujući rizik koji proizlazi iz neadekvatnog upravljanja informacijskim i pridruženim tehnologijama</a:t>
            </a:r>
            <a:r>
              <a:rPr b="0" lang="da-DK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stali rizici</a:t>
            </a:r>
            <a:r>
              <a:rPr b="0" lang="da-DK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Rizik likvidnost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– banka mora upravljati svojom imovinom i obvezama tako da je sposobna ispuniti sve svoje dospjele obveze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Kreditni rizik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– je rizik gubitka do kojeg dolazi uslijed neispunjenja dužnikove obveze prema banc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apital štedne banke- najmanji potreban za osnivanje 8 mil k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SANACIJA BANAKA U RAZDOBLJU TRANZICIJE RH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ijenos loših plasmana na Državnu agenciju za osiguranje štednih uloga i sanaciju banak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okapitalizacij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omjena dioničar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omjena uprave bana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FINANCIJSKA AGENCIJA (FINA)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e spada u bankovni sustav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bavlja platni promet u zemlji u ime i za račun poslovnih banak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zvorno bankarski poslovi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latni promet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lovi sa gotov. novcem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bračunski susta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OSOBINE STAMBENE ŠTEDNJE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seban oblik namjenske štednje</a:t>
            </a:r>
            <a:r>
              <a:rPr b="0" lang="da-DK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tambena štednja je „organizirano prikupljanje novčanih sredstava - depozita od domaćih fizičkih i pravnih osoba radi rješavanja stambenih potreba građana odobravanjem kredita za stanogradnju hrvatskim državljanima uz financijsku potporu države na području RH.</a:t>
            </a:r>
            <a:r>
              <a:rPr b="0" lang="da-D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Štediše i korisnici kredita mogu biti i općine i gradov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NAMJENA KREDIT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upnju nekretnine i to stana ili obiteljske kuće 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zgradnju stana ili obiteljske kuće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rekonstrukciju, adaptaciju i popravak stana ili obiteljske kuće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upnju građevinske čestice, bez ili s djelomično izgrađenom građevinom 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omunalno uređenje građevinske čes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333360"/>
            <a:ext cx="83628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Nadzor i kontrola poslovanja stambe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štedionice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– nadzor obavlj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1. HNB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2. Ministarstvo financi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3. državni ured za revizi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TRŽIŠTE NOVCA I KRATKOROČNIH VRIJEDNOSNICA d.d. (1990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nvesticija koja nije sastavnica bankovnog sustav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jesto javnog trgovanja sudionika novčanog tržiš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OSNOVNA DJELATNOST TRŽIŠTA NOVC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rganizirano povezivanje ponude i potražnje istrumenata novčanog tržiš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ovca(kune i devize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ratkoročnih vrijednosnih papir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ugoročnih vrijednosnih papir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tali instr. novčanog tržiš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SUDIONICI NOVČANOG TRŽIŠTA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ank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HNB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tale financijske instituci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inistarstvo financi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DJELATNOST TRŽIŠTA NOVCA I KRAT. VRJ. REGULIRANA JE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Zakonom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tatutom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avilnic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dzor nad tržištem novca regulira HN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latni promet – reguliran zakonom i zakonskim aktim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LATNI PROMET U RH: sva plaćanja u KUNAMA između sudionika u platnom promet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SUDIONICI PLATNOG PROMETA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lovni subjek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avne osob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ijela državne vlasti,uprave, jedinice…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Fizičke osobe koje reguliraju registriranu djelatn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Građa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trane fizičke i pravne oso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VRSTE BANAK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REDIŠNJE BANK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EPOZITNO-KREDITN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PECIJALIZIRAN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NIVERZALN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ŠTEDIONIC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EBANKOVNE FINANCIJSKE INSTITUCIJE (štedno kreditne zadruge, stamb.štedionice, mir.fondovi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ŠTO REGULIRA ZAKON O </a:t>
            </a:r>
            <a:r>
              <a:rPr b="0" i="1" lang="hr-HR" sz="4000" spc="-1" strike="noStrike">
                <a:solidFill>
                  <a:srgbClr val="ffffff"/>
                </a:solidFill>
                <a:latin typeface="Arial"/>
              </a:rPr>
              <a:t>PP-u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bavljanje poslova pp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vlaštene organizacije pp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rste računa p.p.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čine i oblike plaćanja i izvršenje plaćanj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dgovornost za izvršena plaćanj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ebne ovlasti u p.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ULOGA HNB-a U SEGMENTU P.P.-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dzire obavljanje platnog promet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odi račune banaka, račune HR i druge raču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OBRASCI P.P.-a (podzakonski akti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brasci za gotovinska plaćanj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platni nalog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splatni nalo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brasci za bezgotovinska plaćanj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log za prijenos sredsta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ŠTO BANKA TREBA UČINITI PRILIKOM ODOBRENJA KREDITA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stražit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latežnu sbosobnost tražitelja kredit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latežnu volju tražitelja kredit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Zakonska sredstva koja osiguravaju povrat kredi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RAZLOZI RESTRIKTIVNOG PLAĆANJA GOTOVINOM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Restriktivna regulacija – kontrola novčanih tijekova, sprječavanje porezne evaz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JAMSTVENI KAPIT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astoji se 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emeljnog i dopunskog koji ne može biti veći od iznosa temeljnog kapitala, temelj – ispunjavanja obveza prema vjerovnicima banke, u cjelosti služi za pokriće gubita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RIZIK IZLOŽENOSTI PREMA JEDNOJ OSOBI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znos svih tražbina prema 1 osobi p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reditima i dr. obvezam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laganjima u vrijednosne papir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euzetim obvez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jveća dopuštena izloženost – 25% jamstvenog kapita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HE END (NADAM SE “ HAPPY END ”) </a:t>
            </a:r>
            <a:r>
              <a:rPr b="0" lang="hr-H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EEP IT REAL, PEOPLE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KOJE SU ODGOVORNOSTI SREDIŠNJE BANKE?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dgovorne su za provođenje ekonomske politike zemlje kroz vođenje MONETARNE i DEVIZNE POLITIKE te kroz osiguranje STABILNOSTI NACIONALNE NOVČANE JEDINICE </a:t>
            </a:r>
            <a:r>
              <a:rPr b="0" i="1" lang="hr-HR" sz="3200" spc="-1" strike="noStrike">
                <a:solidFill>
                  <a:srgbClr val="663300"/>
                </a:solidFill>
                <a:latin typeface="Tahoma"/>
              </a:rPr>
              <a:t>(</a:t>
            </a:r>
            <a:r>
              <a:rPr b="0" i="1" lang="hr-HR" sz="3200" spc="-1" strike="noStrike">
                <a:solidFill>
                  <a:srgbClr val="dbbd71"/>
                </a:solidFill>
                <a:latin typeface="Tahoma"/>
              </a:rPr>
              <a:t>održavanje stabilnosti cijena, održivi neinflatarni rast, visoki stupanj konkurencije</a:t>
            </a:r>
            <a:r>
              <a:rPr b="0" lang="hr-HR" sz="3200" spc="-1" strike="noStrike">
                <a:solidFill>
                  <a:srgbClr val="663300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DEPOZITNO – KREDITNE BANK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još se nazivaju i komercijalne bank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reditiraju gospodarstvo, ali i stanovništvo – prikupljanje i izdavanje depozita. 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SPECIJALIZIRANE BANK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ednosti specijalizacij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1. potpunije i sveobuhvatnije sagledavanje potreba svojih klijena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2. smanjenje rizika u poslovnim odnosim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3. osiguranje izvora sredstava putem suradnje sa sličnim bankama iz inozemstva bez obzira na oblik te suradnj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4. odgovarajuću kadrovsku ekipirano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Vrste specijalizacij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-razvojne banke H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-investicijske banke i dr.</a:t>
            </a:r>
            <a:r>
              <a:rPr b="0" lang="da-DK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47:31Z</dcterms:created>
  <dc:creator>Ivan Stjepanek</dc:creator>
  <dc:description/>
  <dc:language>en-US</dc:language>
  <cp:lastModifiedBy>Ivan Stjepanek</cp:lastModifiedBy>
  <dcterms:modified xsi:type="dcterms:W3CDTF">2010-09-19T12:37:43Z</dcterms:modified>
  <cp:revision>8</cp:revision>
  <dc:subject/>
  <dc:title>BANKARSTVO SKRIPTA</dc:title>
</cp:coreProperties>
</file>