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6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20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190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293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  <p:sldId id="585" r:id="rId332"/>
    <p:sldId id="586" r:id="rId333"/>
    <p:sldId id="587" r:id="rId334"/>
    <p:sldId id="588" r:id="rId335"/>
    <p:sldId id="589" r:id="rId336"/>
    <p:sldId id="590" r:id="rId337"/>
    <p:sldId id="591" r:id="rId338"/>
    <p:sldId id="592" r:id="rId339"/>
    <p:sldId id="593" r:id="rId340"/>
    <p:sldId id="594" r:id="rId341"/>
    <p:sldId id="595" r:id="rId342"/>
    <p:sldId id="596" r:id="rId343"/>
    <p:sldId id="597" r:id="rId344"/>
    <p:sldId id="598" r:id="rId345"/>
    <p:sldId id="599" r:id="rId346"/>
    <p:sldId id="600" r:id="rId347"/>
    <p:sldId id="601" r:id="rId3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slide" Target="slides/slide330.xml"/><Relationship Id="rId333" Type="http://schemas.openxmlformats.org/officeDocument/2006/relationships/slide" Target="slides/slide331.xml"/><Relationship Id="rId334" Type="http://schemas.openxmlformats.org/officeDocument/2006/relationships/slide" Target="slides/slide332.xml"/><Relationship Id="rId335" Type="http://schemas.openxmlformats.org/officeDocument/2006/relationships/slide" Target="slides/slide333.xml"/><Relationship Id="rId336" Type="http://schemas.openxmlformats.org/officeDocument/2006/relationships/slide" Target="slides/slide334.xml"/><Relationship Id="rId337" Type="http://schemas.openxmlformats.org/officeDocument/2006/relationships/slide" Target="slides/slide335.xml"/><Relationship Id="rId338" Type="http://schemas.openxmlformats.org/officeDocument/2006/relationships/slide" Target="slides/slide336.xml"/><Relationship Id="rId339" Type="http://schemas.openxmlformats.org/officeDocument/2006/relationships/slide" Target="slides/slide337.xml"/><Relationship Id="rId340" Type="http://schemas.openxmlformats.org/officeDocument/2006/relationships/slide" Target="slides/slide338.xml"/><Relationship Id="rId341" Type="http://schemas.openxmlformats.org/officeDocument/2006/relationships/slide" Target="slides/slide339.xml"/><Relationship Id="rId342" Type="http://schemas.openxmlformats.org/officeDocument/2006/relationships/slide" Target="slides/slide340.xml"/><Relationship Id="rId343" Type="http://schemas.openxmlformats.org/officeDocument/2006/relationships/slide" Target="slides/slide341.xml"/><Relationship Id="rId344" Type="http://schemas.openxmlformats.org/officeDocument/2006/relationships/slide" Target="slides/slide342.xml"/><Relationship Id="rId345" Type="http://schemas.openxmlformats.org/officeDocument/2006/relationships/slide" Target="slides/slide343.xml"/><Relationship Id="rId346" Type="http://schemas.openxmlformats.org/officeDocument/2006/relationships/slide" Target="slides/slide344.xml"/><Relationship Id="rId347" Type="http://schemas.openxmlformats.org/officeDocument/2006/relationships/slide" Target="slides/slide345.xml"/><Relationship Id="rId348" Type="http://schemas.openxmlformats.org/officeDocument/2006/relationships/slide" Target="slides/slide346.xml"/><Relationship Id="rId3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D07-45AE-4D09-A4EF-84F5ACCE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6BA-29CA-4594-AB6B-4F68B587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DE1-DD4B-4DFD-9E67-3ABD0812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F8A-FBD3-4912-B096-605413EA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AB6-3151-496B-A52B-0EA43151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1DD-B588-4B4B-B3A2-67371B3C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E2A-1ACA-46A7-AD96-24545884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6AF-8641-45B4-B5D7-46DFE501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5F5-8024-4C86-82E1-F35CB45D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708-7631-475D-9575-C34F550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EE4-7485-40E9-B042-29BD224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D56-4BCC-4A49-AECC-D1E9E98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4FD1-F89E-407A-A557-404F536B7F9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eučilište u RIJEC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ovni odj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j:Poduzetništv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NABAVNO POSLO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r. sc. Marko Balen, prof. v. 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avanja 2007/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A5E-8777-4A91-9366-F5CC4AC295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JMA I SADRŽAJA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definiranju treba voditi računa i o razlikama koje nastaju kada se nabava razmatra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72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72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na fun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72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a služ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67D-D0F8-4A47-8B8E-139DADB98C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JS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vezane za probavljanje novčanih sredstava i pronalaženje dodatnih izvora financiranja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financijski sektor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DD2-D652-49A9-AC39-F1B75ED08B8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ČUNOVODSTVE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evidentiranja imovine i rezultata poslovanj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računovodstvo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B5C-6F00-43D9-9E62-27FFD42774D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TA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m poslovnih funkcija postoje i funkcije vezane za pojedine faze procesa proizvodnje u poslov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 zajedničke svim poslovnim funkcijama i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ravljačko-vodeć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no-analiti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kcij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816-6DCF-4050-BAB2-7206632B800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RAVLJAČKO-VODEĆ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sobno su usko povez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 dio jedinstvenog procesa rukovanja i vođenja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ni i poslovodni orga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kupšt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dzorni odb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prava trgovačkog dru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EC0-F2BC-46D6-8905-4CC1AA546E1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UPŠ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i u dioničkim, trgovačkim i većim trgovačkim društvima s osobnom odgovornoš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jednice skupština se održavaju rjeđe (nekoliko puta godišnj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čuju o poslovnoj politici i razvoju trgovačkog društva te rezultatima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ACC-0A75-40D2-8F26-A2D65DE6674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DZORNI OD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a skupšt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zire poslovanje trgovačkog društ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zire rad up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167-19C8-4CA2-9F13-EAE11773C1E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RAVA TRGOVAČKOG DRUŠT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a se na mandat od 5 godin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e imati 1 ili više člano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ira i vodi poslovanje trgovačkog društ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svoj rad odgovara skupštini i nadzornom odbor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čelu uprave je predsjedni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54D-C457-4D93-B5D4-826956E6335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NO-ANALITIČKE FUNK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žavaju i objašnjavaju određeni pojavni oblik poslovnog procesa industrijskog poduzeća koji je, uz njenu primjenu, raščlanjen na razne procese, mogu raščlaniti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klađ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t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ođ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uč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ješt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2F9-2B83-4205-BE8D-6869C8F61E3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PODUZEĆA I FUNKCI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ci funkcije nabave proizlaze iz svrhe, ciljeva i cjelokupnog poslovanja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novni zada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nabave i tržišt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ranje i predlaganje nabavne poli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ranj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vna priprem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ovaranje kup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F25-4F19-4601-8849-C8C5A5FA5A5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novni zada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učivanje potrebnih predmet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rema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am nabavljenih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kvalitete i količine nabavljenih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adištenje nabavljenih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BC4-74DF-4A3C-8C99-778DD861C0B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KAO PROCES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va podfaza procesa razmjene kao prometne faze procesa reprodukcije u kojoj se novac pretvara u rob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uga podfaza j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daja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ne zajedno čine jedinstvenu fazu razmjene novca za robu, odnosno robe za novac između kupca i prodavao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9BF-B727-4655-9A95-DDE2FB8DB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E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novni zada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suvišnih predmeta i sredstava rada i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tiranj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ještavanje o na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1A8-516A-419B-8577-9CB1DDB73E3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E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zadatke nabave spadaju još 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a o skladištenju gotovih proizvoda, otprema gotovih proizvo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jski transpo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jiženje u vezi s materijalima i gotovim proizvod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poslove obavlja više poslovnih funkcija u poduzeću kao što su nabava, proizvodnja, prodaja i računovodst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D92-D4FD-4793-A493-0F9F2EB83DC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NABAVE I TRŽIŠT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209-9519-4034-8529-348AB79BA1C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IRANJE NABAVNE POLITIK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laganje i formiran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istraživanj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planir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kvalitet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količine nabav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nabavnih cijena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503-42FB-4A3C-9250-6A1854A408F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NABAVNE POLITIK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laganje i formiran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rokova nabav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izbora izvora nabave i izbor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skladištenja nabavljenih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zalih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921-D96D-4673-924E-19C6DD9016E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NABAVNE POLITIK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laganje i formiran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recipročnog nabavl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prodaje viškova i otpadak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trošk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u odnosu na osobl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E95-1CFA-423F-9BD6-8724D8F8B2B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nomenklatur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planskih cijen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sistema nabavlja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normativa zalih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materijaln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536-1FFF-4756-B85F-E78B784E675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nabav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nabave sredstava za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nabave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skladište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29F-49A5-4509-9833-A16A01C7CBD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troškova i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a nab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e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kov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mata na uložena financijska sredstva za zalih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organizacije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25A-585A-454C-8415-3361C4426A4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ZACIJ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retanje procesa projektiranja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znavanje i proučavanje zadata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e i principa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nje i valoriziranje relevantnih čimbenika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F63-DB2B-4726-9C9D-32F30383EF22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KAO PROCES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ka kupnja je proces nabave, stalna i povremena aktivnost opskrbljivanja poduzeća sredstvima za proizvodnju i uslug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meti r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ljaju se češće i kontinui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edstva r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ljaju se povremeno jer je njihov vijek trajanja duž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62A-647F-483F-9842-21A5F3F0F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ZACIJ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jenjivanje postojeće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izbor projekta optimal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jena projekta organizacije nabave (implementacija projek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4FA-5998-4D31-BFE0-BC9E1A7F8A9D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RATIVNA PRIPREM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ispravnosti zahtjeva za nabavu sredstava za proizvodnju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ivanje količina nabave, rokova naručivanja, rokova isporuke, izbora izvora i put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dostava upita potencijalnim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E54-4760-40A2-B3F3-00622EE44BC4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RATIVNA PRIPREM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poređivanje i izbor najpovoljnije ponude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kupljanje referenci o novim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đenje pregovora i zaključivanje kupoprodajnih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336-5544-45EE-9DCE-DF26920B60F1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GOVARANJE KUPNJE I NARUČI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jučivanje kupoprodajnih ugovora i naruč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ćenje izvršenja kupoprodaj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a i izvršenih narudž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oz sredstava za proizvodnju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CE0-A4A6-4B22-93E4-BE80D44AE1E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REMA SREDSTAVA ZA PROIZVOD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načina i nositelja transporta (doprem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aranje i naručivanje prijev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špeditera i dostava dispozicije za dopr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nje u transpor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uzimanje od prijevoznika (špedit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EFF-DBDE-4303-BC02-01C40A9BCB9D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TROLA KOLIČINE I KVALIT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prijem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količine nabavlje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kvalitete nabavljenih prijem nabavlje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amacija na količinu i kvalitetu nabavlje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2FA-586D-4323-9CDB-B29D11690807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ored i smještaj materija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kla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uvanje materijala u skla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va zahtjeva za nabav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a kojih nema na zalih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EB3-CF61-4A4A-B8F1-B4C0D6215A08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i davanje naloga za plaćanje računa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va reklamacija u vezi s računim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107-1A5F-4D72-AEA8-73EBAB4082C4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jem i razvrstavanje dokumenata za izdavanje materijala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ema i kontrola materijala za izdavanje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iranje i razvrstavanje materijala za izdavanje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D9B-6207-417F-8C5E-4FFC3BA101A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AJA SUVIŠNIH MATERIJAL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dstava za rad i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viškov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upljanje i sortiranje otpadak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viškov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suvišnih sredstava za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prema i naplata prodanih viškova materijala, sredstava rada i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78E-A43E-400E-B98A-EAFA4285AED0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KAO 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jedna od poslovnih funkcija poduzeća (funkcija = istovrsni poslov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proizvodnju i prodaju, osnovna je funkcija u proizvodnim poduzeć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prodaju i u trgovinskim poduzeć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83E-1B1D-45AB-9A4D-F6B2443586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IDENTIRANJE NABAV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preme i skladišt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ir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iranje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iranje skladište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A5B-1663-4989-87B8-5AA468CF1C5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AVJEŠTAVANJE O NABA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dostava potrebnih informacija o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dostava izvještaja o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30A-710B-401E-9777-20C5FD2443D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TROLA NABAV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ođenja nabavne polit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vršavanja planov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bavnih ci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liha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škov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2AF-FEC4-4DBB-A6EA-05A4276DB44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TROLA NABAV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nih troš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kovanja materija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štivanja zakonitosti, običa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nog morala i lojal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8E6-D0FD-4D39-AE0C-7F88B5298F5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IZ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nabavne poli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zvršavanja plan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operativne priprem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količine nabavljenih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nabavnih cijena roba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2FB-BA8A-4AB2-BB41-DE5070119DE5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IZ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obavljača sredstava za proizvodnju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zalih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trošk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transportnih i skladišnih troš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kadr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efikasnosti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674-C4B9-4DF0-BACC-0804164C27F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I STRATEGI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RANJE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CEPCIJA I STRATEGI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KVALITET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IZVORA NABAVE I ODNOSA S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NABAVNIH CIJEN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ZALIH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0B6-2603-404C-B6B4-02B033972521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POLITIKE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o izabrana i pravilno definirana politika nabave omoguć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zadatak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mjeravanje i vođenje aktivnosti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klađeno djelovanje i suradnju izvršitelja zadataka u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jerenje rezultata u kvaliteti, količini, rokovima i troškovim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ju kontrolu ostvarivanja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4CD-2BA4-4618-A0CF-8A95610A872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POLITIK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a politika nabave uz kadrovsku ekipiranost i funkcionalni organizacijski ustroj ima najviše utjecaja na efikasnost nabave. Pored nabave tu vodim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ajn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izvodn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jsk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rovsk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AE4-CE25-4649-B659-8974DC73F5E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astavni dio opće poslovne politike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lo je usko povezana s ostalim posebnim politikama, a osobito politikom proizvodnje, investicija, prodajnom i financijskom politik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poslovanje bilo uspješno sve spomenute politike trebaju biti usklađ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C37-5A2F-4ABF-87DA-3F8D1CC5FEE5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- STRUČNA SLUŽB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je dio procesa reprodukcije i jedna je od poslovnih funkc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a služba koja obavlja opskrbe poduzeća sredstvima za proizvodnju i uslug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varuje se put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čnih služ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21A-A016-4230-83A9-61A149D42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politiku nabave utječu mnogi čimben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e tijekom vremena mijenja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bog različitih ciljeva i sukoba interesa, te čestih velikih promjena unutar poduzeća i u njegovom okruženju, odlučivanje o politici nabave vrlo je složen pro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EE1-5960-4D65-A6B1-AB51020E54D6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 formiranju politike nabave treba se pridržavati slijedećih princ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zanje maksimalne ekonomi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zanje sigurnosti u poslovan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nje ekonomičnosti i sigu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6A3-B314-4A97-A654-41D550F298E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i se postižu tako da se sredstva za proizvodnj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ljaju pravovremen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ptimalnim količinama i kvalite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avo vrije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najpovoljnije cije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dgovarajućih dobavljač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najniž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1F6-C89B-428B-9100-C909B367D5C5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urnost se postiž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siguranjem neprekidnog tijeka materijala i usluga za kontinuiranu proizvodnju te eliminiranjem rizika u nabavi i na zalihama materij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a politika nabave mora biti stabilna i elastična i prilagodljiva stanju na tržiš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va politika treba biti dugoročna i samo tako će osigurati stabilan razvoj poduzeć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71D-605A-4492-96B5-7382853B1214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 FORMIRANJA POLITIKE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ma sljedeći redoslij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ira se i utvrđuje utjecaj nabave na proizvodnju i poslovanje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ira se postojeće stanje, razvoj i razvojne tendencije poslovanj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dentificiraju se i valoriziraju relevantni činitelji politike nabave, njihov utjecaj, međuovisnosti i međuutic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viđaju se daljnji razvojni pravci i utjecaji činitelja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C80-A679-4DB4-B8B7-A1449275CBF5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 FORMIRANJA POLITIK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ma sljedeći redoslijed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iraju se problemi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vrđuju se alternativna rješenja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vrđuju se kriteriji za izvor najpovoljnijeg rješenja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rađuje se usporedna analiza relevantnog broja alternativnih rješenja na temelju utvrđenh krite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laže se organima odlučivanja najpovoljnije rješenje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C43-EC52-4413-9DBB-4124ABD13FEC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 FORMIRANJA POLITIKE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 sljedeći redoslijed (nastava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čuje se o izvoru najpovoljnijeg rješenja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ljnije se razrađuje izabrano rješenje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uje se plan, organizacija i kontrola provođenja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smenoj formi se objavljuje usvojena politik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B3E-FDE7-4BB1-8439-00B995E0ED5A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NCEPCIJ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iju nabave treba razraditi na temelju definiranih ciljeva poduze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je za donošenja odluka u nabav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ija nabave predstavlja osnovne zamisli o načinu realizacije politike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ijom nabave predstavljaju se kriteriji ponašanja rukovodstva i referenata nabave u rješavanju zadataka nabave na temelju ciljeva i filozofije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CC0-0769-4B10-BD22-397BCC2E8A16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cepcijom nabave treba postaviti temelje za donošenje poslovnih odluka u vezi ocjenjivanja i izbora dobavljač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cepcija donošenja odluka - da li nabaviti ili proizve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svojim aktivnostima omogućiti realizaciju ciljeva poduzeća na što ekonomičniji nač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AE8-1E79-4E24-B338-190774474E83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oslovanju s dobavljačima valja težiti trajnim partnerskim odnos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odnosi moraju biti korektni, ne  zanemariti kvalitete, rokova isporuke i trošk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pati takve aranžmane da se dobavljač ne dovede u egzistencijalnu ovisnost o kupcu, ali i neovisnost kupca o dobavljač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2AC-C4ED-4ADA-A56F-587756C63085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- STRUČNA SLUŽB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veći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LIKIH poduzeć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ija nabave se ostvaruje u posebnoj služb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užbi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unkcija nabave se može ostvarivati u 2, 3 ili više stručnih služb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IM poduzeć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ija nabave ostvaruje se zajedno s funkcijom prodaje u jednoj službi koja se obično zo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ercijalnom služb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214-C037-455F-942D-4328D13E8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e valja izvršavati u smislu njihovog sadržaja, a ne samo prema formalnim klauzu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donošenja odluka treba biti što krać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dnosu na dobavljače, kao i u internim odnosima u poduzeću moramo lučiti probleme od oso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mo se rukovoditi poštivanjem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406-4167-4C3A-BFD3-1872317E40FE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u nabave potrebno je razvijati prema znanstvenim dostignuć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smiju se zanemariti istraživanja potreba i mogućnosti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imati stalne i dobre kontakte s drugim službama u poduzeću, te i izvan poduzeća -pribavljati važne informacije kao podloga za donošenje poslovnih odluk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903-3CBD-4C5E-9815-D2879CC43AB9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oblje u nabavi se mora stalno educirati i usavršavati kako bi moglo uspješno izvršavati svoje poslove i zadat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eba raditi u skladu s koncepcijom i politikom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podloga za razradu koncepcija nabave postavljaju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goroč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atkoročni cilje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3F6-9FEA-4039-BE60-8B8D17897436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UGOROČNI CIL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cepcije nab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lagođavanje organizacije IS nabave potre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ba mandatnog sistema prema kojem nabavu obavlja ona decentralizirana jedinica ili osoba koja za to ima najbolje kvalifikacije i uvj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ranje zaliha u poduzeć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ba standardizacije i tip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a funkcionalne analize vrijednosti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503-DF0A-4EF9-904C-5629FDDAEB9E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RATKOROČNI CILJEVI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cepcije nab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ispitati poslovne odluke u vezi s nabavom i vlastitom proizvodnj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itati mogućnosti korištenja supstitu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cati dobavljače da u svoj proizvodni program uvedu proizvodnju određenih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a e - poslovanja u komunikacijama nabave i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 sinkroniziranog sistema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E69-E648-4CED-8C33-D33E64B81A64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RATKOROČNI CILJEVI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laz s nabave opreme na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edba mjera racional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 kooperacije u nab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na linijskog koda u transportu i skladišnom poslov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edba i korištenje ABC a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na metoda optimalizacije transp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širenje kruga dobavlja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D0E-3A1D-4354-BC4F-CA07EFE33AAF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EGIJ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likom izbora strategije potrebn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raviti što više alternativa kako bi se mogle spoznati šanse prilikom promjena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ti djelovanje na troškove i riz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irati i vrednovati prihvatljive kombinacije strategija temeljem varijabilnih instrumenata nabave cijena, količina, kvaliteta, putova nabave i metoda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2DA-702D-4C28-9FD9-48A7C25DD2F0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EGIJ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likom izbora strategije potrebn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abrati kombinaciju strategija koje obećavaju što je moguće bolje ostvarivanje izabranih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 grube strategije razviti akcione pl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irano dokumentirati i tekuće kontrolirati provedbu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41D-D397-442E-8A58-832E286E5B89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EGIJ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razlozi zbog kojih može doći do promjena u izabranoj strategi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češći razlozi toga mogu bi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jene na tržiš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ja konkurencije 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ja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odgovarajuće koncepcije i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e ovise o umješnosti osoblja nab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6EC-3A21-4B7A-917A-8F392DEA0A52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se govori o kvaliteti ili kakvoći misli se na određene osobine, svojstva, obilježja, karakteristike proizvoda i uslu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ržišnom poslovanj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liteta obuhvaća ukupnost osobina proizvoda i uslu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e karakteriziraju njegovu sposobnost da zadovolji potre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3E5-6C8C-4771-906A-BF219B358CED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395-BFA0-476B-9A89-3D62C55BD7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etno se za nabavu p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lite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zumije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kladnost nabavljenih sredstava za proizvodnju proizvoda ili usluga da zadovolje potrebe proizvodnje i poslovanja poduzeć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kvalitete materijala ovisi, u prvom redu, o kvaliteti gotovih proizvoda kojoj je materijal namijenj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239-60A1-4364-8C28-10ED07EADF4E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jena materijala određuje da li se odgovarajuća kvaliteta nalazi bliže donjoj ili gornjoj granici kvalit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obra kvaliteta materijala je skup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povoljnija je ona koja može u potpunosti zadovoljiti namjenu u proizvodnj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ršitelji nabave mogu značajno doprinijeti da se nabavlja materijal po najpovoljnijim cije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2A2-82AA-4A03-A751-9373DB753F41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vršitelji nabave moraju imati 3 najvažnije vrste znanj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avanje materijala kojeg kupu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avanje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avanje pouzdanih izvora opsk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 nabavu odgovarajuće kvalitete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rebno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diti i opisati i osigurati kvalit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4D0-5798-4852-BC85-D8EC583A9041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valiteta se može optimalno odrediti ako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rene od pi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što je materijal potreban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u funkciju treba materijal obaviti u procesu proizvodnje i poslov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CA4-5438-49E3-9BEA-FAC9F7662D69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valitetu materijala i proizvoda određu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emijski sa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zikalna svoj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ganoleptička svojstva (ona koja se v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enz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unkcion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039-BC79-41D1-8BC8-B04CAF9282F8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 tom se mora uzeti u obzir i njihova pouzdanost, sigurnost, ekološki temelji te njihova raspoloživ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u materijala 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jskom poduzeć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dređuje konstrukcijski odjel koji te materijale naručuje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na služba koja zahtijeva nabavu materijala pa je zatim drži na zalihi ne određuje kvalite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045-E6F2-496E-9237-0669D75AD809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bog velikog utjecaja kvalitete materijala na kvalitetu gotovih proizvoda se primjenjuje različiti pristup u sistemu opskrbe na slijedeći nač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m inženjera za materij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remenom dodjelom inženjera na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m promocije unutar i izvan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m projektnih tim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m liste katalog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A9E-CDFB-4C85-B4DF-39346576D78E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materijala kojeg se nabavlja obično se opisuje na jedan od sljedećih nač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odi se zaštitni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temelju uzor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odi se tržna kval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iva se na važeće stand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se navodi u specifika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DDE-8BCC-430D-8B25-9E6DF94D0677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IZVORA NABAVE I ODNOSA S DOBAVLJAČIM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izvora nabave i odnosa s dobavljačima ima strateški karakter za cjelokupno nabav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i materijala sudjeluju u cijeni gotovih proizvoda s do 8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i u velikoj mjeri ovise o ispravno odabranom izboru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zdan dobavljač isporuka sigu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5FF-0439-4984-BCE7-EC6E697AD8B0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IZVORA NABAVE I ODNOSA S DOBAVLJAČIM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prikupljati i sređivati podatke o dobavljačima i s njima održavati stalne kontak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že doći do podataka o izvorima nabave na različite nač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CD2-F4B0-415E-A5A9-3F90F67B4854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NABA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jednička karakteristika marketinga je da u središte svojih razmatranja stavlja tržište i zadovoljavanje potreba tržišnih subjek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nabavi to znači da se kod donošenja odluka misli na njihovo eksterno i interno djelovanje kako bi se što bolje iskoristile tržišne mogućnosti, smanjili rizici i pospješila realizacija ciljev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C2B-015C-4E4A-A26E-B33594163A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JENJIVANJE DOBAVLJAČ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provoditi prije njihovog izb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je osobito potrebno prije sklapanja poslovnih aranžm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je potrebito činiti periodič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što je nabava upoznata s potrebama za sredstvima za proizvodnju, valja istražiti izvore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E97-4BB2-472A-8631-43214CD68E01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JENJIVANJE DOBAVLJAČA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pronaći proizvođače čiji će proizvodi i usluge najbolje zadovoljiti potrebe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obzirom da se u nabavi donosi veliki broj odluka o dobavljačima, potrebno je, na osnovu istraživanja tržišta, izabrati najpovoljnijeg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836-6B44-4F5C-A0FA-4332EBF613AB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JENJIVANJE DOBAVLJAČ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ktivizam u izboru dobavljača nije preporučlj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razvijenim zemljama najbolje ocjene dobivaju oni dobavljači koji imaju najbolje razvojne sposob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vi dobavljači mogu doprinijeti kvalitetnim materijalima, a i smanjenju troškova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E74-0263-4D30-96AB-5BE145B6F412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 izboru dobavljača obično se polazi od četiri osnovna kriter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nička kompeten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ska kompeten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mnost na sura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ska povolj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31D-CA3A-4F4E-B763-3117DCC0AF7A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i kriteriji se detaljnije razrađuju s različitih glediš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te razrade najprije se polazi od onih koji s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ntitativno mjerlj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to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ntiteta, cijena, pouzdanost isporu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ntitativni kriteriji moraju biti tako razrađeni da se mogu dobiti usporedivi podaci za sve dobavljač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C2A-21D0-4D3A-9D7C-2B85BA845674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jedi razrada kvalitativnih kriterija ocjenjivanja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nička kompetencij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acitet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jska situ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a struktur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v upravljanja i rukovođ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4CB-B0E8-4C30-950F-6025A6828673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ođer je potrebno utvrditi u kojoj mjeri dobavljač poštuje zahtjeve zaštite oko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likom utvrđivanja spomenutih kriterija važno je imati na umu i geografski položaj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lakše korištenje kriteriji za utvrđivanje kvantitete i kvalitete materijala preporučuje se definiranje liste kriter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73A-5B27-4A81-8DF1-CC81AD2A3A03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sredstava za proizvodnju tretira se kao najznačajniji faktor pri izboru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broju prihvaćenih i vraćenih isporuka izračunava se indeks kvalitete za svu isporučenu robu pojedinih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vljače treba upoznati s ocjenom kvalitete isporučenih materijala koju je dao kupa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D37-CF9F-49C2-AC18-F2F2823D9957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je, uz kvalitetu, jedan od bitnih kriterija koji se koristi u izboru dobavljača. Razlikujemo više vrsta cij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koštanja, fakturna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bavna cijena, prodajna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bi se moglo jednokratno utvrdi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ndeks cije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za svakog pojedinog dobavljača potrebno je definirati s kojim će se cijenama operira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D98-B045-44B5-8B6A-F68104268555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zdanost isporuke dobiva posebno značenje u suvremenim uvjetima kada se nastoji što više smanjiti ili čak eliminirati zali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ćenje isporuke provodi se s obzirom na održavanje: ugovorenih količina, rokova isporuke i kvalitete predm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085-81D7-4660-BBBD-54A374E63C4C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AČAJE NABAVE U PODUZEĆ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vljač više nije samo izvor nabave, već je i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tvo se očitovati u poslovanju, u razvoju, u inovacijama i optimalizaciji trošk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vljač mora poznavati kup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pac mora dobro poznavati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A9B-B893-436E-BB9A-4A314713D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ativni kriteriji služe za suptilnije ocjenjivanje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nadopuna ocjene dobavljača na temelju kvantitativnih kriter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 osobito odnosi na nove dobavljač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ADE-0351-47E5-BCB7-2C6651DA5919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hničke kompetencije dobavljača u koje spadaj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ficiranost osobl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položivi uređaji i alati te serv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ječu na rezultate poslovanja te, na taj način i na kvalitetu i cij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jednostavniji sistem ocjenjivanja može se iskazati s 3 moguće ocj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ovoljava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zadovoljava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DE5-EE6F-4838-A259-901BB1B7B939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upna ocjena se donosi temeljem dodijeljeni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razraditi vlastite kriterije za ocjenjivanje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diti računa da to ne izazove velik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a je i organizacija odnosa s dobavljač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o je utvrditi ukupan broj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BF6-CA79-452F-9B90-5C10CEB0CB7F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dobavljača može biti različit. S ekonomskog aspekta, najbolje je imati mali broj dobavljača koji zadovoljavaju potrebe u sredstvim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tim, zbog konkurencije i očuvanja vlastitih pozicija na tržištu, treba imati toliko dobavljača koji će osigurati opskrbu poduzeća potrebnim materijalima pod najpovoljnijim uvje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EE9-D9D6-4257-BB9E-FF7C9607633C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VOT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se o politici nabave, zatim o potrošnji materijala, o uvjetima prodaje, transporta i financijskim uvjet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eljem toga, utvrđuju se kvote nabave materijala od pojedinih dobavljač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ote nabave treba tako definirati da što je više moguće ukupne zalihe pretvorimo u optimal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 će se smanjiti troškovi nabave, a proces proizvodnje odvijat će se norma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C3A-1B02-48AE-A2DA-62D30236C8C8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ADNJA S DOBAVLJAČ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biti korekt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partneri koji zadovoljavaju potrebe poduzeća za sredstvim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tome prilagodili svoje kapacitete, svoja investicijska ulaganja, svoj tehnološki proces, servis i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BE9-662F-4D9B-AECF-B359F80883ED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SURADNJE S DOBAVLJAČIM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gu bi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ći i poseb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ći ciljev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jalizacija i podjel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jedničko rješavanje problema automat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rzanje procesa reprodu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njenje potreba za formiranje zali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ranje konkurencije među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E63-F96B-4B28-B75A-BECEBB566E07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SURADNJE S DOBAVLJAČIM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ebni ciljev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voriti pravo partne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prijediti proizvodnju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ti izvore nabave u blizini mjesta potroš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jentacija na više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A71-05F2-4E27-9F91-E804657C6543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OVI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različiti putovi i metode nabave sredstav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je nabave treba donijeti odluku da li je ispravno nabaviti neposredno od proizvođača ili posredno preko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m toga, treba odlučiti da li materijale nabaviti na domaćem tržištu ili posredno putem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926-6D8E-42FF-9DFD-A25A71E22DD1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OVI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snovi, postoje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novna put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ljanje materijala od proizvođača direktno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sredni put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ljanje materijala u trgovini i od uvoznika 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redni put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D3C-DEDD-4B4D-9488-1E858DD5FCDF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CIJE DOBAVLJAČA O KUP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duzeću općeni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trebnoj tehničkoj i komercijalnoj podršci kojom može povećati svoju efikas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mogućnostima zajedničke promocije kako bi se još više proširila surad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28C-47A7-42D2-AAF9-E8478115A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emo definirati ka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up postupaka rješavanja zadatak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ak rješavanja nabave može se odvijati na različite načine, pa se razlikuju i različi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meno naručiv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elefo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pismenim pu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preko intern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4E7-84F3-494C-A386-93FAB7075B25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POLITIKE NABA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ra se temeljem programa proizvodnje i programa prod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eljem njih utvrđuje se kvaliteta i kvantiteta potrebnih predmeta rada, kao i vrijeme kada ti predmeti trebaju biti na raspolaganju proizvodnj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om programa nabave nastoji se utjecati na tržišne uvjete tako da se stvori što povoljnija sfera na početku procesa reproduk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687-42D9-480A-8E54-6B08C1BA7A89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NABAVNIH CIJENA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 politike nabavnih cijena je da se sredstva za proizvodnju i usluge nabave po najpovoljnijim cijenama uz održavanje korektnih odnosa s dobavljač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a materijala sudjeluje s do 80% u cijeni koštanja industrijskog proizvo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bog toga su nabavne cijene materijala najvažniji činitelj koji utječe na donošenje odluka o nabav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6F4-811F-4428-A534-011642B60E63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CIJEN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može se promatrati izoli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ju dovesti u kontekst kvalitete, količine, rokova isporuke, transporta i plać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eljem njih može se odlučivati o nabavnoj cijeni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e dovoljno da cijena materijala bude povoljna samo za kupca, već s njom treba biti zadovoljan i dobavlja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1C1-8745-4220-83E7-0EFFC9887D40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CIJEN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nu cijenu materijala uvjetu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a koštanja proizvođ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a i potražnja za materijalom iz  kojih su izrađ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a i količin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škovi transporta, osiguranja, špedicije i posredovanja oko nabave, privredni prop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 prodajnih cijena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 nabavnih cijena ku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jsko stanje ku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019-B0A5-45B3-82AF-32F2ED91DAE6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CIJEN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a je, po prirodi posla, bitni sastojak svakog ugovora o kupnji i proda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različiti načini za dobivanje informacija o cijenama materij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nici –katalozi –prospekti –Web st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zovni 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govački časop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e - pregov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0F5-D29B-49B3-BE38-645DC0EF884B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STI CIJENA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e o cijenama nisu potpune ako kupac nije utvrdio neto cijenu koju plaća dobavljač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utvrdio neto cijenu, kupac mora saznati da li dobavljač daje popuste na nabavu materijala, u kojim slučajevima i koliko oni izn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ično se daju 2 vrste pop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0F0-D1E7-4E6F-BE48-030D4DE76184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STI CIJEN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casa scon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popust koji dobavljač daje kupcu ako plati nabavljeni materijal unutar roka koji je kraći od ugovorenog roka plaćanja, a odobrava se u postotku na nabavnu cij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006-6A28-4917-823A-B7C5682AF862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STI CIJEN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b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opust na cijenu robe i usluge koje dobavljač daje kupcu da bi smanjio zalihe, snizio troškove i povećao obujam prodaje, a daje se u postotku (1%, 2%) na nabavnu cijen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at može biti trgovinski, specijalni, sezonski i količins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1FA-3782-4D7A-88AE-32D9A32421BA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KSNE I KLIZNE CIJENE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tavni dio politike nabavnih cijena je odluka da li kupovati materijale po fiksnim ili kliznim cije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kupac i dobavljač utvrde ugovorom o kupnji, prodaji, iznos cijena po jedinici mjere ili za ukupnu cijenu govori se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ksnoj cije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ksna cij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jednostavljuje poslovanje, otklanja sporove, omogućuje realnu kompilaciju i za kupca i za dobavlj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66D-2BA6-45AF-864E-E3A32A8C16CD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JAM NABA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najužem smis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že poistovjetiti s kupnjom kao činom kupoproda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širem smis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uhvaća cjelokupnu djelatnost povezanu s kupnjom sredstava za proizvodnju i uslu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kupnju su povezane aktivnosti koje prethode i koje slijede toj kupn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A8C-EB8F-41E9-92F3-3E9B93B658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PRISTUP TRŽIŠ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se na tržištu želi uspjeti, moraju se smanjivati rokovi isporuke i troškovi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nosi s dobavljačima - uspostaviti partnerske odn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rketing nabave se posebno bavi kombinacijama instrumenata politike nabave i to nazivam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ixom ili spletom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FB7-D719-4048-B7F8-B3A5CD6010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ZALIH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 zaliha materijala dobiva na značenju s porastom kamata na obrtni kapital i porastom troškova skladište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lihe materijala trebaju biti tolike da osiguravaju kontinuirano odvijanje procesa reprodukc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ekonomičnije su one zalihe koje zadovoljavaju potrebe proizvodnje po količini i kvaliteti. Najbolje bi bilo poslovati bez zalih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385-54C1-4B1B-A938-D66311B1E9BE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ZALIH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bog uvjeta i rokova isporuke zalihe treba držati u granicama normativa da bi se proizvodnja mogla odvijati kontinuir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a tome, dovoljno zaliha je prioritetan zahtjev u vođenju politike zaliha. Takve zalihe se zov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li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ko n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vođenju politike zaliha treba nastojati ostvariti što veći koeficijent obrtaja – minimalni koeficijent obrtaja onda govorimo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kurentnim zalih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AA9-0076-40BA-B19D-D8C24D1C6309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ZALIH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ko nor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kurent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stavljaju višak za poduzeće i treba ih se što prije oslobod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mogu izazvati zastoji u proizvodnji, veće isporuke dobavljača i izmjene proizvodnog prog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7A8-67C6-43B5-9959-29BC7034FB82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TRŽIŠT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IŠT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TANJE PONUDE I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E ISTRAŽIVANJ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ADA PRIKUPLJE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ISTRAŽIVANJ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020-2BCD-4087-9D3C-B42050330A1E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ŽIŠTE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azvojem tržišta nabave razvijala se i sama naba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ti nabave prestali su biti puki izvršitelji nečijih odluka o tome što, gdje i od koga valja nabaviti potrebne materij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stručnjaci koji analiziraju, procjenjuju, biraju i iniciraju nabav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1CA-2963-40E2-9921-7A600753E9C7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ŽIŠTE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ova je zadaća da promatraju i istražuju tržište nabave. Da bi to mogli, moraju raspolagati s aktualnim informacij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e će im pomoći da se bolje snađu na tržiš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e će dobiti sistematičnim istraživanjem tržišta nabave, objekata nabave, dobavljača, potražnje i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356-6DDA-43E5-A1A9-30BC10161918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ŽIŠTE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to istraživanje nabave predstavlja organizirano i sistematično prikupljanje, sređivanje, analiziranje i interpretiranje podataka o tržištu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donosi konkretne odl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ke temeljene na pouzdanim informacijama, rezultirati  će najpovoljnijom nabav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F3F-1660-4DE5-9333-EF1338106898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isti se odgovarajućim istraživačkim metodam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ovom primjenom dolazi se do određenih rezultata koji se zatim prezentiraju u određenom obli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isno o ciljevima koji su postavljeni, ti rezultati mogu se prezentirati u oblik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aborata, studija i izvješta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E9F-B409-4996-A9D7-4A50AD1ADA2B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eba biti plansko i mora se odvijati kontinui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provodi se radi donošenja nekih značajnih odluka  -  govorimo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godnom ili specijalnom istraživan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se odvija permanentno  -  govorimo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kućem istraživan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76F-014A-4C8A-91BE-B519376C01BF}" type="slidenum">
              <a:t>2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UĆE ISTRAŽIVANJE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vija se kao sastavni dio aktivnosti nabavlj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stavlja kontinuirano prikupljanje i analiziranje podataka o tržištu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met tekućeg istraživanja su podaci o predmetima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3DF-D4CC-4A7F-B733-F38BE06FE7CD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LOVANJE NA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i s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jenjeni sustav nabavlj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na fizička distribucija ro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lihe se nastoje smanjiti na najmanju moguću mjeru. Valja poboljšati rokove isporuke ro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iti vrijeme od početka proizvoda do ispor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979-77F7-4972-A78E-DDA5D65AEB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UĆE ISTRAŽIVANJE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predmetima 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a materijala i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až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nt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ovi ispor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dobavljačima i njihovim karakterist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4C9-F252-426D-938E-BF131790DD65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UĆE ISTRAŽIVANJE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dobavljačima i njihovim karakteristik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aciteti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ficiranost osob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rtiman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C16-A0E4-47F6-B6F0-7AFDAB895130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ju se unaprijed precizira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diti istraživače koji će to istraživanje moći prove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definirati ciljeve istraživ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oznavanje tržišta nabave dovodi do povećanja troškova nabavlj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394-E623-49E2-A4B4-6C7A655A49BE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uspjeh u istraživanju tržišta bitno je izabrati osobe s odgovarajućim znanjem i sposobnost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ju poznavati proizvode i tržište nabave, istraživačke meto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ju biti sposobni za timski rad. Taj posao mogu uspješno obaviti ekonomisti s praksom na poslovima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B59-4F4F-40BB-9458-C03D0DCCF494}" type="slidenum">
              <a:t>2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rtiman predmeta nabave je veli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ište nabave nije za sve materijale jednako opskrblje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istraživanju tržišta treba se ograničiti na istraživanje onih predmeta rada koji su značajniji, vredniji i potrebniji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856-E3F9-46EA-B7FB-72E25769B9CE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kti istraživanja tržišta nabave prvenstveno su predmeti rada grupe 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a procese reprodukcije značajniji materijali koji se teže nabavljaju (investicijska oprem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886-FEA1-42A9-9E07-A694DD5B3E19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tržište nabave djeluju različiti fak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jecaj ekonomske politi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meti rada i njihove tehničke karakteristi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ponude i potražn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loški zahtjev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a materija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avljač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F47-D61D-4F0B-B58F-0C37F9812D33}" type="slidenum">
              <a:t>2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raživanje tržišta nabave se od postavljenih ciljeva ograničava na određena područja kao što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jedina tržišta (domaća i str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redne g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eni terito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eni proizvod (materij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FB5-718B-4F3A-92C4-482E5AB99A78}" type="slidenum">
              <a:t>2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HNIČKE KARAKTERISTIKE PREDMETA RA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tržišta nabave obično započinje upoznavanjem tehničkih karakterist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 tome je potrebno poznavati strukturni sastav predmeta 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znači da treba poznavati iz kojih sirovina i materijala je napravljen, kakve je kvalitete i uporabne vrijed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đer, treba istražiti tehnološka dostignuća vezana za materij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6CF-93A7-4B2F-8E6C-777FE429F420}" type="slidenum">
              <a:t>2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KTURA PONUDE I POTRAŽNJ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a i potražnja mogu se istraživati u globalu ili s aspekta pojedinih predmeta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vakom slučaju, treba istražiti strukturu ponude i potraž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o tako se može doći do ispravnih ocjena određenog tržišt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229-5D6B-4551-8DF1-2C8BEAE7EDB3}" type="slidenum">
              <a:t>2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POSLOVNE FUNK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jalno posl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je ravnopravna proizvodnji, razvoju, marketingu i drugim poslovnim funkcij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akvoj situaciji funkciju materijalnog poslovanja obavlj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užba materijalnog poslov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služba obavlja poslove nabave, distribucije, skladištenja i prodaje sredstav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D16-6ECB-4496-9F91-C4BE685F97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KTURA PONUDE I POTRAŽNJ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ktura ponude i potražnje u cjelini ovisi o ekonomskoj politici zem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čkoj situacij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jetskim gospodarskim kretanj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zonskim kolebanj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kretanju uvoza i izvoza materij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989-92AD-46CE-98FB-A3FF3A06D2E2}" type="slidenum">
              <a:t>2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KTURA PONUDE I POTRAŽNJ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se promat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nude i potražnje pojedinih predmeta rada, tada možemo evidentirati niz faktora o kojima ov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i veličin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ponuđenih predmeta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ntiteta ponuđenih predmeta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stičnost ponude ponuđenih predmeta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476-2B0F-46E4-962D-C6718C960A09}" type="slidenum">
              <a:t>2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RAŽNJA PREDMETA R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karakteristika tržišta nabave. Interesantna je kao i ponu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uspješnu nabavu valja prvo istražiti tko na tržištu nabave vlastitog poduzeća nabavlja iste predmete 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kurenti u nabavi mogu se podijeliti na one koji iz istih predmeta nabave proizvode druge krajnje proizv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zahtijeva istraživanje i tržišta prodaje, tako može procijeniti potražnja za predmetima 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648-9192-458D-8AC7-9ED38BA82722}" type="slidenum">
              <a:t>2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RAŽNJA PREDMETA 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procjenu vlastite pozicija na tržištu, treba utvrditi visinu potražnje, tj. potrebe kupa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nabavu je značajno da o ponudi i potražnji, kao i trendovima u njihovim kretanjima ima što više informac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je najznačajnija funkcija istraživanja tržišta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moću statističkih i matematičkih metoda može se, na osnovu prikupljenih podataka, stvoriti podloga za strategiju i taktiku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FBD-1BC2-417D-8443-16C387A620FD}" type="slidenum">
              <a:t>2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KOLOŠKI ZAHTJEVI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je prirodna okolina više ugrožena, ekološki zahtjevi u nabavi postaju značajni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su prirodni resursi veći, čovjek o njima manje b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nabave treba obuhvatiti promjene u prirodnoj okolini, te utjecaj proizvodnje, skladištenja i transporta vlastitog poduzeća na te promj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229-88CB-46CB-A393-01BF9B5CAF0C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KOLOŠKI ZAHTJEVI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m treba pratiti što se poduzima u svijetu i zemlji u pogledu zaštite oko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om smislu treba pratiti zakonske propise, liste ekološki štetnih proizvoda, te djelovanje ekološkog pokr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će orijentirati nabavu da traži i nabavlja one materijale koji nisu ekološki štet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116-4B62-4176-AEEB-8DAA6E358982}" type="slidenum">
              <a:t>2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škovima transporta obično se ne pridaje potrebna pozorn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ti sredstvo i putove transporta pomoću kalkulacija i izabrati najpovoljnijeg prijevozni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abrati prijevoznika na duži rok pa s njim postupati kao s partne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stiti prijevoz - treba voditi računa o njegovim kapacitetima i zadovoljenju potrebe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446-41A8-4844-9FE5-F8364549A7FF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J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a sredstava za proizvodnju je jedan od faktora u donošenju odluke o nabavi. Ovisi je 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č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avljač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ciji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onskim propis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o sve predstavlja objekt istraživanja tržišta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A15-6682-4498-83D4-AAE431B0E645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CI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iste se met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strukture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atranje cijena odabranih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poredba cijena u okviru kalkulacije pon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0BC-4520-453D-99B8-7B77A2792930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CI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strukture cij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stoji se od istraživanja elemenata cijene koštanja nekog proizvo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mora više pozornosti pokloniti promatranju i uspoređivanju cijena proizvoda kod kojih nastaju veća koleb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030-357A-490E-B89D-7DD81F73388A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LOVANJ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avlja ove pos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nose s dobavljač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čuje o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7BC-8A27-4158-951C-3790DB5451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BAVLJAČ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poznavati ekonomske i tehničke karakteristike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dobavljačima mogu se svrstat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ći podaci o dobavlja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jalni podaci vezani za proiz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jeti servis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nosi poduzeća s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D45-A25E-462E-A4C1-84EFCFD0793B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BAVLJAČI opći podac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dobavljaču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upan pri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aciteti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zaposlen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izvodn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vi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a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D95-B229-4305-962C-731139FF5FE1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BAVLJAČI specijalni pod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i za koje je kupac zainteresira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istraživanje dobavljača važne su njego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gućnosti u pogledu pružanja servisnih uslug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e garancije daje za svoje materij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istraživanju je još važno kakva su iskustva u poslovanju kupca s pojedinim dobavlj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C80-4D1F-4D1A-8AE3-273832F21EB2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ju biti prilagođene pojedinim fazama istraživanja i predmetima istraživanj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upak rada na istraživanju tržišta dijeli se u slijedeće fa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u užem smis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prikupljenih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iranje rezultata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a rezultata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74D-AFAE-47BC-B952-649A140AA6EF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kviru istraživanja 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em smis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ja primjenom odgovarajućih met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kupi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irati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aditi podatke o predmetima rada i investicijskim dobrima kako bi se mogle donijeti odgovarajuće strateške odl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žan dio istraživanja vezan je za predmete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E34-C7A9-42BF-A5E3-960D38A4D026}" type="slidenum">
              <a:t>2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ACI ZA ISTRAŽIVANJE TRŽI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gu se pribaviti iz različitih izvor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i će se izvori koristiti ovisi o slijedeć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ručjima istraživanja tržišt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ama istraživanja tržišt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i izvor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položivim sredst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položivom vremenu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sobnosti i inicijativi istraživ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ficiranosti korisnika rezultata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6F5-761D-4BDD-9417-6D814789B0F8}" type="slidenum">
              <a:t>2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 zadatak istraživača tržišta nabave je da precizno odrede područja istraži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osnovne metode istraživanja tržišta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kundarno istraž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B06-7B9A-4795-8E0A-BFDE77D680B2}" type="slidenum">
              <a:t>2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no istraživanje tržišt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je duže, košta više i koristi se originalnim podac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arno istraživanje tržišt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je kraće, košta manje i obavlja se za radnim stolom. Ovo istraživanje koristi podatke koje je već ranije netko priku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CE6-9E03-49CD-8D31-F0480C1D2C5A}" type="slidenum">
              <a:t>2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d istraživanja tržišta važno je da izvori podataka budu pouzda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voditi računa da istraživanje ne košta više od vrijednosti podataka koji se njime prikuplja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or određenih podataka ovisi o sposobnosti i znanju istraživ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29B-EF49-4166-9061-95F32DEC12F6}" type="slidenum">
              <a:t>2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tržištu nabave mogu se pribavljati 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an i indirek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č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ntakti istraživača tržišta koriste se u poduzeću i izvan poduzeća. To su: kontakti s dobavljačima, kontakti s tehničkom i razvojnom službom, posjeta dobavljačima, sajmovi i izlož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81C-69E4-4056-A106-49B77EC7928F}" type="slidenum">
              <a:t>2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RIBU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vlja poslove vezane 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az ro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ziciju (razmještanje)  materija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ljanje narudžbama i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F86-F8FC-46BC-8C20-BE52D1B707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nim pu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mogu pribaviti i podaci iz dokumentacije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kupljene ponu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đene kalkulacije temeljem ponu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amaci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i i razni dopisi dobavlj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85E-8CE4-4648-98D0-84DDE28B8B03}" type="slidenum">
              <a:t>2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lo su korisni oni podaci koji se mogu prikupiti na sajmovima i izložbama uzoraka proizvoda u zemlji i inozemstv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č ne može nigdje u kratkom vremenu pronaći podatke kao na sajmov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 stručne literature i kataloga istraživač mora saznati tko sve sudjeluje na saj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1A6-525A-4A00-A65B-B064D2210BAE}" type="slidenum">
              <a:t>2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novni izvori podataka o tržištu nabave koji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em prikupljaju su slijedeć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alozi i cjenici dobavlja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spek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novni dopisi i vodič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čni časopisi i s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lovni izvještaji (TV i radio vijest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stranice -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727-A44B-466B-8836-D0DC77D0C41A}" type="slidenum">
              <a:t>2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novni izvori podataka o tržištu nabave koji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em prikupljaju su slijedeć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je instituta za istraživanje tržiš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đunarodni sporaz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alo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dišnjaci poduzeća i udruže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kumentacija tehničke služ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resari,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670-6B9B-4710-9344-D1ECC0669B87}" type="slidenum">
              <a:t>2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novni izvori podataka o tržištu nabave koji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em prikupljaju su slijedeć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nevne (privredne) novine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cijski serv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čki godišnj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inske tar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hničke karakteristik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kološki zahtje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642-7F98-4C3A-A4D9-1C35F2EA231F}" type="slidenum">
              <a:t>2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či tržišta moraju imati pregled nad svim izvorima podataka, permanentno ih pratiti i voditi evidenciju o tome gdje su pohranje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prikupljene podatke istraživanja treba pohraniti u kompjutorsku memoriju kako bi se lakše mogli korist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2E6-3098-4703-89BD-42672430C07E}" type="slidenum">
              <a:t>2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tke je potrebno grupirati obzirom na njihov sadržaj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dobavljač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predmetima r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cijenam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pojedinim gospodarskim djelatnos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906-366A-4508-B20C-38E91554F80A}" type="slidenum">
              <a:t>2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nabave predstavlja stratešku funkciju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i tih istraživanja omogućuju nabavi da donosi racionalne i pravodobne odl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ogućuje nabavi da vodi efikasnije pregovore i donosi bolje odluke u odnosu na dobavljač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0B7-7037-4263-BCB6-DEEAD3E97815}" type="slidenum">
              <a:t>2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raživanje tržišta nabave izaziva i određene trošk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i su, svakako, manji od koristi koje ima nabava od rezultata istraživanja na osnovu kojim može donositi bolje i za poduzeće učinkovitije odlu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avlja se pitanje kako treba organizirati poslove istraživanja tržišta nabave u poduze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8DE-454A-4EEE-B171-3913657E98AD}" type="slidenum">
              <a:t>2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ko organizirati poslove istraživanja tržišta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u istraživanja tržišta nabave i tržišta prodaje  - stožernu službu upr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tržišta nabave - kao stožerni organ u sastavu nabavne služ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a istraživanja nabave može se povjeriti specijaliziranim organizacij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220-CC9F-45D1-AE66-A76EAF3EBFDE}" type="slidenum">
              <a:t>2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NA FUNKCIJA MATERIJALNO POSLOVANJ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ladiš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čuva i prati zalihe materijala na skladiš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odaje proizvode, vrši procjenu njihove vrijednosti, prikuplja ponude za prod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ko organizirano materijalno poslovanje zove 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lno materijalno poslov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dje su integrirani nabava, prodaja i njihova logisti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780-4DA6-4475-8A36-D18CC19332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u mogućnost će poduzeće izabrati za istraživanje tržišta ovisi o njegovoj veličini, predmetu njegovog poslovanja te udaljenosti tržiš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raživač tržišta nab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pecijalizirani referent nabave koji koristi sredstva i metode istraživanja - vezano za službu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A2E-7B63-4849-B67D-81C2217C99BB}" type="slidenum">
              <a:t>2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RADNJE ZA PLANIR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JETI PLANIR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RŽAJ I VRSTE PLAN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 OPTIMALN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PLANIR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D40-2FFF-4594-9EEE-ACA52C462102}" type="slidenum">
              <a:t>2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poduzeće moglo planirati svoje poslovanje ono mora izvršiti potrebne priprem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ran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roces odlučivanje o budućnosti poduzeća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rezultat tog procesa. Dobro planiranje anticipira probleme prije njihovog nastanka i na taj način se eliminira stihija u poslov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774-0806-432F-9E78-86C4C57D22FB}" type="slidenum">
              <a:t>2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je usko povezano s kontro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om se uspoređuju planirani zadaci i rezultati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ocesu planiranja treba imati u vidu slijedeće bitne princi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s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urno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olo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B64-5BA0-499E-81E5-8A1F6DA0A7DA}" type="slidenum">
              <a:t>2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onomski princi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sli se na ekonomske pokazatelje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urnosni princi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sli se na eliminiranje neizvjesnosti i rizi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loški princi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niranja misli se na korištenje znanosti u planiranju, na realnost i kontinuiranost plan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F4C-A075-4C0D-B76D-E70EF53F0371}" type="slidenum">
              <a:t>2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 sredstava za proizvodnju je predračun poslovanja nabave za određeno vremensko razdobl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nabave je izvedeni plan koji se izrađuje temeljem plana proizvodnje, investicija i proda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e je potrebno usklad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e dovesti u vezu s financijskim mogućnostim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7A8-EBD8-49DA-A469-DD7BD7FDE55E}" type="slidenum">
              <a:t>2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baju obuhvat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u podjelu poduz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nomenklatur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cjenika planskih cijen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programa standardizacije i standard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normativa minimalnih, optimalnih i maksimalnih zali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04D-6BFD-441D-9E60-49D58FB55D85}" type="slidenum">
              <a:t>2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baju obuhvat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sistem nabavljan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optimalne količine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svih planova proizvodnje i potreba, materijala po kvaliteti, količini, rokovima i cije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planova investicija i investicijskog održ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plana prihoda i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materijalne bi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0F3-10EB-495A-B89E-EB37A9AB7270}" type="slidenum">
              <a:t>2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VJETI PLANIRAN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kvalitetnu i pravovremenu izradu plana nabave potrebno je izvršiti slijedeće pos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ršiti ekonomsku analizu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viti istraživanje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diti politiku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F90-8F82-4F2D-9A98-CD711B080CBF}" type="slidenum">
              <a:t>2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DRŽAJ I VRSTE PLANOV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 sadrži vrste planova kojima se utvrđuju ukupni i pojedinačni zadaci nabave u određenom vremenskom razdobl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i nabave se dije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em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mljopisnom područ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C97-56D7-4378-9E53-47C620C82F80}" type="slidenum">
              <a:t>2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UŽBA MATERIJALNOG POSLOVANJA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LUŽBA MATERIJALNOG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b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ribuci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kladište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d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DC4-C62F-45A0-BF13-C6729214E5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OVI NABAVE PREMA VRE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š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ugoročne: od 5 do 10 god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atkoroč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 vrijeme od 1 god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 razdoblje kraće 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do 3 mjese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320-0343-49A6-8734-5F183040A9BE}" type="slidenum">
              <a:t>2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MA SADRŽAJU PLAN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istraživanja trži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potrebnih materijala (materijalna bilan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nabav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pribavljanja invest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748-1871-45A3-A0CD-CFADF53A2863}" type="slidenum">
              <a:t>2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MA SADRŽAJU PLAN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skladište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potrebnih kadr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rganizacije nabavne slu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rošk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C69-37B1-4D59-ADD9-918F22D9B09C}" type="slidenum">
              <a:t>2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MA ZEMLJOPISNOM PODRUČJU PLAN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e nabave na domaćem trž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i nabave materijala iz uvoza (zemlje, potencijalni dobavljači materijala za poduzeć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0AA-5A16-4457-8831-0A2C5F2046BE}" type="slidenum">
              <a:t>2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UPAK PLAN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vija se slijedećim red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izvršenja planova u proteklom razdoblj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kupljaju se podaci istraživanja tržišta po kretanjima ponude i potražnje materija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đuje se prijedlog plana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vajanje planova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uje se hologram izvršavanja plan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ši se kontrola izvršenja plana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B63-BAAF-408A-ADDF-8BE4464A5B17}" type="slidenum">
              <a:t>2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LI OPTIMALN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sistemi nabavlj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inuirano nab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čno nab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no nab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E1F-0DE4-469B-9A19-583D7FF836FA}" type="slidenum">
              <a:t>2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NTINUIRANI SISTEM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karakterističan po tome što se kod svakog izdavatelja materijala iz skladišta ispituje da li su zalihe pale na signalnu razinu pa je, u tom slučaju, potrebno naručiti nove pošilj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041-6F45-4AB6-8209-5DDA9611646B}" type="slidenum">
              <a:t>2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ČNI SISTEM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koristi u slučajevima kada je nabava moguća samo u zadanim rokovima ili ciklus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 ciklusi koji odgovaraju ritmu isporuke dobavljača ili ritmu potreba vlastite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AE1-860E-49AB-82A0-08FA03A02276}" type="slidenum">
              <a:t>2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APTIVNI SISTEM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kterističan je po tome što se koristi kod kratkoročnih (sezonskih) prom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348-5C5D-4A25-84C3-57FC18448F35}" type="slidenum">
              <a:t>2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PLANIRAN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ve nabave pripremaju razvojne službe u suradnji sa službom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 se voditi računa, ne samo o potrebnim materijalima, o zalihama za raspolagan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sim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DDD-7AC2-44D9-A29A-D4A74EA35158}" type="slidenum">
              <a:t>2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na logisti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no materijalno poslov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AC8-7C0F-4A1A-AC19-1E83496C8E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LIHE MATERIJAL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najmanje raspoložive količine zaliha materijala koje osiguravaju nesmetano odvijanje procesa reproduk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sim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one količine materijala koje su još uvijek ekonomski opravd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15D-2FAD-4B23-A92C-D9FD3B2DC13D}" type="slidenum">
              <a:t>2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LIHE MATERIJAL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svjesno određena količina zaliha materijala kojima se pokrivaju rizici povećane potrošnje ili neadekvatne isporuke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 ne može dogoditi da nema dovoljno materijala da zadovolji potrebe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495-1242-4CC7-B7D6-48F66E46D570}" type="slidenum">
              <a:t>2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LIHE MATERIJALA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količine zaliha od kojih valja započeti period nabavlj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one količine zaliha kod kojih su ukupni troškovi nabave najman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oduzeću je potrebno posebnu pozornost posvetiti praćenju zali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lihe se trebaju kretati unutar postavljenih normativ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98F-8B27-4D5D-811C-55A28F73463C}" type="slidenum">
              <a:t>2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IS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oložive materijale u skladištu se mora ažurno knjižiti kako bi odgovorni mogli donositi odgovarajuće odluke o utrošku i nabavci novih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sve to funkcioniralo, u poduzeću se provo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popis imovine (materijal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A76-3E8E-4296-B37D-566E0CFB7661}" type="slidenum">
              <a:t>2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IS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oje vrste popisa materijala  - inven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ov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bično se vrše na koncu poslovne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tinuirane 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vrše se svakodnevno ili češ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vanred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ada postoji sumnja da nešto u poslovanju nije ured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638-F842-4160-8888-917FAC474DC9}" type="slidenum">
              <a:t>2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IS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ure vrše komisije koje se formir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isije utvrđuju stvarno stanje materijala i druge imovine na d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ležni odlučuju o utvrđenim viškovima i manjkovima im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is utvrđenog stanja se uvodi u knjigovodstvenoj evidenc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ADE-03FF-4E1F-BC5D-81D83E1F56BE}" type="slidenum">
              <a:t>2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 ODVIJAN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JE ZAHTJEVA ZA NAB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A I DOSTAVA UPIT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PONUDA I IZBOR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ĐENJE PREGOVORA ZA ZAKLJUČIVANJE UGOVORA O NA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LJUČIVANJE UGOVORA O KUPNJI I PROD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JA KONTROLE ISPORUČENE 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EE1-78DC-418B-9480-C5649ED4F5B2}" type="slidenum">
              <a:t>2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realizaciju politike i planova nabave postoji više načina kako se nabavljaju sredstv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uzeća se međusobno razlikuju, zbog toga nije moguće utvrditi jednoobrazni postupak nabavljanja koji bi važio za sv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vakom se poduzeću, utvrđuju odgovarajući načini nabave za uspješno izvršiti zadatak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24D-B790-4B23-BB4A-E71379FA2A73}" type="slidenum">
              <a:t>2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lokupni postupak nabavljanja obuhvaća veliki broj pojedinačnih postup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im propisima utvrđuje se način i tehnika rada za postupak nabavljanja, koriste se i ovi termi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hnika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ni proces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160-7EDE-4437-8B4F-31ED3DDDF15B}" type="slidenum">
              <a:t>2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ktivnosti kojima se izvrš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 pripre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i opisivanje potrebnih sredstava za proizvodnju i usl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je naloga (zahtjeva) za nab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izvora nabave i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a i dostava upit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oredba pristiglih ponuda i izbor najpovoljnij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E7C-95C1-4807-AF0C-F074C1A19AAC}" type="slidenum">
              <a:t>2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UŽBA MATERIJALNOG POSLOVANJA 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e biti organizirana na više linijskom princi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uhvaća funkci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nja, skladištenja i dispozicije te prodaje sredstava za proizvodnj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 joj je da se integriraju logističke funkcije kako bi se donosile optimalne odluke s aspekta cjelovitih materijalnih tijek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se materijalno poslovanje organizira prema više linijskom principu tada se imenu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kovoditelj materijalnog poslovan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ACE-E13F-4A32-BA4E-DA6C41815B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ktivnosti kojima se izvrš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 pripre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đenje pregovora za zaključivanje ugovora o kupnji i o prod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ovaranje kupnje i naručivanje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ćenje izvršenja kupoprodajnih ugovora i narudž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naručenog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F82-0247-4E25-882C-2A25936A68DD}" type="slidenum">
              <a:t>2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ktivnosti kojima se izvrš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 pripre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uzimanje isporučenih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kvalitete i količine isporučenih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faktura i davanje naloga za njihovo plaćanj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FC2-15FA-4A22-A88C-D15DE675BC10}" type="slidenum">
              <a:t>2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log za naba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g materijala obično daju konstrukcijski odjel ili tehnološka pripr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j zahtjev može stići i od proizvodnog odjela kao i od skladiš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tim se dostavljaju u pismenom obli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3AF-151B-4E76-9EAB-3D8317DEB2D8}" type="slidenum">
              <a:t>2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LOG ZA NABAVU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HTJEV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i slijedeće poda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i datum zaht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ku organizacijske jedinice koja je dala zaht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an rok isporuk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količina materija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v i opis potrebnog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kcije o otpremi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4FE-3918-4EA5-B1A0-640703F0AA8E}" type="slidenum">
              <a:t>2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LOG ZA NABAVU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HTJEV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na služba, nakon prijema zahtjeva, vrši formalnu i suštinsku kontrolu zahtj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jerava se da li je moguće naručeni materijal zamijeniti nekim jeftinijim, ali odgovarajuće kvalite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zahtjev ima nedostatke vraća se na dopu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A70-1A87-43F7-A1E3-C1569706F952}" type="slidenum">
              <a:t>2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RADA I DOSTAVA UPITA DOBAVLJAČIM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tava upita je važna i zbog toga što se ne traže samo ponude, već se istražuje i tržiš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e dostavljanja upita treba razriješiti dil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li se za svaku potrebu materijala tražiti ponude dobavljač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koliko će dobavljača trebati tražiti ponu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izabrati dobavljače za traženje ponu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oblikovati up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C73-C842-4FF6-AFC3-AB3E84C1BFB7}" type="slidenum">
              <a:t>2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RADA I DOSTAVA UPITA DOBAVLJAČIM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oziv kupca dobavljaču da ponudi cijene i uvjete potrebnog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itom se ne stvaraju pravne obve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ha upita, odnosno prikupljanja ponuda, je da kupac dobije podatke o mogućnosti i uvjetima opskrbe poduzeća potrebnim materijal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nabavu većih količina materijala upit se šalje većem broju potencijalnih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A19-07B6-44E7-8499-1D2B2E407803}" type="slidenum">
              <a:t>2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RADA I DOSTAVA UPITA DOBAVLJAČIM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đuje se šira i uža lista potencijalnih dobavljača, lista se utvrđuje temeljem sposobnosti potencijalnih dobavlja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iti se mogu dostaviti na više 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upitu se dobavljača informira o potrebnom materijalu, njegovoj količini i kvaliteti i potrebnom roku ispor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je mogućnost dobavljaču da izradi odgovarajuću ponudu prema svojoj oc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C0C-E38D-4F8F-BDEB-523FB58D8749}" type="slidenum">
              <a:t>2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ZA PONUDE I IZBOR DOBAVLJAČA 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ljene ponude dobavljača kupac treba pažljivo ispitati s formalnog i suštinskog aspek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nim ispitivanj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vrđuje se da li je ponuda potpuna i da li su ponuđeni uvjeti sukladni dostavljenima u upi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35E-8431-4F29-8380-FC452FA52C5A}" type="slidenum">
              <a:t>2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ZA PONUDE I IZBOR DOBAVLJAČ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štinsko ispiti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nude je, u stvari, pojedinačna analiza svake ponude s komercijalnog, tehničkog i pravnog asp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e treba analizirati sistematično i stručno. Najprije je potrebno svaku ponudu odvojeno analizirati, a zatim ih međusobno uspored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DE1-F401-41B4-ABEA-38C76F9D9EF6}" type="slidenum">
              <a:t>2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  RUKOVODITELJ MATERIJALNOG POSLOVANJA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egova zadaća je objedinjavati sve aktivnosti i odluke o nabavi, planiranju, proizvodnji i prodaji gotovih proizvo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da materijalno poslovanje predstavlja sustav opskrbe poduzeća koji obuhvaća sve tijekove i stupnjeve o kretanju materijala od dobavljača do kup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rijedi neovisno o obliku organizacije, veličini i grani poduzeća kojoj prip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DB4-DDD3-4C0B-8FF8-7314F91B48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ZA PONUDE I IZBOR DOBAVLJAČ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ercijalnog asp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nuda se ocjenjuje u pogledu ponuđene količine, roka isporuke, cijene, popusta, troškova i načina plać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nog stajališ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cjenjuje mogućnost revizije ugovora, ugovorne kazne i nadležnost suda ili arbitraže. Tu je posebno važna kvaliteta materijala, rok i cijena isporuke i mogućnost da dobavljač nudi serv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ačnu odluku o izboru dobavljača donosi nabavna služ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32A-C3F2-4D62-BE15-D5E25DE96357}" type="slidenum">
              <a:t>2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ĐENJE PREGOVORA ZA ZAKLJUČIVANJE UGOV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 obzira na materijal koji se nabavlja, njegovu vrijednost i količinu, nakon prihvaćanja ponude ili ponuda, pristupa se vođenju pregovora o zaključenju ugovora o nabav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ori se mogu voditi pismeno i usmeno između prisutnih i odsutnih stran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97F-926A-4BC6-931C-72D4FAB1EE90}" type="slidenum">
              <a:t>2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de se u cil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ljučenja ugovora o kupnji i prodaji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promjenu uvjeta važećih zaključenih u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rješavanje reklamacija u vezi izvrš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B6B-10DB-4E44-A278-DECBB6C4B413}" type="slidenum">
              <a:t>2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regovorima svaka strana nastoji za sebe postići što povoljniju poziciju, no, uspješnim se smatraju samo oni pregovori u kojima se kupac i dobavljač usugl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met pregovora radi zaključivanja ugovora nisu samo cijene, nego i kvaliteta, količina, rok isporuke, servis i način plać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i pregovori ne obuhvaćaju sve navedene elemente, nego samo one elemente ponude kojima kupac nije zadovolj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99B-2723-4A5D-8B75-06F002210E02}" type="slidenum">
              <a:t>2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ovaranje je jedan od važan posao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cijom svjetskog tržišta povećava se značenje pregovar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ovaranje je vještina koja se stječe iskustvom i učenjem, prvenstveno praks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tu svrhu se organiziraju i seminari radi edukacije stručnjaka u nabavi da bi bili sposobniji u pregovor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371-044F-4466-9842-B2136BAC0577}" type="slidenum">
              <a:t>2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ore treba dobro pripremiti, to je ključ uspjeha pregovora. Priprema za pregovore obuhvaća slijedeće aktiv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učivanje o čemu će se pregovar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iranje i ocjenjivanje vlastitog položaja u pregovo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avljanje ciljeva i strategija pregov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i priprema pregovarača i dogovor o mjestu i početku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5DE-5548-4254-B814-B5F8D4E9422F}" type="slidenum">
              <a:t>2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završenih priprema odlučuje se o mjestu i danu sastanka pregovar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egovorima su slijedeće fa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ret pregovar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aranje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etna faza pregov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žavanje raz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ađ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iranje i završetak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2AE-C022-42DD-8A12-E30D4FEEB6BB}" type="slidenum">
              <a:t>2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ze pregovaranja mogu biti i drugačije. To ovisi o dogovoru stran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arači se susreću u prostorijama domać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ori počinju rukovanjem i pozdrav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žbeni razgovori ne počinju odmah, nego se razgovara o nekim neutralnim tem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72F-5A9C-42AA-B15E-3F3E5BBC4328}" type="slidenum">
              <a:t>2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očetnoj fazi pregovaranja rezimira se sve ono što je već usuglašeno, a zatim se prelazi na neusuglašena pit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, pregovori se mogu privremeno prekinu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arači se odvojeno dogovaraju o novim činjenicama i utvrđuju strategijsku taktiku koju će primijeniti u daljnjim pregovor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2D2-A6FE-4D81-81C6-53F23EEC6CC1}" type="slidenum">
              <a:t>2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tupa faza sužavanja razlika između ponude dobavljača i zahtjeva kupaca. Faza pogađanja za obje strane je posebna mogućnost za sporazumijevanje ili konačni prekid sporazu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se obje strane sporazume o svim elementima i uvjetima, tada verificiraju dogovoreno i pregovori se završav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FED-3210-489A-A683-DAE07C74A1F3}" type="slidenum">
              <a:t>2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JAM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 je funkcija i djelatnost poduzeća i drugih poslovnih sustava, koja se brine o opskrb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jal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rem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lugam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ijom potrebnima za realizaciju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lovnog sustav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427-1025-42CC-AECD-4BFC7C5AC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 RUKOVODITELJ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se materijalni tijekovi promatraju kao sustav koji je orijentiran procesima, tada je moguće racionalizaciju provesti timskim rad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j timski rad treba funkcionirati u cijelom logističkom lanc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še stanja u materijalnom poslovanju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gi rokovi isporuk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na nestabilnost u isporukama ro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oke zalihe i problemi nelikvid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EE9-AF82-441C-9B99-6E2577974A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KLJUČIVANJE UGOVORA O KUPNJI I PRODAJI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odluke o nabavi sredstva za proizvodnju i usluga i obavljenih pripremnih aktivnosti kao što su istraživanje tržišta nabave, dostava upita, analize ponuda, izbor dobavljača, kupac donosi odluku o ugovaranju kupnje i prodaje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DF5-06ED-44DD-B432-BAE9318A66A3}" type="slidenum">
              <a:t>3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KLJUČIVANJE UGOVORA O KUPNJI I PRODAJI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jučivanje ugovora o kupnji i prodaji rezultat je suglasnosti volja dviju stranaka, kupca i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 o kupnji i prodaji obvezuje dobavljača da će isporučiti materijal prema utvrđenim uvjetima i kupca da će preuzete materijale i plat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183-5613-45B6-B0CA-BBEDD74E2810}" type="slidenum">
              <a:t>3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dvostrani ugovor koji obvezuje i kupca i dobavljača, a čine ga  slijedeći elem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nke koje moraju imati pravnu i poslovnu 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lasnost volje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ustiv i moguć predmet ob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bog složenosti pravnog aspekta zaključivanja ugovora potrebno je da u taj proces budu uključeni i pr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C3F-0E84-43A1-A446-7CB901D5C3A4}" type="slidenum">
              <a:t>3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jčešći načini zaključivanja ugovora o kupoprodaj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a i prihvat pon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udžba i potvrda narud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 o kupnji i prod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EDB-A35F-49CD-96F7-C65A7BE5D9D2}" type="slidenum">
              <a:t>3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ud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rijedlog za sklapanje ugovora koji sadrži sve sastojke ugov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ponuđeni prihvati ponudu, ugovor o kupoprodaji je zaključen onog časa kada je dobavljač prihvatio izjavu kupca da je ponuda prihvać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kav način se primjenjuje za manje količine nabavk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5CE-566C-4CB5-82CB-89CE1E182F55}" type="slidenum">
              <a:t>3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govor o kupoprodaj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e se zaključiti između prisutnih i odsutnih stran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 o kupoprodaji sadrži bitne i nebitne ele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 oni elementi o kojima su se dobavljač i kupac sporazumje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2AD-1ABA-4811-B2DC-9159F2FC79F1}" type="slidenum">
              <a:t>3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GOVOR SADRŽI OVE ELEMENT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ka ugovornih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ka robe (materijala): vrsta, količina, kval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a, rok i mjesto ispor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pijeće i način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nje, prijenos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kvalitete i kvant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0D0-032A-45B8-A31A-0033B96E1E39}" type="slidenum">
              <a:t>3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GOVOR SADRŽI OVE ELEMENT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laža, porezi, tak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bavljanje dokumenata, garancije prodav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jedice neizvršavanja ugovora, mogućnost raskida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a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gućnost reviz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ležnost suda (arbitraže) i potpise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3EA-1279-474D-876B-96396E98FA32}" type="slidenum">
              <a:t>3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KONTROLE ISPORUČENE R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na služba treba pratiti ispunjenje obveza iz zaključenih ugov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isporučenog materija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a se preuzima temeljem prijevoznog dokume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tavlja se zapisnik o izvršenoj kontroli zaprimljenog materijala u skladiš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utvrđene manjkavosti vezana za količinu i kvalitetu, dobavljaču se upućuje reklama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0DA-697B-446C-8C16-B8A0B16E221D}" type="slidenum">
              <a:t>3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čun ili faktura dobavljača je dokument na temelju kojega kupac plaća dobavljaču prodati materij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prijemu fakture kupac vrši suštinsku i računsku provjeru fak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faktura nema nedostataka daje se na naplatu u roku i na način kako je to ugovorom utvrđ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CA8-45C9-49FD-99A2-CA1D448042DC}" type="slidenum">
              <a:t>3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AČENJE MATERIJALNOG POSLO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e materijala i transpor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 je troškove poslovanja svesti u optimal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u ulogu u rješavanju tih problema ima informacijska tehnolog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dano je investirati u tehnologiju rada, već i u informatizaciju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novni instrument uspješnog materijalnog poslovanja 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reativna nabav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s njom povezana logist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B8A-5096-429D-B82A-C45123D736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KA MATERIJALNOG POSLOVANJ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JSKI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I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4DD-AF5D-4658-BDF3-CB57677F5DF1}" type="slidenum">
              <a:t>3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KA MATERIJALNOG POSLOVANJ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dje spadaju: skladištenje, izdavanje, utovar, istovar, pretovar, komisioniranje, pakiranje, otprema, vanjski i unutarnji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izički tijek je koordiniran i kontroliran odgovarajućim sustavom informac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ogistik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e bavi povezivanjem djelomičnih procesa kao što su: nabava, transport, prijam robe, skladištenje, proizvodnja i transport, s ciljem optimalizacije protoka robe i zalih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36C-CCCA-4C3B-8B6F-353EA823C474}" type="slidenum">
              <a:t>3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NJSKI TRANSPORT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predstavlja svrsishodnu promjenu mjesta dobara sa ciljem da bude raspoloživa na određenom mjestu i u određeno vrije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se ta promjena mjesta realizira izvan granica poduzeća, tada se radi o vanjskom transpor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05F-9194-460D-A743-1BBEF6C8AF26}" type="slidenum">
              <a:t>3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NJSKI TRANSPORT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i prema transportnim putovima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o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eljez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orski (vod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e v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č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vovo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670-64ED-410E-92E6-EB6097CFEDBD}" type="slidenum">
              <a:t>3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NJSKI TRANSPORT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ultat procesa transporta je određena prometna uslu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realizaciju vanjskog transporta nužno je stvoriti odgovarajuć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etnu infrastruktu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 prometnice, ceste, željezničke pruge, cjevovodi, građevinski objekti,luke, skladiš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mora izabrati najpovoljnija rješenja za izvršenje prometnih uslug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4C5-8431-49DC-97F6-DC8356A5FB10}" type="slidenum">
              <a:t>3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STOVNI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ajčešće koristi u okviru logističkog lanca i u prometu usluga se nalazi na prvom mjes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 je to sve modernijih cestovnih prometnica i sve modernijih susta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 cestovnog prometa je što prevozi materijal od skladišta dobavljača do skladišta kupca (od vrata do vra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6E2-4B04-42E0-9E51-B000308D9B0D}" type="slidenum">
              <a:t>3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 ŽELJEZ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ubi nekadašnji monopolski položaj pa se njegova uloga stalno smanjuje u korist cestovnog transpor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zavidan položaj na tržištu željeznica nastoji popraviti racionalizacijom, povećanjem brzina, informatizacijom i uvođenjem novih oblika transporta (intercity, kurirske uslu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3C6-AFD7-45AF-AD41-1D5E52D54E1B}" type="slidenum">
              <a:t>3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RAČNI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određenu ulogu jer mu je prednost u brzini, ali je vrlo sk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odan za materijale koji ne podnose spori prijev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gradnjom velikih zrakoplova cijena prijevoza je m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C0F-9F37-4189-8D59-3775E32D8CCE}" type="slidenum">
              <a:t>3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 NA VO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jeli s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eč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er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al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or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odan je za teške i masovne terete koji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ose visoke troškove ili kojima brzina n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velikog znač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7F9-9852-4FF3-A641-07DDEFC043F8}" type="slidenum">
              <a:t>3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JEVOVOD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, u vanjskom transportu, najčešće prenosi nafta i zemni pl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bog ekonomičnosti, cjevovodi se proširuju za potrebe prijenosa raznih ruda, šećerne trske, voća i s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jevovod predstavlja istovremeno i transportni put i sredstvo, zajedno s crpnom stanicom i odgovarajućim instalacij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17F-777F-4B99-8222-D822233E5115}" type="slidenum">
              <a:t>3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JAM LOGISTIKE SA STAJAL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ja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tječe iz francuske vojne terminologije, a označava način opskrbe trupa (vojske) svim potrebnim sredstvima, transport dobara, te osiguranje prehrane i smještaja što sve povećava borbenu sprem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725-983E-4F43-A973-09012D7CE8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i transport počinje nakon preuzimanja materijala u privatnom skladištu ili na istovarnoj platformi. Temeljem pratećih dokumenata provjerava se kvaliteta i kvantiteta ro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i bi se transport morao integralno nastaviti na vanjski transport, za to postojati oprema u svim fazama transporta i skladištenja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129-0B52-4A2E-BBE3-361123FE4061}" type="slidenum">
              <a:t>3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na sredstva u unutarnjem transportu mogu se podijeliti prema raznim kriterij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sti pogo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učna, moto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činu upravlj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 vozačem, bez vozača, računalno vođ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vcu transpor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redstva za vodoravni, kosi i vertikalni 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sti materij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za rasuti i komadni te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978-F93B-446C-82C8-EB2138604888}" type="slidenum">
              <a:t>3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unutarnji transport važno je da li se radi o diskontinuiranom ili kontinuiranom transpor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edstva z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ontinuir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 dijele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na sredstva što se kreću po t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a koja služe za podizanje te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značajnija pomoćna sredstva u unutarn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u i skladištu s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ejne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4CA-FD89-4706-8E16-6D572D07BC31}" type="slidenum">
              <a:t>3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tinuira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slu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enosnice na kružnoj vodi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je s kotrljajućim ležaje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se plo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ne plo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jevovo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32A-FB32-444C-B4AB-7A87FC8BE378}" type="slidenum">
              <a:t>3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e je dio procesa poduzeća koje obuhvaća sve aktivnost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nja, smještaja, čuvanja i izdav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erijala iz skladiš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kladištu se ne čuvaju samo materijali, već i gotovi proizvodi i poluproizvo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8EB-F1E9-4907-9DFD-92FB3A57A5C3}" type="slidenum">
              <a:t>3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RSTE SKLADIŠT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ličin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la, srednja, vel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meti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uproizvodi, gotovi proizvodi, materijali, inventar, alati, ambalaža, otp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5DB-23F4-4EBE-8E54-8DA7AFE96D3B}" type="slidenum">
              <a:t>3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RSTE SKLADIŠT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na, pomoćna, priručna, montaž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činu grad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ena, zatvo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čnim osobina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kladištene ro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osi, vinski podrumi, kampovi, hladnj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DF2-A176-4A9B-8C68-42E031D0FA4E}" type="slidenum">
              <a:t>3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RSTE SKLADIŠTA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 je najbolje locirati gdje je moguće najkraćim putem doći do istovarne platfor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r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eđaji za ventilaciju, uređaji za grijanje, uređaji za hlađenje, uređaji za klimatizaciju, protupožarna oprema, transportna sredstva, oprema za smještaj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D06-79B3-45D1-A1C5-40BBC9FF76F2}" type="slidenum">
              <a:t>3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ba preuzeta od dobavljača, prijevoznika ili špeditera, a nakon kontrole kvalitete i kvantitete, smješta se u skladiš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meljem pratećih dokumenata skladištar ispostavlja dokumen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kladišnu primku 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videnti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povrat robe ispostavlja s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vratnic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prijelaz robe iz skladišta u skladište ispostavlja su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eđuskladišnic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7D2-537F-43D7-A6F6-8A7D3BFC3E4B}" type="slidenum">
              <a:t>3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i se u skladištu raspoređuju tako da omoguće najbolju moguću iskorištenost prostora, odgovarajuće čuvanje i zaštitu robe, lako i brzo identificiranje robe, sigurnost osoblja, sredstava i prostorija, laki pristup pojedinoj vrsti materijala i najniže troškove skladištenja i ruk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580-6333-4501-9FA7-C7C0548CACBC}" type="slidenum">
              <a:t>3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JAM LOGISTIKE SA STAJAL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vorna riječ potiče od starogrčke riječ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logistiko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a označava čovjeka-mislioca koji brzo proračun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mislu sistemske teorije, bavi se koordiniranjem svih kretanja materijala, proizvoda i roba u fizičkom, informacijskom i organizacijskom pogledu, od nabave preko proizvodnje i prodaje do potrošač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utar poduzeća nazivam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ikrologistiko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među poduzeća zovem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akrologistiko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A45-C038-4F4C-93BA-A6AA6FDA45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r raspored robe u skladištu omogućuje brži smještaj i transport prispjele robe. Dva su sistema rasporeda robe u skladištu ovisno o načinu upravljanja skladiš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rasporeda ro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dređenom pro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rasporeda ro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trenutno slobodnom pro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A7A-56A5-4931-87F6-0D9A120B4629}" type="slidenum">
              <a:t>3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i iz skladišta izdaju se na zahtjev proizvodnih odjela. Transport osigurava skladište ili posebna transportna jedi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o izda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sterno izdavanj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vanje se vrši na temelj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dat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5F5-8865-4C26-BB18-D09920B7F583}" type="slidenum">
              <a:t>3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 POSLOVANJE SLUŽB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JEKTIRANJE ORGANIZACIJE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GANIZACIJSKA STRUKTURA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GANIZACIJSKI PROCES NABAV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OG POSLOVAN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ASPORED AKTIVNOSTI POSLO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A MATERIJALNOG POSLOVAN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GANIZACIJSKA SRED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OG POSLO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B3A-00F4-40A3-A5CD-D345EC361FEC}" type="slidenum">
              <a:t>3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se javlja u oblic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 proces organiz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 rezultat organiz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o pro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trajna i svjesna aktivnost čovjeka usmjerena na povezivanje i usklađivanje svih ljudskih i materijalnih resursa radi ostvarivanja optimalnih rezultata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D35-08E8-404F-AAE4-D497A9C0AFFB}" type="slidenum">
              <a:t>3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I ZA ORGANIZACIJU NABA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ni su ovi princi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dinamičkog usklađivanja i povezivanja elemenata proiz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podjele rada i specijalizacije radnih mj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prilagođavanja promjenama u okruže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0A6-8AEA-4704-811F-21FD2E9BA173}" type="slidenum">
              <a:t>3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I ZA ORGANIZACIJU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ni su ovi princi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trajnog istraživanja i analiziranja činitelja koji utječu na organiz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racionalnog korištenja res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talne orijentacije funkcije nabave tržištu i tržišnom poslov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ravnoteže između odgovornosti i ovlaštenja zaposl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2E3-F951-442A-8696-D725928BDE0E}" type="slidenum">
              <a:t>3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I ZA ORGANIZACIJU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ni su ovi princi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kraćivanja trajanja proces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tandard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tip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timsk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čki prin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talnog unaprjeđenj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699-8C34-4B11-BDCE-CC94CB05D923}" type="slidenum">
              <a:t>3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ojektiranju organizacije nabave valja poći od cjeline sistem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izraditi organizacijsku strukturu poduzeća i njegovih dijelova kao sveukupnost veza i odnosa između unutarnjih činitelja proizvodnje na svim razina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5A4-4489-40FE-8716-32049009276B}" type="slidenum">
              <a:t>3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SKA STRUKTURA SLUŽB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svijetu postoji tendencija da se sve aktivnosti poslovne logistike objedine u službu integralnog materijalnog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jesto nabavne službe u strukturi poduzeća se utvrđuje na nač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ovna samostalnost nabavne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cija ili decentralizacija nabavne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jska samostalnost nabavne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7C6-F0DD-4C47-97EF-A098CF7DA613}" type="slidenum">
              <a:t>3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dnosu 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cijsku samostaln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toje modeli nabavne službe poduzeć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 samostalna organizacijska jedi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komercijalnog (marketing) s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proizvodnog (tehničkog) s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službe materijalnog pos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zajedničkih službi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3B7-2AEA-4C46-BB7C-3575D7B4A509}" type="slidenum">
              <a:t>3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čava  poslovne funkcije i znanstvene discipline u smislu sistemske teor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ikujemo 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lasti industrije i trgov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lovima planiranja i realizacije nabave, proizvodnje i prodaj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74A-4603-42EF-9ED3-83A50B22F2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nabavna služba organizirana ka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jalno poslovan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da se sastoji od ovih organizacijskih dijelo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 i 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cija gotovih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zicija otpad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61C-4A79-43C9-B282-6416F599AA82}" type="slidenum">
              <a:t>3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SKI PROC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ganizacijski proces nabave i materijalnog poslovanja je utvrđeni tijek, vremenski redoslijed i prostorni raspored svih aktivnosti proces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a za projektiranje organizacije procesa nabave j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ansformacija inputa u outpute nabave i materijalnog posl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3F6-BACE-4445-8D58-6D69238112F9}" type="slidenum">
              <a:t>3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SKI PROC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m se utvrđuje vremenski redoslijed tijeka aktivnosti, a usporedo s projektiranjem organizacije, utvrđuje se prostorni raspored aktivnosti. Time je projektiranje zaokruženo i dolazi se do pitanja odnosno odgovo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što, tko, kako, čime i kojim tije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ba raditi, 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da i gd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F38-8210-4E07-B7AA-6B55CF67B3DD}" type="slidenum">
              <a:t>3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hnologija transformacije inputa u output materijalnog poslovanja određuje tijek aktivnosti cjelokupnog i pojedinačnog poslovnog proces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uje se tehnološki i vremenski slijed aktiv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C8A-E999-4553-B22D-357F86E67990}" type="slidenum">
              <a:t>3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tak funkcije materijalnog poslovanja sadrži slijedeće pojedinačne faze proc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podataka, informacija i činjenica relevantnih za poslovni proces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iranje prikupljenih podataka i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učivanje po ciljevima, zadacima i aktivnostim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C22-4DE5-42E7-A2ED-A150684F22FC}" type="slidenum">
              <a:t>3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tak funkcije materijalnog poslovanja sadrži slijedeće pojedinačne faze proce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aktivnosti poslovnog proces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klađivanje planiranih aktivnosti, organiziranja aktivnosti, izvođenja i kontroliranje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D28-D999-4CB0-AFF7-C5C0AB4EB256}" type="slidenum">
              <a:t>3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raditi na skraćivanju ukupnog trajanja odvijanja procesa nabave i procesa reprodukcije, uklanjati sve smetnje vezane za odvijanje procesa skladištenja, transporta i drugih aktivnosti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i je potrebno osigurati prostorne i materijalne uvjete za normalan r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7D9-E058-4C77-A6CA-359156C4B668}" type="slidenum">
              <a:t>3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oblasti industrije i trgovine su proce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aza i izlaza ro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ir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ifrir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ketir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9B4-49AE-4157-BDCA-8A73DA0F83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poslovima planiranja i realizacije nabave, proizvodnje i prodaj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ve to u sv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meta r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uproizvod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vih proizvo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509-E8E6-4AEF-AD59-0E721BC2C1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i su vezani uz prostorno-vremensku transformaciju materijalnih doba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htjev logistike je cjelovito promatranje  procesa kroz sve faze njihovog odvij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i se mogu postići racionalizacij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774-3D8A-499E-8C0F-E2DC11A798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NCEPCIJA LOGISTIKE ZAHTIJE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lovito promatranje tih procesa kroz sve faze njihovog odvij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jera tog procesa je d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no poslovanje optimizi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rza protok materijal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e zalih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e troškovi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F80-0613-4B6F-A6F2-DD42E80C1C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LOGISTIČKIH PROC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i se mogu postići racionalizacijom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u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kan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terijala i poluproizvoda na obradu odnosno gotovih proizvoda na prod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ABB-1D62-41D8-B676-978DB85769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I PRETHO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izvor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AF8-1BFF-423C-B821-2B5E2B4249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ČKI S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čki sustav koncepcijski započinje kod dobavljača i prolazi ove stupnj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rednici u proda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bava i dobavlja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ajno skladiš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pr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ladište gotovih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zvod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ladište dijelova za montaž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ladište predmeta ra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F38-CCD9-44FB-8E99-763C788EABD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ČKE FUN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radicionalno organiziranim poduzećima logističke funkcije s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ntralizir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vljaju se u službama nabave, proizvodnje i marketin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jeli s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u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u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u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293-ADE1-47EA-B85B-C951C91D5E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TNO ZA LOGISTIK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ima izgrađ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cijski susta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i obuhvaća aktivnos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zicij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vijanje tekućih proce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rađene povratne ve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0C4-22CC-4651-8D02-04F5A2F3909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ČKI ZA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gu se centralizirati osnivanjem samostalne logističke funkc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a se bav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ordiniranjem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om logističkih zadat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249-F11D-47A3-A219-B26A7754F07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KA D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ka se danas često svodi na fizičku distribuciju iako ima mnogo šir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me, fizička distribucija se bavi upravljanjem materijalnim tijekovima, transportom i skladištenj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tim, ona ne obuhvaća funkcije logistike koja se bavi optimiziranjem količine nabave zaliha, serijama proizvodnje i sličnim drugim poslov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DF4-1A29-4804-AD5B-DB87285444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I MATERIJALNO POSLOVANJ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nabave i materijalnog poslovanja usko je povezan s razvojem podjele rada, proizvodnih snaga, proizvodnje, potrošnje i razmj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zan je i za utjecaj nabave i materijalnog poslovanja na rezultate razvoja gospodarskih djelat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174-3F02-4C8E-9426-D57FC6CC9AB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I MATERIJALNO POSLOVANJ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kada postoje, ljudi su se morali snabdijevati vodom, hranom i drugim potrepšti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rvo vrijeme su sami pribavljali - potreb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nije su to činili u manjim ili većim grup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nastaje pojav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ne proizvod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očetku je to bila razmjena robe za robu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nije trampa ustupa mjesto razmjeni robe za no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2C8-0928-40AA-BF4F-95AA978900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zvoj nab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jviše utječe trgovina kao posrednička djelatnost između proizvodnje i potroš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očetku je trgovina imala lokalni karak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iri se na sve veće udaljenosti prenoseći robu svim raspoloživim sredstvima prome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gradovima, u srednjem vijeku, su organizirani sajmovi, burze, te stalne trgovinske rad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345-4F89-4E26-9247-E8DF1BADC8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ovećanje opsega trgovine - utjecaj otkri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te procese je utjecala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kturna proizvod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jska revolu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ala je utjecaj na industriju i na razvoj trgov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ada nabavu robe obavljali su trgovaca i  obrtni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ija o trgovini kao gospodarskoj djelatnosti čiji je osnovni zadatak kupnja i prodaja ro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F81-DFBC-4CBF-9E61-99BBEF01842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razvojem industrije i stvaranjem sve većih poduzeća javila se i potreba za većim količinama predmeta rada različitog asortimana, a zatim i za sredstvima 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kovoditelji tadašnjih poduzeća bili su okupirani kako proizvesti što više, kvalitetnije i jeftin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ovi nabave se postupno izdvajaju iz proizvodnje 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ostalnu organizacijsku jedinicu - nabav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5A7-EA17-435C-AB83-32B1F5CB96A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U SLIJE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jede poslov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prema kupljenih sredstava za proizvodn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ontrola kvalitete i količine nabavljenih sredstava za proizvodn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aprimanje i skladi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vidiranje i plaćanje računa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DF1-018F-4AD8-9979-CE3144B2A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aje samostalna, posebna djelatnost u upravljanju poduzećem. Taj proces je najprije otpočeo u USA početkom 20. stolje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inje se razvijati i teorija o nabavi u industrijskim poduzeć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prelazi od trgovine u industriju za potrebe industr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va knjiga koja isključivo obrađuje nabavno poslovanje objavljena je u USA 1887. god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20E-81C0-44C5-BD78-A76C371534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ajan poticaj razvoju nabave i materijalnog poslovanja su poteškoće u opskrbi sirovi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rzani industrijski razvoj utjecao je da se u industrijskim poduzećima 1960. -tih godina počinju stvarati organizacijske jedinice materijalnog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to su veliki utjecaj imali sve veće cijene nafte i drugih sirovina, privredna recesija i bespoštedna konkurenc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277-8BAB-4086-914E-0E8F399B3E1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zvoju nabave doprinijeli 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ane knjige i časopisi iz područja nabav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juterizacija cjelokupnog poslova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udruženja radnika nabav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o obrazovanje i razvijanje kadrova nabave i materijalnog poslova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pređenje prakse i teorije ekonomike, organizacij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ikasnije poslovanje u opskrbi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1EE-A8FC-4924-B904-EBCC213E8F4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NAČENJE NABAVE U POSLOVANJU PODUZEĆ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uzeće ne može poslovati bez odgovarajućih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i trebaju biti u odgovarajućoj količini i kvaliteti. u pravo vrijeme, od pouzdanog dobavljača, uz najpovoljnije cijene i uz najniž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i materijalno poslovanje imaj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a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jecaj na rezultate poslovanja poduzeć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C6A-D9F6-422C-91DA-3A08651F654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jecaj proizlazi iz visine nabavnih cijena sredstava za proizvodnju i usluga, uvjeta plaćanja i troškova nabave, dopreme, skladištenja, unutarnjeg transporta i rukovanja materijalima u skladištu i proizvodnji, te kamata na financijska sredstva uložena u zalihe. Direktni utjecaj nabave na poslovanje poduzeća je mjerlj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1E8-C0D5-45B4-99BA-6F8FB2FB929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jecaj nabave na rezultate poslovanja najviše dolazi do izražaja u slučajevima kada nabavna služba pravovremen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 opskr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uzeće sredstvima za proizvodnju, kada nabavi neodgovarajuće materijale u količini i kvaliteti, te kada visina zaliha materijala znatnije odstupa od optimalnih količ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368-174C-421D-A1B2-7748EFBB91A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enje nabave nije u svim poduzećima 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si o obujmu nabave, o udjelu vrijednosti utrošenog materijala i od prosječnih zalih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an od najvećih problema pravovremene opskrbe 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ovreme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ti u pravo vrije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i nabavljati ni prerano ni prekasno, nabavljati tada kada je to proizvodnji potreb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65C-2A3C-404D-859D-D87BEDBD5F0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je imati i određene, ali minimalne, odnosno sigurnosne zalihe. Zakašnjenje izaziva zastoje u proizvodnji i zakašnjenje u isporuci. Zakašnjenje u isporuci povlači za sobom gubljenje povjerenja kod kupa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ljen materijal ranije nego što je to potrebno proizvodnji, gomilaju se zalihe u skladištu i ulažu se financijska sredstva u nepotrebne kamate na prekomjerne zali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C7B-05D8-4E12-8CC8-42ADDD8A363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oje rizici koji mogu nastati na materijali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komjerne zalihe - likvidnost poslovanja poduzeć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jali loše kvalitete - škarta u proizvodnji - loša kvaliteta proizv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dostaci na proizvodu - kupcu bonifik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bavljanje odgovarajućeg asortimana materijala u skladu s tipizacijom i standardima materij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je količine materijala - zastoj u proizvodnji i povećavaju troškove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like količine materijala - povećanje troškova skladištenja zali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268-1EB0-4A6B-9A77-2899EE48CF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kle, treba težiti nabavkama optimalnih ekonomskih količina koje omogućuju odvijanje proizvodnje i poslovanje bez zastoja i uz minimalne trošk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ovoljne količine materijala ugrožavaju kontinuirano odvijanje procesa reproduk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like zalihe spori obrtaj materijala, povećavaju troškove i smanjuju likvidnost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695-454F-40A1-B7E8-BC7CCE9F1C7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I U ŠIREM SMIS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opskrba ili snabdijevanje, misli se 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ške aktivnosti na dulji r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akva aktivnost upućuje na budućnost, na dugoročno usmjeravanje cijelog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kupuje od dobavljača  - predmeta rada i sredstava za r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strateške zadat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B6F-1C91-44C4-AE5B-C0DC97571E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 je značenje nabave u smanjenju rizik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se rizici odnos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čin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 isporuk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ECB-3A00-4F0C-B598-556A193A4FE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skladištu su mogući rizici na materijalima kao što s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o,             ošteće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đa,           raste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m, kvar      požar 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tarije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o ima negativne učinke na rezultat poslovanja. Ovim rizicima treba dodati i ekološke zbog zagađenja zemlje, vode i zr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4DA-2B22-413A-8E30-E631FB95CAF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tak nabave je d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štuje propise o zaštiti čovjekove okoline prilikom nabave, rukovanja i skladište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ktni odnosi s dobavljačima i ostalim u okruženju - stvaranje dobrog imidž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boljšanje rezultata poslovanja - postizati boljom proizvodnošću, ekonomičnošću i rentabil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kle, kvalitetnijim poslovanjem, a ne povećanjem cij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676-15AE-424E-9ADC-D4AE49B62E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TROŠKOVI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 troškovi - najveća stavka u poduzeć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ihov utjecaj na cijenu koštanja proizvoda i njihov utjecaj na rezultate poslovanja su najveć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zaciju troškova treba provesti planski, analitički i kontinuir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njiti indirektni i direktni utjecaji na poslovanje poduzeća primjenom razvijenog tržišnog gospodarstva gdje su profit i rentabilnost pretpostavke efikasnog privređi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87F-B67A-415A-87B3-EB3E6B54C08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TROŠKOVI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kazatelji uspješnosti poslo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izvodnost rada=količina proizvoda / broj r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konomičnost poslovanja=prihodi / trošk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ntabilnost poslovanja=dobit / angažira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kvidnost=dospjele obveze / likvid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itna stopa=profit / vrijednost prod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eficijent obrta=vrijednost prodaje / ukup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ntabilnost ulaganja=profit.stopa x koef.obr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802-FEF4-4F6B-95F8-3758F01E800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oga i značenje nabave i materijalnog poslovanja stalno ras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posljedica postojećih okol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i porast udjela materijalnog poslovanja u društvenom bruto-proizvodu (D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kudice energije i pojedinih sir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e sistemskog pristupa u upravljanju i organiziranju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e i brze promjene u okruženju poduzeć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877-3EF2-4FBF-B1AA-906E0657C4A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posljedica postojećih okolnosti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zacije i informatizaci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h tehnoloških otkrića i postupaka dovodi do smanjenja troškova proizvod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uzeća su nekada nabavljala u većoj mjeri sirovine i materijal niskog stupnja pre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li su poluproizvode i sklopove, do finalnog proizvo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CAE-BC82-4643-8FD1-346F11C4CE1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posljedica postojećih okolnosti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jalizacija proizvodnje - postaje jeftinije nabavljati gotove sklopove nego ih proizvodi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škovi proizvodnje se smanjuju, ali materijalni troškovi ras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rzani gospodarski razvoj, postavio su problem raspoloživih resursa. ( nafta i pojedini metali olovo, srebro, bakar i živ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5A1-A33F-426F-904C-FDAEC7A20FE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skog pristu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ravljanju i organiziranju poduzeća naglasak je stavljen na cjelinu, a zatim na dijel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aknuta je potreba veće povezanosti i međuovisnosti dijelova i cje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marketinškoj orijentaciji poduzeća dolazi do izražaja kreativnost kadrova i njihov utjecaj na poslovanje poduze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prikuplja informacije s tržišta pa se na osnovu toga orijentira proizvodnja i nabava za proizvodn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E41-607D-4D7D-9249-3829F9A543D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 dolazi do potrebnih informacija o novim proizvodima i kretanju ponude i potražnje na tržišt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m tržišta nab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jetima i upoznavanjem proizvodnje i poslovanja dobavljača, pregovar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jećivanjem sajmo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ćenjem prospekata,kataloga i Web stranic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0B4-E261-4802-93BE-3121231A7DF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KUPUJE OD DOBAVLJAČ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e za reprodu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lja poluproizv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oćni materij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govačku 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e za investicijsku izgra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e za održavanje trajnih dob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F33-D992-40F1-971E-3EBF1E404D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 se povećava uloga nabave kao izvora korisnih informacija i savjetodavne funkcije ostalim funkcijama u poduzeću, a posebno menadžmen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ski pristup je uvjetovao i koncepciju ukupnih troškova proc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ravo je takav pristup pridonio usmjeravanju prema optimalizaciji ukupnih troškova na račun optimalizacije pojedi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F97-4465-45F9-B3B6-71D3A1A80E3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ranjem svih aktivnosti vezanih za nabavu u jednu organizacijsku jedinicu pod naziv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jalno poslov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ncentrirana je sva odgovornost u takvoj jedini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e i brze promjene u okruženju poduzeća, a to znači na tržištu, ekonomskoj politici, integracijskoj politici, tehnologiji i informatici povećavaju složenost zbivanja i probl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lagođavanje tim promjenama je uvjet za opstanak i razvoj poduzeća u tržišnoj privre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DE7-92D1-4F24-BBE7-D934F5CF496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kladu s tim promjenama mijenja se i razvojna strategija poduzeća i njegove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phodno je da se, istraživanjem tržišta i planiranjem, razvoj usmjeri prema očekivanim promjen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68E-7511-4E23-99B6-F1FBB03F2FF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meljne tendencije budućeg razvoja je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gralno materijalno poslovanje (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abava+logist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mpjutorom podržani informacij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upravljanja materijalnim tijek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rketing nab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x nab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cipročna na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vesticije u nab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gralno korištenje informatičkih res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nkronizirana nab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380-7B62-44BB-9F4F-9A563FDBB3C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Š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im razvojem dolazi do stalnog pogoršanja u čovjekovoj okoli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oge tome treba tražiti u bezobzirnoj eksploataciji prirodnih resursa, a time i mijenjanja uvjeta života i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azi do zagađivanja okoline raznim štetnim materijalima, otpacima i proizvod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di su svjesni ekoloških katastrof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026-D9CB-45B9-871D-A4C674FCDB5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Š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oji međuovisnost između materijalnog poslovanja i zaštite oko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s se najviše opasnosti vidi u političkim i vojnim konfliktima - imaju velikog utjecaja na nabavu, posebno na cijene strateških proizv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ovine ne eksploatirati narušavanj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-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 obnovlj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ovine – brzo se iskorištava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D50-AA77-417D-BE1F-DAF1DE3D7AD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N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razvijenim zemljama se ulažu velika sredstva u očuvanje čovjekove oko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i otklanjanja šteta su mnogo veći nego troškovi sprječavanja št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se mogu aktivirati ljudi iz nabave pribavljanjem informacija o ponašanju pojedinih materijala na okolinu, kao i utjecaja tehnoloških postupaka na čovje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5D3-79ED-4D3C-9855-6B9635646C4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N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birati dobavljače koji brinu da njihovi materijali ne štete okoli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reba pribavljati podatke o materijalima koji zagađuju okolin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goročno će imati uspjeha samo ona nabava koja bira dobavljača prema ekonomskim i ekološkim kriterij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izbjegavati sirovine koje troše velike količine energ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22F-5ACA-44B7-92F1-9FF91A5975D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N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zakoni o zaštiti prirode, voda i o otpad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poznavati te materijale i u praksi ih poštiva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nost je svjesna značenja zaštite okoline, ali stručnjaci nekada donose odluke misleći više o ekonomičnosti proizvodnje nego o posljedicama na oko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425-8CED-435D-8382-628E41ABF92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LJEVI I ZADACI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H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JA NABAVE I MATERIJALNO POSL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CI PODUZ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CI PODUZEĆA I FUNKCI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I POSLOV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3B1-479A-4166-B534-B3898C2408E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TRAJNIH DOB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je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eđ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as se više ne koriste nazivi OSA i OBA neg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j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kuća imov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909-5BBF-457B-98A7-11AA333AD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i materijalno poslovanje su sastavni dijelovi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tome, svrha nabave proizlazi iz svrhe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r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jskog, ali i svakog drugo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uzeć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da proizvodnjom i razmjenom zadovoljava potrebe tržiš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F49-C33C-4455-A394-E4D8A5C37D0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izvodnjom i razmjenom zadovoljava se potreba tržiš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taj način se odvija reprodukc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uspješno ostvarivanje proizvodnje mora se raspolagati potrebnim resurs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 njima, najviše značenje imaju sredstva rada, predmeti rada i usl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9C2-130F-4683-B094-BAF2BC46488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rha funkcije nabave je da uspješno opskrbi poduzeće predmetima rada, sredstvima rada i uslug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o tako se može odvijati proizvodnja i proizvoditi kvalitetni proizvo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o može ostvarivati samo uz suradnju s ostalim funkcijama u poduze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5C0-A3CF-466F-A731-4F176053DC1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adnju s funkcijama proizvodnje, kadrovsku, financijsku i funkciju proda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no funkcioniranje funkcija osigurava uspješnost poslovanj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samo jedna od navedenih funkcija ima određene teškoće to će se osjetiti u cjelokupnom poslovanju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BE4-F8D1-45E8-A956-9DA7F0EF5ED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elj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ije nabave, a time i materijalnog poslovanja, proizlaze iz svrhe i temeljnih ciljev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elj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e i materijalnog poslovanja mogu se podijelit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onoms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urnosn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C02-3280-43AD-A6F1-4F7ADBAB881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KONOMSK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 uspješna opskrba sredstvima za proizvodnju i uslug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 ovog cilja proizlazi da je nabava duž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iti odgovarajući asortiman, kvalitetu i količinu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u izvršiti na vrijeme, uz najpovoljnije cijene, uz najpovoljnije uvjete plaćanja, od traženih dobavljača i uz najniže trošk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280-D6B9-4D56-9D9C-F25A5157699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URNOS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L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 tre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ti neprekidan tijek materijala i usluga potrebnih za kontinuiranu proizvodn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iti po mogućnosti i potpuno eliminirati rizike nabave i materijalnog posl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CAE-F07C-4F3B-AFBB-FBD8BEB78C3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TAL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L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ove ciljeve nabave ubra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nje alternativnih izvora nab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nje dobrih odnosa s dobavljač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nje osoblja nabave i materijalnog posl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96A-A26E-46AD-A5C8-223F6E394BA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I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MENUTI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reba biti dobro organizirana za uspješno obavljanje cilj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aterijala mora biti sukladna tipizaciji i standardizaciji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težiti opskrbljivanju poduzeća ekonomičnim količinam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količine omogućuju da se proces proizvodnje odvija kontinuirano, uz najniž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03E-FB48-4CED-ADBC-DA0BD2D06C2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I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MENUTI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ti u pravo vrije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i nabavljati upravo onda kada to proces proizvodnje zahtije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ti po najpovoljnijim cijen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znači nabavljati po najnižim cije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kle, potrebno je predmete rada nabavljati po optimalnoj cijeni kojom se osigurava količina i kvaliteta i ostali povoljni uvjeti kup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povoljniji su oni dobavljači koji svoje obveze za kvalitetu i rokove isporuke poštu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0E0-DA3E-4A14-9BE1-51C907E61D1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USLU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drazumijeva s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proizvodne uslug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obrada, prerada, dorada, oplemenjivanje sredstava za proizvodnju, izrada dijelova, sudjelovanje vanjskih kooperanata u proizvodn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usluge u promet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agencijske, posredničke, zastupničke, komisione, burzovne, skladišne, pakiranje, osiguranje robe u trasportu, kontrola kvalitete i količine nabavljene ro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87C-1E67-4491-BB95-1D5CA85A08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I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MENUTI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ljanje uz najniže ukupne trošk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razumijeva kvalitetnu i pravodobnu opskrbu poduzeć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e naručivanja, dopreme, unutarnjeg transporta, skladištenja, rukovanja i kamata na zali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711-7A3F-4AF8-BFB8-92299B2710B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ZIK NABAVE I RIZIK ZALIH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lo važan cilj funkcije nabave je da utječe na eliminiranje rizika nabave i rizika zaliha materij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z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može definirati kao prijeteća mogućnost nastupa vremenskih i prostornih neodređenih događaja koji uzrokuju djelomičnu ili potpunu štetu na materijalima za kupca ili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1D6-4C43-4408-8EE1-F4C50196E2F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ZIK NABAVE I RIZIK ZALIH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 procesu nabave i materijalnog poslovanja mogu se pojaviti rizici vezani 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jene, kvalitetu, transport, isporuku, zalihe i d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litičke događaje, ratne sukob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alutni i tečajni karak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zici se mogu smanjiti i eliminirati uz mjere osiguranja robe, boljom organizacijom nabave, kadrova, osiguranjem, i na druge nač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3AD-02BB-48CF-84A1-0D33BB02A17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DATAK PODUZEĆ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tak poduzeća mora se definirati kao proizvodnja određenih roba radi zadovoljavanja tržiš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kcij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razumijevamo skupinu sličnih ili istovrsnih pos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3B4-B7C8-4CF9-B51F-72E4A474D7E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DATAK PODUZEĆ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ščlanjuje se na poslovne funk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ovsk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jsk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čunovodstve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C01-9AB4-41DB-B02A-41FC95B089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NA 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ema programe i strategije dugoročnog razvoja poduzeć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ti ostvarivanje usvojenih programa i strategi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razvojna služba ili sektor razvoja poduzeć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mišljava dugoročni razvoj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6A6-B382-4A83-99A0-B915200FD0A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IZVOD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duzeća objedinjava poslove koji se bave svim aspektima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nja se obavlja u proizvodnim jedinicama koje se u pojedinim poduzećima različito nazivaju: npr. pogoni, odjeli, radionice, poslovne jedinice,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ovu poslovnu funkciju vrlo je važno osigurati kvalitetnu nabavu s najnižim troškov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47C-7AC2-431C-8F89-A5B43E467F7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ADROVS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sve poslove vezane za angažiranje i osposobljavanje radnika potrebnih poduze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ve funkcije obavlja kadrovska služba ili sektor kadrovskih posl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žba treba brinuti i o uvjetima rada i života radn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29D-5307-4255-9C51-900C2D6663F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vezane za opskrbu poduzeća sredstvima i predmetima rada i potrebnih uslug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biti ekipirana i osposobljena za obavljanje nabave na domaćem i inozemnom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377-51E6-4E35-89F9-A06CEC01F0F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AJ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koji se bave prodajom gotovih proizvoda na domaćem i inozemnom tržiš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služba prodaje ili prodajni sektor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lužbi su zaposleni stručnjaci iz područja marketinga. Oni moraju dobro poznavati tržište prodaje, kanale prodaje i distribucije te promociju na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63B-F828-4308-B255-44AADCD8B63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28:33Z</dcterms:created>
  <dc:creator>Dr.Zlo</dc:creator>
  <dc:description/>
  <dc:language>en-US</dc:language>
  <cp:lastModifiedBy>Korisnik</cp:lastModifiedBy>
  <dcterms:modified xsi:type="dcterms:W3CDTF">2007-12-10T07:53:01Z</dcterms:modified>
  <cp:revision>23</cp:revision>
  <dc:subject/>
  <dc:title>POJAM NABAVE   1</dc:title>
</cp:coreProperties>
</file>