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46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345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6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120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270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190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4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292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293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  <p:sldId id="516" r:id="rId263"/>
    <p:sldId id="517" r:id="rId264"/>
    <p:sldId id="518" r:id="rId265"/>
    <p:sldId id="519" r:id="rId266"/>
    <p:sldId id="520" r:id="rId267"/>
    <p:sldId id="521" r:id="rId268"/>
    <p:sldId id="522" r:id="rId269"/>
    <p:sldId id="523" r:id="rId270"/>
    <p:sldId id="524" r:id="rId271"/>
    <p:sldId id="525" r:id="rId272"/>
    <p:sldId id="526" r:id="rId273"/>
    <p:sldId id="527" r:id="rId274"/>
    <p:sldId id="528" r:id="rId275"/>
    <p:sldId id="529" r:id="rId276"/>
    <p:sldId id="530" r:id="rId277"/>
    <p:sldId id="531" r:id="rId278"/>
    <p:sldId id="532" r:id="rId279"/>
    <p:sldId id="533" r:id="rId280"/>
    <p:sldId id="534" r:id="rId281"/>
    <p:sldId id="535" r:id="rId282"/>
    <p:sldId id="536" r:id="rId283"/>
    <p:sldId id="537" r:id="rId284"/>
    <p:sldId id="538" r:id="rId285"/>
    <p:sldId id="539" r:id="rId286"/>
    <p:sldId id="540" r:id="rId287"/>
    <p:sldId id="541" r:id="rId288"/>
    <p:sldId id="542" r:id="rId289"/>
    <p:sldId id="543" r:id="rId290"/>
    <p:sldId id="544" r:id="rId291"/>
    <p:sldId id="545" r:id="rId292"/>
    <p:sldId id="546" r:id="rId293"/>
    <p:sldId id="547" r:id="rId294"/>
    <p:sldId id="548" r:id="rId295"/>
    <p:sldId id="549" r:id="rId296"/>
    <p:sldId id="550" r:id="rId297"/>
    <p:sldId id="551" r:id="rId298"/>
    <p:sldId id="552" r:id="rId299"/>
    <p:sldId id="553" r:id="rId300"/>
    <p:sldId id="554" r:id="rId301"/>
    <p:sldId id="555" r:id="rId302"/>
    <p:sldId id="556" r:id="rId303"/>
    <p:sldId id="557" r:id="rId304"/>
    <p:sldId id="558" r:id="rId305"/>
    <p:sldId id="559" r:id="rId306"/>
    <p:sldId id="560" r:id="rId307"/>
    <p:sldId id="561" r:id="rId308"/>
    <p:sldId id="562" r:id="rId309"/>
    <p:sldId id="563" r:id="rId310"/>
    <p:sldId id="564" r:id="rId311"/>
    <p:sldId id="565" r:id="rId312"/>
    <p:sldId id="566" r:id="rId313"/>
    <p:sldId id="567" r:id="rId314"/>
    <p:sldId id="568" r:id="rId315"/>
    <p:sldId id="569" r:id="rId316"/>
    <p:sldId id="570" r:id="rId317"/>
    <p:sldId id="571" r:id="rId318"/>
    <p:sldId id="572" r:id="rId319"/>
    <p:sldId id="573" r:id="rId320"/>
    <p:sldId id="574" r:id="rId321"/>
    <p:sldId id="575" r:id="rId322"/>
    <p:sldId id="576" r:id="rId323"/>
    <p:sldId id="577" r:id="rId324"/>
    <p:sldId id="578" r:id="rId325"/>
    <p:sldId id="579" r:id="rId326"/>
    <p:sldId id="580" r:id="rId327"/>
    <p:sldId id="581" r:id="rId328"/>
    <p:sldId id="582" r:id="rId329"/>
    <p:sldId id="583" r:id="rId330"/>
    <p:sldId id="584" r:id="rId331"/>
    <p:sldId id="585" r:id="rId332"/>
    <p:sldId id="586" r:id="rId333"/>
    <p:sldId id="587" r:id="rId334"/>
    <p:sldId id="588" r:id="rId335"/>
    <p:sldId id="589" r:id="rId336"/>
    <p:sldId id="590" r:id="rId337"/>
    <p:sldId id="591" r:id="rId338"/>
    <p:sldId id="592" r:id="rId339"/>
    <p:sldId id="593" r:id="rId340"/>
    <p:sldId id="594" r:id="rId341"/>
    <p:sldId id="595" r:id="rId342"/>
    <p:sldId id="596" r:id="rId343"/>
    <p:sldId id="597" r:id="rId344"/>
    <p:sldId id="598" r:id="rId345"/>
    <p:sldId id="599" r:id="rId346"/>
    <p:sldId id="600" r:id="rId347"/>
    <p:sldId id="601" r:id="rId3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slide" Target="slides/slide261.xml"/><Relationship Id="rId264" Type="http://schemas.openxmlformats.org/officeDocument/2006/relationships/slide" Target="slides/slide262.xml"/><Relationship Id="rId265" Type="http://schemas.openxmlformats.org/officeDocument/2006/relationships/slide" Target="slides/slide263.xml"/><Relationship Id="rId266" Type="http://schemas.openxmlformats.org/officeDocument/2006/relationships/slide" Target="slides/slide264.xml"/><Relationship Id="rId267" Type="http://schemas.openxmlformats.org/officeDocument/2006/relationships/slide" Target="slides/slide265.xml"/><Relationship Id="rId268" Type="http://schemas.openxmlformats.org/officeDocument/2006/relationships/slide" Target="slides/slide266.xml"/><Relationship Id="rId269" Type="http://schemas.openxmlformats.org/officeDocument/2006/relationships/slide" Target="slides/slide267.xml"/><Relationship Id="rId270" Type="http://schemas.openxmlformats.org/officeDocument/2006/relationships/slide" Target="slides/slide268.xml"/><Relationship Id="rId271" Type="http://schemas.openxmlformats.org/officeDocument/2006/relationships/slide" Target="slides/slide269.xml"/><Relationship Id="rId272" Type="http://schemas.openxmlformats.org/officeDocument/2006/relationships/slide" Target="slides/slide270.xml"/><Relationship Id="rId273" Type="http://schemas.openxmlformats.org/officeDocument/2006/relationships/slide" Target="slides/slide271.xml"/><Relationship Id="rId274" Type="http://schemas.openxmlformats.org/officeDocument/2006/relationships/slide" Target="slides/slide272.xml"/><Relationship Id="rId275" Type="http://schemas.openxmlformats.org/officeDocument/2006/relationships/slide" Target="slides/slide273.xml"/><Relationship Id="rId276" Type="http://schemas.openxmlformats.org/officeDocument/2006/relationships/slide" Target="slides/slide274.xml"/><Relationship Id="rId277" Type="http://schemas.openxmlformats.org/officeDocument/2006/relationships/slide" Target="slides/slide275.xml"/><Relationship Id="rId278" Type="http://schemas.openxmlformats.org/officeDocument/2006/relationships/slide" Target="slides/slide276.xml"/><Relationship Id="rId279" Type="http://schemas.openxmlformats.org/officeDocument/2006/relationships/slide" Target="slides/slide277.xml"/><Relationship Id="rId280" Type="http://schemas.openxmlformats.org/officeDocument/2006/relationships/slide" Target="slides/slide278.xml"/><Relationship Id="rId281" Type="http://schemas.openxmlformats.org/officeDocument/2006/relationships/slide" Target="slides/slide279.xml"/><Relationship Id="rId282" Type="http://schemas.openxmlformats.org/officeDocument/2006/relationships/slide" Target="slides/slide280.xml"/><Relationship Id="rId283" Type="http://schemas.openxmlformats.org/officeDocument/2006/relationships/slide" Target="slides/slide281.xml"/><Relationship Id="rId284" Type="http://schemas.openxmlformats.org/officeDocument/2006/relationships/slide" Target="slides/slide282.xml"/><Relationship Id="rId285" Type="http://schemas.openxmlformats.org/officeDocument/2006/relationships/slide" Target="slides/slide283.xml"/><Relationship Id="rId286" Type="http://schemas.openxmlformats.org/officeDocument/2006/relationships/slide" Target="slides/slide284.xml"/><Relationship Id="rId287" Type="http://schemas.openxmlformats.org/officeDocument/2006/relationships/slide" Target="slides/slide285.xml"/><Relationship Id="rId288" Type="http://schemas.openxmlformats.org/officeDocument/2006/relationships/slide" Target="slides/slide286.xml"/><Relationship Id="rId289" Type="http://schemas.openxmlformats.org/officeDocument/2006/relationships/slide" Target="slides/slide287.xml"/><Relationship Id="rId290" Type="http://schemas.openxmlformats.org/officeDocument/2006/relationships/slide" Target="slides/slide288.xml"/><Relationship Id="rId291" Type="http://schemas.openxmlformats.org/officeDocument/2006/relationships/slide" Target="slides/slide289.xml"/><Relationship Id="rId292" Type="http://schemas.openxmlformats.org/officeDocument/2006/relationships/slide" Target="slides/slide290.xml"/><Relationship Id="rId293" Type="http://schemas.openxmlformats.org/officeDocument/2006/relationships/slide" Target="slides/slide291.xml"/><Relationship Id="rId294" Type="http://schemas.openxmlformats.org/officeDocument/2006/relationships/slide" Target="slides/slide292.xml"/><Relationship Id="rId295" Type="http://schemas.openxmlformats.org/officeDocument/2006/relationships/slide" Target="slides/slide293.xml"/><Relationship Id="rId296" Type="http://schemas.openxmlformats.org/officeDocument/2006/relationships/slide" Target="slides/slide294.xml"/><Relationship Id="rId297" Type="http://schemas.openxmlformats.org/officeDocument/2006/relationships/slide" Target="slides/slide295.xml"/><Relationship Id="rId298" Type="http://schemas.openxmlformats.org/officeDocument/2006/relationships/slide" Target="slides/slide296.xml"/><Relationship Id="rId299" Type="http://schemas.openxmlformats.org/officeDocument/2006/relationships/slide" Target="slides/slide297.xml"/><Relationship Id="rId300" Type="http://schemas.openxmlformats.org/officeDocument/2006/relationships/slide" Target="slides/slide298.xml"/><Relationship Id="rId301" Type="http://schemas.openxmlformats.org/officeDocument/2006/relationships/slide" Target="slides/slide299.xml"/><Relationship Id="rId302" Type="http://schemas.openxmlformats.org/officeDocument/2006/relationships/slide" Target="slides/slide300.xml"/><Relationship Id="rId303" Type="http://schemas.openxmlformats.org/officeDocument/2006/relationships/slide" Target="slides/slide301.xml"/><Relationship Id="rId304" Type="http://schemas.openxmlformats.org/officeDocument/2006/relationships/slide" Target="slides/slide302.xml"/><Relationship Id="rId305" Type="http://schemas.openxmlformats.org/officeDocument/2006/relationships/slide" Target="slides/slide303.xml"/><Relationship Id="rId306" Type="http://schemas.openxmlformats.org/officeDocument/2006/relationships/slide" Target="slides/slide304.xml"/><Relationship Id="rId307" Type="http://schemas.openxmlformats.org/officeDocument/2006/relationships/slide" Target="slides/slide305.xml"/><Relationship Id="rId308" Type="http://schemas.openxmlformats.org/officeDocument/2006/relationships/slide" Target="slides/slide306.xml"/><Relationship Id="rId309" Type="http://schemas.openxmlformats.org/officeDocument/2006/relationships/slide" Target="slides/slide307.xml"/><Relationship Id="rId310" Type="http://schemas.openxmlformats.org/officeDocument/2006/relationships/slide" Target="slides/slide308.xml"/><Relationship Id="rId311" Type="http://schemas.openxmlformats.org/officeDocument/2006/relationships/slide" Target="slides/slide309.xml"/><Relationship Id="rId312" Type="http://schemas.openxmlformats.org/officeDocument/2006/relationships/slide" Target="slides/slide310.xml"/><Relationship Id="rId313" Type="http://schemas.openxmlformats.org/officeDocument/2006/relationships/slide" Target="slides/slide311.xml"/><Relationship Id="rId314" Type="http://schemas.openxmlformats.org/officeDocument/2006/relationships/slide" Target="slides/slide312.xml"/><Relationship Id="rId315" Type="http://schemas.openxmlformats.org/officeDocument/2006/relationships/slide" Target="slides/slide313.xml"/><Relationship Id="rId316" Type="http://schemas.openxmlformats.org/officeDocument/2006/relationships/slide" Target="slides/slide314.xml"/><Relationship Id="rId317" Type="http://schemas.openxmlformats.org/officeDocument/2006/relationships/slide" Target="slides/slide315.xml"/><Relationship Id="rId318" Type="http://schemas.openxmlformats.org/officeDocument/2006/relationships/slide" Target="slides/slide316.xml"/><Relationship Id="rId319" Type="http://schemas.openxmlformats.org/officeDocument/2006/relationships/slide" Target="slides/slide317.xml"/><Relationship Id="rId320" Type="http://schemas.openxmlformats.org/officeDocument/2006/relationships/slide" Target="slides/slide318.xml"/><Relationship Id="rId321" Type="http://schemas.openxmlformats.org/officeDocument/2006/relationships/slide" Target="slides/slide319.xml"/><Relationship Id="rId322" Type="http://schemas.openxmlformats.org/officeDocument/2006/relationships/slide" Target="slides/slide320.xml"/><Relationship Id="rId323" Type="http://schemas.openxmlformats.org/officeDocument/2006/relationships/slide" Target="slides/slide321.xml"/><Relationship Id="rId324" Type="http://schemas.openxmlformats.org/officeDocument/2006/relationships/slide" Target="slides/slide322.xml"/><Relationship Id="rId325" Type="http://schemas.openxmlformats.org/officeDocument/2006/relationships/slide" Target="slides/slide323.xml"/><Relationship Id="rId326" Type="http://schemas.openxmlformats.org/officeDocument/2006/relationships/slide" Target="slides/slide324.xml"/><Relationship Id="rId327" Type="http://schemas.openxmlformats.org/officeDocument/2006/relationships/slide" Target="slides/slide325.xml"/><Relationship Id="rId328" Type="http://schemas.openxmlformats.org/officeDocument/2006/relationships/slide" Target="slides/slide326.xml"/><Relationship Id="rId329" Type="http://schemas.openxmlformats.org/officeDocument/2006/relationships/slide" Target="slides/slide327.xml"/><Relationship Id="rId330" Type="http://schemas.openxmlformats.org/officeDocument/2006/relationships/slide" Target="slides/slide328.xml"/><Relationship Id="rId331" Type="http://schemas.openxmlformats.org/officeDocument/2006/relationships/slide" Target="slides/slide329.xml"/><Relationship Id="rId332" Type="http://schemas.openxmlformats.org/officeDocument/2006/relationships/slide" Target="slides/slide330.xml"/><Relationship Id="rId333" Type="http://schemas.openxmlformats.org/officeDocument/2006/relationships/slide" Target="slides/slide331.xml"/><Relationship Id="rId334" Type="http://schemas.openxmlformats.org/officeDocument/2006/relationships/slide" Target="slides/slide332.xml"/><Relationship Id="rId335" Type="http://schemas.openxmlformats.org/officeDocument/2006/relationships/slide" Target="slides/slide333.xml"/><Relationship Id="rId336" Type="http://schemas.openxmlformats.org/officeDocument/2006/relationships/slide" Target="slides/slide334.xml"/><Relationship Id="rId337" Type="http://schemas.openxmlformats.org/officeDocument/2006/relationships/slide" Target="slides/slide335.xml"/><Relationship Id="rId338" Type="http://schemas.openxmlformats.org/officeDocument/2006/relationships/slide" Target="slides/slide336.xml"/><Relationship Id="rId339" Type="http://schemas.openxmlformats.org/officeDocument/2006/relationships/slide" Target="slides/slide337.xml"/><Relationship Id="rId340" Type="http://schemas.openxmlformats.org/officeDocument/2006/relationships/slide" Target="slides/slide338.xml"/><Relationship Id="rId341" Type="http://schemas.openxmlformats.org/officeDocument/2006/relationships/slide" Target="slides/slide339.xml"/><Relationship Id="rId342" Type="http://schemas.openxmlformats.org/officeDocument/2006/relationships/slide" Target="slides/slide340.xml"/><Relationship Id="rId343" Type="http://schemas.openxmlformats.org/officeDocument/2006/relationships/slide" Target="slides/slide341.xml"/><Relationship Id="rId344" Type="http://schemas.openxmlformats.org/officeDocument/2006/relationships/slide" Target="slides/slide342.xml"/><Relationship Id="rId345" Type="http://schemas.openxmlformats.org/officeDocument/2006/relationships/slide" Target="slides/slide343.xml"/><Relationship Id="rId346" Type="http://schemas.openxmlformats.org/officeDocument/2006/relationships/slide" Target="slides/slide344.xml"/><Relationship Id="rId347" Type="http://schemas.openxmlformats.org/officeDocument/2006/relationships/slide" Target="slides/slide345.xml"/><Relationship Id="rId348" Type="http://schemas.openxmlformats.org/officeDocument/2006/relationships/slide" Target="slides/slide346.xml"/><Relationship Id="rId3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221-A4B5-4005-B34A-D963E157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390-FF19-464B-986B-F109C9E5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4E6-7018-487D-812A-861F553D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1D3-68B8-4199-AA0B-5D753462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EC9-5054-4D27-9975-8EDB3F37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F95-C704-4CD4-A991-0F4ACF24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7D9-7F97-422C-9036-94B2B4C9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ECB-8F0C-418F-9ABB-3FAE6AD6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47D-4E68-45DB-BC1F-E19980D7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1DA-380A-420B-85AE-50F4F54F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F42-344D-4C98-B097-3133DEBA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85D-3514-4812-83B5-A4D0903A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4328-6C2F-4AAF-893E-31F879528A46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eučilište u RIJEC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lovni odj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j:Poduzetništv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NABAVNO POSLOV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r. sc. Marko Balen, prof. v. 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davanja 2007/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8B8-D3C0-4685-9812-D1C4ACF7D0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JMA I SADRŽAJA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definiranju treba voditi računa i o razlikama koje nastaju kada se nabava razmatra k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72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72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na funk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728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čna služ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B22-9240-4882-AA1B-BF9235A5E0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JS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dinjava poslove vezane za probavljanje novčanih sredstava i pronalaženje dodatnih izvora financiranja proizvod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e obavlja financijski sektor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CD7-995A-46C8-95B6-66A970114D5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ČUNOVODSTVE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K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dinjava poslove evidentiranja imovine i rezultata poslovanja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e obavlja računovodstvo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E80-EB50-4998-8AC6-BDAAA6EFD37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TA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m poslovnih funkcija postoje i funkcije vezane za pojedine faze procesa proizvodnje u poslov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u zajedničke svim poslovnim funkcijama i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ravljačko-vodeć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no-analiti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kcij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170-A03B-4048-8CAC-490ADF2BEC4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RAVLJAČKO-VODEĆ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đusobno su usko povez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u dio jedinstvenog procesa rukovanja i vođenja posl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avni i poslovodni orga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kupšt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adzorni odb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prava trgovačkog druš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0EB-A638-4B9E-8EAD-B99ECBEBF9B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UPŠ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i u dioničkim, trgovačkim i većim trgovačkim društvima s osobnom odgovornošć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jednice skupština se održavaju rjeđe (nekoliko puta godišnj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učuju o poslovnoj politici i razvoju trgovačkog društva te rezultatima poslov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5DD-ACBD-4E0F-A69D-DDC781E68D47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DZORNI OD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a skupšt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zire poslovanje trgovačkog društ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zire rad up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C86-8D5C-4BD0-80E6-4740C893D4F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RAVA TRGOVAČKOG DRUŠT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a se na mandat od 5 godin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e imati 1 ili više člano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ira i vodi poslovanje trgovačkog društ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svoj rad odgovara skupštini i nadzornom odbor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čelu uprave je predsjedni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B82-BEA4-4CE6-89EE-BC95D35965D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NO-ANALITIČKE FUNK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žavaju i objašnjavaju određeni pojavni oblik poslovnog procesa industrijskog poduzeća koji je, uz njenu primjenu, raščlanjen na razne procese, mogu raščlaniti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klađ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t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vođ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luč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vješta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471-7D9A-464B-9EEA-1439DBC2A30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PODUZEĆA I FUNKCIJ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aci funkcije nabave proizlaze iz svrhe, ciljeva i cjelokupnog poslovanja poduzeć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novni zada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vanje nabave i tržišt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iranje i predlaganje nabavne polit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ranj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ranj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vna priprem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govaranje kup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133-27DE-447B-99F0-1B14DA11A92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KCIJE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novni zada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(nastava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učivanje potrebnih predmeta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rema sredstava za proizvod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jam nabavljenih sredstava za proizvod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a kvalitete i količine nabavljenih sredstava za proizvod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ladištenje nabavljenih sredstava za proizvod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ćanje računa dobavlj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DB2-125D-40CA-B910-36496278DD7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 KAO PROCES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va podfaza procesa razmjene kao prometne faze procesa reprodukcije u kojoj se novac pretvara u rob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uga podfaza j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odaja.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One zajedno čine jedinstvenu fazu razmjene novca za robu, odnosno robe za novac između kupca i prodavao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EDE-FA63-4A57-8268-7E2A179AD6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KCIJE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novni zada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(nastava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vanje materijala iz sklad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aja suvišnih predmeta i sredstava rada i otpad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tiranj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vještavanje o nab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5073-9B04-4DFB-9479-9E0066B47BC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KCIJE NABAVE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zadatke nabave spadaju još 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ga o skladištenju gotovih proizvoda, otprema gotovih proizvo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jski transpor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jiženje u vezi s materijalima i gotovim proizvodi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poslove obavlja više poslovnih funkcija u poduzeću kao što su nabava, proizvodnja, prodaja i računovodst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DE3-6C71-4AD0-BB66-C78646355D1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E NABAVE I TRŽIŠT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A9C-AFD9-470B-AC7A-DFB91895E6B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IRANJE NABAVNE POLITIK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laganje i formiranj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istraživanja tržišt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planiran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kvalitet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količine nabav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nabavnih cijena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A3C-2912-4E6B-9485-C53C5BFE313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IRANJE NABAVNE POLITIK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laganje i formiranj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rokova nabav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izbora izvora nabave i izbora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doprem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skladištenja nabavljenih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zalih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9D8-BBD7-4EC4-9C85-E12BC2B318D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IRANJE NABAVNE POLITIK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laganje i formiranj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recipročnog nabavl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prodaje viškova i otpadak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trošk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u odnosu na osobl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e organ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2CB-0BDC-4AFC-8CBB-E18A3367303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IRANJE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nomenklatur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đivanje planskih cijen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đivanje sistema nabavljanj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normativa zalih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materijalne b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42D-8CB0-4D0B-A959-C8CAD6D676D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IRANJE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nabav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nabave sredstava za 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nabave usl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doprem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skladištenj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4C5-CF12-4FCB-A594-E3A6C8E8E4C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IRANJE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troškova i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škova naba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re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kov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nja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mata na uložena financijska sredstva za zalih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plana organizacije nab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3A3-26A0-4D37-B33C-D806E08419B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ZACIJA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retanje procesa projektiranja organ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znavanje i proučavanje zadata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e i principa organ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iranje i valoriziranje relevantnih čimbenika organ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3A8-9E0D-4FC3-B2A8-0F2A810EB941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 KAO PROCES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ka kupnja je proces nabave, stalna i povremena aktivnost opskrbljivanja poduzeća sredstvima za proizvodnju i uslug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meti ra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bavljaju se češće i kontinuir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redstva ra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bavljaju se povremeno jer je njihov vijek trajanja duž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939-01D6-4C4E-A55A-2C18D13D57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ZACIJA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jenjivanje postojeće organ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i izbor projekta optimal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jena projekta organizacije nabave (implementacija projek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C12-A1E5-48EF-976D-7AEBFA5BE7C3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ERATIVNA PRIPREM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 ispravnosti zahtjeva za nabavu sredstava za proizvodnju i usl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đivanje količina nabave, rokova naručivanja, rokova isporuke, izbora izvora i put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i dostava upita potencijalnim dobavlja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7C0-D72C-43DE-9A53-68ADBAA0002C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ERATIVNA PRIPREM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poređivanje i izbor najpovoljnije ponude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kupljanje referenci o novim dobavlja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đenje pregovora i zaključivanje kupoprodajnih ugov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E88-B1B2-44B3-B768-BB15745982D8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GOVARANJE KUPNJE I NARUČI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ljučivanje kupoprodajnih ugovora i naruč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ćenje izvršenja kupoprodaj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ora i izvršenih narudž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oz sredstava za proizvodnju i usl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B6D-DA29-4CBF-A520-CA3D6D8AC738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PREMA SREDSTAVA ZA PROIZVOD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or načina i nositelja transporta (doprem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aranje i naručivanje prijev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or špeditera i dostava dispozicije za dopre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guranje u transpor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uzimanje od prijevoznika (špedit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BAE-3080-442E-AC80-ECA625754A13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TROLA KOLIČINE I KVALIT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prijem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 količine nabavlje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 kvalitete nabavljenih prijem nabavlje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klamacija na količinu i kvalitetu nabavlje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D95-0900-4C57-9364-CE6D693402FD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LADIŠTENJE MATERIJ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pored i smještaj materija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kladi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uvanje materijala u skladi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tava zahtjeva za nabav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jala kojih nema na zalih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ABE-CD3F-4C30-BCF0-529150744FC5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ĆANJE RAČUNA DOBAVLJAČ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 i davanje naloga za plaćanje računa dobavlja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tava reklamacija u vezi s računima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F1E-7FC0-4A1D-955C-5A874C158F87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DAVANJE MATERIJALA IZ SKLADIŠ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jem i razvrstavanje dokumenata za izdavanje materijala iz sklad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ema i kontrola materijala za izdavanje iz sklad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kiranje i razvrstavanje materijala za izdavanje iz sklad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vanje materijala iz sklad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59F-6D68-4909-9E35-8D7AEFD0557B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AJA SUVIŠNIH MATERIJAL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edstava za rad i otpad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 viškova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upljanje i sortiranje otpadaka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aja viškova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aja otpad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aja suvišnih sredstava za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prema i naplata prodanih viškova materijala, sredstava rada i otpad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B0C-90FE-49CA-B08D-C652C4D266D5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 KAO 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jedna od poslovnih funkcija poduzeća (funkcija = istovrsni poslov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proizvodnju i prodaju, osnovna je funkcija u proizvodnim poduzeći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prodaju i u trgovinskim poduzeć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CF5-47B1-4167-A433-4078793867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IDENTIRANJE NABAV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preme i skladišt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tiran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tiranje doprem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tiranje skladištenj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85C-3B7E-414B-ABF7-73EFD736E01B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AVJEŠTAVANJE O NABA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i dostava potrebnih informacija o nab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a i dostava izvještaja o nab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009-8E30-446C-AEE6-DD843CDFC2F9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TROLA NABAV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ođenja nabavne polit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vršavanja planov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bavnih ci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aliha materij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škov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E47-3C8B-4A6A-A189-934B056AC2A3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TROLA NABAV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nih troš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kovanja materijal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škov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štivanja zakonitosti, običa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nog morala i lojalne konkur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C97-9C57-4F39-8598-171D3F23E5D4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IZA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tržišt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nabavne polit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izvršavanja plan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operativne priprem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oprem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količine nabavljenih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nabavnih cijena roba i usl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103-5126-45DE-B262-0F8211D069D8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IZA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dobavljača sredstava za proizvodnju i usl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zalih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trošk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transportnih i skladišnih troš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kadr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efikasnosti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286-C8A2-45AA-91D4-6187505CC141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I STRATEGIJ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IRANJE POLITIK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CEPCIJA I STRATEGI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KVALITET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IZVORA NABAVE I ODNOSA S DOBAVLJA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NABAVNIH CIJEN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ZALIH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B96-4BDD-4D11-8667-972315453D61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IRANJE POLITIKE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o izabrana i pravilno definirana politika nabave omoguć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đivanje zadatak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mjeravanje i vođenje aktivnosti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klađeno djelovanje i suradnju izvršitelja zadataka u nab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jerenje rezultata u kvaliteti, količini, rokovima i troškovim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ju kontrolu ostvarivanja politik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4AF-2312-47B0-9709-3CDD9324CD3F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IRANJE POLITIKE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a politika nabave uz kadrovsku ekipiranost i funkcionalni organizacijski ustroj ima najviše utjecaja na efikasnost nabave. Pored nabave tu vodimo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ajnu polit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izvodnu polit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jsku polit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rovsku polit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888-7F5D-4EE9-B30B-F7984C54D28B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astavni dio opće poslovne politike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lo je usko povezana s ostalim posebnim politikama, a osobito politikom proizvodnje, investicija, prodajnom i financijskom politik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bi poslovanje bilo uspješno sve spomenute politike trebaju biti usklađ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25A-9DCF-4923-BB5A-D673612AD9BC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A - STRUČNA SLUŽB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je dio procesa reprodukcije i jedna je od poslovnih funkci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čna služba koja obavlja opskrbe poduzeća sredstvima za proizvodnju i uslug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varuje se pute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čnih služb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B99-88FE-4251-B47F-3527F643B7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politiku nabave utječu mnogi čimbenic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 se tijekom vremena mijenja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bog različitih ciljeva i sukoba interesa, te čestih velikih promjena unutar poduzeća i u njegovom okruženju, odlučivanje o politici nabave vrlo je složen pro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5DD-26D5-42AF-AB21-0467EE239A69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 formiranju politike nabave treba se pridržavati slijedećih princi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izanje maksimalne ekonomi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izanje sigurnosti u poslovan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guranje ekonomičnosti i sigu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79D-A2EA-4E37-9C21-E5A1CFE2727D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NABAVE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i se postižu tako da se sredstva za proizvodnj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ljaju pravovremen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optimalnim količinama i kvalitet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ravo vrije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najpovoljnije cije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dgovarajućih dobavljača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najniže trošk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E42-9A55-4E1A-89C6-696AC13B6696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NABAVE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urnost se postiž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siguranjem neprekidnog tijeka materijala i usluga za kontinuiranu proizvodnju te eliminiranjem rizika u nabavi i na zalihama materij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a politika nabave mora biti stabilna i elastična i prilagodljiva stanju na tržiš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va politika treba biti dugoročna i samo tako će osigurati stabilan razvoj poduzeć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4D0-4152-44EC-AAC2-A4583285EA07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 FORMIRANJA POLITIKE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ma sljedeći redoslij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ira se i utvrđuje utjecaj nabave na proizvodnju i poslovanje poduze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ira se postojeće stanje, razvoj i razvojne tendencije poslovanj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dentificiraju se i valoriziraju relevantni činitelji politike nabave, njihov utjecaj, međuovisnosti i međuutica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dviđaju se daljnji razvojni pravci i utjecaji činitelja politik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695-DB67-4EF3-96F3-4942CCCAEA3A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 FORMIRANJA POLITIKE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ma sljedeći redoslijed (nastava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iraju se problemi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tvrđuju se alternativna rješenja politik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tvrđuju se kriteriji za izvor najpovoljnijeg rješenja politik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rađuje se usporedna analiza relevantnog broja alternativnih rješenja na temelju utvrđenh krite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dlaže se organima odlučivanja najpovoljnije rješenje politike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357-1C71-4DFD-A05B-C772D0A5E9F6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 FORMIRANJA POLITIKE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 sljedeći redoslijed (nastavak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učuje se o izvoru najpovoljnijeg rješenja politik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ljnije se razrađuje izabrano rješenje politik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đuje se plan, organizacija i kontrola provođenja politik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smenoj formi se objavljuje usvojena politik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7A8-8809-4017-B12E-12ACABC93FA5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NCEPCIJ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cepciju nabave treba razraditi na temelju definiranih ciljeva poduzeć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rebno je za donošenja odluka u nabav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cepcija nabave predstavlja osnovne zamisli o načinu realizacije politike naba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cepcijom nabave predstavljaju se kriteriji ponašanja rukovodstva i referenata nabave u rješavanju zadataka nabave na temelju ciljeva i filozofije nab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9DB-B67C-4793-937E-82C170558902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CEPCIJA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cepcijom nabave treba postaviti temelje za donošenje poslovnih odluka u vezi ocjenjivanja i izbora dobavljač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cepcija donošenja odluka - da li nabaviti ili proizve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ora svojim aktivnostima omogućiti realizaciju ciljeva poduzeća na što ekonomičniji nač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65A-DA5F-435F-840A-69913BD1ACA8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CEPCIJA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oslovanju s dobavljačima valja težiti trajnim partnerskim odnos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 odnosi moraju biti korektni, ne  zanemariti kvalitete, rokova isporuke i troško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pati takve aranžmane da se dobavljač ne dovede u egzistencijalnu ovisnost o kupcu, ali i neovisnost kupca o dobavljač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453-C7CF-434C-9A41-BEEA2356F219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A - STRUČNA SLUŽB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većin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LIKIH poduzeć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kcija nabave se ostvaruje u posebnoj služb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užbi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unkcija nabave se može ostvarivati u 2, 3 ili više stručnih služb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IM poduzeći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kcija nabave ostvaruje se zajedno s funkcijom prodaje u jednoj službi koja se obično zo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mercijalnom služb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050-4420-4CDF-B8E6-557493A060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CEPCIJA NABAVE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ore valja izvršavati u smislu njihovog sadržaja, a ne samo prema formalnim klauzul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donošenja odluka treba biti što krać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odnosu na dobavljače, kao i u internim odnosima u poduzeću moramo lučiti probleme od osob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mo se rukovoditi poštivanjem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1FD-1D90-4A9C-8938-5B918B63B557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CEPCIJA NABAVE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u nabave potrebno je razvijati prema znanstvenim dostignuć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smiju se zanemariti istraživanja potreba i mogućnosti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ora imati stalne i dobre kontakte s drugim službama u poduzeću, te i izvan poduzeća -pribavljati važne informacije kao podloga za donošenje poslovnih odluka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108-56EA-4F1B-B3BC-7FCFFD45AA3A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NCEPCIJA NABAVE 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oblje u nabavi se mora stalno educirati i usavršavati kako bi moglo uspješno izvršavati svoje poslove i zadat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reba raditi u skladu s koncepcijom i politikom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o podloga za razradu koncepcija nabave postavljaju 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goroč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atkoročni cilje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CD8-DC00-4ADB-9A89-9F14579134D0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UGOROČNI CIL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cepcije nab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lagođavanje organizacije IS nabave potre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dba mandatnog sistema prema kojem nabavu obavlja ona decentralizirana jedinica ili osoba koja za to ima najbolje kvalifikacije i uvj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iranje zaliha u poduzeć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dba standardizacije i tip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na funkcionalne analize vrijednosti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185-6B70-46C8-8978-ACFC77F64D01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RATKOROČNI CILJEVI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cepcije nab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ispitati poslovne odluke u vezi s nabavom i vlastitom proizvodnj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pitati mogućnosti korištenja supstitu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icati dobavljače da u svoj proizvodni program uvedu proizvodnju određenih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na e - poslovanja u komunikacijama nabave i dobavlj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ođenje sinkroniziranog sistema nabavl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AEA-83F1-4F9B-BED7-2DD28BC894DF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RATKOROČNI CILJEVI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laz s nabave opreme na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vedba mjera racionalizaci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 kooperacije u naba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jena linijskog koda u transportu i skladišnom poslova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vedba i korištenje ABC an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jena metoda optimalizacije transp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širenje kruga dobavljač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1E8-FEB4-4830-9708-3314FE10CD57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EGIJA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likom izbora strategije potrebn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raviti što više alternativa kako bi se mogle spoznati šanse prilikom promjena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ti djelovanje na troškove i riz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irati i vrednovati prihvatljive kombinacije strategija temeljem varijabilnih instrumenata nabave cijena, količina, kvaliteta, putova nabave i metoda nabavl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B84-67A5-476A-A0F1-CE3E3A87E1BD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EGIJA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likom izbora strategije potrebn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abrati kombinaciju strategija koje obećavaju što je moguće bolje ostvarivanje izabranih cil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 grube strategije razviti akcione plan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irano dokumentirati i tekuće kontrolirati provedbu strat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22D-86D0-4246-A3F8-C74FCC38ACC5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EGIJA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e razlozi zbog kojih može doći do promjena u izabranoj strategij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jčešći razlozi toga mogu bit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jene na tržišt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ja konkurencije 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ja dobavlj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or odgovarajuće koncepcije i strat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e ovise o umješnosti osoblja nab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531-3EFB-4837-9803-ADBD53D24CAA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se govori o kvaliteti ili kakvoći misli se na određene osobine, svojstva, obilježja, karakteristike proizvoda i uslu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tržišnom poslovanj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valiteta obuhvaća ukupnost osobina proizvoda i uslug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e karakteriziraju njegovu sposobnost da zadovolji potre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CFE-9026-419A-B068-DC18B3214E3A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NA 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601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36E-2C70-43EF-A161-7D42C5B77F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kretno se za nabavu po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valite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zumije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kladnost nabavljenih sredstava za proizvodnju proizvoda ili usluga da zadovolje potrebe proizvodnje i poslovanja poduzeć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kvalitete materijala ovisi, u prvom redu, o kvaliteti gotovih proizvoda kojoj je materijal namijenj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517-8CCF-4F29-92FB-DC305622F5BE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jena materijala određuje da li se odgovarajuća kvaliteta nalazi bliže donjoj ili gornjoj granici kvalite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obra kvaliteta materijala je skup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povoljnija je ona koja može u potpunosti zadovoljiti namjenu u proizvodnj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vršitelji nabave mogu značajno doprinijeti da se nabavlja materijal po najpovoljnijim cijen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E42-81C6-4B44-A45D-769763C84675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zvršitelji nabave moraju imati 3 najvažnije vrste znanja i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navanje materijala kojeg kupu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navanje trž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navanje pouzdanih izvora opskr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 nabavu odgovarajuće kvalitete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rebno 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rediti i opisati i osigurati kvalit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854-1005-47AD-AD4C-C95117C2296E}" type="slidenum">
              <a:t>1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valiteta se može optimalno odrediti ako 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rene od pi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što je materijal potreban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u funkciju treba materijal obaviti u procesu proizvodnje i poslovan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6C2-8F16-41AC-9BAF-152B0388FDE9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valitetu materijala i proizvoda određu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emijski sast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izikalna svoj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rganoleptička svojstva (ona koja se v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ž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menz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unkcion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D57-F150-4D87-A98A-2A2EAC7F7431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 tom se mora uzeti u obzir i njihova pouzdanost, sigurnost, ekološki temelji te njihova raspoloživ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u materijala 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jskom poduzeć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dređuje konstrukcijski odjel koji te materijale naručuje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na služba koja zahtijeva nabavu materijala pa je zatim drži na zalihi ne određuje kvalite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E6B-AF82-4C75-8EED-C17FFE2232C6}" type="slidenum">
              <a:t>1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bog velikog utjecaja kvalitete materijala na kvalitetu gotovih proizvoda se primjenjuje različiti pristup u sistemu opskrbe na slijedeći nač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ođenjem inženjera za materij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remenom dodjelom inženjera nab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ođenjem promocije unutar i izvan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ođenjem projektnih tim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m liste kataloga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9D5-FC41-415F-85AB-45EE4A90A74C}" type="slidenum">
              <a:t>1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KVALITETE MATERIJALA  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a materijala kojeg se nabavlja obično se opisuje na jedan od sljedećih nači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odi se zaštitni 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temelju uzor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odi se tržna kvali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ziva se na važeće stand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a se navodi u specifikac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798-9623-4560-8354-B09A6D06E494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IZVORA NABAVE I ODNOSA S DOBAVLJAČIM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ka izvora nabave i odnosa s dobavljačima ima strateški karakter za cjelokupno nabav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škovi materijala sudjeluju u cijeni gotovih proizvoda s do 80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škovi u velikoj mjeri ovise o ispravno odabranom izboru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zdan dobavljač isporuka sigu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A3F-E6DA-4C97-9D97-974D3B1D38CB}" type="slidenum">
              <a:t>1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IZVORA NABAVE I ODNOSA S DOBAVLJAČIM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prikupljati i sređivati podatke o dobavljačima i s njima održavati stalne kontak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ože doći do podataka o izvorima nabave na različite nač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D10-A884-49AA-A8ED-7B7BAC86A00A}" type="slidenum">
              <a:t>1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 NABA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jednička karakteristika marketinga je da u središte svojih razmatranja stavlja tržište i zadovoljavanje potreba tržišnih subjek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nabavi to znači da se kod donošenja odluka misli na njihovo eksterno i interno djelovanje kako bi se što bolje iskoristile tržišne mogućnosti, smanjili rizici i pospješila realizacija ciljeva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C14-424C-45C5-BC73-7BFDC52B2F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CJENJIVANJE DOBAVLJAČA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o je provoditi prije njihovog izbo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je osobito potrebno prije sklapanja poslovnih aranžma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je potrebito činiti periodič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što je nabava upoznata s potrebama za sredstvima za proizvodnju, valja istražiti izvore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AD8-26B3-4B45-98B9-047933F8EC34}" type="slidenum">
              <a:t>1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CJENJIVANJE DOBAVLJAČA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pronaći proizvođače čiji će proizvodi i usluge najbolje zadovoljiti potrebe proizvod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obzirom da se u nabavi donosi veliki broj odluka o dobavljačima, potrebno je, na osnovu istraživanja tržišta, izabrati najpovoljnijeg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DA8-D64E-4CA8-9B8F-9AFDE6458A7A}" type="slidenum">
              <a:t>1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CJENJIVANJE DOBAVLJAČA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ktivizam u izboru dobavljača nije preporučlji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razvijenim zemljama najbolje ocjene dobivaju oni dobavljači koji imaju najbolje razvojne sposob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vi dobavljači mogu doprinijeti kvalitetnim materijalima, a i smanjenju troškova nab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FD7-0F21-45D0-BD0F-4AACE3FCA22D}" type="slidenum">
              <a:t>1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 izboru dobavljača obično se polazi od četiri osnovna kriter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hnička kompeten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ska kompeten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mnost na sura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ska povolj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9E8-BFC8-4F0D-8739-DC064C9C0420}" type="slidenum">
              <a:t>1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i kriteriji se detaljnije razrađuju s različitih glediš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te razrade najprije se polazi od onih koji s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vantitativno mjerlj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to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vantiteta, cijena, pouzdanost isporu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ntitativni kriteriji moraju biti tako razrađeni da se mogu dobiti usporedivi podaci za sve dobavljač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AA3-B41A-4BDA-A0B2-DB51F6860B76}" type="slidenum">
              <a:t>1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jedi razrada kvalitativnih kriterija ocjenjivanja k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hnička kompetencija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acitet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jska situ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ska struktura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a posl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v upravljanja i rukovođ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CA5-131F-46CF-B809-0DC662DC55FF}" type="slidenum">
              <a:t>1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ođer je potrebno utvrditi u kojoj mjeri dobavljač poštuje zahtjeve zaštite oko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likom utvrđivanja spomenutih kriterija važno je imati na umu i geografski položaj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lakše korištenje kriteriji za utvrđivanje kvantitete i kvalitete materijala preporučuje se definiranje liste kriteri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55E-6821-4A91-B9A0-0065940CD3FC}" type="slidenum">
              <a:t>1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a sredstava za proizvodnju tretira se kao najznačajniji faktor pri izboru dobavlj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broju prihvaćenih i vraćenih isporuka izračunava se indeks kvalitete za svu isporučenu robu pojedinih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avljače treba upoznati s ocjenom kvalitete isporučenih materijala koju je dao kupa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F98-9568-48BD-A6CD-49B9366D7E81}" type="slidenum">
              <a:t>1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je, uz kvalitetu, jedan od bitnih kriterija koji se koristi u izboru dobavljača. Razlikujemo više vrsta cije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koštanja, fakturna ci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bavna cijena, prodajna ci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 bi se moglo jednokratno utvrditi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ndeks cijen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za svakog pojedinog dobavljača potrebno je definirati s kojim će se cijenama operira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5E0-B2D3-45F3-8DFC-DA8DEFD8EBD8}" type="slidenum">
              <a:t>1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zdanost isporuke dobiva posebno značenje u suvremenim uvjetima kada se nastoji što više smanjiti ili čak eliminirati zali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ćenje isporuke provodi se s obzirom na održavanje: ugovorenih količina, rokova isporuke i kvalitete predm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B1C-A3BD-4E31-B941-A096EA2EE870}" type="slidenum">
              <a:t>1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AČAJE NABAVE U PODUZEĆ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avljač više nije samo izvor nabave, već je i part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tvo se očitovati u poslovanju, u razvoju, u inovacijama i optimalizaciji troško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avljač mora poznavati kup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pac mora dobro poznavati dobavlj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23C-6C54-468B-98B8-5A81D0083F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ativni kriteriji služe za suptilnije ocjenjivanje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 su nadopuna ocjene dobavljača na temelju kvantitativnih kriteri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 osobito odnosi na nove dobavljač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512-4E39-4A34-B25C-263909A85C5D}" type="slidenum">
              <a:t>1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hničke kompetencije dobavljača u koje spadaj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lificiranost osobl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položivi uređaji i alati te servi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ječu na rezultate poslovanja te, na taj način i na kvalitetu i cij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jednostavniji sistem ocjenjivanja može se iskazati s 3 moguće ocj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ovoljava 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zadovoljava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a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D76-8A94-4701-9AAA-6255DA295CD4}" type="slidenum">
              <a:t>1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upna ocjena se donosi temeljem dodijeljeni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razraditi vlastite kriterije za ocjenjivanje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diti računa da to ne izazove velike trošk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žna je i organizacija odnosa s dobavljač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žno je utvrditi ukupan broj dobavlj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E4D-CBB2-4D68-8ACD-D5411DF72604}" type="slidenum">
              <a:t>1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ZBOR DOBAVLJAČA 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j dobavljača može biti različit. S ekonomskog aspekta, najbolje je imati mali broj dobavljača koji zadovoljavaju potrebe u sredstvima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đutim, zbog konkurencije i očuvanja vlastitih pozicija na tržištu, treba imati toliko dobavljača koji će osigurati opskrbu poduzeća potrebnim materijalima pod najpovoljnijim uvjet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AE6-1FBF-4FDB-91FA-1B07FD504E91}" type="slidenum">
              <a:t>1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VOTE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ise o politici nabave, zatim o potrošnji materijala, o uvjetima prodaje, transporta i financijskim uvjeti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eljem toga, utvrđuju se kvote nabave materijala od pojedinih dobavljač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ote nabave treba tako definirati da što je više moguće ukupne zalihe pretvorimo u optimal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o će se smanjiti troškovi nabave, a proces proizvodnje odvijat će se normal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023-08F0-4972-895A-311921553D60}" type="slidenum">
              <a:t>1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RADNJA S DOBAVLJAČ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biti korekt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 su partneri koji zadovoljavaju potrebe poduzeća za sredstvima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 su tome prilagodili svoje kapacitete, svoja investicijska ulaganja, svoj tehnološki proces, servis i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846-5CC1-48BB-AE3A-425D10AAD881}" type="slidenum">
              <a:t>1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I SURADNJE S DOBAVLJAČIM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gu bit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ći i poseb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ći ciljev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jalizacija i podjela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jedničko rješavanje problema automat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rzanje procesa reprodu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njenje potreba za formiranje zali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iranje konkurencije među dobavlj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49C-2F6D-4638-A72D-B815F11DDE2C}" type="slidenum">
              <a:t>1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I SURADNJE S DOBAVLJAČIM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ebni ciljev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voriti pravo partne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prijediti proizvodnju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ijati izvore nabave u blizini mjesta potroš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jentacija na više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05A-FCFD-4B35-9F5A-CF7D76C55D55}" type="slidenum">
              <a:t>1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OVI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e različiti putovi i metode nabave sredstava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je nabave treba donijeti odluku da li je ispravno nabaviti neposredno od proizvođača ili posredno preko trgov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m toga, treba odlučiti da li materijale nabaviti na domaćem tržištu ili posredno putem trgov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D1A-E15C-4A90-9027-52AD5FFCF0EB}" type="slidenum">
              <a:t>1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OVI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osnovi, postoje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novna puta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ljanje materijala od proizvođača direktno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osredni put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ljanje materijala u trgovini i od uvoznika 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redni put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DCD-F76D-4C5C-93D7-7C42FCE1B2F9}" type="slidenum">
              <a:t>1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ORMACIJE DOBAVLJAČA O KUP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oduzeću općeni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otrebnoj tehničkoj i komercijalnoj podršci kojom može povećati svoju efikas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mogućnostima zajedničke promocije kako bi se još više proširila surad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544-51E5-431C-A06E-90589E2C05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ODE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emo definirati ka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up postupaka rješavanja zadataka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pak rješavanja nabave može se odvijati na različite načine, pa se razlikuju i različi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b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meno naručiva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telefo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pismenim pu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preko intern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350-B828-42A6-B9E5-331D2CB150EE}" type="slidenum">
              <a:t>1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 POLITIKE NABA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ira se temeljem programa proizvodnje i programa proda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eljem njih utvrđuje se kvaliteta i kvantiteta potrebnih predmeta rada, kao i vrijeme kada ti predmeti trebaju biti na raspolaganju proizvodnj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kom programa nabave nastoji se utjecati na tržišne uvjete tako da se stvori što povoljnija sfera na početku procesa reproduk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5BF-1637-49AA-BF7C-D0DB294D57BC}" type="slidenum">
              <a:t>1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KA NABAVNIH CIJENA MATERIJ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 politike nabavnih cijena je da se sredstva za proizvodnju i usluge nabave po najpovoljnijim cijenama uz održavanje korektnih odnosa s dobavljač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jena materijala sudjeluje s do 80% u cijeni koštanja industrijskog proizvo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bog toga su nabavne cijene materijala najvažniji činitelj koji utječe na donošenje odluka o nabav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0F1-08B5-4F71-AC2A-2D0A26F53593}" type="slidenum">
              <a:t>1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NA CIJEN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može se promatrati izolir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ju dovesti u kontekst kvalitete, količine, rokova isporuke, transporta i plać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eljem njih može se odlučivati o nabavnoj cijeni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e dovoljno da cijena materijala bude povoljna samo za kupca, već s njom treba biti zadovoljan i dobavljač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A30-4575-4A0A-B15D-647D4CC4F8DA}" type="slidenum">
              <a:t>1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NA CIJEN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nu cijenu materijala uvjetu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jena koštanja proizvođ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uda i potražnja za materijalom iz  kojih su izrađ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liteta i količina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škovi transporta, osiguranja, špedicije i posredovanja oko nabave, privredni prop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ka prodajnih cijena dobavlj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ka nabavnih cijena kup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jsko stanje kup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DAC-AC75-4484-BA60-75F2C5579149}" type="slidenum">
              <a:t>1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NA CIJEN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jena je, po prirodi posla, bitni sastojak svakog ugovora o kupnji i prodaj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e različiti načini za dobivanje informacija o cijenama materija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jenici –katalozi –prospekti –Web st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zovni 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govački časop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ude - pregov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EC9-35FD-4AA5-AE61-75294417FFB8}" type="slidenum">
              <a:t>1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STI CIJENA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ije o cijenama nisu potpune ako kupac nije utvrdio neto cijenu koju plaća dobavljač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bi utvrdio neto cijenu, kupac mora saznati da li dobavljač daje popuste na nabavu materijala, u kojim slučajevima i koliko oni izn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ično se daju 2 vrste popu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675-BD8F-4036-9EC5-015A2E94FBF0}" type="slidenum">
              <a:t>1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STI CIJEN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casa scont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popust koji dobavljač daje kupcu ako plati nabavljeni materijal unutar roka koji je kraći od ugovorenog roka plaćanja, a odobrava se u postotku na nabavnu cij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F41-FC25-4773-95A1-4304E52F587B}" type="slidenum">
              <a:t>1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USTI CIJEN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b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popust na cijenu robe i usluge koje dobavljač daje kupcu da bi smanjio zalihe, snizio troškove i povećao obujam prodaje, a daje se u postotku (1%, 2%) na nabavnu cijen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at može biti trgovinski, specijalni, sezonski i količins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805C-F4C9-404F-A3FF-A780D1412536}" type="slidenum">
              <a:t>1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KSNE I KLIZNE CIJENE MATERIJ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tavni dio politike nabavnih cijena je odluka da li kupovati materijale po fiksnim ili kliznim cijen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o kupac i dobavljač utvrde ugovorom o kupnji, prodaji, iznos cijena po jedinici mjere ili za ukupnu cijenu govori se 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ksnoj cije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ksna cije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jednostavljuje poslovanje, otklanja sporove, omogućuje realnu kompilaciju i za kupca i za dobavlja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E6B-9B4A-4233-B78F-31DCF5EA127F}" type="slidenum">
              <a:t>1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JAM NABA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najužem smis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že poistovjetiti s kupnjom kao činom kupoproda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širem smis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uhvaća cjelokupnu djelatnost povezanu s kupnjom sredstava za proizvodnju i uslu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kupnju su povezane aktivnosti koje prethode i koje slijede toj kupn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CA9-B464-43E3-B950-EC51DD2361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 PRISTUP TRŽIŠ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se na tržištu želi uspjeti, moraju se smanjivati rokovi isporuke i troškovi 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nosi s dobavljačima - uspostaviti partnerske odno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rketing nabave se posebno bavi kombinacijama instrumenata politike nabave i to nazivam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ixom ili spletom nab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FA4-5DBC-4542-868D-C79797D95F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ZALIH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ka zaliha materijala dobiva na značenju s porastom kamata na obrtni kapital i porastom troškova skladište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lihe materijala trebaju biti tolike da osiguravaju kontinuirano odvijanje procesa reprodukc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ekonomičnije su one zalihe koje zadovoljavaju potrebe proizvodnje po količini i kvaliteti. Najbolje bi bilo poslovati bez zalih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183-34ED-4F7B-A9C7-72C5D875A8B0}" type="slidenum">
              <a:t>2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ZALIH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bog uvjeta i rokova isporuke zalihe treba držati u granicama normativa da bi se proizvodnja mogla odvijati kontinuir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a tome, dovoljno zaliha je prioritetan zahtjev u vođenju politike zaliha. Takve zalihe se zov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li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ko nor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vođenju politike zaliha treba nastojati ostvariti što veći koeficijent obrtaja – minimalni koeficijent obrtaja onda govorimo 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kurentnim zalih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BB5-7974-40BA-AC3B-3AC507386949}" type="slidenum">
              <a:t>2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ITIKA ZALIH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ko nor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kurentne 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dstavljaju višak za poduzeće i treba ih se što prije oslobodi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mogu izazvati zastoji u proizvodnji, veće isporuke dobavljača i izmjene proizvodnog progr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B52-7567-4D60-B972-BDAF62F4E517}" type="slidenum">
              <a:t>2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E TRŽIŠT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ŽIŠT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TANJE PONUDE I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ODE ISTRAŽIVANJA TRŽIŠT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ADA PRIKUPLJE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A ISTRAŽIVANJA TRŽIŠT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114-A465-4FFC-82F3-3BE1175280FF}" type="slidenum">
              <a:t>2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ŽIŠTE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razvojem tržišta nabave razvijala se i sama naba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ti nabave prestali su biti puki izvršitelji nečijih odluka o tome što, gdje i od koga valja nabaviti potrebne materij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i su stručnjaci koji analiziraju, procjenjuju, biraju i iniciraju nabav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7EF-4F00-40A7-BC1A-639B321EC89D}" type="slidenum">
              <a:t>2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ŽIŠTE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ova je zadaća da promatraju i istražuju tržište nabave. Da bi to mogli, moraju raspolagati s aktualnim informacij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ije će im pomoći da se bolje snađu na tržiš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ije će dobiti sistematičnim istraživanjem tržišta nabave, objekata nabave, dobavljača, potražnje i cij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28B-89B3-4E18-8DFE-80708499A768}" type="slidenum">
              <a:t>2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ŽIŠTE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to istraživanje nabave predstavlja organizirano i sistematično prikupljanje, sređivanje, analiziranje i interpretiranje podataka o tržištu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donosi konkretne odlu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uke temeljene na pouzdanim informacijama, rezultirati  će najpovoljnijom nabav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71D-9C1E-4E49-8FF2-F532975EFCFE}" type="slidenum">
              <a:t>2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E TRŽ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risti se odgovarajućim istraživačkim metodam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ovom primjenom dolazi se do određenih rezultata koji se zatim prezentiraju u određenom oblik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isno o ciljevima koji su postavljeni, ti rezultati mogu se prezentirati u oblik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aborata, studija i izvješta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4DD-BA25-459E-BD60-E8C2A89420A3}" type="slidenum">
              <a:t>2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E TRŽIŠT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eba biti plansko i mora se odvijati kontinuir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 provodi se radi donošenja nekih značajnih odluka  -  govorimo 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godnom ili specijalnom istraživanj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se odvija permanentno  -  govorimo 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kućem istraživanj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3A4-67AD-494B-8B17-9BD914A0AF4B}" type="slidenum">
              <a:t>2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KUĆE ISTRAŽIVANJE TRŽ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vija se kao sastavni dio aktivnosti nabavlj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stavlja kontinuirano prikupljanje i analiziranje podataka o tržištu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met tekućeg istraživanja su podaci o predmetima 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AAC-2EFA-44BA-AD4F-561FFCE6A116}" type="slidenum">
              <a:t>2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LOVANJE NA 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žni s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jenjeni sustav nabavlj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onalna fizička distribucija ro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lihe se nastoje smanjiti na najmanju moguću mjeru. Valja poboljšati rokove isporuke ro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njiti vrijeme od početka proizvoda do isporu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BA2-2795-4334-8AAE-1D20727664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KUĆE ISTRAŽIVANJE TRŽIŠT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aci o predmetima r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uda materijala i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až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nti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kovi isporu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aci o dobavljačima i njihovim karakteristi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A7B-8944-4B08-9398-E7767E6692EA}" type="slidenum">
              <a:t>2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KUĆE ISTRAŽIVANJE TRŽIŠTA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aci o dobavljačima i njihovim karakteristik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aciteti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ficiranost osob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rtiman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3D9-3B95-4CF8-881A-D378E011E3EF}" type="slidenum">
              <a:t>2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ISTRAŽIVANJA TRŽ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ju se unaprijed precizira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diti istraživače koji će to istraživanje moći proves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definirati ciljeve istraživ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oznavanje tržišta nabave dovodi do povećanja troškova nabavlj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8A0-E2D4-45D9-B447-B58709CC2BD3}" type="slidenum">
              <a:t>2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ISTRAŽIVANJA TRŽIŠT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uspjeh u istraživanju tržišta bitno je izabrati osobe s odgovarajućim znanjem i sposobnost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ju poznavati proizvode i tržište nabave, istraživačke meto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ju biti sposobni za timski rad. Taj posao mogu uspješno obaviti ekonomisti s praksom na poslovima nab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A59-4A14-4DFB-B7E5-602D3AACDFF0}" type="slidenum">
              <a:t>2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ISTRAŽIVANJA TRŽIŠTA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rtiman predmeta nabave je veli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žište nabave nije za sve materijale jednako opskrbljen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istraživanju tržišta treba se ograničiti na istraživanje onih predmeta rada koji su značajniji, vredniji i potrebniji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2BA-9E26-4921-BE83-A5AB80A56FFC}" type="slidenum">
              <a:t>2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ISTRAŽIVANJA TRŽIŠTA NABAVE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kti istraživanja tržišta nabave prvenstveno su predmeti rada grupe 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za procese reprodukcije značajniji materijali koji se teže nabavljaju (investicijska oprem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24C-E081-47A0-A71D-50560A709E90}" type="slidenum">
              <a:t>2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ISTRAŽIVANJA TRŽIŠTA NABAVE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tržište nabave djeluju različiti fakt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jecaj ekonomske politik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meti rada i njihove tehničke karakteristik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ponude i potražnj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loški zahtjev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jena materija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avljač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FF24-E198-4C1E-9C5C-9F68040193FA}" type="slidenum">
              <a:t>2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DACI ISTRAŽIVANJA TRŽIŠTA NABAVE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raživanje tržišta nabave se od postavljenih ciljeva ograničava na određena područja kao što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jedina tržišta (domaća i str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redne g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đeni teritor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eđeni proizvod (materij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AAE-BE88-4093-A6FC-A486023AA2A9}" type="slidenum">
              <a:t>2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HNIČKE KARAKTERISTIKE PREDMETA RAD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vanje tržišta nabave obično započinje upoznavanjem tehničkih karakterist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 tome je potrebno poznavati strukturni sastav predmeta 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znači da treba poznavati iz kojih sirovina i materijala je napravljen, kakve je kvalitete i uporabne vrijedn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ođer, treba istražiti tehnološka dostignuća vezana za materij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38A-2996-4E3C-A1BC-EF660A7C4024}" type="slidenum">
              <a:t>2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KTURA PONUDE I POTRAŽNJ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uda i potražnja mogu se istraživati u globalu ili s aspekta pojedinih predmeta r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vakom slučaju, treba istražiti strukturu ponude i potraž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o tako se može doći do ispravnih ocjena određenog tržišta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D4A-2E67-4E4B-94A7-21B2F1F2E776}" type="slidenum">
              <a:t>2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IRANJE POSLOVNE FUNK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erijalno poslov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je ravnopravna proizvodnji, razvoju, marketingu i drugim poslovnim funkcij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takvoj situaciji funkciju materijalnog poslovanja obavlj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užba materijalnog poslova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služba obavlja poslove nabave, distribucije, skladištenja i prodaje sredstava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530-6C25-478E-B4DD-336E1254C7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KTURA PONUDE I POTRAŽNJ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ktura ponude i potražnje u cjelini ovisi o ekonomskoj politici zeml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čkoj situacij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jetskim gospodarskim kretanji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zonskim kolebanji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kretanju uvoza i izvoza materij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643-ABC5-470F-82D7-6D7C00B61071}" type="slidenum">
              <a:t>2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KTURA PONUDE I POTRAŽNJ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se promat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nude i potražnje pojedinih predmeta rada, tada možemo evidentirati niz faktora o kojima ov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j i veličina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a ponuđenih predmeta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ntiteta ponuđenih predmeta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stičnost ponude ponuđenih predmeta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45D-4059-45E1-A85F-590F13EEAA7B}" type="slidenum">
              <a:t>2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RAŽNJA PREDMETA RA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karakteristika tržišta nabave. Interesantna je kao i ponu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uspješnu nabavu valja prvo istražiti tko na tržištu nabave vlastitog poduzeća nabavlja iste predmete 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kurenti u nabavi mogu se podijeliti na one koji iz istih predmeta nabave proizvode druge krajnje proizv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zahtijeva istraživanje i tržišta prodaje, tako može procijeniti potražnja za predmetima r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CDF-FA89-4E91-BCDA-820AC16CFDBD}" type="slidenum">
              <a:t>2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RAŽNJA PREDMETA R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 procjenu vlastite pozicija na tržištu, treba utvrditi visinu potražnje, tj. potrebe kupa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 nabavu je značajno da o ponudi i potražnji, kao i trendovima u njihovim kretanjima ima što više informac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je najznačajnija funkcija istraživanja tržišta naba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moću statističkih i matematičkih metoda može se, na osnovu prikupljenih podataka, stvoriti podloga za strategiju i taktiku nab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512-0D3B-4883-967C-572E47D3C0EF}" type="slidenum">
              <a:t>2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KOLOŠKI ZAHTJEVI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o je prirodna okolina više ugrožena, ekološki zahtjevi u nabavi postaju značajnij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to su prirodni resursi veći, čovjek o njima manje br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 nabave treba obuhvatiti promjene u prirodnoj okolini, te utjecaj proizvodnje, skladištenja i transporta vlastitog poduzeća na te promj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246-F287-4A44-A322-FDD15BEDC115}" type="slidenum">
              <a:t>2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KOLOŠKI ZAHTJEVI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m treba pratiti što se poduzima u svijetu i zemlji u pogledu zaštite oko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tom smislu treba pratiti zakonske propise, liste ekološki štetnih proizvoda, te djelovanje ekološkog pokre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će orijentirati nabavu da traži i nabavlja one materijale koji nisu ekološki štet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617-B1D4-4F52-BAAA-7A03407B2292}" type="slidenum">
              <a:t>2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škovima transporta obično se ne pridaje potrebna pozorno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ti sredstvo i putove transporta pomoću kalkulacija i izabrati najpovoljnijeg prijevoznik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abrati prijevoznika na duži rok pa s njim postupati kao s partne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stiti prijevoz - treba voditi računa o njegovim kapacitetima i zadovoljenju potrebe poduzeć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342-F9F8-411A-9F9A-2C84CA81CDCF}" type="slidenum">
              <a:t>2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J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jena sredstava za proizvodnju je jedan od faktora u donošenju odluke o nabavi. Ovisi je 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lite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ič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avljač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ciji na trži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konskim propis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o sve predstavlja objekt istraživanja tržišta nab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BA4-B00E-4298-9043-579BAEBD74DE}" type="slidenum">
              <a:t>2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ODE ISTRAŽIVANJA CI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riste se met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 strukture ci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atranje cijena odabranih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poredba cijena u okviru kalkulacije pon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016-DE74-406C-BA92-78DADC67A9B4}" type="slidenum">
              <a:t>2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ODE ISTRAŽIVANJA CIJ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za strukture cij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stoji se od istraživanja elemenata cijene koštanja nekog proizvo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 mora više pozornosti pokloniti promatranju i uspoređivanju cijena proizvoda kod kojih nastaju veća koleb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913-2470-4FE9-BE0D-6AB26E2558A9}" type="slidenum">
              <a:t>2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LOVANJE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b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avlja ove pos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nose s dobavljač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lučuje o nab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696-269C-4245-B4C2-74BF6D0E36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BAVLJAČ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ora poznavati ekonomske i tehničke karakteristike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aci o dobavljačima mogu se svrstat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ći podaci o dobavljač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jalni podaci vezani za proiz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jeti servisa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nosi poduzeća s dobavlja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722-0D67-4932-A178-719825902EA7}" type="slidenum">
              <a:t>2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BAVLJAČI opći podac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aci o dobavljaču k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upan pri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aciteti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j zaposlen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izvodn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vid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ska 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891-B599-4CAF-9706-238F3C1ADF58}" type="slidenum">
              <a:t>2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BAVLJAČI specijalni poda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i za koje je kupac zainteresira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istraživanje dobavljača važne su njego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gućnosti u pogledu pružanja servisnih usluga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e garancije daje za svoje materij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istraživanju je još važno kakva su iskustva u poslovanju kupca s pojedinim dobavlj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25B-C47A-422E-9728-2BD982F4941E}" type="slidenum">
              <a:t>2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ODE ISTRAŽIVANJA TRŽ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aju biti prilagođene pojedinim fazama istraživanja i predmetima istraživanj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tupak rada na istraživanju tržišta dijeli se u slijedeće fa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ranje is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vanje u užem smis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a prikupljenih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zentiranje rezultata is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na rezultata is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F87-E3E1-44AA-BC7C-FF4BB9CC058E}" type="slidenum">
              <a:t>2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ODE ISTRAŽIVANJA TRŽIŠT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okviru istraživanja 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žem smis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ja primjenom odgovarajućih meto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kupit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irati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aditi podatke o predmetima rada i investicijskim dobrima kako bi se mogle donijeti odgovarajuće strateške odlu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žan dio istraživanja vezan je za predmete r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9C3-3422-4C1A-86DD-337E9C3B60EA}" type="slidenum">
              <a:t>2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ACI ZA ISTRAŽIVANJE TRŽIŠ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gu se pribaviti iz različitih izvor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i će se izvori koristiti ovisi o slijedeć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ručjima istraživanja tržišt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ama istraživanja tržišt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liteti izvora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položivim sredst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položivom vremenu is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sobnosti i inicijativi istraživ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lificiranosti korisnika rezultata is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351-ECB1-4A1F-A0D7-07BE3BD31CE8}" type="slidenum">
              <a:t>2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vi zadatak istraživača tržišta nabave je da precizno odrede područja istraživ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e osnovne metode istraživanja tržišta nab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kundarno istraž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BEA-4495-4A46-B11F-1C13CE3BA0E0}" type="slidenum">
              <a:t>2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no istraživanje tržišta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je duže, košta više i koristi se originalnim podac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kundarno istraživanje tržišta nab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je kraće, košta manje i obavlja se za radnim stolom. Ovo istraživanje koristi podatke koje je već ranije netko prikup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CF5-6D84-4F36-935E-5F38CF98655B}" type="slidenum">
              <a:t>2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d istraživanja tržišta važno je da izvori podataka budu pouzda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voditi računa da istraživanje ne košta više od vrijednosti podataka koji se njime prikuplja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vor određenih podataka ovisi o sposobnosti i znanju istraživ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3B5-3043-41AB-8854-988F56268E1C}" type="slidenum">
              <a:t>2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aci o tržištu nabave mogu se pribavljati n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ktan i indirek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č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kt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ntakti istraživača tržišta koriste se u poduzeću i izvan poduzeća. To su: kontakti s dobavljačima, kontakti s tehničkom i razvojnom službom, posjeta dobavljačima, sajmovi i izlož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AAA-7230-4B06-83F2-2DA4097F0F50}" type="slidenum">
              <a:t>2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TRIBU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vlja poslove vezane 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az ro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ziciju (razmještanje)  materija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avljanje narudžbama i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FC9-D51F-4395-8643-C1E9326EDC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ktnim pu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mogu pribaviti i podaci iz dokumentacije nab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kupljene ponu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đene kalkulacije temeljem ponu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klamaci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ori i razni dopisi dobavlj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A55-69B7-4D43-B42F-7EA492AF268E}" type="slidenum">
              <a:t>2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lo su korisni oni podaci koji se mogu prikupiti na sajmovima i izložbama uzoraka proizvoda u zemlji i inozemstv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č ne može nigdje u kratkom vremenu pronaći podatke kao na sajmov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 stručne literature i kataloga istraživač mora saznati tko sve sudjeluje na sajm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2FE-357E-4083-8381-6424F8255B79}" type="slidenum">
              <a:t>2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novni izvori podataka o tržištu nabave koji 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rektni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em prikupljaju su slijedeć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talozi i cjenici dobavljač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spek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novni dopisi i vodič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čni časopisi i s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lovni izvještaji (TV i radio vijest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 stranice -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97B-1CFC-4208-91AE-B7A919E6F316}" type="slidenum">
              <a:t>2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novni izvori podataka o tržištu nabave koji 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rektni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em prikupljaju su slijedeć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ije instituta za istraživanje tržiš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đunarodni sporazu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taloz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dišnjaci poduzeća i udruže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kumentacija tehničke služ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resari,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001-22F5-4DA5-9018-25083E0DB368}" type="slidenum">
              <a:t>2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novni izvori podataka o tržištu nabave koji 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rektni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em prikupljaju su slijedeć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nevne (privredne) novine  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ormacijski servi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istički godišnj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inske tar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hničke karakteristike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kološki zahtje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D11-2277-4877-87DB-27C016436284}" type="slidenum">
              <a:t>2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či tržišta moraju imati pregled nad svim izvorima podataka, permanentno ih pratiti i voditi evidenciju o tome gdje su pohranje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prikupljene podatke istraživanja treba pohraniti u kompjutorsku memoriju kako bi se lakše mogli koristi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83A-1EEA-447E-926F-A07A7F09E223}" type="slidenum">
              <a:t>2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TRAŽIVANJA TRŽIŠTA NABAVE 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atke je potrebno grupirati obzirom na njihov sadržaj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aci o dobavljač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aci o predmetima r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aci cijenama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aci pojedinim gospodarskim djelatnost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A38-4AFE-4C6F-A68F-9E7CB90102A7}" type="slidenum">
              <a:t>2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ISTRAŽIVANJA TRŽ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 nabave predstavlja stratešku funkciju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zultati tih istraživanja omogućuju nabavi da donosi racionalne i pravodobne odlu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ogućuje nabavi da vodi efikasnije pregovore i donosi bolje odluke u odnosu na dobavljač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48F-C46A-4F41-A688-9CE96AFDCF3D}" type="slidenum">
              <a:t>2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ISTRAŽIVANJA TRŽIŠTA NABAV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raživanje tržišta nabave izaziva i određene trošk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i su, svakako, manji od koristi koje ima nabava od rezultata istraživanja na osnovu kojim može donositi bolje i za poduzeće učinkovitije odlu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avlja se pitanje kako treba organizirati poslove istraživanja tržišta nabave u poduzeć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F43-8FFF-4F33-A8BD-E946F5C6271B}" type="slidenum">
              <a:t>2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ISTRAŽIVANJA TRŽIŠTA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ko organizirati poslove istraživanja tržišta nab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ciju istraživanja tržišta nabave i tržišta prodaje  - stožernu službu upr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vanje tržišta nabave - kao stožerni organ u sastavu nabavne služb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cija istraživanja nabave može se povjeriti specijaliziranim organizacij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0A2-3C39-44F1-8892-21182A559E32}" type="slidenum">
              <a:t>2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LOVNA FUNKCIJA MATERIJALNO POSLOVANJ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ladiš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čuva i prati zalihe materijala na skladiš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a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odaje proizvode, vrši procjenu njihove vrijednosti, prikuplja ponude za proda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ako organizirano materijalno poslovanje zove 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lno materijalno poslova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dje su integrirani nabava, prodaja i njihova logistik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D50-DAC4-4CA4-8B1D-3B53675BC8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ISTRAŽIVANJA TRŽIŠTA NABAVE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u mogućnost će poduzeće izabrati za istraživanje tržišta ovisi o njegovoj veličini, predmetu njegovog poslovanja te udaljenosti tržiš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raživač tržišta nab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pecijalizirani referent nabave koji koristi sredstva i metode istraživanja - vezano za službu nab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E5F-19B4-4C53-8BB7-E31D55CF8E8D}" type="slidenum">
              <a:t>2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IRANJE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RADNJE ZA PLANIRAN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JETI PLANIRAN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RŽAJ I VRSTE PLAN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I OPTIMALN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A PLANIRAN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751-4771-4464-9061-5E960F36DE5E}" type="slidenum">
              <a:t>2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RADNJE ZA PLANIRANJE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bi poduzeće moglo planirati svoje poslovanje ono mora izvršiti potrebne priprem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ran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proces odlučivanje o budućnosti poduzeća,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rezultat tog procesa. Dobro planiranje anticipira probleme prije njihovog nastanka i na taj način se eliminira stihija u poslov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05C-D413-4227-9DFF-BFD5F8949840}" type="slidenum">
              <a:t>2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RADNJE ZA PLANIRANJE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 je usko povezano s kontrol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om se uspoređuju planirani zadaci i rezultati poslov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rocesu planiranja treba imati u vidu slijedeće bitne princi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s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urno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odolo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90B-0726-4D24-897D-125BEF7AEEC7}" type="slidenum">
              <a:t>2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RADNJE ZA PLANIRANJE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onomski princip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sli se na ekonomske pokazatelje poslov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urnosni princip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sli se na eliminiranje neizvjesnosti i rizi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loški princip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niranja misli se na korištenje znanosti u planiranju, na realnost i kontinuiranost plano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F78-1622-4C02-96A4-D30ED87DC4D6}" type="slidenum">
              <a:t>2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RADNJE ZA PLANIRANJE NABAVE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 nabave sredstava za proizvodnju je predračun poslovanja nabave za određeno vremensko razdobl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nabave je izvedeni plan koji se izrađuje temeljem plana proizvodnje, investicija i proda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ove je potrebno uskladi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ove dovesti u vezu s financijskim mogućnostima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8D6-44A2-40B1-A002-37BDACCC1745}" type="slidenum">
              <a:t>2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RADNJE ZA PLANIRANJE NABAVE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baju obuhvat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sku podjelu poduze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u nomenklatur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u cjenika planskih cijen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u programa standardizacije i standard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du normativa minimalnih, optimalnih i maksimalnih zali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4A9-DAC2-412C-BC9B-EEAE6A73BC29}" type="slidenum">
              <a:t>2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RADNJE ZA PLANIRANJE NABAVE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baju obuhvat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 sistem nabavljan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 optimalne količine nab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u svih planova proizvodnje i potreba, materijala po kvaliteti, količini, rokovima i cijen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u planova investicija i investicijskog održa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u plana prihoda i troš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u materijalne bi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023-607D-4905-87A0-38C44B7825B6}" type="slidenum">
              <a:t>2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VJETI PLANIRANJ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kvalitetnu i pravovremenu izradu plana nabave potrebno je izvršiti slijedeće pos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vršiti ekonomsku analizu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viti istraživanje tržišt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diti politiku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3E0-95EC-4FBE-BC9C-7B93BE12A086}" type="slidenum">
              <a:t>2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DRŽAJ I VRSTE PLANOV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 nabave sadrži vrste planova kojima se utvrđuju ukupni i pojedinačni zadaci nabave u određenom vremenskom razdobl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ovi nabave se dije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em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rž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mljopisnom područ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A92-0039-4D3E-A59B-6C8AB1386F66}" type="slidenum">
              <a:t>2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UŽBA MATERIJALNOG POSLOVANJA 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LUŽBA MATERIJALNOG POSL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ba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tribuci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kladišten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d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B07-BA4C-4A5F-BBD9-0DB5619079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OVI NABAVE PREMA VRE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dijel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š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dugoročne: od 5 do 10 god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atkoroč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a vrijeme od 1 god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v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a razdoblje kraće 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do 3 mjese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F8D-0F16-43DA-8E9D-C9E992E03BB9}" type="slidenum">
              <a:t>2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MA SADRŽAJU PLAN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dijel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istraživanja trži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potrebnih materijala (materijalna bilan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nabav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pribavljanja invest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usl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59C-87B4-4A71-A4FD-492C925D2384}" type="slidenum">
              <a:t>2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MA SADRŽAJU PLAN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dijel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dopreme sredstava za proizvod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skladištenja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potrebnih kadr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rganizacije nabavne služ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roškov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9FE-C3BD-4F8F-A6F2-1A627536F73A}" type="slidenum">
              <a:t>2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MA ZEMLJOPISNOM PODRUČJU PLAN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dijel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ove nabave na domaćem trži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ovi nabave materijala iz uvoza (zemlje, potencijalni dobavljači materijala za poduzeć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F60-37E6-4381-A39B-2395D456BD8F}" type="slidenum">
              <a:t>2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TUPAK PLANI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vija se slijedećim red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a izvršenja planova u proteklom razdoblj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kupljaju se podaci istraživanja tržišta po kretanjima ponude i potražnje materija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đuje se prijedlog plana nab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vajanje planova nab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uje se hologram izvršavanja planov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ši se kontrola izvršenja plana nab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51E-C328-4336-B2D7-466C2EC333FE}" type="slidenum">
              <a:t>2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DELI OPTIMALNE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e sistemi nabavljan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inuirano nabavlj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čno nabavlj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no nabavlj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50E-0CAB-46F8-9678-97B0761421E2}" type="slidenum">
              <a:t>2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NTINUIRANI SISTEM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karakterističan po tome što se kod svakog izdavatelja materijala iz skladišta ispituje da li su zalihe pale na signalnu razinu pa je, u tom slučaju, potrebno naručiti nove pošilj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921-D94C-43D0-92ED-14ED383DCA47}" type="slidenum">
              <a:t>2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IČNI SISTEM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koristi u slučajevima kada je nabava moguća samo u zadanim rokovima ili ciklus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 ciklusi koji odgovaraju ritmu isporuke dobavljača ili ritmu potreba vlastite proizvod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4D3-E14B-4379-9D07-01D3A519C7C8}" type="slidenum">
              <a:t>2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APTIVNI SISTEM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akterističan je po tome što se koristi kod kratkoročnih (sezonskih) promj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FEF-9258-46B8-A4AF-5B52549A4232}" type="slidenum">
              <a:t>2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PLANIRANJ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ove nabave pripremaju razvojne službe u suradnji sa službom naba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 se voditi računa, ne samo o potrebnim materijalima, o zalihama za raspolagan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alne zali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ne zali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lne zali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alne zali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simalne zali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35C-2806-47B6-A666-EF43107C538E}" type="slidenum">
              <a:t>2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na logisti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no materijalno poslov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650-2112-45D7-B9A4-6363207B8C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ALIHE MATERIJALA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alne 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 najmanje raspoložive količine zaliha materijala koje osiguravaju nesmetano odvijanje procesa reproduk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simalne 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 one količine materijala koje su još uvijek ekonomski opravd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294-DBE0-4399-A26A-4F4444FBA4E9}" type="slidenum">
              <a:t>2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ALIHE MATERIJALA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ne 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 svjesno određena količina zaliha materijala kojima se pokrivaju rizici povećane potrošnje ili neadekvatne isporuke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 ne može dogoditi da nema dovoljno materijala da zadovolji potrebe proizvod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F1D-5757-41E6-87AB-E62483733DD5}" type="slidenum">
              <a:t>2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ALIHE MATERIJALA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ne 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 količine zaliha od kojih valja započeti period nabavlj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alne zali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 one količine zaliha kod kojih su ukupni troškovi nabave najman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oduzeću je potrebno posebnu pozornost posvetiti praćenju zali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alihe se trebaju kretati unutar postavljenih normativ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B0E-CB77-4DEB-BDC1-CD29F62603B4}" type="slidenum">
              <a:t>2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IS MATERIJ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položive materijale u skladištu se mora ažurno knjižiti kako bi odgovorni mogli donositi odgovarajuće odluke o utrošku i nabavci novih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bi sve to funkcioniralo, u poduzeću se provo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popis imovine (materijal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194-6771-4F2C-8341-42A6624E7CFD}" type="slidenum">
              <a:t>2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IS MATERIJ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oje vrste popisa materijala  - invent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ov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bično se vrše na koncu poslovne g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tinuirane 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vrše se svakodnevno ili češć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zvanred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kada postoji sumnja da nešto u poslovanju nije ured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2A3-C67D-41FD-BF39-C2E9EE9B7A42}" type="slidenum">
              <a:t>2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PIS MATERIJ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ure vrše komisije koje se formir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isije utvrđuju stvarno stanje materijala i druge imovine na d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ležni odlučuju o utvrđenim viškovima i manjkovima imov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is utvrđenog stanja se uvodi u knjigovodstvenoj evidenc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AB3-B660-43E2-8FE9-1A6CF9202CCD}" type="slidenum">
              <a:t>2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 ODVIJANJA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ANJE ZAHTJEVA ZA NAB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A I DOSTAVA UPITA DOBAVLJ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A PONUDA I IZBOR DOBAVLJ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ĐENJE PREGOVORA ZA ZAKLJUČIVANJE UGOVORA O NAB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KLJUČIVANJE UGOVORA O KUPNJI I PRODA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CIJA KONTROLE ISPORUČENE 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ĆANJE RAČUNA DOBAVLJ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DD0-F8AA-4762-890C-FC4272964807}" type="slidenum">
              <a:t>2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VANJE ZAHTJEVA ZA NABAVU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realizaciju politike i planova nabave postoji više načina kako se nabavljaju sredstva za proizvod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uzeća se međusobno razlikuju, zbog toga nije moguće utvrditi jednoobrazni postupak nabavljanja koji bi važio za sv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vakom se poduzeću, utvrđuju odgovarajući načini nabave za uspješno izvršiti zadatak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A52-6C75-4B82-8D97-3FF191C1075F}" type="slidenum">
              <a:t>2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VANJE ZAHTJEVA ZA NABAVU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jelokupni postupak nabavljanja obuhvaća veliki broj pojedinačnih postupa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skim propisima utvrđuje se način i tehnika rada za postupak nabavljanja, koriste se i ovi termi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hnika nabavl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ni proces nabavl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7DD-E039-4035-BE57-F09D190F294D}" type="slidenum">
              <a:t>2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VANJE ZAHTJEVA ZA NABAVU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ktivnosti kojima se izvršav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vne pripre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 i opisivanje potrebnih sredstava za proizvodnju i usl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anje naloga (zahtjeva) za nab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 izvora nabave i dobavlj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a i dostava upita dobavlj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poredba pristiglih ponuda i izbor najpovoljnij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ABC-A7FB-4405-9625-090E349E2838}" type="slidenum">
              <a:t>2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UŽBA MATERIJALNOG POSLOVANJA 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že biti organizirana na više linijskom princi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uhvaća funkcij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ljanja, skladištenja i dispozicije te prodaje sredstava za proizvodnj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 joj je da se integriraju logističke funkcije kako bi se donosile optimalne odluke s aspekta cjelovitih materijalnih tijeko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o se materijalno poslovanje organizira prema više linijskom principu tada se imenuj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kovoditelj materijalnog poslovan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DA4-96CF-40B7-87BD-70076831E3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VANJE ZAHTJEVA ZA NABAVU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ktivnosti kojima se izvršav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vne pripre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đenje pregovora za zaključivanje ugovora o kupnji i o proda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govaranje kupnje i naručivanje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ćenje izvršenja kupoprodajnih ugovora i narudž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naručenog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529-AA53-4C15-A373-D507ED8D23C6}" type="slidenum">
              <a:t>2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VANJE ZAHTJEVA ZA NABAVU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ktivnosti kojima se izvršav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vne pripre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uzimanje isporučenih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đivanje kvalitete i količine isporučenih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ladištenje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a faktura i davanje naloga za njihovo plaćanj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vanje materijala iz sklad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7D3-969D-4FF9-B07D-6356855768EE}" type="slidenum">
              <a:t>2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log za nabav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og materijala obično daju konstrukcijski odjel ili tehnološka pripr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j zahtjev može stići i od proizvodnog odjela kao i od skladiš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tim se dostavljaju u pismenom oblik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5A8-15E6-4982-8815-695BE5B0A8B9}" type="slidenum">
              <a:t>2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LOG ZA NABAVU –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HTJEV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rži slijedeće poda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j i datum zaht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naku organizacijske jedinice koja je dala zaht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an rok isporuk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a količina materija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ziv i opis potrebnog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kcije o otpremi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24C-5D3C-4FCC-8779-4AFFFA6A4230}" type="slidenum">
              <a:t>2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LOG ZA NABAVU –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HTJEV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na služba, nakon prijema zahtjeva, vrši formalnu i suštinsku kontrolu zahtje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jerava se da li je moguće naručeni materijal zamijeniti nekim jeftinijim, ali odgovarajuće kvalite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zahtjev ima nedostatke vraća se na dopu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0FD-CB17-45AC-B238-03434CD5040B}" type="slidenum">
              <a:t>2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ZRADA I DOSTAVA UPITA DOBAVLJAČIM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tava upita je važna i zbog toga što se ne traže samo ponude, već se istražuje i tržiš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je dostavljanja upita treba razriješiti dile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li se za svaku potrebu materijala tražiti ponude dobavljač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 koliko će dobavljača trebati tražiti ponu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ko izabrati dobavljače za traženje ponu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ko oblikovati up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503-A37C-490F-885D-6BE05E01770E}" type="slidenum">
              <a:t>2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ZRADA I DOSTAVA UPITA DOBAVLJAČIM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poziv kupca dobavljaču da ponudi cijene i uvjete potrebnog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itom se ne stvaraju pravne obve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rha upita, odnosno prikupljanja ponuda, je da kupac dobije podatke o mogućnosti i uvjetima opskrbe poduzeća potrebnim materijal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nabavu većih količina materijala upit se šalje većem broju potencijalnih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A2A-B947-4930-ABC3-FF30B096705A}" type="slidenum">
              <a:t>2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ZRADA I DOSTAVA UPITA DOBAVLJAČIMA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đuje se šira i uža lista potencijalnih dobavljača, lista se utvrđuje temeljem sposobnosti potencijalnih dobavljač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iti se mogu dostaviti na više 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upitu se dobavljača informira o potrebnom materijalu, njegovoj količini i kvaliteti i potrebnom roku isporu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je mogućnost dobavljaču da izradi odgovarajuću ponudu prema svojoj ocje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9EB6-784A-4EBF-8F1F-9A921D35AC54}" type="slidenum">
              <a:t>2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IZA PONUDE I IZBOR DOBAVLJAČA 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ljene ponude dobavljača kupac treba pažljivo ispitati s formalnog i suštinskog aspek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nim ispitivanj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tvrđuje se da li je ponuda potpuna i da li su ponuđeni uvjeti sukladni dostavljenima u upi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ACF-C68E-415D-985F-EDF4DFA334CB}" type="slidenum">
              <a:t>2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IZA PONUDE I IZBOR DOBAVLJAČ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štinsko ispitiv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nude je, u stvari, pojedinačna analiza svake ponude s komercijalnog, tehničkog i pravnog asp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ude treba analizirati sistematično i stručno. Najprije je potrebno svaku ponudu odvojeno analizirati, a zatim ih međusobno uspored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26C-A9D8-4086-B504-E129C352DB51}" type="slidenum">
              <a:t>2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  RUKOVODITELJ MATERIJALNOG POSLOVANJA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egova zadaća je objedinjavati sve aktivnosti i odluke o nabavi, planiranju, proizvodnji i prodaji gotovih proizvo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da materijalno poslovanje predstavlja sustav opskrbe poduzeća koji obuhvaća sve tijekove i stupnjeve o kretanju materijala od dobavljača do kup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vrijedi neovisno o obliku organizacije, veličini i grani poduzeća kojoj prip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D3E-42DA-4C4C-8208-4269E28A26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IZA PONUDE I IZBOR DOBAVLJAČA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ercijalnog aspek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nuda se ocjenjuje u pogledu ponuđene količine, roka isporuke, cijene, popusta, troškova i načina plać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vnog stajališ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ocjenjuje mogućnost revizije ugovora, ugovorne kazne i nadležnost suda ili arbitraže. Tu je posebno važna kvaliteta materijala, rok i cijena isporuke i mogućnost da dobavljač nudi serv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ačnu odluku o izboru dobavljača donosi nabavna služ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9AD-1F3C-4222-8B90-0E3684226636}" type="slidenum">
              <a:t>2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ĐENJE PREGOVORA ZA ZAKLJUČIVANJE UGOV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z obzira na materijal koji se nabavlja, njegovu vrijednost i količinu, nakon prihvaćanja ponude ili ponuda, pristupa se vođenju pregovora o zaključenju ugovora o nabav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ovori se mogu voditi pismeno i usmeno između prisutnih i odsutnih strana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9CA-1B61-465D-A134-46A3CAAA6397}" type="slidenum">
              <a:t>2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de se u cil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ključenja ugovora o kupnji i prodaji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promjenu uvjeta važećih zaključenih ugo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rješavanje reklamacija u vezi izvrša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E33-27C8-411A-844B-285994501DEA}" type="slidenum">
              <a:t>2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pregovorima svaka strana nastoji za sebe postići što povoljniju poziciju, no, uspješnim se smatraju samo oni pregovori u kojima se kupac i dobavljač usugl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met pregovora radi zaključivanja ugovora nisu samo cijene, nego i kvaliteta, količina, rok isporuke, servis i način plać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i pregovori ne obuhvaćaju sve navedene elemente, nego samo one elemente ponude kojima kupac nije zadovolj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233-E8AA-41DD-9953-6557265CC296}" type="slidenum">
              <a:t>2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ovaranje je jedan od važan posao naba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izacijom svjetskog tržišta povećava se značenje pregovar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ovaranje je vještina koja se stječe iskustvom i učenjem, prvenstveno praks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tu svrhu se organiziraju i seminari radi edukacije stručnjaka u nabavi da bi bili sposobniji u pregovor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EE5-A376-4E3F-B2B8-189334A5E3D3}" type="slidenum">
              <a:t>2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ovore treba dobro pripremiti, to je ključ uspjeha pregovora. Priprema za pregovore obuhvaća slijedeće aktiv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lučivanje o čemu će se pregovar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iranje i ocjenjivanje vlastitog položaja u pregovor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avljanje ciljeva i strategija pregov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bor i priprema pregovarača i dogovor o mjestu i početku prego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882-7C8D-47F8-8B4F-A4DDBF69DC02}" type="slidenum">
              <a:t>2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završenih priprema odlučuje se o mjestu i danu sastanka pregovar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regovorima su slijedeće fa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ret pregovar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aranje prego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četna faza pregov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žavanje razl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gađ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iranje i završetak prego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23BE-181D-4804-BA72-C1FA459A6EB5}" type="slidenum">
              <a:t>2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ze pregovaranja mogu biti i drugačije. To ovisi o dogovoru strana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ovarači se susreću u prostorijama domać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ovori počinju rukovanjem i pozdrav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žbeni razgovori ne počinju odmah, nego se razgovara o nekim neutralnim tem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102-F10C-485C-8DE9-2F42C24A0A75}" type="slidenum">
              <a:t>2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očetnoj fazi pregovaranja rezimira se sve ono što je već usuglašeno, a zatim se prelazi na neusuglašena pit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, pregovori se mogu privremeno prekinu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ovarači se odvojeno dogovaraju o novim činjenicama i utvrđuju strategijsku taktiku koju će primijeniti u daljnjim pregovor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793-3A69-404D-A218-E846B4079A49}" type="slidenum">
              <a:t>2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GOVORI O NABAVLJANJU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tupa faza sužavanja razlika između ponude dobavljača i zahtjeva kupaca. Faza pogađanja za obje strane je posebna mogućnost za sporazumijevanje ili konačni prekid sporazu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se obje strane sporazume o svim elementima i uvjetima, tada verificiraju dogovoreno i pregovori se završav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3D3-DB3F-4FBB-991E-EAE5962DFB03}" type="slidenum">
              <a:t>2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JAM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bava je funkcija i djelatnost poduzeća i drugih poslovnih sustava, koja se brine o opskrb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erijal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rem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lugama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ijom potrebnima za realizaciju cil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lovnog sustav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5CE-D7E4-43CC-8E91-332DC1750F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  RUKOVODITELJ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o se materijalni tijekovi promatraju kao sustav koji je orijentiran procesima, tada je moguće racionalizaciju provesti timskim rad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j timski rad treba funkcionirati u cijelom logističkom lanc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še stanja u materijalnom poslovanju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gi rokovi isporuk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na nestabilnost u isporukama rob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oke zalihe i problemi nelikvidn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5AF-9D1D-4C8B-9477-3B368E5776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KLJUČIVANJE UGOVORA O KUPNJI I PRODAJI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odluke o nabavi sredstva za proizvodnju i usluga i obavljenih pripremnih aktivnosti kao što su istraživanje tržišta nabave, dostava upita, analize ponuda, izbor dobavljača, kupac donosi odluku o ugovaranju kupnje i prodaje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DBF-2C55-4E08-8902-49847C65F8E4}" type="slidenum">
              <a:t>3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AKLJUČIVANJE UGOVORA O KUPNJI I PRODAJI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ljučivanje ugovora o kupnji i prodaji rezultat je suglasnosti volja dviju stranaka, kupca i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or o kupnji i prodaji obvezuje dobavljača da će isporučiti materijal prema utvrđenim uvjetima i kupca da će preuzete materijale i plat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934-75FB-4B6B-93DD-2BCAF96077EB}" type="slidenum">
              <a:t>3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POPRODAJNI UGOVO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dvostrani ugovor koji obvezuje i kupca i dobavljača, a čine ga  slijedeći elem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nke koje moraju imati pravnu i poslovnu 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lasnost volje str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ustiv i moguć predmet obv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bog složenosti pravnog aspekta zaključivanja ugovora potrebno je da u taj proces budu uključeni i prav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EB6-8E1C-4C27-95B1-4E2BD22574E1}" type="slidenum">
              <a:t>3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POPRODAJNI UGOVO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jčešći načini zaključivanja ugovora o kupoprodaj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uda i prihvat pon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udžba i potvrda narudž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or o kupnji i prod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8F2-DAB1-4E2C-B153-7C09483CA910}" type="slidenum">
              <a:t>3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POPRODAJNI UGOVO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ud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prijedlog za sklapanje ugovora koji sadrži sve sastojke ugovo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ponuđeni prihvati ponudu, ugovor o kupoprodaji je zaključen onog časa kada je dobavljač prihvatio izjavu kupca da je ponuda prihvaće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kav način se primjenjuje za manje količine nabavk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EAC-8292-499A-9700-E85477BF39DA}" type="slidenum">
              <a:t>3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POPRODAJNI UGOVOR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govor o kupoprodaj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e se zaključiti između prisutnih i odsutnih strana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ovor o kupoprodaji sadrži bitne i nebitne ele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 oni elementi o kojima su se dobavljač i kupac sporazumje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74E-E0A3-4316-8F4A-719DC17F26C5}" type="slidenum">
              <a:t>3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GOVOR SADRŽI OVE ELEMENT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naka ugovornih str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naka robe (materijala): vrsta, količina, kvali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jena, rok i mjesto isporu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pijeće i način plać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guranje, prijenos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đivanje kvalitete i kvant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510-97C4-4314-B6F5-31B94347B036}" type="slidenum">
              <a:t>3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GOVOR SADRŽI OVE ELEMENT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alaža, porezi, tak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bavljanje dokumenata, garancije prodava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jedice neizvršavanja ugovora, mogućnost raskida ugov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ša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gućnost reviz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ležnost suda (arbitraže) i potpise stran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ED8-C26D-4165-950C-5A9E419A881D}" type="slidenum">
              <a:t>3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KONTROLE ISPORUČENE R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na služba treba pratiti ispunjenje obveza iz zaključenih ugovo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ola isporučenog materija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a se preuzima temeljem prijevoznog dokumen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tavlja se zapisnik o izvršenoj kontroli zaprimljenog materijala u skladiš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utvrđene manjkavosti vezana za količinu i kvalitetu, dobavljaču se upućuje reklamac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81D-E176-43DC-88D6-9572ADCE207C}" type="slidenum">
              <a:t>3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ĆANJE RAČUNA DOBAVLJAČI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čun ili faktura dobavljača je dokument na temelju kojega kupac plaća dobavljaču prodati materij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 prijemu fakture kupac vrši suštinsku i računsku provjeru fak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faktura nema nedostataka daje se na naplatu u roku i na način kako je to ugovorom utvrđ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AF1-0F5C-49C9-A46D-8213EBB4EB6E}" type="slidenum">
              <a:t>3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AČENJE MATERIJALNOG POSLO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jene materijala i transport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 je troškove poslovanja svesti u optimal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bnu ulogu u rješavanju tih problema ima informacijska tehnolog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vdano je investirati u tehnologiju rada, već i u informatizaciju 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novni instrument uspješnog materijalnog poslovanja j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reativna nabav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s njom povezana logist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84F-BAED-4052-A5F0-07DC3A8E1B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ISTIKA MATERIJALNOG POSLOVANJ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JSKI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TARNJI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NJ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JEŠTAJ ROBE U SKLADI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VANJE MATERIJALA IZ SKLAD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526-02A4-4DF6-959C-7E596361CEB8}" type="slidenum">
              <a:t>3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ISTIKA MATERIJALNOG POSLOVANJ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vdje spadaju: skladištenje, izdavanje, utovar, istovar, pretovar, komisioniranje, pakiranje, otprema, vanjski i unutarnji tran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izički tijek je koordiniran i kontroliran odgovarajućim sustavom informac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Logistik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e bavi povezivanjem djelomičnih procesa kao što su: nabava, transport, prijam robe, skladištenje, proizvodnja i transport, s ciljem optimalizacije protoka robe i zalih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8E4F-B71F-4064-96A3-D39870D3E9A9}" type="slidenum">
              <a:t>3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NJSKI TRANSPORT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 predstavlja svrsishodnu promjenu mjesta dobara sa ciljem da bude raspoloživa na određenom mjestu i u određeno vrije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se ta promjena mjesta realizira izvan granica poduzeća, tada se radi o vanjskom transpor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BB4-CCC9-4979-9B50-E17D17B5BB54}" type="slidenum">
              <a:t>3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NJSKI TRANSPORT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dijeli prema transportnim putovima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to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eljez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morski (vod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tarnje v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č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jevovod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F55-3B40-4447-A794-926AEFAACB8A}" type="slidenum">
              <a:t>3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NJSKI TRANSPORT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zultat procesa transporta je određena prometna uslu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realizaciju vanjskog transporta nužno je stvoriti odgovarajuć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etnu infrastruktu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 prometnice, ceste, željezničke pruge, cjevovodi, građevinski objekti,luke, skladiš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a mora izabrati najpovoljnija rješenja za izvršenje prometnih uslug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BF2-A63D-4D5A-BC6C-7A9CDD768C57}" type="slidenum">
              <a:t>3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STOVNI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ajčešće koristi u okviru logističkog lanca i u prometu usluga se nalazi na prvom mjes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zultat je to sve modernijih cestovnih prometnica i sve modernijih susta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nost cestovnog prometa je što prevozi materijal od skladišta dobavljača do skladišta kupca (od vrata do vra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EF3-B02A-4F89-9043-7C4FAF2AE532}" type="slidenum">
              <a:t>3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PORT ŽELJEZ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ubi nekadašnji monopolski položaj pa se njegova uloga stalno smanjuje u korist cestovnog transpor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zavidan položaj na tržištu željeznica nastoji popraviti racionalizacijom, povećanjem brzina, informatizacijom i uvođenjem novih oblika transporta (intercity, kurirske uslug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CD7-EE30-4CE2-8E8A-1D30D542EDF2}" type="slidenum">
              <a:t>3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RAČNI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 određenu ulogu jer mu je prednost u brzini, ali je vrlo sk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odan za materijale koji ne podnose spori prijev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gradnjom velikih zrakoplova cijena prijevoza je m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CAA-F86A-431A-A7AA-9BBD69121B31}" type="slidenum">
              <a:t>3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PORT NA VO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jeli s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ječ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er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al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mor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godan je za teške i masovne terete koji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nose visoke troškove ili kojima brzina n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 velikog znač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69F-358F-4A5F-95A4-C7EC06E529A4}" type="slidenum">
              <a:t>3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JEVOVOD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, u vanjskom transportu, najčešće prenosi nafta i zemni pl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bog ekonomičnosti, cjevovodi se proširuju za potrebe prijenosa raznih ruda, šećerne trske, voća i s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jevovod predstavlja istovremeno i transportni put i sredstvo, zajedno s crpnom stanicom i odgovarajućim instalacij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B9D-C1DA-490C-A566-32B61A05D343}" type="slidenum">
              <a:t>3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JAM LOGISTIKE SA STAJALIŠT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ja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sti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tječe iz francuske vojne terminologije, a označava način opskrbe trupa (vojske) svim potrebnim sredstvima, transport dobara, te osiguranje prehrane i smještaja što sve povećava borbenu sprem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6F3-057A-4C4B-8107-8F5ECAE7D8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UTARNJI TRANSPO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tarnji transport počinje nakon preuzimanja materijala u privatnom skladištu ili na istovarnoj platformi. Temeljem pratećih dokumenata provjerava se kvaliteta i kvantiteta ro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tarnji bi se transport morao integralno nastaviti na vanjski transport, za to postojati oprema u svim fazama transporta i skladištenja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9A0-203D-4656-A720-025B4AB03673}" type="slidenum">
              <a:t>3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UTARNJI TRANSPO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na sredstva u unutarnjem transportu mogu se podijeliti prema raznim kriterij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sti pogo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učna, moto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činu upravlja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 vozačem, bez vozača, računalno vođ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vcu transpor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redstva za vodoravni, kosi i vertikalni trans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rsti materija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za rasuti i komadni te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4C9-6701-49B2-8431-C3873C4FA661}" type="slidenum">
              <a:t>3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UTARNJI TRANSPORT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unutarnji transport važno je da li se radi o diskontinuiranom ili kontinuiranom transpor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edstva z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ontinuira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port dijele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na sredstva što se kreću po t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a koja služe za podizanje ter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značajnija pomoćna sredstva u unutarn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u i skladištu s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ejne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A3B-9BE7-49F5-8777-4ECFEBDA1352}" type="slidenum">
              <a:t>3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UTARNJI TRANSPORT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tinuiran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služ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jenosnice na kružnoj vodil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ije s kotrljajućim ležaje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se plo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alne plo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jevovod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FCD-6BF7-4E74-8D75-6820865E4977}" type="slidenum">
              <a:t>3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LADIŠTENJE MATERIJ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nje je dio procesa poduzeća koje obuhvaća sve aktivnost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nja, smještaja, čuvanja i izdava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erijala iz skladiš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kladištu se ne čuvaju samo materijali, već i gotovi proizvodi i poluproizvo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9C3-D8AE-453B-8754-50911423A43E}" type="slidenum">
              <a:t>3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RSTE SKLADIŠTA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ličin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la, srednja, vel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dmeti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uproizvodi, gotovi proizvodi, materijali, inventar, alati, ambalaža, otp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EFA-10AB-49C6-9026-4296205E0D2B}" type="slidenum">
              <a:t>3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RSTE SKLADIŠTA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na, pomoćna, priručna, montaž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činu grad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orena, zatvor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fičnim osobina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kladištene ro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osi, vinski podrumi, kampovi, hladnja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E72-6F52-4556-A4E2-4C2DA02B7367}" type="slidenum">
              <a:t>3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RSTE SKLADIŠTA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 je najbolje locirati gdje je moguće najkraćim putem doći do istovarne platfor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n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r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eđaji za ventilaciju, uređaji za grijanje, uređaji za hlađenje, uređaji za klimatizaciju, protupožarna oprema, transportna sredstva, oprema za smještaj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573-8702-46E2-A860-83D4D0CBE495}" type="slidenum">
              <a:t>3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JEŠTAJ ROBE U SKLADIŠ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oba preuzeta od dobavljača, prijevoznika ili špeditera, a nakon kontrole kvalitete i kvantitete, smješta se u skladiš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meljem pratećih dokumenata skladištar ispostavlja dokument –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kladišnu primku –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videnti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 povrat robe ispostavlja s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vratnic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 prijelaz robe iz skladišta u skladište ispostavlja su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eđuskladišnic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8B3-1A8F-4F68-8865-73429EB5FA0B}" type="slidenum">
              <a:t>3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JEŠTAJ ROBE U SKLADIŠ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jali se u skladištu raspoređuju tako da omoguće najbolju moguću iskorištenost prostora, odgovarajuće čuvanje i zaštitu robe, lako i brzo identificiranje robe, sigurnost osoblja, sredstava i prostorija, laki pristup pojedinoj vrsti materijala i najniže troškove skladištenja i rukov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D99-6CF1-4703-BFCB-03EE754ED024}" type="slidenum">
              <a:t>3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JAM LOGISTIKE SA STAJALIŠT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vorna riječ potiče od starogrčke riječi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logistikos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a označava čovjeka-mislioca koji brzo proračun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smislu sistemske teorije, bavi se koordiniranjem svih kretanja materijala, proizvoda i roba u fizičkom, informacijskom i organizacijskom pogledu, od nabave preko proizvodnje i prodaje do potrošač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nutar poduzeća nazivam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ikrologistiko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među poduzeća zovem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akrologistiko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AD5-67C1-465A-BF5C-97CFCCE286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JEŠTAJ ROBE U SKLADIŠ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ar raspored robe u skladištu omogućuje brži smještaj i transport prispjele robe. Dva su sistema rasporeda robe u skladištu ovisno o načinu upravljanja skladiš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rasporeda ro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dređenom pro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rasporeda ro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trenutno slobodnom pro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A23-9355-4180-BEC7-AD4E1FC2E0F2}" type="slidenum">
              <a:t>3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ZDAVANJE MATERIJALA IZ SKLADIŠ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jali iz skladišta izdaju se na zahtjev proizvodnih odjela. Transport osigurava skladište ili posebna transportna jedin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o izdavan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sterno izdavanj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vanje se vrši na temelj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zdat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672-73EC-4B52-AC73-4738A597D73B}" type="slidenum">
              <a:t>3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A I POSLOVANJE SLUŽBE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PROJEKTIRANJE ORGANIZACIJE NAB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RGANIZACIJSKA STRUKTURA SLUŽ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RGANIZACIJSKI PROCES NABAV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OG POSLOVAN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ASPORED AKTIVNOSTI POSLOVN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A MATERIJALNOG POSLOVAN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RGANIZACIJSKA SREDS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OG POSLOV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144-8B36-495C-8041-CA7B14F8F8A6}" type="slidenum">
              <a:t>3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JEKTIRANJE ORGANIZACIJE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a se javlja u oblic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o proces organiz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o rezultat organiz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o pro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trajna i svjesna aktivnost čovjeka usmjerena na povezivanje i usklađivanje svih ljudskih i materijalnih resursa radi ostvarivanja optimalnih rezultata r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3D1-211F-4DA2-9A73-1E6DB973E299}" type="slidenum">
              <a:t>3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NCIPI ZA ORGANIZACIJU NABA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tni su ovi princip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dinamičkog usklađivanja i povezivanja elemenata proizvod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podjele rada i specijalizacije radnih mj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prilagođavanja promjenama u okruže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369-B754-4A3D-87D6-0DB1F11B40D7}" type="slidenum">
              <a:t>3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NCIPI ZA ORGANIZACIJU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tni su ovi princip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trajnog istraživanja i analiziranja činitelja koji utječu na organiza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racionalnog korištenja resu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stalne orijentacije funkcije nabave tržištu i tržišnom poslova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ravnoteže između odgovornosti i ovlaštenja zaposl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073-E27E-46AD-8356-51F54A83DE2D}" type="slidenum">
              <a:t>3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NCIPI ZA ORGANIZACIJU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tni su ovi princip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skraćivanja trajanja proces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standard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tipiz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timskog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ički princ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 stalnog unaprjeđenj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113-7D7D-4C90-A3B9-40BD5F625B67}" type="slidenum">
              <a:t>3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JEKTIRANJE ORGANIZACIJ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rojektiranju organizacije nabave valja poći od cjeline sistema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o je izraditi organizacijsku strukturu poduzeća i njegovih dijelova kao sveukupnost veza i odnosa između unutarnjih činitelja proizvodnje na svim razina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70D-C858-4389-B12F-78CA04AC61AF}" type="slidenum">
              <a:t>3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SKA STRUKTURA SLUŽBE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svijetu postoji tendencija da se sve aktivnosti poslovne logistike objedine u službu integralnog materijalnog 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jesto nabavne službe u strukturi poduzeća se utvrđuje na nač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lovna samostalnost nabavne služ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acija ili decentralizacija nabavne služ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cijska samostalnost nabavne služ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4A1-19B3-4A61-BCFB-AF1A6D879CFA}" type="slidenum">
              <a:t>3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JEKTIRANJE ORGANIZACIJE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odnosu n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cijsku samostaln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stoje modeli nabavne službe poduzeć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o samostalna organizacijska jedi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tar komercijalnog (marketing) s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tar proizvodnog (tehničkog) s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tar službe materijalnog posl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utar zajedničkih službi poduze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8C2-6CA2-4AF2-A19A-CBB2CF04B333}" type="slidenum">
              <a:t>3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ISTIČKI PROCESI PODUZEĆA 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značava  poslovne funkcije i znanstvene discipline u smislu sistemske teor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likujemo 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lasti industrije i trgov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lovima planiranja i realizacije nabave, proizvodnje i prodaj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752-E3AC-4EE5-BDA0-7CBA7C3A07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JEKTIRANJE ORGANIZACIJE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je nabavna služba organizirana ka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erijalno poslovan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da se sastoji od ovih organizacijskih dijelo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 nabave i kont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nje materij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cija gotovih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zicija otpad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125-4B45-48B6-9F5D-D3F48D353030}" type="slidenum">
              <a:t>3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SKI PROC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rganizacijski proces nabave i materijalnog poslovanja je utvrđeni tijek, vremenski redoslijed i prostorni raspored svih aktivnosti procesa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nova za projektiranje organizacije procesa nabave j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ransformacija inputa u outpute nabave i materijalnog poslov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8FB-5949-4260-B461-4BC15BDB2B89}" type="slidenum">
              <a:t>3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ZACIJSKI PROC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m se utvrđuje vremenski redoslijed tijeka aktivnosti, a usporedo s projektiranjem organizacije, utvrđuje se prostorni raspored aktivnosti. Time je projektiranje zaokruženo i dolazi se do pitanja odnosno odgovo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što, tko, kako, čime i kojim tijek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eba raditi, 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da i gd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726-73F1-4DA5-A55F-C26777CA376E}" type="slidenum">
              <a:t>3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KTIVNOSTI MATERIJALN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LOVANJ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hnologija transformacije inputa u output materijalnog poslovanja određuje tijek aktivnosti cjelokupnog i pojedinačnog poslovnog procesa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uje se tehnološki i vremenski slijed aktiv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7EC-FEC8-4E89-ACD7-76E3D84A5A3E}" type="slidenum">
              <a:t>3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KTIVNOSTI MATERIJALN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LOVANJ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atak funkcije materijalnog poslovanja sadrži slijedeće pojedinačne faze proce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aživanje podataka, informacija i činjenica relevantnih za poslovni proces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iranje prikupljenih podataka i inform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lučivanje po ciljevima, zadacima i aktivnostim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0BF-792B-418B-9F48-3F4A55E46496}" type="slidenum">
              <a:t>3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KTIVNOSTI MATERIJALN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LOVANJA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atak funkcije materijalnog poslovanja sadrži slijedeće pojedinačne faze proce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ranje aktivnosti poslovnog procesa nab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klađivanje planiranih aktivnosti, organiziranja aktivnosti, izvođenja i kontroliranje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EEA-91A0-4867-B3E0-4F5FC3957EB4}" type="slidenum">
              <a:t>3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KTIVNOSTI MATERIJALN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LOVANJA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o je raditi na skraćivanju ukupnog trajanja odvijanja procesa nabave i procesa reprodukcije, uklanjati sve smetnje vezane za odvijanje procesa skladištenja, transporta i drugih aktivnosti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i je potrebno osigurati prostorne i materijalne uvjete za normalan r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5BE-8A86-4FC2-B551-44BA131D181E}" type="slidenum">
              <a:t>3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ISTIČKI PROCESI PODUZEĆA 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oblasti industrije i trgovine su proce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aza i izlaza ro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kir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ifrir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ketir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C79-0E91-46C1-A7E7-60C8587FDE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ISTIČKI PROCESI PODUZEĆA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poslovima planiranja i realizacije nabave, proizvodnje i prodaj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ve to u sv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meta r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uproizvoda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ovih proizvo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4A8-71B6-4F59-95E8-DC239EAF2D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ISTIČKI PROCESI PODUZEĆA 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i su vezani uz prostorno-vremensku transformaciju materijalnih doba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htjev logistike je cjelovito promatranje  procesa kroz sve faze njihovog odvij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i se mogu postići racionalizacij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EB5-E001-476C-AD57-C63FB1F8F5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NCEPCIJA LOGISTIKE ZAHTIJE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jelovito promatranje tih procesa kroz sve faze njihovog odvij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jera tog procesa je da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jalno poslovanje optimizir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rza protok materijal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nje zalihe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nje troškovi poslov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A1D-894E-4007-A6E3-B94C56FC6B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I LOGISTIČKIH PROC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i se mogu postići racionalizacijom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ištenju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kan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terijala i poluproizvoda na obradu odnosno gotovih proizvoda na prod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80C-7E61-4E82-9F64-C2F455C73B5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I PRETHO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 trži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vrđivanje politik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bor izvor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142-8CB8-418A-BEB2-CBDAC78AF9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ISTIČKI SUST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čki sustav koncepcijski započinje kod dobavljača i prolazi ove stupnje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rednici u proda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bava i dobavlja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ajno skladiš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pr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ladište gotovih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izvod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ladište dijelova za montaž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ladište predmeta rad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154-21C6-4D24-8302-FFACB37AFE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ISTIČKE FUN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tradicionalno organiziranim poduzećima logističke funkcije s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entraliziran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vljaju se u službama nabave, proizvodnje i marketin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jeli s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stiku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stiku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stiku market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0FC-9FC5-4EB2-A642-4E327834F81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TNO ZA LOGISTIK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ima izgrađ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cijski susta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i obuhvaća aktivnost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zicije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vijanje tekućih proces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građene povratne ve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931-BF2B-4BF2-BC0A-ED2617DB1F3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ISTIČKI ZA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gu se centralizirati osnivanjem samostalne logističke funkc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a se bav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ranj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ordiniranjem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om logističkih zadata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901-1636-4F1F-8DE9-E272CDBD800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ISTIKA D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ka se danas često svodi na fizičku distribuciju iako ima mnogo šir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me, fizička distribucija se bavi upravljanjem materijalnim tijekovima, transportom i skladištenj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đutim, ona ne obuhvaća funkcije logistike koja se bavi optimiziranjem količine nabave zaliha, serijama proizvodnje i sličnim drugim poslov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A26-3844-4F98-9A6B-F15138B8494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A I MATERIJALNO POSLOVANJ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nabave i materijalnog poslovanja usko je povezan s razvojem podjele rada, proizvodnih snaga, proizvodnje, potrošnje i razmje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zan je i za utjecaj nabave i materijalnog poslovanja na rezultate razvoja gospodarskih djelat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7B4-D0D3-4D6A-81F2-A68CE3333B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A I MATERIJALNO POSLOVANJ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 kada postoje, ljudi su se morali snabdijevati vodom, hranom i drugim potrepštin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prvo vrijeme su sami pribavljali - potreb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snije su to činili u manjim ili većim grup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a nastaje pojav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ne proizvod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početku je to bila razmjena robe za robu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snije trampa ustupa mjesto razmjeni robe za no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08D-391A-49C5-B3D6-93458A3C407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zvoj nab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jviše utječe trgovina kao posrednička djelatnost između proizvodnje i potroš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početku je trgovina imala lokalni karak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iri se na sve veće udaljenosti prenoseći robu svim raspoloživim sredstvima prome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gradovima, u srednjem vijeku, su organizirani sajmovi, burze, te stalne trgovinske rad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B5B-6C6D-4F5A-BDF4-29EB5ADC9B8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ovećanje opsega trgovine - utjecaj otkrić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te procese je utjecala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kturna proizvod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ijska revoluc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ala je utjecaj na industriju i na razvoj trgov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ada nabavu robe obavljali su trgovaca i  obrtni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ija o trgovini kao gospodarskoj djelatnosti čiji je osnovni zadatak kupnja i prodaja rob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346-6FE8-497E-A449-D3FABAF7DF8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razvojem industrije i stvaranjem sve većih poduzeća javila se i potreba za većim količinama predmeta rada različitog asortimana, a zatim i za sredstvima 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kovoditelji tadašnjih poduzeća bili su okupirani kako proizvesti što više, kvalitetnije i jeftin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lovi nabave se postupno izdvajaju iz proizvodnje u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ostalnu organizacijsku jedinicu - nabav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936-61D1-4766-BE9E-EE453F3AED6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U SLIJE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jede poslov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prema kupljenih sredstava za proizvodnj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ontrola kvalitete i količine nabavljenih sredstava za proizvodnj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aprimanje i skladi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ikvidiranje i plaćanje računa dobavlja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5A2-C17D-405A-9E04-A3B1990E76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 NABAVE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taje samostalna, posebna djelatnost u upravljanju poduzećem. Taj proces je najprije otpočeo u USA početkom 20. stoljeć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činje se razvijati i teorija o nabavi u industrijskim poduzeći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a prelazi od trgovine u industriju za potrebe industr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va knjiga koja isključivo obrađuje nabavno poslovanje objavljena je u USA 1887. god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4AA-0282-437F-897D-B4A779FE12B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 NABAVE 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čajan poticaj razvoju nabave i materijalnog poslovanja su poteškoće u opskrbi sirovin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rzani industrijski razvoj utjecao je da se u industrijskim poduzećima 1960. -tih godina počinju stvarati organizacijske jedinice materijalnog posl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to su veliki utjecaj imali sve veće cijene nafte i drugih sirovina, privredna recesija i bespoštedna konkurenc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BA0-C33E-4A83-A3BD-3E858113587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 NABAVE 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zvoju nabave doprinijeli 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kane knjige i časopisi iz područja nabav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juterizacija cjelokupnog poslovan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udruženja radnika nabav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no obrazovanje i razvijanje kadrova nabave i materijalnog poslovan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pređenje prakse i teorije ekonomike, organizacije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ikasnije poslovanje u opskrbi poduzeć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26E-82B3-46E4-A128-3DF9001ADDB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NAČENJE NABAVE U POSLOVANJU PODUZEĆ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uzeće ne može poslovati bez odgovarajućih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jali trebaju biti u odgovarajućoj količini i kvaliteti. u pravo vrijeme, od pouzdanog dobavljača, uz najpovoljnije cijene i uz najniže trošk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i materijalno poslovanje imaj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kta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rek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tjecaj na rezultate poslovanja poduzeć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37B-9D97-4EA5-9192-93EB4F3B952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k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tjecaj proizlazi iz visine nabavnih cijena sredstava za proizvodnju i usluga, uvjeta plaćanja i troškova nabave, dopreme, skladištenja, unutarnjeg transporta i rukovanja materijalima u skladištu i proizvodnji, te kamata na financijska sredstva uložena u zalihe. Direktni utjecaj nabave na poslovanje poduzeća je mjerlji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D75-2026-47BF-8106-3D48737F7B3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rektn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jecaj nabave na rezultate poslovanja najviše dolazi do izražaja u slučajevima kada nabavna služba pravovremen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 opskrb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duzeće sredstvima za proizvodnju, kada nabavi neodgovarajuće materijale u količini i kvaliteti, te kada visina zaliha materijala znatnije odstupa od optimalnih količ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562-2C5C-41E9-ABE2-FF801ED8F2D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čenje nabave nije u svim poduzećima i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isi o obujmu nabave, o udjelu vrijednosti utrošenog materijala i od prosječnih zalih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an od najvećih problema pravovremene opskrbe j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vovreme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ljati u pravo vrije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či nabavljati ni prerano ni prekasno, nabavljati tada kada je to proizvodnji potreb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5DF-B8AF-4628-A84A-6A7D6C9271C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rebno je imati i određene, ali minimalne, odnosno sigurnosne zalihe. Zakašnjenje izaziva zastoje u proizvodnji i zakašnjenje u isporuci. Zakašnjenje u isporuci povlači za sobom gubljenje povjerenja kod kupa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ljen materijal ranije nego što je to potrebno proizvodnji, gomilaju se zalihe u skladištu i ulažu se financijska sredstva u nepotrebne kamate na prekomjerne zali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246-B890-4EF4-8F41-8279ED71873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oje rizici koji mogu nastati na materijalim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komjerne zalihe - likvidnost poslovanja poduzeć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jali loše kvalitete - škarta u proizvodnji - loša kvaliteta proizvo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dostaci na proizvodu - kupcu bonifika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bavljanje odgovarajućeg asortimana materijala u skladu s tipizacijom i standardima materij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je količine materijala - zastoj u proizvodnji i povećavaju troškove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like količine materijala - povećanje troškova skladištenja zali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6AF-D735-4157-A169-3056E17A282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kle, treba težiti nabavkama optimalnih ekonomskih količina koje omogućuju odvijanje proizvodnje i poslovanje bez zastoja i uz minimalne trošk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ovoljne količine materijala ugrožavaju kontinuirano odvijanje procesa reproduk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like zalihe spori obrtaj materijala, povećavaju troškove i smanjuju likvidnost poduzeć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EA7-3427-4DF5-987E-9A3FEACC712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I U ŠIREM SMIS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opskrba ili snabdijevanje, misli se n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ške aktivnosti na dulji r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akva aktivnost upućuje na budućnost, na dugoročno usmjeravanje cijelog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kupuje od dobavljača  - predmeta rada i sredstava za r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 strateške zadat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628-29FD-40A5-8E6B-1F083E77F1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iko je značenje nabave u smanjenju rizika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 se rizici odnose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je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čin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k isporuke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5AA-7E94-4826-BB93-5F9D35B362F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skladištu su mogući rizici na materijalima kao što s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lo,             oštećen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đa,           raste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m, kvar      požar 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tarije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to ima negativne učinke na rezultat poslovanja. Ovim rizicima treba dodati i ekološke zbog zagađenja zemlje, vode i zr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099-B446-4535-BCC0-84F7B5755E2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JECAJ NABAVE NA MATERIJALNO POSLOVANJE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atak nabave je d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štuje propise o zaštiti čovjekove okoline prilikom nabave, rukovanja i skladište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ektni odnosi s dobavljačima i ostalim u okruženju - stvaranje dobrog imidž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boljšanje rezultata poslovanja - postizati boljom proizvodnošću, ekonomičnošću i rentabilno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kle, kvalitetnijim poslovanjem, a ne povećanjem cij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1E7-24DF-4C3D-9D39-E7D7D168713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TROŠKOVI 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 troškovi - najveća stavka u poduzeć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jihov utjecaj na cijenu koštanja proizvoda i njihov utjecaj na rezultate poslovanja su najveć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alizaciju troškova treba provesti planski, analitički i kontinuir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njiti indirektni i direktni utjecaji na poslovanje poduzeća primjenom razvijenog tržišnog gospodarstva gdje su profit i rentabilnost pretpostavke efikasnog privređiv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39C-3412-49AB-926C-3139DC6E52B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TROŠKOVI 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kazatelji uspješnosti poslov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izvodnost rada=količina proizvoda / broj ra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konomičnost poslovanja=prihodi / trošk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ntabilnost poslovanja=dobit / angažira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ikvidnost=dospjele obveze / likvid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fitna stopa=profit / vrijednost proda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eficijent obrta=vrijednost prodaje / ukupna sred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ntabilnost ulaganja=profit.stopa x koef.obrt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CA0-31D8-43D7-A7E5-BF6ED09585A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oga i značenje nabave i materijalnog poslovanja stalno ras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je posljedica postojećih okol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ni porast udjela materijalnog poslovanja u društvenom bruto-proizvodu (D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kudice energije i pojedinih sir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ne sistemskog pristupa u upravljanju i organiziranju poduze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ne i brze promjene u okruženju poduzeć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FE6-A9D4-4775-8915-456DD923E48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je posljedica postojećih okolnosti (nastava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zacije i informatizacij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h tehnoloških otkrića i postupaka dovodi do smanjenja troškova proizvod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uzeća su nekada nabavljala u većoj mjeri sirovine i materijal niskog stupnja prer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ili su poluproizvode i sklopove, do finalnog proizvo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700-D23A-4FB8-8938-3AF192D0E02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je posljedica postojećih okolnosti (nastavak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jalizacija proizvodnje - postaje jeftinije nabavljati gotove sklopove nego ih proizvodi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škovi proizvodnje se smanjuju, ali materijalni troškovi ras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rzani gospodarski razvoj, postavio su problem raspoloživih resursa. ( nafta i pojedini metali olovo, srebro, bakar i živ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ED2-F4FB-4900-9AF4-E9B94D4CF7F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jen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skog pristu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ravljanju i organiziranju poduzeća naglasak je stavljen na cjelinu, a zatim na dijel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aknuta je potreba veće povezanosti i međuovisnosti dijelova i cje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marketinškoj orijentaciji poduzeća dolazi do izražaja kreativnost kadrova i njihov utjecaj na poslovanje poduzeć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a prikuplja informacije s tržišta pa se na osnovu toga orijentira proizvodnja i nabava za proizvodnj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B5F-59A9-424F-832C-816B5BE3936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bava dolazi do potrebnih informacija o novim proizvodima i kretanju ponude i potražnje na tržišt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aživanjem tržišta naba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jetima i upoznavanjem proizvodnje i poslovanja dobavljača, pregovaran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jećivanjem sajmo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ćenjem prospekata,kataloga i Web stranica dobavlj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5BD-0375-4ABA-8A6D-F53B80AFCF1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BAVA KUPUJE OD DOBAVLJAČ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e za reprodu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lja poluproizv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moćni materij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govačku ro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e za investicijsku izgrad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104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e za održavanje trajnih dob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EFD-03C2-48ED-B4D7-8404BEA794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o se povećava uloga nabave kao izvora korisnih informacija i savjetodavne funkcije ostalim funkcijama u poduzeću, a posebno menadžmen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ski pristup je uvjetovao i koncepciju ukupnih troškova proc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ravo je takav pristup pridonio usmjeravanju prema optimalizaciji ukupnih troškova na račun optimalizacije pojedi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17D-693F-4CAD-BBF0-2BBE3D2CEF2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iranjem svih aktivnosti vezanih za nabavu u jednu organizacijsku jedinicu pod naziv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erijalno poslova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ncentrirana je sva odgovornost u takvoj jedini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ne i brze promjene u okruženju poduzeća, a to znači na tržištu, ekonomskoj politici, integracijskoj politici, tehnologiji i informatici povećavaju složenost zbivanja i probl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lagođavanje tim promjenama je uvjet za opstanak i razvoj poduzeća u tržišnoj privred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E98-133E-4ED0-A50E-D85FC6C2895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kladu s tim promjenama mijenja se i razvojna strategija poduzeća i njegove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phodno je da se, istraživanjem tržišta i planiranjem, razvoj usmjeri prema očekivanim promjen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22E-6610-413E-B94B-C0B75F51AD4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ENDOVI RAZVO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meljne tendencije budućeg razvoja je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gralno materijalno poslovanje (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nabava+logisti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mpjutorom podržani informacijsk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stav upravljanja materijalnim tijeko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rketing nab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ix nab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cipročna nab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vesticije u naba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gralno korištenje informatičkih resu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inkronizirana nab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2BA-F098-42C9-B637-FD9263B2501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ZAŠTITA OKOLIŠ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im razvojem dolazi do stalnog pogoršanja u čovjekovoj okoli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loge tome treba tražiti u bezobzirnoj eksploataciji prirodnih resursa, a time i mijenjanja uvjeta života i r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azi do zagađivanja okoline raznim štetnim materijalima, otpacima i proizvod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di su svjesni ekoloških katastrof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2CB-43CD-45B2-BBEF-20075D37E3D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ZAŠTITA OKOLIŠ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oji međuovisnost između materijalnog poslovanja i zaštite oko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as se najviše opasnosti vidi u političkim i vojnim konfliktima - imaju velikog utjecaja na nabavu, posebno na cijene strateških proizv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ovine ne eksploatirati narušavanj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-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 obnovlj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ovine – brzo se iskorištavaj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34B-3276-41F4-A181-7A3575B2899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ZAŠTITA OKOLIN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razvijenim zemljama se ulažu velika sredstva u očuvanje čovjekove oko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škovi otklanjanja šteta su mnogo veći nego troškovi sprječavanja šte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 se mogu aktivirati ljudi iz nabave pribavljanjem informacija o ponašanju pojedinih materijala na okolinu, kao i utjecaja tehnoloških postupaka na čovje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0E18-D2C1-4CD0-B5A2-1A12F55B517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ZAŠTITA OKOLINE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ora birati dobavljače koji brinu da njihovi materijali ne štete okoli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treba pribavljati podatke o materijalima koji zagađuju okolin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goročno će imati uspjeha samo ona nabava koja bira dobavljača prema ekonomskim i ekološkim kriterij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rebno je izbjegavati sirovine koje troše velike količine energ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9E6-1D69-44B7-8EE0-A2045EDEE2E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ERIJALNO POSLOVANJE I ZAŠTITA OKOLINE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oje zakoni o zaštiti prirode, voda i o otpad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ora poznavati te materijale i u praksi ih poštiva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nost je svjesna značenja zaštite okoline, ali stručnjaci nekada donose odluke misleći više o ekonomičnosti proizvodnje nego o posljedicama na okol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A02-F8EF-4E0A-8A51-A9BE177467D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LJEVI I ZADACI NAB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RH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CIJA NABAVE I MATERIJALNO POSLO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ACI PODUZE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ACI PODUZEĆA I FUNKCI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I POSLOVANJA NAB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8AF-8AA2-49BE-87F2-10F8BC850E2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 TRAJNIH DOB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je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eđ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as se više ne koriste nazivi OSA i OBA neg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j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kuća imovi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94A-F434-4ECD-8CF1-8A3B593EC7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VRHA NABAVE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i materijalno poslovanje su sastavni dijelovi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tome, svrha nabave proizlazi iz svrhe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vr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jskog, ali i svakog drugo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uzeć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da proizvodnjom i razmjenom zadovoljava potrebe tržiš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3C3-59DF-46B5-B74D-6003D7FC8F3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VRHA NABAVE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izvodnjom i razmjenom zadovoljava se potreba tržiš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taj način se odvija reprodukci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 uspješno ostvarivanje proizvodnje mora se raspolagati potrebnim resurs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đu njima, najviše značenje imaju sredstva rada, predmeti rada i uslu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116-5C8D-4D6A-94BC-EC64CD1B348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VRHA NABAVE 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vrha funkcije nabave je da uspješno opskrbi poduzeće predmetima rada, sredstvima rada i uslug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o tako se može odvijati proizvodnja i proizvoditi kvalitetni proizvo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to može ostvarivati samo uz suradnju s ostalim funkcijama u poduzeć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4C7-A769-44F8-BFB0-7B57100F667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VRHA NABAVE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adnju s funkcijama proizvodnje, kadrovsku, financijsku i funkciju proda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adno funkcioniranje funkcija osigurava uspješnost poslovanja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samo jedna od navedenih funkcija ima određene teškoće to će se osjetiti u cjelokupnom poslovanju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151-2696-45DD-B32D-0303196C5ED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KCIJA NABAVE I MATERIJALNOG POSL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eljn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lje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kcije nabave, a time i materijalnog poslovanja, proizlaze iz svrhe i temeljnih ciljeva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eljn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lje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bave i materijalnog poslovanja mogu se podijeliti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onomsk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urnosne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t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ED6-EBD6-4CCB-A7DE-9A8D988C3DE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KONOMSK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I NAB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 uspješna opskrba sredstvima za proizvodnju i uslug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 ovog cilja proizlazi da je nabava duž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iti odgovarajući asortiman, kvalitetu i količinu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avu izvršiti na vrijeme, uz najpovoljnije cijene, uz najpovoljnije uvjete plaćanja, od traženih dobavljača i uz najniže trošk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BC6-3BDA-4CCE-B9BE-6BE9F774A0A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GURNOSN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L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bava tre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gurati neprekidan tijek materijala i usluga potrebnih za kontinuiranu proizvodnj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njiti po mogućnosti i potpuno eliminirati rizike nabave i materijalnog poslov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B3D-44FA-46E5-8927-35430BE9CED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STAL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L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ove ciljeve nabave ubra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ijanje alternativnih izvora nab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ijanje dobrih odnosa s dobavljač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ijanje osoblja nabave i materijalnog poslov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772-0A94-44E3-B824-0E790BDBEDC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I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OMENUTI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A NABAVE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treba biti dobro organizirana za uspješno obavljanje cilje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ava materijala mora biti sukladna tipizaciji i standardizaciji materij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težiti opskrbljivanju poduzeća ekonomičnim količinama nab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količine omogućuju da se proces proizvodnje odvija kontinuirano, uz najniže trošk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FBB-55D3-4F01-9B0D-9C370EEF917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I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OMENUTI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A NABAVE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ljati u pravo vrije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či nabavljati upravo onda kada to proces proizvodnje zahtije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ljati po najpovoljnijim cijena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 znači nabavljati po najnižim cijen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kle, potrebno je predmete rada nabavljati po optimalnoj cijeni kojom se osigurava količina i kvaliteta i ostali povoljni uvjeti kup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povoljniji su oni dobavljači koji svoje obveze za kvalitetu i rokove isporuke poštuj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F95-C53C-44B9-97CF-3DE048894A1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A USLU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drazumijeva s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proizvodne uslug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obrada, prerada, dorada, oplemenjivanje sredstava za proizvodnju, izrada dijelova, sudjelovanje vanjskih kooperanata u proizvodnj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usluge u promet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agencijske, posredničke, zastupničke, komisione, burzovne, skladišne, pakiranje, osiguranje robe u trasportu, kontrola kvalitete i količine nabavljene ro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B21-01F0-4CC4-95C3-011AD270D4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I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OMENUTI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LJEVA NABAVE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bavljanje uz najniže ukupne trošk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drazumijeva kvalitetnu i pravodobnu opskrbu poduzeć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škove naručivanja, dopreme, unutarnjeg transporta, skladištenja, rukovanja i kamata na zali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F87-797F-4BB3-BD76-5E24EF1CBAB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IZIK NABAVE I RIZIK ZALIHA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lo važan cilj funkcije nabave je da utječe na eliminiranje rizika nabave i rizika zaliha materija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z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može definirati kao prijeteća mogućnost nastupa vremenskih i prostornih neodređenih događaja koji uzrokuju djelomičnu ili potpunu štetu na materijalima za kupca ili dobavljač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D80-A320-4067-9986-C510B1A10BC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IZIK NABAVE I RIZIK ZALIHA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 procesu nabave i materijalnog poslovanja mogu se pojaviti rizici vezani 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jene, kvalitetu, transport, isporuku, zalihe i d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litičke događaje, ratne sukob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alutni i tečajni karak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zici se mogu smanjiti i eliminirati uz mjere osiguranja robe, boljom organizacijom nabave, kadrova, osiguranjem, i na druge nač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909-1936-4489-B4E8-EB7349A0679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ADATAK PODUZEĆA 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atak poduzeća mora se definirati kao proizvodnja određenih roba radi zadovoljavanja tržiš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kcij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drazumijevamo skupinu sličnih ili istovrsnih posl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40C-5772-47DC-B74E-26A3370E747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ADATAK PODUZEĆA 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ščlanjuje se na poslovne funk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n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izvodn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rovsk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avn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ajn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jsk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čunovodstvenu funk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DC7-B73A-4584-8890-778DBF71FD1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NA 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prema programe i strategije dugoročnog razvoja poduzeć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ti ostvarivanje usvojenih programa i strategi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e obavlja razvojna služba ili sektor razvoja poduzeć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mišljava dugoročni razvoj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BFC-86EC-4551-902B-CF92253D208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IZVOD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duzeća objedinjava poslove koji se bave svim aspektima proizvod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dnja se obavlja u proizvodnim jedinicama koje se u pojedinim poduzećima različito nazivaju: npr. pogoni, odjeli, radionice, poslovne jedinice, i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 ovu poslovnu funkciju vrlo je važno osigurati kvalitetnu nabavu s najnižim troškov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1C8-B1DC-400C-9CE6-BA07352981F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ADROVSK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dinjava sve poslove vezane za angažiranje i osposobljavanje radnika potrebnih poduzeć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e ove funkcije obavlja kadrovska služba ili sektor kadrovskih poslo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žba treba brinuti i o uvjetima rada i života radni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9F7-F8B1-4205-AF4E-DBEB2015F19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BAV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dinjava poslove vezane za opskrbu poduzeća sredstvima i predmetima rada i potrebnih uslug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ba biti ekipirana i osposobljena za obavljanje nabave na domaćem i inozemnom tržiš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C41-A9CE-4FB2-AC79-E4A73F35ABD4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AJ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dinjava poslove koji se bave prodajom gotovih proizvoda na domaćem i inozemnom tržiš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ove obavlja služba prodaje ili prodajni sektor poduze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lužbi su zaposleni stručnjaci iz područja marketinga. Oni moraju dobro poznavati tržište prodaje, kanale prodaje i distribucije te promociju na tržiš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3CA-47B3-475D-9FD5-CF7AF9D2BA9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28:33Z</dcterms:created>
  <dc:creator>Dr.Zlo</dc:creator>
  <dc:description/>
  <dc:language>en-US</dc:language>
  <cp:lastModifiedBy>Korisnik</cp:lastModifiedBy>
  <dcterms:modified xsi:type="dcterms:W3CDTF">2007-12-10T07:53:01Z</dcterms:modified>
  <cp:revision>23</cp:revision>
  <dc:subject/>
  <dc:title>POJAM NABAVE   1</dc:title>
</cp:coreProperties>
</file>