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711-0A72-4204-BCE8-31338CA9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438-79F0-4FC0-964D-F36EC6C9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C3B-4372-4209-862F-A143259D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BD8-B4AE-4533-8998-99C8F8AE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29F7-31FB-4F93-968F-BAE74C64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3ACF-2A6C-4E3B-87E5-216F99B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55B-7B1F-4B81-8488-3C3840CB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AEC1-A057-490F-92B8-43E4E39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1ECE-5306-4452-BDB3-6AFCB99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9CC7-9D31-4044-BB77-11BD7C8F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2F7B-D71F-45ED-AC1C-06F5ED6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DB2-8CF3-483E-BE82-2300FBE8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5CC7-7813-411B-AD1C-8B84C8F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160D-3DA7-44A6-A6DA-8A0954D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15C5-EDD3-4CDB-B4DA-EB560D9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5AD-F117-475D-8585-1FB65AF2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0D30-3EA0-43D6-98B4-D3026E93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236-D9B0-4428-B5F3-2A6D6D1C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CCF-45F9-4E63-A8E5-0DAA1491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9D1-F326-48FA-8593-DF222C74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3E5-205A-47B5-AE06-7AF4DE52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B2E-65EF-465B-8C95-533D4B2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DC8-08AF-4C4C-A6E9-69CD0E60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E99-6103-46E7-BB37-E1284F10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BEA-FCFB-483C-8601-18B232995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28F5-63A4-4C7E-9244-269BB03148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FARMAKOLOGIJA SREDIŠNJEG ŽIVČANOG SUSTA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CFC-4204-4437-8E54-B8D1C5F9B4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ETANOL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 malim dozama uvjetuje psihičku relaksaciju, blagu sedaciju, vazodilataciju, tahikardiju i porast lučenja solne kiseline u želucu, usporava reak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 većim je dozama motorna koordinacija poremećena, dolazi do poremećaja govora, smanjene sekrecije vazopresina i pojačane pospa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oš veće doze uzrokuju depresiju disanja, analgezije, anestezije i k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rt nastupa zbog depresije disa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066680"/>
            <a:ext cx="761760" cy="304920"/>
          </a:xfrm>
          <a:custGeom>
            <a:avLst/>
            <a:gdLst>
              <a:gd name="textAreaLeft" fmla="*/ 11880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724280"/>
            <a:ext cx="761760" cy="304920"/>
          </a:xfrm>
          <a:custGeom>
            <a:avLst/>
            <a:gdLst>
              <a:gd name="textAreaLeft" fmla="*/ 11880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895480"/>
            <a:ext cx="761760" cy="304920"/>
          </a:xfrm>
          <a:custGeom>
            <a:avLst/>
            <a:gdLst>
              <a:gd name="textAreaLeft" fmla="*/ 11880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585-3034-4B61-85F3-4C46219E08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ETANOL - CH</a:t>
            </a:r>
            <a:r>
              <a:rPr b="1" lang="en-US" sz="4400" spc="-1" strike="noStrike" baseline="-25000">
                <a:solidFill>
                  <a:srgbClr val="66ffcc"/>
                </a:solidFill>
                <a:latin typeface="Bookman Old Style"/>
              </a:rPr>
              <a:t>3</a:t>
            </a: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CH</a:t>
            </a:r>
            <a:r>
              <a:rPr b="1" lang="en-US" sz="44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OH</a:t>
            </a:r>
            <a:br>
              <a:rPr sz="4400"/>
            </a:b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zrazito topljiv u lipid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azgrađuje se u jetri posredovanjem alkoholne dehidrogene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CETALDEHID       OCTE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ISELINA (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OO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inetika nultog re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10 g ETANOLA NA SA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3581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280-AA35-451F-BAA9-031944C9F0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523880"/>
            <a:ext cx="6095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ale doze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(do 2 dl v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sihička relaks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laga sed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rast solne kiseline u želu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“pojačano” raspolož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609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ETANOL - toksi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809880"/>
            <a:ext cx="5867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Velike doze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(više od 100 mg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remećena motorna koordin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remećaji u govo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jačana diure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spa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59F-482E-49C6-BF32-35A9B304A7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ETANOL - OTROVANJ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oncentracije 350 - 600 mg %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MR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presija disanja     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OM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Liječen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ispiranje želuca, održavanje disanja, krvnog tlaka i temperature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dok se etanol ne ragradi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7432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4267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B98-4C61-4406-ABAF-04F561B026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PARKISONICI i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lijekovi protiv spastičnost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arkinsonova bolest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tremor, rigidnost, bradikinezija, poremećaj stajanja i hodanja      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edostatak dopamin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Liječenje Parkinsonove bolest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. Lijekovi koji povisuju razinu dopamina 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EVOD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. Dopaminergički agonisti 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ROMOKRIP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i koji oslobađaju dopamin 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MANTA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 Antagonisti acetilkolina - muskarinski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048120"/>
            <a:ext cx="533520" cy="152280"/>
          </a:xfrm>
          <a:custGeom>
            <a:avLst/>
            <a:gdLst>
              <a:gd name="textAreaLeft" fmla="*/ 8316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EEF-705C-4D8E-AFA4-077334312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TIEPILEP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EPILEPSIJ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e posljedica naglog stvaranja akcijskih potencijala u skupini neur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linička sli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tereotipne paroksizmalne promjene ponaš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tiepileptic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povisuju prag podražaja zdravih neurona i tako sprečavaju napadaje. Potenciraju učinak GABA-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35A-8F9E-43C1-B41A-AAF8088253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TIEPILEP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Feni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Fenobarbi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alproič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kise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Karbamazep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Lamot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0574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66688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276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4419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50292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BC8-31B1-4513-BBB7-E4FBC2F0B7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Lijekovi koji se upotrebljavaju za liječenje središnjeg živčanog sustava nazivaju se: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pći aneste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ksioli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edativi (hipnotic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tipsiho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tidepresiv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tiepilep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Neurofarmaci djeluju n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inaptičku transmisiju živčanih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mpulsa, tako da modificiraju učinak pojedinih neurotransmitora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777-2D12-4428-9212-9C6A6CD8E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UROTRANSMITOR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u tvari prisutne u presinaptičkim okončinama aksona, oslobađaju se u sinaptičkim pukotinama, sintetiziraju se u presinaptičkoj okončini. Nakon djelovanja na sinapsi, inaktiviraju se enzimima ili se povratnim transportom vraćaju u presinaptički završet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BFCD-7992-4AE8-A054-762D5B17E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CETILKO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OPA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ORADRENA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EROTONIN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5-hidroksitripta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AMA - AMINOMASLAČ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 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ISELIN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(GAB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LIC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3CF-740F-43AF-9E62-DCFFEF2162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OMEN KRVNO - MOŽDANE BARIJERE </a:t>
            </a:r>
            <a:br>
              <a:rPr sz="2800"/>
            </a:b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za prolaz lijekova iz krvi u mozak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 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laz lijekova ovisi o liposolubilnosti tj. particijskom koeficijentu lijeka između ulja i vode. Lijekovi s visokom liposolubilnošću lakše i brže ulaze u mozak.</a:t>
            </a:r>
            <a:endParaRPr b="0" lang="en-US" sz="2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2706840"/>
          <a:ext cx="479088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06840"/>
                    <a:ext cx="479088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0DE-55D0-4D91-8295-515A5B99D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ESTETICI 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uzrokuju gubitak 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svijesti i osj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ALACIJSKI ANESTETICI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plinovi (dušični oksidu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hlapljive tekućine (eter, halot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TRAVENSKI ANESTE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tiopenton, propanidid, ket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5238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9112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59092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7D0-4BBC-47CD-BA98-281B4D1A1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IPSIHOTICI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u lijekovi za liječenje duševnih bolesti (psihoze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OTIAZIN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klorpromaz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IOKSANTE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klorprotiks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UTIROFENON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haloperid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BENZODIAZEP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klozap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RISPERI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ntipsihotici su specifični blokato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opaminergičkih receptora, djelomič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j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adrenergičke, muskarinske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istaminske recept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2D2-0F4D-4271-85D3-85C7188B08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TIDEPRESIVI - povećavaju koncentraciju nekih neurotransmitora u sinaptičkoj pukotini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ju povratni mehanizam 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sinaptičku okončinu (serotonin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oradrenalin). Serotonin i noradrenal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jeluju produženo na recept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Triciklički antidepresivi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amitripti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iklički antidepresivi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aproti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nhibitori monoaminooksidaze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oklobem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elektivni inhibitori ponovne pohrane serotonina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fluokse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3B3-28B8-4FFB-84F0-11FB0834E8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KSIOLITIC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klanjaju psihičku napetost, osjećaj tjeskobe i straha.</a:t>
            </a:r>
            <a:br>
              <a:rPr sz="2800"/>
            </a:b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ENZODIAZEP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tenciraju učinak GABA-e u SŽS povećavanjem učestalosti otvaranja kloridnih kanal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720" y="31237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ksiolitič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ipnotič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manjuju mišićni t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tikonvulzivno djelo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IAZEPAM, OKS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A18-4B70-4950-BA62-B507FFFFA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9:09:08Z</dcterms:created>
  <dc:creator>Jelena</dc:creator>
  <dc:description/>
  <dc:language>en-US</dc:language>
  <cp:lastModifiedBy>KERAMEIKOS d.o.o.</cp:lastModifiedBy>
  <dcterms:modified xsi:type="dcterms:W3CDTF">2003-01-31T09:21:15Z</dcterms:modified>
  <cp:revision>20</cp:revision>
  <dc:subject/>
  <dc:title>FARAMKOLOGIJA SREDIŠNJEG ŽIVČANOG SUSTAVA</dc:title>
</cp:coreProperties>
</file>