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ED3-3B83-4CD3-8D19-8118C3DB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C43-79CE-4B93-BD2E-B453C7B0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909-BACF-40B8-9943-F88EA041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818-4D39-49B9-9F44-D6A78EAC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9541-6CDC-4E56-8409-BB858CCF6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B9B4-2624-412F-BF93-A28EC539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D570-6543-4539-9B3F-3C6D35AE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BC2C-2BB7-416E-8D86-92DAD218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AC86-A8E0-4C74-B64F-A2FEFB19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2177-8AFC-4121-80AE-A3D53684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AB29-FFAF-48C3-8DA0-1910F50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557-465C-4581-8497-939EADE0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106E-17D4-4F67-A517-E93D6CE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E07A-810D-4A53-8EC1-063A5D37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6087-EBB3-4261-9F58-DE9ACEF8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31A6-670E-444C-AB4F-76BBDD99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7786-DDE1-4B6D-911C-A9F6ED9C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9DD3-4413-40A6-BCA7-1450AB8A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FE81-59E3-4999-BFC3-962D05AA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5388-9D9A-436E-BCBB-073A4793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2463-B485-41CA-B60B-A41EEB83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BDF47-321D-4A84-A430-6631BBB2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7EC-CAB9-404C-9FDC-DC6EBD4B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A87B-759A-4935-9B5E-5C32ABC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5218-ECB4-4EBC-809E-BF0BF094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E349-54C4-43A6-A931-14018867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F769-1B0E-4DC5-A815-8EDA2E67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A62B-F2D2-4AB3-A906-7E07F43E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F7EC-6101-4B48-AC2F-3949B03F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4F7E-9E0D-4397-AFCB-4FCA03E2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6D2A-307E-4A82-9237-29501ACC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086BB-88ED-479A-92E5-65C1C9F9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2B3A-1735-44D3-82FF-589E7453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681-2A6C-4B97-A983-D5F1A3FF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3A2E-7C39-4880-84FB-47B81E08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05656-77CC-4499-8691-F851FF8D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99E8F-76D4-444F-BB86-17DBEACB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D51C-AC9C-466D-8EF1-C1DE0CF0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2A013-D311-40A1-BEE1-2F18610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1AB3-B01E-4027-9D6B-6501BE86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8112-9199-4EB0-9175-1CADE60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D4B1-94DE-4C4A-9280-861298D7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99F4-B5B1-44A0-BF8E-A78CAF14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BC9-2170-495E-BF91-37D1A7F0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EFA-A2B8-4187-B9DE-C0FEC432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BCD-705D-40AB-8A37-92E3DBC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BCB-A0B6-43B3-8893-0387119B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024-40FE-4660-8E2D-D31B590C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022D-C44B-49AA-9F1C-BFEC448E1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DF6C-A8BB-4121-A9F9-9BB761DAD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4FB5-0780-48B4-8169-CEF96CD25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E0B9-7471-40FB-92AE-78177424D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D GRAĐANSKIH RATOVA DO PRINCIP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raj Rimske Republike i početak Rimskog Cars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stanci i pobune u R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vi oblici pobuna i nemira počinju prilikom osnivanja istočne provincije Az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stanak robova na Sicil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ukobi populara i optim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ukobi populara i optimata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vi oblici “politički stranaka” moćnih plemićkih obitelji sa ciljem udruživanja zbog promicanja zajedničkih inte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pular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Reformatorska stranka u Senatu koju vežemo u agrarnu reformu kojom su pokušali dobiti naklonost pleb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kušaj proširenja rimskog državljanstva na žitelje izvan Ital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0" y="233208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ptim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jsnažniji razdoblje u vrijeme Sule 80ih god. pr.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stojali su spriječiti provođenje agrarnih refor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kon Suline smrti vodi i Pompe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GRARNI ZAK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grarne zakone donio je Lucije Apulej Saturn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zabran je za tribuna 103. g i 100. g pr. K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ma zakonu Marijevi veterani trebali su dobiti 100 jugera zemlje u Afr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emlja je postajala privatno vlasništvo i bila je oslobođena plaćanja pore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stiće se i predviđanje sniženja cijene žita i osnivanje kolon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ptimati su pokušavali spriječiti uspostavu i provođenje ovih zakona, koji su napokon uspostavljeni uz pomoć vojnog pritiska od strane gaja Ma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5400" y="476280"/>
            <a:ext cx="82263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mirenje nadolazećih nemira Senat je povjereno je Mariju koji se u dogovoru sa optimatima pristao boriti protiv prijašnjih savez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shod prvih borbi bio je smrt Saturnina čiju tribunsku titulu nasljeđuje Marko Livije Dru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ruz se zalagao z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formu sud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formu u Sena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dijelu prava građanstva rimskim saveznicima (Fluvije Flak I Gaj Grahk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AVEZNIČKI R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2263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zroc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grarni zakoni Lucija Apula Saturn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euspjeh eforme sudova i Senata – začetnik Marko Levije Dr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bojstvo Marka Levija Dru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avezički rat poznat je kao i Talijanski r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rajao je od 91. g .pr. Kr do 88.g. Pr. K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imska Republika, Umbri i Etrušćani protiv mnogobrojnih talijanskih gradova-drž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odstvo Rimske republike : Gaj Julije Cezar i Gaj Marije i S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odstvo talijanskih gradova država: Kvint i Pomopedije iz plemena Mar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at je vođen na više strana pa su rimljani morali raspodijeliti vojs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avršetak rata : zakon Lex Jul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djela prava građanstva žiteljima izvan Rima i Ital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Lex Plautia  Papi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19280" y="476280"/>
            <a:ext cx="3468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hr-HR" sz="4800" spc="-1" strike="noStrike">
                <a:solidFill>
                  <a:srgbClr val="ffffff"/>
                </a:solidFill>
                <a:latin typeface="Arial"/>
              </a:rPr>
              <a:t>SU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26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znički rat, koji je trajao od 91.g pr. Kr do 88. g. pr. Kr nije predstavljao jedini problem za Rimsku Republiku. Opasnost u istočnim provincijama predstavaljao je pontski kralj Mitradata koji je svoju vlast želio proširiti cijelim područjem središnje i zapadne maloazijaske oblasti. Upravo vođenje tog rata Senat je predao u ruke Luciju Korneliju Sul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jena se dogodila vrlo brzo i to odlukom komicija koja je Mariju dala prednost u vodstvu u ratu protiv Midrata, nakon čega Sula 88.g pr. Kr kreće na Rim u želji da oslobodi grad od “tiranina”. U Sulinvom naletu poraženi su i Sulpicije Ruf i Marije. Sulpicije Ruf je poginuo u borbi, dok je Marije pobjegao u Afrik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PARTAK I USTANAK   ROB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ajveći ustanak robova u Ant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74.g.pr. Kr u gladijatorskoj školi u Kau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rci, Gali, Iliri, robovi i gladijatori pod vodstvom Sparta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brzo prerasta  u vojsku od 40 000 ljud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por između Spartaka i Kriksa ( napad na Rim ili vraćanje u domovin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partakov plan dobiti potporu glaijatora i robova na Sicil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partakova smrti 71. g. pr. k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elika povijesna ime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88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aj Marije : rimski konzul, vojskovođa i vođa stranke popula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orio se u Numidiji protiv jugurtskog kral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edam puta proglašen rimskim konzul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d 157. pr. Kr do 86.g pr. 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293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76000" y="148428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Lucije Kornelije S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Rimski zapovijednik i dikt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razio je Sulvicija Rufa i prognao gaja Mar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orio se i porazio Mitridata na Istoku kada započinje razdoblje dikt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79.g. Pr. Kr odbacuje titulu diktatora i umire na svom posjedu 78.pr 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297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76000" y="155736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part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jveća pobuna robova u Antici u Kapui 74.g.pr. 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0873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763280" y="162864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aj Julije Cez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jslavnij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mski Imper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razio Pompeja Velikog i postao dikt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00. g.pr Kr – 44. pr. 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27133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vincije Rimske Repub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87560" y="1600200"/>
            <a:ext cx="6962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6920" y="1844280"/>
            <a:ext cx="6985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imska republika traje od 509. g. Pr. Kr do 27. g. Pr K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tavijan postaje samostalni vladar Rima i preuzima sve ovlasti od republikanskih institucija i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27.pr K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sniva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imsko Carstvo 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glašen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j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časnim imenom August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vincije su bile osnovno teritorijalno uređenje osvojenog teritorija izvan R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2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icil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ardin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rz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ispanija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ovincijama su vladali vojskovođe kojima je bilo povjereno vođenje r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 kasnijim razdobljima vodstvo nad provincijama preuzeli su provincijski pretori a zatim i magsitrati koji su birrani na godinu d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vestor se bavio financijskim i pirivrednim poslo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069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akedon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fri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zija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Gradovi u provincij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visni gradovi : plaćaju porez i pokoravaju se namjesniku provincija ali zadržavaju autonomiju kod odlučivanja o lokalnim pitanj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508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lobodni gradovi ili saveznički gradovi (ako su prava grada utvrđena posebnim savezničkim ugovorom)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slobođeni su plaćanja poreza ali su imali obavezu u davanju vojne pomoći u ljdstvu i vojnoj opremi u vrijeme ratova, ratnih pohoda i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35:06Z</dcterms:created>
  <dc:creator>ja</dc:creator>
  <dc:description/>
  <dc:language>en-US</dc:language>
  <cp:lastModifiedBy>ja</cp:lastModifiedBy>
  <dcterms:modified xsi:type="dcterms:W3CDTF">2010-11-04T21:52:11Z</dcterms:modified>
  <cp:revision>7</cp:revision>
  <dc:subject/>
  <dc:title>Slide 1</dc:title>
</cp:coreProperties>
</file>