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3879-0810-4CCB-B6C9-3A632F1EB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39EA-3B95-436E-8DE9-2653FA558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D16B-D88F-416E-89F7-901A597E8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7347-8512-4827-BF2A-0430D63F8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9DC05-813F-4FA3-B65E-3AAD51F19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25F9F-B7D1-4856-98D5-6814521F1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87EED-B3C9-4F30-8433-434BF63D1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E39F8-0F59-4C78-8572-0F90B25FF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23013-0E0D-45ED-855C-0D2F75824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ED884-6920-4A12-BECE-19CACE78F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EF748-5AA6-42A6-83AC-D413F7AD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2321-C2D0-4AF7-8D29-E93189808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F4896-FAF5-4924-8B0F-BAC0432A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49B30-EB0E-444B-B6C1-BB202790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FC139-C710-48A1-915C-B4CC14948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8958B-A592-4B0F-ACF1-4B29AFC8A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DF188-A308-4D2F-B7ED-71CDBBA11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889D6-9548-4A3F-86EF-C6C645CDB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5061C-C771-45F5-A1A1-7E13876A5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0367E-DB1C-4C89-AF23-48189A077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F57DC-B53D-4FDB-955B-67CEFC0D0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6E91E-FA5C-4DF6-B56F-ECC7E5C61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A40E-52F5-4A51-BA9C-47A76FC71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35B78-C1E0-4B6D-9F66-94048EAEE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85774-94DA-4C0D-AA3A-B5A9CE24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2CCEA-671E-4E2F-A04D-1956D760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9BF90-8BC3-4386-BACE-F7685D6F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81691-F84B-4E00-97D5-1B287143E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7F5B2-07BB-41C4-A88C-7B470B022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C61B8-A055-483A-8BFA-BAD92F3EE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EF891-38A6-4E4B-B416-55010E961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42236-FD34-4C5F-BC60-6B8CECFF1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CF1F0-5AB1-42C3-8A47-23D120D5E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D4CA-F640-463A-8B97-68135D282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1C0A8-132B-4286-BAF5-892A1A7E9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9BAFD-00C3-43DA-9321-8C483C910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E9A24-529E-492C-AB45-F0DCBF78B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BA40A-8866-4AD9-8DF5-D6DCD279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35B9F-10AD-4ACE-88DD-24B3B2A0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657EE-E7F5-4677-B0B3-46819659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78970-2A90-46AA-A69C-B34F4828C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89847-BE54-4FA9-A5E3-9E0841355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64F76-61E4-4622-B3E3-2352ED597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546B-FCAB-4904-A8DB-8D7C4AC1F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4776-FE95-4578-82A0-5DD0CFBD8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A789-48F9-4204-80F0-4240473A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9EE6-DB8E-4B93-8D66-EFA2ADE8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56CA-51A6-48FA-9DB2-AF3238BF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C596B-106D-40C7-8B69-FD344A3E64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93C48-9D24-4195-9828-E585FEA9C5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66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B0242-E865-4543-9F35-484426B080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66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130120"/>
            <a:ext cx="7313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6CF94-C474-4E35-99D7-4ABA4A2224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OD GRAĐANSKIH RATOVA DO PRINCIPAT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Kraj Rimske Republike i početak Rimskog Carst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Ustanci i pobune u Rim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Prvi oblici pobuna i nemira počinju prilikom osnivanja istočne provincije Azij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Ustanak robova na Sicilij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Sukobi populara i optimat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4920" y="836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Sukobi populara i optimata</a:t>
            </a:r>
            <a:br>
              <a:rPr sz="2800"/>
            </a:b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Prvi oblici “politički stranaka” moćnih plemićkih obitelji sa ciljem udruživanja zbog promicanja zajedničkih intere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4037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Populari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Reformatorska stranka u Senatu koju vežemo u agrarnu reformu kojom su pokušali dobiti naklonost plebs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Pokušaj proširenja rimskog državljanstva na žitelje izvan Itali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0" y="2332080"/>
            <a:ext cx="4037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Optima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Najsnažniji razdoblje u vrijeme Sule 80ih god. pr.K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Nastojali su spriječiti provođenje agrarnih reform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Nakon Suline smrti vodi i Pompej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AGRARNI ZAKO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Agrarne zakone donio je Lucije Apulej Saturn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Izabran je za tribuna 103. g i 100. g pr. K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Prema zakonu Marijevi veterani trebali su dobiti 100 jugera zemlje u Afri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Zemlja je postajala privatno vlasništvo i bila je oslobođena plaćanja porez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Istiće se i predviđanje sniženja cijene žita i osnivanje kolon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Optimati su pokušavali spriječiti uspostavu i provođenje ovih zakona, koji su napokon uspostavljeni uz pomoć vojnog pritiska od strane gaja Mar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5400" y="476280"/>
            <a:ext cx="822636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Smirenje nadolazećih nemira Senat je povjereno je Mariju koji se u dogovoru sa optimatima pristao boriti protiv prijašnjih savezni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Ishod prvih borbi bio je smrt Saturnina čiju tribunsku titulu nasljeđuje Marko Livije Druz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Druz se zalagao z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Reformu sudo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Reformu u Senat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Dodijelu prava građanstva rimskim saveznicima (Fluvije Flak I Gaj Grahk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627280" y="-360"/>
            <a:ext cx="345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SAVEZNIČKI RAT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000" y="764640"/>
            <a:ext cx="822636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Uzroci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Agrarni zakoni Lucija Apula Saturn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Neuspjeh eforme sudova i Senata – začetnik Marko Levije Dru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Ubojstvo Marka Levija Druz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Savezički rat poznat je kao i Talijanski r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Trajao je od 91. g .pr. Kr do 88.g. Pr. K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Rimska Republika, Umbri i Etrušćani protiv mnogobrojnih talijanskih gradova-drža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Vodstvo Rimske republike : Gaj Julije Cezar i Gaj Marije i Su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Vodstvo talijanskih gradova država: Kvint i Pomopedije iz plemena Mar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Rat je vođen na više strana pa su rimljani morali raspodijeliti vojsk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Završetak rata : zakon Lex Jul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Dodjela prava građanstva žiteljima izvan Rima i Itali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Lex Plautia  Papi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419280" y="476280"/>
            <a:ext cx="3468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hr-HR" sz="4800" spc="-1" strike="noStrike">
                <a:solidFill>
                  <a:srgbClr val="ffffff"/>
                </a:solidFill>
                <a:latin typeface="Arial"/>
              </a:rPr>
              <a:t>SUL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9280" y="1052640"/>
            <a:ext cx="822636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veznički rat, koji je trajao od 91.g pr. Kr do 88. g. pr. Kr nije predstavljao jedini problem za Rimsku Republiku. Opasnost u istočnim provincijama predstavaljao je pontski kralj Mitradata koji je svoju vlast želio proširiti cijelim područjem središnje i zapadne maloazijaske oblasti. Upravo vođenje tog rata Senat je predao u ruke Luciju Korneliju Suli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mjena se dogodila vrlo brzo i to odlukom komicija koja je Mariju dala prednost u vodstvu u ratu protiv Midrata, nakon čega Sula 88.g pr. Kr kreće na Rim u želji da oslobodi grad od “tiranina”. U Sulinvom naletu poraženi su i Sulpicije Ruf i Marije. Sulpicije Ruf je poginuo u borbi, dok je Marije pobjegao u Afrik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3164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SPARTAK I USTANAK   ROBO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Najveći ustanak robova u Anti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74.g.pr. Kr u gladijatorskoj školi u Kaup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Grci, Gali, Iliri, robovi i gladijatori pod vodstvom Sparta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Ubrzo prerasta  u vojsku od 40 000 ljud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Spor između Spartaka i Kriksa ( napad na Rim ili vraćanje u domovin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Spartakov plan dobiti potporu glaijatora i robova na Sicilij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Spartakova smrti 71. g. pr. k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Velika povijesna imen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388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Gaj Marije : rimski konzul, vojskovođa i vođa stranke popula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Borio se u Numidiji protiv jugurtskog kral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Sedam puta proglašen rimskim konzul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Od 157. pr. Kr do 86.g pr. K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435640" y="1628640"/>
            <a:ext cx="2932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476000" y="1484280"/>
            <a:ext cx="308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Lucije Kornelije Su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Rimski zapovijednik i dikt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Porazio je Sulvicija Rufa i prognao gaja Mari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Borio se i porazio Mitridata na Istoku kada započinje razdoblje dikt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79.g. Pr. Kr odbacuje titulu diktatora i umire na svom posjedu 78.pr K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148360" y="1484280"/>
            <a:ext cx="2970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476000" y="1557360"/>
            <a:ext cx="308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Sparta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Najveća pobuna robova u Antici u Kapui 74.g.pr. K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4500720" y="1484280"/>
            <a:ext cx="3087360" cy="41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763280" y="1628640"/>
            <a:ext cx="308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Gaj Julije Cez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jslavniji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imski Imperato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Porazio Pompeja Velikog i postao dikt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100. g.pr Kr – 44. pr. K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5364000" y="1268280"/>
            <a:ext cx="271332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Provincije Rimske Republi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087560" y="1600200"/>
            <a:ext cx="6962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6920" y="1844280"/>
            <a:ext cx="698508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Rimska republika traje od 509. g. Pr. Kr do 27. g. Pr K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ktavijan postaje samostalni vladar Rima i preuzima sve ovlasti od republikanskih institucija i 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27.pr Kr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sniva 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Rimsko Carstvo ;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roglašen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 j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očasnim imenom August 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Provincije su bile osnovno teritorijalno uređenje osvojenog teritorija izvan Ri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22636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Sicil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Sardin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Korzi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Hispanija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Provincijama su vladali vojskovođe kojima je bilo povjereno vođenje ra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U kasnijim razdobljima vodstvo nad provincijama preuzeli su provincijski pretori a zatim i magsitrati koji su birrani na godinu da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Kvestor se bavio financijskim i pirivrednim poslovi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06960" y="1600200"/>
            <a:ext cx="4037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Makedoni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Afrik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Azija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Gradovi u provincija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4037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Zavisni gradovi : plaćaju porez i pokoravaju se namjesniku provincija ali zadržavaju autonomiju kod odlučivanja o lokalnim pitanji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5080" y="1600200"/>
            <a:ext cx="4037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Slobodni gradovi ili saveznički gradovi (ako su prava grada utvrđena posebnim savezničkim ugovorom)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Oslobođeni su plaćanja poreza ali su imali obavezu u davanju vojne pomoći u ljdstvu i vojnoj opremi u vrijeme ratova, ratnih pohoda it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17:35:06Z</dcterms:created>
  <dc:creator>ja</dc:creator>
  <dc:description/>
  <dc:language>en-US</dc:language>
  <cp:lastModifiedBy>ja</cp:lastModifiedBy>
  <dcterms:modified xsi:type="dcterms:W3CDTF">2010-11-04T21:52:11Z</dcterms:modified>
  <cp:revision>7</cp:revision>
  <dc:subject/>
  <dc:title>Slide 1</dc:title>
</cp:coreProperties>
</file>