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953-3C28-439B-A444-47206466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6FA-14C0-4FEF-A396-745CA92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B3D-5835-4390-8589-ABDA87DB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46D-09F2-4095-AD08-91C43E92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D51-599B-48DA-A59E-9368EBEE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76B-07C5-4221-BC3E-50BFA4F9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23D-2F21-4844-AFE3-C9E1565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4069-CB47-48E4-89E0-5B697C3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48C2-0941-4E14-B56C-4CE2C18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4D83-83F2-45F1-9334-87B39D1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3409-1987-4915-9AFF-90E910B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5E0-84C1-40B4-83FC-9637B41D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63B-31B8-4D57-A8D4-C90EE68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00B-3C35-4055-ACC2-66994E1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3E21-8437-489D-9C4F-4D721BF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C7E-FB54-42C0-9B2F-A3430223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6B28-9317-4F88-A4B6-6EF88A2F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165-A049-475E-B512-B18211C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7BD-C9BA-4C2B-B830-024EB8E8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169-CF63-4149-9FAD-00BB3D3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CE3-4D6C-4280-862D-94F6EB0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116-F4A2-48BC-9064-E15F69C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DDE-1C69-4EAD-A32C-183B6B6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42F-4695-4715-9568-7C9F783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C77-78A7-4771-90AF-096034BC6E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C3D-671A-4DA3-B0BA-4741118F6E6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1. Što je strategijsko planir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2. Priroda i svrha strategija i poli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3. Proces strategijskog planir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4. Swot analiza (TOWS mat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5. BCG mat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6. Pest an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eminar i vježba: Strategijsko planiranje na primjeru “Sea Worl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Misija; Posl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ko smo mi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Što mi činimo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Zašto, zbog čega smo tu; koja je naša svrh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Kakva smo mi organizacija danas, a kakva organizacija želimo biti u budućnos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isija se izražava u posebnoj službenoj izja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14400" y="1090440"/>
          <a:ext cx="7269120" cy="5011920"/>
        </p:xfrm>
        <a:graphic>
          <a:graphicData uri="http://schemas.openxmlformats.org/drawingml/2006/table">
            <a:tbl>
              <a:tblPr/>
              <a:tblGrid>
                <a:gridCol w="2540160"/>
                <a:gridCol w="472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Sastavnice u definiranju mis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o se definira mi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1. Kup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Tko su najvažniji kupc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2. Proizvodi ili uslu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glavni organizacijski proizvodi i uslug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3. Lok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Gdje organizacija konkurira drugim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4. Tehnolog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a je osnovna tehnologija tvrtk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5. Briga za opstan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va je organizacijska obveza prema ekonomskim ciljevim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6. Filozof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osnovna vjerovanja, vrednote, težnje i filozofske prednosti organizacij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7. Samoshvać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glavne snage organizacije i njezine konkurentske prednost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8. Briga za javni ug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oje su odgovornosti organizacije prema javnosti i što se ugledom želi postići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9. Briga za </a:t>
                      </a: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osleni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Kakav je odnos organizacije prema 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oslenicima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HR Times New Roman EE/ISO 8859"/>
                          <a:ea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Neke od “slavnih” izjava o misij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o make people hap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Connecting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he purpose of McKinsey &amp; Company is to help leading corporations and governments be more successfu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riješene probleme rješavati inovativno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/3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omiti Adidas!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/Nik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Swot analiza</a:t>
            </a: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edstavlja konceptualni okvir za sustavnu analizu koja olakšava uspoređivanje vanjskih prijetnji i prilika s unutarnjim slabostima i snagama organ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odel polazi od prijetnji jer u mnogim situacijama kompanije poduzimaju strategijsko planiranje kad uoče krizu, problem ili prijet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SWOT (TOWS) MATRICA ZA FORMULIRANJE STRATEGIJE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066680"/>
          <a:ext cx="8610480" cy="567072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971800"/>
              </a:tblGrid>
              <a:tr h="19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rašnji čimb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i čimben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ARNJE SNAGE (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nage u menedžmentu, operacijama, financijama, marketingu, istraživanju i razvitku, konstrukcij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UTARNJE SLABOSTI (W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labosti u područji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kazanim u polju “snage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E PRILIKE (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adašnji i budući ekonomski uvjeti, političke i društvene promjene, novi proizvodi, usluge i tehnologija (vodeći računa i o rizicim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ksi – mak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tencijalno najuspješnija, strategija, uporaba snaga organizacije da bi se iskoristile prilik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 – mak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razvoj strategija prevladavanja slabosti u cilju iskorištavanja pril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JSKE PRIJETNJE (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nedostatak energije, konkurencija i područja slična onima u prethodnom polju “prilika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ksi – m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uporaba snaga da bi se nosilo s prijetnjama ili ih se izbjeg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T STRATEGIJ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 – mi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j. smanjivanje opsega poslovanja, likvidacija ili zajednički pothv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04920" y="990720"/>
            <a:ext cx="28191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143000"/>
            <a:ext cx="281952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B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oston </a:t>
            </a: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C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onsulting </a:t>
            </a:r>
            <a:r>
              <a:rPr b="1" lang="hr-HR" sz="4000" spc="-1" strike="noStrike">
                <a:solidFill>
                  <a:srgbClr val="ffcc66"/>
                </a:solidFill>
                <a:latin typeface="Arial Narrow"/>
              </a:rPr>
              <a:t>G</a:t>
            </a: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roup </a:t>
            </a:r>
            <a:br>
              <a:rPr sz="4000"/>
            </a:br>
            <a:r>
              <a:rPr b="0" lang="hr-HR" sz="4000" spc="-1" strike="noStrike">
                <a:solidFill>
                  <a:srgbClr val="ffcc66"/>
                </a:solidFill>
                <a:latin typeface="Arial Narrow"/>
              </a:rPr>
              <a:t>matric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okazuje vezu između stope rasta posla i relativne konkurentnosti položaja tvrtke mjereno udjelom na trži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Razvijena je za velike korporacije s nekoliko zasebnih dijelova koji su često organizirani kao strategijske poslovne jedi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Narrow"/>
              </a:rPr>
              <a:t>BCG matrica poslovnog portfelj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057400"/>
            <a:ext cx="3962520" cy="3657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8862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1337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Zvijez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Visok udio na tržištu visokog ras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rebaju puno investicija za brz razvoj i značajan 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/Microsoft, Nokia, ...?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Cash Cow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Značajan udio na tržištu, ali spori rast, gotovo beznačajan, veliki donos “cash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Često se taj “cash” koristi za financiranje zvijez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? Upitnic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ali udio na visoko-rastućem trži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pitnik su zato jer je pitanje da li treba u njih uložiti ”još” za veći udio na tržištu – da bi ih se pretvorilo u zvijez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/ISDN, maxADSL...?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Što se dugoročno mora činiti da bismo ostvarili organizacijske ciljeve, odnosno da bi poduzeće bilo uspje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Mali udio na slabo-rastućem tržištu, preživljavaju, isušuju izvore koji su zvijez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imjer Agrokora – koji kombinira ovu matricu, npr.: sol, voda...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olitik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pćenite, opće smjernice za poduzimanje akcija, za djelo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efiniraju područje unutar kojeg treba donositi odlu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ažu da se pitanja riješe prije nego postanu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/npr.: vezano za zapošljavanje – “politika našeg poduzeća je takva da težimo zaposliti samo najtalentiranije inženjere” – vrlo široko, općenit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ovi koji ustanovljavaju nužni način postupanja u budućim aktivnostima, oni su kronološki nizovi zahtijevanih postup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mjernice za akciju, ne za razmišlj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eciziraju točan način na koji određena aktivnost mora biti proved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pr.: politika kompanije odobrava godišnji odmor, a proceduru će odrediti raspoređivanje god. Odmora na način da se izbjegnu prekidi u ra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avi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ričito nalažu određene akcije koje treba poduzeti i ne dopuštaju bilo kakvu slobodu odlučiva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pr.: danas najčešće pravilo u kompanijama – </a:t>
            </a:r>
            <a:r>
              <a:rPr b="0" i="1" lang="hr-HR" sz="2800" spc="-1" strike="noStrike">
                <a:solidFill>
                  <a:srgbClr val="ffffff"/>
                </a:solidFill>
                <a:latin typeface="Times New Roman"/>
              </a:rPr>
              <a:t>No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ogrami i proračun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ebno kreiran plan za pojedini projekt – koji nije vezan za život poduze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pr.: program usavršavanja za inženj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ojkama iskazan program /plan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roračun troškova, cash flow,  plan profita – izražen u radnim satim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Priroda i svrha strategija i politi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e i politike su blisko povezane, obje usmjeravaju, određuju okvir za planove, temelj su za operativne planove i utječu na sva područja upravlja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a se odnosi na određivanje misije (svrhe), određivanje dugoročnih ciljeva, usvajanje smjera akcije i alociranja resursa za dostizanje cilj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e su opće izjave koje pomažu menedžerima pri odlučivan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rategija podrazumijeva angažiranje resursa u danom smj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e usmjeravaju razmišljanje menedžera kad treba donijeti neku odlu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Da bi bilo konkurentno ostalim zabavnim parkovima, menedžment Sea Worlda razmišlja strategij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To u stvari znači da menedžment mora osigurati da Sea World bude uspješan slijedećih tri do pet g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Naravno, to podrazumjeva razvoj parka koji će zadovoljito potrebe tržiš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Rezultat strategijskog planiranja bit će – strategija, sveobuhvatni plan u kojem će biti detaljno navedeno što treba činiti da bi se ostvarili dugoročni ciljevi te ostvarila svrha postoj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Nakon što se izabere strategija koristeći se analizom okruženja, menedžment mora usmjeriti pažnju na sprovođe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 analizi okruženja posebnu pažnju treba obratiti na sile promjena koje mogu utjecati na Sea World 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ocijalnoj sferi (mladi ljudi koji traž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“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drugu” vrstu zabave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broj zabavnih parkova s kojima se natječu, te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da li će taj broj rasti ili pa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ruga analiza treba uključiti jakosti i slabosti Sea Worlda u usporedbi s konkurencijo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azloge zašto ljudi plaćaju ulaznicu za zabavni par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e analizu promotivnih aktivnosti koje konkurentski parkovi poput Disney World i Universal Studios koriste za privlačenje svojih kupa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br>
              <a:rPr sz="36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je dugoročno planiranje koje se usredotočuje na poduzeće u cjel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dlikuje se općenitim i sveobuhvatnim pristupom u prosuđivanju pojava i akti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buhvaća dugoročne aspekte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Usredotočen je na najvažnija pit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 određivanju pravca razvoja, Sea World je donio stratešku odluku – da zadrži svoju konkurentsku pozi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 će postići strategijom  - investirajući u novu atrak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astavljanjem izjave o misiji, datće do znanja svim zaposlenima u kojem smjeruće se odvijati njihov budući ra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enedžment Sea Worlda imao je izbor od nekoliko alata za formulianje strategi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ea World – Wrap 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WOT analizu, slabosti i jakosti, prilike i prijetnje, prema kojoj menedžment može zaključiti da su proizvodi konkurencije – prijetnja (novi simulatori kretanja uz film, koji se koriste u Universal Studi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Pomoću BCG matrice mngm. Sea Worlda može svaku atrakciju u parku klasificirati kao zvijezdu,upitnik, pas ili cash cow, ovisno o stopi rasta tržišta koje želi isprobati atrakciju, i ovisno o udjelu na tržištu koje već određena atrakcija ima, a prema dodjeli kategorije, SW može birati strategiju /rasta, stabilnog rasta, štednje ili defenzivn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KORACI U PLANIRANJ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iti svjestan prilika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/u svjetlu: tržišta, naših snaga, naših slabosti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avljanje cilj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Razmatranje pretpostavki planiranj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– postavljanje prem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dentificiranje i uspoređivanje alternativ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/koje alternative-izbori najviše obećavaju ostvarenje ciljev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bor altern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Formuliranje pratećih plano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a, Strategia, grč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vojnim znanostima označava razmještanje naših snaga prije dodira s neprijateljem (Kad dođe do susreta, strategija ustupa mjesto taktici – uporaba trupa, ne više njihov raspo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Staroj Grčkoj </a:t>
            </a:r>
            <a:r>
              <a:rPr b="1" i="1" lang="hr-HR" sz="2800" spc="-1" strike="noStrike">
                <a:solidFill>
                  <a:srgbClr val="ffffff"/>
                </a:solidFill>
                <a:latin typeface="Arial Narrow"/>
              </a:rPr>
              <a:t>stratezi </a:t>
            </a: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u bili članovi posebnog vijeća koje je odlučivalo o ratu i mi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U poslovnoj terminologiji (menedžment, marketing, planiranje) odnosi se na dugoročne, sveobuhvatne i najvažnije aspekte poslo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Svobuhvatni i opći plan kojem ćemo ostvarivati dugoročne cilj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Strategijsko planiran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Gdje smo mi dan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Analiza postojećeg stanja (SWOT, BCG,..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Gdje želimo bi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Vizija (snovi, realnost, mogućnosti, poticaji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Kako ćemo stići ta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Narrow"/>
              </a:rPr>
              <a:t>Taktički i operativni planovi, polit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roces strategijskog planir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Analiza okruž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Određivanje misije i dugoročnih cilj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Formulira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ovođenje strateg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 Narrow"/>
              </a:rPr>
              <a:t>Provjera, kontro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Proces strategijskog planir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622520"/>
            <a:ext cx="81536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 Narrow"/>
              </a:rPr>
              <a:t>Analiza okruženja</a:t>
            </a:r>
            <a:r>
              <a:rPr b="0" lang="hr-HR" sz="3600" spc="-1" strike="noStrike">
                <a:solidFill>
                  <a:srgbClr val="ffcc66"/>
                </a:solidFill>
                <a:latin typeface="Arial Narrow"/>
              </a:rPr>
              <a:t> </a:t>
            </a:r>
            <a:br>
              <a:rPr sz="3600"/>
            </a:br>
            <a:r>
              <a:rPr b="0" lang="hr-HR" sz="3600" spc="-1" strike="noStrike">
                <a:solidFill>
                  <a:srgbClr val="ffcc66"/>
                </a:solidFill>
                <a:latin typeface="Arial Narrow"/>
              </a:rPr>
              <a:t>istražuje kako to vanjske sile utječu na funkcioniranje poduzeć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njsko okružen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konomska kompon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- socijalna –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demografska i društvene 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  vrijed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politič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tehnološ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 Narrow"/>
              </a:rPr>
              <a:t>PEST analiz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905120"/>
            <a:ext cx="8153280" cy="43434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286000"/>
            <a:ext cx="7010280" cy="43434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004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Politič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2004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Ekonoms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495680"/>
            <a:ext cx="1357200" cy="838440"/>
          </a:xfrm>
          <a:prstGeom prst="rightArrow">
            <a:avLst>
              <a:gd name="adj1" fmla="val 50000"/>
              <a:gd name="adj2" fmla="val 40468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ANITICIPIR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419720"/>
            <a:ext cx="1981440" cy="91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OPASNOSTI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ŠA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495680"/>
            <a:ext cx="1524240" cy="838440"/>
          </a:xfrm>
          <a:prstGeom prst="leftArrow">
            <a:avLst>
              <a:gd name="adj1" fmla="val 50000"/>
              <a:gd name="adj2" fmla="val 4544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REAGIR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PROAKTIV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7150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Socijaln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715000"/>
            <a:ext cx="182880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Tehnološki utjec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62520" y="540972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181120" y="5409720"/>
            <a:ext cx="68580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03848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403848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5:17:38Z</dcterms:created>
  <dc:creator>Ljiljana</dc:creator>
  <dc:description/>
  <dc:language>en-US</dc:language>
  <cp:lastModifiedBy>Prof</cp:lastModifiedBy>
  <dcterms:modified xsi:type="dcterms:W3CDTF">2005-11-28T11:01:00Z</dcterms:modified>
  <cp:revision>7</cp:revision>
  <dc:subject/>
  <dc:title>Strategijsko planiranje</dc:title>
</cp:coreProperties>
</file>