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BDD-FEB9-40EA-99C4-FFB69503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7E6-AC10-47F8-8485-7C8262E5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17E-EA73-454A-B34E-C6A8DB27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79C-8324-49A6-94C8-E879D170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9A7-A24C-4323-87AD-CB2F1518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B70-F9F9-46A5-87F5-65C5586D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138-8A82-4AC6-A92B-BC09F45F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EA1-C8CA-4412-A9C4-85A37B3D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D62-178B-4FCC-97F7-7F20C42B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0C6-C889-404F-8988-956D4363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E87-917E-4250-8E6B-0929610B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FF9-CEE6-4312-B1E4-1F4B283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6C8E-8E53-42D2-AF36-5481C4078D0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ur-lex.europa.eu/smartapi/cgi/sga_doc?smartapi!celexplus!prod!DocNumber&amp;lg=en&amp;type_doc=Regulation&amp;an_doc=1999&amp;nu_doc=1257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r-lex.europa.eu/smartapi/cgi/sga_doc?smartapi!celexplus!prod!DocNumber&amp;lg=en&amp;type_doc=Regulation&amp;an_doc=1999&amp;nu_doc=1257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odernizacijski procesi 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 ruralni razv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507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ekompozicija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– industrijalizacija i urbanizacija izvlače iz sela nepoljoprivredno stanovništvo. Sela gube nepoljoprivredne funkcije i postaju “seljačka geta”. Socijalna slika sela postaje krajnje jednostavna. Ova se faza proteže do polovice 20 st, sve do razvojnog poleta nakon Drugog svjetskog rat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Moderna rekompozicija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– u tom se razdoblju postupno obnavlja nepoljoprivredna populacija, poljoprivreda se modernizira i profesionalizira, smanjuje se poljoprivredno stanovništvo, nastaju nove socijalne skupine, stvaraju se preduvjeti za modernizaciju ruralnog prostora prema standardima urbanog življenja. Ruralni gospodarski prostor se osposobljava za samorazvoj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ekompozicija ruralnog prostora u Hrvatsko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e socijalne strukture i veličine seoskog i poljoprivrednog stanovništva (kretanje stanovništ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e dobnog, spolnog i obrazovnog sastava poljoprivrednog stanov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e u radnom kontingentu (prema dobi i spo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rukturne promjene seoskih kućanstava i obiteljskih poljoprivrednih gospodarst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e u oblikovanju životnog i radnog pros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odernizacijska slika hrvatskog ruralnog pros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ako teritorijalno mala, Hrvatska se veoma neujednačeno razvijala i vremenski i prostorno. Rekompozicija ruralnog prostora tek je započela. Velike su lokalne razlike. U nekim je regijama seljaštvo potpuno nestalo, a nadomjestili su ga nepoljoprivredni socijalni slojevi (naselja u blizini većih gradskih središta) ili je pak došlo do iseljavanja i zapuštanja poljoprivrednog zemljišta (područje Gorskog kotara i Like, Dalmatinske zagore, Žumberka i dr.) U nekim je drugim područjima postojeće poljoprivredno stanovništvo prekobrojno, odnosno agrarno prenapučeno. Rijetka su područja koja su skladno razvijala svoje prirodne i ljudske izvore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Što je modernizacij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dernizacija je proces prevladavanja aktualnog (postojećeg) stanja i poboljšanja postojećih pril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ljevi modernizacije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boljšanje ukupne kvalitete života ljudi – podizanje razine obrazovanja, kulture i materijalnog stand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 raspoloživih ljudskih mogućnosti i endogenih razvojnih izvora dobiti što više društvene korisnosti – ovaj koncept se naziva “pristup odozdo” ili “bottom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odernizacijski proce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ndustrijalizaci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– uvođenje strojeva u proces proizvod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Urbanizacija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– rast grado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eagrarizaci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– smanjivanje poljoprivrednog stanovništ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emografska tranzici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– smanjenje mortalitetnih stopa, smanjivanje natalitetnih stopa i produženje životnog vijeka lju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Skolarizacija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– opismjenjavanje stanovništva i podizanje razine obrazov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Sekularizaci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– posvjetovljavanje, odvajanje crkvenih i državnih funkcija, slabljenja religijskih utjecaja na društveni živo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Rast slobodarskog mentalit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oložaj Hrvatske u (zapadno)europskom okruženj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redište modernizacijskih procesa nalazi se u zapadno - europskim zeml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rvatska  je udaljena od centra modernizacije. Ta je udaljenost vremenska, geografska i politička, a proizlazi iz povjesnih okolnosti (periferan položaj austro-ugarske u odnosu na Zapadnu Europu i periferan položaj Hrvatske u odnosu na Beč i Pešt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ljedice perifernog položaja su sljedeć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industrijalizacija kasni za cijelo stoljeć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Hrvatska kao i ostale periferne zemlje industrijalizaciju gradi na izvozu poljoprivrednih proizvoda i sirovina tj. niskoprihodovnim sektorima, stoga se za dugo vrijeme u tim zemljama usporavaju procesi modernizacijske transform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teritorijalno i vremenski neujednačen gospodarski razvoj s naglašenim siromaštvom u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perifernim ruralnim područ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sve je teže “hvatanje koraka” (catch up) s razvijenim svijetom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Osnovne značajke rural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udućnost poljoprivrede blisko je povezana s uravnoteženim gospodarskim razvojem ruralnih područja, koja zauzimaju oko 80% cjelokupnog europskog područja. Europska ruralna politika s mjerama za razvoj tržišnog gospodarstva ima vodeću ulogu u stvaranju socijalne i teritorijalne kohezije. Ona se temelji na sljedećim načelima: prepoznavanje multifunkcionalnosti poljoprivrednih gospodarstava, poboljšanje konkurentnosti, infrastrukturna poboljšanja, diverzifikacija ekonomskih aktivnosti, očuvanje ruralnog kulturno-povjesnog i folklornog  naslijeđa”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ouncil Regulation (EC) No </a:t>
            </a:r>
            <a:r>
              <a:rPr b="0" lang="hr-H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257/1999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of 17 May 1999 on support for rural development from the European Agricultural Guidance and Guarantee Fund (EAGGF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620640"/>
            <a:ext cx="7885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udućnost poljoprivrede blisko je povezana s uravnoteženim gospodarskim razvojem ruralnih područja, koja zauzimaju oko 80% cjelokupnog europskog područja. Europska ruralna politika s mjerama za razvoj tržišnog gospodarstva ima vodeću ulogu u stvaranju socijalne i teritorijalne kohezije. Ona se temelji na sljedećim načelima: prepoznavanje multifunkcionalnosti poljoprivrednih gospodarstava, poboljšanje konkurentnosti, infrastrukturna poboljšanja, diverzifikacija ekonomskih aktivnosti, očuvanje ruralnog kulturno-povjesnog i folklornog  naslijeđa”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Council Regulation (EC) No 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257/1999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of 17 May 1999 on support for rural development from the European Agricultural Guidance and Guarantee Fund (EAGG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Ruralni prostor i ruralni svij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Hrvatskoj je ruralni svijet po svojim strukturama i modernizacijskim prioritetim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ozita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rbanom svijetu. Približno polovica hrvatskog stanovništva živi u seoskim naseljima i na neki je način vezano uz poljoprivrednu djelatnost. Veći dio tog stanovništva posjeduje male poljoprivredne posjede i prakticir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adicionalnu i autokonzumnu poljoprivred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Arial"/>
              </a:rPr>
              <a:t>Modernizacija ruralnog društva odvija se u napornom dijalogu tradicije i suvremenosti, male zajednice i velikog društva, sela i grada te poljoprivrede i industrije. Rezultati svih tih procesa ovise većim dijelom o stručnoj i političkoj sposobnosti glavnih aktera. Lokalne vlasti iz ruralnih prostora i tamošnje elite su po političkoj moći i po nedostatku znanja – slabi razvojni akteri što je osnovna kočnica za brzo i kvalitetno usmjeravanje razvitka ruralnih prostora u Hrvatskoj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aze prerastanja tradicionalnog u moderan ruralni svi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mpozici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ruralnog društva – sve do predkraj 19. stoljeća u europskom ruralnom prostoru traje vrlo dugo razdoblje relativno mirnog i stabilnog suživota tradicionalnih socijalnih slojeva: seljaka, obrtnika, trgovaca, radnika, viših slojeva, tj. uglednika (učitelja, ljekarnika, liječnika, bilježnika, svećenika, lokalnog plemstva ili veleposjednika itd. To je heterogena cjelina koja doseže određeni sklad, odnosno suživot različitih društvenih slojeva koji funkcioniraju 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utonomnoj neegalitarnoj simbiozi.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6:06:38Z</dcterms:created>
  <dc:creator>Snježana Tolić</dc:creator>
  <dc:description/>
  <dc:language>en-US</dc:language>
  <cp:lastModifiedBy>WinXP User</cp:lastModifiedBy>
  <dcterms:modified xsi:type="dcterms:W3CDTF">2006-12-15T13:21:56Z</dcterms:modified>
  <cp:revision>15</cp:revision>
  <dc:subject/>
  <dc:title>Modernizacijski procesi i ruralni razvoj</dc:title>
</cp:coreProperties>
</file>