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A0D-DED4-4DDA-9754-A2029EA0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72C-BF6F-48B4-81B8-5FBD5CC7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F89-AF6C-462F-A250-94EBA153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0B2-950A-4654-9DD5-F9EB3384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86AE-EF4A-475F-8260-60187B11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7806-0316-49A2-89ED-89628702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52B5-25AB-4622-BB76-A0D9FB0F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D35F-5586-4898-96F5-D144FCF6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2DA1-35A9-46D2-833C-4B7BF992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FE74-5699-43D7-821A-E62854E0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0C69-567B-44F0-9322-AE08795B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934-C1EB-4DB5-9169-DDE5B0E5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9AE5-B457-4A5F-893A-3467BA0D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7208-0842-4BE5-AA78-5EF3925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5435-3889-433C-B003-9A6E8229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1CC8-0DA8-4210-8536-F22EEDA0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07B1-B024-4468-BC8E-A4F0A41B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7AE-A322-43A3-A830-BD770B6B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7CB-83CA-457A-93D7-CA5DA4D2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B41-FFD9-4295-895A-AE5F69DF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A81-2384-4040-822C-1F7936E0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040-A313-4932-9EF3-E416A797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907-D3D3-416C-BE48-048CF1FE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F6B-FA48-47AD-AE59-3C392729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4D60-1FBC-44E1-B548-3AB49AA57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3E3D-ED6A-406C-BDEB-219858503F6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534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Farmakologija autonomnog živčanog susta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360" y="3733920"/>
            <a:ext cx="7391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4C9F-AF6E-4844-A831-5E07717AEB2C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533520" y="0"/>
          <a:ext cx="830556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305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85800" y="533412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0958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659-0A58-4A55-B536-2B3CB15C388C}" type="slidenum">
              <a:t>10</a:t>
            </a:fld>
          </a:p>
        </p:txBody>
      </p:sp>
    </p:spTree>
  </p:cSld>
  <p:transition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GONISTI KOLINERGIČKIH RECEPTORA (PARASIMPATOMIMETICI)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Izravno djelovanj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metakolin, karbahol, betane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Inhibicija acetilkolinesteraz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neostigmin, piridostigmin, edrofonij, pralidoksim, organofosfatni bojni otro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D43-F263-454D-A56C-25DCFB8E17CD}" type="slidenum">
              <a:t>11</a:t>
            </a:fld>
          </a:p>
        </p:txBody>
      </p:sp>
    </p:spTree>
  </p:cSld>
  <p:transition>
    <p:blinds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NTAGONISTI KOLINERGIČKIH RECEPTORA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437920"/>
            <a:ext cx="6934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Muskarinski blokator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atropin, skopolamin, homatrop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ganglij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heksametoni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neuromuskularnih vez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kurare, pankuronij, suksametoni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1B6-A9B5-40A0-A9EE-0BD87EB48BE8}" type="slidenum">
              <a:t>12</a:t>
            </a:fld>
          </a:p>
        </p:txBody>
      </p:sp>
    </p:spTree>
  </p:cSld>
  <p:transition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GONISTI ADRENERGIČKIH RECEPTORA (SIMPATOMIMETICI)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8120" y="274320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Adrena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oradrena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Izoprena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Salbuta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Ritod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AE8-5D1E-4CDE-ACFD-185988DF63EF}" type="slidenum">
              <a:t>13</a:t>
            </a:fld>
          </a:p>
        </p:txBody>
      </p:sp>
    </p:spTree>
  </p:cSld>
  <p:transition>
    <p:blinds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NTAGONISTI ADRENERGIČKIH RECEPTORA (SIMPATOLICI)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alfadrenergičkih receptor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fentolamin, doksazo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betaadrenergičkih receptor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propranolol, atenol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adrenergičkih neuron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rezerpin, metildo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D9C-276C-4E13-8AD0-6DF8378FC4D2}" type="slidenum">
              <a:t>14</a:t>
            </a:fld>
          </a:p>
        </p:txBody>
      </p:sp>
    </p:spTree>
  </p:cSld>
  <p:transition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LOKALNI ANESTETICI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reverzibilno prekidaju prijenos podražaja u perifernim živcima. Rezultat je lokalna analgezija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vršinska anestez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nfiltracijska anestez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vodna anestez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pinalna anestez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59092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312408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358128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411480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5029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OKAIN, PROKAIN, LIDOK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616-4E7B-4658-994F-B5A533D41178}" type="slidenum">
              <a:t>15</a:t>
            </a:fld>
          </a:p>
        </p:txBody>
      </p:sp>
    </p:spTree>
  </p:cSld>
  <p:transition>
    <p:blinds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utonomni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(ili vegetativni)</a:t>
            </a: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 živčani sustav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upravlja osnovnim životnim tjelesnim funkcijama</a:t>
            </a:r>
            <a:endParaRPr b="0" lang="en-US" sz="3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240" y="2666880"/>
            <a:ext cx="4343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irkulacija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is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b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jelesna temper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Znoje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etaboliz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5D5-B93D-46DE-8979-2BC8F9EBECBF}" type="slidenum">
              <a:t>2</a:t>
            </a:fld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382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SIMPATIČKI (torakolumbalni)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lakna iz neurona u lateraln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ogovima kralj. možd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048120"/>
            <a:ext cx="876312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PARASIMPATIČKI (kraniosakralni)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lakna iz mezencefalona, produžene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oždine i sakralnog dijela kralj.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ožd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295280"/>
            <a:ext cx="609480" cy="15264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276720"/>
            <a:ext cx="609480" cy="15228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439-9D3D-4C77-B640-BFD0411FA81D}" type="slidenum">
              <a:t>3</a:t>
            </a:fld>
          </a:p>
        </p:txBody>
      </p:sp>
    </p:spTree>
  </p:cSld>
  <p:transition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2388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utonomna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aferentna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vlakna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enose impulse s periferije prem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redišnjem živčanom sustav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895480"/>
            <a:ext cx="7086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utonomna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eferentna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vlakn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enose impulse od središnjeg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živčanog sustava prema periferiji.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Završavaju na vegetativnom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angliju (preganglijska vlakna), od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ojeg se prema efektornim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rganima šire postganglijsk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lak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91440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04812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C82-33C2-4CE6-8107-8F2AFF6D53E0}" type="slidenum">
              <a:t>4</a:t>
            </a:fld>
          </a:p>
        </p:txBody>
      </p:sp>
    </p:spTree>
  </p:cSld>
  <p:transition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eganglijska vlakna na svojim okončinama (sinapse u ganglijima) otpuštaju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acetilkolin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 Acetilkolin oslobađaju i postganglijska parasimpatička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 somatska motorna vlakna. Nazivaju se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kolinergička vlakn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stganglijska simpatička vlakna na okončinama oslobađaju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noradrenalin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 Nazivaju se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adrenergičk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vlak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31C-07CC-41E3-B85E-2222980FB700}" type="slidenum">
              <a:t>5</a:t>
            </a:fld>
          </a:p>
        </p:txBody>
      </p:sp>
    </p:spTree>
  </p:cSld>
  <p:transition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654880" cy="6096240"/>
          </a:xfrm>
          <a:prstGeom prst="rect">
            <a:avLst/>
          </a:prstGeom>
          <a:ln w="38160">
            <a:solidFill>
              <a:srgbClr val="66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28F-79E4-49C6-A0B5-87EE09ACEA80}" type="slidenum">
              <a:t>6</a:t>
            </a:fld>
          </a:p>
        </p:txBody>
      </p:sp>
    </p:spTree>
  </p:cSld>
  <p:transition>
    <p:blinds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981080" y="228600"/>
          <a:ext cx="52578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257800" cy="6324480"/>
                  </a:xfrm>
                  <a:prstGeom prst="rect">
                    <a:avLst/>
                  </a:prstGeom>
                  <a:ln w="38160">
                    <a:solidFill>
                      <a:srgbClr val="66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F3B-D202-4374-8D15-9D19086C56B2}" type="slidenum">
              <a:t>7</a:t>
            </a:fld>
          </a:p>
        </p:txBody>
      </p:sp>
    </p:spTree>
  </p:cSld>
  <p:transition>
    <p:blinds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34280" cy="6034320"/>
          </a:xfrm>
          <a:prstGeom prst="rect">
            <a:avLst/>
          </a:prstGeom>
          <a:ln w="28440">
            <a:solidFill>
              <a:srgbClr val="66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4CF-B4CA-4F46-962F-974C48B206BE}" type="slidenum">
              <a:t>8</a:t>
            </a:fld>
          </a:p>
        </p:txBody>
      </p:sp>
    </p:spTree>
  </p:cSld>
  <p:transition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Učinci stimulacije autonomnih živaca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600200"/>
          <a:ext cx="7467840" cy="49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46784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8305920" y="1752480"/>
            <a:ext cx="0" cy="434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2E3-1798-41C7-9E70-9BAD8D272295}" type="slidenum">
              <a:t>9</a:t>
            </a:fld>
          </a:p>
        </p:txBody>
      </p:sp>
    </p:spTree>
  </p:cSld>
  <p:transition>
    <p:blinds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2:19:59Z</dcterms:created>
  <dc:creator>Jelena</dc:creator>
  <dc:description/>
  <dc:language>en-US</dc:language>
  <cp:lastModifiedBy>KERAMEIKOS d.o.o.</cp:lastModifiedBy>
  <dcterms:modified xsi:type="dcterms:W3CDTF">2003-01-28T11:08:37Z</dcterms:modified>
  <cp:revision>22</cp:revision>
  <dc:subject/>
  <dc:title>Farmakologija autonomnog živčanog sustava</dc:title>
</cp:coreProperties>
</file>