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D268-F555-4246-AED8-F40F5796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5EF1-D2D4-4FCE-ADEC-9CB17AFA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5910-B6E0-4B84-A739-6A714B18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3D33-0D72-4FCB-826D-1C78B9A5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DC17-796A-4BF4-9D55-346AC3E8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0418-F18E-4686-9380-2B54467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0509-C1A0-4711-BCF3-5F25EED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8091-6293-47A3-8007-7452ADD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51C0-56DD-4001-B82B-0A9CFE9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7F36-1B81-4E59-B9EA-300FEB8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6E0-B544-4B63-B255-3F9E8D81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B294-E8E8-48D9-8B48-52AD1511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3B0-9B88-48ED-8894-0BA92769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5EE3-6DD4-40D1-91FB-FDB4C5F9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8C9B-C0AC-4664-A206-188DE25D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5C7C-9340-4FF2-BE47-892ADB9C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EDC7-022D-4460-A412-EBFF71CB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6E4F-8229-4276-A274-EC171A2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08B1A-BC5A-42F9-B396-39493CB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18C5-8DEF-48AB-8A96-2579D31E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2C781-DD42-4793-B312-D3C8C124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5F61-7CA4-4D61-B7BB-4F577C74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C8784-A20C-4831-AD08-CE36CE93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8337E-599A-4AC6-A249-EFD2C4C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2811-E91F-40EE-B1A9-76D7208BBB1C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9B5A-74CB-4DCE-A648-E32549FBFE28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37080" cy="35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-387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e5e5ff"/>
                </a:solidFill>
                <a:latin typeface="Times New Roman"/>
              </a:rPr>
              <a:t>OK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76360" y="5734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natomija i fizika 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7128000" y="638172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lebec B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stale pomoćne struk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Mišići kapaka i ok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ož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Fibralni (nitasti) sloj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Generalne karakteristike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blik i građ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ko nije jednostavna sfera već se može promatrati kao spoj manjeg djela male izuzetno zakrivljene sfere sa velikim djelom veće, ne toliko jako zakrivljene sfer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ž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cornea) – Manji sferni dio, zauzima približno 1/6 ukupnog volumena i ima radijus od 8 mm. Prozirna je. U biti je to sferni dioptar, debljine oko 0,5 m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Bjelooč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sclera) – veći neprozirni sferni dio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      - ima radijus veličine 12 mm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Ta se dva djela spajaju u prstenu zvanom </a:t>
            </a: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mbu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Šare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iris) – smještena iza rožnice, određuje boju oka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- također regulira količinu upadne svijetlosti (mijenja   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polumjer zjenice – od 2 do 8 mm) 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- pomaže i pri fokusiranju (suzuje zjenicu u korist povećanja  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oštrine slike) pri gledanju blizih predme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Times New Roman"/>
              </a:rPr>
              <a:t>Zjenic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pupilla) – smještena u središtu šarenice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- to je mjesto ulaska svijetlosti u unutrašnjost oka</a:t>
            </a:r>
            <a:br>
              <a:rPr sz="18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                            - tamna točk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“</a:t>
            </a: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ZLO” OK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05200" y="2114640"/>
            <a:ext cx="3467160" cy="2733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51 0.15046 C 0.08941 0.05972 0.04549 -0.03102 0.03941 -0.10972 C 0.03334 -0.18843 0.11528 -0.28148 0.09653 -0.32245 C 0.07778 -0.36366 -0.05295 -0.32778 -0.07257 -0.35741 C -0.09219 -0.38727 0.00556 -0.49607 -0.02135 -0.50185 C -0.04826 -0.50764 -0.22048 -0.45232 -0.23437 -0.39236 C -0.24826 -0.33241 -0.08125 -0.20857 -0.10469 -0.1419 C -0.12812 -0.07431 -0.32621 0.05278 -0.37482 0.01088 C -0.42344 -0.03102 -0.36059 -0.33056 -0.39635 -0.39236 C -0.43212 -0.45417 -0.55694 -0.42222 -0.58923 -0.36065 C -0.62153 -0.29908 -0.60677 -0.09653 -0.59045 -0.02245 C -0.57413 0.05162 -0.50243 0.05949 -0.49149 0.0838 C -0.48055 0.1081 -0.51875 0.11643 -0.52465 0.12361 E">
                                      <p:cBhvr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ODE.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Normalno ok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5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Slojevi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građeno od 3 slo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Vanjski slojevi - rožnica i bjeloočn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rednji sloj – glavni krvoopskrbni sloj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               - sastoji se od cilijarnog tijela, šarenice i žil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nutarnji sloj –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Mrežnic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retina) - dio oka osjetljiv na svjetlo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- u oku je upravo ona “zastor”, r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adijusa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     oko 40 mm, na kojem konvergentni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     sistem stvara realnu i obrnutu sliku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485640"/>
            <a:ext cx="4608720" cy="320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4319640" cy="3516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39320" cy="6851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Fotoreceptor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Fotoreceptori (približno 125 000 000) su međusobno nejednoliko pomiješani preko gotovo cijele mrežnice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Štapić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promjera 0,002 mm) jako su osjetljivi na svjetlost, pa je za osjet potrebno samo nekoliko fotona. Pomoću njih gledamo po noći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Ne razlikuju boje (po noći sve izgleda sivo).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unjić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(6 - 7 milijuna, promjera 0,006 mm svaki) rade pod jakim   svjetlom i pomoću njih razlikujemo bo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vaki ima svoj odvodni živac i djeluje kao najmanja samostalna vidna stanica.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Gotovo su neosjetljivi kod slabog intenziteta svjetlost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Vezivnim tkivom štapići i čunjići povezani su sa bipolarnim stanicama koje su opet povezane sa ganglionarnim stanicama koje daju vlakna vidnog živc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pćeni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organ koji nam omogućuje prijem vizualnih informacij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 je sferni parni organ smješten unutar lubanje u očnim šupljina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Zadaća mu je prikupljati svijetlost te pretvarati upadnu svijetlost u bioelektrične impulse koje mozak može interpretirati kao vizualne informaci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ložene je građ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5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59280" y="1484280"/>
            <a:ext cx="4284720" cy="4043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Slijepa pje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Slijepa pjeg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je područje gdje optički živac izlazi iz očne šuplj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Nazvana je “slijepom” jer na tom području nema ni štapića ni čunjića, pa je ona sasvim neosjetljiva na svijetl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Efekt nestanka zvijezda objašnjiv slijepom pjegom – probajte! (lijepo je ponekad ležati i gledati zvijezde, jako opuš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A možemo isprobati i odmah – na manje opuštajući nači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8964720" cy="563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Žuta pjeg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la udubina (promjera 2,5 - 3 mm) smještena odmah iznad centra mrežnice. Tu se nalazi gotovo dvostruko više čunjića nego štapića.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 centru je maleni dio (promjera 0,3 mm) u kojem uopće nema štapića i zove se fovea centralis.</a:t>
            </a:r>
            <a:br>
              <a:rPr sz="2000"/>
            </a:b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Tu su čunjići tanji i jako gusto pakirani, te je to područje koje daje najjasniju sliku sa najviše detalja.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- Zato se oko stalno pomiče tako da svjetlost, koja dolazi sa dijela predmeta koji nas najviše zanima, padne upravo u to područj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Nastajanje slik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ptički sustav oka je takav da stvara umanjenu obrnutu sliku vidnog polja na mrežnici.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Čitav se sustav ponaša kao konveksna leća, ali je u biti mnogo kompleksniji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 refrakcija se vrši na četiri odvojene površine: na prednjoj te stražnjoj  površini rožnice i leće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vaka od tih površina približno je sferna, a na svakom dioptru svijetlost se lomi prema okomici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ostoje dakle 4 površine na kojima dolazi do loma prema okomici upućujući zrake konvergentno s jedne na drugu površi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A KAKO SE TO OSTVARUJE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Kod oka, indeks loma sredstva iz kojeg svijetlost stiže uvijek je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nji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od onog u koje ulazi 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1) relativni indeks loma pri prelasku iz zraka u rožnicu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/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3376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(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zrak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rožnic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= 1,3376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2) pri prelasku iz očne vodice i staklovine (koje imaju približno isti indeks loma pa nema znatnije refrakcije) u leću: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staklovin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386 n</a:t>
            </a:r>
            <a:r>
              <a:rPr b="0" lang="hr-HR" sz="2000" spc="-1" strike="noStrike" baseline="-25000">
                <a:solidFill>
                  <a:srgbClr val="ffffff"/>
                </a:solidFill>
                <a:latin typeface="Times New Roman"/>
              </a:rPr>
              <a:t>leć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=1,406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I tako je ostvarena konvergencija zraka. Ovaj je konvergentni sustav kod zdravog oka fino podešen, na način da se slika stvara (tj. da se zrake sjeku)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čno na zastoru – mrežnici, pod uvjetom da su upadne zrake </a:t>
            </a:r>
            <a:r>
              <a:rPr b="1" i="1" lang="hr-HR" sz="2000" spc="-1" strike="noStrike">
                <a:solidFill>
                  <a:srgbClr val="ffffff"/>
                </a:solidFill>
                <a:latin typeface="Times New Roman"/>
              </a:rPr>
              <a:t>paraleln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o znači da je predmet koji gledamo u daljin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-Ako je predmet koji gledamo nije dovoljno udaljen, zrake nisu paralelne i oko se treba prilagoditi za gledanje bliskog predmeta – kažemo da se oko </a:t>
            </a:r>
            <a:r>
              <a:rPr b="1" i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AKOMODIR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e5e5ff"/>
                </a:solidFill>
                <a:latin typeface="Times New Roman"/>
              </a:rPr>
              <a:t>Akomodacij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sposobnost očne leće da mijenja svoju jakost (poveća konvergenciju) kako bi od blizih predmeta nastala jasna slika na mrežnici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U akomodacijskom miru, kad je predmet u dalekoj točki, cilijarni mišići su opušteni pa je leća skoro ravna, što znači da joj se povećao radijus zakrivljenosti, a s time i žarišna daljina. Leća tada ima najmanju jakost, j = 59 dpt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Kad se predmet približava oku, cilijarni mišići se napinju, pa popušta vanjska sila na leću i ona se zbog vlastite elasičnosti ispupči. Tada joj se smanji radijus zakrivljenosti, a s time i žarišna daljina, što znači da joj je jakost porasla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Oko je u akomodacijskom maksimumu onda kad se predmet nalazi u blizoj točki i tad je jakost leće najveća, j = 71 dpt.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Na daljini jasnog vida oko akomodira bez napora i tada je jakost leće približno 64 dp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a) Za Daleku Točk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najmanje konvergencije te stvara sliku na mrežnici bez naprezanj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569440" cy="2971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Pomoćni dijelovi o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b) Za Blisku Točku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ko je napregnuto, i to jače što je predmet bliže, povećavajući na taj način svoju konvergencij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920000" cy="3587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5e5ff"/>
                </a:solidFill>
                <a:latin typeface="Times New Roman"/>
              </a:rPr>
              <a:t>OČNE ŠUPLJI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ite oči od mehaničke ozljede, tvoreći koštanu šupljinu u kojoj je oko smješten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blika su četverostrane piramide, čiji je vrh okrenut unutrašnjosti lubanj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upljine imaju određene pukotine kroz koje prolaze očni živci i ž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ptički foramen otvor je kroz koju prolazi očna arterija i optički živa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 zdravom oku, šupljina je obložena urednom količinom masnog tkiv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543280" cy="55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Očni kapc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 vitalne je važnosti da oko bude vlažn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Razmazuju izlučevine lakrimalnog aparata po prednjoj površini o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Tokom sna, kapci su zatvoreni kako bi se spriječilo isparavanj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Štite oko od ozljeda pomoću refleksa treptanja i trepavica smještenih na vrh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Times New Roman"/>
              </a:rPr>
              <a:t>Conjucti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Conjuctiva je mukozna membrana koja oblaže unutarnju stranu kapaka (palpebral conjuctiva), te površinu očne jabučice (bulbral conjuctiva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omaže u prijanjanju kapaka za jabučic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e5e5ff"/>
                </a:solidFill>
                <a:latin typeface="Times New Roman"/>
              </a:rPr>
              <a:t>Žljezdani apara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U svakom oku po jedna je lakrimalna (suzna) žljez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blika su badema, i protežu se do vanjskog kuta o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astavljeni su od dva dijela: jedan je plitko udubljen u dio očne šupljine, a drugi dio se pruža prema gornjem dijelu gornjeg kapk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Izvodnih je vodova od 3 do 12 te se otvaraju u šuplju elastičnu strukturu “fornix conjuctiva superior” koja služi kao “vreća za suze”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uze se ispuštaju, teku preko oka i do točke u rubu oka (puncta lacrimalia)</a:t>
            </a:r>
            <a:br>
              <a:rPr sz="2000"/>
            </a:b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gdje ulaze u nazolakrimalne vreće, te kroz daljne vodove u n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uze se mješaju s produktima nekih pomoćnih žljezdi koje luče uljaste dodatke poradi spriječavanja isparavanja suz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912000" cy="4822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2:22:36Z</dcterms:created>
  <dc:creator>Boris</dc:creator>
  <dc:description/>
  <dc:language>en-US</dc:language>
  <cp:lastModifiedBy>Boris</cp:lastModifiedBy>
  <dcterms:modified xsi:type="dcterms:W3CDTF">2006-10-17T23:52:52Z</dcterms:modified>
  <cp:revision>33</cp:revision>
  <dc:subject/>
  <dc:title>OKO</dc:title>
</cp:coreProperties>
</file>