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6BAE-29DE-4688-AABA-9A23DA50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5F8E-A5EB-41D5-8D38-7905E474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ED7F-9551-42A8-A127-CAC95FE7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A992-8080-4347-A7AA-19FFC39F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740F-2DBE-4A10-88FE-AE6D87D2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8574-6AF0-47EE-85CD-5C699A2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407B-F54A-4382-AEBE-0FDE017D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FB38-F603-448D-9E2E-8DC7B697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2358-3C80-4017-B708-5E3807AE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BA36-45CD-4280-A9C5-41286923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38D9-E2BC-4C64-A751-AD68691F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45B2-88A2-4C69-B2DF-9270EEA3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9EB7-51BE-4E30-BAFC-CFBA654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DCBC-DF2C-4BF6-BD0A-61F1A123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D06E-4EB9-4449-B98A-F03DBD34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CC3-900E-4E94-AEF5-E4DC8FD6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5CEF-8726-49B8-B94B-A0E2E861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FE6F-8B53-4669-90DB-5862A03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855A-53A8-4FCE-93C7-6B30027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A560-254F-43CF-940B-EA69D9B7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F70A-1139-4D61-AC26-CB6F43C7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563A-6B68-4FCD-9752-E19573A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ED35-4751-4A4E-8406-F34ED12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4C96-17D9-42EC-8539-0FDB58F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FB50-7FF1-4894-8DE2-B4ED99F0536A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5995-B2F7-4FDA-A04A-89E9C4A2691C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37080" cy="35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-387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e5e5ff"/>
                </a:solidFill>
                <a:latin typeface="Times New Roman"/>
              </a:rPr>
              <a:t>OKO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76360" y="5734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natomija i fizika o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7128000" y="638172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lebec B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Ostale pomoćne struk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Mišići kapaka i o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Kož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Fibralni (nitasti) slo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Generalne karakteristike o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Oblik i građ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Oko nije jednostavna sfera već se može promatrati kao spoj manjeg djela male izuzetno zakrivljene sfere sa velikim djelom veće, ne toliko jako zakrivljene sfer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žnic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cornea) – Manji sferni dio, zauzima približno 1/6 ukupnog volumena i ima radijus od 8 mm. Prozirna je. U biti je to sferni dioptar, debljine oko 0,5 m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Bjeloočnic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sclera) – veći neprozirni sferni dio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                                - ima radijus veličine 12 mm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Ta se dva djela spajaju u prstenu zvanom </a:t>
            </a: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mb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Šarenic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iris) – smještena iza rožnice, određuje boju oka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                     - također regulira količinu upadne svijetlosti (mijenja   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polumjer zjenice – od 2 do 8 mm) 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- pomaže i pri fokusiranju (suzuje zjenicu u korist povećanja  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oštrine slike) pri gledanju blizih predme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Zjenic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pupilla) – smještena u središtu šarenice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                          - to je mjesto ulaska svijetlosti u unutrašnjost oka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                          - tamna točk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“</a:t>
            </a: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ZLO” OK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05200" y="2114640"/>
            <a:ext cx="3467160" cy="27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51 0.15046 C 0.08941 0.05972 0.04549 -0.03102 0.03941 -0.10972 C 0.03334 -0.18843 0.11528 -0.28148 0.09653 -0.32245 C 0.07778 -0.36366 -0.05295 -0.32778 -0.07257 -0.35741 C -0.09219 -0.38727 0.00556 -0.49607 -0.02135 -0.50185 C -0.04826 -0.50764 -0.22048 -0.45232 -0.23437 -0.39236 C -0.24826 -0.33241 -0.08125 -0.20857 -0.10469 -0.1419 C -0.12812 -0.07431 -0.32621 0.05278 -0.37482 0.01088 C -0.42344 -0.03102 -0.36059 -0.33056 -0.39635 -0.39236 C -0.43212 -0.45417 -0.55694 -0.42222 -0.58923 -0.36065 C -0.62153 -0.29908 -0.60677 -0.09653 -0.59045 -0.02245 C -0.57413 0.05162 -0.50243 0.05949 -0.49149 0.0838 C -0.48055 0.1081 -0.51875 0.11643 -0.52465 0.12361 E">
                                      <p:cBhvr>
                                        <p:cTn id="1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ODE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Normalno ok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5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Slojevi o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ko je građeno od 3 slo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Vanjski slojevi - rožnica i bjeloočn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rednji sloj – glavni krvoopskrbni sloj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                - sastoji se od cilijarnog tijela, šarenice i ži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Unutarnji sloj – </a:t>
            </a: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Mrežnic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(retina) - dio oka osjetljiv na svjetlo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- u oku je upravo ona “zastor”, r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dijusa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     oko 40 mm, na kojem konvergentni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     sistem stvara realnu i obrnutu sliku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485640"/>
            <a:ext cx="4608720" cy="320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4319640" cy="3516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39320" cy="6851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Fotoreceptor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Fotoreceptori (približno 125 000 000) su međusobno nejednoliko pomiješani preko gotovo cijele mrežnice.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Štapići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(promjera 0,002 mm) jako su osjetljivi na svjetlost, pa je za osjet potrebno samo nekoliko fotona. Pomoću njih gledamo po noći.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 Ne razlikuju boje (po noći sve izgleda sivo).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unjići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(6 - 7 milijuna, promjera 0,006 mm svaki) rade pod jakim   svjetlom i pomoću njih razlikujemo bo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vaki ima svoj odvodni živac i djeluje kao najmanja samostalna vidna stanica.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 Gotovo su neosjetljivi kod slabog intenziteta svjetlos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Vezivnim tkivom štapići i čunjići povezani su sa bipolarnim stanicama koje su opet povezane sa ganglionarnim stanicama koje daju vlakna vidnog živ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Općeni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ko je organ koji nam omogućuje prijem vizualnih informaci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To je sferni parni organ smješten unutar lubanje u očnim šupljinam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Zadaća mu je prikupljati svijetlost te pretvarati upadnu svijetlost u bioelektrične impulse koje mozak može interpretirati kao vizualne informaci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ložene je građ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5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4284720" cy="4043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Slijepa pjeg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lijepa pjeg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je područje gdje optički živac izlazi iz očne šuplj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Nazvana je “slijepom” jer na tom području nema ni štapića ni čunjića, pa je ona sasvim neosjetljiva na svijetl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Efekt nestanka zvijezda objašnjiv slijepom pjegom – probajte! (lijepo je ponekad ležati i gledati zvijezde, jako opuš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A možemo isprobati i odmah – na manje opuštajući nač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8964720" cy="563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Žuta pjeg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ala udubina (promjera 2,5 - 3 mm) smještena odmah iznad centra mrežnice. Tu se nalazi gotovo dvostruko više čunjića nego štapića.</a:t>
            </a: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U centru je maleni dio (promjera 0,3 mm) u kojem uopće nema štapića i zove se fovea centralis.</a:t>
            </a: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Tu su čunjići tanji i jako gusto pakirani, te je to područje koje daje najjasniju sliku sa najviše detalja. 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Zato se oko stalno pomiče tako da svjetlost, koja dolazi sa dijela predmeta koji nas najviše zanima, padne upravo u to područ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Nastajanje slik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ptički sustav oka je takav da stvara umanjenu obrnutu sliku vidnog polja na mrežnici.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Čitav se sustav ponaša kao konveksna leća, ali je u biti mnogo kompleksniji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 refrakcija se vrši na četiri odvojene površine: na prednjoj te stražnjoj  površini rožnice i leće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vaka od tih površina približno je sferna, a na svakom dioptru svijetlost se lomi prema okomici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ostoje dakle 4 površine na kojima dolazi do loma prema okomici upućujući zrake konvergentno s jedne na drugu površin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A KAKO SE TO OSTVARUJ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Kod oka, indeks loma sredstva iz kojeg svijetlost stiže uvijek je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anji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od onog u koje ulazi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1) relativni indeks loma pri prelasku iz zraka u rožnicu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/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=1,3376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(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zrak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=1,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rožnic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= 1,3376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2) pri prelasku iz očne vodice i staklovine (koje imaju približno isti indeks loma pa nema znatnije refrakcije) u leću: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staklovin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=1,386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leć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=1,40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I tako je ostvarena konvergencija zraka. Ovaj je konvergentni sustav kod zdravog oka fino podešen, na način da se slika stvara (tj. da se zrake sjeku)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točno na zastoru – mrežnici, pod uvjetom da su upadne zrake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paraleln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što znači da je predmet koji gledamo u dalji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Ako je predmet koji gledamo nije dovoljno udaljen, zrake nisu paralelne i oko se treba prilagoditi za gledanje bliskog predmeta – kažemo da se oko </a:t>
            </a: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AKOMODI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Akomodaci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posobnost očne leće da mijenja svoju jakost (poveća konvergenciju) kako bi od blizih predmeta nastala jasna slika na mrežnici.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U akomodacijskom miru, kad je predmet u dalekoj točki, cilijarni mišići su opušteni pa je leća skoro ravna, što znači da joj se povećao radijus zakrivljenosti, a s time i žarišna daljina. Leća tada ima najmanju jakost, j = 59 dpt.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ad se predmet približava oku, cilijarni mišići se napinju, pa popušta vanjska sila na leću i ona se zbog vlastite elasičnosti ispupči. Tada joj se smanji radijus zakrivljenosti, a s time i žarišna daljina, što znači da joj je jakost porasla.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Oko je u akomodacijskom maksimumu onda kad se predmet nalazi u blizoj točki i tad je jakost leće najveća, j = 71 dpt.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Na daljini jasnog vida oko akomodira bez napora i tada je jakost leće približno 64 dp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a) Za Daleku Toč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ko je najmanje konvergencije te stvara sliku na mrežnici bez naprezanj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569440" cy="2971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Pomoćni dijelovi o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) Za Blisku Točku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ko je napregnuto, i to jače što je predmet bliže, povećavajući na taj način svoju konvergencij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920000" cy="3587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5e5ff"/>
                </a:solidFill>
                <a:latin typeface="Times New Roman"/>
              </a:rPr>
              <a:t>OČNE ŠUPLJI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Štite oči od mehaničke ozljede, tvoreći koštanu šupljinu u kojoj je oko smješten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blika su četverostrane piramide, čiji je vrh okrenut unutrašnjosti lubanj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Šupljine imaju određene pukotine kroz koje prolaze očni živci i ži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ptički foramen otvor je kroz koju prolazi očna arterija i optički živa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U zdravom oku, šupljina je obložena urednom količinom masnog tki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543280" cy="554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Očni kapc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d vitalne je važnosti da oko bude vlažn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Razmazuju izlučevine lakrimalnog aparata po prednjoj površini o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Tokom sna, kapci su zatvoreni kako bi se spriječilo isparavanj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Štite oko od ozljeda pomoću refleksa treptanja i trepavica smještenih na vrh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Conjucti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Conjuctiva je mukozna membrana koja oblaže unutarnju stranu kapaka (palpebral conjuctiva), te površinu očne jabučice (bulbral conjuctiva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omaže u prijanjanju kapaka za jabučic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e5ff"/>
                </a:solidFill>
                <a:latin typeface="Times New Roman"/>
              </a:rPr>
              <a:t>Žljezdani apara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U svakom oku po jedna je lakrimalna (suzna) žljez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blika su badema, i protežu se do vanjskog kuta o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astavljeni su od dva dijela: jedan je plitko udubljen u dio očne šupljine, a drugi dio se pruža prema gornjem dijelu gornjeg kap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Izvodnih je vodova od 3 do 12 te se otvaraju u šuplju elastičnu strukturu “fornix conjuctiva superior” koja služi kao “vreća za suze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uze se ispuštaju, teku preko oka i do točke u rubu oka (puncta lacrimalia)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gdje ulaze u nazolakrimalne vreće, te kroz daljne vodove u n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uze se mješaju s produktima nekih pomoćnih žljezdi koje luče uljaste dodatke poradi spriječavanja isparavanja suz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912000" cy="4822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2:22:36Z</dcterms:created>
  <dc:creator>Boris</dc:creator>
  <dc:description/>
  <dc:language>en-US</dc:language>
  <cp:lastModifiedBy>Boris</cp:lastModifiedBy>
  <dcterms:modified xsi:type="dcterms:W3CDTF">2006-10-17T23:52:52Z</dcterms:modified>
  <cp:revision>33</cp:revision>
  <dc:subject/>
  <dc:title>OKO</dc:title>
</cp:coreProperties>
</file>