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05F-FB25-499B-9B53-BACB85A3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001-1C43-49A8-9DE9-184B74BA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58F-FC3A-41E9-9C26-58650E91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F28-1FE0-4F40-A8CC-0A22326A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276-6E0A-4F35-A475-05DBCED8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436C-89C5-4E2B-8423-3CC2D665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21F-12A2-48F0-83C9-016EA1B2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D127-7D12-4852-A9F5-6B37CBC2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1BD2-62E7-44AE-BBBF-609E465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A9DE-CAD7-4C2C-91BC-FA11849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68C4-3D10-42ED-99DE-92BF3FF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9BB-D85F-4842-A45C-C29975A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D2CE-6049-4EA8-8C59-84E617F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B1BE-192F-4FB2-A6BC-D0F0CCF4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3B1-7BBC-489C-845E-3841A862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E784-ABF5-4D13-8361-EA79F1BD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9B30-679D-4FB8-9ED9-B6670BFF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273-0257-4CBD-BB69-95F278D8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ACA-A472-4041-827E-92FCA502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6E2-6717-4360-BA95-05519C5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B77-1A54-431A-A1AE-C6818E0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58D-F2C5-495A-8D4C-423E6A4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E40-2D0E-45AA-9873-D3E1973A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D00-0294-4F17-B925-72E0EF9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EDD2-7192-4E49-9817-6D9AB0CFC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97B-04AD-4012-8AA8-25BB3E9C99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hr-HR" sz="6600" spc="-1" strike="noStrike">
                <a:solidFill>
                  <a:srgbClr val="ffffff"/>
                </a:solidFill>
                <a:latin typeface="Copperplate Gothic Light"/>
              </a:rPr>
              <a:t>OTOPINE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56880"/>
            <a:ext cx="7162560" cy="1143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Priprava otopin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ogu se pripraviti razrjeđivanjem (diluiranjem), ugušćivanjem (koncentriranjem) ili miješanjem gotovih otop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azrjeđivanjem otopine smanjuje se koncentracija te otopine, ali masa otopljene tvari ostaje ista – količina otopljene tvari prije i poslije razrjeđivanja ostaje nepromijenje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ncentriranjem se povećava koncentracija otopine, ali masa otopljene tvari ostaje 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iješanjem gotovih otopina masa otopljene tvari konačne otopine različita je u odnosu na ishodišne otop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414360"/>
            <a:ext cx="7162560" cy="939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5400" spc="-1" strike="noStrike">
                <a:solidFill>
                  <a:srgbClr val="ccecff"/>
                </a:solidFill>
                <a:latin typeface="Arial"/>
              </a:rPr>
              <a:t>Miješanje otopin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12484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6880"/>
            <a:ext cx="7162560" cy="1143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Miješanje otopin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d miješanja otopina čiji je kvantitativni sastav izražen koncentracijom, masenom koncentracijom, te volumnim udiom ili volumnim postotkom, odnosno u svim slučajevima gdje je količina otopine izražena mjernim volumenom imamo slijedeće bil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371600"/>
            <a:ext cx="8610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iješanjem se iz dvije otopine različita kvantitativna sastava (koncentriranije i razrjeđenije) dobije treća otopina s kvant. sastavom koji je između dva ishodišna sasta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vantitativni odnosi kod miješanja otopina računaju se na osnovi ukupne bilance količine tvari i otopine prije i poslije miješanja pomoću tzv. “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pravila zvijezd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” ili “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pravila križ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57240"/>
            <a:ext cx="7162560" cy="7048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Miješanje otop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3276360"/>
            <a:ext cx="86108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2.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BILANCA OTOPLJENE TV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ako je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 = c*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lijed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-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762120"/>
            <a:ext cx="8610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1.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ILANCA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volumen je izražen u volumskim jedinicama (mL, L ili 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indeks 1 odnosi se 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uvijek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na razrjeđeniju, a indeks 2 na koncentriraniju otopin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62720" y="5562720"/>
                <a:ext cx="21333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744280" y="152280"/>
            <a:ext cx="372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pravilo zvijezd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914400"/>
            <a:ext cx="3581280" cy="90180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914400"/>
            <a:ext cx="3581280" cy="901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3120" y="1219320"/>
            <a:ext cx="223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88e4"/>
                </a:solidFill>
                <a:latin typeface="Times New Roman"/>
              </a:rPr>
              <a:t>koncentriran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5410080"/>
            <a:ext cx="3886200" cy="121932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rot="14760000">
            <a:off x="5676840" y="3848040"/>
            <a:ext cx="672840" cy="1815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rot="6600000">
            <a:off x="5676480" y="1485720"/>
            <a:ext cx="673200" cy="1815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3276720"/>
            <a:ext cx="3416400" cy="672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00840" y="32767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1" lang="hr-HR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rot="6600000">
            <a:off x="2552400" y="3771360"/>
            <a:ext cx="673200" cy="181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rot="14760000">
            <a:off x="2551320" y="1562040"/>
            <a:ext cx="672840" cy="181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5486400"/>
            <a:ext cx="1904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ecff"/>
                </a:solidFill>
                <a:latin typeface="Times New Roman"/>
              </a:rPr>
              <a:t>razrjeđenija</a:t>
            </a:r>
            <a:r>
              <a:rPr b="1" lang="hr-HR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151000" y="5410080"/>
                <a:ext cx="19461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5334120" y="5410080"/>
            <a:ext cx="3581280" cy="11430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867280" y="5486400"/>
                <a:ext cx="2745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562720" y="1066680"/>
                <a:ext cx="31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819520" y="1066680"/>
                <a:ext cx="609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28440" y="0"/>
            <a:ext cx="9034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avilo zvijezde” može se primijeniti i za miješanje otopina čiji 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kvantitativni sastav zadan masenom koncentracijom (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), volumni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udjelom (</a:t>
            </a:r>
            <a:r>
              <a:rPr b="1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) te volumnim postotkom (vol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447920"/>
            <a:ext cx="3581280" cy="90144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1447920"/>
            <a:ext cx="3581280" cy="9014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5410080"/>
            <a:ext cx="3886200" cy="121932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rot="14760000">
            <a:off x="5676840" y="3848040"/>
            <a:ext cx="672840" cy="1815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6600000">
            <a:off x="5447520" y="2018880"/>
            <a:ext cx="672840" cy="1815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505320"/>
            <a:ext cx="3416400" cy="672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22400" y="3581280"/>
            <a:ext cx="3280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ecff"/>
                </a:solidFill>
                <a:latin typeface="Symbol"/>
                <a:ea typeface="Symbol"/>
              </a:rPr>
              <a:t></a:t>
            </a:r>
            <a:r>
              <a:rPr b="1" lang="hr-HR" sz="3200" spc="-1" strike="noStrike" baseline="-25000">
                <a:solidFill>
                  <a:srgbClr val="ccecff"/>
                </a:solidFill>
                <a:latin typeface="Arial"/>
              </a:rPr>
              <a:t>3 </a:t>
            </a:r>
            <a:r>
              <a:rPr b="1" lang="hr-HR" sz="3200" spc="-1" strike="noStrike">
                <a:solidFill>
                  <a:srgbClr val="ccecff"/>
                </a:solidFill>
                <a:latin typeface="Arial"/>
              </a:rPr>
              <a:t>(ili</a:t>
            </a:r>
            <a:r>
              <a:rPr b="1" lang="hr-HR" sz="3200" spc="-1" strike="noStrike" baseline="-25000">
                <a:solidFill>
                  <a:srgbClr val="ccec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ccecff"/>
                </a:solidFill>
                <a:latin typeface="Symbol"/>
                <a:ea typeface="Symbol"/>
              </a:rPr>
              <a:t></a:t>
            </a:r>
            <a:r>
              <a:rPr b="1" lang="hr-HR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hr-HR" sz="3200" spc="-1" strike="noStrike">
                <a:solidFill>
                  <a:srgbClr val="ccecff"/>
                </a:solidFill>
                <a:latin typeface="Arial"/>
              </a:rPr>
              <a:t> ili vol%</a:t>
            </a:r>
            <a:r>
              <a:rPr b="1" lang="hr-HR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hr-HR" sz="32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6600000">
            <a:off x="2552400" y="3771360"/>
            <a:ext cx="673200" cy="181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4760000">
            <a:off x="2551320" y="2019240"/>
            <a:ext cx="672840" cy="181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66680" y="5410080"/>
                <a:ext cx="20145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5334120" y="5410080"/>
            <a:ext cx="3581280" cy="11430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54720" y="5486400"/>
                <a:ext cx="17701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083280" y="1447920"/>
                <a:ext cx="2082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57200" y="1600200"/>
                <a:ext cx="3352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l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ρ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l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vol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522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389880" indent="-389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 slučaju miješanja otopina čiji je kvantitativni sastav izražen masenim udjelom ili masenim postotkom, odgovarajuće bilance količine otopljene tvari i otopine treba izražavati preko njihovih mas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9880" indent="-389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9880" indent="-389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9880" indent="-389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= 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9880" indent="-389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= G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880" indent="-389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880" indent="-389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G označava masu u mg, g ili k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791320" y="2971800"/>
                <a:ext cx="25146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4876920"/>
            <a:ext cx="9144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ko želimo “pravilo zvijezde” koristiti za računanje kvantitativnih odnosa kod miješanja otopina čiji je sastav izražen molalitetom, molnim udjelom ili molnim postotkom, potrebno je prvo preračunati zadani kvantitativni sastav i izraziti ga masenim udjelom ili masenim postotkom, a zatim koristiti “zvijezdu” za miješanje takvih otop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5400" y="228600"/>
            <a:ext cx="839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Iz prethodnih izvoda se dobije odgovarajuće “pravilo zvijezd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447920"/>
            <a:ext cx="3581280" cy="90144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1447920"/>
            <a:ext cx="3581280" cy="9014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5410080"/>
            <a:ext cx="3886200" cy="1219320"/>
          </a:xfrm>
          <a:prstGeom prst="rect">
            <a:avLst/>
          </a:prstGeom>
          <a:solidFill>
            <a:srgbClr val="d9319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rot="14760000">
            <a:off x="5676840" y="3848040"/>
            <a:ext cx="672840" cy="1815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rot="6600000">
            <a:off x="5447520" y="2018880"/>
            <a:ext cx="672840" cy="1815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3505320"/>
            <a:ext cx="3416400" cy="6728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76440" y="3510000"/>
            <a:ext cx="628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ecff"/>
                </a:solidFill>
                <a:latin typeface="Arial"/>
              </a:rPr>
              <a:t>w</a:t>
            </a:r>
            <a:r>
              <a:rPr b="1" lang="hr-HR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rot="6600000">
            <a:off x="2552400" y="3771360"/>
            <a:ext cx="673200" cy="181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rot="14760000">
            <a:off x="2551320" y="2019240"/>
            <a:ext cx="672840" cy="1816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65160" y="5410080"/>
                <a:ext cx="22194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5334120" y="5410080"/>
            <a:ext cx="3581280" cy="11430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265800" y="5486400"/>
                <a:ext cx="19479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994360" y="1447920"/>
                <a:ext cx="226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832040" y="1695600"/>
                <a:ext cx="601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14368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270720" y="685800"/>
            <a:ext cx="92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ju masu NaCl treba odvagati ako želimo pripraviti 500 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 M otopine NaCl i 500 ml 10% otopine NaCl? (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=1.01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466200" y="1676520"/>
            <a:ext cx="538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NaCl) = 500 ml = 0.5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NaCl) = 58.44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(NaCl) = 2 M = 2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10% NaCl) = 1.01 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2M NaCl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10% NaCl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1080" y="5816520"/>
            <a:ext cx="881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Za 500 ml 2 M otopine NaCl treba odvagati 58.44 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NaCl, a za 500 ml 10% otopine treba 50.5 g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800600" y="1523880"/>
                <a:ext cx="3798720" cy="25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724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2M NaCl) = 2M * 58.44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* 0.5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58.44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10% NaCl) = 0.1 * 1.01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* 500 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50.5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ISKORIŠTENJE REAKCIJ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dnos stehiometrijskih koeficijenata iz jednadžbe reakcije odgovara stehiometrijskom ili teorijskom odnosu reaktanata i produkata te reakci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pr.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1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1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→ 2 NH</a:t>
            </a:r>
            <a:r>
              <a:rPr b="1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odik je u gornjoj reakciji teorijski ili stehiometrijski u manjku ( 1 mol dušika zahtijeva 3 mola vodika), dok je dušik u stehiometrijskom višku – reaktant kojeg ima teorijski ili stehiometrijski najmanje – </a:t>
            </a: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MJERODAVNI ili  KRITIČNI REAK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Količina produkta koja se odredi prema mjerodavnom reaktantu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STEHIOMETRIJSKA ili TEORIJSKA KOLIČINA PRODU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ajveća moguća količina produkta kemijske reakcije – </a:t>
            </a: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STEHIOMETRIJSKI ili TEORIJSKI PR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 praksi se često dobiva manje produkta od teorijskog prinosa – </a:t>
            </a: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STvARNO ISKORIŠTENJE ili PRINOS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– množina ili masa produkta koju smo stvarno dobi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974160" y="685800"/>
            <a:ext cx="10557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Koliko ml 10% otopine sulfatne kiseline čija je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=1.11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tr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mjeriti za pripravu 400 ml 0.3 M otopine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440280" y="1676520"/>
            <a:ext cx="54302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400 ml = 0.4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98.07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3 M = 0.3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10%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.11 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10%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3240" y="5816520"/>
            <a:ext cx="854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Za 400 ml 0.3 M otopine sulfatne kiseline treb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odmjeriti 106.02 ml 10% otopine sulfatne kiselin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800600" y="1523880"/>
                <a:ext cx="3798720" cy="25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4419720"/>
            <a:ext cx="8991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400 ml 0.3M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ima n 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=0.3M * 0.4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12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0.12 mola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ima 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10%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(0.12mola * 98.07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) / (0.1 * 1.11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= 106.02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-974160" y="685800"/>
            <a:ext cx="10557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Koliko ml 80% otopine sulfatne kiseline čija je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=1.32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tr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mjeriti za pripravu 250 ml 0.1 M otopine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439920" y="1676520"/>
            <a:ext cx="55994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250 ml = 0.25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98.07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1 M = 0.1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10%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.32 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10%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816520"/>
            <a:ext cx="8178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Za 250 ml 0.1 M otopine sulfatne kiseline treb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odmjeriti 2.32 ml 80% otopine sulfatne kiselin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00600" y="1523880"/>
                <a:ext cx="3798720" cy="25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419720"/>
            <a:ext cx="8991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50 ml 0.1M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ima n 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=0.1M * 0.25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025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0.025 mola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ima 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(80%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(0.025mola * 98.07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) / (0.8 * 1.32g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= 2.32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-984240" y="690480"/>
            <a:ext cx="1040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4. Koliko treba odvagati natrij-karbonata i vode da bi se pripre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00 g 1 molalne otopine 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466200" y="1676520"/>
            <a:ext cx="5383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 = 100g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06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 = 1 m = 1 molkg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91080" y="5791320"/>
            <a:ext cx="923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Treba odvagati 9.58 g natrij-karbonata i 90.42 g vod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105520" y="1219320"/>
                <a:ext cx="305100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a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962520"/>
            <a:ext cx="899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 1 m otopinu vrijedi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1000 g vode sadrži 1 mol 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nosno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1000 g vode sadrži 106 g 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otopin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1000g + 106g = 1106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00g otopine sadrži m(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06g * 100g / 1106g = 9.58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) =  100g – 9.58g = 90.42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990000" y="690480"/>
            <a:ext cx="10246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5. Kako ćete pripremiti 50 ml 0.002 M otopine srebro-nitrata ak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mate 0.1 M otopina Ag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431280" y="1676520"/>
            <a:ext cx="54428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g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1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g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002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g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50 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05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g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0320" y="5486400"/>
            <a:ext cx="883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Treba odmjeriti 1 ml 0.1M otopine srebro-nitrata z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pripravu 50 ml 0.002M otopin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29200" y="1066680"/>
                <a:ext cx="300996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42670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g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002g/mol * 0.05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/ 0.1g/mol = 0.001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1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986040" y="690480"/>
            <a:ext cx="97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6. Koje volumene 0.1M i 0.5M otopine HCl treba međusob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miješati da se dobije 2L 0.2M otopine HC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466200" y="1676520"/>
            <a:ext cx="5383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Cl) = 0.1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Cl) = 0.5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Cl) = 0.2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Cl) = 2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Cl) =? 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Cl) =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-1800" y="5851440"/>
            <a:ext cx="858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Za pripravu 2L 0.2M otopine HCl treba pomiješat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1.5L 0.1M i 0.5L 0.5M otopine HC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465800" y="1523880"/>
                <a:ext cx="459576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191120"/>
            <a:ext cx="9144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0.1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0.5 * (2 -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2 *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0.1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1 – 0.5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0.4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-0.6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1.5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2 – 1.5 = 0.5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985320" y="690480"/>
            <a:ext cx="10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7. Koje volumene 0.28M i 0.87M otopine NaCl treba međusob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miješati da se dobije 545 ml 0.5M otopine NaC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466200" y="1676520"/>
            <a:ext cx="5383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0.28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0.87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0.5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545 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? 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-720" y="5851440"/>
            <a:ext cx="904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Za pripravu 545mL 0.5M otopine NaCl treba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pomiješati 341.8mL 0.28M i 203.2mL 0.87M otopin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424400" y="1523880"/>
                <a:ext cx="46782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191120"/>
            <a:ext cx="9144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0.28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0.87 * (545 -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5 * 5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0.28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474.15 – 0.87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27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0.59 *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-201.65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341.8 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545 – 341.2 = 203.2 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 “pravilo zvijezde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367080" y="1676520"/>
          <a:ext cx="553248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1676520"/>
                    <a:ext cx="553248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-985320" y="690480"/>
            <a:ext cx="10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7. Koje volumene 0.28M i 0.87M otopine NaCl treba međusob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miješati da se dobije 545 ml 0.5M otopine NaC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462600" y="1676520"/>
            <a:ext cx="4056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0.28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0.87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0.5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Cl) = 545 c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Cl) =?  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Cl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20" y="60357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Za pripravu 545mL 0.5M otopine NaCl treba pomiješati 341.8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0.28M i 203.2mL 0.87M otop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191120"/>
            <a:ext cx="990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0.59 ml 0.5 M NaCl treba 0.22 ml 0.87 M Na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545 ml 0.5 M NaCl treba (545*0.22M/0.59M) ml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203.22 ml 0.87 M Na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105000" y="3581280"/>
          <a:ext cx="603900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3581280"/>
                    <a:ext cx="6039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0" y="510552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0.59 ml 0.5 M NaCl treba 0.37 ml 0.28 M Na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545 ml 0.5 M NaCl treba (545*0.37M/0.59M) ml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341.78 ml 0.28 M Na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 “pravilo zvijezde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363840" y="1671480"/>
          <a:ext cx="476748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3840" y="1671480"/>
                    <a:ext cx="47674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-986040" y="711360"/>
            <a:ext cx="1074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8. Koliko ml 5.8%-tne otopine NaOH (</a:t>
            </a:r>
            <a:r>
              <a:rPr b="0" lang="hr-HR" sz="2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= 1.063 g/ml) treba pomiješat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 10%-tnom otopinom NaOH da bi se dobilo 350 g 8%-tne otopine NaOH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463320" y="1676520"/>
            <a:ext cx="4260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OH) = 5.8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OH) = 1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OH) = 8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OH) = 1.063 g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35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OH) =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80" y="5715000"/>
            <a:ext cx="80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Za pripravu 350 g 8%-tne  otopine NaOH treba 156.80 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5.8 %-tne otopine NaO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-152280" y="4343400"/>
            <a:ext cx="9905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4.2g 8% NaOH treba 2g 5.8% Na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350g 8% NaOH treba (350*2/4.2)g = 166.67 g 5.8 % Na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350g 8% NaOH treba (166.67g/1.063g/ml) = 156.80 ml 5.8 % Na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122640" y="3579840"/>
          <a:ext cx="606096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2640" y="3579840"/>
                    <a:ext cx="6060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 “pravilo zvijezde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370320" y="1673280"/>
          <a:ext cx="480672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0320" y="1673280"/>
                    <a:ext cx="48067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-972360" y="714240"/>
            <a:ext cx="9922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9. Koliko grama vode treba da bi se iz 30 %-tne otopine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dobi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50 g 3%-tne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otopine 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-462600" y="1676520"/>
            <a:ext cx="4056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3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5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240" y="5715000"/>
            <a:ext cx="8121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Za pripravu 50 g 3%-tne  otopine H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 treba 45 g H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O i 5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30 %-tne otopine H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152280" y="4343400"/>
            <a:ext cx="99057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30g 3%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3g 30% Na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50g 3%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(50*3/30)g = 5 g 30 %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30g 3%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27 g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50g 3%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(50*27/30) g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 = 45 g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3122640" y="3579840"/>
          <a:ext cx="606096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2640" y="3579840"/>
                    <a:ext cx="6060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-992160" y="738360"/>
            <a:ext cx="10398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0. Koliko ml 1 M otopine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pomiješati s 20 %-tnom otopinom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čija je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.117 g/ml da bismo dobilo 250 ml 2 M otopi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450720" y="1724040"/>
            <a:ext cx="467964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=1.117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63.02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25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1752480"/>
            <a:ext cx="449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vo treba izračunati 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04920" y="4267080"/>
                <a:ext cx="388620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kupn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572000" y="2286000"/>
                <a:ext cx="39625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ρ*w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m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m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ρ*w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ρ*w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4191120" y="579132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2*1.117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/ 63.02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0.00354 mol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3.54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ISKORIŠTENJE REAKCIJ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STVARNO ISKORIŠTENJE ili PRINOS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može biti manje od </a:t>
            </a: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TEORIJSKOG PRINOSA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iz nekoliko razlo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eaktanti ne prijeđu potpuno u produkte (zbog uspostavljanja ravnoteže ili zbog sporednih reakci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astali produkti dalje reagiraju  i ulaze u nove reak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Fizikalno-kemijska metoda kojom određujemo produkte ima pogreš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bog razlike u </a:t>
            </a:r>
            <a:r>
              <a:rPr b="1" lang="hr-HR" sz="2000" spc="-1" strike="noStrike">
                <a:solidFill>
                  <a:srgbClr val="ff00ff"/>
                </a:solidFill>
                <a:latin typeface="Arial"/>
              </a:rPr>
              <a:t>STVARNO i TEORIJSKOM ISKORIŠTENJU ili PRINOSU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uveden je pojam ISKORIŠTENJE REAKCIJE (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558800" y="5410080"/>
                <a:ext cx="5948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varni_prinos_produk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eorijski_prinos_produkt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447920" y="930240"/>
            <a:ext cx="63561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733920" y="1676520"/>
          <a:ext cx="541008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76520"/>
                    <a:ext cx="54100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-992160" y="738360"/>
            <a:ext cx="10398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0. Koliko ml 1 M otopine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pomiješati s 20 %-tnom otopinom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čija je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.117 g/ml da bismo dobilo 250 ml 2 M otopi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450720" y="1724040"/>
            <a:ext cx="467964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3.54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25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352680" y="3657600"/>
          <a:ext cx="60199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657600"/>
                    <a:ext cx="6019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0" y="4572000"/>
            <a:ext cx="990612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2.54 ml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1.54 ml 1M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250 ml 2M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(250*1.54/2.54)ml = 150 ml 1M H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pripravu 250 ml 2M H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100 ml 20%-tne HNO 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720" y="6035760"/>
            <a:ext cx="8718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Za pripravu 250 ml 2M  otopine HNO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 treba 150 ml 1M otop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HNO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 i 100 ml 20%-tne otopine HNO</a:t>
            </a:r>
            <a:r>
              <a:rPr b="0" lang="hr-HR" sz="2400" spc="-1" strike="noStrike" baseline="-25000">
                <a:solidFill>
                  <a:srgbClr val="7fff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-997920" y="738360"/>
            <a:ext cx="10190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1. Koliko grama natrij-nitrata treba dodati u 300 ml 15%-tne otopine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čija je gustoća 1.1043 g/ml da bi se dobila 5M otopina gustoće 1.261 g/m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-443520" y="1371600"/>
            <a:ext cx="4735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043 g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261 g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30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3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5 mol/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M(NaNO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) = 84.994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60" y="6308640"/>
            <a:ext cx="5149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Treba odvagati 94.46 g NaNO</a:t>
            </a:r>
            <a:r>
              <a:rPr b="0" lang="hr-HR" sz="2800" spc="-1" strike="noStrike" baseline="-25000">
                <a:solidFill>
                  <a:srgbClr val="7fff00"/>
                </a:solidFill>
                <a:latin typeface="Arial"/>
              </a:rPr>
              <a:t>3</a:t>
            </a: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657600"/>
            <a:ext cx="967752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300 ml 15 %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ima (1.1043g/ml*300ml) = 331.29 g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 (0.15*331.29g) = 49.69 g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i (331.29-49.69) = 281.59g v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5M otopina u 1000 ml ima 5 mola 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dnosno (5mola*84.994g/mol) = 424.97g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 (1.2610g/ml*1000ml) = 1261.0 g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 (1261.0 – 424.97)g = 836.03 g v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343400" y="1523880"/>
                <a:ext cx="35053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kupn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5562720"/>
            <a:ext cx="9677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836.03g vode ima 424.97g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, a u 281.59g vode 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424.97 * 281.59 / 836.03) g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44.15 g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ccecff"/>
                </a:solidFill>
                <a:latin typeface="Arial"/>
              </a:rPr>
              <a:t>REAKCIJE MEĐU OTOPINAMA - EKVIVALENCIJA</a:t>
            </a: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 volumetrijskoj analizi prava koncentracija otopine određuje se nekom standardnom analitičkom metodo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ije se koncentracija otopine izražavala nazivnom koncentracijom (npr. 0.1 M) i faktor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d93192"/>
                </a:solidFill>
                <a:latin typeface="Arial"/>
              </a:rPr>
              <a:t>Faktor otopin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– broj kojim moramo pomnožiti nazivnu koncentraciju otopine da bismo dobili pravu koncentraciju otop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752480" y="5334120"/>
                <a:ext cx="53341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ktor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av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ncentracij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zivn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ncentracij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006200" y="738360"/>
            <a:ext cx="106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2. Izračunajte molarnu koncentraciju otopine kalij-permanganata označenu ka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0.02M ako je njezin faktor f=0.965! Kolika je masena koncentracija te otopi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450000" y="1628640"/>
            <a:ext cx="4627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(KM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02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(KM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9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M(KMnO</a:t>
            </a:r>
            <a:r>
              <a:rPr b="0" lang="hr-HR" sz="2400" spc="-1" strike="noStrike" u="sng" baseline="-25000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) = 158.04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KM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prav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KM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440" y="5738760"/>
            <a:ext cx="78555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Prava molarna koncentracija je 0.0193 moldm</a:t>
            </a:r>
            <a:r>
              <a:rPr b="0" lang="hr-HR" sz="2800" spc="-1" strike="noStrike" baseline="30000">
                <a:solidFill>
                  <a:srgbClr val="7fff00"/>
                </a:solidFill>
                <a:latin typeface="Arial"/>
              </a:rPr>
              <a:t>-3</a:t>
            </a: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a masena koncentracija te otopine je 3.05 gdm</a:t>
            </a:r>
            <a:r>
              <a:rPr b="0" lang="hr-HR" sz="2800" spc="-1" strike="noStrike" baseline="30000">
                <a:solidFill>
                  <a:srgbClr val="7fff00"/>
                </a:solidFill>
                <a:latin typeface="Arial"/>
              </a:rPr>
              <a:t>-3</a:t>
            </a: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809880"/>
            <a:ext cx="967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prav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KM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965 * 0.02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0193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181480" y="1523880"/>
                <a:ext cx="35053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ava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zivna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4648320"/>
            <a:ext cx="96775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KM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c * M = 0.0193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* 158.04 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3.050 g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-1001880" y="738360"/>
            <a:ext cx="101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3. Kolika je masena koncentracija natrij-karbonata u ispitivanoj otopini 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5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e otopine troši za neutralizaciju 35.42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“0.5M” otopine sulfa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oncentracije čiji je f=1.045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443880" y="1828800"/>
            <a:ext cx="5286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5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f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0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35.42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03542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025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06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20" y="5738760"/>
            <a:ext cx="7965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Masena koncentracija otopine natrij-karbonata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78.44 gdm</a:t>
            </a:r>
            <a:r>
              <a:rPr b="0" lang="hr-HR" sz="2800" spc="-1" strike="noStrike" baseline="30000">
                <a:solidFill>
                  <a:srgbClr val="7fff00"/>
                </a:solidFill>
                <a:latin typeface="Arial"/>
              </a:rPr>
              <a:t>-3</a:t>
            </a: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3962520"/>
            <a:ext cx="9677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prav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.045 * 0.5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5225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03542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* 0.5225 mol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0185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495680" y="2135160"/>
                <a:ext cx="35053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ava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zivna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87960" y="1600200"/>
            <a:ext cx="569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 + 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4876920"/>
            <a:ext cx="9677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n(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0185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0.0185 mola * 106 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/ 0.025 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78.44 gdm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1004040" y="738360"/>
            <a:ext cx="1053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4. S koliko grama vode treba razrijediti 50 g 10%-tne otopine amonij-bikrom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a bi nastala 0.2m otopi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-460800" y="1374840"/>
            <a:ext cx="46796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(N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2 mol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otopine) = 50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(N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(N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2.06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280" y="6308640"/>
            <a:ext cx="4168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Treba dodati 54.2 g H</a:t>
            </a:r>
            <a:r>
              <a:rPr b="0" lang="hr-HR" sz="28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3000" spc="-1" strike="noStrike">
                <a:solidFill>
                  <a:srgbClr val="7fff00"/>
                </a:solidFill>
                <a:latin typeface="Arial"/>
              </a:rPr>
              <a:t>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657600"/>
            <a:ext cx="96775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odavanjem vode smanjuje se masa otopine, ali ostaje ista masa otopljene tv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(N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1 * 50 g = 5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10%-tnoj otopini ima  50g – 5g = 45 g v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((N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5g / 252.06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01984 m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00600" y="1447920"/>
                <a:ext cx="3473280" cy="17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a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kupn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5105520"/>
            <a:ext cx="967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0.2m otopini (N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ima (0.01984 mola / 0.2molkg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vod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0.0992 kg vode= 99.2 g  v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 99.2 g – 45 g = 54.2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-1001880" y="738360"/>
            <a:ext cx="106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5. Koliko grama natrij-nitrata treba dodati u 200ml 10%-tne otopine te soli čija 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ustoća 1.1 g/ml da bi se dobila 2m otopi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480600" y="1523880"/>
            <a:ext cx="46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 mol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00 ml = 0.2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g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97.89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633888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Treba dodati 56.36 g NaNO</a:t>
            </a:r>
            <a:r>
              <a:rPr b="0" lang="hr-HR" sz="2800" spc="-1" strike="noStrike" baseline="-25000">
                <a:solidFill>
                  <a:srgbClr val="7fff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657600"/>
            <a:ext cx="96775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200 ml te otopine 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1.1 g/ml * 200ml) = 220 g otopin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0.1 * 220g) = 22g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220g – 22g) = 198 g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027760" y="1447920"/>
                <a:ext cx="3019320" cy="17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a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5105520"/>
            <a:ext cx="96775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2m otopini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biti (2*10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mol/g * 198 g)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0.396 mola 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dnosno m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396 mola * 197.89 g/mol = 78.36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78.36 g – 22 g = 56.36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-1002240" y="738360"/>
            <a:ext cx="1051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6. Koliko ml vode treba dodati u 356 ml 1.1 M otopine natrij-klorida, ako žel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irediti 0.5 M otopinu NaCl otopi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451440" y="1523880"/>
            <a:ext cx="47102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Cl) = 356 ml = 0.356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Cl) = 1.1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Cl) = 0.5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5867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Treba dodati 427.2 ml v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505320"/>
            <a:ext cx="9677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0.5 M otopina ima volumen jedn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1.1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0.356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/ 0.5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7832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267080" y="1600200"/>
                <a:ext cx="44960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4724280"/>
            <a:ext cx="96775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1.1 M otopinu NaCl treba dodati (0.7832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– 0.356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vod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0.4272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427.2 ml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-1002240" y="738360"/>
            <a:ext cx="94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7. Koliko grama natrij-karbonata treba dodati u 425 ml 0.2 M otopi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trij-karbonata, ako želimo prirediti 1 litru 0.4 M otopi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480600" y="1523880"/>
            <a:ext cx="46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425 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000 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4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06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56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ff00"/>
                </a:solidFill>
                <a:latin typeface="Arial"/>
              </a:rPr>
              <a:t>Treba dodati 33.39 g natrij-karbon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96252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425 ml 0.2 M otopine ima (0.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0.425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085 m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000 ml 0.4 M otopine ima (0.4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1 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4 mol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267080" y="1600200"/>
                <a:ext cx="44960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800600"/>
            <a:ext cx="9677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reba dodati (0.4 mola – 0.085 mola) * 106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33.39 g 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51480" y="1052640"/>
            <a:ext cx="9016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liko g željezo(III)-sulfata se dobije iz 36g željezo(II)-sulf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ko je iskorištenje reakcije 80%? Jednadžba reakcije glas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Fe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4H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Fe(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NO + 2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436680" y="2209680"/>
            <a:ext cx="49615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Fe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36 g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Fe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51.90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399.86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587700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ff00"/>
                </a:solidFill>
                <a:latin typeface="Arial"/>
              </a:rPr>
              <a:t>Dobije se 25.3 g željezo(III)-sulf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952880" y="2209680"/>
                <a:ext cx="35467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no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orijsk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nos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4343400"/>
            <a:ext cx="8991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Fe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/M(Fe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: m(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/ M(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3 : 1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1/3 * 36g/151.90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* 399.86 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31.59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Fe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31.59g *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31.59g * 0.80 = 25.27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-1006200" y="738360"/>
            <a:ext cx="106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8. Izrazite kvantitativni sastav 17 %-tne vodene otopine natrij-sulfata, čija 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ustoća 1.162 g/ml, masenom koncentracijom, množinskom koncentracijom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lnim udjelom i molaliteto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-451080" y="1828800"/>
            <a:ext cx="42375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7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6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M(Na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SO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) = 142.046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403848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17 * 1.16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19754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97.54 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352680" y="1752480"/>
                <a:ext cx="55627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495680"/>
            <a:ext cx="96775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 = (0.17 * 1.16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/  142.046g/mol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1.39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5181480"/>
            <a:ext cx="96775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100 g 17 % otopine ima (100-17) g = 83 g vode odnos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lni udio 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u 17 %-tnoj otopini jednak j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 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(17g / 142.046 g/mol) / (83 g / 18.015 g/mol) = 0.0253 = 2.53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6324480"/>
            <a:ext cx="967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 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(17g / 142.046 g/mol) / 83g = 0.001434 mol/g = 1.434 mol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1006200" y="738360"/>
            <a:ext cx="106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8. Izrazite kvantitativni sastav 17 %-tne vodene otopine natrij-sulfata, čija 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ustoća 1.162 g/ml, masenom koncentracijom, množinskom koncentracijom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lnim udjelom i molaliteto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451080" y="1828800"/>
            <a:ext cx="42375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7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6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M(Na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SO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4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) = 142.046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03848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7fff00"/>
                </a:solidFill>
                <a:latin typeface="Symbol"/>
                <a:ea typeface="Symbol"/>
              </a:rPr>
              <a:t>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(Na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17 * 1.16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19754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197.54 gdm</a:t>
            </a:r>
            <a:r>
              <a:rPr b="0" lang="hr-HR" sz="2000" spc="-1" strike="noStrike" baseline="30000">
                <a:solidFill>
                  <a:srgbClr val="7fff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352680" y="1752480"/>
                <a:ext cx="55627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4495680"/>
            <a:ext cx="96775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c(Na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= (0.17 * 1.16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/  142.046g/mol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1.39 moldm</a:t>
            </a:r>
            <a:r>
              <a:rPr b="0" lang="hr-HR" sz="2000" spc="-1" strike="noStrike" baseline="30000">
                <a:solidFill>
                  <a:srgbClr val="7fff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81480"/>
            <a:ext cx="967752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100 g 17 % otopine ima (100-17) g = 83 g vode odnos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lni udio Na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u 17 %-tnoj otopini jednak j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x (Na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(17g / 142.046 g/mol) / (83 g / 18.015 g/mol) = 0.0253 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2.53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6324480"/>
            <a:ext cx="967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b (Na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(17g / 142.046 g/mol) / 83g = 0.001434 mol/g 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1.434 mol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15087600" cy="103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997560" y="738360"/>
            <a:ext cx="1027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9. Koliki je maseni udio, volumni udio, molni udio te molalitet vodene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etanola čija je koncentracija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gustoća 0.983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439200" y="1523880"/>
            <a:ext cx="44665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2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/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 0.983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0.793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M(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) = 46.07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403848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46.07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/ 983 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0937 = 9.37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52680" y="1752480"/>
                <a:ext cx="55627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457200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46.07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/ 793 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1162 = 11.6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5105520"/>
            <a:ext cx="96775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.37g / 46.07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/ (9.37g / 46.04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+ 90.63g / 18.015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) =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   = 0.203 mola / 5.234 mola = 0.0388 = 3.88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579132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.37g / 46.07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* 90.63g = 0.002244 mol/g = 2.244 mol/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-997560" y="738360"/>
            <a:ext cx="1027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9. Koliki je maseni udio, volumni udio, molni udio te molalitet vodene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etanola čija je koncentracija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, a gustoća 0.983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-439200" y="1523880"/>
            <a:ext cx="44665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2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/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 0.983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0.793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M(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) = 46.07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H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403848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w(C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OH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46.07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/ 983 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0937 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9.37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352680" y="1752480"/>
                <a:ext cx="55627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o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457200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7fff00"/>
                </a:solidFill>
                <a:latin typeface="Symbol"/>
                <a:ea typeface="Symbol"/>
              </a:rPr>
              <a:t>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OH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2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46.07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/ 793 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1162 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11.6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5105520"/>
            <a:ext cx="96775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x(C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OH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.37g / 46.07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/ (9.37g / 46.04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+ 90.63g / 18.015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) =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   = 0.203 mola / 5.234 mola = 0.0388 =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3.88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79132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7fff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7fff00"/>
                </a:solidFill>
                <a:latin typeface="Arial"/>
              </a:rPr>
              <a:t>OH)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.37g / 46.07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* 90.63g = 0.002244 mol/g = </a:t>
            </a:r>
            <a:r>
              <a:rPr b="0" lang="hr-HR" sz="1800" spc="-1" strike="noStrike">
                <a:solidFill>
                  <a:srgbClr val="7fff00"/>
                </a:solidFill>
                <a:latin typeface="Arial"/>
              </a:rPr>
              <a:t>2.244 mol/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-986040" y="738360"/>
            <a:ext cx="10120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0. Koliko je molalna otopina benzena u toluenu 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izražena moln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djelom benzena od 15 %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-409680" y="1523880"/>
            <a:ext cx="3861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92.13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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3276720" y="1600200"/>
                <a:ext cx="55623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otapal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343400"/>
            <a:ext cx="967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0.15 mola / 0.85 mola * 92.13 gmo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= 0.00192 mol/g = 1.92 mol/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76720"/>
            <a:ext cx="967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 mol otopine sadrži 0.15 mola benzena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1-0.15) mola = 0.85 mola tolu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533412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Molalitet otopine benzena u toluenu koja ima molni udio benzena/toluenu 15 % jest 1.92 mol/k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1000800" y="738360"/>
            <a:ext cx="989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1. Koliko je molalna otopina saharoze u vodi čija je gustoća 1.14 g/ml ,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oncentracija 1.06 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417600" y="1523880"/>
            <a:ext cx="54867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06 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4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140 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= 342.3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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181480" y="1219320"/>
                <a:ext cx="321624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apalo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657600"/>
            <a:ext cx="967752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 = 1.06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/ (1140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- 1.06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342.3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1.06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/ 777.162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001364 mol/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1.364 mol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33412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Molalitet otopine saharoze u vodi jest 1.364 mol/k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1003320" y="738360"/>
            <a:ext cx="104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2. Koliko grama vodene otopine sulfatne kiseline čiji je kvantitativni sasta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dređen molnim udjelom od 25% morate uzeti ako želite uzorak koji sadrž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 mol sulfatne kiseli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-421200" y="1828800"/>
            <a:ext cx="38844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x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= 98.072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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38480" y="1752480"/>
                <a:ext cx="32162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657600"/>
            <a:ext cx="9677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 mol 25 mol%-tne otopine sadrži 0.75 mola vode i 0.25 mola sulfatne kise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dnos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 mol 25 mol%-tne otopine sadrži (0.75mola * 18.015 g/mol) = 13.51 g vode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 0.25mola * 98.072 g/mol) = 24.52 g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24.52g + 13.51g) = 38.03g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0.25 mola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uzeti 38.03 g otopine,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1 mol 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treba uzeti 152.12 g oto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617220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7fff00"/>
                </a:solidFill>
                <a:latin typeface="Arial"/>
              </a:rPr>
              <a:t>Treba uzeti 152.12 grama 25 mol% otopine sulfatne kise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762120"/>
            <a:ext cx="94489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. Azobenzen, međuprodukt u proizvodnji boje, možemo pripraviti iz nitrobenzena reakcijom s trietilenglikolom uz Zn i KOH. Iz 0.1 l nitrobenzena (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1.20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 0.3 l trietilenglikola (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1.12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nastaje 55 g azobenzena. Koliko je iskorištenje reakcije? Jednadžba reakcije glas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4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―(Zn,KOH)→ 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N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 + 4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435960" y="2971800"/>
            <a:ext cx="60109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1 l = 0.1*10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0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20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23.11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3 l = 0.3*10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30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50.77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55g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M((C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N)</a:t>
            </a:r>
            <a:r>
              <a:rPr b="0" lang="hr-HR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) = 180.43 gmol</a:t>
            </a:r>
            <a:r>
              <a:rPr b="0" lang="hr-HR" sz="2000" spc="-1" strike="noStrike" u="sng" baseline="30000">
                <a:solidFill>
                  <a:srgbClr val="ffffff"/>
                </a:solidFill>
                <a:uFillTx/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67080" y="4648320"/>
                <a:ext cx="38260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no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orijsk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nos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38080"/>
            <a:ext cx="94489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. Azobenzen, međuprodukt u proizvodnji boje, možemo pripraviti iz nitrobenzena reakcijom s trietilenglikolom uz Zn i KOH. Iz 0.1 l nitrobenzena (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1.20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i 0.3 l trietilenglikola (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1.12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nastaje 55 g azobenzena. Koliko je iskorištenje reakcije? Jednadžba reakcije glas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4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―(Zn,KOH)→ 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N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 + 4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486160"/>
            <a:ext cx="8229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20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* 10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120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.12 g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* 300 c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= 336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20g / 123.11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0.975 m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336g / 150.77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2.229 m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720" y="627840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ff00"/>
                </a:solidFill>
                <a:latin typeface="Arial"/>
              </a:rPr>
              <a:t>Iskorištenje reakcije je 61.5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886200"/>
            <a:ext cx="822960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 0.975 mola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(mjerodavni reaktant) treb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 puta toliko mola 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(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: n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1 :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(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½ * 0.975 mola = 0.487 m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(C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0.487 mola * 183.43 gmo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89.39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55g / 89.39g * 100 (%) = 61.52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ecff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450720" y="685800"/>
            <a:ext cx="1030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Spajanjem kisika i vodika nastaje voda. Izračunaj masu v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ja će nastati iz msjese 25 g vodika i 25 g kisika ako je iskorišten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akcije 80%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455040" y="2028960"/>
            <a:ext cx="48949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 g M(O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32.00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5 g M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) = 2.02 g/m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) =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597640" y="1905120"/>
                <a:ext cx="35463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no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orijsk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nos</m:t>
                                </m:r>
                              </m:sub>
                            </m:sSub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429000"/>
            <a:ext cx="8991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25g / 2.02 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12.4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(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25g /32.00 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0.78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94000" y="1600200"/>
            <a:ext cx="195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hr-H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hr-H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→ 2H</a:t>
            </a:r>
            <a:r>
              <a:rPr b="0" lang="hr-H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343400"/>
            <a:ext cx="8991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 12.4 mola vodika treba 12.4*1/2 (6.2) mola kisika; za 0.78 mola kisika treba 0.78*2 (1.56) mola vodika 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kisik je mjerodavni reak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: n(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 = 2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) = 1.56 mola * 18.02 gmol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= 28.16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) = 0.80 * 28.16 = 22.52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56880"/>
            <a:ext cx="7162560" cy="1143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OTOPI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Homogene smjese čistih tvari; sastoje se od </a:t>
            </a:r>
            <a:r>
              <a:rPr b="0" lang="hr-HR" sz="3200" spc="-1" strike="noStrike">
                <a:solidFill>
                  <a:srgbClr val="d93192"/>
                </a:solidFill>
                <a:latin typeface="Arial"/>
              </a:rPr>
              <a:t>otapala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hr-HR" sz="3200" spc="-1" strike="noStrike">
                <a:solidFill>
                  <a:srgbClr val="d93192"/>
                </a:solidFill>
                <a:latin typeface="Arial"/>
              </a:rPr>
              <a:t>otopljene tva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93192"/>
                </a:solidFill>
                <a:latin typeface="Arial"/>
              </a:rPr>
              <a:t>Otapalo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hr-HR" sz="3200" spc="-1" strike="noStrike">
                <a:solidFill>
                  <a:srgbClr val="7fff00"/>
                </a:solidFill>
                <a:latin typeface="Arial"/>
              </a:rPr>
              <a:t>disperzno sredstvo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– komponenta koje u otopini ima više i najčešće ne sudjeluje u kemijskoj reakcij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d93192"/>
                </a:solidFill>
                <a:latin typeface="Arial"/>
              </a:rPr>
              <a:t>Otopljena tvar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hr-HR" sz="3200" spc="-1" strike="noStrike">
                <a:solidFill>
                  <a:srgbClr val="7fff00"/>
                </a:solidFill>
                <a:latin typeface="Arial"/>
              </a:rPr>
              <a:t>disperzna faza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– komponenta koje ima manje u otopini i koja sudjeluje u kemijskoj reakcij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0"/>
            <a:ext cx="8534160" cy="1522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05280" y="277920"/>
            <a:ext cx="99061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ecff"/>
                </a:solidFill>
                <a:latin typeface="Arial"/>
              </a:rPr>
              <a:t>KVANTITATIVNI ODNOSI između komponenata neke OTOPINE</a:t>
            </a:r>
            <a:r>
              <a:rPr b="1" lang="hr-H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8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990720"/>
          <a:ext cx="8229600" cy="5715000"/>
        </p:xfrm>
        <a:graphic>
          <a:graphicData uri="http://schemas.openxmlformats.org/drawingml/2006/table">
            <a:tbl>
              <a:tblPr/>
              <a:tblGrid>
                <a:gridCol w="2438280"/>
                <a:gridCol w="2819520"/>
                <a:gridCol w="1676520"/>
                <a:gridCol w="129528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itativn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n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r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adž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jedin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232560" y="281952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asena koncentr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2560" y="35812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olalitet otoplje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v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5880" y="533412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aseni udio (postota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6960" y="441972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olni (količinski) 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6240" y="60958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olumni udio (postota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560" y="1828800"/>
            <a:ext cx="24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Množinska koncentra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(MOLARIT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1828800"/>
            <a:ext cx="27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dnosom množine otoplje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tvari i volumena otop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2743200"/>
            <a:ext cx="277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mjerom mase otoplje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tvari i volumena otop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581280"/>
            <a:ext cx="27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mjerom množine otoplje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tvari i mase otop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426708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dnosom množine jed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komponente i ukupne množine smje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5257800"/>
            <a:ext cx="27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mjerom mase otopljene tvari i mase otop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6019920"/>
            <a:ext cx="27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odnosom množine otoplje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tvari i volumena otop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905120"/>
                <a:ext cx="12193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03840" y="2743200"/>
                <a:ext cx="1241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618160" y="3581280"/>
                <a:ext cx="12841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opal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715000" y="4419720"/>
                <a:ext cx="12412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672160" y="5181480"/>
                <a:ext cx="13269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715000" y="5943600"/>
                <a:ext cx="1241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7238880" y="19810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l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dm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olkg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4495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*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5334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*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6095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*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6T06:13:20Z</dcterms:created>
  <dc:creator>UWired</dc:creator>
  <dc:description/>
  <cp:keywords/>
  <dc:language>en-US</dc:language>
  <cp:lastModifiedBy>Ivana Vinković-Vrček</cp:lastModifiedBy>
  <cp:lastPrinted>2000-10-06T15:12:57Z</cp:lastPrinted>
  <dcterms:modified xsi:type="dcterms:W3CDTF">2006-11-14T10:02:15Z</dcterms:modified>
  <cp:revision>71</cp:revision>
  <dc:subject>Silberberg</dc:subject>
  <dc:title>Chapter #3 - New CD</dc:title>
</cp:coreProperties>
</file>