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D6E-3B95-4C18-95CB-201D19F4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258-9E1A-460F-B4FD-EBA73391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0B60-EB93-4273-AC07-B381D95A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3B2-842B-4A77-BC00-48DADCF9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9970-A7E0-418A-8545-E28463D6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B93A-60DC-4A1A-A7CD-7F1FACC3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250A-E9E3-45C9-A507-2828BFF3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04AC-97AE-49EA-9170-E7B29E0A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36BE-ACF1-4FD8-A7C5-3CBA2560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3C95-C4E6-4056-ACF2-E55770DB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F7FC-D394-4501-AB8B-75379F02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25A1-72EF-4CCD-9EC7-1C8CA298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AF95-E428-4FEC-B295-CF3AF5FC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99C2-843E-4EB7-AF03-15E1401B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DA4A-06C5-4274-A261-6FAF4E6D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7FC5-1463-4F4A-8ED1-A01CC455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050A-7142-4A30-966D-D0F96C7A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99A51-1C9E-4B98-B608-D85DDB86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3525B-2E7B-45CE-8458-87B46378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A10B7-3FE6-4EE8-A845-CD744E4E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638FD-AB6E-4B8A-A3EF-F4ABA1AA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D909E-2EAE-4F7E-8B9B-93D13B4C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EA2-CFFF-4A2E-B62D-9820B67A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ECB0A-AB8A-494F-B4E8-61F0D944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B0F18-A79E-4054-B34E-B82624A9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BC5F1-AFEC-439D-A655-4E17714C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DB0B6-15C0-4086-BAD7-4CE815EA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C47BF-559A-4A78-A0CE-36F3E8AB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679AD-4824-4631-895F-C6057C1F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D8CAD-01F6-4333-8997-CF3AA48B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8BD9D-D3F4-463C-8C16-EEF7FA09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F430F-E2A2-48CB-BCF4-1C6C1856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2DA33-0108-4291-A5E0-C5F62B49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8E0A-4837-4D37-A1F6-6BD645D7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8D21E-BDCD-40CB-ABB9-6848201A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DE182-A75F-4288-9D48-7E06B7B4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5F244-8919-4A54-B2F8-9527CAE6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692E6-20A9-49E5-BCE5-8940F2DF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3099A-3319-422D-A13A-495B0C8A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0E4C2-F520-4203-A8F2-36800292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779CC-9BEC-4FF3-A505-C5C761C7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AF960-AAC7-4905-A1AB-CC79CAEB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EDF69-5F2A-4F04-8D2B-A9A8584F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312E-4EDB-4431-9DAE-E74EDDB8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E949-DB6F-4740-8813-7F5C7C7B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1A9E-479E-480F-B7F6-FAEFFA54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0D5-2727-4D67-AF06-2B3B90F1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144-0E76-4E0B-8696-D8E16AFB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3BB0-CD4C-4339-A577-94F2E8442C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5EF0-1B1E-40B4-AFFA-119FC86295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6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8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0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7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9904-5211-46FF-ADD8-352B2D941A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9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3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5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4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2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0188-038A-49D3-8620-85AC14575F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68000" y="3860640"/>
            <a:ext cx="8351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Predavanja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Verdana"/>
              </a:rPr>
              <a:t>doc. dr. sc. Mirjana Čižmeš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1763640" y="1700280"/>
            <a:ext cx="49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tatist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56840" y="765000"/>
            <a:ext cx="80157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Kolokv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tudenti mogu pristupiti </a:t>
            </a: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kolokvijima.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olokvij je u pisanom obliku.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O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ržati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će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olokvij, 2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.04.200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I. kolokvij,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09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.06.200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tudenti koji s uspjehom polože kolokvije oslobađa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e polaganja pismenog uspi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Studenti s uspješno</a:t>
            </a: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položena oba kolokvija dužni 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pristupiti ispitu iz Statistike u prvom ispitnom roku.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U drugim ispitnim rokovima studenti polažu pisme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spit u cijelosti. Na koloviju, odnosno pismen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opušteno je koristiti Pregled form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(bez bilježaka na njima), kalkulator i pribor za pisanje.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39560" y="1052640"/>
            <a:ext cx="1740888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Statistika 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znanstvena meto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oja se bavi prikupljanjem, uređivanje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alizom i tumačenjem podataka različite vrst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kup uređenih brojčanih podataka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azličitim prirodnim i društvenim pojav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koje prikupljaju i objavljuju statističke, struč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znanstveno-istraživačke i druge ustan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- numerička analitička met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79280" y="549360"/>
            <a:ext cx="9723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Statistički modeli i metode se primjenjuju u stručn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i znanstvenim djelatnost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U ekonomiji se prikupljaju poda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o industrijskoj, poljoprivrednoj i drugoj proizvodnj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unutrašnjoj i vanjskoj trgovini, turizmu, cijenam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financijskim tokovima i drugim ekonomskim pojav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Primjena statističkih modela na razini poduzeć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(mikro razina) ili na makroekonomskoj raz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(ekonometrijski mode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-empirijska istraživanja u sociologiji, biologiji, medicin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demografij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- u području metoeorologij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- fizik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-kontrole kvalitete proizvoda i 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03120" y="852480"/>
            <a:ext cx="808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 obzirom na pristup analizi razlikuje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* </a:t>
            </a:r>
            <a:r>
              <a:rPr b="1" i="1" lang="hr-HR" sz="2400" spc="-1" strike="noStrike">
                <a:solidFill>
                  <a:srgbClr val="ff3300"/>
                </a:solidFill>
                <a:latin typeface="Verdana"/>
              </a:rPr>
              <a:t>deskriptivna statistik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– postupak uređivanja, grupiranja, tabeliranja, grafičkog prikazivanja  statističkih podataka te izračunavanje različitih statističko analitičkih velič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* </a:t>
            </a:r>
            <a:r>
              <a:rPr b="1" i="1" lang="hr-HR" sz="2400" spc="-1" strike="noStrike">
                <a:solidFill>
                  <a:srgbClr val="ff3300"/>
                </a:solidFill>
                <a:latin typeface="Verdana"/>
              </a:rPr>
              <a:t>inferencijalna statistik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– polazi od uzorka, donose se zaključci o cjelini. Procjenjuju se nepoznati parametri cijelog skupa i testiraju hipoteze o nj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84360" y="549360"/>
            <a:ext cx="7796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OSNOVNI STATISTIČKI POJM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Statistički skup, populacija i uzo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Verdana"/>
              </a:rPr>
              <a:t>Statistički skup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je skup elemenata (jedinica) čija su kvalitativna  ili kvantitativna svojstva predmet statističke analiz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roj jedinica se naziva </a:t>
            </a: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opseg skupa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že biti: -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realan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zamišljen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 obzirom na broj jedinica, tj. na opseg skup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konač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beskonač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47840" y="492120"/>
            <a:ext cx="8156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Važno je jednoznačno definirati statistički sk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n mora biti definir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Verdana"/>
              </a:rPr>
              <a:t>- pojmovno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odrediti opća svojstv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svake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jedinice u skup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Verdana"/>
              </a:rPr>
              <a:t>- prostorno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odrediti prostor za koji se vežu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sve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jedinice sku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66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66"/>
                </a:solidFill>
                <a:latin typeface="Verdana"/>
              </a:rPr>
              <a:t>vremenski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odrediti vrijeme za koje se vežu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sve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jedinice skup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kup podataka o promotrenom svojstvu svih jedinica statističkog skupa je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Verdana"/>
              </a:rPr>
              <a:t>populacija ili osnovni skup</a:t>
            </a: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dskup populacije je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Verdana"/>
              </a:rPr>
              <a:t>uzor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482760" y="682560"/>
            <a:ext cx="8337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Verdana"/>
              </a:rPr>
              <a:t>Podaci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 promotrena kvalitativna i kvantitativna svojstva jedinica statističkog skupa ili njegova podskupa (objekti, stvari, osobe, proces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ni su statistički ako su prikupljeni prema definiranom planu promatranja ili planu pokusa, ako su varijabilni i ako ih je dovolj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Verdana"/>
              </a:rPr>
              <a:t>Izvori podataka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: - primarni  (primarni poda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- sekundarni(sekundarni podac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Izvorni podaci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izraženi u mjernim jedinicama danog svoj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Izvedeni podaci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nastali provođenjem brojčanih postupaka s podacima koji se odnose na jednu ili više varijab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68360" y="260280"/>
            <a:ext cx="808344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cc00"/>
                </a:solidFill>
                <a:uFillTx/>
                <a:latin typeface="Verdana"/>
              </a:rPr>
              <a:t>Statistička obilježja (varij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- Svojstva jedinica statističkog skupa po kojima se one razlikuju ili jedne drugima naliku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Kvalitativno obilježje: </a:t>
            </a:r>
            <a:r>
              <a:rPr b="1" i="1" lang="hr-HR" sz="2400" spc="-1" strike="noStrike">
                <a:solidFill>
                  <a:srgbClr val="66ff66"/>
                </a:solidFill>
                <a:latin typeface="Verdana"/>
              </a:rPr>
              <a:t>- nominalno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      (atributivno i geograf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i="1" lang="hr-HR" sz="2400" spc="-1" strike="noStrike">
                <a:solidFill>
                  <a:srgbClr val="66ff66"/>
                </a:solidFill>
                <a:latin typeface="Verdana"/>
              </a:rPr>
              <a:t>redosljedno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kvantitativno obilježje: </a:t>
            </a:r>
            <a:r>
              <a:rPr b="1" i="1" lang="hr-HR" sz="2400" spc="-1" strike="noStrike">
                <a:solidFill>
                  <a:srgbClr val="66ff66"/>
                </a:solidFill>
                <a:latin typeface="Verdana"/>
              </a:rPr>
              <a:t>numeričko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 (diskretno i kontinuiran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Oblici u kojima se pojavljuju obilježja su </a:t>
            </a:r>
            <a:r>
              <a:rPr b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modaliteti obiljež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50920" y="141300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atistički podaci su rezultati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mjerenja svojstava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jedinica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obilježja) statističkih skupo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Mjerenje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-  pridruživanje numeričkih i nenumeričkih oznaka jedinicama skupa prema određenom pravil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stupak mjerenja se temelji na primjeni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mjernih ska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447840" y="1500120"/>
            <a:ext cx="822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Verdana"/>
              </a:rPr>
              <a:t>Skal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je skup modaliteta (oblika) varijable (obilježj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 obzirom na metrička svojstva razlikuju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nomina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ordinalna (ra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interva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omjerna mjerna ska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kala se mora definirati prije svakog mjere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3816360" cy="10764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395280" y="1844640"/>
            <a:ext cx="6048360" cy="30830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064160" y="5081760"/>
            <a:ext cx="57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onzultacije: ponedjeljak  11:00 – 13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četvrtak  12:00 – 14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31840" y="347760"/>
            <a:ext cx="837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Nominalna skal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- dana u obliku nenumeričkog skupa, odnosno liste naziva (atributa, ketegorija, slovnih oznaka), redoslijed je proizvolj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atributivna i geografska ska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Nomenklatura je dogovorno utvrđen popis oblika nominalne varij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Ordinalna </a:t>
            </a:r>
            <a:r>
              <a:rPr b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skal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pridružuje slovne oznake, simbole  ili brojeve elementima skupa prema intenzitetu mjerenog svojstva. Poredak je određen intenzitetom promatranog svojst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47840" y="563400"/>
            <a:ext cx="8300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Intervalna skal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– jedinicama se pridružuju brojevi sukladno intenzitetu mjerenog svojstva (ima definiranu mjernu jedinicu i dogovorno utvrđenu nulu). Jednake razlike brojeva na toj skali govore o jednakoj razlici mjerenih svojsta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mislene su sve osnovne računske operacije osim dijeljen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Omjerna skal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- pridružuju se jedinicama brojevi sukladno intenzitetu, ali ima definiranu mjernu jedinicu i nulu koja označava nepostojanje svojstva), a omjeri vrijednosti imaju smisleno znače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68360" y="49212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Matrica podat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rikupljeni podaci se uobičajeno prezentiraju u 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matrici podatak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D, reda NxK ( N je broj jedinica, a K je broj varijab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Retci matrice su entiteti (sadrže podatke o svim promotrenim svojstvima jedne jedinice statističkog sku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tupci matrice sadrže za svako promotreno svojstvo podatke za sve jedinice statističkog sku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592200" y="1284120"/>
            <a:ext cx="7435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Statistički programski  pake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P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TATI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Mini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RATS i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Ostala programska potpo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LO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68360" y="0"/>
            <a:ext cx="8372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mjer 1.9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kup se sastoji od 8666 diplomiranih studenata sveučilišnog studija na u RH 1999. godine. Podaci o diplomiranim studentima prikupljaju se pomoću statističkog lista. Među njima su i ov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pol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jesto rođenja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ržavljanstvo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čin studir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zanimanje roditelja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roj članova kućan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bivališ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ro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thodna škol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826920" y="105264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Definirajte statistički skup, koliki mu je opse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Kojoj vrsti pripadaju podaci dobiveni pomoću statističkog lista? Navedite moguće modalitete nekih od navedenih obilježja i neke od popula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VIDI ZADATAK 1.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258920" y="836640"/>
          <a:ext cx="712944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836640"/>
                    <a:ext cx="712944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95280" y="193680"/>
            <a:ext cx="835344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REĐIVANJE PODATAKA. STATISTIČKI NIZ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iz kvalitativnih podat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umerički niz (distribucija frekvenci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Formiranje statističkog niza i njegovo tabelarno i grafičko prikaz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nogobrojnost statističkih podat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rede li se (grupiraju se) podaci o promotrenom obilježju (varijabli) jedinica statističkog skupa nastaje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statistički niz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5280" y="620640"/>
            <a:ext cx="83534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447840" y="779400"/>
            <a:ext cx="801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Grupiranje podataka - postupak kojim se skup N podataka raščlanjuje na 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disjunktnih podskupova. Grupiranje mora biti </a:t>
            </a:r>
            <a:r>
              <a:rPr b="1" lang="hr-HR" sz="2400" spc="-1" strike="noStrike">
                <a:solidFill>
                  <a:srgbClr val="ff3300"/>
                </a:solidFill>
                <a:latin typeface="Verdana"/>
              </a:rPr>
              <a:t>iscrpno i isključ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nominalni statistički</a:t>
            </a:r>
            <a:r>
              <a:rPr b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niz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redosljedni niz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numerički niz ili distribucija frekvencij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Kronološkim nizanjem  podataka o nekoj pojavi nastaje </a:t>
            </a:r>
            <a:r>
              <a:rPr b="1" i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vremenski ni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92360" y="2492280"/>
            <a:ext cx="3167280" cy="1152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780000" y="2565360"/>
            <a:ext cx="50472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427280" y="2492280"/>
            <a:ext cx="14436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59280" y="2492280"/>
            <a:ext cx="7308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35640" y="2492280"/>
            <a:ext cx="14436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5940360" y="2349360"/>
                <a:ext cx="279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564000" y="2997360"/>
                <a:ext cx="3427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3924360" y="3213000"/>
                <a:ext cx="3682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5737320" y="3141720"/>
                <a:ext cx="3175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19120" y="708120"/>
            <a:ext cx="8013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ff66"/>
                </a:solidFill>
                <a:latin typeface="Verdana"/>
              </a:rPr>
              <a:t>Jednodimenzionalna analiz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( predmet analize su podaci o jednoj varijab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ff66"/>
                </a:solidFill>
                <a:latin typeface="Verdana"/>
              </a:rPr>
              <a:t>Višedimenzionalna analiz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(više varijab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Osnovna brojčana analiza podataka u sklopu deskriptivne statistike provodi se pomoću 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relativnih brojev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ropor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ostotci (relativne frekvenci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Inde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Relativni brojevi koordinacije (koeficijenti, indikator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755640" y="836640"/>
            <a:ext cx="734364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Cilj predm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upoznati studente s osnovnim statističkim metodama i modelima koje se koriste u području ekonomije i poslovne ekonomi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predočavanju osobitosti  odabranih metoda i modela, mogućnostima njihove konkretne primjene i ispravne interpretacije dobivenih rezultat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primjena odgovarajuće programske potpo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684360" y="404640"/>
          <a:ext cx="7991280" cy="583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04640"/>
                    <a:ext cx="7991280" cy="58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539640" y="477720"/>
          <a:ext cx="8209080" cy="551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7720"/>
                    <a:ext cx="8209080" cy="55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324000" y="836640"/>
          <a:ext cx="835164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6640"/>
                    <a:ext cx="835164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"/>
          <p:cNvGraphicFramePr/>
          <p:nvPr/>
        </p:nvGraphicFramePr>
        <p:xfrm>
          <a:off x="2701800" y="907920"/>
          <a:ext cx="385452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1800" y="907920"/>
                    <a:ext cx="385452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1539000" y="1778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Statistički niz, apsolutne frekv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3252960" y="1228680"/>
          <a:ext cx="3838320" cy="522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1228680"/>
                    <a:ext cx="3838320" cy="52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1245600" y="69228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Verdana"/>
              </a:rPr>
              <a:t>Statistički niz, relativne  frekvencije, postot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611280" y="674640"/>
          <a:ext cx="784836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674640"/>
                    <a:ext cx="784836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808200" y="1139760"/>
            <a:ext cx="758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Tako grupirani podaci se uobičajeno prikazuju u </a:t>
            </a:r>
            <a:r>
              <a:rPr b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tabeli kontingence (kombiniranoj tabeli)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i analiziraju pomoću relativnih frekvencija (vidi vjež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tatistički niz se prikazuje </a:t>
            </a:r>
            <a:r>
              <a:rPr b="1" lang="hr-HR" sz="2400" spc="-1" strike="noStrike" u="sng">
                <a:solidFill>
                  <a:srgbClr val="ffffff"/>
                </a:solidFill>
                <a:uFillTx/>
                <a:latin typeface="Verdana"/>
              </a:rPr>
              <a:t>tabelarno i grafički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032840" y="415800"/>
            <a:ext cx="6935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RIMJER 2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redmet istraživanja je potrošnja inozem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utnika u Hrvatskoj 1998. god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N = 19718 inozemnih put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Anketni upitnik (str. 17 u udžbeni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Matrica podataka (str. 18. u udžbeni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611280" y="363600"/>
          <a:ext cx="8208720" cy="625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63600"/>
                    <a:ext cx="8208720" cy="625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1116000" y="907920"/>
          <a:ext cx="7056360" cy="56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907920"/>
                    <a:ext cx="705636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1619280" y="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Grupiranje primarnih podat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i formiranje statističkih niz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539640" y="90792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Sažeti sadrža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Definicije statistike. Temeljni pojmovi statistike. Pregled programske potpore, Metode deskriptivne statistike. Osnovni pojmovi o vjerojatnosti. Distribucije vjerojatnosti i njihove primjene. Inferencijalna statistika. Procjene parametara i testiranje hipoteza.  Regresijski model i njegova analiza. Vremenski nizovi i njihova analiza metodama deskriptivne statistike. Odabrani modeli trenda. Metode desezoniranja. Pojam stohastičkog procesa.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826920" y="1473120"/>
          <a:ext cx="7632720" cy="517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73120"/>
                    <a:ext cx="7632720" cy="51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1261080" y="415800"/>
            <a:ext cx="45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Jednostavni uspravni stupc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apsolutne frekve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826920" y="914400"/>
          <a:ext cx="7632720" cy="55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14400"/>
                    <a:ext cx="7632720" cy="55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882000" y="20304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Verdana"/>
              </a:rPr>
              <a:t>Kumulativni n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08000" y="950760"/>
          <a:ext cx="885672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50760"/>
                    <a:ext cx="885672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515880" y="25092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Tabela kontin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395280" y="647640"/>
          <a:ext cx="8497800" cy="59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47640"/>
                    <a:ext cx="84978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880920" y="106200"/>
            <a:ext cx="50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Analiza pomoću relativnih frekven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395280" y="1422360"/>
          <a:ext cx="8280360" cy="51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22360"/>
                    <a:ext cx="828036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611640" y="60948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Razdijeljeni stup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395280" y="676440"/>
          <a:ext cx="8497800" cy="60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76440"/>
                    <a:ext cx="8497800" cy="60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627840" y="17784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Skupna tab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395280" y="977760"/>
          <a:ext cx="8497800" cy="56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77760"/>
                    <a:ext cx="8497800" cy="56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"/>
          <p:cNvSpPr/>
          <p:nvPr/>
        </p:nvSpPr>
        <p:spPr>
          <a:xfrm>
            <a:off x="643680" y="250920"/>
            <a:ext cx="22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Dvostruki stup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468360" y="712800"/>
          <a:ext cx="849636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712800"/>
                    <a:ext cx="849636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>
            <a:off x="794160" y="106200"/>
            <a:ext cx="25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Strukturni krug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776880" y="1876320"/>
            <a:ext cx="660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DETALJNIJE O TABELARNOM I GRAFIČK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RIKAZIVANJU NIZOVA KVALITATIVNI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ODATAKANA VJEŽB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I SAMOSTALNO IZ UDŽBENIKA</a:t>
            </a:r>
            <a:r>
              <a:rPr b="0" lang="hr-HR" sz="18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539640" y="804960"/>
            <a:ext cx="8229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Šošić, I. (2006).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imijenjena statistik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 II. izdanje. Zagreb: Školska knj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Šošić, I. (2007).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egled formula iz statistike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Zagreb: Školska knjig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7" descr="m_12632"/>
          <p:cNvPicPr/>
          <p:nvPr/>
        </p:nvPicPr>
        <p:blipFill>
          <a:blip r:embed="rId2"/>
          <a:stretch/>
        </p:blipFill>
        <p:spPr>
          <a:xfrm>
            <a:off x="1908000" y="3716280"/>
            <a:ext cx="1944720" cy="2232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Šošić, Ivan: Pregled formula iz statistike"/>
          <p:cNvPicPr/>
          <p:nvPr/>
        </p:nvPicPr>
        <p:blipFill>
          <a:blip r:embed="rId3"/>
          <a:stretch/>
        </p:blipFill>
        <p:spPr>
          <a:xfrm>
            <a:off x="5508720" y="3789360"/>
            <a:ext cx="1584360" cy="20876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537840" y="106200"/>
            <a:ext cx="28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teratura obavez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75120" y="985680"/>
            <a:ext cx="70448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Literatura dopun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McClave T.J., et al. (200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Statistics for Business and Economics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Upper Saddle River.N.J.: Prentice-H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Internatio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Newbold P. et al.(2003). 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Statistics for Busi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and Economics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. Upper Saddle River.N.J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Prentice-Hall International;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Priručnici za programsku potpo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815400" y="836640"/>
            <a:ext cx="7418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Nastavne met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Predavanja, vježbe, konzultacij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rad na računalu, demonstratu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Konzultacije su dane na stranici Katedr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(http://www.efzg.hr/default.aspx?id=3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Programska pot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SAS, STATISTICA,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StatMaster,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Excel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; potpora na Internetu slobodnog dohv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63480" y="919080"/>
            <a:ext cx="8156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Obveze studen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tudenti su du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ni poha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đ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ti predavanja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vje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be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Obveza je studenata da provedu statisti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obradu i analizu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primjera pomoć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programske potpore (rad u računskom centru uz stručnu pomoć demonstrato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Raspored rada s programskom potpo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bit će oglašen na oglasnoj ploč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Katedre za statistiku (prvi kat sjeverni di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Pored kabineta B-1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457200" y="76500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0000"/>
                </a:solidFill>
                <a:latin typeface="Verdana"/>
              </a:rPr>
              <a:t>Ispit iz predmeta Statistika je </a:t>
            </a:r>
            <a:r>
              <a:rPr b="1" i="1" lang="hr-HR" sz="2300" spc="-1" strike="noStrike">
                <a:solidFill>
                  <a:srgbClr val="000000"/>
                </a:solidFill>
                <a:latin typeface="Verdana"/>
              </a:rPr>
              <a:t>pisani i usmeni</a:t>
            </a:r>
            <a:r>
              <a:rPr b="1" lang="hr-HR" sz="2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0000"/>
                </a:solidFill>
                <a:latin typeface="Verdana"/>
              </a:rPr>
              <a:t>Uvjet za pristup usmenom ispitu je položen pisani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0000"/>
                </a:solidFill>
                <a:latin typeface="Verdana"/>
              </a:rPr>
              <a:t>Pisani ispiti održavaju se prema sljedećem rasporedu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11. 06. 2008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02. 07. 2008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10. 07. 2008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03. 09. 2008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0000"/>
                </a:solidFill>
                <a:latin typeface="Verdana"/>
              </a:rPr>
              <a:t>Ispit se prijavljuje osam dana prije ispitnog termina putem Webomata / studomat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3:53:26Z</dcterms:created>
  <dc:creator>mcizmesija</dc:creator>
  <dc:description/>
  <dc:language>en-US</dc:language>
  <cp:lastModifiedBy>mcizmesija</cp:lastModifiedBy>
  <dcterms:modified xsi:type="dcterms:W3CDTF">2008-02-28T12:53:44Z</dcterms:modified>
  <cp:revision>21</cp:revision>
  <dc:subject/>
  <dc:title>Slajd 1</dc:title>
</cp:coreProperties>
</file>