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1528-189A-4935-92A8-48AABCD6F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7E1A-0726-4C74-A29B-133113E32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184D-2ADD-44C8-A4AF-DCFE47161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9DFD-2DCC-4BE7-AD00-44283BF34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F2C4A-DB15-47A4-AF01-E5D04FA1B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275BC-F76F-457C-98F7-60CE51D62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5B599-41AF-4D34-B5E5-A4220527E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E4CDA-A3ED-44CB-B18B-787F8CBBB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FD303-687D-4AE9-88C7-4545D2D17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BAAAD-1222-4772-83F9-34B697107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AD179-9971-4BAC-9C7D-1894B70A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1104-D5A1-420D-8ECB-79F62AFEC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63BCA-08DD-4EB5-8250-7C24EBF5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19A53-927E-44EF-AB80-1C683BD7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94541-84DA-45C3-8DD9-C1B90F4C9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C7FE9-8D6D-4639-9026-2FEF05338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111B7-3FA6-4935-9041-EE4032C5E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0A375-8999-4534-A5E8-14B0D7B12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D0909-93AD-41D3-B5A7-E474B0B67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B5DD3-3D77-4F93-AEC3-4A4BB8534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734FC-B82B-4491-BDD1-7FEEC9CD8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1A923-87C1-4551-9CA6-9DA114544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1FF8-3DA6-43EE-872B-157980244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36BE5-785A-4974-A0B8-77B1BEB0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B07C6-5501-4F30-8C5D-C72F3278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0F331-0B51-4812-989A-6017E65E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DCB43-4786-47F9-85A9-BA75F802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8FA74-8D39-416A-AC54-E542645A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9A516-1A16-48F1-8D33-923919059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9E4AA-7F7F-46F3-8C62-D89E1491C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9F6AC-D617-4D3D-B3EB-B5B197FE2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D4AAA-BD9C-4E53-AFBB-B4539C465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BBC7D-5A81-4E7C-8FE0-3DBBD5BB1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E27C-0C73-4BDA-8941-29185F6AF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3222C-4A2B-4537-A2E4-92A71E655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B50D1-08AF-46C3-BFDA-1B9213DC3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0F276-21AC-4345-B245-C4BEE6A0D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A8543-8173-4FBE-99A3-6EADC207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26DD0-3BA1-45EB-A1EF-1F087DAD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39814-8F0F-4885-B875-5EA9287C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BE124-03F1-4C1A-98C7-AD736EB2F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B04AA-A7D3-448A-B779-18732ED5D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FC7A9-1FE8-4521-82E3-DF09CBBA8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4F68-8982-4D4C-A321-C08AC6FAE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1144-175F-4779-A493-9AA3D13C8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9F59-7E30-4F6F-B3D4-02DD4747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4C6F-6338-436F-8BBC-5EFDD1AB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D0A5-47C5-4C71-9089-88B9C363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9643F-DFFD-4FC9-BF88-73BE0F34267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1A42D-3BC9-4189-848C-2DB43492B9F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86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88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00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37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19E1-A4A3-4F15-A826-890298157A7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91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93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05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24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42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9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A552A-D943-4B66-8C06-26175770988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68000" y="3860640"/>
            <a:ext cx="83516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Verdana"/>
              </a:rPr>
              <a:t>Predavanja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Verdana"/>
              </a:rPr>
              <a:t>doc. dr. sc. Mirjana Čižmešij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1763640" y="1700280"/>
            <a:ext cx="498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Statistik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456840" y="765000"/>
            <a:ext cx="80157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Verdana"/>
              </a:rPr>
              <a:t>Kolokvi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Studenti mogu pristupiti </a:t>
            </a:r>
            <a:r>
              <a:rPr b="1" i="1" lang="de-DE" sz="2000" spc="-1" strike="noStrike">
                <a:solidFill>
                  <a:srgbClr val="000000"/>
                </a:solidFill>
                <a:latin typeface="Verdana"/>
              </a:rPr>
              <a:t>kolokvijima.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Kolokvij je u pisanom obliku.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O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držati 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će 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kolokvij, 2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.04.200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II. kolokvij, 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09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.06.200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Studenti koji s uspjehom polože kolokvije oslobađaj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se polaganja pismenog uspi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Verdana"/>
              </a:rPr>
              <a:t>Studenti s uspješno</a:t>
            </a:r>
            <a:r>
              <a:rPr b="1" i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de-DE" sz="2000" spc="-1" strike="noStrike">
                <a:solidFill>
                  <a:srgbClr val="000000"/>
                </a:solidFill>
                <a:latin typeface="Verdana"/>
              </a:rPr>
              <a:t>položena oba kolokvija dužni 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Verdana"/>
              </a:rPr>
              <a:t>pristupiti ispitu iz Statistike u prvom ispitnom roku.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U drugim ispitnim rokovima studenti polažu pismen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ispit u cijelosti. Na koloviju, odnosno pismen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dopušteno je koristiti Pregled formu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(bez bilježaka na njima), kalkulator i pribor za pisanje.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439560" y="1052640"/>
            <a:ext cx="1740888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Statistika 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znanstvena meto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koja se bavi prikupljanjem, uređivanjem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nalizom i tumačenjem podataka različite vrst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kup uređenih brojčanih podataka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azličitim prirodnim i društvenim pojava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koje prikupljaju i objavljuju statističke, stručn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znanstveno-istraživačke i druge ustano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- numerička analitička met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79280" y="549360"/>
            <a:ext cx="97236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Verdana"/>
              </a:rPr>
              <a:t>Statistički modeli i metode se primjenjuju u stručn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Verdana"/>
              </a:rPr>
              <a:t>i znanstvenim djelatnostim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Verdana"/>
              </a:rPr>
              <a:t>U ekonomiji se prikupljaju podac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Verdana"/>
              </a:rPr>
              <a:t>o industrijskoj, poljoprivrednoj i drugoj proizvodnji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Verdana"/>
              </a:rPr>
              <a:t>unutrašnjoj i vanjskoj trgovini, turizmu, cijenam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Verdana"/>
              </a:rPr>
              <a:t>financijskim tokovima i drugim ekonomskim pojava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Verdana"/>
              </a:rPr>
              <a:t>Primjena statističkih modela na razini poduzeć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Verdana"/>
              </a:rPr>
              <a:t>(mikro razina) ili na makroekonomskoj raz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Verdana"/>
              </a:rPr>
              <a:t>(ekonometrijski model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Verdana"/>
              </a:rPr>
              <a:t>-empirijska istraživanja u sociologiji, biologiji, medicini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Verdana"/>
              </a:rPr>
              <a:t>demografij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Verdana"/>
              </a:rPr>
              <a:t>- u području metoeorologij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Verdana"/>
              </a:rPr>
              <a:t>- fizik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Verdana"/>
              </a:rPr>
              <a:t>-kontrole kvalitete proizvoda i t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03120" y="852480"/>
            <a:ext cx="8085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s obzirom na pristup analizi razlikuje 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* </a:t>
            </a:r>
            <a:r>
              <a:rPr b="1" i="1" lang="hr-HR" sz="2400" spc="-1" strike="noStrike">
                <a:solidFill>
                  <a:srgbClr val="ff3300"/>
                </a:solidFill>
                <a:latin typeface="Verdana"/>
              </a:rPr>
              <a:t>deskriptivna statistika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 – postupak uređivanja, grupiranja, tabeliranja, grafičkog prikazivanja  statističkih podataka te izračunavanje različitih statističko analitičkih velič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* </a:t>
            </a:r>
            <a:r>
              <a:rPr b="1" i="1" lang="hr-HR" sz="2400" spc="-1" strike="noStrike">
                <a:solidFill>
                  <a:srgbClr val="ff3300"/>
                </a:solidFill>
                <a:latin typeface="Verdana"/>
              </a:rPr>
              <a:t>inferencijalna statistika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 – polazi od uzorka, donose se zaključci o cjelini. Procjenjuju se nepoznati parametri cijelog skupa i testiraju hipoteze o nji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84360" y="549360"/>
            <a:ext cx="7796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OSNOVNI STATISTIČKI POJMO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Statistički skup, populacija i uzor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Verdana"/>
              </a:rPr>
              <a:t>Statistički skup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je skup elemenata (jedinica) čija su kvalitativna  ili kvantitativna svojstva predmet statističke analiz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roj jedinica se naziva </a:t>
            </a:r>
            <a:r>
              <a:rPr b="1" lang="en-US" sz="2400" spc="-1" strike="noStrike">
                <a:solidFill>
                  <a:srgbClr val="ffcc00"/>
                </a:solidFill>
                <a:latin typeface="Verdana"/>
              </a:rPr>
              <a:t>opseg skupa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(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ože biti: - 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realan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zamišljen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 obzirom na broj jedinica, tj. na opseg skup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konač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beskonač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447840" y="492120"/>
            <a:ext cx="81565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Važno je jednoznačno definirati statistički sk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n mora biti definir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66"/>
                </a:solidFill>
                <a:latin typeface="Verdana"/>
              </a:rPr>
              <a:t>- pojmovno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(odrediti opća svojstv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svake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jedinice u skup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66"/>
                </a:solidFill>
                <a:latin typeface="Verdana"/>
              </a:rPr>
              <a:t>- prostorno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(odrediti prostor za koji se vežu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sve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jedinice skup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ff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66"/>
                </a:solidFill>
                <a:latin typeface="Verdana"/>
              </a:rPr>
              <a:t>vremenski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(odrediti vrijeme za koje se vežu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sve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jedinice skup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kup podataka o promotrenom svojstvu svih jedinica statističkog skupa je </a:t>
            </a:r>
            <a:r>
              <a:rPr b="1" lang="en-US" sz="2400" spc="-1" strike="noStrike" u="sng">
                <a:solidFill>
                  <a:srgbClr val="ffcc00"/>
                </a:solidFill>
                <a:uFillTx/>
                <a:latin typeface="Verdana"/>
              </a:rPr>
              <a:t>populacija ili osnovni skup</a:t>
            </a:r>
            <a:r>
              <a:rPr b="1" lang="en-US" sz="2400" spc="-1" strike="noStrike">
                <a:solidFill>
                  <a:srgbClr val="ffcc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dskup populacije je </a:t>
            </a:r>
            <a:r>
              <a:rPr b="1" lang="en-US" sz="2400" spc="-1" strike="noStrike" u="sng">
                <a:solidFill>
                  <a:srgbClr val="ffcc00"/>
                </a:solidFill>
                <a:uFillTx/>
                <a:latin typeface="Verdana"/>
              </a:rPr>
              <a:t>uzora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482760" y="682560"/>
            <a:ext cx="8337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Verdana"/>
              </a:rPr>
              <a:t>Podaci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u promotrena kvalitativna i kvantitativna svojstva jedinica statističkog skupa ili njegova podskupa (objekti, stvari, osobe, procesi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ni su statistički ako su prikupljeni prema definiranom planu promatranja ili planu pokusa, ako su varijabilni i ako ih je dovolj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Verdana"/>
              </a:rPr>
              <a:t>Izvori podataka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: - primarni  (primarni podac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- sekundarni(sekundarni podaci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Izvorni podaci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(izraženi u mjernim jedinicama danog svojst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Izvedeni podaci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(nastali provođenjem brojčanih postupaka s podacima koji se odnose na jednu ili više varijab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468360" y="260280"/>
            <a:ext cx="8083440" cy="52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ffcc00"/>
                </a:solidFill>
                <a:uFillTx/>
                <a:latin typeface="Verdana"/>
              </a:rPr>
              <a:t>Statistička obilježja (varij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- Svojstva jedinica statističkog skupa po kojima se one razlikuju ili jedne drugima naliku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ffffff"/>
                </a:solidFill>
                <a:latin typeface="Verdana"/>
              </a:rPr>
              <a:t>Kvalitativno obilježje: </a:t>
            </a:r>
            <a:r>
              <a:rPr b="1" i="1" lang="hr-HR" sz="2400" spc="-1" strike="noStrike">
                <a:solidFill>
                  <a:srgbClr val="66ff66"/>
                </a:solidFill>
                <a:latin typeface="Verdana"/>
              </a:rPr>
              <a:t>- nominalno</a:t>
            </a:r>
            <a:r>
              <a:rPr b="1" i="1" lang="hr-HR" sz="2400" spc="-1" strike="noStrike">
                <a:solidFill>
                  <a:srgbClr val="ffffff"/>
                </a:solidFill>
                <a:latin typeface="Verdana"/>
              </a:rPr>
              <a:t>      (atributivno i geografsk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hr-H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hr-H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hr-HR" sz="24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1" i="1" lang="hr-HR" sz="24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1" i="1" lang="hr-HR" sz="2400" spc="-1" strike="noStrike">
                <a:solidFill>
                  <a:srgbClr val="66ff66"/>
                </a:solidFill>
                <a:latin typeface="Verdana"/>
              </a:rPr>
              <a:t>redosljedno</a:t>
            </a:r>
            <a:r>
              <a:rPr b="1" i="1" lang="hr-HR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ffffff"/>
                </a:solidFill>
                <a:latin typeface="Verdana"/>
              </a:rPr>
              <a:t>kvantitativno obilježje: </a:t>
            </a:r>
            <a:r>
              <a:rPr b="1" i="1" lang="hr-HR" sz="2400" spc="-1" strike="noStrike">
                <a:solidFill>
                  <a:srgbClr val="66ff66"/>
                </a:solidFill>
                <a:latin typeface="Verdana"/>
              </a:rPr>
              <a:t>numeričko</a:t>
            </a:r>
            <a:r>
              <a:rPr b="1" i="1" lang="hr-HR" sz="2400" spc="-1" strike="noStrike">
                <a:solidFill>
                  <a:srgbClr val="ffffff"/>
                </a:solidFill>
                <a:latin typeface="Verdana"/>
              </a:rPr>
              <a:t> (diskretno i kontinuiran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Oblici u kojima se pojavljuju obilježja su </a:t>
            </a:r>
            <a:r>
              <a:rPr b="1" lang="hr-HR" sz="2400" spc="-1" strike="noStrike" u="sng">
                <a:solidFill>
                  <a:srgbClr val="ffffff"/>
                </a:solidFill>
                <a:uFillTx/>
                <a:latin typeface="Verdana"/>
              </a:rPr>
              <a:t>modaliteti obiljež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250920" y="1413000"/>
            <a:ext cx="8893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atistički podaci su rezultati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mjerenja svojstava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jedinica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(obilježja) statističkih skupo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Mjerenje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-  pridruživanje numeričkih i nenumeričkih oznaka jedinicama skupa prema određenom pravil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stupak mjerenja se temelji na primjeni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mjernih skal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447840" y="1500120"/>
            <a:ext cx="8227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Verdana"/>
              </a:rPr>
              <a:t>Skala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 je skup modaliteta (oblika) varijable (obilježj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S obzirom na metrička svojstva razlikuju 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nominal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ordinalna (ra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interval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omjerna mjerna ska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Skala se mora definirati prije svakog mjeren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755640" y="404640"/>
            <a:ext cx="3816360" cy="107640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3"/>
          <a:stretch/>
        </p:blipFill>
        <p:spPr>
          <a:xfrm>
            <a:off x="395280" y="1844640"/>
            <a:ext cx="6048360" cy="30830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1064160" y="5081760"/>
            <a:ext cx="57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onzultacije: ponedjeljak  11:00 – 13: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četvrtak  12:00 – 14: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231840" y="347760"/>
            <a:ext cx="8372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 u="sng">
                <a:solidFill>
                  <a:srgbClr val="ffffff"/>
                </a:solidFill>
                <a:uFillTx/>
                <a:latin typeface="Verdana"/>
              </a:rPr>
              <a:t>Nominalna skala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 - dana u obliku nenumeričkog skupa, odnosno liste naziva (atributa, ketegorija, slovnih oznaka), redoslijed je proizvolj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atributivna i geografska ska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Nomenklatura je dogovorno utvrđen popis oblika nominalne varij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 u="sng">
                <a:solidFill>
                  <a:srgbClr val="ffffff"/>
                </a:solidFill>
                <a:uFillTx/>
                <a:latin typeface="Verdana"/>
              </a:rPr>
              <a:t>Ordinalna </a:t>
            </a:r>
            <a:r>
              <a:rPr b="1" lang="hr-HR" sz="2400" spc="-1" strike="noStrike" u="sng">
                <a:solidFill>
                  <a:srgbClr val="ffffff"/>
                </a:solidFill>
                <a:uFillTx/>
                <a:latin typeface="Verdana"/>
              </a:rPr>
              <a:t>skala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 pridružuje slovne oznake, simbole  ili brojeve elementima skupa prema intenzitetu mjerenog svojstva. Poredak je određen intenzitetom promatranog svojstv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447840" y="563400"/>
            <a:ext cx="8300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 u="sng">
                <a:solidFill>
                  <a:srgbClr val="ffffff"/>
                </a:solidFill>
                <a:uFillTx/>
                <a:latin typeface="Verdana"/>
              </a:rPr>
              <a:t>Intervalna skala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 – jedinicama se pridružuju brojevi sukladno intenzitetu mjerenog svojstva (ima definiranu mjernu jedinicu i dogovorno utvrđenu nulu). Jednake razlike brojeva na toj skali govore o jednakoj razlici mjerenih svojstav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smislene su sve osnovne računske operacije osim dijeljen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 u="sng">
                <a:solidFill>
                  <a:srgbClr val="ffffff"/>
                </a:solidFill>
                <a:uFillTx/>
                <a:latin typeface="Verdana"/>
              </a:rPr>
              <a:t>Omjerna skala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 - pridružuju se jedinicama brojevi sukladno intenzitetu, ali ima definiranu mjernu jedinicu i nulu koja označava nepostojanje svojstva), a omjeri vrijednosti imaju smisleno značen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468360" y="492120"/>
            <a:ext cx="8064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ffffff"/>
                </a:solidFill>
                <a:uFillTx/>
                <a:latin typeface="Verdana"/>
              </a:rPr>
              <a:t>Matrica podata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Prikupljeni podaci se uobičajeno prezentiraju u </a:t>
            </a:r>
            <a:r>
              <a:rPr b="1" i="1" lang="hr-HR" sz="2400" spc="-1" strike="noStrike">
                <a:solidFill>
                  <a:srgbClr val="ffffff"/>
                </a:solidFill>
                <a:latin typeface="Verdana"/>
              </a:rPr>
              <a:t>matrici podataka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 D, reda NxK ( N je broj jedinica, a K je broj varijabl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Retci matrice su entiteti (sadrže podatke o svim promotrenim svojstvima jedne jedinice statističkog skup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Stupci matrice sadrže za svako promotreno svojstvo podatke za sve jedinice statističkog skup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592200" y="1284120"/>
            <a:ext cx="7435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ffffff"/>
                </a:solidFill>
                <a:uFillTx/>
                <a:latin typeface="Verdana"/>
              </a:rPr>
              <a:t>Statistički programski  pake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SP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STATI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Minit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RATS i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Ostala programska potpo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EXC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LO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468360" y="0"/>
            <a:ext cx="83725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imjer 1.9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kup se sastoji od 8666 diplomiranih studenata sveučilišnog studija na u RH 1999. godine. Podaci o diplomiranim studentima prikupljaju se pomoću statističkog lista. Među njima su i ov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pol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jesto rođenja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ržavljanstvo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ačin studir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zanimanje roditelja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roj članova kućanst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ebivališ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arod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ethodna škols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826920" y="1052640"/>
            <a:ext cx="7561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Definirajte statistički skup, koliki mu je opse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Kojoj vrsti pripadaju podaci dobiveni pomoću statističkog lista? Navedite moguće modalitete nekih od navedenih obilježja i neke od populaci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VIDI ZADATAK 1.1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258920" y="836640"/>
          <a:ext cx="7129440" cy="51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836640"/>
                    <a:ext cx="7129440" cy="51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395280" y="193680"/>
            <a:ext cx="8353440" cy="56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REĐIVANJE PODATAKA. STATISTIČKI NIZO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iz kvalitativnih podata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umerički niz (distribucija frekvencij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Formiranje statističkog niza i njegovo tabelarno i grafičko prikazi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nogobrojnost statističkih podata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rede li se (grupiraju se) podaci o promotrenom obilježju (varijabli) jedinica statističkog skupa nastaje 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statistički niz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95280" y="620640"/>
            <a:ext cx="835344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447840" y="779400"/>
            <a:ext cx="8011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Grupiranje podataka - postupak kojim se skup N podataka raščlanjuje na </a:t>
            </a:r>
            <a:r>
              <a:rPr b="1" i="1" lang="hr-HR" sz="2400" spc="-1" strike="noStrike">
                <a:solidFill>
                  <a:srgbClr val="ffffff"/>
                </a:solidFill>
                <a:latin typeface="Verdana"/>
              </a:rPr>
              <a:t>k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 disjunktnih podskupova. Grupiranje mora biti </a:t>
            </a:r>
            <a:r>
              <a:rPr b="1" lang="hr-HR" sz="2400" spc="-1" strike="noStrike">
                <a:solidFill>
                  <a:srgbClr val="ff3300"/>
                </a:solidFill>
                <a:latin typeface="Verdana"/>
              </a:rPr>
              <a:t>iscrpno i isključ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r>
              <a:rPr b="1" i="1" lang="hr-HR" sz="2400" spc="-1" strike="noStrike" u="sng">
                <a:solidFill>
                  <a:srgbClr val="ffffff"/>
                </a:solidFill>
                <a:uFillTx/>
                <a:latin typeface="Verdana"/>
              </a:rPr>
              <a:t>nominalni statistički</a:t>
            </a:r>
            <a:r>
              <a:rPr b="1" lang="hr-HR" sz="24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r>
              <a:rPr b="1" i="1" lang="hr-HR" sz="2400" spc="-1" strike="noStrike" u="sng">
                <a:solidFill>
                  <a:srgbClr val="ffffff"/>
                </a:solidFill>
                <a:uFillTx/>
                <a:latin typeface="Verdana"/>
              </a:rPr>
              <a:t>niz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r>
              <a:rPr b="1" i="1" lang="hr-HR" sz="2400" spc="-1" strike="noStrike" u="sng">
                <a:solidFill>
                  <a:srgbClr val="ffffff"/>
                </a:solidFill>
                <a:uFillTx/>
                <a:latin typeface="Verdana"/>
              </a:rPr>
              <a:t>redosljedni niz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r>
              <a:rPr b="1" i="1" lang="hr-HR" sz="2400" spc="-1" strike="noStrike" u="sng">
                <a:solidFill>
                  <a:srgbClr val="ffffff"/>
                </a:solidFill>
                <a:uFillTx/>
                <a:latin typeface="Verdana"/>
              </a:rPr>
              <a:t>numerički niz ili distribucija frekvencija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Kronološkim nizanjem  podataka o nekoj pojavi nastaje </a:t>
            </a:r>
            <a:r>
              <a:rPr b="1" i="1" lang="hr-HR" sz="2400" spc="-1" strike="noStrike" u="sng">
                <a:solidFill>
                  <a:srgbClr val="ffffff"/>
                </a:solidFill>
                <a:uFillTx/>
                <a:latin typeface="Verdana"/>
              </a:rPr>
              <a:t>vremenski ni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492360" y="2492280"/>
            <a:ext cx="3167280" cy="11527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3780000" y="2565360"/>
            <a:ext cx="504720" cy="86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4427280" y="2492280"/>
            <a:ext cx="144360" cy="115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859280" y="2492280"/>
            <a:ext cx="73080" cy="115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435640" y="2492280"/>
            <a:ext cx="144360" cy="115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5940360" y="2349360"/>
                <a:ext cx="2793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3564000" y="2997360"/>
                <a:ext cx="34272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3924360" y="3213000"/>
                <a:ext cx="36828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5737320" y="3141720"/>
                <a:ext cx="31752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k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519120" y="708120"/>
            <a:ext cx="8013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66ff66"/>
                </a:solidFill>
                <a:latin typeface="Verdana"/>
              </a:rPr>
              <a:t>Jednodimenzionalna analiza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 ( predmet analize su podaci o jednoj varijabl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66ff66"/>
                </a:solidFill>
                <a:latin typeface="Verdana"/>
              </a:rPr>
              <a:t>Višedimenzionalna analiza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 (više varijabl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Osnovna brojčana analiza podataka u sklopu deskriptivne statistike provodi se pomoću </a:t>
            </a:r>
            <a:r>
              <a:rPr b="1" i="1" lang="hr-HR" sz="2400" spc="-1" strike="noStrike">
                <a:solidFill>
                  <a:srgbClr val="ffffff"/>
                </a:solidFill>
                <a:latin typeface="Verdana"/>
              </a:rPr>
              <a:t>relativnih brojeva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Propor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Postotci (relativne frekvencij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Indek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Relativni brojevi koordinacije (koeficijenti, indikator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755640" y="836640"/>
            <a:ext cx="734364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Verdana"/>
              </a:rPr>
              <a:t>Cilj predm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upoznati studente s osnovnim statističkim metodama i modelima koje se koriste u području ekonomije i poslovne ekonomij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predočavanju osobitosti  odabranih metoda i modela, mogućnostima njihove konkretne primjene i ispravne interpretacije dobivenih rezultat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primjena odgovarajuće programske potpor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684360" y="404640"/>
          <a:ext cx="7991280" cy="583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04640"/>
                    <a:ext cx="7991280" cy="583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2" name=""/>
          <p:cNvGraphicFramePr/>
          <p:nvPr/>
        </p:nvGraphicFramePr>
        <p:xfrm>
          <a:off x="539640" y="477720"/>
          <a:ext cx="8209080" cy="551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77720"/>
                    <a:ext cx="8209080" cy="551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"/>
          <p:cNvGraphicFramePr/>
          <p:nvPr/>
        </p:nvGraphicFramePr>
        <p:xfrm>
          <a:off x="324000" y="836640"/>
          <a:ext cx="8351640" cy="461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836640"/>
                    <a:ext cx="835164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6" name=""/>
          <p:cNvGraphicFramePr/>
          <p:nvPr/>
        </p:nvGraphicFramePr>
        <p:xfrm>
          <a:off x="2701800" y="907920"/>
          <a:ext cx="3854520" cy="48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1800" y="907920"/>
                    <a:ext cx="385452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"/>
          <p:cNvSpPr/>
          <p:nvPr/>
        </p:nvSpPr>
        <p:spPr>
          <a:xfrm>
            <a:off x="1539000" y="177840"/>
            <a:ext cx="47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Verdana"/>
              </a:rPr>
              <a:t>Statistički niz, apsolutne frekven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9" name=""/>
          <p:cNvGraphicFramePr/>
          <p:nvPr/>
        </p:nvGraphicFramePr>
        <p:xfrm>
          <a:off x="3252960" y="1228680"/>
          <a:ext cx="3838320" cy="522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1228680"/>
                    <a:ext cx="3838320" cy="52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1245600" y="692280"/>
            <a:ext cx="53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Verdana"/>
              </a:rPr>
              <a:t>Statistički niz, relativne  frekvencije, postot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2" name=""/>
          <p:cNvGraphicFramePr/>
          <p:nvPr/>
        </p:nvGraphicFramePr>
        <p:xfrm>
          <a:off x="611280" y="674640"/>
          <a:ext cx="784836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674640"/>
                    <a:ext cx="784836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808200" y="1139760"/>
            <a:ext cx="7580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Tako grupirani podaci se uobičajeno prikazuju u </a:t>
            </a:r>
            <a:r>
              <a:rPr b="1" lang="hr-HR" sz="2400" spc="-1" strike="noStrike" u="sng">
                <a:solidFill>
                  <a:srgbClr val="ffffff"/>
                </a:solidFill>
                <a:uFillTx/>
                <a:latin typeface="Verdana"/>
              </a:rPr>
              <a:t>tabeli kontingence (kombiniranoj tabeli)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 i analiziraju pomoću relativnih frekvencija (vidi vježb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Statistički niz se prikazuje </a:t>
            </a:r>
            <a:r>
              <a:rPr b="1" lang="hr-HR" sz="2400" spc="-1" strike="noStrike" u="sng">
                <a:solidFill>
                  <a:srgbClr val="ffffff"/>
                </a:solidFill>
                <a:uFillTx/>
                <a:latin typeface="Verdana"/>
              </a:rPr>
              <a:t>tabelarno i grafički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1032840" y="415800"/>
            <a:ext cx="6935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PRIMJER 2.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Predmet istraživanja je potrošnja inozem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putnika u Hrvatskoj 1998. god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N = 19718 inozemnih put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Anketni upitnik (str. 17 u udžbenik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Matrica podataka (str. 18. u udžbenik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6" name=""/>
          <p:cNvGraphicFramePr/>
          <p:nvPr/>
        </p:nvGraphicFramePr>
        <p:xfrm>
          <a:off x="611280" y="363600"/>
          <a:ext cx="8208720" cy="625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63600"/>
                    <a:ext cx="8208720" cy="625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8" name=""/>
          <p:cNvGraphicFramePr/>
          <p:nvPr/>
        </p:nvGraphicFramePr>
        <p:xfrm>
          <a:off x="1116000" y="907920"/>
          <a:ext cx="7056360" cy="563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907920"/>
                    <a:ext cx="7056360" cy="56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"/>
          <p:cNvSpPr/>
          <p:nvPr/>
        </p:nvSpPr>
        <p:spPr>
          <a:xfrm>
            <a:off x="1619280" y="0"/>
            <a:ext cx="63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Grupiranje primarnih podatak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i formiranje statističkih niz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539640" y="907920"/>
            <a:ext cx="8280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Verdana"/>
              </a:rPr>
              <a:t>Sažeti sadržaj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Definicije statistike. Temeljni pojmovi statistike. Pregled programske potpore, Metode deskriptivne statistike. Osnovni pojmovi o vjerojatnosti. Distribucije vjerojatnosti i njihove primjene. Inferencijalna statistika. Procjene parametara i testiranje hipoteza.  Regresijski model i njegova analiza. Vremenski nizovi i njihova analiza metodama deskriptivne statistike. Odabrani modeli trenda. Metode desezoniranja. Pojam stohastičkog procesa.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1" name=""/>
          <p:cNvGraphicFramePr/>
          <p:nvPr/>
        </p:nvGraphicFramePr>
        <p:xfrm>
          <a:off x="826920" y="1473120"/>
          <a:ext cx="7632720" cy="517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473120"/>
                    <a:ext cx="7632720" cy="51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1261080" y="415800"/>
            <a:ext cx="456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Jednostavni uspravni stupc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apsolutne frekven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4" name=""/>
          <p:cNvGraphicFramePr/>
          <p:nvPr/>
        </p:nvGraphicFramePr>
        <p:xfrm>
          <a:off x="826920" y="914400"/>
          <a:ext cx="7632720" cy="555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914400"/>
                    <a:ext cx="7632720" cy="55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6" name=""/>
          <p:cNvSpPr/>
          <p:nvPr/>
        </p:nvSpPr>
        <p:spPr>
          <a:xfrm>
            <a:off x="882000" y="203040"/>
            <a:ext cx="18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Verdana"/>
              </a:rPr>
              <a:t>Kumulativni ni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"/>
          <p:cNvGraphicFramePr/>
          <p:nvPr/>
        </p:nvGraphicFramePr>
        <p:xfrm>
          <a:off x="108000" y="950760"/>
          <a:ext cx="885672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950760"/>
                    <a:ext cx="885672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515880" y="250920"/>
            <a:ext cx="26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Verdana"/>
              </a:rPr>
              <a:t>Tabela kontin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0" name=""/>
          <p:cNvGraphicFramePr/>
          <p:nvPr/>
        </p:nvGraphicFramePr>
        <p:xfrm>
          <a:off x="395280" y="647640"/>
          <a:ext cx="8497800" cy="598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647640"/>
                    <a:ext cx="8497800" cy="59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" name=""/>
          <p:cNvSpPr/>
          <p:nvPr/>
        </p:nvSpPr>
        <p:spPr>
          <a:xfrm>
            <a:off x="880920" y="106200"/>
            <a:ext cx="50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Verdana"/>
              </a:rPr>
              <a:t>Analiza pomoću relativnih frekvenc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"/>
          <p:cNvGraphicFramePr/>
          <p:nvPr/>
        </p:nvGraphicFramePr>
        <p:xfrm>
          <a:off x="395280" y="1422360"/>
          <a:ext cx="8280360" cy="51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422360"/>
                    <a:ext cx="8280360" cy="51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5" name=""/>
          <p:cNvSpPr/>
          <p:nvPr/>
        </p:nvSpPr>
        <p:spPr>
          <a:xfrm>
            <a:off x="611640" y="609480"/>
            <a:ext cx="24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Verdana"/>
              </a:rPr>
              <a:t>Razdijeljeni stup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6" name=""/>
          <p:cNvGraphicFramePr/>
          <p:nvPr/>
        </p:nvGraphicFramePr>
        <p:xfrm>
          <a:off x="395280" y="676440"/>
          <a:ext cx="8497800" cy="601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676440"/>
                    <a:ext cx="8497800" cy="60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8" name=""/>
          <p:cNvSpPr/>
          <p:nvPr/>
        </p:nvSpPr>
        <p:spPr>
          <a:xfrm>
            <a:off x="627840" y="177840"/>
            <a:ext cx="20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Verdana"/>
              </a:rPr>
              <a:t>Skupna tabe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9" name=""/>
          <p:cNvGraphicFramePr/>
          <p:nvPr/>
        </p:nvGraphicFramePr>
        <p:xfrm>
          <a:off x="395280" y="977760"/>
          <a:ext cx="8497800" cy="561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977760"/>
                    <a:ext cx="8497800" cy="561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1" name=""/>
          <p:cNvSpPr/>
          <p:nvPr/>
        </p:nvSpPr>
        <p:spPr>
          <a:xfrm>
            <a:off x="643680" y="250920"/>
            <a:ext cx="22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Verdana"/>
              </a:rPr>
              <a:t>Dvostruki stup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2" name=""/>
          <p:cNvGraphicFramePr/>
          <p:nvPr/>
        </p:nvGraphicFramePr>
        <p:xfrm>
          <a:off x="468360" y="712800"/>
          <a:ext cx="8496360" cy="572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712800"/>
                    <a:ext cx="8496360" cy="572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4" name=""/>
          <p:cNvSpPr/>
          <p:nvPr/>
        </p:nvSpPr>
        <p:spPr>
          <a:xfrm>
            <a:off x="794160" y="106200"/>
            <a:ext cx="255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Verdana"/>
              </a:rPr>
              <a:t>Strukturni krugo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776880" y="1876320"/>
            <a:ext cx="6602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DETALJNIJE O TABELARNOM I GRAFIČK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PRIKAZIVANJU NIZOVA KVALITATIVNI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PODATAKANA VJEŽBA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I SAMOSTALNO IZ UDŽBENIKA</a:t>
            </a:r>
            <a:r>
              <a:rPr b="0" lang="hr-HR" sz="1800" spc="-1" strike="noStrike">
                <a:solidFill>
                  <a:srgbClr val="ffffff"/>
                </a:solidFill>
                <a:latin typeface="Verdana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3"/>
          <p:cNvSpPr/>
          <p:nvPr/>
        </p:nvSpPr>
        <p:spPr>
          <a:xfrm>
            <a:off x="539640" y="804960"/>
            <a:ext cx="8229600" cy="50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Šošić, I. (2006).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rimijenjena statistika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 II. izdanje. Zagreb: Školska knji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Šošić, I. (2007).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regled formula iz statistike.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Zagreb: Školska knjig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7" descr="m_12632"/>
          <p:cNvPicPr/>
          <p:nvPr/>
        </p:nvPicPr>
        <p:blipFill>
          <a:blip r:embed="rId2"/>
          <a:stretch/>
        </p:blipFill>
        <p:spPr>
          <a:xfrm>
            <a:off x="1908000" y="3716280"/>
            <a:ext cx="1944720" cy="22320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9" descr="Šošić, Ivan: Pregled formula iz statistike"/>
          <p:cNvPicPr/>
          <p:nvPr/>
        </p:nvPicPr>
        <p:blipFill>
          <a:blip r:embed="rId3"/>
          <a:stretch/>
        </p:blipFill>
        <p:spPr>
          <a:xfrm>
            <a:off x="5508720" y="3789360"/>
            <a:ext cx="1584360" cy="20876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537840" y="106200"/>
            <a:ext cx="28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iteratura obavez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1275120" y="985680"/>
            <a:ext cx="70448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Verdana"/>
              </a:rPr>
              <a:t>Literatura dopuns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McClave T.J., et al. (2005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Verdana"/>
              </a:rPr>
              <a:t>Statistics for Business and Economics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Upper Saddle River.N.J.: Prentice-Ha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Internation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Newbold P. et al.(2003). </a:t>
            </a:r>
            <a:r>
              <a:rPr b="1" i="1" lang="hr-HR" sz="2400" spc="-1" strike="noStrike">
                <a:solidFill>
                  <a:srgbClr val="000000"/>
                </a:solidFill>
                <a:latin typeface="Verdana"/>
              </a:rPr>
              <a:t>Statistics for Busin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Verdana"/>
              </a:rPr>
              <a:t>and Economics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. Upper Saddle River.N.J.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Prentice-Hall International;</a:t>
            </a:r>
            <a:r>
              <a:rPr b="1" i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1" i="1" lang="hr-HR" sz="2400" spc="-1" strike="noStrike">
                <a:solidFill>
                  <a:srgbClr val="000000"/>
                </a:solidFill>
                <a:latin typeface="Verdana"/>
              </a:rPr>
              <a:t>Priručnici za programsku potpor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815400" y="836640"/>
            <a:ext cx="7418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Verdana"/>
              </a:rPr>
              <a:t>Nastavne met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Predavanja, vježbe, konzultacij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rad na računalu, demonstratur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Konzultacije su dane na stranici Katedr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(http://www.efzg.hr/default.aspx?id=36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Verdana"/>
              </a:rPr>
              <a:t>Programska potp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Verdana"/>
              </a:rPr>
              <a:t>SAS, STATISTICA,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hr-HR" sz="2400" spc="-1" strike="noStrike">
                <a:solidFill>
                  <a:srgbClr val="000000"/>
                </a:solidFill>
                <a:latin typeface="Verdana"/>
              </a:rPr>
              <a:t>StatMaster,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Verdana"/>
              </a:rPr>
              <a:t>Excel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; potpora na Internetu slobodnog dohv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663480" y="919080"/>
            <a:ext cx="8156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Obveze studen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Studenti su du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ž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ni poha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đ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ati predavanja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i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vje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ž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be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Obveza je studenata da provedu statisti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č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k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obradu i analizu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primjera pomoć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programske potpore (rad u računskom centru uz stručnu pomoć demonstrator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Raspored rada s programskom potpo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bit će oglašen na oglasnoj ploči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Katedre za statistiku (prvi kat sjeverni di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Pored kabineta B-1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3"/>
          <p:cNvSpPr/>
          <p:nvPr/>
        </p:nvSpPr>
        <p:spPr>
          <a:xfrm>
            <a:off x="457200" y="76500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300" spc="-1" strike="noStrike">
                <a:solidFill>
                  <a:srgbClr val="000000"/>
                </a:solidFill>
                <a:latin typeface="Verdana"/>
              </a:rPr>
              <a:t>Ispit iz predmeta Statistika je </a:t>
            </a:r>
            <a:r>
              <a:rPr b="1" i="1" lang="hr-HR" sz="2300" spc="-1" strike="noStrike">
                <a:solidFill>
                  <a:srgbClr val="000000"/>
                </a:solidFill>
                <a:latin typeface="Verdana"/>
              </a:rPr>
              <a:t>pisani i usmeni</a:t>
            </a:r>
            <a:r>
              <a:rPr b="1" lang="hr-HR" sz="23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300" spc="-1" strike="noStrike">
                <a:solidFill>
                  <a:srgbClr val="000000"/>
                </a:solidFill>
                <a:latin typeface="Verdana"/>
              </a:rPr>
              <a:t>Uvjet za pristup usmenom ispitu je položen pisani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300" spc="-1" strike="noStrike">
                <a:solidFill>
                  <a:srgbClr val="000000"/>
                </a:solidFill>
                <a:latin typeface="Verdana"/>
              </a:rPr>
              <a:t>Pisani ispiti održavaju se prema sljedećem rasporedu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hr-HR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hr-HR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hr-HR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hr-HR" sz="2600" spc="-1" strike="noStrike">
                <a:solidFill>
                  <a:srgbClr val="000000"/>
                </a:solidFill>
                <a:latin typeface="Verdana"/>
              </a:rPr>
              <a:t>11. 06. 2008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hr-HR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hr-HR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hr-HR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hr-HR" sz="2600" spc="-1" strike="noStrike">
                <a:solidFill>
                  <a:srgbClr val="000000"/>
                </a:solidFill>
                <a:latin typeface="Verdana"/>
              </a:rPr>
              <a:t>02. 07. 2008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hr-HR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hr-HR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hr-HR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hr-HR" sz="2600" spc="-1" strike="noStrike">
                <a:solidFill>
                  <a:srgbClr val="000000"/>
                </a:solidFill>
                <a:latin typeface="Verdana"/>
              </a:rPr>
              <a:t>10. 07. 2008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hr-HR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hr-HR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hr-HR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hr-HR" sz="2600" spc="-1" strike="noStrike">
                <a:solidFill>
                  <a:srgbClr val="000000"/>
                </a:solidFill>
                <a:latin typeface="Verdana"/>
              </a:rPr>
              <a:t>03. 09. 2008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300" spc="-1" strike="noStrike">
                <a:solidFill>
                  <a:srgbClr val="000000"/>
                </a:solidFill>
                <a:latin typeface="Verdana"/>
              </a:rPr>
              <a:t>Ispit se prijavljuje osam dana prije ispitnog termina putem Webomata / studomata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8T13:53:26Z</dcterms:created>
  <dc:creator>mcizmesija</dc:creator>
  <dc:description/>
  <dc:language>en-US</dc:language>
  <cp:lastModifiedBy>mcizmesija</cp:lastModifiedBy>
  <dcterms:modified xsi:type="dcterms:W3CDTF">2008-02-28T12:53:44Z</dcterms:modified>
  <cp:revision>21</cp:revision>
  <dc:subject/>
  <dc:title>Slajd 1</dc:title>
</cp:coreProperties>
</file>