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605D5-0775-4857-A0A2-ECAA48417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74A33-DB09-42D7-9360-AC384D15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09B464-3EC6-445A-945C-6F595CFAB9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AA2C0-E312-425B-8B50-C1FF781099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517650-0EB3-485E-B979-9C17CF1CDA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4FC43-6C48-4E5F-BDA9-3151F7564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072B79-1333-4094-A69C-3B8D77049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45045B-E5B5-4125-9508-3ADF3AB11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E3D784-53A7-446D-89DC-404559E6F1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7C5080-8F81-4484-8394-297F456649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B22783-C0F1-4607-9A0B-A129454EA1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B7D13-D202-4A96-9C45-05726592D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43535-7917-4B44-A420-6ABD27332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03302-5B6A-479B-B38D-DA4DA52B6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8AECA-16EC-4B40-A8AB-D8C81AFA8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0092D-A9FD-4334-A2FA-70175450A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8A18B-F165-4DD4-AFDC-0C855F684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8F512-BB95-46E6-AAEE-99B714CE1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85D90-B310-416B-9A57-2041F7341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92787-6486-4214-8775-767E8F26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13CA-D1E1-421B-B235-8F33D9B7E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BDF44-F4AB-4944-BACA-B1836C8C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453EF-557A-47F8-A17F-546FB30C0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A3D1D-710F-41D2-AE99-8EBF43B56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1E72C-1533-40E3-BBB4-6753A9C66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C9AEB-D487-499E-8D82-4423FF083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44A323-03E6-4007-9C2D-3DD146940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D50AA-2E96-46CD-ABFF-2AD8484D3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10CC1-5EB1-446B-8C85-4A19DAAEB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8F0E0-4821-4062-BFEE-B746DEC74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1738D-A5B7-4EFA-A008-2BDC81FAC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B2B6A-E361-4476-A92C-1C70F44A2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BBFF4-BFD5-4BBD-B792-450D146BD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9FF47-083B-400F-A817-E1153BAD8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6D300-0522-4932-8ED9-B827DF686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008E1-536F-4883-B0EE-92FD9C416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BB28D-2867-4CF0-AC0C-00221C5FA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6FBE5-6140-4A41-8107-7A5F50673D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365129-1C79-4C53-A308-CAAB66C621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79348-05B6-4445-9D71-CF1B05FCEC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725C9-F9DB-4CDD-87EA-ADEE1FD6B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DCBE8-436F-4BD6-802A-CD3CAECB6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92CB-DA90-4308-B1B6-57266DC3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D588CC-BE47-4677-83D0-F8CD73FA0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D34B6-60EA-447C-927D-0AC20DA9F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6E318-12D3-40DF-8DCB-006ADB413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0856F-0FAB-458D-8CFD-4956B12A3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6E0E2-F271-498C-A1DF-F930BC670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F122F-24CA-4CE3-A579-ED5AB36E1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64455-0721-47FA-B19E-232F5BCF61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ACFA6E-F572-4A31-B725-CB385985F0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B440DF-62FA-464B-B0B0-9D0056EBAD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C83E96-2068-4343-905B-25139848C9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C7B68-F62D-4EA5-96CC-733C2B79B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89EE7-11F9-4946-858D-0A2580D31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C75FE-B95D-4C89-AFE5-161E49F9E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39A57-D6CE-4B15-AC54-C037F2BBF1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F5DF0-666A-45EE-B8F8-542E45604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6BBE7-BF7A-4F57-8101-81B4CF2E7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51380-9EEA-4E28-8A16-668615130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93382-8A2F-4E8F-8E7B-2A87AB01B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50A41-9817-498D-8D99-B2A814075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57284-8146-425A-8B39-DEAA7B552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DDA9C0-D2B2-497E-8149-EC962F62FE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40E21-6FF1-431F-8C54-35565E567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1FEAC2-EF3C-44D4-BB95-006C584697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0DD22A-DC50-42FC-BFBC-057FA36A8B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3A241-666A-4471-AB8F-5F0CC620E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EF9088-8155-4432-B922-D5BDF40E72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C90720-4EC1-41A3-890A-6ED6BF352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900E6-A5E6-48A8-B952-78877A9B0E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CC8A1C-50C3-4C89-A0A2-2DE1743EA8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0F3B4-37F8-4D6B-AB8C-F03464A38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DB555-6287-44DA-8987-093A6B437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FF570-DDA7-41F2-83D7-E4A953A51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C697-7B5B-4975-82C6-1EE7AB64A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C67B6-E56C-46A6-9A24-0791FC4A6D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5D4E25-24F5-460E-9491-88D6C2EED1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81B64F-CBBD-42B8-9610-509445EB2B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8D70C-C6A9-43F8-BFC9-CD68580D90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DC0E2-BA9A-4494-99A9-01F72B88D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A28A0-CA98-4E33-A9E2-F994B367D5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8CDE6-4658-43C7-9BDC-4E8914DAD4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40210-4772-4FE7-8C60-D06284B244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506F5-0972-4D60-8FF9-FC32B258D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5FE8F-7FF8-4286-8E22-0315AB68C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C4DC6-7B33-4A1B-8BDC-8BE15F25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795CA-7133-407C-BEDD-3272F97AC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73599-4184-46D6-85CD-6B2412898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BDAFF-321F-4230-B198-255337DCFC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CCDF06-2A51-4F97-A042-0F904A55A4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7F2566-940F-4AD9-B99B-DBD890497A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379BF9-B2AA-4C5A-B2EA-6452000657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FE8EBF-B33B-403D-B879-0870FB0927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B38BB-9D18-4952-B516-9FECEBF4B3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2677ED-A743-4F87-8295-C3C422AC2C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6B3CF1-42D0-45B1-A648-A8850EAB0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8BCE-1927-4968-B49A-FBF35AEA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D9D52B-E9B8-4BDD-8E11-C2E56321FF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78A6C-3DB8-4435-BBA8-5ABBD9C41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F194E-750A-4DC3-9E72-BE04248ED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32B33-FC85-4C10-A7FA-51631FC7E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06C1CF-CAC4-448E-88CB-32FB9CBC97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F8A93E-5906-4729-8861-9068A40045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874C86-FD23-436D-A5F5-3C38B71FBF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370DD0-E341-4E8B-8C7D-54BB3E9D55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CD2E6C-FCF5-401F-9139-7E796CD67E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6FE86A-BC4D-49C5-85D4-80E402F260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0BBF-B3C2-4EEE-B8B8-16DD19E7657A}"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Ravni poveznik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avni poveznik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Jednakokračni trokut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ravokutni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ravokutni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ravokutnik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ravokutnik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354B-75A1-4DD2-A7E3-FE3F066F7369}"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Pravokutni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ravokutni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0D58-3D17-4383-BBF7-9B75EB9721FD}" type="slidenum">
              <a:rPr b="0" lang="hr-H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avni poveznik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avni poveznik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Jednakokračni trokut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Jednakokračni trokut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08FA-72D1-4D36-94A7-D07581A030F1}"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Jednakokračni trokut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FB18-BADA-487C-8999-AD46CBDB2F82}"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avni poveznik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Jednakokračni trokut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9B25-BC16-488C-9305-746884C1F370}"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Jednakokračni trokut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ravokutnik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1350-C4CE-4E35-9291-4E3A8D43C644}" type="slidenum">
              <a:rPr b="0" lang="hr-H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avni poveznik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Jednakokračni trokut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avni poveznik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12BF-F426-4FCF-B8FC-2A7C1B619ECE}"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avni poveznik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avni poveznik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Jednakokračni trokut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464653"/>
                </a:solidFill>
                <a:latin typeface="Times New Roman"/>
              </a:rPr>
              <a:t>- novac i kredit - </a:t>
            </a:r>
            <a:endParaRPr b="0" lang="en-US" sz="1400" spc="-1" strike="noStrike">
              <a:solidFill>
                <a:srgbClr val="000000"/>
              </a:solidFill>
              <a:latin typeface="Times New Roman"/>
            </a:endParaRPr>
          </a:p>
        </p:txBody>
      </p:sp>
      <p:sp>
        <p:nvSpPr>
          <p:cNvPr id="359"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C948-AE06-437D-AFBE-D75FE2D3B74C}" type="slidenum">
              <a:rPr b="0" lang="hr-H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900" spc="-1" strike="noStrike">
                <a:solidFill>
                  <a:srgbClr val="000000"/>
                </a:solidFill>
                <a:latin typeface="Bookman Old Style"/>
              </a:rPr>
              <a:t>MONETARNE INSTITUCIJE U FINANCIJSKOM SUSTAVU </a:t>
            </a:r>
            <a:br>
              <a:rPr sz="2900"/>
            </a:br>
            <a:endParaRPr b="0" lang="en-US" sz="29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5280" y="765000"/>
            <a:ext cx="8229600" cy="583272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Privatne</a:t>
            </a:r>
            <a:r>
              <a:rPr b="0" lang="hr-HR" sz="2400" spc="-1" strike="noStrike" u="sng">
                <a:solidFill>
                  <a:srgbClr val="000000"/>
                </a:solidFill>
                <a:uFillTx/>
                <a:latin typeface="Gill Sans MT"/>
              </a:rPr>
              <a:t> </a:t>
            </a:r>
            <a:r>
              <a:rPr b="0" lang="hr-HR" sz="2400" spc="-1" strike="noStrike">
                <a:solidFill>
                  <a:srgbClr val="000000"/>
                </a:solidFill>
                <a:latin typeface="Gill Sans MT"/>
              </a:rPr>
              <a:t>se banke nalaze u vlasništvu domaćih ili stranih privatnih osoba, a javljaju se najčešće u formi dioničarskog društva.</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Državne banke</a:t>
            </a:r>
            <a:r>
              <a:rPr b="0" lang="hr-HR" sz="2400" spc="-1" strike="noStrike">
                <a:solidFill>
                  <a:srgbClr val="000000"/>
                </a:solidFill>
                <a:latin typeface="Gill Sans MT"/>
              </a:rPr>
              <a:t> osnovane su državnim kapitalom ili kapitalom neke uže teritorijalne jedinice.</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Gill Sans MT"/>
              </a:rPr>
              <a:t>Mješovite banke</a:t>
            </a:r>
            <a:r>
              <a:rPr b="0" lang="hr-HR" sz="2400" spc="-1" strike="noStrike">
                <a:solidFill>
                  <a:srgbClr val="000000"/>
                </a:solidFill>
                <a:latin typeface="Gill Sans MT"/>
              </a:rPr>
              <a:t> podrazumijevaju mješoviti karakter vlasništva, tj. kombinaciju privatnog i državnog kapitala.</a:t>
            </a:r>
            <a:endParaRPr b="0" lang="en-US" sz="24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47480"/>
            <a:ext cx="8229600" cy="36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7d8525"/>
                </a:solidFill>
                <a:uFillTx/>
                <a:latin typeface="Bookman Old Style"/>
              </a:rPr>
              <a:t>Osnovni komercijalno-bankarski poslovi</a:t>
            </a:r>
            <a:endParaRPr b="0" lang="en-US" sz="2400" spc="-1" strike="noStrike">
              <a:solidFill>
                <a:srgbClr val="464653"/>
              </a:solidFill>
              <a:latin typeface="Bookman Old Style"/>
            </a:endParaRPr>
          </a:p>
        </p:txBody>
      </p:sp>
      <p:sp>
        <p:nvSpPr>
          <p:cNvPr id="411" name=""/>
          <p:cNvSpPr txBox="1"/>
          <p:nvPr/>
        </p:nvSpPr>
        <p:spPr>
          <a:xfrm>
            <a:off x="228240" y="1294920"/>
            <a:ext cx="7543800" cy="48006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Pasivni, aktivni i neutralni</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Pasivni</a:t>
            </a:r>
            <a:r>
              <a:rPr b="0" lang="hr-HR" sz="2100" spc="-1" strike="noStrike">
                <a:solidFill>
                  <a:srgbClr val="000000"/>
                </a:solidFill>
                <a:latin typeface="Gill Sans MT"/>
              </a:rPr>
              <a:t> poslovi su oni u kojima banka dolazi do sredstava (dakle, javlja se kao </a:t>
            </a:r>
            <a:r>
              <a:rPr b="1" lang="hr-HR" sz="2100" spc="-1" strike="noStrike" u="sng">
                <a:solidFill>
                  <a:srgbClr val="000000"/>
                </a:solidFill>
                <a:uFillTx/>
                <a:latin typeface="Gill Sans MT"/>
              </a:rPr>
              <a:t>dužnik</a:t>
            </a:r>
            <a:r>
              <a:rPr b="0" lang="hr-HR" sz="2100" spc="-1" strike="noStrike">
                <a:solidFill>
                  <a:srgbClr val="000000"/>
                </a:solidFill>
                <a:latin typeface="Gill Sans MT"/>
              </a:rPr>
              <a:t>)</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Aktivni</a:t>
            </a:r>
            <a:r>
              <a:rPr b="0" lang="hr-HR" sz="2100" spc="-1" strike="noStrike">
                <a:solidFill>
                  <a:srgbClr val="000000"/>
                </a:solidFill>
                <a:latin typeface="Gill Sans MT"/>
              </a:rPr>
              <a:t> poslovi su oni u kojima banka plasira sredstava (dakle, javlja se kao </a:t>
            </a:r>
            <a:r>
              <a:rPr b="1" lang="hr-HR" sz="2100" spc="-1" strike="noStrike" u="sng">
                <a:solidFill>
                  <a:srgbClr val="000000"/>
                </a:solidFill>
                <a:uFillTx/>
                <a:latin typeface="Gill Sans MT"/>
              </a:rPr>
              <a:t>vjerovnik</a:t>
            </a:r>
            <a:r>
              <a:rPr b="0" lang="hr-HR" sz="2100" spc="-1" strike="noStrike">
                <a:solidFill>
                  <a:srgbClr val="000000"/>
                </a:solidFill>
                <a:latin typeface="Gill Sans MT"/>
              </a:rPr>
              <a:t>)</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Neutralni (indiferentni, komisioni)</a:t>
            </a:r>
            <a:r>
              <a:rPr b="0" lang="hr-HR" sz="2100" spc="-1" strike="noStrike">
                <a:solidFill>
                  <a:srgbClr val="000000"/>
                </a:solidFill>
                <a:latin typeface="Gill Sans MT"/>
              </a:rPr>
              <a:t> poslovi obuhvaćaju poslove u kojima banka igra ulogu komisionara</a:t>
            </a:r>
            <a:endParaRPr b="0" lang="en-US" sz="21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Postoje još i </a:t>
            </a:r>
            <a:r>
              <a:rPr b="1" lang="hr-HR" sz="2100" spc="-1" strike="noStrike" u="sng">
                <a:solidFill>
                  <a:srgbClr val="000000"/>
                </a:solidFill>
                <a:uFillTx/>
                <a:latin typeface="Gill Sans MT"/>
              </a:rPr>
              <a:t>vlastiti poslovi</a:t>
            </a:r>
            <a:r>
              <a:rPr b="0" lang="hr-HR" sz="2100" spc="-1" strike="noStrike">
                <a:solidFill>
                  <a:srgbClr val="000000"/>
                </a:solidFill>
                <a:latin typeface="Gill Sans MT"/>
              </a:rPr>
              <a:t> koje banka obavlja za vlastiti račun</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571680" y="1356840"/>
            <a:ext cx="7696080" cy="492948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u="sng">
                <a:solidFill>
                  <a:srgbClr val="000000"/>
                </a:solidFill>
                <a:uFillTx/>
                <a:latin typeface="Gill Sans MT"/>
              </a:rPr>
              <a:t>Pasivni bankarski poslovi</a:t>
            </a:r>
            <a:r>
              <a:rPr b="0" lang="hr-HR" sz="2400" spc="-1" strike="noStrike" u="sng">
                <a:solidFill>
                  <a:srgbClr val="000000"/>
                </a:solidFill>
                <a:uFillTx/>
                <a:latin typeface="Gill Sans MT"/>
              </a:rPr>
              <a:t> </a:t>
            </a:r>
            <a:r>
              <a:rPr b="0" lang="hr-HR" sz="2400" spc="-1" strike="noStrike">
                <a:solidFill>
                  <a:srgbClr val="000000"/>
                </a:solidFill>
                <a:latin typeface="Gill Sans MT"/>
              </a:rPr>
              <a:t>su oni kojima banka prikuplja i koncentrira slobodna novčana sredstva, a koja su temelj njene kreditne aktivnosti. </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	</a:t>
            </a:r>
            <a:r>
              <a:rPr b="0" lang="hr-HR" sz="2400" spc="-1" strike="noStrike">
                <a:solidFill>
                  <a:srgbClr val="000000"/>
                </a:solidFill>
                <a:latin typeface="Gill Sans MT"/>
              </a:rPr>
              <a:t>Najvažniji kratkoročni pasivni poslovi jesu depozitni poslovi, kod kojih se banka javlja u ulozi dužnika. (depozitni poslovi, žiro poslovi, specijalni pasivni bankarski poslovi)</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u="sng">
                <a:solidFill>
                  <a:srgbClr val="000000"/>
                </a:solidFill>
                <a:uFillTx/>
                <a:latin typeface="Gill Sans MT"/>
              </a:rPr>
              <a:t>Aktivni bankarski poslovi</a:t>
            </a:r>
            <a:r>
              <a:rPr b="0" lang="hr-HR" sz="2400" spc="-1" strike="noStrike">
                <a:solidFill>
                  <a:srgbClr val="000000"/>
                </a:solidFill>
                <a:latin typeface="Gill Sans MT"/>
              </a:rPr>
              <a:t> su sve vrste kratkoročnih i dugoročnih plasmana kod kojih se banka javlja u ulozi vjerovnika. </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000000"/>
                </a:solidFill>
                <a:uFillTx/>
                <a:latin typeface="Bookman Old Style"/>
              </a:rPr>
              <a:t>VRSTE KREDITA</a:t>
            </a:r>
            <a:endParaRPr b="0" lang="en-US" sz="3200" spc="-1" strike="noStrike">
              <a:solidFill>
                <a:srgbClr val="464653"/>
              </a:solidFill>
              <a:latin typeface="Bookman Old Style"/>
            </a:endParaRPr>
          </a:p>
        </p:txBody>
      </p:sp>
      <p:sp>
        <p:nvSpPr>
          <p:cNvPr id="41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AA1A-B65F-4A65-B37E-77B6A44EE54B}"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59EF-EC8F-494C-BDF6-AD372015F67B}"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16" name=""/>
          <p:cNvSpPr txBox="1"/>
          <p:nvPr/>
        </p:nvSpPr>
        <p:spPr>
          <a:xfrm>
            <a:off x="142920" y="1500120"/>
            <a:ext cx="8640720" cy="46656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Kreditni poslovi spadaju u skupinu aktivnih bankovnih poslova </a:t>
            </a:r>
            <a:r>
              <a:rPr b="0" lang="hr-HR" sz="2600" spc="-1" strike="noStrike">
                <a:solidFill>
                  <a:srgbClr val="000000"/>
                </a:solidFill>
                <a:latin typeface="Wingdings"/>
                <a:ea typeface="Wingdings"/>
              </a:rPr>
              <a:t></a:t>
            </a:r>
            <a:r>
              <a:rPr b="0" lang="hr-HR" sz="2600" spc="-1" strike="noStrike">
                <a:solidFill>
                  <a:srgbClr val="000000"/>
                </a:solidFill>
                <a:latin typeface="Gill Sans MT"/>
              </a:rPr>
              <a:t> kroz kredite banka plasira prikupljena sredstva i zarađuje kroz kamatu</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Stopa po kojoj banka prima sredstva je pasivna kamatna stopa; plasira ih po kamatnoj stopi koju nazivamo aktivna kamatna stopa i koja je u pravilu viša </a:t>
            </a:r>
            <a:r>
              <a:rPr b="0" lang="hr-HR" sz="2300" spc="-1" strike="noStrike">
                <a:solidFill>
                  <a:srgbClr val="464653"/>
                </a:solidFill>
                <a:latin typeface="Wingdings"/>
                <a:ea typeface="Wingdings"/>
              </a:rPr>
              <a:t></a:t>
            </a:r>
            <a:r>
              <a:rPr b="0" lang="hr-HR" sz="2300" spc="-1" strike="noStrike">
                <a:solidFill>
                  <a:srgbClr val="464653"/>
                </a:solidFill>
                <a:latin typeface="Gill Sans MT"/>
              </a:rPr>
              <a:t> </a:t>
            </a:r>
            <a:r>
              <a:rPr b="1" lang="hr-HR" sz="2300" spc="-1" strike="noStrike">
                <a:solidFill>
                  <a:srgbClr val="464653"/>
                </a:solidFill>
                <a:latin typeface="Gill Sans MT"/>
              </a:rPr>
              <a:t>banka zarađuje na razlici u kamatnim stopama</a:t>
            </a: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1338-50CE-44D0-ADC3-4A5BDD49A426}"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1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Nužno je voditi računa o usklađenosti izvora sredstava (najvećim dijelom depozita) i kreditnih plasmana poslovne banke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ill Sans MT"/>
              </a:rPr>
              <a:t>Ročna struktura aktive poslovne banke mora biti usklađena s ročnom strukturom njezine pasiv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7365-A524-4622-BF85-36E41C494AB9}"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0" name=""/>
          <p:cNvSpPr txBox="1"/>
          <p:nvPr/>
        </p:nvSpPr>
        <p:spPr>
          <a:xfrm>
            <a:off x="250560" y="476280"/>
            <a:ext cx="8893080" cy="6216480"/>
          </a:xfrm>
          <a:prstGeom prst="rect">
            <a:avLst/>
          </a:prstGeom>
          <a:noFill/>
          <a:ln w="0">
            <a:noFill/>
          </a:ln>
        </p:spPr>
        <p:txBody>
          <a:bodyPr lIns="90000" rIns="90000" tIns="46800" bIns="46800"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u="sng">
                <a:solidFill>
                  <a:srgbClr val="464653"/>
                </a:solidFill>
                <a:uFillTx/>
                <a:latin typeface="Gill Sans MT"/>
              </a:rPr>
              <a:t>Kontokorentni kredit (kredit po tekućem računu) </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Kredit koji banka odobrava po tekućem računu komitenta banke</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Odobrenim sredstvima komitent može slobodno raspolagati u svrhu prometa i plaćanja, izdavanjem naloga iznad iznosa vlastitih sredstava </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Ugovorom se prilikom otvaranja tekućeg računa definiraju uvjeti kredita </a:t>
            </a:r>
            <a:r>
              <a:rPr b="0" lang="hr-HR" sz="2200" spc="-1" strike="noStrike">
                <a:solidFill>
                  <a:srgbClr val="464653"/>
                </a:solidFill>
                <a:latin typeface="Wingdings"/>
                <a:ea typeface="Wingdings"/>
              </a:rPr>
              <a:t></a:t>
            </a:r>
            <a:r>
              <a:rPr b="0" lang="hr-HR" sz="2200" spc="-1" strike="noStrike">
                <a:solidFill>
                  <a:srgbClr val="464653"/>
                </a:solidFill>
                <a:latin typeface="Gill Sans MT"/>
              </a:rPr>
              <a:t> maksimalni iznos (limit) kredita, rok trajanja kredita, visina kamatne stope </a:t>
            </a:r>
            <a:r>
              <a:rPr b="0" lang="hr-HR" sz="2200" spc="-1" strike="noStrike">
                <a:solidFill>
                  <a:srgbClr val="464653"/>
                </a:solidFill>
                <a:latin typeface="Wingdings"/>
                <a:ea typeface="Wingdings"/>
              </a:rPr>
              <a:t></a:t>
            </a:r>
            <a:r>
              <a:rPr b="0" lang="hr-HR" sz="2200" spc="-1" strike="noStrike">
                <a:solidFill>
                  <a:srgbClr val="464653"/>
                </a:solidFill>
                <a:latin typeface="Gill Sans MT"/>
              </a:rPr>
              <a:t> riječ je više o “kreditnoj liniji” nego o kreditu u klasičnom smislu riječi</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Iznos kredita kojeg će koristiti komitent je fleksibilan i ovisi o njegovim trenutnim potrebama za sredstvima </a:t>
            </a:r>
            <a:r>
              <a:rPr b="0" lang="hr-HR" sz="2200" spc="-1" strike="noStrike">
                <a:solidFill>
                  <a:srgbClr val="464653"/>
                </a:solidFill>
                <a:latin typeface="Wingdings"/>
                <a:ea typeface="Wingdings"/>
              </a:rPr>
              <a:t></a:t>
            </a:r>
            <a:r>
              <a:rPr b="0" lang="hr-HR" sz="2200" spc="-1" strike="noStrike">
                <a:solidFill>
                  <a:srgbClr val="464653"/>
                </a:solidFill>
                <a:latin typeface="Gill Sans MT"/>
              </a:rPr>
              <a:t> definirana je samo gornja granica </a:t>
            </a:r>
            <a:endParaRPr b="0" lang="en-US" sz="22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66BE-DCEC-4C20-A559-D9C8BB8A5416}"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2" name=""/>
          <p:cNvSpPr txBox="1"/>
          <p:nvPr/>
        </p:nvSpPr>
        <p:spPr>
          <a:xfrm>
            <a:off x="457200" y="713880"/>
            <a:ext cx="8229600" cy="5991480"/>
          </a:xfrm>
          <a:prstGeom prst="rect">
            <a:avLst/>
          </a:prstGeom>
          <a:noFill/>
          <a:ln w="0">
            <a:noFill/>
          </a:ln>
        </p:spPr>
        <p:txBody>
          <a:bodyPr lIns="90000" rIns="90000" tIns="46800" bIns="46800"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Vrlo je važan oblik kredita jer </a:t>
            </a:r>
            <a:endParaRPr b="0" lang="en-US" sz="23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Gill Sans MT"/>
              </a:rPr>
              <a:t>Klijentu</a:t>
            </a:r>
            <a:r>
              <a:rPr b="0" lang="hr-HR" sz="2000" spc="-1" strike="noStrike">
                <a:solidFill>
                  <a:srgbClr val="000000"/>
                </a:solidFill>
                <a:latin typeface="Gill Sans MT"/>
              </a:rPr>
              <a:t> </a:t>
            </a:r>
            <a:r>
              <a:rPr b="1" lang="hr-HR" sz="2000" spc="-1" strike="noStrike">
                <a:solidFill>
                  <a:srgbClr val="000000"/>
                </a:solidFill>
                <a:latin typeface="Gill Sans MT"/>
              </a:rPr>
              <a:t>omogućava</a:t>
            </a:r>
            <a:r>
              <a:rPr b="0" lang="hr-HR" sz="2000" spc="-1" strike="noStrike">
                <a:solidFill>
                  <a:srgbClr val="000000"/>
                </a:solidFill>
                <a:latin typeface="Gill Sans MT"/>
              </a:rPr>
              <a:t> </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jednostavnije premošćivanje kratkoročne povremene i privremene nelikvidnosti,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omogućuje elastičnu i racionalnu upotrebu kredita prema stvarnim potrebama,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smanjuje blagajničko poslovanje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Prati sezonske potrebe za većim iznosima sredstava</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Gill Sans MT"/>
              </a:rPr>
              <a:t>Banci</a:t>
            </a:r>
            <a:r>
              <a:rPr b="1" lang="hr-HR" sz="2000" spc="-1" strike="noStrike">
                <a:solidFill>
                  <a:srgbClr val="000000"/>
                </a:solidFill>
                <a:latin typeface="Gill Sans MT"/>
              </a:rPr>
              <a:t> omogućava </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Lakše poslovanje zbog smanjenog obujma blagajničkog poslovanja</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Širenje ponude proizvoda i usluga komitentima</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Zarada na proviziji koju komitent plaća za mogućnost korištenja kredita</a:t>
            </a:r>
            <a:endParaRPr b="0" lang="en-US" sz="2200" spc="-1" strike="noStrike">
              <a:solidFill>
                <a:srgbClr val="464653"/>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96920" indent="-228600">
              <a:lnSpc>
                <a:spcPct val="90000"/>
              </a:lnSpc>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109692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E007-3D33-4AD0-9CD3-73AEE0F65A94}"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4" name=""/>
          <p:cNvSpPr txBox="1"/>
          <p:nvPr/>
        </p:nvSpPr>
        <p:spPr>
          <a:xfrm>
            <a:off x="685800" y="1828440"/>
            <a:ext cx="7772400" cy="4119480"/>
          </a:xfrm>
          <a:prstGeom prst="rect">
            <a:avLst/>
          </a:prstGeom>
          <a:noFill/>
          <a:ln w="0">
            <a:noFill/>
          </a:ln>
        </p:spPr>
        <p:txBody>
          <a:bodyPr lIns="90000" rIns="90000" tIns="46800" bIns="46800"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Riječ je o kratkoročnom kreditiranju, na rok do jedne godine koje nerijetko prerasta u dugoročno kreditiranje zbog automatskog produžavanja ugovora </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Kamatne stope u pravilu su više nego na druge oblike kredita jer banka ne zna koji iznos kredita će komitent iskoristiti te mora držati više iznose rezervi  likvidnosti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5198-6D3F-40D8-B6E0-8D7455ACE2D5}"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6" name=""/>
          <p:cNvSpPr txBox="1"/>
          <p:nvPr/>
        </p:nvSpPr>
        <p:spPr>
          <a:xfrm>
            <a:off x="179280" y="685800"/>
            <a:ext cx="8507520" cy="5943600"/>
          </a:xfrm>
          <a:prstGeom prst="rect">
            <a:avLst/>
          </a:prstGeom>
          <a:noFill/>
          <a:ln w="0">
            <a:noFill/>
          </a:ln>
        </p:spPr>
        <p:txBody>
          <a:bodyPr lIns="90000" rIns="90000" tIns="46800" bIns="46800"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u="sng">
                <a:solidFill>
                  <a:srgbClr val="464653"/>
                </a:solidFill>
                <a:uFillTx/>
                <a:latin typeface="Gill Sans MT"/>
              </a:rPr>
              <a:t>Eskontni kredit</a:t>
            </a:r>
            <a:endParaRPr b="0" lang="en-US" sz="30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Kratkoročni kredit na osnovi zaloga (najčešće robne) mjenice </a:t>
            </a:r>
            <a:r>
              <a:rPr b="0" lang="hr-HR" sz="2300" spc="-1" strike="noStrike">
                <a:solidFill>
                  <a:srgbClr val="464653"/>
                </a:solidFill>
                <a:latin typeface="Wingdings"/>
                <a:ea typeface="Wingdings"/>
              </a:rPr>
              <a:t></a:t>
            </a:r>
            <a:r>
              <a:rPr b="0" lang="hr-HR" sz="2300" spc="-1" strike="noStrike">
                <a:solidFill>
                  <a:srgbClr val="464653"/>
                </a:solidFill>
                <a:latin typeface="Gill Sans MT"/>
              </a:rPr>
              <a:t> banka kupuje potraživanje prije njegovog dospijeća uz naplatu eskonta (kamata, provizije i troškova za svoje usluge) </a:t>
            </a:r>
            <a:endParaRPr b="0" lang="en-US" sz="23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Kamata se obračunava za razdoblje od dana isplate eskontnog kredita do dana dospijeća mjenice </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Robni kredit pretvara se u bankarski kredit </a:t>
            </a:r>
            <a:r>
              <a:rPr b="0" lang="hr-HR" sz="2300" spc="-1" strike="noStrike">
                <a:solidFill>
                  <a:srgbClr val="464653"/>
                </a:solidFill>
                <a:latin typeface="Wingdings"/>
                <a:ea typeface="Wingdings"/>
              </a:rPr>
              <a:t></a:t>
            </a:r>
            <a:r>
              <a:rPr b="0" lang="hr-HR" sz="2300" spc="-1" strike="noStrike">
                <a:solidFill>
                  <a:srgbClr val="464653"/>
                </a:solidFill>
                <a:latin typeface="Gill Sans MT"/>
              </a:rPr>
              <a:t> stvara se novac kao potraživanje prema banci </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Sigurnost posla ovisi o bonitetu, odnosno utrživosti  mjenice</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464653"/>
                </a:solidFill>
                <a:latin typeface="Gill Sans MT"/>
              </a:rPr>
              <a:t>U pravilu kratkoročan posao, mada ovisi o roku dospijeća mjenice </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9d2512"/>
                </a:solidFill>
                <a:uFillTx/>
                <a:latin typeface="Bookman Old Style"/>
              </a:rPr>
              <a:t>Sudionici na financijskim tržištima</a:t>
            </a:r>
            <a:r>
              <a:rPr b="0" lang="hr-HR" sz="3200" spc="-1" strike="noStrike">
                <a:solidFill>
                  <a:srgbClr val="9d2512"/>
                </a:solidFill>
                <a:latin typeface="Bookman Old Style"/>
              </a:rPr>
              <a:t> </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Sudionici s </a:t>
            </a:r>
            <a:r>
              <a:rPr b="0" lang="hr-HR" sz="2600" spc="-1" strike="noStrike" u="sng">
                <a:solidFill>
                  <a:srgbClr val="000000"/>
                </a:solidFill>
                <a:uFillTx/>
                <a:latin typeface="Gill Sans MT"/>
              </a:rPr>
              <a:t>viškovima</a:t>
            </a:r>
            <a:r>
              <a:rPr b="0" lang="hr-HR" sz="2600" spc="-1" strike="noStrike">
                <a:solidFill>
                  <a:srgbClr val="000000"/>
                </a:solidFill>
                <a:latin typeface="Gill Sans MT"/>
              </a:rPr>
              <a:t> novčanih sredstav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Sudionici koji imaju </a:t>
            </a:r>
            <a:r>
              <a:rPr b="0" lang="hr-HR" sz="2600" spc="-1" strike="noStrike" u="sng">
                <a:solidFill>
                  <a:srgbClr val="000000"/>
                </a:solidFill>
                <a:uFillTx/>
                <a:latin typeface="Gill Sans MT"/>
              </a:rPr>
              <a:t>manjak</a:t>
            </a:r>
            <a:r>
              <a:rPr b="0" lang="hr-HR" sz="2600" spc="-1" strike="noStrike">
                <a:solidFill>
                  <a:srgbClr val="000000"/>
                </a:solidFill>
                <a:latin typeface="Gill Sans MT"/>
              </a:rPr>
              <a:t> novčanih sredstav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Financijske institucije – </a:t>
            </a:r>
            <a:r>
              <a:rPr b="0" lang="hr-HR" sz="2600" spc="-1" strike="noStrike" u="sng">
                <a:solidFill>
                  <a:srgbClr val="000000"/>
                </a:solidFill>
                <a:uFillTx/>
                <a:latin typeface="Gill Sans MT"/>
              </a:rPr>
              <a:t>posrednici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Državne institucije – </a:t>
            </a:r>
            <a:r>
              <a:rPr b="0" lang="hr-HR" sz="2600" spc="-1" strike="noStrike" u="sng">
                <a:solidFill>
                  <a:srgbClr val="000000"/>
                </a:solidFill>
                <a:uFillTx/>
                <a:latin typeface="Gill Sans MT"/>
              </a:rPr>
              <a:t>regulacija i nadzor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09AC-2AEC-43CD-97B7-B6998E6E79BB}"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28" name=""/>
          <p:cNvSpPr txBox="1"/>
          <p:nvPr/>
        </p:nvSpPr>
        <p:spPr>
          <a:xfrm>
            <a:off x="213840" y="713880"/>
            <a:ext cx="8642520" cy="5581800"/>
          </a:xfrm>
          <a:prstGeom prst="rect">
            <a:avLst/>
          </a:prstGeom>
          <a:noFill/>
          <a:ln w="0">
            <a:noFill/>
          </a:ln>
        </p:spPr>
        <p:txBody>
          <a:bodyPr lIns="90000" rIns="90000" tIns="46800" bIns="46800"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u="sng">
                <a:solidFill>
                  <a:srgbClr val="464653"/>
                </a:solidFill>
                <a:uFillTx/>
                <a:latin typeface="Gill Sans MT"/>
              </a:rPr>
              <a:t>Lombardni kredit</a:t>
            </a:r>
            <a:r>
              <a:rPr b="0" lang="hr-HR" sz="2300" spc="-1" strike="noStrike">
                <a:solidFill>
                  <a:srgbClr val="464653"/>
                </a:solidFill>
                <a:latin typeface="Gill Sans MT"/>
              </a:rPr>
              <a:t> </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Kratkoročni kredit na osnovi zaloga pokretnih stvari ili vrijednosnica (osim mjenice!) koji ostaju vlasništvo zajmodavca, ali su do trenutka otplate kredita u posjedu banke</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Najčešće su zalog realne pokretne stvari, umjetnička djela, vrijednosnice</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Sigurnost vraćanja kredita u manjoj je mjeri definirana bonitetom dužnika, a u većoj mjeri kvalitetom i vrijednošću založenih stvari  </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Iznos kredita uvijek je niži od vrijednosti založene stvari </a:t>
            </a: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37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900" spc="-1" strike="noStrike">
                <a:solidFill>
                  <a:srgbClr val="464653"/>
                </a:solidFill>
                <a:latin typeface="Bookman Old Style"/>
              </a:rPr>
              <a:t>Primjer lombardnog kredita :</a:t>
            </a:r>
            <a:endParaRPr b="0" lang="en-US" sz="1900" spc="-1" strike="noStrike">
              <a:solidFill>
                <a:srgbClr val="464653"/>
              </a:solidFill>
              <a:latin typeface="Bookman Old Style"/>
            </a:endParaRPr>
          </a:p>
        </p:txBody>
      </p:sp>
      <p:graphicFrame>
        <p:nvGraphicFramePr>
          <p:cNvPr id="430" name=""/>
          <p:cNvGraphicFramePr/>
          <p:nvPr/>
        </p:nvGraphicFramePr>
        <p:xfrm>
          <a:off x="395280" y="1125360"/>
          <a:ext cx="8305920" cy="4532400"/>
        </p:xfrm>
        <a:graphic>
          <a:graphicData uri="http://schemas.openxmlformats.org/drawingml/2006/table">
            <a:tbl>
              <a:tblPr/>
              <a:tblGrid>
                <a:gridCol w="2514600"/>
                <a:gridCol w="5791320"/>
              </a:tblGrid>
              <a:tr h="4291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Iznos kredit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Do 90% vrijednosti zalog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Kamatna stop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11% fiksn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Rok otpla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6, 12, 24 mjesec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Naknada za obradu kreditnog zahtjeva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2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Isplata kredit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Na račun korisnika kredit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Način otpla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Odjednom istekom roka kredit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Kreditna sposobnos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Ne utvrđuje se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rPr>
                        <a:t>Instrumenti osiguranj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727ca3"/>
                    </a:solidFill>
                  </a:tcPr>
                </a:tc>
                <a:tc>
                  <a:txBody>
                    <a:bodyPr lIns="90000" rIns="90000" tIns="46800" bIns="46800" anchor="t">
                      <a:noAutofit/>
                    </a:bodyPr>
                    <a:p>
                      <a:pPr>
                        <a:spcBef>
                          <a:spcPts val="550"/>
                        </a:spcBef>
                        <a:buClr>
                          <a:srgbClr val="727c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Zalog dragocjenosti (npr. predmeti od plemenitih kovina i sl.) </a:t>
                      </a:r>
                      <a:endParaRPr b="0" lang="en-US" sz="2200" spc="-1" strike="noStrike">
                        <a:solidFill>
                          <a:srgbClr val="000000"/>
                        </a:solidFill>
                        <a:latin typeface="Arial"/>
                      </a:endParaRPr>
                    </a:p>
                    <a:p>
                      <a:pPr>
                        <a:spcBef>
                          <a:spcPts val="550"/>
                        </a:spcBef>
                        <a:buClr>
                          <a:srgbClr val="727c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Bez jamaca, bez depozit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1" name="Rezervirano mjesto broja slajda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23F2-185D-4B3F-9E5A-A1CC75756C71}"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9A84-5A94-4AC4-8100-32B496CFCDEF}"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33" name=""/>
          <p:cNvSpPr txBox="1"/>
          <p:nvPr/>
        </p:nvSpPr>
        <p:spPr>
          <a:xfrm>
            <a:off x="394920" y="475920"/>
            <a:ext cx="8381880" cy="670572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u="sng">
                <a:solidFill>
                  <a:srgbClr val="000000"/>
                </a:solidFill>
                <a:uFillTx/>
                <a:latin typeface="Gill Sans MT"/>
              </a:rPr>
              <a:t>PREDNOSTI lombardnog kredita</a:t>
            </a:r>
            <a:endParaRPr b="0" lang="en-US" sz="21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Zajmoprimac može doći do sredstava u slučaju potrebe uzrokovane kratkoročnom nelikvidnošću a da pri tome nije prisiljen prodati stvar koju umjesto toga založi kod banke</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Danas su rjeđi lombardni krediti s fiksnom kamatnom stopom, a sve je važniji tzv. </a:t>
            </a:r>
            <a:r>
              <a:rPr b="0" i="1" lang="hr-HR" sz="2100" spc="-1" strike="noStrike">
                <a:solidFill>
                  <a:srgbClr val="000000"/>
                </a:solidFill>
                <a:latin typeface="Gill Sans MT"/>
              </a:rPr>
              <a:t>quasi lombard</a:t>
            </a:r>
            <a:r>
              <a:rPr b="0" lang="hr-HR" sz="2100" spc="-1" strike="noStrike">
                <a:solidFill>
                  <a:srgbClr val="000000"/>
                </a:solidFill>
                <a:latin typeface="Gill Sans MT"/>
              </a:rPr>
              <a:t> kojeg banke odobravaju po principu kontokorentnog kredita, u skladu sa sezonskim potrebama klijenta </a:t>
            </a:r>
            <a:endParaRPr b="0" lang="en-US" sz="21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Npr. lombardni kredit osobito je pogodan za klijenta koji ima kratkotrajnu/ sezonsku potrebu za sredstvima uz zalog robe koja je uskladištena ili na putu </a:t>
            </a:r>
            <a:r>
              <a:rPr b="0" lang="hr-HR" sz="2200" spc="-1" strike="noStrike">
                <a:solidFill>
                  <a:srgbClr val="464653"/>
                </a:solidFill>
                <a:latin typeface="Wingdings"/>
                <a:ea typeface="Wingdings"/>
              </a:rPr>
              <a:t></a:t>
            </a:r>
            <a:r>
              <a:rPr b="0" lang="hr-HR" sz="2200" spc="-1" strike="noStrike">
                <a:solidFill>
                  <a:srgbClr val="464653"/>
                </a:solidFill>
                <a:latin typeface="Gill Sans MT"/>
              </a:rPr>
              <a:t> vlasnik robe dobiva sredstva prije nego što je robu prodao  </a:t>
            </a:r>
            <a:endParaRPr b="0" lang="en-US" sz="22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u="sng">
                <a:solidFill>
                  <a:srgbClr val="000000"/>
                </a:solidFill>
                <a:uFillTx/>
                <a:latin typeface="Bookman Old Style"/>
              </a:rPr>
              <a:t>Akceptni kredit</a:t>
            </a:r>
            <a:endParaRPr b="0" lang="en-US" sz="3400" spc="-1" strike="noStrike">
              <a:solidFill>
                <a:srgbClr val="464653"/>
              </a:solidFill>
              <a:latin typeface="Bookman Old Style"/>
            </a:endParaRPr>
          </a:p>
        </p:txBody>
      </p:sp>
      <p:sp>
        <p:nvSpPr>
          <p:cNvPr id="435"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CFDF-A498-4283-8151-58475426495D}"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36" name=""/>
          <p:cNvSpPr txBox="1"/>
          <p:nvPr/>
        </p:nvSpPr>
        <p:spPr>
          <a:xfrm>
            <a:off x="533160" y="1066320"/>
            <a:ext cx="8305560" cy="533412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Garantni kredit kojim banka akceptira mjenicu svog komitenta da bi se brže realizirala </a:t>
            </a:r>
            <a:r>
              <a:rPr b="0" lang="hr-HR" sz="2100" spc="-1" strike="noStrike">
                <a:solidFill>
                  <a:srgbClr val="000000"/>
                </a:solidFill>
                <a:latin typeface="Wingdings"/>
                <a:ea typeface="Wingdings"/>
              </a:rPr>
              <a:t></a:t>
            </a:r>
            <a:r>
              <a:rPr b="0" lang="hr-HR" sz="2100" spc="-1" strike="noStrike">
                <a:solidFill>
                  <a:srgbClr val="000000"/>
                </a:solidFill>
                <a:latin typeface="Gill Sans MT"/>
              </a:rPr>
              <a:t> banka klijentu na taj način daje svoj poslovni ugled kako bi njegova mjenica imala bolji bonitet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Akceptiranjem mjenice banka postaje glavni mjenični dužnik, uz naplatu određene provizije</a:t>
            </a:r>
            <a:endParaRPr b="0" lang="en-US" sz="21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zahvaljujući akceptu ugledne poslovne banke, mjenica ima bolji bonitet te lakše cirkulira na tržištu, odnosno olakšava dobivanje eskontnog kredita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Gill Sans MT"/>
              </a:rPr>
              <a:t>banka </a:t>
            </a:r>
            <a:r>
              <a:rPr b="0" lang="hr-HR" sz="2100" spc="-1" strike="noStrike" u="sng">
                <a:solidFill>
                  <a:srgbClr val="000000"/>
                </a:solidFill>
                <a:uFillTx/>
                <a:latin typeface="Gill Sans MT"/>
              </a:rPr>
              <a:t>ne isplaćuje novac</a:t>
            </a:r>
            <a:r>
              <a:rPr b="0" lang="hr-HR" sz="2100" spc="-1" strike="noStrike">
                <a:solidFill>
                  <a:srgbClr val="000000"/>
                </a:solidFill>
                <a:latin typeface="Gill Sans MT"/>
              </a:rPr>
              <a:t> korisniku kredita, nego se obvezuje da će isplatiti mjenicu ako izdavatelj to ne učini po dospijeću </a:t>
            </a:r>
            <a:r>
              <a:rPr b="0" lang="hr-HR" sz="2100" spc="-1" strike="noStrike">
                <a:solidFill>
                  <a:srgbClr val="000000"/>
                </a:solidFill>
                <a:latin typeface="Wingdings"/>
                <a:ea typeface="Wingdings"/>
              </a:rPr>
              <a:t></a:t>
            </a:r>
            <a:r>
              <a:rPr b="0" lang="hr-HR" sz="2100" spc="-1" strike="noStrike">
                <a:solidFill>
                  <a:srgbClr val="000000"/>
                </a:solidFill>
                <a:latin typeface="Gill Sans MT"/>
              </a:rPr>
              <a:t> banka postaje glavni mjenični dužnik</a:t>
            </a:r>
            <a:endParaRPr b="0" lang="en-US" sz="2100" spc="-1" strike="noStrike">
              <a:solidFill>
                <a:srgbClr val="000000"/>
              </a:solidFill>
              <a:latin typeface="Gill Sans MT"/>
            </a:endParaRPr>
          </a:p>
          <a:p>
            <a:pPr lvl="2" marL="82224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100" spc="-1" strike="noStrike" u="sng">
                <a:solidFill>
                  <a:srgbClr val="464653"/>
                </a:solidFill>
                <a:uFillTx/>
                <a:latin typeface="Bookman Old Style"/>
              </a:rPr>
              <a:t>Dugoročni aktivni bankarski poslovi</a:t>
            </a:r>
            <a:endParaRPr b="0" lang="en-US" sz="3100" spc="-1" strike="noStrike">
              <a:solidFill>
                <a:srgbClr val="464653"/>
              </a:solidFill>
              <a:latin typeface="Bookman Old Style"/>
            </a:endParaRPr>
          </a:p>
        </p:txBody>
      </p:sp>
      <p:sp>
        <p:nvSpPr>
          <p:cNvPr id="438"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56D7-26F1-4FE1-A37A-34C95E691D9F}"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39" name=""/>
          <p:cNvSpPr txBox="1"/>
          <p:nvPr/>
        </p:nvSpPr>
        <p:spPr>
          <a:xfrm>
            <a:off x="468000" y="1447920"/>
            <a:ext cx="8534520" cy="44244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Obuhvaćaju dugoročna kreditiranja kroz građevinski, hipotekarni, građevinski i sl. kredi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Izvori dugoročnog kreditiranja u pravilu su depoziti na dugi rok</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zervirano mjesto broja slajda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9C05-20AD-4AD6-BB0E-74A3E69F1865}"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
        <p:nvSpPr>
          <p:cNvPr id="441" name=""/>
          <p:cNvSpPr txBox="1"/>
          <p:nvPr/>
        </p:nvSpPr>
        <p:spPr>
          <a:xfrm>
            <a:off x="685800" y="609480"/>
            <a:ext cx="7772400" cy="5486400"/>
          </a:xfrm>
          <a:prstGeom prst="rect">
            <a:avLst/>
          </a:prstGeom>
          <a:noFill/>
          <a:ln w="0">
            <a:noFill/>
          </a:ln>
        </p:spPr>
        <p:txBody>
          <a:bodyPr lIns="90000" rIns="90000" tIns="46800" bIns="46800"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u="sng">
                <a:solidFill>
                  <a:srgbClr val="000000"/>
                </a:solidFill>
                <a:uFillTx/>
                <a:latin typeface="Gill Sans MT"/>
              </a:rPr>
              <a:t>Hipotekarni kredit</a:t>
            </a:r>
            <a:endParaRPr b="0" lang="en-US" sz="26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Dugoročni kredit koji se osigurava upisom založnog prava/ hipoteke na nekretnini </a:t>
            </a:r>
            <a:r>
              <a:rPr b="0" lang="hr-HR" sz="2200" spc="-1" strike="noStrike">
                <a:solidFill>
                  <a:srgbClr val="464653"/>
                </a:solidFill>
                <a:latin typeface="Wingdings"/>
                <a:ea typeface="Wingdings"/>
              </a:rPr>
              <a:t></a:t>
            </a:r>
            <a:r>
              <a:rPr b="0" lang="hr-HR" sz="2200" spc="-1" strike="noStrike">
                <a:solidFill>
                  <a:srgbClr val="464653"/>
                </a:solidFill>
                <a:latin typeface="Gill Sans MT"/>
              </a:rPr>
              <a:t> banka upisuje založno pravo na nekretnini </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Eventualna dospjela nenaplaćena potraživanja hipotekarni vjerovnik može naplatiti iz vrijednosti zaloga</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Osim nekretnina, predmet hipoteke mogu biti i određene pokretnine velike vrijednosti – brodovi, zrakoplovi i sl.</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464653"/>
                </a:solidFill>
                <a:latin typeface="Gill Sans MT"/>
              </a:rPr>
              <a:t>Kredit se odobrava najviše do 70% prometne ili procijenjene vrijednosti nekretnine kako bi se u slučaju potrebe naplatila vrijednost kredita i svi ostali troškovi, na rok od jedne do 30 godina </a:t>
            </a:r>
            <a:endParaRPr b="0" lang="en-US" sz="2200" spc="-1" strike="noStrike">
              <a:solidFill>
                <a:srgbClr val="464653"/>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
          <p:cNvGraphicFramePr/>
          <p:nvPr/>
        </p:nvGraphicFramePr>
        <p:xfrm>
          <a:off x="304920" y="380880"/>
          <a:ext cx="8839080" cy="5992920"/>
        </p:xfrm>
        <a:graphic>
          <a:graphicData uri="http://schemas.openxmlformats.org/drawingml/2006/table">
            <a:tbl>
              <a:tblPr/>
              <a:tblGrid>
                <a:gridCol w="2700360"/>
                <a:gridCol w="6138720"/>
              </a:tblGrid>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Iznos kredit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Do 100.000,00 eur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268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Godišnja kam. stop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4,9% promjenjiv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Rok otplate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Do 30 godin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Isplata kredit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Na račun korisnik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Način otplate</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Mjesečni anuiteti u kunskoj protuvrijednosti eura obračunato po srednjem tečaju HNBa važećem na dan plaćanj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Potrebna kreditna sposobnost</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Mjesečna primanja, umanjena za postojeća zaduženja, minimalno u visini mjesečnog aniuteta uvećanog za 1700 kn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580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Instrumenti osiguranj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Fiducijarni prijenos vlasništva na nekretnini – omjer iznosa kredita i procijenjene vrijednosti nekretnine najmanje u omjeru 1 : 2</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olice osiguranja vinkulirane u korist banke</a:t>
                      </a:r>
                      <a:endParaRPr b="0" lang="en-US" sz="1300" spc="-1" strike="noStrike">
                        <a:solidFill>
                          <a:srgbClr val="000000"/>
                        </a:solidFill>
                        <a:latin typeface="Arial"/>
                      </a:endParaRPr>
                    </a:p>
                    <a:p>
                      <a:pPr lvl="1" marL="457200" indent="-112680">
                        <a:lnSpc>
                          <a:spcPct val="100000"/>
                        </a:lnSpc>
                        <a:spcBef>
                          <a:spcPts val="326"/>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 </a:t>
                      </a:r>
                      <a:r>
                        <a:rPr b="0" lang="hr-HR" sz="1300" spc="-1" strike="noStrike">
                          <a:solidFill>
                            <a:srgbClr val="000000"/>
                          </a:solidFill>
                          <a:latin typeface="Arial"/>
                        </a:rPr>
                        <a:t>polica osiguranja nekretnine od požara</a:t>
                      </a:r>
                      <a:endParaRPr b="0" lang="en-US" sz="1300" spc="-1" strike="noStrike">
                        <a:solidFill>
                          <a:srgbClr val="000000"/>
                        </a:solidFill>
                        <a:latin typeface="Arial"/>
                      </a:endParaRPr>
                    </a:p>
                    <a:p>
                      <a:pPr lvl="1" marL="457200" indent="-112680">
                        <a:lnSpc>
                          <a:spcPct val="100000"/>
                        </a:lnSpc>
                        <a:spcBef>
                          <a:spcPts val="326"/>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 </a:t>
                      </a:r>
                      <a:r>
                        <a:rPr b="0" lang="hr-HR" sz="1300" spc="-1" strike="noStrike">
                          <a:solidFill>
                            <a:srgbClr val="000000"/>
                          </a:solidFill>
                          <a:latin typeface="Arial"/>
                        </a:rPr>
                        <a:t>polica osiguranja korisnika kredita od posljedica nesretnog slučaj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Suglasnost o zapljeni primanj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Bez jamaca, bez depozita</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95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Potrebna dokumentacij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Zahtjev za kredit</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reslika osobne iskaznice tražitelja kredit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Dokaz o vlasništvu nekretnine- original ZK izvatka ne stariji od mjesec dana</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rocjena vrijednosti nekretnine</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Police osiguranja vinkulirane u korist banke</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Efektivna kam. stop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Veća od 5,5%</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300" spc="-1" strike="noStrike">
                          <a:solidFill>
                            <a:srgbClr val="000000"/>
                          </a:solidFill>
                          <a:latin typeface="Arial"/>
                        </a:rPr>
                        <a:t>Naknada za obradu kreditnog zahtjeva</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Arial"/>
                        </a:rPr>
                        <a:t>2,5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3" name="Rezervirano mjesto broja slajda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3C2E-0015-43E5-B887-D2A30694DDB1}" type="slidenum">
              <a:rPr b="0" lang="hr-HR"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rPr>
              <a:t>SREDIŠNJA BANKA </a:t>
            </a:r>
            <a:endParaRPr b="0" lang="en-US" sz="3200" spc="-1" strike="noStrike">
              <a:solidFill>
                <a:srgbClr val="464653"/>
              </a:solidFill>
              <a:latin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28600"/>
            <a:ext cx="8229600" cy="641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9d2512"/>
                </a:solidFill>
                <a:uFillTx/>
                <a:latin typeface="Times New Roman"/>
              </a:rPr>
              <a:t>Emisijska banka</a:t>
            </a:r>
            <a:endParaRPr b="0" lang="en-US" sz="2400" spc="-1" strike="noStrike">
              <a:solidFill>
                <a:srgbClr val="464653"/>
              </a:solidFill>
              <a:latin typeface="Bookman Old Style"/>
            </a:endParaRPr>
          </a:p>
        </p:txBody>
      </p:sp>
      <p:sp>
        <p:nvSpPr>
          <p:cNvPr id="446" name=""/>
          <p:cNvSpPr txBox="1"/>
          <p:nvPr/>
        </p:nvSpPr>
        <p:spPr>
          <a:xfrm>
            <a:off x="468360" y="1785960"/>
            <a:ext cx="7912080" cy="445608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redišnja banka je centralna monetarna institucija nacionalnog sustava </a:t>
            </a:r>
            <a:r>
              <a:rPr b="0" lang="hr-HR" sz="2400" spc="-1" strike="noStrike">
                <a:solidFill>
                  <a:srgbClr val="000000"/>
                </a:solidFill>
                <a:latin typeface="Wingdings"/>
                <a:ea typeface="Wingdings"/>
              </a:rPr>
              <a:t></a:t>
            </a:r>
            <a:r>
              <a:rPr b="0" lang="hr-HR" sz="2400" spc="-1" strike="noStrike">
                <a:solidFill>
                  <a:srgbClr val="000000"/>
                </a:solidFill>
                <a:latin typeface="Times New Roman"/>
              </a:rPr>
              <a:t> smatra se jednim od stupova gospodarstva </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bog svoje uloge unutar nacionalnog sustava (uz vatru i kotač) smatra se jednim od najznačajnijih izuma u povijesti</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ovijesno gledano, više financijskih institucija bilo je ovlašteno za emisiju novca, ali je u konačnici to pravo dano samo središnjoj banci  </a:t>
            </a:r>
            <a:endParaRPr b="0" lang="en-US" sz="24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1900. godine svega 18 Centralnih banaka, danas je imaju gotovo sve države svijeta </a:t>
            </a: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50560" y="404640"/>
            <a:ext cx="8675640" cy="5639040"/>
          </a:xfrm>
          <a:prstGeom prst="rect">
            <a:avLst/>
          </a:prstGeom>
          <a:noFill/>
          <a:ln w="0">
            <a:noFill/>
          </a:ln>
        </p:spPr>
        <p:txBody>
          <a:bodyPr lIns="90000" rIns="90000" tIns="46800" bIns="46800" anchor="t">
            <a:normAutofit/>
          </a:bodyPr>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3300"/>
                </a:solidFill>
                <a:latin typeface="Times New Roman"/>
              </a:rPr>
              <a:t>Razlika poslovnih i središnje banke</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Središnjom bankom, obzirom da je državna institucija,  rukovode ljudi koji su više ili manje povezani s ostalim organima vlade</a:t>
            </a:r>
            <a:endParaRPr b="0" lang="en-US" sz="2400" spc="-1" strike="noStrike">
              <a:solidFill>
                <a:srgbClr val="464653"/>
              </a:solidFill>
              <a:latin typeface="Gill Sans MT"/>
            </a:endParaRPr>
          </a:p>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rofit im nije osnovni cilj poslovanja kao kod PB </a:t>
            </a:r>
            <a:r>
              <a:rPr b="0" lang="hr-HR" sz="2400" spc="-1" strike="noStrike">
                <a:solidFill>
                  <a:srgbClr val="464653"/>
                </a:solidFill>
                <a:latin typeface="Wingdings"/>
                <a:ea typeface="Wingdings"/>
              </a:rPr>
              <a:t></a:t>
            </a:r>
            <a:r>
              <a:rPr b="0" lang="hr-HR" sz="2400" spc="-1" strike="noStrike">
                <a:solidFill>
                  <a:srgbClr val="464653"/>
                </a:solidFill>
                <a:latin typeface="Times New Roman"/>
              </a:rPr>
              <a:t> njihovo poslovanje usmjereno je ka ostvarivanju ciljeva gospodarske i monetarne politike </a:t>
            </a:r>
            <a:endParaRPr b="0" lang="en-US" sz="2400" spc="-1" strike="noStrike">
              <a:solidFill>
                <a:srgbClr val="464653"/>
              </a:solidFill>
              <a:latin typeface="Gill Sans MT"/>
            </a:endParaRPr>
          </a:p>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Moraju imati posebnu vezu s PB kako bi mogle izvršavati vladinu ekonomsku politiku</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468360" y="259920"/>
            <a:ext cx="8229600" cy="604836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Financijsko posredovanje povezano je s </a:t>
            </a:r>
            <a:r>
              <a:rPr b="0" lang="hr-HR" sz="2400" spc="-1" strike="noStrike">
                <a:solidFill>
                  <a:srgbClr val="c00000"/>
                </a:solidFill>
                <a:latin typeface="Gill Sans MT"/>
              </a:rPr>
              <a:t>asimetrijom štednje i investicija</a:t>
            </a:r>
            <a:r>
              <a:rPr b="0" lang="hr-HR" sz="2400" spc="-1" strike="noStrike">
                <a:solidFill>
                  <a:srgbClr val="000000"/>
                </a:solidFill>
                <a:latin typeface="Gill Sans MT"/>
              </a:rPr>
              <a:t> različitih sektora privrede (poduzeća, stanovništva i države)</a:t>
            </a:r>
            <a:endParaRPr b="0" lang="en-US" sz="24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ajvažniji izvor ponude novčanih sredstava u svim zemljama je </a:t>
            </a:r>
            <a:r>
              <a:rPr b="1" lang="hr-HR" sz="2400" spc="-1" strike="noStrike">
                <a:solidFill>
                  <a:srgbClr val="000000"/>
                </a:solidFill>
                <a:latin typeface="Gill Sans MT"/>
              </a:rPr>
              <a:t>stanovništvo</a:t>
            </a:r>
            <a:r>
              <a:rPr b="0" lang="hr-HR" sz="2400" spc="-1" strike="noStrike">
                <a:solidFill>
                  <a:srgbClr val="000000"/>
                </a:solidFill>
                <a:latin typeface="Gill Sans MT"/>
              </a:rPr>
              <a:t> koje trajno ima veću štednju od investicija i ostvaruje neto-novčane viškove. (novčano suficitarne jedinice)</a:t>
            </a:r>
            <a:endParaRPr b="0" lang="en-US" sz="24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ill Sans MT"/>
              </a:rPr>
              <a:t>Poduzeća</a:t>
            </a:r>
            <a:r>
              <a:rPr b="0" lang="hr-HR" sz="2400" spc="-1" strike="noStrike">
                <a:solidFill>
                  <a:srgbClr val="000000"/>
                </a:solidFill>
                <a:latin typeface="Gill Sans MT"/>
              </a:rPr>
              <a:t> se javljaju kao glavni nositelj investicija, te kao primarni pozajmljivači financijskih sredstava- novčano deficitarne jedinice. </a:t>
            </a:r>
            <a:endParaRPr b="0" lang="en-US" sz="24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o, to ne znači nužno da se sektor države ili poduzeća ne javlja u ulozi nositelja štednje.</a:t>
            </a:r>
            <a:endParaRPr b="0" lang="en-US" sz="24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95280" y="692280"/>
            <a:ext cx="8229600" cy="529272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CB ne može biti nelikvidna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Kod PB veličina pasive (izvori) određuje aktivu (plasmane) dok je kod CB obrnuto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Samo CB emitira efektivni novac (primarna emisija), dok PB emitiraju novac sekundarnom emisijom, odobravanjem kredita u obliku depozitnog novca. Obujam sekundarne emisije novca određen je mjerama središnje banke, kroz visinu rezervi na depozite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B obavlja i dugoročne i kratkoročne transakcije, dok CB obavlja samo kratkoročn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Klijenti PB su svi, klijenti CB su banke, štedionice i država – </a:t>
            </a:r>
            <a:r>
              <a:rPr b="1" lang="hr-HR" sz="2400" spc="-1" strike="noStrike">
                <a:solidFill>
                  <a:srgbClr val="464653"/>
                </a:solidFill>
                <a:latin typeface="Times New Roman"/>
              </a:rPr>
              <a:t>ne</a:t>
            </a:r>
            <a:r>
              <a:rPr b="0" lang="hr-HR" sz="2400" spc="-1" strike="noStrike">
                <a:solidFill>
                  <a:srgbClr val="464653"/>
                </a:solidFill>
                <a:latin typeface="Times New Roman"/>
              </a:rPr>
              <a:t> i stanovništvo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d2512"/>
                </a:solidFill>
                <a:latin typeface="Bookman Old Style"/>
              </a:rPr>
              <a:t>Monetarne institucije u RH </a:t>
            </a:r>
            <a:endParaRPr b="0" lang="en-US" sz="2800" spc="-1" strike="noStrike">
              <a:solidFill>
                <a:srgbClr val="464653"/>
              </a:solidFill>
              <a:latin typeface="Bookman Old Style"/>
            </a:endParaRPr>
          </a:p>
        </p:txBody>
      </p:sp>
      <p:sp>
        <p:nvSpPr>
          <p:cNvPr id="450" name=""/>
          <p:cNvSpPr txBox="1"/>
          <p:nvPr/>
        </p:nvSpPr>
        <p:spPr>
          <a:xfrm>
            <a:off x="301320" y="1785600"/>
            <a:ext cx="8504280" cy="431316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Hrvatska narodna banka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Poslovne banke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Gill Sans MT"/>
              </a:rPr>
              <a:t>Od 2009. uvodi se pojam kreditne institucije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9600" cy="79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464653"/>
                </a:solidFill>
                <a:uFillTx/>
                <a:latin typeface="Bookman Old Style"/>
              </a:rPr>
              <a:t>Monetarni sustav Hrvatske</a:t>
            </a:r>
            <a:endParaRPr b="0" lang="en-US" sz="3200" spc="-1" strike="noStrike">
              <a:solidFill>
                <a:srgbClr val="464653"/>
              </a:solidFill>
              <a:latin typeface="Bookman Old Style"/>
            </a:endParaRPr>
          </a:p>
        </p:txBody>
      </p:sp>
      <p:sp>
        <p:nvSpPr>
          <p:cNvPr id="452" name="PlaceHolder 2"/>
          <p:cNvSpPr>
            <a:spLocks noGrp="1"/>
          </p:cNvSpPr>
          <p:nvPr>
            <p:ph/>
          </p:nvPr>
        </p:nvSpPr>
        <p:spPr>
          <a:xfrm>
            <a:off x="684360" y="1774440"/>
            <a:ext cx="7697520" cy="36306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Paralelno s procesom osamostaljenja Republike Hrvatske kao suverene i nezavisne države tekao je i proces njezina monetarnog osamostaljenja</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arodna banka Hrvatske formalno i pravno postaje središnja banka Republike Hrvatske 23. prosinca 1991.</a:t>
            </a:r>
            <a:endParaRPr b="0" lang="en-US" sz="2400" spc="-1" strike="noStrike">
              <a:solidFill>
                <a:srgbClr val="000000"/>
              </a:solidFill>
              <a:latin typeface="Gill Sans M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Poslovanjem NBH rukovodio je ranije i sada guverner, a njezinim poslovima upravlja Savjet Narodne banke Hrvatske</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Na temelju izmjena i dopuna Ustava Republike Hrvatske u prosincu 1997. godine Narodna banka Hrvatske promijenila je naziv u Hrvatska narodna banka </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Prema novom zakonu jedini i glavni cilj HNB – a je </a:t>
            </a:r>
            <a:r>
              <a:rPr b="1" lang="hr-HR" sz="2800" spc="-1" strike="noStrike">
                <a:solidFill>
                  <a:srgbClr val="000000"/>
                </a:solidFill>
                <a:latin typeface="Gill Sans MT"/>
              </a:rPr>
              <a:t>postizanje i održavanje stabilnosti cijena</a:t>
            </a:r>
            <a:endParaRPr b="0" lang="en-US" sz="2800" spc="-1" strike="noStrike">
              <a:solidFill>
                <a:srgbClr val="000000"/>
              </a:solidFill>
              <a:latin typeface="Gill Sans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HNB obavlja sljedeće poslov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utvrđivanje i provođenje monetarne i devizne politik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držanje i upravljanje međunarodnim rezervama Republike Hrvatske</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izdavanje novčanica i kovanog novca</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izdavanje i oduzimanje odobrenja za rad banaka, nadzor i regulacija bankarskih poslova</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vođenje računa banka i obavljanje platnog prometa po tim računima, davanje kredita bankama i primanje u depozit sredstava banaka</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Gill Sans MT"/>
              </a:rPr>
              <a:t>reguliranje i nadzor platnog sustava </a:t>
            </a:r>
            <a:endParaRPr b="0" lang="en-US" sz="2400" spc="-1" strike="noStrike">
              <a:solidFill>
                <a:srgbClr val="464653"/>
              </a:solidFill>
              <a:latin typeface="Gill Sans M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
          <p:cNvPicPr/>
          <p:nvPr/>
        </p:nvPicPr>
        <p:blipFill>
          <a:blip r:embed="rId1"/>
          <a:stretch/>
        </p:blipFill>
        <p:spPr>
          <a:xfrm>
            <a:off x="871560" y="662040"/>
            <a:ext cx="7400880" cy="5533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
          <p:cNvPicPr/>
          <p:nvPr/>
        </p:nvPicPr>
        <p:blipFill>
          <a:blip r:embed="rId1"/>
          <a:stretch/>
        </p:blipFill>
        <p:spPr>
          <a:xfrm>
            <a:off x="276120" y="500040"/>
            <a:ext cx="8591760" cy="58579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2" descr=""/>
          <p:cNvPicPr/>
          <p:nvPr/>
        </p:nvPicPr>
        <p:blipFill>
          <a:blip r:embed="rId1"/>
          <a:stretch/>
        </p:blipFill>
        <p:spPr>
          <a:xfrm>
            <a:off x="0" y="19080"/>
            <a:ext cx="9648720" cy="6819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
          <p:cNvPicPr/>
          <p:nvPr/>
        </p:nvPicPr>
        <p:blipFill>
          <a:blip r:embed="rId1"/>
          <a:stretch/>
        </p:blipFill>
        <p:spPr>
          <a:xfrm>
            <a:off x="0" y="19080"/>
            <a:ext cx="9648720" cy="68198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123840" y="357120"/>
            <a:ext cx="9020160" cy="602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c00000"/>
                </a:solidFill>
                <a:uFillTx/>
                <a:latin typeface="Bookman Old Style"/>
              </a:rPr>
              <a:t>Razvoj banaka</a:t>
            </a:r>
            <a:endParaRPr b="0" lang="en-US" sz="3200" spc="-1" strike="noStrike">
              <a:solidFill>
                <a:srgbClr val="464653"/>
              </a:solidFill>
              <a:latin typeface="Bookman Old Style"/>
            </a:endParaRPr>
          </a:p>
        </p:txBody>
      </p:sp>
      <p:sp>
        <p:nvSpPr>
          <p:cNvPr id="401" name="PlaceHolder 2"/>
          <p:cNvSpPr>
            <a:spLocks noGrp="1"/>
          </p:cNvSpPr>
          <p:nvPr>
            <p:ph/>
          </p:nvPr>
        </p:nvSpPr>
        <p:spPr>
          <a:xfrm>
            <a:off x="395280" y="1341000"/>
            <a:ext cx="8229600" cy="525780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Riječ banka označava instituciju za posredovanje i trgovinu novcem. </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Povijesni razvoj banaka je povezan s pojavom i razvojem novca. </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ill Sans MT"/>
              </a:rPr>
              <a:t>Bankarske poslove nalazimo još u razdoblju robovlasničkog sustava u 7. stoljeću prije Krista. </a:t>
            </a:r>
            <a:endParaRPr b="0" lang="en-US" sz="28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442800" y="333360"/>
            <a:ext cx="8258400" cy="6191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442800" y="333360"/>
            <a:ext cx="8258400" cy="61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793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c00000"/>
                </a:solidFill>
                <a:uFillTx/>
                <a:latin typeface="Bookman Old Style"/>
              </a:rPr>
              <a:t>Monetarne institucije </a:t>
            </a:r>
            <a:endParaRPr b="0" lang="en-US" sz="3200" spc="-1" strike="noStrike">
              <a:solidFill>
                <a:srgbClr val="464653"/>
              </a:solidFill>
              <a:latin typeface="Bookman Old Style"/>
            </a:endParaRPr>
          </a:p>
        </p:txBody>
      </p:sp>
      <p:sp>
        <p:nvSpPr>
          <p:cNvPr id="403" name=""/>
          <p:cNvSpPr txBox="1"/>
          <p:nvPr/>
        </p:nvSpPr>
        <p:spPr>
          <a:xfrm>
            <a:off x="428760" y="142884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Monetarne institucije su sve one institucije koje u svojoj pasivi imaju obveze koje su nastale emisijom novca</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Središnja banka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64653"/>
                </a:solidFill>
                <a:latin typeface="Times New Roman"/>
              </a:rPr>
              <a:t>Poslovne banke </a:t>
            </a:r>
            <a:endParaRPr b="0" lang="en-US" sz="2400" spc="-1" strike="noStrike">
              <a:solidFill>
                <a:srgbClr val="464653"/>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stale financijske institucije </a:t>
            </a:r>
            <a:r>
              <a:rPr b="0" lang="hr-HR" sz="2400" spc="-1" strike="noStrike">
                <a:solidFill>
                  <a:srgbClr val="000000"/>
                </a:solidFill>
                <a:latin typeface="Times New Roman"/>
              </a:rPr>
              <a:t> </a:t>
            </a:r>
            <a:r>
              <a:rPr b="0" lang="hr-HR" sz="2800" spc="-1" strike="noStrike">
                <a:solidFill>
                  <a:srgbClr val="000000"/>
                </a:solidFill>
                <a:latin typeface="Times New Roman"/>
              </a:rPr>
              <a:t>su nemonetarn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571680" y="1496880"/>
            <a:ext cx="7696080" cy="4361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U 12. st.  bankarstvo se izdvojilo kao zasebna i vrlo profitabilna djelatnost kroz koju se financirala prekomorska, ali i kopnena trgovina.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Prva banka nastala je u Genovi 1401. godine. Osim izdavanja zajmova, bavila se i posredovanjem u platnom prometu između trgovačkih središta.</a:t>
            </a:r>
            <a:endParaRPr b="0" lang="en-US" sz="24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95280" y="764640"/>
            <a:ext cx="8229600" cy="547236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Po uzoru na Italiju, tijekom 16. i 17. stoljeća, banke se osnivaju i u drugim zemljama.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17. stoljeće tipično je po postojanju emisijskih banaka, koje za iznos metalnog novca položenog u banku donosiocima izdaju banknote.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Kako bi se smanjila pojava banknota, izbjegla inflacija zbog pretjerane novčane emisije te zagarantirala sigurnost novčanog sustava, pravo izdavanja novca je ograničeno na jednu nacionalnu banku  koja nosi atribut emisijske banke.</a:t>
            </a:r>
            <a:endParaRPr b="0" lang="en-US" sz="24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c00000"/>
                </a:solidFill>
                <a:uFillTx/>
                <a:latin typeface="Bookman Old Style"/>
              </a:rPr>
              <a:t>Podjela poslovnih banaka</a:t>
            </a:r>
            <a:endParaRPr b="0" lang="en-US" sz="3600" spc="-1" strike="noStrike">
              <a:solidFill>
                <a:srgbClr val="464653"/>
              </a:solidFill>
              <a:latin typeface="Bookman Old Style"/>
            </a:endParaRPr>
          </a:p>
        </p:txBody>
      </p:sp>
      <p:sp>
        <p:nvSpPr>
          <p:cNvPr id="40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464653"/>
                </a:solidFill>
                <a:latin typeface="Gill Sans MT"/>
              </a:rPr>
              <a:t>Prema </a:t>
            </a:r>
            <a:r>
              <a:rPr b="1" lang="hr-HR" sz="2800" spc="-1" strike="noStrike">
                <a:solidFill>
                  <a:srgbClr val="c00000"/>
                </a:solidFill>
                <a:latin typeface="Gill Sans MT"/>
              </a:rPr>
              <a:t>kriteriju djelatnosti</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univerzalne i</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specijalizirane</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000000"/>
                </a:solidFill>
                <a:latin typeface="Gill Sans MT"/>
              </a:rPr>
              <a:t>	</a:t>
            </a:r>
            <a:r>
              <a:rPr b="1" lang="hr-HR" sz="2800" spc="-1" strike="noStrike">
                <a:solidFill>
                  <a:srgbClr val="464653"/>
                </a:solidFill>
                <a:latin typeface="Gill Sans MT"/>
              </a:rPr>
              <a:t>S obzirom na </a:t>
            </a:r>
            <a:r>
              <a:rPr b="1" lang="hr-HR" sz="2800" spc="-1" strike="noStrike">
                <a:solidFill>
                  <a:srgbClr val="c00000"/>
                </a:solidFill>
                <a:latin typeface="Gill Sans MT"/>
              </a:rPr>
              <a:t>oblik vlasništva </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privatne</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državne</a:t>
            </a:r>
            <a:endParaRPr b="0" lang="en-US" sz="2800" spc="-1" strike="noStrike">
              <a:solidFill>
                <a:srgbClr val="000000"/>
              </a:solidFill>
              <a:latin typeface="Gill Sans MT"/>
            </a:endParaRPr>
          </a:p>
          <a:p>
            <a:pPr marL="272880" indent="-272880">
              <a:lnSpc>
                <a:spcPct val="90000"/>
              </a:lnSpc>
              <a:spcBef>
                <a:spcPts val="601"/>
              </a:spcBef>
              <a:buClr>
                <a:srgbClr val="0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ill Sans MT"/>
              </a:rPr>
              <a:t>mješovite</a:t>
            </a:r>
            <a:endParaRPr b="0" lang="en-US" sz="28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28760" y="666720"/>
            <a:ext cx="8229600" cy="6191280"/>
          </a:xfrm>
          <a:prstGeom prst="rect">
            <a:avLst/>
          </a:prstGeom>
          <a:noFill/>
          <a:ln w="0">
            <a:noFill/>
          </a:ln>
        </p:spPr>
        <p:txBody>
          <a:bodyPr lIns="90000" rIns="90000" tIns="46800" bIns="4680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Univerzalne banke</a:t>
            </a:r>
            <a:r>
              <a:rPr b="0" lang="hr-HR" sz="2400" spc="-1" strike="noStrike">
                <a:solidFill>
                  <a:srgbClr val="000000"/>
                </a:solidFill>
                <a:latin typeface="Gill Sans MT"/>
              </a:rPr>
              <a:t> obavljaju sve depozitne i kreditne poslove, transakcije vrijednosnicama u zemlji i inozemstvu te poslove s devizama i deviznim potraživanjima. Karakteristične su za europski financijski sustav.</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u="sng">
                <a:solidFill>
                  <a:srgbClr val="000000"/>
                </a:solidFill>
                <a:uFillTx/>
                <a:latin typeface="Gill Sans MT"/>
              </a:rPr>
              <a:t>Specijalizirane banke</a:t>
            </a:r>
            <a:r>
              <a:rPr b="0" lang="hr-HR" sz="2400" spc="-1" strike="noStrike">
                <a:solidFill>
                  <a:srgbClr val="000000"/>
                </a:solidFill>
                <a:latin typeface="Gill Sans MT"/>
              </a:rPr>
              <a:t> su one koje zbog vlastitog financijskog interesa ili zakonske regulative, svoju djelatnost ograničavaju na određeno područje financijskog posredovanja ili pružaju financijske usluge određenom sektoru. (poljoprivredne banke, trgovačke banke itd.)</a:t>
            </a:r>
            <a:endParaRPr b="0" lang="en-US" sz="24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9:55:23Z</dcterms:created>
  <dc:creator>Gordana Kordić</dc:creator>
  <dc:description/>
  <dc:language>en-US</dc:language>
  <cp:lastModifiedBy>gkordic</cp:lastModifiedBy>
  <dcterms:modified xsi:type="dcterms:W3CDTF">2010-03-03T19:04:41Z</dcterms:modified>
  <cp:revision>29</cp:revision>
  <dc:subject/>
  <dc:title>Ekonomsko i monetarno značenje kredita</dc:title>
</cp:coreProperties>
</file>