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AD05-1A1E-4CA2-937D-90F2B421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4FA-6643-4D00-89EC-25705ECE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24F-A705-4780-B681-5A1B251A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493-AC79-4423-8A35-B1114D78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CE9-F06B-43C7-A7CB-0117E83F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D385-0D39-4630-9A72-2570DD0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31CB-F9E9-43B4-B424-3E35FFA9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2FCA-B14B-4E3D-8305-19CCC1F9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54AF-C2B1-4C8F-9AB2-B4814B0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1F2F-FDF7-49EC-8F93-6551A6FC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291-45A4-4840-936C-902C968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1C0-9367-48CD-B4B1-B99B763F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C31-D1CB-4405-9D0F-981C513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BB0-8092-4079-A629-4B61DF5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5C47-B9A4-4CE4-BF7B-67313C53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C337-3565-4D27-9FFC-273CBD75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791-5710-4F84-A8A7-D93A343E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766-5F77-4D56-9887-786B11E1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F99-3236-49B7-B1F8-D4782F54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0CF1-560E-40E5-AF84-04D3A959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37A-7697-4471-BD5E-BAEF696F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1A5-1A59-478E-BC5B-814CBD42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3CB-CCD5-403D-96C8-FC73250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EBBA-225C-4BEA-907E-8443F380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3007-EF8D-4825-9744-3B18CC47D2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D091-3B62-4948-8CBF-5533FF5E52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5120" y="631800"/>
            <a:ext cx="79405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OSNOVNA ANALI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VREMENSKIH    NIZO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 1. Grafičko prikazivanje i uspoređivanje vremenskih niz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2. Pokazatelji dinam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3. Individual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4. Skup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3120" y="189000"/>
            <a:ext cx="8840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Verdana"/>
              </a:rPr>
              <a:t>Pokazatelji dinamike vremenskog niz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su brojčane veličine kojima se opisuju promjene razine pojava u vreme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Prema razdoblju za koje se utvrđuju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, razlikuju 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jedinačne promj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sječne promje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Prema mjernoj jedinici u kojoj su izražen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psolutne promj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lativne promje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Prema razdoblju s kojim se uspoređuj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mjene u odnosu na razinu pojave u odabranom baznom vremenskom razdobl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mjene razine pojave u uzastopnim vremenskim razdoblj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47840" y="77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0640" y="476280"/>
            <a:ext cx="74638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snovni pokazatelji dinamike vremenskog ni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ve diferen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ope promj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Koeficijenti dinam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dividual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DETALJNO NA VJEŽBAM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912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4005360"/>
            <a:ext cx="446544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dividual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5300640"/>
            <a:ext cx="338472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Baz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5300640"/>
            <a:ext cx="338436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Veriž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71280" y="4869000"/>
            <a:ext cx="2016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4869000"/>
            <a:ext cx="1511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187280" y="144360"/>
          <a:ext cx="655344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4360"/>
                    <a:ext cx="65534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826920" y="549360"/>
          <a:ext cx="7705800" cy="57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70580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356000" y="4581360"/>
            <a:ext cx="1944720" cy="93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4508640"/>
            <a:ext cx="208764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436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2200" y="2889360"/>
            <a:ext cx="80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kazatelji dinamike detaljno na vježbam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zračun, tumačenje i grafičko prikaziva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6200" y="558720"/>
            <a:ext cx="829944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 u="sng">
                <a:solidFill>
                  <a:srgbClr val="ffffff"/>
                </a:solidFill>
                <a:uFillTx/>
                <a:latin typeface="Verdana"/>
              </a:rPr>
              <a:t>STATISTIČKI NIZ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IZOVI KVALITATIVNIH PODTAK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inalni atributivni n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inalni geografski n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dosljedni (ordinalni) n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NIZOVI KVANTITATIVNIH PODA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(NUMERIČKI NIZOVI, DISTRIBU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FREKVENC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hr-HR" sz="2400" spc="-1" strike="noStrike">
                <a:solidFill>
                  <a:srgbClr val="66ff33"/>
                </a:solidFill>
                <a:latin typeface="Verdana"/>
              </a:rPr>
              <a:t>VREMENSKI NIZ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7840" y="189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Vremenski n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je skup kronolo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ki ur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đ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nih podataka o vrijednosti promatrane pojav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varijabl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), Y.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6920" y="1517760"/>
                <a:ext cx="7561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24000" y="2349360"/>
            <a:ext cx="842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Prema na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inu promatranja pojave u vremenu razlikuju se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Intervalni 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nastaje promatranjem pojave nad određenim vremenskim intervalima (godina, kvartal, mjesec, dan i dr.), ima svojstvo kumulativ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Trenutačni  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nastaje promatranjem pojave u određenom vremenskom trenutku, nema svojstvo kumulativ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3120" y="419040"/>
            <a:ext cx="808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00" y="1058760"/>
            <a:ext cx="809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00"/>
                </a:solidFill>
                <a:latin typeface="Verdana"/>
              </a:rPr>
              <a:t>Statistička analiza vremenskih nizov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deskriptiv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 - tabelarni i grafički prika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relativni brojevi (indeksi)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pokazatelji dinam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inferencijal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polazi 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atističkih modela vremenskih s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333360"/>
            <a:ext cx="432144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66ff33"/>
                </a:solidFill>
                <a:latin typeface="Verdana"/>
              </a:rPr>
              <a:t>intervalni vremenski niz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Linijski grafik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Površinski grafik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907920"/>
            <a:ext cx="403200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907920"/>
            <a:ext cx="417672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94280" y="944640"/>
            <a:ext cx="37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ff33"/>
                </a:solidFill>
                <a:latin typeface="Verdana"/>
              </a:rPr>
              <a:t>trenutačni vremenski niz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67720" y="159228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 linijski grafik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6200" y="3164040"/>
            <a:ext cx="85885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ko se podaci nalaze na visokoj brojčanoj razini (daleko od nule) i s malim rasponom varijacije može se primijeniti </a:t>
            </a:r>
            <a:r>
              <a:rPr b="1" lang="hr-HR" sz="2000" spc="-1" strike="noStrike">
                <a:solidFill>
                  <a:srgbClr val="ffff00"/>
                </a:solidFill>
                <a:latin typeface="Verdana"/>
              </a:rPr>
              <a:t>horizontalni prekid mjerila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(samo na linijskom grafikonu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ko ne postoje podaci za jedan dio razdoblja primijenjuje se </a:t>
            </a:r>
            <a:r>
              <a:rPr b="1" lang="hr-HR" sz="2000" spc="-1" strike="noStrike">
                <a:solidFill>
                  <a:srgbClr val="ffff00"/>
                </a:solidFill>
                <a:latin typeface="Verdana"/>
              </a:rPr>
              <a:t>vertikalni prekid mjerila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(prekida se os apscis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Verdana"/>
              </a:rPr>
              <a:t>Grafička usporedba dvaju ili više vremenskih niz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Verdana"/>
              </a:rPr>
              <a:t>Polulogaritamski grafik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Verdana"/>
              </a:rPr>
              <a:t>Polarni dijagram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02680" y="271440"/>
            <a:ext cx="34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Grafičko prikazi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908000" y="692280"/>
            <a:ext cx="2376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620640"/>
            <a:ext cx="2160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557360"/>
            <a:ext cx="33130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557360"/>
            <a:ext cx="33130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692280"/>
          <a:ext cx="91440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826920" y="3106800"/>
          <a:ext cx="7705800" cy="33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106800"/>
                    <a:ext cx="770580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46280" y="17784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Primjer 14.2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826920" y="1268280"/>
          <a:ext cx="77058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7058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24000" y="620640"/>
          <a:ext cx="820872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2087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14320" y="44280"/>
            <a:ext cx="61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Verdana"/>
              </a:rPr>
              <a:t>Primjer 14.5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hr-HR" sz="1800" spc="-1" strike="noStrike">
                <a:solidFill>
                  <a:srgbClr val="ffffff"/>
                </a:solidFill>
                <a:latin typeface="Verdana"/>
              </a:rPr>
              <a:t>grafička usporedba vremenskih niz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5280" y="2565360"/>
          <a:ext cx="8137440" cy="39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8137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9880" y="2678040"/>
            <a:ext cx="74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GRAFIČKO PRIKAZIVANJE I USPOREĐIVA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VREMENSKIH  NIZOVA DETALJNO NA VJEŽBAM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23:52:45Z</dcterms:created>
  <dc:creator>Mirjana Čižmešija</dc:creator>
  <dc:description/>
  <dc:language>en-US</dc:language>
  <cp:lastModifiedBy>mcizmesija</cp:lastModifiedBy>
  <dcterms:modified xsi:type="dcterms:W3CDTF">2007-03-08T14:48:47Z</dcterms:modified>
  <cp:revision>3</cp:revision>
  <dc:subject/>
  <dc:title>Slide 1</dc:title>
</cp:coreProperties>
</file>