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D8A6-92FD-42F4-9C93-67AB4C771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493-4216-48D9-90B8-9FFC18AA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996B-310C-4539-AE09-5053A30B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A28-580F-4D23-ABA0-705D5F10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4885-1E8E-4E46-90A2-25364A5E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76BD-37EC-4581-82A3-C5DF6922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1811-2185-41B0-8895-93E9D43C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5DD4-EB19-4408-966F-753A0632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819A-9272-4D9A-9775-DDADBABDB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EDCD0-305C-4134-88D0-BC7B03DA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8799-0C28-4930-B2E8-17CA834A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7BD-C76F-43B7-93EB-0128FF71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2FAF-EB47-406F-A21E-B042BDD5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123B7-731C-4631-BDF2-17B6449B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86348-F482-482D-8B90-0C47BF09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F3F9-4704-42A0-B5C9-4BB71C5F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800E-83DB-4E9A-817D-C6A7EC1D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87A7-B623-4BB4-B91C-4D4D1DDE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F26-77E4-4DBC-8D07-60404784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7E0-1D0F-4A52-8871-C9BAB5976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159-FE5E-4A25-B219-5992065D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B82-DA32-4116-9866-E786DBAB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9CFB-E6B5-4DDC-9A82-72BDBEBC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358-7D9D-43DF-A608-7E398ECD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A3BB-8133-4EE1-B514-DF10A848DA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01ED-C411-4A30-B171-ABDFE6C94E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35120" y="631800"/>
            <a:ext cx="79405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i="1" lang="hr-HR" sz="2800" spc="-1" strike="noStrike">
                <a:solidFill>
                  <a:srgbClr val="ffcc66"/>
                </a:solidFill>
                <a:latin typeface="Verdana"/>
              </a:rPr>
              <a:t>OSNOVNA ANALIZ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i="1" lang="hr-HR" sz="2800" spc="-1" strike="noStrike">
                <a:solidFill>
                  <a:srgbClr val="ffcc66"/>
                </a:solidFill>
                <a:latin typeface="Verdana"/>
              </a:rPr>
              <a:t>	</a:t>
            </a:r>
            <a:r>
              <a:rPr b="1" i="1" lang="hr-HR" sz="2800" spc="-1" strike="noStrike">
                <a:solidFill>
                  <a:srgbClr val="ffcc66"/>
                </a:solidFill>
                <a:latin typeface="Verdana"/>
              </a:rPr>
              <a:t>VREMENSKIH    NIZO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14. 1. Grafičko prikazivanje i uspoređivanje vremenskih nizo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14.2. Pokazatelji dinam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14.3. Individual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14.4. Skup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3120" y="189000"/>
            <a:ext cx="88408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ff00"/>
                </a:solidFill>
                <a:latin typeface="Verdana"/>
              </a:rPr>
              <a:t>Pokazatelji dinamike vremenskog niz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su brojčane veličine kojima se opisuju promjene razine pojava u vremen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Prema razdoblju za koje se utvrđuju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, razlikuju 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jedinačne promj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osječne promje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Prema mjernoj jedinici u kojoj su izražen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apsolutne promj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elativne promje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Prema razdoblju s kojim se uspoređuj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omjene u odnosu na razinu pojave u odabranom baznom vremenskom razdoblj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omjene razine pojave u uzastopnim vremenskim razdoblj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47840" y="779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80640" y="476280"/>
            <a:ext cx="7463880" cy="34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Osnovni pokazatelji dinamike vremenskog niz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rve diferen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ope promj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Koeficijenti dinam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ndividual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ff3300"/>
                </a:solidFill>
                <a:latin typeface="Verdana"/>
              </a:rPr>
              <a:t>DETALJNO NA VJEŽBAM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19120" y="409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4005360"/>
            <a:ext cx="4465440" cy="86364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ndividual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87280" y="5300640"/>
            <a:ext cx="338472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Baz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88000" y="5300640"/>
            <a:ext cx="338436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Verižni indek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2771280" y="4869000"/>
            <a:ext cx="2016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4869000"/>
            <a:ext cx="151128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1187280" y="144360"/>
          <a:ext cx="6553440" cy="659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4360"/>
                    <a:ext cx="65534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826920" y="549360"/>
          <a:ext cx="7705800" cy="57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549360"/>
                    <a:ext cx="7705800" cy="57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4356000" y="4581360"/>
            <a:ext cx="1944720" cy="93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4508640"/>
            <a:ext cx="208764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4360" y="1341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2200" y="2889360"/>
            <a:ext cx="801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Pokazatelji dinamike detaljno na vježbam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Izračun, tumačenje i grafičko prikazivanj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76200" y="558720"/>
            <a:ext cx="8299440" cy="68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800" spc="-1" strike="noStrike" u="sng">
                <a:solidFill>
                  <a:srgbClr val="ffffff"/>
                </a:solidFill>
                <a:uFillTx/>
                <a:latin typeface="Verdana"/>
              </a:rPr>
              <a:t>STATISTIČKI NIZO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IZOVI KVALITATIVNIH PODTAK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ominalni atributivni n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Nominalni geografski n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Redosljedni (ordinalni) ni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NIZOVI KVANTITATIVNIH PODATA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(NUMERIČKI NIZOVI, DISTRIBUCI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FREKVENC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hr-HR" sz="2400" spc="-1" strike="noStrike">
                <a:solidFill>
                  <a:srgbClr val="66ff33"/>
                </a:solidFill>
                <a:latin typeface="Verdana"/>
              </a:rPr>
              <a:t>VREMENSKI NIZO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ff33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47840" y="1890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Vremenski niz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 je skup kronolo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š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ki ur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đ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nih podataka o vrijednosti promatrane pojav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varijable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), Y.</a:t>
            </a:r>
            <a:r>
              <a:rPr b="0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26920" y="1517760"/>
                <a:ext cx="756144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 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,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24000" y="2349360"/>
            <a:ext cx="842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Prema na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č</a:t>
            </a:r>
            <a:r>
              <a:rPr b="1" i="1" lang="en-GB" sz="2400" spc="-1" strike="noStrike">
                <a:solidFill>
                  <a:srgbClr val="ffffff"/>
                </a:solidFill>
                <a:latin typeface="Verdana"/>
              </a:rPr>
              <a:t>inu promatranja pojave u vremenu razlikuju se</a:t>
            </a:r>
            <a:r>
              <a:rPr b="1" i="1" lang="hr-HR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Intervalni niz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nastaje promatranjem pojave nad određenim vremenskim intervalima (godina, kvartal, mjesec, dan i dr.), ima svojstvo kumulativ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9900"/>
                </a:solidFill>
                <a:latin typeface="Verdana"/>
              </a:rPr>
              <a:t>Trenutačni  niz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nastaje promatranjem pojave u određenom vremenskom trenutku, nema svojstvo kumulativnost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3120" y="419040"/>
            <a:ext cx="808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000" y="1058760"/>
            <a:ext cx="809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2400" spc="-1" strike="noStrike">
                <a:solidFill>
                  <a:srgbClr val="ffff00"/>
                </a:solidFill>
                <a:latin typeface="Verdana"/>
              </a:rPr>
              <a:t>Statistička analiza vremenskih nizov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deskriptivna statisti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: - tabelarni i grafički prikaz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hr-HR" sz="2400" spc="-1" strike="noStrike">
                <a:solidFill>
                  <a:srgbClr val="ff3300"/>
                </a:solidFill>
                <a:latin typeface="Verdana"/>
              </a:rPr>
              <a:t>relativni brojevi (indeksi)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- pokazatelji dinam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inferencijalna statistika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 – polazi o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statističkih modela vremenskih ser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280" y="333360"/>
            <a:ext cx="432144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hr-HR" sz="2000" spc="-1" strike="noStrike">
                <a:solidFill>
                  <a:srgbClr val="66ff33"/>
                </a:solidFill>
                <a:latin typeface="Verdana"/>
              </a:rPr>
              <a:t>intervalni vremenski nizo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Linijski grafik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Površinski grafik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907920"/>
            <a:ext cx="4032000" cy="5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88000" y="907920"/>
            <a:ext cx="4176720" cy="505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994280" y="944640"/>
            <a:ext cx="37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66ff33"/>
                </a:solidFill>
                <a:latin typeface="Verdana"/>
              </a:rPr>
              <a:t>trenutačni vremenski nizov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67720" y="1592280"/>
            <a:ext cx="24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- linijski grafiko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76200" y="3164040"/>
            <a:ext cx="858852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Ako se podaci nalaze na visokoj brojčanoj razini (daleko od nule) i s malim rasponom varijacije može se primijeniti </a:t>
            </a:r>
            <a:r>
              <a:rPr b="1" lang="hr-HR" sz="2000" spc="-1" strike="noStrike">
                <a:solidFill>
                  <a:srgbClr val="ffff00"/>
                </a:solidFill>
                <a:latin typeface="Verdana"/>
              </a:rPr>
              <a:t>horizontalni prekid mjerila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 (samo na linijskom grafikonu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Ako ne postoje podaci za jedan dio razdoblja primijenjuje se </a:t>
            </a:r>
            <a:r>
              <a:rPr b="1" lang="hr-HR" sz="2000" spc="-1" strike="noStrike">
                <a:solidFill>
                  <a:srgbClr val="ffff00"/>
                </a:solidFill>
                <a:latin typeface="Verdana"/>
              </a:rPr>
              <a:t>vertikalni prekid mjerila</a:t>
            </a: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 (prekida se os apscis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Verdana"/>
              </a:rPr>
              <a:t>Grafička usporedba dvaju ili više vremenskih niz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Verdana"/>
              </a:rPr>
              <a:t>Polulogaritamski grafikon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ffffff"/>
                </a:solidFill>
                <a:latin typeface="Verdana"/>
              </a:rPr>
              <a:t>Polarni dijagrami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02680" y="271440"/>
            <a:ext cx="34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9900"/>
                </a:solidFill>
                <a:latin typeface="Verdana"/>
              </a:rPr>
              <a:t>Grafičko prikazivan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908000" y="692280"/>
            <a:ext cx="237672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16360" y="620640"/>
            <a:ext cx="216072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557360"/>
            <a:ext cx="33130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788000" y="1557360"/>
            <a:ext cx="331308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0" y="692280"/>
          <a:ext cx="914400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92280"/>
                    <a:ext cx="91440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826920" y="3106800"/>
          <a:ext cx="7705800" cy="33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106800"/>
                    <a:ext cx="7705800" cy="33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46280" y="177840"/>
            <a:ext cx="182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Verdana"/>
              </a:rPr>
              <a:t>Primjer 14.2</a:t>
            </a: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826920" y="1268280"/>
          <a:ext cx="77058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77058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324000" y="620640"/>
          <a:ext cx="8208720" cy="18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20640"/>
                    <a:ext cx="820872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814320" y="44280"/>
            <a:ext cx="61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Verdana"/>
              </a:rPr>
              <a:t>Primjer 14.5</a:t>
            </a:r>
            <a:r>
              <a:rPr b="0" lang="hr-HR" sz="1800" spc="-1" strike="noStrike">
                <a:solidFill>
                  <a:srgbClr val="ffffff"/>
                </a:solidFill>
                <a:latin typeface="Verdana"/>
              </a:rPr>
              <a:t>.  </a:t>
            </a:r>
            <a:r>
              <a:rPr b="1" lang="hr-HR" sz="1800" spc="-1" strike="noStrike">
                <a:solidFill>
                  <a:srgbClr val="ffffff"/>
                </a:solidFill>
                <a:latin typeface="Verdana"/>
              </a:rPr>
              <a:t>grafička usporedba vremenskih niz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95280" y="2565360"/>
          <a:ext cx="8137440" cy="39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565360"/>
                    <a:ext cx="813744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39880" y="2678040"/>
            <a:ext cx="742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GRAFIČKO PRIKAZIVANJE I USPOREĐIVANJ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Verdana"/>
              </a:rPr>
              <a:t>VREMENSKIH  NIZOVA DETALJNO NA VJEŽBAMA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23:52:45Z</dcterms:created>
  <dc:creator>Mirjana Čižmešija</dc:creator>
  <dc:description/>
  <dc:language>en-US</dc:language>
  <cp:lastModifiedBy>mcizmesija</cp:lastModifiedBy>
  <dcterms:modified xsi:type="dcterms:W3CDTF">2007-03-08T14:48:47Z</dcterms:modified>
  <cp:revision>3</cp:revision>
  <dc:subject/>
  <dc:title>Slide 1</dc:title>
</cp:coreProperties>
</file>