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EDF-13C0-4627-9087-FE573181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0B62-C7C5-45D9-BFB3-AD797173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652-029B-47E1-AA50-C274DC9F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CB6-9A58-467B-A803-3D74D0BE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C6B2-BD7F-4A12-A783-B5B00E5E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54CC-5D40-4C12-9C73-C45A2AEC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BA49-E717-4F07-BD9A-78BE1B75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5F7C-1EC1-41D1-B794-F556C78F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CAB5-7132-4FE9-8006-6C2D910E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E860-0367-4AAC-B36D-8C9A4AF3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9DB4-841F-4A97-93AB-7562CF0D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B5BB-8AAE-4B86-968D-BB436661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9491-80C9-48B2-8E02-62005FA3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0D11-9128-4441-B3E9-612CE6BE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AF35-96DF-4B82-95C0-921B0DEC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C27B-D420-4BB4-929C-BD3470FE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76CF-7434-474F-9A90-BC1E31BA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A62-9021-454C-B83E-9CB44BE3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3481-6A10-4357-A274-6F6A98BE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2F7-9031-4088-900B-23DC626B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1D48-DA6C-4658-9AFA-87458F7B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B836-4318-4192-89C0-34F27F63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FD7-50D2-430A-992B-276CBD3B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5F8-1D78-4702-9263-577B8CF9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B89E-5301-4434-B1DE-2F01B26501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3F6E-1443-40A2-97D0-FE00AFCC6C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CHICAGO STOCK EXCHANGE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771280" y="4220640"/>
            <a:ext cx="50007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Beata Kaluđ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Diana Knezovi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Andreja Korota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ČLANOV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450 članova, 200 brokera i dilera lociranih diljem SAD-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Comic Sans MS"/>
              </a:rPr>
              <a:t>Nakon što se odobri zahtjev za  članstvom prospektivnog potencijalnog člana,to se članstvo ostvaruje putem ugovora (dogovora) o prodaji ili pak o zajmu koji se sklapaju sa postojećim članom.</a:t>
            </a: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907920"/>
            <a:ext cx="860436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Članstvo na Chicago burzi omogućuje pristup burzi i njezinom čitavom poslovnom sistemu kao također i pristup drugim burzama i tržištima putem inter-tržišnih veza i Intermarket trading systema na kojem se bazira Chicago stock ex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4 osnovna tip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     </a:t>
            </a: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1. Floor brokeri - brokeri koji prodaju i kupuju vrijednosnice u ime investitora i institucija i pritom se ne koriste kompjutorima i telefonima nego to rade osob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     </a:t>
            </a: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2. Order sending firms - kompanije koje šalju naredbe. One pak primaju naredbe od klijenata i šalju ih na provedbu na burzu vrijednosn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874872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3. Specijalisti - oni se bave specifičnim dionicama tako da dva specijalista ne prodaju i kupuju istu dionicu. Kao spona između javnosti ,tj. investitora i burze vrijednosnica, oni nadziru i osiguravaju fer tržiš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4. Market makeri - osobe koje rade sa specijalistima da bi osigurali likvidnost dionica i  tako olakšali investitorima da ih kupuju i prodaj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Prednosti kompanija čije dionice kotiraju na CHX-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- tržišna transparentnost što znači da su sve   poslovne transakcije pod očima javnosti i tako se osigurava njihova fer provedba, poštenje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- rast cij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- pristup razvijenoj poslovnoj tehnologij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- likvidnost tržiš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- vidljivost kompanije-poznat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- čvršći rang investicija ili čvršća razlika   između kupovne i prodajne cijene dio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Neke od kompanija…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McDonald’s Cor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Motorola I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Fannie M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Gillette 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Sony Cor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Wrigley 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Xerox Cor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OSLOVANJE CHX-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Glavninu poslova na CHX-u obavljaju bazni menadžeri koji su registrirani kod SEC-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Aktivnosti obavljaju putem MAX-a – 90% narudžbi trgovaca.  MAX automatski izvršava narudžbe i nije mu potrebna ljudska intervencija što značajno smanjuje brzinu i pouzdanost izvršenja narudžbi, a i smanjuje troškove poslovan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9900"/>
                </a:solidFill>
                <a:latin typeface="Comic Sans MS"/>
              </a:rPr>
              <a:t>Intergacija društvenih elemenata sa najsuvremenijom tehnologijom. Pomoću takve tehnologije CHX je snizila troškove poslovanja i kreirala okružje s nižim troškovima trgovanj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9900"/>
                </a:solidFill>
                <a:latin typeface="Comic Sans MS"/>
              </a:rPr>
              <a:t>Koristi Microsoft NT sistem - Rezultat je bio značajan rast produktivnosti, kapaciteta i pouzdanosti sa smanjenim troškovima poslovanja.</a:t>
            </a: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9900"/>
                </a:solidFill>
                <a:latin typeface="Comic Sans MS"/>
              </a:rPr>
              <a:t>Specijalisti CHX-a su povezani s ostalim američkim burzama koje trguju izlistanim vrijednosnicama putem informatičkog sustava pod imenom Intermarket Trading System (ITS). Putem ITS-a specijalisti CHX-a vide ukupnu trenutnu ponudu, diljem zemlje, za svaku izlistanu vrijednosnicu kojom trguj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820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Promjene pravila u poslovanj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   </a:t>
            </a: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Prema novim pravilima o vrijednosnicama koji su prihvaćeni 8.11.2004, CHX mora objaviti svaku predloženu promjenu koju odobrava Komisi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   </a:t>
            </a: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Zadnja predložena promjena je bila 4.3.2005 i radi se o promjeni u burzinim disciplinarnim procesima. 3.1.2005 je predloženo da specijalisti ne naplaćuju komisiju ako se radi o provedbi naredbe što dolazi od CHXpress-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INDEX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CHX trguje s više od 4000 NYSE, Amex, Nasdaq i CHX-ekskluzivnim dionicama-više nego ikoja druga burza na svijetu.</a:t>
            </a:r>
            <a:r>
              <a:rPr b="0" lang="hr-H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Nasdaq-100 Indeks-QQ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Standard &amp; Poor’s 500, Standard &amp; Poor’s MidCap 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Dow Jones Industrial A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SADRŽAJ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Što je Chicago Stock Exchan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Razvoj burze kroz povij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Člano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Poslovanje CHX-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Index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Tehnologij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Statistički podac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TEHNOLOGIJ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CHX - tehnološki l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Prvi koriste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Sudjeluje u Security Industry Assoc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STATISTIK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55640" y="1341360"/>
          <a:ext cx="777708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77708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611280" y="907920"/>
          <a:ext cx="7921440" cy="554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07920"/>
                    <a:ext cx="7921440" cy="55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84360" y="620640"/>
          <a:ext cx="7920000" cy="54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620640"/>
                    <a:ext cx="7920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DJI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73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826920" y="692280"/>
          <a:ext cx="7705800" cy="54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92280"/>
                    <a:ext cx="7705800" cy="54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971640" y="692280"/>
          <a:ext cx="756108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92280"/>
                    <a:ext cx="756108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24840" y="-594720"/>
            <a:ext cx="919368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Balance She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D E C E M B E R 3 1 ,2 0 0 3 A N D 2 0 0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2 0 0 3                                2 0 0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A S S E T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Current as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Cash and cash equivalents                                         $5,512,000                 $8,6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nvestment securities                                                  12,679,000                 10,417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Accounts receivable                                                     8,027,000                    8,433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Deferred income taxes                                                1,335,000                     1,068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Other assets                                                                 1,445,000                      1,418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Total current assets                                               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28,998,000                  29,936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nvestment securities                                                  10,185,000                   6,14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Deferred income taxes                                                 1,957,000                     2,176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Equipment,leasehold improvements,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and other capitalized costs (net)                                16,435,000                     19,983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Other assets                                                                3,694,000                       3,581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Total assets                                                           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$61,269,000                $61,816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L I A B I L I T I E S A N D M E M B E R S ’ E Q U I T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Current liabi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Accounts payable and accrued liabilities                     $14,970,000                 $13,128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Total current liabilities                                         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14,970,000                   13,128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Other liabilities                                                            11,959,000                   10,992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Members ’equity                                                         34,340,000                    37,696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Total liabilities and members ’equity                   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$61,269,000                 $61,816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See notes to financial state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-1012680" y="27000"/>
            <a:ext cx="111693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Statements of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Y E A R S E N D E D D E C E M B E R 3 1 ,2 0 0 3 A N D 2 0 0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2 0 0 3                               2 0 0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Reven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Transaction fees                                                            $21,231,000                 $22,503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Market data fees                                                           6,940,000                        9,632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Member services and fees                                            13,660,000                     18,435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Member dues                                                                2,700,000                         2,25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Listing fees                                                                     571,000                            926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nterest                                                                          560,000                              819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Other                                                                             11,000                               144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Total revenues                                                     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45,673,000                         54,709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Employee compensation and benefits                          21,303,000                       21,142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Communications,equipment and related costs             7,291,000                         11,133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Professional services                                                     4,992,000                          6,512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Depreciation and amortization                                      7,121,000                          8,427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Facilities rent,maintenance and utilities                        5,361,000                          5,574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General and administrative                                           2,521,000                           2,779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Loss on excess leased space                                         1,860,000                           1,42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Loss on impairment of fixed assets                               153,000                               626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Total expenses                                                       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50,602,000                          57,613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Loss)before income taxes                                            (4,929,000)                         (2,904,00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ncome tax (benefit)                                                      (1,573,000)                       (1,086,00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Net (loss)                                                              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$(3,356,000)                       $(1,818,00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See notes to financial state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HVALA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NA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  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PAŽNJ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Što je CHX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Aukcijsko tržište na kojem se kupuju i prodaju vrijednosnice. Za trgovanje je otvorena 15.05.1882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Sastoji se od 450 članova, 200 organizacija i 200 zaposleni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Po nadzorom SEC-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ovijesni razvoj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21. ožujka 1862. - održan prvi sastanak radi organiziranja čikaške burz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15. svibnja 1882. - čikaška burza otvorena je za trgovinu. Početna lista vrijednosnica - 82 obveznice i 52 dion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Kasne 1880-te - prvi slučaj dvostrukog listiranja pojavio se kada su novoizdane dionice kotirale i na čikaškoj i newyorškoj burz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748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26. travnja 1920. - osnovana je korporacija koja se bavila klirinškim poslovima (CHX Stock Clearing Corpora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27. svibnja  1933. - ozakonjen je akt o vrijednosnicama iz 1933., iznoseći punu objavu ulagačima kako bi zabranili prijevaru u vezi s prodajom vrijednosn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6. lipnja  1934. - ozakonjen akt o razmjeni vrijednosnica iz 1934., koji je regulira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trgovinu vrijednosnica, i osnovan je SEC (Securities &amp; Exchange Commiss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8748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1949. - čikaška burza spojila se s burzama iz St.Louisa, Clevelanda i Minneapolisa/St.Paul kako bi formirala Srednjozapadnu burzu (Midwest Stock Exchange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1959. - New Orleans Stock Exchange pridružila se Midwest Stock Ex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11. svibnja 1973. - MSTC (Midwest Securities Trust Company) je osnovano da osigura    središnje odlagalište potvrda vrijednosnica i da elektronski regulira transfere dioničkog vlasništ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17. travnja 1978. - lansiranje ITS sustava (Intermarket Trading System), sustav koji omogućava slanje narudžbi jedne burze do druge kako bi se klijentu osigurala najbolja izvedba (uslug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1979. - osnovana je klirinška korporacija (MBS Clearing Corporation), kako bi pružala usluge industriji hipotekarskih vrijednosn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1982. - CHX je lansirala MAX sustav, postavši tako među prvim burzama koja je omogućavala punu automatizaciju izvedbi narudžb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360" y="836640"/>
            <a:ext cx="867564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Svibanj 1987. - CHX započinje probni program za razmjenu 25 Nasdaqovih NMS vrijednosn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8. srpnaj 1993. - burza ponovno mijenja ime sa Midwest Stock Exchange na Chicago Stock Exch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7.lipnja 1995. - držanje vrijednosnica je skraćeno sa 5 na 3 radna dana uzevši u obzir slijedeći datum razmje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8200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Kolovoz 1995. - SEC odobrava povećanje broja Nasdaqovih vrijednosnica sa 100 na 5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27. listopad 1997. - najveći pad Dow Jones Industrial Average – 554poe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Danas -</a:t>
            </a:r>
            <a:r>
              <a:rPr b="1" lang="hr-HR" sz="3200" spc="-1" strike="noStrike">
                <a:solidFill>
                  <a:srgbClr val="ff9900"/>
                </a:solidFill>
                <a:latin typeface="Comic Sans MS"/>
              </a:rPr>
              <a:t> č</a:t>
            </a: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ikaška burza ima više od 4000 emisija slobodnih za trgovinu. Druga najveća burza u SAD-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1:00:37Z</dcterms:created>
  <dc:creator>Robert</dc:creator>
  <dc:description/>
  <dc:language>en-US</dc:language>
  <cp:lastModifiedBy>Robert</cp:lastModifiedBy>
  <dcterms:modified xsi:type="dcterms:W3CDTF">2005-04-12T15:20:41Z</dcterms:modified>
  <cp:revision>5</cp:revision>
  <dc:subject/>
  <dc:title>CHICAGO STOCK EXCHANGE</dc:title>
</cp:coreProperties>
</file>