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565-7AB4-4EF6-9006-DA331282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697-096E-46A7-9ECB-F82787F8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273-D988-45AF-B32C-176D0B2C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72A-465A-4614-86E2-556744B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DDD0-2FE2-44AD-8FC8-517ACBD2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547A-66F6-44A0-B29B-D800AFC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9FBB-7768-40A1-8EAB-9339B162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70E8-CBB1-4822-B87D-91DE6BB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5E1-749B-4C8D-B753-E15100A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7CF5-5A77-49F7-9D6B-54B5E1D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0551-3F77-47AD-A0B0-AC611E35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0B1-0A64-4A1E-8D5E-888FAE46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A85E-9CC0-4481-8C5E-EA3CE2E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6FC5-2312-4506-8F3C-DA3F01F4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BD47-39FD-4D7F-98D9-27DA23D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711D-3EFF-42EF-A986-B10B15C1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CFBA-FF5F-4A81-98D0-C633B45D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863-08B7-4E38-884B-88809AF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AB0-1F17-45D7-B1FD-DAEBB1F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149-48D0-430C-AD98-FD232F8E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847-A73F-4F43-9A47-C8831121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386-B1EF-457E-BEAF-4C8933B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B74-A3B9-4A97-B41A-7AD20F9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982-6F29-455B-A91B-2FFC42B3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5DB-C59E-4C02-B64B-CE27480FF2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461C-5AE1-4BC1-8134-6284CC6421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CHICAGO STOCK EXCHANGE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71280" y="4220640"/>
            <a:ext cx="5000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Beata Kaluđ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Diana Knezovi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Andreja Korot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ČLANOV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450 članova, 200 brokera i dilera lociranih diljem SAD-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mic Sans MS"/>
              </a:rPr>
              <a:t>Nakon što se odobri zahtjev za  članstvom prospektivnog potencijalnog člana,to se članstvo ostvaruje putem ugovora (dogovora) o prodaji ili pak o zajmu koji se sklapaju sa postojećim članom.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86043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Članstvo na Chicago burzi omogućuje pristup burzi i njezinom čitavom poslovnom sistemu kao također i pristup drugim burzama i tržištima putem inter-tržišnih veza i Intermarket trading systema na kojem se bazira Chicago stock ex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4 osnovna tip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. Floor brokeri - brokeri koji prodaju i kupuju vrijednosnice u ime investitora i institucija i pritom se ne koriste kompjutorima i telefonima nego to rade osob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. Order sending firms - kompanije koje šalju naredbe. One pak primaju naredbe od klijenata i šalju ih na provedbu na burzu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7487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3. Specijalisti - oni se bave specifičnim dionicama tako da dva specijalista ne prodaju i kupuju istu dionicu. Kao spona između javnosti ,tj. investitora i burze vrijednosnica, oni nadziru i osiguravaju fer tržiš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4. Market makeri - osobe koje rade sa specijalistima da bi osigurali likvidnost dionica i  tako olakšali investitorima da ih kupuju i proda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rednosti kompanija čije dionice kotiraju na CHX-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tržišna transparentnost što znači da su sve   poslovne transakcije pod očima javnosti i tako se osigurava njihova fer provedba, poštenj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rast cij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pristup razvijenoj poslovnoj tehnolog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likvidnost trži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vidljivost kompanije-poznat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čvršći rang investicija ili čvršća razlika   između kupovne i prodajne cijene dio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Neke od kompanija…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McDonald’s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Motorola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Fannie M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Gillette 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ony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Wrigley 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Xerox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OSLOVANJE CHX-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Glavninu poslova na CHX-u obavljaju bazni menadžeri koji su registrirani kod SEC-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ktivnosti obavljaju putem MAX-a – 90% narudžbi trgovaca.  MAX automatski izvršava narudžbe i nije mu potrebna ljudska intervencija što značajno smanjuje brzinu i pouzdanost izvršenja narudžbi, a i smanjuje troškove poslova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Comic Sans MS"/>
              </a:rPr>
              <a:t>Intergacija društvenih elemenata sa najsuvremenijom tehnologijom. Pomoću takve tehnologije CHX je snizila troškove poslovanja i kreirala okružje s nižim troškovima trgovanj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Comic Sans MS"/>
              </a:rPr>
              <a:t>Koristi Microsoft NT sistem - Rezultat je bio značajan rast produktivnosti, kapaciteta i pouzdanosti sa smanjenim troškovima poslovanja.</a:t>
            </a: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00"/>
                </a:solidFill>
                <a:latin typeface="Comic Sans MS"/>
              </a:rPr>
              <a:t>Specijalisti CHX-a su povezani s ostalim američkim burzama koje trguju izlistanim vrijednosnicama putem informatičkog sustava pod imenom Intermarket Trading System (ITS). Putem ITS-a specijalisti CHX-a vide ukupnu trenutnu ponudu, diljem zemlje, za svaku izlistanu vrijednosnicu kojom trguj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romjene pravila u poslovanj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rema novim pravilima o vrijednosnicama koji su prihvaćeni 8.11.2004, CHX mora objaviti svaku predloženu promjenu koju odobrava Komis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Zadnja predložena promjena je bila 4.3.2005 i radi se o promjeni u burzinim disciplinarnim procesima. 3.1.2005 je predloženo da specijalisti ne naplaćuju komisiju ako se radi o provedbi naredbe što dolazi od CHXpress-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NDEX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CHX trguje s više od 4000 NYSE, Amex, Nasdaq i CHX-ekskluzivnim dionicama-više nego ikoja druga burza na svijetu.</a:t>
            </a: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Nasdaq-100 Indeks-QQ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tandard &amp; Poor’s 500, Standard &amp; Poor’s MidCap 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Dow Jones Industrial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ADRŽAJ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Što je Chicago Stock Excha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Razvoj burze kroz povij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Član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oslovanje CHX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Index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Tehnologi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tatistički poda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TEHNOLOGIJ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CHX - tehnološki l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Prvi koriste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udjeluje u Security Industry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TATISTIK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341360"/>
          <a:ext cx="777708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7708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11280" y="907920"/>
          <a:ext cx="7921440" cy="554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14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4360" y="620640"/>
          <a:ext cx="792000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7920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DJI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7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26920" y="692280"/>
          <a:ext cx="7705800" cy="54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7058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71640" y="692280"/>
          <a:ext cx="756108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5610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24840" y="-594720"/>
            <a:ext cx="919368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Balance Sh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 E C E M B E R 3 1 ,2 0 0 3 A N D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2 0 0 3                               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 S S E T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Current as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ash and cash equivalents                                         $5,512,000                 $8,6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vestment securities                                                  12,679,000                 10,417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ccounts receivable                                                     8,027,000                    8,43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eferred income taxes                                                1,335,000                     1,06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assets                                                                 1,445,000                      1,41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current assets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8,998,000                  29,93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vestment securities                                                  10,185,000                   6,14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eferred income taxes                                                 1,957,000                     2,17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Equipment,leasehold improvements,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d other capitalized costs (net)                                16,435,000                     19,98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assets                                                                3,694,000                       3,581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assets    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$61,269,000                $61,81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L I A B I L I T I E S A N D M E M B E R S ’ E Q U I T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Current li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ccounts payable and accrued liabilities                     $14,970,000                 $13,12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current liabilities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4,970,000                   13,12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liabilities                                                            11,959,000                   10,99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mbers ’equity                                                         34,340,000                    37,69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liabilities and members ’equity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$61,269,000                 $61,81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See notes to financial stat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1012680" y="27000"/>
            <a:ext cx="11169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tatements of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Y E A R S E N D E D D E C E M B E R 3 1 ,2 0 0 3 A N D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2 0 0 3                               2 0 0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eve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ransaction fees                                                            $21,231,000                 $22,50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arket data fees                                                           6,940,000                        9,63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mber services and fees                                            13,660,000                     18,43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mber dues                                                                2,700,000                         2,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isting fees                                                                     571,000                            92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terest                                                                          560,000                              819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ther                                                                             11,000                               144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revenues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45,673,000                         54,709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Employee compensation and benefits                          21,303,000                       21,14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ommunications,equipment and related costs             7,291,000                         11,13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ofessional services                                                     4,992,000                          6,51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Depreciation and amortization                                      7,121,000                          8,427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Facilities rent,maintenance and utilities                        5,361,000                          5,574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General and administrative                                           2,521,000                           2,779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oss on excess leased space                                         1,860,000                           1,4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oss on impairment of fixed assets                               153,000                               62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Total expenses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50,602,000                          57,61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Loss)before income taxes                                            (4,929,000)                         (2,904,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come tax (benefit)                                                      (1,573,000)                       (1,086,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Net (loss)       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$(3,356,000)                       $(1,818,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See notes to financial stat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HVAL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N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AŽNJ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Što je CHX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ukcijsko tržište na kojem se kupuju i prodaju vrijednosnice. Za trgovanje je otvorena 15.05.188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astoji se od 450 članova, 200 organizacija i 200 zaposle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o nadzorom SEC-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ovijesni razvoj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1. ožujka 1862. - održan prvi sastanak radi organiziranja čikaške burz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5. svibnja 1882. - čikaška burza otvorena je za trgovinu. Početna lista vrijednosnica - 82 obveznice i 52 dion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Kasne 1880-te - prvi slučaj dvostrukog listiranja pojavio se kada su novoizdane dionice kotirale i na čikaškoj i newyorškoj bur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6. travnja 1920. - osnovana je korporacija koja se bavila klirinškim poslovima (CHX Stock Clearing Corpor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7. svibnja  1933. - ozakonjen je akt o vrijednosnicama iz 1933., iznoseći punu objavu ulagačima kako bi zabranili prijevaru u vezi s prodajom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6. lipnja  1934. - ozakonjen akt o razmjeni vrijednosnica iz 1934., koji je regulir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trgovinu vrijednosnica, i osnovan je SEC (Securities &amp; Exchange Commiss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748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49. - čikaška burza spojila se s burzama iz St.Louisa, Clevelanda i Minneapolisa/St.Paul kako bi formirala Srednjozapadnu burzu (Midwest Stock Exchange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59. - New Orleans Stock Exchange pridružila se Midwest Stock Ex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1. svibnja 1973. - MSTC (Midwest Securities Trust Company) je osnovano da osigura    središnje odlagalište potvrda vrijednosnica i da elektronski regulira transfere dioničkog vlasništ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7. travnja 1978. - lansiranje ITS sustava (Intermarket Trading System), sustav koji omogućava slanje narudžbi jedne burze do druge kako bi se klijentu osigurala najbolja izvedba (usl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79. - osnovana je klirinška korporacija (MBS Clearing Corporation), kako bi pružala usluge industriji hipotekarskih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1982. - CHX je lansirala MAX sustav, postavši tako među prvim burzama koja je omogućavala punu automatizaciju izvedbi narudžb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867564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Svibanj 1987. - CHX započinje probni program za razmjenu 25 Nasdaqovih NMS vrijednos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8. srpnaj 1993. - burza ponovno mijenja ime sa Midwest Stock Exchange na Chicago Stock Exch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7.lipnja 1995. - držanje vrijednosnica je skraćeno sa 5 na 3 radna dana uzevši u obzir slijedeći datum razmj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8200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Kolovoz 1995. - SEC odobrava povećanje broja Nasdaqovih vrijednosnica sa 100 na 5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27. listopad 1997. - najveći pad Dow Jones Industrial Average – 554po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Danas -</a:t>
            </a:r>
            <a:r>
              <a:rPr b="1" lang="hr-HR" sz="3200" spc="-1" strike="noStrike">
                <a:solidFill>
                  <a:srgbClr val="ff9900"/>
                </a:solidFill>
                <a:latin typeface="Comic Sans MS"/>
              </a:rPr>
              <a:t> č</a:t>
            </a:r>
            <a:r>
              <a:rPr b="0" lang="hr-HR" sz="3200" spc="-1" strike="noStrike">
                <a:solidFill>
                  <a:srgbClr val="ff9900"/>
                </a:solidFill>
                <a:latin typeface="Comic Sans MS"/>
              </a:rPr>
              <a:t>ikaška burza ima više od 4000 emisija slobodnih za trgovinu. Druga najveća burza u SAD-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1:00:37Z</dcterms:created>
  <dc:creator>Robert</dc:creator>
  <dc:description/>
  <dc:language>en-US</dc:language>
  <cp:lastModifiedBy>Robert</cp:lastModifiedBy>
  <dcterms:modified xsi:type="dcterms:W3CDTF">2005-04-12T15:20:41Z</dcterms:modified>
  <cp:revision>5</cp:revision>
  <dc:subject/>
  <dc:title>CHICAGO STOCK EXCHANGE</dc:title>
</cp:coreProperties>
</file>