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AE985-0D71-407B-8EB4-A59C4D361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881D7-316F-434D-B147-219BC0D53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674F3-8797-4584-B4B7-AA3F15D6B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FD433-B696-4C29-AF15-281E87751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DFBE2-496C-40A0-B0A6-2BE787F7E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C475A-33F6-478F-BFF5-9C888940A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A8F99-1B97-46D0-9D3B-9D7F78764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267D4-0BA2-4965-BAF2-CE7EFB9F1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C3514-B24A-49B0-A5D7-E2E0FAAFF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38D13-951C-453A-AA3D-F8D43E3CA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534D9-CA92-48C6-9B96-3AFD2C57D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151DF-C1A7-4A55-B42F-7B07D60D1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D9C2-314F-47DB-B378-A03AED7EE6A5}"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4075f"/>
                </a:solidFill>
                <a:latin typeface="Arial"/>
              </a:rPr>
              <a:t>Multifunkcionalni ruralni razvoj / I dio</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r. sc. Snježana Toli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2286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   </a:t>
            </a:r>
            <a:r>
              <a:rPr b="0" lang="hr-HR" sz="4400" spc="-1" strike="noStrike">
                <a:solidFill>
                  <a:srgbClr val="000000"/>
                </a:solidFill>
                <a:latin typeface="Arial"/>
              </a:rPr>
              <a:t>Mješovita ekonomija </a:t>
            </a:r>
            <a:endParaRPr b="0" lang="en-US" sz="4400" spc="-1" strike="noStrike">
              <a:solidFill>
                <a:srgbClr val="000000"/>
              </a:solidFill>
              <a:latin typeface="Arial"/>
            </a:endParaRPr>
          </a:p>
        </p:txBody>
      </p:sp>
      <p:sp>
        <p:nvSpPr>
          <p:cNvPr id="90" name=""/>
          <p:cNvSpPr/>
          <p:nvPr/>
        </p:nvSpPr>
        <p:spPr>
          <a:xfrm>
            <a:off x="755640" y="1916280"/>
            <a:ext cx="3598920" cy="33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5508720" y="2565360"/>
            <a:ext cx="2592360" cy="23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411280" y="2276640"/>
            <a:ext cx="3816360" cy="2665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ješovita ekonomij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a:t>
            </a:r>
            <a:r>
              <a:rPr b="0" lang="hr-HR" sz="1400" spc="-1" strike="noStrike">
                <a:solidFill>
                  <a:srgbClr val="000000"/>
                </a:solidFill>
                <a:latin typeface="Arial"/>
              </a:rPr>
              <a:t>eko-socijalno-tržišno gospodarstvo/</a:t>
            </a:r>
            <a:endParaRPr b="0" lang="en-US" sz="1400" spc="-1" strike="noStrike">
              <a:solidFill>
                <a:srgbClr val="000000"/>
              </a:solidFill>
              <a:latin typeface="Arial"/>
            </a:endParaRPr>
          </a:p>
        </p:txBody>
      </p:sp>
      <p:sp>
        <p:nvSpPr>
          <p:cNvPr id="93" name=""/>
          <p:cNvSpPr/>
          <p:nvPr/>
        </p:nvSpPr>
        <p:spPr>
          <a:xfrm>
            <a:off x="6355080" y="3448080"/>
            <a:ext cx="1688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nstitucionaln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egulacija</a:t>
            </a:r>
            <a:endParaRPr b="0" lang="en-US" sz="1800" spc="-1" strike="noStrike">
              <a:solidFill>
                <a:srgbClr val="000000"/>
              </a:solidFill>
              <a:latin typeface="Arial"/>
            </a:endParaRPr>
          </a:p>
        </p:txBody>
      </p:sp>
      <p:sp>
        <p:nvSpPr>
          <p:cNvPr id="94" name=""/>
          <p:cNvSpPr/>
          <p:nvPr/>
        </p:nvSpPr>
        <p:spPr>
          <a:xfrm>
            <a:off x="1046520" y="3284640"/>
            <a:ext cx="1154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tržiš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egulacija</a:t>
            </a:r>
            <a:endParaRPr b="0" lang="en-US" sz="1800" spc="-1" strike="noStrike">
              <a:solidFill>
                <a:srgbClr val="000000"/>
              </a:solidFill>
              <a:latin typeface="Arial"/>
            </a:endParaRPr>
          </a:p>
        </p:txBody>
      </p:sp>
      <p:sp>
        <p:nvSpPr>
          <p:cNvPr id="95" name=""/>
          <p:cNvSpPr/>
          <p:nvPr/>
        </p:nvSpPr>
        <p:spPr>
          <a:xfrm>
            <a:off x="4500720" y="422100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403440" y="5176800"/>
            <a:ext cx="2261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Društvena korisnos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briga za čovjek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briga za okoli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rživi razvoj (OR)</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Održivi razvoj je shvaćanje ekonomskog razvoja unutar samoobnavljajućih granica okoline koji treba osigurati ekonomsko blagostanje za mnoge buduće generacije ljudi</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Temeljni principi OR su:</a:t>
            </a:r>
            <a:endParaRPr b="0" lang="en-US" sz="32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ncepcija ekološke održivosti</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ncepcija “potreba” – posebno temeljnih potreba svjetske sirotinje kojima se mora dati priorit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14075f"/>
                </a:solidFill>
                <a:latin typeface="Arial"/>
              </a:rPr>
              <a:t>Multisektorski koncept ruralnog razvoja</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ovi razvoj i neki dominantni smjerovi ekonomske znan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Tranzicijsko gospodarstvo u Hrvatskoj</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odernizacijski procesi i ruralni razvoj</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uralno gospodarst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etpostavke i mogućnosti razvitka multifunkcionalnog i multisektorskog ruralnog gospodarstv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4075f"/>
                </a:solidFill>
                <a:latin typeface="Arial"/>
              </a:rPr>
              <a:t>Novi razvoj i neki dominantni smjerovi ekonomske znanosti</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Što je gospodarski ras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Gospodarski rast označava konstantan porast ukupnog društvenog proizvoda neke zemlje. Kretanje ukupnog društvenog proizvoda –BDP mjeri se u odnosu na određeno prethodno razdoblje i izražava u postotku. Ako taj postotak nosi pozitivan predznak govorimo o rastućoj stopi gospodarskog rasta. Negativan predznak označava usporavanje gospodarskih aktivnosti i pad ukupnog društvenog proizvoda. Kada se stopa kroz duže vrijeme kreće oko nul-vrijednosti govorimo o stanju gospodarske stagnacij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931160" cy="83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uštvena reprodukcija</a:t>
            </a:r>
            <a:endParaRPr b="0" lang="en-US" sz="3600" spc="-1" strike="noStrike">
              <a:solidFill>
                <a:srgbClr val="000000"/>
              </a:solidFill>
              <a:latin typeface="Arial"/>
            </a:endParaRPr>
          </a:p>
        </p:txBody>
      </p:sp>
      <p:sp>
        <p:nvSpPr>
          <p:cNvPr id="48" name="PlaceHolder 2"/>
          <p:cNvSpPr>
            <a:spLocks noGrp="1"/>
          </p:cNvSpPr>
          <p:nvPr>
            <p:ph/>
          </p:nvPr>
        </p:nvSpPr>
        <p:spPr>
          <a:xfrm>
            <a:off x="250920" y="2349360"/>
            <a:ext cx="8540640" cy="3702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971640" y="3429000"/>
            <a:ext cx="504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971640" y="134100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971640" y="206064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16000" y="1989000"/>
            <a:ext cx="1871640" cy="1440000"/>
          </a:xfrm>
          <a:custGeom>
            <a:avLst/>
            <a:gdLst/>
            <a:ahLst/>
            <a:rect l="l" t="t" r="r" b="b"/>
            <a:pathLst>
              <a:path w="1179" h="907">
                <a:moveTo>
                  <a:pt x="0" y="166"/>
                </a:moveTo>
                <a:cubicBezTo>
                  <a:pt x="72" y="83"/>
                  <a:pt x="144" y="0"/>
                  <a:pt x="227" y="30"/>
                </a:cubicBezTo>
                <a:cubicBezTo>
                  <a:pt x="310" y="60"/>
                  <a:pt x="492" y="204"/>
                  <a:pt x="499" y="348"/>
                </a:cubicBezTo>
                <a:cubicBezTo>
                  <a:pt x="506" y="492"/>
                  <a:pt x="340" y="877"/>
                  <a:pt x="272" y="892"/>
                </a:cubicBezTo>
                <a:cubicBezTo>
                  <a:pt x="204" y="907"/>
                  <a:pt x="45" y="582"/>
                  <a:pt x="90" y="438"/>
                </a:cubicBezTo>
                <a:cubicBezTo>
                  <a:pt x="135" y="294"/>
                  <a:pt x="415" y="37"/>
                  <a:pt x="544" y="30"/>
                </a:cubicBezTo>
                <a:cubicBezTo>
                  <a:pt x="673" y="23"/>
                  <a:pt x="862" y="249"/>
                  <a:pt x="862" y="393"/>
                </a:cubicBezTo>
                <a:cubicBezTo>
                  <a:pt x="862" y="537"/>
                  <a:pt x="605" y="900"/>
                  <a:pt x="544" y="892"/>
                </a:cubicBezTo>
                <a:cubicBezTo>
                  <a:pt x="483" y="884"/>
                  <a:pt x="438" y="492"/>
                  <a:pt x="499" y="348"/>
                </a:cubicBezTo>
                <a:cubicBezTo>
                  <a:pt x="560" y="204"/>
                  <a:pt x="794" y="38"/>
                  <a:pt x="907" y="30"/>
                </a:cubicBezTo>
                <a:cubicBezTo>
                  <a:pt x="1020" y="22"/>
                  <a:pt x="1099" y="162"/>
                  <a:pt x="1179" y="30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411280" y="1989000"/>
            <a:ext cx="1811520" cy="1500480"/>
          </a:xfrm>
          <a:custGeom>
            <a:avLst/>
            <a:gdLst/>
            <a:ahLst/>
            <a:rect l="l" t="t" r="r" b="b"/>
            <a:pathLst>
              <a:path w="1141" h="945">
                <a:moveTo>
                  <a:pt x="370" y="272"/>
                </a:moveTo>
                <a:cubicBezTo>
                  <a:pt x="411" y="423"/>
                  <a:pt x="453" y="574"/>
                  <a:pt x="415" y="680"/>
                </a:cubicBezTo>
                <a:cubicBezTo>
                  <a:pt x="377" y="786"/>
                  <a:pt x="203" y="945"/>
                  <a:pt x="143" y="907"/>
                </a:cubicBezTo>
                <a:cubicBezTo>
                  <a:pt x="83" y="869"/>
                  <a:pt x="0" y="597"/>
                  <a:pt x="53" y="453"/>
                </a:cubicBezTo>
                <a:cubicBezTo>
                  <a:pt x="106" y="309"/>
                  <a:pt x="348" y="75"/>
                  <a:pt x="461" y="45"/>
                </a:cubicBezTo>
                <a:cubicBezTo>
                  <a:pt x="574" y="15"/>
                  <a:pt x="673" y="189"/>
                  <a:pt x="733" y="272"/>
                </a:cubicBezTo>
                <a:cubicBezTo>
                  <a:pt x="793" y="355"/>
                  <a:pt x="847" y="438"/>
                  <a:pt x="824" y="544"/>
                </a:cubicBezTo>
                <a:cubicBezTo>
                  <a:pt x="801" y="650"/>
                  <a:pt x="665" y="914"/>
                  <a:pt x="597" y="907"/>
                </a:cubicBezTo>
                <a:cubicBezTo>
                  <a:pt x="529" y="900"/>
                  <a:pt x="392" y="643"/>
                  <a:pt x="415" y="499"/>
                </a:cubicBezTo>
                <a:cubicBezTo>
                  <a:pt x="438" y="355"/>
                  <a:pt x="635" y="90"/>
                  <a:pt x="733" y="45"/>
                </a:cubicBezTo>
                <a:cubicBezTo>
                  <a:pt x="831" y="0"/>
                  <a:pt x="945" y="189"/>
                  <a:pt x="1005" y="227"/>
                </a:cubicBezTo>
                <a:cubicBezTo>
                  <a:pt x="1065" y="265"/>
                  <a:pt x="1096" y="272"/>
                  <a:pt x="1096" y="272"/>
                </a:cubicBezTo>
                <a:cubicBezTo>
                  <a:pt x="1096" y="272"/>
                  <a:pt x="1005" y="227"/>
                  <a:pt x="1005" y="227"/>
                </a:cubicBezTo>
                <a:cubicBezTo>
                  <a:pt x="1005" y="227"/>
                  <a:pt x="1073" y="272"/>
                  <a:pt x="1096" y="272"/>
                </a:cubicBezTo>
                <a:cubicBezTo>
                  <a:pt x="1119" y="272"/>
                  <a:pt x="1130" y="249"/>
                  <a:pt x="1141" y="22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067800" y="2297160"/>
            <a:ext cx="191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tanje stagnacije</a:t>
            </a:r>
            <a:endParaRPr b="0" lang="en-US" sz="1800" spc="-1" strike="noStrike">
              <a:solidFill>
                <a:srgbClr val="000000"/>
              </a:solidFill>
              <a:latin typeface="Arial"/>
            </a:endParaRPr>
          </a:p>
        </p:txBody>
      </p:sp>
      <p:sp>
        <p:nvSpPr>
          <p:cNvPr id="55" name=""/>
          <p:cNvSpPr/>
          <p:nvPr/>
        </p:nvSpPr>
        <p:spPr>
          <a:xfrm>
            <a:off x="468360" y="1052640"/>
            <a:ext cx="23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bujam proizvodnje</a:t>
            </a:r>
            <a:endParaRPr b="0" lang="en-US" sz="1800" spc="-1" strike="noStrike">
              <a:solidFill>
                <a:srgbClr val="000000"/>
              </a:solidFill>
              <a:latin typeface="Arial"/>
            </a:endParaRPr>
          </a:p>
        </p:txBody>
      </p:sp>
      <p:sp>
        <p:nvSpPr>
          <p:cNvPr id="56" name=""/>
          <p:cNvSpPr/>
          <p:nvPr/>
        </p:nvSpPr>
        <p:spPr>
          <a:xfrm>
            <a:off x="4627080" y="344808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vrijeme</a:t>
            </a:r>
            <a:endParaRPr b="0" lang="en-US" sz="1800" spc="-1" strike="noStrike">
              <a:solidFill>
                <a:srgbClr val="000000"/>
              </a:solidFill>
              <a:latin typeface="Arial"/>
            </a:endParaRPr>
          </a:p>
        </p:txBody>
      </p:sp>
      <p:sp>
        <p:nvSpPr>
          <p:cNvPr id="57" name=""/>
          <p:cNvSpPr/>
          <p:nvPr/>
        </p:nvSpPr>
        <p:spPr>
          <a:xfrm>
            <a:off x="1116000" y="6453360"/>
            <a:ext cx="504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1116000" y="4508640"/>
            <a:ext cx="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1116000" y="4436640"/>
            <a:ext cx="475128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16000" y="4533840"/>
            <a:ext cx="4896000" cy="2063880"/>
          </a:xfrm>
          <a:custGeom>
            <a:avLst/>
            <a:gdLst/>
            <a:ahLst/>
            <a:rect l="l" t="t" r="r" b="b"/>
            <a:pathLst>
              <a:path w="3084" h="1300">
                <a:moveTo>
                  <a:pt x="0" y="892"/>
                </a:moveTo>
                <a:cubicBezTo>
                  <a:pt x="68" y="748"/>
                  <a:pt x="136" y="604"/>
                  <a:pt x="227" y="574"/>
                </a:cubicBezTo>
                <a:cubicBezTo>
                  <a:pt x="318" y="544"/>
                  <a:pt x="499" y="627"/>
                  <a:pt x="544" y="710"/>
                </a:cubicBezTo>
                <a:cubicBezTo>
                  <a:pt x="589" y="793"/>
                  <a:pt x="552" y="990"/>
                  <a:pt x="499" y="1073"/>
                </a:cubicBezTo>
                <a:cubicBezTo>
                  <a:pt x="446" y="1156"/>
                  <a:pt x="295" y="1239"/>
                  <a:pt x="227" y="1209"/>
                </a:cubicBezTo>
                <a:cubicBezTo>
                  <a:pt x="159" y="1179"/>
                  <a:pt x="90" y="983"/>
                  <a:pt x="90" y="892"/>
                </a:cubicBezTo>
                <a:cubicBezTo>
                  <a:pt x="90" y="801"/>
                  <a:pt x="121" y="741"/>
                  <a:pt x="227" y="665"/>
                </a:cubicBezTo>
                <a:cubicBezTo>
                  <a:pt x="333" y="589"/>
                  <a:pt x="598" y="461"/>
                  <a:pt x="726" y="438"/>
                </a:cubicBezTo>
                <a:cubicBezTo>
                  <a:pt x="854" y="415"/>
                  <a:pt x="938" y="476"/>
                  <a:pt x="998" y="529"/>
                </a:cubicBezTo>
                <a:cubicBezTo>
                  <a:pt x="1058" y="582"/>
                  <a:pt x="1111" y="650"/>
                  <a:pt x="1088" y="756"/>
                </a:cubicBezTo>
                <a:cubicBezTo>
                  <a:pt x="1065" y="862"/>
                  <a:pt x="945" y="1119"/>
                  <a:pt x="862" y="1164"/>
                </a:cubicBezTo>
                <a:cubicBezTo>
                  <a:pt x="779" y="1209"/>
                  <a:pt x="627" y="1126"/>
                  <a:pt x="589" y="1028"/>
                </a:cubicBezTo>
                <a:cubicBezTo>
                  <a:pt x="551" y="930"/>
                  <a:pt x="537" y="688"/>
                  <a:pt x="635" y="574"/>
                </a:cubicBezTo>
                <a:cubicBezTo>
                  <a:pt x="733" y="460"/>
                  <a:pt x="1035" y="347"/>
                  <a:pt x="1179" y="347"/>
                </a:cubicBezTo>
                <a:cubicBezTo>
                  <a:pt x="1323" y="347"/>
                  <a:pt x="1437" y="491"/>
                  <a:pt x="1497" y="574"/>
                </a:cubicBezTo>
                <a:cubicBezTo>
                  <a:pt x="1557" y="657"/>
                  <a:pt x="1557" y="755"/>
                  <a:pt x="1542" y="846"/>
                </a:cubicBezTo>
                <a:cubicBezTo>
                  <a:pt x="1527" y="937"/>
                  <a:pt x="1474" y="1065"/>
                  <a:pt x="1406" y="1118"/>
                </a:cubicBezTo>
                <a:cubicBezTo>
                  <a:pt x="1338" y="1171"/>
                  <a:pt x="1195" y="1232"/>
                  <a:pt x="1134" y="1164"/>
                </a:cubicBezTo>
                <a:cubicBezTo>
                  <a:pt x="1073" y="1096"/>
                  <a:pt x="968" y="861"/>
                  <a:pt x="1043" y="710"/>
                </a:cubicBezTo>
                <a:cubicBezTo>
                  <a:pt x="1118" y="559"/>
                  <a:pt x="1413" y="280"/>
                  <a:pt x="1587" y="257"/>
                </a:cubicBezTo>
                <a:cubicBezTo>
                  <a:pt x="1761" y="234"/>
                  <a:pt x="2018" y="431"/>
                  <a:pt x="2086" y="574"/>
                </a:cubicBezTo>
                <a:cubicBezTo>
                  <a:pt x="2154" y="717"/>
                  <a:pt x="2064" y="1027"/>
                  <a:pt x="1996" y="1118"/>
                </a:cubicBezTo>
                <a:cubicBezTo>
                  <a:pt x="1928" y="1209"/>
                  <a:pt x="1754" y="1186"/>
                  <a:pt x="1678" y="1118"/>
                </a:cubicBezTo>
                <a:cubicBezTo>
                  <a:pt x="1602" y="1050"/>
                  <a:pt x="1542" y="846"/>
                  <a:pt x="1542" y="710"/>
                </a:cubicBezTo>
                <a:cubicBezTo>
                  <a:pt x="1542" y="574"/>
                  <a:pt x="1580" y="400"/>
                  <a:pt x="1678" y="302"/>
                </a:cubicBezTo>
                <a:cubicBezTo>
                  <a:pt x="1776" y="204"/>
                  <a:pt x="1988" y="113"/>
                  <a:pt x="2132" y="120"/>
                </a:cubicBezTo>
                <a:cubicBezTo>
                  <a:pt x="2276" y="127"/>
                  <a:pt x="2457" y="226"/>
                  <a:pt x="2540" y="347"/>
                </a:cubicBezTo>
                <a:cubicBezTo>
                  <a:pt x="2623" y="468"/>
                  <a:pt x="2646" y="718"/>
                  <a:pt x="2631" y="846"/>
                </a:cubicBezTo>
                <a:cubicBezTo>
                  <a:pt x="2616" y="974"/>
                  <a:pt x="2525" y="1058"/>
                  <a:pt x="2449" y="1118"/>
                </a:cubicBezTo>
                <a:cubicBezTo>
                  <a:pt x="2373" y="1178"/>
                  <a:pt x="2237" y="1300"/>
                  <a:pt x="2177" y="1209"/>
                </a:cubicBezTo>
                <a:cubicBezTo>
                  <a:pt x="2117" y="1118"/>
                  <a:pt x="2010" y="770"/>
                  <a:pt x="2086" y="574"/>
                </a:cubicBezTo>
                <a:cubicBezTo>
                  <a:pt x="2162" y="378"/>
                  <a:pt x="2465" y="60"/>
                  <a:pt x="2631" y="30"/>
                </a:cubicBezTo>
                <a:cubicBezTo>
                  <a:pt x="2797" y="0"/>
                  <a:pt x="3009" y="325"/>
                  <a:pt x="3084" y="39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95280" y="4005360"/>
            <a:ext cx="23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bujam proizvodnje</a:t>
            </a:r>
            <a:endParaRPr b="0" lang="en-US" sz="1800" spc="-1" strike="noStrike">
              <a:solidFill>
                <a:srgbClr val="000000"/>
              </a:solidFill>
              <a:latin typeface="Arial"/>
            </a:endParaRPr>
          </a:p>
        </p:txBody>
      </p:sp>
      <p:sp>
        <p:nvSpPr>
          <p:cNvPr id="62" name=""/>
          <p:cNvSpPr/>
          <p:nvPr/>
        </p:nvSpPr>
        <p:spPr>
          <a:xfrm>
            <a:off x="5130000" y="654516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vrije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uštvena reprodukcija</a:t>
            </a:r>
            <a:endParaRPr b="0" lang="en-US" sz="4400" spc="-1" strike="noStrike">
              <a:solidFill>
                <a:srgbClr val="000000"/>
              </a:solidFill>
              <a:latin typeface="Arial"/>
            </a:endParaRPr>
          </a:p>
        </p:txBody>
      </p:sp>
      <p:sp>
        <p:nvSpPr>
          <p:cNvPr id="64" name=""/>
          <p:cNvSpPr/>
          <p:nvPr/>
        </p:nvSpPr>
        <p:spPr>
          <a:xfrm>
            <a:off x="1116000" y="4292640"/>
            <a:ext cx="590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1116000" y="1557360"/>
            <a:ext cx="0" cy="27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116000" y="1844640"/>
            <a:ext cx="223200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953640" y="44560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991</a:t>
            </a:r>
            <a:endParaRPr b="0" lang="en-US" sz="1800" spc="-1" strike="noStrike">
              <a:solidFill>
                <a:srgbClr val="000000"/>
              </a:solidFill>
              <a:latin typeface="Arial"/>
            </a:endParaRPr>
          </a:p>
        </p:txBody>
      </p:sp>
      <p:sp>
        <p:nvSpPr>
          <p:cNvPr id="68" name=""/>
          <p:cNvSpPr/>
          <p:nvPr/>
        </p:nvSpPr>
        <p:spPr>
          <a:xfrm>
            <a:off x="1258920" y="429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1258920" y="422064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 name=""/>
          <p:cNvSpPr/>
          <p:nvPr/>
        </p:nvSpPr>
        <p:spPr>
          <a:xfrm>
            <a:off x="2193840" y="5013360"/>
            <a:ext cx="340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Tranzicijsko gospodarstvo</a:t>
            </a:r>
            <a:endParaRPr b="0" lang="en-US" sz="2000" spc="-1" strike="noStrike">
              <a:solidFill>
                <a:srgbClr val="000000"/>
              </a:solidFill>
              <a:latin typeface="Arial"/>
            </a:endParaRPr>
          </a:p>
        </p:txBody>
      </p:sp>
      <p:sp>
        <p:nvSpPr>
          <p:cNvPr id="71" name=""/>
          <p:cNvSpPr/>
          <p:nvPr/>
        </p:nvSpPr>
        <p:spPr>
          <a:xfrm>
            <a:off x="1314000" y="3016080"/>
            <a:ext cx="1600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ospodarsk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zadovanje</a:t>
            </a:r>
            <a:endParaRPr b="0" lang="en-US" sz="1800" spc="-1" strike="noStrike">
              <a:solidFill>
                <a:srgbClr val="000000"/>
              </a:solidFill>
              <a:latin typeface="Arial"/>
            </a:endParaRPr>
          </a:p>
        </p:txBody>
      </p:sp>
      <p:sp>
        <p:nvSpPr>
          <p:cNvPr id="72" name=""/>
          <p:cNvSpPr/>
          <p:nvPr/>
        </p:nvSpPr>
        <p:spPr>
          <a:xfrm>
            <a:off x="3348000" y="29242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4643280" y="2349000"/>
            <a:ext cx="223380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187440" y="2944800"/>
            <a:ext cx="153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ospodarsk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tagnacija</a:t>
            </a:r>
            <a:endParaRPr b="0" lang="en-US" sz="1800" spc="-1" strike="noStrike">
              <a:solidFill>
                <a:srgbClr val="000000"/>
              </a:solidFill>
              <a:latin typeface="Arial"/>
            </a:endParaRPr>
          </a:p>
        </p:txBody>
      </p:sp>
      <p:sp>
        <p:nvSpPr>
          <p:cNvPr id="75" name=""/>
          <p:cNvSpPr/>
          <p:nvPr/>
        </p:nvSpPr>
        <p:spPr>
          <a:xfrm>
            <a:off x="5562360" y="2800440"/>
            <a:ext cx="1460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ospodarsk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st</a:t>
            </a:r>
            <a:endParaRPr b="0" lang="en-US" sz="1800" spc="-1" strike="noStrike">
              <a:solidFill>
                <a:srgbClr val="000000"/>
              </a:solidFill>
              <a:latin typeface="Arial"/>
            </a:endParaRPr>
          </a:p>
        </p:txBody>
      </p:sp>
      <p:sp>
        <p:nvSpPr>
          <p:cNvPr id="76" name=""/>
          <p:cNvSpPr/>
          <p:nvPr/>
        </p:nvSpPr>
        <p:spPr>
          <a:xfrm flipV="1">
            <a:off x="3276720" y="422064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 name=""/>
          <p:cNvSpPr/>
          <p:nvPr/>
        </p:nvSpPr>
        <p:spPr>
          <a:xfrm flipV="1">
            <a:off x="4643280" y="422064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8" name=""/>
          <p:cNvSpPr/>
          <p:nvPr/>
        </p:nvSpPr>
        <p:spPr>
          <a:xfrm flipV="1">
            <a:off x="6732720" y="422064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 name=""/>
          <p:cNvSpPr/>
          <p:nvPr/>
        </p:nvSpPr>
        <p:spPr>
          <a:xfrm>
            <a:off x="6372360" y="43657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 name=""/>
          <p:cNvSpPr/>
          <p:nvPr/>
        </p:nvSpPr>
        <p:spPr>
          <a:xfrm>
            <a:off x="6138360" y="44560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st ili razvoj?</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Gospodarski rast - čisto ekonomska veličin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ilj je postići što veću ekonomsku efikasnost (ekonomski učinak) tj. ostvariti što veću novčanu dobit realizacijom proizvodnje na tržišt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novije vrijeme sve se više potencira društveni razvoj. Ova sintagma ima kompleksnije značenje od gospodarskog rasta i po značenju izjednačava ekonomske, ekološke, socijalne i etičke pretpostavke društvenog razvoj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vi razvoj i dominantni smjerovi u ekonomskoj znanosti</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Vodeći ekonomski pravci:</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Neoklasična ekonomija</a:t>
            </a:r>
            <a:r>
              <a:rPr b="0" lang="hr-HR" sz="2800" spc="-1" strike="noStrike">
                <a:solidFill>
                  <a:srgbClr val="000000"/>
                </a:solidFill>
                <a:latin typeface="Arial"/>
              </a:rPr>
              <a:t> (paradigma) – pretpostavlja maksimalnu racionalnost u korištenju rijetkih, ograničenih resursa za zadovoljavanje neograničenih potreba ljudi; regulacija proizvodnih odnosa je liberalna i odvija se na tržištu u vidu konkurentske borb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Institucionalna ekonomija</a:t>
            </a:r>
            <a:r>
              <a:rPr b="0" lang="hr-HR" sz="2800" spc="-1" strike="noStrike">
                <a:solidFill>
                  <a:srgbClr val="000000"/>
                </a:solidFill>
                <a:latin typeface="Arial"/>
              </a:rPr>
              <a:t> – naziva se i komanditna ekonomija. Karakterizira je planiranje gospodarskih aktivnosti i plansko usmjeravanje pojedinih sekto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vi razvoj i dominantni smjerovi u ekonomskoj znanosti</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nogi su se autori složili da rast produktivnosti uvjetuje gospodarski rast ali da nužno ne daje pozitivan smjer razvoju nacionalnih gospodarstava u uvjetima porasta siromaštva, visoke napučenosti i nezaposlenosti, ograničenih resursa, prekomjernog zagađivanja i rastuće globalizacije.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mišljanje novog, održivog razvoja zahtjeva pluralističan susret disciplina koji može ekonomiji vratiti smisao, jer ekonomski razvoj ne može biti odvojen od ljudskih sudbina. Neodrživo je na dugi rok gomilanje materijalnih bogatstava u rukama pojedina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vi razvoj i dominantni smjerovi u ekonomskoj znanosti</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3. Mješovita ekonomij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uvremeni ekonomski pravci sve su više pod utjecajem tzv. mješovite ekonomij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ješovita ekonomija označava borbu između individualnih interesa pojedinaca i društvenog interesa (većine). To je kompromis između liberalne neoklasične ekonomije i institucionalne ekonomije odnosno stalna borba između interesnih skupina (lobija) koji zastupaju navedene intere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19:34:56Z</dcterms:created>
  <dc:creator>Snježana Tolić</dc:creator>
  <dc:description/>
  <dc:language>en-US</dc:language>
  <cp:lastModifiedBy>ST</cp:lastModifiedBy>
  <dcterms:modified xsi:type="dcterms:W3CDTF">2007-11-14T17:16:29Z</dcterms:modified>
  <cp:revision>6</cp:revision>
  <dc:subject/>
  <dc:title>Ekonomika poljoprivrede</dc:title>
</cp:coreProperties>
</file>