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46.xml" ContentType="application/vnd.openxmlformats-officedocument.presentationml.notesSlide+xml"/>
  <Override PartName="/ppt/notesSlides/notesSlide213.xml" ContentType="application/vnd.openxmlformats-officedocument.presentationml.notesSlide+xml"/>
  <Override PartName="/ppt/notesSlides/notesSlide225.xml" ContentType="application/vnd.openxmlformats-officedocument.presentationml.notesSlide+xml"/>
  <Override PartName="/ppt/notesSlides/notesSlide310.xml" ContentType="application/vnd.openxmlformats-officedocument.presentationml.notesSlide+xml"/>
  <Override PartName="/ppt/notesSlides/notesSlide247.xml" ContentType="application/vnd.openxmlformats-officedocument.presentationml.notesSlide+xml"/>
  <Override PartName="/ppt/notesSlides/notesSlide266.xml" ContentType="application/vnd.openxmlformats-officedocument.presentationml.notesSlide+xml"/>
  <Override PartName="/ppt/notesSlides/notesSlide437.xml" ContentType="application/vnd.openxmlformats-officedocument.presentationml.notesSlide+xml"/>
  <Override PartName="/ppt/notesSlides/_rels/notesSlide467.xml.rels" ContentType="application/vnd.openxmlformats-package.relationships+xml"/>
  <Override PartName="/ppt/notesSlides/_rels/notesSlide437.xml.rels" ContentType="application/vnd.openxmlformats-package.relationships+xml"/>
  <Override PartName="/ppt/notesSlides/_rels/notesSlide266.xml.rels" ContentType="application/vnd.openxmlformats-package.relationships+xml"/>
  <Override PartName="/ppt/notesSlides/_rels/notesSlide310.xml.rels" ContentType="application/vnd.openxmlformats-package.relationships+xml"/>
  <Override PartName="/ppt/notesSlides/_rels/notesSlide247.xml.rels" ContentType="application/vnd.openxmlformats-package.relationships+xml"/>
  <Override PartName="/ppt/notesSlides/_rels/notesSlide225.xml.rels" ContentType="application/vnd.openxmlformats-package.relationships+xml"/>
  <Override PartName="/ppt/notesSlides/_rels/notesSlide7.xml.rels" ContentType="application/vnd.openxmlformats-package.relationships+xml"/>
  <Override PartName="/ppt/notesSlides/_rels/notesSlide213.xml.rels" ContentType="application/vnd.openxmlformats-package.relationships+xml"/>
  <Override PartName="/ppt/notesSlides/_rels/notesSlide146.xml.rels" ContentType="application/vnd.openxmlformats-package.relationships+xml"/>
  <Override PartName="/ppt/notesSlides/notesSlide46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486.xml.rels" ContentType="application/vnd.openxmlformats-package.relationships+xml"/>
  <Override PartName="/ppt/slides/_rels/slide507.xml.rels" ContentType="application/vnd.openxmlformats-package.relationships+xml"/>
  <Override PartName="/ppt/slides/_rels/slide487.xml.rels" ContentType="application/vnd.openxmlformats-package.relationships+xml"/>
  <Override PartName="/ppt/slides/_rels/slide508.xml.rels" ContentType="application/vnd.openxmlformats-package.relationships+xml"/>
  <Override PartName="/ppt/slides/_rels/slide191.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514.xml.rels" ContentType="application/vnd.openxmlformats-package.relationships+xml"/>
  <Override PartName="/ppt/slides/_rels/slide493.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403.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92.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88.xml.rels" ContentType="application/vnd.openxmlformats-package.relationships+xml"/>
  <Override PartName="/ppt/slides/_rels/slide384.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93.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89.xml.rels" ContentType="application/vnd.openxmlformats-package.relationships+xml"/>
  <Override PartName="/ppt/slides/_rels/slide385.xml.rels" ContentType="application/vnd.openxmlformats-package.relationships+xml"/>
  <Override PartName="/ppt/slides/_rels/slide390.xml.rels" ContentType="application/vnd.openxmlformats-package.relationships+xml"/>
  <Override PartName="/ppt/slides/_rels/slide411.xml.rels" ContentType="application/vnd.openxmlformats-package.relationships+xml"/>
  <Override PartName="/ppt/slides/_rels/slide94.xml.rels" ContentType="application/vnd.openxmlformats-package.relationships+xml"/>
  <Override PartName="/ppt/slides/_rels/slide406.xml.rels" ContentType="application/vnd.openxmlformats-package.relationships+xml"/>
  <Override PartName="/ppt/slides/_rels/slide321.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99.xml.rels" ContentType="application/vnd.openxmlformats-package.relationships+xml"/>
  <Override PartName="/ppt/slides/_rels/slide421.xml.rels" ContentType="application/vnd.openxmlformats-package.relationships+xml"/>
  <Override PartName="/ppt/slides/_rels/slide395.xml.rels" ContentType="application/vnd.openxmlformats-package.relationships+xml"/>
  <Override PartName="/ppt/slides/_rels/slide416.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331.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5.xml.rels" ContentType="application/vnd.openxmlformats-package.relationships+xml"/>
  <Override PartName="/ppt/slides/_rels/slide340.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509.xml.rels" ContentType="application/vnd.openxmlformats-package.relationships+xml"/>
  <Override PartName="/ppt/slides/_rels/slide488.xml.rels" ContentType="application/vnd.openxmlformats-package.relationships+xml"/>
  <Override PartName="/ppt/slides/_rels/slide344.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516.xml.rels" ContentType="application/vnd.openxmlformats-package.relationships+xml"/>
  <Override PartName="/ppt/slides/_rels/slide517.xml.rels" ContentType="application/vnd.openxmlformats-package.relationships+xml"/>
  <Override PartName="/ppt/slides/_rels/slide496.xml.rels" ContentType="application/vnd.openxmlformats-package.relationships+xml"/>
  <Override PartName="/ppt/slides/_rels/slide342.xml.rels" ContentType="application/vnd.openxmlformats-package.relationships+xml"/>
  <Override PartName="/ppt/slides/_rels/slide337.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535.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29.xml.rels" ContentType="application/vnd.openxmlformats-package.relationships+xml"/>
  <Override PartName="/ppt/slides/_rels/slide398.xml.rels" ContentType="application/vnd.openxmlformats-package.relationships+xml"/>
  <Override PartName="/ppt/slides/_rels/slide424.xml.rels" ContentType="application/vnd.openxmlformats-package.relationships+xml"/>
  <Override PartName="/ppt/slides/_rels/slide419.xml.rels" ContentType="application/vnd.openxmlformats-package.relationships+xml"/>
  <Override PartName="/ppt/slides/_rels/slide295.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49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45.xml.rels" ContentType="application/vnd.openxmlformats-package.relationships+xml"/>
  <Override PartName="/ppt/slides/_rels/slide444.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451.xml.rels" ContentType="application/vnd.openxmlformats-package.relationships+xml"/>
  <Override PartName="/ppt/slides/_rels/slide286.xml.rels" ContentType="application/vnd.openxmlformats-package.relationships+xml"/>
  <Override PartName="/ppt/slides/_rels/slide441.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4.xml.rels" ContentType="application/vnd.openxmlformats-package.relationships+xml"/>
  <Override PartName="/ppt/slides/_rels/slide287.xml.rels" ContentType="application/vnd.openxmlformats-package.relationships+xml"/>
  <Override PartName="/ppt/slides/_rels/slide442.xml.rels" ContentType="application/vnd.openxmlformats-package.relationships+xml"/>
  <Override PartName="/ppt/slides/_rels/slide46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465.xml.rels" ContentType="application/vnd.openxmlformats-package.relationships+xml"/>
  <Override PartName="/ppt/slides/_rels/slide125.xml.rels" ContentType="application/vnd.openxmlformats-package.relationships+xml"/>
  <Override PartName="/ppt/slides/_rels/slide375.xml.rels" ContentType="application/vnd.openxmlformats-package.relationships+xml"/>
  <Override PartName="/ppt/slides/_rels/slide401.xml.rels" ContentType="application/vnd.openxmlformats-package.relationships+xml"/>
  <Override PartName="/ppt/slides/_rels/slide380.xml.rels" ContentType="application/vnd.openxmlformats-package.relationships+xml"/>
  <Override PartName="/ppt/slides/_rels/slide428.xml.rels" ContentType="application/vnd.openxmlformats-package.relationships+xml"/>
  <Override PartName="/ppt/slides/_rels/slide433.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453.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308.xml.rels" ContentType="application/vnd.openxmlformats-package.relationships+xml"/>
  <Override PartName="/ppt/slides/_rels/slide460.xml.rels" ContentType="application/vnd.openxmlformats-package.relationships+xml"/>
  <Override PartName="/ppt/slides/_rels/slide455.xml.rels" ContentType="application/vnd.openxmlformats-package.relationships+xml"/>
  <Override PartName="/ppt/slides/_rels/slide497.xml.rels" ContentType="application/vnd.openxmlformats-package.relationships+xml"/>
  <Override PartName="/ppt/slides/_rels/slide518.xml.rels" ContentType="application/vnd.openxmlformats-package.relationships+xml"/>
  <Override PartName="/ppt/slides/_rels/slide505.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75.xml.rels" ContentType="application/vnd.openxmlformats-package.relationships+xml"/>
  <Override PartName="/ppt/slides/_rels/slide299.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454.xml.rels" ContentType="application/vnd.openxmlformats-package.relationships+xml"/>
  <Override PartName="/ppt/slides/_rels/slide461.xml.rels" ContentType="application/vnd.openxmlformats-package.relationships+xml"/>
  <Override PartName="/ppt/slides/_rels/slide456.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27.xml.rels" ContentType="application/vnd.openxmlformats-package.relationships+xml"/>
  <Override PartName="/ppt/slides/_rels/slide457.xml.rels" ContentType="application/vnd.openxmlformats-package.relationships+xml"/>
  <Override PartName="/ppt/slides/_rels/slide46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523.xml.rels" ContentType="application/vnd.openxmlformats-package.relationships+xml"/>
  <Override PartName="/ppt/slides/_rels/slide519.xml.rels" ContentType="application/vnd.openxmlformats-package.relationships+xml"/>
  <Override PartName="/ppt/slides/_rels/slide498.xml.rels" ContentType="application/vnd.openxmlformats-package.relationships+xml"/>
  <Override PartName="/ppt/slides/_rels/slide489.xml.rels" ContentType="application/vnd.openxmlformats-package.relationships+xml"/>
  <Override PartName="/ppt/slides/_rels/slide377.xml.rels" ContentType="application/vnd.openxmlformats-package.relationships+xml"/>
  <Override PartName="/ppt/slides/_rels/slide502.xml.rels" ContentType="application/vnd.openxmlformats-package.relationships+xml"/>
  <Override PartName="/ppt/slides/_rels/slide481.xml.rels" ContentType="application/vnd.openxmlformats-package.relationships+xml"/>
  <Override PartName="/ppt/slides/_rels/slide532.xml.rels" ContentType="application/vnd.openxmlformats-package.relationships+xml"/>
  <Override PartName="/ppt/slides/_rels/slide527.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363.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466.xml.rels" ContentType="application/vnd.openxmlformats-package.relationships+xml"/>
  <Override PartName="/ppt/slides/_rels/slide471.xml.rels" ContentType="application/vnd.openxmlformats-package.relationships+xml"/>
  <Override PartName="/ppt/slides/_rels/slide503.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387.xml.rels" ContentType="application/vnd.openxmlformats-package.relationships+xml"/>
  <Override PartName="/ppt/slides/_rels/slide429.xml.rels" ContentType="application/vnd.openxmlformats-package.relationships+xml"/>
  <Override PartName="/ppt/slides/_rels/slide434.xml.rels" ContentType="application/vnd.openxmlformats-package.relationships+xml"/>
  <Override PartName="/ppt/slides/_rels/slide473.xml.rels" ContentType="application/vnd.openxmlformats-package.relationships+xml"/>
  <Override PartName="/ppt/slides/_rels/slide468.xml.rels" ContentType="application/vnd.openxmlformats-package.relationships+xml"/>
  <Override PartName="/ppt/slides/_rels/slide365.xml.rels" ContentType="application/vnd.openxmlformats-package.relationships+xml"/>
  <Override PartName="/ppt/slides/_rels/slide69.xml.rels" ContentType="application/vnd.openxmlformats-package.relationships+xml"/>
  <Override PartName="/ppt/slides/_rels/slide520.xml.rels" ContentType="application/vnd.openxmlformats-package.relationships+xml"/>
  <Override PartName="/ppt/slides/_rels/slide515.xml.rels" ContentType="application/vnd.openxmlformats-package.relationships+xml"/>
  <Override PartName="/ppt/slides/_rels/slide494.xml.rels" ContentType="application/vnd.openxmlformats-package.relationships+xml"/>
  <Override PartName="/ppt/slides/_rels/slide371.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522.xml.rels" ContentType="application/vnd.openxmlformats-package.relationships+xml"/>
  <Override PartName="/ppt/slides/_rels/slide367.xml.rels" ContentType="application/vnd.openxmlformats-package.relationships+xml"/>
  <Override PartName="/ppt/slides/_rels/slide504.xml.rels" ContentType="application/vnd.openxmlformats-package.relationships+xml"/>
  <Override PartName="/ppt/slides/_rels/slide478.xml.rels" ContentType="application/vnd.openxmlformats-package.relationships+xml"/>
  <Override PartName="/ppt/slides/_rels/slide364.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534.xml.rels" ContentType="application/vnd.openxmlformats-package.relationships+xml"/>
  <Override PartName="/ppt/slides/_rels/slide525.xml.rels" ContentType="application/vnd.openxmlformats-package.relationships+xml"/>
  <Override PartName="/ppt/slides/_rels/slide530.xml.rels" ContentType="application/vnd.openxmlformats-package.relationships+xml"/>
  <Override PartName="/ppt/slides/_rels/slide422.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512.xml.rels" ContentType="application/vnd.openxmlformats-package.relationships+xml"/>
  <Override PartName="/ppt/slides/_rels/slide491.xml.rels" ContentType="application/vnd.openxmlformats-package.relationships+xml"/>
  <Override PartName="/ppt/slides/_rels/slide408.xml.rels" ContentType="application/vnd.openxmlformats-package.relationships+xml"/>
  <Override PartName="/ppt/slides/_rels/slide533.xml.rels" ContentType="application/vnd.openxmlformats-package.relationships+xml"/>
  <Override PartName="/ppt/slides/_rels/slide528.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524.xml.rels" ContentType="application/vnd.openxmlformats-package.relationships+xml"/>
  <Override PartName="/ppt/slides/_rels/slide29.xml.rels" ContentType="application/vnd.openxmlformats-package.relationships+xml"/>
  <Override PartName="/ppt/slides/_rels/slide511.xml.rels" ContentType="application/vnd.openxmlformats-package.relationships+xml"/>
  <Override PartName="/ppt/slides/_rels/slide490.xml.rels" ContentType="application/vnd.openxmlformats-package.relationships+xml"/>
  <Override PartName="/ppt/slides/_rels/slide412.xml.rels" ContentType="application/vnd.openxmlformats-package.relationships+xml"/>
  <Override PartName="/ppt/slides/_rels/slide95.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407.xml.rels" ContentType="application/vnd.openxmlformats-package.relationships+xml"/>
  <Override PartName="/ppt/slides/_rels/slide12.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12.xml.rels" ContentType="application/vnd.openxmlformats-package.relationships+xml"/>
  <Override PartName="/ppt/slides/_rels/slide107.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2.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440.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394.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0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6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20.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35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8.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55.xml.rels" ContentType="application/vnd.openxmlformats-package.relationships+xml"/>
  <Override PartName="/ppt/slides/_rels/slide510.xml.rels" ContentType="application/vnd.openxmlformats-package.relationships+xml"/>
  <Override PartName="/ppt/slides/_rels/slide28.xml.rels" ContentType="application/vnd.openxmlformats-package.relationships+xml"/>
  <Override PartName="/ppt/slides/_rels/slide360.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536.xml.rels" ContentType="application/vnd.openxmlformats-package.relationships+xml"/>
  <Override PartName="/ppt/slides/_rels/slide537.xml.rels" ContentType="application/vnd.openxmlformats-package.relationships+xml"/>
  <Override PartName="/ppt/slides/_rels/slide538.xml.rels" ContentType="application/vnd.openxmlformats-package.relationships+xml"/>
  <Override PartName="/ppt/slides/_rels/slide435.xml.rels" ContentType="application/vnd.openxmlformats-package.relationships+xml"/>
  <Override PartName="/ppt/slides/_rels/slide79.xml.rels" ContentType="application/vnd.openxmlformats-package.relationships+xml"/>
  <Override PartName="/ppt/slides/_rels/slide500.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409.xml.rels" ContentType="application/vnd.openxmlformats-package.relationships+xml"/>
  <Override PartName="/ppt/slides/_rels/slide492.xml.rels" ContentType="application/vnd.openxmlformats-package.relationships+xml"/>
  <Override PartName="/ppt/slides/_rels/slide513.xml.rels" ContentType="application/vnd.openxmlformats-package.relationships+xml"/>
  <Override PartName="/ppt/slides/_rels/slide539.xml.rels" ContentType="application/vnd.openxmlformats-package.relationships+xml"/>
  <Override PartName="/ppt/slides/_rels/slide540.xml.rels" ContentType="application/vnd.openxmlformats-package.relationships+xml"/>
  <Override PartName="/ppt/slides/_rels/slide436.xml.rels" ContentType="application/vnd.openxmlformats-package.relationships+xml"/>
  <Override PartName="/ppt/slides/_rels/slide418.xml.rels" ContentType="application/vnd.openxmlformats-package.relationships+xml"/>
  <Override PartName="/ppt/slides/_rels/slide397.xml.rels" ContentType="application/vnd.openxmlformats-package.relationships+xml"/>
  <Override PartName="/ppt/slides/_rels/slide423.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495.xml.rels" ContentType="application/vnd.openxmlformats-package.relationships+xml"/>
  <Override PartName="/ppt/slides/_rels/slide521.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469.xml.rels" ContentType="application/vnd.openxmlformats-package.relationships+xml"/>
  <Override PartName="/ppt/slides/_rels/slide474.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501.xml.rels" ContentType="application/vnd.openxmlformats-package.relationships+xml"/>
  <Override PartName="/ppt/slides/_rels/slide480.xml.rels" ContentType="application/vnd.openxmlformats-package.relationships+xml"/>
  <Override PartName="/ppt/slides/_rels/slide376.xml.rels" ContentType="application/vnd.openxmlformats-package.relationships+xml"/>
  <Override PartName="/ppt/slides/_rels/slide526.xml.rels" ContentType="application/vnd.openxmlformats-package.relationships+xml"/>
  <Override PartName="/ppt/slides/_rels/slide531.xml.rels" ContentType="application/vnd.openxmlformats-package.relationships+xml"/>
  <Override PartName="/ppt/slides/_rels/slide427.xml.rels" ContentType="application/vnd.openxmlformats-package.relationships+xml"/>
  <Override PartName="/ppt/slides/_rels/slide452.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506.xml.rels" ContentType="application/vnd.openxmlformats-package.relationships+xml"/>
  <Override PartName="/ppt/slides/_rels/slide485.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540.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04.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05.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314.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15.xml" ContentType="application/vnd.openxmlformats-officedocument.presentationml.slide+xml"/>
  <Override PartName="/ppt/slides/slide325.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353.xml" ContentType="application/vnd.openxmlformats-officedocument.presentationml.slide+xml"/>
  <Override PartName="/ppt/slides/slide51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60.xml" ContentType="application/vnd.openxmlformats-officedocument.presentationml.slide+xml"/>
  <Override PartName="/ppt/slides/slide526.xml" ContentType="application/vnd.openxmlformats-officedocument.presentationml.slide+xml"/>
  <Override PartName="/ppt/slides/slide333.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324.xml" ContentType="application/vnd.openxmlformats-officedocument.presentationml.slide+xml"/>
  <Override PartName="/ppt/slides/slide361.xml" ContentType="application/vnd.openxmlformats-officedocument.presentationml.slide+xml"/>
  <Override PartName="/ppt/slides/slide527.xml" ContentType="application/vnd.openxmlformats-officedocument.presentationml.slide+xml"/>
  <Override PartName="/ppt/slides/slide334.xml" ContentType="application/vnd.openxmlformats-officedocument.presentationml.slide+xml"/>
  <Override PartName="/ppt/slides/slide384.xml" ContentType="application/vnd.openxmlformats-officedocument.presentationml.slide+xml"/>
  <Override PartName="/ppt/slides/slide422.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393.xml" ContentType="application/vnd.openxmlformats-officedocument.presentationml.slide+xml"/>
  <Override PartName="/ppt/slides/slide431.xml" ContentType="application/vnd.openxmlformats-officedocument.presentationml.slide+xml"/>
  <Override PartName="/ppt/slides/slide335.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344.xml" ContentType="application/vnd.openxmlformats-officedocument.presentationml.slide+xml"/>
  <Override PartName="/ppt/slides/slide394.xml" ContentType="application/vnd.openxmlformats-officedocument.presentationml.slide+xml"/>
  <Override PartName="/ppt/slides/slide432.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529.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345.xml" ContentType="application/vnd.openxmlformats-officedocument.presentationml.slide+xml"/>
  <Override PartName="/ppt/slides/slide395.xml" ContentType="application/vnd.openxmlformats-officedocument.presentationml.slide+xml"/>
  <Override PartName="/ppt/slides/slide433.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539.xml" ContentType="application/vnd.openxmlformats-officedocument.presentationml.slide+xml"/>
  <Override PartName="/ppt/slides/slide396.xml" ContentType="application/vnd.openxmlformats-officedocument.presentationml.slide+xml"/>
  <Override PartName="/ppt/slides/slide434.xml" ContentType="application/vnd.openxmlformats-officedocument.presentationml.slide+xml"/>
  <Override PartName="/ppt/slides/slide397.xml" ContentType="application/vnd.openxmlformats-officedocument.presentationml.slide+xml"/>
  <Override PartName="/ppt/slides/slide435.xml" ContentType="application/vnd.openxmlformats-officedocument.presentationml.slide+xml"/>
  <Override PartName="/ppt/slides/slide440.xml" ContentType="application/vnd.openxmlformats-officedocument.presentationml.slide+xml"/>
  <Override PartName="/ppt/slides/slide498.xml" ContentType="application/vnd.openxmlformats-officedocument.presentationml.slide+xml"/>
  <Override PartName="/ppt/slides/slide514.xml" ContentType="application/vnd.openxmlformats-officedocument.presentationml.slide+xml"/>
  <Override PartName="/ppt/slides/slide321.xml" ContentType="application/vnd.openxmlformats-officedocument.presentationml.slide+xml"/>
  <Override PartName="/ppt/slides/slide461.xml" ContentType="application/vnd.openxmlformats-officedocument.presentationml.slide+xml"/>
  <Override PartName="/ppt/slides/slide501.xml" ContentType="application/vnd.openxmlformats-officedocument.presentationml.slide+xml"/>
  <Override PartName="/ppt/slides/slide502.xml" ContentType="application/vnd.openxmlformats-officedocument.presentationml.slide+xml"/>
  <Override PartName="/ppt/slides/slide503.xml" ContentType="application/vnd.openxmlformats-officedocument.presentationml.slide+xml"/>
  <Override PartName="/ppt/slides/slide310.xml" ContentType="application/vnd.openxmlformats-officedocument.presentationml.slide+xml"/>
  <Override PartName="/ppt/slides/slide450.xml" ContentType="application/vnd.openxmlformats-officedocument.presentationml.slide+xml"/>
  <Override PartName="/ppt/slides/slide536.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504.xml" ContentType="application/vnd.openxmlformats-officedocument.presentationml.slide+xml"/>
  <Override PartName="/ppt/slides/slide311.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451.xml" ContentType="application/vnd.openxmlformats-officedocument.presentationml.slide+xml"/>
  <Override PartName="/ppt/slides/slide362.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537.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505.xml" ContentType="application/vnd.openxmlformats-officedocument.presentationml.slide+xml"/>
  <Override PartName="/ppt/slides/slide312.xml" ContentType="application/vnd.openxmlformats-officedocument.presentationml.slide+xml"/>
  <Override PartName="/ppt/slides/slide489.xml" ContentType="application/vnd.openxmlformats-officedocument.presentationml.slide+xml"/>
  <Override PartName="/ppt/slides/slide296.xml" ContentType="application/vnd.openxmlformats-officedocument.presentationml.slide+xml"/>
  <Override PartName="/ppt/slides/slide452.xml" ContentType="application/vnd.openxmlformats-officedocument.presentationml.slide+xml"/>
  <Override PartName="/ppt/slides/slide499.xml" ContentType="application/vnd.openxmlformats-officedocument.presentationml.slide+xml"/>
  <Override PartName="/ppt/slides/slide372.xml" ContentType="application/vnd.openxmlformats-officedocument.presentationml.slide+xml"/>
  <Override PartName="/ppt/slides/slide538.xml" ContentType="application/vnd.openxmlformats-officedocument.presentationml.slide+xml"/>
  <Override PartName="/ppt/slides/slide410.xml" ContentType="application/vnd.openxmlformats-officedocument.presentationml.slide+xml"/>
  <Override PartName="/ppt/slides/slide515.xml" ContentType="application/vnd.openxmlformats-officedocument.presentationml.slide+xml"/>
  <Override PartName="/ppt/slides/slide390.xml" ContentType="application/vnd.openxmlformats-officedocument.presentationml.slide+xml"/>
  <Override PartName="/ppt/slides/slide322.xml" ContentType="application/vnd.openxmlformats-officedocument.presentationml.slide+xml"/>
  <Override PartName="/ppt/slides/slide462.xml" ContentType="application/vnd.openxmlformats-officedocument.presentationml.slide+xml"/>
  <Override PartName="/ppt/slides/slide510.xml" ContentType="application/vnd.openxmlformats-officedocument.presentationml.slide+xml"/>
  <Override PartName="/ppt/slides/slide511.xml" ContentType="application/vnd.openxmlformats-officedocument.presentationml.slide+xml"/>
  <Override PartName="/ppt/slides/slide512.xml" ContentType="application/vnd.openxmlformats-officedocument.presentationml.slide+xml"/>
  <Override PartName="/ppt/slides/slide513.xml" ContentType="application/vnd.openxmlformats-officedocument.presentationml.slide+xml"/>
  <Override PartName="/ppt/slides/slide320.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460.xml" ContentType="application/vnd.openxmlformats-officedocument.presentationml.slide+xml"/>
  <Override PartName="/ppt/slides/slide500.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535.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523.xml" ContentType="application/vnd.openxmlformats-officedocument.presentationml.slide+xml"/>
  <Override PartName="/ppt/slides/slide330.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473.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534.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22.xml" ContentType="application/vnd.openxmlformats-officedocument.presentationml.slide+xml"/>
  <Override PartName="/ppt/slides/slide533.xml" ContentType="application/vnd.openxmlformats-officedocument.presentationml.slide+xml"/>
  <Override PartName="/ppt/slides/slide521.xml" ContentType="application/vnd.openxmlformats-officedocument.presentationml.slide+xml"/>
  <Override PartName="/ppt/slides/slide532.xml" ContentType="application/vnd.openxmlformats-officedocument.presentationml.slide+xml"/>
  <Override PartName="/ppt/slides/slide520.xml" ContentType="application/vnd.openxmlformats-officedocument.presentationml.slide+xml"/>
  <Override PartName="/ppt/slides/slide531.xml" ContentType="application/vnd.openxmlformats-officedocument.presentationml.slide+xml"/>
  <Override PartName="/ppt/slides/slide530.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525.xml" ContentType="application/vnd.openxmlformats-officedocument.presentationml.slide+xml"/>
  <Override PartName="/ppt/slides/slide332.xml" ContentType="application/vnd.openxmlformats-officedocument.presentationml.slide+xml"/>
  <Override PartName="/ppt/slides/slide524.xml" ContentType="application/vnd.openxmlformats-officedocument.presentationml.slide+xml"/>
  <Override PartName="/ppt/slides/slide331.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518.xml" ContentType="application/vnd.openxmlformats-officedocument.presentationml.slide+xml"/>
  <Override PartName="/ppt/slides/slide352.xml" ContentType="application/vnd.openxmlformats-officedocument.presentationml.slide+xml"/>
  <Override PartName="/ppt/slides/slide517.xml" ContentType="application/vnd.openxmlformats-officedocument.presentationml.slide+xml"/>
  <Override PartName="/ppt/slides/slide351.xml" ContentType="application/vnd.openxmlformats-officedocument.presentationml.slide+xml"/>
  <Override PartName="/ppt/slides/slide516.xml" ContentType="application/vnd.openxmlformats-officedocument.presentationml.slide+xml"/>
  <Override PartName="/ppt/slides/slide350.xml" ContentType="application/vnd.openxmlformats-officedocument.presentationml.slide+xml"/>
  <Override PartName="/ppt/slides/slide340.xml" ContentType="application/vnd.openxmlformats-officedocument.presentationml.slide+xml"/>
  <Override PartName="/ppt/slides/slide506.xml" ContentType="application/vnd.openxmlformats-officedocument.presentationml.slide+xml"/>
  <Override PartName="/ppt/slides/slide313.xml" ContentType="application/vnd.openxmlformats-officedocument.presentationml.slide+xml"/>
  <Override PartName="/ppt/slides/slide301.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 id="774" r:id="rId522"/>
    <p:sldId id="775" r:id="rId523"/>
    <p:sldId id="776" r:id="rId524"/>
    <p:sldId id="777" r:id="rId525"/>
    <p:sldId id="778" r:id="rId526"/>
    <p:sldId id="779" r:id="rId527"/>
    <p:sldId id="780" r:id="rId528"/>
    <p:sldId id="781" r:id="rId529"/>
    <p:sldId id="782" r:id="rId530"/>
    <p:sldId id="783" r:id="rId531"/>
    <p:sldId id="784" r:id="rId532"/>
    <p:sldId id="785" r:id="rId533"/>
    <p:sldId id="786" r:id="rId534"/>
    <p:sldId id="787" r:id="rId535"/>
    <p:sldId id="788" r:id="rId536"/>
    <p:sldId id="789" r:id="rId537"/>
    <p:sldId id="790" r:id="rId538"/>
    <p:sldId id="791" r:id="rId539"/>
    <p:sldId id="792" r:id="rId540"/>
    <p:sldId id="793" r:id="rId541"/>
    <p:sldId id="794" r:id="rId542"/>
    <p:sldId id="795" r:id="rId5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slide" Target="slides/slide519.xml"/><Relationship Id="rId523" Type="http://schemas.openxmlformats.org/officeDocument/2006/relationships/slide" Target="slides/slide520.xml"/><Relationship Id="rId524" Type="http://schemas.openxmlformats.org/officeDocument/2006/relationships/slide" Target="slides/slide521.xml"/><Relationship Id="rId525" Type="http://schemas.openxmlformats.org/officeDocument/2006/relationships/slide" Target="slides/slide522.xml"/><Relationship Id="rId526" Type="http://schemas.openxmlformats.org/officeDocument/2006/relationships/slide" Target="slides/slide523.xml"/><Relationship Id="rId527" Type="http://schemas.openxmlformats.org/officeDocument/2006/relationships/slide" Target="slides/slide524.xml"/><Relationship Id="rId528" Type="http://schemas.openxmlformats.org/officeDocument/2006/relationships/slide" Target="slides/slide525.xml"/><Relationship Id="rId529" Type="http://schemas.openxmlformats.org/officeDocument/2006/relationships/slide" Target="slides/slide526.xml"/><Relationship Id="rId530" Type="http://schemas.openxmlformats.org/officeDocument/2006/relationships/slide" Target="slides/slide527.xml"/><Relationship Id="rId531" Type="http://schemas.openxmlformats.org/officeDocument/2006/relationships/slide" Target="slides/slide528.xml"/><Relationship Id="rId532" Type="http://schemas.openxmlformats.org/officeDocument/2006/relationships/slide" Target="slides/slide529.xml"/><Relationship Id="rId533" Type="http://schemas.openxmlformats.org/officeDocument/2006/relationships/slide" Target="slides/slide530.xml"/><Relationship Id="rId534" Type="http://schemas.openxmlformats.org/officeDocument/2006/relationships/slide" Target="slides/slide531.xml"/><Relationship Id="rId535" Type="http://schemas.openxmlformats.org/officeDocument/2006/relationships/slide" Target="slides/slide532.xml"/><Relationship Id="rId536" Type="http://schemas.openxmlformats.org/officeDocument/2006/relationships/slide" Target="slides/slide533.xml"/><Relationship Id="rId537" Type="http://schemas.openxmlformats.org/officeDocument/2006/relationships/slide" Target="slides/slide534.xml"/><Relationship Id="rId538" Type="http://schemas.openxmlformats.org/officeDocument/2006/relationships/slide" Target="slides/slide535.xml"/><Relationship Id="rId539" Type="http://schemas.openxmlformats.org/officeDocument/2006/relationships/slide" Target="slides/slide536.xml"/><Relationship Id="rId540" Type="http://schemas.openxmlformats.org/officeDocument/2006/relationships/slide" Target="slides/slide537.xml"/><Relationship Id="rId541" Type="http://schemas.openxmlformats.org/officeDocument/2006/relationships/slide" Target="slides/slide538.xml"/><Relationship Id="rId542" Type="http://schemas.openxmlformats.org/officeDocument/2006/relationships/slide" Target="slides/slide539.xml"/><Relationship Id="rId543" Type="http://schemas.openxmlformats.org/officeDocument/2006/relationships/slide" Target="slides/slide540.xml"/><Relationship Id="rId5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4E16-0E20-41F7-83E7-DF6229474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310.xml.rels><?xml version="1.0" encoding="UTF-8"?>
<Relationships xmlns="http://schemas.openxmlformats.org/package/2006/relationships"><Relationship Id="rId1" Type="http://schemas.openxmlformats.org/officeDocument/2006/relationships/slide" Target="../slides/slide310.xml"/><Relationship Id="rId2" Type="http://schemas.openxmlformats.org/officeDocument/2006/relationships/notesMaster" Target="../notesMasters/notesMaster1.xml"/>
</Relationships>
</file>

<file path=ppt/notesSlides/_rels/notesSlide437.xml.rels><?xml version="1.0" encoding="UTF-8"?>
<Relationships xmlns="http://schemas.openxmlformats.org/package/2006/relationships"><Relationship Id="rId1" Type="http://schemas.openxmlformats.org/officeDocument/2006/relationships/slide" Target="../slides/slide437.xml"/><Relationship Id="rId2" Type="http://schemas.openxmlformats.org/officeDocument/2006/relationships/notesMaster" Target="../notesMasters/notesMaster1.xml"/>
</Relationships>
</file>

<file path=ppt/notesSlides/_rels/notesSlide467.xml.rels><?xml version="1.0" encoding="UTF-8"?>
<Relationships xmlns="http://schemas.openxmlformats.org/package/2006/relationships"><Relationship Id="rId1" Type="http://schemas.openxmlformats.org/officeDocument/2006/relationships/slide" Target="../slides/slide4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E885-16AF-4AA4-A8B5-C69B39387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71DC-979A-4947-BCC2-8115045A7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415B-3FAF-4DF6-82B5-1038B60FD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E2B3-2AF9-461A-AE80-59E75AD8E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FD94-4E4B-42D6-865F-18F5E48A9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75DD-E017-4CEB-B2D2-A0B34A711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6691-DA47-416E-B221-17B4D2184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D0CD-7A87-4C48-A98E-C65DD4842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9" name="PlaceHolder 1"/>
          <p:cNvSpPr>
            <a:spLocks noGrp="1"/>
          </p:cNvSpPr>
          <p:nvPr>
            <p:ph type="sldImg"/>
          </p:nvPr>
        </p:nvSpPr>
        <p:spPr>
          <a:xfrm>
            <a:off x="1143000" y="685800"/>
            <a:ext cx="4572000" cy="3429000"/>
          </a:xfrm>
          <a:prstGeom prst="rect">
            <a:avLst/>
          </a:prstGeom>
          <a:ln w="0">
            <a:noFill/>
          </a:ln>
        </p:spPr>
      </p:sp>
      <p:sp>
        <p:nvSpPr>
          <p:cNvPr id="1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11FA-5871-4CA5-A8B0-27FEA3FEF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28610-A65C-4C02-A0CE-FB31281BA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256C-AB83-4310-9721-56F45BE81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CE3E4-AAFE-44D5-9BDC-8CB6E54B7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EA1C5-4701-45D7-9486-FAD80278A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B4A12-8D9B-48A6-8C23-429AB2952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BC7B3-BE23-42BF-9D0F-4BD612AFC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7EAA3-3AF5-4AF3-AC8F-3B3F9EA74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AE4CC-E2C8-4473-A384-50C03EE8F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30383-8BDC-4C79-A34E-0CBB7206A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330F9-AD27-4ED7-BAEA-AB1C56DFF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FA0EE-0D30-45BB-9338-D19E2426C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E6299-F230-45A3-924B-B46D2F49E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3807-B182-47E2-8F53-A21AC4837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0.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7.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7.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68360" y="1915920"/>
            <a:ext cx="6624720" cy="16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000" spc="-1" strike="noStrike">
                <a:solidFill>
                  <a:srgbClr val="000000"/>
                </a:solidFill>
                <a:latin typeface="Arial"/>
              </a:rPr>
              <a:t>OSNOVE RAČUNOVODSTVA</a:t>
            </a:r>
            <a:endParaRPr b="0" lang="en-US" sz="6000" spc="-1" strike="noStrike">
              <a:solidFill>
                <a:srgbClr val="000000"/>
              </a:solidFill>
              <a:latin typeface="Arial"/>
            </a:endParaRPr>
          </a:p>
        </p:txBody>
      </p:sp>
      <p:sp>
        <p:nvSpPr>
          <p:cNvPr id="3" name="PlaceHolder 2"/>
          <p:cNvSpPr>
            <a:spLocks noGrp="1"/>
          </p:cNvSpPr>
          <p:nvPr>
            <p:ph type="sldNum" idx="3"/>
          </p:nvPr>
        </p:nvSpPr>
        <p:spPr/>
        <p:txBody>
          <a:bodyPr/>
          <a:p>
            <a:fld id="{FA7D9A5F-E04F-4AF5-A649-4F7E8F9BC2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25992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Istraživanje među 1000 studenata na pet uglednih sveučilišta</a:t>
            </a:r>
            <a:endParaRPr b="0" lang="en-US" sz="3200" spc="-1" strike="noStrike">
              <a:solidFill>
                <a:srgbClr val="000000"/>
              </a:solidFill>
              <a:latin typeface="Arial"/>
            </a:endParaRPr>
          </a:p>
        </p:txBody>
      </p:sp>
      <p:sp>
        <p:nvSpPr>
          <p:cNvPr id="66" name="PlaceHolder 2"/>
          <p:cNvSpPr>
            <a:spLocks noGrp="1"/>
          </p:cNvSpPr>
          <p:nvPr>
            <p:ph/>
          </p:nvPr>
        </p:nvSpPr>
        <p:spPr>
          <a:xfrm>
            <a:off x="0" y="13716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edamdesete godine: računovođa okarakteriziran kao konformist, posesivan, slab, povučen, hladan, anti-heroj</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evedesete godine: računovođa poprima epitete dinamične, profinjene, profesionalne osob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62C96C-D176-49E8-961C-E354190C8AF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7200" spc="-1" strike="noStrike">
                <a:solidFill>
                  <a:srgbClr val="000000"/>
                </a:solidFill>
                <a:latin typeface="Arial"/>
              </a:rPr>
              <a:t>KONTA</a:t>
            </a:r>
            <a:endParaRPr b="0" lang="en-US" sz="7200" spc="-1" strike="noStrike">
              <a:solidFill>
                <a:srgbClr val="000000"/>
              </a:solidFill>
              <a:latin typeface="Arial"/>
            </a:endParaRPr>
          </a:p>
        </p:txBody>
      </p:sp>
      <p:sp>
        <p:nvSpPr>
          <p:cNvPr id="3" name="PlaceHolder 2"/>
          <p:cNvSpPr>
            <a:spLocks noGrp="1"/>
          </p:cNvSpPr>
          <p:nvPr>
            <p:ph type="sldNum" idx="3"/>
          </p:nvPr>
        </p:nvSpPr>
        <p:spPr/>
        <p:txBody>
          <a:bodyPr/>
          <a:p>
            <a:fld id="{A11E4B69-6896-4618-B349-FA1D585812C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0800" y="260280"/>
            <a:ext cx="8232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ŠTO SU KONTA?</a:t>
            </a:r>
            <a:endParaRPr b="0" lang="en-US" sz="3600" spc="-1" strike="noStrike">
              <a:solidFill>
                <a:srgbClr val="000000"/>
              </a:solidFill>
              <a:latin typeface="Arial"/>
            </a:endParaRPr>
          </a:p>
        </p:txBody>
      </p:sp>
      <p:sp>
        <p:nvSpPr>
          <p:cNvPr id="456" name="PlaceHolder 2"/>
          <p:cNvSpPr>
            <a:spLocks noGrp="1"/>
          </p:cNvSpPr>
          <p:nvPr>
            <p:ph/>
          </p:nvPr>
        </p:nvSpPr>
        <p:spPr>
          <a:xfrm>
            <a:off x="1403280" y="1628640"/>
            <a:ext cx="7740720" cy="5229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su sredstvo, a ne svrha računovodstvenog obuhvaćanj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su raščlanjeni dijelovi bilance te računa dobitka i gubitka koji služe za skraćeno bilježenje i sustavno obuhvaćanje ekonomskih promjena koje nastaju u poslovnim procesima, a mogu se vrijednosno izrazi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mora sadržavati: naziv imovine, obveza ili procesa koji se na kontu evidentira, broj konta prema kontnom planu, datum nastanka poslovne promjene, naznaku dokumenta temeljem kojeg se evidentira poslovna promjena, kratak opis poslovne promjene i njen vrijednosni izraz u jedinici nacionalne valu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C3E078-50E6-473F-B2A4-1B05352C9D0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2560" y="3284640"/>
            <a:ext cx="7772400" cy="280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znake “duguje” i “potražuje” – tradicija iz vremena kada su konta predstavljala osobe. Razlika dugovne i potražne strane predstavlja saldo kao razliku početnog stanja uvećanog za sva povećanja i svih smanjenja određene kategorije u obračunskom razdoblju.</a:t>
            </a:r>
            <a:endParaRPr b="0" lang="en-US" sz="2400" spc="-1" strike="noStrike">
              <a:solidFill>
                <a:srgbClr val="000000"/>
              </a:solidFill>
              <a:latin typeface="Arial"/>
            </a:endParaRPr>
          </a:p>
        </p:txBody>
      </p:sp>
      <p:sp>
        <p:nvSpPr>
          <p:cNvPr id="458" name=""/>
          <p:cNvSpPr/>
          <p:nvPr/>
        </p:nvSpPr>
        <p:spPr>
          <a:xfrm>
            <a:off x="3492360" y="234936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643280" y="2349360"/>
            <a:ext cx="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492360" y="184644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0BBE423-2419-4D03-B0E3-B76F5C793F5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RSTE KONTA</a:t>
            </a:r>
            <a:endParaRPr b="0" lang="en-US" sz="3600" spc="-1" strike="noStrike">
              <a:solidFill>
                <a:srgbClr val="000000"/>
              </a:solidFill>
              <a:latin typeface="Arial"/>
            </a:endParaRPr>
          </a:p>
        </p:txBody>
      </p:sp>
      <p:sp>
        <p:nvSpPr>
          <p:cNvPr id="46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nta po sadržaju</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a prema karakteru i funkciji sald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a prema stupnju samostalnos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a prema složenosti poslovnih promjen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a prema položaju u bilanci</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nta po oblik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FCA7986-0B18-4A04-8EF3-2C0D6C4B926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O SADRŽAJU</a:t>
            </a:r>
            <a:endParaRPr b="0" lang="en-US" sz="36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kviru konta po sadržaju razlikujemo slijedeća kon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rema karakteru i funkciji sal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rema samostalnos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rema složenos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konta prema položaju u bilanc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4860C3-2BBE-4143-96C2-D79067E47DD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karakteru i funkciji salda</a:t>
            </a:r>
            <a:endParaRPr b="0" lang="en-US" sz="3600" spc="-1" strike="noStrike">
              <a:solidFill>
                <a:srgbClr val="000000"/>
              </a:solidFill>
              <a:latin typeface="Arial"/>
            </a:endParaRPr>
          </a:p>
        </p:txBody>
      </p:sp>
      <p:sp>
        <p:nvSpPr>
          <p:cNvPr id="466" name=""/>
          <p:cNvSpPr/>
          <p:nvPr/>
        </p:nvSpPr>
        <p:spPr>
          <a:xfrm>
            <a:off x="1547640" y="278136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KTIVE</a:t>
            </a:r>
            <a:endParaRPr b="0" lang="en-US" sz="1800" spc="-1" strike="noStrike">
              <a:solidFill>
                <a:srgbClr val="000000"/>
              </a:solidFill>
              <a:latin typeface="Arial"/>
            </a:endParaRPr>
          </a:p>
        </p:txBody>
      </p:sp>
      <p:sp>
        <p:nvSpPr>
          <p:cNvPr id="467" name=""/>
          <p:cNvSpPr/>
          <p:nvPr/>
        </p:nvSpPr>
        <p:spPr>
          <a:xfrm>
            <a:off x="2484360" y="170028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STANJA</a:t>
            </a:r>
            <a:endParaRPr b="0" lang="en-US" sz="1800" spc="-1" strike="noStrike">
              <a:solidFill>
                <a:srgbClr val="000000"/>
              </a:solidFill>
              <a:latin typeface="Arial"/>
            </a:endParaRPr>
          </a:p>
        </p:txBody>
      </p:sp>
      <p:sp>
        <p:nvSpPr>
          <p:cNvPr id="468" name=""/>
          <p:cNvSpPr/>
          <p:nvPr/>
        </p:nvSpPr>
        <p:spPr>
          <a:xfrm>
            <a:off x="3348000" y="407664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ASIV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KTIVNA</a:t>
            </a:r>
            <a:endParaRPr b="0" lang="en-US" sz="1800" spc="-1" strike="noStrike">
              <a:solidFill>
                <a:srgbClr val="000000"/>
              </a:solidFill>
              <a:latin typeface="Arial"/>
            </a:endParaRPr>
          </a:p>
        </p:txBody>
      </p:sp>
      <p:sp>
        <p:nvSpPr>
          <p:cNvPr id="469" name=""/>
          <p:cNvSpPr/>
          <p:nvPr/>
        </p:nvSpPr>
        <p:spPr>
          <a:xfrm>
            <a:off x="1547640" y="407664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KTIV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ASIVNA</a:t>
            </a:r>
            <a:endParaRPr b="0" lang="en-US" sz="1800" spc="-1" strike="noStrike">
              <a:solidFill>
                <a:srgbClr val="000000"/>
              </a:solidFill>
              <a:latin typeface="Arial"/>
            </a:endParaRPr>
          </a:p>
        </p:txBody>
      </p:sp>
      <p:sp>
        <p:nvSpPr>
          <p:cNvPr id="470" name=""/>
          <p:cNvSpPr/>
          <p:nvPr/>
        </p:nvSpPr>
        <p:spPr>
          <a:xfrm>
            <a:off x="3348000" y="278136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ASIVE</a:t>
            </a:r>
            <a:endParaRPr b="0" lang="en-US" sz="1800" spc="-1" strike="noStrike">
              <a:solidFill>
                <a:srgbClr val="000000"/>
              </a:solidFill>
              <a:latin typeface="Arial"/>
            </a:endParaRPr>
          </a:p>
        </p:txBody>
      </p:sp>
      <p:sp>
        <p:nvSpPr>
          <p:cNvPr id="471" name=""/>
          <p:cNvSpPr/>
          <p:nvPr/>
        </p:nvSpPr>
        <p:spPr>
          <a:xfrm>
            <a:off x="4500720" y="5516640"/>
            <a:ext cx="151272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MJEŠOV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p:txBody>
      </p:sp>
      <p:sp>
        <p:nvSpPr>
          <p:cNvPr id="472" name=""/>
          <p:cNvSpPr/>
          <p:nvPr/>
        </p:nvSpPr>
        <p:spPr>
          <a:xfrm>
            <a:off x="5506920" y="328608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SHODA</a:t>
            </a:r>
            <a:endParaRPr b="0" lang="en-US" sz="1800" spc="-1" strike="noStrike">
              <a:solidFill>
                <a:srgbClr val="000000"/>
              </a:solidFill>
              <a:latin typeface="Arial"/>
            </a:endParaRPr>
          </a:p>
        </p:txBody>
      </p:sp>
      <p:sp>
        <p:nvSpPr>
          <p:cNvPr id="473" name=""/>
          <p:cNvSpPr/>
          <p:nvPr/>
        </p:nvSpPr>
        <p:spPr>
          <a:xfrm>
            <a:off x="6443640" y="220500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USPJEHA</a:t>
            </a:r>
            <a:endParaRPr b="0" lang="en-US" sz="1800" spc="-1" strike="noStrike">
              <a:solidFill>
                <a:srgbClr val="000000"/>
              </a:solidFill>
              <a:latin typeface="Arial"/>
            </a:endParaRPr>
          </a:p>
        </p:txBody>
      </p:sp>
      <p:sp>
        <p:nvSpPr>
          <p:cNvPr id="474" name=""/>
          <p:cNvSpPr/>
          <p:nvPr/>
        </p:nvSpPr>
        <p:spPr>
          <a:xfrm>
            <a:off x="7307280" y="3286080"/>
            <a:ext cx="151272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IHODA</a:t>
            </a:r>
            <a:endParaRPr b="0" lang="en-US" sz="1800" spc="-1" strike="noStrike">
              <a:solidFill>
                <a:srgbClr val="000000"/>
              </a:solidFill>
              <a:latin typeface="Arial"/>
            </a:endParaRPr>
          </a:p>
        </p:txBody>
      </p:sp>
      <p:sp>
        <p:nvSpPr>
          <p:cNvPr id="475" name=""/>
          <p:cNvSpPr/>
          <p:nvPr/>
        </p:nvSpPr>
        <p:spPr>
          <a:xfrm flipH="1">
            <a:off x="2842920" y="2565360"/>
            <a:ext cx="360360" cy="142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03640" y="2565360"/>
            <a:ext cx="360360" cy="142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6803640" y="3068640"/>
            <a:ext cx="360360" cy="142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4360" y="3068640"/>
            <a:ext cx="360360" cy="142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E145C35-A521-4181-A86D-7F4D52CDFB6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763280" y="333360"/>
            <a:ext cx="6929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karakteru i funkciji salda</a:t>
            </a:r>
            <a:endParaRPr b="0" lang="en-US" sz="3600" spc="-1" strike="noStrike">
              <a:solidFill>
                <a:srgbClr val="000000"/>
              </a:solidFill>
              <a:latin typeface="Arial"/>
            </a:endParaRPr>
          </a:p>
        </p:txBody>
      </p:sp>
      <p:sp>
        <p:nvSpPr>
          <p:cNvPr id="480" name="PlaceHolder 2"/>
          <p:cNvSpPr>
            <a:spLocks noGrp="1"/>
          </p:cNvSpPr>
          <p:nvPr>
            <p:ph/>
          </p:nvPr>
        </p:nvSpPr>
        <p:spPr>
          <a:xfrm>
            <a:off x="1371600" y="155736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aktive:</a:t>
            </a:r>
            <a:r>
              <a:rPr b="0" lang="hr-HR" sz="3200" spc="-1" strike="noStrike">
                <a:solidFill>
                  <a:srgbClr val="000000"/>
                </a:solidFill>
                <a:latin typeface="Arial"/>
              </a:rPr>
              <a:t>	</a:t>
            </a:r>
            <a:r>
              <a:rPr b="0" lang="hr-HR" sz="3200" spc="-1" strike="noStrike">
                <a:solidFill>
                  <a:srgbClr val="000000"/>
                </a:solidFill>
                <a:latin typeface="Arial"/>
              </a:rPr>
              <a:t>        </a:t>
            </a:r>
            <a:r>
              <a:rPr b="0" lang="hr-HR" sz="2400" spc="-1" strike="noStrike">
                <a:solidFill>
                  <a:srgbClr val="000000"/>
                </a:solidFill>
                <a:latin typeface="Arial"/>
              </a:rPr>
              <a:t>D      Blagajna      P</a:t>
            </a:r>
            <a:endParaRPr b="0" lang="en-US" sz="2400" spc="-1" strike="noStrike">
              <a:solidFill>
                <a:srgbClr val="000000"/>
              </a:solidFill>
              <a:latin typeface="Arial"/>
            </a:endParaRPr>
          </a:p>
        </p:txBody>
      </p:sp>
      <p:sp>
        <p:nvSpPr>
          <p:cNvPr id="481" name=""/>
          <p:cNvSpPr/>
          <p:nvPr/>
        </p:nvSpPr>
        <p:spPr>
          <a:xfrm>
            <a:off x="4118040" y="2090880"/>
            <a:ext cx="259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337000" y="20908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041720" y="2243160"/>
            <a:ext cx="12193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ećanje</a:t>
            </a:r>
            <a:endParaRPr b="0" lang="en-US" sz="1800" spc="-1" strike="noStrike">
              <a:solidFill>
                <a:srgbClr val="000000"/>
              </a:solidFill>
              <a:latin typeface="Arial"/>
            </a:endParaRPr>
          </a:p>
        </p:txBody>
      </p:sp>
      <p:sp>
        <p:nvSpPr>
          <p:cNvPr id="484" name=""/>
          <p:cNvSpPr/>
          <p:nvPr/>
        </p:nvSpPr>
        <p:spPr>
          <a:xfrm>
            <a:off x="5489640" y="2319480"/>
            <a:ext cx="12189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saldo</a:t>
            </a:r>
            <a:endParaRPr b="0" lang="en-US" sz="1800" spc="-1" strike="noStrike">
              <a:solidFill>
                <a:srgbClr val="000000"/>
              </a:solidFill>
              <a:latin typeface="Arial"/>
            </a:endParaRPr>
          </a:p>
        </p:txBody>
      </p:sp>
      <p:sp>
        <p:nvSpPr>
          <p:cNvPr id="485" name=""/>
          <p:cNvSpPr/>
          <p:nvPr/>
        </p:nvSpPr>
        <p:spPr>
          <a:xfrm>
            <a:off x="4194000" y="422424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460680" y="3772080"/>
            <a:ext cx="41054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Kapital        P</a:t>
            </a:r>
            <a:endParaRPr b="0" lang="en-US" sz="2400" spc="-1" strike="noStrike">
              <a:solidFill>
                <a:srgbClr val="000000"/>
              </a:solidFill>
              <a:latin typeface="Arial"/>
            </a:endParaRPr>
          </a:p>
        </p:txBody>
      </p:sp>
      <p:sp>
        <p:nvSpPr>
          <p:cNvPr id="487" name=""/>
          <p:cNvSpPr/>
          <p:nvPr/>
        </p:nvSpPr>
        <p:spPr>
          <a:xfrm>
            <a:off x="4253040" y="4419720"/>
            <a:ext cx="990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aldo</a:t>
            </a:r>
            <a:endParaRPr b="0" lang="en-US" sz="1800" spc="-1" strike="noStrike">
              <a:solidFill>
                <a:srgbClr val="000000"/>
              </a:solidFill>
              <a:latin typeface="Arial"/>
            </a:endParaRPr>
          </a:p>
        </p:txBody>
      </p:sp>
      <p:sp>
        <p:nvSpPr>
          <p:cNvPr id="488" name=""/>
          <p:cNvSpPr/>
          <p:nvPr/>
        </p:nvSpPr>
        <p:spPr>
          <a:xfrm>
            <a:off x="5413320" y="4224240"/>
            <a:ext cx="0" cy="144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548320" y="4348080"/>
            <a:ext cx="1295280" cy="129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ećanje</a:t>
            </a:r>
            <a:endParaRPr b="0" lang="en-US" sz="1800" spc="-1" strike="noStrike">
              <a:solidFill>
                <a:srgbClr val="000000"/>
              </a:solidFill>
              <a:latin typeface="Arial"/>
            </a:endParaRPr>
          </a:p>
        </p:txBody>
      </p:sp>
      <p:sp>
        <p:nvSpPr>
          <p:cNvPr id="490" name=""/>
          <p:cNvSpPr/>
          <p:nvPr/>
        </p:nvSpPr>
        <p:spPr>
          <a:xfrm>
            <a:off x="1373040" y="3691080"/>
            <a:ext cx="251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Konto pasi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1D32B6-E47F-4A13-A998-3794A35EA85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692000" y="1628280"/>
            <a:ext cx="6730920" cy="88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no-pasivni konto</a:t>
            </a:r>
            <a:r>
              <a:rPr b="0" lang="hr-HR" sz="2800" spc="-1" strike="noStrike">
                <a:solidFill>
                  <a:srgbClr val="000000"/>
                </a:solidFill>
                <a:latin typeface="Arial"/>
              </a:rPr>
              <a:t>	</a:t>
            </a:r>
            <a:r>
              <a:rPr b="0" lang="hr-HR" sz="2800" spc="-1" strike="noStrike">
                <a:solidFill>
                  <a:srgbClr val="000000"/>
                </a:solidFill>
                <a:latin typeface="Arial"/>
              </a:rPr>
              <a:t>	</a:t>
            </a:r>
            <a:endParaRPr b="0" lang="en-US" sz="2800" spc="-1" strike="noStrike">
              <a:solidFill>
                <a:srgbClr val="000000"/>
              </a:solidFill>
              <a:latin typeface="Arial"/>
            </a:endParaRPr>
          </a:p>
        </p:txBody>
      </p:sp>
      <p:sp>
        <p:nvSpPr>
          <p:cNvPr id="492" name="PlaceHolder 2"/>
          <p:cNvSpPr>
            <a:spLocks noGrp="1"/>
          </p:cNvSpPr>
          <p:nvPr>
            <p:ph/>
          </p:nvPr>
        </p:nvSpPr>
        <p:spPr>
          <a:xfrm>
            <a:off x="1692360" y="3956040"/>
            <a:ext cx="6665760" cy="1085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no-aktivni konto</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
          <p:cNvSpPr/>
          <p:nvPr/>
        </p:nvSpPr>
        <p:spPr>
          <a:xfrm>
            <a:off x="4788000" y="232884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156360" y="232884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788000" y="1881360"/>
            <a:ext cx="2808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Kupci          P</a:t>
            </a:r>
            <a:endParaRPr b="0" lang="en-US" sz="2400" spc="-1" strike="noStrike">
              <a:solidFill>
                <a:srgbClr val="000000"/>
              </a:solidFill>
              <a:latin typeface="Arial"/>
            </a:endParaRPr>
          </a:p>
        </p:txBody>
      </p:sp>
      <p:sp>
        <p:nvSpPr>
          <p:cNvPr id="496" name=""/>
          <p:cNvSpPr/>
          <p:nvPr/>
        </p:nvSpPr>
        <p:spPr>
          <a:xfrm>
            <a:off x="4576680" y="2490840"/>
            <a:ext cx="152424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saldo</a:t>
            </a:r>
            <a:endParaRPr b="0" lang="en-US" sz="1800" spc="-1" strike="noStrike">
              <a:solidFill>
                <a:srgbClr val="000000"/>
              </a:solidFill>
              <a:latin typeface="Arial"/>
            </a:endParaRPr>
          </a:p>
        </p:txBody>
      </p:sp>
      <p:sp>
        <p:nvSpPr>
          <p:cNvPr id="497" name=""/>
          <p:cNvSpPr/>
          <p:nvPr/>
        </p:nvSpPr>
        <p:spPr>
          <a:xfrm>
            <a:off x="6253200" y="2490840"/>
            <a:ext cx="19051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e akontacije</a:t>
            </a:r>
            <a:endParaRPr b="0" lang="en-US" sz="1800" spc="-1" strike="noStrike">
              <a:solidFill>
                <a:srgbClr val="000000"/>
              </a:solidFill>
              <a:latin typeface="Arial"/>
            </a:endParaRPr>
          </a:p>
        </p:txBody>
      </p:sp>
      <p:sp>
        <p:nvSpPr>
          <p:cNvPr id="498" name=""/>
          <p:cNvSpPr/>
          <p:nvPr/>
        </p:nvSpPr>
        <p:spPr>
          <a:xfrm>
            <a:off x="4716360" y="4992840"/>
            <a:ext cx="295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176880" y="500544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716360" y="4471920"/>
            <a:ext cx="29527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Dobavljači       P</a:t>
            </a:r>
            <a:endParaRPr b="0" lang="en-US" sz="2400" spc="-1" strike="noStrike">
              <a:solidFill>
                <a:srgbClr val="000000"/>
              </a:solidFill>
              <a:latin typeface="Arial"/>
            </a:endParaRPr>
          </a:p>
        </p:txBody>
      </p:sp>
      <p:sp>
        <p:nvSpPr>
          <p:cNvPr id="501" name=""/>
          <p:cNvSpPr/>
          <p:nvPr/>
        </p:nvSpPr>
        <p:spPr>
          <a:xfrm>
            <a:off x="4429080" y="5234040"/>
            <a:ext cx="1671840" cy="1295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ane akontacije</a:t>
            </a:r>
            <a:endParaRPr b="0" lang="en-US" sz="1800" spc="-1" strike="noStrike">
              <a:solidFill>
                <a:srgbClr val="000000"/>
              </a:solidFill>
              <a:latin typeface="Arial"/>
            </a:endParaRPr>
          </a:p>
        </p:txBody>
      </p:sp>
      <p:sp>
        <p:nvSpPr>
          <p:cNvPr id="502" name=""/>
          <p:cNvSpPr/>
          <p:nvPr/>
        </p:nvSpPr>
        <p:spPr>
          <a:xfrm>
            <a:off x="6329520" y="5234040"/>
            <a:ext cx="1447560" cy="1295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saldo</a:t>
            </a:r>
            <a:endParaRPr b="0" lang="en-US" sz="1800" spc="-1" strike="noStrike">
              <a:solidFill>
                <a:srgbClr val="000000"/>
              </a:solidFill>
              <a:latin typeface="Arial"/>
            </a:endParaRPr>
          </a:p>
        </p:txBody>
      </p:sp>
      <p:sp>
        <p:nvSpPr>
          <p:cNvPr id="503" name=""/>
          <p:cNvSpPr/>
          <p:nvPr/>
        </p:nvSpPr>
        <p:spPr>
          <a:xfrm>
            <a:off x="1763640" y="333360"/>
            <a:ext cx="69296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karakteru i funkciji salda</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158ADBD1-0857-422D-9EBE-287ABAFF9CE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2286000" y="2514240"/>
            <a:ext cx="68580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
          <p:cNvSpPr/>
          <p:nvPr/>
        </p:nvSpPr>
        <p:spPr>
          <a:xfrm>
            <a:off x="5033880" y="2030400"/>
            <a:ext cx="33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618240" y="2030400"/>
            <a:ext cx="11160" cy="155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029200" y="2286000"/>
            <a:ext cx="15238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ećanje</a:t>
            </a:r>
            <a:endParaRPr b="0" lang="en-US" sz="1800" spc="-1" strike="noStrike">
              <a:solidFill>
                <a:srgbClr val="000000"/>
              </a:solidFill>
              <a:latin typeface="Arial"/>
            </a:endParaRPr>
          </a:p>
        </p:txBody>
      </p:sp>
      <p:sp>
        <p:nvSpPr>
          <p:cNvPr id="508" name=""/>
          <p:cNvSpPr/>
          <p:nvPr/>
        </p:nvSpPr>
        <p:spPr>
          <a:xfrm>
            <a:off x="6781680" y="2286000"/>
            <a:ext cx="15242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p:txBody>
      </p:sp>
      <p:sp>
        <p:nvSpPr>
          <p:cNvPr id="509" name=""/>
          <p:cNvSpPr/>
          <p:nvPr/>
        </p:nvSpPr>
        <p:spPr>
          <a:xfrm>
            <a:off x="6781680" y="2822400"/>
            <a:ext cx="205740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rashoda</a:t>
            </a:r>
            <a:endParaRPr b="0" lang="en-US" sz="1800" spc="-1" strike="noStrike">
              <a:solidFill>
                <a:srgbClr val="000000"/>
              </a:solidFill>
              <a:latin typeface="Arial"/>
            </a:endParaRPr>
          </a:p>
        </p:txBody>
      </p:sp>
      <p:sp>
        <p:nvSpPr>
          <p:cNvPr id="510" name=""/>
          <p:cNvSpPr/>
          <p:nvPr/>
        </p:nvSpPr>
        <p:spPr>
          <a:xfrm>
            <a:off x="1144440" y="4191120"/>
            <a:ext cx="25909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o prihoda</a:t>
            </a:r>
            <a:endParaRPr b="0" lang="en-US" sz="2400" spc="-1" strike="noStrike">
              <a:solidFill>
                <a:srgbClr val="000000"/>
              </a:solidFill>
              <a:latin typeface="Arial"/>
            </a:endParaRPr>
          </a:p>
        </p:txBody>
      </p:sp>
      <p:sp>
        <p:nvSpPr>
          <p:cNvPr id="511" name=""/>
          <p:cNvSpPr/>
          <p:nvPr/>
        </p:nvSpPr>
        <p:spPr>
          <a:xfrm>
            <a:off x="5257800" y="472428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705720" y="47242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334120" y="4191120"/>
            <a:ext cx="2895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Prihodi prodaje   P</a:t>
            </a:r>
            <a:endParaRPr b="0" lang="en-US" sz="2400" spc="-1" strike="noStrike">
              <a:solidFill>
                <a:srgbClr val="000000"/>
              </a:solidFill>
              <a:latin typeface="Arial"/>
            </a:endParaRPr>
          </a:p>
        </p:txBody>
      </p:sp>
      <p:sp>
        <p:nvSpPr>
          <p:cNvPr id="514" name=""/>
          <p:cNvSpPr/>
          <p:nvPr/>
        </p:nvSpPr>
        <p:spPr>
          <a:xfrm>
            <a:off x="1217520" y="1527120"/>
            <a:ext cx="2514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o rashoda</a:t>
            </a:r>
            <a:endParaRPr b="0" lang="en-US" sz="2400" spc="-1" strike="noStrike">
              <a:solidFill>
                <a:srgbClr val="000000"/>
              </a:solidFill>
              <a:latin typeface="Arial"/>
            </a:endParaRPr>
          </a:p>
        </p:txBody>
      </p:sp>
      <p:sp>
        <p:nvSpPr>
          <p:cNvPr id="515" name=""/>
          <p:cNvSpPr/>
          <p:nvPr/>
        </p:nvSpPr>
        <p:spPr>
          <a:xfrm>
            <a:off x="5257800" y="1523880"/>
            <a:ext cx="28954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Rashodi prodaje  P</a:t>
            </a:r>
            <a:endParaRPr b="0" lang="en-US" sz="2400" spc="-1" strike="noStrike">
              <a:solidFill>
                <a:srgbClr val="000000"/>
              </a:solidFill>
              <a:latin typeface="Arial"/>
            </a:endParaRPr>
          </a:p>
        </p:txBody>
      </p:sp>
      <p:sp>
        <p:nvSpPr>
          <p:cNvPr id="516" name=""/>
          <p:cNvSpPr/>
          <p:nvPr/>
        </p:nvSpPr>
        <p:spPr>
          <a:xfrm>
            <a:off x="5029200" y="4952880"/>
            <a:ext cx="1523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p:txBody>
      </p:sp>
      <p:sp>
        <p:nvSpPr>
          <p:cNvPr id="517" name=""/>
          <p:cNvSpPr/>
          <p:nvPr/>
        </p:nvSpPr>
        <p:spPr>
          <a:xfrm>
            <a:off x="5249880" y="5415120"/>
            <a:ext cx="93996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hoda</a:t>
            </a:r>
            <a:endParaRPr b="0" lang="en-US" sz="1800" spc="-1" strike="noStrike">
              <a:solidFill>
                <a:srgbClr val="000000"/>
              </a:solidFill>
              <a:latin typeface="Arial"/>
            </a:endParaRPr>
          </a:p>
        </p:txBody>
      </p:sp>
      <p:sp>
        <p:nvSpPr>
          <p:cNvPr id="518" name=""/>
          <p:cNvSpPr/>
          <p:nvPr/>
        </p:nvSpPr>
        <p:spPr>
          <a:xfrm>
            <a:off x="6905520" y="4983120"/>
            <a:ext cx="15242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ećanje</a:t>
            </a:r>
            <a:endParaRPr b="0" lang="en-US" sz="1800" spc="-1" strike="noStrike">
              <a:solidFill>
                <a:srgbClr val="000000"/>
              </a:solidFill>
              <a:latin typeface="Arial"/>
            </a:endParaRPr>
          </a:p>
        </p:txBody>
      </p:sp>
      <p:sp>
        <p:nvSpPr>
          <p:cNvPr id="519" name="PlaceHolder 2"/>
          <p:cNvSpPr>
            <a:spLocks noGrp="1"/>
          </p:cNvSpPr>
          <p:nvPr>
            <p:ph type="title"/>
          </p:nvPr>
        </p:nvSpPr>
        <p:spPr>
          <a:xfrm>
            <a:off x="1763280" y="333360"/>
            <a:ext cx="6929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Konta prema karakteru i funkciji salda</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0A441888-FCBD-430C-B07C-2CB115239A4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457200" y="1600200"/>
            <a:ext cx="7772400" cy="4572000"/>
          </a:xfrm>
          <a:prstGeom prst="rect">
            <a:avLst/>
          </a:prstGeom>
          <a:noFill/>
          <a:ln w="0">
            <a:noFill/>
          </a:ln>
        </p:spPr>
        <p:txBody>
          <a:bodyPr lIns="90000" rIns="90000" tIns="46800" bIns="46800" anchor="t">
            <a:normAutofit/>
          </a:bodyPr>
          <a:p>
            <a:pPr lvl="4" marL="2057400" indent="0">
              <a:lnSpc>
                <a:spcPct val="10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ješovita konta (nisu u upotrebi)</a:t>
            </a:r>
            <a:endParaRPr b="0" lang="en-US" sz="2400" spc="-1" strike="noStrike">
              <a:solidFill>
                <a:srgbClr val="000000"/>
              </a:solidFill>
              <a:latin typeface="Arial"/>
            </a:endParaRPr>
          </a:p>
        </p:txBody>
      </p:sp>
      <p:sp>
        <p:nvSpPr>
          <p:cNvPr id="521" name=""/>
          <p:cNvSpPr/>
          <p:nvPr/>
        </p:nvSpPr>
        <p:spPr>
          <a:xfrm>
            <a:off x="2340000" y="3068640"/>
            <a:ext cx="54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932360" y="3068640"/>
            <a:ext cx="20520" cy="249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66880" y="2590920"/>
            <a:ext cx="46483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a:t>
            </a:r>
            <a:r>
              <a:rPr b="0" lang="hr-HR" sz="2400" spc="-1" strike="noStrike">
                <a:solidFill>
                  <a:srgbClr val="000000"/>
                </a:solidFill>
                <a:latin typeface="Times New Roman"/>
              </a:rPr>
              <a:t>	</a:t>
            </a:r>
            <a:r>
              <a:rPr b="0" lang="hr-HR" sz="2400" spc="-1" strike="noStrike">
                <a:solidFill>
                  <a:srgbClr val="000000"/>
                </a:solidFill>
                <a:latin typeface="Times New Roman"/>
              </a:rPr>
              <a:t>    Gotovi proizvodi     </a:t>
            </a:r>
            <a:r>
              <a:rPr b="0" lang="hr-HR" sz="2400" spc="-1" strike="noStrike">
                <a:solidFill>
                  <a:srgbClr val="000000"/>
                </a:solidFill>
                <a:latin typeface="Times New Roman"/>
              </a:rPr>
              <a:t>	</a:t>
            </a:r>
            <a:r>
              <a:rPr b="0" lang="hr-HR" sz="2400" spc="-1" strike="noStrike">
                <a:solidFill>
                  <a:srgbClr val="000000"/>
                </a:solidFill>
                <a:latin typeface="Times New Roman"/>
              </a:rPr>
              <a:t>P</a:t>
            </a:r>
            <a:endParaRPr b="0" lang="en-US" sz="2400" spc="-1" strike="noStrike">
              <a:solidFill>
                <a:srgbClr val="000000"/>
              </a:solidFill>
              <a:latin typeface="Arial"/>
            </a:endParaRPr>
          </a:p>
        </p:txBody>
      </p:sp>
      <p:sp>
        <p:nvSpPr>
          <p:cNvPr id="524" name=""/>
          <p:cNvSpPr/>
          <p:nvPr/>
        </p:nvSpPr>
        <p:spPr>
          <a:xfrm>
            <a:off x="2124000" y="3284640"/>
            <a:ext cx="2667240" cy="1904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 proizvodni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troškov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laz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 proizvodnim troškov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zitivan rezultat poslovanja</a:t>
            </a:r>
            <a:endParaRPr b="0" lang="en-US" sz="1800" spc="-1" strike="noStrike">
              <a:solidFill>
                <a:srgbClr val="000000"/>
              </a:solidFill>
              <a:latin typeface="Arial"/>
            </a:endParaRPr>
          </a:p>
        </p:txBody>
      </p:sp>
      <p:sp>
        <p:nvSpPr>
          <p:cNvPr id="525" name=""/>
          <p:cNvSpPr/>
          <p:nvPr/>
        </p:nvSpPr>
        <p:spPr>
          <a:xfrm>
            <a:off x="5076720" y="3213000"/>
            <a:ext cx="2743200" cy="1440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laz po prodajnoj cije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sal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 proizvodnim troškov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egativan rezultat poslovanja</a:t>
            </a:r>
            <a:endParaRPr b="0" lang="en-US" sz="1800" spc="-1" strike="noStrike">
              <a:solidFill>
                <a:srgbClr val="000000"/>
              </a:solidFill>
              <a:latin typeface="Arial"/>
            </a:endParaRPr>
          </a:p>
        </p:txBody>
      </p:sp>
      <p:sp>
        <p:nvSpPr>
          <p:cNvPr id="526" name="PlaceHolder 2"/>
          <p:cNvSpPr>
            <a:spLocks noGrp="1"/>
          </p:cNvSpPr>
          <p:nvPr>
            <p:ph type="title"/>
          </p:nvPr>
        </p:nvSpPr>
        <p:spPr>
          <a:xfrm>
            <a:off x="1763280" y="333360"/>
            <a:ext cx="6929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Konta prema karakteru i funkciji salda</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61FE34AE-1709-4192-B50F-69D8AA720AC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3440" y="-3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Mjesto računovodstva u poduzeću</a:t>
            </a:r>
            <a:endParaRPr b="0" lang="en-US" sz="4000" spc="-1" strike="noStrike">
              <a:solidFill>
                <a:srgbClr val="000000"/>
              </a:solidFill>
              <a:latin typeface="Arial"/>
            </a:endParaRPr>
          </a:p>
        </p:txBody>
      </p:sp>
      <p:sp>
        <p:nvSpPr>
          <p:cNvPr id="68" name=""/>
          <p:cNvSpPr/>
          <p:nvPr/>
        </p:nvSpPr>
        <p:spPr>
          <a:xfrm>
            <a:off x="3492360" y="2060640"/>
            <a:ext cx="2133720" cy="761760"/>
          </a:xfrm>
          <a:prstGeom prst="rect">
            <a:avLst/>
          </a:prstGeom>
          <a:solidFill>
            <a:srgbClr val="ffffff"/>
          </a:solidFill>
          <a:ln w="12600">
            <a:solidFill>
              <a:srgbClr val="54567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ODUZEĆE</a:t>
            </a:r>
            <a:endParaRPr b="0" lang="en-US" sz="2400" spc="-1" strike="noStrike">
              <a:solidFill>
                <a:srgbClr val="000000"/>
              </a:solidFill>
              <a:latin typeface="Arial"/>
            </a:endParaRPr>
          </a:p>
        </p:txBody>
      </p:sp>
      <p:sp>
        <p:nvSpPr>
          <p:cNvPr id="69" name=""/>
          <p:cNvSpPr/>
          <p:nvPr/>
        </p:nvSpPr>
        <p:spPr>
          <a:xfrm>
            <a:off x="971640" y="3051000"/>
            <a:ext cx="2292120" cy="1326240"/>
          </a:xfrm>
          <a:prstGeom prst="rect">
            <a:avLst/>
          </a:prstGeom>
          <a:solidFill>
            <a:srgbClr val="ffffff"/>
          </a:solidFill>
          <a:ln w="1260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Izvođački podsustav</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Osnovne poslovn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funkcije</a:t>
            </a:r>
            <a:endParaRPr b="0" lang="en-US" sz="2000" spc="-1" strike="noStrike">
              <a:solidFill>
                <a:srgbClr val="000000"/>
              </a:solidFill>
              <a:latin typeface="Arial"/>
            </a:endParaRPr>
          </a:p>
        </p:txBody>
      </p:sp>
      <p:sp>
        <p:nvSpPr>
          <p:cNvPr id="70" name=""/>
          <p:cNvSpPr/>
          <p:nvPr/>
        </p:nvSpPr>
        <p:spPr>
          <a:xfrm>
            <a:off x="3470400" y="3051000"/>
            <a:ext cx="2376360" cy="1631160"/>
          </a:xfrm>
          <a:prstGeom prst="rect">
            <a:avLst/>
          </a:prstGeom>
          <a:solidFill>
            <a:srgbClr val="ffffff"/>
          </a:solidFill>
          <a:ln w="1260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Informacijski podsustav</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Računovodstveni</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Neračunovodstveni</a:t>
            </a:r>
            <a:endParaRPr b="0" lang="en-US" sz="2000" spc="-1" strike="noStrike">
              <a:solidFill>
                <a:srgbClr val="000000"/>
              </a:solidFill>
              <a:latin typeface="Arial"/>
            </a:endParaRPr>
          </a:p>
        </p:txBody>
      </p:sp>
      <p:sp>
        <p:nvSpPr>
          <p:cNvPr id="71" name=""/>
          <p:cNvSpPr/>
          <p:nvPr/>
        </p:nvSpPr>
        <p:spPr>
          <a:xfrm>
            <a:off x="6062760" y="3071880"/>
            <a:ext cx="1828800" cy="34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Upravljački podsustav</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Planiranje</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Odlučivanje</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adrovsk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popunjavanje</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Rukovođenje</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ontrola</a:t>
            </a:r>
            <a:endParaRPr b="0" lang="en-US" sz="2000" spc="-1" strike="noStrike">
              <a:solidFill>
                <a:srgbClr val="000000"/>
              </a:solidFill>
              <a:latin typeface="Arial"/>
            </a:endParaRPr>
          </a:p>
        </p:txBody>
      </p:sp>
      <p:sp>
        <p:nvSpPr>
          <p:cNvPr id="72" name=""/>
          <p:cNvSpPr/>
          <p:nvPr/>
        </p:nvSpPr>
        <p:spPr>
          <a:xfrm flipV="1">
            <a:off x="3263760" y="28220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483080" y="2822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2822400"/>
            <a:ext cx="43668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9404C9-A5DA-4086-BF93-9AC3F396383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476000" y="259920"/>
            <a:ext cx="72882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stupnju samostalnosti</a:t>
            </a:r>
            <a:endParaRPr b="0" lang="en-US" sz="3600" spc="-1" strike="noStrike">
              <a:solidFill>
                <a:srgbClr val="000000"/>
              </a:solidFill>
              <a:latin typeface="Arial"/>
            </a:endParaRPr>
          </a:p>
        </p:txBody>
      </p:sp>
      <p:sp>
        <p:nvSpPr>
          <p:cNvPr id="528" name="PlaceHolder 2"/>
          <p:cNvSpPr>
            <a:spLocks noGrp="1"/>
          </p:cNvSpPr>
          <p:nvPr>
            <p:ph/>
          </p:nvPr>
        </p:nvSpPr>
        <p:spPr>
          <a:xfrm>
            <a:off x="1547280" y="1700280"/>
            <a:ext cx="75963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mostalna ili potpuna kon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korekcije (konta ispravka vrijednosti i konta odstupanj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oblici vezanih konta (prijelazna konta, konta vremenskih razgraničenj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0DBB09-9182-4932-84FA-34862A7F57BA}"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692000" y="188640"/>
            <a:ext cx="70722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složenosti poslovnih promjena</a:t>
            </a:r>
            <a:endParaRPr b="0" lang="en-US" sz="3600" spc="-1" strike="noStrike">
              <a:solidFill>
                <a:srgbClr val="000000"/>
              </a:solidFill>
              <a:latin typeface="Arial"/>
            </a:endParaRPr>
          </a:p>
        </p:txBody>
      </p:sp>
      <p:sp>
        <p:nvSpPr>
          <p:cNvPr id="530" name="PlaceHolder 2"/>
          <p:cNvSpPr>
            <a:spLocks noGrp="1"/>
          </p:cNvSpPr>
          <p:nvPr>
            <p:ph/>
          </p:nvPr>
        </p:nvSpPr>
        <p:spPr>
          <a:xfrm>
            <a:off x="1763640" y="1988640"/>
            <a:ext cx="68580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intetičk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nalitička</a:t>
            </a:r>
            <a:endParaRPr b="0" lang="en-US" sz="2400" spc="-1" strike="noStrike">
              <a:solidFill>
                <a:srgbClr val="000000"/>
              </a:solidFill>
              <a:latin typeface="Arial"/>
            </a:endParaRPr>
          </a:p>
        </p:txBody>
      </p:sp>
      <p:sp>
        <p:nvSpPr>
          <p:cNvPr id="531" name=""/>
          <p:cNvSpPr/>
          <p:nvPr/>
        </p:nvSpPr>
        <p:spPr>
          <a:xfrm>
            <a:off x="3635280" y="2203560"/>
            <a:ext cx="1657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435640" y="19162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lavna knjiga</a:t>
            </a:r>
            <a:endParaRPr b="0" lang="en-US" sz="2400" spc="-1" strike="noStrike">
              <a:solidFill>
                <a:srgbClr val="000000"/>
              </a:solidFill>
              <a:latin typeface="Arial"/>
            </a:endParaRPr>
          </a:p>
        </p:txBody>
      </p:sp>
      <p:sp>
        <p:nvSpPr>
          <p:cNvPr id="533" name=""/>
          <p:cNvSpPr/>
          <p:nvPr/>
        </p:nvSpPr>
        <p:spPr>
          <a:xfrm>
            <a:off x="3635280" y="3068640"/>
            <a:ext cx="1657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435640" y="277956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nalitičke evidencije, pomoćne knji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936C7E-145C-4083-BADA-E221F55FBE0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618920" y="188640"/>
            <a:ext cx="735948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položaju u bilanci</a:t>
            </a:r>
            <a:endParaRPr b="0" lang="en-US" sz="36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bilančne evidenci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izvanbilančne evidenci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E7C759-6823-4EBC-A83D-EBAF7E69395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55640" y="188640"/>
            <a:ext cx="80805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O OBLIKU</a:t>
            </a:r>
            <a:endParaRPr b="0" lang="en-US" sz="3600" spc="-1" strike="noStrike">
              <a:solidFill>
                <a:srgbClr val="000000"/>
              </a:solidFill>
              <a:latin typeface="Arial"/>
            </a:endParaRPr>
          </a:p>
        </p:txBody>
      </p:sp>
      <p:sp>
        <p:nvSpPr>
          <p:cNvPr id="538" name="PlaceHolder 2"/>
          <p:cNvSpPr>
            <a:spLocks noGrp="1"/>
          </p:cNvSpPr>
          <p:nvPr>
            <p:ph/>
          </p:nvPr>
        </p:nvSpPr>
        <p:spPr>
          <a:xfrm>
            <a:off x="1547640" y="16286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o folij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o pagi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upnjeviti ili stepenasti oblik ko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abelarni (američki) oblik ko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binirani oblik ko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Laičko prikazivanje poslovnih promjena kao neformalni oblik ko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oblici u uvjetima kompjuterske obrad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A397605-A3C7-49F4-9BCD-C25366536F1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4560"/>
            <a:ext cx="7772400" cy="19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300" spc="-1" strike="noStrike">
                <a:solidFill>
                  <a:srgbClr val="000000"/>
                </a:solidFill>
                <a:latin typeface="Arial"/>
              </a:rPr>
              <a:t>KNJIGOVODSTVENI TIJEK I PROCES</a:t>
            </a:r>
            <a:endParaRPr b="0" lang="en-US" sz="4300" spc="-1" strike="noStrike">
              <a:solidFill>
                <a:srgbClr val="000000"/>
              </a:solidFill>
              <a:latin typeface="Arial"/>
            </a:endParaRPr>
          </a:p>
        </p:txBody>
      </p:sp>
      <p:sp>
        <p:nvSpPr>
          <p:cNvPr id="3" name="PlaceHolder 2"/>
          <p:cNvSpPr>
            <a:spLocks noGrp="1"/>
          </p:cNvSpPr>
          <p:nvPr>
            <p:ph type="sldNum" idx="3"/>
          </p:nvPr>
        </p:nvSpPr>
        <p:spPr/>
        <p:txBody>
          <a:bodyPr/>
          <a:p>
            <a:fld id="{F03E43EC-5D11-4A54-967D-FECB3B1006A0}" type="slidenum">
              <a:t>114</a:t>
            </a:fld>
          </a:p>
        </p:txBody>
      </p:sp>
    </p:spTree>
  </p:cSld>
  <p:transition>
    <p:circl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1">
                                  <p:stCondLst>
                                    <p:cond delay="0"/>
                                  </p:stCondLst>
                                  <p:childTnLst>
                                    <p:set>
                                      <p:cBhvr>
                                        <p:cTn id="78" dur="1" fill="hold">
                                          <p:stCondLst>
                                            <p:cond delay="0"/>
                                          </p:stCondLst>
                                        </p:cTn>
                                        <p:tgtEl>
                                          <p:spTgt spid="539"/>
                                        </p:tgtEl>
                                        <p:attrNameLst>
                                          <p:attrName>style.visibility</p:attrName>
                                        </p:attrNameLst>
                                      </p:cBhvr>
                                      <p:to>
                                        <p:strVal val="visible"/>
                                      </p:to>
                                    </p:set>
                                    <p:anim calcmode="lin" valueType="num">
                                      <p:cBhvr additive="base">
                                        <p:cTn id="79" dur="500" fill="hold"/>
                                        <p:tgtEl>
                                          <p:spTgt spid="539"/>
                                        </p:tgtEl>
                                        <p:attrNameLst>
                                          <p:attrName>ppt_x</p:attrName>
                                        </p:attrNameLst>
                                      </p:cBhvr>
                                      <p:tavLst>
                                        <p:tav tm="0">
                                          <p:val>
                                            <p:strVal val="#ppt_x"/>
                                          </p:val>
                                        </p:tav>
                                        <p:tav tm="100000">
                                          <p:val>
                                            <p:strVal val="#ppt_x"/>
                                          </p:val>
                                        </p:tav>
                                      </p:tavLst>
                                    </p:anim>
                                    <p:anim calcmode="lin" valueType="num">
                                      <p:cBhvr additive="base">
                                        <p:cTn id="80" dur="500" fill="hold"/>
                                        <p:tgtEl>
                                          <p:spTgt spid="5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116000" y="333360"/>
            <a:ext cx="76485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Tok knjigovodstvenog procesa</a:t>
            </a:r>
            <a:endParaRPr b="0" lang="en-US" sz="3400" spc="-1" strike="noStrike">
              <a:solidFill>
                <a:srgbClr val="000000"/>
              </a:solidFill>
              <a:latin typeface="Arial"/>
            </a:endParaRPr>
          </a:p>
        </p:txBody>
      </p:sp>
      <p:sp>
        <p:nvSpPr>
          <p:cNvPr id="541" name=""/>
          <p:cNvSpPr/>
          <p:nvPr/>
        </p:nvSpPr>
        <p:spPr>
          <a:xfrm>
            <a:off x="4614840" y="1400040"/>
            <a:ext cx="1523880" cy="3682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avna knjiga</a:t>
            </a:r>
            <a:endParaRPr b="0" lang="en-US" sz="1800" spc="-1" strike="noStrike">
              <a:solidFill>
                <a:srgbClr val="000000"/>
              </a:solidFill>
              <a:latin typeface="Arial"/>
            </a:endParaRPr>
          </a:p>
        </p:txBody>
      </p:sp>
      <p:sp>
        <p:nvSpPr>
          <p:cNvPr id="542" name=""/>
          <p:cNvSpPr/>
          <p:nvPr/>
        </p:nvSpPr>
        <p:spPr>
          <a:xfrm>
            <a:off x="4614840" y="1760400"/>
            <a:ext cx="1523880" cy="52020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teti</a:t>
            </a:r>
            <a:r>
              <a:rPr b="0" lang="hr-HR" sz="1400" spc="-1" strike="noStrike">
                <a:solidFill>
                  <a:srgbClr val="000000"/>
                </a:solidFill>
                <a:latin typeface="Times New Roman"/>
              </a:rPr>
              <a:t>čka konta i dnevnik gl.knjige</a:t>
            </a:r>
            <a:endParaRPr b="0" lang="en-US" sz="1400" spc="-1" strike="noStrike">
              <a:solidFill>
                <a:srgbClr val="000000"/>
              </a:solidFill>
              <a:latin typeface="Arial"/>
            </a:endParaRPr>
          </a:p>
        </p:txBody>
      </p:sp>
      <p:sp>
        <p:nvSpPr>
          <p:cNvPr id="543" name=""/>
          <p:cNvSpPr/>
          <p:nvPr/>
        </p:nvSpPr>
        <p:spPr>
          <a:xfrm>
            <a:off x="1096920" y="2641680"/>
            <a:ext cx="1219320" cy="3682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nventar</a:t>
            </a:r>
            <a:endParaRPr b="0" lang="en-US" sz="1800" spc="-1" strike="noStrike">
              <a:solidFill>
                <a:srgbClr val="000000"/>
              </a:solidFill>
              <a:latin typeface="Arial"/>
            </a:endParaRPr>
          </a:p>
        </p:txBody>
      </p:sp>
      <p:sp>
        <p:nvSpPr>
          <p:cNvPr id="544" name=""/>
          <p:cNvSpPr/>
          <p:nvPr/>
        </p:nvSpPr>
        <p:spPr>
          <a:xfrm>
            <a:off x="2544840" y="2565360"/>
            <a:ext cx="1676160" cy="3682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a bilanca</a:t>
            </a:r>
            <a:endParaRPr b="0" lang="en-US" sz="1800" spc="-1" strike="noStrike">
              <a:solidFill>
                <a:srgbClr val="000000"/>
              </a:solidFill>
              <a:latin typeface="Arial"/>
            </a:endParaRPr>
          </a:p>
        </p:txBody>
      </p:sp>
      <p:sp>
        <p:nvSpPr>
          <p:cNvPr id="545" name=""/>
          <p:cNvSpPr/>
          <p:nvPr/>
        </p:nvSpPr>
        <p:spPr>
          <a:xfrm>
            <a:off x="4525920" y="2565360"/>
            <a:ext cx="1752480" cy="5806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Analitičko knjigovodstvo</a:t>
            </a:r>
            <a:endParaRPr b="0" lang="en-US" sz="1600" spc="-1" strike="noStrike">
              <a:solidFill>
                <a:srgbClr val="000000"/>
              </a:solidFill>
              <a:latin typeface="Arial"/>
            </a:endParaRPr>
          </a:p>
        </p:txBody>
      </p:sp>
      <p:sp>
        <p:nvSpPr>
          <p:cNvPr id="546" name=""/>
          <p:cNvSpPr/>
          <p:nvPr/>
        </p:nvSpPr>
        <p:spPr>
          <a:xfrm>
            <a:off x="6659640" y="2565360"/>
            <a:ext cx="1752480" cy="33732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Zaključni list</a:t>
            </a:r>
            <a:endParaRPr b="0" lang="en-US" sz="1600" spc="-1" strike="noStrike">
              <a:solidFill>
                <a:srgbClr val="000000"/>
              </a:solidFill>
              <a:latin typeface="Arial"/>
            </a:endParaRPr>
          </a:p>
        </p:txBody>
      </p:sp>
      <p:sp>
        <p:nvSpPr>
          <p:cNvPr id="547" name=""/>
          <p:cNvSpPr/>
          <p:nvPr/>
        </p:nvSpPr>
        <p:spPr>
          <a:xfrm>
            <a:off x="4602240" y="4059360"/>
            <a:ext cx="1600200" cy="5806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Knjigovodstveni dokumenti</a:t>
            </a:r>
            <a:endParaRPr b="0" lang="en-US" sz="1600" spc="-1" strike="noStrike">
              <a:solidFill>
                <a:srgbClr val="000000"/>
              </a:solidFill>
              <a:latin typeface="Arial"/>
            </a:endParaRPr>
          </a:p>
        </p:txBody>
      </p:sp>
      <p:sp>
        <p:nvSpPr>
          <p:cNvPr id="548" name=""/>
          <p:cNvSpPr/>
          <p:nvPr/>
        </p:nvSpPr>
        <p:spPr>
          <a:xfrm>
            <a:off x="4525920" y="3174840"/>
            <a:ext cx="1752480" cy="5806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Analitčka konta i dnevnici</a:t>
            </a:r>
            <a:endParaRPr b="0" lang="en-US" sz="1600" spc="-1" strike="noStrike">
              <a:solidFill>
                <a:srgbClr val="000000"/>
              </a:solidFill>
              <a:latin typeface="Arial"/>
            </a:endParaRPr>
          </a:p>
        </p:txBody>
      </p:sp>
      <p:sp>
        <p:nvSpPr>
          <p:cNvPr id="549" name=""/>
          <p:cNvSpPr/>
          <p:nvPr/>
        </p:nvSpPr>
        <p:spPr>
          <a:xfrm>
            <a:off x="4602240" y="4622760"/>
            <a:ext cx="1600200" cy="82404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Originalne i izvedene temeljnice</a:t>
            </a:r>
            <a:endParaRPr b="0" lang="en-US" sz="1600" spc="-1" strike="noStrike">
              <a:solidFill>
                <a:srgbClr val="000000"/>
              </a:solidFill>
              <a:latin typeface="Arial"/>
            </a:endParaRPr>
          </a:p>
        </p:txBody>
      </p:sp>
      <p:sp>
        <p:nvSpPr>
          <p:cNvPr id="550" name=""/>
          <p:cNvSpPr/>
          <p:nvPr/>
        </p:nvSpPr>
        <p:spPr>
          <a:xfrm>
            <a:off x="1096920" y="3022560"/>
            <a:ext cx="1219320" cy="82404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Količinski i vrijednosni iskaz</a:t>
            </a:r>
            <a:r>
              <a:rPr b="0" lang="hr-HR" sz="1600" spc="-1" strike="noStrike">
                <a:solidFill>
                  <a:srgbClr val="000000"/>
                </a:solidFill>
                <a:latin typeface="Times New Roman"/>
              </a:rPr>
              <a:t> </a:t>
            </a:r>
            <a:endParaRPr b="0" lang="en-US" sz="1600" spc="-1" strike="noStrike">
              <a:solidFill>
                <a:srgbClr val="000000"/>
              </a:solidFill>
              <a:latin typeface="Arial"/>
            </a:endParaRPr>
          </a:p>
        </p:txBody>
      </p:sp>
      <p:sp>
        <p:nvSpPr>
          <p:cNvPr id="551" name=""/>
          <p:cNvSpPr/>
          <p:nvPr/>
        </p:nvSpPr>
        <p:spPr>
          <a:xfrm>
            <a:off x="2544840" y="2946240"/>
            <a:ext cx="1676160" cy="33732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Vrijednosni iskaz</a:t>
            </a:r>
            <a:endParaRPr b="0" lang="en-US" sz="1600" spc="-1" strike="noStrike">
              <a:solidFill>
                <a:srgbClr val="000000"/>
              </a:solidFill>
              <a:latin typeface="Arial"/>
            </a:endParaRPr>
          </a:p>
        </p:txBody>
      </p:sp>
      <p:sp>
        <p:nvSpPr>
          <p:cNvPr id="552" name=""/>
          <p:cNvSpPr/>
          <p:nvPr/>
        </p:nvSpPr>
        <p:spPr>
          <a:xfrm>
            <a:off x="2316240" y="30988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V="1">
            <a:off x="5262480" y="377676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270480" y="2840040"/>
            <a:ext cx="43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126120" y="1832040"/>
            <a:ext cx="504720" cy="863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316240" y="355608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a:off x="4449600" y="2031480"/>
            <a:ext cx="0" cy="2590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V="1">
            <a:off x="4470480" y="1902960"/>
            <a:ext cx="144360" cy="128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V="1">
            <a:off x="3382920" y="2031840"/>
            <a:ext cx="10666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309760" y="27687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a:t>
            </a:r>
            <a:endParaRPr b="0" lang="en-US" sz="2000" spc="-1" strike="noStrike">
              <a:solidFill>
                <a:srgbClr val="000000"/>
              </a:solidFill>
              <a:latin typeface="Arial"/>
            </a:endParaRPr>
          </a:p>
        </p:txBody>
      </p:sp>
      <p:sp>
        <p:nvSpPr>
          <p:cNvPr id="561" name=""/>
          <p:cNvSpPr/>
          <p:nvPr/>
        </p:nvSpPr>
        <p:spPr>
          <a:xfrm>
            <a:off x="3306600" y="21081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2</a:t>
            </a:r>
            <a:endParaRPr b="0" lang="en-US" sz="2400" spc="-1" strike="noStrike">
              <a:solidFill>
                <a:srgbClr val="000000"/>
              </a:solidFill>
              <a:latin typeface="Arial"/>
            </a:endParaRPr>
          </a:p>
        </p:txBody>
      </p:sp>
      <p:sp>
        <p:nvSpPr>
          <p:cNvPr id="562" name=""/>
          <p:cNvSpPr/>
          <p:nvPr/>
        </p:nvSpPr>
        <p:spPr>
          <a:xfrm>
            <a:off x="2925720" y="36320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3</a:t>
            </a:r>
            <a:endParaRPr b="0" lang="en-US" sz="2400" spc="-1" strike="noStrike">
              <a:solidFill>
                <a:srgbClr val="000000"/>
              </a:solidFill>
              <a:latin typeface="Arial"/>
            </a:endParaRPr>
          </a:p>
        </p:txBody>
      </p:sp>
      <p:sp>
        <p:nvSpPr>
          <p:cNvPr id="563" name=""/>
          <p:cNvSpPr/>
          <p:nvPr/>
        </p:nvSpPr>
        <p:spPr>
          <a:xfrm>
            <a:off x="5407200" y="36320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a:t>
            </a:r>
            <a:endParaRPr b="0" lang="en-US" sz="2400" spc="-1" strike="noStrike">
              <a:solidFill>
                <a:srgbClr val="000000"/>
              </a:solidFill>
              <a:latin typeface="Arial"/>
            </a:endParaRPr>
          </a:p>
        </p:txBody>
      </p:sp>
      <p:sp>
        <p:nvSpPr>
          <p:cNvPr id="564" name=""/>
          <p:cNvSpPr/>
          <p:nvPr/>
        </p:nvSpPr>
        <p:spPr>
          <a:xfrm>
            <a:off x="4183200" y="2768760"/>
            <a:ext cx="24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5</a:t>
            </a:r>
            <a:endParaRPr b="0" lang="en-US" sz="2400" spc="-1" strike="noStrike">
              <a:solidFill>
                <a:srgbClr val="000000"/>
              </a:solidFill>
              <a:latin typeface="Arial"/>
            </a:endParaRPr>
          </a:p>
        </p:txBody>
      </p:sp>
      <p:sp>
        <p:nvSpPr>
          <p:cNvPr id="565" name=""/>
          <p:cNvSpPr/>
          <p:nvPr/>
        </p:nvSpPr>
        <p:spPr>
          <a:xfrm flipV="1">
            <a:off x="5288040" y="23364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478480" y="2192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6</a:t>
            </a:r>
            <a:endParaRPr b="0" lang="en-US" sz="2400" spc="-1" strike="noStrike">
              <a:solidFill>
                <a:srgbClr val="000000"/>
              </a:solidFill>
              <a:latin typeface="Arial"/>
            </a:endParaRPr>
          </a:p>
        </p:txBody>
      </p:sp>
      <p:sp>
        <p:nvSpPr>
          <p:cNvPr id="567" name=""/>
          <p:cNvSpPr/>
          <p:nvPr/>
        </p:nvSpPr>
        <p:spPr>
          <a:xfrm>
            <a:off x="6354720" y="18032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7</a:t>
            </a:r>
            <a:endParaRPr b="0" lang="en-US" sz="2400" spc="-1" strike="noStrike">
              <a:solidFill>
                <a:srgbClr val="000000"/>
              </a:solidFill>
              <a:latin typeface="Arial"/>
            </a:endParaRPr>
          </a:p>
        </p:txBody>
      </p:sp>
      <p:sp>
        <p:nvSpPr>
          <p:cNvPr id="568" name=""/>
          <p:cNvSpPr/>
          <p:nvPr/>
        </p:nvSpPr>
        <p:spPr>
          <a:xfrm>
            <a:off x="6278400" y="2870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8</a:t>
            </a:r>
            <a:endParaRPr b="0" lang="en-US" sz="2400" spc="-1" strike="noStrike">
              <a:solidFill>
                <a:srgbClr val="000000"/>
              </a:solidFill>
              <a:latin typeface="Arial"/>
            </a:endParaRPr>
          </a:p>
        </p:txBody>
      </p:sp>
      <p:sp>
        <p:nvSpPr>
          <p:cNvPr id="569" name=""/>
          <p:cNvSpPr/>
          <p:nvPr/>
        </p:nvSpPr>
        <p:spPr>
          <a:xfrm flipH="1">
            <a:off x="4470120" y="46404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152399-3580-491D-A3B1-8D99A0D240C5}"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692000" y="692280"/>
            <a:ext cx="7010280" cy="69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Legenda</a:t>
            </a:r>
            <a:endParaRPr b="0" lang="en-US" sz="3800" spc="-1" strike="noStrike">
              <a:solidFill>
                <a:srgbClr val="000000"/>
              </a:solidFill>
              <a:latin typeface="Arial"/>
            </a:endParaRPr>
          </a:p>
        </p:txBody>
      </p:sp>
      <p:sp>
        <p:nvSpPr>
          <p:cNvPr id="571" name="PlaceHolder 2"/>
          <p:cNvSpPr>
            <a:spLocks noGrp="1"/>
          </p:cNvSpPr>
          <p:nvPr>
            <p:ph/>
          </p:nvPr>
        </p:nvSpPr>
        <p:spPr>
          <a:xfrm>
            <a:off x="755640" y="1844280"/>
            <a:ext cx="7848720" cy="4390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jenos podataka iz inventara u početnu bilancu</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nos početnih stanja na račune glavne knjige uz istodobno knjiženje i u dnevniku glavne knjige</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tvaranje analitičkih konta na temelju podataka iz inventara uz istodobno knjiženje početnih stanja u pripadajućem dnevniku analitičkog knjigovodstva</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njiženje poslovnih promjena u analitičkim knjigovodstvima na temelju knjigovodstvenih dokumen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E29F745-7246-4DD4-ADF3-84EE927B370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Legenda</a:t>
            </a:r>
            <a:endParaRPr b="0" lang="en-US" sz="3800" spc="-1" strike="noStrike">
              <a:solidFill>
                <a:srgbClr val="000000"/>
              </a:solidFill>
              <a:latin typeface="Arial"/>
            </a:endParaRPr>
          </a:p>
        </p:txBody>
      </p:sp>
      <p:sp>
        <p:nvSpPr>
          <p:cNvPr id="573" name="PlaceHolder 2"/>
          <p:cNvSpPr>
            <a:spLocks noGrp="1"/>
          </p:cNvSpPr>
          <p:nvPr>
            <p:ph/>
          </p:nvPr>
        </p:nvSpPr>
        <p:spPr>
          <a:xfrm>
            <a:off x="826560" y="1981080"/>
            <a:ext cx="785988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njiženje na računima glavne knjige na osnovi izvedenih knjigovodstvenih dokumenat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njiženja u glavnoj knjizi na osnovi podataka analitičkih  knjigovodstav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astavljanje zaključnog lista na temelju podataka glavne knjige i </a:t>
            </a:r>
            <a:r>
              <a:rPr b="0" lang="en-US" sz="2800" spc="-1" strike="noStrike">
                <a:solidFill>
                  <a:srgbClr val="000000"/>
                </a:solidFill>
                <a:latin typeface="Times New Roman"/>
              </a:rPr>
              <a:t>po potrebi </a:t>
            </a:r>
            <a:r>
              <a:rPr b="0" lang="hr-HR" sz="2800" spc="-1" strike="noStrike">
                <a:solidFill>
                  <a:srgbClr val="000000"/>
                </a:solidFill>
                <a:latin typeface="Times New Roman"/>
              </a:rPr>
              <a:t>podataka iz analitičkih evidenci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9E7E81-17C5-466D-8FBE-66F99404147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Zaključni list</a:t>
            </a:r>
            <a:endParaRPr b="0" lang="en-US" sz="3800" spc="-1" strike="noStrike">
              <a:solidFill>
                <a:srgbClr val="000000"/>
              </a:solidFill>
              <a:latin typeface="Arial"/>
            </a:endParaRPr>
          </a:p>
        </p:txBody>
      </p:sp>
      <p:sp>
        <p:nvSpPr>
          <p:cNvPr id="575" name=""/>
          <p:cNvSpPr/>
          <p:nvPr/>
        </p:nvSpPr>
        <p:spPr>
          <a:xfrm>
            <a:off x="1219320" y="1905120"/>
            <a:ext cx="7010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ljučni list</a:t>
            </a:r>
            <a:endParaRPr b="0" lang="en-US" sz="2400" spc="-1" strike="noStrike">
              <a:solidFill>
                <a:srgbClr val="000000"/>
              </a:solidFill>
              <a:latin typeface="Arial"/>
            </a:endParaRPr>
          </a:p>
        </p:txBody>
      </p:sp>
      <p:sp>
        <p:nvSpPr>
          <p:cNvPr id="576" name=""/>
          <p:cNvSpPr/>
          <p:nvPr/>
        </p:nvSpPr>
        <p:spPr>
          <a:xfrm>
            <a:off x="1219320" y="2362320"/>
            <a:ext cx="0" cy="350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133720" y="2362320"/>
            <a:ext cx="0" cy="350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295280" y="2438280"/>
            <a:ext cx="9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nta</a:t>
            </a:r>
            <a:endParaRPr b="0" lang="en-US" sz="2000" spc="-1" strike="noStrike">
              <a:solidFill>
                <a:srgbClr val="000000"/>
              </a:solidFill>
              <a:latin typeface="Arial"/>
            </a:endParaRPr>
          </a:p>
        </p:txBody>
      </p:sp>
      <p:sp>
        <p:nvSpPr>
          <p:cNvPr id="579" name=""/>
          <p:cNvSpPr/>
          <p:nvPr/>
        </p:nvSpPr>
        <p:spPr>
          <a:xfrm>
            <a:off x="2133720" y="28954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8229600" y="23623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181480" y="2362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627280" y="24210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Bruto bilanca</a:t>
            </a:r>
            <a:endParaRPr b="0" lang="en-US" sz="2400" spc="-1" strike="noStrike">
              <a:solidFill>
                <a:srgbClr val="000000"/>
              </a:solidFill>
              <a:latin typeface="Arial"/>
            </a:endParaRPr>
          </a:p>
        </p:txBody>
      </p:sp>
      <p:sp>
        <p:nvSpPr>
          <p:cNvPr id="583" name=""/>
          <p:cNvSpPr/>
          <p:nvPr/>
        </p:nvSpPr>
        <p:spPr>
          <a:xfrm>
            <a:off x="5219640" y="2421000"/>
            <a:ext cx="29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ačna bilanca</a:t>
            </a:r>
            <a:endParaRPr b="0" lang="en-US" sz="2400" spc="-1" strike="noStrike">
              <a:solidFill>
                <a:srgbClr val="000000"/>
              </a:solidFill>
              <a:latin typeface="Arial"/>
            </a:endParaRPr>
          </a:p>
        </p:txBody>
      </p:sp>
      <p:sp>
        <p:nvSpPr>
          <p:cNvPr id="584" name=""/>
          <p:cNvSpPr/>
          <p:nvPr/>
        </p:nvSpPr>
        <p:spPr>
          <a:xfrm>
            <a:off x="5181480" y="2895480"/>
            <a:ext cx="0" cy="289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505320" y="2895480"/>
            <a:ext cx="0" cy="297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1337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ometna</a:t>
            </a:r>
            <a:endParaRPr b="0" lang="en-US" sz="2000" spc="-1" strike="noStrike">
              <a:solidFill>
                <a:srgbClr val="000000"/>
              </a:solidFill>
              <a:latin typeface="Arial"/>
            </a:endParaRPr>
          </a:p>
        </p:txBody>
      </p:sp>
      <p:sp>
        <p:nvSpPr>
          <p:cNvPr id="587" name=""/>
          <p:cNvSpPr/>
          <p:nvPr/>
        </p:nvSpPr>
        <p:spPr>
          <a:xfrm>
            <a:off x="3492360" y="2971800"/>
            <a:ext cx="165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Saldo</a:t>
            </a:r>
            <a:endParaRPr b="0" lang="en-US" sz="2000" spc="-1" strike="noStrike">
              <a:solidFill>
                <a:srgbClr val="000000"/>
              </a:solidFill>
              <a:latin typeface="Arial"/>
            </a:endParaRPr>
          </a:p>
        </p:txBody>
      </p:sp>
      <p:sp>
        <p:nvSpPr>
          <p:cNvPr id="588" name=""/>
          <p:cNvSpPr/>
          <p:nvPr/>
        </p:nvSpPr>
        <p:spPr>
          <a:xfrm>
            <a:off x="6629400" y="2895480"/>
            <a:ext cx="0" cy="297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5364000" y="299736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Bilanca</a:t>
            </a:r>
            <a:endParaRPr b="0" lang="en-US" sz="2000" spc="-1" strike="noStrike">
              <a:solidFill>
                <a:srgbClr val="000000"/>
              </a:solidFill>
              <a:latin typeface="Arial"/>
            </a:endParaRPr>
          </a:p>
        </p:txBody>
      </p:sp>
      <p:sp>
        <p:nvSpPr>
          <p:cNvPr id="590" name=""/>
          <p:cNvSpPr/>
          <p:nvPr/>
        </p:nvSpPr>
        <p:spPr>
          <a:xfrm>
            <a:off x="6659640" y="2924280"/>
            <a:ext cx="149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Račun dobiti i gubitka</a:t>
            </a:r>
            <a:endParaRPr b="0" lang="en-US" sz="2000" spc="-1" strike="noStrike">
              <a:solidFill>
                <a:srgbClr val="000000"/>
              </a:solidFill>
              <a:latin typeface="Arial"/>
            </a:endParaRPr>
          </a:p>
        </p:txBody>
      </p:sp>
      <p:sp>
        <p:nvSpPr>
          <p:cNvPr id="591" name=""/>
          <p:cNvSpPr/>
          <p:nvPr/>
        </p:nvSpPr>
        <p:spPr>
          <a:xfrm>
            <a:off x="2133720" y="37339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819520" y="3733920"/>
            <a:ext cx="0" cy="21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343400" y="3733920"/>
            <a:ext cx="0" cy="21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5867280" y="3733920"/>
            <a:ext cx="0" cy="21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391520" y="3733920"/>
            <a:ext cx="0" cy="21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1337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
            </a:r>
            <a:endParaRPr b="0" lang="en-US" sz="2400" spc="-1" strike="noStrike">
              <a:solidFill>
                <a:srgbClr val="000000"/>
              </a:solidFill>
              <a:latin typeface="Arial"/>
            </a:endParaRPr>
          </a:p>
        </p:txBody>
      </p:sp>
      <p:sp>
        <p:nvSpPr>
          <p:cNvPr id="597" name=""/>
          <p:cNvSpPr/>
          <p:nvPr/>
        </p:nvSpPr>
        <p:spPr>
          <a:xfrm>
            <a:off x="2819520" y="38098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2819520" y="3809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t>
            </a:r>
            <a:endParaRPr b="0" lang="en-US" sz="2400" spc="-1" strike="noStrike">
              <a:solidFill>
                <a:srgbClr val="000000"/>
              </a:solidFill>
              <a:latin typeface="Arial"/>
            </a:endParaRPr>
          </a:p>
        </p:txBody>
      </p:sp>
      <p:sp>
        <p:nvSpPr>
          <p:cNvPr id="599" name=""/>
          <p:cNvSpPr/>
          <p:nvPr/>
        </p:nvSpPr>
        <p:spPr>
          <a:xfrm>
            <a:off x="350532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
            </a:r>
            <a:endParaRPr b="0" lang="en-US" sz="2400" spc="-1" strike="noStrike">
              <a:solidFill>
                <a:srgbClr val="000000"/>
              </a:solidFill>
              <a:latin typeface="Arial"/>
            </a:endParaRPr>
          </a:p>
        </p:txBody>
      </p:sp>
      <p:sp>
        <p:nvSpPr>
          <p:cNvPr id="600" name=""/>
          <p:cNvSpPr/>
          <p:nvPr/>
        </p:nvSpPr>
        <p:spPr>
          <a:xfrm>
            <a:off x="4343400" y="3809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t>
            </a:r>
            <a:endParaRPr b="0" lang="en-US" sz="2400" spc="-1" strike="noStrike">
              <a:solidFill>
                <a:srgbClr val="000000"/>
              </a:solidFill>
              <a:latin typeface="Arial"/>
            </a:endParaRPr>
          </a:p>
        </p:txBody>
      </p:sp>
      <p:sp>
        <p:nvSpPr>
          <p:cNvPr id="601" name=""/>
          <p:cNvSpPr/>
          <p:nvPr/>
        </p:nvSpPr>
        <p:spPr>
          <a:xfrm>
            <a:off x="5148360" y="3860640"/>
            <a:ext cx="79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Aktiva</a:t>
            </a:r>
            <a:endParaRPr b="0" lang="en-US" sz="1600" spc="-1" strike="noStrike">
              <a:solidFill>
                <a:srgbClr val="000000"/>
              </a:solidFill>
              <a:latin typeface="Arial"/>
            </a:endParaRPr>
          </a:p>
        </p:txBody>
      </p:sp>
      <p:sp>
        <p:nvSpPr>
          <p:cNvPr id="602" name=""/>
          <p:cNvSpPr/>
          <p:nvPr/>
        </p:nvSpPr>
        <p:spPr>
          <a:xfrm>
            <a:off x="5867280" y="386064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Pasiva</a:t>
            </a:r>
            <a:endParaRPr b="0" lang="en-US" sz="1600" spc="-1" strike="noStrike">
              <a:solidFill>
                <a:srgbClr val="000000"/>
              </a:solidFill>
              <a:latin typeface="Arial"/>
            </a:endParaRPr>
          </a:p>
        </p:txBody>
      </p:sp>
      <p:sp>
        <p:nvSpPr>
          <p:cNvPr id="603" name=""/>
          <p:cNvSpPr/>
          <p:nvPr/>
        </p:nvSpPr>
        <p:spPr>
          <a:xfrm>
            <a:off x="6588000" y="386064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Rashodi</a:t>
            </a:r>
            <a:endParaRPr b="0" lang="en-US" sz="1600" spc="-1" strike="noStrike">
              <a:solidFill>
                <a:srgbClr val="000000"/>
              </a:solidFill>
              <a:latin typeface="Arial"/>
            </a:endParaRPr>
          </a:p>
        </p:txBody>
      </p:sp>
      <p:sp>
        <p:nvSpPr>
          <p:cNvPr id="604" name=""/>
          <p:cNvSpPr/>
          <p:nvPr/>
        </p:nvSpPr>
        <p:spPr>
          <a:xfrm>
            <a:off x="7380360" y="386064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Prihodi</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0DE250E-9B1B-4DDF-8FB3-F712EE58CFD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971640" y="1844640"/>
            <a:ext cx="777240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Bruto bilanca</a:t>
            </a:r>
            <a:r>
              <a:rPr b="0" lang="hr-HR" sz="2800" spc="-1" strike="noStrike">
                <a:solidFill>
                  <a:srgbClr val="000000"/>
                </a:solidFill>
                <a:latin typeface="Times New Roman"/>
              </a:rPr>
              <a:t> – njome se provjerava usklađenost ukupnog prometa i salda konta glavne knjige i dnevnika za određeno poslovno razdoblje. Zbrojevi dugovnog i potražnog prometa moraju biti isti, kao i dugovnog i potražnog sal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Zaključni list</a:t>
            </a:r>
            <a:r>
              <a:rPr b="0" lang="hr-HR" sz="2800" spc="-1" strike="noStrike">
                <a:solidFill>
                  <a:srgbClr val="000000"/>
                </a:solidFill>
                <a:latin typeface="Times New Roman"/>
              </a:rPr>
              <a:t> – sastavlja se nakon provedenih zaključnih knjiženja i u njemu se rezultat iz računa dobiti i gubitka unosi u imovinsku bilancu čime se zaključuje knjigovodstveni proces.</a:t>
            </a:r>
            <a:endParaRPr b="0" lang="en-US" sz="2800" spc="-1" strike="noStrike">
              <a:solidFill>
                <a:srgbClr val="000000"/>
              </a:solidFill>
              <a:latin typeface="Arial"/>
            </a:endParaRPr>
          </a:p>
        </p:txBody>
      </p:sp>
      <p:sp>
        <p:nvSpPr>
          <p:cNvPr id="606" name=""/>
          <p:cNvSpPr/>
          <p:nvPr/>
        </p:nvSpPr>
        <p:spPr>
          <a:xfrm>
            <a:off x="1763640" y="765000"/>
            <a:ext cx="61930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Zaključni list</a:t>
            </a:r>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68CABFD-DA0C-4C4A-BCAC-08EDFDA220A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3440" y="1155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ačunovodstvo</a:t>
            </a:r>
            <a:endParaRPr b="0" lang="en-US" sz="4000" spc="-1" strike="noStrike">
              <a:solidFill>
                <a:srgbClr val="000000"/>
              </a:solidFill>
              <a:latin typeface="Arial"/>
            </a:endParaRPr>
          </a:p>
        </p:txBody>
      </p:sp>
      <p:sp>
        <p:nvSpPr>
          <p:cNvPr id="76" name="PlaceHolder 2"/>
          <p:cNvSpPr>
            <a:spLocks noGrp="1"/>
          </p:cNvSpPr>
          <p:nvPr>
            <p:ph/>
          </p:nvPr>
        </p:nvSpPr>
        <p:spPr>
          <a:xfrm>
            <a:off x="0" y="134136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zaokruženi sustav evidencije u kojem se na poseban način planiraju, evidentiraju, kontroliraju i analiziraju stanja i kretanja sredstava i poslova u poduzećima i s tim u vezi sastavljaju računovodstvene informac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o je vještina popisivanja, mjerenja i tumačenja ekonomskih aktivnosti.</a:t>
            </a:r>
            <a:r>
              <a:rPr b="0" lang="hr-H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o </a:t>
            </a:r>
            <a:r>
              <a:rPr b="1" lang="hr-HR" sz="2800" spc="-1" strike="noStrike">
                <a:solidFill>
                  <a:srgbClr val="000000"/>
                </a:solidFill>
                <a:latin typeface="Arial"/>
                <a:ea typeface="Times New Roman"/>
              </a:rPr>
              <a:t>≠</a:t>
            </a:r>
            <a:r>
              <a:rPr b="0" lang="hr-HR" sz="2800" spc="-1" strike="noStrike">
                <a:solidFill>
                  <a:srgbClr val="000000"/>
                </a:solidFill>
                <a:latin typeface="Arial"/>
              </a:rPr>
              <a:t> knjigovodstv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21F38C-2550-478B-9C6E-37E61949E640}"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Zaključni list</a:t>
            </a:r>
            <a:endParaRPr b="0" lang="en-US" sz="3800" spc="-1" strike="noStrike">
              <a:solidFill>
                <a:srgbClr val="000000"/>
              </a:solidFill>
              <a:latin typeface="Arial"/>
            </a:endParaRPr>
          </a:p>
        </p:txBody>
      </p:sp>
      <p:sp>
        <p:nvSpPr>
          <p:cNvPr id="608" name="PlaceHolder 2"/>
          <p:cNvSpPr>
            <a:spLocks noGrp="1"/>
          </p:cNvSpPr>
          <p:nvPr>
            <p:ph/>
          </p:nvPr>
        </p:nvSpPr>
        <p:spPr>
          <a:xfrm>
            <a:off x="755280" y="1981080"/>
            <a:ext cx="79311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uvjetima kompjuterske obrade provodi se automatsko knjiženje zaključka dnevnika, glavne knjige i analitičkih evidenci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pomena: u današnjoj praksi pojedine se faze knjigovodstvenog procesa mogu i drukčije obavljati, posebice s obzirom na uvjete EOP-a, ali je poznavanje klasične metodologije bitno radi razumijevanja njihove sušti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E96C72-DDB8-447F-A09D-8BD0F331C0A3}"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971280" y="2349000"/>
            <a:ext cx="72356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EDZAKLJUČNI I ZAKLJUČNI</a:t>
            </a:r>
            <a:br>
              <a:rPr sz="3200"/>
            </a:br>
            <a:r>
              <a:rPr b="1" lang="hr-HR" sz="3200" spc="-1" strike="noStrike">
                <a:solidFill>
                  <a:srgbClr val="000000"/>
                </a:solidFill>
                <a:latin typeface="Arial"/>
              </a:rPr>
              <a:t>RADOV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FC159B1-DF79-4B41-9BB2-C6CC7ED26B40}"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EDZAKLJUČNI RADOVI</a:t>
            </a:r>
            <a:endParaRPr b="0" lang="en-US" sz="4000" spc="-1" strike="noStrike">
              <a:solidFill>
                <a:srgbClr val="000000"/>
              </a:solidFill>
              <a:latin typeface="Arial"/>
            </a:endParaRPr>
          </a:p>
        </p:txBody>
      </p:sp>
      <p:sp>
        <p:nvSpPr>
          <p:cNvPr id="611"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spravci netočnih knjiženj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račun prihoda i rashoda u alikvotnom dijelu </a:t>
            </a:r>
            <a:r>
              <a:rPr b="0" lang="hr-HR" sz="2400" spc="-1" strike="noStrike">
                <a:solidFill>
                  <a:srgbClr val="000000"/>
                </a:solidFill>
                <a:latin typeface="Arial"/>
              </a:rPr>
              <a:t>	</a:t>
            </a:r>
            <a:r>
              <a:rPr b="0" lang="hr-HR" sz="2400" spc="-1" strike="noStrike">
                <a:solidFill>
                  <a:srgbClr val="000000"/>
                </a:solidFill>
                <a:latin typeface="Arial"/>
              </a:rPr>
              <a:t>  obračunskog razdoblja (vremenska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razgraniče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sklađivanje knjigovodstvenog sa stvarnim stanjem imovine i obvez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ačni obračun amortizacij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ačni obračun revalorizacij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ljanje probnog računa dobiti i gubit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ZAKLJUČNI RADO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6780147-4F69-49A0-98EE-DF1C5899DF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55280" y="404280"/>
            <a:ext cx="75056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EDZAKLJUČNI RADOVI</a:t>
            </a:r>
            <a:endParaRPr b="0" lang="en-US" sz="4000" spc="-1" strike="noStrike">
              <a:solidFill>
                <a:srgbClr val="000000"/>
              </a:solidFill>
              <a:latin typeface="Arial"/>
            </a:endParaRPr>
          </a:p>
        </p:txBody>
      </p:sp>
      <p:sp>
        <p:nvSpPr>
          <p:cNvPr id="613"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zaključni radovi odnose se na radove koje se moraju poduzeti kako bi se obračuni pojedinih razdoblja mogli pravilno i točno iskaza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češće se vrše slijedeći predzaključni radov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spravci netočnih knjiženj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račun prihoda i rashoda u alikvotnom dijelu obračunskog razdoblja (vremenska razgraničenj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sklađivanje knjigovodstvenog sa stvarnim stanjem imovine i obvez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ačni obračun amortizacij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ačni obračun revalorizacij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nje probnog računa dobiti i gubitk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86A355-0146-467C-B1EC-2BCAF1F3ED2F}"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899640" y="404640"/>
            <a:ext cx="800892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15" name="PlaceHolder 2"/>
          <p:cNvSpPr>
            <a:spLocks noGrp="1"/>
          </p:cNvSpPr>
          <p:nvPr>
            <p:ph/>
          </p:nvPr>
        </p:nvSpPr>
        <p:spPr>
          <a:xfrm>
            <a:off x="0" y="206064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knjigovodstvenim poslovima često mogu nastati pogreške koje je potrebno u što kraćem roku, a najkasnije krajem obračunskog razdoblja ispravit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pravodobno otklanjanje knjigovodstvenih pogrešaka rezultira netočnim stanjem imovine, dugova, kapitala, prihoda i rashod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e se pogreške mogu svrstati u dvije osnovne skup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ormaln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aterijalne pogrešk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2B2C93E-394E-4774-853A-A83F2BE3FDE0}"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4360" y="549000"/>
            <a:ext cx="822456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17" name="PlaceHolder 2"/>
          <p:cNvSpPr>
            <a:spLocks noGrp="1"/>
          </p:cNvSpPr>
          <p:nvPr>
            <p:ph/>
          </p:nvPr>
        </p:nvSpPr>
        <p:spPr>
          <a:xfrm>
            <a:off x="0" y="213372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greške formalne prirode vidljive su iz neravnoteže dugovne i potražne strane u poslovnim knjigama, a najčešće nastaju zbog zamjena brojki, krivog zbrajanja ili zamjene knjiženja između dugovne i potražne stra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vu vrstu pogreška moguće je riješ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etodom najkraće linij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etodom sužavanja polja pogrešk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74202E-4203-44FD-8820-5B23FED8CF85}"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55640" y="404280"/>
            <a:ext cx="8153280" cy="98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19" name="PlaceHolder 2"/>
          <p:cNvSpPr>
            <a:spLocks noGrp="1"/>
          </p:cNvSpPr>
          <p:nvPr>
            <p:ph/>
          </p:nvPr>
        </p:nvSpPr>
        <p:spPr>
          <a:xfrm>
            <a:off x="0" y="1916280"/>
            <a:ext cx="9144000" cy="53006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aterijalne pogreške vidljive su iz netočnih stanja na računima imovine, dugova, kapitala, rashoda i prihoda, a nastaju u slučajevima:</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poslovni događaj, iskazan u knjigovodstvenoj ispravi nije knjižen u cijelosti već djelomično,</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proknjižena vrijednost ne odgovara vrijednosti u ispravi,</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je knjig. isprava knjižena na krivoj strani,</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je knjig. isprava knjižena na krivom računu,</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je knjig. isprava različito knjižena u različitim poslovnim knjigama i d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CEF145-E2AA-4E04-A1FF-A7FF10424973}"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692000" y="404640"/>
            <a:ext cx="577692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Ispravci netočnih knjiženja </a:t>
            </a:r>
            <a:br>
              <a:rPr sz="3600"/>
            </a:br>
            <a:r>
              <a:rPr b="0" lang="hr-HR" sz="3600" spc="-1" strike="noStrike">
                <a:solidFill>
                  <a:srgbClr val="000000"/>
                </a:solidFill>
                <a:latin typeface="Arial"/>
              </a:rPr>
              <a:t>(knjigovodstvene pogreške)</a:t>
            </a:r>
            <a:endParaRPr b="0" lang="en-US" sz="3600" spc="-1" strike="noStrike">
              <a:solidFill>
                <a:srgbClr val="000000"/>
              </a:solidFill>
              <a:latin typeface="Arial"/>
            </a:endParaRPr>
          </a:p>
        </p:txBody>
      </p:sp>
      <p:sp>
        <p:nvSpPr>
          <p:cNvPr id="621" name="PlaceHolder 2"/>
          <p:cNvSpPr>
            <a:spLocks noGrp="1"/>
          </p:cNvSpPr>
          <p:nvPr>
            <p:ph/>
          </p:nvPr>
        </p:nvSpPr>
        <p:spPr>
          <a:xfrm>
            <a:off x="0" y="1777680"/>
            <a:ext cx="9144000" cy="50799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sigurniji način, uz usporedbu dugovnih i potražnih prometa kojom se mogu pronaći samo neke pogreške, pronalaska materijalnih pogrešaka jest provođenje inventure i sravnjivanje prometa pomoćnih knjiga i analitičkih evidencija.</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e pronađene pogreške moraju se ispraviti, a u tu svrhu koriste se slijedeće metod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torno,</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ecrtavanje 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opunsko evidentiranj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orniranje se koristi kako bi se ispravila nastala knjigovodstvena pogreška pri čemu je ona i dalje vidljiva. Pogrešno knjiženje ispravlja se na temelju izdanog naloga za ispravljanje.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no može biti potpuno i djelomič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F37108-33C0-489C-9E59-FFEA42BC0F96}" type="slidenum">
              <a:t>127</a:t>
            </a:fld>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55280" y="333360"/>
            <a:ext cx="800892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23"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imj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000" spc="-1" strike="noStrike">
                <a:solidFill>
                  <a:srgbClr val="000000"/>
                </a:solidFill>
                <a:latin typeface="Times New Roman"/>
              </a:rPr>
              <a:t>Sa žiro računa isplaćena je obveza za otplatu kratkoročnog zajma u iznosu od 5.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Poslovni događaj je pogrešno evidentiran kao plaćanje obveze prema dobavljač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D        Žiro račun       P         D        Dobavljač       P         D      Kratk. zajam     P</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1800" spc="-1" strike="noStrike">
                <a:solidFill>
                  <a:srgbClr val="000000"/>
                </a:solidFill>
                <a:latin typeface="Times New Roman"/>
              </a:rPr>
              <a:t>X</a:t>
            </a:r>
            <a:r>
              <a:rPr b="0" lang="hr-HR" sz="2000" spc="-1" strike="noStrike">
                <a:solidFill>
                  <a:srgbClr val="000000"/>
                </a:solidFill>
                <a:latin typeface="Times New Roman"/>
              </a:rPr>
              <a:t>	</a:t>
            </a:r>
            <a:r>
              <a:rPr b="0" lang="hr-HR" sz="1800" spc="-1" strike="noStrike">
                <a:solidFill>
                  <a:srgbClr val="000000"/>
                </a:solidFill>
                <a:latin typeface="Times New Roman"/>
              </a:rPr>
              <a:t>5.000,00 (1)      (1) 5.000,00        X                    (2) 5.000,0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2) 5.000,0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1) Pogrešno knjiženje poslovne promjen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2) Ispravak pogrešnog knjiženja metodom crvenog storna</a:t>
            </a:r>
            <a:endParaRPr b="0" lang="en-US" sz="2000" spc="-1" strike="noStrike">
              <a:solidFill>
                <a:srgbClr val="000000"/>
              </a:solidFill>
              <a:latin typeface="Arial"/>
            </a:endParaRPr>
          </a:p>
        </p:txBody>
      </p:sp>
      <p:sp>
        <p:nvSpPr>
          <p:cNvPr id="624" name=""/>
          <p:cNvSpPr/>
          <p:nvPr/>
        </p:nvSpPr>
        <p:spPr>
          <a:xfrm>
            <a:off x="395280" y="386064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348000" y="38606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227640" y="3860640"/>
            <a:ext cx="26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1835280" y="386064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788000" y="38606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596360" y="386064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708360" y="41497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E8DCB1-F759-49A2-87F7-3030154DDE42}" type="slidenum">
              <a:t>128</a:t>
            </a:fld>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826920" y="476280"/>
            <a:ext cx="80820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32"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crtavanjem se ispravljaju iznosi u trenutku njihova upisivanja u dnevnik ili glavnu knjigu. Za ovu metodu nije potrebno ispostaviti posebnu knjigovodstvenu ispravu.</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imj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Od dobavljača je primljen račun za nabavu sitnog inventara u vrijednosti od 54.000,00 kn. Knjigovodstvo je evidentiralo sitan inventar na zalihama u vrijednosti od 45.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D        Dobavljač         P                D   Zalihe sitnog invent.    P</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1800" spc="-1" strike="noStrike">
                <a:solidFill>
                  <a:srgbClr val="000000"/>
                </a:solidFill>
                <a:latin typeface="Times New Roman"/>
              </a:rPr>
              <a:t>54.000,00                                54.000,0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45.000,00 (1)                     (1) 45.000,00</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 Pogrešno knjiženje i njegov ispravak metodom precrtavanja</a:t>
            </a:r>
            <a:endParaRPr b="0" lang="en-US" sz="2000" spc="-1" strike="noStrike">
              <a:solidFill>
                <a:srgbClr val="000000"/>
              </a:solidFill>
              <a:latin typeface="Arial"/>
            </a:endParaRPr>
          </a:p>
        </p:txBody>
      </p:sp>
      <p:sp>
        <p:nvSpPr>
          <p:cNvPr id="633" name=""/>
          <p:cNvSpPr/>
          <p:nvPr/>
        </p:nvSpPr>
        <p:spPr>
          <a:xfrm>
            <a:off x="250920" y="486900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3851280" y="486900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578560" y="486900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690560" y="486900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762200" y="54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4498920" y="54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65C1FE-5C06-42CB-AB6D-24B2A17E3E9F}"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3440" y="-3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Funkcionalna struktura računovodstva</a:t>
            </a:r>
            <a:endParaRPr b="0" lang="en-US" sz="3600" spc="-1" strike="noStrike">
              <a:solidFill>
                <a:srgbClr val="000000"/>
              </a:solidFill>
              <a:latin typeface="Arial"/>
            </a:endParaRPr>
          </a:p>
        </p:txBody>
      </p:sp>
      <p:sp>
        <p:nvSpPr>
          <p:cNvPr id="78" name="PlaceHolder 2"/>
          <p:cNvSpPr>
            <a:spLocks noGrp="1"/>
          </p:cNvSpPr>
          <p:nvPr>
            <p:ph/>
          </p:nvPr>
        </p:nvSpPr>
        <p:spPr>
          <a:xfrm>
            <a:off x="479520" y="1915920"/>
            <a:ext cx="8664480" cy="865080"/>
          </a:xfrm>
          <a:prstGeom prst="rect">
            <a:avLst/>
          </a:prstGeom>
          <a:noFill/>
          <a:ln w="0">
            <a:noFill/>
          </a:ln>
        </p:spPr>
        <p:txBody>
          <a:bodyPr lIns="90000" rIns="90000" tIns="46800" bIns="46800" anchor="t">
            <a:normAutofit fontScale="95000"/>
          </a:bodyPr>
          <a:p>
            <a:pPr lvl="4" marL="195444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nici računovodstvene informacije: </a:t>
            </a:r>
            <a:endParaRPr b="0" lang="en-US" sz="2400" spc="-1" strike="noStrike">
              <a:solidFill>
                <a:srgbClr val="000000"/>
              </a:solidFill>
              <a:latin typeface="Arial"/>
            </a:endParaRPr>
          </a:p>
          <a:p>
            <a:pPr lvl="4" marL="195444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interni i eksterni</a:t>
            </a:r>
            <a:endParaRPr b="0" lang="en-US" sz="2400" spc="-1" strike="noStrike">
              <a:solidFill>
                <a:srgbClr val="000000"/>
              </a:solidFill>
              <a:latin typeface="Arial"/>
            </a:endParaRPr>
          </a:p>
        </p:txBody>
      </p:sp>
      <p:sp>
        <p:nvSpPr>
          <p:cNvPr id="79" name=""/>
          <p:cNvSpPr/>
          <p:nvPr/>
        </p:nvSpPr>
        <p:spPr>
          <a:xfrm>
            <a:off x="179280" y="3429000"/>
            <a:ext cx="137160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čunov. planiranje</a:t>
            </a:r>
            <a:endParaRPr b="0" lang="en-US" sz="1800" spc="-1" strike="noStrike">
              <a:solidFill>
                <a:srgbClr val="000000"/>
              </a:solidFill>
              <a:latin typeface="Arial"/>
            </a:endParaRPr>
          </a:p>
        </p:txBody>
      </p:sp>
      <p:sp>
        <p:nvSpPr>
          <p:cNvPr id="80" name=""/>
          <p:cNvSpPr/>
          <p:nvPr/>
        </p:nvSpPr>
        <p:spPr>
          <a:xfrm>
            <a:off x="1763640" y="3429000"/>
            <a:ext cx="18208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81" name=""/>
          <p:cNvSpPr/>
          <p:nvPr/>
        </p:nvSpPr>
        <p:spPr>
          <a:xfrm>
            <a:off x="3780000" y="3429000"/>
            <a:ext cx="1295280" cy="785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čunov.</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rola</a:t>
            </a:r>
            <a:endParaRPr b="0" lang="en-US" sz="1800" spc="-1" strike="noStrike">
              <a:solidFill>
                <a:srgbClr val="000000"/>
              </a:solidFill>
              <a:latin typeface="Arial"/>
            </a:endParaRPr>
          </a:p>
        </p:txBody>
      </p:sp>
      <p:sp>
        <p:nvSpPr>
          <p:cNvPr id="82" name=""/>
          <p:cNvSpPr/>
          <p:nvPr/>
        </p:nvSpPr>
        <p:spPr>
          <a:xfrm>
            <a:off x="5435640" y="3429000"/>
            <a:ext cx="1371600" cy="785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čunov.</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naliza</a:t>
            </a:r>
            <a:endParaRPr b="0" lang="en-US" sz="1800" spc="-1" strike="noStrike">
              <a:solidFill>
                <a:srgbClr val="000000"/>
              </a:solidFill>
              <a:latin typeface="Arial"/>
            </a:endParaRPr>
          </a:p>
        </p:txBody>
      </p:sp>
      <p:sp>
        <p:nvSpPr>
          <p:cNvPr id="83" name=""/>
          <p:cNvSpPr/>
          <p:nvPr/>
        </p:nvSpPr>
        <p:spPr>
          <a:xfrm>
            <a:off x="7093080" y="3429000"/>
            <a:ext cx="158256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čunov. informiranje</a:t>
            </a:r>
            <a:endParaRPr b="0" lang="en-US" sz="1800" spc="-1" strike="noStrike">
              <a:solidFill>
                <a:srgbClr val="000000"/>
              </a:solidFill>
              <a:latin typeface="Arial"/>
            </a:endParaRPr>
          </a:p>
        </p:txBody>
      </p:sp>
      <p:sp>
        <p:nvSpPr>
          <p:cNvPr id="84" name=""/>
          <p:cNvSpPr/>
          <p:nvPr/>
        </p:nvSpPr>
        <p:spPr>
          <a:xfrm>
            <a:off x="1547640" y="36450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3581280" y="3644640"/>
            <a:ext cx="198720" cy="12600"/>
          </a:xfrm>
          <a:prstGeom prst="line">
            <a:avLst/>
          </a:prstGeom>
          <a:ln w="12600">
            <a:solidFill>
              <a:srgbClr val="000000"/>
            </a:solidFill>
            <a:miter/>
            <a:tailEnd len="sm" type="triangle" w="sm"/>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 name=""/>
          <p:cNvSpPr/>
          <p:nvPr/>
        </p:nvSpPr>
        <p:spPr>
          <a:xfrm>
            <a:off x="5105520" y="36576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781680" y="36576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26E5DF-AA98-431C-9394-975FB036363C}"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826920" y="476280"/>
            <a:ext cx="8082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40" name="PlaceHolder 2"/>
          <p:cNvSpPr>
            <a:spLocks noGrp="1"/>
          </p:cNvSpPr>
          <p:nvPr>
            <p:ph/>
          </p:nvPr>
        </p:nvSpPr>
        <p:spPr>
          <a:xfrm>
            <a:off x="0" y="1699920"/>
            <a:ext cx="9144000" cy="53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punsko evidentiranje koristi se kad je na računu jednom ili više puta upisan veći ili manji iznos od stvarnog na ispravi.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Ispravak se provodi na način da se dopisuje razlika do stvarnog iznosa na temelju interne knjigovodstvene isprav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je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upac je doznačio na žiro račun iznos od 50.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njigovodstvo je evidentiralo 5.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000" spc="-1" strike="noStrike">
                <a:solidFill>
                  <a:srgbClr val="000000"/>
                </a:solidFill>
                <a:latin typeface="Times New Roman"/>
              </a:rPr>
              <a:t>D        Žiro račun       P                D           Kupci           P</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1) 5.000,00                                                 X             5.000,00 (1)</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2) 45.000,00                                                               45.000,00 (2)</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 Pogrešno upisana poslovna promje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 Dopunsko knjiženje</a:t>
            </a:r>
            <a:endParaRPr b="0" lang="en-US" sz="2000" spc="-1" strike="noStrike">
              <a:solidFill>
                <a:srgbClr val="000000"/>
              </a:solidFill>
              <a:latin typeface="Arial"/>
            </a:endParaRPr>
          </a:p>
        </p:txBody>
      </p:sp>
      <p:sp>
        <p:nvSpPr>
          <p:cNvPr id="641" name=""/>
          <p:cNvSpPr/>
          <p:nvPr/>
        </p:nvSpPr>
        <p:spPr>
          <a:xfrm>
            <a:off x="611280" y="465300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995640" y="465300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1979640" y="4653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435640" y="4653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5EFFE7-5597-4AF2-90FD-ABE15CF67EFE}"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115640" y="188640"/>
            <a:ext cx="7792920" cy="119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46"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valitetni računovodstveni sustav mora pružati korisnicima računovodstvenih informacija što realniji rezultat poslovanja u obračunskom razdoblju tj. vremenskom razdoblju za koje se sastavljaju izvješ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i rashodi često se odnose na jedno obračunsko razdoblje, budući su poslovne transakcije iz kojih su oni proizašli započele i završile u istom razdoblju.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toje, međutim, i transakcije koje započnu u jednom, a završe u nekom kasnijem razdoblju te se kod njih nastali prihodi i rashodi tretiraju na poseban nači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A2E48B-E4FB-4B78-A61F-2F68E91420A6}" type="slidenum">
              <a:t>131</a:t>
            </a:fld>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332000" y="333000"/>
            <a:ext cx="599256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48"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čite vrste transakcija koje zahtijevaju usklađivanje pojedinih pozicija na kraju određenog razdoblja, mogu se svrstati u slijedeće grup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i troškovi koji moraju biti jednako podijeljeni između dva ili više obračunskih razdoblj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i prihodi koji moraju biti jednako podijeljeni na dva ili više obračunskih razdoblja, te odgođeno priznavanje prihoda za koje je u vrijeme prodaje ili obavljanja usluge neizvjesna konačna naplat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uknjiženi troškovi (npr. kamate, zarade djelatnika nakon njihove zadnje isplate u obračunskom razdoblj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F33A4E-80BE-4B02-98E3-57EB7F6613AA}" type="slidenum">
              <a:t>132</a:t>
            </a:fld>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692360" y="333000"/>
            <a:ext cx="59925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50"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uknjiženi prihodi (npr. oni koji su ostvareni, ali još nefakturirani kupc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i troškovi koji moraju biti jednako podijeljeni između dva ili više obračunskih razdoblja javljaju se kada izdatak poduzeća postaje trošak kroz više obračunskih razdoblja pri čemu se koriste konta vremenskih razgraničenja kako bi se uskladila vremenska razlika između nastanka i obračunavanja alikvotnog dijela troška, odnosno prihoda koji tom razdoblju pripad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AEA8F9-5D0C-4717-B6C7-BD4043D5B7E8}"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692360" y="333000"/>
            <a:ext cx="59925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52" name="PlaceHolder 2"/>
          <p:cNvSpPr>
            <a:spLocks noGrp="1"/>
          </p:cNvSpPr>
          <p:nvPr>
            <p:ph/>
          </p:nvPr>
        </p:nvSpPr>
        <p:spPr>
          <a:xfrm>
            <a:off x="0" y="1673280"/>
            <a:ext cx="914400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Vremenska razgraničenja</a:t>
            </a:r>
            <a:r>
              <a:rPr b="0" lang="hr-HR"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Aktivna vremenska razgraničenja</a:t>
            </a:r>
            <a:r>
              <a:rPr b="0" lang="hr-HR" sz="2400" spc="-1" strike="noStrike">
                <a:solidFill>
                  <a:srgbClr val="000000"/>
                </a:solidFill>
                <a:latin typeface="Times New Roman"/>
              </a:rPr>
              <a:t> (plaćeni troškovi budućeg razdoblja i nedospjela naplata prihoda) 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asivna vremenska razgraničenja</a:t>
            </a:r>
            <a:r>
              <a:rPr b="0" lang="hr-HR" sz="2400" spc="-1" strike="noStrike">
                <a:solidFill>
                  <a:srgbClr val="000000"/>
                </a:solidFill>
                <a:latin typeface="Times New Roman"/>
              </a:rPr>
              <a:t> (odgođeno plaćanje troškova i prihod budućeg razdobl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zaključnim radovima obračunava se odgovarajući dio troškova ili prihoda koji tereti obračunsko razdoblj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i prihodi koji moraju biti jednako podijeljeni na dva ili više obračunskih razdoblja odnose se na primitke koji obvezuju poduzeće na određenu protučinidbu u budućnosti nakon koje se mogu tretirati kao prihod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E16F78-AC70-47E8-8A8A-04DC68E6CD05}"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26560" y="333000"/>
            <a:ext cx="7650360" cy="100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5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uknjiženi troškovi odnose se na troškove koji su u obračunskom razdoblju nastali, ali nisu evidentirani (akumuliraju se npr. dan za danom kao plaće djelatnika) te ih je stoga potrebno evidentirati u odgovarajuće razdobl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uknjiženi prihodi odnose se na prihode koji su u obračunskom razdoblju nastali, ali nisu evidentirani te ih je stoga potrebno evidentirati u odgovarajuće razdobl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A65AB9-06A8-4021-B3BF-39EF57DCC19C}"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11280" y="333000"/>
            <a:ext cx="8028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Usklađivanje knjigovodstvenog sa stvarnim stanjem imovine i obveza</a:t>
            </a:r>
            <a:endParaRPr b="0" lang="en-US" sz="3600" spc="-1" strike="noStrike">
              <a:solidFill>
                <a:srgbClr val="000000"/>
              </a:solidFill>
              <a:latin typeface="Arial"/>
            </a:endParaRPr>
          </a:p>
        </p:txBody>
      </p:sp>
      <p:sp>
        <p:nvSpPr>
          <p:cNvPr id="656"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tupak usklađivanja knjigovodstvenog sa stvarnim stanjem provodi se temeljem podataka iz inventar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nventar je rezultat dobiven postupkom popisa imovine i obveza (inventarizaci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i obveze dobivene inventarizacijom smatraju se realnim pa se podaci iz poslovnih knjiga moraju svesti na stvarno stan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nventarizacija ima slijedeće faz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ethodni radov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tvrđivanje stvarnog st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ocjena pojedinih oblika imov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tvrđivanje inventarskih razlik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astav i razmatranje elaborata o popis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A4DF13-9247-42FD-B38B-4BAFEE256448}" type="slidenum">
              <a:t>136</a:t>
            </a:fld>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4000" y="259920"/>
            <a:ext cx="8297640" cy="112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Usklađivanje knjigovodstvenog sa stvarnim stanjem imovine i obveza</a:t>
            </a:r>
            <a:endParaRPr b="0" lang="en-US" sz="3600" spc="-1" strike="noStrike">
              <a:solidFill>
                <a:srgbClr val="000000"/>
              </a:solidFill>
              <a:latin typeface="Arial"/>
            </a:endParaRPr>
          </a:p>
        </p:txBody>
      </p:sp>
      <p:sp>
        <p:nvSpPr>
          <p:cNvPr id="658"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thodni radovi obuhvaćaj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snivanje popisnih komisij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radu plana popis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istematizacija imovine, obveza i kapital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žuriranje operativne i knjigovodstvene evidencije 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premu popisnih tiskanica i d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tvrđivanje stvarnog stanja postiže se brojenjem, mjerenjem, vaganjem i drugim potrebnim postupcima na predmetima popis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cjena pojedinih oblika imovine odnosi se na utvrđivanje realnosti iskazanih stanja u inventaru kako bi se obavile odgovarajuće korekci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61838FE-4A25-43D6-923F-4D681357F368}" type="slidenum">
              <a:t>137</a:t>
            </a:fld>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26920" y="333360"/>
            <a:ext cx="80820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Usklađivanje knjigovodstvenog sa stvarnim stanjem imovine i obveza</a:t>
            </a:r>
            <a:endParaRPr b="0" lang="en-US" sz="3600" spc="-1" strike="noStrike">
              <a:solidFill>
                <a:srgbClr val="000000"/>
              </a:solidFill>
              <a:latin typeface="Arial"/>
            </a:endParaRPr>
          </a:p>
        </p:txBody>
      </p:sp>
      <p:sp>
        <p:nvSpPr>
          <p:cNvPr id="660" name="PlaceHolder 2"/>
          <p:cNvSpPr>
            <a:spLocks noGrp="1"/>
          </p:cNvSpPr>
          <p:nvPr>
            <p:ph/>
          </p:nvPr>
        </p:nvSpPr>
        <p:spPr>
          <a:xfrm>
            <a:off x="-360" y="1557000"/>
            <a:ext cx="895500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tvrđivanje inventarskih razlika provodi se nakon obavljenog popisa te se ispituju uzroci odstupanja stvarnih od knjigovodstvenih veličina. Na temelju utvrđenih razlika provode se usklađivanja knjigovodstvenih evidencija sa stvarnim veličina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redišnja komisija za popis po njegovom završetku sastavlja elaborat o obavljenom popisu te ga, zajedno sa svojim mišljenjem, dostavlja poslovodstvu na razmatranj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tpuni pop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jelomični popis 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pis u tijeku godi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C32DDD-E84C-4A46-8E5A-D7E2716DE78F}" type="slidenum">
              <a:t>138</a:t>
            </a:fld>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86920" y="260280"/>
            <a:ext cx="772164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nventar i njegova struktura</a:t>
            </a:r>
            <a:endParaRPr b="0" lang="en-US" sz="4000" spc="-1" strike="noStrike">
              <a:solidFill>
                <a:srgbClr val="000000"/>
              </a:solidFill>
              <a:latin typeface="Arial"/>
            </a:endParaRPr>
          </a:p>
        </p:txBody>
      </p:sp>
      <p:sp>
        <p:nvSpPr>
          <p:cNvPr id="662"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 se povremeno na temelju popisa stvarnog stanja imovine i obvez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ruktura inventar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kti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asiva (dugov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sporedba aktive i pasive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inancijski rezult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a prikazuje svu imovinu poduzeća razvrstanu po pojavnim oblicima izraženu vrijednosno i količinsk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a prikazuje sve dugove poduzeća razvrstane po pojavnim oblicima.</a:t>
            </a:r>
            <a:r>
              <a:rPr b="0" lang="hr-HR" sz="2400" spc="-1" strike="noStrike">
                <a:solidFill>
                  <a:srgbClr val="000000"/>
                </a:solidFill>
                <a:latin typeface="Times New Roman"/>
              </a:rPr>
              <a:t>	</a:t>
            </a:r>
            <a:r>
              <a:rPr b="0" lang="hr-HR"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F411C0-7C33-4D8C-886B-587111BE986E}" type="slidenum">
              <a:t>13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3440" y="-3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djela računovodstva s aspekta poslovanja</a:t>
            </a:r>
            <a:endParaRPr b="0" lang="en-US" sz="3600" spc="-1" strike="noStrike">
              <a:solidFill>
                <a:srgbClr val="000000"/>
              </a:solidFill>
              <a:latin typeface="Arial"/>
            </a:endParaRPr>
          </a:p>
        </p:txBody>
      </p:sp>
      <p:sp>
        <p:nvSpPr>
          <p:cNvPr id="89" name="Puzzle2"/>
          <p:cNvSpPr/>
          <p:nvPr/>
        </p:nvSpPr>
        <p:spPr>
          <a:xfrm>
            <a:off x="2340000" y="4221000"/>
            <a:ext cx="5111640" cy="24051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Upravljačko računovodstvo</a:t>
            </a:r>
            <a:endParaRPr b="0" lang="en-US" sz="2200" spc="-1" strike="noStrike">
              <a:solidFill>
                <a:srgbClr val="000000"/>
              </a:solidFill>
              <a:latin typeface="Arial"/>
            </a:endParaRPr>
          </a:p>
        </p:txBody>
      </p:sp>
      <p:sp>
        <p:nvSpPr>
          <p:cNvPr id="90" name="Puzzle3"/>
          <p:cNvSpPr/>
          <p:nvPr/>
        </p:nvSpPr>
        <p:spPr>
          <a:xfrm>
            <a:off x="5724360" y="1628640"/>
            <a:ext cx="3124440" cy="250200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ačunovodstvo troškova</a:t>
            </a:r>
            <a:endParaRPr b="0" lang="en-US" sz="2400" spc="-1" strike="noStrike">
              <a:solidFill>
                <a:srgbClr val="000000"/>
              </a:solidFill>
              <a:latin typeface="Arial"/>
            </a:endParaRPr>
          </a:p>
        </p:txBody>
      </p:sp>
      <p:sp>
        <p:nvSpPr>
          <p:cNvPr id="91" name=""/>
          <p:cNvSpPr txBox="1"/>
          <p:nvPr/>
        </p:nvSpPr>
        <p:spPr>
          <a:xfrm>
            <a:off x="178200" y="2451240"/>
            <a:ext cx="3186000" cy="405720"/>
          </a:xfrm>
          <a:prstGeom prst="rect">
            <a:avLst/>
          </a:prstGeom>
          <a:solidFill>
            <a:srgbClr val="ffffff"/>
          </a:solidFill>
          <a:ln w="0">
            <a:noFill/>
          </a:ln>
        </p:spPr>
        <p:txBody>
          <a:bodyPr lIns="182520" rIns="182520" tIns="46080" bIns="46080" anchor="t">
            <a:normAutofit fontScale="43000"/>
          </a:bodyPr>
          <a:p>
            <a:pPr marL="147240" indent="-14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Financijsko</a:t>
            </a:r>
            <a:endParaRPr b="0" lang="en-US" sz="2400" spc="-1" strike="noStrike">
              <a:solidFill>
                <a:srgbClr val="000000"/>
              </a:solidFill>
              <a:latin typeface="Arial"/>
            </a:endParaRPr>
          </a:p>
          <a:p>
            <a:pPr marL="147240" indent="-14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ačunovodstv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C75CB14-B55C-4E30-A430-50CC75B7215C}"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042920" y="404640"/>
            <a:ext cx="7866000" cy="9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nventar i njegova struktura</a:t>
            </a:r>
            <a:endParaRPr b="0" lang="en-US" sz="4000" spc="-1" strike="noStrike">
              <a:solidFill>
                <a:srgbClr val="000000"/>
              </a:solidFill>
              <a:latin typeface="Arial"/>
            </a:endParaRPr>
          </a:p>
        </p:txBody>
      </p:sp>
      <p:sp>
        <p:nvSpPr>
          <p:cNvPr id="664" name="PlaceHolder 2"/>
          <p:cNvSpPr>
            <a:spLocks noGrp="1"/>
          </p:cNvSpPr>
          <p:nvPr>
            <p:ph/>
          </p:nvPr>
        </p:nvSpPr>
        <p:spPr>
          <a:xfrm>
            <a:off x="0" y="1557360"/>
            <a:ext cx="9144000" cy="4790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sporedbom aktive i pasive utvrđujemo vrijednost neto imovine što je jednako vrijednosti vlasničke glavnice (kapita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6F5985-2149-49B1-8C73-69D384265A5A}"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826560" y="476280"/>
            <a:ext cx="7648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onačni obračun amortizacije</a:t>
            </a:r>
            <a:endParaRPr b="0" lang="en-US" sz="4000" spc="-1" strike="noStrike">
              <a:solidFill>
                <a:srgbClr val="000000"/>
              </a:solidFill>
              <a:latin typeface="Arial"/>
            </a:endParaRPr>
          </a:p>
        </p:txBody>
      </p:sp>
      <p:sp>
        <p:nvSpPr>
          <p:cNvPr id="666" name="PlaceHolder 2"/>
          <p:cNvSpPr>
            <a:spLocks noGrp="1"/>
          </p:cNvSpPr>
          <p:nvPr>
            <p:ph/>
          </p:nvPr>
        </p:nvSpPr>
        <p:spPr>
          <a:xfrm>
            <a:off x="179280" y="1483920"/>
            <a:ext cx="8964720" cy="53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 se krajem obračunskog razdoblja te se njime utvrđuje vrijednost troška amortizacije za poslovnu godinu i provode knjiženja u financijskom računovodstv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 bi se mogao sastaviti konačni obračun potrebno je za svaku godinu sastaviti proračun amortizacije koji sadrži vrstu imovine, njezinu vrijednost na koju se primjenjuje stopa amortizaci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013525E-209A-4FB3-8EAA-87EDE6BAD9E7}" type="slidenum">
              <a:t>141</a:t>
            </a:fld>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826920" y="404280"/>
            <a:ext cx="8009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onačni obračun revalorizacije</a:t>
            </a:r>
            <a:endParaRPr b="0" lang="en-US" sz="4000" spc="-1" strike="noStrike">
              <a:solidFill>
                <a:srgbClr val="000000"/>
              </a:solidFill>
              <a:latin typeface="Arial"/>
            </a:endParaRPr>
          </a:p>
        </p:txBody>
      </p:sp>
      <p:sp>
        <p:nvSpPr>
          <p:cNvPr id="668"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valorizacija je ponovno procjenjivanje, odnosno utvrđivanje vrijednosti imovine, obveza i kapital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Budući da vrijednost imovine, obveza i kapitala nije fiksna već protekom se vremena mijenja potrebno je provesti revalorizaciju. Posebice je to izraženo u uvjetima hiperinflaci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ijekom godine poduzeća primjenjuju privremeni obračun revalorizacije, dok se njezin konačni obračun provodi na kraju poslovne godine, budući se njezini efekti odražavaju na rezultat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54417E-5D9F-4F46-8419-CD8E77B7859A}" type="slidenum">
              <a:t>142</a:t>
            </a:fld>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75920"/>
            <a:ext cx="829764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probnog računa dobiti i gubitka</a:t>
            </a:r>
            <a:endParaRPr b="0" lang="en-US" sz="4000" spc="-1" strike="noStrike">
              <a:solidFill>
                <a:srgbClr val="000000"/>
              </a:solidFill>
              <a:latin typeface="Arial"/>
            </a:endParaRPr>
          </a:p>
        </p:txBody>
      </p:sp>
      <p:sp>
        <p:nvSpPr>
          <p:cNvPr id="670"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bni račun dobiti i gubitka dinamički je interni izvještaj koji se sastavlja potkraj obračunskog razdoblja radi izvještavanja o poslovanju tijekom god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eličine iz ovog izvještaja uspoređuju se s planiranim računom dobiti i gubitka te služi za analizu strukture rashoda i prihoda te za usporedbu planiranih i ostvarenih veliči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ažan je kako bi se utvrdio rezultat pojedinih djelatnosti unutar poduzeća te omogućuje vođenje optimalne računovodstvene politik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EBB28B-F7AB-42CD-B729-FF093431BEF8}" type="slidenum">
              <a:t>143</a:t>
            </a:fld>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763640" y="475920"/>
            <a:ext cx="592128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ZAKLJUČNI RADOVI</a:t>
            </a:r>
            <a:endParaRPr b="0" lang="en-US" sz="4000" spc="-1" strike="noStrike">
              <a:solidFill>
                <a:srgbClr val="000000"/>
              </a:solidFill>
              <a:latin typeface="Arial"/>
            </a:endParaRPr>
          </a:p>
        </p:txBody>
      </p:sp>
      <p:sp>
        <p:nvSpPr>
          <p:cNvPr id="672"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meljni financijski izvještaji s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bilan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ačuna dobiti i gubitka (izvještaj o dob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zvještaj o novčanom tok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zvještaj o promjeni glavnice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bilješke uz financijske izvještaj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ajem poslovne godine vrši se zaključivanje poslovnih knjiga. Prometi na dugovnim i potražnim stranama se zbrajaj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met u dnevniku i glavnoj knjizi mora biti is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meljne poslovne knjige čuvaju se 10 godin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343544-D792-49C0-A4AA-E83F85B220D2}" type="slidenum">
              <a:t>144</a:t>
            </a:fld>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907640" y="404640"/>
            <a:ext cx="5705640" cy="9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ZAKLJUČNI RADOVI</a:t>
            </a:r>
            <a:endParaRPr b="0" lang="en-US" sz="4000" spc="-1" strike="noStrike">
              <a:solidFill>
                <a:srgbClr val="000000"/>
              </a:solidFill>
              <a:latin typeface="Arial"/>
            </a:endParaRPr>
          </a:p>
        </p:txBody>
      </p:sp>
      <p:sp>
        <p:nvSpPr>
          <p:cNvPr id="67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j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Stanje na računu zaliha sitnog inventara na dugovnoj strani na kraju godine iznosilo je 150.000,00 kn, a na potražnoj strani 120.000,00 kn. Provodi se godišnji zaključak raču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D        Zalihe sitnog inventara        P</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1800" spc="-1" strike="noStrike">
                <a:solidFill>
                  <a:srgbClr val="000000"/>
                </a:solidFill>
                <a:latin typeface="Times New Roman"/>
              </a:rPr>
              <a:t>Promet  150.000,00     120.000,00   Prome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30.000,00   Zaključni saldo</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Ukupno  150.000,00     150.000,00  Ukupno</a:t>
            </a:r>
            <a:r>
              <a:rPr b="0" lang="hr-HR" sz="2000" spc="-1" strike="noStrike">
                <a:solidFill>
                  <a:srgbClr val="000000"/>
                </a:solidFill>
                <a:latin typeface="Times New Roman"/>
              </a:rPr>
              <a:t>	</a:t>
            </a:r>
            <a:endParaRPr b="0" lang="en-US" sz="2000" spc="-1" strike="noStrike">
              <a:solidFill>
                <a:srgbClr val="000000"/>
              </a:solidFill>
              <a:latin typeface="Arial"/>
            </a:endParaRPr>
          </a:p>
        </p:txBody>
      </p:sp>
      <p:sp>
        <p:nvSpPr>
          <p:cNvPr id="675" name=""/>
          <p:cNvSpPr/>
          <p:nvPr/>
        </p:nvSpPr>
        <p:spPr>
          <a:xfrm>
            <a:off x="1332000" y="414972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419640" y="414972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1332000" y="486900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332000" y="5229360"/>
            <a:ext cx="468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C764BF-EE84-40C3-985B-5BD5BF64CC6B}" type="slidenum">
              <a:t>145</a:t>
            </a:fld>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0" y="1628280"/>
            <a:ext cx="9144000" cy="25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TEMELJNI FINANCIJSKI IZVJEŠTAJI </a:t>
            </a:r>
            <a:br>
              <a:rPr sz="4400"/>
            </a:br>
            <a:r>
              <a:rPr b="1" lang="hr-HR" sz="4400" spc="-1" strike="noStrike">
                <a:solidFill>
                  <a:srgbClr val="000000"/>
                </a:solidFill>
                <a:latin typeface="Arial"/>
              </a:rPr>
              <a:t>INSTITUCIONALNI OKVI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FF60146-B608-49A3-B004-DC9D8CDF8E05}" type="slidenum">
              <a:t>146</a:t>
            </a:fld>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1">
                                  <p:stCondLst>
                                    <p:cond delay="0"/>
                                  </p:stCondLst>
                                  <p:childTnLst>
                                    <p:set>
                                      <p:cBhvr>
                                        <p:cTn id="86" dur="1" fill="hold">
                                          <p:stCondLst>
                                            <p:cond delay="0"/>
                                          </p:stCondLst>
                                        </p:cTn>
                                        <p:tgtEl>
                                          <p:spTgt spid="679"/>
                                        </p:tgtEl>
                                        <p:attrNameLst>
                                          <p:attrName>style.visibility</p:attrName>
                                        </p:attrNameLst>
                                      </p:cBhvr>
                                      <p:to>
                                        <p:strVal val="visible"/>
                                      </p:to>
                                    </p:set>
                                    <p:anim calcmode="lin" valueType="num">
                                      <p:cBhvr additive="base">
                                        <p:cTn id="87" dur="500" fill="hold"/>
                                        <p:tgtEl>
                                          <p:spTgt spid="679"/>
                                        </p:tgtEl>
                                        <p:attrNameLst>
                                          <p:attrName>ppt_x</p:attrName>
                                        </p:attrNameLst>
                                      </p:cBhvr>
                                      <p:tavLst>
                                        <p:tav tm="0">
                                          <p:val>
                                            <p:strVal val="#ppt_x"/>
                                          </p:val>
                                        </p:tav>
                                        <p:tav tm="100000">
                                          <p:val>
                                            <p:strVal val="#ppt_x"/>
                                          </p:val>
                                        </p:tav>
                                      </p:tavLst>
                                    </p:anim>
                                    <p:anim calcmode="lin" valueType="num">
                                      <p:cBhvr additive="base">
                                        <p:cTn id="88" dur="500" fill="hold"/>
                                        <p:tgtEl>
                                          <p:spTgt spid="6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4000" y="189000"/>
            <a:ext cx="8080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Institucionalni okvir</a:t>
            </a:r>
            <a:endParaRPr b="0" lang="en-US" sz="3600" spc="-1" strike="noStrike">
              <a:solidFill>
                <a:srgbClr val="000000"/>
              </a:solidFill>
              <a:latin typeface="Arial"/>
            </a:endParaRPr>
          </a:p>
        </p:txBody>
      </p:sp>
      <p:sp>
        <p:nvSpPr>
          <p:cNvPr id="681" name="PlaceHolder 2"/>
          <p:cNvSpPr>
            <a:spLocks noGrp="1"/>
          </p:cNvSpPr>
          <p:nvPr>
            <p:ph/>
          </p:nvPr>
        </p:nvSpPr>
        <p:spPr>
          <a:xfrm>
            <a:off x="250920" y="1268280"/>
            <a:ext cx="8424720" cy="5329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I skupina zemalja</a:t>
            </a:r>
            <a:r>
              <a:rPr b="0" lang="hr-HR" sz="2400" spc="-1" strike="noStrike">
                <a:solidFill>
                  <a:srgbClr val="000000"/>
                </a:solidFill>
                <a:latin typeface="Times New Roman"/>
              </a:rPr>
              <a:t> – postoji zakonski okvir za sastavljanje financijskih izvješta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II skupina zemalja</a:t>
            </a:r>
            <a:r>
              <a:rPr b="0" lang="hr-HR" sz="2400" spc="-1" strike="noStrike">
                <a:solidFill>
                  <a:srgbClr val="000000"/>
                </a:solidFill>
                <a:latin typeface="Times New Roman"/>
              </a:rPr>
              <a:t> - financijsko izvještavanje ne određuje se zakono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kompanije koje se javno listaju na fin. tržištima:  financijsko izvještavanje treba biti u skladu s računovodstvenim standard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kompanije koje se javno ne listaju na fin. tržištima: financijsko izvještavanje provode pr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redbama poreznih propis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redbama zakona o trgovačkim društv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konima državnih statisti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pćeprihvaćenim načelima računovodstvene profesi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F4DE01-43F4-4811-A79A-303D9E34BA92}" type="slidenum">
              <a:t>147</a:t>
            </a:fld>
          </a:p>
        </p:txBody>
      </p:sp>
    </p:spTree>
  </p:cSld>
  <p:transition>
    <p:checker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4000" y="188640"/>
            <a:ext cx="80802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kono o računovodstvu (1.1.1993.)</a:t>
            </a:r>
            <a:endParaRPr b="0" lang="en-US" sz="3600" spc="-1" strike="noStrike">
              <a:solidFill>
                <a:srgbClr val="000000"/>
              </a:solidFill>
              <a:latin typeface="Arial"/>
            </a:endParaRPr>
          </a:p>
        </p:txBody>
      </p:sp>
      <p:sp>
        <p:nvSpPr>
          <p:cNvPr id="683" name="PlaceHolder 2"/>
          <p:cNvSpPr>
            <a:spLocks noGrp="1"/>
          </p:cNvSpPr>
          <p:nvPr>
            <p:ph/>
          </p:nvPr>
        </p:nvSpPr>
        <p:spPr>
          <a:xfrm>
            <a:off x="324000" y="1267920"/>
            <a:ext cx="84960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nici vođenja poslovnih knjiga i sastavljanja financijskih izvještaja su trgovačka društva i fizičke osobe koji imaju status obveznika poreza na do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lovne knjige – dnevnik, glavna knjiga i pomoćne knjig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nventura (na početku poslovanja i na kraju svake god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ni plan nije propisan (mora osigurati minimalne pozicije iz temeljnih izvješta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meljni financijski izvještaji: bilanca, račun dobiti i gubitka (izvještaj o dobiti ili gubitku), izvještaj o novčanom toku, izvještaj o promjeni glavnice, bilješke uz financijske izvještaj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držaj temeljnih financijskih izvještaja trgovačkih društava (minimalne pozicije) i financijskih institu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C4908B-521E-4F1F-9102-9D4EEB7E1611}" type="slidenum">
              <a:t>148</a:t>
            </a:fld>
          </a:p>
        </p:txBody>
      </p:sp>
    </p:spTree>
  </p:cSld>
  <p:transition>
    <p:checker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p:nvPr>
        </p:nvSpPr>
        <p:spPr>
          <a:xfrm>
            <a:off x="250560" y="1371600"/>
            <a:ext cx="87138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odišnje izvješće (velike pravne osobe): informacije o značajnim poslovnim događajima u poslovnoj godini, vjerodostojnom i vjerojatnom pregledu razvoja poslovanja, aktivnostima na području istraživanja i razvoja, stjecanju vlastitih dion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solidacija financijskih izvješta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vizija financijskih izvještaja velikih i srednje velikih trgovačkih društava – d.d. – jednom godišnje, odnosno svake treće godine za mala društva – skraćena revizija – uvid u poslovanj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a velika i srednja d.d. jednom godišnje – javna objava financijskih izvještaja prema sadržaju koji vrijedi za male poduzetnike uz mišljenje revizora. Financijski izvještaji - predočenje vlasnicima – članovima društva u roku od 4 mjeseca (mala i srednja društva), 6 mjeseci (velika),9 mjeseci (grupe-konsolidirani financijski izvještaji).</a:t>
            </a:r>
            <a:endParaRPr b="0" lang="en-US" sz="2400" spc="-1" strike="noStrike">
              <a:solidFill>
                <a:srgbClr val="000000"/>
              </a:solidFill>
              <a:latin typeface="Arial"/>
            </a:endParaRPr>
          </a:p>
        </p:txBody>
      </p:sp>
      <p:sp>
        <p:nvSpPr>
          <p:cNvPr id="685" name="PlaceHolder 2"/>
          <p:cNvSpPr>
            <a:spLocks noGrp="1"/>
          </p:cNvSpPr>
          <p:nvPr>
            <p:ph type="title"/>
          </p:nvPr>
        </p:nvSpPr>
        <p:spPr>
          <a:xfrm>
            <a:off x="684000" y="188640"/>
            <a:ext cx="80802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kono o računovodstvu (1.1.1993.)</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B7F6A42-EFAE-4F54-93A4-75404B38C0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18864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djela prema razini obuhvata</a:t>
            </a:r>
            <a:endParaRPr b="0" lang="en-US" sz="3600" spc="-1" strike="noStrike">
              <a:solidFill>
                <a:srgbClr val="000000"/>
              </a:solidFill>
              <a:latin typeface="Arial"/>
            </a:endParaRPr>
          </a:p>
        </p:txBody>
      </p:sp>
      <p:sp>
        <p:nvSpPr>
          <p:cNvPr id="93" name="PlaceHolder 2"/>
          <p:cNvSpPr>
            <a:spLocks noGrp="1"/>
          </p:cNvSpPr>
          <p:nvPr>
            <p:ph/>
          </p:nvPr>
        </p:nvSpPr>
        <p:spPr>
          <a:xfrm>
            <a:off x="395280" y="1915920"/>
            <a:ext cx="7772400" cy="4103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r</a:t>
            </a:r>
            <a:r>
              <a:rPr b="0" lang="hr-HR" sz="2400" spc="-1" strike="noStrike">
                <a:solidFill>
                  <a:srgbClr val="000000"/>
                </a:solidFill>
                <a:latin typeface="Arial"/>
              </a:rPr>
              <a:t>o-računovodstv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kro-računovodstvo (nacional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28503A-504C-483C-831B-DFDD5E5AC181}" type="slidenum">
              <a:t>15</a:t>
            </a:fld>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p:nvPr>
        </p:nvSpPr>
        <p:spPr>
          <a:xfrm>
            <a:off x="179280" y="1196640"/>
            <a:ext cx="896472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jenjuju se MRS-ovi pri financijskom izvještavanju vanjskih korisnika. (HOR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ZOR postavlja zahtjev da temeljni financijski izvještaji moraju pružiti istinit, fer, pouzdan i nepristran pregled imovine, obveza, kapitala, promjene financijskog položaja te dobiti ili gubitk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inancijske izvještaje (bilancu, izvještaj o dobiti ili gubitku i dodatni podaci) uz ostalu dokumentaciju propisanu Pravilnikom o registru godišnjih financijskih izvještaja, svi obveznici poreza na dobit predaju Registru godišnjih financijskih izvještaja do 31.03. tekuće godine za prethodnu godinu. Registar prikuplja, obrađuje i evidentira izvještaje, pohranjuje podatke, upravlja bazom podataka te osigurava zaštitu baze podataka i dokumenata koji su pohranjeni u arhivu. Registar je javan.</a:t>
            </a:r>
            <a:endParaRPr b="0" lang="en-US" sz="2400" spc="-1" strike="noStrike">
              <a:solidFill>
                <a:srgbClr val="000000"/>
              </a:solidFill>
              <a:latin typeface="Arial"/>
            </a:endParaRPr>
          </a:p>
        </p:txBody>
      </p:sp>
      <p:sp>
        <p:nvSpPr>
          <p:cNvPr id="687" name="PlaceHolder 2"/>
          <p:cNvSpPr>
            <a:spLocks noGrp="1"/>
          </p:cNvSpPr>
          <p:nvPr>
            <p:ph type="title"/>
          </p:nvPr>
        </p:nvSpPr>
        <p:spPr>
          <a:xfrm>
            <a:off x="684000" y="188640"/>
            <a:ext cx="8080200" cy="936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kono o računovodstvu (1.1.1993.)</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6B76FF7-B9B6-4EFD-B647-3E2A107AD1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250560" y="1267920"/>
            <a:ext cx="8675640" cy="4969080"/>
          </a:xfrm>
          <a:prstGeom prst="rect">
            <a:avLst/>
          </a:prstGeom>
          <a:noFill/>
          <a:ln w="0">
            <a:noFill/>
          </a:ln>
        </p:spPr>
        <p:txBody>
          <a:bodyPr lIns="182520" rIns="18252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alni sustav financijskog izvještavanj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vanjske korisnike: ZOR i MRS-ov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poreznu upravu: porezni zakoni, Zakon o porezu na dobi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stala regulativa relevantna za financijsko izvještavanj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on o trgovačkim društvima (posebno raspodjela dobiti),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on o izdavanju i prometu vrijednosnih papir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avilnik o tromjesečnim financijskim i poslovnim izvješćim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on i Pravilnik o registru godišnjih financijskih izvještaja.</a:t>
            </a:r>
            <a:br>
              <a:rPr sz="2400"/>
            </a:br>
            <a:r>
              <a:rPr b="0" lang="en-GB" sz="2400" spc="-1" strike="noStrike">
                <a:solidFill>
                  <a:srgbClr val="000000"/>
                </a:solidFill>
                <a:latin typeface="Times New Roman"/>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400" spc="-1" strike="noStrike">
                <a:solidFill>
                  <a:srgbClr val="000000"/>
                </a:solidFill>
                <a:latin typeface="Times New Roman"/>
              </a:rPr>
              <a:t>Napomena</a:t>
            </a:r>
            <a:r>
              <a:rPr b="0" lang="hr-HR" sz="2400" spc="-1" strike="noStrike">
                <a:solidFill>
                  <a:srgbClr val="000000"/>
                </a:solidFill>
                <a:latin typeface="Times New Roman"/>
              </a:rPr>
              <a:t>: kriteriji za razvrstavanje malih, srednjih i velikih trgovačkih društava – v. čl. 16 ZOR-a</a:t>
            </a:r>
            <a:br>
              <a:rPr sz="2400"/>
            </a:br>
            <a:endParaRPr b="0" lang="en-US" sz="2400" spc="-1" strike="noStrike">
              <a:solidFill>
                <a:srgbClr val="000000"/>
              </a:solidFill>
              <a:latin typeface="Arial"/>
            </a:endParaRPr>
          </a:p>
        </p:txBody>
      </p:sp>
      <p:sp>
        <p:nvSpPr>
          <p:cNvPr id="689" name="PlaceHolder 2"/>
          <p:cNvSpPr>
            <a:spLocks noGrp="1"/>
          </p:cNvSpPr>
          <p:nvPr>
            <p:ph type="title"/>
          </p:nvPr>
        </p:nvSpPr>
        <p:spPr>
          <a:xfrm>
            <a:off x="684000" y="188640"/>
            <a:ext cx="80802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kono o računovodstvu (1.1.1993.)</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FE86FE1-BEF0-4A1D-9428-038BAEE334B5}" type="slidenum">
              <a:t>151</a:t>
            </a:fld>
          </a:p>
        </p:txBody>
      </p:sp>
    </p:spTree>
  </p:cSld>
  <p:transition>
    <p:checker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26560" y="126792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IMOVINA</a:t>
            </a:r>
            <a:endParaRPr b="0" lang="en-US" sz="4400" spc="-1" strike="noStrike">
              <a:solidFill>
                <a:srgbClr val="000000"/>
              </a:solidFill>
              <a:latin typeface="Arial"/>
            </a:endParaRPr>
          </a:p>
        </p:txBody>
      </p:sp>
      <p:sp>
        <p:nvSpPr>
          <p:cNvPr id="691" name="PlaceHolder 2"/>
          <p:cNvSpPr>
            <a:spLocks noGrp="1"/>
          </p:cNvSpPr>
          <p:nvPr>
            <p:ph type="subTitle"/>
          </p:nvPr>
        </p:nvSpPr>
        <p:spPr>
          <a:xfrm>
            <a:off x="971640" y="3213000"/>
            <a:ext cx="6702480" cy="3167280"/>
          </a:xfrm>
          <a:prstGeom prst="rect">
            <a:avLst/>
          </a:prstGeom>
          <a:noFill/>
          <a:ln w="0">
            <a:noFill/>
          </a:ln>
        </p:spPr>
        <p:txBody>
          <a:bodyPr lIns="90000" rIns="90000" tIns="46800" bIns="46800" anchor="t">
            <a:noAutofit/>
          </a:bodyPr>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jam i obilježja imovine</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movina prema pojavnom obliku</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movina sa stajališta funkcioniranja u</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slovnom procesu:</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Dugotrajna (stalna) imovin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Kratkotrajna (tekuća) imovin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7172D1-BCBC-4215-BFE9-99BB39593FBC}"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71280" y="333000"/>
            <a:ext cx="715788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jam i obilježja imovine</a:t>
            </a:r>
            <a:endParaRPr b="0" lang="en-US" sz="32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000" spc="-1" strike="noStrike">
                <a:solidFill>
                  <a:srgbClr val="000000"/>
                </a:solidFill>
                <a:latin typeface="Times New Roman"/>
              </a:rPr>
              <a:t>Aktiva</a:t>
            </a:r>
            <a:r>
              <a:rPr b="0" lang="hr-HR" sz="2400" spc="-1" strike="noStrike">
                <a:solidFill>
                  <a:srgbClr val="000000"/>
                </a:solidFill>
                <a:latin typeface="Times New Roman"/>
              </a:rPr>
              <a:t>	</a:t>
            </a:r>
            <a:r>
              <a:rPr b="0" lang="hr-HR" sz="2400" spc="-1" strike="noStrike">
                <a:solidFill>
                  <a:srgbClr val="000000"/>
                </a:solidFill>
                <a:latin typeface="Times New Roman"/>
              </a:rPr>
              <a:t>    BILANCA              </a:t>
            </a:r>
            <a:r>
              <a:rPr b="0" lang="hr-HR" sz="2000" spc="-1" strike="noStrike">
                <a:solidFill>
                  <a:srgbClr val="000000"/>
                </a:solidFill>
                <a:latin typeface="Times New Roman"/>
              </a:rPr>
              <a:t>Pasiv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IMOVINA</a:t>
            </a:r>
            <a:r>
              <a:rPr b="0" lang="hr-HR" sz="2000" spc="-1" strike="noStrike">
                <a:solidFill>
                  <a:srgbClr val="000000"/>
                </a:solidFill>
                <a:latin typeface="Times New Roman"/>
              </a:rPr>
              <a:t>	</a:t>
            </a:r>
            <a:r>
              <a:rPr b="0" lang="hr-HR" sz="2000" spc="-1" strike="noStrike">
                <a:solidFill>
                  <a:srgbClr val="000000"/>
                </a:solidFill>
                <a:latin typeface="Times New Roman"/>
              </a:rPr>
              <a:t>    KAPIT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OBVEZE (DUGOVI)</a:t>
            </a:r>
            <a:endParaRPr b="0" lang="en-US" sz="2000" spc="-1" strike="noStrike">
              <a:solidFill>
                <a:srgbClr val="000000"/>
              </a:solidFill>
              <a:latin typeface="Arial"/>
            </a:endParaRPr>
          </a:p>
        </p:txBody>
      </p:sp>
      <p:sp>
        <p:nvSpPr>
          <p:cNvPr id="694" name=""/>
          <p:cNvSpPr/>
          <p:nvPr/>
        </p:nvSpPr>
        <p:spPr>
          <a:xfrm>
            <a:off x="2195640" y="270828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4500720" y="270828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3B8FAE-CAD7-4CF0-BF4C-0E7776F7F1FE}"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71280" y="333000"/>
            <a:ext cx="715788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jam i obilježja imovine</a:t>
            </a:r>
            <a:endParaRPr b="0" lang="en-US" sz="3200" spc="-1" strike="noStrike">
              <a:solidFill>
                <a:srgbClr val="000000"/>
              </a:solidFill>
              <a:latin typeface="Arial"/>
            </a:endParaRPr>
          </a:p>
        </p:txBody>
      </p:sp>
      <p:sp>
        <p:nvSpPr>
          <p:cNvPr id="697" name="PlaceHolder 2"/>
          <p:cNvSpPr>
            <a:spLocks noGrp="1"/>
          </p:cNvSpPr>
          <p:nvPr>
            <p:ph/>
          </p:nvPr>
        </p:nvSpPr>
        <p:spPr>
          <a:xfrm>
            <a:off x="900000" y="1773000"/>
            <a:ext cx="7655040" cy="461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a prikazuje način na koji poduzeće koristi imovinu.</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a prikazuje izvore imovine, odnosno tko je poduzeće opskrbio imovinom koju ono korist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ori imovine tako mogu b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lastiti (kapital) 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uđi (obveze tj. dugov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Imovina obuhvaća resurse ili prava kojima poduzeće raspolaže ili su pod njegovom nepobitnom kontrolom kao rezultat prethodnih transakcija ili događaja, a s kojima će ostvariti poslovni poduhvat od kojeg se očekuje da će u budućnosti poduzeću priskrbiti ekonomsku koris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256678-DFA7-4492-80FB-9E525300E444}"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61880" y="487080"/>
            <a:ext cx="819648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jam i obilježja imovine</a:t>
            </a:r>
            <a:endParaRPr b="0" lang="en-US" sz="3600" spc="-1" strike="noStrike">
              <a:solidFill>
                <a:srgbClr val="000000"/>
              </a:solidFill>
              <a:latin typeface="Arial"/>
            </a:endParaRPr>
          </a:p>
        </p:txBody>
      </p:sp>
      <p:sp>
        <p:nvSpPr>
          <p:cNvPr id="699" name="PlaceHolder 2"/>
          <p:cNvSpPr>
            <a:spLocks noGrp="1"/>
          </p:cNvSpPr>
          <p:nvPr>
            <p:ph/>
          </p:nvPr>
        </p:nvSpPr>
        <p:spPr>
          <a:xfrm>
            <a:off x="900000" y="1773360"/>
            <a:ext cx="766152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meljni uvjet da bi određeni resurs ili pravo uključili u imovinu poduzeća jest procjena da će se u budućnosti, uporabom dotičnog resursa ili prava, ostvariti ekonomske koristi koje će pripasti poduzeć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ačno ostvarenje ekonomskih koristi ostvariti će se priljevom gotovine u poduzeć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koju poduzeće koristi najčešće je u njegovom vlasništvu, ali može biti i u tuđem s tim što poduzeće, temeljem ugovora, ima pravo njezinog korištenj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je u računovodstvu iskazana u novčanim vrijednost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FD86CA-C2FF-4E1A-92EC-2530DF1DDA1A}"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971280" y="260280"/>
            <a:ext cx="715788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jam i obilježja imovine</a:t>
            </a:r>
            <a:endParaRPr b="0" lang="en-US" sz="3200" spc="-1" strike="noStrike">
              <a:solidFill>
                <a:srgbClr val="000000"/>
              </a:solidFill>
              <a:latin typeface="Arial"/>
            </a:endParaRPr>
          </a:p>
        </p:txBody>
      </p:sp>
      <p:sp>
        <p:nvSpPr>
          <p:cNvPr id="701"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ijednost najvećeg dijela imovine (osim novca i potraživanja) uglavnom je iskazana troškovima nabave imovine tj. iznosu gotovine koji je bio uložen u njezinu nabav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ruktura i ukupna vrijednost imovine ovise o: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jelatnosti kojom se poduzeće bav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eličini i organizaciji poduze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rganizaciji proizvodnje i dostignutom stupnju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ehničkog i tehnološkog razvo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tanju na tržištu i d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5480704-BF54-4F3C-80FE-5977E54EFE91}"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61880" y="487080"/>
            <a:ext cx="819648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prema pojavnom obliku</a:t>
            </a:r>
            <a:endParaRPr b="0" lang="en-US" sz="3200" spc="-1" strike="noStrike">
              <a:solidFill>
                <a:srgbClr val="000000"/>
              </a:solidFill>
              <a:latin typeface="Arial"/>
            </a:endParaRPr>
          </a:p>
        </p:txBody>
      </p:sp>
      <p:sp>
        <p:nvSpPr>
          <p:cNvPr id="703" name="PlaceHolder 2"/>
          <p:cNvSpPr>
            <a:spLocks noGrp="1"/>
          </p:cNvSpPr>
          <p:nvPr>
            <p:ph/>
          </p:nvPr>
        </p:nvSpPr>
        <p:spPr>
          <a:xfrm>
            <a:off x="971280" y="1844280"/>
            <a:ext cx="7661160" cy="4753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obliku u kojem se pojavljuje razlikujem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ova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aterijalne stvar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ktivna vremenska razgraniče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ovac obuhvaća gotovinu i depozite s rokom dospijeća do godine dan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z novac često se javljaju novčani ekvivalenti koji predstavljaju uloge novca koji se mogu brzo i lako pretvoriti u novac bez gubitka vrijed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A3D44F-FD11-415A-8EF8-871A193A3492}"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61880" y="487440"/>
            <a:ext cx="8196480" cy="69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prema pojavnom obliku</a:t>
            </a:r>
            <a:endParaRPr b="0" lang="en-US" sz="3200" spc="-1" strike="noStrike">
              <a:solidFill>
                <a:srgbClr val="000000"/>
              </a:solidFill>
              <a:latin typeface="Arial"/>
            </a:endParaRPr>
          </a:p>
        </p:txBody>
      </p:sp>
      <p:sp>
        <p:nvSpPr>
          <p:cNvPr id="705" name="PlaceHolder 2"/>
          <p:cNvSpPr>
            <a:spLocks noGrp="1"/>
          </p:cNvSpPr>
          <p:nvPr>
            <p:ph/>
          </p:nvPr>
        </p:nvSpPr>
        <p:spPr>
          <a:xfrm>
            <a:off x="948960" y="1981080"/>
            <a:ext cx="7661160" cy="4687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aterijalne stvari odnose se na svu imovinu koja ima opipljiv, fizički oblik.</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ava su pravno priznata mogućnost postupanja u odnosu na druge te predstavljaju dio imovine poduzeća ukoliko ih je moguće iskazati u novcu, ako se može očekivati da će u određenom roku biti unovčiva ili ako poduzeće ostvaruje ekonomsku korist njihovom uporab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na vremenska razgraničenja (plaćeni troškovi budućeg razdoblja i nedospjele naplate prihoda) obuhvaćaju neukalkulirane troškove (izdatak postoji, ali ne i trošak) i nefakturirane prihode (prihod postoji, ali ne i primita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415E4E-2FCB-438A-8434-4D7D928244F8}"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61880" y="428400"/>
            <a:ext cx="819648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sa stajališta funkcioniranja u poslovnom procesu</a:t>
            </a:r>
            <a:endParaRPr b="0" lang="en-US" sz="3200" spc="-1" strike="noStrike">
              <a:solidFill>
                <a:srgbClr val="000000"/>
              </a:solidFill>
              <a:latin typeface="Arial"/>
            </a:endParaRPr>
          </a:p>
        </p:txBody>
      </p:sp>
      <p:sp>
        <p:nvSpPr>
          <p:cNvPr id="707" name="PlaceHolder 2"/>
          <p:cNvSpPr>
            <a:spLocks noGrp="1"/>
          </p:cNvSpPr>
          <p:nvPr>
            <p:ph/>
          </p:nvPr>
        </p:nvSpPr>
        <p:spPr>
          <a:xfrm>
            <a:off x="948960" y="1844640"/>
            <a:ext cx="7661160" cy="5013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 stajališta funkcioniranja imovine u poslovnom procesu i načina njezina uključivanja u poslovni proces razlikujem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ugotrajnu ili stalnu imovinu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ratkotrajnu ili tekuću imovin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rha je ovakvog razvrstavanja imovine određivanje sposobnosti poduzeća da izvodi sve poslovne aktivnosti bez vanjske financijske pomoći te da se utvrdi ročna usklađenost imovine i pasive tj. obveza i kapital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iteriji za razgraničenje imovine s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remenski kriterij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unkcionalni kriterij.</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CCFCFD-5482-451E-9C01-ED7D017E733F}" type="slidenum">
              <a:t>159</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3440" y="18864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njigovodstvo</a:t>
            </a:r>
            <a:endParaRPr b="0" lang="en-US" sz="3600" spc="-1" strike="noStrike">
              <a:solidFill>
                <a:srgbClr val="000000"/>
              </a:solidFill>
              <a:latin typeface="Arial"/>
            </a:endParaRPr>
          </a:p>
        </p:txBody>
      </p:sp>
      <p:sp>
        <p:nvSpPr>
          <p:cNvPr id="95" name="PlaceHolder 2"/>
          <p:cNvSpPr>
            <a:spLocks noGrp="1"/>
          </p:cNvSpPr>
          <p:nvPr>
            <p:ph/>
          </p:nvPr>
        </p:nvSpPr>
        <p:spPr>
          <a:xfrm>
            <a:off x="324000" y="1341000"/>
            <a:ext cx="7775280" cy="5040360"/>
          </a:xfrm>
          <a:prstGeom prst="rect">
            <a:avLst/>
          </a:prstGeom>
          <a:noFill/>
          <a:ln w="0">
            <a:noFill/>
          </a:ln>
        </p:spPr>
        <p:txBody>
          <a:bodyPr lIns="90000" rIns="90000" tIns="46800" bIns="4680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njigovodstvo je posebna vrsta gospodarske evidencije, gdje se obuhvaćaju sredstva, izvori sredstava, prihodi, rashodi i poslovni rezultat.</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gistrira već nastale poslovne promjene.</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ilježj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stavna cjelovitos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vantitativni vrijednosni izraz</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kraćeni način bilježenja nastalih poslovnih promjen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isok stupanj pouzda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0179F5-6B8D-4BBC-AF8D-60243C2B2338}"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61880" y="428400"/>
            <a:ext cx="819648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sa stajališta funkcioniranja u poslovnom procesu</a:t>
            </a:r>
            <a:endParaRPr b="0" lang="en-US" sz="3200" spc="-1" strike="noStrike">
              <a:solidFill>
                <a:srgbClr val="000000"/>
              </a:solidFill>
              <a:latin typeface="Arial"/>
            </a:endParaRPr>
          </a:p>
        </p:txBody>
      </p:sp>
      <p:sp>
        <p:nvSpPr>
          <p:cNvPr id="709"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emenski kriterij odnosi se na vrijeme u kojemu imovina prelazi iz jednog oblika u drug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unkcionalni kriterij odnosi se na činjenicu da li je imovina utrošena u jednom proizvodnom ciklusu ili nije pri čemu se pod proizvodnim ciklusom podrazumijeva prosječno vrijeme što protekne od trenutka nabave materijala koji ulazi u proizvodnju do trenutka naplate prodanih proizvoda ili uslug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trajna imovina je “dio imovine koji će ostati nepromijenjen u vremenskom roku duljem od godine dana i koji neće biti utrošen u jednom normalnom proizvodnom ciklus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1512EE-EA6A-44EF-8E6B-AAAE853D2C94}" type="slidenum">
              <a:t>160</a:t>
            </a:fld>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61880" y="428760"/>
            <a:ext cx="8196480" cy="81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sa stajališta funkcioniranja u poslovnom procesu</a:t>
            </a:r>
            <a:endParaRPr b="0" lang="en-US" sz="3200" spc="-1" strike="noStrike">
              <a:solidFill>
                <a:srgbClr val="000000"/>
              </a:solidFill>
              <a:latin typeface="Arial"/>
            </a:endParaRPr>
          </a:p>
        </p:txBody>
      </p:sp>
      <p:sp>
        <p:nvSpPr>
          <p:cNvPr id="711" name="PlaceHolder 2"/>
          <p:cNvSpPr>
            <a:spLocks noGrp="1"/>
          </p:cNvSpPr>
          <p:nvPr>
            <p:ph/>
          </p:nvPr>
        </p:nvSpPr>
        <p:spPr>
          <a:xfrm>
            <a:off x="971280" y="1844640"/>
            <a:ext cx="76611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atkotrajna imovina “je onaj dio ukupne imovine poduzeća za koji se očekuje da će biti prodan u roku od godine dana ili utrošen u normalnom proizvodnom ciklusu, ako ciklus traje dulje od godine dan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25946A-71BA-4EF2-ABEA-12AE87CBAB8B}" type="slidenum">
              <a:t>161</a:t>
            </a:fld>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61880" y="428760"/>
            <a:ext cx="8196480" cy="81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imovina</a:t>
            </a:r>
            <a:endParaRPr b="0" lang="en-US" sz="3200" spc="-1" strike="noStrike">
              <a:solidFill>
                <a:srgbClr val="000000"/>
              </a:solidFill>
              <a:latin typeface="Arial"/>
            </a:endParaRPr>
          </a:p>
        </p:txBody>
      </p:sp>
      <p:sp>
        <p:nvSpPr>
          <p:cNvPr id="713" name="PlaceHolder 2"/>
          <p:cNvSpPr>
            <a:spLocks noGrp="1"/>
          </p:cNvSpPr>
          <p:nvPr>
            <p:ph/>
          </p:nvPr>
        </p:nvSpPr>
        <p:spPr>
          <a:xfrm>
            <a:off x="948960" y="1844280"/>
            <a:ext cx="7661160" cy="4824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bavlja se uglavnom u svrhu korištenja u vlastitom poslovnom procesu na duži rok.</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Javlja se u slijedećim oblic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aterijalna imovi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ematerijalna imovi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inancijska imovin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traži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973FB6-6837-4E56-B9AE-8C236FD9B879}" type="slidenum">
              <a:t>162</a:t>
            </a:fld>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68000" y="259920"/>
            <a:ext cx="819612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imovina</a:t>
            </a:r>
            <a:endParaRPr b="0" lang="en-US" sz="3200" spc="-1" strike="noStrike">
              <a:solidFill>
                <a:srgbClr val="000000"/>
              </a:solidFill>
              <a:latin typeface="Arial"/>
            </a:endParaRPr>
          </a:p>
        </p:txBody>
      </p:sp>
      <p:grpSp>
        <p:nvGrpSpPr>
          <p:cNvPr id="715" name=""/>
          <p:cNvGrpSpPr/>
          <p:nvPr/>
        </p:nvGrpSpPr>
        <p:grpSpPr>
          <a:xfrm>
            <a:off x="684360" y="1052640"/>
            <a:ext cx="7776720" cy="5511240"/>
            <a:chOff x="684360" y="1052640"/>
            <a:chExt cx="7776720" cy="5511240"/>
          </a:xfrm>
        </p:grpSpPr>
        <p:cxnSp>
          <p:nvCxnSpPr>
            <p:cNvPr id="716" name="_s180229"/>
            <p:cNvCxnSpPr>
              <a:stCxn id="717" idx="0"/>
              <a:endCxn id="718" idx="2"/>
            </p:cNvCxnSpPr>
            <p:nvPr/>
          </p:nvCxnSpPr>
          <p:spPr>
            <a:xfrm flipV="1" rot="16200000">
              <a:off x="5963400" y="262440"/>
              <a:ext cx="302760" cy="3085920"/>
            </a:xfrm>
            <a:prstGeom prst="bentConnector3">
              <a:avLst>
                <a:gd name="adj1" fmla="val 34523"/>
              </a:avLst>
            </a:prstGeom>
            <a:ln w="28440">
              <a:solidFill>
                <a:srgbClr val="000000"/>
              </a:solidFill>
              <a:miter/>
            </a:ln>
          </p:spPr>
        </p:cxnSp>
        <p:cxnSp>
          <p:nvCxnSpPr>
            <p:cNvPr id="719" name="_s180230"/>
            <p:cNvCxnSpPr>
              <a:stCxn id="720" idx="1"/>
              <a:endCxn id="721" idx="2"/>
            </p:cNvCxnSpPr>
            <p:nvPr/>
          </p:nvCxnSpPr>
          <p:spPr>
            <a:xfrm rot="10800000">
              <a:off x="5779800" y="2558520"/>
              <a:ext cx="267120" cy="3656880"/>
            </a:xfrm>
            <a:prstGeom prst="bentConnector2">
              <a:avLst/>
            </a:prstGeom>
            <a:ln w="28440">
              <a:solidFill>
                <a:srgbClr val="000000"/>
              </a:solidFill>
              <a:miter/>
            </a:ln>
          </p:spPr>
        </p:cxnSp>
        <p:cxnSp>
          <p:nvCxnSpPr>
            <p:cNvPr id="722" name="_s180231"/>
            <p:cNvCxnSpPr>
              <a:stCxn id="723" idx="1"/>
              <a:endCxn id="721" idx="2"/>
            </p:cNvCxnSpPr>
            <p:nvPr/>
          </p:nvCxnSpPr>
          <p:spPr>
            <a:xfrm rot="10800000">
              <a:off x="5779800" y="2558520"/>
              <a:ext cx="267120" cy="2655360"/>
            </a:xfrm>
            <a:prstGeom prst="bentConnector2">
              <a:avLst/>
            </a:prstGeom>
            <a:ln w="28440">
              <a:solidFill>
                <a:srgbClr val="000000"/>
              </a:solidFill>
              <a:miter/>
            </a:ln>
          </p:spPr>
        </p:cxnSp>
        <p:cxnSp>
          <p:nvCxnSpPr>
            <p:cNvPr id="724" name="_s180232"/>
            <p:cNvCxnSpPr>
              <a:stCxn id="725" idx="1"/>
              <a:endCxn id="721" idx="2"/>
            </p:cNvCxnSpPr>
            <p:nvPr/>
          </p:nvCxnSpPr>
          <p:spPr>
            <a:xfrm rot="10800000">
              <a:off x="5779800" y="2558520"/>
              <a:ext cx="267120" cy="1654560"/>
            </a:xfrm>
            <a:prstGeom prst="bentConnector2">
              <a:avLst/>
            </a:prstGeom>
            <a:ln w="28440">
              <a:solidFill>
                <a:srgbClr val="000000"/>
              </a:solidFill>
              <a:miter/>
            </a:ln>
          </p:spPr>
        </p:cxnSp>
        <p:cxnSp>
          <p:nvCxnSpPr>
            <p:cNvPr id="726" name="_s180233"/>
            <p:cNvCxnSpPr>
              <a:stCxn id="727" idx="1"/>
              <a:endCxn id="721" idx="2"/>
            </p:cNvCxnSpPr>
            <p:nvPr/>
          </p:nvCxnSpPr>
          <p:spPr>
            <a:xfrm rot="10800000">
              <a:off x="5779800" y="2558520"/>
              <a:ext cx="267120" cy="653400"/>
            </a:xfrm>
            <a:prstGeom prst="bentConnector2">
              <a:avLst/>
            </a:prstGeom>
            <a:ln w="28440">
              <a:solidFill>
                <a:srgbClr val="000000"/>
              </a:solidFill>
              <a:miter/>
            </a:ln>
          </p:spPr>
        </p:cxnSp>
        <p:cxnSp>
          <p:nvCxnSpPr>
            <p:cNvPr id="728" name="_s180234"/>
            <p:cNvCxnSpPr>
              <a:stCxn id="729" idx="1"/>
              <a:endCxn id="730" idx="2"/>
            </p:cNvCxnSpPr>
            <p:nvPr/>
          </p:nvCxnSpPr>
          <p:spPr>
            <a:xfrm rot="10800000">
              <a:off x="3634200" y="2558520"/>
              <a:ext cx="267120" cy="3656880"/>
            </a:xfrm>
            <a:prstGeom prst="bentConnector2">
              <a:avLst/>
            </a:prstGeom>
            <a:ln w="28440">
              <a:solidFill>
                <a:srgbClr val="000000"/>
              </a:solidFill>
              <a:miter/>
            </a:ln>
          </p:spPr>
        </p:cxnSp>
        <p:cxnSp>
          <p:nvCxnSpPr>
            <p:cNvPr id="731" name="_s180235"/>
            <p:cNvCxnSpPr>
              <a:stCxn id="732" idx="1"/>
              <a:endCxn id="730" idx="2"/>
            </p:cNvCxnSpPr>
            <p:nvPr/>
          </p:nvCxnSpPr>
          <p:spPr>
            <a:xfrm rot="10800000">
              <a:off x="3634200" y="2558520"/>
              <a:ext cx="267120" cy="2655360"/>
            </a:xfrm>
            <a:prstGeom prst="bentConnector2">
              <a:avLst/>
            </a:prstGeom>
            <a:ln w="28440">
              <a:solidFill>
                <a:srgbClr val="000000"/>
              </a:solidFill>
              <a:miter/>
            </a:ln>
          </p:spPr>
        </p:cxnSp>
        <p:cxnSp>
          <p:nvCxnSpPr>
            <p:cNvPr id="733" name="_s180236"/>
            <p:cNvCxnSpPr>
              <a:stCxn id="734" idx="1"/>
              <a:endCxn id="730" idx="2"/>
            </p:cNvCxnSpPr>
            <p:nvPr/>
          </p:nvCxnSpPr>
          <p:spPr>
            <a:xfrm rot="10800000">
              <a:off x="3634200" y="2558520"/>
              <a:ext cx="267120" cy="1654560"/>
            </a:xfrm>
            <a:prstGeom prst="bentConnector2">
              <a:avLst/>
            </a:prstGeom>
            <a:ln w="28440">
              <a:solidFill>
                <a:srgbClr val="000000"/>
              </a:solidFill>
              <a:miter/>
            </a:ln>
          </p:spPr>
        </p:cxnSp>
        <p:cxnSp>
          <p:nvCxnSpPr>
            <p:cNvPr id="735" name="_s180237"/>
            <p:cNvCxnSpPr>
              <a:stCxn id="736" idx="1"/>
              <a:endCxn id="730" idx="2"/>
            </p:cNvCxnSpPr>
            <p:nvPr/>
          </p:nvCxnSpPr>
          <p:spPr>
            <a:xfrm rot="10800000">
              <a:off x="3634200" y="2558520"/>
              <a:ext cx="267120" cy="653400"/>
            </a:xfrm>
            <a:prstGeom prst="bentConnector2">
              <a:avLst/>
            </a:prstGeom>
            <a:ln w="28440">
              <a:solidFill>
                <a:srgbClr val="000000"/>
              </a:solidFill>
              <a:miter/>
            </a:ln>
          </p:spPr>
        </p:cxnSp>
        <p:cxnSp>
          <p:nvCxnSpPr>
            <p:cNvPr id="737" name="_s180238"/>
            <p:cNvCxnSpPr>
              <a:stCxn id="738" idx="1"/>
              <a:endCxn id="739" idx="2"/>
            </p:cNvCxnSpPr>
            <p:nvPr/>
          </p:nvCxnSpPr>
          <p:spPr>
            <a:xfrm rot="10800000">
              <a:off x="1488600" y="2558520"/>
              <a:ext cx="266760" cy="3656880"/>
            </a:xfrm>
            <a:prstGeom prst="bentConnector2">
              <a:avLst/>
            </a:prstGeom>
            <a:ln w="28440">
              <a:solidFill>
                <a:srgbClr val="000000"/>
              </a:solidFill>
              <a:miter/>
            </a:ln>
          </p:spPr>
        </p:cxnSp>
        <p:cxnSp>
          <p:nvCxnSpPr>
            <p:cNvPr id="740" name="_s180239"/>
            <p:cNvCxnSpPr>
              <a:stCxn id="741" idx="1"/>
              <a:endCxn id="739" idx="2"/>
            </p:cNvCxnSpPr>
            <p:nvPr/>
          </p:nvCxnSpPr>
          <p:spPr>
            <a:xfrm rot="10800000">
              <a:off x="1488600" y="2558520"/>
              <a:ext cx="266760" cy="2655360"/>
            </a:xfrm>
            <a:prstGeom prst="bentConnector2">
              <a:avLst/>
            </a:prstGeom>
            <a:ln w="28440">
              <a:solidFill>
                <a:srgbClr val="000000"/>
              </a:solidFill>
              <a:miter/>
            </a:ln>
          </p:spPr>
        </p:cxnSp>
        <p:cxnSp>
          <p:nvCxnSpPr>
            <p:cNvPr id="742" name="_s180240"/>
            <p:cNvCxnSpPr>
              <a:stCxn id="743" idx="1"/>
              <a:endCxn id="739" idx="2"/>
            </p:cNvCxnSpPr>
            <p:nvPr/>
          </p:nvCxnSpPr>
          <p:spPr>
            <a:xfrm rot="10800000">
              <a:off x="1488600" y="2558520"/>
              <a:ext cx="266760" cy="1654560"/>
            </a:xfrm>
            <a:prstGeom prst="bentConnector2">
              <a:avLst/>
            </a:prstGeom>
            <a:ln w="28440">
              <a:solidFill>
                <a:srgbClr val="000000"/>
              </a:solidFill>
              <a:miter/>
            </a:ln>
          </p:spPr>
        </p:cxnSp>
        <p:cxnSp>
          <p:nvCxnSpPr>
            <p:cNvPr id="744" name="_s180241"/>
            <p:cNvCxnSpPr>
              <a:stCxn id="745" idx="1"/>
              <a:endCxn id="739" idx="2"/>
            </p:cNvCxnSpPr>
            <p:nvPr/>
          </p:nvCxnSpPr>
          <p:spPr>
            <a:xfrm rot="10800000">
              <a:off x="1488600" y="2558520"/>
              <a:ext cx="266760" cy="653400"/>
            </a:xfrm>
            <a:prstGeom prst="bentConnector2">
              <a:avLst/>
            </a:prstGeom>
            <a:ln w="28440">
              <a:solidFill>
                <a:srgbClr val="000000"/>
              </a:solidFill>
              <a:miter/>
            </a:ln>
          </p:spPr>
        </p:cxnSp>
        <p:cxnSp>
          <p:nvCxnSpPr>
            <p:cNvPr id="746" name="_s180242"/>
            <p:cNvCxnSpPr>
              <a:stCxn id="721" idx="0"/>
              <a:endCxn id="718" idx="2"/>
            </p:cNvCxnSpPr>
            <p:nvPr/>
          </p:nvCxnSpPr>
          <p:spPr>
            <a:xfrm flipV="1" rot="16200000">
              <a:off x="5024880" y="1200960"/>
              <a:ext cx="302760" cy="1208880"/>
            </a:xfrm>
            <a:prstGeom prst="bentConnector3">
              <a:avLst>
                <a:gd name="adj1" fmla="val 34523"/>
              </a:avLst>
            </a:prstGeom>
            <a:ln w="28440">
              <a:solidFill>
                <a:srgbClr val="000000"/>
              </a:solidFill>
              <a:miter/>
            </a:ln>
          </p:spPr>
        </p:cxnSp>
        <p:cxnSp>
          <p:nvCxnSpPr>
            <p:cNvPr id="747" name="_s180243"/>
            <p:cNvCxnSpPr>
              <a:stCxn id="730" idx="0"/>
              <a:endCxn id="718" idx="2"/>
            </p:cNvCxnSpPr>
            <p:nvPr/>
          </p:nvCxnSpPr>
          <p:spPr>
            <a:xfrm flipH="1" flipV="1" rot="5400000">
              <a:off x="3952440" y="1336680"/>
              <a:ext cx="302760" cy="938160"/>
            </a:xfrm>
            <a:prstGeom prst="bentConnector3">
              <a:avLst>
                <a:gd name="adj1" fmla="val 34523"/>
              </a:avLst>
            </a:prstGeom>
            <a:ln w="28440">
              <a:solidFill>
                <a:srgbClr val="000000"/>
              </a:solidFill>
              <a:miter/>
            </a:ln>
          </p:spPr>
        </p:cxnSp>
        <p:cxnSp>
          <p:nvCxnSpPr>
            <p:cNvPr id="748" name="_s180244"/>
            <p:cNvCxnSpPr>
              <a:stCxn id="739" idx="0"/>
              <a:endCxn id="718" idx="2"/>
            </p:cNvCxnSpPr>
            <p:nvPr/>
          </p:nvCxnSpPr>
          <p:spPr>
            <a:xfrm flipH="1" flipV="1" rot="5400000">
              <a:off x="2879280" y="263880"/>
              <a:ext cx="302760" cy="3083400"/>
            </a:xfrm>
            <a:prstGeom prst="bentConnector3">
              <a:avLst>
                <a:gd name="adj1" fmla="val 34523"/>
              </a:avLst>
            </a:prstGeom>
            <a:ln w="28440">
              <a:solidFill>
                <a:srgbClr val="000000"/>
              </a:solidFill>
              <a:miter/>
            </a:ln>
          </p:spPr>
        </p:cxnSp>
        <p:sp>
          <p:nvSpPr>
            <p:cNvPr id="718" name="_s180245"/>
            <p:cNvSpPr/>
            <p:nvPr/>
          </p:nvSpPr>
          <p:spPr>
            <a:xfrm>
              <a:off x="3767040" y="1052640"/>
              <a:ext cx="1610280" cy="60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Times New Roman"/>
                </a:rPr>
                <a:t>Dugotrajna imovina</a:t>
              </a:r>
              <a:endParaRPr b="0" lang="en-US" sz="1300" spc="-1" strike="noStrike">
                <a:solidFill>
                  <a:srgbClr val="000000"/>
                </a:solidFill>
                <a:latin typeface="Arial"/>
              </a:endParaRPr>
            </a:p>
          </p:txBody>
        </p:sp>
        <p:sp>
          <p:nvSpPr>
            <p:cNvPr id="739" name="_s180246"/>
            <p:cNvSpPr/>
            <p:nvPr/>
          </p:nvSpPr>
          <p:spPr>
            <a:xfrm>
              <a:off x="684360" y="1957320"/>
              <a:ext cx="1608480" cy="60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Materijalna imovina</a:t>
              </a:r>
              <a:endParaRPr b="0" lang="en-US" sz="1200" spc="-1" strike="noStrike">
                <a:solidFill>
                  <a:srgbClr val="000000"/>
                </a:solidFill>
                <a:latin typeface="Arial"/>
              </a:endParaRPr>
            </a:p>
          </p:txBody>
        </p:sp>
        <p:sp>
          <p:nvSpPr>
            <p:cNvPr id="730" name="_s180247"/>
            <p:cNvSpPr/>
            <p:nvPr/>
          </p:nvSpPr>
          <p:spPr>
            <a:xfrm>
              <a:off x="2829600" y="1957320"/>
              <a:ext cx="1608840" cy="60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Nematerijalna imovina</a:t>
              </a:r>
              <a:endParaRPr b="0" lang="en-US" sz="1200" spc="-1" strike="noStrike">
                <a:solidFill>
                  <a:srgbClr val="000000"/>
                </a:solidFill>
                <a:latin typeface="Arial"/>
              </a:endParaRPr>
            </a:p>
          </p:txBody>
        </p:sp>
        <p:sp>
          <p:nvSpPr>
            <p:cNvPr id="721" name="_s180248"/>
            <p:cNvSpPr/>
            <p:nvPr/>
          </p:nvSpPr>
          <p:spPr>
            <a:xfrm>
              <a:off x="4975200" y="1957320"/>
              <a:ext cx="1608840" cy="60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Financijska imovina</a:t>
              </a:r>
              <a:endParaRPr b="0" lang="en-US" sz="1200" spc="-1" strike="noStrike">
                <a:solidFill>
                  <a:srgbClr val="000000"/>
                </a:solidFill>
                <a:latin typeface="Arial"/>
              </a:endParaRPr>
            </a:p>
          </p:txBody>
        </p:sp>
        <p:sp>
          <p:nvSpPr>
            <p:cNvPr id="745" name="_s180249"/>
            <p:cNvSpPr/>
            <p:nvPr/>
          </p:nvSpPr>
          <p:spPr>
            <a:xfrm>
              <a:off x="1755720" y="2861640"/>
              <a:ext cx="160884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Zemljišta i šume</a:t>
              </a:r>
              <a:endParaRPr b="0" lang="en-US" sz="1100" spc="-1" strike="noStrike">
                <a:solidFill>
                  <a:srgbClr val="000000"/>
                </a:solidFill>
                <a:latin typeface="Arial"/>
              </a:endParaRPr>
            </a:p>
          </p:txBody>
        </p:sp>
        <p:sp>
          <p:nvSpPr>
            <p:cNvPr id="743" name="_s180250"/>
            <p:cNvSpPr/>
            <p:nvPr/>
          </p:nvSpPr>
          <p:spPr>
            <a:xfrm>
              <a:off x="1755720" y="3862800"/>
              <a:ext cx="160884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Građevinski objekti</a:t>
              </a:r>
              <a:endParaRPr b="0" lang="en-US" sz="1100" spc="-1" strike="noStrike">
                <a:solidFill>
                  <a:srgbClr val="000000"/>
                </a:solidFill>
                <a:latin typeface="Arial"/>
              </a:endParaRPr>
            </a:p>
          </p:txBody>
        </p:sp>
        <p:sp>
          <p:nvSpPr>
            <p:cNvPr id="741" name="_s180251"/>
            <p:cNvSpPr/>
            <p:nvPr/>
          </p:nvSpPr>
          <p:spPr>
            <a:xfrm>
              <a:off x="1755720" y="4863960"/>
              <a:ext cx="160884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Postrojenja i oprema</a:t>
              </a:r>
              <a:endParaRPr b="0" lang="en-US" sz="1100" spc="-1" strike="noStrike">
                <a:solidFill>
                  <a:srgbClr val="000000"/>
                </a:solidFill>
                <a:latin typeface="Arial"/>
              </a:endParaRPr>
            </a:p>
          </p:txBody>
        </p:sp>
        <p:sp>
          <p:nvSpPr>
            <p:cNvPr id="738" name="_s180252"/>
            <p:cNvSpPr/>
            <p:nvPr/>
          </p:nvSpPr>
          <p:spPr>
            <a:xfrm>
              <a:off x="1755720" y="5864760"/>
              <a:ext cx="160884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Alati, transportna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sredstva</a:t>
              </a:r>
              <a:endParaRPr b="0" lang="en-US" sz="1100" spc="-1" strike="noStrike">
                <a:solidFill>
                  <a:srgbClr val="000000"/>
                </a:solidFill>
                <a:latin typeface="Arial"/>
              </a:endParaRPr>
            </a:p>
          </p:txBody>
        </p:sp>
        <p:sp>
          <p:nvSpPr>
            <p:cNvPr id="736" name="_s180253"/>
            <p:cNvSpPr/>
            <p:nvPr/>
          </p:nvSpPr>
          <p:spPr>
            <a:xfrm>
              <a:off x="3901680" y="2861640"/>
              <a:ext cx="160884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3880" rIns="8388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Franšize</a:t>
              </a:r>
              <a:endParaRPr b="0" lang="en-US" sz="1100" spc="-1" strike="noStrike">
                <a:solidFill>
                  <a:srgbClr val="000000"/>
                </a:solidFill>
                <a:latin typeface="Arial"/>
              </a:endParaRPr>
            </a:p>
          </p:txBody>
        </p:sp>
        <p:sp>
          <p:nvSpPr>
            <p:cNvPr id="734" name="_s180254"/>
            <p:cNvSpPr/>
            <p:nvPr/>
          </p:nvSpPr>
          <p:spPr>
            <a:xfrm>
              <a:off x="3901680" y="3862800"/>
              <a:ext cx="160884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11960" rIns="111960" tIns="55800" bIns="55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Izdaci za istraživanje i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razvoj</a:t>
              </a:r>
              <a:endParaRPr b="0" lang="en-US" sz="1100" spc="-1" strike="noStrike">
                <a:solidFill>
                  <a:srgbClr val="000000"/>
                </a:solidFill>
                <a:latin typeface="Arial"/>
              </a:endParaRPr>
            </a:p>
          </p:txBody>
        </p:sp>
        <p:sp>
          <p:nvSpPr>
            <p:cNvPr id="732" name="_s180255"/>
            <p:cNvSpPr/>
            <p:nvPr/>
          </p:nvSpPr>
          <p:spPr>
            <a:xfrm>
              <a:off x="3901680" y="4863960"/>
              <a:ext cx="160884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28520" rIns="128520" tIns="64440" bIns="64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Patenti, licencij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 </a:t>
              </a:r>
              <a:r>
                <a:rPr b="0" lang="hr-HR" sz="1100" spc="-1" strike="noStrike">
                  <a:solidFill>
                    <a:srgbClr val="000000"/>
                  </a:solidFill>
                  <a:latin typeface="Times New Roman"/>
                </a:rPr>
                <a:t>koncesije</a:t>
              </a:r>
              <a:endParaRPr b="0" lang="en-US" sz="1100" spc="-1" strike="noStrike">
                <a:solidFill>
                  <a:srgbClr val="000000"/>
                </a:solidFill>
                <a:latin typeface="Arial"/>
              </a:endParaRPr>
            </a:p>
          </p:txBody>
        </p:sp>
        <p:sp>
          <p:nvSpPr>
            <p:cNvPr id="729" name="_s180256"/>
            <p:cNvSpPr/>
            <p:nvPr/>
          </p:nvSpPr>
          <p:spPr>
            <a:xfrm>
              <a:off x="3901680" y="5864760"/>
              <a:ext cx="160884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1200" rIns="151200" tIns="75600" bIns="75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Goodwill</a:t>
              </a:r>
              <a:endParaRPr b="0" lang="en-US" sz="1100" spc="-1" strike="noStrike">
                <a:solidFill>
                  <a:srgbClr val="000000"/>
                </a:solidFill>
                <a:latin typeface="Arial"/>
              </a:endParaRPr>
            </a:p>
          </p:txBody>
        </p:sp>
        <p:sp>
          <p:nvSpPr>
            <p:cNvPr id="727" name="_s180257"/>
            <p:cNvSpPr/>
            <p:nvPr/>
          </p:nvSpPr>
          <p:spPr>
            <a:xfrm>
              <a:off x="6047280" y="2861640"/>
              <a:ext cx="160848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1200" rIns="151200" tIns="75600" bIns="75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Udjeli i zajmovi</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Povezanim društvima</a:t>
              </a:r>
              <a:endParaRPr b="0" lang="en-US" sz="1100" spc="-1" strike="noStrike">
                <a:solidFill>
                  <a:srgbClr val="000000"/>
                </a:solidFill>
                <a:latin typeface="Arial"/>
              </a:endParaRPr>
            </a:p>
          </p:txBody>
        </p:sp>
        <p:sp>
          <p:nvSpPr>
            <p:cNvPr id="725" name="_s180258"/>
            <p:cNvSpPr/>
            <p:nvPr/>
          </p:nvSpPr>
          <p:spPr>
            <a:xfrm>
              <a:off x="6047280" y="3862800"/>
              <a:ext cx="160848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1200" rIns="151200" tIns="75600" bIns="75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Ulaganja u vrijednosn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 </a:t>
              </a:r>
              <a:r>
                <a:rPr b="0" lang="hr-HR" sz="1100" spc="-1" strike="noStrike">
                  <a:solidFill>
                    <a:srgbClr val="000000"/>
                  </a:solidFill>
                  <a:latin typeface="Times New Roman"/>
                </a:rPr>
                <a:t>papire</a:t>
              </a:r>
              <a:endParaRPr b="0" lang="en-US" sz="1100" spc="-1" strike="noStrike">
                <a:solidFill>
                  <a:srgbClr val="000000"/>
                </a:solidFill>
                <a:latin typeface="Arial"/>
              </a:endParaRPr>
            </a:p>
          </p:txBody>
        </p:sp>
        <p:sp>
          <p:nvSpPr>
            <p:cNvPr id="723" name="_s180259"/>
            <p:cNvSpPr/>
            <p:nvPr/>
          </p:nvSpPr>
          <p:spPr>
            <a:xfrm>
              <a:off x="6047280" y="4863960"/>
              <a:ext cx="160848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5880" rIns="155880" tIns="78120" bIns="78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Dani krediti, depoziti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 </a:t>
              </a:r>
              <a:r>
                <a:rPr b="0" lang="hr-HR" sz="1100" spc="-1" strike="noStrike">
                  <a:solidFill>
                    <a:srgbClr val="000000"/>
                  </a:solidFill>
                  <a:latin typeface="Times New Roman"/>
                </a:rPr>
                <a:t>i kaucije</a:t>
              </a:r>
              <a:endParaRPr b="0" lang="en-US" sz="1100" spc="-1" strike="noStrike">
                <a:solidFill>
                  <a:srgbClr val="000000"/>
                </a:solidFill>
                <a:latin typeface="Arial"/>
              </a:endParaRPr>
            </a:p>
          </p:txBody>
        </p:sp>
        <p:sp>
          <p:nvSpPr>
            <p:cNvPr id="720" name="_s180260"/>
            <p:cNvSpPr/>
            <p:nvPr/>
          </p:nvSpPr>
          <p:spPr>
            <a:xfrm>
              <a:off x="6047280" y="5864760"/>
              <a:ext cx="160848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5880" rIns="155880" tIns="78120" bIns="78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Otkupljene vlastite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dionice</a:t>
              </a:r>
              <a:endParaRPr b="0" lang="en-US" sz="1100" spc="-1" strike="noStrike">
                <a:solidFill>
                  <a:srgbClr val="000000"/>
                </a:solidFill>
                <a:latin typeface="Arial"/>
              </a:endParaRPr>
            </a:p>
          </p:txBody>
        </p:sp>
        <p:sp>
          <p:nvSpPr>
            <p:cNvPr id="717" name="_s180261"/>
            <p:cNvSpPr/>
            <p:nvPr/>
          </p:nvSpPr>
          <p:spPr>
            <a:xfrm>
              <a:off x="6852600" y="1957320"/>
              <a:ext cx="1608480" cy="60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274320" rIns="274320" tIns="13716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rPr>
                <a:t>Potraživanja</a:t>
              </a:r>
              <a:endParaRPr b="0" lang="en-US" sz="1100" spc="-1" strike="noStrike">
                <a:solidFill>
                  <a:srgbClr val="000000"/>
                </a:solidFill>
                <a:latin typeface="Arial"/>
              </a:endParaRPr>
            </a:p>
          </p:txBody>
        </p:sp>
      </p:grpSp>
      <p:sp>
        <p:nvSpPr>
          <p:cNvPr id="3" name="PlaceHolder 2"/>
          <p:cNvSpPr>
            <a:spLocks noGrp="1"/>
          </p:cNvSpPr>
          <p:nvPr>
            <p:ph type="sldNum" idx="3"/>
          </p:nvPr>
        </p:nvSpPr>
        <p:spPr/>
        <p:txBody>
          <a:bodyPr/>
          <a:p>
            <a:fld id="{E9D9C456-A82D-41A7-A656-2FF6FC4C8A7E}" type="slidenum">
              <a:t>163</a:t>
            </a:fld>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61880" y="371520"/>
            <a:ext cx="819648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materijalna imovina</a:t>
            </a:r>
            <a:endParaRPr b="0" lang="en-US" sz="3200" spc="-1" strike="noStrike">
              <a:solidFill>
                <a:srgbClr val="000000"/>
              </a:solidFill>
              <a:latin typeface="Arial"/>
            </a:endParaRPr>
          </a:p>
        </p:txBody>
      </p:sp>
      <p:sp>
        <p:nvSpPr>
          <p:cNvPr id="750"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a fizički oblik</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uhvaća imovinu poduzeća u obliku stvari nabavljenu zbog uporabe u proizvodnji ili nabavi roba i usluga, za iznajmljivanje ili uporabu u administrativne svrh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odi se u knjigovodstvu po troškovima nabave tj. troškovima koji su nastali nabavom ove imovin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u spadaju: zemljišta, građevinski objekti, transportna sredstva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890158-3485-4C0B-8B16-2B4F16E5421D}" type="slidenum">
              <a:t>164</a:t>
            </a:fld>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61880" y="371520"/>
            <a:ext cx="819648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nematerijalna imovina</a:t>
            </a:r>
            <a:endParaRPr b="0" lang="en-US" sz="3200" spc="-1" strike="noStrike">
              <a:solidFill>
                <a:srgbClr val="000000"/>
              </a:solidFill>
              <a:latin typeface="Arial"/>
            </a:endParaRPr>
          </a:p>
        </p:txBody>
      </p:sp>
      <p:sp>
        <p:nvSpPr>
          <p:cNvPr id="752"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ma fizičkom oblik</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Javlja se u obliku zakonskih prava ili unaprijed plaćenih troškova na temelju kojih će poduzeće ostvarivati buduće ekonomske korist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odi se po trošku nabave tj. iznosu plaćenom za njezinu nabavu.</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u spadaju: troškovi razvoja, koncesije, patenti, licencije, franšize, goodwill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D4594A6-F9BB-4E37-95C0-C03C82DAB238}" type="slidenum">
              <a:t>165</a:t>
            </a:fld>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971280" y="189000"/>
            <a:ext cx="715788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financijska imovina</a:t>
            </a:r>
            <a:endParaRPr b="0" lang="en-US" sz="3200" spc="-1" strike="noStrike">
              <a:solidFill>
                <a:srgbClr val="000000"/>
              </a:solidFill>
              <a:latin typeface="Arial"/>
            </a:endParaRPr>
          </a:p>
        </p:txBody>
      </p:sp>
      <p:sp>
        <p:nvSpPr>
          <p:cNvPr id="754"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a dugoročna ulaganja novca poduzeća izvan vlastita poslovnog procesa radi ostvarivanja ekonomskih korist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ovac se ulaže u različite dugoročne financijske oblike tj. oblike čije je dospijeće duže od godine dan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editi, dionice, obveznice, depoziti i s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75BCC1-B5B8-4C47-92B3-D4C4D2CC9A0D}" type="slidenum">
              <a:t>166</a:t>
            </a:fld>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61880" y="428400"/>
            <a:ext cx="819648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56"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slijedeće oblike kratkotrajne imov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gotovina i bankarski depoz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rijednosni papir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traži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ani predujmov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lih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ktivna vremenska razgraničenja (plaćeni troškovi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budućeg razdoblja i nedospjela naplata prihod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692F757-DD1F-4F6A-8CD4-BE82F19FCAFB}" type="slidenum">
              <a:t>167</a:t>
            </a:fld>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971280" y="260280"/>
            <a:ext cx="715788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58"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otovina i bankarski depoz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žiro raču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ekući raču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sebni raču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gotovina u blagaj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evizni raču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ročeni depozi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934DFD-3DED-4B0C-B4D5-5C6CE9BFF38B}" type="slidenum">
              <a:t>168</a:t>
            </a:fld>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61880" y="428760"/>
            <a:ext cx="8196480" cy="69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0"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ijednosni papir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čekov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jen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ratkoročne obvezn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ezorski zapis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blagajnički zapis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e vrijednos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C572494-89E6-4522-8AD0-F0A5948B06CC}" type="slidenum">
              <a:t>169</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3440" y="18864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daci knjigovodstva</a:t>
            </a:r>
            <a:endParaRPr b="0" lang="en-US" sz="3600" spc="-1" strike="noStrike">
              <a:solidFill>
                <a:srgbClr val="000000"/>
              </a:solidFill>
              <a:latin typeface="Arial"/>
            </a:endParaRPr>
          </a:p>
        </p:txBody>
      </p:sp>
      <p:sp>
        <p:nvSpPr>
          <p:cNvPr id="97" name="PlaceHolder 2"/>
          <p:cNvSpPr>
            <a:spLocks noGrp="1"/>
          </p:cNvSpPr>
          <p:nvPr>
            <p:ph/>
          </p:nvPr>
        </p:nvSpPr>
        <p:spPr>
          <a:xfrm>
            <a:off x="0" y="15573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videntiranje stanja i kretanja imovine, dugova, kapita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ćenje rashoda i priho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račun rezultata poslovanja i njegove raspodje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ljanje temeljnih financijskih izvještaja: bilanca, račun dobiti i gubitka (izvještaj o dobiti), izvještaj o novčanim tokovima, izvještaj o promjenama glavnice, računovodstvene politike i bilješke uz financijske izvješta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92CB567-E5A8-4829-B1DA-A066BC8BAAD9}" type="slidenum">
              <a:t>17</a:t>
            </a:fld>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1880" y="428400"/>
            <a:ext cx="819648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2"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i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 kupa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 dane depozite i kauci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 povezanih poduze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 dane kratkoročne kred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 državnih orga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 zaposleni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a potraži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236294-8715-4706-8410-F73798E653E8}" type="slidenum">
              <a:t>170</a:t>
            </a:fld>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61880" y="487440"/>
            <a:ext cx="8196480" cy="69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4" name="PlaceHolder 2"/>
          <p:cNvSpPr>
            <a:spLocks noGrp="1"/>
          </p:cNvSpPr>
          <p:nvPr>
            <p:ph/>
          </p:nvPr>
        </p:nvSpPr>
        <p:spPr>
          <a:xfrm>
            <a:off x="948960" y="1844280"/>
            <a:ext cx="7661160" cy="4753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ni predujmovi za nabavu kratkotrajne imovine poput zalih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lih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irovina i materijal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luproizvod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gotovih proizvod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govačke rob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itnog invent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DA731E-8606-4EF2-B8DF-CFF45B4859AE}" type="slidenum">
              <a:t>171</a:t>
            </a:fld>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61880" y="428400"/>
            <a:ext cx="819648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6"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laćeni troškovi budućeg razdoblja i nedospjela naplata prihod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i održa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i zakupn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i leasing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emije osigur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etplate na časopis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bračunati prihodi koji nisu fakturiran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2C0D2E-199A-46A9-A84F-38DE7CAB234B}" type="slidenum">
              <a:t>172</a:t>
            </a:fld>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971280" y="476280"/>
            <a:ext cx="715788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8"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etanje tekuće imovine u poslovnom ciklusu</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
          <p:cNvSpPr/>
          <p:nvPr/>
        </p:nvSpPr>
        <p:spPr>
          <a:xfrm>
            <a:off x="3780000" y="2637000"/>
            <a:ext cx="187164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TOVINA</a:t>
            </a:r>
            <a:endParaRPr b="0" lang="en-US" sz="1800" spc="-1" strike="noStrike">
              <a:solidFill>
                <a:srgbClr val="000000"/>
              </a:solidFill>
              <a:latin typeface="Arial"/>
            </a:endParaRPr>
          </a:p>
        </p:txBody>
      </p:sp>
      <p:sp>
        <p:nvSpPr>
          <p:cNvPr id="770" name=""/>
          <p:cNvSpPr/>
          <p:nvPr/>
        </p:nvSpPr>
        <p:spPr>
          <a:xfrm>
            <a:off x="395280" y="3500280"/>
            <a:ext cx="2881440" cy="151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TOVINA PLAĆ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A NABAVU MATERIJA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JI SE NALAZI 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ALIHAMA</a:t>
            </a:r>
            <a:endParaRPr b="0" lang="en-US" sz="1800" spc="-1" strike="noStrike">
              <a:solidFill>
                <a:srgbClr val="000000"/>
              </a:solidFill>
              <a:latin typeface="Arial"/>
            </a:endParaRPr>
          </a:p>
        </p:txBody>
      </p:sp>
      <p:sp>
        <p:nvSpPr>
          <p:cNvPr id="771" name=""/>
          <p:cNvSpPr/>
          <p:nvPr/>
        </p:nvSpPr>
        <p:spPr>
          <a:xfrm>
            <a:off x="3419640" y="5373720"/>
            <a:ext cx="251928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TOVI PROIZVOD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DANI KUPCIMA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ETVORENI 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TRAŽIVANJA</a:t>
            </a:r>
            <a:endParaRPr b="0" lang="en-US" sz="1800" spc="-1" strike="noStrike">
              <a:solidFill>
                <a:srgbClr val="000000"/>
              </a:solidFill>
              <a:latin typeface="Arial"/>
            </a:endParaRPr>
          </a:p>
        </p:txBody>
      </p:sp>
      <p:sp>
        <p:nvSpPr>
          <p:cNvPr id="772" name=""/>
          <p:cNvSpPr/>
          <p:nvPr/>
        </p:nvSpPr>
        <p:spPr>
          <a:xfrm>
            <a:off x="6227640" y="3500280"/>
            <a:ext cx="273708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TRAŽIVANJ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ETVORENA 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TOVINU PO NAPL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D KUPACA</a:t>
            </a:r>
            <a:endParaRPr b="0" lang="en-US" sz="1800" spc="-1" strike="noStrike">
              <a:solidFill>
                <a:srgbClr val="000000"/>
              </a:solidFill>
              <a:latin typeface="Arial"/>
            </a:endParaRPr>
          </a:p>
        </p:txBody>
      </p:sp>
      <p:sp>
        <p:nvSpPr>
          <p:cNvPr id="773" name=""/>
          <p:cNvSpPr/>
          <p:nvPr/>
        </p:nvSpPr>
        <p:spPr>
          <a:xfrm flipH="1">
            <a:off x="1835280" y="2852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835280" y="2852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835280" y="5013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35280" y="60213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940360" y="6021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flipV="1">
            <a:off x="7740720" y="5084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7812000" y="2852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5651280" y="285264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54B7F5-03A6-4FD0-B7D5-EFEB2F6287B3}" type="slidenum">
              <a:t>173</a:t>
            </a:fld>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61880" y="662040"/>
            <a:ext cx="819648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KTIVA</a:t>
            </a:r>
            <a:endParaRPr b="0" lang="en-US" sz="3200" spc="-1" strike="noStrike">
              <a:solidFill>
                <a:srgbClr val="000000"/>
              </a:solidFill>
              <a:latin typeface="Arial"/>
            </a:endParaRPr>
          </a:p>
        </p:txBody>
      </p:sp>
      <p:sp>
        <p:nvSpPr>
          <p:cNvPr id="782" name="PlaceHolder 2"/>
          <p:cNvSpPr>
            <a:spLocks noGrp="1"/>
          </p:cNvSpPr>
          <p:nvPr>
            <p:ph/>
          </p:nvPr>
        </p:nvSpPr>
        <p:spPr>
          <a:xfrm>
            <a:off x="456840" y="1600200"/>
            <a:ext cx="403236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83" name=""/>
          <p:cNvGraphicFramePr/>
          <p:nvPr/>
        </p:nvGraphicFramePr>
        <p:xfrm>
          <a:off x="611280" y="1557360"/>
          <a:ext cx="8070840" cy="4871880"/>
        </p:xfrm>
        <a:graphic>
          <a:graphicData uri="http://schemas.openxmlformats.org/drawingml/2006/table">
            <a:tbl>
              <a:tblPr/>
              <a:tblGrid>
                <a:gridCol w="4143240"/>
                <a:gridCol w="392760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TRAJN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ATKOTRAJN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aterijalna imovi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otovina i depozi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materijalna imovi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ivanja i ostal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av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inancijska imovin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aterijalna imovin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4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ivanj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laćeni troškovi budućeg razdoblja i nedospjela naplata priho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D3F5833-862B-4E31-B55E-439DBDE113D1}" type="slidenum">
              <a:t>174</a:t>
            </a:fld>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4360" y="836640"/>
            <a:ext cx="7772400" cy="15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000000"/>
                </a:solidFill>
                <a:latin typeface="Arial"/>
              </a:rPr>
              <a:t>OBVEZE I KAPITAL</a:t>
            </a:r>
            <a:endParaRPr b="0" lang="en-US" sz="5400" spc="-1" strike="noStrike">
              <a:solidFill>
                <a:srgbClr val="000000"/>
              </a:solidFill>
              <a:latin typeface="Arial"/>
            </a:endParaRPr>
          </a:p>
        </p:txBody>
      </p:sp>
      <p:sp>
        <p:nvSpPr>
          <p:cNvPr id="785" name="PlaceHolder 2"/>
          <p:cNvSpPr>
            <a:spLocks noGrp="1"/>
          </p:cNvSpPr>
          <p:nvPr>
            <p:ph type="subTitle"/>
          </p:nvPr>
        </p:nvSpPr>
        <p:spPr>
          <a:xfrm>
            <a:off x="1933200" y="4482720"/>
            <a:ext cx="7210440" cy="237492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2800" spc="-1" strike="noStrike">
                <a:solidFill>
                  <a:srgbClr val="000000"/>
                </a:solidFill>
                <a:latin typeface="Arial"/>
              </a:rPr>
              <a:t>Pojam i obilježja obveza (dugov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lasifikacija obvez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apital (vlasnička glavnic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B625B5-F854-4A54-8F2A-E18DE28CB0F7}" type="slidenum">
              <a:t>175</a:t>
            </a:fld>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bveze ili dugovi</a:t>
            </a:r>
            <a:endParaRPr b="0" lang="en-US" sz="36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ili dugovi čine bilančnu kategoriju pasi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kazuju podrijetlo, odnosno izvore financiranja imovine koju poduzeće koristi u svom poslovanj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ju informaciju odakle poduzeće crpi gotovinu za financiranje svojih aktivnos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dugovi) predstavljaju tuđe izvore sredstava, dok kapital (vlasnička glavnica) predstavlja vlastite izvo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D37826-8166-4203-8736-5BC747B76AFE}" type="slidenum">
              <a:t>176</a:t>
            </a:fld>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jam i obilježja obveza (dugova)</a:t>
            </a:r>
            <a:endParaRPr b="0" lang="en-US" sz="3600" spc="-1" strike="noStrike">
              <a:solidFill>
                <a:srgbClr val="000000"/>
              </a:solidFill>
              <a:latin typeface="Arial"/>
            </a:endParaRPr>
          </a:p>
        </p:txBody>
      </p:sp>
      <p:sp>
        <p:nvSpPr>
          <p:cNvPr id="7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predstavljaju “pravni (dužničko-vjerovnički ) odnos u kojemu je jedna osoba, dužnik, dužna postupiti ili nešto izvršiti na određeni način u korist druge osobe, vjerovnika”.</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predstavljaju tuđe izvore financiranja imovine te se najčešće podmiruju novčanom isplatom, a ponekad i ustupanjem imovine, cesijom, kompenzacijom i sl.</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slučaju likvidacije poduzeća prodajom imovine najprije se podmiruju obveze poduzeća.</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se u knjigovodstvu vode prema ugovorenim iznos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90C681-571B-44D1-AFB7-556E0F162B8B}" type="slidenum">
              <a:t>177</a:t>
            </a:fld>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lasifikacija obveza</a:t>
            </a:r>
            <a:endParaRPr b="0" lang="en-US" sz="3600" spc="-1" strike="noStrike">
              <a:solidFill>
                <a:srgbClr val="000000"/>
              </a:solidFill>
              <a:latin typeface="Arial"/>
            </a:endParaRPr>
          </a:p>
        </p:txBody>
      </p:sp>
      <p:sp>
        <p:nvSpPr>
          <p:cNvPr id="791" name="PlaceHolder 2"/>
          <p:cNvSpPr>
            <a:spLocks noGrp="1"/>
          </p:cNvSpPr>
          <p:nvPr>
            <p:ph/>
          </p:nvPr>
        </p:nvSpPr>
        <p:spPr>
          <a:xfrm>
            <a:off x="468360" y="1125000"/>
            <a:ext cx="8229600" cy="558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prema kriteriju njihova dospijeća dijelimo 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ugoročne obvez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ratkoročne (tekuće) obvez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asivna vremenska razgraničenja (odgođeno plaćanje  </a:t>
            </a:r>
            <a:r>
              <a:rPr b="0" lang="hr-HR" sz="2400" spc="-1" strike="noStrike">
                <a:solidFill>
                  <a:srgbClr val="000000"/>
                </a:solidFill>
                <a:latin typeface="Times New Roman"/>
              </a:rPr>
              <a:t>	</a:t>
            </a:r>
            <a:r>
              <a:rPr b="0" lang="hr-HR" sz="2400" spc="-1" strike="noStrike">
                <a:solidFill>
                  <a:srgbClr val="000000"/>
                </a:solidFill>
                <a:latin typeface="Times New Roman"/>
              </a:rPr>
              <a:t>  troškova i naplaćeni prihodi budućih razdobl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ročne obveze odnose se na obveze koje dospijevaju na naplatu u vremenskom roku koji prelazi razdoblje od godine dana. Uglavnom se odnose na dugoročne kredite kojima se financiraju ulaganja u dugotrajnu imovi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94D158-09A7-46E7-BEEB-6FB5DC45830C}" type="slidenum">
              <a:t>178</a:t>
            </a:fld>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lasifikacija obveza</a:t>
            </a:r>
            <a:endParaRPr b="0" lang="en-US" sz="36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atkoročne obveze predstavljaju obveze koje dospijevaju na naplatu u roku kraćem od godine dana, a uglavnom se odnose na obveze za nabavljene elemente proizvodnje, uzete kratkoročne kredite, obveze po izdanim kratkoročnim vrijednosnim papirima i s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na vremenska razgraničenja obuhvaćaju odgođena plaćanja troškova (troškovi za koje još nije nastao izdatak) i naplaćene prihode budućeg razdoblja (primitke za koje još nije nastao priho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75D2F5-B273-4130-A4C4-DA64C1A8773F}" type="slidenum">
              <a:t>179</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3440" y="-3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rganizacijska struktura knjigovodstva</a:t>
            </a:r>
            <a:endParaRPr b="0" lang="en-US" sz="3600" spc="-1" strike="noStrike">
              <a:solidFill>
                <a:srgbClr val="000000"/>
              </a:solidFill>
              <a:latin typeface="Arial"/>
            </a:endParaRPr>
          </a:p>
        </p:txBody>
      </p:sp>
      <p:sp>
        <p:nvSpPr>
          <p:cNvPr id="99" name=""/>
          <p:cNvSpPr/>
          <p:nvPr/>
        </p:nvSpPr>
        <p:spPr>
          <a:xfrm>
            <a:off x="2971800" y="2700360"/>
            <a:ext cx="2971800" cy="398880"/>
          </a:xfrm>
          <a:prstGeom prst="rect">
            <a:avLst/>
          </a:prstGeom>
          <a:gradFill rotWithShape="0">
            <a:gsLst>
              <a:gs pos="0">
                <a:srgbClr val="ffff66">
                  <a:alpha val="60392"/>
                </a:srgbClr>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Sintetičko knjigovodstvo</a:t>
            </a:r>
            <a:endParaRPr b="0" lang="en-US" sz="2000" spc="-1" strike="noStrike">
              <a:solidFill>
                <a:srgbClr val="000000"/>
              </a:solidFill>
              <a:latin typeface="Arial"/>
            </a:endParaRPr>
          </a:p>
        </p:txBody>
      </p:sp>
      <p:sp>
        <p:nvSpPr>
          <p:cNvPr id="100" name=""/>
          <p:cNvSpPr/>
          <p:nvPr/>
        </p:nvSpPr>
        <p:spPr>
          <a:xfrm>
            <a:off x="150840" y="3538440"/>
            <a:ext cx="1601640" cy="119124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dugotrajne imovine</a:t>
            </a:r>
            <a:endParaRPr b="0" lang="en-US" sz="1800" spc="-1" strike="noStrike">
              <a:solidFill>
                <a:srgbClr val="000000"/>
              </a:solidFill>
              <a:latin typeface="Arial"/>
            </a:endParaRPr>
          </a:p>
        </p:txBody>
      </p:sp>
      <p:sp>
        <p:nvSpPr>
          <p:cNvPr id="101" name=""/>
          <p:cNvSpPr/>
          <p:nvPr/>
        </p:nvSpPr>
        <p:spPr>
          <a:xfrm>
            <a:off x="1981080" y="3538440"/>
            <a:ext cx="1582920" cy="119124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sirovina i materijala</a:t>
            </a:r>
            <a:endParaRPr b="0" lang="en-US" sz="1800" spc="-1" strike="noStrike">
              <a:solidFill>
                <a:srgbClr val="000000"/>
              </a:solidFill>
              <a:latin typeface="Arial"/>
            </a:endParaRPr>
          </a:p>
        </p:txBody>
      </p:sp>
      <p:sp>
        <p:nvSpPr>
          <p:cNvPr id="102" name=""/>
          <p:cNvSpPr/>
          <p:nvPr/>
        </p:nvSpPr>
        <p:spPr>
          <a:xfrm>
            <a:off x="3765600" y="3538440"/>
            <a:ext cx="1596960" cy="91692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proizvodnje</a:t>
            </a:r>
            <a:endParaRPr b="0" lang="en-US" sz="1800" spc="-1" strike="noStrike">
              <a:solidFill>
                <a:srgbClr val="000000"/>
              </a:solidFill>
              <a:latin typeface="Arial"/>
            </a:endParaRPr>
          </a:p>
        </p:txBody>
      </p:sp>
      <p:sp>
        <p:nvSpPr>
          <p:cNvPr id="103" name=""/>
          <p:cNvSpPr/>
          <p:nvPr/>
        </p:nvSpPr>
        <p:spPr>
          <a:xfrm>
            <a:off x="5594400" y="3538440"/>
            <a:ext cx="1568520" cy="128268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a:t>
            </a:r>
            <a:r>
              <a:rPr b="1" lang="hr-HR" sz="2400" spc="-1" strike="noStrike">
                <a:solidFill>
                  <a:srgbClr val="000000"/>
                </a:solidFill>
                <a:latin typeface="Times New Roman"/>
              </a:rPr>
              <a:t> </a:t>
            </a:r>
            <a:r>
              <a:rPr b="1" lang="hr-HR" sz="1800" spc="-1" strike="noStrike">
                <a:solidFill>
                  <a:srgbClr val="000000"/>
                </a:solidFill>
                <a:latin typeface="Times New Roman"/>
              </a:rPr>
              <a:t>knjigovodstvo gotovih proizvoda</a:t>
            </a:r>
            <a:endParaRPr b="0" lang="en-US" sz="1800" spc="-1" strike="noStrike">
              <a:solidFill>
                <a:srgbClr val="000000"/>
              </a:solidFill>
              <a:latin typeface="Arial"/>
            </a:endParaRPr>
          </a:p>
        </p:txBody>
      </p:sp>
      <p:sp>
        <p:nvSpPr>
          <p:cNvPr id="104" name=""/>
          <p:cNvSpPr/>
          <p:nvPr/>
        </p:nvSpPr>
        <p:spPr>
          <a:xfrm>
            <a:off x="7391520" y="3538440"/>
            <a:ext cx="1581120" cy="91692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robe</a:t>
            </a:r>
            <a:endParaRPr b="0" lang="en-US" sz="1800" spc="-1" strike="noStrike">
              <a:solidFill>
                <a:srgbClr val="000000"/>
              </a:solidFill>
              <a:latin typeface="Arial"/>
            </a:endParaRPr>
          </a:p>
        </p:txBody>
      </p:sp>
      <p:sp>
        <p:nvSpPr>
          <p:cNvPr id="105" name=""/>
          <p:cNvSpPr/>
          <p:nvPr/>
        </p:nvSpPr>
        <p:spPr>
          <a:xfrm>
            <a:off x="826920" y="5084640"/>
            <a:ext cx="1676520" cy="1191240"/>
          </a:xfrm>
          <a:prstGeom prst="rect">
            <a:avLst/>
          </a:prstGeom>
          <a:gradFill rotWithShape="0">
            <a:gsLst>
              <a:gs pos="0">
                <a:srgbClr val="ffff99">
                  <a:alpha val="41176"/>
                </a:srgbClr>
              </a:gs>
              <a:gs pos="100000">
                <a:srgbClr val="ffff66">
                  <a:alpha val="11372"/>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sitnog inventara</a:t>
            </a:r>
            <a:endParaRPr b="0" lang="en-US" sz="1800" spc="-1" strike="noStrike">
              <a:solidFill>
                <a:srgbClr val="000000"/>
              </a:solidFill>
              <a:latin typeface="Arial"/>
            </a:endParaRPr>
          </a:p>
        </p:txBody>
      </p:sp>
      <p:sp>
        <p:nvSpPr>
          <p:cNvPr id="106" name=""/>
          <p:cNvSpPr/>
          <p:nvPr/>
        </p:nvSpPr>
        <p:spPr>
          <a:xfrm>
            <a:off x="2895480" y="5062680"/>
            <a:ext cx="1752840" cy="916920"/>
          </a:xfrm>
          <a:prstGeom prst="rect">
            <a:avLst/>
          </a:prstGeom>
          <a:gradFill rotWithShape="0">
            <a:gsLst>
              <a:gs pos="0">
                <a:srgbClr val="ffff99">
                  <a:alpha val="41176"/>
                </a:srgbClr>
              </a:gs>
              <a:gs pos="100000">
                <a:srgbClr val="ffff66">
                  <a:alpha val="11372"/>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plaća</a:t>
            </a:r>
            <a:endParaRPr b="0" lang="en-US" sz="1800" spc="-1" strike="noStrike">
              <a:solidFill>
                <a:srgbClr val="000000"/>
              </a:solidFill>
              <a:latin typeface="Arial"/>
            </a:endParaRPr>
          </a:p>
        </p:txBody>
      </p:sp>
      <p:sp>
        <p:nvSpPr>
          <p:cNvPr id="107" name=""/>
          <p:cNvSpPr/>
          <p:nvPr/>
        </p:nvSpPr>
        <p:spPr>
          <a:xfrm>
            <a:off x="5029200" y="5062680"/>
            <a:ext cx="1676520" cy="916920"/>
          </a:xfrm>
          <a:prstGeom prst="rect">
            <a:avLst/>
          </a:prstGeom>
          <a:gradFill rotWithShape="0">
            <a:gsLst>
              <a:gs pos="0">
                <a:srgbClr val="ffff99">
                  <a:alpha val="41176"/>
                </a:srgbClr>
              </a:gs>
              <a:gs pos="100000">
                <a:srgbClr val="ffff66">
                  <a:alpha val="11372"/>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kupaca</a:t>
            </a:r>
            <a:endParaRPr b="0" lang="en-US" sz="1800" spc="-1" strike="noStrike">
              <a:solidFill>
                <a:srgbClr val="000000"/>
              </a:solidFill>
              <a:latin typeface="Arial"/>
            </a:endParaRPr>
          </a:p>
        </p:txBody>
      </p:sp>
      <p:sp>
        <p:nvSpPr>
          <p:cNvPr id="108" name=""/>
          <p:cNvSpPr/>
          <p:nvPr/>
        </p:nvSpPr>
        <p:spPr>
          <a:xfrm>
            <a:off x="7086600" y="5062680"/>
            <a:ext cx="1600200" cy="916920"/>
          </a:xfrm>
          <a:prstGeom prst="rect">
            <a:avLst/>
          </a:prstGeom>
          <a:gradFill rotWithShape="0">
            <a:gsLst>
              <a:gs pos="0">
                <a:srgbClr val="ffff99">
                  <a:alpha val="41176"/>
                </a:srgbClr>
              </a:gs>
              <a:gs pos="100000">
                <a:srgbClr val="ffff66">
                  <a:alpha val="11372"/>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dobavljača</a:t>
            </a:r>
            <a:endParaRPr b="0" lang="en-US" sz="1800" spc="-1" strike="noStrike">
              <a:solidFill>
                <a:srgbClr val="000000"/>
              </a:solidFill>
              <a:latin typeface="Arial"/>
            </a:endParaRPr>
          </a:p>
        </p:txBody>
      </p:sp>
      <p:sp>
        <p:nvSpPr>
          <p:cNvPr id="109" name=""/>
          <p:cNvSpPr/>
          <p:nvPr/>
        </p:nvSpPr>
        <p:spPr>
          <a:xfrm flipH="1">
            <a:off x="4419720" y="2421000"/>
            <a:ext cx="792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419720" y="31575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 name=""/>
          <p:cNvSpPr/>
          <p:nvPr/>
        </p:nvSpPr>
        <p:spPr>
          <a:xfrm>
            <a:off x="228600" y="32338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98108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3868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83908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41972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28800" y="32338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657600" y="32338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486400" y="32338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238880" y="32338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16360" y="1916280"/>
            <a:ext cx="3124080" cy="459720"/>
          </a:xfrm>
          <a:prstGeom prst="rect">
            <a:avLst/>
          </a:prstGeom>
          <a:gradFill rotWithShape="0">
            <a:gsLst>
              <a:gs pos="0">
                <a:srgbClr val="ffff66">
                  <a:alpha val="63137"/>
                </a:srgbClr>
              </a:gs>
              <a:gs pos="100000">
                <a:srgbClr val="ffffcc"/>
              </a:gs>
            </a:gsLst>
            <a:lin ang="5400000"/>
          </a:grad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KNJIGOVODSTV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C4DB336-C8EB-420F-99A3-AB8510C080EA}" type="slidenum">
              <a:t>18</a:t>
            </a:fld>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apital (vlasnička glavnica)</a:t>
            </a:r>
            <a:endParaRPr b="0" lang="en-US" sz="3600" spc="-1" strike="noStrike">
              <a:solidFill>
                <a:srgbClr val="000000"/>
              </a:solidFill>
              <a:latin typeface="Arial"/>
            </a:endParaRPr>
          </a:p>
        </p:txBody>
      </p:sp>
      <p:sp>
        <p:nvSpPr>
          <p:cNvPr id="795" name="PlaceHolder 2"/>
          <p:cNvSpPr>
            <a:spLocks noGrp="1"/>
          </p:cNvSpPr>
          <p:nvPr>
            <p:ph/>
          </p:nvPr>
        </p:nvSpPr>
        <p:spPr>
          <a:xfrm>
            <a:off x="228240" y="1447560"/>
            <a:ext cx="8520120" cy="52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poduzeća predstavlja vlastite izvore financiranja poduzeća, odnosno vrijednost koja pripada vlasnicima poduzeća, a jednaka je ukupnoj imovini poduzeća (aktivi) umanjenoj za ukupne obveze poduze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se poveć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odatnim ulaganjem vlasnik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varenom dobiti poduze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se smanju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vlačenjem vlasničkog udjel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varenim gubitkom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601FEC-6A05-4A03-85CD-6415596966AF}" type="slidenum">
              <a:t>180</a:t>
            </a:fld>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apital (vlasnička glavnica)</a:t>
            </a:r>
            <a:endParaRPr b="0" lang="en-US" sz="3600" spc="-1" strike="noStrike">
              <a:solidFill>
                <a:srgbClr val="000000"/>
              </a:solidFill>
              <a:latin typeface="Arial"/>
            </a:endParaRPr>
          </a:p>
        </p:txBody>
      </p:sp>
      <p:sp>
        <p:nvSpPr>
          <p:cNvPr id="797"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ećanje kapital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manjenje kapitala</a:t>
            </a:r>
            <a:endParaRPr b="0" lang="en-US" sz="2400" spc="-1" strike="noStrike">
              <a:solidFill>
                <a:srgbClr val="000000"/>
              </a:solidFill>
              <a:latin typeface="Arial"/>
            </a:endParaRPr>
          </a:p>
        </p:txBody>
      </p:sp>
      <p:sp>
        <p:nvSpPr>
          <p:cNvPr id="798" name=""/>
          <p:cNvSpPr/>
          <p:nvPr/>
        </p:nvSpPr>
        <p:spPr>
          <a:xfrm>
            <a:off x="3635280" y="3645000"/>
            <a:ext cx="187344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KAPITAL</a:t>
            </a:r>
            <a:endParaRPr b="0" lang="en-US" sz="2000" spc="-1" strike="noStrike">
              <a:solidFill>
                <a:srgbClr val="000000"/>
              </a:solidFill>
              <a:latin typeface="Arial"/>
            </a:endParaRPr>
          </a:p>
        </p:txBody>
      </p:sp>
      <p:sp>
        <p:nvSpPr>
          <p:cNvPr id="799" name=""/>
          <p:cNvSpPr/>
          <p:nvPr/>
        </p:nvSpPr>
        <p:spPr>
          <a:xfrm>
            <a:off x="1619280" y="2349360"/>
            <a:ext cx="1944720" cy="9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ODAT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LASNIČK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ULAGANJE</a:t>
            </a:r>
            <a:endParaRPr b="0" lang="en-US" sz="1800" spc="-1" strike="noStrike">
              <a:solidFill>
                <a:srgbClr val="000000"/>
              </a:solidFill>
              <a:latin typeface="Arial"/>
            </a:endParaRPr>
          </a:p>
        </p:txBody>
      </p:sp>
      <p:sp>
        <p:nvSpPr>
          <p:cNvPr id="800" name=""/>
          <p:cNvSpPr/>
          <p:nvPr/>
        </p:nvSpPr>
        <p:spPr>
          <a:xfrm>
            <a:off x="5508720" y="2349360"/>
            <a:ext cx="1871640" cy="9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STVARE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OBIT</a:t>
            </a:r>
            <a:endParaRPr b="0" lang="en-US" sz="1800" spc="-1" strike="noStrike">
              <a:solidFill>
                <a:srgbClr val="000000"/>
              </a:solidFill>
              <a:latin typeface="Arial"/>
            </a:endParaRPr>
          </a:p>
        </p:txBody>
      </p:sp>
      <p:sp>
        <p:nvSpPr>
          <p:cNvPr id="801" name=""/>
          <p:cNvSpPr/>
          <p:nvPr/>
        </p:nvSpPr>
        <p:spPr>
          <a:xfrm>
            <a:off x="1619280" y="4797360"/>
            <a:ext cx="194472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VLAČEN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LASNIČKO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ULOGA</a:t>
            </a:r>
            <a:endParaRPr b="0" lang="en-US" sz="1800" spc="-1" strike="noStrike">
              <a:solidFill>
                <a:srgbClr val="000000"/>
              </a:solidFill>
              <a:latin typeface="Arial"/>
            </a:endParaRPr>
          </a:p>
        </p:txBody>
      </p:sp>
      <p:sp>
        <p:nvSpPr>
          <p:cNvPr id="802" name=""/>
          <p:cNvSpPr/>
          <p:nvPr/>
        </p:nvSpPr>
        <p:spPr>
          <a:xfrm>
            <a:off x="5580000" y="4797360"/>
            <a:ext cx="180036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STVARE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GUBITAK</a:t>
            </a:r>
            <a:endParaRPr b="0" lang="en-US" sz="1800" spc="-1" strike="noStrike">
              <a:solidFill>
                <a:srgbClr val="000000"/>
              </a:solidFill>
              <a:latin typeface="Arial"/>
            </a:endParaRPr>
          </a:p>
        </p:txBody>
      </p:sp>
      <p:sp>
        <p:nvSpPr>
          <p:cNvPr id="803" name=""/>
          <p:cNvSpPr/>
          <p:nvPr/>
        </p:nvSpPr>
        <p:spPr>
          <a:xfrm>
            <a:off x="1116000" y="1844640"/>
            <a:ext cx="6696000" cy="1655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1116000" y="4653000"/>
            <a:ext cx="6696000" cy="1440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3564000" y="530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V="1">
            <a:off x="4067280" y="4508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5148000" y="5300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5148360" y="4508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564000" y="2852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3995640" y="2852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5076720" y="2852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076720" y="2852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A95264-F146-4415-B507-CF6AC923A0B3}" type="slidenum">
              <a:t>181</a:t>
            </a:fld>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apital (vlasnička glavnica)</a:t>
            </a:r>
            <a:endParaRPr b="0" lang="en-US" sz="3600" spc="-1" strike="noStrike">
              <a:solidFill>
                <a:srgbClr val="000000"/>
              </a:solidFill>
              <a:latin typeface="Arial"/>
            </a:endParaRPr>
          </a:p>
        </p:txBody>
      </p:sp>
      <p:sp>
        <p:nvSpPr>
          <p:cNvPr id="814" name="PlaceHolder 2"/>
          <p:cNvSpPr>
            <a:spLocks noGrp="1"/>
          </p:cNvSpPr>
          <p:nvPr>
            <p:ph/>
          </p:nvPr>
        </p:nvSpPr>
        <p:spPr>
          <a:xfrm>
            <a:off x="456840" y="1599840"/>
            <a:ext cx="8001000" cy="1320840"/>
          </a:xfrm>
          <a:prstGeom prst="rect">
            <a:avLst/>
          </a:prstGeom>
          <a:noFill/>
          <a:ln w="0">
            <a:noFill/>
          </a:ln>
        </p:spPr>
        <p:txBody>
          <a:bodyPr lIns="90000" rIns="90000" tIns="46800" bIns="46800" anchor="t">
            <a:normAutofit fontScale="87000"/>
          </a:bodyPr>
          <a:p>
            <a:pPr marL="298440" indent="-298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ijednost kapitala obuhvaća: vrijednost uloga ulagača (upisani kapital), zakonske, statutarne, revalorizacijske i ostale rezerve, zadržanu dobit, preneseni gubitak te rezultat poslovanja tekuće godi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F43BD6-812F-4E3D-8FD3-A94A021DD1A9}" type="slidenum">
              <a:t>182</a:t>
            </a:fld>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Struktura pasive</a:t>
            </a:r>
            <a:endParaRPr b="0" lang="en-US" sz="3600" spc="-1" strike="noStrike">
              <a:solidFill>
                <a:srgbClr val="000000"/>
              </a:solidFill>
              <a:latin typeface="Arial"/>
            </a:endParaRPr>
          </a:p>
        </p:txBody>
      </p:sp>
      <p:grpSp>
        <p:nvGrpSpPr>
          <p:cNvPr id="816" name=""/>
          <p:cNvGrpSpPr/>
          <p:nvPr/>
        </p:nvGrpSpPr>
        <p:grpSpPr>
          <a:xfrm>
            <a:off x="457200" y="1600200"/>
            <a:ext cx="8228880" cy="4524840"/>
            <a:chOff x="457200" y="1600200"/>
            <a:chExt cx="8228880" cy="4524840"/>
          </a:xfrm>
        </p:grpSpPr>
        <p:cxnSp>
          <p:nvCxnSpPr>
            <p:cNvPr id="817" name="_s201733"/>
            <p:cNvCxnSpPr>
              <a:stCxn id="818" idx="0"/>
              <a:endCxn id="819" idx="2"/>
            </p:cNvCxnSpPr>
            <p:nvPr/>
          </p:nvCxnSpPr>
          <p:spPr>
            <a:xfrm flipV="1" rot="16200000">
              <a:off x="5726520" y="3269160"/>
              <a:ext cx="566280" cy="2882880"/>
            </a:xfrm>
            <a:prstGeom prst="bentConnector3">
              <a:avLst>
                <a:gd name="adj1" fmla="val 19020"/>
              </a:avLst>
            </a:prstGeom>
            <a:ln w="28440">
              <a:solidFill>
                <a:srgbClr val="000000"/>
              </a:solidFill>
              <a:miter/>
            </a:ln>
          </p:spPr>
        </p:cxnSp>
        <p:cxnSp>
          <p:nvCxnSpPr>
            <p:cNvPr id="820" name="_s201734"/>
            <p:cNvCxnSpPr>
              <a:stCxn id="821" idx="0"/>
              <a:endCxn id="819" idx="2"/>
            </p:cNvCxnSpPr>
            <p:nvPr/>
          </p:nvCxnSpPr>
          <p:spPr>
            <a:xfrm flipV="1" rot="16200000">
              <a:off x="4286520" y="4709160"/>
              <a:ext cx="566280" cy="3240"/>
            </a:xfrm>
            <a:prstGeom prst="bentConnector3">
              <a:avLst>
                <a:gd name="adj1" fmla="val 19020"/>
              </a:avLst>
            </a:prstGeom>
            <a:ln w="28440">
              <a:solidFill>
                <a:srgbClr val="000000"/>
              </a:solidFill>
              <a:miter/>
            </a:ln>
          </p:spPr>
        </p:cxnSp>
        <p:cxnSp>
          <p:nvCxnSpPr>
            <p:cNvPr id="822" name="_s201735"/>
            <p:cNvCxnSpPr>
              <a:stCxn id="823" idx="0"/>
              <a:endCxn id="819" idx="2"/>
            </p:cNvCxnSpPr>
            <p:nvPr/>
          </p:nvCxnSpPr>
          <p:spPr>
            <a:xfrm flipH="1" flipV="1" rot="5400000">
              <a:off x="2847600" y="3272400"/>
              <a:ext cx="566280" cy="2877120"/>
            </a:xfrm>
            <a:prstGeom prst="bentConnector3">
              <a:avLst>
                <a:gd name="adj1" fmla="val 19020"/>
              </a:avLst>
            </a:prstGeom>
            <a:ln w="28440">
              <a:solidFill>
                <a:srgbClr val="000000"/>
              </a:solidFill>
              <a:miter/>
            </a:ln>
          </p:spPr>
        </p:cxnSp>
        <p:cxnSp>
          <p:nvCxnSpPr>
            <p:cNvPr id="824" name="_s201736"/>
            <p:cNvCxnSpPr>
              <a:stCxn id="825" idx="0"/>
              <a:endCxn id="826" idx="2"/>
            </p:cNvCxnSpPr>
            <p:nvPr/>
          </p:nvCxnSpPr>
          <p:spPr>
            <a:xfrm flipV="1" rot="16200000">
              <a:off x="6446880" y="2292480"/>
              <a:ext cx="566280" cy="1442160"/>
            </a:xfrm>
            <a:prstGeom prst="bentConnector3">
              <a:avLst>
                <a:gd name="adj1" fmla="val 19020"/>
              </a:avLst>
            </a:prstGeom>
            <a:ln w="28440">
              <a:solidFill>
                <a:srgbClr val="000000"/>
              </a:solidFill>
              <a:miter/>
            </a:ln>
          </p:spPr>
        </p:cxnSp>
        <p:cxnSp>
          <p:nvCxnSpPr>
            <p:cNvPr id="827" name="_s201737"/>
            <p:cNvCxnSpPr>
              <a:stCxn id="819" idx="0"/>
              <a:endCxn id="826" idx="2"/>
            </p:cNvCxnSpPr>
            <p:nvPr/>
          </p:nvCxnSpPr>
          <p:spPr>
            <a:xfrm flipH="1" flipV="1" rot="5400000">
              <a:off x="5006160" y="2293200"/>
              <a:ext cx="566280" cy="1441440"/>
            </a:xfrm>
            <a:prstGeom prst="bentConnector3">
              <a:avLst>
                <a:gd name="adj1" fmla="val 19020"/>
              </a:avLst>
            </a:prstGeom>
            <a:ln w="28440">
              <a:solidFill>
                <a:srgbClr val="000000"/>
              </a:solidFill>
              <a:miter/>
            </a:ln>
          </p:spPr>
        </p:cxnSp>
        <p:sp>
          <p:nvSpPr>
            <p:cNvPr id="826" name="_s201738"/>
            <p:cNvSpPr/>
            <p:nvPr/>
          </p:nvSpPr>
          <p:spPr>
            <a:xfrm>
              <a:off x="4774320" y="1600200"/>
              <a:ext cx="247032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Times New Roman"/>
                </a:rPr>
                <a:t>PASIVA</a:t>
              </a:r>
              <a:endParaRPr b="0" lang="en-US" sz="3600" spc="-1" strike="noStrike">
                <a:solidFill>
                  <a:srgbClr val="000000"/>
                </a:solidFill>
                <a:latin typeface="Arial"/>
              </a:endParaRPr>
            </a:p>
          </p:txBody>
        </p:sp>
        <p:sp>
          <p:nvSpPr>
            <p:cNvPr id="819" name="_s201739"/>
            <p:cNvSpPr/>
            <p:nvPr/>
          </p:nvSpPr>
          <p:spPr>
            <a:xfrm>
              <a:off x="3333600" y="3296880"/>
              <a:ext cx="2470320" cy="11311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900" spc="-1" strike="noStrike">
                  <a:solidFill>
                    <a:srgbClr val="000000"/>
                  </a:solidFill>
                  <a:latin typeface="Times New Roman"/>
                </a:rPr>
                <a:t>OBVEZE</a:t>
              </a:r>
              <a:endParaRPr b="0" lang="en-US" sz="2900" spc="-1" strike="noStrike">
                <a:solidFill>
                  <a:srgbClr val="000000"/>
                </a:solidFill>
                <a:latin typeface="Arial"/>
              </a:endParaRPr>
            </a:p>
          </p:txBody>
        </p:sp>
        <p:sp>
          <p:nvSpPr>
            <p:cNvPr id="825" name="_s201740"/>
            <p:cNvSpPr/>
            <p:nvPr/>
          </p:nvSpPr>
          <p:spPr>
            <a:xfrm>
              <a:off x="6215760" y="3296880"/>
              <a:ext cx="247032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900" spc="-1" strike="noStrike">
                  <a:solidFill>
                    <a:srgbClr val="000000"/>
                  </a:solidFill>
                  <a:latin typeface="Times New Roman"/>
                </a:rPr>
                <a:t>KAPITAL</a:t>
              </a:r>
              <a:endParaRPr b="0" lang="en-US" sz="2900" spc="-1" strike="noStrike">
                <a:solidFill>
                  <a:srgbClr val="000000"/>
                </a:solidFill>
                <a:latin typeface="Arial"/>
              </a:endParaRPr>
            </a:p>
          </p:txBody>
        </p:sp>
        <p:sp>
          <p:nvSpPr>
            <p:cNvPr id="823" name="_s201741"/>
            <p:cNvSpPr/>
            <p:nvPr/>
          </p:nvSpPr>
          <p:spPr>
            <a:xfrm>
              <a:off x="457200" y="4993920"/>
              <a:ext cx="246708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DUGOROČN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OBVEZE</a:t>
              </a:r>
              <a:endParaRPr b="0" lang="en-US" sz="2100" spc="-1" strike="noStrike">
                <a:solidFill>
                  <a:srgbClr val="000000"/>
                </a:solidFill>
                <a:latin typeface="Arial"/>
              </a:endParaRPr>
            </a:p>
          </p:txBody>
        </p:sp>
        <p:sp>
          <p:nvSpPr>
            <p:cNvPr id="821" name="_s201742"/>
            <p:cNvSpPr/>
            <p:nvPr/>
          </p:nvSpPr>
          <p:spPr>
            <a:xfrm>
              <a:off x="3336120" y="4993920"/>
              <a:ext cx="246780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KRATKOROČN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OBVEZE</a:t>
              </a:r>
              <a:endParaRPr b="0" lang="en-US" sz="2100" spc="-1" strike="noStrike">
                <a:solidFill>
                  <a:srgbClr val="000000"/>
                </a:solidFill>
                <a:latin typeface="Arial"/>
              </a:endParaRPr>
            </a:p>
          </p:txBody>
        </p:sp>
        <p:sp>
          <p:nvSpPr>
            <p:cNvPr id="818" name="_s201743"/>
            <p:cNvSpPr/>
            <p:nvPr/>
          </p:nvSpPr>
          <p:spPr>
            <a:xfrm>
              <a:off x="6215760" y="4993920"/>
              <a:ext cx="246708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PASIVNA</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VREMENSKA</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RAZGRANIČENJA</a:t>
              </a:r>
              <a:endParaRPr b="0" lang="en-US" sz="2100" spc="-1" strike="noStrike">
                <a:solidFill>
                  <a:srgbClr val="000000"/>
                </a:solidFill>
                <a:latin typeface="Arial"/>
              </a:endParaRPr>
            </a:p>
          </p:txBody>
        </p:sp>
      </p:grpSp>
      <p:sp>
        <p:nvSpPr>
          <p:cNvPr id="3" name="PlaceHolder 2"/>
          <p:cNvSpPr>
            <a:spLocks noGrp="1"/>
          </p:cNvSpPr>
          <p:nvPr>
            <p:ph type="sldNum" idx="3"/>
          </p:nvPr>
        </p:nvSpPr>
        <p:spPr/>
        <p:txBody>
          <a:bodyPr/>
          <a:p>
            <a:fld id="{17752091-5A40-46C8-A3F3-46F2DC529A0D}" type="slidenum">
              <a:t>183</a:t>
            </a:fld>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700" spc="-1" strike="noStrike">
                <a:solidFill>
                  <a:srgbClr val="000000"/>
                </a:solidFill>
                <a:latin typeface="Arial"/>
              </a:rPr>
              <a:t>BILANCA</a:t>
            </a:r>
            <a:endParaRPr b="0" lang="en-US" sz="6700" spc="-1" strike="noStrike">
              <a:solidFill>
                <a:srgbClr val="000000"/>
              </a:solidFill>
              <a:latin typeface="Arial"/>
            </a:endParaRPr>
          </a:p>
        </p:txBody>
      </p:sp>
      <p:sp>
        <p:nvSpPr>
          <p:cNvPr id="829" name="PlaceHolder 2"/>
          <p:cNvSpPr>
            <a:spLocks noGrp="1"/>
          </p:cNvSpPr>
          <p:nvPr>
            <p:ph type="subTitle"/>
          </p:nvPr>
        </p:nvSpPr>
        <p:spPr>
          <a:xfrm>
            <a:off x="878040" y="2343240"/>
            <a:ext cx="7796160" cy="3651120"/>
          </a:xfrm>
          <a:prstGeom prst="rect">
            <a:avLst/>
          </a:prstGeom>
          <a:noFill/>
          <a:ln w="0">
            <a:noFill/>
          </a:ln>
        </p:spPr>
        <p:txBody>
          <a:bodyPr lIns="90000" rIns="90000" tIns="46800" bIns="46800"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Pojam bilanc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Forma iskazivanja bilanc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Vrste bilanc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Bilančne promjen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65D0D6-5EE6-4139-9FAC-86D0749FAE32}" type="slidenum">
              <a:t>184</a:t>
            </a:fld>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bilance</a:t>
            </a:r>
            <a:endParaRPr b="0" lang="en-US" sz="4400" spc="-1" strike="noStrike">
              <a:solidFill>
                <a:srgbClr val="000000"/>
              </a:solidFill>
              <a:latin typeface="Arial"/>
            </a:endParaRPr>
          </a:p>
        </p:txBody>
      </p:sp>
      <p:sp>
        <p:nvSpPr>
          <p:cNvPr id="831" name="PlaceHolder 2"/>
          <p:cNvSpPr>
            <a:spLocks noGrp="1"/>
          </p:cNvSpPr>
          <p:nvPr>
            <p:ph/>
          </p:nvPr>
        </p:nvSpPr>
        <p:spPr>
          <a:xfrm>
            <a:off x="1258920" y="1484280"/>
            <a:ext cx="5834160" cy="43099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tal. BILANCIA = vaga</a:t>
            </a:r>
            <a:endParaRPr b="0" lang="en-US" sz="2800" spc="-1" strike="noStrike">
              <a:solidFill>
                <a:srgbClr val="000000"/>
              </a:solidFill>
              <a:latin typeface="Arial"/>
            </a:endParaRPr>
          </a:p>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va sačuvana bilanca potječe iz Italije iz 1389. godine od tvrtke “Datini” iz Firenze</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ca je statički financijski izvještaj koji prikazuje stanje imovine, obveza i kapitala na dan bilanciranja.</a:t>
            </a:r>
            <a:endParaRPr b="0" lang="en-US" sz="2800" spc="-1" strike="noStrike">
              <a:solidFill>
                <a:srgbClr val="000000"/>
              </a:solidFill>
              <a:latin typeface="Arial"/>
            </a:endParaRPr>
          </a:p>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astoji se iz AKTIVE i PASIVE.</a:t>
            </a:r>
            <a:endParaRPr b="0" lang="en-US" sz="2800" spc="-1" strike="noStrike">
              <a:solidFill>
                <a:srgbClr val="000000"/>
              </a:solidFill>
              <a:latin typeface="Arial"/>
            </a:endParaRPr>
          </a:p>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ca daje informacije o financijskom položaju društv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6C9191-BE69-408C-AFA7-764B9FDBBA16}" type="slidenum">
              <a:t>185</a:t>
            </a:fld>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39280" y="404280"/>
            <a:ext cx="815364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bilance</a:t>
            </a:r>
            <a:endParaRPr b="0" lang="en-US" sz="4400" spc="-1" strike="noStrike">
              <a:solidFill>
                <a:srgbClr val="000000"/>
              </a:solidFill>
              <a:latin typeface="Arial"/>
            </a:endParaRPr>
          </a:p>
        </p:txBody>
      </p:sp>
      <p:sp>
        <p:nvSpPr>
          <p:cNvPr id="833" name="PlaceHolder 2"/>
          <p:cNvSpPr>
            <a:spLocks noGrp="1"/>
          </p:cNvSpPr>
          <p:nvPr>
            <p:ph/>
          </p:nvPr>
        </p:nvSpPr>
        <p:spPr>
          <a:xfrm>
            <a:off x="394920" y="1557360"/>
            <a:ext cx="80643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čna ravnoteža ogleda se u ravnoteži aktive i pasive što zapravo znači da imovina mora biti jednaka izvorima iz kojih se financi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likom osnivanja društva na temelju inventara sastavlja se početna bilanca  iz koje se koriste podaci za otvaranje poslovnih knjig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 kraju poslovne godine sastavlja se zaključna bilanca koja ujedno predstavlja početnu bilancu u idućoj poslovnoj godin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C6C61A8-31EB-4023-8456-9AA9DA56CE57}" type="slidenum">
              <a:t>186</a:t>
            </a:fld>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ca se može sastaviti u oblik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dvostranog računa 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jednostranog (stupnjevitog) račun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EB8CFE-EECC-4470-8D5C-2A93B9C618D7}" type="slidenum">
              <a:t>187</a:t>
            </a:fld>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539280" y="404640"/>
            <a:ext cx="815364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37" name="PlaceHolder 2"/>
          <p:cNvSpPr>
            <a:spLocks noGrp="1"/>
          </p:cNvSpPr>
          <p:nvPr>
            <p:ph/>
          </p:nvPr>
        </p:nvSpPr>
        <p:spPr>
          <a:xfrm>
            <a:off x="684360" y="1268280"/>
            <a:ext cx="8069040" cy="15112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blik dvostranog računa</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KTIVA</a:t>
            </a:r>
            <a:r>
              <a:rPr b="0" lang="hr-HR" sz="2800" spc="-1" strike="noStrike">
                <a:solidFill>
                  <a:srgbClr val="000000"/>
                </a:solidFill>
                <a:latin typeface="Times New Roman"/>
              </a:rPr>
              <a:t>	</a:t>
            </a:r>
            <a:r>
              <a:rPr b="0" lang="hr-HR" sz="2800" spc="-1" strike="noStrike">
                <a:solidFill>
                  <a:srgbClr val="000000"/>
                </a:solidFill>
                <a:latin typeface="Times New Roman"/>
              </a:rPr>
              <a:t>Bilanca na dan 31. 12. 2001.        PASIVA</a:t>
            </a:r>
            <a:endParaRPr b="0" lang="en-US" sz="2800" spc="-1" strike="noStrike">
              <a:solidFill>
                <a:srgbClr val="000000"/>
              </a:solidFill>
              <a:latin typeface="Arial"/>
            </a:endParaRPr>
          </a:p>
        </p:txBody>
      </p:sp>
      <p:graphicFrame>
        <p:nvGraphicFramePr>
          <p:cNvPr id="838" name=""/>
          <p:cNvGraphicFramePr/>
          <p:nvPr/>
        </p:nvGraphicFramePr>
        <p:xfrm>
          <a:off x="611280" y="2924280"/>
          <a:ext cx="8002440" cy="3265200"/>
        </p:xfrm>
        <a:graphic>
          <a:graphicData uri="http://schemas.openxmlformats.org/drawingml/2006/table">
            <a:tbl>
              <a:tblPr/>
              <a:tblGrid>
                <a:gridCol w="647640"/>
                <a:gridCol w="576360"/>
                <a:gridCol w="1655640"/>
                <a:gridCol w="1122480"/>
                <a:gridCol w="677880"/>
                <a:gridCol w="647640"/>
                <a:gridCol w="1584360"/>
                <a:gridCol w="10904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ed. b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ed. b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tr. za upisani a neuplaćeni kapi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ital i rezer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7.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3.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048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AKTI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PASIV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23B073B9-1FCD-4629-8585-69C192D92A16}" type="slidenum">
              <a:t>188</a:t>
            </a:fld>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40" name="PlaceHolder 2"/>
          <p:cNvSpPr>
            <a:spLocks noGrp="1"/>
          </p:cNvSpPr>
          <p:nvPr>
            <p:ph/>
          </p:nvPr>
        </p:nvSpPr>
        <p:spPr>
          <a:xfrm>
            <a:off x="826560" y="907920"/>
            <a:ext cx="7704360" cy="12240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blik jednostranog računa</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ctr">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ca na dan 31. 12. 2001.</a:t>
            </a:r>
            <a:endParaRPr b="0" lang="en-US" sz="2800" spc="-1" strike="noStrike">
              <a:solidFill>
                <a:srgbClr val="000000"/>
              </a:solidFill>
              <a:latin typeface="Arial"/>
            </a:endParaRPr>
          </a:p>
        </p:txBody>
      </p:sp>
      <p:graphicFrame>
        <p:nvGraphicFramePr>
          <p:cNvPr id="841" name=""/>
          <p:cNvGraphicFramePr/>
          <p:nvPr/>
        </p:nvGraphicFramePr>
        <p:xfrm>
          <a:off x="395280" y="2276640"/>
          <a:ext cx="8075520" cy="3956040"/>
        </p:xfrm>
        <a:graphic>
          <a:graphicData uri="http://schemas.openxmlformats.org/drawingml/2006/table">
            <a:tbl>
              <a:tblPr/>
              <a:tblGrid>
                <a:gridCol w="1296720"/>
                <a:gridCol w="1511280"/>
                <a:gridCol w="3247920"/>
                <a:gridCol w="2019600"/>
              </a:tblGrid>
              <a:tr h="415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ed. b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tr. za upisani a neuplaćeni kapi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3.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688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AKTI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ital i rezer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84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PASI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E6E4A2F2-1AB7-433F-AF33-6A5C5B55CE31}" type="slidenum">
              <a:t>189</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3440" y="189000"/>
            <a:ext cx="80802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Računovodstvena profesija</a:t>
            </a:r>
            <a:endParaRPr b="0" lang="en-US" sz="3600" spc="-1" strike="noStrike">
              <a:solidFill>
                <a:srgbClr val="000000"/>
              </a:solidFill>
              <a:latin typeface="Arial"/>
            </a:endParaRPr>
          </a:p>
        </p:txBody>
      </p:sp>
      <p:sp>
        <p:nvSpPr>
          <p:cNvPr id="123" name="PlaceHolder 2"/>
          <p:cNvSpPr>
            <a:spLocks noGrp="1"/>
          </p:cNvSpPr>
          <p:nvPr>
            <p:ph/>
          </p:nvPr>
        </p:nvSpPr>
        <p:spPr>
          <a:xfrm>
            <a:off x="395280" y="1341360"/>
            <a:ext cx="7772400" cy="4967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tek je u posljednjoj polovici stoljeća računovodstvo dobilo status profesije, kao što su npr. medicina ili prav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ručnost, etička načela (kodeks profesionalne etik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nstitucionalno povezivanje, stručne udru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ovlašteni računovođ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avni računovođe i privatni računovođ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9845AF-55C4-4BE9-8F25-B7A2103D6D88}" type="slidenum">
              <a:t>19</a:t>
            </a:fld>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Zadatak</a:t>
            </a:r>
            <a:endParaRPr b="0" lang="en-US" sz="4400" spc="-1" strike="noStrike">
              <a:solidFill>
                <a:srgbClr val="000000"/>
              </a:solidFill>
              <a:latin typeface="Arial"/>
            </a:endParaRPr>
          </a:p>
        </p:txBody>
      </p:sp>
      <p:sp>
        <p:nvSpPr>
          <p:cNvPr id="843" name="PlaceHolder 2"/>
          <p:cNvSpPr>
            <a:spLocks noGrp="1"/>
          </p:cNvSpPr>
          <p:nvPr>
            <p:ph/>
          </p:nvPr>
        </p:nvSpPr>
        <p:spPr>
          <a:xfrm>
            <a:off x="971280" y="1773360"/>
            <a:ext cx="6985080" cy="475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siječnju 2000. godine osnovali ste trgovačko društvo koje se bavi trgovinom namještaja. Do ožujka iste godine kupili ste građevinsko zemljište, izgradili i opremili skladište i salon potrebnom opremom i inventarom te ste započeli s poslovanj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Za potrebe dopreme i otpreme robe kupili ste dostavno vozil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slovni pothvat financirali ste ulaganjem vlastitih sredstav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F3E328-E1D7-4DB5-B723-493A324C9686}" type="slidenum">
              <a:t>190</a:t>
            </a:fld>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Zadatak</a:t>
            </a: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kon obavljenih radnji koje su prethodile redovitom poslovanju društva izvršili ste popis imovine i obveza te ste sastavili inventar temeljem kojeg trebate sastaviti početnu bilancu i otvoriti račune glavne knjig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Vrijednosti pojedinih stavki imovine i obveza slobodno su procijenje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0F4379F-1688-4425-90F0-A3610700024F}" type="slidenum">
              <a:t>191</a:t>
            </a:fld>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68000" y="404640"/>
            <a:ext cx="8142120" cy="503280"/>
          </a:xfrm>
          <a:prstGeom prst="rect">
            <a:avLst/>
          </a:prstGeom>
          <a:noFill/>
          <a:ln w="0">
            <a:noFill/>
          </a:ln>
        </p:spPr>
        <p:txBody>
          <a:bodyPr lIns="90000" rIns="90000" tIns="46800" bIns="46800" anchor="t">
            <a:normAutofit fontScale="97000"/>
          </a:bodyPr>
          <a:p>
            <a:pPr marL="332640"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rPr>
              <a:t>A    Početna bilanca društva “Interijer” d.o.o. 01. 03. 2001.    P</a:t>
            </a:r>
            <a:endParaRPr b="0" lang="en-US" sz="2500" spc="-1" strike="noStrike">
              <a:solidFill>
                <a:srgbClr val="000000"/>
              </a:solidFill>
              <a:latin typeface="Arial"/>
            </a:endParaRPr>
          </a:p>
          <a:p>
            <a:pPr marL="332640"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aphicFrame>
        <p:nvGraphicFramePr>
          <p:cNvPr id="847" name=""/>
          <p:cNvGraphicFramePr/>
          <p:nvPr/>
        </p:nvGraphicFramePr>
        <p:xfrm>
          <a:off x="468360" y="1628640"/>
          <a:ext cx="8207280" cy="4446360"/>
        </p:xfrm>
        <a:graphic>
          <a:graphicData uri="http://schemas.openxmlformats.org/drawingml/2006/table">
            <a:tbl>
              <a:tblPr/>
              <a:tblGrid>
                <a:gridCol w="882720"/>
                <a:gridCol w="662040"/>
                <a:gridCol w="1533240"/>
                <a:gridCol w="1025640"/>
                <a:gridCol w="898560"/>
                <a:gridCol w="685800"/>
                <a:gridCol w="182520"/>
                <a:gridCol w="1257480"/>
                <a:gridCol w="1079280"/>
              </a:tblGrid>
              <a:tr h="430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 b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 b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I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emljiš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i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gra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pre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TR.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ROČ.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lih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Žiro rač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952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AKTI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PASIV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0D252039-2361-4380-8BC8-C4F219DFCC03}" type="slidenum">
              <a:t>192</a:t>
            </a:fld>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539640" y="549360"/>
            <a:ext cx="8064720" cy="57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900000" y="1700280"/>
            <a:ext cx="3311640" cy="15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1116000" y="213192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627280" y="213192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1091880" y="1792440"/>
            <a:ext cx="30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Zemljište            P</a:t>
            </a:r>
            <a:endParaRPr b="0" lang="en-US" sz="1800" spc="-1" strike="noStrike">
              <a:solidFill>
                <a:srgbClr val="000000"/>
              </a:solidFill>
              <a:latin typeface="Arial"/>
            </a:endParaRPr>
          </a:p>
        </p:txBody>
      </p:sp>
      <p:sp>
        <p:nvSpPr>
          <p:cNvPr id="853" name=""/>
          <p:cNvSpPr/>
          <p:nvPr/>
        </p:nvSpPr>
        <p:spPr>
          <a:xfrm>
            <a:off x="1406160" y="22050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 000</a:t>
            </a:r>
            <a:endParaRPr b="0" lang="en-US" sz="1800" spc="-1" strike="noStrike">
              <a:solidFill>
                <a:srgbClr val="000000"/>
              </a:solidFill>
              <a:latin typeface="Arial"/>
            </a:endParaRPr>
          </a:p>
        </p:txBody>
      </p:sp>
      <p:sp>
        <p:nvSpPr>
          <p:cNvPr id="854" name=""/>
          <p:cNvSpPr/>
          <p:nvPr/>
        </p:nvSpPr>
        <p:spPr>
          <a:xfrm>
            <a:off x="5003640" y="213192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372360" y="21319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4981320" y="1792440"/>
            <a:ext cx="282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Zgrada            P </a:t>
            </a:r>
            <a:endParaRPr b="0" lang="en-US" sz="1800" spc="-1" strike="noStrike">
              <a:solidFill>
                <a:srgbClr val="000000"/>
              </a:solidFill>
              <a:latin typeface="Arial"/>
            </a:endParaRPr>
          </a:p>
        </p:txBody>
      </p:sp>
      <p:sp>
        <p:nvSpPr>
          <p:cNvPr id="857" name=""/>
          <p:cNvSpPr/>
          <p:nvPr/>
        </p:nvSpPr>
        <p:spPr>
          <a:xfrm>
            <a:off x="5056200" y="2152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8" name=""/>
          <p:cNvSpPr/>
          <p:nvPr/>
        </p:nvSpPr>
        <p:spPr>
          <a:xfrm>
            <a:off x="5222520" y="22050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 000</a:t>
            </a:r>
            <a:endParaRPr b="0" lang="en-US" sz="1800" spc="-1" strike="noStrike">
              <a:solidFill>
                <a:srgbClr val="000000"/>
              </a:solidFill>
              <a:latin typeface="Arial"/>
            </a:endParaRPr>
          </a:p>
        </p:txBody>
      </p:sp>
      <p:sp>
        <p:nvSpPr>
          <p:cNvPr id="859" name=""/>
          <p:cNvSpPr/>
          <p:nvPr/>
        </p:nvSpPr>
        <p:spPr>
          <a:xfrm>
            <a:off x="1116000" y="364500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2627280" y="3645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1162800" y="3303720"/>
            <a:ext cx="29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Oprema             P</a:t>
            </a:r>
            <a:endParaRPr b="0" lang="en-US" sz="1800" spc="-1" strike="noStrike">
              <a:solidFill>
                <a:srgbClr val="000000"/>
              </a:solidFill>
              <a:latin typeface="Arial"/>
            </a:endParaRPr>
          </a:p>
        </p:txBody>
      </p:sp>
      <p:sp>
        <p:nvSpPr>
          <p:cNvPr id="862" name=""/>
          <p:cNvSpPr/>
          <p:nvPr/>
        </p:nvSpPr>
        <p:spPr>
          <a:xfrm>
            <a:off x="1550160" y="371628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0 000</a:t>
            </a:r>
            <a:endParaRPr b="0" lang="en-US" sz="1800" spc="-1" strike="noStrike">
              <a:solidFill>
                <a:srgbClr val="000000"/>
              </a:solidFill>
              <a:latin typeface="Arial"/>
            </a:endParaRPr>
          </a:p>
        </p:txBody>
      </p:sp>
      <p:sp>
        <p:nvSpPr>
          <p:cNvPr id="863" name=""/>
          <p:cNvSpPr/>
          <p:nvPr/>
        </p:nvSpPr>
        <p:spPr>
          <a:xfrm>
            <a:off x="5076720" y="371628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443640" y="37162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052960" y="330372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Zalihe             P</a:t>
            </a:r>
            <a:endParaRPr b="0" lang="en-US" sz="1800" spc="-1" strike="noStrike">
              <a:solidFill>
                <a:srgbClr val="000000"/>
              </a:solidFill>
              <a:latin typeface="Arial"/>
            </a:endParaRPr>
          </a:p>
        </p:txBody>
      </p:sp>
      <p:sp>
        <p:nvSpPr>
          <p:cNvPr id="866" name=""/>
          <p:cNvSpPr/>
          <p:nvPr/>
        </p:nvSpPr>
        <p:spPr>
          <a:xfrm>
            <a:off x="5295600" y="3787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0 000</a:t>
            </a:r>
            <a:endParaRPr b="0" lang="en-US" sz="1800" spc="-1" strike="noStrike">
              <a:solidFill>
                <a:srgbClr val="000000"/>
              </a:solidFill>
              <a:latin typeface="Arial"/>
            </a:endParaRPr>
          </a:p>
        </p:txBody>
      </p:sp>
      <p:sp>
        <p:nvSpPr>
          <p:cNvPr id="867" name=""/>
          <p:cNvSpPr/>
          <p:nvPr/>
        </p:nvSpPr>
        <p:spPr>
          <a:xfrm>
            <a:off x="5148360" y="530064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16720" y="530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199120" y="4960800"/>
            <a:ext cx="254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Žiro račun        P</a:t>
            </a:r>
            <a:endParaRPr b="0" lang="en-US" sz="1800" spc="-1" strike="noStrike">
              <a:solidFill>
                <a:srgbClr val="000000"/>
              </a:solidFill>
              <a:latin typeface="Arial"/>
            </a:endParaRPr>
          </a:p>
        </p:txBody>
      </p:sp>
      <p:sp>
        <p:nvSpPr>
          <p:cNvPr id="870" name=""/>
          <p:cNvSpPr/>
          <p:nvPr/>
        </p:nvSpPr>
        <p:spPr>
          <a:xfrm>
            <a:off x="5511240" y="537228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0 00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AFCD78-6DC9-4EFE-8DBA-E327BF7B5458}" type="slidenum">
              <a:t>193</a:t>
            </a:fld>
          </a:p>
        </p:txBody>
      </p:sp>
    </p:spTree>
  </p:cSld>
  <p:transition>
    <p:wheel spokes="8"/>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1206360" y="2546280"/>
            <a:ext cx="30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2719440" y="2546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1351080" y="2114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4" name=""/>
          <p:cNvSpPr/>
          <p:nvPr/>
        </p:nvSpPr>
        <p:spPr>
          <a:xfrm>
            <a:off x="1183320" y="2133720"/>
            <a:ext cx="305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Kapital               P</a:t>
            </a:r>
            <a:endParaRPr b="0" lang="en-US" sz="1800" spc="-1" strike="noStrike">
              <a:solidFill>
                <a:srgbClr val="000000"/>
              </a:solidFill>
              <a:latin typeface="Arial"/>
            </a:endParaRPr>
          </a:p>
        </p:txBody>
      </p:sp>
      <p:sp>
        <p:nvSpPr>
          <p:cNvPr id="875" name=""/>
          <p:cNvSpPr/>
          <p:nvPr/>
        </p:nvSpPr>
        <p:spPr>
          <a:xfrm>
            <a:off x="2846160" y="2638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00 00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F049A18-CC8F-4A85-91A9-2616E5AD4E63}" type="slidenum">
              <a:t>194</a:t>
            </a:fld>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77" name="PlaceHolder 2"/>
          <p:cNvSpPr>
            <a:spLocks noGrp="1"/>
          </p:cNvSpPr>
          <p:nvPr>
            <p:ph/>
          </p:nvPr>
        </p:nvSpPr>
        <p:spPr>
          <a:xfrm>
            <a:off x="1476360" y="1484280"/>
            <a:ext cx="619128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truktura bilance ovisi o kriteriju razvrstavanja bilančnih pozicija. </a:t>
            </a:r>
            <a:endParaRPr b="0" lang="en-US" sz="2800" spc="-1" strike="noStrike">
              <a:solidFill>
                <a:srgbClr val="000000"/>
              </a:solidFill>
              <a:latin typeface="Arial"/>
            </a:endParaRPr>
          </a:p>
          <a:p>
            <a:pPr marL="329040" indent="-3290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okviru razvrstavanja pozicija aktive razlikujemo:</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kriterij funkcionalnosti i</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kriterij likvidnosti.</a:t>
            </a:r>
            <a:endParaRPr b="0" lang="en-US" sz="2800" spc="-1" strike="noStrike">
              <a:solidFill>
                <a:srgbClr val="000000"/>
              </a:solidFill>
              <a:latin typeface="Arial"/>
            </a:endParaRPr>
          </a:p>
          <a:p>
            <a:pPr marL="329040" indent="-3290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riterij funkcionalnosti nalaže da se imovina iskaže po istim funkcionalnim skupinama (stalna imovina, tekuća imovin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BBB2F3-A3C9-4785-AD54-F78A5F3DA1F0}" type="slidenum">
              <a:t>195</a:t>
            </a:fld>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680"/>
            <a:ext cx="82296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79" name="PlaceHolder 2"/>
          <p:cNvSpPr>
            <a:spLocks noGrp="1"/>
          </p:cNvSpPr>
          <p:nvPr>
            <p:ph/>
          </p:nvPr>
        </p:nvSpPr>
        <p:spPr>
          <a:xfrm>
            <a:off x="1115640" y="1600200"/>
            <a:ext cx="720108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riterij likvidnosti nalaže da se imovina u bilanci iskaže po grupama poštujući slijedeća načela:</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čelo rastuće likvidnosti i</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čelo opadajuće likvidnosti.</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čelo rastuće likvidnosti odnosi se na prikazivanje stavki imovine počevši od manje likvidnih (npr. dugotrajna imovina) prema likvidnijim (kratkotrajna imovina), dok je kod načela opadajuće likvidnosti situacija obrnu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79F021B-7FB9-4E39-A2FC-A432F768653A}" type="slidenum">
              <a:t>196</a:t>
            </a:fld>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01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81" name="PlaceHolder 2"/>
          <p:cNvSpPr>
            <a:spLocks noGrp="1"/>
          </p:cNvSpPr>
          <p:nvPr>
            <p:ph/>
          </p:nvPr>
        </p:nvSpPr>
        <p:spPr>
          <a:xfrm>
            <a:off x="1042560" y="1412640"/>
            <a:ext cx="691380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okviru razvrstavanja pozicija pasive razlikujem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kriterij namjene 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kriterij ročnosti ili dospijeć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riterij namjene nalaže da funkcija imovine odgovara karakteru dugova i kapital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riterij ročnosti nalaže da se pozicije pasive u bilanci iskažu po grupama poštujući slijedeća načel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čelo rastuće ročnosti 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čelo opadajuće ročnos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C4BB3EA-B730-4D2D-BF72-D5E4836C9EE7}" type="slidenum">
              <a:t>197</a:t>
            </a:fld>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680"/>
            <a:ext cx="82296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čelo rastuće ročnosti nalaže da se pozicije pasive iskažu u bilanci počevši od stavki koje dospijevaju u kraćem roku (kratkoročne obveze) prema stavkama čije je dospijeće duže (dugoročne obveze i kapital) dok je kod načela opadajuće ročnosti situacija obrnut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praksi su zastupljeni kriteriji likvidnosti za aktivu i kriterij ročnosti ili dospijeća za pasiv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EA2309-3F2C-4C46-83C8-E840B5ACAFDD}" type="slidenum">
              <a:t>198</a:t>
            </a:fld>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ema propisanoj shemi bilance u Zakonu o računovodstvu čl. 17. stavke aktive poredane su prema kriteriju rastuće likvidnosti, dok su stavke pasive poredane po kriteriju opadajuće ročnos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79E043-F019-47D7-BD42-F61A7E0C80FC}" type="slidenum">
              <a:t>19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ZVEDBA NASTA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edavan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emina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Vježb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93A235-1679-4E4E-8C58-47FFA7A597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899640" y="2492280"/>
            <a:ext cx="6481800" cy="24256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Unicode MS"/>
              </a:rPr>
              <a:t>MJESTO RAČUNOVODSTVA U PODUZEĆU</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Unicode MS"/>
              </a:rPr>
              <a:t> </a:t>
            </a:r>
            <a:r>
              <a:rPr b="1" lang="hr-HR" sz="2400" spc="-1" strike="noStrike">
                <a:solidFill>
                  <a:srgbClr val="000000"/>
                </a:solidFill>
                <a:latin typeface="Arial Unicode MS"/>
              </a:rPr>
              <a:t>Računovodstvo sa stajališta poslovanja</a:t>
            </a:r>
            <a:endParaRPr b="0" lang="en-US" sz="2400" spc="-1" strike="noStrike">
              <a:solidFill>
                <a:srgbClr val="000000"/>
              </a:solidFill>
              <a:latin typeface="Arial"/>
            </a:endParaRPr>
          </a:p>
          <a:p>
            <a:pPr algn="ctr">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Unicode MS"/>
              </a:rPr>
              <a:t> </a:t>
            </a:r>
            <a:r>
              <a:rPr b="1" lang="hr-HR" sz="2400" spc="-1" strike="noStrike">
                <a:solidFill>
                  <a:srgbClr val="000000"/>
                </a:solidFill>
                <a:latin typeface="Arial Unicode MS"/>
              </a:rPr>
              <a:t>Računovodstvo sa stajališt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Unicode MS"/>
              </a:rPr>
              <a:t>  </a:t>
            </a:r>
            <a:r>
              <a:rPr b="1" lang="hr-HR" sz="2400" spc="-1" strike="noStrike">
                <a:solidFill>
                  <a:srgbClr val="000000"/>
                </a:solidFill>
                <a:latin typeface="Arial Unicode MS"/>
              </a:rPr>
              <a:t>računovodstvene djelatnosti</a:t>
            </a:r>
            <a:endParaRPr b="0" lang="en-US" sz="2400" spc="-1" strike="noStrike">
              <a:solidFill>
                <a:srgbClr val="000000"/>
              </a:solidFill>
              <a:latin typeface="Arial"/>
            </a:endParaRPr>
          </a:p>
        </p:txBody>
      </p:sp>
      <p:sp>
        <p:nvSpPr>
          <p:cNvPr id="125" name="PlaceHolder 2"/>
          <p:cNvSpPr>
            <a:spLocks noGrp="1"/>
          </p:cNvSpPr>
          <p:nvPr>
            <p:ph type="title"/>
          </p:nvPr>
        </p:nvSpPr>
        <p:spPr>
          <a:xfrm>
            <a:off x="685440" y="304560"/>
            <a:ext cx="7846920" cy="146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Unicode MS"/>
              </a:rPr>
              <a:t>RAČUNOVODSTVO I EKONOMSKA ZNANOST</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6417BF88-3CD6-4EB2-92C6-A1A64E3732C1}" type="slidenum">
              <a:t>20</a:t>
            </a:fld>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01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Vrste bilance</a:t>
            </a:r>
            <a:endParaRPr b="0" lang="en-US" sz="4400" spc="-1" strike="noStrike">
              <a:solidFill>
                <a:srgbClr val="000000"/>
              </a:solidFill>
              <a:latin typeface="Arial"/>
            </a:endParaRPr>
          </a:p>
        </p:txBody>
      </p:sp>
      <p:sp>
        <p:nvSpPr>
          <p:cNvPr id="887" name="PlaceHolder 2"/>
          <p:cNvSpPr>
            <a:spLocks noGrp="1"/>
          </p:cNvSpPr>
          <p:nvPr>
            <p:ph/>
          </p:nvPr>
        </p:nvSpPr>
        <p:spPr>
          <a:xfrm>
            <a:off x="971280" y="1557360"/>
            <a:ext cx="6985080" cy="4680000"/>
          </a:xfrm>
          <a:prstGeom prst="rect">
            <a:avLst/>
          </a:prstGeom>
          <a:noFill/>
          <a:ln w="0">
            <a:noFill/>
          </a:ln>
        </p:spPr>
        <p:txBody>
          <a:bodyPr lIns="90000" rIns="90000" tIns="46800" bIns="4680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visno o potrebama i svrhama zbog kojih se sastavljaju razlikuju se različite vrste bilance.</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zlikujemo slijedeće vrste bilanci:</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Prema </a:t>
            </a:r>
            <a:r>
              <a:rPr b="1" lang="hr-HR" sz="2800" spc="-1" strike="noStrike">
                <a:solidFill>
                  <a:srgbClr val="000000"/>
                </a:solidFill>
                <a:latin typeface="Times New Roman"/>
              </a:rPr>
              <a:t>vremenu</a:t>
            </a:r>
            <a:r>
              <a:rPr b="0" lang="hr-HR" sz="2800" spc="-1" strike="noStrike">
                <a:solidFill>
                  <a:srgbClr val="000000"/>
                </a:solidFill>
                <a:latin typeface="Times New Roman"/>
              </a:rPr>
              <a:t> sastavljanja:  </a:t>
            </a:r>
            <a:r>
              <a:rPr b="0" lang="hr-HR" sz="2800" spc="-1" strike="noStrike">
                <a:solidFill>
                  <a:srgbClr val="000000"/>
                </a:solidFill>
                <a:latin typeface="Times New Roman"/>
              </a:rPr>
              <a:t>	</a:t>
            </a:r>
            <a:r>
              <a:rPr b="0" lang="hr-HR" sz="2800" spc="-1" strike="noStrike">
                <a:solidFill>
                  <a:srgbClr val="000000"/>
                </a:solidFill>
                <a:latin typeface="Times New Roman"/>
              </a:rPr>
              <a:t>proračunske (planske) i</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obračunske (stvarne) bilance.</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Prema </a:t>
            </a:r>
            <a:r>
              <a:rPr b="1" lang="hr-HR" sz="2800" spc="-1" strike="noStrike">
                <a:solidFill>
                  <a:srgbClr val="000000"/>
                </a:solidFill>
                <a:latin typeface="Times New Roman"/>
              </a:rPr>
              <a:t>razlogu</a:t>
            </a:r>
            <a:r>
              <a:rPr b="0" lang="hr-HR" sz="2800" spc="-1" strike="noStrike">
                <a:solidFill>
                  <a:srgbClr val="000000"/>
                </a:solidFill>
                <a:latin typeface="Times New Roman"/>
              </a:rPr>
              <a:t> i </a:t>
            </a:r>
            <a:r>
              <a:rPr b="1" lang="hr-HR" sz="2800" spc="-1" strike="noStrike">
                <a:solidFill>
                  <a:srgbClr val="000000"/>
                </a:solidFill>
                <a:latin typeface="Times New Roman"/>
              </a:rPr>
              <a:t>cilju</a:t>
            </a:r>
            <a:r>
              <a:rPr b="0" lang="hr-HR" sz="2800" spc="-1" strike="noStrike">
                <a:solidFill>
                  <a:srgbClr val="000000"/>
                </a:solidFill>
                <a:latin typeface="Times New Roman"/>
              </a:rPr>
              <a:t> sastavljanja: početna, zaključna, probna, podbilanca, skraćena bilanca, inventurna, primopredajna, likvidacijska, fuzijska, diobena, stečajna, konsolidirana i zbrojna bilanc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EDA84BF-B061-465C-9802-3BE7AE5C0078}" type="slidenum">
              <a:t>200</a:t>
            </a:fld>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Vrste bilance</a:t>
            </a:r>
            <a:endParaRPr b="0" lang="en-US" sz="4400" spc="-1" strike="noStrike">
              <a:solidFill>
                <a:srgbClr val="000000"/>
              </a:solidFill>
              <a:latin typeface="Arial"/>
            </a:endParaRPr>
          </a:p>
        </p:txBody>
      </p:sp>
      <p:sp>
        <p:nvSpPr>
          <p:cNvPr id="889" name="PlaceHolder 2"/>
          <p:cNvSpPr>
            <a:spLocks noGrp="1"/>
          </p:cNvSpPr>
          <p:nvPr>
            <p:ph/>
          </p:nvPr>
        </p:nvSpPr>
        <p:spPr>
          <a:xfrm>
            <a:off x="1116000" y="1600200"/>
            <a:ext cx="5616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ruto bilanca iskaz je knjiženja svih računa glavne knjige te služi za utvrđivanje formalne točnosti izvršenih knjižen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F2B202-A26D-4473-AE59-E3B6667DB982}" type="slidenum">
              <a:t>201</a:t>
            </a:fld>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Vrste bilance</a:t>
            </a:r>
            <a:endParaRPr b="0" lang="en-US" sz="4400" spc="-1" strike="noStrike">
              <a:solidFill>
                <a:srgbClr val="000000"/>
              </a:solidFill>
              <a:latin typeface="Arial"/>
            </a:endParaRPr>
          </a:p>
        </p:txBody>
      </p:sp>
      <p:sp>
        <p:nvSpPr>
          <p:cNvPr id="891" name="PlaceHolder 2"/>
          <p:cNvSpPr>
            <a:spLocks noGrp="1"/>
          </p:cNvSpPr>
          <p:nvPr>
            <p:ph/>
          </p:nvPr>
        </p:nvSpPr>
        <p:spPr>
          <a:xfrm>
            <a:off x="1042560" y="1483920"/>
            <a:ext cx="7921800" cy="1800360"/>
          </a:xfrm>
          <a:prstGeom prst="rect">
            <a:avLst/>
          </a:prstGeom>
          <a:noFill/>
          <a:ln w="0">
            <a:noFill/>
          </a:ln>
        </p:spPr>
        <p:txBody>
          <a:bodyPr lIns="90000" rIns="90000" tIns="46800" bIns="46800" anchor="t">
            <a:normAutofit fontScale="84000"/>
          </a:bodyPr>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ruto bilanca može biti sintetička i analitička, a sastoji se od:</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prometne bilance i</a:t>
            </a:r>
            <a:endParaRPr b="0" lang="en-US" sz="2800" spc="-1" strike="noStrike">
              <a:solidFill>
                <a:srgbClr val="000000"/>
              </a:solidFill>
              <a:latin typeface="Arial"/>
            </a:endParaRPr>
          </a:p>
          <a:p>
            <a:pPr marL="2880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saldo bilance.</a:t>
            </a:r>
            <a:endParaRPr b="0" lang="en-US" sz="2800" spc="-1" strike="noStrike">
              <a:solidFill>
                <a:srgbClr val="000000"/>
              </a:solidFill>
              <a:latin typeface="Arial"/>
            </a:endParaRPr>
          </a:p>
          <a:p>
            <a:pPr marL="2880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Bruto bilanca</a:t>
            </a:r>
            <a:endParaRPr b="0" lang="en-US" sz="2400" spc="-1" strike="noStrike">
              <a:solidFill>
                <a:srgbClr val="000000"/>
              </a:solidFill>
              <a:latin typeface="Arial"/>
            </a:endParaRPr>
          </a:p>
        </p:txBody>
      </p:sp>
      <p:graphicFrame>
        <p:nvGraphicFramePr>
          <p:cNvPr id="892" name=""/>
          <p:cNvGraphicFramePr/>
          <p:nvPr/>
        </p:nvGraphicFramePr>
        <p:xfrm>
          <a:off x="900000" y="3213000"/>
          <a:ext cx="7632720" cy="2973240"/>
        </p:xfrm>
        <a:graphic>
          <a:graphicData uri="http://schemas.openxmlformats.org/drawingml/2006/table">
            <a:tbl>
              <a:tblPr/>
              <a:tblGrid>
                <a:gridCol w="792360"/>
                <a:gridCol w="1190520"/>
                <a:gridCol w="1376280"/>
                <a:gridCol w="1449720"/>
                <a:gridCol w="1374480"/>
                <a:gridCol w="1449360"/>
              </a:tblGrid>
              <a:tr h="720360">
                <a:tc rowSpan="2">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onto</a:t>
                      </a:r>
                      <a:endParaRPr b="0" lang="en-US" sz="20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Naziv konta</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omet od 01. 02.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do 28. 02. 2001.</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Saldo na da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28.02. 2001.</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uguj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otražuj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uguj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otražuje</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512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10</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Zalihe materijal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530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70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60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43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3240">
                <a:tc gridSpan="2">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Ukupno</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X</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X</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Y</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Y</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03C731A6-0D9E-4578-879C-4BAD51D56F8E}" type="slidenum">
              <a:t>202</a:t>
            </a:fld>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a načela</a:t>
            </a:r>
            <a:endParaRPr b="0" lang="en-US" sz="4400" spc="-1" strike="noStrike">
              <a:solidFill>
                <a:srgbClr val="000000"/>
              </a:solidFill>
              <a:latin typeface="Arial"/>
            </a:endParaRPr>
          </a:p>
        </p:txBody>
      </p:sp>
      <p:sp>
        <p:nvSpPr>
          <p:cNvPr id="894" name="PlaceHolder 2"/>
          <p:cNvSpPr>
            <a:spLocks noGrp="1"/>
          </p:cNvSpPr>
          <p:nvPr>
            <p:ph/>
          </p:nvPr>
        </p:nvSpPr>
        <p:spPr>
          <a:xfrm>
            <a:off x="971280" y="1600200"/>
            <a:ext cx="6985080" cy="4525920"/>
          </a:xfrm>
          <a:prstGeom prst="rect">
            <a:avLst/>
          </a:prstGeom>
          <a:noFill/>
          <a:ln w="0">
            <a:noFill/>
          </a:ln>
        </p:spPr>
        <p:txBody>
          <a:bodyPr lIns="90000" rIns="90000" tIns="46800" bIns="46800" anchor="t">
            <a:normAutofit fontScale="95000"/>
          </a:bodyPr>
          <a:p>
            <a:pPr marL="560880" indent="-560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sim općih računovodstvenih načela postoje i načela koja se moraju uzeti u obzir prilikom sastavljanja bilance kao temeljnog financijskog izvještaja:</a:t>
            </a:r>
            <a:endParaRPr b="0" lang="en-US" sz="2800" spc="-1" strike="noStrike">
              <a:solidFill>
                <a:srgbClr val="000000"/>
              </a:solidFill>
              <a:latin typeface="Arial"/>
            </a:endParaRPr>
          </a:p>
          <a:p>
            <a:pPr marL="56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1. Načelo tvrtke</a:t>
            </a:r>
            <a:endParaRPr b="0" lang="en-US" sz="2800" spc="-1" strike="noStrike">
              <a:solidFill>
                <a:srgbClr val="000000"/>
              </a:solidFill>
              <a:latin typeface="Arial"/>
            </a:endParaRPr>
          </a:p>
          <a:p>
            <a:pPr marL="56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2. Vremensko razdoblje</a:t>
            </a:r>
            <a:endParaRPr b="0" lang="en-US" sz="2800" spc="-1" strike="noStrike">
              <a:solidFill>
                <a:srgbClr val="000000"/>
              </a:solidFill>
              <a:latin typeface="Arial"/>
            </a:endParaRPr>
          </a:p>
          <a:p>
            <a:pPr marL="56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3. Načelo izjašnjavanja u novčanim vrijednostima</a:t>
            </a:r>
            <a:endParaRPr b="0" lang="en-US" sz="2800" spc="-1" strike="noStrike">
              <a:solidFill>
                <a:srgbClr val="000000"/>
              </a:solidFill>
              <a:latin typeface="Arial"/>
            </a:endParaRPr>
          </a:p>
          <a:p>
            <a:pPr marL="56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4. Rezultati poslovanja za relativno kratka vremenska razdoblja pokusni su kadgod se tiče alokacije između prošlog, sadašnjeg i budućeg vremen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EE930C0-A332-4E9F-8009-F75D7CFBCB48}" type="slidenum">
              <a:t>203</a:t>
            </a:fld>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a načela</a:t>
            </a: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5. Stabilna novčana jedinic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6. Objektivnos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7. Načelo bilančne jasnoće i isti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8. Načelo bilančnog spajan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9. Načelo zaštite vjerovnik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8ADC08-A020-4F5C-BFFB-42BC7A1A2F2F}" type="slidenum">
              <a:t>204</a:t>
            </a:fld>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Opća politika procjene</a:t>
            </a: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dnosi se na primjenu pojedinih cijena prilikom vrednovanja stavki aktive, pasive, prihoda i rashod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Ekonomske kategorije u okviru knjigovodstva mogu se voditi po:</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bavnim cijenam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dnevnim ili tržišnim cijenam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funkcionalnim cijenam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likvidacijskim cijenama i</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reprodukcijskim cijenam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D35847-362B-427F-896F-6ADF792EC259}" type="slidenum">
              <a:t>205</a:t>
            </a:fld>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90400" indent="-5904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slovanje društva obilježeno je kretanjem imovine unutar društva, između društva i okoline i kretanjem imovine u okruženju s jednog mjesta na drug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8D51600-1F39-45DB-8970-7F09FD7AB797}" type="slidenum">
              <a:t>206</a:t>
            </a:fld>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02" name="PlaceHolder 2"/>
          <p:cNvSpPr>
            <a:spLocks noGrp="1"/>
          </p:cNvSpPr>
          <p:nvPr>
            <p:ph/>
          </p:nvPr>
        </p:nvSpPr>
        <p:spPr>
          <a:xfrm>
            <a:off x="1279440" y="1600200"/>
            <a:ext cx="5524560" cy="4525920"/>
          </a:xfrm>
          <a:prstGeom prst="rect">
            <a:avLst/>
          </a:prstGeom>
          <a:noFill/>
          <a:ln w="0">
            <a:noFill/>
          </a:ln>
        </p:spPr>
        <p:txBody>
          <a:bodyPr lIns="90000" rIns="90000" tIns="46800" bIns="46800" anchor="t">
            <a:normAutofit fontScale="97000"/>
          </a:bodyPr>
          <a:p>
            <a:pPr marL="517320" indent="-517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ve poslovne promjene mogu se tako razvrstati u 4 grupe:</a:t>
            </a:r>
            <a:endParaRPr b="0" lang="en-US" sz="2800" spc="-1" strike="noStrike">
              <a:solidFill>
                <a:srgbClr val="000000"/>
              </a:solidFill>
              <a:latin typeface="Arial"/>
            </a:endParaRPr>
          </a:p>
          <a:p>
            <a:pPr marL="517320" indent="-5173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Centripetalne promjene </a:t>
            </a:r>
            <a:endParaRPr b="0" lang="en-US" sz="2800" spc="-1" strike="noStrike">
              <a:solidFill>
                <a:srgbClr val="000000"/>
              </a:solidFill>
              <a:latin typeface="Arial"/>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ovećanje aktive i pasive)</a:t>
            </a:r>
            <a:endParaRPr b="0" lang="en-US" sz="2800" spc="-1" strike="noStrike">
              <a:solidFill>
                <a:srgbClr val="000000"/>
              </a:solidFill>
              <a:latin typeface="Arial"/>
            </a:endParaRPr>
          </a:p>
          <a:p>
            <a:pPr marL="517320" indent="-517320">
              <a:lnSpc>
                <a:spcPct val="9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Centrifugalne promjene </a:t>
            </a:r>
            <a:endParaRPr b="0" lang="en-US" sz="2800" spc="-1" strike="noStrike">
              <a:solidFill>
                <a:srgbClr val="000000"/>
              </a:solidFill>
              <a:latin typeface="Arial"/>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smanjenje aktive i pasive)</a:t>
            </a:r>
            <a:endParaRPr b="0" lang="en-US" sz="2800" spc="-1" strike="noStrike">
              <a:solidFill>
                <a:srgbClr val="000000"/>
              </a:solidFill>
              <a:latin typeface="Arial"/>
            </a:endParaRPr>
          </a:p>
          <a:p>
            <a:pPr marL="517320" indent="-51732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oncentrične promjene </a:t>
            </a:r>
            <a:endParaRPr b="0" lang="en-US" sz="2800" spc="-1" strike="noStrike">
              <a:solidFill>
                <a:srgbClr val="000000"/>
              </a:solidFill>
              <a:latin typeface="Arial"/>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mjene unutar aktive)</a:t>
            </a:r>
            <a:endParaRPr b="0" lang="en-US" sz="2800" spc="-1" strike="noStrike">
              <a:solidFill>
                <a:srgbClr val="000000"/>
              </a:solidFill>
              <a:latin typeface="Arial"/>
            </a:endParaRPr>
          </a:p>
          <a:p>
            <a:pPr marL="517320" indent="-517320">
              <a:lnSpc>
                <a:spcPct val="90000"/>
              </a:lnSpc>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eriferijske promjene </a:t>
            </a:r>
            <a:endParaRPr b="0" lang="en-US" sz="2800" spc="-1" strike="noStrike">
              <a:solidFill>
                <a:srgbClr val="000000"/>
              </a:solidFill>
              <a:latin typeface="Arial"/>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mjene unutar pas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79C9DFA-27D5-46DE-8ABA-96956557C007}" type="slidenum">
              <a:t>207</a:t>
            </a:fld>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Centripetalne promjen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dnose se na one promjene u kojima je sadržana nabava određene imovine iz okruženja, dakle, prikazuju ulaz imovine iz okruženja u društvo.</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AKTIVA</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PASIVA</a:t>
            </a:r>
            <a:r>
              <a:rPr b="0" lang="hr-HR"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X</a:t>
            </a: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    X</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
          <p:cNvSpPr/>
          <p:nvPr/>
        </p:nvSpPr>
        <p:spPr>
          <a:xfrm>
            <a:off x="1042920" y="45086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4067280" y="4508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195640" y="4508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5219640" y="450864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E0BBB3-34E8-42D1-8940-56BF65B17152}" type="slidenum">
              <a:t>208</a:t>
            </a:fld>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808080"/>
                </a:solidFill>
                <a:latin typeface="Times New Roman"/>
              </a:rPr>
              <a:t>Centrifugalne promjen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značuju kretanja imovine iz društva u okruženje tj. smanjenje imovine i smanjenje izvora imovine društv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AKTIVA</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PASIV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r>
              <a:rPr b="0" lang="hr-HR" sz="2800" spc="-1" strike="noStrike">
                <a:solidFill>
                  <a:srgbClr val="000000"/>
                </a:solidFill>
                <a:latin typeface="Times New Roman"/>
              </a:rPr>
              <a:t>	</a:t>
            </a:r>
            <a:r>
              <a:rPr b="0" lang="hr-HR"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
          <p:cNvSpPr/>
          <p:nvPr/>
        </p:nvSpPr>
        <p:spPr>
          <a:xfrm>
            <a:off x="1042920" y="407664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2266920" y="407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4284720" y="4076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580000" y="407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C7990C-252E-4ADD-B64A-3BD7BFB574D0}" type="slidenum">
              <a:t>209</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42920" y="260280"/>
            <a:ext cx="78724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ČUNOVODSTVO I EKONOMSKA ZNANOST</a:t>
            </a:r>
            <a:endParaRPr b="0" lang="en-US" sz="3200" spc="-1" strike="noStrike">
              <a:solidFill>
                <a:srgbClr val="000000"/>
              </a:solidFill>
              <a:latin typeface="Arial"/>
            </a:endParaRPr>
          </a:p>
        </p:txBody>
      </p:sp>
      <p:sp>
        <p:nvSpPr>
          <p:cNvPr id="127" name="PlaceHolder 2"/>
          <p:cNvSpPr>
            <a:spLocks noGrp="1"/>
          </p:cNvSpPr>
          <p:nvPr>
            <p:ph/>
          </p:nvPr>
        </p:nvSpPr>
        <p:spPr>
          <a:xfrm>
            <a:off x="755640" y="1295280"/>
            <a:ext cx="7772400" cy="5562720"/>
          </a:xfrm>
          <a:prstGeom prst="rect">
            <a:avLst/>
          </a:prstGeom>
          <a:noFill/>
          <a:ln w="0">
            <a:noFill/>
          </a:ln>
        </p:spPr>
        <p:txBody>
          <a:bodyPr lIns="90000" rIns="90000" tIns="46800" bIns="46800"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vremeno je računovodstvo čvrsto povezano s gospodarstvom kojem se kontinuirano prilagođava i iz kojeg je zapravo i proizašlo.</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stav dvojnog knjigovodstva javlja se već u 15. st., ali su njegova ozbiljnija primjena i napredak započeli tek u 18. st. uslijed industrijske revolucije koja je potakla nagli razvoj industrije i povećanje proizvodnje.</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o je pred poduzeća postavilo zahtjev za evidentiranjem kretanja imovine, obveza i kapitala, troškova i prihoda kako bi se moglo doći do zaključaka o gospodarskom životu poduzeća i društva u cjelin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97482E-B9A2-49D9-A64E-02CC274B4F2D}" type="slidenum">
              <a:t>21</a:t>
            </a:fld>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16" name="PlaceHolder 2"/>
          <p:cNvSpPr>
            <a:spLocks noGrp="1"/>
          </p:cNvSpPr>
          <p:nvPr>
            <p:ph/>
          </p:nvPr>
        </p:nvSpPr>
        <p:spPr>
          <a:xfrm>
            <a:off x="1042560" y="1600200"/>
            <a:ext cx="6193080" cy="4525920"/>
          </a:xfrm>
          <a:prstGeom prst="rect">
            <a:avLst/>
          </a:prstGeom>
          <a:noFill/>
          <a:ln w="0">
            <a:noFill/>
          </a:ln>
        </p:spPr>
        <p:txBody>
          <a:bodyPr lIns="90000" rIns="90000" tIns="46800" bIns="46800"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808080"/>
                </a:solidFill>
                <a:latin typeface="Times New Roman"/>
              </a:rPr>
              <a:t>Koncentrične promjene</a:t>
            </a:r>
            <a:endParaRPr b="0" lang="en-US" sz="2800" spc="-1" strike="noStrike">
              <a:solidFill>
                <a:srgbClr val="000000"/>
              </a:solidFill>
              <a:latin typeface="Arial"/>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kazuju kretanje imovine unutar društva pri čemu, za razliku od prethodnih promjena, ukupan zbroj bilance ostaje nepromijenjen.</a:t>
            </a: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AKTIVA</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AKTIVA</a:t>
            </a: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7" name=""/>
          <p:cNvSpPr/>
          <p:nvPr/>
        </p:nvSpPr>
        <p:spPr>
          <a:xfrm>
            <a:off x="1044720" y="4581360"/>
            <a:ext cx="25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3924360" y="45813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340000" y="4581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5292720" y="4581360"/>
            <a:ext cx="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1AE4C0A-6F9A-447F-88DE-6E8C3513063C}" type="slidenum">
              <a:t>210</a:t>
            </a:fld>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22" name="PlaceHolder 2"/>
          <p:cNvSpPr>
            <a:spLocks noGrp="1"/>
          </p:cNvSpPr>
          <p:nvPr>
            <p:ph/>
          </p:nvPr>
        </p:nvSpPr>
        <p:spPr>
          <a:xfrm>
            <a:off x="1042920" y="1600200"/>
            <a:ext cx="590544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808080"/>
                </a:solidFill>
                <a:latin typeface="Times New Roman"/>
              </a:rPr>
              <a:t>Periferijske promjen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dnose se na one poslovne promjene kojima se mijenja struktura izvora sredstava tj. pasiv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PASIVA</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PASIV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X</a:t>
            </a:r>
            <a:endParaRPr b="0" lang="en-US" sz="2800" spc="-1" strike="noStrike">
              <a:solidFill>
                <a:srgbClr val="000000"/>
              </a:solidFill>
              <a:latin typeface="Arial"/>
            </a:endParaRPr>
          </a:p>
        </p:txBody>
      </p:sp>
      <p:sp>
        <p:nvSpPr>
          <p:cNvPr id="923" name=""/>
          <p:cNvSpPr/>
          <p:nvPr/>
        </p:nvSpPr>
        <p:spPr>
          <a:xfrm>
            <a:off x="973080" y="4076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268360" y="407664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4067280" y="407664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5364000" y="407664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9EA638-87DD-4A71-8DBF-71B3AF730FA3}" type="slidenum">
              <a:t>211</a:t>
            </a:fld>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914040" y="1523520"/>
            <a:ext cx="7623000" cy="226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200" spc="-1" strike="noStrike">
                <a:solidFill>
                  <a:srgbClr val="000000"/>
                </a:solidFill>
                <a:latin typeface="Arial"/>
              </a:rPr>
              <a:t>STRUKTURA BILANCE</a:t>
            </a:r>
            <a:endParaRPr b="0" lang="en-US" sz="5200" spc="-1" strike="noStrike">
              <a:solidFill>
                <a:srgbClr val="000000"/>
              </a:solidFill>
              <a:latin typeface="Arial"/>
            </a:endParaRPr>
          </a:p>
        </p:txBody>
      </p:sp>
      <p:sp>
        <p:nvSpPr>
          <p:cNvPr id="3" name="PlaceHolder 2"/>
          <p:cNvSpPr>
            <a:spLocks noGrp="1"/>
          </p:cNvSpPr>
          <p:nvPr>
            <p:ph type="sldNum" idx="3"/>
          </p:nvPr>
        </p:nvSpPr>
        <p:spPr/>
        <p:txBody>
          <a:bodyPr/>
          <a:p>
            <a:fld id="{F23AC747-1AF2-4628-B13D-A3DEDE91002A}" type="slidenum">
              <a:t>212</a:t>
            </a:fld>
          </a:p>
        </p:txBody>
      </p:sp>
    </p:spTree>
  </p:cSld>
  <p:transition>
    <p:wheel/>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1">
                                  <p:stCondLst>
                                    <p:cond delay="0"/>
                                  </p:stCondLst>
                                  <p:childTnLst>
                                    <p:set>
                                      <p:cBhvr>
                                        <p:cTn id="94" dur="1" fill="hold">
                                          <p:stCondLst>
                                            <p:cond delay="0"/>
                                          </p:stCondLst>
                                        </p:cTn>
                                        <p:tgtEl>
                                          <p:spTgt spid="927"/>
                                        </p:tgtEl>
                                        <p:attrNameLst>
                                          <p:attrName>style.visibility</p:attrName>
                                        </p:attrNameLst>
                                      </p:cBhvr>
                                      <p:to>
                                        <p:strVal val="visible"/>
                                      </p:to>
                                    </p:set>
                                    <p:anim calcmode="lin" valueType="num">
                                      <p:cBhvr additive="base">
                                        <p:cTn id="95" dur="500" fill="hold"/>
                                        <p:tgtEl>
                                          <p:spTgt spid="927"/>
                                        </p:tgtEl>
                                        <p:attrNameLst>
                                          <p:attrName>ppt_x</p:attrName>
                                        </p:attrNameLst>
                                      </p:cBhvr>
                                      <p:tavLst>
                                        <p:tav tm="0">
                                          <p:val>
                                            <p:strVal val="#ppt_x"/>
                                          </p:val>
                                        </p:tav>
                                        <p:tav tm="100000">
                                          <p:val>
                                            <p:strVal val="#ppt_x"/>
                                          </p:val>
                                        </p:tav>
                                      </p:tavLst>
                                    </p:anim>
                                    <p:anim calcmode="lin" valueType="num">
                                      <p:cBhvr additive="base">
                                        <p:cTn id="96" dur="500" fill="hold"/>
                                        <p:tgtEl>
                                          <p:spTgt spid="9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ea typeface="Times New Roman"/>
              </a:rPr>
              <a:t>AKTIVA</a:t>
            </a:r>
            <a:endParaRPr b="0" lang="en-US" sz="4800" spc="-1" strike="noStrike">
              <a:solidFill>
                <a:srgbClr val="000000"/>
              </a:solidFill>
              <a:latin typeface="Arial"/>
            </a:endParaRPr>
          </a:p>
        </p:txBody>
      </p:sp>
      <p:sp>
        <p:nvSpPr>
          <p:cNvPr id="929" name="PlaceHolder 2"/>
          <p:cNvSpPr>
            <a:spLocks noGrp="1"/>
          </p:cNvSpPr>
          <p:nvPr>
            <p:ph/>
          </p:nvPr>
        </p:nvSpPr>
        <p:spPr>
          <a:xfrm>
            <a:off x="1042560" y="1600200"/>
            <a:ext cx="6985080" cy="4781520"/>
          </a:xfrm>
          <a:prstGeom prst="rect">
            <a:avLst/>
          </a:prstGeom>
          <a:noFill/>
          <a:ln w="0">
            <a:noFill/>
          </a:ln>
        </p:spPr>
        <p:txBody>
          <a:bodyPr lIns="90000" rIns="90000" tIns="46800" bIns="46800" anchor="t">
            <a:normAutofit fontScale="94000"/>
          </a:bodyPr>
          <a:p>
            <a:pPr marL="668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A.</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POTRAŽIVANJA ZA UPISANI A NEUPLAĆENI KAPITAL</a:t>
            </a:r>
            <a:endParaRPr b="0" lang="en-US" sz="2800" spc="-1" strike="noStrike">
              <a:solidFill>
                <a:srgbClr val="000000"/>
              </a:solidFill>
              <a:latin typeface="Arial"/>
            </a:endParaRPr>
          </a:p>
          <a:p>
            <a:pPr marL="668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68520" indent="-668520" algn="just">
              <a:lnSpc>
                <a:spcPct val="80000"/>
              </a:lnSpc>
              <a:spcBef>
                <a:spcPts val="700"/>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UGOTRAJNA IMOVINA</a:t>
            </a:r>
            <a:r>
              <a:rPr b="1" lang="hr-H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68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STALNA SREDSTVA)</a:t>
            </a:r>
            <a:endParaRPr b="0" lang="en-US" sz="2800" spc="-1" strike="noStrike">
              <a:solidFill>
                <a:srgbClr val="000000"/>
              </a:solidFill>
              <a:latin typeface="Arial"/>
            </a:endParaRPr>
          </a:p>
          <a:p>
            <a:pPr marL="668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68520" indent="-668520" algn="just">
              <a:lnSpc>
                <a:spcPct val="80000"/>
              </a:lnSpc>
              <a:spcBef>
                <a:spcPts val="7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NEMATERIJALNA IMOVINA</a:t>
            </a:r>
            <a:endParaRPr b="0" lang="en-US" sz="28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osnivački izdaci</a:t>
            </a:r>
            <a:endParaRPr b="0" lang="en-US" sz="24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izdaci za istraživanje i razvoj</a:t>
            </a:r>
            <a:endParaRPr b="0" lang="en-US" sz="24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patenti, licencije, koncesije, zaštitni znaci i ostala slična prava</a:t>
            </a:r>
            <a:endParaRPr b="0" lang="en-US" sz="24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Goodwill</a:t>
            </a:r>
            <a:endParaRPr b="0" lang="en-US" sz="24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predujmovi za nematerijalna sredstv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EA6AA9-795E-4F43-954E-B9702A4E3FA6}" type="slidenum">
              <a:t>213</a:t>
            </a:fld>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p:nvPr>
        </p:nvSpPr>
        <p:spPr>
          <a:xfrm>
            <a:off x="1079280" y="691920"/>
            <a:ext cx="6445080" cy="5545080"/>
          </a:xfrm>
          <a:prstGeom prst="rect">
            <a:avLst/>
          </a:prstGeom>
          <a:noFill/>
          <a:ln w="0">
            <a:noFill/>
          </a:ln>
        </p:spPr>
        <p:txBody>
          <a:bodyPr lIns="90000" rIns="90000" tIns="46800" bIns="4680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II. MATERIJALNA IMOVIN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zemljište i šume</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građevinski objekt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postrojenja i oprema (strojev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4.</a:t>
            </a:r>
            <a:r>
              <a:rPr b="0" lang="hr-HR" sz="2800" spc="-1" strike="noStrike">
                <a:solidFill>
                  <a:srgbClr val="000000"/>
                </a:solidFill>
                <a:latin typeface="Times New Roman"/>
                <a:ea typeface="Times New Roman"/>
              </a:rPr>
              <a:t> a</a:t>
            </a:r>
            <a:r>
              <a:rPr b="0" lang="en-AU" sz="2800" spc="-1" strike="noStrike">
                <a:solidFill>
                  <a:srgbClr val="000000"/>
                </a:solidFill>
                <a:latin typeface="Times New Roman"/>
                <a:ea typeface="Times New Roman"/>
              </a:rPr>
              <a:t>lati, pogonski i uredski inventar,</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namještaj i transportni uređa</a:t>
            </a:r>
            <a:r>
              <a:rPr b="0" lang="hr-HR" sz="2800" spc="-1" strike="noStrike">
                <a:solidFill>
                  <a:srgbClr val="000000"/>
                </a:solidFill>
                <a:latin typeface="Times New Roman"/>
                <a:ea typeface="Times New Roman"/>
              </a:rPr>
              <a:t>j</a:t>
            </a:r>
            <a:r>
              <a:rPr b="0" lang="en-AU" sz="2800" spc="-1" strike="noStrike">
                <a:solidFill>
                  <a:srgbClr val="000000"/>
                </a:solidFill>
                <a:latin typeface="Times New Roman"/>
                <a:ea typeface="Times New Roman"/>
              </a:rPr>
              <a:t>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sredstva)</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5. predujmovi za materijalna sredstva</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6. materijalna sredstva u priprem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7. stambene zgrade i stanov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8. ostala materijalna imovina</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DC36E2C-8EF9-4700-91C4-04E500C86C27}" type="slidenum">
              <a:t>214</a:t>
            </a:fld>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p:nvPr>
        </p:nvSpPr>
        <p:spPr>
          <a:xfrm>
            <a:off x="971640" y="620640"/>
            <a:ext cx="6192720" cy="5361120"/>
          </a:xfrm>
          <a:prstGeom prst="rect">
            <a:avLst/>
          </a:prstGeom>
          <a:noFill/>
          <a:ln w="0">
            <a:noFill/>
          </a:ln>
        </p:spPr>
        <p:txBody>
          <a:bodyPr lIns="90000" rIns="90000" tIns="46800" bIns="46800" anchor="t">
            <a:normAutofit/>
          </a:bodyPr>
          <a:p>
            <a:pPr marL="711360" indent="-711360" algn="just">
              <a:lnSpc>
                <a:spcPct val="60000"/>
              </a:lnSpc>
              <a:spcBef>
                <a:spcPts val="700"/>
              </a:spcBef>
              <a:buClr>
                <a:srgbClr val="0000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FINANCIJSKA IMOVINA</a:t>
            </a:r>
            <a:endParaRPr b="0" lang="en-US" sz="28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1. </a:t>
            </a:r>
            <a:r>
              <a:rPr b="0" lang="en-AU" sz="2400" spc="-1" strike="noStrike">
                <a:solidFill>
                  <a:srgbClr val="000000"/>
                </a:solidFill>
                <a:latin typeface="Times New Roman"/>
                <a:ea typeface="Times New Roman"/>
              </a:rPr>
              <a:t>udjeli (dionice) u </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povezanim poduzećim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2. </a:t>
            </a:r>
            <a:r>
              <a:rPr b="0" lang="en-AU" sz="2400" spc="-1" strike="noStrike">
                <a:solidFill>
                  <a:srgbClr val="000000"/>
                </a:solidFill>
                <a:latin typeface="Times New Roman"/>
                <a:ea typeface="Times New Roman"/>
              </a:rPr>
              <a:t>zajmovi povezanim poduzećim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 sudjelujući interesi (participacije)</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4. ulaganja u vrijednosne papire</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5. dani krediti, depoziti i kaucije</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6. obvezna dugoročna ulaganj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7. otkup vlastitih dionic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8. ostala dugoročna ulaganj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136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Times New Roman"/>
              </a:rPr>
              <a:t>IV. POTR</a:t>
            </a:r>
            <a:r>
              <a:rPr b="1" lang="en-AU" sz="2800" spc="-1" strike="noStrike">
                <a:solidFill>
                  <a:srgbClr val="000000"/>
                </a:solidFill>
                <a:latin typeface="Times New Roman"/>
                <a:ea typeface="Times New Roman"/>
              </a:rPr>
              <a:t>AŽIVANJA</a:t>
            </a:r>
            <a:endParaRPr b="0" lang="en-US" sz="28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 potraživanja od povezanih poduzeć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2. potraživanja po osnovi prodaje na kredit</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 ostala potraživanj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3D5B4A9-1003-4813-98D0-5703B53C5CAC}" type="slidenum">
              <a:t>215</a:t>
            </a:fld>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p:nvPr>
        </p:nvSpPr>
        <p:spPr>
          <a:xfrm>
            <a:off x="1068480" y="620280"/>
            <a:ext cx="7464240" cy="6048360"/>
          </a:xfrm>
          <a:prstGeom prst="rect">
            <a:avLst/>
          </a:prstGeom>
          <a:noFill/>
          <a:ln w="0">
            <a:noFill/>
          </a:ln>
        </p:spPr>
        <p:txBody>
          <a:bodyPr lIns="90000" rIns="90000" tIns="46800" bIns="46800" anchor="t">
            <a:normAutofit fontScale="99000"/>
          </a:bodyPr>
          <a:p>
            <a:pPr marL="52812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120" indent="-528120" algn="just">
              <a:lnSpc>
                <a:spcPct val="60000"/>
              </a:lnSpc>
              <a:spcBef>
                <a:spcPts val="700"/>
              </a:spcBef>
              <a:buClr>
                <a:srgbClr val="000000"/>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KRATKOTRAJNA IMOVINA</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obrtna sredstva)</a:t>
            </a:r>
            <a:endParaRPr b="0" lang="en-US" sz="2800" spc="-1" strike="noStrike">
              <a:solidFill>
                <a:srgbClr val="000000"/>
              </a:solidFill>
              <a:latin typeface="Arial"/>
            </a:endParaRPr>
          </a:p>
          <a:p>
            <a:pPr marL="52812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I.</a:t>
            </a:r>
            <a:r>
              <a:rPr b="1" lang="hr-HR"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ZALIHE</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 sirovine i materijal</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2. proizvodnja u tijeku </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nedovršena proizvodnja i poluproizvodi)</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 trgovačka rob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4. gotovi proizvodi</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5. predujmovi</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	</a:t>
            </a:r>
            <a:r>
              <a:rPr b="1" lang="hr-HR" sz="2400" spc="-1" strike="noStrike">
                <a:solidFill>
                  <a:srgbClr val="000000"/>
                </a:solidFill>
                <a:latin typeface="Times New Roman"/>
              </a:rPr>
              <a:t>II. </a:t>
            </a:r>
            <a:r>
              <a:rPr b="1" lang="en-AU" sz="2400" spc="-1" strike="noStrike">
                <a:solidFill>
                  <a:srgbClr val="000000"/>
                </a:solidFill>
                <a:latin typeface="Times New Roman"/>
                <a:ea typeface="Times New Roman"/>
              </a:rPr>
              <a:t>POTRAŽIVANJ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 potraživanja od povezanih poduzeć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2. potraživanja od kupac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 potraživanja za više plaćene svote </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po osnovi dobiti </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4. potraživanja od zaposlenih</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5. potraživanja od države i drugih institucij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6. ostala potraživanja</a:t>
            </a:r>
            <a:endParaRPr b="0" lang="en-US" sz="2400" spc="-1" strike="noStrike">
              <a:solidFill>
                <a:srgbClr val="000000"/>
              </a:solidFill>
              <a:latin typeface="Arial"/>
            </a:endParaRPr>
          </a:p>
        </p:txBody>
      </p:sp>
      <p:sp>
        <p:nvSpPr>
          <p:cNvPr id="933" name=""/>
          <p:cNvSpPr/>
          <p:nvPr/>
        </p:nvSpPr>
        <p:spPr>
          <a:xfrm>
            <a:off x="7010280" y="106668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9AF12B3-7135-4B26-9E86-283B21EC340B}" type="slidenum">
              <a:t>216</a:t>
            </a:fld>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1042560" y="620280"/>
            <a:ext cx="7777080" cy="56912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III.</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FINANCIJSKA IMOVIN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udjeli (dionice) u povezanim poduzećim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zajmovi povezanim poduzećim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vrijednosni papiri</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4. dani krediti, depoziti i kaucije</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5. otkup vlastitih dionic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6. ostala kratkoročna ulaganj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IV.</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NOVAC U BANCI I BLAGAJNI</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0E4B924-2275-429C-9E7B-CD9A09FF9D5C}" type="slidenum">
              <a:t>217</a:t>
            </a:fld>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1042560" y="620280"/>
            <a:ext cx="5977080" cy="550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PLAĆENI TROŠKOVI BUDUĆEG RAZDOBLJA I NEDOSPJELA NAPLATA PRIHOD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E.</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GUBITAK IZNAD VISINE KAPITAL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F.</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UKUPNA AKTIV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G.</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IZVANBILANČNI ZAPIS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F54CFE1-4EA2-4669-A020-58A86E00FEA3}" type="slidenum">
              <a:t>218</a:t>
            </a:fld>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p:nvPr>
        </p:nvSpPr>
        <p:spPr>
          <a:xfrm>
            <a:off x="917280" y="1557360"/>
            <a:ext cx="8226360" cy="4680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A.</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KAPITAL I 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UPISANI KAPITAL</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I.</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PREMIJE ZA EMITIRANE DIONICE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kapitalni dobitak)</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II.</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REVALORIZACIJSKA REZERV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9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ea typeface="Times New Roman"/>
              </a:rPr>
              <a:t>PASIVA</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3DE219AC-1DD3-40CE-82B3-F18629BC2C97}" type="slidenum">
              <a:t>219</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640" y="189000"/>
            <a:ext cx="7867440" cy="8236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ČUNOVODSTVO I EKONOMSKA ZNANOST</a:t>
            </a:r>
            <a:endParaRPr b="0" lang="en-US" sz="3200" spc="-1" strike="noStrike">
              <a:solidFill>
                <a:srgbClr val="000000"/>
              </a:solidFill>
              <a:latin typeface="Arial"/>
            </a:endParaRPr>
          </a:p>
        </p:txBody>
      </p:sp>
      <p:sp>
        <p:nvSpPr>
          <p:cNvPr id="129" name="PlaceHolder 2"/>
          <p:cNvSpPr>
            <a:spLocks noGrp="1"/>
          </p:cNvSpPr>
          <p:nvPr>
            <p:ph/>
          </p:nvPr>
        </p:nvSpPr>
        <p:spPr>
          <a:xfrm>
            <a:off x="611280" y="159984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 bi se moglo uspješno koristiti podatke iz računovodstva poduzeća, moralo se, osim ekonomske teorije, poznavati i načela i metode računovodstva. Iz te zajedničke međuzavisnosti  razvile su se ekonomska i računovodstvena teorija i praks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jednjih je godina interakcija između ekonomske znanosti i računovodstva sve već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računovodstvo se tako uvodi računovodstveno planiranje, nadzor i analiza te se usvajaju nove kategorije poput graničnih prihoda, graničnih troškova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11A76A-BB6C-427B-91BD-9F717AB9D28E}" type="slidenum">
              <a:t>22</a:t>
            </a:fld>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1042920" y="836280"/>
            <a:ext cx="4681440" cy="52592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IV.</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zakonske 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rezerve za vlastite dionic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statutarne 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4. ostale 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Times New Roman"/>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ZADRŽANA DOBIT ILI</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PRENESENI GUBITAK</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VI.</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DOBIT ILI GUBITAK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TEKUĆE GODIN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F23C811-9DC6-4892-AA73-34C9D91307D6}" type="slidenum">
              <a:t>220</a:t>
            </a:fld>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1042920" y="620280"/>
            <a:ext cx="5400720" cy="5761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UGOROČNA REZERVIRANJA ZA RIZIKE I TROŠKO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rezerviranja za mirovine </a:t>
            </a:r>
            <a:r>
              <a:rPr b="0" lang="hr-HR" sz="2800" spc="-1" strike="noStrike">
                <a:solidFill>
                  <a:srgbClr val="000000"/>
                </a:solidFill>
                <a:latin typeface="Times New Roman"/>
                <a:ea typeface="Times New Roman"/>
              </a:rPr>
              <a:t>i</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slične troškove (obveze)</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rezerviranja za poreze i doprinose</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ostala rezerviranja</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0DD263B-72AA-407D-8D9B-8B116592B630}" type="slidenum">
              <a:t>221</a:t>
            </a:fld>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1042560" y="620640"/>
            <a:ext cx="6193080" cy="5688000"/>
          </a:xfrm>
          <a:prstGeom prst="rect">
            <a:avLst/>
          </a:prstGeom>
          <a:noFill/>
          <a:ln w="0">
            <a:noFill/>
          </a:ln>
        </p:spPr>
        <p:txBody>
          <a:bodyPr lIns="90000" rIns="90000" tIns="46800" bIns="46800" anchor="t">
            <a:normAutofit/>
          </a:bodyPr>
          <a:p>
            <a:pPr marL="343080" indent="-343080" algn="just">
              <a:lnSpc>
                <a:spcPct val="70000"/>
              </a:lnSpc>
              <a:spcBef>
                <a:spcPts val="700"/>
              </a:spcBef>
              <a:buClr>
                <a:srgbClr val="000000"/>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UGOROČNE OBVEZE</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obveze prema povezanim poduzećim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obveze po osnovi zajmov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obveze prema kreditnim institucijam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4. obveze za predujmove</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5. obveze prema dobavljačim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vjerovnici s osnove poslovanj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6. obveze po vrijednosnim papirim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7. ostale dugoročne obveze,</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uključivši porez i socijalno osiguranj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8ACC3C9-293A-4517-8400-913ECCEF82A3}" type="slidenum">
              <a:t>222</a:t>
            </a:fld>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971640" y="620640"/>
            <a:ext cx="6480000" cy="5616720"/>
          </a:xfrm>
          <a:prstGeom prst="rect">
            <a:avLst/>
          </a:prstGeom>
          <a:gradFill rotWithShape="0">
            <a:gsLst>
              <a:gs pos="0">
                <a:srgbClr val="ffffff">
                  <a:alpha val="30196"/>
                </a:srgbClr>
              </a:gs>
              <a:gs pos="100000">
                <a:srgbClr val="ffffff"/>
              </a:gs>
            </a:gsLst>
            <a:lin ang="10800000"/>
          </a:gradFill>
          <a:ln w="0">
            <a:noFill/>
          </a:ln>
        </p:spPr>
        <p:txBody>
          <a:bodyPr lIns="90000" rIns="90000" tIns="46800" bIns="46800" anchor="t">
            <a:normAutofit/>
          </a:bodyPr>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 KRATKOROČNE OBVEZE</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obveze prema povezanim poduzeći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obveze po osnovi zajmov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obveze prema kreditnim institucija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hr-HR" sz="2800" spc="-1" strike="noStrike">
                <a:solidFill>
                  <a:srgbClr val="000000"/>
                </a:solidFill>
                <a:latin typeface="Times New Roman"/>
              </a:rPr>
              <a:t> </a:t>
            </a:r>
            <a:r>
              <a:rPr b="0" lang="en-AU" sz="2800" spc="-1" strike="noStrike">
                <a:solidFill>
                  <a:srgbClr val="000000"/>
                </a:solidFill>
                <a:latin typeface="Times New Roman"/>
                <a:ea typeface="Times New Roman"/>
              </a:rPr>
              <a:t>4. obveze za predujmove, </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depozite i jamstv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5. obveze prema dobavljači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6. obveze prema mjenicama i čekovi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7. obveze prema zaposleni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8. obveze za poreze, doprinose i </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druge pristojbe</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9. obveze po osnovi udjela u rezultatu</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0. ostale kratkoročne obvez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D9E9A00-1CE6-4CCE-9AF7-82E1D690D5CC}" type="slidenum">
              <a:t>223</a:t>
            </a:fld>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16000" y="765000"/>
            <a:ext cx="6912000" cy="5330880"/>
          </a:xfrm>
          <a:prstGeom prst="rect">
            <a:avLst/>
          </a:prstGeom>
          <a:solidFill>
            <a:srgbClr val="ffffff">
              <a:alpha val="51000"/>
            </a:srgbClr>
          </a:solid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E.</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ODGOĐENO</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PLAĆANJE TROŠKOVA I PRIHOD BUDUĆIH RAZDOBLJ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F.</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UKUPNO PASIV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G.</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IZVANBILANČNI ZAPISI</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Pozicije bilance iz stavka (1) ovoga članka odnose se na velike i srednje velike poduzetnik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Mali poduzetnici sastavljaju skraćenu bilancu tako da popunjavaju pozicije označene slovima i rimskim brojevima.</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C91FF01-CB7B-44BD-BB75-AE3C021012AE}" type="slidenum">
              <a:t>224</a:t>
            </a:fld>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1280" y="2781360"/>
            <a:ext cx="777240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KNJIGOVODSTVENO PRIKAZIVANJE PROMJENA IMOVINE, DUGOVA I KAPITAL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A4765DF7-003D-412A-A438-E033E174E35D}" type="slidenum">
              <a:t>225</a:t>
            </a:fld>
          </a:p>
        </p:txBody>
      </p:sp>
    </p:spTree>
  </p:cSld>
  <p:transition>
    <p:wheel spokes="2"/>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1">
                                  <p:stCondLst>
                                    <p:cond delay="0"/>
                                  </p:stCondLst>
                                  <p:childTnLst>
                                    <p:set>
                                      <p:cBhvr>
                                        <p:cTn id="102" dur="1" fill="hold">
                                          <p:stCondLst>
                                            <p:cond delay="0"/>
                                          </p:stCondLst>
                                        </p:cTn>
                                        <p:tgtEl>
                                          <p:spTgt spid="943"/>
                                        </p:tgtEl>
                                        <p:attrNameLst>
                                          <p:attrName>style.visibility</p:attrName>
                                        </p:attrNameLst>
                                      </p:cBhvr>
                                      <p:to>
                                        <p:strVal val="visible"/>
                                      </p:to>
                                    </p:set>
                                    <p:anim calcmode="lin" valueType="num">
                                      <p:cBhvr additive="base">
                                        <p:cTn id="103" dur="500" fill="hold"/>
                                        <p:tgtEl>
                                          <p:spTgt spid="943"/>
                                        </p:tgtEl>
                                        <p:attrNameLst>
                                          <p:attrName>ppt_x</p:attrName>
                                        </p:attrNameLst>
                                      </p:cBhvr>
                                      <p:tavLst>
                                        <p:tav tm="0">
                                          <p:val>
                                            <p:strVal val="#ppt_x"/>
                                          </p:val>
                                        </p:tav>
                                        <p:tav tm="100000">
                                          <p:val>
                                            <p:strVal val="#ppt_x"/>
                                          </p:val>
                                        </p:tav>
                                      </p:tavLst>
                                    </p:anim>
                                    <p:anim calcmode="lin" valueType="num">
                                      <p:cBhvr additive="base">
                                        <p:cTn id="104" dur="500" fill="hold"/>
                                        <p:tgtEl>
                                          <p:spTgt spid="9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825480" y="450360"/>
            <a:ext cx="77868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Pravila knjiženja</a:t>
            </a:r>
            <a:endParaRPr b="0" lang="en-US" sz="3800" spc="-1" strike="noStrike">
              <a:solidFill>
                <a:srgbClr val="000000"/>
              </a:solidFill>
              <a:latin typeface="Arial"/>
            </a:endParaRPr>
          </a:p>
        </p:txBody>
      </p:sp>
      <p:sp>
        <p:nvSpPr>
          <p:cNvPr id="945" name=""/>
          <p:cNvSpPr/>
          <p:nvPr/>
        </p:nvSpPr>
        <p:spPr>
          <a:xfrm flipV="1">
            <a:off x="826920" y="2852640"/>
            <a:ext cx="3024360" cy="28800"/>
          </a:xfrm>
          <a:prstGeom prst="line">
            <a:avLst/>
          </a:prstGeom>
          <a:ln w="1260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46" name=""/>
          <p:cNvSpPr/>
          <p:nvPr/>
        </p:nvSpPr>
        <p:spPr>
          <a:xfrm>
            <a:off x="2362320" y="2895480"/>
            <a:ext cx="0" cy="198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295280" y="23623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A</a:t>
            </a:r>
            <a:endParaRPr b="0" lang="en-US" sz="2400" spc="-1" strike="noStrike">
              <a:solidFill>
                <a:srgbClr val="000000"/>
              </a:solidFill>
              <a:latin typeface="Arial"/>
            </a:endParaRPr>
          </a:p>
        </p:txBody>
      </p:sp>
      <p:sp>
        <p:nvSpPr>
          <p:cNvPr id="948" name=""/>
          <p:cNvSpPr/>
          <p:nvPr/>
        </p:nvSpPr>
        <p:spPr>
          <a:xfrm>
            <a:off x="4876920" y="2895480"/>
            <a:ext cx="28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6248520" y="28954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876920" y="236232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A</a:t>
            </a:r>
            <a:endParaRPr b="0" lang="en-US" sz="2400" spc="-1" strike="noStrike">
              <a:solidFill>
                <a:srgbClr val="000000"/>
              </a:solidFill>
              <a:latin typeface="Arial"/>
            </a:endParaRPr>
          </a:p>
        </p:txBody>
      </p:sp>
      <p:sp>
        <p:nvSpPr>
          <p:cNvPr id="951" name=""/>
          <p:cNvSpPr/>
          <p:nvPr/>
        </p:nvSpPr>
        <p:spPr>
          <a:xfrm>
            <a:off x="685800" y="30481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uje za povećanje</a:t>
            </a:r>
            <a:endParaRPr b="0" lang="en-US" sz="2400" spc="-1" strike="noStrike">
              <a:solidFill>
                <a:srgbClr val="000000"/>
              </a:solidFill>
              <a:latin typeface="Arial"/>
            </a:endParaRPr>
          </a:p>
        </p:txBody>
      </p:sp>
      <p:sp>
        <p:nvSpPr>
          <p:cNvPr id="952" name=""/>
          <p:cNvSpPr/>
          <p:nvPr/>
        </p:nvSpPr>
        <p:spPr>
          <a:xfrm>
            <a:off x="2590920" y="3124080"/>
            <a:ext cx="144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uje za smanjenje</a:t>
            </a:r>
            <a:endParaRPr b="0" lang="en-US" sz="2400" spc="-1" strike="noStrike">
              <a:solidFill>
                <a:srgbClr val="000000"/>
              </a:solidFill>
              <a:latin typeface="Arial"/>
            </a:endParaRPr>
          </a:p>
        </p:txBody>
      </p:sp>
      <p:sp>
        <p:nvSpPr>
          <p:cNvPr id="953" name=""/>
          <p:cNvSpPr/>
          <p:nvPr/>
        </p:nvSpPr>
        <p:spPr>
          <a:xfrm>
            <a:off x="4648320" y="31240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uje za smanjenje</a:t>
            </a:r>
            <a:endParaRPr b="0" lang="en-US" sz="2400" spc="-1" strike="noStrike">
              <a:solidFill>
                <a:srgbClr val="000000"/>
              </a:solidFill>
              <a:latin typeface="Arial"/>
            </a:endParaRPr>
          </a:p>
        </p:txBody>
      </p:sp>
      <p:sp>
        <p:nvSpPr>
          <p:cNvPr id="954" name=""/>
          <p:cNvSpPr/>
          <p:nvPr/>
        </p:nvSpPr>
        <p:spPr>
          <a:xfrm>
            <a:off x="6477120" y="3048120"/>
            <a:ext cx="144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uje za povećanje</a:t>
            </a:r>
            <a:endParaRPr b="0" lang="en-US" sz="2400" spc="-1" strike="noStrike">
              <a:solidFill>
                <a:srgbClr val="000000"/>
              </a:solidFill>
              <a:latin typeface="Arial"/>
            </a:endParaRPr>
          </a:p>
        </p:txBody>
      </p:sp>
      <p:sp>
        <p:nvSpPr>
          <p:cNvPr id="955" name=""/>
          <p:cNvSpPr/>
          <p:nvPr/>
        </p:nvSpPr>
        <p:spPr>
          <a:xfrm>
            <a:off x="1143000" y="5334120"/>
            <a:ext cx="16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a:t>
            </a:r>
            <a:endParaRPr b="0" lang="en-US" sz="2400" spc="-1" strike="noStrike">
              <a:solidFill>
                <a:srgbClr val="000000"/>
              </a:solidFill>
              <a:latin typeface="Arial"/>
            </a:endParaRPr>
          </a:p>
        </p:txBody>
      </p:sp>
      <p:sp>
        <p:nvSpPr>
          <p:cNvPr id="956" name=""/>
          <p:cNvSpPr/>
          <p:nvPr/>
        </p:nvSpPr>
        <p:spPr>
          <a:xfrm>
            <a:off x="4114800" y="5334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endParaRPr b="0" lang="en-US" sz="2400" spc="-1" strike="noStrike">
              <a:solidFill>
                <a:srgbClr val="000000"/>
              </a:solidFill>
              <a:latin typeface="Arial"/>
            </a:endParaRPr>
          </a:p>
        </p:txBody>
      </p:sp>
      <p:sp>
        <p:nvSpPr>
          <p:cNvPr id="957" name=""/>
          <p:cNvSpPr/>
          <p:nvPr/>
        </p:nvSpPr>
        <p:spPr>
          <a:xfrm>
            <a:off x="4724280" y="5334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VI</a:t>
            </a:r>
            <a:endParaRPr b="0" lang="en-US" sz="2400" spc="-1" strike="noStrike">
              <a:solidFill>
                <a:srgbClr val="000000"/>
              </a:solidFill>
              <a:latin typeface="Arial"/>
            </a:endParaRPr>
          </a:p>
        </p:txBody>
      </p:sp>
      <p:sp>
        <p:nvSpPr>
          <p:cNvPr id="958" name=""/>
          <p:cNvSpPr/>
          <p:nvPr/>
        </p:nvSpPr>
        <p:spPr>
          <a:xfrm>
            <a:off x="6248520" y="5334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endParaRPr b="0" lang="en-US" sz="2400" spc="-1" strike="noStrike">
              <a:solidFill>
                <a:srgbClr val="000000"/>
              </a:solidFill>
              <a:latin typeface="Arial"/>
            </a:endParaRPr>
          </a:p>
        </p:txBody>
      </p:sp>
      <p:sp>
        <p:nvSpPr>
          <p:cNvPr id="959" name=""/>
          <p:cNvSpPr/>
          <p:nvPr/>
        </p:nvSpPr>
        <p:spPr>
          <a:xfrm>
            <a:off x="6781680" y="5334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L. KAPIT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867E1C5-3F89-4D5A-9D5D-2D3A05A2A9CF}" type="slidenum">
              <a:t>226</a:t>
            </a:fld>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825480" y="522000"/>
            <a:ext cx="77868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200" spc="-1" strike="noStrike">
                <a:solidFill>
                  <a:srgbClr val="000000"/>
                </a:solidFill>
                <a:latin typeface="Arial"/>
              </a:rPr>
              <a:t>Primjer</a:t>
            </a:r>
            <a:endParaRPr b="0" lang="en-US" sz="4200" spc="-1" strike="noStrike">
              <a:solidFill>
                <a:srgbClr val="000000"/>
              </a:solidFill>
              <a:latin typeface="Arial"/>
            </a:endParaRPr>
          </a:p>
        </p:txBody>
      </p:sp>
      <p:sp>
        <p:nvSpPr>
          <p:cNvPr id="961" name="PlaceHolder 2"/>
          <p:cNvSpPr>
            <a:spLocks noGrp="1"/>
          </p:cNvSpPr>
          <p:nvPr>
            <p:ph/>
          </p:nvPr>
        </p:nvSpPr>
        <p:spPr>
          <a:xfrm>
            <a:off x="684360" y="1916280"/>
            <a:ext cx="7772400" cy="461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mljen je kratkoročni kredit od banke 20 000,00 kn.</a:t>
            </a:r>
            <a:endParaRPr b="0" lang="en-US" sz="2400" spc="-1" strike="noStrike">
              <a:solidFill>
                <a:srgbClr val="000000"/>
              </a:solidFill>
              <a:latin typeface="Arial"/>
            </a:endParaRPr>
          </a:p>
        </p:txBody>
      </p:sp>
      <p:sp>
        <p:nvSpPr>
          <p:cNvPr id="962" name=""/>
          <p:cNvSpPr/>
          <p:nvPr/>
        </p:nvSpPr>
        <p:spPr>
          <a:xfrm flipV="1">
            <a:off x="1042920" y="2971440"/>
            <a:ext cx="29955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3" name=""/>
          <p:cNvSpPr/>
          <p:nvPr/>
        </p:nvSpPr>
        <p:spPr>
          <a:xfrm>
            <a:off x="2514600" y="2971800"/>
            <a:ext cx="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788000" y="292428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6227640" y="2924280"/>
            <a:ext cx="20880" cy="14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87280" y="2438280"/>
            <a:ext cx="280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Žiro-račun</a:t>
            </a:r>
            <a:endParaRPr b="0" lang="en-US" sz="2400" spc="-1" strike="noStrike">
              <a:solidFill>
                <a:srgbClr val="000000"/>
              </a:solidFill>
              <a:latin typeface="Arial"/>
            </a:endParaRPr>
          </a:p>
        </p:txBody>
      </p:sp>
      <p:sp>
        <p:nvSpPr>
          <p:cNvPr id="967" name=""/>
          <p:cNvSpPr/>
          <p:nvPr/>
        </p:nvSpPr>
        <p:spPr>
          <a:xfrm>
            <a:off x="4800600" y="243828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po kreditima</a:t>
            </a:r>
            <a:endParaRPr b="0" lang="en-US" sz="2400" spc="-1" strike="noStrike">
              <a:solidFill>
                <a:srgbClr val="000000"/>
              </a:solidFill>
              <a:latin typeface="Arial"/>
            </a:endParaRPr>
          </a:p>
        </p:txBody>
      </p:sp>
      <p:sp>
        <p:nvSpPr>
          <p:cNvPr id="968" name=""/>
          <p:cNvSpPr/>
          <p:nvPr/>
        </p:nvSpPr>
        <p:spPr>
          <a:xfrm>
            <a:off x="91440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20000,00</a:t>
            </a:r>
            <a:endParaRPr b="0" lang="en-US" sz="2400" spc="-1" strike="noStrike">
              <a:solidFill>
                <a:srgbClr val="000000"/>
              </a:solidFill>
              <a:latin typeface="Arial"/>
            </a:endParaRPr>
          </a:p>
        </p:txBody>
      </p:sp>
      <p:sp>
        <p:nvSpPr>
          <p:cNvPr id="969" name=""/>
          <p:cNvSpPr/>
          <p:nvPr/>
        </p:nvSpPr>
        <p:spPr>
          <a:xfrm>
            <a:off x="6324480" y="31240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20000,0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D5D61F-D319-4461-BBFF-A4CF5B3680A8}" type="slidenum">
              <a:t>227</a:t>
            </a:fld>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84000" y="33300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Zadatak</a:t>
            </a:r>
            <a:endParaRPr b="0" lang="en-US" sz="3800" spc="-1" strike="noStrike">
              <a:solidFill>
                <a:srgbClr val="000000"/>
              </a:solidFill>
              <a:latin typeface="Arial"/>
            </a:endParaRPr>
          </a:p>
        </p:txBody>
      </p:sp>
      <p:sp>
        <p:nvSpPr>
          <p:cNvPr id="971" name="PlaceHolder 2"/>
          <p:cNvSpPr>
            <a:spLocks noGrp="1"/>
          </p:cNvSpPr>
          <p:nvPr>
            <p:ph/>
          </p:nvPr>
        </p:nvSpPr>
        <p:spPr>
          <a:xfrm>
            <a:off x="682560" y="1626840"/>
            <a:ext cx="7772400" cy="446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dobavljača je nabavljen materijal 10 000,00 k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obavljaču je plaćeno kreditom od ban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ignuto je u blagajnu sa žiro-računa 300,00 k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upljen je stroj 60 000,00 k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laćeno je dobavljaču doznakom sa žiro-raču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lasnik je povukao dio glavnice 20 000,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860E1F-AB16-4087-A71C-3019FA66924C}" type="slidenum">
              <a:t>228</a:t>
            </a:fld>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2050560" y="404280"/>
            <a:ext cx="5977080" cy="28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JMOVNO RAZGRANIČENJE RASHODA, IZDATAKA, UTROŠAKA I TROŠKOVA</a:t>
            </a:r>
            <a:endParaRPr b="0" lang="en-US" sz="2800" spc="-1" strike="noStrike">
              <a:solidFill>
                <a:srgbClr val="000000"/>
              </a:solidFill>
              <a:latin typeface="Arial"/>
            </a:endParaRPr>
          </a:p>
        </p:txBody>
      </p:sp>
      <p:sp>
        <p:nvSpPr>
          <p:cNvPr id="973" name="PlaceHolder 2"/>
          <p:cNvSpPr>
            <a:spLocks noGrp="1"/>
          </p:cNvSpPr>
          <p:nvPr>
            <p:ph type="subTitle"/>
          </p:nvPr>
        </p:nvSpPr>
        <p:spPr>
          <a:xfrm>
            <a:off x="4643280" y="3933360"/>
            <a:ext cx="3384720" cy="24526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Rashod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Utrošc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Izdac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Troškov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58052B-2803-4DC2-B727-A0CDF7C862E2}" type="slidenum">
              <a:t>229</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JESTO</a:t>
            </a:r>
            <a:r>
              <a:rPr b="0" lang="hr-HR" sz="3200" spc="-1" strike="noStrike">
                <a:solidFill>
                  <a:srgbClr val="000000"/>
                </a:solidFill>
                <a:latin typeface="Arial"/>
              </a:rPr>
              <a:t> </a:t>
            </a:r>
            <a:r>
              <a:rPr b="0" lang="hr-HR" sz="2800" spc="-1" strike="noStrike">
                <a:solidFill>
                  <a:srgbClr val="000000"/>
                </a:solidFill>
                <a:latin typeface="Arial"/>
              </a:rPr>
              <a:t>RAČUNOVODSTVA</a:t>
            </a:r>
            <a:r>
              <a:rPr b="0" lang="hr-HR" sz="3200" spc="-1" strike="noStrike">
                <a:solidFill>
                  <a:srgbClr val="000000"/>
                </a:solidFill>
                <a:latin typeface="Arial"/>
              </a:rPr>
              <a:t> </a:t>
            </a:r>
            <a:r>
              <a:rPr b="0" lang="hr-HR" sz="2800" spc="-1" strike="noStrike">
                <a:solidFill>
                  <a:srgbClr val="000000"/>
                </a:solidFill>
                <a:latin typeface="Arial"/>
              </a:rPr>
              <a:t>U PODUZEĆU</a:t>
            </a:r>
            <a:endParaRPr b="0" lang="en-US" sz="2800" spc="-1" strike="noStrike">
              <a:solidFill>
                <a:srgbClr val="000000"/>
              </a:solidFill>
              <a:latin typeface="Arial"/>
            </a:endParaRPr>
          </a:p>
        </p:txBody>
      </p:sp>
      <p:sp>
        <p:nvSpPr>
          <p:cNvPr id="131" name="PlaceHolder 2"/>
          <p:cNvSpPr>
            <a:spLocks noGrp="1"/>
          </p:cNvSpPr>
          <p:nvPr>
            <p:ph/>
          </p:nvPr>
        </p:nvSpPr>
        <p:spPr>
          <a:xfrm>
            <a:off x="971640" y="1699920"/>
            <a:ext cx="7772400" cy="484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druge strane analiza računovodstvenih informacija često služi provjeravanju teorijskih postavki i usklađivanju odnosa teorije i prakse. Važnu ulogu u ekonomskoj znanosti ima i bilančni pristup gospodarskim procesima (osim bilanci poduzeća postoje i bilance drž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uzeće: složen, dinamičan i stohastičan sustav koji se sastoji od izvođačkog, informacijskog i upravljačkog podsusta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CD668A-C2D7-4128-86F5-4A53FF565869}" type="slidenum">
              <a:t>23</a:t>
            </a:fld>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shodi</a:t>
            </a:r>
            <a:endParaRPr b="0" lang="en-US" sz="3600" spc="-1" strike="noStrike">
              <a:solidFill>
                <a:srgbClr val="000000"/>
              </a:solidFill>
              <a:latin typeface="Arial"/>
            </a:endParaRPr>
          </a:p>
        </p:txBody>
      </p:sp>
      <p:sp>
        <p:nvSpPr>
          <p:cNvPr id="9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a:t>
            </a:r>
            <a:r>
              <a:rPr b="1" lang="hr-HR" sz="2400" spc="-1" strike="noStrike">
                <a:solidFill>
                  <a:srgbClr val="000000"/>
                </a:solidFill>
                <a:latin typeface="Times New Roman"/>
              </a:rPr>
              <a:t>MRS</a:t>
            </a:r>
            <a:r>
              <a:rPr b="0" lang="hr-HR" sz="2400" spc="-1" strike="noStrike">
                <a:solidFill>
                  <a:srgbClr val="000000"/>
                </a:solidFill>
                <a:latin typeface="Times New Roman"/>
              </a:rPr>
              <a:t> – ima rashodi s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a:t>
            </a:r>
            <a:r>
              <a:rPr b="0" lang="hr-HR" sz="2800" spc="-1" strike="noStrike">
                <a:solidFill>
                  <a:srgbClr val="000000"/>
                </a:solidFill>
                <a:latin typeface="Times New Roman"/>
              </a:rPr>
              <a:t>Smanjenje ekonomskih koristi kroz obračunsko razdoblje u obliku odljeva ili iscrpljenja imovine, odnosno stvaranja obveza što za posljedicu ima smanjenje glavnice, ali ne ono u svezi s raspodjelom glavnice sudionicima</a:t>
            </a:r>
            <a:r>
              <a:rPr b="0" lang="hr-HR"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E93439-9DC6-484B-9545-F3F11CD42531}" type="slidenum">
              <a:t>230</a:t>
            </a:fld>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shodi</a:t>
            </a:r>
            <a:endParaRPr b="0" lang="en-US" sz="36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su iznosi koji se nadoknađuju iz prihod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Pod rashodima se podrazumijevaju ulaganja u poslovni proces koja predstavljaju potrošnju dobara u stvaranju učinka, ali i neutralnu potrošnju dobara u poduzeću povezanu s nastankom izdatk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e poslovanj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e financiranja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anredne rashod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66C2DA-F0E9-4ACD-992B-C10DC3269791}" type="slidenum">
              <a:t>231</a:t>
            </a:fld>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shodi</a:t>
            </a:r>
            <a:endParaRPr b="0" lang="en-US" sz="3600" spc="-1" strike="noStrike">
              <a:solidFill>
                <a:srgbClr val="000000"/>
              </a:solidFill>
              <a:latin typeface="Arial"/>
            </a:endParaRPr>
          </a:p>
        </p:txBody>
      </p:sp>
      <p:sp>
        <p:nvSpPr>
          <p:cNvPr id="9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poslovanja odnose se na rashode koji nastaju u obavljanju osnovne djelatnosti poduzeća. Obuhvaćaju troškove proizvodnje, nabave trgovačke robe, administrativne rashode i ostale rashode nužne za obavljanje poslovnih proces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financiranja nastaju prilikom pribavljanja, korištenja i vraćanja financijskih sredstava, a vezuju se za osnovnu djelatnost poduzeć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anredni rashodi odnose se na rashode koji nastaju uslijed neplaniranog smanjenja imovine ili povećanja obveza, te su nepredvidi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3EC8B6-FE38-4DB3-A0D6-7399C24B6590}" type="slidenum">
              <a:t>232</a:t>
            </a:fld>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Utrošci</a:t>
            </a:r>
            <a:endParaRPr b="0" lang="en-US" sz="3600" spc="-1" strike="noStrike">
              <a:solidFill>
                <a:srgbClr val="000000"/>
              </a:solidFill>
              <a:latin typeface="Arial"/>
            </a:endParaRPr>
          </a:p>
        </p:txBody>
      </p:sp>
      <p:sp>
        <p:nvSpPr>
          <p:cNvPr id="9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trošci predstavljaju fizičko ulaganje materijalnih vrijednosti, odnosno čimbenika proizvodnje u poslovni proces koji rezultira stvaranjem učinak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ni nisu klasična računovodstvena kategorija, ali imaju izuzetnu važnost u računovodstvenom nadzoru i analiz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17CBD7-E118-459D-8ACB-1B04E952D127}" type="slidenum">
              <a:t>233</a:t>
            </a:fld>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Izdaci</a:t>
            </a:r>
            <a:endParaRPr b="0" lang="en-US" sz="3600" spc="-1" strike="noStrike">
              <a:solidFill>
                <a:srgbClr val="000000"/>
              </a:solidFill>
              <a:latin typeface="Arial"/>
            </a:endParaRPr>
          </a:p>
        </p:txBody>
      </p:sp>
      <p:sp>
        <p:nvSpPr>
          <p:cNvPr id="9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daci predstavljaju izlaz novca iz poduzeća tj. odnose se na smanjenje gotovine ili novčanih ekvivalenata u obliku gotovinskih ili obračunskih isplata, ovisno o načinu plaćanja koji se u pojedinoj transakciji koristi.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ni mogu, ali i ne moraju imati karakter troška što ovisi o tome da li su nastali u svezi stvaranja učinaka ili nis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642223-7A8D-4376-83AD-F9A99489A787}" type="slidenum">
              <a:t>234</a:t>
            </a:fld>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Troškovi</a:t>
            </a:r>
            <a:endParaRPr b="0" lang="en-US" sz="3600" spc="-1" strike="noStrike">
              <a:solidFill>
                <a:srgbClr val="000000"/>
              </a:solidFill>
              <a:latin typeface="Arial"/>
            </a:endParaRPr>
          </a:p>
        </p:txBody>
      </p:sp>
      <p:sp>
        <p:nvSpPr>
          <p:cNvPr id="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predstavljaju vrijednosno izražene utroške čimbenika proizvodnje u poslovnom procesu koji nastaju isključivo zbog stvaranja učinak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uhvaćaju najveći dio rashoda budući je veći dio rashoda u poslovanju poduzeća izravno vezan za stvaranje učinak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i rashodi, izdaci i utrošci koji su nastali zbog stvaranja učinaka imaju karakter troškov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 obzirom na način nadoknađivanja iz prihoda razlikujem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e proizvod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e razdobl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455B15-F51A-45D4-A4FD-13F2B9BAF6D4}" type="slidenum">
              <a:t>235</a:t>
            </a:fld>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Troškovi</a:t>
            </a:r>
            <a:endParaRPr b="0" lang="en-US" sz="3600" spc="-1" strike="noStrike">
              <a:solidFill>
                <a:srgbClr val="000000"/>
              </a:solidFill>
              <a:latin typeface="Arial"/>
            </a:endParaRPr>
          </a:p>
        </p:txBody>
      </p:sp>
      <p:sp>
        <p:nvSpPr>
          <p:cNvPr id="9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proizvoda svi su oni troškovi koji se uključuju odnosno obračunavaju u vrijednost zaliha proizvodnje i gotovih proizvoda. Ovi troškovi postaju rashodi u razdoblju kada su proizvodi proda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razdoblja obuhvaćaju sve one troškove koji se ne uključuju u troškove proizvoda te se nadoknađuju u ukupnim iznosima iz ukupnog prihoda obračunskog razdoblja u kojem su nastal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B5D699-FBAB-429F-91AC-756F849A2858}" type="slidenum">
              <a:t>236</a:t>
            </a:fld>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Odnos rashoda i troškova</a:t>
            </a:r>
            <a:endParaRPr b="0" lang="en-US" sz="4000" spc="-1" strike="noStrike">
              <a:solidFill>
                <a:srgbClr val="000000"/>
              </a:solidFill>
              <a:latin typeface="Arial"/>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koji su nastali neposredno zbog stvaranja učinaka odgovaraju troškovima poslovan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 obzirom na podjelu računovodstva prema razini obuhvata na financijsko i računovodstvo troškova možemo zaključiti da su rashodi kategorija financijskog računovodstva, dok su troškovi kategorija računovodstva troškova tj. internog obračun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678D6A-A6D9-468F-AF1A-877031D7DDA8}" type="slidenum">
              <a:t>237</a:t>
            </a:fld>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Odnos rashoda i troškova</a:t>
            </a:r>
            <a:endParaRPr b="0" lang="en-US" sz="4000" spc="-1" strike="noStrike">
              <a:solidFill>
                <a:srgbClr val="000000"/>
              </a:solidFill>
              <a:latin typeface="Arial"/>
            </a:endParaRPr>
          </a:p>
        </p:txBody>
      </p:sp>
      <p:sp>
        <p:nvSpPr>
          <p:cNvPr id="9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poslovanju poduzeća najveći dio troškova ima karakter rashoda, ali postoje i određene razlike među njim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emenski nesklad rashoda i troškov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koji nemaju karakter troškov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koji nemaju karakter rashoda i</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ijednosno nepodudaranje pojedinih vrsta rashoda i troško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9FF114-DEBA-4BE5-90F2-7C75C3E0DF8E}" type="slidenum">
              <a:t>238</a:t>
            </a:fld>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2195280" y="260280"/>
            <a:ext cx="5832360" cy="216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JMOVNO RAZGRANIČENJE PRIHODA, PRIMITAKA I UČINAKA</a:t>
            </a:r>
            <a:endParaRPr b="0" lang="en-US" sz="2800" spc="-1" strike="noStrike">
              <a:solidFill>
                <a:srgbClr val="000000"/>
              </a:solidFill>
              <a:latin typeface="Arial"/>
            </a:endParaRPr>
          </a:p>
        </p:txBody>
      </p:sp>
      <p:sp>
        <p:nvSpPr>
          <p:cNvPr id="993" name="PlaceHolder 2"/>
          <p:cNvSpPr>
            <a:spLocks noGrp="1"/>
          </p:cNvSpPr>
          <p:nvPr>
            <p:ph type="subTitle"/>
          </p:nvPr>
        </p:nvSpPr>
        <p:spPr>
          <a:xfrm>
            <a:off x="5148000" y="4626000"/>
            <a:ext cx="2881080" cy="22320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Prihodi</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Primici</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Učinc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423DC6-8C5E-4813-AC0A-086065208722}" type="slidenum">
              <a:t>239</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7044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971640" y="260280"/>
            <a:ext cx="7772400" cy="6098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JESTO RAČUNOVODSTVA U PODUZEĆU</a:t>
            </a:r>
            <a:endParaRPr b="0" lang="en-US" sz="2800" spc="-1" strike="noStrike">
              <a:solidFill>
                <a:srgbClr val="000000"/>
              </a:solidFill>
              <a:latin typeface="Arial"/>
            </a:endParaRPr>
          </a:p>
        </p:txBody>
      </p:sp>
      <p:grpSp>
        <p:nvGrpSpPr>
          <p:cNvPr id="134" name=""/>
          <p:cNvGrpSpPr/>
          <p:nvPr/>
        </p:nvGrpSpPr>
        <p:grpSpPr>
          <a:xfrm>
            <a:off x="755640" y="1484280"/>
            <a:ext cx="7559280" cy="5153040"/>
            <a:chOff x="755640" y="1484280"/>
            <a:chExt cx="7559280" cy="5153040"/>
          </a:xfrm>
        </p:grpSpPr>
        <p:cxnSp>
          <p:nvCxnSpPr>
            <p:cNvPr id="135" name="_s30726"/>
            <p:cNvCxnSpPr>
              <a:stCxn id="136" idx="1"/>
              <a:endCxn id="137" idx="2"/>
            </p:cNvCxnSpPr>
            <p:nvPr/>
          </p:nvCxnSpPr>
          <p:spPr>
            <a:xfrm rot="10800000">
              <a:off x="6152400" y="2473200"/>
              <a:ext cx="285480" cy="3832920"/>
            </a:xfrm>
            <a:prstGeom prst="bentConnector2">
              <a:avLst/>
            </a:prstGeom>
            <a:ln w="12600">
              <a:solidFill>
                <a:srgbClr val="ffffff"/>
              </a:solidFill>
              <a:miter/>
            </a:ln>
          </p:spPr>
        </p:cxnSp>
        <p:cxnSp>
          <p:nvCxnSpPr>
            <p:cNvPr id="138" name="_s30727"/>
            <p:cNvCxnSpPr>
              <a:stCxn id="139" idx="1"/>
              <a:endCxn id="137" idx="2"/>
            </p:cNvCxnSpPr>
            <p:nvPr/>
          </p:nvCxnSpPr>
          <p:spPr>
            <a:xfrm rot="10800000">
              <a:off x="6152400" y="2473200"/>
              <a:ext cx="285480" cy="3000240"/>
            </a:xfrm>
            <a:prstGeom prst="bentConnector2">
              <a:avLst/>
            </a:prstGeom>
            <a:ln w="12600">
              <a:solidFill>
                <a:srgbClr val="ffffff"/>
              </a:solidFill>
              <a:miter/>
            </a:ln>
          </p:spPr>
        </p:cxnSp>
        <p:cxnSp>
          <p:nvCxnSpPr>
            <p:cNvPr id="140" name="_s30728"/>
            <p:cNvCxnSpPr>
              <a:stCxn id="141" idx="1"/>
              <a:endCxn id="137" idx="2"/>
            </p:cNvCxnSpPr>
            <p:nvPr/>
          </p:nvCxnSpPr>
          <p:spPr>
            <a:xfrm rot="10800000">
              <a:off x="6152400" y="2473200"/>
              <a:ext cx="285480" cy="2167560"/>
            </a:xfrm>
            <a:prstGeom prst="bentConnector2">
              <a:avLst/>
            </a:prstGeom>
            <a:ln w="12600">
              <a:solidFill>
                <a:srgbClr val="ffffff"/>
              </a:solidFill>
              <a:miter/>
            </a:ln>
          </p:spPr>
        </p:cxnSp>
        <p:cxnSp>
          <p:nvCxnSpPr>
            <p:cNvPr id="142" name="_s30729"/>
            <p:cNvCxnSpPr>
              <a:stCxn id="143" idx="1"/>
              <a:endCxn id="137" idx="2"/>
            </p:cNvCxnSpPr>
            <p:nvPr/>
          </p:nvCxnSpPr>
          <p:spPr>
            <a:xfrm rot="10800000">
              <a:off x="6152400" y="2473200"/>
              <a:ext cx="285480" cy="1334880"/>
            </a:xfrm>
            <a:prstGeom prst="bentConnector2">
              <a:avLst/>
            </a:prstGeom>
            <a:ln w="12600">
              <a:solidFill>
                <a:srgbClr val="ffffff"/>
              </a:solidFill>
              <a:miter/>
            </a:ln>
          </p:spPr>
        </p:cxnSp>
        <p:cxnSp>
          <p:nvCxnSpPr>
            <p:cNvPr id="144" name="_s30730"/>
            <p:cNvCxnSpPr>
              <a:stCxn id="145" idx="1"/>
              <a:endCxn id="137" idx="2"/>
            </p:cNvCxnSpPr>
            <p:nvPr/>
          </p:nvCxnSpPr>
          <p:spPr>
            <a:xfrm rot="10800000">
              <a:off x="6152400" y="2473200"/>
              <a:ext cx="285480" cy="503280"/>
            </a:xfrm>
            <a:prstGeom prst="bentConnector2">
              <a:avLst/>
            </a:prstGeom>
            <a:ln w="12600">
              <a:solidFill>
                <a:srgbClr val="ffffff"/>
              </a:solidFill>
              <a:miter/>
            </a:ln>
          </p:spPr>
        </p:cxnSp>
        <p:cxnSp>
          <p:nvCxnSpPr>
            <p:cNvPr id="146" name="_s30731"/>
            <p:cNvCxnSpPr>
              <a:stCxn id="147" idx="1"/>
              <a:endCxn id="148" idx="2"/>
            </p:cNvCxnSpPr>
            <p:nvPr/>
          </p:nvCxnSpPr>
          <p:spPr>
            <a:xfrm rot="10800000">
              <a:off x="3701520" y="2473200"/>
              <a:ext cx="285480" cy="1334880"/>
            </a:xfrm>
            <a:prstGeom prst="bentConnector2">
              <a:avLst/>
            </a:prstGeom>
            <a:ln w="12600">
              <a:solidFill>
                <a:srgbClr val="ffffff"/>
              </a:solidFill>
              <a:miter/>
            </a:ln>
          </p:spPr>
        </p:cxnSp>
        <p:cxnSp>
          <p:nvCxnSpPr>
            <p:cNvPr id="149" name="_s30732"/>
            <p:cNvCxnSpPr>
              <a:stCxn id="150" idx="1"/>
              <a:endCxn id="148" idx="2"/>
            </p:cNvCxnSpPr>
            <p:nvPr/>
          </p:nvCxnSpPr>
          <p:spPr>
            <a:xfrm rot="10800000">
              <a:off x="3701520" y="2473200"/>
              <a:ext cx="285480" cy="503280"/>
            </a:xfrm>
            <a:prstGeom prst="bentConnector2">
              <a:avLst/>
            </a:prstGeom>
            <a:ln w="12600">
              <a:solidFill>
                <a:srgbClr val="ffffff"/>
              </a:solidFill>
              <a:miter/>
            </a:ln>
          </p:spPr>
        </p:cxnSp>
        <p:cxnSp>
          <p:nvCxnSpPr>
            <p:cNvPr id="151" name="_s30733"/>
            <p:cNvCxnSpPr>
              <a:stCxn id="152" idx="0"/>
              <a:endCxn id="153" idx="2"/>
            </p:cNvCxnSpPr>
            <p:nvPr/>
          </p:nvCxnSpPr>
          <p:spPr>
            <a:xfrm flipH="1" flipV="1" rot="5400000">
              <a:off x="1608120" y="2558880"/>
              <a:ext cx="173520" cy="2880"/>
            </a:xfrm>
            <a:prstGeom prst="bentConnector3">
              <a:avLst>
                <a:gd name="adj1" fmla="val 49896"/>
              </a:avLst>
            </a:prstGeom>
            <a:ln w="12600">
              <a:solidFill>
                <a:srgbClr val="ffffff"/>
              </a:solidFill>
              <a:miter/>
            </a:ln>
          </p:spPr>
        </p:cxnSp>
        <p:cxnSp>
          <p:nvCxnSpPr>
            <p:cNvPr id="154" name="_s30734"/>
            <p:cNvCxnSpPr>
              <a:stCxn id="137" idx="0"/>
              <a:endCxn id="155" idx="2"/>
            </p:cNvCxnSpPr>
            <p:nvPr/>
          </p:nvCxnSpPr>
          <p:spPr>
            <a:xfrm flipV="1" rot="16200000">
              <a:off x="4952880" y="797400"/>
              <a:ext cx="172080" cy="2228040"/>
            </a:xfrm>
            <a:prstGeom prst="bentConnector3">
              <a:avLst>
                <a:gd name="adj1" fmla="val 49475"/>
              </a:avLst>
            </a:prstGeom>
            <a:ln w="12600">
              <a:solidFill>
                <a:srgbClr val="ffffff"/>
              </a:solidFill>
              <a:miter/>
            </a:ln>
          </p:spPr>
        </p:cxnSp>
        <p:cxnSp>
          <p:nvCxnSpPr>
            <p:cNvPr id="156" name="_s30735"/>
            <p:cNvCxnSpPr>
              <a:stCxn id="148" idx="0"/>
              <a:endCxn id="155" idx="2"/>
            </p:cNvCxnSpPr>
            <p:nvPr/>
          </p:nvCxnSpPr>
          <p:spPr>
            <a:xfrm flipH="1" flipV="1" rot="5400000">
              <a:off x="3727800" y="1799640"/>
              <a:ext cx="172080" cy="223920"/>
            </a:xfrm>
            <a:prstGeom prst="bentConnector3">
              <a:avLst>
                <a:gd name="adj1" fmla="val 49475"/>
              </a:avLst>
            </a:prstGeom>
            <a:ln w="12600">
              <a:solidFill>
                <a:srgbClr val="ffffff"/>
              </a:solidFill>
              <a:miter/>
            </a:ln>
          </p:spPr>
        </p:cxnSp>
        <p:cxnSp>
          <p:nvCxnSpPr>
            <p:cNvPr id="157" name="_s30736"/>
            <p:cNvCxnSpPr>
              <a:stCxn id="153" idx="0"/>
              <a:endCxn id="155" idx="2"/>
            </p:cNvCxnSpPr>
            <p:nvPr/>
          </p:nvCxnSpPr>
          <p:spPr>
            <a:xfrm flipH="1" flipV="1" rot="5400000">
              <a:off x="2724840" y="796680"/>
              <a:ext cx="172080" cy="2229840"/>
            </a:xfrm>
            <a:prstGeom prst="bentConnector3">
              <a:avLst>
                <a:gd name="adj1" fmla="val 49475"/>
              </a:avLst>
            </a:prstGeom>
            <a:ln w="12600">
              <a:solidFill>
                <a:srgbClr val="ffffff"/>
              </a:solidFill>
              <a:miter/>
            </a:ln>
          </p:spPr>
        </p:cxnSp>
        <p:sp>
          <p:nvSpPr>
            <p:cNvPr id="155" name="_s30737"/>
            <p:cNvSpPr/>
            <p:nvPr/>
          </p:nvSpPr>
          <p:spPr>
            <a:xfrm>
              <a:off x="3064680" y="1484280"/>
              <a:ext cx="1719360" cy="34164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Unicode MS"/>
                </a:rPr>
                <a:t>PODUZE</a:t>
              </a:r>
              <a:r>
                <a:rPr b="1" lang="hr-HR" sz="1600" spc="-1" strike="noStrike">
                  <a:solidFill>
                    <a:srgbClr val="000000"/>
                  </a:solidFill>
                  <a:latin typeface="Arial"/>
                </a:rPr>
                <a:t>Ć</a:t>
              </a:r>
              <a:r>
                <a:rPr b="1" lang="hr-HR" sz="1600" spc="-1" strike="noStrike">
                  <a:solidFill>
                    <a:srgbClr val="000000"/>
                  </a:solidFill>
                  <a:latin typeface="Arial Unicode MS"/>
                </a:rPr>
                <a:t>E</a:t>
              </a:r>
              <a:endParaRPr b="0" lang="en-US" sz="1600" spc="-1" strike="noStrike">
                <a:solidFill>
                  <a:srgbClr val="000000"/>
                </a:solidFill>
                <a:latin typeface="Arial"/>
              </a:endParaRPr>
            </a:p>
          </p:txBody>
        </p:sp>
        <p:sp>
          <p:nvSpPr>
            <p:cNvPr id="153" name="_s30738"/>
            <p:cNvSpPr/>
            <p:nvPr/>
          </p:nvSpPr>
          <p:spPr>
            <a:xfrm>
              <a:off x="835560" y="1997640"/>
              <a:ext cx="1719000" cy="47592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IZVO</a:t>
              </a:r>
              <a:r>
                <a:rPr b="1" lang="hr-HR" sz="1400" spc="-1" strike="noStrike">
                  <a:solidFill>
                    <a:srgbClr val="000000"/>
                  </a:solidFill>
                  <a:latin typeface="Arial"/>
                </a:rPr>
                <a:t>Đ</a:t>
              </a:r>
              <a:r>
                <a:rPr b="1" lang="hr-HR" sz="1400" spc="-1" strike="noStrike">
                  <a:solidFill>
                    <a:srgbClr val="000000"/>
                  </a:solidFill>
                  <a:latin typeface="Arial Unicode MS"/>
                </a:rPr>
                <a:t>A</a:t>
              </a:r>
              <a:r>
                <a:rPr b="1" lang="hr-HR" sz="1400" spc="-1" strike="noStrike">
                  <a:solidFill>
                    <a:srgbClr val="000000"/>
                  </a:solidFill>
                  <a:latin typeface="Arial"/>
                </a:rPr>
                <a:t>Č</a:t>
              </a:r>
              <a:r>
                <a:rPr b="1" lang="hr-HR" sz="1400" spc="-1" strike="noStrike">
                  <a:solidFill>
                    <a:srgbClr val="000000"/>
                  </a:solidFill>
                  <a:latin typeface="Arial Unicode MS"/>
                </a:rPr>
                <a:t>K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DSUSTAV</a:t>
              </a:r>
              <a:endParaRPr b="0" lang="en-US" sz="1400" spc="-1" strike="noStrike">
                <a:solidFill>
                  <a:srgbClr val="000000"/>
                </a:solidFill>
                <a:latin typeface="Arial"/>
              </a:endParaRPr>
            </a:p>
          </p:txBody>
        </p:sp>
        <p:sp>
          <p:nvSpPr>
            <p:cNvPr id="148" name="_s30739"/>
            <p:cNvSpPr/>
            <p:nvPr/>
          </p:nvSpPr>
          <p:spPr>
            <a:xfrm>
              <a:off x="2841480" y="1997640"/>
              <a:ext cx="1719360" cy="47592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INFORMACIJSK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DSUSTAV</a:t>
              </a:r>
              <a:endParaRPr b="0" lang="en-US" sz="1400" spc="-1" strike="noStrike">
                <a:solidFill>
                  <a:srgbClr val="000000"/>
                </a:solidFill>
                <a:latin typeface="Arial"/>
              </a:endParaRPr>
            </a:p>
          </p:txBody>
        </p:sp>
        <p:sp>
          <p:nvSpPr>
            <p:cNvPr id="137" name="_s30740"/>
            <p:cNvSpPr/>
            <p:nvPr/>
          </p:nvSpPr>
          <p:spPr>
            <a:xfrm>
              <a:off x="5292360" y="1997640"/>
              <a:ext cx="1719360" cy="47592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UPRAVLJA</a:t>
              </a:r>
              <a:r>
                <a:rPr b="1" lang="hr-HR" sz="1400" spc="-1" strike="noStrike">
                  <a:solidFill>
                    <a:srgbClr val="000000"/>
                  </a:solidFill>
                  <a:latin typeface="Arial"/>
                </a:rPr>
                <a:t>Č</a:t>
              </a:r>
              <a:r>
                <a:rPr b="1" lang="hr-HR" sz="1400" spc="-1" strike="noStrike">
                  <a:solidFill>
                    <a:srgbClr val="000000"/>
                  </a:solidFill>
                  <a:latin typeface="Arial Unicode MS"/>
                </a:rPr>
                <a:t>K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DSUSTAV</a:t>
              </a:r>
              <a:endParaRPr b="0" lang="en-US" sz="1400" spc="-1" strike="noStrike">
                <a:solidFill>
                  <a:srgbClr val="000000"/>
                </a:solidFill>
                <a:latin typeface="Arial"/>
              </a:endParaRPr>
            </a:p>
          </p:txBody>
        </p:sp>
        <p:sp>
          <p:nvSpPr>
            <p:cNvPr id="152" name="_s30741"/>
            <p:cNvSpPr/>
            <p:nvPr/>
          </p:nvSpPr>
          <p:spPr>
            <a:xfrm>
              <a:off x="755640" y="264528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Osnov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slov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funkcije</a:t>
              </a:r>
              <a:endParaRPr b="0" lang="en-US" sz="1400" spc="-1" strike="noStrike">
                <a:solidFill>
                  <a:srgbClr val="000000"/>
                </a:solidFill>
                <a:latin typeface="Arial"/>
              </a:endParaRPr>
            </a:p>
          </p:txBody>
        </p:sp>
        <p:sp>
          <p:nvSpPr>
            <p:cNvPr id="150" name="_s30742"/>
            <p:cNvSpPr/>
            <p:nvPr/>
          </p:nvSpPr>
          <p:spPr>
            <a:xfrm>
              <a:off x="3987360" y="264528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Računovodstveni</a:t>
              </a:r>
              <a:endParaRPr b="0" lang="en-US" sz="1400" spc="-1" strike="noStrike">
                <a:solidFill>
                  <a:srgbClr val="000000"/>
                </a:solidFill>
                <a:latin typeface="Arial"/>
              </a:endParaRPr>
            </a:p>
          </p:txBody>
        </p:sp>
        <p:sp>
          <p:nvSpPr>
            <p:cNvPr id="147" name="_s30743"/>
            <p:cNvSpPr/>
            <p:nvPr/>
          </p:nvSpPr>
          <p:spPr>
            <a:xfrm>
              <a:off x="3987360" y="347832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Nera</a:t>
              </a:r>
              <a:r>
                <a:rPr b="1" lang="hr-HR" sz="1400" spc="-1" strike="noStrike">
                  <a:solidFill>
                    <a:srgbClr val="000000"/>
                  </a:solidFill>
                  <a:latin typeface="Arial"/>
                </a:rPr>
                <a:t>č</a:t>
              </a:r>
              <a:r>
                <a:rPr b="1" lang="hr-HR" sz="1400" spc="-1" strike="noStrike">
                  <a:solidFill>
                    <a:srgbClr val="000000"/>
                  </a:solidFill>
                  <a:latin typeface="Arial Unicode MS"/>
                </a:rPr>
                <a:t>unovodstveni</a:t>
              </a:r>
              <a:endParaRPr b="0" lang="en-US" sz="1400" spc="-1" strike="noStrike">
                <a:solidFill>
                  <a:srgbClr val="000000"/>
                </a:solidFill>
                <a:latin typeface="Arial"/>
              </a:endParaRPr>
            </a:p>
          </p:txBody>
        </p:sp>
        <p:sp>
          <p:nvSpPr>
            <p:cNvPr id="145" name="_s30744"/>
            <p:cNvSpPr/>
            <p:nvPr/>
          </p:nvSpPr>
          <p:spPr>
            <a:xfrm>
              <a:off x="6438240" y="264528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laniranje</a:t>
              </a:r>
              <a:endParaRPr b="0" lang="en-US" sz="1400" spc="-1" strike="noStrike">
                <a:solidFill>
                  <a:srgbClr val="000000"/>
                </a:solidFill>
                <a:latin typeface="Arial"/>
              </a:endParaRPr>
            </a:p>
          </p:txBody>
        </p:sp>
        <p:sp>
          <p:nvSpPr>
            <p:cNvPr id="143" name="_s30745"/>
            <p:cNvSpPr/>
            <p:nvPr/>
          </p:nvSpPr>
          <p:spPr>
            <a:xfrm>
              <a:off x="6438240" y="347832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Organiziranje</a:t>
              </a:r>
              <a:endParaRPr b="0" lang="en-US" sz="1400" spc="-1" strike="noStrike">
                <a:solidFill>
                  <a:srgbClr val="000000"/>
                </a:solidFill>
                <a:latin typeface="Arial"/>
              </a:endParaRPr>
            </a:p>
          </p:txBody>
        </p:sp>
        <p:sp>
          <p:nvSpPr>
            <p:cNvPr id="141" name="_s30746"/>
            <p:cNvSpPr/>
            <p:nvPr/>
          </p:nvSpPr>
          <p:spPr>
            <a:xfrm>
              <a:off x="6438240" y="431064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Kadrovsk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punjavanje</a:t>
              </a:r>
              <a:endParaRPr b="0" lang="en-US" sz="1400" spc="-1" strike="noStrike">
                <a:solidFill>
                  <a:srgbClr val="000000"/>
                </a:solidFill>
                <a:latin typeface="Arial"/>
              </a:endParaRPr>
            </a:p>
          </p:txBody>
        </p:sp>
        <p:sp>
          <p:nvSpPr>
            <p:cNvPr id="139" name="_s30747"/>
            <p:cNvSpPr/>
            <p:nvPr/>
          </p:nvSpPr>
          <p:spPr>
            <a:xfrm>
              <a:off x="6438240" y="514368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Rukovo</a:t>
              </a:r>
              <a:r>
                <a:rPr b="1" lang="hr-HR" sz="1400" spc="-1" strike="noStrike">
                  <a:solidFill>
                    <a:srgbClr val="000000"/>
                  </a:solidFill>
                  <a:latin typeface="Arial"/>
                </a:rPr>
                <a:t>đ</a:t>
              </a:r>
              <a:r>
                <a:rPr b="1" lang="hr-HR" sz="1400" spc="-1" strike="noStrike">
                  <a:solidFill>
                    <a:srgbClr val="000000"/>
                  </a:solidFill>
                  <a:latin typeface="Arial Unicode MS"/>
                </a:rPr>
                <a:t>enje</a:t>
              </a:r>
              <a:endParaRPr b="0" lang="en-US" sz="1400" spc="-1" strike="noStrike">
                <a:solidFill>
                  <a:srgbClr val="000000"/>
                </a:solidFill>
                <a:latin typeface="Arial"/>
              </a:endParaRPr>
            </a:p>
          </p:txBody>
        </p:sp>
        <p:sp>
          <p:nvSpPr>
            <p:cNvPr id="136" name="_s30748"/>
            <p:cNvSpPr/>
            <p:nvPr/>
          </p:nvSpPr>
          <p:spPr>
            <a:xfrm>
              <a:off x="6438240" y="597636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Kontrola</a:t>
              </a:r>
              <a:endParaRPr b="0" lang="en-US" sz="1400" spc="-1" strike="noStrike">
                <a:solidFill>
                  <a:srgbClr val="000000"/>
                </a:solidFill>
                <a:latin typeface="Arial"/>
              </a:endParaRPr>
            </a:p>
          </p:txBody>
        </p:sp>
      </p:grpSp>
      <p:sp>
        <p:nvSpPr>
          <p:cNvPr id="158" name=""/>
          <p:cNvSpPr/>
          <p:nvPr/>
        </p:nvSpPr>
        <p:spPr>
          <a:xfrm>
            <a:off x="2050920" y="907920"/>
            <a:ext cx="4127760" cy="384480"/>
          </a:xfrm>
          <a:prstGeom prst="rect">
            <a:avLst/>
          </a:prstGeom>
          <a:solidFill>
            <a:srgbClr val="ffffff"/>
          </a:solidFill>
          <a:ln w="9360">
            <a:solidFill>
              <a:srgbClr val="000000">
                <a:alpha val="0"/>
              </a:srgbClr>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Sustav funkcioniranja poduzeć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B779368-0FAA-426B-8F52-C47C92F75B1F}" type="slidenum">
              <a:t>24</a:t>
            </a:fld>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hodi</a:t>
            </a:r>
            <a:endParaRPr b="0" lang="en-US" sz="3600" spc="-1" strike="noStrike">
              <a:solidFill>
                <a:srgbClr val="000000"/>
              </a:solidFill>
              <a:latin typeface="Arial"/>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su “povećanje ekonomskih koristi tijekom obračunskog razdoblja u obliku priljeva ili povećanja imovine odnosno smanjenja obveza, što za posljedicu ima povećanje glavnice, ali ne ono u svezi s uplatama od strane sudionika u glavnic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predstavljaju povećanje dobara u poduzeću tako dugo dok to predstavlja i ostvarenje primitak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F82E85-09AF-4371-A15C-D0146B4CBED3}" type="slidenum">
              <a:t>240</a:t>
            </a:fld>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hodi</a:t>
            </a:r>
            <a:endParaRPr b="0" lang="en-US" sz="3600" spc="-1" strike="noStrike">
              <a:solidFill>
                <a:srgbClr val="000000"/>
              </a:solidFill>
              <a:latin typeface="Arial"/>
            </a:endParaRPr>
          </a:p>
        </p:txBody>
      </p:sp>
      <p:sp>
        <p:nvSpPr>
          <p:cNvPr id="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 prihode poslo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ihode financiranj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zvanredne priho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poslovanja nastaju iz osnovne djelatnosti poduzeća kao rezultat aktivnosti stvaranja i plasmana učinaka na tržištu.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veći udio u prihodima poslovanja ima prodajna vrijednost poslovnih učina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BD669B-F03E-4F13-A512-07CA3828DAB2}" type="slidenum">
              <a:t>241</a:t>
            </a:fld>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hodi</a:t>
            </a:r>
            <a:endParaRPr b="0" lang="en-US" sz="3600" spc="-1" strike="noStrike">
              <a:solidFill>
                <a:srgbClr val="000000"/>
              </a:solidFill>
              <a:latin typeface="Arial"/>
            </a:endParaRPr>
          </a:p>
        </p:txBody>
      </p:sp>
      <p:sp>
        <p:nvSpPr>
          <p:cNvPr id="999" name="PlaceHolder 2"/>
          <p:cNvSpPr>
            <a:spLocks noGrp="1"/>
          </p:cNvSpPr>
          <p:nvPr>
            <p:ph/>
          </p:nvPr>
        </p:nvSpPr>
        <p:spPr>
          <a:xfrm>
            <a:off x="468360" y="1341360"/>
            <a:ext cx="8136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od prodaje učinaka priznaju se kao prihod kada se ispune slijedeći uvjet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davatelj je prenio na kupca sve ili najveći dio rizika i koristi povezanih s učinkom, kao posljedicu prijenosa vlasništ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 postoji velika neizvjesnost u pogledu naplate i drugih činitelja kojima se označava dovršenost posl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lovni subjekt nije zadržao stalno sudjelovanje u upravljanju, do stupnja koji se obično povezuje s vlasništvom, niti učinkovito kontrolira prodani proizvod, odnosno rob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nos prihoda može se pouzdano izmjeriti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koji su nastali ili će nastati zbog transakcije mogu se pouzdano izmjeri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A64B35-5214-4F44-991B-C04B8692D10A}" type="slidenum">
              <a:t>242</a:t>
            </a:fld>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hodi</a:t>
            </a:r>
            <a:endParaRPr b="0" lang="en-US" sz="3600" spc="-1" strike="noStrike">
              <a:solidFill>
                <a:srgbClr val="000000"/>
              </a:solidFill>
              <a:latin typeface="Arial"/>
            </a:endParaRPr>
          </a:p>
        </p:txBody>
      </p:sp>
      <p:sp>
        <p:nvSpPr>
          <p:cNvPr id="10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financiranja ostvaruju se temeljem plasmana slobodnih financijskih sredstava na tržišt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anredni prihodi obuhvaćaju prihode koji su nastali temeljem neplaniranog smanjenja obveza ili povećanja imovine te ih nije moguće predvidjeti.</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630453-1C38-4B2C-B14F-7FA398707341}" type="slidenum">
              <a:t>243</a:t>
            </a:fld>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mici</a:t>
            </a:r>
            <a:endParaRPr b="0" lang="en-US" sz="3600" spc="-1" strike="noStrike">
              <a:solidFill>
                <a:srgbClr val="000000"/>
              </a:solidFill>
              <a:latin typeface="Arial"/>
            </a:endParaRPr>
          </a:p>
        </p:txBody>
      </p:sp>
      <p:sp>
        <p:nvSpPr>
          <p:cNvPr id="10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ici predstavljaju ulazak novca u poduzeće, odnosno povećanja stanja novca koje nastaje kao rezultat gotovinskih ili obračunskih upla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veći dio primitaka povezan je s učincima, ali postoje i primici koji nisu povezani s učincima već ih poduzeće  ostvaruje po nekoj drugoj osnov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češće se primici koji su nastali u svezi s učincima poistovjećuju s prihod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C2C5233-85D2-46F4-8AF4-35F981DDAD5E}" type="slidenum">
              <a:t>244</a:t>
            </a:fld>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Učinci</a:t>
            </a:r>
            <a:endParaRPr b="0" lang="en-US" sz="3600" spc="-1" strike="noStrike">
              <a:solidFill>
                <a:srgbClr val="000000"/>
              </a:solidFill>
              <a:latin typeface="Arial"/>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činci predstavljaju sve na odgovarajući način procijenjene rezultate poslovne aktivnosti poduzeća koji imaju karakter proizvoda ili uslug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činak se, poput troškova, vezuje uz računovodstvo troškova odnosno interni obračun poslovanja, dok se prihod vezuje uz obračun rezultata u financijskom računovodstv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činci se u internom obračunu vrednuju po troškovima proizvodn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A8C9EB-55DD-4CDC-8165-FC373446ADA1}" type="slidenum">
              <a:t>245</a:t>
            </a:fld>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Učinci</a:t>
            </a:r>
            <a:endParaRPr b="0" lang="en-US" sz="3600" spc="-1" strike="noStrike">
              <a:solidFill>
                <a:srgbClr val="000000"/>
              </a:solidFill>
              <a:latin typeface="Arial"/>
            </a:endParaRPr>
          </a:p>
        </p:txBody>
      </p:sp>
      <p:sp>
        <p:nvSpPr>
          <p:cNvPr id="10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činci su jednaki prihodima u dijelu koji se odnosi na tržišno valorizirane (prodane) učinke koji rezultiraju odgovarajućim primic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e između učinaka i prihoda javljaju se u slučajevima kada stvaranje učinaka nije jednako njihovoj realizaciji na tržištu i u slučajevima kada se javljaju prihodi koji nisu vezani za proizvodnju i prodaju učinaka (neutralni prihod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E67795-A523-4758-B44D-6009FF046085}" type="slidenum">
              <a:t>246</a:t>
            </a:fld>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34560" y="1052280"/>
            <a:ext cx="8209080" cy="33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RAČUN DOBITI I GUBITKA</a:t>
            </a:r>
            <a:br>
              <a:rPr sz="4000"/>
            </a:br>
            <a:br>
              <a:rPr sz="4000"/>
            </a:br>
            <a:r>
              <a:rPr b="1" lang="hr-HR" sz="2800" spc="-1" strike="noStrike">
                <a:solidFill>
                  <a:srgbClr val="000000"/>
                </a:solidFill>
                <a:latin typeface="Arial"/>
              </a:rPr>
              <a:t>(IZVJEŠTAJ O DOBIT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376959A-272A-4497-828F-2746B4879065}" type="slidenum">
              <a:t>247</a:t>
            </a:fld>
          </a:p>
        </p:txBody>
      </p:sp>
    </p:spTree>
  </p:cSld>
  <p:transition>
    <p:diamon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1">
                                  <p:stCondLst>
                                    <p:cond delay="0"/>
                                  </p:stCondLst>
                                  <p:childTnLst>
                                    <p:set>
                                      <p:cBhvr>
                                        <p:cTn id="110" dur="1" fill="hold">
                                          <p:stCondLst>
                                            <p:cond delay="0"/>
                                          </p:stCondLst>
                                        </p:cTn>
                                        <p:tgtEl>
                                          <p:spTgt spid="1008"/>
                                        </p:tgtEl>
                                        <p:attrNameLst>
                                          <p:attrName>style.visibility</p:attrName>
                                        </p:attrNameLst>
                                      </p:cBhvr>
                                      <p:to>
                                        <p:strVal val="visible"/>
                                      </p:to>
                                    </p:set>
                                    <p:anim calcmode="lin" valueType="num">
                                      <p:cBhvr additive="base">
                                        <p:cTn id="111" dur="500" fill="hold"/>
                                        <p:tgtEl>
                                          <p:spTgt spid="1008"/>
                                        </p:tgtEl>
                                        <p:attrNameLst>
                                          <p:attrName>ppt_x</p:attrName>
                                        </p:attrNameLst>
                                      </p:cBhvr>
                                      <p:tavLst>
                                        <p:tav tm="0">
                                          <p:val>
                                            <p:strVal val="#ppt_x"/>
                                          </p:val>
                                        </p:tav>
                                        <p:tav tm="100000">
                                          <p:val>
                                            <p:strVal val="#ppt_x"/>
                                          </p:val>
                                        </p:tav>
                                      </p:tavLst>
                                    </p:anim>
                                    <p:anim calcmode="lin" valueType="num">
                                      <p:cBhvr additive="base">
                                        <p:cTn id="112" dur="500" fill="hold"/>
                                        <p:tgtEl>
                                          <p:spTgt spid="10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p:nvPr>
        </p:nvSpPr>
        <p:spPr>
          <a:xfrm>
            <a:off x="755640" y="1268280"/>
            <a:ext cx="777240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 dobitka i gubitka je dinamički, zbirni računovodstveni izvještaj prihoda i rashoda društva u izvještajnom razdoblju koji korisnicima osigurava informaciju o uspjehu, odnosno rezultatu poslovanja za određeno obračunsko razdobl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eza računa dobitka i gubitka i bilance (promjene na imovini, dugovima i kapitalu između dva datuma bilanci rezultiraju nastankom prihoda i rashoda u računu dobiti i gubitk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ktiva = dugovi + vlasnički kapital + prihodi - rashod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ihodi – povećanje imovine, smanjenje obavez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Rashodi – smanjenje imovine, povećanje obavez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52706C0-9CB8-4B90-B16D-5DDCFC8D3BC5}" type="slidenum">
              <a:t>248</a:t>
            </a:fld>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692000" y="304560"/>
            <a:ext cx="707076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djela prihoda i rashoda</a:t>
            </a:r>
            <a:endParaRPr b="0" lang="en-US" sz="3600" spc="-1" strike="noStrike">
              <a:solidFill>
                <a:srgbClr val="000000"/>
              </a:solidFill>
              <a:latin typeface="Arial"/>
            </a:endParaRPr>
          </a:p>
        </p:txBody>
      </p:sp>
      <p:sp>
        <p:nvSpPr>
          <p:cNvPr id="1011" name="PlaceHolder 2"/>
          <p:cNvSpPr>
            <a:spLocks noGrp="1"/>
          </p:cNvSpPr>
          <p:nvPr>
            <p:ph/>
          </p:nvPr>
        </p:nvSpPr>
        <p:spPr>
          <a:xfrm>
            <a:off x="539280" y="1601280"/>
            <a:ext cx="860436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dovni (prihodi od prodaje proizvoda, pružanja usluga i financijski priho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anredni ili prihodi koji ne nastaju od redovne djelatnosti (inventurni viškovi, naplata potraživanja iz proteklih godina i s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sho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dovni (troškovi sadržani u prodanim proizvodima i uslugama, troškovi prodaje i administrativni troškovi, financijski rasho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anredni rashodi (rashodi pri obavljanju neredovitih aktivnosti, inventurni manjkovi, elementarne nepogode, ratna djelovanj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sučeljavanja prihoda i rashod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shodi – dospjeli troško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37F90E-0D8D-49A0-A3B9-02687B781B02}" type="slidenum">
              <a:t>249</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7044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0" y="189000"/>
            <a:ext cx="9144000" cy="6919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mjer organizacijskog ustroja računovodstvene službe</a:t>
            </a:r>
            <a:endParaRPr b="0" lang="en-US" sz="3200" spc="-1" strike="noStrike">
              <a:solidFill>
                <a:srgbClr val="000000"/>
              </a:solidFill>
              <a:latin typeface="Arial"/>
            </a:endParaRPr>
          </a:p>
        </p:txBody>
      </p:sp>
      <p:grpSp>
        <p:nvGrpSpPr>
          <p:cNvPr id="161" name=""/>
          <p:cNvGrpSpPr/>
          <p:nvPr/>
        </p:nvGrpSpPr>
        <p:grpSpPr>
          <a:xfrm>
            <a:off x="165240" y="1154160"/>
            <a:ext cx="8843400" cy="5255640"/>
            <a:chOff x="165240" y="1154160"/>
            <a:chExt cx="8843400" cy="5255640"/>
          </a:xfrm>
        </p:grpSpPr>
        <p:sp>
          <p:nvSpPr>
            <p:cNvPr id="162" name=""/>
            <p:cNvSpPr/>
            <p:nvPr/>
          </p:nvSpPr>
          <p:spPr>
            <a:xfrm>
              <a:off x="3477960" y="1154160"/>
              <a:ext cx="2160360" cy="793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ŠE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RAČUNOVODSTVA</a:t>
              </a:r>
              <a:endParaRPr b="0" lang="en-US" sz="1600" spc="-1" strike="noStrike">
                <a:solidFill>
                  <a:srgbClr val="000000"/>
                </a:solidFill>
                <a:latin typeface="Arial"/>
              </a:endParaRPr>
            </a:p>
          </p:txBody>
        </p:sp>
        <p:sp>
          <p:nvSpPr>
            <p:cNvPr id="163" name=""/>
            <p:cNvSpPr/>
            <p:nvPr/>
          </p:nvSpPr>
          <p:spPr>
            <a:xfrm>
              <a:off x="3477960" y="2306520"/>
              <a:ext cx="2160360" cy="86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Pomoćnik šef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za planiranj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i kontrolu</a:t>
              </a:r>
              <a:endParaRPr b="0" lang="en-US" sz="1600" spc="-1" strike="noStrike">
                <a:solidFill>
                  <a:srgbClr val="000000"/>
                </a:solidFill>
                <a:latin typeface="Arial"/>
              </a:endParaRPr>
            </a:p>
          </p:txBody>
        </p:sp>
        <p:sp>
          <p:nvSpPr>
            <p:cNvPr id="164" name=""/>
            <p:cNvSpPr/>
            <p:nvPr/>
          </p:nvSpPr>
          <p:spPr>
            <a:xfrm>
              <a:off x="165240" y="3530520"/>
              <a:ext cx="169200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budget i kontrolu</a:t>
              </a:r>
              <a:endParaRPr b="0" lang="en-US" sz="1500" spc="-1" strike="noStrike">
                <a:solidFill>
                  <a:srgbClr val="000000"/>
                </a:solidFill>
                <a:latin typeface="Arial"/>
              </a:endParaRPr>
            </a:p>
          </p:txBody>
        </p:sp>
        <p:sp>
          <p:nvSpPr>
            <p:cNvPr id="165" name=""/>
            <p:cNvSpPr/>
            <p:nvPr/>
          </p:nvSpPr>
          <p:spPr>
            <a:xfrm>
              <a:off x="2325600" y="3530520"/>
              <a:ext cx="169200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osebna izviješća</a:t>
              </a:r>
              <a:endParaRPr b="0" lang="en-US" sz="1500" spc="-1" strike="noStrike">
                <a:solidFill>
                  <a:srgbClr val="000000"/>
                </a:solidFill>
                <a:latin typeface="Arial"/>
              </a:endParaRPr>
            </a:p>
          </p:txBody>
        </p:sp>
        <p:sp>
          <p:nvSpPr>
            <p:cNvPr id="166" name=""/>
            <p:cNvSpPr/>
            <p:nvPr/>
          </p:nvSpPr>
          <p:spPr>
            <a:xfrm>
              <a:off x="7137360" y="3530520"/>
              <a:ext cx="187128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informatiku</a:t>
              </a:r>
              <a:endParaRPr b="0" lang="en-US" sz="1500" spc="-1" strike="noStrike">
                <a:solidFill>
                  <a:srgbClr val="000000"/>
                </a:solidFill>
                <a:latin typeface="Arial"/>
              </a:endParaRPr>
            </a:p>
          </p:txBody>
        </p:sp>
        <p:sp>
          <p:nvSpPr>
            <p:cNvPr id="167" name=""/>
            <p:cNvSpPr/>
            <p:nvPr/>
          </p:nvSpPr>
          <p:spPr>
            <a:xfrm>
              <a:off x="4976640" y="3530520"/>
              <a:ext cx="187128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računovodstveni</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sustav</a:t>
              </a:r>
              <a:endParaRPr b="0" lang="en-US" sz="1500" spc="-1" strike="noStrike">
                <a:solidFill>
                  <a:srgbClr val="000000"/>
                </a:solidFill>
                <a:latin typeface="Arial"/>
              </a:endParaRPr>
            </a:p>
          </p:txBody>
        </p:sp>
        <p:sp>
          <p:nvSpPr>
            <p:cNvPr id="168" name=""/>
            <p:cNvSpPr/>
            <p:nvPr/>
          </p:nvSpPr>
          <p:spPr>
            <a:xfrm>
              <a:off x="7365960" y="4609800"/>
              <a:ext cx="136656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bjekte i</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premu</a:t>
              </a:r>
              <a:endParaRPr b="0" lang="en-US" sz="1500" spc="-1" strike="noStrike">
                <a:solidFill>
                  <a:srgbClr val="000000"/>
                </a:solidFill>
                <a:latin typeface="Arial"/>
              </a:endParaRPr>
            </a:p>
          </p:txBody>
        </p:sp>
        <p:sp>
          <p:nvSpPr>
            <p:cNvPr id="169" name=""/>
            <p:cNvSpPr/>
            <p:nvPr/>
          </p:nvSpPr>
          <p:spPr>
            <a:xfrm>
              <a:off x="4052880" y="4609800"/>
              <a:ext cx="136800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uredsko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oslovanja</a:t>
              </a:r>
              <a:endParaRPr b="0" lang="en-US" sz="1500" spc="-1" strike="noStrike">
                <a:solidFill>
                  <a:srgbClr val="000000"/>
                </a:solidFill>
                <a:latin typeface="Arial"/>
              </a:endParaRPr>
            </a:p>
          </p:txBody>
        </p:sp>
        <p:sp>
          <p:nvSpPr>
            <p:cNvPr id="170" name=""/>
            <p:cNvSpPr/>
            <p:nvPr/>
          </p:nvSpPr>
          <p:spPr>
            <a:xfrm>
              <a:off x="5709960" y="4609800"/>
              <a:ext cx="136836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glavn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knjige</a:t>
              </a:r>
              <a:endParaRPr b="0" lang="en-US" sz="1500" spc="-1" strike="noStrike">
                <a:solidFill>
                  <a:srgbClr val="000000"/>
                </a:solidFill>
                <a:latin typeface="Arial"/>
              </a:endParaRPr>
            </a:p>
          </p:txBody>
        </p:sp>
        <p:sp>
          <p:nvSpPr>
            <p:cNvPr id="171" name=""/>
            <p:cNvSpPr/>
            <p:nvPr/>
          </p:nvSpPr>
          <p:spPr>
            <a:xfrm>
              <a:off x="2396880" y="4609800"/>
              <a:ext cx="136836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laća</a:t>
              </a:r>
              <a:endParaRPr b="0" lang="en-US" sz="1500" spc="-1" strike="noStrike">
                <a:solidFill>
                  <a:srgbClr val="000000"/>
                </a:solidFill>
                <a:latin typeface="Arial"/>
              </a:endParaRPr>
            </a:p>
          </p:txBody>
        </p:sp>
        <p:sp>
          <p:nvSpPr>
            <p:cNvPr id="172" name=""/>
            <p:cNvSpPr/>
            <p:nvPr/>
          </p:nvSpPr>
          <p:spPr>
            <a:xfrm>
              <a:off x="741240" y="4609800"/>
              <a:ext cx="140292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otaživanj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 </a:t>
              </a:r>
              <a:r>
                <a:rPr b="1" lang="hr-HR" sz="1500" spc="-1" strike="noStrike">
                  <a:solidFill>
                    <a:srgbClr val="000000"/>
                  </a:solidFill>
                  <a:latin typeface="Arial"/>
                </a:rPr>
                <a:t>i obveza</a:t>
              </a:r>
              <a:endParaRPr b="0" lang="en-US" sz="1500" spc="-1" strike="noStrike">
                <a:solidFill>
                  <a:srgbClr val="000000"/>
                </a:solidFill>
                <a:latin typeface="Arial"/>
              </a:endParaRPr>
            </a:p>
          </p:txBody>
        </p:sp>
        <p:sp>
          <p:nvSpPr>
            <p:cNvPr id="173" name=""/>
            <p:cNvSpPr/>
            <p:nvPr/>
          </p:nvSpPr>
          <p:spPr>
            <a:xfrm>
              <a:off x="165240" y="5689440"/>
              <a:ext cx="129672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Supreviz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račun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otraživanja</a:t>
              </a:r>
              <a:endParaRPr b="0" lang="en-US" sz="1500" spc="-1" strike="noStrike">
                <a:solidFill>
                  <a:srgbClr val="000000"/>
                </a:solidFill>
                <a:latin typeface="Arial"/>
              </a:endParaRPr>
            </a:p>
          </p:txBody>
        </p:sp>
        <p:sp>
          <p:nvSpPr>
            <p:cNvPr id="174" name=""/>
            <p:cNvSpPr/>
            <p:nvPr/>
          </p:nvSpPr>
          <p:spPr>
            <a:xfrm>
              <a:off x="1749240" y="5689440"/>
              <a:ext cx="129672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Supreviz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račun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bveza</a:t>
              </a:r>
              <a:endParaRPr b="0" lang="en-US" sz="1500" spc="-1" strike="noStrike">
                <a:solidFill>
                  <a:srgbClr val="000000"/>
                </a:solidFill>
                <a:latin typeface="Arial"/>
              </a:endParaRPr>
            </a:p>
          </p:txBody>
        </p:sp>
        <p:sp>
          <p:nvSpPr>
            <p:cNvPr id="175" name=""/>
            <p:cNvSpPr/>
            <p:nvPr/>
          </p:nvSpPr>
          <p:spPr>
            <a:xfrm>
              <a:off x="1030320" y="2306520"/>
              <a:ext cx="2160000" cy="86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Pomoćnik šef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za poreze</a:t>
              </a:r>
              <a:endParaRPr b="0" lang="en-US" sz="1600" spc="-1" strike="noStrike">
                <a:solidFill>
                  <a:srgbClr val="000000"/>
                </a:solidFill>
                <a:latin typeface="Arial"/>
              </a:endParaRPr>
            </a:p>
          </p:txBody>
        </p:sp>
        <p:sp>
          <p:nvSpPr>
            <p:cNvPr id="176" name=""/>
            <p:cNvSpPr/>
            <p:nvPr/>
          </p:nvSpPr>
          <p:spPr>
            <a:xfrm>
              <a:off x="5927760" y="2306520"/>
              <a:ext cx="2160000" cy="86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Pomoćnik šef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za računovodstven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ustav i kompjutere</a:t>
              </a:r>
              <a:endParaRPr b="0" lang="en-US" sz="1600" spc="-1" strike="noStrike">
                <a:solidFill>
                  <a:srgbClr val="000000"/>
                </a:solidFill>
                <a:latin typeface="Arial"/>
              </a:endParaRPr>
            </a:p>
          </p:txBody>
        </p:sp>
        <p:sp>
          <p:nvSpPr>
            <p:cNvPr id="177" name=""/>
            <p:cNvSpPr/>
            <p:nvPr/>
          </p:nvSpPr>
          <p:spPr>
            <a:xfrm>
              <a:off x="2111400" y="2089080"/>
              <a:ext cx="48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028520" y="3385800"/>
              <a:ext cx="21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461960" y="4393800"/>
              <a:ext cx="65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12520" y="5546520"/>
              <a:ext cx="158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559040" y="1946160"/>
              <a:ext cx="0" cy="36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111400" y="2089080"/>
              <a:ext cx="0" cy="21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07040" y="2089080"/>
              <a:ext cx="0" cy="21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028520" y="3385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152520" y="3385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913360" y="3385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74080" y="3385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913360" y="3385800"/>
              <a:ext cx="216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005600" y="317016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109600" y="317016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46196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01360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11760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7360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8640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25960" y="4249440"/>
              <a:ext cx="0" cy="14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461960" y="53305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12520" y="554652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396880" y="554652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8CA4EDE-4F8A-4C00-B008-A84BA0B534DC}" type="slidenum">
              <a:t>25</a:t>
            </a:fld>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763280" y="333000"/>
            <a:ext cx="7000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rste računa dobiti  i gubitka</a:t>
            </a:r>
            <a:endParaRPr b="0" lang="en-US" sz="3600" spc="-1" strike="noStrike">
              <a:solidFill>
                <a:srgbClr val="000000"/>
              </a:solidFill>
              <a:latin typeface="Arial"/>
            </a:endParaRPr>
          </a:p>
        </p:txBody>
      </p:sp>
      <p:sp>
        <p:nvSpPr>
          <p:cNvPr id="1013" name="PlaceHolder 2"/>
          <p:cNvSpPr>
            <a:spLocks noGrp="1"/>
          </p:cNvSpPr>
          <p:nvPr>
            <p:ph/>
          </p:nvPr>
        </p:nvSpPr>
        <p:spPr>
          <a:xfrm>
            <a:off x="755280" y="1628640"/>
            <a:ext cx="7596360" cy="522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ma obliku: dvostrani ili jednostrani raču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ma vremenu sastavljanja: proračunski (planski) i obračunski (stvarni, naknad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ma cilju i razlogu sastavljanja: zaključni, probni, skraćeni, primopredajni, sanacijski, stečajni, likvidacijski, fuzijski, konsolidirani, zbroj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rezni račun dobiti i gubitka (računovodstveni rezultat poslovanja korigira se stavkama uvećanja i umanjenja u skladu s poreznim zakonodavstvom da bi se  utvrdila porezna osnovica, odnosno porezni rezultat poslovan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07F664-798C-4A17-86AF-EE65490B72C1}" type="slidenum">
              <a:t>250</a:t>
            </a:fld>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187280" y="404280"/>
            <a:ext cx="707256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Metode sastavljanja računa dobiti i gubitka</a:t>
            </a:r>
            <a:endParaRPr b="0" lang="en-US" sz="3600" spc="-1" strike="noStrike">
              <a:solidFill>
                <a:srgbClr val="000000"/>
              </a:solidFill>
              <a:latin typeface="Arial"/>
            </a:endParaRPr>
          </a:p>
        </p:txBody>
      </p:sp>
      <p:sp>
        <p:nvSpPr>
          <p:cNvPr id="1015" name="PlaceHolder 2"/>
          <p:cNvSpPr>
            <a:spLocks noGrp="1"/>
          </p:cNvSpPr>
          <p:nvPr>
            <p:ph/>
          </p:nvPr>
        </p:nvSpPr>
        <p:spPr>
          <a:xfrm>
            <a:off x="684360" y="1628640"/>
            <a:ext cx="7772400" cy="5229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ještaj o dobiti po metodi razvrstavanja rashoda po prirodnim vrstama (metoda prirodnih vrsta rashod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mjenom zaliha proizvodnje i gotovih proizvoda korigiraju se troškovi poslovanja nastali u obračunskom razdoblju.</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mjenom zaliha proizvodnje i gotovih proizvoda korigiraju se poslovni prihodi.</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ještaj o dobiti po metodi razvrstavanja rashoda prema funkciji (funkcionalna metoda ili metoda prodanih učinak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49A3B0-225C-445C-9969-75412DE3E4EE}" type="slidenum">
              <a:t>251</a:t>
            </a:fld>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900000" y="189000"/>
            <a:ext cx="82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o prirodnim vrstama uz korekciju troškova za promjenu zaliha</a:t>
            </a:r>
            <a:endParaRPr b="0" lang="en-US" sz="3200" spc="-1" strike="noStrike">
              <a:solidFill>
                <a:srgbClr val="000000"/>
              </a:solidFill>
              <a:latin typeface="Arial"/>
            </a:endParaRPr>
          </a:p>
        </p:txBody>
      </p:sp>
      <p:sp>
        <p:nvSpPr>
          <p:cNvPr id="1017" name="PlaceHolder 2"/>
          <p:cNvSpPr>
            <a:spLocks noGrp="1"/>
          </p:cNvSpPr>
          <p:nvPr>
            <p:ph/>
          </p:nvPr>
        </p:nvSpPr>
        <p:spPr>
          <a:xfrm>
            <a:off x="826920" y="1889280"/>
            <a:ext cx="7212240" cy="496872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poslovni 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o poslovni prihodi (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po prirodnim vrstam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terijalni, troškovi usluga, bruto plaće, amortizacija, vrijednosno usklađivanje kratkoročne imovine, rezerviranja troškova, ostali troškov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većanje/smanjenje zalih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o poslovni rashodi (B)</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900A01-4949-4DE1-8634-4FD89F9DF695}" type="slidenum">
              <a:t>252</a:t>
            </a:fld>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o prirodnim vrstama uz korekciju troškova za promjenu zaliha</a:t>
            </a:r>
            <a:endParaRPr b="0" lang="en-US" sz="3200" spc="-1" strike="noStrike">
              <a:solidFill>
                <a:srgbClr val="000000"/>
              </a:solidFill>
              <a:latin typeface="Arial"/>
            </a:endParaRPr>
          </a:p>
        </p:txBody>
      </p:sp>
      <p:sp>
        <p:nvSpPr>
          <p:cNvPr id="101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Dobit/gubitak od poslovnih aktivnosti (A-B)</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hodi od financiranja</a:t>
            </a:r>
            <a:endParaRPr b="0" lang="en-US" sz="2000" spc="-1" strike="noStrike">
              <a:solidFill>
                <a:srgbClr val="000000"/>
              </a:solidFill>
              <a:latin typeface="Arial"/>
            </a:endParaRPr>
          </a:p>
          <a:p>
            <a:pPr marL="343080" indent="-343080">
              <a:lnSpc>
                <a:spcPct val="6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ashodi od financiranja</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gubitak od redovnih aktivnosti prije poreza</a:t>
            </a:r>
            <a:endParaRPr b="0" lang="en-US" sz="2000" spc="-1" strike="noStrike">
              <a:solidFill>
                <a:srgbClr val="000000"/>
              </a:solidFill>
              <a:latin typeface="Arial"/>
            </a:endParaRPr>
          </a:p>
          <a:p>
            <a:pPr marL="343080" indent="-343080">
              <a:lnSpc>
                <a:spcPct val="6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rez na dobit/gubitak od redovnog poslovanja</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obit/gubitak poslije poreza od redovnih aktivnosti (C)</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anredni prihod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anredni rashod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gubitak od izvanrednih aktivnost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rez na dobit od izvanrednih aktivnost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obit/gubitak poslije poreza od izvanrednih aktivnosti (D)</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Dobit/gubitak poslije poreza obračunskog razdoblja  (C+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7C52A47-1DA0-4425-B0C5-73D4D9D73F39}" type="slidenum">
              <a:t>253</a:t>
            </a:fld>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4000" y="189000"/>
            <a:ext cx="8080200" cy="141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o prirodnim vrstama uz korekciju prihoda za promjenu zaliha</a:t>
            </a:r>
            <a:endParaRPr b="0" lang="en-US" sz="3200" spc="-1" strike="noStrike">
              <a:solidFill>
                <a:srgbClr val="000000"/>
              </a:solidFill>
              <a:latin typeface="Arial"/>
            </a:endParaRPr>
          </a:p>
        </p:txBody>
      </p:sp>
      <p:sp>
        <p:nvSpPr>
          <p:cNvPr id="1021" name="PlaceHolder 2"/>
          <p:cNvSpPr>
            <a:spLocks noGrp="1"/>
          </p:cNvSpPr>
          <p:nvPr>
            <p:ph/>
          </p:nvPr>
        </p:nvSpPr>
        <p:spPr>
          <a:xfrm>
            <a:off x="1258560" y="2133360"/>
            <a:ext cx="6769080" cy="515772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Ostali poslovni 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povećanje/smanjenje zalih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Ukupno poslovni prihodi (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po prirodnim vrstam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terijalni, troškovi usluga, bruto plaće, amortizacija, vrijednosno usklađivanje kratkoročne imovine, rezerviranja troškova, ostali troškov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o poslovni rashodi (B)</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973D0D-62E3-4362-8618-15D8F105494E}" type="slidenum">
              <a:t>254</a:t>
            </a:fld>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o prirodnim vrstama uz korekciju prihoda za promjenu zaliha</a:t>
            </a:r>
            <a:endParaRPr b="0" lang="en-US" sz="3200" spc="-1" strike="noStrike">
              <a:solidFill>
                <a:srgbClr val="000000"/>
              </a:solidFill>
              <a:latin typeface="Arial"/>
            </a:endParaRPr>
          </a:p>
        </p:txBody>
      </p:sp>
      <p:sp>
        <p:nvSpPr>
          <p:cNvPr id="1023" name="PlaceHolder 2"/>
          <p:cNvSpPr>
            <a:spLocks noGrp="1"/>
          </p:cNvSpPr>
          <p:nvPr>
            <p:ph/>
          </p:nvPr>
        </p:nvSpPr>
        <p:spPr>
          <a:xfrm>
            <a:off x="755640" y="2013120"/>
            <a:ext cx="6858000" cy="4844880"/>
          </a:xfrm>
          <a:prstGeom prst="rect">
            <a:avLst/>
          </a:prstGeom>
          <a:noFill/>
          <a:ln w="0">
            <a:noFill/>
          </a:ln>
        </p:spPr>
        <p:txBody>
          <a:bodyPr lIns="90000" rIns="90000" tIns="46800" bIns="46800" anchor="t">
            <a:normAutofit/>
          </a:bodyPr>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Dobit/gubitak od poslovnih aktivnosti (A-B)</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hodi od financiranja</a:t>
            </a:r>
            <a:endParaRPr b="0" lang="en-US" sz="2000" spc="-1" strike="noStrike">
              <a:solidFill>
                <a:srgbClr val="000000"/>
              </a:solidFill>
              <a:latin typeface="Arial"/>
            </a:endParaRPr>
          </a:p>
          <a:p>
            <a:pPr marL="343080" indent="-343080">
              <a:lnSpc>
                <a:spcPct val="6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ashodi od financiranja</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gubitak od redovnih aktivnosti prije poreza</a:t>
            </a:r>
            <a:endParaRPr b="0" lang="en-US" sz="2000" spc="-1" strike="noStrike">
              <a:solidFill>
                <a:srgbClr val="000000"/>
              </a:solidFill>
              <a:latin typeface="Arial"/>
            </a:endParaRPr>
          </a:p>
          <a:p>
            <a:pPr marL="343080" indent="-343080">
              <a:lnSpc>
                <a:spcPct val="6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rez na dobit/gubitak od redovnog poslovanja</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obit/gubitak poslije poreza od redovnih aktivnosti (C)</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anredni prihod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Izvanredni rashod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gubitak od izvanrednih aktivnost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Porez na dobit od izvanrednih aktivnost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obit/gubitak poslije poreza od izvanrednih aktivnosti (D)</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Dobit/gubitak poslije poreza obračunskog razdoblja (C+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0EA69B9-778F-41D1-BBA9-DE8E3F39FCD8}" type="slidenum">
              <a:t>255</a:t>
            </a:fld>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333360"/>
            <a:ext cx="84232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rema funkciji </a:t>
            </a:r>
            <a:br>
              <a:rPr sz="3200"/>
            </a:br>
            <a:r>
              <a:rPr b="0" lang="hr-HR" sz="3200" spc="-1" strike="noStrike">
                <a:solidFill>
                  <a:srgbClr val="000000"/>
                </a:solidFill>
                <a:latin typeface="Arial"/>
              </a:rPr>
              <a:t>(metoda prodanih učinaka)</a:t>
            </a:r>
            <a:endParaRPr b="0" lang="en-US" sz="3200" spc="-1" strike="noStrike">
              <a:solidFill>
                <a:srgbClr val="000000"/>
              </a:solidFill>
              <a:latin typeface="Arial"/>
            </a:endParaRPr>
          </a:p>
        </p:txBody>
      </p:sp>
      <p:sp>
        <p:nvSpPr>
          <p:cNvPr id="1025" name="PlaceHolder 2"/>
          <p:cNvSpPr>
            <a:spLocks noGrp="1"/>
          </p:cNvSpPr>
          <p:nvPr>
            <p:ph/>
          </p:nvPr>
        </p:nvSpPr>
        <p:spPr>
          <a:xfrm>
            <a:off x="611280" y="2133720"/>
            <a:ext cx="7740720" cy="446544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od prodaje</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Troškovi prodanih proizvoda (trošak početnih zaliha + troškovi proizvodnje–trošak konačnih zalih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Bruto dobit/gubitak (bruto marža) (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razdoblj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prodaje, troškovi uprave)</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o troškovi razdoblja (B)</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54B151-A9E1-4EBE-BB67-2D43E7F2CCE8}" type="slidenum">
              <a:t>256</a:t>
            </a:fld>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rema funkciji </a:t>
            </a:r>
            <a:br>
              <a:rPr sz="3200"/>
            </a:br>
            <a:r>
              <a:rPr b="0" lang="hr-HR" sz="3200" spc="-1" strike="noStrike">
                <a:solidFill>
                  <a:srgbClr val="000000"/>
                </a:solidFill>
                <a:latin typeface="Arial"/>
              </a:rPr>
              <a:t>(metoda prodanih učinaka)</a:t>
            </a:r>
            <a:endParaRPr b="0" lang="en-US" sz="3200" spc="-1" strike="noStrike">
              <a:solidFill>
                <a:srgbClr val="000000"/>
              </a:solidFill>
              <a:latin typeface="Arial"/>
            </a:endParaRPr>
          </a:p>
        </p:txBody>
      </p:sp>
      <p:sp>
        <p:nvSpPr>
          <p:cNvPr id="1027" name="PlaceHolder 2"/>
          <p:cNvSpPr>
            <a:spLocks noGrp="1"/>
          </p:cNvSpPr>
          <p:nvPr>
            <p:ph/>
          </p:nvPr>
        </p:nvSpPr>
        <p:spPr>
          <a:xfrm>
            <a:off x="395280" y="2133720"/>
            <a:ext cx="8229600" cy="452592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Dobit/gubitak od poslovnih aktivnosti (A-B)</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nancijski prihodi</a:t>
            </a:r>
            <a:endParaRPr b="0" lang="en-US" sz="2400" spc="-1" strike="noStrike">
              <a:solidFill>
                <a:srgbClr val="000000"/>
              </a:solidFill>
              <a:latin typeface="Arial"/>
            </a:endParaRPr>
          </a:p>
          <a:p>
            <a:pPr marL="343080" indent="-34308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nancijski ras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obit/gubitak od redovnih aktivnosti prije poreza</a:t>
            </a:r>
            <a:endParaRPr b="0" lang="en-US" sz="2400" spc="-1" strike="noStrike">
              <a:solidFill>
                <a:srgbClr val="000000"/>
              </a:solidFill>
              <a:latin typeface="Arial"/>
            </a:endParaRPr>
          </a:p>
          <a:p>
            <a:pPr marL="343080" indent="-34308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rez na dobit/gubitak od redovnog poslovanj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it/gubitak poslije poreza od redovnih aktivnosti (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3487C1-31F3-4E99-B7B2-B931F1C0628A}" type="slidenum">
              <a:t>257</a:t>
            </a:fld>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rema funkciji </a:t>
            </a:r>
            <a:br>
              <a:rPr sz="3200"/>
            </a:br>
            <a:r>
              <a:rPr b="0" lang="hr-HR" sz="3200" spc="-1" strike="noStrike">
                <a:solidFill>
                  <a:srgbClr val="000000"/>
                </a:solidFill>
                <a:latin typeface="Arial"/>
              </a:rPr>
              <a:t>(metoda prodanih učinaka)</a:t>
            </a:r>
            <a:endParaRPr b="0" lang="en-US" sz="3200" spc="-1" strike="noStrike">
              <a:solidFill>
                <a:srgbClr val="000000"/>
              </a:solidFill>
              <a:latin typeface="Arial"/>
            </a:endParaRPr>
          </a:p>
        </p:txBody>
      </p:sp>
      <p:sp>
        <p:nvSpPr>
          <p:cNvPr id="1029" name="PlaceHolder 2"/>
          <p:cNvSpPr>
            <a:spLocks noGrp="1"/>
          </p:cNvSpPr>
          <p:nvPr>
            <p:ph/>
          </p:nvPr>
        </p:nvSpPr>
        <p:spPr>
          <a:xfrm>
            <a:off x="250920" y="2332080"/>
            <a:ext cx="8229600" cy="452592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anredni 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Izvanredni ras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obit/gubitak od izvanrednih aktivnost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Porez na dobit od izvanrednih aktivnost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it/gubitak poslije poreza od izvanrednih aktivnosti (D)</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Dobit/gubitak poslije poreza obračunskog razdoblja (C+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2B108D-D67F-4458-A259-8D204869CD37}" type="slidenum">
              <a:t>258</a:t>
            </a:fld>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1403280" y="-360"/>
            <a:ext cx="774072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Zadatak</a:t>
            </a:r>
            <a:endParaRPr b="0" lang="en-US" sz="4000" spc="-1" strike="noStrike">
              <a:solidFill>
                <a:srgbClr val="000000"/>
              </a:solidFill>
              <a:latin typeface="Arial"/>
            </a:endParaRPr>
          </a:p>
        </p:txBody>
      </p:sp>
      <p:sp>
        <p:nvSpPr>
          <p:cNvPr id="1031" name="PlaceHolder 2"/>
          <p:cNvSpPr>
            <a:spLocks noGrp="1"/>
          </p:cNvSpPr>
          <p:nvPr>
            <p:ph/>
          </p:nvPr>
        </p:nvSpPr>
        <p:spPr>
          <a:xfrm>
            <a:off x="468360" y="1341360"/>
            <a:ext cx="7772400" cy="518472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ite izvještaj o dobiti koristeći sve tri metode. Tijekom 200x trgovačko društvo je ostvarilo:</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od prodaje</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100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od kamata</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3 000 kn</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su bili sljedeći:</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terijalni troškovi</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5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direktnih bruto plaća                 10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amortizacije</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1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materijalni troškovi</a:t>
            </a:r>
            <a:r>
              <a:rPr b="0" lang="hr-HR" sz="2400" spc="-1" strike="noStrike">
                <a:solidFill>
                  <a:srgbClr val="000000"/>
                </a:solidFill>
                <a:latin typeface="Arial"/>
              </a:rPr>
              <a:t>	</a:t>
            </a:r>
            <a:r>
              <a:rPr b="0" lang="hr-HR" sz="2400" spc="-1" strike="noStrike">
                <a:solidFill>
                  <a:srgbClr val="000000"/>
                </a:solidFill>
                <a:latin typeface="Arial"/>
              </a:rPr>
              <a:t>               2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troškovi poslovanja                       20 000 kn</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ak prodaje 6 000 + trošak uprave 14 000)</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nancijski rashodi</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2 000 kn</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četne zalihe proizvodnje i gotovih proizvoda iznosile su 12 000 kn, a konačne 16 000 k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948B46E-5F17-486B-8775-720A58ACCD1C}" type="slidenum">
              <a:t>259</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djela računovodstva sa stajališta poslovanja</a:t>
            </a:r>
            <a:endParaRPr b="0" lang="en-US" sz="2800" spc="-1" strike="noStrike">
              <a:solidFill>
                <a:srgbClr val="000000"/>
              </a:solidFill>
              <a:latin typeface="Arial"/>
            </a:endParaRPr>
          </a:p>
        </p:txBody>
      </p:sp>
      <p:sp>
        <p:nvSpPr>
          <p:cNvPr id="201" name="PlaceHolder 2"/>
          <p:cNvSpPr>
            <a:spLocks noGrp="1"/>
          </p:cNvSpPr>
          <p:nvPr>
            <p:ph/>
          </p:nvPr>
        </p:nvSpPr>
        <p:spPr>
          <a:xfrm>
            <a:off x="1170000" y="1295280"/>
            <a:ext cx="7772400" cy="476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ma tome obuhvaća li svu imovinu i procese poduzeća ili samo jedan njihov dio, ili pak pojedine dijelove poduzeća sa stajališta poslovanja, razlikujem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financijsko računovodstv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o troškova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upravljačko računovodstv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kviru svakog od ovih dijelova računovodstva obavljaju se posve određeni zadaci u obujmu i na način kojim se pokriva ukupno poslovanje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6079FC-44C9-44D9-8751-9C0745A7EF77}" type="slidenum">
              <a:t>26</a:t>
            </a:fld>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971280" y="188640"/>
            <a:ext cx="72882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čun dobiti i gubitka prema čl. 18 ZOR-a</a:t>
            </a:r>
            <a:endParaRPr b="0" lang="en-US" sz="3600" spc="-1" strike="noStrike">
              <a:solidFill>
                <a:srgbClr val="000000"/>
              </a:solidFill>
              <a:latin typeface="Arial"/>
            </a:endParaRPr>
          </a:p>
        </p:txBody>
      </p:sp>
      <p:sp>
        <p:nvSpPr>
          <p:cNvPr id="1033" name="PlaceHolder 2"/>
          <p:cNvSpPr>
            <a:spLocks noGrp="1"/>
          </p:cNvSpPr>
          <p:nvPr>
            <p:ph/>
          </p:nvPr>
        </p:nvSpPr>
        <p:spPr>
          <a:xfrm>
            <a:off x="539640" y="1916280"/>
            <a:ext cx="7128000" cy="42480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slovni prihodi</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od prodaj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na temelju upotrebe vlastitih proizvoda, roba i uslug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poslovni prihodi</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slovni rashodi</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D1B13E-4141-433A-B13D-29B2DD462340}" type="slidenum">
              <a:t>260</a:t>
            </a:fld>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čun dobiti i gubitka prema čl. 18 ZOR-a</a:t>
            </a:r>
            <a:endParaRPr b="0" lang="en-US" sz="3600" spc="-1" strike="noStrike">
              <a:solidFill>
                <a:srgbClr val="000000"/>
              </a:solidFill>
              <a:latin typeface="Arial"/>
            </a:endParaRPr>
          </a:p>
        </p:txBody>
      </p:sp>
      <p:sp>
        <p:nvSpPr>
          <p:cNvPr id="1035" name="PlaceHolder 2"/>
          <p:cNvSpPr>
            <a:spLocks noGrp="1"/>
          </p:cNvSpPr>
          <p:nvPr>
            <p:ph/>
          </p:nvPr>
        </p:nvSpPr>
        <p:spPr>
          <a:xfrm>
            <a:off x="684000" y="1557360"/>
            <a:ext cx="7848360" cy="51055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4. Promjena vrijednosti zaliha nedovršene proizvodnje i gotovih proizvoda</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5. Materijalni troškovi</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i sirovina i materijala</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i prodane rob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stali vanjski troškovi (troškovi usluga)</a:t>
            </a: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6. Troškovi osoblja</a:t>
            </a: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000" spc="-1" strike="noStrike">
                <a:solidFill>
                  <a:srgbClr val="000000"/>
                </a:solidFill>
                <a:latin typeface="Arial"/>
              </a:rPr>
              <a:t>a)</a:t>
            </a:r>
            <a:r>
              <a:rPr b="0" lang="hr-HR" sz="2000" spc="-1" strike="noStrike">
                <a:solidFill>
                  <a:srgbClr val="000000"/>
                </a:solidFill>
                <a:latin typeface="Arial"/>
              </a:rPr>
              <a:t>	</a:t>
            </a:r>
            <a:r>
              <a:rPr b="0" lang="hr-HR" sz="2000" spc="-1" strike="noStrike">
                <a:solidFill>
                  <a:srgbClr val="000000"/>
                </a:solidFill>
                <a:latin typeface="Arial"/>
              </a:rPr>
              <a:t> Nadnice i plać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b)</a:t>
            </a:r>
            <a:r>
              <a:rPr b="0" lang="hr-HR" sz="2000" spc="-1" strike="noStrike">
                <a:solidFill>
                  <a:srgbClr val="000000"/>
                </a:solidFill>
                <a:latin typeface="Arial"/>
              </a:rPr>
              <a:t>	</a:t>
            </a:r>
            <a:r>
              <a:rPr b="0" lang="hr-HR" sz="2000" spc="-1" strike="noStrike">
                <a:solidFill>
                  <a:srgbClr val="000000"/>
                </a:solidFill>
                <a:latin typeface="Arial"/>
              </a:rPr>
              <a:t> Troškovi poreza, socijalnog i mirovinskog osiguranja i drugo</a:t>
            </a: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7. Amortizacija i vrijednosno usklađivanje dugotrajne imovin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8. Vrijednosno usklađivanje kratkotrajne imovin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9. Rezerviranja troškova i rizika</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0. Ostali troškovi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745276-41BD-41F4-85B5-E346B0B110F5}" type="slidenum">
              <a:t>261</a:t>
            </a:fld>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inancijski prihodi</a:t>
            </a:r>
            <a:endParaRPr b="0" lang="en-US" sz="4400" spc="-1" strike="noStrike">
              <a:solidFill>
                <a:srgbClr val="000000"/>
              </a:solidFill>
              <a:latin typeface="Arial"/>
            </a:endParaRPr>
          </a:p>
        </p:txBody>
      </p:sp>
      <p:sp>
        <p:nvSpPr>
          <p:cNvPr id="1037" name="PlaceHolder 2"/>
          <p:cNvSpPr>
            <a:spLocks noGrp="1"/>
          </p:cNvSpPr>
          <p:nvPr>
            <p:ph/>
          </p:nvPr>
        </p:nvSpPr>
        <p:spPr>
          <a:xfrm>
            <a:off x="323640" y="1752480"/>
            <a:ext cx="8280360" cy="510552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1.a) prihodi od sudjelujućih interesa s 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prihodi od sudjelujućih interesa s ne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2.a) prihodi od ostalih ulaganja i zajmova iz okvira stalne imovine s 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prihodi od ostalih ulaganja i zajmova iz okvira stalne imovine s ne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3.a) prihodi od ostalih interesa i slični prihodi s 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prihodi od ostalih interesa i slični prihodi s nepovezanim poduzeć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350EF2-200C-4B42-B0E0-41B3E445661F}" type="slidenum">
              <a:t>262</a:t>
            </a:fld>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inancijski rashodi</a:t>
            </a: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4. a) kamate, tečajne razlike i slični troškovi iz odnosa s 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kamate, tečajne razlike i slični troškovi iz odnosa s ne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5. Dobit ili gubitak iz redovnog poslovanja prije oporezivanj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6. Porez na dobit ili gubitak iz redovnog poslovanj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7. </a:t>
            </a:r>
            <a:r>
              <a:rPr b="0" i="1" lang="hr-HR" sz="2400" spc="-1" strike="noStrike">
                <a:solidFill>
                  <a:srgbClr val="000000"/>
                </a:solidFill>
                <a:latin typeface="Arial"/>
              </a:rPr>
              <a:t>Dobit ili gubitak iz redovnog poslovanja poslije oporezi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B815B07-1B1A-4D8F-9F21-EEAFC85FC64D}" type="slidenum">
              <a:t>263</a:t>
            </a:fld>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8. </a:t>
            </a:r>
            <a:r>
              <a:rPr b="1" lang="hr-HR" sz="2400" spc="-1" strike="noStrike">
                <a:solidFill>
                  <a:srgbClr val="000000"/>
                </a:solidFill>
                <a:latin typeface="Arial"/>
              </a:rPr>
              <a:t>Izvanredni prihod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9. </a:t>
            </a:r>
            <a:r>
              <a:rPr b="1" lang="hr-HR" sz="2400" spc="-1" strike="noStrike">
                <a:solidFill>
                  <a:srgbClr val="000000"/>
                </a:solidFill>
                <a:latin typeface="Arial"/>
              </a:rPr>
              <a:t>Izvanredni rashod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0. </a:t>
            </a:r>
            <a:r>
              <a:rPr b="0" i="1" lang="hr-HR" sz="2400" spc="-1" strike="noStrike">
                <a:solidFill>
                  <a:srgbClr val="000000"/>
                </a:solidFill>
                <a:latin typeface="Arial"/>
              </a:rPr>
              <a:t>Dobit ili gubitak iz izvanrednih aktivnos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1. Porez na izvanrednu dobit ili gubita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2. Ostali porezi koji nisu iskazani u prethodni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pozicija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3. </a:t>
            </a:r>
            <a:r>
              <a:rPr b="0" i="1" lang="hr-HR" sz="2400" spc="-1" strike="noStrike">
                <a:solidFill>
                  <a:srgbClr val="000000"/>
                </a:solidFill>
                <a:latin typeface="Arial"/>
              </a:rPr>
              <a:t>Dobit ili gubitak financijske godin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7365361-029A-43C6-9216-C403133013B5}" type="slidenum">
              <a:t>264</a:t>
            </a:fld>
          </a:p>
        </p:txBody>
      </p:sp>
    </p:spTree>
  </p:cSld>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p:nvPr>
        </p:nvSpPr>
        <p:spPr>
          <a:xfrm>
            <a:off x="1618920" y="1655640"/>
            <a:ext cx="7273800" cy="515808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hodi iz osnovne djelatnost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shodi osnovne djelatnost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hodi iz drugih aktivnost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shodi drugih aktivnost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zvanredni prihod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zvanredni rashod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obit ili gubitak prije oporezivanja</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rez na dobit ili gubitak</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obit ili gubitak financijske godine</a:t>
            </a:r>
            <a:endParaRPr b="0" lang="en-US" sz="3200" spc="-1" strike="noStrike">
              <a:solidFill>
                <a:srgbClr val="000000"/>
              </a:solidFill>
              <a:latin typeface="Arial"/>
            </a:endParaRPr>
          </a:p>
        </p:txBody>
      </p:sp>
      <p:sp>
        <p:nvSpPr>
          <p:cNvPr id="104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Za male poduzetnike</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560728E9-3AE3-4CFC-9C7F-20ADC6CBCDE8}" type="slidenum">
              <a:t>265</a:t>
            </a:fld>
          </a:p>
        </p:txBody>
      </p:sp>
    </p:spTree>
  </p:cSld>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833400" y="2432160"/>
            <a:ext cx="76154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IZVJEŠTAJ O PROMJENI GLAVNICE</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A345F2A3-CE37-4AD8-A874-FF06884FD3C7}" type="slidenum">
              <a:t>266</a:t>
            </a:fld>
          </a:p>
        </p:txBody>
      </p:sp>
    </p:spTree>
  </p:cSld>
  <p:transition>
    <p:strips dir="rd"/>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 presetSubtype="1">
                                  <p:stCondLst>
                                    <p:cond delay="0"/>
                                  </p:stCondLst>
                                  <p:childTnLst>
                                    <p:set>
                                      <p:cBhvr>
                                        <p:cTn id="118" dur="1" fill="hold">
                                          <p:stCondLst>
                                            <p:cond delay="0"/>
                                          </p:stCondLst>
                                        </p:cTn>
                                        <p:tgtEl>
                                          <p:spTgt spid="1043"/>
                                        </p:tgtEl>
                                        <p:attrNameLst>
                                          <p:attrName>style.visibility</p:attrName>
                                        </p:attrNameLst>
                                      </p:cBhvr>
                                      <p:to>
                                        <p:strVal val="visible"/>
                                      </p:to>
                                    </p:set>
                                    <p:anim calcmode="lin" valueType="num">
                                      <p:cBhvr additive="base">
                                        <p:cTn id="119" dur="500" fill="hold"/>
                                        <p:tgtEl>
                                          <p:spTgt spid="1043"/>
                                        </p:tgtEl>
                                        <p:attrNameLst>
                                          <p:attrName>ppt_x</p:attrName>
                                        </p:attrNameLst>
                                      </p:cBhvr>
                                      <p:tavLst>
                                        <p:tav tm="0">
                                          <p:val>
                                            <p:strVal val="#ppt_x"/>
                                          </p:val>
                                        </p:tav>
                                        <p:tav tm="100000">
                                          <p:val>
                                            <p:strVal val="#ppt_x"/>
                                          </p:val>
                                        </p:tav>
                                      </p:tavLst>
                                    </p:anim>
                                    <p:anim calcmode="lin" valueType="num">
                                      <p:cBhvr additive="base">
                                        <p:cTn id="120" dur="500" fill="hold"/>
                                        <p:tgtEl>
                                          <p:spTgt spid="10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755640" y="1413000"/>
            <a:ext cx="7772400" cy="4249440"/>
          </a:xfrm>
          <a:prstGeom prst="rect">
            <a:avLst/>
          </a:prstGeom>
          <a:noFill/>
          <a:ln w="0">
            <a:noFill/>
          </a:ln>
        </p:spPr>
        <p:txBody>
          <a:bodyPr lIns="90000" rIns="90000" tIns="46800" bIns="46800" anchor="t">
            <a:normAutofit fontScale="93000"/>
          </a:bodyPr>
          <a:p>
            <a:pPr marL="318960" indent="-318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Izvještaj o promjeni glavnice prikazuje</a:t>
            </a:r>
            <a:r>
              <a:rPr b="0" lang="en-GB" sz="2600" spc="-1" strike="noStrike">
                <a:solidFill>
                  <a:srgbClr val="000000"/>
                </a:solidFill>
                <a:latin typeface="Arial"/>
              </a:rPr>
              <a:t> </a:t>
            </a:r>
            <a:r>
              <a:rPr b="0" lang="hr-HR" sz="2600" spc="-1" strike="noStrike">
                <a:solidFill>
                  <a:srgbClr val="000000"/>
                </a:solidFill>
                <a:latin typeface="Arial"/>
              </a:rPr>
              <a:t>povećanje ili smanjenje neto imovine za razdoblje između dva datuma bilance.</a:t>
            </a:r>
            <a:endParaRPr b="0" lang="en-US" sz="2600" spc="-1" strike="noStrike">
              <a:solidFill>
                <a:srgbClr val="000000"/>
              </a:solidFill>
              <a:latin typeface="Arial"/>
            </a:endParaRPr>
          </a:p>
          <a:p>
            <a:pPr marL="318960" indent="-318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adrži promjene koje proizlaze iz transakcija s dioničarima (emisija, otkup dionica, isplate dividendi) i promjene koje proizlaze iz aktivnosti društva (dobit, gubitak).</a:t>
            </a:r>
            <a:endParaRPr b="0" lang="en-US" sz="2600" spc="-1" strike="noStrike">
              <a:solidFill>
                <a:srgbClr val="000000"/>
              </a:solidFill>
              <a:latin typeface="Arial"/>
            </a:endParaRPr>
          </a:p>
          <a:p>
            <a:pPr marL="318960" indent="-318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Varijanta sastavljanja:</a:t>
            </a:r>
            <a:endParaRPr b="0" lang="en-US" sz="2600" spc="-1" strike="noStrike">
              <a:solidFill>
                <a:srgbClr val="000000"/>
              </a:solidFill>
              <a:latin typeface="Arial"/>
            </a:endParaRPr>
          </a:p>
          <a:p>
            <a:pPr marL="3189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a) obuhvaća sve promjene u glavnici</a:t>
            </a:r>
            <a:endParaRPr b="0" lang="en-US" sz="2600" spc="-1" strike="noStrike">
              <a:solidFill>
                <a:srgbClr val="000000"/>
              </a:solidFill>
              <a:latin typeface="Arial"/>
            </a:endParaRPr>
          </a:p>
          <a:p>
            <a:pPr marL="3189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b) obuhvaća djelomične promjene – osim promjena koje proizlaze iz transakcija s vlasnicima (emisija i otkup dionica) i raspodjele vlasnicima (isplate dividendi).</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4F447852-A342-4FB5-9AAF-208276CCC272}" type="slidenum">
              <a:t>267</a:t>
            </a:fld>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23640" y="259920"/>
            <a:ext cx="83674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Izvještaj o promjeni glavnice “XY” d.d. </a:t>
            </a:r>
            <a:br>
              <a:rPr sz="3400"/>
            </a:br>
            <a:r>
              <a:rPr b="0" lang="hr-HR" sz="3400" spc="-1" strike="noStrike">
                <a:solidFill>
                  <a:srgbClr val="000000"/>
                </a:solidFill>
                <a:latin typeface="Arial"/>
              </a:rPr>
              <a:t>(sve promjene) za razdoblje 1.1 – 31.12.200x</a:t>
            </a:r>
            <a:endParaRPr b="0" lang="en-US" sz="3400" spc="-1" strike="noStrike">
              <a:solidFill>
                <a:srgbClr val="000000"/>
              </a:solidFill>
              <a:latin typeface="Arial"/>
            </a:endParaRPr>
          </a:p>
        </p:txBody>
      </p:sp>
      <p:sp>
        <p:nvSpPr>
          <p:cNvPr id="1046" name="PlaceHolder 2"/>
          <p:cNvSpPr>
            <a:spLocks noGrp="1"/>
          </p:cNvSpPr>
          <p:nvPr>
            <p:ph/>
          </p:nvPr>
        </p:nvSpPr>
        <p:spPr>
          <a:xfrm>
            <a:off x="539280" y="2060640"/>
            <a:ext cx="7921800" cy="4394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Upisani kapital</a:t>
            </a:r>
            <a:r>
              <a:rPr b="1" lang="hr-HR" sz="2600" spc="-1" strike="noStrike">
                <a:solidFill>
                  <a:srgbClr val="000000"/>
                </a:solidFill>
                <a:latin typeface="Arial"/>
              </a:rPr>
              <a:t>	</a:t>
            </a:r>
            <a:r>
              <a:rPr b="1" lang="hr-HR" sz="2600" spc="-1" strike="noStrike">
                <a:solidFill>
                  <a:srgbClr val="000000"/>
                </a:solidFill>
                <a:latin typeface="Arial"/>
              </a:rPr>
              <a:t>	</a:t>
            </a:r>
            <a:r>
              <a:rPr b="1" lang="hr-HR" sz="2600" spc="-1" strike="noStrike">
                <a:solidFill>
                  <a:srgbClr val="000000"/>
                </a:solidFill>
                <a:latin typeface="Arial"/>
              </a:rPr>
              <a:t>    31.12.</a:t>
            </a:r>
            <a:r>
              <a:rPr b="1" lang="en-US" sz="2600" spc="-1" strike="noStrike">
                <a:solidFill>
                  <a:srgbClr val="000000"/>
                </a:solidFill>
                <a:latin typeface="Arial"/>
              </a:rPr>
              <a:t> </a:t>
            </a:r>
            <a:r>
              <a:rPr b="1" lang="hr-HR" sz="2600" spc="-1" strike="noStrike">
                <a:solidFill>
                  <a:srgbClr val="000000"/>
                </a:solidFill>
                <a:latin typeface="Arial"/>
              </a:rPr>
              <a:t>tekuće</a:t>
            </a:r>
            <a:r>
              <a:rPr b="1" lang="en-US" sz="2600" spc="-1" strike="noStrike">
                <a:solidFill>
                  <a:srgbClr val="000000"/>
                </a:solidFill>
                <a:latin typeface="Arial"/>
              </a:rPr>
              <a:t> g.</a:t>
            </a:r>
            <a:r>
              <a:rPr b="1" lang="hr-HR" sz="2600" spc="-1" strike="noStrike">
                <a:solidFill>
                  <a:srgbClr val="000000"/>
                </a:solidFill>
                <a:latin typeface="Arial"/>
              </a:rPr>
              <a:t>	</a:t>
            </a:r>
            <a:r>
              <a:rPr b="1" lang="hr-HR" sz="2600" spc="-1" strike="noStrike">
                <a:solidFill>
                  <a:srgbClr val="000000"/>
                </a:solidFill>
                <a:latin typeface="Arial"/>
              </a:rPr>
              <a:t>31.12. </a:t>
            </a:r>
            <a:r>
              <a:rPr b="1" lang="en-US" sz="2600" spc="-1" strike="noStrike">
                <a:solidFill>
                  <a:srgbClr val="000000"/>
                </a:solidFill>
                <a:latin typeface="Arial"/>
              </a:rPr>
              <a:t>p</a:t>
            </a:r>
            <a:r>
              <a:rPr b="1" lang="hr-HR" sz="2600" spc="-1" strike="noStrike">
                <a:solidFill>
                  <a:srgbClr val="000000"/>
                </a:solidFill>
                <a:latin typeface="Arial"/>
              </a:rPr>
              <a:t>rethodne</a:t>
            </a:r>
            <a:r>
              <a:rPr b="1" lang="en-US" sz="2600" spc="-1" strike="noStrike">
                <a:solidFill>
                  <a:srgbClr val="000000"/>
                </a:solidFill>
                <a:latin typeface="Arial"/>
              </a:rPr>
              <a:t> 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emije na emitirane dioni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zerv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držana dobit ili preneseni gubitak</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Dobit ili gubitak tekuće godin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Dividen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Ukupno uloženi i zarađeni kapita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571AA0F-36D9-4D4C-8CB2-D5A5F05C24BA}" type="slidenum">
              <a:t>268</a:t>
            </a:fld>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395280" y="333360"/>
            <a:ext cx="836136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Izvještaj o promjeni glavnice “XY” d.d. </a:t>
            </a:r>
            <a:br>
              <a:rPr sz="3400"/>
            </a:br>
            <a:r>
              <a:rPr b="0" lang="hr-HR" sz="3400" spc="-1" strike="noStrike">
                <a:solidFill>
                  <a:srgbClr val="000000"/>
                </a:solidFill>
                <a:latin typeface="Arial"/>
              </a:rPr>
              <a:t>(sve promjene) za razdoblje 1.1 – 31.12.200x</a:t>
            </a:r>
            <a:endParaRPr b="0" lang="en-US" sz="3400" spc="-1" strike="noStrike">
              <a:solidFill>
                <a:srgbClr val="000000"/>
              </a:solidFill>
              <a:latin typeface="Arial"/>
            </a:endParaRPr>
          </a:p>
        </p:txBody>
      </p:sp>
      <p:sp>
        <p:nvSpPr>
          <p:cNvPr id="1048" name="PlaceHolder 2"/>
          <p:cNvSpPr>
            <a:spLocks noGrp="1"/>
          </p:cNvSpPr>
          <p:nvPr>
            <p:ph/>
          </p:nvPr>
        </p:nvSpPr>
        <p:spPr>
          <a:xfrm>
            <a:off x="468360" y="2013120"/>
            <a:ext cx="8037360" cy="4844880"/>
          </a:xfrm>
          <a:prstGeom prst="rect">
            <a:avLst/>
          </a:prstGeom>
          <a:noFill/>
          <a:ln w="0">
            <a:noFill/>
          </a:ln>
        </p:spPr>
        <p:txBody>
          <a:bodyPr lIns="90000" rIns="90000" tIns="46800" bIns="46800" anchor="t">
            <a:normAutofit/>
          </a:bodyPr>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valorizacijske rezerve</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valorizacija nekretnina, postrojenja i opreme</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valorizacija ulaganj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stala revalorizacij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Tečajne razlike s naslova neto ulaganja u inozemne subjekte</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Ukupno izravno povećanje kapital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omjene računovodstvenih politik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Ispravak temeljnih pogrešak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Ukupno izravno povećanje zadržane dobiti</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Sveukupno kapita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77069BD-12B1-49A1-83A8-4F8262B1749E}" type="slidenum">
              <a:t>269</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03"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stavom računa obuhvaća svu imovinu, obveze (dugove) i kapital poduzeća, financijske rezultate cjelokupnog poslovnog procesa i financijske odnose s drugim poduzeći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uhvaća: knjigovodstvo, računovodstveno planiranje, nadzor i analizu imovine, obveza, kapitala i rezultata poslov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su sintetizirani podaci iskazani u financijskim izvještajima, i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bilanc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u dobiti i gubitka (izvještaj o dob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izvještaju o novčanom tok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izvještaju o promjeni vlasničke glavnice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bilješkama uz financijske izvješta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151726-F02D-442F-A4D5-86D0B602D160}" type="slidenum">
              <a:t>27</a:t>
            </a:fld>
          </a:p>
        </p:txBody>
      </p:sp>
    </p:spTree>
  </p:cSld>
  <p:transition>
    <p:push dir="r"/>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9">
                                  <p:stCondLst>
                                    <p:cond delay="0"/>
                                  </p:stCondLst>
                                  <p:iterate type="lt">
                                    <p:tmAbs val="80"/>
                                  </p:iterate>
                                  <p:childTnLst>
                                    <p:set>
                                      <p:cBhvr>
                                        <p:cTn id="14" dur="1" fill="hold">
                                          <p:stCondLst>
                                            <p:cond delay="0"/>
                                          </p:stCondLst>
                                        </p:cTn>
                                        <p:tgtEl>
                                          <p:spTgt spid="202"/>
                                        </p:tgtEl>
                                        <p:attrNameLst>
                                          <p:attrName>style.visibility</p:attrName>
                                        </p:attrNameLst>
                                      </p:cBhvr>
                                      <p:to>
                                        <p:strVal val="visible"/>
                                      </p:to>
                                    </p:set>
                                    <p:anim calcmode="lin" valueType="num">
                                      <p:cBhvr additive="base">
                                        <p:cTn id="15" dur="800" fill="hold">
                                          <p:stCondLst>
                                            <p:cond delay="0"/>
                                          </p:stCondLst>
                                        </p:cTn>
                                        <p:tgtEl>
                                          <p:spTgt spid="202"/>
                                        </p:tgtEl>
                                        <p:attrNameLst>
                                          <p:attrName>ppt_x</p:attrName>
                                        </p:attrNameLst>
                                      </p:cBhvr>
                                      <p:tavLst>
                                        <p:tav tm="0">
                                          <p:val>
                                            <p:strVal val="0-#ppt_w/2"/>
                                          </p:val>
                                        </p:tav>
                                        <p:tav tm="100000">
                                          <p:val>
                                            <p:strVal val="#ppt_x"/>
                                          </p:val>
                                        </p:tav>
                                      </p:tavLst>
                                    </p:anim>
                                    <p:anim calcmode="lin" valueType="num">
                                      <p:cBhvr additive="base">
                                        <p:cTn id="16" dur="800" fill="hold">
                                          <p:stCondLst>
                                            <p:cond delay="0"/>
                                          </p:stCondLst>
                                        </p:cTn>
                                        <p:tgtEl>
                                          <p:spTgt spid="202"/>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0">
                                  <p:stCondLst>
                                    <p:cond delay="0"/>
                                  </p:stCondLst>
                                  <p:iterate type="lt">
                                    <p:tmAbs val="100"/>
                                  </p:iterate>
                                  <p:childTnLst>
                                    <p:set>
                                      <p:cBhvr>
                                        <p:cTn id="20" dur="1" fill="hold">
                                          <p:stCondLst>
                                            <p:cond delay="0"/>
                                          </p:stCondLst>
                                        </p:cTn>
                                        <p:tgtEl>
                                          <p:spTgt spid="203">
                                            <p:txEl>
                                              <p:pRg st="0" end="0"/>
                                            </p:txEl>
                                          </p:spTgt>
                                        </p:tgtEl>
                                        <p:attrNameLst>
                                          <p:attrName>style.visibility</p:attrName>
                                        </p:attrNameLst>
                                      </p:cBhvr>
                                      <p:to>
                                        <p:strVal val="visible"/>
                                      </p:to>
                                    </p:set>
                                    <p:animEffect filter="fade" transition="in">
                                      <p:cBhvr additive="repl">
                                        <p:cTn id="21" dur="1000"/>
                                        <p:tgtEl>
                                          <p:spTgt spid="203">
                                            <p:txEl>
                                              <p:pRg st="0" end="0"/>
                                            </p:txEl>
                                          </p:spTgt>
                                        </p:tgtEl>
                                      </p:cBhvr>
                                    </p:animEffect>
                                    <p:anim calcmode="lin" valueType="num">
                                      <p:cBhvr additive="repl">
                                        <p:cTn id="22" dur="1000" fill="hold"/>
                                        <p:tgtEl>
                                          <p:spTgt spid="203">
                                            <p:txEl>
                                              <p:pRg st="0" end="0"/>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0">
                                  <p:stCondLst>
                                    <p:cond delay="0"/>
                                  </p:stCondLst>
                                  <p:iterate type="lt">
                                    <p:tmAbs val="100"/>
                                  </p:iterate>
                                  <p:childTnLst>
                                    <p:set>
                                      <p:cBhvr>
                                        <p:cTn id="27" dur="1" fill="hold">
                                          <p:stCondLst>
                                            <p:cond delay="0"/>
                                          </p:stCondLst>
                                        </p:cTn>
                                        <p:tgtEl>
                                          <p:spTgt spid="203">
                                            <p:txEl>
                                              <p:pRg st="1" end="1"/>
                                            </p:txEl>
                                          </p:spTgt>
                                        </p:tgtEl>
                                        <p:attrNameLst>
                                          <p:attrName>style.visibility</p:attrName>
                                        </p:attrNameLst>
                                      </p:cBhvr>
                                      <p:to>
                                        <p:strVal val="visible"/>
                                      </p:to>
                                    </p:set>
                                    <p:animEffect filter="fade" transition="in">
                                      <p:cBhvr additive="repl">
                                        <p:cTn id="28" dur="1000"/>
                                        <p:tgtEl>
                                          <p:spTgt spid="203">
                                            <p:txEl>
                                              <p:pRg st="1" end="1"/>
                                            </p:txEl>
                                          </p:spTgt>
                                        </p:tgtEl>
                                      </p:cBhvr>
                                    </p:animEffect>
                                    <p:anim calcmode="lin" valueType="num">
                                      <p:cBhvr additive="repl">
                                        <p:cTn id="29" dur="1000" fill="hold"/>
                                        <p:tgtEl>
                                          <p:spTgt spid="203">
                                            <p:txEl>
                                              <p:pRg st="1" end="1"/>
                                            </p:txEl>
                                          </p:spTgt>
                                        </p:tgtEl>
                                        <p:attrNameLst>
                                          <p:attrName>ppt_x</p:attrName>
                                        </p:attrNameLst>
                                      </p:cBhvr>
                                      <p:tavLst>
                                        <p:tav tm="0">
                                          <p:val>
                                            <p:strVal val="#ppt_x-.1"/>
                                          </p:val>
                                        </p:tav>
                                        <p:tav tm="100000">
                                          <p:val>
                                            <p:strVal val="#ppt_x"/>
                                          </p:val>
                                        </p:tav>
                                      </p:tavLst>
                                    </p:anim>
                                    <p:anim calcmode="lin" valueType="num">
                                      <p:cBhvr additive="repl">
                                        <p:cTn id="30" dur="10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203">
                                            <p:txEl>
                                              <p:pRg st="2" end="2"/>
                                            </p:txEl>
                                          </p:spTgt>
                                        </p:tgtEl>
                                        <p:attrNameLst>
                                          <p:attrName>style.visibility</p:attrName>
                                        </p:attrNameLst>
                                      </p:cBhvr>
                                      <p:to>
                                        <p:strVal val="visible"/>
                                      </p:to>
                                    </p:set>
                                    <p:animEffect filter="fade" transition="in">
                                      <p:cBhvr additive="repl">
                                        <p:cTn id="35" dur="1000"/>
                                        <p:tgtEl>
                                          <p:spTgt spid="203">
                                            <p:txEl>
                                              <p:pRg st="2" end="2"/>
                                            </p:txEl>
                                          </p:spTgt>
                                        </p:tgtEl>
                                      </p:cBhvr>
                                    </p:animEffect>
                                    <p:anim calcmode="lin" valueType="num">
                                      <p:cBhvr additive="repl">
                                        <p:cTn id="36" dur="1000" fill="hold"/>
                                        <p:tgtEl>
                                          <p:spTgt spid="203">
                                            <p:txEl>
                                              <p:pRg st="2" end="2"/>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203">
                                            <p:txEl>
                                              <p:pRg st="3" end="3"/>
                                            </p:txEl>
                                          </p:spTgt>
                                        </p:tgtEl>
                                        <p:attrNameLst>
                                          <p:attrName>style.visibility</p:attrName>
                                        </p:attrNameLst>
                                      </p:cBhvr>
                                      <p:to>
                                        <p:strVal val="visible"/>
                                      </p:to>
                                    </p:set>
                                    <p:animEffect filter="fade" transition="in">
                                      <p:cBhvr additive="repl">
                                        <p:cTn id="42" dur="1000"/>
                                        <p:tgtEl>
                                          <p:spTgt spid="203">
                                            <p:txEl>
                                              <p:pRg st="3" end="3"/>
                                            </p:txEl>
                                          </p:spTgt>
                                        </p:tgtEl>
                                      </p:cBhvr>
                                    </p:animEffect>
                                    <p:anim calcmode="lin" valueType="num">
                                      <p:cBhvr additive="repl">
                                        <p:cTn id="43" dur="1000" fill="hold"/>
                                        <p:tgtEl>
                                          <p:spTgt spid="203">
                                            <p:txEl>
                                              <p:pRg st="3" end="3"/>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203">
                                            <p:txEl>
                                              <p:pRg st="4" end="4"/>
                                            </p:txEl>
                                          </p:spTgt>
                                        </p:tgtEl>
                                        <p:attrNameLst>
                                          <p:attrName>style.visibility</p:attrName>
                                        </p:attrNameLst>
                                      </p:cBhvr>
                                      <p:to>
                                        <p:strVal val="visible"/>
                                      </p:to>
                                    </p:set>
                                    <p:animEffect filter="fade" transition="in">
                                      <p:cBhvr additive="repl">
                                        <p:cTn id="49" dur="1000"/>
                                        <p:tgtEl>
                                          <p:spTgt spid="203">
                                            <p:txEl>
                                              <p:pRg st="4" end="4"/>
                                            </p:txEl>
                                          </p:spTgt>
                                        </p:tgtEl>
                                      </p:cBhvr>
                                    </p:animEffect>
                                    <p:anim calcmode="lin" valueType="num">
                                      <p:cBhvr additive="repl">
                                        <p:cTn id="50" dur="1000" fill="hold"/>
                                        <p:tgtEl>
                                          <p:spTgt spid="203">
                                            <p:txEl>
                                              <p:pRg st="4" end="4"/>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2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203">
                                            <p:txEl>
                                              <p:pRg st="5" end="5"/>
                                            </p:txEl>
                                          </p:spTgt>
                                        </p:tgtEl>
                                        <p:attrNameLst>
                                          <p:attrName>style.visibility</p:attrName>
                                        </p:attrNameLst>
                                      </p:cBhvr>
                                      <p:to>
                                        <p:strVal val="visible"/>
                                      </p:to>
                                    </p:set>
                                    <p:animEffect filter="fade" transition="in">
                                      <p:cBhvr additive="repl">
                                        <p:cTn id="56" dur="1000"/>
                                        <p:tgtEl>
                                          <p:spTgt spid="203">
                                            <p:txEl>
                                              <p:pRg st="5" end="5"/>
                                            </p:txEl>
                                          </p:spTgt>
                                        </p:tgtEl>
                                      </p:cBhvr>
                                    </p:animEffect>
                                    <p:anim calcmode="lin" valueType="num">
                                      <p:cBhvr additive="repl">
                                        <p:cTn id="57" dur="1000" fill="hold"/>
                                        <p:tgtEl>
                                          <p:spTgt spid="203">
                                            <p:txEl>
                                              <p:pRg st="5" end="5"/>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2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0">
                                  <p:stCondLst>
                                    <p:cond delay="0"/>
                                  </p:stCondLst>
                                  <p:iterate type="lt">
                                    <p:tmAbs val="100"/>
                                  </p:iterate>
                                  <p:childTnLst>
                                    <p:set>
                                      <p:cBhvr>
                                        <p:cTn id="62" dur="1" fill="hold">
                                          <p:stCondLst>
                                            <p:cond delay="0"/>
                                          </p:stCondLst>
                                        </p:cTn>
                                        <p:tgtEl>
                                          <p:spTgt spid="203">
                                            <p:txEl>
                                              <p:pRg st="6" end="6"/>
                                            </p:txEl>
                                          </p:spTgt>
                                        </p:tgtEl>
                                        <p:attrNameLst>
                                          <p:attrName>style.visibility</p:attrName>
                                        </p:attrNameLst>
                                      </p:cBhvr>
                                      <p:to>
                                        <p:strVal val="visible"/>
                                      </p:to>
                                    </p:set>
                                    <p:animEffect filter="fade" transition="in">
                                      <p:cBhvr additive="repl">
                                        <p:cTn id="63" dur="1000"/>
                                        <p:tgtEl>
                                          <p:spTgt spid="203">
                                            <p:txEl>
                                              <p:pRg st="6" end="6"/>
                                            </p:txEl>
                                          </p:spTgt>
                                        </p:tgtEl>
                                      </p:cBhvr>
                                    </p:animEffect>
                                    <p:anim calcmode="lin" valueType="num">
                                      <p:cBhvr additive="repl">
                                        <p:cTn id="64" dur="1000" fill="hold"/>
                                        <p:tgtEl>
                                          <p:spTgt spid="203">
                                            <p:txEl>
                                              <p:pRg st="6" end="6"/>
                                            </p:txEl>
                                          </p:spTgt>
                                        </p:tgtEl>
                                        <p:attrNameLst>
                                          <p:attrName>ppt_x</p:attrName>
                                        </p:attrNameLst>
                                      </p:cBhvr>
                                      <p:tavLst>
                                        <p:tav tm="0">
                                          <p:val>
                                            <p:strVal val="#ppt_x-.1"/>
                                          </p:val>
                                        </p:tav>
                                        <p:tav tm="100000">
                                          <p:val>
                                            <p:strVal val="#ppt_x"/>
                                          </p:val>
                                        </p:tav>
                                      </p:tavLst>
                                    </p:anim>
                                    <p:anim calcmode="lin" valueType="num">
                                      <p:cBhvr additive="repl">
                                        <p:cTn id="65" dur="1000" fill="hold"/>
                                        <p:tgtEl>
                                          <p:spTgt spid="2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0">
                                  <p:stCondLst>
                                    <p:cond delay="0"/>
                                  </p:stCondLst>
                                  <p:iterate type="lt">
                                    <p:tmAbs val="100"/>
                                  </p:iterate>
                                  <p:childTnLst>
                                    <p:set>
                                      <p:cBhvr>
                                        <p:cTn id="69" dur="1" fill="hold">
                                          <p:stCondLst>
                                            <p:cond delay="0"/>
                                          </p:stCondLst>
                                        </p:cTn>
                                        <p:tgtEl>
                                          <p:spTgt spid="203">
                                            <p:txEl>
                                              <p:pRg st="7" end="7"/>
                                            </p:txEl>
                                          </p:spTgt>
                                        </p:tgtEl>
                                        <p:attrNameLst>
                                          <p:attrName>style.visibility</p:attrName>
                                        </p:attrNameLst>
                                      </p:cBhvr>
                                      <p:to>
                                        <p:strVal val="visible"/>
                                      </p:to>
                                    </p:set>
                                    <p:animEffect filter="fade" transition="in">
                                      <p:cBhvr additive="repl">
                                        <p:cTn id="70" dur="1000"/>
                                        <p:tgtEl>
                                          <p:spTgt spid="203">
                                            <p:txEl>
                                              <p:pRg st="7" end="7"/>
                                            </p:txEl>
                                          </p:spTgt>
                                        </p:tgtEl>
                                      </p:cBhvr>
                                    </p:animEffect>
                                    <p:anim calcmode="lin" valueType="num">
                                      <p:cBhvr additive="repl">
                                        <p:cTn id="71" dur="1000" fill="hold"/>
                                        <p:tgtEl>
                                          <p:spTgt spid="203">
                                            <p:txEl>
                                              <p:pRg st="7" end="7"/>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2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259920"/>
            <a:ext cx="8424720" cy="12956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Izvještaj o promjeni zadržane dobiti “XY” d.d. </a:t>
            </a:r>
            <a:br>
              <a:rPr sz="3400"/>
            </a:br>
            <a:r>
              <a:rPr b="0" lang="hr-HR" sz="3400" spc="-1" strike="noStrike">
                <a:solidFill>
                  <a:srgbClr val="000000"/>
                </a:solidFill>
                <a:latin typeface="Arial"/>
              </a:rPr>
              <a:t>(djelomične promjene) za razdoblje od 1.1. do 31.12.200x</a:t>
            </a:r>
            <a:endParaRPr b="0" lang="en-US" sz="3400" spc="-1" strike="noStrike">
              <a:solidFill>
                <a:srgbClr val="000000"/>
              </a:solidFill>
              <a:latin typeface="Arial"/>
            </a:endParaRPr>
          </a:p>
        </p:txBody>
      </p:sp>
      <p:sp>
        <p:nvSpPr>
          <p:cNvPr id="1050" name="PlaceHolder 2"/>
          <p:cNvSpPr>
            <a:spLocks noGrp="1"/>
          </p:cNvSpPr>
          <p:nvPr>
            <p:ph/>
          </p:nvPr>
        </p:nvSpPr>
        <p:spPr>
          <a:xfrm>
            <a:off x="684000" y="1817280"/>
            <a:ext cx="7777080" cy="5040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ldo zadržane dobiti 1.1.200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Neto dobit za 200x</a:t>
            </a:r>
            <a:endParaRPr b="0" lang="en-US" sz="2400" spc="-1" strike="noStrike">
              <a:solidFill>
                <a:srgbClr val="00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izglasane i isplaćene dividen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zadržana dobit 31.12.200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jelomični izvještaji (b) često se svode na izvještaj o promjeni zadržane dobiti ili izvještaj o promjeni rezervi, revalorizacijskih rezervi i sl., s obzirom na važnost tih informacija s aspekta vlasnika dionica (investitor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B849E4-CD08-4980-8BC7-7A3433B4737D}" type="slidenum">
              <a:t>270</a:t>
            </a:fld>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969840" y="2500200"/>
            <a:ext cx="7338960" cy="9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IZVJEŠTAJ O NOVČANOM TOKU</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FE2BE31-3572-4718-84DE-B12A74511FC3}" type="slidenum">
              <a:t>271</a:t>
            </a:fld>
          </a:p>
        </p:txBody>
      </p:sp>
    </p:spTree>
  </p:cSld>
  <p:transition>
    <p:pull dir="l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1">
                                  <p:stCondLst>
                                    <p:cond delay="0"/>
                                  </p:stCondLst>
                                  <p:childTnLst>
                                    <p:set>
                                      <p:cBhvr>
                                        <p:cTn id="126" dur="1" fill="hold">
                                          <p:stCondLst>
                                            <p:cond delay="0"/>
                                          </p:stCondLst>
                                        </p:cTn>
                                        <p:tgtEl>
                                          <p:spTgt spid="1051"/>
                                        </p:tgtEl>
                                        <p:attrNameLst>
                                          <p:attrName>style.visibility</p:attrName>
                                        </p:attrNameLst>
                                      </p:cBhvr>
                                      <p:to>
                                        <p:strVal val="visible"/>
                                      </p:to>
                                    </p:set>
                                    <p:anim calcmode="lin" valueType="num">
                                      <p:cBhvr additive="base">
                                        <p:cTn id="127" dur="500" fill="hold"/>
                                        <p:tgtEl>
                                          <p:spTgt spid="1051"/>
                                        </p:tgtEl>
                                        <p:attrNameLst>
                                          <p:attrName>ppt_x</p:attrName>
                                        </p:attrNameLst>
                                      </p:cBhvr>
                                      <p:tavLst>
                                        <p:tav tm="0">
                                          <p:val>
                                            <p:strVal val="#ppt_x"/>
                                          </p:val>
                                        </p:tav>
                                        <p:tav tm="100000">
                                          <p:val>
                                            <p:strVal val="#ppt_x"/>
                                          </p:val>
                                        </p:tav>
                                      </p:tavLst>
                                    </p:anim>
                                    <p:anim calcmode="lin" valueType="num">
                                      <p:cBhvr additive="base">
                                        <p:cTn id="128" dur="500" fill="hold"/>
                                        <p:tgtEl>
                                          <p:spTgt spid="10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000000"/>
                </a:solidFill>
                <a:latin typeface="Arial"/>
              </a:rPr>
              <a:t>Izvještaj o novčanom toku utemeljen je na novcu i novčanim ekvivalentima</a:t>
            </a:r>
            <a:endParaRPr b="0" lang="en-US" sz="3400" spc="-1" strike="noStrike">
              <a:solidFill>
                <a:srgbClr val="000000"/>
              </a:solidFill>
              <a:latin typeface="Arial"/>
            </a:endParaRPr>
          </a:p>
        </p:txBody>
      </p:sp>
      <p:sp>
        <p:nvSpPr>
          <p:cNvPr id="1053"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ovac: gotovina u blagajni, novac na žiro-računu i drugim bankovnim računima uključujući prekoračenj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ovčani ekvivalenti: likvidna, lako i brzo unovčiva kratkoročna ulaganja koja nisu pod utjecajem značajnog rizika promjena vrijednosti s rokom dospjeća do 3 mjesec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76E73DD-E203-455D-BC26-01FF05962F7E}" type="slidenum">
              <a:t>272</a:t>
            </a:fld>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000000"/>
                </a:solidFill>
                <a:latin typeface="Arial"/>
              </a:rPr>
              <a:t>Izvještaj o novčanom toku utemeljen je na novcu i novčanim ekvivalentima</a:t>
            </a:r>
            <a:endParaRPr b="0" lang="en-US" sz="3400" spc="-1" strike="noStrike">
              <a:solidFill>
                <a:srgbClr val="000000"/>
              </a:solidFill>
              <a:latin typeface="Arial"/>
            </a:endParaRPr>
          </a:p>
        </p:txBody>
      </p:sp>
      <p:sp>
        <p:nvSpPr>
          <p:cNvPr id="10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Svrha i koristi:</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ocjena sposobnosti društva za ostvarenje budućeg čistog novčanog tok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Ocjena sposobnosti društva za ispunjenje obveza vjerovnicima, plaćanje dividendi te ocjena potreba za vanjskim financiranjem</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Ocjena uzroka razlika neto dobiti i čistog novčanog toka, povezivanje novčanih primitaka i izdatak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ocjena učinaka novčanog toka te nenovčanih investicijskih i financijskih aktivnosti tijekom razdoblja na financijski položaj društv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Mogućnost usporedbe sadašnje vrijednosti budućih novčanih tokova različitih društav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Eliminacija učinaka različitih računovodstvenih postupaka pri istim transakcijama i događajim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21F9577-FC44-4355-98D9-6F5B3AAD4EDB}" type="slidenum">
              <a:t>273</a:t>
            </a:fld>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p:nvPr>
        </p:nvSpPr>
        <p:spPr>
          <a:xfrm>
            <a:off x="755640" y="980640"/>
            <a:ext cx="7772400" cy="468324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Sastavlja se temeljem: poslovne, investicijske (ulagateljske) i financijske aktivnost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oslovne aktivnosti: aktivnosti primarno usmjerene na proizvodnju i prodaju proizvoda i roba te pružanje usluga.</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nvesticijske aktivnosti: aktivnosti stjecanja i otuđivanja dugotrajne imovine i drugih ulaganja, koja nisu novčani ekvivalenti (ulaganja u dužničke i vlasničke vrijednosne papire te ostalu dugotrajnu imovinu, odobravanje kredita kao i povrat ulaganja te povrat glavnice odobrenih kredita).</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Financijske aktivnosti: aktivnosti koje rezultiraju promjenama veličine i sastava glavnice i dugova društva (emisija dionica, zaduživanje, otkup dionica, isplata dividendi, povrat dugova).</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136BCF77-208B-4F18-A008-3BD0F75A74A9}" type="slidenum">
              <a:t>274</a:t>
            </a:fld>
          </a:p>
        </p:txBody>
      </p: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omjene novca i novčanih ekvivalenata posljedica su promjena obveza, kapitala ili nenovčane imovine</a:t>
            </a:r>
            <a:endParaRPr b="0" lang="en-US" sz="3000" spc="-1" strike="noStrike">
              <a:solidFill>
                <a:srgbClr val="000000"/>
              </a:solidFill>
              <a:latin typeface="Arial"/>
            </a:endParaRPr>
          </a:p>
        </p:txBody>
      </p:sp>
      <p:sp>
        <p:nvSpPr>
          <p:cNvPr id="1058" name=""/>
          <p:cNvSpPr txBox="1"/>
          <p:nvPr/>
        </p:nvSpPr>
        <p:spPr>
          <a:xfrm>
            <a:off x="539640" y="3573360"/>
            <a:ext cx="789804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ovac, novčani ekvivalenti = obveze + kapital – nenovčana movina</a:t>
            </a:r>
            <a:endParaRPr b="0" lang="en-US" sz="18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3"/>
          </p:nvPr>
        </p:nvSpPr>
        <p:spPr/>
        <p:txBody>
          <a:bodyPr/>
          <a:p>
            <a:fld id="{4475BF34-23EC-4A73-A43B-CB82B28BDC15}" type="slidenum">
              <a:t>275</a:t>
            </a:fld>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omjene novca i novčanih ekvivalenata posljedica su promjena obveza, kapitala ili nenovčane imovine</a:t>
            </a:r>
            <a:endParaRPr b="0" lang="en-US" sz="3000" spc="-1" strike="noStrike">
              <a:solidFill>
                <a:srgbClr val="000000"/>
              </a:solidFill>
              <a:latin typeface="Arial"/>
            </a:endParaRPr>
          </a:p>
        </p:txBody>
      </p:sp>
      <p:sp>
        <p:nvSpPr>
          <p:cNvPr id="1060" name=""/>
          <p:cNvSpPr txBox="1"/>
          <p:nvPr/>
        </p:nvSpPr>
        <p:spPr>
          <a:xfrm>
            <a:off x="900000" y="1916280"/>
            <a:ext cx="7518600" cy="165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povećanje novca i novčanih ekvivalenata = povećanje obveza </a:t>
            </a:r>
            <a:endParaRPr b="0" lang="en-US" sz="12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                                       </a:t>
            </a:r>
            <a:r>
              <a:rPr b="0" lang="en-US" sz="1200" spc="1" strike="noStrike">
                <a:ln w="9360">
                  <a:solidFill>
                    <a:srgbClr val="000000"/>
                  </a:solidFill>
                  <a:miter/>
                </a:ln>
                <a:solidFill>
                  <a:srgbClr val="000000"/>
                </a:solidFill>
                <a:latin typeface="Arial Black"/>
              </a:rPr>
              <a:t>ili  povećanje glavnice  </a:t>
            </a:r>
            <a:endParaRPr b="0" lang="en-US" sz="12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                                       </a:t>
            </a:r>
            <a:r>
              <a:rPr b="0" lang="en-US" sz="1200" spc="1" strike="noStrike">
                <a:ln w="9360">
                  <a:solidFill>
                    <a:srgbClr val="000000"/>
                  </a:solidFill>
                  <a:miter/>
                </a:ln>
                <a:solidFill>
                  <a:srgbClr val="000000"/>
                </a:solidFill>
                <a:latin typeface="Arial Black"/>
              </a:rPr>
              <a:t>ili smanjenje nenovčane imovine</a:t>
            </a:r>
            <a:endParaRPr b="0" lang="en-US" sz="12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3"/>
          </p:nvPr>
        </p:nvSpPr>
        <p:spPr/>
        <p:txBody>
          <a:bodyPr/>
          <a:p>
            <a:fld id="{9BAED660-2656-48DA-A9D6-611CE7D6D20E}" type="slidenum">
              <a:t>276</a:t>
            </a:fld>
          </a:p>
        </p:txBody>
      </p:sp>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84000" y="188640"/>
            <a:ext cx="8080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ovčani primici i izdaci po pojedinim aktivnostima</a:t>
            </a:r>
            <a:endParaRPr b="0" lang="en-US" sz="2800" spc="-1" strike="noStrike">
              <a:solidFill>
                <a:srgbClr val="000000"/>
              </a:solidFill>
              <a:latin typeface="Arial"/>
            </a:endParaRPr>
          </a:p>
        </p:txBody>
      </p:sp>
      <p:sp>
        <p:nvSpPr>
          <p:cNvPr id="1062" name="PlaceHolder 2"/>
          <p:cNvSpPr>
            <a:spLocks noGrp="1"/>
          </p:cNvSpPr>
          <p:nvPr>
            <p:ph/>
          </p:nvPr>
        </p:nvSpPr>
        <p:spPr>
          <a:xfrm>
            <a:off x="684360" y="1628640"/>
            <a:ext cx="7775280" cy="4824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Poslovna aktivnos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novčani primici</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d prodaje proizvoda, robe, usluga ili kratkoročnih ulaganja koja nisu novčani ekvivalenti</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d kamata i primljenih dividendi</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d naplate šteta od osiguranja, naplate po rješenju sudskih sporov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7D6DC33-A75B-4F2D-931C-135A42E7541C}" type="slidenum">
              <a:t>277</a:t>
            </a:fld>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novčani izdaci</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 nabavu sirovina i materijala, uslug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 plać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 poreze, doprinose, carine, članarine, kazne, penal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 kama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stalo: za karitativne svrhe, novčani povrati kupcima i sl.</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4D422415-98C8-4EEE-B269-9C0A28FFD461}" type="slidenum">
              <a:t>278</a:t>
            </a:fld>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p:nvPr>
        </p:nvSpPr>
        <p:spPr>
          <a:xfrm>
            <a:off x="682560" y="83772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Investicijska aktivnos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ovčani primici:</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prodaje ulaganja u dužničke vrijednosne papire, prodaje zajmova, povrata glavnice odobrenih zajmova, prodaje vlasničkih vrijednosnih papir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ulaganja (kamate, dividende, udjeli, naknade i s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prodaje materijalne i nematerijalne dugotrajne imovine</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ovčani izdaci:</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laganja u dužničke i vlasničke vrijednosne papire, za kupnju dugova, plasmani i zajmovi drugim subjektim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upnju materijalne i nematerijalne imovin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C385C26-17C8-43BB-B47E-4D85E97C9C7E}" type="slidenum">
              <a:t>279</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05" name="PlaceHolder 2"/>
          <p:cNvSpPr>
            <a:spLocks noGrp="1"/>
          </p:cNvSpPr>
          <p:nvPr>
            <p:ph/>
          </p:nvPr>
        </p:nvSpPr>
        <p:spPr>
          <a:xfrm>
            <a:off x="1170000" y="1142640"/>
            <a:ext cx="7772400" cy="4917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BILANCA: sustavni pregled stanja imovine, obveza (dugova) i kapitala u određenom trenutku. Najznačajniji je financijski izvještaj.</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p:txBody>
      </p:sp>
      <p:sp>
        <p:nvSpPr>
          <p:cNvPr id="206" name=""/>
          <p:cNvSpPr/>
          <p:nvPr/>
        </p:nvSpPr>
        <p:spPr>
          <a:xfrm>
            <a:off x="2590920" y="2743200"/>
            <a:ext cx="4800600" cy="2971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rPr>
              <a:t>    </a:t>
            </a:r>
            <a:r>
              <a:rPr b="0" lang="hr-HR" sz="1600" spc="-1" strike="noStrike">
                <a:solidFill>
                  <a:srgbClr val="000000"/>
                </a:solidFill>
                <a:latin typeface="Times New Roman"/>
              </a:rPr>
              <a:t>Aktiva</a:t>
            </a:r>
            <a:r>
              <a:rPr b="0" lang="hr-HR" sz="1000" spc="-1" strike="noStrike">
                <a:solidFill>
                  <a:srgbClr val="000000"/>
                </a:solidFill>
                <a:latin typeface="Times New Roman"/>
              </a:rPr>
              <a:t>	</a:t>
            </a:r>
            <a:r>
              <a:rPr b="0" lang="hr-HR" sz="1000" spc="-1" strike="noStrike">
                <a:solidFill>
                  <a:srgbClr val="000000"/>
                </a:solidFill>
                <a:latin typeface="Times New Roman"/>
              </a:rPr>
              <a:t>	</a:t>
            </a:r>
            <a:r>
              <a:rPr b="0" lang="hr-HR" sz="1000" spc="-1" strike="noStrike">
                <a:solidFill>
                  <a:srgbClr val="000000"/>
                </a:solidFill>
                <a:latin typeface="Times New Roman"/>
              </a:rPr>
              <a:t>  </a:t>
            </a:r>
            <a:r>
              <a:rPr b="1" lang="hr-HR" sz="2000" spc="-1" strike="noStrike">
                <a:solidFill>
                  <a:srgbClr val="000000"/>
                </a:solidFill>
                <a:latin typeface="Times New Roman"/>
              </a:rPr>
              <a:t>Bilanca</a:t>
            </a:r>
            <a:r>
              <a:rPr b="0" lang="hr-HR" sz="1000" spc="-1" strike="noStrike">
                <a:solidFill>
                  <a:srgbClr val="000000"/>
                </a:solidFill>
                <a:latin typeface="Times New Roman"/>
              </a:rPr>
              <a:t>	</a:t>
            </a:r>
            <a:r>
              <a:rPr b="0" lang="hr-HR" sz="1000" spc="-1" strike="noStrike">
                <a:solidFill>
                  <a:srgbClr val="000000"/>
                </a:solidFill>
                <a:latin typeface="Times New Roman"/>
              </a:rPr>
              <a:t>	</a:t>
            </a:r>
            <a:r>
              <a:rPr b="0" lang="hr-HR" sz="1000" spc="-1" strike="noStrike">
                <a:solidFill>
                  <a:srgbClr val="000000"/>
                </a:solidFill>
                <a:latin typeface="Times New Roman"/>
              </a:rPr>
              <a:t>         </a:t>
            </a:r>
            <a:r>
              <a:rPr b="0" lang="hr-HR" sz="1600" spc="-1" strike="noStrike">
                <a:solidFill>
                  <a:srgbClr val="000000"/>
                </a:solidFill>
                <a:latin typeface="Times New Roman"/>
              </a:rPr>
              <a:t>Pas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Imovina</a:t>
            </a:r>
            <a:r>
              <a:rPr b="0" lang="hr-HR" sz="1800" spc="-1" strike="noStrike">
                <a:solidFill>
                  <a:srgbClr val="000000"/>
                </a:solidFill>
                <a:latin typeface="Times New Roman"/>
              </a:rPr>
              <a:t>	</a:t>
            </a:r>
            <a:r>
              <a:rPr b="0" lang="hr-HR" sz="1800" spc="-1" strike="noStrike">
                <a:solidFill>
                  <a:srgbClr val="000000"/>
                </a:solidFill>
                <a:latin typeface="Times New Roman"/>
              </a:rPr>
              <a:t>            Obveze (dugovi)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Kapital (glavn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
          <p:cNvSpPr/>
          <p:nvPr/>
        </p:nvSpPr>
        <p:spPr>
          <a:xfrm>
            <a:off x="2819520" y="3276720"/>
            <a:ext cx="44164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8" name=""/>
          <p:cNvSpPr/>
          <p:nvPr/>
        </p:nvSpPr>
        <p:spPr>
          <a:xfrm>
            <a:off x="4952880" y="3276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2B58FF-1572-4C6B-A519-FE71122F557A}" type="slidenum">
              <a:t>28</a:t>
            </a:fld>
          </a:p>
        </p:txBody>
      </p:sp>
    </p:spTree>
  </p:cSld>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682560" y="609480"/>
            <a:ext cx="77724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Financijska aktivno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ovčani primic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emisije vlasničkih vrijednosnih papira (dion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emisije dužničkih vrijednosnih papira (obveznica, zadužnica), primljenih kredi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ovčani izdac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dividende, otkup vlastitih emitiranih dionica (trezorski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otplatu kredita (samo glavnice zajm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CDD0DCE-5655-4EDE-9C75-2A8B57B36460}" type="slidenum">
              <a:t>280</a:t>
            </a:fld>
          </a:p>
        </p:txBody>
      </p:sp>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823680" y="350640"/>
            <a:ext cx="77864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etode sastavljanja izvještaja o novčanom toku</a:t>
            </a:r>
            <a:endParaRPr b="0" lang="en-US" sz="2800" spc="-1" strike="noStrike">
              <a:solidFill>
                <a:srgbClr val="000000"/>
              </a:solidFill>
              <a:latin typeface="Arial"/>
            </a:endParaRPr>
          </a:p>
        </p:txBody>
      </p:sp>
      <p:sp>
        <p:nvSpPr>
          <p:cNvPr id="1067" name="PlaceHolder 2"/>
          <p:cNvSpPr>
            <a:spLocks noGrp="1"/>
          </p:cNvSpPr>
          <p:nvPr>
            <p:ph/>
          </p:nvPr>
        </p:nvSpPr>
        <p:spPr>
          <a:xfrm>
            <a:off x="682200" y="990720"/>
            <a:ext cx="777564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rektna i indirektna metoda: temeljna razlika je u iskazivanju novčanog toka od poslovnih aktivnos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rektnom metodom iskazuju se osnovne vrste novčanih primitaka i izdataka od poslovnih aktivnosti, nakon toga zbroj odnosno novčani to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ndirektnom metodom novčani tok od poslovnih aktivnosti utvrđuje se neizravno, tj. prilagodbom neto dobiti društva za učinke od a) povećanja ili smanjenja zaliha, potraživanja i obveza, b) amortizacije dugotrajne imovine, prihoda i rashoda od prodaje dugotrajne imovine (koji se odnose na investicijske aktivnosti), prihodi i rashodi od otpisa dugova (financijske aktiv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883D90-8A8B-41E3-953D-79ECE7A2AF65}" type="slidenum">
              <a:t>281</a:t>
            </a:fld>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11280" y="-360"/>
            <a:ext cx="807696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r>
              <a:rPr b="0" lang="hr-HR" sz="2400" spc="-1" strike="noStrike">
                <a:solidFill>
                  <a:srgbClr val="000000"/>
                </a:solidFill>
                <a:latin typeface="Arial"/>
              </a:rPr>
              <a:t>XY” d.d. Izvještaj o novčanom toku (direktna metoda) – 1.1 – 31.12.200x</a:t>
            </a:r>
            <a:endParaRPr b="0" lang="en-US" sz="2400" spc="-1" strike="noStrike">
              <a:solidFill>
                <a:srgbClr val="000000"/>
              </a:solidFill>
              <a:latin typeface="Arial"/>
            </a:endParaRPr>
          </a:p>
        </p:txBody>
      </p:sp>
      <p:sp>
        <p:nvSpPr>
          <p:cNvPr id="1069" name="PlaceHolder 2"/>
          <p:cNvSpPr>
            <a:spLocks noGrp="1"/>
          </p:cNvSpPr>
          <p:nvPr>
            <p:ph/>
          </p:nvPr>
        </p:nvSpPr>
        <p:spPr>
          <a:xfrm>
            <a:off x="468360" y="1103040"/>
            <a:ext cx="8461440" cy="5754600"/>
          </a:xfrm>
          <a:prstGeom prst="rect">
            <a:avLst/>
          </a:prstGeom>
          <a:noFill/>
          <a:ln w="0">
            <a:noFill/>
          </a:ln>
        </p:spPr>
        <p:txBody>
          <a:bodyPr lIns="90000" rIns="90000" tIns="46800" bIns="46800" anchor="t">
            <a:normAutofit/>
          </a:bodyPr>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000000"/>
                </a:solidFill>
                <a:latin typeface="Arial"/>
              </a:rPr>
              <a:t>A Poslovne aktivnosti</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naplate potraživanj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5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naplate u gotovini</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1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obveze dobavljačim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2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plaće</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1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000000"/>
                </a:solidFill>
                <a:latin typeface="Arial"/>
              </a:rPr>
              <a:t>Novac ostvaren iz poslovanja</a:t>
            </a:r>
            <a:r>
              <a:rPr b="0" i="1"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i="1" lang="hr-HR" sz="2200" spc="-1" strike="noStrike">
                <a:solidFill>
                  <a:srgbClr val="000000"/>
                </a:solidFill>
                <a:latin typeface="Arial"/>
              </a:rPr>
              <a:t>3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kamate</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5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poreze</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1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000000"/>
                </a:solidFill>
                <a:latin typeface="Arial"/>
              </a:rPr>
              <a:t>Novac prije izvanrednih stavki</a:t>
            </a:r>
            <a:r>
              <a:rPr b="0" i="1" lang="hr-HR" sz="2200" spc="-1" strike="noStrike">
                <a:solidFill>
                  <a:srgbClr val="000000"/>
                </a:solidFill>
                <a:latin typeface="Arial"/>
              </a:rPr>
              <a:t>	</a:t>
            </a:r>
            <a:r>
              <a:rPr b="0" i="1" lang="hr-HR" sz="2200" spc="-1" strike="noStrike">
                <a:solidFill>
                  <a:srgbClr val="000000"/>
                </a:solidFill>
                <a:latin typeface="Arial"/>
              </a:rPr>
              <a:t>	</a:t>
            </a:r>
            <a:r>
              <a:rPr b="0" i="1" lang="hr-HR" sz="2200" spc="-1" strike="noStrike">
                <a:solidFill>
                  <a:srgbClr val="000000"/>
                </a:solidFill>
                <a:latin typeface="Arial"/>
              </a:rPr>
              <a:t>	</a:t>
            </a:r>
            <a:r>
              <a:rPr b="0" i="1" lang="hr-HR" sz="2200" spc="-1" strike="noStrike">
                <a:solidFill>
                  <a:srgbClr val="000000"/>
                </a:solidFill>
                <a:latin typeface="Arial"/>
              </a:rPr>
              <a:t>	</a:t>
            </a:r>
            <a:r>
              <a:rPr b="0" i="1" lang="hr-HR" sz="2200" spc="-1" strike="noStrike">
                <a:solidFill>
                  <a:srgbClr val="000000"/>
                </a:solidFill>
                <a:latin typeface="Arial"/>
              </a:rPr>
              <a:t>15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naknade šteta od osiguranj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2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Novčani tok od poslovne aktivnosti</a:t>
            </a:r>
            <a:r>
              <a:rPr b="1" lang="hr-HR" sz="2200" spc="-1" strike="noStrike">
                <a:solidFill>
                  <a:srgbClr val="000000"/>
                </a:solidFill>
                <a:latin typeface="Arial"/>
              </a:rPr>
              <a:t>	</a:t>
            </a:r>
            <a:r>
              <a:rPr b="1" lang="hr-HR" sz="2200" spc="-1" strike="noStrike">
                <a:solidFill>
                  <a:srgbClr val="000000"/>
                </a:solidFill>
                <a:latin typeface="Arial"/>
              </a:rPr>
              <a:t>	</a:t>
            </a:r>
            <a:r>
              <a:rPr b="1" lang="hr-HR" sz="2200" spc="-1" strike="noStrike">
                <a:solidFill>
                  <a:srgbClr val="000000"/>
                </a:solidFill>
                <a:latin typeface="Arial"/>
              </a:rPr>
              <a:t>	</a:t>
            </a:r>
            <a:r>
              <a:rPr b="1" lang="hr-HR" sz="2200" spc="-1" strike="noStrike">
                <a:solidFill>
                  <a:srgbClr val="000000"/>
                </a:solidFill>
                <a:latin typeface="Arial"/>
              </a:rPr>
              <a:t>17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000000"/>
                </a:solidFill>
                <a:latin typeface="Arial"/>
              </a:rPr>
              <a:t>B Investicijske aktivnosti</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stjecanje dionic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3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kupnju opreme i građevinskih objekata          -12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prodaje opreme i građevinskih objekata</a:t>
            </a:r>
            <a:r>
              <a:rPr b="0" lang="hr-HR" sz="2200" spc="-1" strike="noStrike">
                <a:solidFill>
                  <a:srgbClr val="000000"/>
                </a:solidFill>
                <a:latin typeface="Arial"/>
              </a:rPr>
              <a:t>	</a:t>
            </a:r>
            <a:r>
              <a:rPr b="0" lang="hr-HR" sz="2200" spc="-1" strike="noStrike">
                <a:solidFill>
                  <a:srgbClr val="000000"/>
                </a:solidFill>
                <a:latin typeface="Arial"/>
              </a:rPr>
              <a:t>2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prodaje dionica i obveznic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7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dividendi</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5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kamata na plasmane</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2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Novčani tok od investicijske aktivnosti</a:t>
            </a:r>
            <a:r>
              <a:rPr b="1" lang="hr-HR" sz="2200" spc="-1" strike="noStrike">
                <a:solidFill>
                  <a:srgbClr val="000000"/>
                </a:solidFill>
                <a:latin typeface="Arial"/>
              </a:rPr>
              <a:t>	</a:t>
            </a:r>
            <a:r>
              <a:rPr b="1" lang="hr-HR" sz="2200" spc="-1" strike="noStrike">
                <a:solidFill>
                  <a:srgbClr val="000000"/>
                </a:solidFill>
                <a:latin typeface="Arial"/>
              </a:rPr>
              <a:t>	</a:t>
            </a:r>
            <a:r>
              <a:rPr b="1" lang="hr-HR" sz="2200" spc="-1" strike="noStrike">
                <a:solidFill>
                  <a:srgbClr val="000000"/>
                </a:solidFill>
                <a:latin typeface="Arial"/>
              </a:rPr>
              <a:t>           190</a:t>
            </a:r>
            <a:r>
              <a:rPr b="0" lang="hr-HR"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1211589-31F2-455B-9AF0-583B4504E9F6}" type="slidenum">
              <a:t>282</a:t>
            </a:fld>
          </a:p>
        </p:txBody>
      </p:sp>
    </p:spTree>
  </p:cSld>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682560" y="380520"/>
            <a:ext cx="77724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C Financijske aktivnost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ici od emisije dionic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4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ici od emisije obveznic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2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ici od primljenih kredit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15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otplatu glavnice kredita i obveznica          -25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otplatu obveza za financijski lizing      </a:t>
            </a:r>
            <a:r>
              <a:rPr b="0" lang="hr-HR" sz="2000" spc="-1" strike="noStrike">
                <a:solidFill>
                  <a:srgbClr val="000000"/>
                </a:solidFill>
                <a:latin typeface="Arial"/>
              </a:rPr>
              <a:t>	</a:t>
            </a:r>
            <a:r>
              <a:rPr b="0" lang="hr-HR" sz="2000" spc="-1" strike="noStrike">
                <a:solidFill>
                  <a:srgbClr val="000000"/>
                </a:solidFill>
                <a:latin typeface="Arial"/>
              </a:rPr>
              <a:t>-5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otkup trezorskih dionic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2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isplate dividendi</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1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Novčani tok od financijske aktivnosti</a:t>
            </a:r>
            <a:r>
              <a:rPr b="1" lang="hr-HR" sz="2000" spc="-1" strike="noStrike">
                <a:solidFill>
                  <a:srgbClr val="000000"/>
                </a:solidFill>
                <a:latin typeface="Arial"/>
              </a:rPr>
              <a:t>	</a:t>
            </a:r>
            <a:r>
              <a:rPr b="1" lang="hr-HR" sz="2000" spc="-1" strike="noStrike">
                <a:solidFill>
                  <a:srgbClr val="000000"/>
                </a:solidFill>
                <a:latin typeface="Arial"/>
              </a:rPr>
              <a:t>            42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Čisti novčani tok (A+B+C)</a:t>
            </a: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78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ovac i novčani ekvivalenti na početku razdoblja     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ovac i novčani ekvivalenti na kraju razdoblja</a:t>
            </a:r>
            <a:r>
              <a:rPr b="0" lang="hr-HR" sz="2000" spc="-1" strike="noStrike">
                <a:solidFill>
                  <a:srgbClr val="000000"/>
                </a:solidFill>
                <a:latin typeface="Arial"/>
              </a:rPr>
              <a:t>	</a:t>
            </a:r>
            <a:r>
              <a:rPr b="0" lang="hr-HR" sz="2000" spc="-1" strike="noStrike">
                <a:solidFill>
                  <a:srgbClr val="000000"/>
                </a:solidFill>
                <a:latin typeface="Arial"/>
              </a:rPr>
              <a:t>880</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većanje (smanjenje) novca i novčanih ekvivalenata</a:t>
            </a:r>
            <a:r>
              <a:rPr b="1" lang="hr-HR" sz="1800" spc="-1" strike="noStrike">
                <a:solidFill>
                  <a:srgbClr val="000000"/>
                </a:solidFill>
                <a:latin typeface="Arial"/>
              </a:rPr>
              <a:t>	</a:t>
            </a:r>
            <a:r>
              <a:rPr b="1" lang="hr-HR" sz="1800" spc="-1" strike="noStrike">
                <a:solidFill>
                  <a:srgbClr val="000000"/>
                </a:solidFill>
                <a:latin typeface="Arial"/>
              </a:rPr>
              <a:t>78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1A2DA21-4D40-4C43-80D0-7D787EBF5BF5}" type="slidenum">
              <a:t>283</a:t>
            </a:fld>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2560" y="0"/>
            <a:ext cx="80805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datak</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072" name="PlaceHolder 2"/>
          <p:cNvSpPr>
            <a:spLocks noGrp="1"/>
          </p:cNvSpPr>
          <p:nvPr>
            <p:ph/>
          </p:nvPr>
        </p:nvSpPr>
        <p:spPr>
          <a:xfrm>
            <a:off x="684360" y="761760"/>
            <a:ext cx="7851600" cy="6095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astavite izvještaj o novčanom toku trgovačkog društva “AB” direktnom (izravnom) metodom temeljem sljedećih podatak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plaćena potraživanj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20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carine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1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laganje u obveznic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7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ani krediti</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8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vrat danih kredit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2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dividend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4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nabavljene strojeve</a:t>
            </a:r>
            <a:r>
              <a:rPr b="0" lang="hr-HR" sz="2000" spc="-1" strike="noStrike">
                <a:solidFill>
                  <a:srgbClr val="000000"/>
                </a:solidFill>
                <a:latin typeface="Arial"/>
              </a:rPr>
              <a:t>	</a:t>
            </a:r>
            <a:r>
              <a:rPr b="0" lang="hr-HR" sz="2000" spc="-1" strike="noStrike">
                <a:solidFill>
                  <a:srgbClr val="000000"/>
                </a:solidFill>
                <a:latin typeface="Arial"/>
              </a:rPr>
              <a:t>          10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kamat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2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laćeni računi za komunalne usluge</a:t>
            </a:r>
            <a:r>
              <a:rPr b="0" lang="hr-HR" sz="2000" spc="-1" strike="noStrike">
                <a:solidFill>
                  <a:srgbClr val="000000"/>
                </a:solidFill>
                <a:latin typeface="Arial"/>
              </a:rPr>
              <a:t>	</a:t>
            </a:r>
            <a:r>
              <a:rPr b="0" lang="hr-HR" sz="2000" spc="-1" strike="noStrike">
                <a:solidFill>
                  <a:srgbClr val="000000"/>
                </a:solidFill>
                <a:latin typeface="Arial"/>
              </a:rPr>
              <a:t>3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dane dionice društva “C”</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7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tplata primljenih kredit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9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plać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6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emitirane dionic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22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ici od prodaje licence</a:t>
            </a:r>
            <a:r>
              <a:rPr b="0" lang="hr-HR" sz="2000" spc="-1" strike="noStrike">
                <a:solidFill>
                  <a:srgbClr val="000000"/>
                </a:solidFill>
                <a:latin typeface="Arial"/>
              </a:rPr>
              <a:t>	</a:t>
            </a:r>
            <a:r>
              <a:rPr b="0" lang="hr-HR" sz="2000" spc="-1" strike="noStrike">
                <a:solidFill>
                  <a:srgbClr val="000000"/>
                </a:solidFill>
                <a:latin typeface="Arial"/>
              </a:rPr>
              <a:t>                      19 000</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CF83BC-0EC0-48D7-ABD7-336C846DAAB9}" type="slidenum">
              <a:t>284</a:t>
            </a:fld>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404280"/>
            <a:ext cx="6980400" cy="211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I INFORMACIJSKI SUSTAV I OSNOVE RAČUNOVODSTVENE ANALIZE</a:t>
            </a:r>
            <a:endParaRPr b="0" lang="en-US" sz="2800" spc="-1" strike="noStrike">
              <a:solidFill>
                <a:srgbClr val="000000"/>
              </a:solidFill>
              <a:latin typeface="Arial"/>
            </a:endParaRPr>
          </a:p>
        </p:txBody>
      </p:sp>
      <p:sp>
        <p:nvSpPr>
          <p:cNvPr id="1074" name="PlaceHolder 2"/>
          <p:cNvSpPr>
            <a:spLocks noGrp="1"/>
          </p:cNvSpPr>
          <p:nvPr>
            <p:ph type="subTitle"/>
          </p:nvPr>
        </p:nvSpPr>
        <p:spPr>
          <a:xfrm>
            <a:off x="395280" y="2997360"/>
            <a:ext cx="6840720" cy="180000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ačunovodstvo kao informacijski sustav</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snove računovodstvene analiz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Financijski pokazatelj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D9F8E18-ECAF-4ECF-91D2-BBC80F1D27F2}" type="slidenum">
              <a:t>285</a:t>
            </a:fld>
          </a:p>
        </p:txBody>
      </p:sp>
    </p:spTree>
  </p:cSld>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Računovodstvo kao informacijski sustav</a:t>
            </a:r>
            <a:endParaRPr b="0" lang="en-US" sz="3800" spc="-1" strike="noStrike">
              <a:solidFill>
                <a:srgbClr val="000000"/>
              </a:solidFill>
              <a:latin typeface="Arial"/>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formacijski sustav – cjelokupnost materijalnih sredstava, programa, timova stručnjaka, metoda i organizacijskih postupaka namijenjenih prikupljanju, obradi, pohranjivanju te dostavljanju podataka i informacija korisnicim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Osnovne sastavnice informacijskog sustava su:</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hardware (materijalna osnov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software (nematerijalna osnov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lifeware (specijalizirani kadrovi) i</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orgware (organizacijska rutin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C88CD60-7EE3-49CF-9B3C-7237A8668D66}" type="slidenum">
              <a:t>286</a:t>
            </a:fld>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6840" y="274320"/>
            <a:ext cx="810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Računovodstvo kao informacijski sustav</a:t>
            </a:r>
            <a:endParaRPr b="0" lang="en-US" sz="3800" spc="-1" strike="noStrike">
              <a:solidFill>
                <a:srgbClr val="000000"/>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možemo promatrati kao skup knjigovodstvene, vrijednosno planske, kontrolno nadzorne i analitičke aktivnosti, te ljudi, imovine, predmeta i postupaka pomoću kojih se te aktivnosti ostvaruju i to u međusobnoj povezanosti i djelovanju.</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spada u red organizacijskog sustava što znači da je ono sustav koji spaja i povezuje prirodne i tehničke elemente s ljudskim potencijalom u svrsishodnu i akcionu cjelinu.</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6211EBB-2323-45B3-A1F2-981CB83A70C1}" type="slidenum">
              <a:t>287</a:t>
            </a:fld>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82656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Računovodstvo kao informacijski sustav</a:t>
            </a:r>
            <a:endParaRPr b="0" lang="en-US" sz="3800" spc="-1" strike="noStrike">
              <a:solidFill>
                <a:srgbClr val="000000"/>
              </a:solidFill>
              <a:latin typeface="Arial"/>
            </a:endParaRPr>
          </a:p>
        </p:txBody>
      </p:sp>
      <p:sp>
        <p:nvSpPr>
          <p:cNvPr id="1080" name="PlaceHolder 2"/>
          <p:cNvSpPr>
            <a:spLocks noGrp="1"/>
          </p:cNvSpPr>
          <p:nvPr>
            <p:ph/>
          </p:nvPr>
        </p:nvSpPr>
        <p:spPr>
          <a:xfrm>
            <a:off x="468360" y="1699920"/>
            <a:ext cx="8229600" cy="49244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Bitna obilježja računovodstva kao informacijskog sustav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cilj,</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funkcija i struktur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ulazni i izlazni sadržaji,</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stanovita pravila i načel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rezultat sustav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okolina i</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informacije kao krajnji rezultat.</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Važnost računovodstva kao informacijskog sustava ogleda se u prikupljanju, obrađivanju, “proizvodnji” i pravodobnoj distribuciji informacija managementu.</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958DCDB-1567-4870-9D54-43C39C8DBADF}" type="slidenum">
              <a:t>288</a:t>
            </a:fld>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Računovodstvo kao informacijski sustav</a:t>
            </a:r>
            <a:endParaRPr b="0" lang="en-US" sz="3800" spc="-1" strike="noStrike">
              <a:solidFill>
                <a:srgbClr val="000000"/>
              </a:solidFill>
              <a:latin typeface="Arial"/>
            </a:endParaRPr>
          </a:p>
        </p:txBody>
      </p:sp>
      <p:sp>
        <p:nvSpPr>
          <p:cNvPr id="1082" name="PlaceHolder 2"/>
          <p:cNvSpPr>
            <a:spLocks noGrp="1"/>
          </p:cNvSpPr>
          <p:nvPr>
            <p:ph/>
          </p:nvPr>
        </p:nvSpPr>
        <p:spPr>
          <a:xfrm>
            <a:off x="457200" y="1699920"/>
            <a:ext cx="8229600" cy="5041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S obzirom da se u računovodstvu podaci bilježe vrijednosno ono informacijski povezuje sve poslovne podsustave čime pridonosi stvaranju jedinstvenog informacijskog sustava poduzeća.</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Računovodstvo je informacijski podsustav jedinstvenog informacijskog sustava poduzeća s ulogom sveobuhvatnog, sustavnog i trajnog iskazivanja podataka i informacija na osnovi dokumenata o svim elementima u poslovnim podsustavima i poslovnom sustavu poduzeća kao cjeline.</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Rezultat je svakog informacijskog sustava informacija kao dosad nepoznat sadržaj njezinom korisniku.</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Informacije koje su rezultat računovodstveno informacijskog sustava sadržane su u računovodstvenim izvještajima, odnosno obračunima, predračunima i analizama kao njihovim nositeljima koje se predočuju managementu.</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A3AA374-9196-417D-B632-359DA4B09E4B}" type="slidenum">
              <a:t>289</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10"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 DOBITI I GUBITKA: financijski izvještaj u kojemu su prikazani prihodi, rashodi i rezultat poslovan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
          <p:cNvSpPr/>
          <p:nvPr/>
        </p:nvSpPr>
        <p:spPr>
          <a:xfrm>
            <a:off x="2438280" y="2514600"/>
            <a:ext cx="5257800" cy="30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743200" y="29718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029200" y="29718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723040" y="2556000"/>
            <a:ext cx="369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000" spc="-1" strike="noStrike">
                <a:solidFill>
                  <a:srgbClr val="000000"/>
                </a:solidFill>
                <a:latin typeface="Times New Roman"/>
              </a:rPr>
              <a:t>Račun dobiti i gubitka</a:t>
            </a:r>
            <a:endParaRPr b="0" lang="en-US" sz="2000" spc="-1" strike="noStrike">
              <a:solidFill>
                <a:srgbClr val="000000"/>
              </a:solidFill>
              <a:latin typeface="Arial"/>
            </a:endParaRPr>
          </a:p>
        </p:txBody>
      </p:sp>
      <p:sp>
        <p:nvSpPr>
          <p:cNvPr id="215" name=""/>
          <p:cNvSpPr/>
          <p:nvPr/>
        </p:nvSpPr>
        <p:spPr>
          <a:xfrm>
            <a:off x="3031200" y="3162240"/>
            <a:ext cx="2034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asho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zitivni financijs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ezultat</a:t>
            </a:r>
            <a:endParaRPr b="0" lang="en-US" sz="1800" spc="-1" strike="noStrike">
              <a:solidFill>
                <a:srgbClr val="000000"/>
              </a:solidFill>
              <a:latin typeface="Arial"/>
            </a:endParaRPr>
          </a:p>
        </p:txBody>
      </p:sp>
      <p:sp>
        <p:nvSpPr>
          <p:cNvPr id="216" name=""/>
          <p:cNvSpPr/>
          <p:nvPr/>
        </p:nvSpPr>
        <p:spPr>
          <a:xfrm>
            <a:off x="5180400" y="3124080"/>
            <a:ext cx="2167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ho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egativni financijsk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ezult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820467-5275-4F96-9C3F-83E92B3A42F3}" type="slidenum">
              <a:t>29</a:t>
            </a:fld>
          </a:p>
        </p:txBody>
      </p:sp>
    </p:spTree>
  </p:cSld>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Osnove računovodstvene analize</a:t>
            </a:r>
            <a:endParaRPr b="0" lang="en-US" sz="3800" spc="-1" strike="noStrike">
              <a:solidFill>
                <a:srgbClr val="000000"/>
              </a:solidFill>
              <a:latin typeface="Arial"/>
            </a:endParaRPr>
          </a:p>
        </p:txBody>
      </p:sp>
      <p:sp>
        <p:nvSpPr>
          <p:cNvPr id="1084" name="PlaceHolder 2"/>
          <p:cNvSpPr>
            <a:spLocks noGrp="1"/>
          </p:cNvSpPr>
          <p:nvPr>
            <p:ph/>
          </p:nvPr>
        </p:nvSpPr>
        <p:spPr>
          <a:xfrm>
            <a:off x="468360" y="1557000"/>
            <a:ext cx="8229600" cy="475308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ena analiza postupak je proučavanja podataka iz računovodstvenih predračuna i obračuna s ciljem davanja prijedloga za poboljšanje poslovnih procesa i stanja. Predstavlja dio ukupne analize poslovanja poduzeća (due dilligence).</a:t>
            </a:r>
            <a:endParaRPr b="0" lang="en-US" sz="2600" spc="-1" strike="noStrike">
              <a:solidFill>
                <a:srgbClr val="000000"/>
              </a:solidFill>
              <a:latin typeface="Arial"/>
            </a:endParaRPr>
          </a:p>
          <a:p>
            <a:pPr marL="335880" indent="-3358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ščlanjivanjem i uspoređivanjem određenih vrijednosti sadržanih u obračunima i predračunima utvrđuje se financijsko stanje i učinkovitost poduzeća, odstupanja planiranih od stvarnih veličina, te se na temelju izračunatih pokazatelja predlažu mjere poboljšanja poslovanja.</a:t>
            </a:r>
            <a:endParaRPr b="0" lang="en-US" sz="2600" spc="-1" strike="noStrike">
              <a:solidFill>
                <a:srgbClr val="000000"/>
              </a:solidFill>
              <a:latin typeface="Arial"/>
            </a:endParaRPr>
          </a:p>
          <a:p>
            <a:pPr marL="335880" indent="-3358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ena analiza najvećim se dijelom odnosi na analizu financijskih izvještaja koja rezultira izračunavanjem niza financijskih pokazatelja kojima se upotpunjuju postojeći financijski izvještaj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5CF4311-90A8-45B4-A8D3-37545D277B20}" type="slidenum">
              <a:t>290</a:t>
            </a:fld>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Struktura bilance</a:t>
            </a:r>
            <a:endParaRPr b="0" lang="en-US" sz="3800" spc="-1" strike="noStrike">
              <a:solidFill>
                <a:srgbClr val="000000"/>
              </a:solidFill>
              <a:latin typeface="Arial"/>
            </a:endParaRPr>
          </a:p>
        </p:txBody>
      </p:sp>
      <p:sp>
        <p:nvSpPr>
          <p:cNvPr id="1086" name=""/>
          <p:cNvSpPr/>
          <p:nvPr/>
        </p:nvSpPr>
        <p:spPr>
          <a:xfrm>
            <a:off x="2124000" y="2421000"/>
            <a:ext cx="1727280" cy="507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KTIVA</a:t>
            </a:r>
            <a:endParaRPr b="0" lang="en-US" sz="1800" spc="-1" strike="noStrike">
              <a:solidFill>
                <a:srgbClr val="000000"/>
              </a:solidFill>
              <a:latin typeface="Arial"/>
            </a:endParaRPr>
          </a:p>
        </p:txBody>
      </p:sp>
      <p:sp>
        <p:nvSpPr>
          <p:cNvPr id="1087" name=""/>
          <p:cNvSpPr/>
          <p:nvPr/>
        </p:nvSpPr>
        <p:spPr>
          <a:xfrm>
            <a:off x="3851280" y="2421000"/>
            <a:ext cx="1727280" cy="50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SIVA</a:t>
            </a:r>
            <a:endParaRPr b="0" lang="en-US" sz="1800" spc="-1" strike="noStrike">
              <a:solidFill>
                <a:srgbClr val="000000"/>
              </a:solidFill>
              <a:latin typeface="Arial"/>
            </a:endParaRPr>
          </a:p>
        </p:txBody>
      </p:sp>
      <p:sp>
        <p:nvSpPr>
          <p:cNvPr id="1088" name=""/>
          <p:cNvSpPr/>
          <p:nvPr/>
        </p:nvSpPr>
        <p:spPr>
          <a:xfrm>
            <a:off x="2124000" y="2924280"/>
            <a:ext cx="1727280" cy="1574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Kratkotrajn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 </a:t>
            </a:r>
            <a:r>
              <a:rPr b="1" lang="hr-HR" sz="1800" spc="-1" strike="noStrike">
                <a:solidFill>
                  <a:srgbClr val="000000"/>
                </a:solidFill>
                <a:latin typeface="Tahoma"/>
              </a:rPr>
              <a:t>imovi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2124000" y="4508640"/>
            <a:ext cx="1727280" cy="142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Dugotrajna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imovi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3851280" y="2924280"/>
            <a:ext cx="1727280" cy="888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Kratkoroč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izvor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sredstava</a:t>
            </a:r>
            <a:endParaRPr b="0" lang="en-US" sz="1800" spc="-1" strike="noStrike">
              <a:solidFill>
                <a:srgbClr val="000000"/>
              </a:solidFill>
              <a:latin typeface="Arial"/>
            </a:endParaRPr>
          </a:p>
        </p:txBody>
      </p:sp>
      <p:sp>
        <p:nvSpPr>
          <p:cNvPr id="1091" name=""/>
          <p:cNvSpPr/>
          <p:nvPr/>
        </p:nvSpPr>
        <p:spPr>
          <a:xfrm>
            <a:off x="3851280" y="3789360"/>
            <a:ext cx="1727280" cy="2160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Dugoroč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izvor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sredsta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3851280" y="4508640"/>
            <a:ext cx="172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5219640" y="4149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6300720" y="3789360"/>
            <a:ext cx="172728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Radni kapital</a:t>
            </a:r>
            <a:endParaRPr b="0" lang="en-US" sz="1800" spc="-1" strike="noStrike">
              <a:solidFill>
                <a:srgbClr val="000000"/>
              </a:solidFill>
              <a:latin typeface="Arial"/>
            </a:endParaRPr>
          </a:p>
        </p:txBody>
      </p:sp>
      <p:sp>
        <p:nvSpPr>
          <p:cNvPr id="1095" name=""/>
          <p:cNvSpPr/>
          <p:nvPr/>
        </p:nvSpPr>
        <p:spPr>
          <a:xfrm>
            <a:off x="5435640" y="5084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6300720" y="4724280"/>
            <a:ext cx="1727280" cy="19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ročni izvor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redsta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Vlastiti k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Tuđi izvor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redstav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A94A1B-80E8-43C1-B199-CB53491944C3}" type="slidenum">
              <a:t>291</a:t>
            </a:fld>
          </a:p>
        </p:txBody>
      </p:sp>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0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Financijski pokazatelji predstavljaju indikatore kao odnose između određenih veličina prikazujući na taj način uspješnost poslovanja poduzeća.</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Najveći dio podataka koji se koristi za izračunavanje pokazatelja nalazi se u temeljnim financijskim izvještajima – bilanci, računu dobiti i gubitka i izvješću o novčanih tokovima.</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813664F-5BB2-4160-855C-DEF1D2C57513}" type="slidenum">
              <a:t>292</a:t>
            </a:fld>
          </a:p>
        </p:txBody>
      </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zlikujemo slijedeće pokazatelj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likvidnost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zaduženost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aktivnost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ekonomičnost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profitabilnost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21193CE-7D49-4B9A-A42C-E3D8C36F4947}" type="slidenum">
              <a:t>293</a:t>
            </a:fld>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0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okazatelji likvidnosti mjere sposobnost poduzeća da u određenom trenutku podmiri svoje obvez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000" spc="-1" strike="noStrike">
                <a:solidFill>
                  <a:srgbClr val="000000"/>
                </a:solidFill>
                <a:latin typeface="Times New Roman"/>
              </a:rPr>
              <a:t>novac + vrijednosni papiri do 3 mj.</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trenutne likvidnosti =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ratkoročne obveze</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ratkotrajna imovin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tekuće likvidnosti =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ratkoročne obvez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dugotrajna imovina</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financijske stabilnosti = </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apital + dugoročne obveze</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Trajni kapital)</a:t>
            </a:r>
            <a:endParaRPr b="0" lang="en-US" sz="2000" spc="-1" strike="noStrike">
              <a:solidFill>
                <a:srgbClr val="000000"/>
              </a:solidFill>
              <a:latin typeface="Arial"/>
            </a:endParaRPr>
          </a:p>
        </p:txBody>
      </p:sp>
      <p:sp>
        <p:nvSpPr>
          <p:cNvPr id="1103" name=""/>
          <p:cNvSpPr/>
          <p:nvPr/>
        </p:nvSpPr>
        <p:spPr>
          <a:xfrm>
            <a:off x="3924360" y="3141720"/>
            <a:ext cx="37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708360" y="4149720"/>
            <a:ext cx="26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140360" y="515772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281B4B-9863-4BC4-84D3-AC30138CE142}" type="slidenum">
              <a:t>294</a:t>
            </a:fld>
          </a:p>
        </p:txBody>
      </p:sp>
    </p:spTree>
  </p:cSld>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07" name="PlaceHolder 2"/>
          <p:cNvSpPr>
            <a:spLocks noGrp="1"/>
          </p:cNvSpPr>
          <p:nvPr>
            <p:ph/>
          </p:nvPr>
        </p:nvSpPr>
        <p:spPr>
          <a:xfrm>
            <a:off x="457200" y="1483920"/>
            <a:ext cx="8229600" cy="4646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kazatelji zaduženosti mjere stupanj zaduženosti poduzeć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e obveze</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zaduženosti =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a imovina</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glavnica</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vlastitog financiranja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a imovina</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e obveze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financiranja =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glavnica</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Bruto dobit</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pokrića troškova kamata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Troškovi kamata </a:t>
            </a:r>
            <a:endParaRPr b="0" lang="en-US" sz="2000" spc="-1" strike="noStrike">
              <a:solidFill>
                <a:srgbClr val="000000"/>
              </a:solidFill>
              <a:latin typeface="Arial"/>
            </a:endParaRPr>
          </a:p>
        </p:txBody>
      </p:sp>
      <p:sp>
        <p:nvSpPr>
          <p:cNvPr id="1108" name=""/>
          <p:cNvSpPr/>
          <p:nvPr/>
        </p:nvSpPr>
        <p:spPr>
          <a:xfrm>
            <a:off x="3132000" y="249228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067280" y="3500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3132000" y="450864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4427640" y="551664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4A9F72-BE0C-4C46-B5B1-8AC5C97DCCAC}" type="slidenum">
              <a:t>295</a:t>
            </a:fld>
          </a:p>
        </p:txBody>
      </p:sp>
    </p:spTree>
  </p:cSld>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680"/>
            <a:ext cx="82296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13"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kazatelji aktivnosti, poznati i kao koeficijenti obrtaja, mjere uspješnost u upravljanju imovinom poduzeća, odnosno brzinu cirkulacije imovine u poslovnom proces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i prihod</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obrtaja ukupne imovine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a imovin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rashodi prodaje robe</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obrtaja zaliha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rosječno stanje zalih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rihod od prodaje</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obrtaja potraživanja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rosječno stanje potraživanj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broj radnih dana u godini</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Trajanje naplate potraživanja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oeficijent obrtaja potraživanja </a:t>
            </a:r>
            <a:endParaRPr b="0" lang="en-US" sz="2000" spc="-1" strike="noStrike">
              <a:solidFill>
                <a:srgbClr val="000000"/>
              </a:solidFill>
              <a:latin typeface="Arial"/>
            </a:endParaRPr>
          </a:p>
        </p:txBody>
      </p:sp>
      <p:sp>
        <p:nvSpPr>
          <p:cNvPr id="1114" name=""/>
          <p:cNvSpPr/>
          <p:nvPr/>
        </p:nvSpPr>
        <p:spPr>
          <a:xfrm>
            <a:off x="4427640" y="2781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3419640" y="378936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067280" y="479736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3851280" y="580536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8AE7F38-0347-4D9D-A84F-E484033D5CFE}" type="slidenum">
              <a:t>296</a:t>
            </a:fld>
          </a:p>
        </p:txBody>
      </p:sp>
    </p:spTree>
  </p:cSld>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19"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kazatelji ekonomičnosti mjere odnos prihoda i rashoda i pokazuju koliko se prihoda ostvari po jedinici rasho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ukupni pri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Ekonomičnost poslovanja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ukupni ras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prihodi od prodaj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Ekonomičnost poslovnih aktivnost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rashodi prodaj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financijski pri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Ekonomičnost financiranja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financijski ras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izvanredni pri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Ekonomičnost izvanrednih aktivnost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izvanredni rashodi</a:t>
            </a:r>
            <a:endParaRPr b="0" lang="en-US" sz="1600" spc="-1" strike="noStrike">
              <a:solidFill>
                <a:srgbClr val="000000"/>
              </a:solidFill>
              <a:latin typeface="Arial"/>
            </a:endParaRPr>
          </a:p>
        </p:txBody>
      </p:sp>
      <p:sp>
        <p:nvSpPr>
          <p:cNvPr id="1120" name=""/>
          <p:cNvSpPr/>
          <p:nvPr/>
        </p:nvSpPr>
        <p:spPr>
          <a:xfrm>
            <a:off x="3348000" y="263700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284720" y="378936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3492360" y="494172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500720" y="609300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FDBA7A-C7C2-4478-A9F6-F8319264BF02}" type="slidenum">
              <a:t>297</a:t>
            </a:fld>
          </a:p>
        </p:txBody>
      </p:sp>
    </p:spTree>
  </p:cSld>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25" name="PlaceHolder 2"/>
          <p:cNvSpPr>
            <a:spLocks noGrp="1"/>
          </p:cNvSpPr>
          <p:nvPr>
            <p:ph/>
          </p:nvPr>
        </p:nvSpPr>
        <p:spPr>
          <a:xfrm>
            <a:off x="250920" y="1196640"/>
            <a:ext cx="8229600" cy="53737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kazatelji profitabilnosti mjere sposobnost poduzeća da ostvari određenu razinu dobiti u odnosu prema prihodima, imovini ili kapitalu.</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bruto dobi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Bruto profitna marža =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i prihod</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neto dobi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Neto profitna marža =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i prihod</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bruto dobi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ofitabilnost imovine (poslovanja) ROA =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a imovina</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neto dobi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ofitabilnost kapitala ROE =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apital (vlasnička glavnica)</a:t>
            </a:r>
            <a:endParaRPr b="0" lang="en-US" sz="2000" spc="-1" strike="noStrike">
              <a:solidFill>
                <a:srgbClr val="000000"/>
              </a:solidFill>
              <a:latin typeface="Arial"/>
            </a:endParaRPr>
          </a:p>
        </p:txBody>
      </p:sp>
      <p:sp>
        <p:nvSpPr>
          <p:cNvPr id="1126" name=""/>
          <p:cNvSpPr/>
          <p:nvPr/>
        </p:nvSpPr>
        <p:spPr>
          <a:xfrm>
            <a:off x="2700360" y="263700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627280" y="378936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43280" y="4941720"/>
            <a:ext cx="18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3348000" y="609300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C643C3-2034-414D-8FCE-A7E3C5C54C4A}" type="slidenum">
              <a:t>298</a:t>
            </a:fld>
          </a:p>
        </p:txBody>
      </p:sp>
    </p:spTree>
  </p:cSld>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250920" y="1125360"/>
            <a:ext cx="705312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Sustav unutarnjih (internih) kontrola </a:t>
            </a:r>
            <a:endParaRPr b="0" lang="en-US" sz="3600" spc="-1" strike="noStrike">
              <a:solidFill>
                <a:srgbClr val="000000"/>
              </a:solidFill>
              <a:latin typeface="Arial"/>
            </a:endParaRPr>
          </a:p>
        </p:txBody>
      </p:sp>
      <p:sp>
        <p:nvSpPr>
          <p:cNvPr id="1131" name="PlaceHolder 2"/>
          <p:cNvSpPr>
            <a:spLocks noGrp="1"/>
          </p:cNvSpPr>
          <p:nvPr>
            <p:ph type="subTitle"/>
          </p:nvPr>
        </p:nvSpPr>
        <p:spPr>
          <a:xfrm>
            <a:off x="250560" y="2852640"/>
            <a:ext cx="7127640" cy="314640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jam i obilježja sustava internih kontrol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truktura sustava internih kontrol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Unutarnje računovodstvene kontro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dministrativne kontro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Unutarnja (interna) revizi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137BAA8-FD1C-4624-A563-749C45AAEBEE}" type="slidenum">
              <a:t>29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OVJERA ZNANJ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davanje (L)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1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lokvij (C)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2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eminar (S)</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2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ismeni dio ispita (WE)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2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smeni dio ispita (OE)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3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UKUPNO</a:t>
            </a:r>
            <a:r>
              <a:rPr b="1" lang="hr-HR" sz="2800" spc="-1" strike="noStrike">
                <a:solidFill>
                  <a:srgbClr val="000000"/>
                </a:solidFill>
                <a:latin typeface="Arial"/>
              </a:rPr>
              <a:t>	</a:t>
            </a:r>
            <a:r>
              <a:rPr b="1" lang="hr-HR" sz="2800" spc="-1" strike="noStrike">
                <a:solidFill>
                  <a:srgbClr val="000000"/>
                </a:solidFill>
                <a:latin typeface="Arial"/>
              </a:rPr>
              <a:t>	</a:t>
            </a:r>
            <a:r>
              <a:rPr b="1" lang="hr-HR" sz="2800" spc="-1" strike="noStrike">
                <a:solidFill>
                  <a:srgbClr val="000000"/>
                </a:solidFill>
                <a:latin typeface="Arial"/>
              </a:rPr>
              <a:t>	</a:t>
            </a:r>
            <a:r>
              <a:rPr b="1" lang="hr-HR" sz="2800" spc="-1" strike="noStrike">
                <a:solidFill>
                  <a:srgbClr val="000000"/>
                </a:solidFill>
                <a:latin typeface="Arial"/>
              </a:rPr>
              <a:t>       100 bodov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1E0A553-97F7-4724-A76B-306FE3E544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18" name="PlaceHolder 2"/>
          <p:cNvSpPr>
            <a:spLocks noGrp="1"/>
          </p:cNvSpPr>
          <p:nvPr>
            <p:ph/>
          </p:nvPr>
        </p:nvSpPr>
        <p:spPr>
          <a:xfrm>
            <a:off x="1170000" y="1066320"/>
            <a:ext cx="7772400" cy="499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JEŠTAJ O NOVČANOM TOKU: financijski izvještaj koji prikazuje kretanje novčanih sredstava tj. njihovo povećanje u obliku priljeva i njihovo smanjenje u obliku odljev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
          <p:cNvSpPr/>
          <p:nvPr/>
        </p:nvSpPr>
        <p:spPr>
          <a:xfrm>
            <a:off x="2514600" y="3124080"/>
            <a:ext cx="5181480" cy="2590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2743200" y="358128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105520" y="35812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796120" y="3089160"/>
            <a:ext cx="389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000" spc="-1" strike="noStrike">
                <a:solidFill>
                  <a:srgbClr val="000000"/>
                </a:solidFill>
                <a:latin typeface="Times New Roman"/>
              </a:rPr>
              <a:t>Izvještaj o novčanom toku</a:t>
            </a:r>
            <a:endParaRPr b="0" lang="en-US" sz="2000" spc="-1" strike="noStrike">
              <a:solidFill>
                <a:srgbClr val="000000"/>
              </a:solidFill>
              <a:latin typeface="Arial"/>
            </a:endParaRPr>
          </a:p>
        </p:txBody>
      </p:sp>
      <p:sp>
        <p:nvSpPr>
          <p:cNvPr id="223" name=""/>
          <p:cNvSpPr/>
          <p:nvPr/>
        </p:nvSpPr>
        <p:spPr>
          <a:xfrm>
            <a:off x="3183480" y="3695760"/>
            <a:ext cx="172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ljev (napla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ovca</a:t>
            </a:r>
            <a:endParaRPr b="0" lang="en-US" sz="1800" spc="-1" strike="noStrike">
              <a:solidFill>
                <a:srgbClr val="000000"/>
              </a:solidFill>
              <a:latin typeface="Arial"/>
            </a:endParaRPr>
          </a:p>
        </p:txBody>
      </p:sp>
      <p:sp>
        <p:nvSpPr>
          <p:cNvPr id="224" name=""/>
          <p:cNvSpPr/>
          <p:nvPr/>
        </p:nvSpPr>
        <p:spPr>
          <a:xfrm>
            <a:off x="5257800" y="377496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5257800" y="373392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jev (ispl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ovc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D10FF8A-66D8-4A00-B8E8-C252E3DB563D}" type="slidenum">
              <a:t>30</a:t>
            </a:fld>
          </a:p>
        </p:txBody>
      </p:sp>
    </p:spTree>
  </p:cSld>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69800" y="396360"/>
            <a:ext cx="808992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3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Poduzeće predstavlja složeni sustav u okviru kojega subjekti koji su s njim povezani nastoje ostvariti svoje ciljeve. Pod tim subjektima se u prvom redu misli na zaposlene, management i vlasnike poduzeća čiji su interesi međusobno suprotstavljeni.</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pravo zbog činjenice što su njihovi interesi suprotstavljeni organizira se sustav internih kontrola kao kontrolni mehanizam koji za funkciju ima zaštitu imovine, sprečavanje i otkrivanje prijevara i pogrešaka te ispravnost, cjelovitost i pravodobnost računovodstvenih informaci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Sustav internih kontrola skup je načela, metoda i postupaka unutarnjih provjera koje je usvojio management i koje mu pomažu u ostvarenju zacrtanih ciljeva odnosno u ostvarenju ciljeva poduzeć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8D58BCD-7232-46F5-9F55-5C45A2E3FBEC}" type="slidenum">
              <a:t>300</a:t>
            </a:fld>
          </a:p>
        </p:txBody>
      </p:sp>
    </p:spTree>
  </p:cSld>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35"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Sustav internih kontrola proteže se iznad onih pitanja koja se izravno odnose na djelovanje računovodstvenog sustav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Arial"/>
              </a:rPr>
              <a:t>Funkcioniranje sustava internih kontrol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On predstavlja skup načela, metoda i postupaka za praćenje ostvarenja postavljenih ciljeva te poduzimanja korektivnih akcija u slučajevima njihova neostvarenja.</a:t>
            </a:r>
            <a:endParaRPr b="0" lang="en-US" sz="2200" spc="-1" strike="noStrike">
              <a:solidFill>
                <a:srgbClr val="000000"/>
              </a:solidFill>
              <a:latin typeface="Arial"/>
            </a:endParaRPr>
          </a:p>
        </p:txBody>
      </p:sp>
      <p:sp>
        <p:nvSpPr>
          <p:cNvPr id="1136" name=""/>
          <p:cNvSpPr/>
          <p:nvPr/>
        </p:nvSpPr>
        <p:spPr>
          <a:xfrm>
            <a:off x="826920" y="3429000"/>
            <a:ext cx="158436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stavljan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iljeva</a:t>
            </a:r>
            <a:endParaRPr b="0" lang="en-US" sz="2000" spc="-1" strike="noStrike">
              <a:solidFill>
                <a:srgbClr val="000000"/>
              </a:solidFill>
              <a:latin typeface="Arial"/>
            </a:endParaRPr>
          </a:p>
        </p:txBody>
      </p:sp>
      <p:sp>
        <p:nvSpPr>
          <p:cNvPr id="1137" name=""/>
          <p:cNvSpPr/>
          <p:nvPr/>
        </p:nvSpPr>
        <p:spPr>
          <a:xfrm>
            <a:off x="2916360" y="3429000"/>
            <a:ext cx="151272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vantifikacij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iljeva</a:t>
            </a:r>
            <a:endParaRPr b="0" lang="en-US" sz="2000" spc="-1" strike="noStrike">
              <a:solidFill>
                <a:srgbClr val="000000"/>
              </a:solidFill>
              <a:latin typeface="Arial"/>
            </a:endParaRPr>
          </a:p>
        </p:txBody>
      </p:sp>
      <p:sp>
        <p:nvSpPr>
          <p:cNvPr id="1138" name=""/>
          <p:cNvSpPr/>
          <p:nvPr/>
        </p:nvSpPr>
        <p:spPr>
          <a:xfrm>
            <a:off x="4932360" y="3429000"/>
            <a:ext cx="151272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nformiran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 ostvarenj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iljeva</a:t>
            </a:r>
            <a:endParaRPr b="0" lang="en-US" sz="2000" spc="-1" strike="noStrike">
              <a:solidFill>
                <a:srgbClr val="000000"/>
              </a:solidFill>
              <a:latin typeface="Arial"/>
            </a:endParaRPr>
          </a:p>
        </p:txBody>
      </p:sp>
      <p:sp>
        <p:nvSpPr>
          <p:cNvPr id="1139" name=""/>
          <p:cNvSpPr/>
          <p:nvPr/>
        </p:nvSpPr>
        <p:spPr>
          <a:xfrm>
            <a:off x="6948360" y="3429000"/>
            <a:ext cx="151128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usta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nterni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rola</a:t>
            </a:r>
            <a:endParaRPr b="0" lang="en-US" sz="2000" spc="-1" strike="noStrike">
              <a:solidFill>
                <a:srgbClr val="000000"/>
              </a:solidFill>
              <a:latin typeface="Arial"/>
            </a:endParaRPr>
          </a:p>
        </p:txBody>
      </p:sp>
      <p:sp>
        <p:nvSpPr>
          <p:cNvPr id="1140" name=""/>
          <p:cNvSpPr/>
          <p:nvPr/>
        </p:nvSpPr>
        <p:spPr>
          <a:xfrm>
            <a:off x="2411280" y="386064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427640" y="3860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644364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1619280" y="4797360"/>
            <a:ext cx="60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a:off x="1619280" y="436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flipV="1">
            <a:off x="7667640" y="436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a:off x="3635280" y="436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a:off x="5724360" y="436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7B1DD5-93A3-4E49-A740-AFBD6379D4BA}" type="slidenum">
              <a:t>301</a:t>
            </a:fld>
          </a:p>
        </p:txBody>
      </p:sp>
    </p:spTree>
  </p:cSld>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49" name="PlaceHolder 2"/>
          <p:cNvSpPr>
            <a:spLocks noGrp="1"/>
          </p:cNvSpPr>
          <p:nvPr>
            <p:ph/>
          </p:nvPr>
        </p:nvSpPr>
        <p:spPr>
          <a:xfrm>
            <a:off x="457200" y="1412640"/>
            <a:ext cx="8362800" cy="471780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Ciljevi interne kontrole odnose se na slijedeća područja:</a:t>
            </a:r>
            <a:endParaRPr b="0" lang="en-US" sz="2600" spc="-1" strike="noStrike">
              <a:solidFill>
                <a:srgbClr val="000000"/>
              </a:solidFill>
              <a:latin typeface="Arial"/>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učinkovitost poslovanja,</a:t>
            </a:r>
            <a:endParaRPr b="0" lang="en-US" sz="2600" spc="-1" strike="noStrike">
              <a:solidFill>
                <a:srgbClr val="000000"/>
              </a:solidFill>
              <a:latin typeface="Arial"/>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uzdanost financijskog izvješćivanja i</a:t>
            </a:r>
            <a:endParaRPr b="0" lang="en-US" sz="2600" spc="-1" strike="noStrike">
              <a:solidFill>
                <a:srgbClr val="000000"/>
              </a:solidFill>
              <a:latin typeface="Arial"/>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usklađenost s primjenjivim zakonima i propisima.</a:t>
            </a:r>
            <a:endParaRPr b="0" lang="en-US" sz="2600" spc="-1" strike="noStrike">
              <a:solidFill>
                <a:srgbClr val="000000"/>
              </a:solidFill>
              <a:latin typeface="Arial"/>
            </a:endParaRPr>
          </a:p>
          <a:p>
            <a:pPr marL="335880" indent="-3358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redmet sustava internih kontrola je usklađenost ciljnog poslovanja poduzeća s unaprijed utvrđenim kriterijima kojima se ocjenjuje ostvarenje postavljenih ciljeva.</a:t>
            </a:r>
            <a:endParaRPr b="0" lang="en-US" sz="2600" spc="-1" strike="noStrike">
              <a:solidFill>
                <a:srgbClr val="000000"/>
              </a:solidFill>
              <a:latin typeface="Arial"/>
            </a:endParaRPr>
          </a:p>
          <a:p>
            <a:pPr marL="335880" indent="-3358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Kriteriji mogu biti: standardi, budžet koji je predviđen za pojedine centre odgovornosti, usvojene računovodstvene politike, propisi, pravilnici, akti managementa i s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BC64F31-D013-4116-BE29-41A1A7423D3D}" type="slidenum">
              <a:t>302</a:t>
            </a:fld>
          </a:p>
        </p:txBody>
      </p:sp>
    </p:spTree>
  </p:cSld>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51"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Načela sustava internih kontrola odnose se na temeljna pravila ponašanja u provođenju kontrolnih postupaka. To su:</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materijalne istine,</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racional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istodob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kontinuiteta,</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pravodob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iznenad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utvrđene odgovor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povratne veze 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selektivnost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B1E4B11-F1C6-44D4-BDAE-0EB1C040F35F}" type="slidenum">
              <a:t>303</a:t>
            </a:fld>
          </a:p>
        </p:txBody>
      </p:sp>
    </p:spTree>
  </p:cSld>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53" name="PlaceHolder 2"/>
          <p:cNvSpPr>
            <a:spLocks noGrp="1"/>
          </p:cNvSpPr>
          <p:nvPr>
            <p:ph/>
          </p:nvPr>
        </p:nvSpPr>
        <p:spPr>
          <a:xfrm>
            <a:off x="468360" y="1268280"/>
            <a:ext cx="8229600" cy="544536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Metode interne kontrole predstavljaju skup postupaka kojih se treba pridržavati prilikom provođenja kontrol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 okviru provođenja interne kontrole koriste se slijedeće metod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Times New Roman"/>
              </a:rPr>
              <a:t>	</a:t>
            </a:r>
            <a:r>
              <a:rPr b="0" lang="hr-HR" sz="2200" spc="-1" strike="noStrike">
                <a:solidFill>
                  <a:srgbClr val="000000"/>
                </a:solidFill>
                <a:latin typeface="Times New Roman"/>
              </a:rPr>
              <a:t>- opće metode istraživanj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Times New Roman"/>
              </a:rPr>
              <a:t>	</a:t>
            </a:r>
            <a:r>
              <a:rPr b="0" lang="hr-HR" sz="2200" spc="-1" strike="noStrike">
                <a:solidFill>
                  <a:srgbClr val="000000"/>
                </a:solidFill>
                <a:latin typeface="Times New Roman"/>
              </a:rPr>
              <a:t>- metode revizij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Times New Roman"/>
              </a:rPr>
              <a:t>	</a:t>
            </a:r>
            <a:r>
              <a:rPr b="0" lang="hr-HR" sz="2200" spc="-1" strike="noStrike">
                <a:solidFill>
                  <a:srgbClr val="000000"/>
                </a:solidFill>
                <a:latin typeface="Times New Roman"/>
              </a:rPr>
              <a:t>- metode glede vremena provjere i</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Times New Roman"/>
              </a:rPr>
              <a:t>	</a:t>
            </a:r>
            <a:r>
              <a:rPr b="0" lang="hr-HR" sz="2200" spc="-1" strike="noStrike">
                <a:solidFill>
                  <a:srgbClr val="000000"/>
                </a:solidFill>
                <a:latin typeface="Times New Roman"/>
              </a:rPr>
              <a:t>- metode glede oblika provje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Vremenske metode obavljaju se u planiranom vremenskom razdoblju, a mogu biti: stalne, povremene i periodičn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Metoda glede oblika provjere može biti osobna ili tehničko-tehnološka ovisno o tome da li je provode zaposleni ili se obavlja pomoću strojeva i apara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DF232D0-09F2-47F3-B278-D35E01647210}" type="slidenum">
              <a:t>304</a:t>
            </a:fld>
          </a:p>
        </p:txBody>
      </p:sp>
    </p:spTree>
  </p:cSld>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Struktura sustava internih kontrola</a:t>
            </a:r>
            <a:endParaRPr b="0" lang="en-US" sz="3900" spc="-1" strike="noStrike">
              <a:solidFill>
                <a:srgbClr val="000000"/>
              </a:solidFill>
              <a:latin typeface="Arial"/>
            </a:endParaRPr>
          </a:p>
        </p:txBody>
      </p:sp>
      <p:sp>
        <p:nvSpPr>
          <p:cNvPr id="1155"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Sustav internih kontrola najčešće sadrž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računovodstvene kontrol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dministrativne kontrole 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unutarnju (internu) reviziju.</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5855897-AB69-445F-A689-AAB2C4F70719}" type="slidenum">
              <a:t>305</a:t>
            </a:fld>
          </a:p>
        </p:txBody>
      </p:sp>
    </p:spTree>
  </p:cSld>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Unutarnje računovodstvene kontrole</a:t>
            </a:r>
            <a:endParaRPr b="0" lang="en-US" sz="3900" spc="-1" strike="noStrike">
              <a:solidFill>
                <a:srgbClr val="000000"/>
              </a:solidFill>
              <a:latin typeface="Arial"/>
            </a:endParaRPr>
          </a:p>
        </p:txBody>
      </p:sp>
      <p:sp>
        <p:nvSpPr>
          <p:cNvPr id="1157"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građene su u sam računovodstveni informacijski sustav u obliku različitih kontrola koje se odnose na provjere računovodstvenih isprava (ulazni sadržaji), kontrolu u okviru računovodstvenog obuhvaćanja poslovnih promjena (računovodstveno procesuiranje) i kontrolu izlaznih sadržaja.</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Funkcioniranje računovodstvenog informacijskog sustava</a:t>
            </a:r>
            <a:endParaRPr b="0" lang="en-US" sz="2200" spc="-1" strike="noStrike">
              <a:solidFill>
                <a:srgbClr val="000000"/>
              </a:solidFill>
              <a:latin typeface="Arial"/>
            </a:endParaRPr>
          </a:p>
        </p:txBody>
      </p:sp>
      <p:sp>
        <p:nvSpPr>
          <p:cNvPr id="1158" name=""/>
          <p:cNvSpPr/>
          <p:nvPr/>
        </p:nvSpPr>
        <p:spPr>
          <a:xfrm>
            <a:off x="755640" y="4365720"/>
            <a:ext cx="172872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laz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nformacije</a:t>
            </a:r>
            <a:endParaRPr b="0" lang="en-US" sz="1800" spc="-1" strike="noStrike">
              <a:solidFill>
                <a:srgbClr val="000000"/>
              </a:solidFill>
              <a:latin typeface="Arial"/>
            </a:endParaRPr>
          </a:p>
        </p:txBody>
      </p:sp>
      <p:sp>
        <p:nvSpPr>
          <p:cNvPr id="1159" name=""/>
          <p:cNvSpPr/>
          <p:nvPr/>
        </p:nvSpPr>
        <p:spPr>
          <a:xfrm>
            <a:off x="3492360" y="4365720"/>
            <a:ext cx="208764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ovodstve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cesuiranje</a:t>
            </a:r>
            <a:endParaRPr b="0" lang="en-US" sz="1800" spc="-1" strike="noStrike">
              <a:solidFill>
                <a:srgbClr val="000000"/>
              </a:solidFill>
              <a:latin typeface="Arial"/>
            </a:endParaRPr>
          </a:p>
        </p:txBody>
      </p:sp>
      <p:sp>
        <p:nvSpPr>
          <p:cNvPr id="1160" name=""/>
          <p:cNvSpPr/>
          <p:nvPr/>
        </p:nvSpPr>
        <p:spPr>
          <a:xfrm>
            <a:off x="6443640" y="4365720"/>
            <a:ext cx="172872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zlaz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nformacije</a:t>
            </a:r>
            <a:endParaRPr b="0" lang="en-US" sz="1800" spc="-1" strike="noStrike">
              <a:solidFill>
                <a:srgbClr val="000000"/>
              </a:solidFill>
              <a:latin typeface="Arial"/>
            </a:endParaRPr>
          </a:p>
        </p:txBody>
      </p:sp>
      <p:sp>
        <p:nvSpPr>
          <p:cNvPr id="1161" name=""/>
          <p:cNvSpPr/>
          <p:nvPr/>
        </p:nvSpPr>
        <p:spPr>
          <a:xfrm>
            <a:off x="2484360" y="479736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5580000" y="4797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169236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64328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738036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755640" y="5373720"/>
            <a:ext cx="1728720" cy="6476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ovodstve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sprave</a:t>
            </a:r>
            <a:endParaRPr b="0" lang="en-US" sz="1800" spc="-1" strike="noStrike">
              <a:solidFill>
                <a:srgbClr val="000000"/>
              </a:solidFill>
              <a:latin typeface="Arial"/>
            </a:endParaRPr>
          </a:p>
        </p:txBody>
      </p:sp>
      <p:sp>
        <p:nvSpPr>
          <p:cNvPr id="1167" name=""/>
          <p:cNvSpPr/>
          <p:nvPr/>
        </p:nvSpPr>
        <p:spPr>
          <a:xfrm>
            <a:off x="3492360" y="5373720"/>
            <a:ext cx="2159280" cy="12952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 nač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 standard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 met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 polit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pisi…</a:t>
            </a:r>
            <a:endParaRPr b="0" lang="en-US" sz="1800" spc="-1" strike="noStrike">
              <a:solidFill>
                <a:srgbClr val="000000"/>
              </a:solidFill>
              <a:latin typeface="Arial"/>
            </a:endParaRPr>
          </a:p>
        </p:txBody>
      </p:sp>
      <p:sp>
        <p:nvSpPr>
          <p:cNvPr id="1168" name=""/>
          <p:cNvSpPr/>
          <p:nvPr/>
        </p:nvSpPr>
        <p:spPr>
          <a:xfrm>
            <a:off x="6443640" y="5373720"/>
            <a:ext cx="1800360" cy="9349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nformacije namijenje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ainteresiran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risnicim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4220A5-CC2E-4072-91C1-A6432CED1715}" type="slidenum">
              <a:t>306</a:t>
            </a:fld>
          </a:p>
        </p:txBody>
      </p:sp>
    </p:spTree>
  </p:cSld>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Administrativne kontrole</a:t>
            </a:r>
            <a:endParaRPr b="0" lang="en-US" sz="3900" spc="-1" strike="noStrike">
              <a:solidFill>
                <a:srgbClr val="000000"/>
              </a:solidFill>
              <a:latin typeface="Arial"/>
            </a:endParaRPr>
          </a:p>
        </p:txBody>
      </p:sp>
      <p:sp>
        <p:nvSpPr>
          <p:cNvPr id="1170"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Predstavljaju takve kontrole koje organizira management u područjima u kojima računovodstvene kontrole nisu ostvarljive ili ne pružaju zadovoljavajuće rezultat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Najčešće se organiziraju u izvođačkom (osnovnim poslovnim funkcijama) i upravljačkom podsustavu.</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 okviru izvođačkog podsustava administrativne kontrole se organiziraju u svrhu provjere operativnih i taktičnih ciljeva koji su kvantificirani poslovnim planovim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 upravljačkom podsustavu kontrolni se postupci organiziraju radi provjere strateških, taktičkih i operativnih ciljeva poslovanja i poduzimanja eventualnih korektivnih akcija. Predstavljaju sintezu računovodstvenih i upravljačkih kontrola i interne revizije. Kontrolne postupke postavljaju i dioničari, a provode se putem nadzornog odbor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FEA4D23-917B-4A3C-9EE7-20BD8EC5D188}" type="slidenum">
              <a:t>307</a:t>
            </a:fld>
          </a:p>
        </p:txBody>
      </p:sp>
    </p:spTree>
  </p:cSld>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Unutarnja (interna) revizija</a:t>
            </a:r>
            <a:endParaRPr b="0" lang="en-US" sz="3900" spc="-1" strike="noStrike">
              <a:solidFill>
                <a:srgbClr val="000000"/>
              </a:solidFill>
              <a:latin typeface="Arial"/>
            </a:endParaRPr>
          </a:p>
        </p:txBody>
      </p:sp>
      <p:sp>
        <p:nvSpPr>
          <p:cNvPr id="1172"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terna revizija oblik je nadzora nad računovodstvenim i administrativnim kontrolama.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Zadatak je interne revizije ispitivanje poslovanja poduzeća, organizacije poslovnih funkcija, učinkovitosti poslovanja, načina donošenja poslovnih odluka, funkcioniranja informacijskog sustava poduzeća i predlaganje mjera poboljšanja poslovanja.</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terna revizija odgovorna je nadzornom odboru poduzeć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EB23A2E-B355-433A-B1A3-4B799CA7D20C}" type="slidenum">
              <a:t>308</a:t>
            </a:fld>
          </a:p>
        </p:txBody>
      </p:sp>
    </p:spTree>
  </p:cSld>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611280" y="836280"/>
            <a:ext cx="669744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Računovodstvo u uvjetima inflacije</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3CC45196-E38D-44EE-ADF2-351C1AB192AD}" type="slidenum">
              <a:t>309</a:t>
            </a:fld>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1">
                                  <p:stCondLst>
                                    <p:cond delay="0"/>
                                  </p:stCondLst>
                                  <p:childTnLst>
                                    <p:set>
                                      <p:cBhvr>
                                        <p:cTn id="134" dur="1" fill="hold">
                                          <p:stCondLst>
                                            <p:cond delay="0"/>
                                          </p:stCondLst>
                                        </p:cTn>
                                        <p:tgtEl>
                                          <p:spTgt spid="1173"/>
                                        </p:tgtEl>
                                        <p:attrNameLst>
                                          <p:attrName>style.visibility</p:attrName>
                                        </p:attrNameLst>
                                      </p:cBhvr>
                                      <p:to>
                                        <p:strVal val="visible"/>
                                      </p:to>
                                    </p:set>
                                    <p:anim calcmode="lin" valueType="num">
                                      <p:cBhvr additive="base">
                                        <p:cTn id="135" dur="500" fill="hold"/>
                                        <p:tgtEl>
                                          <p:spTgt spid="1173"/>
                                        </p:tgtEl>
                                        <p:attrNameLst>
                                          <p:attrName>ppt_x</p:attrName>
                                        </p:attrNameLst>
                                      </p:cBhvr>
                                      <p:tavLst>
                                        <p:tav tm="0">
                                          <p:val>
                                            <p:strVal val="#ppt_x"/>
                                          </p:val>
                                        </p:tav>
                                        <p:tav tm="100000">
                                          <p:val>
                                            <p:strVal val="#ppt_x"/>
                                          </p:val>
                                        </p:tav>
                                      </p:tavLst>
                                    </p:anim>
                                    <p:anim calcmode="lin" valueType="num">
                                      <p:cBhvr additive="base">
                                        <p:cTn id="136" dur="500" fill="hold"/>
                                        <p:tgtEl>
                                          <p:spTgt spid="11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115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27"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JEŠTAJ O PROMJENI VLASNIČKE GLAVNICE: pokazuje promjene na svim pozicijama kapitala unutar određenog vremenskog razdobl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likujem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uloženi kapital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zarađeni kapit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F0F1E2-A6EE-473D-9DE2-D19907133D70}" type="slidenum">
              <a:t>31</a:t>
            </a:fld>
          </a:p>
        </p:txBody>
      </p:sp>
    </p:spTree>
  </p:cSld>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460080" y="122040"/>
            <a:ext cx="8288280" cy="15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 </a:t>
            </a:r>
            <a:r>
              <a:rPr b="0" lang="hr-HR" sz="3900" spc="-1" strike="noStrike">
                <a:solidFill>
                  <a:srgbClr val="000000"/>
                </a:solidFill>
                <a:latin typeface="Arial"/>
              </a:rPr>
              <a:t>Inflacija, stabilnost novčane jedinice i utjecaj na financijske izvještaje</a:t>
            </a:r>
            <a:endParaRPr b="0" lang="en-US" sz="3900" spc="-1" strike="noStrike">
              <a:solidFill>
                <a:srgbClr val="000000"/>
              </a:solidFill>
              <a:latin typeface="Arial"/>
            </a:endParaRPr>
          </a:p>
        </p:txBody>
      </p:sp>
      <p:sp>
        <p:nvSpPr>
          <p:cNvPr id="1175" name="PlaceHolder 2"/>
          <p:cNvSpPr>
            <a:spLocks noGrp="1"/>
          </p:cNvSpPr>
          <p:nvPr>
            <p:ph/>
          </p:nvPr>
        </p:nvSpPr>
        <p:spPr>
          <a:xfrm>
            <a:off x="682200" y="1844280"/>
            <a:ext cx="7775640" cy="4784760"/>
          </a:xfrm>
          <a:prstGeom prst="rect">
            <a:avLst/>
          </a:prstGeom>
          <a:noFill/>
          <a:ln w="0">
            <a:noFill/>
          </a:ln>
        </p:spPr>
        <p:txBody>
          <a:bodyPr lIns="90000" rIns="90000" tIns="46800" bIns="46800" anchor="t">
            <a:normAutofit/>
          </a:bodyPr>
          <a:p>
            <a:pPr marL="533520" indent="-53352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Monetarne i nemonetarne pozicije financijskih izvještaja</a:t>
            </a:r>
            <a:endParaRPr b="0" lang="en-US" sz="2600" spc="-1" strike="noStrike">
              <a:solidFill>
                <a:srgbClr val="000000"/>
              </a:solidFill>
              <a:latin typeface="Arial"/>
            </a:endParaRPr>
          </a:p>
          <a:p>
            <a:pPr marL="533520" indent="-53352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flatorni gubici i dobici </a:t>
            </a:r>
            <a:endParaRPr b="0" lang="en-US" sz="2600" spc="-1" strike="noStrike">
              <a:solidFill>
                <a:srgbClr val="000000"/>
              </a:solidFill>
              <a:latin typeface="Arial"/>
            </a:endParaRPr>
          </a:p>
          <a:p>
            <a:pPr marL="533520" indent="-53352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tenzitet utjecaja inflacije uvjetuju:</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vrijednosni obujam pozicije</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stopa inflacije</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trajanje inflacije</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vrijeme angažiranja vrijednosnog obujma pozicije</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izbor računovodstvenog rješenja za inflatorne uvjet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8D642BA-AFDA-4184-B3C4-EE875769D585}" type="slidenum">
              <a:t>310</a:t>
            </a:fld>
          </a:p>
        </p:txBody>
      </p:sp>
    </p:spTree>
  </p:cSld>
  <p:transition>
    <p:checker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p:nvPr>
        </p:nvSpPr>
        <p:spPr>
          <a:xfrm>
            <a:off x="682560" y="1655280"/>
            <a:ext cx="7772400" cy="44341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Niska zastupljenost gotovine (uslijed porasta cijena inputa, usporavanja naplate potraživanja, ulaganja u nemonetarnu imovinu).</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Utjecaj inflacije na periodični rezultat poslovanja: pozitivni rezultat je precijenjen, negativni podcijenjen;</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posljedice se odražavaju na raspodjelu rezultata poslovanja i na mogućnost nastavka daljnjeg reprodukcijskog procesa</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052351FE-D780-46DB-9CBA-90AA8727626D}" type="slidenum">
              <a:t>311</a:t>
            </a:fld>
          </a:p>
        </p:txBody>
      </p:sp>
    </p:spTree>
  </p:cSld>
  <p:transition>
    <p:checker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ena rješenja za inflatorne uvjete</a:t>
            </a:r>
            <a:endParaRPr b="0" lang="en-US" sz="3900" spc="-1" strike="noStrike">
              <a:solidFill>
                <a:srgbClr val="000000"/>
              </a:solidFill>
              <a:latin typeface="Arial"/>
            </a:endParaRPr>
          </a:p>
        </p:txBody>
      </p:sp>
      <p:sp>
        <p:nvSpPr>
          <p:cNvPr id="1178" name="PlaceHolder 2"/>
          <p:cNvSpPr>
            <a:spLocks noGrp="1"/>
          </p:cNvSpPr>
          <p:nvPr>
            <p:ph/>
          </p:nvPr>
        </p:nvSpPr>
        <p:spPr>
          <a:xfrm>
            <a:off x="682560" y="1655280"/>
            <a:ext cx="7772400" cy="443412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opće kupovne moći, metoda indeksacije – koncept realnog kapitala</a:t>
            </a:r>
            <a:endParaRPr b="0" lang="en-US" sz="2600" spc="-1" strike="noStrike">
              <a:solidFill>
                <a:srgbClr val="000000"/>
              </a:solidFill>
              <a:latin typeface="Arial"/>
            </a:endParaRPr>
          </a:p>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tekuće vrijednosti, tekućih troškova – koncept supstancije ili reprodukcijskog kapitala</a:t>
            </a:r>
            <a:endParaRPr b="0" lang="en-US" sz="2600" spc="-1" strike="noStrike">
              <a:solidFill>
                <a:srgbClr val="000000"/>
              </a:solidFill>
              <a:latin typeface="Arial"/>
            </a:endParaRPr>
          </a:p>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Kombinacije tradicionalnog računovodstva, računovodstva opće kupovne moći i računovodstva tekuće vrijednosti</a:t>
            </a:r>
            <a:endParaRPr b="0" lang="en-US" sz="2600" spc="-1" strike="noStrike">
              <a:solidFill>
                <a:srgbClr val="000000"/>
              </a:solidFill>
              <a:latin typeface="Arial"/>
            </a:endParaRPr>
          </a:p>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Računovodstvene informacije mogu se prikazati kroz: redovite ili suplementarne (dodatne) računovodstvene izvještaj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2E4F02C-7AF0-40FE-B900-7E275C046518}" type="slidenum">
              <a:t>312</a:t>
            </a:fld>
          </a:p>
        </p:txBody>
      </p:sp>
    </p:spTree>
  </p:cSld>
  <p:transition>
    <p:checker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p:nvPr>
        </p:nvSpPr>
        <p:spPr>
          <a:xfrm>
            <a:off x="682200" y="1699920"/>
            <a:ext cx="7775640" cy="4700520"/>
          </a:xfrm>
          <a:prstGeom prst="rect">
            <a:avLst/>
          </a:prstGeom>
          <a:noFill/>
          <a:ln w="0">
            <a:noFill/>
          </a:ln>
        </p:spPr>
        <p:txBody>
          <a:bodyPr lIns="90000" rIns="90000" tIns="46800" bIns="46800" anchor="t">
            <a:normAutofit/>
          </a:bodyPr>
          <a:p>
            <a:pPr marL="343080" indent="-343080">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Očuvana je opća kupovna moć kapitala s početka razdoblja</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ene kategorije iskazane u nabavnim cijenama (polazište: tradicionalno računovodstvo) se svode na vrijednost izraženu općom kupovnom moći novca primjenom indeksa:</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indeksa cijena na malo</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indeksa troškova života</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indeksa cijena na veliko</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deflatora društvenog proizvoda</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Ekonomičniji od koncepta supstancije, ali neadekvatan s aspekta pojedinačnih kretanja cijena</a:t>
            </a:r>
            <a:endParaRPr b="0" lang="en-US" sz="2600" spc="-1" strike="noStrike">
              <a:solidFill>
                <a:srgbClr val="000000"/>
              </a:solidFill>
              <a:latin typeface="Arial"/>
            </a:endParaRPr>
          </a:p>
        </p:txBody>
      </p:sp>
      <p:sp>
        <p:nvSpPr>
          <p:cNvPr id="11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o opće kupovne moći</a:t>
            </a:r>
            <a:endParaRPr b="0" lang="en-US" sz="3900" spc="-1" strike="noStrike">
              <a:solidFill>
                <a:srgbClr val="000000"/>
              </a:solidFill>
              <a:latin typeface="Arial"/>
            </a:endParaRPr>
          </a:p>
        </p:txBody>
      </p:sp>
      <p:sp>
        <p:nvSpPr>
          <p:cNvPr id="4" name="PlaceHolder 3"/>
          <p:cNvSpPr>
            <a:spLocks noGrp="1"/>
          </p:cNvSpPr>
          <p:nvPr>
            <p:ph type="sldNum" idx="3"/>
          </p:nvPr>
        </p:nvSpPr>
        <p:spPr/>
        <p:txBody>
          <a:bodyPr/>
          <a:p>
            <a:fld id="{BE7A94BA-A58B-4CC8-A868-B4F6C4ADFAC2}" type="slidenum">
              <a:t>313</a:t>
            </a:fld>
          </a:p>
        </p:txBody>
      </p:sp>
    </p:spTree>
  </p:cSld>
  <p:transition>
    <p:checker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p:nvPr>
        </p:nvSpPr>
        <p:spPr>
          <a:xfrm>
            <a:off x="647280" y="1609560"/>
            <a:ext cx="7777080" cy="4507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tekuće vrijednosti (očuvana je tekuća reprodukcijska vrijednost imovine s početka razdoblja – osiguranje ponovne kupnje, zamjene, ali je metoda Metoda ekonomske ili sadašnje vrijednosti (procjena budućih diskontiranih neto-primitaka)</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Metoda neto-unovčive prodajne vrijednosti (neto tekuća prodajna cijena)</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Metoda tekuće reprodukcijske skuplja i subjektivnija u odnosu na indeksaciju)</a:t>
            </a:r>
            <a:endParaRPr b="0" lang="en-US" sz="2600" spc="-1" strike="noStrike">
              <a:solidFill>
                <a:srgbClr val="000000"/>
              </a:solidFill>
              <a:latin typeface="Arial"/>
            </a:endParaRPr>
          </a:p>
        </p:txBody>
      </p:sp>
      <p:sp>
        <p:nvSpPr>
          <p:cNvPr id="1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o tekuće vrijednosti</a:t>
            </a:r>
            <a:endParaRPr b="0" lang="en-US" sz="3900" spc="-1" strike="noStrike">
              <a:solidFill>
                <a:srgbClr val="000000"/>
              </a:solidFill>
              <a:latin typeface="Arial"/>
            </a:endParaRPr>
          </a:p>
        </p:txBody>
      </p:sp>
      <p:sp>
        <p:nvSpPr>
          <p:cNvPr id="4" name="PlaceHolder 3"/>
          <p:cNvSpPr>
            <a:spLocks noGrp="1"/>
          </p:cNvSpPr>
          <p:nvPr>
            <p:ph type="sldNum" idx="3"/>
          </p:nvPr>
        </p:nvSpPr>
        <p:spPr/>
        <p:txBody>
          <a:bodyPr/>
          <a:p>
            <a:fld id="{72564EE8-32D3-45C4-92B0-2204E05FE924}" type="slidenum">
              <a:t>314</a:t>
            </a:fld>
          </a:p>
        </p:txBody>
      </p:sp>
    </p:spTree>
  </p:cSld>
  <p:transition>
    <p:checker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609480" y="1700280"/>
            <a:ext cx="7925040" cy="49291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MRS 2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Hiperinflacija:</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učanstvo čuva bogatstvo u nemonetarnoj imovini ili stabilnoj stranoj valuti,</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učanstvo ne izražava novčane iznose u nacionalnoj, nego stabilnoj stranoj valuti,</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rodaja i kupnja na zajam obavlja se cijenama uvećanim za očekivanu inflaciju,</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kamatne stope, plaće i cijene podložne su indeksaciji,</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kumulativna stopa inflacije u tri godine uzastopce je 100% ili više</a:t>
            </a:r>
            <a:endParaRPr b="0" lang="en-US" sz="2600" spc="-1" strike="noStrike">
              <a:solidFill>
                <a:srgbClr val="000000"/>
              </a:solidFill>
              <a:latin typeface="Arial"/>
            </a:endParaRPr>
          </a:p>
        </p:txBody>
      </p:sp>
      <p:sp>
        <p:nvSpPr>
          <p:cNvPr id="11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ena rješenja za hiperinflatorne uvjete</a:t>
            </a:r>
            <a:endParaRPr b="0" lang="en-US" sz="3900" spc="-1" strike="noStrike">
              <a:solidFill>
                <a:srgbClr val="000000"/>
              </a:solidFill>
              <a:latin typeface="Arial"/>
            </a:endParaRPr>
          </a:p>
        </p:txBody>
      </p:sp>
      <p:sp>
        <p:nvSpPr>
          <p:cNvPr id="4" name="PlaceHolder 3"/>
          <p:cNvSpPr>
            <a:spLocks noGrp="1"/>
          </p:cNvSpPr>
          <p:nvPr>
            <p:ph type="sldNum" idx="3"/>
          </p:nvPr>
        </p:nvSpPr>
        <p:spPr/>
        <p:txBody>
          <a:bodyPr/>
          <a:p>
            <a:fld id="{2AB6825F-BEF7-4F53-A081-EBD6A6F026CC}" type="slidenum">
              <a:t>315</a:t>
            </a:fld>
          </a:p>
        </p:txBody>
      </p:sp>
    </p:spTree>
  </p:cSld>
  <p:transition>
    <p:checker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ena rješenja za hiperinflatorne uvjete</a:t>
            </a:r>
            <a:endParaRPr b="0" lang="en-US" sz="3900" spc="-1" strike="noStrike">
              <a:solidFill>
                <a:srgbClr val="000000"/>
              </a:solidFill>
              <a:latin typeface="Arial"/>
            </a:endParaRPr>
          </a:p>
        </p:txBody>
      </p:sp>
      <p:sp>
        <p:nvSpPr>
          <p:cNvPr id="1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Financijski izvještaji uporabljivi su jedino ako su preračunati na kupovnu moć nacionalne valute na dan bilanciranja. Posebno je značajna dosljednost metodologij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evalorizacija: ponovna procjena vrijednost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0227FC9-1A57-49BE-A877-44263ED668B6}"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834920" y="234900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542a00"/>
                </a:solidFill>
                <a:latin typeface="Arial"/>
              </a:rPr>
              <a:t>Dugotrajna imovina</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7848C3C1-ED7B-4ED9-A959-6A3F6B7539C5}" type="slidenum">
              <a:t>317</a:t>
            </a:fld>
          </a:p>
        </p:txBody>
      </p:sp>
    </p:spTree>
  </p:cSld>
  <p:transition>
    <p:circl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1">
                                  <p:stCondLst>
                                    <p:cond delay="0"/>
                                  </p:stCondLst>
                                  <p:childTnLst>
                                    <p:set>
                                      <p:cBhvr>
                                        <p:cTn id="142" dur="1" fill="hold">
                                          <p:stCondLst>
                                            <p:cond delay="0"/>
                                          </p:stCondLst>
                                        </p:cTn>
                                        <p:tgtEl>
                                          <p:spTgt spid="1187"/>
                                        </p:tgtEl>
                                        <p:attrNameLst>
                                          <p:attrName>style.visibility</p:attrName>
                                        </p:attrNameLst>
                                      </p:cBhvr>
                                      <p:to>
                                        <p:strVal val="visible"/>
                                      </p:to>
                                    </p:set>
                                    <p:anim calcmode="lin" valueType="num">
                                      <p:cBhvr additive="base">
                                        <p:cTn id="143" dur="500" fill="hold"/>
                                        <p:tgtEl>
                                          <p:spTgt spid="1187"/>
                                        </p:tgtEl>
                                        <p:attrNameLst>
                                          <p:attrName>ppt_x</p:attrName>
                                        </p:attrNameLst>
                                      </p:cBhvr>
                                      <p:tavLst>
                                        <p:tav tm="0">
                                          <p:val>
                                            <p:strVal val="#ppt_x"/>
                                          </p:val>
                                        </p:tav>
                                        <p:tav tm="100000">
                                          <p:val>
                                            <p:strVal val="#ppt_x"/>
                                          </p:val>
                                        </p:tav>
                                      </p:tavLst>
                                    </p:anim>
                                    <p:anim calcmode="lin" valueType="num">
                                      <p:cBhvr additive="base">
                                        <p:cTn id="144" dur="500" fill="hold"/>
                                        <p:tgtEl>
                                          <p:spTgt spid="11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ojam, obilježja i vrste</a:t>
            </a:r>
            <a:endParaRPr b="0" lang="en-US" sz="3600" spc="-1" strike="noStrike">
              <a:solidFill>
                <a:srgbClr val="000000"/>
              </a:solidFill>
              <a:latin typeface="Arial"/>
            </a:endParaRPr>
          </a:p>
        </p:txBody>
      </p:sp>
      <p:sp>
        <p:nvSpPr>
          <p:cNvPr id="1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trajna imovina je “dio imovine koji će ostati nepromijenjen u vremenskom roku duljem od godine dana i koji neće biti utrošen u jednom normalnom proizvodnom ciklus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bavlja se uglavnom u svrhu korištenja u vlastitom poslovnom procesu na duži ro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Javlja se u slijedećim oblici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aterijalna imovi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ematerijalna imovi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inancijska imovina 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traži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5FC54B-9B48-4127-B408-2BDD569AA0B5}" type="slidenum">
              <a:t>318</a:t>
            </a:fld>
          </a:p>
        </p:txBody>
      </p:sp>
    </p:spTree>
  </p:cSld>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ojam, obilježja i vrste</a:t>
            </a:r>
            <a:endParaRPr b="0" lang="en-US" sz="3600" spc="-1" strike="noStrike">
              <a:solidFill>
                <a:srgbClr val="000000"/>
              </a:solidFill>
              <a:latin typeface="Arial"/>
            </a:endParaRPr>
          </a:p>
        </p:txBody>
      </p:sp>
      <p:grpSp>
        <p:nvGrpSpPr>
          <p:cNvPr id="1191" name=""/>
          <p:cNvGrpSpPr/>
          <p:nvPr/>
        </p:nvGrpSpPr>
        <p:grpSpPr>
          <a:xfrm>
            <a:off x="179280" y="1648440"/>
            <a:ext cx="8785080" cy="3723840"/>
            <a:chOff x="179280" y="1648440"/>
            <a:chExt cx="8785080" cy="3723840"/>
          </a:xfrm>
        </p:grpSpPr>
        <p:cxnSp>
          <p:nvCxnSpPr>
            <p:cNvPr id="1192" name="_s351237"/>
            <p:cNvCxnSpPr>
              <a:stCxn id="1193" idx="0"/>
              <a:endCxn id="1194" idx="2"/>
            </p:cNvCxnSpPr>
            <p:nvPr/>
          </p:nvCxnSpPr>
          <p:spPr>
            <a:xfrm flipV="1" rot="16200000">
              <a:off x="6212160" y="411480"/>
              <a:ext cx="208440" cy="3487680"/>
            </a:xfrm>
            <a:prstGeom prst="bentConnector3">
              <a:avLst>
                <a:gd name="adj1" fmla="val 49480"/>
              </a:avLst>
            </a:prstGeom>
            <a:ln w="28440">
              <a:solidFill>
                <a:srgbClr val="000000"/>
              </a:solidFill>
              <a:miter/>
            </a:ln>
          </p:spPr>
        </p:cxnSp>
        <p:cxnSp>
          <p:nvCxnSpPr>
            <p:cNvPr id="1195" name="_s351238"/>
            <p:cNvCxnSpPr>
              <a:stCxn id="1196" idx="1"/>
              <a:endCxn id="1197" idx="2"/>
            </p:cNvCxnSpPr>
            <p:nvPr/>
          </p:nvCxnSpPr>
          <p:spPr>
            <a:xfrm rot="10800000">
              <a:off x="5943240" y="2662920"/>
              <a:ext cx="310680" cy="2476440"/>
            </a:xfrm>
            <a:prstGeom prst="bentConnector2">
              <a:avLst/>
            </a:prstGeom>
            <a:ln w="28440">
              <a:solidFill>
                <a:srgbClr val="000000"/>
              </a:solidFill>
              <a:miter/>
            </a:ln>
          </p:spPr>
        </p:cxnSp>
        <p:cxnSp>
          <p:nvCxnSpPr>
            <p:cNvPr id="1198" name="_s351239"/>
            <p:cNvCxnSpPr>
              <a:stCxn id="1199" idx="1"/>
              <a:endCxn id="1197" idx="2"/>
            </p:cNvCxnSpPr>
            <p:nvPr/>
          </p:nvCxnSpPr>
          <p:spPr>
            <a:xfrm rot="10800000">
              <a:off x="5943240" y="2662920"/>
              <a:ext cx="310680" cy="1800000"/>
            </a:xfrm>
            <a:prstGeom prst="bentConnector2">
              <a:avLst/>
            </a:prstGeom>
            <a:ln w="28440">
              <a:solidFill>
                <a:srgbClr val="000000"/>
              </a:solidFill>
              <a:miter/>
            </a:ln>
          </p:spPr>
        </p:cxnSp>
        <p:cxnSp>
          <p:nvCxnSpPr>
            <p:cNvPr id="1200" name="_s351240"/>
            <p:cNvCxnSpPr>
              <a:stCxn id="1201" idx="1"/>
              <a:endCxn id="1197" idx="2"/>
            </p:cNvCxnSpPr>
            <p:nvPr/>
          </p:nvCxnSpPr>
          <p:spPr>
            <a:xfrm rot="10800000">
              <a:off x="5943240" y="2662920"/>
              <a:ext cx="310680" cy="1121040"/>
            </a:xfrm>
            <a:prstGeom prst="bentConnector2">
              <a:avLst/>
            </a:prstGeom>
            <a:ln w="28440">
              <a:solidFill>
                <a:srgbClr val="000000"/>
              </a:solidFill>
              <a:miter/>
            </a:ln>
          </p:spPr>
        </p:cxnSp>
        <p:cxnSp>
          <p:nvCxnSpPr>
            <p:cNvPr id="1202" name="_s351241"/>
            <p:cNvCxnSpPr>
              <a:stCxn id="1203" idx="1"/>
              <a:endCxn id="1197" idx="2"/>
            </p:cNvCxnSpPr>
            <p:nvPr/>
          </p:nvCxnSpPr>
          <p:spPr>
            <a:xfrm rot="10800000">
              <a:off x="5943240" y="2662920"/>
              <a:ext cx="310680" cy="443520"/>
            </a:xfrm>
            <a:prstGeom prst="bentConnector2">
              <a:avLst/>
            </a:prstGeom>
            <a:ln w="28440">
              <a:solidFill>
                <a:srgbClr val="000000"/>
              </a:solidFill>
              <a:miter/>
            </a:ln>
          </p:spPr>
        </p:cxnSp>
        <p:cxnSp>
          <p:nvCxnSpPr>
            <p:cNvPr id="1204" name="_s351242"/>
            <p:cNvCxnSpPr>
              <a:stCxn id="1205" idx="1"/>
              <a:endCxn id="1206" idx="2"/>
            </p:cNvCxnSpPr>
            <p:nvPr/>
          </p:nvCxnSpPr>
          <p:spPr>
            <a:xfrm rot="10800000">
              <a:off x="3512520" y="2662920"/>
              <a:ext cx="310680" cy="2476440"/>
            </a:xfrm>
            <a:prstGeom prst="bentConnector2">
              <a:avLst/>
            </a:prstGeom>
            <a:ln w="28440">
              <a:solidFill>
                <a:srgbClr val="000000"/>
              </a:solidFill>
              <a:miter/>
            </a:ln>
          </p:spPr>
        </p:cxnSp>
        <p:cxnSp>
          <p:nvCxnSpPr>
            <p:cNvPr id="1207" name="_s351243"/>
            <p:cNvCxnSpPr>
              <a:stCxn id="1208" idx="1"/>
              <a:endCxn id="1206" idx="2"/>
            </p:cNvCxnSpPr>
            <p:nvPr/>
          </p:nvCxnSpPr>
          <p:spPr>
            <a:xfrm rot="10800000">
              <a:off x="3512520" y="2662920"/>
              <a:ext cx="310680" cy="1800000"/>
            </a:xfrm>
            <a:prstGeom prst="bentConnector2">
              <a:avLst/>
            </a:prstGeom>
            <a:ln w="28440">
              <a:solidFill>
                <a:srgbClr val="000000"/>
              </a:solidFill>
              <a:miter/>
            </a:ln>
          </p:spPr>
        </p:cxnSp>
        <p:cxnSp>
          <p:nvCxnSpPr>
            <p:cNvPr id="1209" name="_s351244"/>
            <p:cNvCxnSpPr>
              <a:stCxn id="1210" idx="1"/>
              <a:endCxn id="1206" idx="2"/>
            </p:cNvCxnSpPr>
            <p:nvPr/>
          </p:nvCxnSpPr>
          <p:spPr>
            <a:xfrm rot="10800000">
              <a:off x="3512520" y="2662920"/>
              <a:ext cx="310680" cy="1121040"/>
            </a:xfrm>
            <a:prstGeom prst="bentConnector2">
              <a:avLst/>
            </a:prstGeom>
            <a:ln w="28440">
              <a:solidFill>
                <a:srgbClr val="000000"/>
              </a:solidFill>
              <a:miter/>
            </a:ln>
          </p:spPr>
        </p:cxnSp>
        <p:cxnSp>
          <p:nvCxnSpPr>
            <p:cNvPr id="1211" name="_s351245"/>
            <p:cNvCxnSpPr>
              <a:stCxn id="1212" idx="1"/>
              <a:endCxn id="1206" idx="2"/>
            </p:cNvCxnSpPr>
            <p:nvPr/>
          </p:nvCxnSpPr>
          <p:spPr>
            <a:xfrm rot="10800000">
              <a:off x="3512520" y="2662920"/>
              <a:ext cx="310680" cy="443520"/>
            </a:xfrm>
            <a:prstGeom prst="bentConnector2">
              <a:avLst/>
            </a:prstGeom>
            <a:ln w="28440">
              <a:solidFill>
                <a:srgbClr val="000000"/>
              </a:solidFill>
              <a:miter/>
            </a:ln>
          </p:spPr>
        </p:cxnSp>
        <p:cxnSp>
          <p:nvCxnSpPr>
            <p:cNvPr id="1213" name="_s351246"/>
            <p:cNvCxnSpPr>
              <a:stCxn id="1214" idx="1"/>
              <a:endCxn id="1215" idx="2"/>
            </p:cNvCxnSpPr>
            <p:nvPr/>
          </p:nvCxnSpPr>
          <p:spPr>
            <a:xfrm rot="10800000">
              <a:off x="1082520" y="2662920"/>
              <a:ext cx="309960" cy="2476440"/>
            </a:xfrm>
            <a:prstGeom prst="bentConnector2">
              <a:avLst/>
            </a:prstGeom>
            <a:ln w="28440">
              <a:solidFill>
                <a:srgbClr val="000000"/>
              </a:solidFill>
              <a:miter/>
            </a:ln>
          </p:spPr>
        </p:cxnSp>
        <p:cxnSp>
          <p:nvCxnSpPr>
            <p:cNvPr id="1216" name="_s351247"/>
            <p:cNvCxnSpPr>
              <a:stCxn id="1217" idx="1"/>
              <a:endCxn id="1215" idx="2"/>
            </p:cNvCxnSpPr>
            <p:nvPr/>
          </p:nvCxnSpPr>
          <p:spPr>
            <a:xfrm rot="10800000">
              <a:off x="1082520" y="2662920"/>
              <a:ext cx="309960" cy="1800000"/>
            </a:xfrm>
            <a:prstGeom prst="bentConnector2">
              <a:avLst/>
            </a:prstGeom>
            <a:ln w="28440">
              <a:solidFill>
                <a:srgbClr val="000000"/>
              </a:solidFill>
              <a:miter/>
            </a:ln>
          </p:spPr>
        </p:cxnSp>
        <p:cxnSp>
          <p:nvCxnSpPr>
            <p:cNvPr id="1218" name="_s351248"/>
            <p:cNvCxnSpPr>
              <a:stCxn id="1219" idx="1"/>
              <a:endCxn id="1215" idx="2"/>
            </p:cNvCxnSpPr>
            <p:nvPr/>
          </p:nvCxnSpPr>
          <p:spPr>
            <a:xfrm rot="10800000">
              <a:off x="1082520" y="2662920"/>
              <a:ext cx="309960" cy="1121040"/>
            </a:xfrm>
            <a:prstGeom prst="bentConnector2">
              <a:avLst/>
            </a:prstGeom>
            <a:ln w="28440">
              <a:solidFill>
                <a:srgbClr val="000000"/>
              </a:solidFill>
              <a:miter/>
            </a:ln>
          </p:spPr>
        </p:cxnSp>
        <p:cxnSp>
          <p:nvCxnSpPr>
            <p:cNvPr id="1220" name="_s351249"/>
            <p:cNvCxnSpPr>
              <a:stCxn id="1221" idx="1"/>
              <a:endCxn id="1215" idx="2"/>
            </p:cNvCxnSpPr>
            <p:nvPr/>
          </p:nvCxnSpPr>
          <p:spPr>
            <a:xfrm rot="10800000">
              <a:off x="1082520" y="2662920"/>
              <a:ext cx="309960" cy="443520"/>
            </a:xfrm>
            <a:prstGeom prst="bentConnector2">
              <a:avLst/>
            </a:prstGeom>
            <a:ln w="28440">
              <a:solidFill>
                <a:srgbClr val="000000"/>
              </a:solidFill>
              <a:miter/>
            </a:ln>
          </p:spPr>
        </p:cxnSp>
        <p:cxnSp>
          <p:nvCxnSpPr>
            <p:cNvPr id="1222" name="_s351250"/>
            <p:cNvCxnSpPr>
              <a:stCxn id="1197" idx="0"/>
              <a:endCxn id="1194" idx="2"/>
            </p:cNvCxnSpPr>
            <p:nvPr/>
          </p:nvCxnSpPr>
          <p:spPr>
            <a:xfrm flipV="1" rot="16200000">
              <a:off x="5154120" y="1469520"/>
              <a:ext cx="208440" cy="1371600"/>
            </a:xfrm>
            <a:prstGeom prst="bentConnector3">
              <a:avLst>
                <a:gd name="adj1" fmla="val 49480"/>
              </a:avLst>
            </a:prstGeom>
            <a:ln w="28440">
              <a:solidFill>
                <a:srgbClr val="000000"/>
              </a:solidFill>
              <a:miter/>
            </a:ln>
          </p:spPr>
        </p:cxnSp>
        <p:cxnSp>
          <p:nvCxnSpPr>
            <p:cNvPr id="1223" name="_s351251"/>
            <p:cNvCxnSpPr>
              <a:stCxn id="1206" idx="0"/>
              <a:endCxn id="1194" idx="2"/>
            </p:cNvCxnSpPr>
            <p:nvPr/>
          </p:nvCxnSpPr>
          <p:spPr>
            <a:xfrm flipH="1" flipV="1" rot="5400000">
              <a:off x="3938760" y="1625400"/>
              <a:ext cx="208440" cy="1060200"/>
            </a:xfrm>
            <a:prstGeom prst="bentConnector3">
              <a:avLst>
                <a:gd name="adj1" fmla="val 49480"/>
              </a:avLst>
            </a:prstGeom>
            <a:ln w="28440">
              <a:solidFill>
                <a:srgbClr val="000000"/>
              </a:solidFill>
              <a:miter/>
            </a:ln>
          </p:spPr>
        </p:cxnSp>
        <p:cxnSp>
          <p:nvCxnSpPr>
            <p:cNvPr id="1224" name="_s351252"/>
            <p:cNvCxnSpPr>
              <a:stCxn id="1215" idx="0"/>
              <a:endCxn id="1194" idx="2"/>
            </p:cNvCxnSpPr>
            <p:nvPr/>
          </p:nvCxnSpPr>
          <p:spPr>
            <a:xfrm flipH="1" flipV="1" rot="5400000">
              <a:off x="2723760" y="410400"/>
              <a:ext cx="208440" cy="3490200"/>
            </a:xfrm>
            <a:prstGeom prst="bentConnector3">
              <a:avLst>
                <a:gd name="adj1" fmla="val 49480"/>
              </a:avLst>
            </a:prstGeom>
            <a:ln w="28440">
              <a:solidFill>
                <a:srgbClr val="000000"/>
              </a:solidFill>
              <a:miter/>
            </a:ln>
          </p:spPr>
        </p:cxnSp>
        <p:sp>
          <p:nvSpPr>
            <p:cNvPr id="1194" name="_s351253"/>
            <p:cNvSpPr/>
            <p:nvPr/>
          </p:nvSpPr>
          <p:spPr>
            <a:xfrm>
              <a:off x="3666240" y="1648440"/>
              <a:ext cx="1808280" cy="403560"/>
            </a:xfrm>
            <a:prstGeom prst="roundRect">
              <a:avLst>
                <a:gd name="adj" fmla="val 16667"/>
              </a:avLst>
            </a:prstGeom>
            <a:solidFill>
              <a:srgbClr val="ffffff">
                <a:alpha val="58000"/>
              </a:srgbClr>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rPr>
                <a:t>Dugotrajna imovina</a:t>
              </a:r>
              <a:endParaRPr b="0" lang="en-US" sz="1700" spc="-1" strike="noStrike">
                <a:solidFill>
                  <a:srgbClr val="000000"/>
                </a:solidFill>
                <a:latin typeface="Arial"/>
              </a:endParaRPr>
            </a:p>
          </p:txBody>
        </p:sp>
        <p:sp>
          <p:nvSpPr>
            <p:cNvPr id="1215" name="_s351254"/>
            <p:cNvSpPr/>
            <p:nvPr/>
          </p:nvSpPr>
          <p:spPr>
            <a:xfrm>
              <a:off x="179280" y="2260080"/>
              <a:ext cx="1806120" cy="4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Materijalna imovina</a:t>
              </a:r>
              <a:endParaRPr b="0" lang="en-US" sz="1600" spc="-1" strike="noStrike">
                <a:solidFill>
                  <a:srgbClr val="000000"/>
                </a:solidFill>
                <a:latin typeface="Arial"/>
              </a:endParaRPr>
            </a:p>
          </p:txBody>
        </p:sp>
        <p:sp>
          <p:nvSpPr>
            <p:cNvPr id="1206" name="_s351255"/>
            <p:cNvSpPr/>
            <p:nvPr/>
          </p:nvSpPr>
          <p:spPr>
            <a:xfrm>
              <a:off x="2609280" y="2260080"/>
              <a:ext cx="1806480" cy="4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Nematerijalna imovina</a:t>
              </a:r>
              <a:endParaRPr b="0" lang="en-US" sz="1600" spc="-1" strike="noStrike">
                <a:solidFill>
                  <a:srgbClr val="000000"/>
                </a:solidFill>
                <a:latin typeface="Arial"/>
              </a:endParaRPr>
            </a:p>
          </p:txBody>
        </p:sp>
        <p:sp>
          <p:nvSpPr>
            <p:cNvPr id="1197" name="_s351256"/>
            <p:cNvSpPr/>
            <p:nvPr/>
          </p:nvSpPr>
          <p:spPr>
            <a:xfrm>
              <a:off x="5039640" y="2260080"/>
              <a:ext cx="1806480" cy="4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Financijska imovina</a:t>
              </a:r>
              <a:endParaRPr b="0" lang="en-US" sz="1600" spc="-1" strike="noStrike">
                <a:solidFill>
                  <a:srgbClr val="000000"/>
                </a:solidFill>
                <a:latin typeface="Arial"/>
              </a:endParaRPr>
            </a:p>
          </p:txBody>
        </p:sp>
        <p:sp>
          <p:nvSpPr>
            <p:cNvPr id="1221" name="_s351257"/>
            <p:cNvSpPr/>
            <p:nvPr/>
          </p:nvSpPr>
          <p:spPr>
            <a:xfrm>
              <a:off x="1392840" y="2871720"/>
              <a:ext cx="180648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Zemljišta i šume</a:t>
              </a:r>
              <a:endParaRPr b="0" lang="en-US" sz="1500" spc="-1" strike="noStrike">
                <a:solidFill>
                  <a:srgbClr val="000000"/>
                </a:solidFill>
                <a:latin typeface="Arial"/>
              </a:endParaRPr>
            </a:p>
          </p:txBody>
        </p:sp>
        <p:sp>
          <p:nvSpPr>
            <p:cNvPr id="1219" name="_s351258"/>
            <p:cNvSpPr/>
            <p:nvPr/>
          </p:nvSpPr>
          <p:spPr>
            <a:xfrm>
              <a:off x="1392840" y="3549240"/>
              <a:ext cx="180648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Građevinski objekti</a:t>
              </a:r>
              <a:endParaRPr b="0" lang="en-US" sz="1500" spc="-1" strike="noStrike">
                <a:solidFill>
                  <a:srgbClr val="000000"/>
                </a:solidFill>
                <a:latin typeface="Arial"/>
              </a:endParaRPr>
            </a:p>
          </p:txBody>
        </p:sp>
        <p:sp>
          <p:nvSpPr>
            <p:cNvPr id="1217" name="_s351259"/>
            <p:cNvSpPr/>
            <p:nvPr/>
          </p:nvSpPr>
          <p:spPr>
            <a:xfrm>
              <a:off x="1392840" y="4227120"/>
              <a:ext cx="180648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21600" rIns="216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Postrojenja i oprema</a:t>
              </a:r>
              <a:endParaRPr b="0" lang="en-US" sz="1500" spc="-1" strike="noStrike">
                <a:solidFill>
                  <a:srgbClr val="000000"/>
                </a:solidFill>
                <a:latin typeface="Arial"/>
              </a:endParaRPr>
            </a:p>
          </p:txBody>
        </p:sp>
        <p:sp>
          <p:nvSpPr>
            <p:cNvPr id="1214" name="_s351260"/>
            <p:cNvSpPr/>
            <p:nvPr/>
          </p:nvSpPr>
          <p:spPr>
            <a:xfrm>
              <a:off x="1392840" y="4904280"/>
              <a:ext cx="180648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21600" rIns="216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Alati, transportna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sredstva</a:t>
              </a:r>
              <a:endParaRPr b="0" lang="en-US" sz="1500" spc="-1" strike="noStrike">
                <a:solidFill>
                  <a:srgbClr val="000000"/>
                </a:solidFill>
                <a:latin typeface="Arial"/>
              </a:endParaRPr>
            </a:p>
          </p:txBody>
        </p:sp>
        <p:sp>
          <p:nvSpPr>
            <p:cNvPr id="1212" name="_s351261"/>
            <p:cNvSpPr/>
            <p:nvPr/>
          </p:nvSpPr>
          <p:spPr>
            <a:xfrm>
              <a:off x="3823560" y="287172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22680" rIns="2268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Franšize</a:t>
              </a:r>
              <a:endParaRPr b="0" lang="en-US" sz="1500" spc="-1" strike="noStrike">
                <a:solidFill>
                  <a:srgbClr val="000000"/>
                </a:solidFill>
                <a:latin typeface="Arial"/>
              </a:endParaRPr>
            </a:p>
          </p:txBody>
        </p:sp>
        <p:sp>
          <p:nvSpPr>
            <p:cNvPr id="1210" name="_s351262"/>
            <p:cNvSpPr/>
            <p:nvPr/>
          </p:nvSpPr>
          <p:spPr>
            <a:xfrm>
              <a:off x="3823560" y="354924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30240" rIns="3024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Izdaci za istraživanje i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razvoj</a:t>
              </a:r>
              <a:endParaRPr b="0" lang="en-US" sz="1500" spc="-1" strike="noStrike">
                <a:solidFill>
                  <a:srgbClr val="000000"/>
                </a:solidFill>
                <a:latin typeface="Arial"/>
              </a:endParaRPr>
            </a:p>
          </p:txBody>
        </p:sp>
        <p:sp>
          <p:nvSpPr>
            <p:cNvPr id="1208" name="_s351263"/>
            <p:cNvSpPr/>
            <p:nvPr/>
          </p:nvSpPr>
          <p:spPr>
            <a:xfrm>
              <a:off x="3823560" y="422712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34560" rIns="3456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Patenti, licencij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 </a:t>
              </a:r>
              <a:r>
                <a:rPr b="0" lang="hr-HR" sz="1500" spc="-1" strike="noStrike">
                  <a:solidFill>
                    <a:srgbClr val="000000"/>
                  </a:solidFill>
                  <a:latin typeface="Times New Roman"/>
                </a:rPr>
                <a:t>koncesije</a:t>
              </a:r>
              <a:endParaRPr b="0" lang="en-US" sz="1500" spc="-1" strike="noStrike">
                <a:solidFill>
                  <a:srgbClr val="000000"/>
                </a:solidFill>
                <a:latin typeface="Arial"/>
              </a:endParaRPr>
            </a:p>
          </p:txBody>
        </p:sp>
        <p:sp>
          <p:nvSpPr>
            <p:cNvPr id="1205" name="_s351264"/>
            <p:cNvSpPr/>
            <p:nvPr/>
          </p:nvSpPr>
          <p:spPr>
            <a:xfrm>
              <a:off x="3823560" y="490428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0680" rIns="4068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Goodwill</a:t>
              </a:r>
              <a:endParaRPr b="0" lang="en-US" sz="1500" spc="-1" strike="noStrike">
                <a:solidFill>
                  <a:srgbClr val="000000"/>
                </a:solidFill>
                <a:latin typeface="Arial"/>
              </a:endParaRPr>
            </a:p>
          </p:txBody>
        </p:sp>
        <p:sp>
          <p:nvSpPr>
            <p:cNvPr id="1203" name="_s351265"/>
            <p:cNvSpPr/>
            <p:nvPr/>
          </p:nvSpPr>
          <p:spPr>
            <a:xfrm>
              <a:off x="6253920" y="287172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0680" rIns="4068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Udjeli i zajmovi</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Povezanim društvima</a:t>
              </a:r>
              <a:endParaRPr b="0" lang="en-US" sz="1500" spc="-1" strike="noStrike">
                <a:solidFill>
                  <a:srgbClr val="000000"/>
                </a:solidFill>
                <a:latin typeface="Arial"/>
              </a:endParaRPr>
            </a:p>
          </p:txBody>
        </p:sp>
        <p:sp>
          <p:nvSpPr>
            <p:cNvPr id="1201" name="_s351266"/>
            <p:cNvSpPr/>
            <p:nvPr/>
          </p:nvSpPr>
          <p:spPr>
            <a:xfrm>
              <a:off x="6253920" y="354924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0680" rIns="4068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Ulaganja u vrijednosn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 </a:t>
              </a:r>
              <a:r>
                <a:rPr b="0" lang="hr-HR" sz="1500" spc="-1" strike="noStrike">
                  <a:solidFill>
                    <a:srgbClr val="000000"/>
                  </a:solidFill>
                  <a:latin typeface="Times New Roman"/>
                </a:rPr>
                <a:t>papire</a:t>
              </a:r>
              <a:endParaRPr b="0" lang="en-US" sz="1500" spc="-1" strike="noStrike">
                <a:solidFill>
                  <a:srgbClr val="000000"/>
                </a:solidFill>
                <a:latin typeface="Arial"/>
              </a:endParaRPr>
            </a:p>
          </p:txBody>
        </p:sp>
        <p:sp>
          <p:nvSpPr>
            <p:cNvPr id="1199" name="_s351267"/>
            <p:cNvSpPr/>
            <p:nvPr/>
          </p:nvSpPr>
          <p:spPr>
            <a:xfrm>
              <a:off x="6253920" y="422712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2120" rIns="4212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Dani krediti, depoziti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 </a:t>
              </a:r>
              <a:r>
                <a:rPr b="0" lang="hr-HR" sz="1500" spc="-1" strike="noStrike">
                  <a:solidFill>
                    <a:srgbClr val="000000"/>
                  </a:solidFill>
                  <a:latin typeface="Times New Roman"/>
                </a:rPr>
                <a:t>i kaucije</a:t>
              </a:r>
              <a:endParaRPr b="0" lang="en-US" sz="1500" spc="-1" strike="noStrike">
                <a:solidFill>
                  <a:srgbClr val="000000"/>
                </a:solidFill>
                <a:latin typeface="Arial"/>
              </a:endParaRPr>
            </a:p>
          </p:txBody>
        </p:sp>
        <p:sp>
          <p:nvSpPr>
            <p:cNvPr id="1196" name="_s351268"/>
            <p:cNvSpPr/>
            <p:nvPr/>
          </p:nvSpPr>
          <p:spPr>
            <a:xfrm>
              <a:off x="6253920" y="490428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2120" rIns="4212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Otkupljene vlastit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dionice</a:t>
              </a:r>
              <a:endParaRPr b="0" lang="en-US" sz="1500" spc="-1" strike="noStrike">
                <a:solidFill>
                  <a:srgbClr val="000000"/>
                </a:solidFill>
                <a:latin typeface="Arial"/>
              </a:endParaRPr>
            </a:p>
          </p:txBody>
        </p:sp>
        <p:sp>
          <p:nvSpPr>
            <p:cNvPr id="1193" name="_s351269"/>
            <p:cNvSpPr/>
            <p:nvPr/>
          </p:nvSpPr>
          <p:spPr>
            <a:xfrm>
              <a:off x="7158240" y="2260080"/>
              <a:ext cx="1806120" cy="4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3800" rIns="738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otraživanja</a:t>
              </a:r>
              <a:endParaRPr b="0" lang="en-US" sz="1500" spc="-1" strike="noStrike">
                <a:solidFill>
                  <a:srgbClr val="000000"/>
                </a:solidFill>
                <a:latin typeface="Arial"/>
              </a:endParaRPr>
            </a:p>
          </p:txBody>
        </p:sp>
      </p:grpSp>
      <p:sp>
        <p:nvSpPr>
          <p:cNvPr id="3" name="PlaceHolder 2"/>
          <p:cNvSpPr>
            <a:spLocks noGrp="1"/>
          </p:cNvSpPr>
          <p:nvPr>
            <p:ph type="sldNum" idx="3"/>
          </p:nvPr>
        </p:nvSpPr>
        <p:spPr/>
        <p:txBody>
          <a:bodyPr/>
          <a:p>
            <a:fld id="{23241C9E-8AB0-4D7A-B8DC-AD0F3CC1E060}" type="slidenum">
              <a:t>319</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o troškova</a:t>
            </a:r>
            <a:endParaRPr b="0" lang="en-US" sz="2800" spc="-1" strike="noStrike">
              <a:solidFill>
                <a:srgbClr val="000000"/>
              </a:solidFill>
              <a:latin typeface="Arial"/>
            </a:endParaRPr>
          </a:p>
        </p:txBody>
      </p:sp>
      <p:sp>
        <p:nvSpPr>
          <p:cNvPr id="229" name="PlaceHolder 2"/>
          <p:cNvSpPr>
            <a:spLocks noGrp="1"/>
          </p:cNvSpPr>
          <p:nvPr>
            <p:ph/>
          </p:nvPr>
        </p:nvSpPr>
        <p:spPr>
          <a:xfrm>
            <a:off x="755640" y="914400"/>
            <a:ext cx="777240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uhvaća formiranje informacija o elementima koji sudjeluju u poslovnom procesu već od trenutka kada su na raspolaganju, iako se još ne troše; zatim o troškovima ugrađenim u učinke poslovnog procesa i financijskom rezultatu pojedinih organizacijskih jedin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nalitički obrađuje, klasificira, evidentira i raspoređuje troškove, zbraja troškove te izvještava o tekućim i planiranim troškovima i njihovim relativnim odnosi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uhvaća troškove po vrstama, mjestima, nositeljima troškova, po elementima strukture cijene i prema reagiranju na stupanj zaposlenos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no mora osigurati informacije po centrima odgovornosti i to po: troškovnim, prihodnim, profitnim i investicijskim centri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luži računovodstvenom nadzoru i analiz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EBF1B9-02A6-4AE9-A045-29644AB0ED54}" type="slidenum">
              <a:t>32</a:t>
            </a:fld>
          </a:p>
        </p:txBody>
      </p:sp>
    </p:spTree>
  </p:cSld>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1226" name="PlaceHolder 2"/>
          <p:cNvSpPr>
            <a:spLocks noGrp="1"/>
          </p:cNvSpPr>
          <p:nvPr>
            <p:ph/>
          </p:nvPr>
        </p:nvSpPr>
        <p:spPr>
          <a:xfrm>
            <a:off x="468360" y="1628640"/>
            <a:ext cx="822960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mortizacija je postupno trošenje dugotrajne nematerijalne i materijalne imovine te prenošenje dijela vrijednosti te imovine na proizvode i uslu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njezinu visinu utječu slijedeći čimben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snovica za obračun amortizacije (amortizirajući izn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etode amortizaci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ope amortizacije 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račun amortizacije po predmet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D9EABC-77FE-4B44-82FF-7F569804E275}" type="slidenum">
              <a:t>320</a:t>
            </a:fld>
          </a:p>
        </p:txBody>
      </p:sp>
    </p:spTree>
  </p:cSld>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koja podliježe amortizaciji je o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koju se očekuje da će se koristiti u razdoblju dužem od godine da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ja ima ograničen koristan vijek trajanja i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ju poslovni subjekt drži za upotrebu u proizvodnji ili prodaji robe i pružanju usluga, za iznajmljivanje drugima ili za administrativne svrh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01CECA-E1B5-4837-A012-D331B07B7AA6}" type="slidenum">
              <a:t>321</a:t>
            </a:fld>
          </a:p>
        </p:txBody>
      </p:sp>
    </p:spTree>
  </p:cSld>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p:nvPr>
        </p:nvSpPr>
        <p:spPr>
          <a:xfrm>
            <a:off x="395280" y="1916280"/>
            <a:ext cx="8229600" cy="3673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ezano za amortizaciju važno je spomenuti koristan vijek trajanja sredstva koje se amortizira budući da o korisnom vijeku trajanja ovisi i stopa amortizaci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ristan vijek trajanja ovisi o procjeni, a odlučujući je čimbenik iskustvo sa sličnim vrstama imovin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E29B6B1-F0B3-4855-843C-40DB8AC4FE28}" type="slidenum">
              <a:t>322</a:t>
            </a:fld>
          </a:p>
        </p:txBody>
      </p:sp>
    </p:spTree>
  </p:cSld>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slijedeće metode amortizaci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unkcionalna metoda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emenske metod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1" lang="hr-HR" sz="2400" spc="-1" strike="noStrike">
                <a:solidFill>
                  <a:srgbClr val="000000"/>
                </a:solidFill>
                <a:latin typeface="Times New Roman"/>
              </a:rPr>
              <a:t>linearna metod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	</a:t>
            </a:r>
            <a:r>
              <a:rPr b="1" lang="hr-HR" sz="2400" spc="-1" strike="noStrike">
                <a:solidFill>
                  <a:srgbClr val="000000"/>
                </a:solidFill>
                <a:latin typeface="Times New Roman"/>
              </a:rPr>
              <a:t>	</a:t>
            </a:r>
            <a:r>
              <a:rPr b="1" lang="hr-HR" sz="2400" spc="-1" strike="noStrike">
                <a:solidFill>
                  <a:srgbClr val="000000"/>
                </a:solidFill>
                <a:latin typeface="Times New Roman"/>
              </a:rPr>
              <a:t>	</a:t>
            </a:r>
            <a:r>
              <a:rPr b="1" lang="hr-HR" sz="2400" spc="-1" strike="noStrike">
                <a:solidFill>
                  <a:srgbClr val="000000"/>
                </a:solidFill>
                <a:latin typeface="Times New Roman"/>
              </a:rPr>
              <a:t>- degresivna metoda </a:t>
            </a:r>
            <a:r>
              <a:rPr b="0" lang="hr-HR" sz="2400" spc="-1" strike="noStrike">
                <a:solidFill>
                  <a:srgbClr val="000000"/>
                </a:solidFill>
                <a:latin typeface="Times New Roman"/>
              </a:rPr>
              <a:t>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	</a:t>
            </a:r>
            <a:r>
              <a:rPr b="1" lang="hr-HR" sz="2400" spc="-1" strike="noStrike">
                <a:solidFill>
                  <a:srgbClr val="000000"/>
                </a:solidFill>
                <a:latin typeface="Times New Roman"/>
              </a:rPr>
              <a:t>	</a:t>
            </a:r>
            <a:r>
              <a:rPr b="1" lang="hr-HR" sz="2400" spc="-1" strike="noStrike">
                <a:solidFill>
                  <a:srgbClr val="000000"/>
                </a:solidFill>
                <a:latin typeface="Times New Roman"/>
              </a:rPr>
              <a:t>	</a:t>
            </a:r>
            <a:r>
              <a:rPr b="1" lang="hr-HR" sz="2400" spc="-1" strike="noStrike">
                <a:solidFill>
                  <a:srgbClr val="000000"/>
                </a:solidFill>
                <a:latin typeface="Times New Roman"/>
              </a:rPr>
              <a:t>- progresivna metoda</a:t>
            </a:r>
            <a:r>
              <a:rPr b="0" lang="hr-HR" sz="2400" spc="-1" strike="noStrike">
                <a:solidFill>
                  <a:srgbClr val="000000"/>
                </a:solidFill>
                <a:latin typeface="Times New Roman"/>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U okviru degresivne metode razlikujemo </a:t>
            </a:r>
            <a:r>
              <a:rPr b="1" lang="hr-HR" sz="2400" spc="-1" strike="noStrike">
                <a:solidFill>
                  <a:srgbClr val="000000"/>
                </a:solidFill>
                <a:latin typeface="Times New Roman"/>
              </a:rPr>
              <a:t>metodu zbroja godina </a:t>
            </a:r>
            <a:r>
              <a:rPr b="0" lang="hr-HR" sz="2400" spc="-1" strike="noStrike">
                <a:solidFill>
                  <a:srgbClr val="000000"/>
                </a:solidFill>
                <a:latin typeface="Times New Roman"/>
              </a:rPr>
              <a:t>i</a:t>
            </a:r>
            <a:r>
              <a:rPr b="1" lang="hr-HR" sz="2400" spc="-1" strike="noStrike">
                <a:solidFill>
                  <a:srgbClr val="000000"/>
                </a:solidFill>
                <a:latin typeface="Times New Roman"/>
              </a:rPr>
              <a:t> </a:t>
            </a:r>
            <a:r>
              <a:rPr b="1" lang="hr-HR" sz="2400" spc="-1" strike="noStrike">
                <a:solidFill>
                  <a:srgbClr val="000000"/>
                </a:solidFill>
                <a:latin typeface="Times New Roman"/>
              </a:rPr>
              <a:t>metodu opadajuće osnov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5EACD3-B8CC-46BC-9B33-925758E053D8}" type="slidenum">
              <a:t>323</a:t>
            </a:fld>
          </a:p>
        </p:txBody>
      </p:sp>
    </p:spTree>
  </p:cSld>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468360" y="1628640"/>
            <a:ext cx="8229600" cy="4896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etoda opadajućeg salda (osnovice) jedan je od oblika degresivnih metoda amortizacije koje karakterizira najveći iznos amortizacije u prvoj godini koji s protekom vijeka uporabe sredstva opad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mortizacija se računa na način da se stopa amortizacije (najčešće dvostruko veća od stope korištene kod linearne metode) zaračunava na neto knjigovodstvenu vrijednost sredstva.</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endParaRPr b="0" lang="en-US" sz="3200" spc="-1" strike="noStrike">
              <a:solidFill>
                <a:srgbClr val="000000"/>
              </a:solidFill>
              <a:latin typeface="Arial"/>
            </a:endParaRPr>
          </a:p>
        </p:txBody>
      </p:sp>
      <p:sp>
        <p:nvSpPr>
          <p:cNvPr id="1234"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9BE6120-87C1-4EC2-9F98-EFF0DDE057FF}" type="slidenum">
              <a:t>324</a:t>
            </a:fld>
          </a:p>
        </p:txBody>
      </p:sp>
    </p:spTree>
  </p:cSld>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542a00"/>
                </a:solidFill>
                <a:latin typeface="Arial"/>
              </a:rPr>
              <a:t>Amortizacija</a:t>
            </a:r>
            <a:endParaRPr b="0" lang="en-US" sz="4000" spc="-1" strike="noStrike">
              <a:solidFill>
                <a:srgbClr val="000000"/>
              </a:solidFill>
              <a:latin typeface="Arial"/>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etoda zbroja godina oblik je degresivne metode amortizacije. Godišnji iznosi amortizacije temelje se na nizu razlomaka kojima je zajednički nazivnik zbroj godina, dok je brojnik broj godina koje preostaju do kraja vijeka uporabe sredstv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broj godina računa se na slijedeći nači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Z = K(K+1)/2</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 – zbroj godina, K – vijek uporabe sredst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E70521-8C98-4A92-8355-FEF6B5D72FF4}" type="slidenum">
              <a:t>325</a:t>
            </a:fld>
          </a:p>
        </p:txBody>
      </p:sp>
    </p:spTree>
  </p:cSld>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468360" y="1628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Za razvoj novog proizvoda utrošeno je 10.000,00 kn materijala, amortizacija opreme koja se pri tom koristila iznosi 34.000,00 kn, a plaće 23.000,00 kn. Izvršen je prijenos u upotreb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upili smo licencu na 5 godina u iznosu 100.000,00 kn. Licenca je aktivirana.</a:t>
            </a:r>
            <a:endParaRPr b="0" lang="en-US" sz="2400" spc="-1" strike="noStrike">
              <a:solidFill>
                <a:srgbClr val="000000"/>
              </a:solidFill>
              <a:latin typeface="Arial"/>
            </a:endParaRPr>
          </a:p>
        </p:txBody>
      </p:sp>
      <p:sp>
        <p:nvSpPr>
          <p:cNvPr id="12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D0A3AEC5-EEFF-4640-8EF2-302375169944}" type="slidenum">
              <a:t>326</a:t>
            </a:fld>
          </a:p>
        </p:txBody>
      </p:sp>
    </p:spTree>
  </p:cSld>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40" name=""/>
          <p:cNvGraphicFramePr/>
          <p:nvPr/>
        </p:nvGraphicFramePr>
        <p:xfrm>
          <a:off x="1332000" y="1773360"/>
          <a:ext cx="7229520" cy="4527360"/>
        </p:xfrm>
        <a:graphic>
          <a:graphicData uri="http://schemas.openxmlformats.org/drawingml/2006/table">
            <a:tbl>
              <a:tblPr/>
              <a:tblGrid>
                <a:gridCol w="506160"/>
                <a:gridCol w="3103560"/>
                <a:gridCol w="1203480"/>
                <a:gridCol w="1203480"/>
                <a:gridCol w="1212840"/>
              </a:tblGrid>
              <a:tr h="6152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7275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Utrošeno je materijala za razvoj novog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22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opreme koja se koristila za razvoj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8</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231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laće zaposlenih vezane za razvoj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0,24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4960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jenos u uporab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7.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4777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ljena je licenci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415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Licencija je aktivira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97C2BB7E-72FD-489A-850B-B9AC0D6BC74F}" type="slidenum">
              <a:t>327</a:t>
            </a:fld>
          </a:p>
        </p:txBody>
      </p:sp>
    </p:spTree>
  </p:cSld>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p:nvPr>
        </p:nvSpPr>
        <p:spPr>
          <a:xfrm>
            <a:off x="468360" y="2060280"/>
            <a:ext cx="8229600" cy="3849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Nabavili smo stroj i primili račun u iznosu 70.000,00 kn + PDV. Trošak prijevoza iznosi 30.000,00 kn + PDV. Stroj je stavljen u uporabu. Vijek trajanja stroja je 5 godina. Linearnom (proporcionalnom) metodom obračunata je amortizacija za prvu godinu korištenja. </a:t>
            </a:r>
            <a:r>
              <a:rPr b="0" lang="hr-HR" sz="2400" spc="-1" strike="noStrike">
                <a:solidFill>
                  <a:srgbClr val="000000"/>
                </a:solidFill>
                <a:latin typeface="Times New Roman"/>
              </a:rPr>
              <a:t>Stroj je rashodovan nakon četvrte godine.</a:t>
            </a:r>
            <a:endParaRPr b="0" lang="en-US" sz="2400" spc="-1" strike="noStrike">
              <a:solidFill>
                <a:srgbClr val="000000"/>
              </a:solidFill>
              <a:latin typeface="Arial"/>
            </a:endParaRPr>
          </a:p>
        </p:txBody>
      </p:sp>
      <p:sp>
        <p:nvSpPr>
          <p:cNvPr id="124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08C30FB-501F-4490-B863-A02E767B9327}" type="slidenum">
              <a:t>328</a:t>
            </a:fld>
          </a:p>
        </p:txBody>
      </p:sp>
    </p:spTree>
  </p:cSld>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44" name=""/>
          <p:cNvGraphicFramePr/>
          <p:nvPr/>
        </p:nvGraphicFramePr>
        <p:xfrm>
          <a:off x="468360" y="1557360"/>
          <a:ext cx="8229600" cy="4817880"/>
        </p:xfrm>
        <a:graphic>
          <a:graphicData uri="http://schemas.openxmlformats.org/drawingml/2006/table">
            <a:tbl>
              <a:tblPr/>
              <a:tblGrid>
                <a:gridCol w="576360"/>
                <a:gridCol w="3531960"/>
                <a:gridCol w="1371600"/>
                <a:gridCol w="1370160"/>
                <a:gridCol w="1379520"/>
              </a:tblGrid>
              <a:tr h="409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Nabavljen je stroj</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85.4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5.4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4</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 je račun za prijevoz stro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6.6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6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4</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5952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Stroj je stavljen u uporab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52488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stroja za 1. godin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Stroj je rashodovan nakon 4. godin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8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8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FBD207EF-7934-4A54-A357-70E7CA120F35}" type="slidenum">
              <a:t>329</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pravljačko računovodstvo</a:t>
            </a:r>
            <a:endParaRPr b="0" lang="en-US" sz="2800" spc="-1" strike="noStrike">
              <a:solidFill>
                <a:srgbClr val="000000"/>
              </a:solidFill>
              <a:latin typeface="Arial"/>
            </a:endParaRPr>
          </a:p>
        </p:txBody>
      </p:sp>
      <p:sp>
        <p:nvSpPr>
          <p:cNvPr id="231" name="PlaceHolder 2"/>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vremeni oblik računovodstva usmjeren na poslovno odlučivanje i upravlj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jegova zadaća sastoji se u obradi i prezentaciji računovodstvenih informacija na način i u obliku prikladnom da pomogne managerima u donošenju poslovnih odluka (operativnih i strateški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ljučuje planiranje, kontrolu i analizu računovodstvenih informaci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stavlja kombinaciju dijelova financijskog računovodstva i računovodstva troško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DB14ACB-DC93-4F5F-AB49-E4559CC84DA9}" type="slidenum">
              <a:t>33</a:t>
            </a:fld>
          </a:p>
        </p:txBody>
      </p:sp>
    </p:spTree>
  </p:cSld>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p:nvPr>
        </p:nvSpPr>
        <p:spPr>
          <a:xfrm>
            <a:off x="468360" y="1989000"/>
            <a:ext cx="8229600" cy="392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ršite knjiženje i obračun amortizacije stroja iz prethodnog zadatka metodom opadajućeg salda (200%-tnom) te metodomcjelobrojnog zbroja godi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tpostavimo da stroj iz prethodnog zadatka ima kapacitet od 100 000 učinaka tijekom svog vijeka uporabe. Proknjižite i obračunajte amortizaciju funkcionalnom metodom ako je u prvoj godini proizvedeno 37 000 proizvoda.</a:t>
            </a:r>
            <a:endParaRPr b="0" lang="en-US" sz="2400" spc="-1" strike="noStrike">
              <a:solidFill>
                <a:srgbClr val="000000"/>
              </a:solidFill>
              <a:latin typeface="Arial"/>
            </a:endParaRPr>
          </a:p>
        </p:txBody>
      </p:sp>
      <p:sp>
        <p:nvSpPr>
          <p:cNvPr id="12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7FB2FBCF-6EE0-4006-A4BA-513441AEF8C2}" type="slidenum">
              <a:t>330</a:t>
            </a:fld>
          </a:p>
        </p:txBody>
      </p:sp>
    </p:spTree>
  </p:cSld>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48" name=""/>
          <p:cNvGraphicFramePr/>
          <p:nvPr/>
        </p:nvGraphicFramePr>
        <p:xfrm>
          <a:off x="971640" y="2421000"/>
          <a:ext cx="7238880" cy="3224160"/>
        </p:xfrm>
        <a:graphic>
          <a:graphicData uri="http://schemas.openxmlformats.org/drawingml/2006/table">
            <a:tbl>
              <a:tblPr/>
              <a:tblGrid>
                <a:gridCol w="506160"/>
                <a:gridCol w="3106800"/>
                <a:gridCol w="1206720"/>
                <a:gridCol w="1206360"/>
                <a:gridCol w="121284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stroja korištenjem metode opadajućeg sal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stroja korištenjem metode cjelobrojnog zbroja godi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3.333,3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stroja korištenjem funkcionalne metod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7.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ED082535-E4E6-4133-9F06-53B74EE13C72}" type="slidenum">
              <a:t>331</a:t>
            </a:fld>
          </a:p>
        </p:txBody>
      </p:sp>
    </p:spTree>
  </p:cSld>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1250" name=""/>
          <p:cNvSpPr/>
          <p:nvPr/>
        </p:nvSpPr>
        <p:spPr>
          <a:xfrm>
            <a:off x="468360" y="1773360"/>
            <a:ext cx="8229600" cy="30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400" spc="-1" strike="noStrike">
                <a:solidFill>
                  <a:srgbClr val="000000"/>
                </a:solidFill>
                <a:latin typeface="Times New Roman"/>
              </a:rPr>
              <a:t>Metoda opadajućeg salda (osnovice):</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000" spc="-1" strike="noStrike">
                <a:solidFill>
                  <a:srgbClr val="000000"/>
                </a:solidFill>
                <a:latin typeface="Times New Roman"/>
              </a:rPr>
              <a:t>Stopa amortizacije = stopa kod linearne metode </a:t>
            </a:r>
            <a:r>
              <a:rPr b="0" lang="hr-HR" sz="1400" spc="-1" strike="noStrike">
                <a:solidFill>
                  <a:srgbClr val="000000"/>
                </a:solidFill>
                <a:latin typeface="Times New Roman"/>
              </a:rPr>
              <a:t>x</a:t>
            </a:r>
            <a:r>
              <a:rPr b="0" lang="hr-HR" sz="2000" spc="-1" strike="noStrike">
                <a:solidFill>
                  <a:srgbClr val="000000"/>
                </a:solidFill>
                <a:latin typeface="Times New Roman"/>
              </a:rPr>
              <a:t> 2</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amortizacijska osnovica </a:t>
            </a:r>
            <a:r>
              <a:rPr b="0" lang="hr-HR" sz="1400" spc="-1" strike="noStrike">
                <a:solidFill>
                  <a:srgbClr val="000000"/>
                </a:solidFill>
                <a:latin typeface="Times New Roman"/>
              </a:rPr>
              <a:t>x</a:t>
            </a:r>
            <a:r>
              <a:rPr b="0" lang="hr-HR" sz="2000" spc="-1" strike="noStrike">
                <a:solidFill>
                  <a:srgbClr val="000000"/>
                </a:solidFill>
                <a:latin typeface="Times New Roman"/>
              </a:rPr>
              <a:t> stopa amortizacije</a:t>
            </a:r>
            <a:r>
              <a:rPr b="0" lang="hr-HR"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1400" spc="-1" strike="noStrike">
                <a:solidFill>
                  <a:srgbClr val="000000"/>
                </a:solidFill>
                <a:latin typeface="Times New Roman"/>
              </a:rPr>
              <a:t>(neto knjigovodstvena vrijednost sredstv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a:t>
            </a:r>
            <a:endParaRPr b="0" lang="en-US" sz="1400" spc="-1" strike="noStrike">
              <a:solidFill>
                <a:srgbClr val="000000"/>
              </a:solidFill>
              <a:latin typeface="Arial"/>
            </a:endParaRPr>
          </a:p>
        </p:txBody>
      </p:sp>
      <p:sp>
        <p:nvSpPr>
          <p:cNvPr id="1251" name=""/>
          <p:cNvSpPr/>
          <p:nvPr/>
        </p:nvSpPr>
        <p:spPr>
          <a:xfrm>
            <a:off x="3708360" y="2492280"/>
            <a:ext cx="0" cy="14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F98E06-4306-4723-A7FB-EFD736D33001}" type="slidenum">
              <a:t>332</a:t>
            </a:fld>
          </a:p>
        </p:txBody>
      </p:sp>
    </p:spTree>
  </p:cSld>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1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Stopa amortizacije = 20 </a:t>
            </a:r>
            <a:r>
              <a:rPr b="0" lang="hr-HR" sz="1400" spc="-1" strike="noStrike">
                <a:solidFill>
                  <a:srgbClr val="000000"/>
                </a:solidFill>
                <a:latin typeface="Times New Roman"/>
              </a:rPr>
              <a:t>x</a:t>
            </a:r>
            <a:r>
              <a:rPr b="0" lang="hr-HR" sz="2000" spc="-1" strike="noStrike">
                <a:solidFill>
                  <a:srgbClr val="000000"/>
                </a:solidFill>
                <a:latin typeface="Times New Roman"/>
              </a:rPr>
              <a:t> 2 = 40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1.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100.000,00 x 40/100 = 40.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2.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100.000,00 – 40.000,00) </a:t>
            </a:r>
            <a:r>
              <a:rPr b="0" lang="hr-HR" sz="1400" spc="-1" strike="noStrike">
                <a:solidFill>
                  <a:srgbClr val="000000"/>
                </a:solidFill>
                <a:latin typeface="Times New Roman"/>
              </a:rPr>
              <a:t>x</a:t>
            </a:r>
            <a:r>
              <a:rPr b="0" lang="hr-HR" sz="2000" spc="-1" strike="noStrike">
                <a:solidFill>
                  <a:srgbClr val="000000"/>
                </a:solidFill>
                <a:latin typeface="Times New Roman"/>
              </a:rPr>
              <a:t> 40/100 = 24.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3.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60.000,00 – 24.000,00) </a:t>
            </a:r>
            <a:r>
              <a:rPr b="0" lang="hr-HR" sz="1400" spc="-1" strike="noStrike">
                <a:solidFill>
                  <a:srgbClr val="000000"/>
                </a:solidFill>
                <a:latin typeface="Times New Roman"/>
              </a:rPr>
              <a:t>x</a:t>
            </a:r>
            <a:r>
              <a:rPr b="0" lang="hr-HR" sz="2000" spc="-1" strike="noStrike">
                <a:solidFill>
                  <a:srgbClr val="000000"/>
                </a:solidFill>
                <a:latin typeface="Times New Roman"/>
              </a:rPr>
              <a:t> 40/100 = 14.4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4.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36.000,00 – 14.400,00) </a:t>
            </a:r>
            <a:r>
              <a:rPr b="0" lang="hr-HR" sz="1400" spc="-1" strike="noStrike">
                <a:solidFill>
                  <a:srgbClr val="000000"/>
                </a:solidFill>
                <a:latin typeface="Times New Roman"/>
              </a:rPr>
              <a:t>x</a:t>
            </a:r>
            <a:r>
              <a:rPr b="0" lang="hr-HR" sz="2000" spc="-1" strike="noStrike">
                <a:solidFill>
                  <a:srgbClr val="000000"/>
                </a:solidFill>
                <a:latin typeface="Times New Roman"/>
              </a:rPr>
              <a:t> 40/100 = 8.64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5.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21.600,00 – 8.640,00) </a:t>
            </a:r>
            <a:r>
              <a:rPr b="0" lang="hr-HR" sz="1400" spc="-1" strike="noStrike">
                <a:solidFill>
                  <a:srgbClr val="000000"/>
                </a:solidFill>
                <a:latin typeface="Times New Roman"/>
              </a:rPr>
              <a:t>x</a:t>
            </a:r>
            <a:r>
              <a:rPr b="0" lang="hr-HR" sz="2000" spc="-1" strike="noStrike">
                <a:solidFill>
                  <a:srgbClr val="000000"/>
                </a:solidFill>
                <a:latin typeface="Times New Roman"/>
              </a:rPr>
              <a:t> 40/100 = 5.184,00 k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5F2B002-15C5-41A2-915D-3409E7031C9D}" type="slidenum">
              <a:t>333</a:t>
            </a:fld>
          </a:p>
        </p:txBody>
      </p:sp>
    </p:spTree>
  </p:cSld>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1255" name=""/>
          <p:cNvSpPr/>
          <p:nvPr/>
        </p:nvSpPr>
        <p:spPr>
          <a:xfrm>
            <a:off x="468360" y="1628640"/>
            <a:ext cx="8229600" cy="501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400" spc="-1" strike="noStrike">
                <a:solidFill>
                  <a:srgbClr val="000000"/>
                </a:solidFill>
                <a:latin typeface="Times New Roman"/>
              </a:rPr>
              <a:t>Metoda zbroja godina:</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Z = K(K+1)/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Z = 5(5+1)/2 = 15 god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Obračun amortizacije:</a:t>
            </a:r>
            <a:endParaRPr b="0" lang="en-US" sz="2000" spc="-1" strike="noStrike">
              <a:solidFill>
                <a:srgbClr val="000000"/>
              </a:solidFill>
              <a:latin typeface="Arial"/>
            </a:endParaRPr>
          </a:p>
        </p:txBody>
      </p:sp>
      <p:graphicFrame>
        <p:nvGraphicFramePr>
          <p:cNvPr id="1256" name=""/>
          <p:cNvGraphicFramePr/>
          <p:nvPr/>
        </p:nvGraphicFramePr>
        <p:xfrm>
          <a:off x="971640" y="3789360"/>
          <a:ext cx="7345440" cy="2676600"/>
        </p:xfrm>
        <a:graphic>
          <a:graphicData uri="http://schemas.openxmlformats.org/drawingml/2006/table">
            <a:tbl>
              <a:tblPr/>
              <a:tblGrid>
                <a:gridCol w="936360"/>
                <a:gridCol w="2111400"/>
                <a:gridCol w="2065320"/>
                <a:gridCol w="223236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Godi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Stopa amortizacij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mortizacijska osnovic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mortizacij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5/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3.333,3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4/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6.666,6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0.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3.333,3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6.666,6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2" name="PlaceHolder 1"/>
          <p:cNvSpPr>
            <a:spLocks noGrp="1"/>
          </p:cNvSpPr>
          <p:nvPr>
            <p:ph type="sldNum" idx="3"/>
          </p:nvPr>
        </p:nvSpPr>
        <p:spPr/>
        <p:txBody>
          <a:bodyPr/>
          <a:p>
            <a:fld id="{B1E7238D-1233-48DF-AE09-E0576793BFC4}" type="slidenum">
              <a:t>334</a:t>
            </a:fld>
          </a:p>
        </p:txBody>
      </p:sp>
    </p:spTree>
  </p:cSld>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p:nvPr>
        </p:nvSpPr>
        <p:spPr>
          <a:xfrm>
            <a:off x="468360" y="1989000"/>
            <a:ext cx="8229600" cy="392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rodali smo stroj za 45.000,00 kn + PDV. Stroj je isknjižen iz uporabe. Trošak nabave stroja iznosi 130.000,00 kn, akumulirana amortizacija 80.000,00 kn. Kupac je platio mjenicom.</a:t>
            </a:r>
            <a:endParaRPr b="0" lang="en-US" sz="2400" spc="-1" strike="noStrike">
              <a:solidFill>
                <a:srgbClr val="000000"/>
              </a:solidFill>
              <a:latin typeface="Arial"/>
            </a:endParaRPr>
          </a:p>
        </p:txBody>
      </p:sp>
      <p:sp>
        <p:nvSpPr>
          <p:cNvPr id="12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ED4E08A-2499-429F-9DD0-7D04CB12CE65}" type="slidenum">
              <a:t>335</a:t>
            </a:fld>
          </a:p>
        </p:txBody>
      </p:sp>
    </p:spTree>
  </p:cSld>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60" name=""/>
          <p:cNvGraphicFramePr/>
          <p:nvPr/>
        </p:nvGraphicFramePr>
        <p:xfrm>
          <a:off x="755640" y="1989000"/>
          <a:ext cx="7238880" cy="3321360"/>
        </p:xfrm>
        <a:graphic>
          <a:graphicData uri="http://schemas.openxmlformats.org/drawingml/2006/table">
            <a:tbl>
              <a:tblPr/>
              <a:tblGrid>
                <a:gridCol w="506520"/>
                <a:gridCol w="3106800"/>
                <a:gridCol w="1206360"/>
                <a:gridCol w="1206360"/>
                <a:gridCol w="121284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odan je stroj</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4.9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5.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9.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8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tpis (isknjižavanje) stro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3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8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8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ac je podmirio svoju obvezu doznakom mjenic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4.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178C9B2A-F093-47C5-B498-ABCD11889B4A}" type="slidenum">
              <a:t>336</a:t>
            </a:fld>
          </a:p>
        </p:txBody>
      </p:sp>
    </p:spTree>
  </p:cSld>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68360" y="1916280"/>
            <a:ext cx="8229600" cy="29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Zaključen je ugovor o izgradnji skladišta u vrijednosti 500.000,00 kn. Dan je predujam od 100.000,00 kn izvođaču radova. Prva privremena obračunska situacija iznosi 180.000,00 kn. Obračunat je predujam, a razlika je plaćena iz dugoročnog kredita od banke kao i razlika po konačnoj situaciji. Konačna obračunska situacija iznosi 500.000,00 kn. </a:t>
            </a:r>
            <a:endParaRPr b="0" lang="en-US" sz="2400" spc="-1" strike="noStrike">
              <a:solidFill>
                <a:srgbClr val="000000"/>
              </a:solidFill>
              <a:latin typeface="Arial"/>
            </a:endParaRPr>
          </a:p>
        </p:txBody>
      </p:sp>
      <p:sp>
        <p:nvSpPr>
          <p:cNvPr id="12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7E8EDA5-B925-469C-813E-D4048C147DF0}" type="slidenum">
              <a:t>337</a:t>
            </a:fld>
          </a:p>
        </p:txBody>
      </p:sp>
    </p:spTree>
  </p:cSld>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64" name=""/>
          <p:cNvGraphicFramePr/>
          <p:nvPr/>
        </p:nvGraphicFramePr>
        <p:xfrm>
          <a:off x="1116000" y="1844640"/>
          <a:ext cx="7238880" cy="4170240"/>
        </p:xfrm>
        <a:graphic>
          <a:graphicData uri="http://schemas.openxmlformats.org/drawingml/2006/table">
            <a:tbl>
              <a:tblPr/>
              <a:tblGrid>
                <a:gridCol w="506520"/>
                <a:gridCol w="3106800"/>
                <a:gridCol w="1206360"/>
                <a:gridCol w="1206360"/>
                <a:gridCol w="121284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an je predujam izvođaču rado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a od izvođača radova prva privremena obračunska situaci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8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2746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vršen je obračun predujm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a je konačna obračunska situacija od izvođača rado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bveza prema dobavljaču podmirena je iz dugoročnog kredita kod bank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5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DDDE892B-5CC4-4C4E-B796-CEB2FE2F3816}" type="slidenum">
              <a:t>338</a:t>
            </a:fld>
          </a:p>
        </p:txBody>
      </p:sp>
    </p:spTree>
  </p:cSld>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
          <p:cNvSpPr/>
          <p:nvPr/>
        </p:nvSpPr>
        <p:spPr>
          <a:xfrm>
            <a:off x="468360" y="2060640"/>
            <a:ext cx="8229600" cy="384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Dali smo dugoročni kredit društvu «Pierre» u iznosu 600.000,00 kn. Kamata za prvo obračunsko razdoblje iznosi 12.000,00 kn + PDV. Naplaćena ja kamata te dio glavnice u iznosu 50.000,00 kn.</a:t>
            </a:r>
            <a:endParaRPr b="0" lang="en-US" sz="2400" spc="-1" strike="noStrike">
              <a:solidFill>
                <a:srgbClr val="000000"/>
              </a:solidFill>
              <a:latin typeface="Arial"/>
            </a:endParaRPr>
          </a:p>
        </p:txBody>
      </p:sp>
      <p:sp>
        <p:nvSpPr>
          <p:cNvPr id="12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6C31071-D2B8-42C1-9890-A7881E417426}" type="slidenum">
              <a:t>339</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533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Usporedni prikaz obilježja financijskog, upravljačkog i računovodstva troškova</a:t>
            </a:r>
            <a:endParaRPr b="0" lang="en-US" sz="2000" spc="-1" strike="noStrike">
              <a:solidFill>
                <a:srgbClr val="000000"/>
              </a:solidFill>
              <a:latin typeface="Arial"/>
            </a:endParaRPr>
          </a:p>
        </p:txBody>
      </p:sp>
      <p:graphicFrame>
        <p:nvGraphicFramePr>
          <p:cNvPr id="233" name=""/>
          <p:cNvGraphicFramePr/>
          <p:nvPr/>
        </p:nvGraphicFramePr>
        <p:xfrm>
          <a:off x="0" y="457200"/>
          <a:ext cx="9144000" cy="6400440"/>
        </p:xfrm>
        <a:graphic>
          <a:graphicData uri="http://schemas.openxmlformats.org/drawingml/2006/table">
            <a:tbl>
              <a:tblPr/>
              <a:tblGrid>
                <a:gridCol w="2014200"/>
                <a:gridCol w="2408400"/>
                <a:gridCol w="2264400"/>
                <a:gridCol w="2457000"/>
              </a:tblGrid>
              <a:tr h="601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bilježj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Financijsko računovodstv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Računovodstvo troškov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Upravljačko računovodstvo</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90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Akti kojima je reguliran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Računovodstvenim standardima, Zakonom o računovodstv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Internim pravilnikom o računovodstv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Ekonomskom teorijom, Računovodstvenim standardim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02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Namjen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kupljanje, bilježenje, klasifikacija, interpretacija podataka o poslovnim promjenama, </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Sastavljanje fin. izvještaj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Kontrola efikasnosti upravljanja pojedinim dijelovima proizvodnje i aktivnostim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jedlog plana, praćenje rezultata te kontrola poslovanja, prijedlog odluk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560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etoda osiguranja podatak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Ažurnim bilježenjem svih nastalih poslovnih promjena u glavnu knjigu i ostale raču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Detaljnim praćenjem troškova pojedinih poslovnih aktivnosti i njihovo sučeljavanje s učincim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lanski podaci, podaci prethodnih razdoblja, financijsko računovodstvo</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90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Vremensko izvještavanj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Godišnje, kvartalno, mjesečn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Godišnje, kvartalno, mjesečno, tjedno ili dnevn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Za bilo koje razdoblje po potrebi</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234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blik izvještaj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Bilanca, račun dobiti i gubitka, izvještaj o novčanom toku i izvještaj o promjenama glavnic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Izvještaj o tokovima pojedinih poslovnih aktivnost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jedlog plana, izvještaj o troškovima, izvj. o ekonomskom položaju</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50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Korisnik izvještaj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marno – vanjski korisnic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marno – unutarnji korisnic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Manageri određenih hijerarhijskih razin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EBB9FD00-391D-4BBB-99A0-CE33FCAD54DC}" type="slidenum">
              <a:t>34</a:t>
            </a:fld>
          </a:p>
        </p:txBody>
      </p:sp>
    </p:spTree>
  </p:cSld>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8" name=""/>
          <p:cNvGraphicFramePr/>
          <p:nvPr/>
        </p:nvGraphicFramePr>
        <p:xfrm>
          <a:off x="1116000" y="2421000"/>
          <a:ext cx="7238880" cy="3058920"/>
        </p:xfrm>
        <a:graphic>
          <a:graphicData uri="http://schemas.openxmlformats.org/drawingml/2006/table">
            <a:tbl>
              <a:tblPr/>
              <a:tblGrid>
                <a:gridCol w="506160"/>
                <a:gridCol w="3106800"/>
                <a:gridCol w="1206720"/>
                <a:gridCol w="1206360"/>
                <a:gridCol w="1212840"/>
              </a:tblGrid>
              <a:tr h="2930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416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an je dugoročni kredi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6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kamate za prvo obračunsko razdobl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64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6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2</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2</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aplaćena je kamate i dio glavnic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4.64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64</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126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71E3C2E-E242-494B-92E3-83F3F9B27620}" type="slidenum">
              <a:t>340</a:t>
            </a:fld>
          </a:p>
        </p:txBody>
      </p:sp>
    </p:spTree>
  </p:cSld>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468360" y="1916280"/>
            <a:ext cx="8229600" cy="4138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1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Kupili smo 2 000 redovnih dionica društva «Lion» po cijeni od 500,00 kn po dionici. </a:t>
            </a:r>
            <a:r>
              <a:rPr b="0" lang="hr-HR" sz="2400" spc="-1" strike="noStrike">
                <a:solidFill>
                  <a:srgbClr val="000000"/>
                </a:solidFill>
                <a:latin typeface="Times New Roman"/>
              </a:rPr>
              <a:t>Provizija brokera iznosi 20.000,00 k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upili smo obveznice društva “Barbara” po nominalnoj vrijednosti 400.000,00 kn. Naplaćene su kamate za prvu godinu 35.000,00 k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bveznice društva “Rina” nominalne vrijednosti 400.000,00 kn kupljene su za 320.000,00 kn uz rok vraćanja 4 godine. Provesti knjiženja za prvu godi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8ADC06-7EF6-4491-9CBC-366C2062E7AF}" type="slidenum">
              <a:t>341</a:t>
            </a:fld>
          </a:p>
        </p:txBody>
      </p:sp>
    </p:spTree>
  </p:cSld>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3" name=""/>
          <p:cNvGraphicFramePr/>
          <p:nvPr/>
        </p:nvGraphicFramePr>
        <p:xfrm>
          <a:off x="539640" y="1773360"/>
          <a:ext cx="8229600" cy="4446360"/>
        </p:xfrm>
        <a:graphic>
          <a:graphicData uri="http://schemas.openxmlformats.org/drawingml/2006/table">
            <a:tbl>
              <a:tblPr/>
              <a:tblGrid>
                <a:gridCol w="576360"/>
                <a:gridCol w="3456000"/>
                <a:gridCol w="1447920"/>
                <a:gridCol w="1369800"/>
                <a:gridCol w="137952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505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ljeno je 2000 redovnih dionica dioničkog društva “Lion”</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ljene su obveznice društva “Barbara” po nominalnoj vrijednost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566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Naplaćene su kamate za prvu godin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5.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7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ljene su obveznice društva “Rina” nominalne vrijednosti 400.000,00 kn</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2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8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8</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njiženje odgovarajućeg prihoda za 1. godinu (400.000 – 320.000)/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7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1274"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3E0971E4-803A-49C0-B365-4BC683342DF4}" type="slidenum">
              <a:t>342</a:t>
            </a:fld>
          </a:p>
        </p:txBody>
      </p:sp>
    </p:spTree>
  </p:cSld>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4360" y="260280"/>
            <a:ext cx="777240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Razred</a:t>
            </a:r>
            <a:r>
              <a:rPr b="1" lang="hr-HR" sz="4000" spc="-1" strike="noStrike">
                <a:solidFill>
                  <a:srgbClr val="660033"/>
                </a:solidFill>
                <a:latin typeface="Arial"/>
              </a:rPr>
              <a:t> </a:t>
            </a:r>
            <a:r>
              <a:rPr b="1" lang="hr-HR" sz="4000" spc="-1" strike="noStrike">
                <a:solidFill>
                  <a:srgbClr val="000000"/>
                </a:solidFill>
                <a:latin typeface="Arial"/>
              </a:rPr>
              <a:t>1</a:t>
            </a:r>
            <a:endParaRPr b="0" lang="en-US" sz="4000" spc="-1" strike="noStrike">
              <a:solidFill>
                <a:srgbClr val="000000"/>
              </a:solidFill>
              <a:latin typeface="Arial"/>
            </a:endParaRPr>
          </a:p>
        </p:txBody>
      </p:sp>
      <p:sp>
        <p:nvSpPr>
          <p:cNvPr id="1276" name="PlaceHolder 2"/>
          <p:cNvSpPr>
            <a:spLocks noGrp="1"/>
          </p:cNvSpPr>
          <p:nvPr>
            <p:ph type="subTitle"/>
          </p:nvPr>
        </p:nvSpPr>
        <p:spPr>
          <a:xfrm>
            <a:off x="1150560" y="1989000"/>
            <a:ext cx="7993080" cy="1943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ovac, kratkoročna potraživanja, kratkoročna financijska imovina i aktivna obračunska kont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19187A2B-2894-4473-8E93-4A64251F20FC}" type="slidenum">
              <a:t>343</a:t>
            </a:fld>
          </a:p>
        </p:txBody>
      </p:sp>
    </p:spTree>
  </p:cSld>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a:t>
            </a:r>
            <a:endParaRPr b="0" lang="en-US" sz="3600" spc="-1" strike="noStrike">
              <a:solidFill>
                <a:srgbClr val="000000"/>
              </a:solidFill>
              <a:latin typeface="Arial"/>
            </a:endParaRPr>
          </a:p>
        </p:txBody>
      </p:sp>
      <p:sp>
        <p:nvSpPr>
          <p:cNvPr id="1278" name="PlaceHolder 2"/>
          <p:cNvSpPr>
            <a:spLocks noGrp="1"/>
          </p:cNvSpPr>
          <p:nvPr>
            <p:ph/>
          </p:nvPr>
        </p:nvSpPr>
        <p:spPr>
          <a:xfrm>
            <a:off x="533160" y="1981080"/>
            <a:ext cx="79261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Žiro rač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Blagaj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Izdvojena novčana sredst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Devizni rač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Devizna blagaj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Devizni akreditiv</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894E4D-F020-49D3-941A-7A001A61968D}"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186920" y="404640"/>
            <a:ext cx="72392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žiro račun</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1280" name="PlaceHolder 2"/>
          <p:cNvSpPr>
            <a:spLocks noGrp="1"/>
          </p:cNvSpPr>
          <p:nvPr>
            <p:ph/>
          </p:nvPr>
        </p:nvSpPr>
        <p:spPr>
          <a:xfrm>
            <a:off x="457200" y="1773360"/>
            <a:ext cx="8229600" cy="50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nancijska imovina obuhvaća novac, svako ugovoreno pravo na primitak novca ili drugog financijskog instrumenta od drugog trgovačkog društva, ugovoreno pravo na zamjenu financijskog instrumenta pod povoljnim uvjetima s drugim društvom te instrumente glavnice drugog trgovačkog društva. (MRS 32. toč. 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obuhvaća novac u banci i blagajni i depozite po viđenju (skupina 10 u kontnom planu), a novčani ekvivalenti su kratkotrajna visokolikvidna ulaganja koja se brzo konvertiraju u poznate iznose novca i koja nisu pod značajnim utjecajem rizika promjene vrijednosti. (MRS 7. toč. 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04E669-3D92-47ED-B22A-DE0CE5220635}" type="slidenum">
              <a:t>345</a:t>
            </a:fld>
          </a:p>
        </p:txBody>
      </p:sp>
    </p:spTree>
  </p:cSld>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533520" y="228600"/>
            <a:ext cx="723888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žiro račun</a:t>
            </a:r>
            <a:endParaRPr b="0" lang="en-US" sz="3600" spc="-1" strike="noStrike">
              <a:solidFill>
                <a:srgbClr val="000000"/>
              </a:solidFill>
              <a:latin typeface="Arial"/>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Žiro račun predstavlja transakcijski račun u banci na kojemu se evidentiraju novčani primici, novčani izdaci i saldo, odnosno račun preko kojega se vodi platni prome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vni subjekt može imati kod jedne banke otvoren jedan račun za redovno poslovanje, jedan račun za svaki organizacijski dio poduzeća te račune za posebne namjen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i organizacijskih dijelova i računi za posebne namjene sastavni su dio računa za redovito poslovan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C4FAB57-4F02-423D-B189-2BCD7A9472BE}"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46836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žiro račun</a:t>
            </a:r>
            <a:endParaRPr b="0" lang="en-US" sz="3600" spc="-1" strike="noStrike">
              <a:solidFill>
                <a:srgbClr val="000000"/>
              </a:solidFill>
              <a:latin typeface="Arial"/>
            </a:endParaRPr>
          </a:p>
        </p:txBody>
      </p:sp>
      <p:sp>
        <p:nvSpPr>
          <p:cNvPr id="1284" name="PlaceHolder 2"/>
          <p:cNvSpPr>
            <a:spLocks noGrp="1"/>
          </p:cNvSpPr>
          <p:nvPr>
            <p:ph/>
          </p:nvPr>
        </p:nvSpPr>
        <p:spPr>
          <a:xfrm>
            <a:off x="468360" y="1852560"/>
            <a:ext cx="8229600" cy="5005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vni subjekt može imati otvorene račune kod više banaka,  s time što banke vode registar računa poslovnih subjekata čiji se podaci objedinjavaju u jedinstveni registar računa poslovnih subjeka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njiženje poslovnih promjena vezanih za bezgotovinski platni promet koristi se konto 100 – Žiro-računi i tekući račun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njigovodstvena isprava na osnovi koje se knjiže promjene na kontu 100 je izvadak o promjenama i stanju na raču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FD851C1-0133-4A2D-8261-37DA19DEE759}" type="slidenum">
              <a:t>347</a:t>
            </a:fld>
          </a:p>
        </p:txBody>
      </p:sp>
    </p:spTree>
  </p:cSld>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539640" y="188640"/>
            <a:ext cx="735192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286" name="PlaceHolder 2"/>
          <p:cNvSpPr>
            <a:spLocks noGrp="1"/>
          </p:cNvSpPr>
          <p:nvPr>
            <p:ph/>
          </p:nvPr>
        </p:nvSpPr>
        <p:spPr>
          <a:xfrm>
            <a:off x="457200" y="764640"/>
            <a:ext cx="8291520" cy="6093000"/>
          </a:xfrm>
          <a:prstGeom prst="rect">
            <a:avLst/>
          </a:prstGeom>
          <a:gradFill rotWithShape="0">
            <a:gsLst>
              <a:gs pos="0">
                <a:srgbClr val="ffffff">
                  <a:alpha val="44313"/>
                </a:srgbClr>
              </a:gs>
              <a:gs pos="100000">
                <a:srgbClr val="ffffff">
                  <a:alpha val="0"/>
                </a:srgbClr>
              </a:gs>
            </a:gsLst>
            <a:lin ang="5400000"/>
          </a:gra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1800" spc="-1" strike="noStrike">
                <a:solidFill>
                  <a:srgbClr val="000000"/>
                </a:solidFill>
                <a:latin typeface="Arial"/>
              </a:rPr>
              <a:t>Izvadak o promjenama i stanju na računu broj 23 od 15. 01. 2003. sadrži informacije o slijedećim novčanim transakcijam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četno stanje sredstava</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73.5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risnik dugoročnog financijskog kredit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vratio je kredit u iznosu od</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9.0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upac u inozemstvu uplatio je iznos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1.3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 je predujam dobavljaču u zemlji za nabavu opreme</a:t>
            </a:r>
            <a:r>
              <a:rPr b="0" lang="hr-HR" sz="1800" spc="-1" strike="noStrike">
                <a:solidFill>
                  <a:srgbClr val="000000"/>
                </a:solidFill>
                <a:latin typeface="Arial"/>
              </a:rPr>
              <a:t>	</a:t>
            </a:r>
            <a:r>
              <a:rPr b="0" lang="hr-HR" sz="1800" spc="-1" strike="noStrike">
                <a:solidFill>
                  <a:srgbClr val="000000"/>
                </a:solidFill>
                <a:latin typeface="Arial"/>
              </a:rPr>
              <a:t>     6.7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dignuta je gotovina za potrebe blagajne</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5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a je naknada banci za vođenje računa</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1.0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a je obveza prema dobavljaču “Mirna”</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9.3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o je stjecanje dionica koje se namjeravaju</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otuđiti u bliskoj budućnosti</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11.0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plaćeni su čekovi po tekućem računu građana</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4.5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anka je pustila u tečaj (doznačila) dugoročni kredit</a:t>
            </a:r>
            <a:r>
              <a:rPr b="0" lang="hr-HR" sz="1800" spc="-1" strike="noStrike">
                <a:solidFill>
                  <a:srgbClr val="000000"/>
                </a:solidFill>
                <a:latin typeface="Arial"/>
              </a:rPr>
              <a:t>	</a:t>
            </a:r>
            <a:r>
              <a:rPr b="0" lang="hr-HR" sz="1800" spc="-1" strike="noStrike">
                <a:solidFill>
                  <a:srgbClr val="000000"/>
                </a:solidFill>
                <a:latin typeface="Arial"/>
              </a:rPr>
              <a:t>   71.000,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oknjižite poslovne promjene i izračunajte konačno stanje na račun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598841-83D1-4844-B054-0695E7982BA1}" type="slidenum">
              <a:t>348</a:t>
            </a:fld>
          </a:p>
        </p:txBody>
      </p:sp>
    </p:spTree>
  </p:cSld>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7" name=""/>
          <p:cNvGraphicFramePr/>
          <p:nvPr/>
        </p:nvGraphicFramePr>
        <p:xfrm>
          <a:off x="539640" y="171360"/>
          <a:ext cx="8229600" cy="6554880"/>
        </p:xfrm>
        <a:graphic>
          <a:graphicData uri="http://schemas.openxmlformats.org/drawingml/2006/table">
            <a:tbl>
              <a:tblPr/>
              <a:tblGrid>
                <a:gridCol w="801720"/>
                <a:gridCol w="3168720"/>
                <a:gridCol w="1512720"/>
                <a:gridCol w="1368360"/>
                <a:gridCol w="1378080"/>
              </a:tblGrid>
              <a:tr h="28872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93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očetno stanje sredstav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3.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9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Vraćen je dugoročni financijski kredi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064</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Kupac u inozemstvu uplatio je iznos</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3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54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laćen je predujam dobavljaču 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zemlji za nabavu oprem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7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03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4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odignuta je gotovina za potreb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blagajn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9</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82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laćena je naknada banci za vođenj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raču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6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82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laćena je obveza prema dobavljač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Mir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3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laćeno je stjecanje dionica koje s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namjeravaju otuđiti u bliskoj</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budućnost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8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Naplaćeni su čekovi po tekuće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računu građa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8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Banka je pustila u tečaj (doznačil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dugoročni kredi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B969E5B3-899C-42A5-B49C-7B925B8948B1}" type="slidenum">
              <a:t>349</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26560" y="115920"/>
            <a:ext cx="8137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djela računovodstva sa stajališta računovodstvene djelatnosti</a:t>
            </a:r>
            <a:endParaRPr b="0" lang="en-US" sz="2800" spc="-1" strike="noStrike">
              <a:solidFill>
                <a:srgbClr val="000000"/>
              </a:solidFill>
              <a:latin typeface="Arial"/>
            </a:endParaRPr>
          </a:p>
        </p:txBody>
      </p:sp>
      <p:sp>
        <p:nvSpPr>
          <p:cNvPr id="235" name="PlaceHolder 2"/>
          <p:cNvSpPr>
            <a:spLocks noGrp="1"/>
          </p:cNvSpPr>
          <p:nvPr>
            <p:ph/>
          </p:nvPr>
        </p:nvSpPr>
        <p:spPr>
          <a:xfrm>
            <a:off x="1042920" y="1125360"/>
            <a:ext cx="7850160" cy="5399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obzirom na složenost i vrstu zadataka koje obavlja računovodstvo se dijeli n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knjigovodstv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eno planiran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eni nadz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enu analizu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eno informir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va dva dijela odnose se na računovodstveno praćenje poslovanja, dok se druga dva dijela bave računovodstvenim proučavanjem poslovan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ovodstveno informiranje rezultate prethodnih funkcija stavlja na raspolaganje zainteresiranim subjekt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DD80DA-67CB-4F72-B408-0C0E7233F9EE}" type="slidenum">
              <a:t>35</a:t>
            </a:fld>
          </a:p>
        </p:txBody>
      </p:sp>
    </p:spTree>
  </p:cSld>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četno stanje</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73.50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ljev</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85.80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ljev</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26.500,00</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ačno stanje       </a:t>
            </a:r>
            <a:r>
              <a:rPr b="0" lang="hr-HR" sz="2400" spc="-1" strike="noStrike">
                <a:solidFill>
                  <a:srgbClr val="000000"/>
                </a:solidFill>
                <a:latin typeface="Arial"/>
              </a:rPr>
              <a:t>	</a:t>
            </a:r>
            <a:r>
              <a:rPr b="0" lang="hr-HR" sz="2400" spc="-1" strike="noStrike">
                <a:solidFill>
                  <a:srgbClr val="000000"/>
                </a:solidFill>
                <a:latin typeface="Arial"/>
              </a:rPr>
              <a:t>         132.800,00</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72816F-96D1-4D2E-BA64-303D445402F5}" type="slidenum">
              <a:t>350</a:t>
            </a:fld>
          </a:p>
        </p:txBody>
      </p:sp>
    </p:spTree>
  </p:cSld>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755280" y="259920"/>
            <a:ext cx="73105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blagajna</a:t>
            </a:r>
            <a:endParaRPr b="0" lang="en-US" sz="3600" spc="-1" strike="noStrike">
              <a:solidFill>
                <a:srgbClr val="000000"/>
              </a:solidFill>
              <a:latin typeface="Arial"/>
            </a:endParaRPr>
          </a:p>
        </p:txBody>
      </p:sp>
      <p:sp>
        <p:nvSpPr>
          <p:cNvPr id="1290" name="PlaceHolder 2"/>
          <p:cNvSpPr>
            <a:spLocks noGrp="1"/>
          </p:cNvSpPr>
          <p:nvPr>
            <p:ph/>
          </p:nvPr>
        </p:nvSpPr>
        <p:spPr>
          <a:xfrm>
            <a:off x="395280" y="1628640"/>
            <a:ext cx="822960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otovinski platni promet, odnosno gotovinske uplate i isplate obavljaju se preko blagaj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 gotovinskim plaćanjem podrazumijevamo: izravnu predaju gotovog novca jedne osobe drugoj, uplata gotovog novca jedne osobe na račun druge osobe koji se vodi u ovlaštenoj organizaciji i isplata gotovog novca s računa jedne osobe koji se vodi u ovlaštenoj organizaciji drugoj osob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otov novac primljen tijekom dana mora se uplatiti na račun kod ovlaštene organizacije najkasnije idućeg radnog da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Blagajnički maksimum je iznos gotovog novca koji se može držati u blagajni koncem radnog dana. Njegova visina ovisi o veličini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9B061F-1111-40E1-95C3-5405D97FC9B0}" type="slidenum">
              <a:t>351</a:t>
            </a:fld>
          </a:p>
        </p:txBody>
      </p:sp>
    </p:spTree>
  </p:cSld>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755280" y="404280"/>
            <a:ext cx="7488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blagajna</a:t>
            </a:r>
            <a:endParaRPr b="0" lang="en-US" sz="3600" spc="-1" strike="noStrike">
              <a:solidFill>
                <a:srgbClr val="000000"/>
              </a:solidFill>
              <a:latin typeface="Arial"/>
            </a:endParaRPr>
          </a:p>
        </p:txBody>
      </p:sp>
      <p:sp>
        <p:nvSpPr>
          <p:cNvPr id="1292"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isina gotovinskih plaćanja određena je propisom prema kojemu pravna osoba može plaćati drugom sudioniku u platnom prometu u gotovom novcu do iznosa od 5.000,00 po jednom račun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njiženje poslovnih promjena vezanih za gotovinski platni promet koristi se konto 102 – Novac u blagaj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njigovodstvena isprava na osnovi koje se knjiže promjene na kontu 102 je blagajničko izvješće (knjiga blagajne, blagajnički dnevnik) u kojeg se kronološkim redom nastanka unose sve blagajničke uplatnice i isplatnice u razdoblju za koje se on sastavl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936652-DC4C-4E19-AED5-852BC83C2C2C}" type="slidenum">
              <a:t>352</a:t>
            </a:fld>
          </a:p>
        </p:txBody>
      </p:sp>
    </p:spTree>
  </p:cSld>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294" name="PlaceHolder 2"/>
          <p:cNvSpPr>
            <a:spLocks noGrp="1"/>
          </p:cNvSpPr>
          <p:nvPr>
            <p:ph/>
          </p:nvPr>
        </p:nvSpPr>
        <p:spPr>
          <a:xfrm>
            <a:off x="611280" y="1412640"/>
            <a:ext cx="8229600" cy="5229000"/>
          </a:xfrm>
          <a:prstGeom prst="rect">
            <a:avLst/>
          </a:prstGeom>
          <a:gradFill rotWithShape="0">
            <a:gsLst>
              <a:gs pos="0">
                <a:srgbClr val="ffffff">
                  <a:alpha val="38039"/>
                </a:srgbClr>
              </a:gs>
              <a:gs pos="100000">
                <a:srgbClr val="ffffff">
                  <a:alpha val="0"/>
                </a:srgbClr>
              </a:gs>
            </a:gsLst>
            <a:lin ang="5400000"/>
          </a:gradFill>
          <a:ln w="0">
            <a:noFill/>
          </a:ln>
        </p:spPr>
        <p:txBody>
          <a:bodyPr lIns="90000" rIns="90000" tIns="46800" bIns="46800"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Blagajničko izvješće o promjenama i stanju gotovine u blagajni broj 14 od 18. 04. 2004. sadrži informacije o slijedećim gotovinskim transakcijama:</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četno stanje sredstav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9.0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plata gotovine sa žiro računa po čeku br. 036257</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3.4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plata utrška prodavaonice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2.8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lata neto plać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2.3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lata stipendije studentu</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1.25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lata po računu za gorivo</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5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lata po računu za komunalnu naknadu</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1.000,00</a:t>
            </a:r>
            <a:endParaRPr b="0" lang="en-US" sz="2000" spc="-1" strike="noStrike">
              <a:solidFill>
                <a:srgbClr val="000000"/>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Proknjižite poslovne promjene i izračunajte konačno stanje blagajn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5861F6B-8A50-4C49-82A6-DCB4B9233C96}" type="slidenum">
              <a:t>353</a:t>
            </a:fld>
          </a:p>
        </p:txBody>
      </p:sp>
    </p:spTree>
  </p:cSld>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5" name=""/>
          <p:cNvGraphicFramePr/>
          <p:nvPr/>
        </p:nvGraphicFramePr>
        <p:xfrm>
          <a:off x="395280" y="549360"/>
          <a:ext cx="8229600" cy="5903640"/>
        </p:xfrm>
        <a:graphic>
          <a:graphicData uri="http://schemas.openxmlformats.org/drawingml/2006/table">
            <a:tbl>
              <a:tblPr/>
              <a:tblGrid>
                <a:gridCol w="801720"/>
                <a:gridCol w="3168720"/>
                <a:gridCol w="1512720"/>
                <a:gridCol w="1368360"/>
                <a:gridCol w="1378080"/>
              </a:tblGrid>
              <a:tr h="5180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80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četno stanje sredsta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9.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727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Uplata gotovine sa žiro računa po čeku br. 03625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4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87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Uplata utrška prodavaonic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8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59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splata neto plać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56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splata stipendije student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25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93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splata po računu za gorivo</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964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splata po računu za komunalnu naknad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1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C970DE06-B3AC-416C-BCD2-9BFA5D77E7C3}" type="slidenum">
              <a:t>354</a:t>
            </a:fld>
          </a:p>
        </p:txBody>
      </p:sp>
    </p:spTree>
  </p:cSld>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četno stanje</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9.00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ljev</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6.20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ljev</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5.0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ačno stanje                 10.150,00</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1D58DBB-887D-4A8D-9430-3F67D7508926}" type="slidenum">
              <a:t>355</a:t>
            </a:fld>
          </a:p>
        </p:txBody>
      </p:sp>
    </p:spTree>
  </p:cSld>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539640" y="260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 – izdvojena novčana sredstva</a:t>
            </a:r>
            <a:endParaRPr b="0" lang="en-US" sz="3600" spc="-1" strike="noStrike">
              <a:solidFill>
                <a:srgbClr val="000000"/>
              </a:solidFill>
              <a:latin typeface="Arial"/>
            </a:endParaRPr>
          </a:p>
        </p:txBody>
      </p:sp>
      <p:sp>
        <p:nvSpPr>
          <p:cNvPr id="1298" name="PlaceHolder 2"/>
          <p:cNvSpPr>
            <a:spLocks noGrp="1"/>
          </p:cNvSpPr>
          <p:nvPr>
            <p:ph/>
          </p:nvPr>
        </p:nvSpPr>
        <p:spPr>
          <a:xfrm>
            <a:off x="468360" y="1773000"/>
            <a:ext cx="8229600" cy="3168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čana sredstva moguće je izdvajati za različite namje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esto je izdvajanje novčanih sredstava uvjet provođenja određene transakcije poput kupnje vrijednosnica na burzi, otvaranja akreditiva i sl.</a:t>
            </a:r>
            <a:r>
              <a:rPr b="0" lang="hr-H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EA15AE-A697-4072-A975-F877C154835D}" type="slidenum">
              <a:t>356</a:t>
            </a:fld>
          </a:p>
        </p:txBody>
      </p:sp>
    </p:spTree>
  </p:cSld>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300" name="PlaceHolder 2"/>
          <p:cNvSpPr>
            <a:spLocks noGrp="1"/>
          </p:cNvSpPr>
          <p:nvPr>
            <p:ph/>
          </p:nvPr>
        </p:nvSpPr>
        <p:spPr>
          <a:xfrm>
            <a:off x="539280" y="1844280"/>
            <a:ext cx="8215560" cy="470844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uzeće “M&amp;M” odlučilo je na burzi kupiti 100 dionica po cijeni od 500,00 kn po dionici. Stoga je ono izdvojilo novčana sredstva za kupnju dionica. Idući dan poduzeće je zaprimilo potvrdu o realiziranoj kupnji dionic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uzeće je dalo nalog banci za otvaranje akreditiva za podmirenje obveze prema dobavljaču materijala u iznosu od 50.000,00 kn + PDV (22%) te je primilo izvještaj o otvorenom akreditivu u iznosu od 61.000,00 kn (50.000,00 + PDV). Primljen je račun dobavljača i izvješće o isplati po akreditiv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E09048F-8DE2-41E5-9C70-78B1A717C365}"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1" name=""/>
          <p:cNvGraphicFramePr/>
          <p:nvPr/>
        </p:nvGraphicFramePr>
        <p:xfrm>
          <a:off x="468360" y="836640"/>
          <a:ext cx="8229600" cy="5043600"/>
        </p:xfrm>
        <a:graphic>
          <a:graphicData uri="http://schemas.openxmlformats.org/drawingml/2006/table">
            <a:tbl>
              <a:tblPr/>
              <a:tblGrid>
                <a:gridCol w="801720"/>
                <a:gridCol w="3168720"/>
                <a:gridCol w="1512720"/>
                <a:gridCol w="1368360"/>
                <a:gridCol w="1378080"/>
              </a:tblGrid>
              <a:tr h="57780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48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dvajanje novčanih sredstava za kupnju dionic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vrda o kupnji dionic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66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vještaj banke o otvaranju akrediti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1.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282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 račun dobavljača za materij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1.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1.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1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19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o izvješće o plaćanju iz akrediti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1.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263A2871-5607-4DFD-BDBA-CB4BD55D8B62}" type="slidenum">
              <a:t>358</a:t>
            </a:fld>
          </a:p>
        </p:txBody>
      </p:sp>
    </p:spTree>
  </p:cSld>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755640" y="333000"/>
            <a:ext cx="7238880" cy="97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 – devizni račun</a:t>
            </a:r>
            <a:endParaRPr b="0" lang="en-US" sz="3600" spc="-1" strike="noStrike">
              <a:solidFill>
                <a:srgbClr val="000000"/>
              </a:solidFill>
              <a:latin typeface="Arial"/>
            </a:endParaRPr>
          </a:p>
        </p:txBody>
      </p:sp>
      <p:sp>
        <p:nvSpPr>
          <p:cNvPr id="1303" name="PlaceHolder 2"/>
          <p:cNvSpPr>
            <a:spLocks noGrp="1"/>
          </p:cNvSpPr>
          <p:nvPr>
            <p:ph/>
          </p:nvPr>
        </p:nvSpPr>
        <p:spPr>
          <a:xfrm>
            <a:off x="457200" y="1773360"/>
            <a:ext cx="8229600" cy="508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vanje i naplata poslova s inozemstvom regulirani su nizom zakona i provedbenih propisa od kojih su najznačajniji: Zakon o deviznom poslovanju i Zakon o trgovin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evizni račun predstavlja račun u banci na kojem se nalaze inozemna sredstva plaćanja koje poduzeće može koristiti za plaćanje obveza nastalih pravnim poslovima sa stranim osobama, konvertiranje u domaću valutu, oročavanje, ali ih ne smiju prebacivati s tog računa na devizni račun druge pravne osobe. Preko ovog računa obavljaju se bezgotovinske transakcije u stranoj valuti koje su dopuštene zakon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DE9EA4-FE1E-458D-B9C6-66417D7549DC}" type="slidenum">
              <a:t>359</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njigovodstvo</a:t>
            </a:r>
            <a:endParaRPr b="0" lang="en-US" sz="2800" spc="-1" strike="noStrike">
              <a:solidFill>
                <a:srgbClr val="000000"/>
              </a:solidFill>
              <a:latin typeface="Arial"/>
            </a:endParaRPr>
          </a:p>
        </p:txBody>
      </p:sp>
      <p:sp>
        <p:nvSpPr>
          <p:cNvPr id="237" name="PlaceHolder 2"/>
          <p:cNvSpPr>
            <a:spLocks noGrp="1"/>
          </p:cNvSpPr>
          <p:nvPr>
            <p:ph/>
          </p:nvPr>
        </p:nvSpPr>
        <p:spPr>
          <a:xfrm>
            <a:off x="1143000" y="914040"/>
            <a:ext cx="777240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stavlja posebnu vrstu skraćenog bilježenja već nastalih poslovnih promjena koje se mogu iskazati novčanim iznosima, a koje su ostavile trag u dokumenti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r>
              <a:rPr b="0" lang="hr-HR" sz="2400" spc="-1" strike="noStrike">
                <a:solidFill>
                  <a:srgbClr val="000000"/>
                </a:solidFill>
                <a:latin typeface="Arial"/>
              </a:rPr>
              <a:t>zaokruženi i cjeloviti sustav na dokumentaciji zasnovanog evidentiranja već nastalih poslovnih promjena koje se mogu izraziti vrijednos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jpouzdanija evidencija poslovanja – djelatnost sakupljanja, uređivanja, početne obrade i prikazivanja podataka o poslovnim procesima i stanjima čiji su rezultat knjigovodstveni analitičko – sintetički  i sumarni obračuni poput bilance, računa dobiti i gubitka, obračuna troškova po mjestima troškova, razne kalkulacije i s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ska osnova svih dijelova računovodstva kao cjeli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2254C0-81A2-4F55-AEE8-65D3966ECA4C}" type="slidenum">
              <a:t>36</a:t>
            </a:fld>
          </a:p>
        </p:txBody>
      </p:sp>
    </p:spTree>
  </p:cSld>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533520" y="228240"/>
            <a:ext cx="723888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 – devizni račun</a:t>
            </a:r>
            <a:endParaRPr b="0" lang="en-US" sz="3600" spc="-1" strike="noStrike">
              <a:solidFill>
                <a:srgbClr val="000000"/>
              </a:solidFill>
              <a:latin typeface="Arial"/>
            </a:endParaRPr>
          </a:p>
        </p:txBody>
      </p:sp>
      <p:sp>
        <p:nvSpPr>
          <p:cNvPr id="1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aka pravna osoba može imati više deviznih računa otvorenih u ovlaštenim bankama u R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njiženje u poslovnim knjigama kontnim je planom predviđen račun  103 – Devizni raču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nova za knjiženje na deviznom računu je izvadak o promjenama i stanju na raču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E5A8A12-3EF9-4BFD-973E-18C299D8CD0C}"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539280" y="549360"/>
            <a:ext cx="7239240" cy="45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07" name="PlaceHolder 2"/>
          <p:cNvSpPr>
            <a:spLocks noGrp="1"/>
          </p:cNvSpPr>
          <p:nvPr>
            <p:ph/>
          </p:nvPr>
        </p:nvSpPr>
        <p:spPr>
          <a:xfrm>
            <a:off x="457200" y="1700280"/>
            <a:ext cx="8229600" cy="496872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Na dan 01. 01. 2001. u poslovnim knjigama iskazano je slijedeće stanje monetarnih stavki:</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Potraživanja od ino-kupaca: 15.000,00 EUR po srednjem tečaju HNB-a 100 EUR = 700,00 k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Obveze prema ino-dobavljačima: 16.000,00 EUR po srednjem tečaju HNB-a 100 EUR = 700,00 k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U prvom tromjesečju dogodile su se sljedeće poslovne promje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72A9E8-9989-4872-832A-A33B78C28EE9}" type="slidenum">
              <a:t>361</a:t>
            </a:fld>
          </a:p>
        </p:txBody>
      </p:sp>
    </p:spTree>
  </p:cSld>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539280" y="549360"/>
            <a:ext cx="7239240" cy="49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09" name="PlaceHolder 2"/>
          <p:cNvSpPr>
            <a:spLocks noGrp="1"/>
          </p:cNvSpPr>
          <p:nvPr>
            <p:ph/>
          </p:nvPr>
        </p:nvSpPr>
        <p:spPr>
          <a:xfrm>
            <a:off x="468360" y="1700280"/>
            <a:ext cx="8229600" cy="489744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 </a:t>
            </a:r>
            <a:r>
              <a:rPr b="0" lang="hr-HR" sz="2400" spc="-1" strike="noStrike">
                <a:solidFill>
                  <a:srgbClr val="000000"/>
                </a:solidFill>
                <a:latin typeface="Arial"/>
              </a:rPr>
              <a:t>	</a:t>
            </a:r>
            <a:r>
              <a:rPr b="0" lang="hr-HR" sz="2400" spc="-1" strike="noStrike">
                <a:solidFill>
                  <a:srgbClr val="000000"/>
                </a:solidFill>
                <a:latin typeface="Arial"/>
              </a:rPr>
              <a:t>Primljen je Izvještaj o naplati iz inozemstva potraživanja od ino-kupca u iznosu od 10.000,00 EUR. Srednji tečaj HNB-a je 704,00 kuna za 100 EUR. Kunska protuvrijednost je 70.400,00 kuna.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 </a:t>
            </a:r>
            <a:r>
              <a:rPr b="0" lang="hr-HR" sz="2400" spc="-1" strike="noStrike">
                <a:solidFill>
                  <a:srgbClr val="000000"/>
                </a:solidFill>
                <a:latin typeface="Arial"/>
              </a:rPr>
              <a:t>	</a:t>
            </a:r>
            <a:r>
              <a:rPr b="0" lang="hr-HR" sz="2400" spc="-1" strike="noStrike">
                <a:solidFill>
                  <a:srgbClr val="000000"/>
                </a:solidFill>
                <a:latin typeface="Arial"/>
              </a:rPr>
              <a:t>Po nalogu za plaćanje u inozemstvo plaćena je obveza prema ino-dobavljaču u iznosu od 10.000,00 EUR. Srednji tečaj HNB-a za 100 EUR je 710,00 kn. Kunska protuvrijednost je 71.000,00 k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 </a:t>
            </a:r>
            <a:r>
              <a:rPr b="0" lang="hr-HR" sz="2400" spc="-1" strike="noStrike">
                <a:solidFill>
                  <a:srgbClr val="000000"/>
                </a:solidFill>
                <a:latin typeface="Arial"/>
              </a:rPr>
              <a:t>	</a:t>
            </a:r>
            <a:r>
              <a:rPr b="0" lang="hr-HR" sz="2400" spc="-1" strike="noStrike">
                <a:solidFill>
                  <a:srgbClr val="000000"/>
                </a:solidFill>
                <a:latin typeface="Arial"/>
              </a:rPr>
              <a:t>Radi plaćanja u inozemstvo dobavljaču je doznačena kunska protuvrijednost 2.500,00 EUR od 17.800,00 kn po prodajnom tečaju 100 EUR = 712,00 k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2A6BDA-EB46-443A-A50E-AAB3EDF2B77A}" type="slidenum">
              <a:t>362</a:t>
            </a:fld>
          </a:p>
        </p:txBody>
      </p:sp>
    </p:spTree>
  </p:cSld>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311" name="PlaceHolder 2"/>
          <p:cNvSpPr>
            <a:spLocks noGrp="1"/>
          </p:cNvSpPr>
          <p:nvPr>
            <p:ph/>
          </p:nvPr>
        </p:nvSpPr>
        <p:spPr>
          <a:xfrm>
            <a:off x="539640" y="1773000"/>
            <a:ext cx="7926480" cy="482436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4.</a:t>
            </a:r>
            <a:r>
              <a:rPr b="0" lang="hr-HR" sz="2400" spc="-1" strike="noStrike">
                <a:solidFill>
                  <a:srgbClr val="000000"/>
                </a:solidFill>
                <a:latin typeface="Arial"/>
              </a:rPr>
              <a:t>	</a:t>
            </a:r>
            <a:r>
              <a:rPr b="0" lang="hr-HR" sz="2400" spc="-1" strike="noStrike">
                <a:solidFill>
                  <a:srgbClr val="000000"/>
                </a:solidFill>
                <a:latin typeface="Arial"/>
              </a:rPr>
              <a:t>Primljen je Izvještaj o naplati iz inozemstva potraživanja od ino-kupca u iznosu 5.000,00 EUR. Srednji tečaj HNB-a 100 EUR = 718,00 kn. Kunska protuvrijednost je 35.900,00 k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5. </a:t>
            </a:r>
            <a:r>
              <a:rPr b="0" lang="hr-HR" sz="2400" spc="-1" strike="noStrike">
                <a:solidFill>
                  <a:srgbClr val="000000"/>
                </a:solidFill>
                <a:latin typeface="Arial"/>
              </a:rPr>
              <a:t>	</a:t>
            </a:r>
            <a:r>
              <a:rPr b="0" lang="hr-HR" sz="2400" spc="-1" strike="noStrike">
                <a:solidFill>
                  <a:srgbClr val="000000"/>
                </a:solidFill>
                <a:latin typeface="Arial"/>
              </a:rPr>
              <a:t>Po nalogu za plaćanje u inozemstvo (Nalog 14) plaćena je obveza prema ino-dobavljaču u iznosu od 3.500,00 EUR. Srednji tečaj HNB-a 100 EUR = 720,00 kn. Kunska protuvrijednost je 25.200,00 k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6. </a:t>
            </a:r>
            <a:r>
              <a:rPr b="0" lang="hr-HR" sz="2400" spc="-1" strike="noStrike">
                <a:solidFill>
                  <a:srgbClr val="000000"/>
                </a:solidFill>
                <a:latin typeface="Arial"/>
              </a:rPr>
              <a:t>	</a:t>
            </a:r>
            <a:r>
              <a:rPr b="0" lang="hr-HR" sz="2400" spc="-1" strike="noStrike">
                <a:solidFill>
                  <a:srgbClr val="000000"/>
                </a:solidFill>
                <a:latin typeface="Arial"/>
              </a:rPr>
              <a:t>Po nalogu za plaćanje u inozemstvo (Nalog 14) podignuta je valuta (u blagajnu) za predujam službenog puta u inozemstvo u iznosu od 500,00 EUR. Srednji tečaj HNB-a 100 EUR = 724,00 kn. Kunska protuvrijednost je 3.620,00 k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15261A-0AFC-4D9A-99CD-BA0E57B2A913}"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2" name=""/>
          <p:cNvGraphicFramePr/>
          <p:nvPr/>
        </p:nvGraphicFramePr>
        <p:xfrm>
          <a:off x="468360" y="404640"/>
          <a:ext cx="8229600" cy="5864400"/>
        </p:xfrm>
        <a:graphic>
          <a:graphicData uri="http://schemas.openxmlformats.org/drawingml/2006/table">
            <a:tbl>
              <a:tblPr/>
              <a:tblGrid>
                <a:gridCol w="801720"/>
                <a:gridCol w="3168720"/>
                <a:gridCol w="1512720"/>
                <a:gridCol w="1368360"/>
                <a:gridCol w="1378080"/>
              </a:tblGrid>
              <a:tr h="49536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plaćeno potraživanje od kupca u inozemstvu u iznosu od 10.0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4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20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laćena obveza dobavljaču u inozemstvu u iznosu od 10.0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1.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laćena obveza dobavljaču u inozemstvu u iznosu od 2.5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7.8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7.5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plaćeno od kupca u inozemstvu 5.0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5.9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5.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mirena obveza prema dobavljaču u inozemstvu u iznosu od 3.5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5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05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ignuta gotovina (500 EUR) za potrebe predujma za službeni pu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62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9</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FA33FAC8-83B2-43B3-B3DF-3DE98A6561C3}" type="slidenum">
              <a:t>364</a:t>
            </a:fld>
          </a:p>
        </p:txBody>
      </p:sp>
    </p:spTree>
  </p:cSld>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899640" y="333360"/>
            <a:ext cx="74170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Novac u banci i blagajni – devizna blagajna</a:t>
            </a:r>
            <a:endParaRPr b="0" lang="en-US" sz="3600" spc="-1" strike="noStrike">
              <a:solidFill>
                <a:srgbClr val="000000"/>
              </a:solidFill>
              <a:latin typeface="Arial"/>
            </a:endParaRPr>
          </a:p>
        </p:txBody>
      </p:sp>
      <p:sp>
        <p:nvSpPr>
          <p:cNvPr id="1314"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ko devizne blagajne obavljaju se gotovinske transakcije u stranoj valuti poput naplate izvoza, plaćanja akontacija i troškova službenih putovanja u inozemstvo i slično na način kako je to zakonom uređe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njiženje u poslovnim knjigama koristi se račun 105 – Strana valuta u blagajn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nova za knjiženje poslovnih promjena vezanih za blagajničko poslovanje je blagajnički dnevni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A48397-D02D-4F92-A71B-1347EEB0D907}" type="slidenum">
              <a:t>365</a:t>
            </a:fld>
          </a:p>
        </p:txBody>
      </p:sp>
    </p:spTree>
  </p:cSld>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11280" y="404280"/>
            <a:ext cx="7238880" cy="6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316" name="PlaceHolder 2"/>
          <p:cNvSpPr>
            <a:spLocks noGrp="1"/>
          </p:cNvSpPr>
          <p:nvPr>
            <p:ph/>
          </p:nvPr>
        </p:nvSpPr>
        <p:spPr>
          <a:xfrm>
            <a:off x="457200" y="1628640"/>
            <a:ext cx="8229600" cy="450216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 </a:t>
            </a:r>
            <a:r>
              <a:rPr b="0" lang="hr-HR" sz="2400" spc="-1" strike="noStrike">
                <a:solidFill>
                  <a:srgbClr val="000000"/>
                </a:solidFill>
                <a:latin typeface="Arial"/>
              </a:rPr>
              <a:t>	</a:t>
            </a:r>
            <a:r>
              <a:rPr b="0" lang="hr-HR" sz="2400" spc="-1" strike="noStrike">
                <a:solidFill>
                  <a:srgbClr val="000000"/>
                </a:solidFill>
                <a:latin typeface="Arial"/>
              </a:rPr>
              <a:t>Naplaćeno je potraživanje od ino kupca u gotovini u vrijednosti od  8.000,00 USD. Kunska protuvrijednost je 49.520,00 k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a:t>
            </a:r>
            <a:r>
              <a:rPr b="0" lang="hr-HR" sz="2400" spc="-1" strike="noStrike">
                <a:solidFill>
                  <a:srgbClr val="000000"/>
                </a:solidFill>
                <a:latin typeface="Arial"/>
              </a:rPr>
              <a:t>	</a:t>
            </a:r>
            <a:r>
              <a:rPr b="0" lang="hr-HR" sz="2400" spc="-1" strike="noStrike">
                <a:solidFill>
                  <a:srgbClr val="000000"/>
                </a:solidFill>
                <a:latin typeface="Arial"/>
              </a:rPr>
              <a:t>Naplaćena je razlika po putnom obračunu od zaposlenika u iznosu od 400,00 USD. Kunska protuvrijednost je 2.476,00 k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a:t>
            </a:r>
            <a:r>
              <a:rPr b="0" lang="hr-HR" sz="2400" spc="-1" strike="noStrike">
                <a:solidFill>
                  <a:srgbClr val="000000"/>
                </a:solidFill>
                <a:latin typeface="Arial"/>
              </a:rPr>
              <a:t>	</a:t>
            </a:r>
            <a:r>
              <a:rPr b="0" lang="hr-HR" sz="2400" spc="-1" strike="noStrike">
                <a:solidFill>
                  <a:srgbClr val="000000"/>
                </a:solidFill>
                <a:latin typeface="Arial"/>
              </a:rPr>
              <a:t>Iz devizne blagajne je položeno na devizni račun 8.000,00 USD. Kunska protuvrijednost je 49.520,00 k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4.</a:t>
            </a:r>
            <a:r>
              <a:rPr b="0" lang="hr-HR" sz="2400" spc="-1" strike="noStrike">
                <a:solidFill>
                  <a:srgbClr val="000000"/>
                </a:solidFill>
                <a:latin typeface="Arial"/>
              </a:rPr>
              <a:t>	</a:t>
            </a:r>
            <a:r>
              <a:rPr b="0" lang="hr-HR" sz="2400" spc="-1" strike="noStrike">
                <a:solidFill>
                  <a:srgbClr val="000000"/>
                </a:solidFill>
                <a:latin typeface="Arial"/>
              </a:rPr>
              <a:t>Prodano je poslovnoj banci 400,00 USD. Kunska protuvrijednost je 2.476,00 k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D96B1AF-8609-49FB-B526-0919D8D62A49}" type="slidenum">
              <a:t>366</a:t>
            </a:fld>
          </a:p>
        </p:txBody>
      </p:sp>
    </p:spTree>
  </p:cSld>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7" name=""/>
          <p:cNvGraphicFramePr/>
          <p:nvPr/>
        </p:nvGraphicFramePr>
        <p:xfrm>
          <a:off x="468360" y="1557360"/>
          <a:ext cx="8229600" cy="3833640"/>
        </p:xfrm>
        <a:graphic>
          <a:graphicData uri="http://schemas.openxmlformats.org/drawingml/2006/table">
            <a:tbl>
              <a:tblPr/>
              <a:tblGrid>
                <a:gridCol w="801720"/>
                <a:gridCol w="3168720"/>
                <a:gridCol w="1512720"/>
                <a:gridCol w="1368360"/>
                <a:gridCol w="1378080"/>
              </a:tblGrid>
              <a:tr h="4744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368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U gotovu je naplaćeno potraživanje od kupca u inozemstvu 8.000 USD</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9.52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21</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368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Naplaćena je razlika po putnom obračunu od zaposlenika 400 USD</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476,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3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 devizne blagajne je položeno na devizni račun 8.000,00 USD</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9.52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39</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5</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78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odano je poslovnoj banci 400 USD</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476,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5</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8E6103D4-F2C1-4472-B6FF-12D509BDEE61}" type="slidenum">
              <a:t>367</a:t>
            </a:fld>
          </a:p>
        </p:txBody>
      </p:sp>
    </p:spTree>
  </p:cSld>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539280" y="691920"/>
            <a:ext cx="723924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 – devizni akreditiv</a:t>
            </a:r>
            <a:endParaRPr b="0" lang="en-US" sz="3600" spc="-1" strike="noStrike">
              <a:solidFill>
                <a:srgbClr val="000000"/>
              </a:solidFill>
              <a:latin typeface="Arial"/>
            </a:endParaRPr>
          </a:p>
        </p:txBody>
      </p:sp>
      <p:sp>
        <p:nvSpPr>
          <p:cNvPr id="1319" name="PlaceHolder 2"/>
          <p:cNvSpPr>
            <a:spLocks noGrp="1"/>
          </p:cNvSpPr>
          <p:nvPr>
            <p:ph/>
          </p:nvPr>
        </p:nvSpPr>
        <p:spPr>
          <a:xfrm>
            <a:off x="457200" y="1628640"/>
            <a:ext cx="8229600" cy="450216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evizni akreditiv, pored doznaka, najčešći je instrument plaćanja u vanjskoj trgovini i to posebice dokumentarni akreditiv.</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kreditiv je otvoren kada ovlaštena banka temeljem dobivenog  Naloga za otvaranje akreditiva stavlja na raspolaganje devizna sredstva inozemnom vjerovniku preko njegove banke, uz uvjet da nalogodavac (dužnik) osigura pokriće. Nakon isplate banka dostavlja Izvješće o isplati po akreditivu nalogodavatelju. Ukoliko se radi o dokumentarnom akreditivu banka je isplatu dužna obaviti jedino po prezentiranju određenih dokumena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729410-04A2-4F09-B6CC-773A246D7BAE}" type="slidenum">
              <a:t>368</a:t>
            </a:fld>
          </a:p>
        </p:txBody>
      </p:sp>
    </p:spTree>
  </p:cSld>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9280" y="475920"/>
            <a:ext cx="723924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321" name="PlaceHolder 2"/>
          <p:cNvSpPr>
            <a:spLocks noGrp="1"/>
          </p:cNvSpPr>
          <p:nvPr>
            <p:ph/>
          </p:nvPr>
        </p:nvSpPr>
        <p:spPr>
          <a:xfrm>
            <a:off x="457200" y="1915920"/>
            <a:ext cx="8229600" cy="421452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a:t>
            </a:r>
            <a:r>
              <a:rPr b="0" lang="hr-HR" sz="2400" spc="-1" strike="noStrike">
                <a:solidFill>
                  <a:srgbClr val="000000"/>
                </a:solidFill>
                <a:latin typeface="Arial"/>
              </a:rPr>
              <a:t>	</a:t>
            </a:r>
            <a:r>
              <a:rPr b="0" lang="hr-HR" sz="2400" spc="-1" strike="noStrike">
                <a:solidFill>
                  <a:srgbClr val="000000"/>
                </a:solidFill>
                <a:latin typeface="Arial"/>
              </a:rPr>
              <a:t>Otvoren je neopozivi dokumentarni akreditiv inozemnom dobavljaču u vrijednosti od 10.000,00 EUR. Srednji tečaj HNB-a za 100 EUR = 750,00 k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a:t>
            </a:r>
            <a:r>
              <a:rPr b="0" lang="hr-HR" sz="2400" spc="-1" strike="noStrike">
                <a:solidFill>
                  <a:srgbClr val="000000"/>
                </a:solidFill>
                <a:latin typeface="Arial"/>
              </a:rPr>
              <a:t>	</a:t>
            </a:r>
            <a:r>
              <a:rPr b="0" lang="hr-HR" sz="2400" spc="-1" strike="noStrike">
                <a:solidFill>
                  <a:srgbClr val="000000"/>
                </a:solidFill>
                <a:latin typeface="Arial"/>
              </a:rPr>
              <a:t>Prema izvješću o isplati po akreditivu plaćena je obveza prema dobavljaču. Tečaj je ostao nepromijenj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FD007E-0BE7-4D2D-94AB-983CC445DA5E}" type="slidenum">
              <a:t>369</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njigovodstvo</a:t>
            </a:r>
            <a:endParaRPr b="0" lang="en-US" sz="2800" spc="-1" strike="noStrike">
              <a:solidFill>
                <a:srgbClr val="000000"/>
              </a:solidFill>
              <a:latin typeface="Arial"/>
            </a:endParaRPr>
          </a:p>
        </p:txBody>
      </p:sp>
      <p:sp>
        <p:nvSpPr>
          <p:cNvPr id="239" name="PlaceHolder 2"/>
          <p:cNvSpPr>
            <a:spLocks noGrp="1"/>
          </p:cNvSpPr>
          <p:nvPr>
            <p:ph/>
          </p:nvPr>
        </p:nvSpPr>
        <p:spPr>
          <a:xfrm>
            <a:off x="1187280" y="764640"/>
            <a:ext cx="7772400" cy="5877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ilježja:</a:t>
            </a:r>
            <a:r>
              <a:rPr b="0" lang="hr-HR" sz="2400" spc="-1" strike="noStrike">
                <a:solidFill>
                  <a:srgbClr val="000000"/>
                </a:solidFill>
                <a:latin typeface="Arial"/>
              </a:rPr>
              <a:t>	</a:t>
            </a:r>
            <a:r>
              <a:rPr b="0" lang="hr-HR" sz="2400" spc="-1" strike="noStrike">
                <a:solidFill>
                  <a:srgbClr val="000000"/>
                </a:solidFill>
                <a:latin typeface="Arial"/>
              </a:rPr>
              <a:t>- sustavna cjelovitos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vantitativni vrijednosni izraz</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skraćeni način bilježenja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nastalih poslovnih promjen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visok stupanj pouzdanosti.</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daci:</a:t>
            </a:r>
            <a:r>
              <a:rPr b="0" lang="hr-HR" sz="2400" spc="-1" strike="noStrike">
                <a:solidFill>
                  <a:srgbClr val="000000"/>
                </a:solidFill>
                <a:latin typeface="Arial"/>
              </a:rPr>
              <a:t>	</a:t>
            </a:r>
            <a:r>
              <a:rPr b="0" lang="hr-HR" sz="2400" spc="-1" strike="noStrike">
                <a:solidFill>
                  <a:srgbClr val="000000"/>
                </a:solidFill>
                <a:latin typeface="Arial"/>
              </a:rPr>
              <a:t>- Evidentiranje stanja i kretanja imovine,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dugova, kapital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Praćenje rashoda i prihod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Obračun rezultata poslovanja i njegove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raspodjel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Sastavljanje temeljnih financijskih izvještaja: bilanca, račun dobiti i gubitka, izvještaj o novčanim tokovima, izvještaj o promjenama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glavnice, računovodstvene politike i bilješke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uz financijske izvještaj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DE6AE1-1C86-44B9-89DA-89C8C1342093}" type="slidenum">
              <a:t>37</a:t>
            </a:fld>
          </a:p>
        </p:txBody>
      </p:sp>
    </p:spTree>
  </p:cSld>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2" name=""/>
          <p:cNvGraphicFramePr/>
          <p:nvPr/>
        </p:nvGraphicFramePr>
        <p:xfrm>
          <a:off x="468360" y="2205000"/>
          <a:ext cx="8229600" cy="3571920"/>
        </p:xfrm>
        <a:graphic>
          <a:graphicData uri="http://schemas.openxmlformats.org/drawingml/2006/table">
            <a:tbl>
              <a:tblPr/>
              <a:tblGrid>
                <a:gridCol w="801720"/>
                <a:gridCol w="3168720"/>
                <a:gridCol w="1512720"/>
                <a:gridCol w="1368360"/>
                <a:gridCol w="1378080"/>
              </a:tblGrid>
              <a:tr h="6793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985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vadak o stanju i promjenama na deviznom računu – otvoren devizni akreditiv</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5.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096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vješće o isplati iz akreditiva inozemnom dobavljač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5.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E13CE5BA-FB98-4784-BC13-9A4D13013A01}" type="slidenum">
              <a:t>370</a:t>
            </a:fld>
          </a:p>
        </p:txBody>
      </p:sp>
    </p:spTree>
  </p:cSld>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RIJEDNOSNI PAPIRI</a:t>
            </a:r>
            <a:endParaRPr b="0" lang="en-US" sz="3600" spc="-1" strike="noStrike">
              <a:solidFill>
                <a:srgbClr val="000000"/>
              </a:solidFill>
              <a:latin typeface="Arial"/>
            </a:endParaRPr>
          </a:p>
        </p:txBody>
      </p:sp>
      <p:sp>
        <p:nvSpPr>
          <p:cNvPr id="1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ekov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jen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vezn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ercijalni zapis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o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5A8CD9-3A4E-4570-84DA-6B7160F92608}" type="slidenum">
              <a:t>371</a:t>
            </a:fld>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611280" y="549360"/>
            <a:ext cx="723888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Financijska imovina - vrijednosni papiri</a:t>
            </a:r>
            <a:endParaRPr b="0" lang="en-US" sz="3600" spc="-1" strike="noStrike">
              <a:solidFill>
                <a:srgbClr val="000000"/>
              </a:solidFill>
              <a:latin typeface="Arial"/>
            </a:endParaRPr>
          </a:p>
        </p:txBody>
      </p:sp>
      <p:sp>
        <p:nvSpPr>
          <p:cNvPr id="1326" name="PlaceHolder 2"/>
          <p:cNvSpPr>
            <a:spLocks noGrp="1"/>
          </p:cNvSpPr>
          <p:nvPr>
            <p:ph/>
          </p:nvPr>
        </p:nvSpPr>
        <p:spPr>
          <a:xfrm>
            <a:off x="457200" y="1844640"/>
            <a:ext cx="8229600" cy="5013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rijednosni papiri su pisane isprave koje sadrže određeno imovinsko pravo, a imaju slijedeće karakteristi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sigurno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očuvanje realne vrijednos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rentabilno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likvidn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ma ZOO: Vrijednosni papir je pisana isprava kojom se njezin izdavatelj obvezuje ispuniti obvezu upisanu na toj ispravi njezinu zakonitu imaoc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ni su dio novčanih ekvivalenata u širem smisl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A05D17-88E8-4B05-88E9-7BBD0179F22E}" type="slidenum">
              <a:t>372</a:t>
            </a:fld>
          </a:p>
        </p:txBody>
      </p:sp>
    </p:spTree>
  </p:cSld>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rijednosni papiri</a:t>
            </a:r>
            <a:endParaRPr b="0" lang="en-US" sz="3600" spc="-1" strike="noStrike">
              <a:solidFill>
                <a:srgbClr val="000000"/>
              </a:solidFill>
              <a:latin typeface="Arial"/>
            </a:endParaRPr>
          </a:p>
        </p:txBody>
      </p:sp>
      <p:sp>
        <p:nvSpPr>
          <p:cNvPr id="1328"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obzirom na način određivanja nosioca prava i prijenosa na vrijednosne papire razlikujemo vrijednosne papire: na donosioca, po naredbi i na ime.</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obzirom na prava koja daju razlikujemo: dužničke i vlasničke vrijednosne papire.</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jčešći su u upotrebi slijedeći vrijednosni papiri:</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čekovi,</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mjenic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obveznic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omercijalni zapisi,</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blagajnički zapisi i</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dio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31E7FE-9933-4A0A-8C11-02B1597BE412}" type="slidenum">
              <a:t>373</a:t>
            </a:fld>
          </a:p>
        </p:txBody>
      </p:sp>
    </p:spTree>
  </p:cSld>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Čekovi</a:t>
            </a:r>
            <a:endParaRPr b="0" lang="en-US" sz="3600" spc="-1" strike="noStrike">
              <a:solidFill>
                <a:srgbClr val="000000"/>
              </a:solidFill>
              <a:latin typeface="Arial"/>
            </a:endParaRPr>
          </a:p>
        </p:txBody>
      </p:sp>
      <p:sp>
        <p:nvSpPr>
          <p:cNvPr id="1330" name="PlaceHolder 2"/>
          <p:cNvSpPr>
            <a:spLocks noGrp="1"/>
          </p:cNvSpPr>
          <p:nvPr>
            <p:ph/>
          </p:nvPr>
        </p:nvSpPr>
        <p:spPr>
          <a:xfrm>
            <a:off x="468360" y="19238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ek je vrijednosni papir koji služi isključivo kao sredstvo plaćanja, a sadrži slijedeće obavezne elemente: oznaku da je ček, uputu da se plati određena svota novca  iz izdavateljevog pokrića, ime onoga koji treba platiti, mjesto plaćanja, mjesto izdavanja, dan izdavanja i potpis izdavatelja če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ma načinu uporabe čeka kao instrumenta plaćanja razlikujemo: obračunski ček, gotovinski ček, ček po tekućem račun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slučaju neisplate ček se treba protestirati kako bi se mogao ostvariti regres odnosno kako bi se ček mogao naplatit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20 - Čeko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2A159F-4A4D-474A-B7AC-638277133D10}" type="slidenum">
              <a:t>374</a:t>
            </a:fld>
          </a:p>
        </p:txBody>
      </p:sp>
    </p:spTree>
  </p:cSld>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Mjenice</a:t>
            </a:r>
            <a:endParaRPr b="0" lang="en-US" sz="3600" spc="-1" strike="noStrike">
              <a:solidFill>
                <a:srgbClr val="000000"/>
              </a:solidFill>
              <a:latin typeface="Arial"/>
            </a:endParaRPr>
          </a:p>
        </p:txBody>
      </p:sp>
      <p:sp>
        <p:nvSpPr>
          <p:cNvPr id="1332" name="PlaceHolder 2"/>
          <p:cNvSpPr>
            <a:spLocks noGrp="1"/>
          </p:cNvSpPr>
          <p:nvPr>
            <p:ph/>
          </p:nvPr>
        </p:nvSpPr>
        <p:spPr>
          <a:xfrm>
            <a:off x="468360" y="1700280"/>
            <a:ext cx="8229600" cy="47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jenica je pisana isprava izdana u propisanom obliku kojom jedna osoba daje nalog drugoj ili samoj sebi da isplati određeni novčani iznos osobi navedenoj u ispravi (ili po njenoj naredbi) u određeno vrijeme i na određenom mjest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kon o mjenici - N. N. br. 74/94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ne vrste mjenice su trasirana mjenica i vlastita mje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C76E90-133B-4545-9D86-02329ECB8DC5}" type="slidenum">
              <a:t>375</a:t>
            </a:fld>
          </a:p>
        </p:txBody>
      </p:sp>
    </p:spTree>
  </p:cSld>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Mjenice</a:t>
            </a:r>
            <a:endParaRPr b="0" lang="en-US" sz="3600" spc="-1" strike="noStrike">
              <a:solidFill>
                <a:srgbClr val="000000"/>
              </a:solidFill>
              <a:latin typeface="Arial"/>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jenica je prije svega sredstvo kreditiranja i osiguranja plaćan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portfelju društva mjenica se najčešće nalazi zbog ulaganja viškova novčanih sredstava, prihvaćanja mjenice kao sredstva plaćanja od dužnika čime ga zapravo kreditiramo do dospijeća mjenice i d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21 - Mje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9389C19-70DE-460D-A38C-3E6538CAC026}" type="slidenum">
              <a:t>376</a:t>
            </a:fld>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bveznice</a:t>
            </a:r>
            <a:endParaRPr b="0" lang="en-US" sz="3600" spc="-1" strike="noStrike">
              <a:solidFill>
                <a:srgbClr val="000000"/>
              </a:solidFill>
              <a:latin typeface="Arial"/>
            </a:endParaRPr>
          </a:p>
        </p:txBody>
      </p:sp>
      <p:sp>
        <p:nvSpPr>
          <p:cNvPr id="1336" name="PlaceHolder 2"/>
          <p:cNvSpPr>
            <a:spLocks noGrp="1"/>
          </p:cNvSpPr>
          <p:nvPr>
            <p:ph/>
          </p:nvPr>
        </p:nvSpPr>
        <p:spPr>
          <a:xfrm>
            <a:off x="457200" y="1700280"/>
            <a:ext cx="8229600" cy="489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veznica je dugoročni dužnički vrijednosni papir kojim se njegov izdavatelj obvezuje da će u navedenom roku određenoj osobi ili donosiocu obveznice isplatiti iznos naznačen u obveznici uvećan za određenu kamat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mata na obveznicu najčešće je fiksna, ali u novije vrijeme javljaju se obveznice čija je kamata vezana za određene referentne kamatne st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nos glavnice i kamate može se isplaćivati odjednom, po njezinom dospijeću ili u godišnjim ili polugodišnjim obroc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E7DEDC-BD15-40E1-9935-AC6B825410FE}" type="slidenum">
              <a:t>377</a:t>
            </a:fld>
          </a:p>
        </p:txBody>
      </p:sp>
    </p:spTree>
  </p:cSld>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bveznice</a:t>
            </a:r>
            <a:endParaRPr b="0" lang="en-US" sz="3600" spc="-1" strike="noStrike">
              <a:solidFill>
                <a:srgbClr val="000000"/>
              </a:solidFill>
              <a:latin typeface="Arial"/>
            </a:endParaRPr>
          </a:p>
        </p:txBody>
      </p:sp>
      <p:sp>
        <p:nvSpPr>
          <p:cNvPr id="1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matelj obveznice može je držati do dospijeća ili pak prodati prije dospijeć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nos od obveznice javlja se u obliku kamata i/ili u obliku kapitalnog dobitka koji se ostvaruje prodajom obveznice po cijeni višoj od cijene stjecanj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25 - Obvez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F40261-774E-4260-895E-2E0588FF3D0A}" type="slidenum">
              <a:t>378</a:t>
            </a:fld>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mercijalni</a:t>
            </a:r>
            <a:r>
              <a:rPr b="0" lang="hr-HR" sz="2800" spc="-1" strike="noStrike">
                <a:solidFill>
                  <a:srgbClr val="000000"/>
                </a:solidFill>
                <a:latin typeface="Arial"/>
              </a:rPr>
              <a:t> </a:t>
            </a:r>
            <a:r>
              <a:rPr b="0" lang="hr-HR" sz="3600" spc="-1" strike="noStrike">
                <a:solidFill>
                  <a:srgbClr val="000000"/>
                </a:solidFill>
                <a:latin typeface="Arial"/>
              </a:rPr>
              <a:t>zapisi</a:t>
            </a:r>
            <a:endParaRPr b="0" lang="en-US" sz="3600" spc="-1" strike="noStrike">
              <a:solidFill>
                <a:srgbClr val="000000"/>
              </a:solidFill>
              <a:latin typeface="Arial"/>
            </a:endParaRPr>
          </a:p>
        </p:txBody>
      </p:sp>
      <p:sp>
        <p:nvSpPr>
          <p:cNvPr id="1340" name="PlaceHolder 2"/>
          <p:cNvSpPr>
            <a:spLocks noGrp="1"/>
          </p:cNvSpPr>
          <p:nvPr>
            <p:ph/>
          </p:nvPr>
        </p:nvSpPr>
        <p:spPr>
          <a:xfrm>
            <a:off x="468360" y="1895040"/>
            <a:ext cx="8229600" cy="4962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ercijalni zapis je kratkoročni dužnički vrijednosni papir kojim se njegov izdavatelj obvezuje isplatiti naznačen iznos njegovom donosiocu po dospijeć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upnjom komercijalnih zapisa ulaže se višak novčanih sredstava na kratki rok kako bi se ostvario prin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22 – Komercijalni zapis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892270-7B25-4C89-9BCE-BA29D281805F}" type="slidenum">
              <a:t>379</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o planiranje</a:t>
            </a:r>
            <a:endParaRPr b="0" lang="en-US" sz="2800" spc="-1" strike="noStrike">
              <a:solidFill>
                <a:srgbClr val="000000"/>
              </a:solidFill>
              <a:latin typeface="Arial"/>
            </a:endParaRPr>
          </a:p>
        </p:txBody>
      </p:sp>
      <p:sp>
        <p:nvSpPr>
          <p:cNvPr id="241" name="PlaceHolder 2"/>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stavlja skupljanje, sređivanje, početno obrađivanje i prikazivanje podataka o budućem poslovanj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računovodstvenog planiranja su razni predračuni koji prikazuju projicirana buduća stanja imovine, dugova i kapitala ili buduće prihode i rashode, odnosno rezultat poslovan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računi su izvještaji koji sadrže informacije o očekivanim poslovnim promjenama  u budućnosti, izraženim vrijednos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5BB15A-C777-4C12-88E1-0A5C87B04825}" type="slidenum">
              <a:t>38</a:t>
            </a:fld>
          </a:p>
        </p:txBody>
      </p:sp>
    </p:spTree>
  </p:cSld>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Dionice</a:t>
            </a:r>
            <a:endParaRPr b="0" lang="en-US" sz="3600" spc="-1" strike="noStrike">
              <a:solidFill>
                <a:srgbClr val="000000"/>
              </a:solidFill>
              <a:latin typeface="Arial"/>
            </a:endParaRPr>
          </a:p>
        </p:txBody>
      </p:sp>
      <p:sp>
        <p:nvSpPr>
          <p:cNvPr id="1342" name="PlaceHolder 2"/>
          <p:cNvSpPr>
            <a:spLocks noGrp="1"/>
          </p:cNvSpPr>
          <p:nvPr>
            <p:ph/>
          </p:nvPr>
        </p:nvSpPr>
        <p:spPr>
          <a:xfrm>
            <a:off x="468360" y="1773360"/>
            <a:ext cx="8229600" cy="47527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onice su vlasnički vrijednosni papiri koji njihovom imatelju daju određena prava, koja ovise o tome o kojoj se vrsti dionica radi. One predstavljaju udio u kapitalu društva.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likujemo redovite i povlaštene dionic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edovite dionice</a:t>
            </a:r>
            <a:r>
              <a:rPr b="0" lang="hr-HR" sz="2400" spc="-1" strike="noStrike">
                <a:solidFill>
                  <a:srgbClr val="000000"/>
                </a:solidFill>
                <a:latin typeface="Arial"/>
              </a:rPr>
              <a:t> daju pravo glasa na glavnoj skupštini dioničara, pravo na dividendu i pravo na ostatak u likvidacijskoj masi nakon podmirenja svih obveza.</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vlaštene dionice</a:t>
            </a:r>
            <a:r>
              <a:rPr b="0" lang="hr-HR" sz="2400" spc="-1" strike="noStrike">
                <a:solidFill>
                  <a:srgbClr val="000000"/>
                </a:solidFill>
                <a:latin typeface="Arial"/>
              </a:rPr>
              <a:t> ne daju pravo glasa, ali daju pravo na dividendu u unaprijed određenom fiksnom iznosu, pravo na ostatak u likvidacijskoj masi nakon podmirenja svih obveza, ali prije isplate imaocima redovitih dionica i d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D6DAF1-36B9-43E7-9CF6-C95F16D58A0B}" type="slidenum">
              <a:t>380</a:t>
            </a:fld>
          </a:p>
        </p:txBody>
      </p:sp>
    </p:spTree>
  </p:cSld>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Dionice</a:t>
            </a:r>
            <a:endParaRPr b="0" lang="en-US" sz="3600" spc="-1" strike="noStrike">
              <a:solidFill>
                <a:srgbClr val="000000"/>
              </a:solidFill>
              <a:latin typeface="Arial"/>
            </a:endParaRPr>
          </a:p>
        </p:txBody>
      </p:sp>
      <p:sp>
        <p:nvSpPr>
          <p:cNvPr id="1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matelj dionica ostvaruje prinos na temelju dividende kao oblika udjela u dobiti društva i kapitalne dobiti nastale kao razlike između više cijene prodaje i niže cijene stjecanja dion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00 - Dio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CC1791-A205-4606-B9CF-3416D5C09068}" type="slidenum">
              <a:t>381</a:t>
            </a:fld>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680"/>
            <a:ext cx="8229600" cy="92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lastite dionice</a:t>
            </a:r>
            <a:endParaRPr b="0" lang="en-US" sz="3600" spc="-1" strike="noStrike">
              <a:solidFill>
                <a:srgbClr val="000000"/>
              </a:solidFill>
              <a:latin typeface="Arial"/>
            </a:endParaRPr>
          </a:p>
        </p:txBody>
      </p:sp>
      <p:sp>
        <p:nvSpPr>
          <p:cNvPr id="1346" name="PlaceHolder 2"/>
          <p:cNvSpPr>
            <a:spLocks noGrp="1"/>
          </p:cNvSpPr>
          <p:nvPr>
            <p:ph/>
          </p:nvPr>
        </p:nvSpPr>
        <p:spPr>
          <a:xfrm>
            <a:off x="468360" y="1700280"/>
            <a:ext cx="8229600" cy="5005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onice koje je steklo dioničko društvo koje je iste dionice emitiralo (izdalo) nazivaju se vlastite dion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i nominalni iznos vlastitih dionica koje poduzeće posjeduje ne smije preći iznos od 10% temeljnog kapitala uz uvjet da za tu namjenu postoje slobodne rezerve i ako su dionice u cijelosti uplaće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3BFB3F-5D72-4A9D-B14E-6732F970D486}" type="slidenum">
              <a:t>382</a:t>
            </a:fld>
          </a:p>
        </p:txBody>
      </p:sp>
    </p:spTree>
  </p:cSld>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lastite dionice</a:t>
            </a:r>
            <a:endParaRPr b="0" lang="en-US" sz="3600" spc="-1" strike="noStrike">
              <a:solidFill>
                <a:srgbClr val="000000"/>
              </a:solidFill>
              <a:latin typeface="Arial"/>
            </a:endParaRPr>
          </a:p>
        </p:txBody>
      </p:sp>
      <p:sp>
        <p:nvSpPr>
          <p:cNvPr id="1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lastite dionice koje se namjeravaju otuđiti unutar roka od godine dana ulaze u kratkotrajnu financijsku imovinu, dok one koje se namjeravaju zadržati u vlastitom portfelju kroz duže razdoblje predstavljaju vlastite poslovne udjele i ulaze u dugotrajnu financijsku imovin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4 – Otkupljene vlastite dio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7FAE432-DC6E-45A1-A56F-BB038C8589E7}" type="slidenum">
              <a:t>383</a:t>
            </a:fld>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50" name="PlaceHolder 2"/>
          <p:cNvSpPr>
            <a:spLocks noGrp="1"/>
          </p:cNvSpPr>
          <p:nvPr>
            <p:ph/>
          </p:nvPr>
        </p:nvSpPr>
        <p:spPr>
          <a:xfrm>
            <a:off x="468360" y="1628280"/>
            <a:ext cx="8229600" cy="464508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	</a:t>
            </a:r>
            <a:r>
              <a:rPr b="0" lang="hr-HR" sz="2400" spc="-1" strike="noStrike">
                <a:solidFill>
                  <a:srgbClr val="000000"/>
                </a:solidFill>
                <a:latin typeface="Arial"/>
              </a:rPr>
              <a:t>Društvo je prodalo robe u iznosu 100.000,00 kn + PDV (22%). 60% duga kupac je platio doznakom čeka koji je idući dan predan na naplatu. Za ostatak duga kupac je doznačio mjenicu. Primili smo izvod o stanju i promjenama na žiro računu u kojem stoji da su ček i mjenica naplaćen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Društvo je nabavilo stroj vrijednosti 200.000, kn + PDV (22%) od dobavljača “Prvomajska”. S obzirom na višak novčanih sredstava društvo je odlučilo kupiti obveznice “BINA-ISTRA” po nominalnoj vrijednosti 244.000,00 kn. Obveza prema dobavljaču podmirena je doznakom obvez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55946A-25FE-4D20-A012-6384ADA4DBF3}" type="slidenum">
              <a:t>384</a:t>
            </a:fld>
          </a:p>
        </p:txBody>
      </p:sp>
    </p:spTree>
  </p:cSld>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52" name="PlaceHolder 2"/>
          <p:cNvSpPr>
            <a:spLocks noGrp="1"/>
          </p:cNvSpPr>
          <p:nvPr>
            <p:ph/>
          </p:nvPr>
        </p:nvSpPr>
        <p:spPr>
          <a:xfrm>
            <a:off x="468000" y="1628640"/>
            <a:ext cx="8280360" cy="457200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Izdvojena su novčana sredstva za kupnju dionica te je kupljeno 200 dionica društva “Podravka” po cijeni od 185,00 kn po dionici. Plaćen je račun brokera u iznosu od 1000,00 kn + PDV (22%). Prodane su dionice po cijeni od 190 kn po dionic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40C03C-A6CF-40FC-A8E6-1BBF158401A8}" type="slidenum">
              <a:t>385</a:t>
            </a:fld>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3" name=""/>
          <p:cNvGraphicFramePr/>
          <p:nvPr/>
        </p:nvGraphicFramePr>
        <p:xfrm>
          <a:off x="457200" y="277920"/>
          <a:ext cx="8229600" cy="5641920"/>
        </p:xfrm>
        <a:graphic>
          <a:graphicData uri="http://schemas.openxmlformats.org/drawingml/2006/table">
            <a:tbl>
              <a:tblPr/>
              <a:tblGrid>
                <a:gridCol w="801720"/>
                <a:gridCol w="3168720"/>
                <a:gridCol w="1512720"/>
                <a:gridCol w="1368360"/>
                <a:gridCol w="1378080"/>
              </a:tblGrid>
              <a:tr h="28872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rodano robe – ispostavljen izlazni račun</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6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8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upac podmirio 60% duga doznakom ček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3.2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Čekovi predani na naplatu</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3.2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9</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75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miren ostatak duga doznakom mjenic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8.8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vadak o stanju i promjenama na žiro računu – naplaćeni ček i mjenic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3.2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8.8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bavljen stroj od dobavljača “Prvomajska” – primljen ulazni račun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4.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4.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03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4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36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upljeno obveznica “BINA-ISTRE” koje se namjeravaju otuđiti u roku kraćem od godine da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4.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veza prema dobavljaču podmirena doznakom obveznic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4.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5</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91A0B43D-B6A1-4F9A-AD6E-3B47ED032A37}" type="slidenum">
              <a:t>386</a:t>
            </a:fld>
          </a:p>
        </p:txBody>
      </p:sp>
    </p:spTree>
  </p:cSld>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4" name=""/>
          <p:cNvGraphicFramePr/>
          <p:nvPr/>
        </p:nvGraphicFramePr>
        <p:xfrm>
          <a:off x="468360" y="1844640"/>
          <a:ext cx="8229600" cy="3130560"/>
        </p:xfrm>
        <a:graphic>
          <a:graphicData uri="http://schemas.openxmlformats.org/drawingml/2006/table">
            <a:tbl>
              <a:tblPr/>
              <a:tblGrid>
                <a:gridCol w="801720"/>
                <a:gridCol w="3168720"/>
                <a:gridCol w="1512720"/>
                <a:gridCol w="1368360"/>
                <a:gridCol w="1378080"/>
              </a:tblGrid>
              <a:tr h="2444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dvojena novčana sredstva za kupnju dionica “Podravk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7.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9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upljeno je 200 dionica po cijeni od 185,00 kn po dionic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7.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laćen je račun broker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1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4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rodano je 200 dionica po cijeni od 190,00 kn po dionic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8.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7.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CF379680-396F-48EF-9E93-BEBDD0975650}" type="slidenum">
              <a:t>387</a:t>
            </a:fld>
          </a:p>
        </p:txBody>
      </p:sp>
    </p:spTree>
  </p:cSld>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680"/>
            <a:ext cx="8229600" cy="92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Financijska imovina - potraživanja</a:t>
            </a:r>
            <a:endParaRPr b="0" lang="en-US" sz="3600" spc="-1" strike="noStrike">
              <a:solidFill>
                <a:srgbClr val="000000"/>
              </a:solidFill>
              <a:latin typeface="Arial"/>
            </a:endParaRPr>
          </a:p>
        </p:txBody>
      </p:sp>
      <p:sp>
        <p:nvSpPr>
          <p:cNvPr id="1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ni su dio kratkotrajne financijske imovine i kratkotrajna potraživanja koja su nastala temeljem ulaganja s dospijećem u roku prezentiranja tekućih sredstav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kviru kratkotrajnih potraživanja najčešće se javljaju poslovni udjeli u povezanim društvima, potraživanja od povezanih društava iz zajedničkih poslova, dani zajmovi i krediti, potraživanja za dane predujmove za nabavu usluga, dani depoziti i jamčevine,  potraživanja od države i radnika, potraživanja za dugoročne zajmove koja dospijevaju u idućoj godini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B552AE-D0B8-4B27-B327-05DC98A8BCDD}" type="slidenum">
              <a:t>388</a:t>
            </a:fld>
          </a:p>
        </p:txBody>
      </p:sp>
    </p:spTree>
  </p:cSld>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slovni udjeli povezanih društava</a:t>
            </a:r>
            <a:endParaRPr b="0" lang="en-US" sz="3600" spc="-1" strike="noStrike">
              <a:solidFill>
                <a:srgbClr val="000000"/>
              </a:solidFill>
              <a:latin typeface="Arial"/>
            </a:endParaRPr>
          </a:p>
        </p:txBody>
      </p:sp>
      <p:sp>
        <p:nvSpPr>
          <p:cNvPr id="1358" name="PlaceHolder 2"/>
          <p:cNvSpPr>
            <a:spLocks noGrp="1"/>
          </p:cNvSpPr>
          <p:nvPr>
            <p:ph/>
          </p:nvPr>
        </p:nvSpPr>
        <p:spPr>
          <a:xfrm>
            <a:off x="468360" y="160128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ezana društva su pravno samostalna društva koja u međusobnom odnosu mogu stajati ka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1. društvo koje u drugome društvu ima većinski udio ili      većinsko pravo u odlučivanju,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2. ovisno i vladajuće društv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3. društvo koncern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4. društva s uzajamnim udjelima 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5. društva povezana poduzetničkim ugovorima.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laganja u povezana društva obuhvaćena su MRS-om 28 – Računovodstvo ulaganja u pridružene kompanije.</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češće se javljaju u portfoliju društva stjecanjem na financijskom tržištu ili zamjenom za potraživanja prema dužniku.</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o 150 – Udjeli u povezanim društv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6E9FCC-44B0-40C4-8FD5-8CC4A370E76B}" type="slidenum">
              <a:t>389</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i nadzor</a:t>
            </a:r>
            <a:endParaRPr b="0" lang="en-US" sz="2800" spc="-1" strike="noStrike">
              <a:solidFill>
                <a:srgbClr val="000000"/>
              </a:solidFill>
              <a:latin typeface="Arial"/>
            </a:endParaRPr>
          </a:p>
        </p:txBody>
      </p:sp>
      <p:sp>
        <p:nvSpPr>
          <p:cNvPr id="243" name="PlaceHolder 2"/>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ebna je vrsta proučavanja i ocjenjivanja samog tijeka obrade knjigovodstvenih podataka i njihovih iskaza, odnosno dokumenata, kao i tekuća kontrola poslovanja u svim dijelovima računovodst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met nadzora jest kontrola ulazne dokumentacije, računska kontrola izvršenih knjiženja i obračuna, izlaznih računovodstvenih dokumenata, izvještaja i s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su računovodstvenog nadzora točnija računovodstvena izvješća, veća usklađenost poslovanja s propisima i ostalim aktima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A2163AD-4D56-441E-AF3D-47B7A3F2B263}" type="slidenum">
              <a:t>39</a:t>
            </a:fld>
          </a:p>
        </p:txBody>
      </p:sp>
    </p:spTree>
  </p:cSld>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sp>
        <p:nvSpPr>
          <p:cNvPr id="1360"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govorom o zajmu obvezuje se zajmodavac da zajmoprimcu preda određeni iznos novca ili određenu količinu drugih zamjenjivih stvari, a zajmoprimac se obvezuje da mu vrati, poslije stanovitog vremena, isti iznos novca, odnosno istu količinu stvari iste vrste i kvalitete. Na primljenim stvarima zajmoprimac stječe pravo raspolaganja odnosno pravo vlasništva. Zajmoprimac se može obvezati da uz glavnicu duguje i kamatu. U ugovorima u privredi zajmoprimac duguje kamatu i ako ona nije ugovorena. ZOO, čl. 557. i 558.</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B02B326-E1C7-469D-99BA-E44E3D88827B}" type="slidenum">
              <a:t>390</a:t>
            </a:fld>
          </a:p>
        </p:txBody>
      </p:sp>
    </p:spTree>
  </p:cSld>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sp>
        <p:nvSpPr>
          <p:cNvPr id="1362" name="PlaceHolder 2"/>
          <p:cNvSpPr>
            <a:spLocks noGrp="1"/>
          </p:cNvSpPr>
          <p:nvPr>
            <p:ph/>
          </p:nvPr>
        </p:nvSpPr>
        <p:spPr>
          <a:xfrm>
            <a:off x="539640" y="1700280"/>
            <a:ext cx="8064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govorom o kreditu banka se obvezuje da korisniku kredita stavi na raspolaganje određeni iznos novčanih sredstava, na određeno vrijeme ili neodređeno vrijeme, za neku namjenu ili bez utvrđene namjene, a korisnik se obvezuje da banci plaća ugovorenu kamatu i dobiveni iznos novca vrati u vrijeme i na način kako je to utvrđeno ugovorom. ZOO čl. 106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C2FFDB6-0327-48AE-9EC0-6F70FA475E66}" type="slidenum">
              <a:t>391</a:t>
            </a:fld>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sp>
        <p:nvSpPr>
          <p:cNvPr id="1364" name="PlaceHolder 2"/>
          <p:cNvSpPr>
            <a:spLocks noGrp="1"/>
          </p:cNvSpPr>
          <p:nvPr>
            <p:ph/>
          </p:nvPr>
        </p:nvSpPr>
        <p:spPr>
          <a:xfrm>
            <a:off x="468000" y="1599840"/>
            <a:ext cx="82803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mate kod zajmova i kredita mogu se obračunavati anticipativno i dekurzivno uz jednostavni i složeni obračun kama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nticipativni obračun kamata takav je obračun u kojemu se kamate obračunavaju na početku razdoblja ukamaćivanja od glavnice s kraja tog razdobl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ekurzivni obračun kamata takav je obračun u kojem se kamate obračunavaju na kraju razdoblja ukamaćivanja od glavnice s početka tog razdobl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FBE690E-5D0D-4555-89DD-87418E7D98F7}" type="slidenum">
              <a:t>392</a:t>
            </a:fld>
          </a:p>
        </p:txBody>
      </p:sp>
    </p:spTree>
  </p:cSld>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graphicFrame>
        <p:nvGraphicFramePr>
          <p:cNvPr id="1366" name=""/>
          <p:cNvGraphicFramePr/>
          <p:nvPr/>
        </p:nvGraphicFramePr>
        <p:xfrm>
          <a:off x="900000" y="1773360"/>
          <a:ext cx="7239240" cy="4897440"/>
        </p:xfrm>
        <a:graphic>
          <a:graphicData uri="http://schemas.openxmlformats.org/drawingml/2006/table">
            <a:tbl>
              <a:tblPr/>
              <a:tblGrid>
                <a:gridCol w="1809720"/>
                <a:gridCol w="2660760"/>
                <a:gridCol w="2768760"/>
              </a:tblGrid>
              <a:tr h="50436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nticipativni</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ekurzivni</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Glavnic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kredit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Kamatn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stop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 %</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652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Kamat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 x 10%) 1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Izn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plasman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 – 100) 9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Izn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povrat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1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Ostvaren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kamat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 – 900) 1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100 – 1000) 1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5536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Ostvarena kam. stop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 / 900) x 10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1,1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 / 1000) x 10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 %</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BDB11CA6-04A9-4311-80E2-8505AD09881B}" type="slidenum">
              <a:t>393</a:t>
            </a:fld>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sp>
        <p:nvSpPr>
          <p:cNvPr id="1368" name="PlaceHolder 2"/>
          <p:cNvSpPr>
            <a:spLocks noGrp="1"/>
          </p:cNvSpPr>
          <p:nvPr>
            <p:ph/>
          </p:nvPr>
        </p:nvSpPr>
        <p:spPr>
          <a:xfrm>
            <a:off x="468360" y="1823760"/>
            <a:ext cx="8229600" cy="503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Jednostavni obračun kamata takav je obračun kod kojega se  kamate obračunavaju od iste glavni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loženi obračun kamata je takav obračun kod kojega se kamate obračunavaju od promjenjive glavni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likom obračuna kamata mogu se koristiti različiti kamatnjaci: nominalni, relativni i konformni kamatnja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praksi se najčešće koristi konformni kamatnja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3 – Dani financijski zajmovi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ED8E997-5EDB-4235-AA4F-AC8FB8911083}" type="slidenum">
              <a:t>394</a:t>
            </a:fld>
          </a:p>
        </p:txBody>
      </p:sp>
    </p:spTree>
  </p:cSld>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95280" y="25992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70" name="PlaceHolder 2"/>
          <p:cNvSpPr>
            <a:spLocks noGrp="1"/>
          </p:cNvSpPr>
          <p:nvPr>
            <p:ph/>
          </p:nvPr>
        </p:nvSpPr>
        <p:spPr>
          <a:xfrm>
            <a:off x="457200" y="1700280"/>
            <a:ext cx="8229600" cy="4897440"/>
          </a:xfrm>
          <a:prstGeom prst="rect">
            <a:avLst/>
          </a:prstGeom>
          <a:gradFill rotWithShape="0">
            <a:gsLst>
              <a:gs pos="0">
                <a:srgbClr val="ffffff">
                  <a:alpha val="38039"/>
                </a:srgbClr>
              </a:gs>
              <a:gs pos="100000">
                <a:srgbClr val="ffffff">
                  <a:alpha val="0"/>
                </a:srgbClr>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a:t>
            </a:r>
            <a:r>
              <a:rPr b="0" lang="hr-HR" sz="2400" spc="-1" strike="noStrike">
                <a:solidFill>
                  <a:srgbClr val="000000"/>
                </a:solidFill>
                <a:latin typeface="Arial"/>
              </a:rPr>
              <a:t>Društvo je kupilo 20 udjela trgovačkog društva “GM” po jediničnoj cijeni od 200,00 kn. Udjeli su prodani za što su kupci doznačili 5.000,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Odobren je zajam na rok od mjesec dana trgovačkom društvu “Sava” u iznosu od 100.000,00 kn uz 12 % godišnjih kam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Izdan je račun zajmoprimcu za kamatu u iznosu od 1.000,00 kn + PDV. Zajmoprimac je vratio zajam s kamat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Kao uvjet za odobrenje kredita kod banke društvo je uplatilo depozit u iznosu od 7.000,00 kn. Nakon deset mjeseci vraćen je depozit s kamatom od 500,00 k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660B68-D81E-493A-818B-89FCF7C64CFC}" type="slidenum">
              <a:t>395</a:t>
            </a:fld>
          </a:p>
        </p:txBody>
      </p:sp>
    </p:spTree>
  </p:cSld>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1" name=""/>
          <p:cNvGraphicFramePr/>
          <p:nvPr/>
        </p:nvGraphicFramePr>
        <p:xfrm>
          <a:off x="468360" y="765000"/>
          <a:ext cx="8229600" cy="4940280"/>
        </p:xfrm>
        <a:graphic>
          <a:graphicData uri="http://schemas.openxmlformats.org/drawingml/2006/table">
            <a:tbl>
              <a:tblPr/>
              <a:tblGrid>
                <a:gridCol w="801720"/>
                <a:gridCol w="3168720"/>
                <a:gridCol w="1512720"/>
                <a:gridCol w="1368360"/>
                <a:gridCol w="1378080"/>
              </a:tblGrid>
              <a:tr h="2444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upljeno 20 udjela po cijeni od 200,00 kn po udjelu ( dionici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Udjeli su prodani za 5.000,00 kn</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dobren je i isplaćen kratkoročni zajam društvu “Sav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dan je račun za kamatu</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Zajmoprimac je vratio zajam s kamatam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1.22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Uplaćen je depozit kao uvjet za odobrenje kredit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vrat depozita s pripadajućom kamatom</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5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20D717A9-4F18-4446-AC8F-89BA49BCB349}" type="slidenum">
              <a:t>396</a:t>
            </a:fld>
          </a:p>
        </p:txBody>
      </p:sp>
    </p:spTree>
  </p:cSld>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68360" y="260280"/>
            <a:ext cx="8207280" cy="154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tivna vremenska razgraničenja – plaćeni troškovi budućeg razdoblja i nedospjela naplata prihoda</a:t>
            </a:r>
            <a:endParaRPr b="0" lang="en-US" sz="2800" spc="-1" strike="noStrike">
              <a:solidFill>
                <a:srgbClr val="000000"/>
              </a:solidFill>
              <a:latin typeface="Arial"/>
            </a:endParaRPr>
          </a:p>
        </p:txBody>
      </p:sp>
      <p:sp>
        <p:nvSpPr>
          <p:cNvPr id="1373" name="PlaceHolder 2"/>
          <p:cNvSpPr>
            <a:spLocks noGrp="1"/>
          </p:cNvSpPr>
          <p:nvPr>
            <p:ph/>
          </p:nvPr>
        </p:nvSpPr>
        <p:spPr>
          <a:xfrm>
            <a:off x="468360" y="2349360"/>
            <a:ext cx="8362800" cy="43214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bavljanju djelatnosti za koju je registrirano, društvo se susreće s određenim, vrijednosno značajnim, izdacima koji nastaju odjednom, a koristi donose tek kroz dulje vremensko razdoblje (najduže 12 mjeseci). Navedenu grupu rashoda najčešće čine unaprijed plaćeni troškovi premije osiguranja, najamnine, propagande, investicijskog održavanja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5B35CC-A137-45F3-82C4-73CCEEF8579E}" type="slidenum">
              <a:t>397</a:t>
            </a:fld>
          </a:p>
        </p:txBody>
      </p:sp>
    </p:spTree>
  </p:cSld>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610920" y="0"/>
            <a:ext cx="784836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tivna vremenska razgraničenja – plaćeni troškovi budućeg razdoblja i nedospjela naplata prihoda</a:t>
            </a:r>
            <a:endParaRPr b="0" lang="en-US" sz="2800" spc="-1" strike="noStrike">
              <a:solidFill>
                <a:srgbClr val="000000"/>
              </a:solidFill>
              <a:latin typeface="Arial"/>
            </a:endParaRPr>
          </a:p>
        </p:txBody>
      </p:sp>
      <p:sp>
        <p:nvSpPr>
          <p:cNvPr id="1375" name="PlaceHolder 2"/>
          <p:cNvSpPr>
            <a:spLocks noGrp="1"/>
          </p:cNvSpPr>
          <p:nvPr>
            <p:ph/>
          </p:nvPr>
        </p:nvSpPr>
        <p:spPr>
          <a:xfrm>
            <a:off x="539280" y="1700280"/>
            <a:ext cx="8604360" cy="45720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aktivna vremenska razgraničenja spada i nedospjela naplata prihoda koja se odnosi na prihode tekućeg razdoblja koji nisu mogli biti fakturirani, a za koje su nastali troškovi u tekućem razdoblju.</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190 – Unaprijed plaćeni troškovi</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192 – Obračunani prihodi koji nisu mogli biti fakturiran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FD2BE8-AFC7-4BEF-90E0-941F40C208A4}" type="slidenum">
              <a:t>398</a:t>
            </a:fld>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77" name="PlaceHolder 2"/>
          <p:cNvSpPr>
            <a:spLocks noGrp="1"/>
          </p:cNvSpPr>
          <p:nvPr>
            <p:ph/>
          </p:nvPr>
        </p:nvSpPr>
        <p:spPr>
          <a:xfrm>
            <a:off x="468000" y="1699920"/>
            <a:ext cx="8147160" cy="432108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800" spc="-1" strike="noStrike">
                <a:solidFill>
                  <a:srgbClr val="000000"/>
                </a:solidFill>
                <a:latin typeface="Arial"/>
              </a:rPr>
              <a:t>Primljen je račun za najamninu za razdoblje od 01.07.2002. do 01.07.2003. godine u iznosu od 8.000,00 kn. Plaćen je račun dobavljaču. Razgraničenje se obavlja tromjesečno u jednakim svotam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1CA823-0C14-4432-8110-238F95CE50AF}" type="slidenum">
              <a:t>39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OBVEZNA LITERATUR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nthony, R. N., Reece, J. S. Računovodstvo, RRIF, Zagreb, 200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gro, F. Z., Računovodstvo i financije, Visoka škola za turizam, Šibenik,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eđunarodni računovodstveni standar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kon o računovodstv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D4FF44B-6B26-4A02-948D-78B18244FB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a analiza</a:t>
            </a:r>
            <a:endParaRPr b="0" lang="en-US" sz="2800" spc="-1" strike="noStrike">
              <a:solidFill>
                <a:srgbClr val="000000"/>
              </a:solidFill>
              <a:latin typeface="Arial"/>
            </a:endParaRPr>
          </a:p>
        </p:txBody>
      </p:sp>
      <p:sp>
        <p:nvSpPr>
          <p:cNvPr id="245"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učava podatke iz računovodstvenih obračuna i predračuna, ocjenjuje, odnosno utvrđuje bonitet, otkriva uzroke odstupanja ostvarenog od planiranog i daje prijedloge za poboljšanje poslovnih procesa i stan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računovodstvene analize jesu potpuniji računovodstveni izvještaji koji povezuju predračune s obračunima i tumače razlike između njih.</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DB1859-4485-4884-B413-420A4CC69AD9}" type="slidenum">
              <a:t>40</a:t>
            </a:fld>
          </a:p>
        </p:txBody>
      </p:sp>
    </p:spTree>
  </p:cSld>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8" name=""/>
          <p:cNvGraphicFramePr/>
          <p:nvPr/>
        </p:nvGraphicFramePr>
        <p:xfrm>
          <a:off x="468360" y="1989000"/>
          <a:ext cx="8351640" cy="3818160"/>
        </p:xfrm>
        <a:graphic>
          <a:graphicData uri="http://schemas.openxmlformats.org/drawingml/2006/table">
            <a:tbl>
              <a:tblPr/>
              <a:tblGrid>
                <a:gridCol w="1071360"/>
                <a:gridCol w="2887920"/>
                <a:gridCol w="1473120"/>
                <a:gridCol w="1454040"/>
                <a:gridCol w="1465200"/>
              </a:tblGrid>
              <a:tr h="428040">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rimljen je račun dobavljača za najamninu za razdoblje od godinu da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0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9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mirena je obveza prema dobavljač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0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azgraničenje najamnine za razdoblje od 01.07.2002. do 01.10.2002. god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9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azgraničenje najamnine za razdoblje od 01.10.2002. do 31.12.2002. god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9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B52E6349-E37E-435C-B63F-9519482780F8}" type="slidenum">
              <a:t>400</a:t>
            </a:fld>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468000" y="620640"/>
            <a:ext cx="82263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600" spc="-1" strike="noStrike">
                <a:solidFill>
                  <a:srgbClr val="000000"/>
                </a:solidFill>
                <a:latin typeface="Arial"/>
              </a:rPr>
              <a:t>OBVEZE</a:t>
            </a:r>
            <a:endParaRPr b="0" lang="en-US" sz="6600" spc="-1" strike="noStrike">
              <a:solidFill>
                <a:srgbClr val="000000"/>
              </a:solidFill>
              <a:latin typeface="Arial"/>
            </a:endParaRPr>
          </a:p>
        </p:txBody>
      </p:sp>
      <p:sp>
        <p:nvSpPr>
          <p:cNvPr id="1380" name="PlaceHolder 2"/>
          <p:cNvSpPr>
            <a:spLocks noGrp="1"/>
          </p:cNvSpPr>
          <p:nvPr>
            <p:ph type="subTitle"/>
          </p:nvPr>
        </p:nvSpPr>
        <p:spPr>
          <a:xfrm>
            <a:off x="1371600" y="2205000"/>
            <a:ext cx="6400800" cy="3960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obvez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Kratkoročne obveze</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Dugoročne obveze</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asivna vremenska razgraničenj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B85ECDA-65C9-49D4-B308-6ED9337722DC}" type="slidenum">
              <a:t>401</a:t>
            </a:fld>
          </a:p>
        </p:txBody>
      </p:sp>
    </p:spTree>
  </p:cSld>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468000" y="188640"/>
            <a:ext cx="8226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i obilježja obveza</a:t>
            </a:r>
            <a:endParaRPr b="0" lang="en-US" sz="4400" spc="-1" strike="noStrike">
              <a:solidFill>
                <a:srgbClr val="000000"/>
              </a:solidFill>
              <a:latin typeface="Arial"/>
            </a:endParaRPr>
          </a:p>
        </p:txBody>
      </p:sp>
      <p:sp>
        <p:nvSpPr>
          <p:cNvPr id="1382" name="PlaceHolder 2"/>
          <p:cNvSpPr>
            <a:spLocks noGrp="1"/>
          </p:cNvSpPr>
          <p:nvPr>
            <p:ph/>
          </p:nvPr>
        </p:nvSpPr>
        <p:spPr>
          <a:xfrm>
            <a:off x="468000" y="1385640"/>
            <a:ext cx="8226360" cy="477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veze predstavljaju “vjerojatne buduće žrtve ekonomskih koristi koje proizlaze iz sadašnjih obveza poslovnog subjekta da izvrši prijenos imovine ili pruži usluge drugim subjektima u budućnosti, a što je rezultat prošlih transakcija ili događaja”.</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ne se odnose na “sadašnju obvezu poslovnog subjekta proizašlu iz prošlih događaja za čije se podmirenje očekuje da će imati za posljedicu odljev resursa poduzeća s ekonomskim koristim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A8FA2B-1216-4F07-AB1D-B1ED142926F4}" type="slidenum">
              <a:t>402</a:t>
            </a:fld>
          </a:p>
        </p:txBody>
      </p:sp>
    </p:spTree>
  </p:cSld>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i obilježja obveza</a:t>
            </a: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bveze se priznaju kada su ispunjeni slijedeći uvjeti:</a:t>
            </a:r>
            <a:endParaRPr b="0" lang="en-US" sz="3200" spc="-1" strike="noStrike">
              <a:solidFill>
                <a:srgbClr val="000000"/>
              </a:solidFill>
              <a:latin typeface="Arial"/>
            </a:endParaRPr>
          </a:p>
          <a:p>
            <a:pPr lvl="2" marL="137160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di se o sadašnjoj obvezi</a:t>
            </a:r>
            <a:endParaRPr b="0" lang="en-US" sz="2800" spc="-1" strike="noStrike">
              <a:solidFill>
                <a:srgbClr val="000000"/>
              </a:solidFill>
              <a:latin typeface="Arial"/>
            </a:endParaRPr>
          </a:p>
          <a:p>
            <a:pPr lvl="2" marL="137160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 je da će doći do odljeva novca ili druge imovine</a:t>
            </a:r>
            <a:endParaRPr b="0" lang="en-US" sz="2800" spc="-1" strike="noStrike">
              <a:solidFill>
                <a:srgbClr val="000000"/>
              </a:solidFill>
              <a:latin typeface="Arial"/>
            </a:endParaRPr>
          </a:p>
          <a:p>
            <a:pPr lvl="2" marL="137160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veza je rezultat prošlih poslovnih događa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1E513B-86F4-4582-A798-3C75EAF80A41}" type="slidenum">
              <a:t>403</a:t>
            </a:fld>
          </a:p>
        </p:txBody>
      </p:sp>
    </p:spTree>
  </p:cSld>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68000" y="188640"/>
            <a:ext cx="822636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i obilježja obveza</a:t>
            </a:r>
            <a:endParaRPr b="0" lang="en-US" sz="4400" spc="-1" strike="noStrike">
              <a:solidFill>
                <a:srgbClr val="000000"/>
              </a:solidFill>
              <a:latin typeface="Arial"/>
            </a:endParaRPr>
          </a:p>
        </p:txBody>
      </p:sp>
      <p:sp>
        <p:nvSpPr>
          <p:cNvPr id="1386" name="PlaceHolder 2"/>
          <p:cNvSpPr>
            <a:spLocks noGrp="1"/>
          </p:cNvSpPr>
          <p:nvPr>
            <p:ph/>
          </p:nvPr>
        </p:nvSpPr>
        <p:spPr>
          <a:xfrm>
            <a:off x="455400" y="1125000"/>
            <a:ext cx="8226360" cy="5543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veze se prema MRS-ima procjenjuju prema slijedećim načeli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1. povijesnom trošk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2. tekućem trošku obv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3. sadašnjoj vrijednosti obv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4. fer vrijednosti obvez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praksi se najčešće obveze evidentiraju prema iznosu novca koji je potreban da se one plate ili se iskazuju po fer tržišnoj vrijednosti dobara ili usluga koje će se isporučiti za njihovo podmirenj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FCE113-E0B1-4946-A2BB-2C22754CCD61}" type="slidenum">
              <a:t>404</a:t>
            </a:fld>
          </a:p>
        </p:txBody>
      </p:sp>
    </p:spTree>
  </p:cSld>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i obilježja obveza</a:t>
            </a: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 obzirom na rok njihovog podmirenja razlikuje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000000"/>
                </a:solidFill>
                <a:latin typeface="Arial"/>
              </a:rPr>
              <a:t>- kratkoročne obvez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000000"/>
                </a:solidFill>
                <a:latin typeface="Arial"/>
              </a:rPr>
              <a:t>- dugoročne obvez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E9C084-D010-49C5-AD10-64528C5113C6}" type="slidenum">
              <a:t>405</a:t>
            </a:fld>
          </a:p>
        </p:txBody>
      </p:sp>
    </p:spTree>
  </p:cSld>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68000" y="188640"/>
            <a:ext cx="8226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Kratkoročne obveze</a:t>
            </a:r>
            <a:endParaRPr b="0" lang="en-US" sz="4400" spc="-1" strike="noStrike">
              <a:solidFill>
                <a:srgbClr val="000000"/>
              </a:solidFill>
              <a:latin typeface="Arial"/>
            </a:endParaRPr>
          </a:p>
        </p:txBody>
      </p:sp>
      <p:sp>
        <p:nvSpPr>
          <p:cNvPr id="1390" name="PlaceHolder 2"/>
          <p:cNvSpPr>
            <a:spLocks noGrp="1"/>
          </p:cNvSpPr>
          <p:nvPr>
            <p:ph/>
          </p:nvPr>
        </p:nvSpPr>
        <p:spPr>
          <a:xfrm>
            <a:off x="455400" y="1052280"/>
            <a:ext cx="8226360" cy="5043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ratkoročne obveze odnose se na one obveze za koje se zahtijeva da se podmire u roku od jedne godine ili jednog poslovnog ciklu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jčešće kratkoročne obveze poslovnih subjekata su: obveze prema dobavljačima, obveze za izdane kratkoročne vrijednosne papire, obveze za primljene kratkoročne zajmove i kredite, obveze za kamate, tekuća dospijeća dugoročnih obveza, obveze za dividende, pasivna vremenska razgraničenja i s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23C3B3-35EE-4E01-BDCA-A2CA017817E0}" type="slidenum">
              <a:t>406</a:t>
            </a:fld>
          </a:p>
        </p:txBody>
      </p:sp>
    </p:spTree>
  </p:cSld>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68000" y="189000"/>
            <a:ext cx="82263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392" name="PlaceHolder 2"/>
          <p:cNvSpPr>
            <a:spLocks noGrp="1"/>
          </p:cNvSpPr>
          <p:nvPr>
            <p:ph/>
          </p:nvPr>
        </p:nvSpPr>
        <p:spPr>
          <a:xfrm>
            <a:off x="455400" y="1052280"/>
            <a:ext cx="822636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rgovačko društvo “FET” nabavilo je sirovina za proizvodnju strojeva u iznosu od 50.000,00 kn + PDV. 20% obveze društvo je platilo doznakom sa žiro računa dok je za ostatak obveze izdalo mjenicu. Dva tjedna kasnije društvo je primilo izvod sa žiro računa iz kojeg je vidljivo da je mjenica naplaće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Društvo je zbog nedostatka likvidnih sredstava izdalo komercijalne zapise na rok od 3 mjeseca u iznosu od 20.000,00 kn. Zapisi su izdani uz diskont od 1.000,00 kn. Po isteku 3 mjeseca zapisi su otkupljen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F7E013-8DF8-4591-9B49-FE8A28327CFF}" type="slidenum">
              <a:t>407</a:t>
            </a:fld>
          </a:p>
        </p:txBody>
      </p:sp>
    </p:spTree>
  </p:cSld>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U siječnju je od banke dobiven kredit u iznosu od 100.000,00 kn. Ugovorom su određene kamate od 7% godišnje i rok dospijeća od 2 mjeseca. Obračun kamata je složen i dekurzivan te se koristi konformna kamatna stopa. Po dospijeću kredita vraćene su kamate i glavnic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F0CA203-4404-479B-897B-D388A8257EFB}" type="slidenum">
              <a:t>408</a:t>
            </a:fld>
          </a:p>
        </p:txBody>
      </p:sp>
    </p:spTree>
  </p:cSld>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5" name=""/>
          <p:cNvGraphicFramePr/>
          <p:nvPr/>
        </p:nvGraphicFramePr>
        <p:xfrm>
          <a:off x="468360" y="189000"/>
          <a:ext cx="8226360" cy="6265800"/>
        </p:xfrm>
        <a:graphic>
          <a:graphicData uri="http://schemas.openxmlformats.org/drawingml/2006/table">
            <a:tbl>
              <a:tblPr/>
              <a:tblGrid>
                <a:gridCol w="801720"/>
                <a:gridCol w="3166920"/>
                <a:gridCol w="1513080"/>
                <a:gridCol w="1366560"/>
                <a:gridCol w="1378080"/>
              </a:tblGrid>
              <a:tr h="5126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bavljeno je sirovi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1.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1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8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29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laćeno je 20% obvez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3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Mjenicom je plaćen ostatak obvez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8.8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630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vod sa žiro računa – naplata mjenic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8.8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54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Autorizirani komercijalni zapisi – izvanbilančna evidencij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8</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dani komercijalni zapisi uz diskont od 1.000 kn</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9.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26</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031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 kamata na dan dospijeća komercijalnih zapis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26</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444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tkup komercijalnih zapis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2" name="PlaceHolder 1"/>
          <p:cNvSpPr>
            <a:spLocks noGrp="1"/>
          </p:cNvSpPr>
          <p:nvPr>
            <p:ph type="sldNum" idx="3"/>
          </p:nvPr>
        </p:nvSpPr>
        <p:spPr/>
        <p:txBody>
          <a:bodyPr/>
          <a:p>
            <a:fld id="{CADEB213-5C97-4DF4-80F6-1730AB5D91A9}" type="slidenum">
              <a:t>409</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o informiranje</a:t>
            </a:r>
            <a:endParaRPr b="0" lang="en-US" sz="2800" spc="-1" strike="noStrike">
              <a:solidFill>
                <a:srgbClr val="000000"/>
              </a:solidFill>
              <a:latin typeface="Arial"/>
            </a:endParaRPr>
          </a:p>
        </p:txBody>
      </p:sp>
      <p:sp>
        <p:nvSpPr>
          <p:cNvPr id="247" name="PlaceHolder 2"/>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avlja korisnicima informacija na raspolaganje računovodstvene informacije sadržane u obračunima i predračuni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nici računovodstvenih informac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interni (unutarnji)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eksterni (vanjski) korisnic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nterni korisnici su manageri različitih raz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ksterni korisnici su: dioničari, dobavljači, kupci, drža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89FC8A-2A50-4C3F-AF91-58DF343D40E7}" type="slidenum">
              <a:t>41</a:t>
            </a:fld>
          </a:p>
        </p:txBody>
      </p:sp>
    </p:spTree>
  </p:cSld>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6" name=""/>
          <p:cNvGraphicFramePr/>
          <p:nvPr/>
        </p:nvGraphicFramePr>
        <p:xfrm>
          <a:off x="468360" y="1700280"/>
          <a:ext cx="8226360" cy="2449440"/>
        </p:xfrm>
        <a:graphic>
          <a:graphicData uri="http://schemas.openxmlformats.org/drawingml/2006/table">
            <a:tbl>
              <a:tblPr/>
              <a:tblGrid>
                <a:gridCol w="801720"/>
                <a:gridCol w="3166920"/>
                <a:gridCol w="1513080"/>
                <a:gridCol w="1366560"/>
                <a:gridCol w="1378080"/>
              </a:tblGrid>
              <a:tr h="3524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3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Zatvaranje izvanbilančne evidenci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8</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2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ignut je kratkoročni kredit kod bank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4</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650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ate su kamat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4,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4</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524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Vraćen je kredit banc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1.134,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2" name="PlaceHolder 1"/>
          <p:cNvSpPr>
            <a:spLocks noGrp="1"/>
          </p:cNvSpPr>
          <p:nvPr>
            <p:ph type="sldNum" idx="3"/>
          </p:nvPr>
        </p:nvSpPr>
        <p:spPr/>
        <p:txBody>
          <a:bodyPr/>
          <a:p>
            <a:fld id="{30F7E298-01FE-4573-9E37-A12E43727DC7}" type="slidenum">
              <a:t>410</a:t>
            </a:fld>
          </a:p>
        </p:txBody>
      </p:sp>
    </p:spTree>
  </p:cSld>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68000" y="189000"/>
            <a:ext cx="8226360" cy="92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Dugoročne obveze</a:t>
            </a:r>
            <a:endParaRPr b="0" lang="en-US" sz="4400" spc="-1" strike="noStrike">
              <a:solidFill>
                <a:srgbClr val="000000"/>
              </a:solidFill>
              <a:latin typeface="Arial"/>
            </a:endParaRPr>
          </a:p>
        </p:txBody>
      </p:sp>
      <p:sp>
        <p:nvSpPr>
          <p:cNvPr id="1398" name="PlaceHolder 2"/>
          <p:cNvSpPr>
            <a:spLocks noGrp="1"/>
          </p:cNvSpPr>
          <p:nvPr>
            <p:ph/>
          </p:nvPr>
        </p:nvSpPr>
        <p:spPr>
          <a:xfrm>
            <a:off x="455400" y="1268280"/>
            <a:ext cx="8226360" cy="48276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Dugoročne obveze predstavljaju one obveze koje se podmiruju u razdoblju dužem od godine dana ili dužem od normalnog poslovnog ciklusa.</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U poslovanju poduzeća najčešće se javljaju slijedeće dugoročne obveze: obveze za dugoročne zajmove i kredite, obveze za izdane obveznice, obveze po osnovi najmova i s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B7801C-5E5A-4147-A3D6-7792C6096186}" type="slidenum">
              <a:t>411</a:t>
            </a:fld>
          </a:p>
        </p:txBody>
      </p:sp>
    </p:spTree>
  </p:cSld>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68000" y="188640"/>
            <a:ext cx="822636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400" name="PlaceHolder 2"/>
          <p:cNvSpPr>
            <a:spLocks noGrp="1"/>
          </p:cNvSpPr>
          <p:nvPr>
            <p:ph/>
          </p:nvPr>
        </p:nvSpPr>
        <p:spPr>
          <a:xfrm>
            <a:off x="522000" y="1197000"/>
            <a:ext cx="8226360" cy="540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rgovačko društvo “Student” izdalo je i prodalo obveznice po nominalnoj vrijednosti od 150.000,00 kn. Obveznice dospijevaju nakon 5 godina te nose godišnju kamatnu stopu od 10%. Kamate se obračunavaju i isplaćuju polugodišnje dok će se glavnica isplatiti po dospijeću obveznice. Izvršen je obračun i isplata polugodišnje kam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Društvo je istovremeno podiglo kredit kod banke u iznosu od 50.000,00 kn na rok od 3 godine uz kamatnu stopu od 12% godišnje. Anuiteti dospijevaju jednom godišnje. Proknjižite obračun i plaćanje prvog anuite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DDE034-91B4-4587-90AB-114B5AB4ED64}" type="slidenum">
              <a:t>412</a:t>
            </a:fld>
          </a:p>
        </p:txBody>
      </p:sp>
    </p:spTree>
  </p:cSld>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1" name=""/>
          <p:cNvGraphicFramePr/>
          <p:nvPr/>
        </p:nvGraphicFramePr>
        <p:xfrm>
          <a:off x="468360" y="620640"/>
          <a:ext cx="8226360" cy="5265720"/>
        </p:xfrm>
        <a:graphic>
          <a:graphicData uri="http://schemas.openxmlformats.org/drawingml/2006/table">
            <a:tbl>
              <a:tblPr/>
              <a:tblGrid>
                <a:gridCol w="801720"/>
                <a:gridCol w="3166920"/>
                <a:gridCol w="1513080"/>
                <a:gridCol w="1366560"/>
                <a:gridCol w="1378080"/>
              </a:tblGrid>
              <a:tr h="5126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2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Autorizirane obveznice – izvanbilančna evidencij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5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8</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30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ruštvo je emitiralo i prodalo obveznice po nominalnoj vrijednost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5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1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3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 polugodišnjih kamat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6</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630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splaćene su kamat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5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6</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54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ignut je dugoročni kredit kod bank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3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 anuitet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817,45</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4.817,45</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9</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66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splata anuitet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817,4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9</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2" name="PlaceHolder 1"/>
          <p:cNvSpPr>
            <a:spLocks noGrp="1"/>
          </p:cNvSpPr>
          <p:nvPr>
            <p:ph type="sldNum" idx="3"/>
          </p:nvPr>
        </p:nvSpPr>
        <p:spPr/>
        <p:txBody>
          <a:bodyPr/>
          <a:p>
            <a:fld id="{1A962788-CB96-4E8E-A928-5B8A954D2D12}" type="slidenum">
              <a:t>413</a:t>
            </a:fld>
          </a:p>
        </p:txBody>
      </p:sp>
    </p:spTree>
  </p:cSld>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68000" y="189000"/>
            <a:ext cx="828036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asivna vremenska razgraničenja – </a:t>
            </a:r>
            <a:r>
              <a:rPr b="0" lang="hr-HR" sz="3600" spc="-1" strike="noStrike">
                <a:solidFill>
                  <a:srgbClr val="000000"/>
                </a:solidFill>
                <a:latin typeface="Arial"/>
              </a:rPr>
              <a:t>odgođeno plaćanje troškova i prihodi budućeg razdoblja</a:t>
            </a:r>
            <a:endParaRPr b="0" lang="en-US" sz="3600" spc="-1" strike="noStrike">
              <a:solidFill>
                <a:srgbClr val="000000"/>
              </a:solidFill>
              <a:latin typeface="Arial"/>
            </a:endParaRPr>
          </a:p>
        </p:txBody>
      </p:sp>
      <p:sp>
        <p:nvSpPr>
          <p:cNvPr id="1403" name="PlaceHolder 2"/>
          <p:cNvSpPr>
            <a:spLocks noGrp="1"/>
          </p:cNvSpPr>
          <p:nvPr>
            <p:ph/>
          </p:nvPr>
        </p:nvSpPr>
        <p:spPr>
          <a:xfrm>
            <a:off x="323640" y="2636640"/>
            <a:ext cx="822636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kviru pasivnih vremenskih razgraničenja evidentiraju se obveze za obračunane troškove, tj. troškove za koje izdatak slijedi u kasnijim razdobljima, te prihodi budućeg razdoblja koji se odnose na iznose novca koji su primljeni u jednom razdoblju, a odnose se na duže vremensko razdoblje kao npr. unaprijed naplaćene najamnine i s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Evidentiraju se u okviru skupine 2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7A2EC3-423B-4AC4-8BF2-8FAD1DF38CA7}" type="slidenum">
              <a:t>414</a:t>
            </a:fld>
          </a:p>
        </p:txBody>
      </p:sp>
    </p:spTree>
  </p:cSld>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1405" name="PlaceHolder 2"/>
          <p:cNvSpPr>
            <a:spLocks noGrp="1"/>
          </p:cNvSpPr>
          <p:nvPr>
            <p:ph/>
          </p:nvPr>
        </p:nvSpPr>
        <p:spPr>
          <a:xfrm>
            <a:off x="684360" y="1988640"/>
            <a:ext cx="7705440" cy="23353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Društvo je iznajmilo grafičku opremu na tri godine društvu “X”. Ugovorena najamnina plaća se unaprijed za cijelo razdoblje i iznosi 10.000,00 kn. Oba su društva obveznici PDV-a. Izvršite obračun najamnine za prvu godin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35A50D-1E04-437B-BD19-0172CA2DAD6E}" type="slidenum">
              <a:t>415</a:t>
            </a:fld>
          </a:p>
        </p:txBody>
      </p:sp>
    </p:spTree>
  </p:cSld>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755640" y="2133720"/>
          <a:ext cx="7929360" cy="3090600"/>
        </p:xfrm>
        <a:graphic>
          <a:graphicData uri="http://schemas.openxmlformats.org/drawingml/2006/table">
            <a:tbl>
              <a:tblPr/>
              <a:tblGrid>
                <a:gridCol w="772560"/>
                <a:gridCol w="3054240"/>
                <a:gridCol w="1458360"/>
                <a:gridCol w="1317600"/>
                <a:gridCol w="1326600"/>
              </a:tblGrid>
              <a:tr h="33660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27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dan je račun za najamninu za razdoblje od 3 godin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9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728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jmoprimac je doznačio iznos najamnin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824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 najamnine za prvu godinu</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333.3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9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4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2" name="PlaceHolder 1"/>
          <p:cNvSpPr>
            <a:spLocks noGrp="1"/>
          </p:cNvSpPr>
          <p:nvPr>
            <p:ph type="sldNum" idx="3"/>
          </p:nvPr>
        </p:nvSpPr>
        <p:spPr/>
        <p:txBody>
          <a:bodyPr/>
          <a:p>
            <a:fld id="{0D1AC494-E670-498A-839F-15A9858C05AF}" type="slidenum">
              <a:t>416</a:t>
            </a:fld>
          </a:p>
        </p:txBody>
      </p:sp>
    </p:spTree>
  </p:cSld>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468360" y="404640"/>
            <a:ext cx="798840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000000"/>
                </a:solidFill>
                <a:latin typeface="Arial"/>
              </a:rPr>
              <a:t>OBRAČUN I KNJIŽENJE TROŠKOVA OSOBLJA</a:t>
            </a:r>
            <a:endParaRPr b="0" lang="en-US" sz="5400" spc="-1" strike="noStrike">
              <a:solidFill>
                <a:srgbClr val="000000"/>
              </a:solidFill>
              <a:latin typeface="Arial"/>
            </a:endParaRPr>
          </a:p>
        </p:txBody>
      </p:sp>
      <p:sp>
        <p:nvSpPr>
          <p:cNvPr id="1408" name="PlaceHolder 2"/>
          <p:cNvSpPr>
            <a:spLocks noGrp="1"/>
          </p:cNvSpPr>
          <p:nvPr>
            <p:ph type="subTitle"/>
          </p:nvPr>
        </p:nvSpPr>
        <p:spPr>
          <a:xfrm>
            <a:off x="826920" y="3644640"/>
            <a:ext cx="8064720" cy="23540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Pojam i obilježja troškova osoblj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Doprinosi i porezi vezani uz troškove osoblj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Obračun i knjiženje troškova osoblj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6D7C6D-63C9-4940-98A3-8B306CDB996F}" type="slidenum">
              <a:t>417</a:t>
            </a:fld>
          </a:p>
        </p:txBody>
      </p:sp>
    </p:spTree>
  </p:cSld>
  <p:transition>
    <p:pull dir="lu"/>
  </p:transition>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jam i obilježja troškova osoblja</a:t>
            </a:r>
            <a:endParaRPr b="0" lang="en-US" sz="4000" spc="-1" strike="noStrike">
              <a:solidFill>
                <a:srgbClr val="000000"/>
              </a:solidFill>
              <a:latin typeface="Arial"/>
            </a:endParaRPr>
          </a:p>
        </p:txBody>
      </p:sp>
      <p:sp>
        <p:nvSpPr>
          <p:cNvPr id="1410" name="PlaceHolder 2"/>
          <p:cNvSpPr>
            <a:spLocks noGrp="1"/>
          </p:cNvSpPr>
          <p:nvPr>
            <p:ph/>
          </p:nvPr>
        </p:nvSpPr>
        <p:spPr>
          <a:xfrm>
            <a:off x="468360" y="1530000"/>
            <a:ext cx="8229600" cy="5327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davac ne smije sukladno, Zakonu o radu, isplaćivati plaću za razdoblje duže od mjesec dana što znači da je on obvezan obračunati i isplatiti plaću najmanje jedanput mjeseč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e osoblja čine troškovi koji su vezani za plaće, naknade, poreze i doprinose koji su za njih vezan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većini društava na troškove osoblja često otpada veći dio troškova poslovan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računovodstvenog aspekta troškovi osoblja raščlanjeni su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nadnice i plać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troškove poreza i doprinosa iz i na plać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3C3A03D-7FB6-4D65-AF06-9A19FF177869}" type="slidenum">
              <a:t>418</a:t>
            </a:fld>
          </a:p>
        </p:txBody>
      </p:sp>
    </p:spTree>
  </p:cSld>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jam i obilježja troškova osoblja</a:t>
            </a:r>
            <a:endParaRPr b="0" lang="en-US" sz="4000" spc="-1" strike="noStrike">
              <a:solidFill>
                <a:srgbClr val="000000"/>
              </a:solidFill>
              <a:latin typeface="Arial"/>
            </a:endParaRPr>
          </a:p>
        </p:txBody>
      </p:sp>
      <p:sp>
        <p:nvSpPr>
          <p:cNvPr id="1412" name="PlaceHolder 2"/>
          <p:cNvSpPr>
            <a:spLocks noGrp="1"/>
          </p:cNvSpPr>
          <p:nvPr>
            <p:ph/>
          </p:nvPr>
        </p:nvSpPr>
        <p:spPr>
          <a:xfrm>
            <a:off x="468360" y="1386000"/>
            <a:ext cx="8229600" cy="54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potrebe evidencije troškova osoblja u kontnom planu se koriste konta skupine 47 i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onto 420 - Plaće za r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onto 422 - Naknade plać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onto 421 – Doprinosi na plaće i naknade plać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osoblja mogu biti proizvodni i neproizvodni, ovisno o tome da li zaposlenici sudjeluju izravno u izradi proizvoda ili usluge ili su zaposleni u pomoćnim službama. Proizvodni troškovi osoblja čine sastavni dio troškova proizvodnje, dok se neproizvodni troškovi osoblja sastoje od troškova vezanih za zaposlene koji izravno ne sudjeluju u izradi proizvod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940117A-961C-42D2-80CF-CF63D6AAFCEF}" type="slidenum">
              <a:t>419</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1341000"/>
            <a:ext cx="8351640" cy="29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800" spc="-1" strike="noStrike">
                <a:solidFill>
                  <a:srgbClr val="000000"/>
                </a:solidFill>
                <a:latin typeface="Arial"/>
              </a:rPr>
              <a:t>RAČUNOVODSTVENA NAČELA, STANDARDI I POLITIKE</a:t>
            </a:r>
            <a:endParaRPr b="0" lang="en-US" sz="5800" spc="-1" strike="noStrike">
              <a:solidFill>
                <a:srgbClr val="000000"/>
              </a:solidFill>
              <a:latin typeface="Arial"/>
            </a:endParaRPr>
          </a:p>
        </p:txBody>
      </p:sp>
      <p:sp>
        <p:nvSpPr>
          <p:cNvPr id="3" name="PlaceHolder 2"/>
          <p:cNvSpPr>
            <a:spLocks noGrp="1"/>
          </p:cNvSpPr>
          <p:nvPr>
            <p:ph type="sldNum" idx="3"/>
          </p:nvPr>
        </p:nvSpPr>
        <p:spPr/>
        <p:txBody>
          <a:bodyPr/>
          <a:p>
            <a:fld id="{17D10973-BC17-446D-948D-50E165DA08CD}" type="slidenum">
              <a:t>42</a:t>
            </a:fld>
          </a:p>
        </p:txBody>
      </p:sp>
    </p:spTree>
  </p:cSld>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jam i obilježja troškova osoblja</a:t>
            </a:r>
            <a:endParaRPr b="0" lang="en-US" sz="4000" spc="-1" strike="noStrike">
              <a:solidFill>
                <a:srgbClr val="000000"/>
              </a:solidFill>
              <a:latin typeface="Arial"/>
            </a:endParaRPr>
          </a:p>
        </p:txBody>
      </p:sp>
      <p:sp>
        <p:nvSpPr>
          <p:cNvPr id="1414" name="PlaceHolder 2"/>
          <p:cNvSpPr>
            <a:spLocks noGrp="1"/>
          </p:cNvSpPr>
          <p:nvPr>
            <p:ph/>
          </p:nvPr>
        </p:nvSpPr>
        <p:spPr>
          <a:xfrm>
            <a:off x="468360" y="1628280"/>
            <a:ext cx="8229600" cy="48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nutar navedenih sintetičkih konta mogu se otvoriti analitička konta na kojima se evidentiraju troškovi osoblja za proizvodni i neproizvodni ra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oliko ugovorom nije drukčije određeno poslodavac je dužan isplatit plaću za prethodni mjesec najkasnije do 15. dana u idućem mjesec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davci su dužni obračunati i platiti doprinose prema iznosu dospjele, a neisplaćene plaće do zadnjeg dana u mjesecu u kojemu plaća dospijeva na naplat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5AE0E9-F3AD-4EEA-8E8F-0AD645E4C2C1}" type="slidenum">
              <a:t>420</a:t>
            </a:fld>
          </a:p>
        </p:txBody>
      </p:sp>
    </p:spTree>
  </p:cSld>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68360" y="404280"/>
            <a:ext cx="82072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Doprinosi i porezi vezani uz troškove osoblja</a:t>
            </a:r>
            <a:endParaRPr b="0" lang="en-US" sz="4000" spc="-1" strike="noStrike">
              <a:solidFill>
                <a:srgbClr val="000000"/>
              </a:solidFill>
              <a:latin typeface="Arial"/>
            </a:endParaRPr>
          </a:p>
        </p:txBody>
      </p:sp>
      <p:sp>
        <p:nvSpPr>
          <p:cNvPr id="1416" name="PlaceHolder 2"/>
          <p:cNvSpPr>
            <a:spLocks noGrp="1"/>
          </p:cNvSpPr>
          <p:nvPr>
            <p:ph/>
          </p:nvPr>
        </p:nvSpPr>
        <p:spPr>
          <a:xfrm>
            <a:off x="539640" y="1844280"/>
            <a:ext cx="7848720" cy="4390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roškove osoblja, uz nadnice i plaće koje se isplaćuju zaposlenicima, čine i doprinosi iz i na plaće te porez i prirez na dohodak.</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novica za plaćanje doprinosa iz i na plaću je iznos bruto plaće umanjen za olakšice u plaćanju doprinosa.</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konom o doprinosima za obvezna osiguranja propisano je da najnižu i najvišu osnovicu za plaćanje doprinosa utvrđuje ministar financi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C96D0A3-0FB3-4CB8-BFA7-ABAC44F64E26}" type="slidenum">
              <a:t>421</a:t>
            </a:fld>
          </a:p>
        </p:txBody>
      </p:sp>
    </p:spTree>
  </p:cSld>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oprinosi i porezi vezani uz troškove osoblja</a:t>
            </a:r>
            <a:endParaRPr b="0" lang="en-US" sz="3200" spc="-1" strike="noStrike">
              <a:solidFill>
                <a:srgbClr val="000000"/>
              </a:solidFill>
              <a:latin typeface="Arial"/>
            </a:endParaRPr>
          </a:p>
        </p:txBody>
      </p:sp>
      <p:sp>
        <p:nvSpPr>
          <p:cNvPr id="1418"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ope doprinosa iz i na plaću u RH nakon  01. 01. 2005.</a:t>
            </a:r>
            <a:endParaRPr b="0" lang="en-US" sz="2400" spc="-1" strike="noStrike">
              <a:solidFill>
                <a:srgbClr val="000000"/>
              </a:solidFill>
              <a:latin typeface="Arial"/>
            </a:endParaRPr>
          </a:p>
        </p:txBody>
      </p:sp>
      <p:graphicFrame>
        <p:nvGraphicFramePr>
          <p:cNvPr id="1419" name=""/>
          <p:cNvGraphicFramePr/>
          <p:nvPr/>
        </p:nvGraphicFramePr>
        <p:xfrm>
          <a:off x="468360" y="1844640"/>
          <a:ext cx="8229600" cy="4359240"/>
        </p:xfrm>
        <a:graphic>
          <a:graphicData uri="http://schemas.openxmlformats.org/drawingml/2006/table">
            <a:tbl>
              <a:tblPr/>
              <a:tblGrid>
                <a:gridCol w="3816360"/>
                <a:gridCol w="2227320"/>
                <a:gridCol w="2185920"/>
              </a:tblGrid>
              <a:tr h="470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Vrsta doprinos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Iz plać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Na plaću</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iz plaće za mirovinsko osiguranje (samo I. stu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iz plaće za mirovinsko osiguranje (I. + II. stu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5 %  +  5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na plaću za zdravstveno osiguranj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5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3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na plaću za slučaj ozljede na radu i profesionalne boles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5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7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na plaću za zapošljavanj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7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70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Ukupn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2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17,2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4" name="PlaceHolder 3"/>
          <p:cNvSpPr>
            <a:spLocks noGrp="1"/>
          </p:cNvSpPr>
          <p:nvPr>
            <p:ph type="sldNum" idx="3"/>
          </p:nvPr>
        </p:nvSpPr>
        <p:spPr/>
        <p:txBody>
          <a:bodyPr/>
          <a:p>
            <a:fld id="{99374FA8-0F96-4023-BE18-7D4D8E7E6718}" type="slidenum">
              <a:t>422</a:t>
            </a:fld>
          </a:p>
        </p:txBody>
      </p:sp>
    </p:spTree>
  </p:cSld>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rez i prirez na dohodak</a:t>
            </a:r>
            <a:endParaRPr b="0" lang="en-US" sz="4000" spc="-1" strike="noStrike">
              <a:solidFill>
                <a:srgbClr val="000000"/>
              </a:solidFill>
              <a:latin typeface="Arial"/>
            </a:endParaRPr>
          </a:p>
        </p:txBody>
      </p:sp>
      <p:sp>
        <p:nvSpPr>
          <p:cNvPr id="142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rez na dohodak obračunava poslodavac na osnovicu koju čine svi primici ostvareni od nesamostalnog rada tijekom mjeseca umanjeni za uplaćene doprinose iz plaće, premije životnog osiguranja, dopunskog i privatnog zdravstvenog osiguranja i dobrovoljnog mirovinskog osiguranja tuzemnim osiguravateljima do visine od 1.000,00 kn mjeseč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novni porezni odbitak iznosi 1.600,00 kn mjesečno, odnosno 19.200,00 kn godišnje. Iznimka su umirovljenici kojima osnovni osobni odbitak iznosi 3.000,00 kn mjeseč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313257-9BCA-431A-8E79-9E865D43E930}" type="slidenum">
              <a:t>423</a:t>
            </a:fld>
          </a:p>
        </p:txBody>
      </p:sp>
    </p:spTree>
  </p:cSld>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680"/>
            <a:ext cx="829152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rez i prirez na dohodak – faktori osobnog odbitka</a:t>
            </a:r>
            <a:endParaRPr b="0" lang="en-US" sz="4000" spc="-1" strike="noStrike">
              <a:solidFill>
                <a:srgbClr val="000000"/>
              </a:solidFill>
              <a:latin typeface="Arial"/>
            </a:endParaRPr>
          </a:p>
        </p:txBody>
      </p:sp>
      <p:graphicFrame>
        <p:nvGraphicFramePr>
          <p:cNvPr id="1423" name=""/>
          <p:cNvGraphicFramePr/>
          <p:nvPr/>
        </p:nvGraphicFramePr>
        <p:xfrm>
          <a:off x="468360" y="1700280"/>
          <a:ext cx="8229600" cy="4471920"/>
        </p:xfrm>
        <a:graphic>
          <a:graphicData uri="http://schemas.openxmlformats.org/drawingml/2006/table">
            <a:tbl>
              <a:tblPr/>
              <a:tblGrid>
                <a:gridCol w="4546440"/>
                <a:gridCol w="1368360"/>
                <a:gridCol w="231480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Osobni odbita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Fak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Iznos (osnovni osobni odbitak x fakt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Osnovni osobni odbita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6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Uzdržavani član uže obitelj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8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Uzdržavano prvo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8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rugo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12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Treće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6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Četvrto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24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eto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04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Invalidnost poreznog obveznika, uzdržavanog člana obitelji ili djete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4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7CF86111-D6A1-4648-8EA8-8368143C59EB}" type="slidenum">
              <a:t>424</a:t>
            </a:fld>
          </a:p>
        </p:txBody>
      </p:sp>
    </p:spTree>
  </p:cSld>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rez i prirez na dohodak – porezne stope i osnovice</a:t>
            </a:r>
            <a:endParaRPr b="0" lang="en-US" sz="4000" spc="-1" strike="noStrike">
              <a:solidFill>
                <a:srgbClr val="000000"/>
              </a:solidFill>
              <a:latin typeface="Arial"/>
            </a:endParaRPr>
          </a:p>
        </p:txBody>
      </p:sp>
      <p:graphicFrame>
        <p:nvGraphicFramePr>
          <p:cNvPr id="1425" name=""/>
          <p:cNvGraphicFramePr/>
          <p:nvPr/>
        </p:nvGraphicFramePr>
        <p:xfrm>
          <a:off x="900000" y="2060640"/>
          <a:ext cx="7150320" cy="2770200"/>
        </p:xfrm>
        <a:graphic>
          <a:graphicData uri="http://schemas.openxmlformats.org/drawingml/2006/table">
            <a:tbl>
              <a:tblPr/>
              <a:tblGrid>
                <a:gridCol w="3035520"/>
                <a:gridCol w="4114800"/>
              </a:tblGrid>
              <a:tr h="554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Sto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Mjesečna porezna osnovica u k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55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5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 3.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5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5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200,00 – 8.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5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5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8.000,00 – 22.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5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45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iznad 22.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9AE74EBF-DD6C-4407-973D-B8C6E8E3A7F1}" type="slidenum">
              <a:t>425</a:t>
            </a:fld>
          </a:p>
        </p:txBody>
      </p:sp>
    </p:spTree>
  </p:cSld>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rez i prirez na dohodak</a:t>
            </a:r>
            <a:endParaRPr b="0" lang="en-US" sz="4000" spc="-1" strike="noStrike">
              <a:solidFill>
                <a:srgbClr val="000000"/>
              </a:solidFill>
              <a:latin typeface="Arial"/>
            </a:endParaRPr>
          </a:p>
        </p:txBody>
      </p:sp>
      <p:sp>
        <p:nvSpPr>
          <p:cNvPr id="142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rez na porez na dohodak obračunava se na iznos obračunatog (razrezanog) poreza na dohoda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ope prireza razlikuju se između općina i gradova budući navedene jedinice lokalne samouprave imaju mogućnost autonomnog odlučivanja o visini stope prireza unutar granica zadanih zakon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opa prireza na porez na dohodak u Šibeniku iznosi 10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EDE40A-445C-49AE-B548-CABE3DA6900E}" type="slidenum">
              <a:t>426</a:t>
            </a:fld>
          </a:p>
        </p:txBody>
      </p:sp>
    </p:spTree>
  </p:cSld>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1429"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Trgovačko društvo “Y” ima dva zaposlena radnika. Radnici primaju plaću jednake visine te su osigurani u prvom i drugom stupu mirovinskog osiguranja. Radnik Marko Juruć uzdržava jedno dijete te prebivalište u Šibeniku  (prirez 10%), dok je drugi radnik, Ivan Antić samac s prebivalištem u Šibeniku. Izvršite obračun plaća za mjesec travanj 2005. godine (mjesec ima 21 radni dan koji traje 8 sati). Cijena sata rada je 30,00 kn.</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Izvršite potrebna knjiže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5A9055-C012-4E82-9D29-27ADA5B44468}" type="slidenum">
              <a:t>427</a:t>
            </a:fld>
          </a:p>
        </p:txBody>
      </p:sp>
    </p:spTree>
  </p:cSld>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468360" y="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imjer</a:t>
            </a:r>
            <a:endParaRPr b="0" lang="en-US" sz="4000" spc="-1" strike="noStrike">
              <a:solidFill>
                <a:srgbClr val="000000"/>
              </a:solidFill>
              <a:latin typeface="Arial"/>
            </a:endParaRPr>
          </a:p>
        </p:txBody>
      </p:sp>
      <p:graphicFrame>
        <p:nvGraphicFramePr>
          <p:cNvPr id="1431" name=""/>
          <p:cNvGraphicFramePr/>
          <p:nvPr/>
        </p:nvGraphicFramePr>
        <p:xfrm>
          <a:off x="468360" y="836640"/>
          <a:ext cx="8229600" cy="5102280"/>
        </p:xfrm>
        <a:graphic>
          <a:graphicData uri="http://schemas.openxmlformats.org/drawingml/2006/table">
            <a:tbl>
              <a:tblPr/>
              <a:tblGrid>
                <a:gridCol w="431640"/>
                <a:gridCol w="2311560"/>
                <a:gridCol w="1371600"/>
                <a:gridCol w="1371600"/>
                <a:gridCol w="1371600"/>
                <a:gridCol w="1371600"/>
              </a:tblGrid>
              <a:tr h="307080">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R. b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Op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Marko Ani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Ivan Rupić</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Stop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Izno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Stop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Izno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Bruto plać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5.04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5.04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Doprinosi iz plać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MO – I. stup</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MO – II. st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008,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56,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5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008,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56,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5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Dohod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4.03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4.0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Osobni odbit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4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Porezna osnov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63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4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Pore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44,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364,8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Prire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4,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36,4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Isplata radnik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3.762,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3.630,7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079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Doprinosi na plaću</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za zdrav. osi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za slučaj ozljede na radu</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za zapošljavanj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7,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0,5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66,88</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56,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5,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5,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7,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0,5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66,88</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56,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5,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5,6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Ukupno potrebna sredst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5.906,8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5.906,8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5B0BCB34-4D9B-4343-80ED-6882CF8500B7}" type="slidenum">
              <a:t>428</a:t>
            </a:fld>
          </a:p>
        </p:txBody>
      </p:sp>
    </p:spTree>
  </p:cSld>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68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mjer</a:t>
            </a:r>
            <a:r>
              <a:rPr b="0" lang="hr-HR" sz="2800" spc="-1" strike="noStrike">
                <a:solidFill>
                  <a:srgbClr val="000000"/>
                </a:solidFill>
                <a:latin typeface="Arial"/>
              </a:rPr>
              <a:t> – rekapitulacija isplatne liste za travanj</a:t>
            </a:r>
            <a:endParaRPr b="0" lang="en-US" sz="2800" spc="-1" strike="noStrike">
              <a:solidFill>
                <a:srgbClr val="000000"/>
              </a:solidFill>
              <a:latin typeface="Arial"/>
            </a:endParaRPr>
          </a:p>
        </p:txBody>
      </p:sp>
      <p:graphicFrame>
        <p:nvGraphicFramePr>
          <p:cNvPr id="1433" name=""/>
          <p:cNvGraphicFramePr/>
          <p:nvPr/>
        </p:nvGraphicFramePr>
        <p:xfrm>
          <a:off x="457200" y="981000"/>
          <a:ext cx="7859880" cy="5348520"/>
        </p:xfrm>
        <a:graphic>
          <a:graphicData uri="http://schemas.openxmlformats.org/drawingml/2006/table">
            <a:tbl>
              <a:tblPr/>
              <a:tblGrid>
                <a:gridCol w="765000"/>
                <a:gridCol w="3853080"/>
                <a:gridCol w="1276200"/>
                <a:gridCol w="1965600"/>
              </a:tblGrid>
              <a:tr h="73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ed. b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PI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top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424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ruto plać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8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74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oprinosi iz plaća</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MO – I. stup</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MO – II. st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6,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12,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15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rez iz dohot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9,6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13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re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 7.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9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13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o doprinosa i poreza iz plać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686,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12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eto plać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393,4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36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oprinosi na plaće</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za zdrav. osi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za slučaj ozljede na rad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za zapošljavanj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2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5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33,76</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12,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4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1,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FFBF78C5-FD6F-4E0F-8F13-9FBE8BE13CB7}" type="slidenum">
              <a:t>429</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4000" y="188640"/>
            <a:ext cx="81356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Računovodstvena načela, standardi i politike</a:t>
            </a:r>
            <a:endParaRPr b="0" lang="en-US" sz="3500" spc="-1" strike="noStrike">
              <a:solidFill>
                <a:srgbClr val="000000"/>
              </a:solidFill>
              <a:latin typeface="Arial"/>
            </a:endParaRPr>
          </a:p>
        </p:txBody>
      </p:sp>
      <p:sp>
        <p:nvSpPr>
          <p:cNvPr id="250" name="PlaceHolder 2"/>
          <p:cNvSpPr>
            <a:spLocks noGrp="1"/>
          </p:cNvSpPr>
          <p:nvPr>
            <p:ph/>
          </p:nvPr>
        </p:nvSpPr>
        <p:spPr>
          <a:xfrm>
            <a:off x="682560" y="1484280"/>
            <a:ext cx="8066160" cy="46116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Računovodstvena načela</a:t>
            </a:r>
            <a:r>
              <a:rPr b="0" lang="hr-HR" sz="2700" spc="-1" strike="noStrike">
                <a:solidFill>
                  <a:srgbClr val="000000"/>
                </a:solidFill>
                <a:latin typeface="Arial"/>
              </a:rPr>
              <a:t> određuju koncepciju računovodstva i razrađuju njegove osnovne karakteristike te formuliraju osnovicu za računovodstvenu politiku.</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Računovodstveni standardi</a:t>
            </a:r>
            <a:r>
              <a:rPr b="0" lang="hr-HR" sz="2700" spc="-1" strike="noStrike">
                <a:solidFill>
                  <a:srgbClr val="000000"/>
                </a:solidFill>
                <a:latin typeface="Arial"/>
              </a:rPr>
              <a:t> predstavljaju razradu računovodstvenih načela u pogledu metoda obuhvaćanja i obrade računovodstvenih podataka, formiranja računovodstvenih informacija, prezentiranja i čuvanja računovodstvenih podataka i informacija.</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67AEF100-90E9-405F-AF2C-E9D3C47E9089}" type="slidenum">
              <a:t>43</a:t>
            </a:fld>
          </a:p>
        </p:txBody>
      </p:sp>
    </p:spTree>
  </p:cSld>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imjer</a:t>
            </a:r>
            <a:endParaRPr b="0" lang="en-US" sz="4000" spc="-1" strike="noStrike">
              <a:solidFill>
                <a:srgbClr val="000000"/>
              </a:solidFill>
              <a:latin typeface="Arial"/>
            </a:endParaRPr>
          </a:p>
        </p:txBody>
      </p:sp>
      <p:graphicFrame>
        <p:nvGraphicFramePr>
          <p:cNvPr id="1435" name=""/>
          <p:cNvGraphicFramePr/>
          <p:nvPr/>
        </p:nvGraphicFramePr>
        <p:xfrm>
          <a:off x="468360" y="1413000"/>
          <a:ext cx="8229600" cy="3355920"/>
        </p:xfrm>
        <a:graphic>
          <a:graphicData uri="http://schemas.openxmlformats.org/drawingml/2006/table">
            <a:tbl>
              <a:tblPr/>
              <a:tblGrid>
                <a:gridCol w="801720"/>
                <a:gridCol w="3168720"/>
                <a:gridCol w="1512720"/>
                <a:gridCol w="1368360"/>
                <a:gridCol w="1378080"/>
              </a:tblGrid>
              <a:tr h="42372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Obračun troškova plaća prema isplatnoj list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8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4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30,24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2337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Obračun doprinosa na plać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33,76</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12,00</a:t>
                      </a:r>
                      <a:endParaRPr b="0" lang="en-US" sz="18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4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71,36</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42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2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29</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26</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444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38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Isplaćene plaće i naknade plać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733,76</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8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30,24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F04E94EB-912E-41FE-B23F-CDA9F3336BF5}" type="slidenum">
              <a:t>430</a:t>
            </a:fld>
          </a:p>
        </p:txBody>
      </p:sp>
    </p:spTree>
  </p:cSld>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MIROVINSKA REFORMA</a:t>
            </a:r>
            <a:br>
              <a:rPr sz="4400"/>
            </a:br>
            <a:r>
              <a:rPr b="0" lang="hr-HR" sz="4400" spc="-1" strike="noStrike">
                <a:solidFill>
                  <a:srgbClr val="000000"/>
                </a:solidFill>
                <a:latin typeface="Arial"/>
              </a:rPr>
              <a:t> U HRVATSKOJ</a:t>
            </a:r>
            <a:endParaRPr b="0" lang="en-US" sz="4400" spc="-1" strike="noStrike">
              <a:solidFill>
                <a:srgbClr val="000000"/>
              </a:solidFill>
              <a:latin typeface="Arial"/>
            </a:endParaRPr>
          </a:p>
        </p:txBody>
      </p:sp>
      <p:sp>
        <p:nvSpPr>
          <p:cNvPr id="14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ZLOZI ZA PODUZIMANJE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IROVINSKE REFORN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1B5F33-6A60-4CAB-95F3-31DA57A89043}" type="slidenum">
              <a:t>431</a:t>
            </a:fld>
          </a:p>
        </p:txBody>
      </p:sp>
    </p:spTree>
  </p:cSld>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SKALNI RAZLOZI – porez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Hrvatska je jedna od porezno najopterećenijih zemalja u regij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EMOGRAFSKI RAZLOZ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VEĆANJE BLAGOSTANJ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Odgovarajuća, moguća i održiva mirov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TICANJE RAZVOJA TRŽIŠTA KAPITA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Institucije ugovorne štednje – Ustanove životnog osiguranja, Mirovinski fondov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4A19B50-8846-4462-B573-F07DBCF70648}" type="slidenum">
              <a:t>432</a:t>
            </a:fld>
          </a:p>
        </p:txBody>
      </p:sp>
    </p:spTree>
  </p:cSld>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financiranje mirovinskog sustava negativ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 utjecal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pogodna demografska kretan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ces tranzici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t koji je doveo do stvaranja novih kategorija korisn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blažavanje socijalnih učinaka ograničenih mogućnosti zapošljavanja, pa se dopustilo prijevremeno umirovljenje ( 50,55 ) i niska dobna granica za redovito umirovljenje ( 55,60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B3D4E70-EE6D-47DB-82FE-07957F009DF7}" type="slidenum">
              <a:t>433</a:t>
            </a:fld>
          </a:p>
        </p:txBody>
      </p:sp>
    </p:spTree>
  </p:cSld>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p:nvPr>
        </p:nvSpPr>
        <p:spPr>
          <a:xfrm>
            <a:off x="468360" y="476280"/>
            <a:ext cx="8229600" cy="5462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ratkoročna perspektiva mirovinske reforme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krenut će se novi trendovi, ali će se povećati fiskalni teret, jer pojava drugog stupa MF rezultirat će smanjenjem prihoda HZ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ugoročna perspektiva mirovinske reform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ovi način određivanja mirovine gotovo će u potpunosti ukloniti siromaštvo među onima koji su pokriveni sustavom ( do 2008.god. na 2-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eđutim neravnopravnost sustava do koje je došlo uslijed postojanja grupa s privilegiranim mirovinskim pravima neće nestat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A0D6365-90A7-4345-A433-354B6DCA46A8}" type="slidenum">
              <a:t>434</a:t>
            </a:fld>
          </a:p>
        </p:txBody>
      </p:sp>
    </p:spTree>
  </p:cSld>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179280" y="620280"/>
            <a:ext cx="878544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CES REFORME U HRVATSKOJ:</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konodavstvo prihvaćen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nstitucije uspostavljene ( Hagena i Regos), jer je nužna pretpostavka kvalitetne tržišne utakmice učinkovita regulacija i nadz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vi stup PAYG D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rugi stup starta od siječnja 20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eličina drugog stupa 5% bruto plać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2020.god. Očekivana vrijednost MF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25% - 30% GD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djelovanje u drugom stupu do 40 god. obvezno, od 40 do 50 po izboru</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C77E172-0F81-4123-9D2A-8C491EEA17CF}" type="slidenum">
              <a:t>435</a:t>
            </a:fld>
          </a:p>
        </p:txBody>
      </p:sp>
    </p:spTree>
  </p:cSld>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324000" y="333360"/>
            <a:ext cx="8496000" cy="612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PITALIZIRANI SUSTAV I EKONOMSKI RA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rugi stup vuče tržište kapital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F traže dugoročno i manje rizično ulag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icaj razvitku tržišta dugoročnog duga – obvezn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investitore diverzifikacija vjerovnika i duže ročnosti dug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manjenje cijene kapital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zitivan signal investitori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ILJ HRVATSKOG TRŽIŠTA KAPITALA 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ŽIŠTE DRŽAVNIH OBVEZNICA, KORPORATIVNI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VEZNICA I TRŽIŠTE DION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A77CD85-680A-41B0-B719-4F7226771AF1}" type="slidenum">
              <a:t>436</a:t>
            </a:fld>
          </a:p>
        </p:txBody>
      </p:sp>
    </p:spTree>
  </p:cSld>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4360" y="1699920"/>
            <a:ext cx="7702560" cy="273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Zalihe</a:t>
            </a:r>
            <a:r>
              <a:rPr b="1" lang="hr-HR" sz="5400" spc="-1" strike="noStrike">
                <a:solidFill>
                  <a:srgbClr val="000000"/>
                </a:solidFill>
                <a:latin typeface="Arial"/>
              </a:rPr>
              <a:t> sirovina,</a:t>
            </a:r>
            <a:br>
              <a:rPr sz="5400"/>
            </a:br>
            <a:r>
              <a:rPr b="1" lang="hr-HR" sz="5400" spc="-1" strike="noStrike">
                <a:solidFill>
                  <a:srgbClr val="000000"/>
                </a:solidFill>
                <a:latin typeface="Arial"/>
              </a:rPr>
              <a:t>materijala i trgovačke robe</a:t>
            </a: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2FB3E2C4-1EFF-40ED-A730-43BE45C49F8C}" type="slidenum">
              <a:t>437</a:t>
            </a:fld>
          </a:p>
        </p:txBody>
      </p:sp>
    </p:spTree>
  </p:cSld>
  <p:transition>
    <p:wheel spokes="1"/>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 presetSubtype="1">
                                  <p:stCondLst>
                                    <p:cond delay="0"/>
                                  </p:stCondLst>
                                  <p:childTnLst>
                                    <p:set>
                                      <p:cBhvr>
                                        <p:cTn id="150" dur="1" fill="hold">
                                          <p:stCondLst>
                                            <p:cond delay="0"/>
                                          </p:stCondLst>
                                        </p:cTn>
                                        <p:tgtEl>
                                          <p:spTgt spid="1443"/>
                                        </p:tgtEl>
                                        <p:attrNameLst>
                                          <p:attrName>style.visibility</p:attrName>
                                        </p:attrNameLst>
                                      </p:cBhvr>
                                      <p:to>
                                        <p:strVal val="visible"/>
                                      </p:to>
                                    </p:set>
                                    <p:anim calcmode="lin" valueType="num">
                                      <p:cBhvr additive="base">
                                        <p:cTn id="151" dur="500" fill="hold"/>
                                        <p:tgtEl>
                                          <p:spTgt spid="1443"/>
                                        </p:tgtEl>
                                        <p:attrNameLst>
                                          <p:attrName>ppt_x</p:attrName>
                                        </p:attrNameLst>
                                      </p:cBhvr>
                                      <p:tavLst>
                                        <p:tav tm="0">
                                          <p:val>
                                            <p:strVal val="#ppt_x"/>
                                          </p:val>
                                        </p:tav>
                                        <p:tav tm="100000">
                                          <p:val>
                                            <p:strVal val="#ppt_x"/>
                                          </p:val>
                                        </p:tav>
                                      </p:tavLst>
                                    </p:anim>
                                    <p:anim calcmode="lin" valueType="num">
                                      <p:cBhvr additive="base">
                                        <p:cTn id="152" dur="500" fill="hold"/>
                                        <p:tgtEl>
                                          <p:spTgt spid="14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Zalihe – evidencija zaliha</a:t>
            </a:r>
            <a:endParaRPr b="0" lang="en-US" sz="3200" spc="-1" strike="noStrike">
              <a:solidFill>
                <a:srgbClr val="000000"/>
              </a:solidFill>
              <a:latin typeface="Arial"/>
            </a:endParaRPr>
          </a:p>
        </p:txBody>
      </p:sp>
      <p:sp>
        <p:nvSpPr>
          <p:cNvPr id="1445"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lihe sirovina, materijala i trgovačke robe mogu se evidentirati po stvarnom trošku nabave ili po planiranom trošku nabave koji se koristi zbog postizanja većeg stupnja ažurnosti i razlučivanja utjecaja cijena od utjecaja utrošaka na visinu troško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ak nabave sirovina, materijala i trgovačke robe čin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upovna cijena umanjena za diskonte, rabate i druge popuste iskazane u računu dobavljača,</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arina i uvozne pristojb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epovratni porezi 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i prijevoza i ostali troškovi izravno vezani s nabavom do određene lokacij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907CF4-1104-4A7F-B6B6-D5A28101D1ED}" type="slidenum">
              <a:t>438</a:t>
            </a:fld>
          </a:p>
        </p:txBody>
      </p:sp>
    </p:spTree>
  </p:cSld>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Zalihe – metode obračuna troškova sirovina i materijala</a:t>
            </a:r>
            <a:endParaRPr b="0" lang="en-US" sz="3200" spc="-1" strike="noStrike">
              <a:solidFill>
                <a:srgbClr val="000000"/>
              </a:solidFill>
              <a:latin typeface="Arial"/>
            </a:endParaRPr>
          </a:p>
        </p:txBody>
      </p:sp>
      <p:sp>
        <p:nvSpPr>
          <p:cNvPr id="144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likujemo slijedeće metode obračuna troškova sirovina i materijala koje se razlikuju ovisno o primijenjenoj cijeni (trošku nabave) za vrednovanje utrošak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FIFO</a:t>
            </a:r>
            <a:r>
              <a:rPr b="0" lang="hr-HR" sz="2000" spc="-1" strike="noStrike">
                <a:solidFill>
                  <a:srgbClr val="000000"/>
                </a:solidFill>
                <a:latin typeface="Arial"/>
              </a:rPr>
              <a:t> – (First in, first out)  prva ulazna cijena = prvoj izlaznoj cijen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etoda prosječnih ponderiranih cijena – (izlazna cijena računa se kao odnos vrijednosnog i količinskog salda zaliha na dan smanjenja zalih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LIFO</a:t>
            </a:r>
            <a:r>
              <a:rPr b="0" lang="hr-HR" sz="2000" spc="-1" strike="noStrike">
                <a:solidFill>
                  <a:srgbClr val="000000"/>
                </a:solidFill>
                <a:latin typeface="Arial"/>
              </a:rPr>
              <a:t> – (Last in, first out) zadnja ulazna cijena = prvoj izlaznoj cijen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369DECC-A032-4EAB-80A9-96BBD82A2808}" type="slidenum">
              <a:t>439</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Računovodstvena načela, standardi i politike</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Računovodstvena politika</a:t>
            </a:r>
            <a:r>
              <a:rPr b="0" lang="hr-HR" sz="2700" spc="-1" strike="noStrike">
                <a:solidFill>
                  <a:srgbClr val="000000"/>
                </a:solidFill>
                <a:latin typeface="Arial"/>
              </a:rPr>
              <a:t> odnosi se na računovodstveni sadržaj ekonomskih kategorija i na njihovo iskazivanje i interpretiranje. Obuhvaća načela, konvencije, metode, pravila i postupke prilikom izrade i prezentiranja računovodstvenih izvještaja.</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6403E177-9056-446A-AFF7-26DD38D149B2}" type="slidenum">
              <a:t>44</a:t>
            </a:fld>
          </a:p>
        </p:txBody>
      </p:sp>
    </p:spTree>
  </p:cSld>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Primljen je račun za materijal u iznosu 15.000,00 kn + PD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Račun za uslugu prijevoza iznosi 3.000,00 kn + PD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Fakture su podmirene čekom. Ček je isplać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Proveden je obračun nabave i materijal je uskladišt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a) po trošku nab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b) po planskoj cijeni 19.000,00 k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Utrošeno je 50% materijal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E4086E-30C3-4AF2-8647-7AAD5C7E27C1}" type="slidenum">
              <a:t>440</a:t>
            </a:fld>
          </a:p>
        </p:txBody>
      </p:sp>
    </p:spTree>
  </p:cSld>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51" name=""/>
          <p:cNvGraphicFramePr/>
          <p:nvPr/>
        </p:nvGraphicFramePr>
        <p:xfrm>
          <a:off x="324000" y="907920"/>
          <a:ext cx="7920000" cy="5632200"/>
        </p:xfrm>
        <a:graphic>
          <a:graphicData uri="http://schemas.openxmlformats.org/drawingml/2006/table">
            <a:tbl>
              <a:tblPr/>
              <a:tblGrid>
                <a:gridCol w="554040"/>
                <a:gridCol w="3400200"/>
                <a:gridCol w="1319400"/>
                <a:gridCol w="1319040"/>
                <a:gridCol w="1327320"/>
              </a:tblGrid>
              <a:tr h="3682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 je račun za materij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3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3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 je račun za prijevoz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6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1</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veze su podmirene čeko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9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Ček je isplać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9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 Trošak nabav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materija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trošeno je 50% materija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209C325-C944-44C7-B570-E765DB76CDE4}" type="slidenum">
              <a:t>441</a:t>
            </a:fld>
          </a:p>
        </p:txBody>
      </p:sp>
    </p:spTree>
  </p:cSld>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53" name=""/>
          <p:cNvGraphicFramePr/>
          <p:nvPr/>
        </p:nvGraphicFramePr>
        <p:xfrm>
          <a:off x="468360" y="1125360"/>
          <a:ext cx="8229600" cy="4150080"/>
        </p:xfrm>
        <a:graphic>
          <a:graphicData uri="http://schemas.openxmlformats.org/drawingml/2006/table">
            <a:tbl>
              <a:tblPr/>
              <a:tblGrid>
                <a:gridCol w="576360"/>
                <a:gridCol w="3531960"/>
                <a:gridCol w="1371600"/>
                <a:gridCol w="1370160"/>
                <a:gridCol w="1379520"/>
              </a:tblGrid>
              <a:tr h="3682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 Planska cijen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materijal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9.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9</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trošeno 50% materija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5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9AE479C-43F4-4F2B-A659-572AC8981A90}" type="slidenum">
              <a:t>442</a:t>
            </a:fld>
          </a:p>
        </p:txBody>
      </p:sp>
    </p:spTree>
  </p:cSld>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Doznačili smo predujam za kupnju sirovina u iznosu 100.000,00 kn. Faktura dobavljača za sirovine iznosi 120.000,00 kn + PDV. Sirovine se uskladištavaju po trošku nabave. Obračunat je predujam i plaćena razlika dobavljaču.</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C3EFD8-E20B-4FDA-AF7E-64EE76187100}" type="slidenum">
              <a:t>443</a:t>
            </a:fld>
          </a:p>
        </p:txBody>
      </p:sp>
    </p:spTree>
  </p:cSld>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57" name=""/>
          <p:cNvGraphicFramePr/>
          <p:nvPr/>
        </p:nvGraphicFramePr>
        <p:xfrm>
          <a:off x="457200" y="1600200"/>
          <a:ext cx="8229600" cy="3881160"/>
        </p:xfrm>
        <a:graphic>
          <a:graphicData uri="http://schemas.openxmlformats.org/drawingml/2006/table">
            <a:tbl>
              <a:tblPr/>
              <a:tblGrid>
                <a:gridCol w="576360"/>
                <a:gridCol w="3531960"/>
                <a:gridCol w="1371600"/>
                <a:gridCol w="1370160"/>
                <a:gridCol w="1379520"/>
              </a:tblGrid>
              <a:tr h="3682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označen je predujam za kupnju sir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bavljeno sir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6.4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0.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6.4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sir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preduj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7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a razlika dobavljač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6.4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041DF66-C7D4-4C43-B5C1-CC41AFB7B24C}" type="slidenum">
              <a:t>444</a:t>
            </a:fld>
          </a:p>
        </p:txBody>
      </p:sp>
    </p:spTree>
  </p:cSld>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Izdali smo na doradu materijala u vrijednosti 30.000,00 kn. Poduzetnik koji je izvršio doradu ispostavio nam je račun na 10.000,00 kn + PDV. Račun je podmiren čekom.  Dorađeni materijal je zaprimljen u skladiš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Utvrđen je višak materijala na zalihi u iznosu 4.000,00 k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Utvrđen je manjak materijala u iznosu 2.000,00 k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a) manjak je opravda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manjak nije opravdan i tereti odgovornu osobu. Tržišna vrijednost materijala s uključenim PDV-om je 2.500,00 k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Uslijed zastarijevanja, zalihe sirovina se rashoduju u vrijednosti 20.000,00 k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EC433B-A67E-4F52-AE4D-AC01E8023FA5}" type="slidenum">
              <a:t>445</a:t>
            </a:fld>
          </a:p>
        </p:txBody>
      </p:sp>
    </p:spTree>
  </p:cSld>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0" name=""/>
          <p:cNvGraphicFramePr/>
          <p:nvPr/>
        </p:nvGraphicFramePr>
        <p:xfrm>
          <a:off x="468360" y="1197000"/>
          <a:ext cx="8229600" cy="423072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aterijal izdan u dorad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ili smo račun za dorad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2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1</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dmirene obveze za izvršenu doradu izdavanjem ček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2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orađeni materijal zaprimljen je u skladiš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tvrđen je višak materijal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8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gridSpan="5">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 Opravdan je manjak</a:t>
                      </a:r>
                      <a:endParaRPr b="0" lang="en-US" sz="18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anjak materijal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3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gridSpan="5">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 Manjak na teret odgovorne osobe</a:t>
                      </a:r>
                      <a:endParaRPr b="0" lang="en-US" sz="18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 </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anjak materijal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3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146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4FA80BC-C3AA-485C-91E5-20941C49D18E}" type="slidenum">
              <a:t>446</a:t>
            </a:fld>
          </a:p>
        </p:txBody>
      </p:sp>
    </p:spTree>
  </p:cSld>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63" name=""/>
          <p:cNvGraphicFramePr/>
          <p:nvPr/>
        </p:nvGraphicFramePr>
        <p:xfrm>
          <a:off x="457200" y="1600200"/>
          <a:ext cx="8229600" cy="246672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26936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aduženje odgovorne osob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5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50,82</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49,1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30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4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84</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shodovanje zalih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82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4D008590-AAD1-417F-BEDC-BED0C24A0327}" type="slidenum">
              <a:t>447</a:t>
            </a:fld>
          </a:p>
        </p:txBody>
      </p:sp>
    </p:spTree>
  </p:cSld>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 - obračun troškova zaliha</a:t>
            </a:r>
            <a:endParaRPr b="0" lang="en-US" sz="3200" spc="-1" strike="noStrike">
              <a:solidFill>
                <a:srgbClr val="000000"/>
              </a:solidFill>
              <a:latin typeface="Arial"/>
            </a:endParaRPr>
          </a:p>
        </p:txBody>
      </p:sp>
      <p:sp>
        <p:nvSpPr>
          <p:cNvPr id="1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imjenom metode FIFO, LIFO i ponderirane prosječne cijene izvršite obračun troškova zaliha materijala temeljem sljedećih podatak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01.01. Stanje 200 kg po cijeni 100,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10.01. Nabavljeno 140 kg po cijeni 110,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15.01. Utrošeno 180 k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21.01. Nabavljeno 70 kg po cijeni 115,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28.01. Utrošeno 50 k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D500D2-236A-4A66-928A-3BEC4278D9F3}" type="slidenum">
              <a:t>448</a:t>
            </a:fld>
          </a:p>
        </p:txBody>
      </p:sp>
    </p:spTree>
  </p:cSld>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 - </a:t>
            </a:r>
            <a:r>
              <a:rPr b="1" lang="hr-HR" sz="3600" spc="-1" strike="noStrike">
                <a:solidFill>
                  <a:srgbClr val="000000"/>
                </a:solidFill>
                <a:latin typeface="Arial"/>
              </a:rPr>
              <a:t>FIFO</a:t>
            </a:r>
            <a:endParaRPr b="0" lang="en-US" sz="3600" spc="-1" strike="noStrike">
              <a:solidFill>
                <a:srgbClr val="000000"/>
              </a:solidFill>
              <a:latin typeface="Arial"/>
            </a:endParaRPr>
          </a:p>
        </p:txBody>
      </p:sp>
      <p:graphicFrame>
        <p:nvGraphicFramePr>
          <p:cNvPr id="1467" name=""/>
          <p:cNvGraphicFramePr/>
          <p:nvPr/>
        </p:nvGraphicFramePr>
        <p:xfrm>
          <a:off x="179280" y="1628640"/>
          <a:ext cx="8856720" cy="1644840"/>
        </p:xfrm>
        <a:graphic>
          <a:graphicData uri="http://schemas.openxmlformats.org/drawingml/2006/table">
            <a:tbl>
              <a:tblPr/>
              <a:tblGrid>
                <a:gridCol w="730440"/>
                <a:gridCol w="1069920"/>
                <a:gridCol w="1079640"/>
                <a:gridCol w="720720"/>
                <a:gridCol w="720720"/>
                <a:gridCol w="718920"/>
                <a:gridCol w="720720"/>
                <a:gridCol w="1008000"/>
                <a:gridCol w="1079640"/>
                <a:gridCol w="1008000"/>
              </a:tblGrid>
              <a:tr h="21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atum</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okument</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pis</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U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z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Cijena</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ug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Potraž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aldo</a:t>
                      </a:r>
                      <a:endParaRPr b="0" lang="en-US" sz="14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0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nventar</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5.4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7.54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7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3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5,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8.05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5.59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8.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rowSpan="3">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3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29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2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10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2.000,0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3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11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3.300,0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2DBE1E09-4422-4BC1-AC38-3657494BD11A}" type="slidenum">
              <a:t>449</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4000" y="188640"/>
            <a:ext cx="8080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Računovodstvena načela</a:t>
            </a:r>
            <a:endParaRPr b="0" lang="en-US" sz="3500" spc="-1" strike="noStrike">
              <a:solidFill>
                <a:srgbClr val="000000"/>
              </a:solidFill>
              <a:latin typeface="Arial"/>
            </a:endParaRPr>
          </a:p>
        </p:txBody>
      </p:sp>
      <p:sp>
        <p:nvSpPr>
          <p:cNvPr id="254" name="PlaceHolder 2"/>
          <p:cNvSpPr>
            <a:spLocks noGrp="1"/>
          </p:cNvSpPr>
          <p:nvPr>
            <p:ph/>
          </p:nvPr>
        </p:nvSpPr>
        <p:spPr>
          <a:xfrm>
            <a:off x="304560" y="1196640"/>
            <a:ext cx="8515080" cy="4876920"/>
          </a:xfrm>
          <a:prstGeom prst="rect">
            <a:avLst/>
          </a:prstGeom>
          <a:noFill/>
          <a:ln w="0">
            <a:noFill/>
          </a:ln>
        </p:spPr>
        <p:txBody>
          <a:bodyPr lIns="90000" rIns="90000" tIns="46800" bIns="46800"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Temeljna računovodstvena načela</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kontinuiranosti</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dosljednosti</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razgraničenja ili priznavanja ekonomskih promjena u trenutku nastanka</a:t>
            </a:r>
            <a:endParaRPr b="0" lang="en-US" sz="2700" spc="-1" strike="noStrike">
              <a:solidFill>
                <a:srgbClr val="000000"/>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Načela računovodstvenih politika</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opreznosti</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prevage suštine nad formom</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aterijalnosti</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D0361527-A405-4B12-9872-C239A1824B8F}" type="slidenum">
              <a:t>45</a:t>
            </a:fld>
          </a:p>
        </p:txBody>
      </p:sp>
    </p:spTree>
  </p:cSld>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 - </a:t>
            </a:r>
            <a:r>
              <a:rPr b="1" lang="hr-HR" sz="3600" spc="-1" strike="noStrike">
                <a:solidFill>
                  <a:srgbClr val="000000"/>
                </a:solidFill>
                <a:latin typeface="Arial"/>
              </a:rPr>
              <a:t>LIFO</a:t>
            </a:r>
            <a:endParaRPr b="0" lang="en-US" sz="3600" spc="-1" strike="noStrike">
              <a:solidFill>
                <a:srgbClr val="000000"/>
              </a:solidFill>
              <a:latin typeface="Arial"/>
            </a:endParaRPr>
          </a:p>
        </p:txBody>
      </p:sp>
      <p:graphicFrame>
        <p:nvGraphicFramePr>
          <p:cNvPr id="1469" name=""/>
          <p:cNvGraphicFramePr/>
          <p:nvPr/>
        </p:nvGraphicFramePr>
        <p:xfrm>
          <a:off x="108000" y="1600200"/>
          <a:ext cx="8928000" cy="1751040"/>
        </p:xfrm>
        <a:graphic>
          <a:graphicData uri="http://schemas.openxmlformats.org/drawingml/2006/table">
            <a:tbl>
              <a:tblPr/>
              <a:tblGrid>
                <a:gridCol w="1027080"/>
                <a:gridCol w="995400"/>
                <a:gridCol w="1003320"/>
                <a:gridCol w="668160"/>
                <a:gridCol w="669960"/>
                <a:gridCol w="668520"/>
                <a:gridCol w="726840"/>
                <a:gridCol w="1081080"/>
                <a:gridCol w="1079640"/>
                <a:gridCol w="1008000"/>
              </a:tblGrid>
              <a:tr h="2422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atum</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okument</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pis</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U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z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Cijena</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ug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Potraž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aldo</a:t>
                      </a:r>
                      <a:endParaRPr b="0" lang="en-US" sz="14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22824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0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nventar</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5.4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rowSpan="3">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9.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0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1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11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15.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1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4.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7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3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5,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8.05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4.05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8.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5,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75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3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9A1AA3DC-7067-4A71-B9C3-114EED97A0AA}" type="slidenum">
              <a:t>450</a:t>
            </a:fld>
          </a:p>
        </p:txBody>
      </p:sp>
    </p:spTree>
  </p:cSld>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274680"/>
            <a:ext cx="821844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 – </a:t>
            </a:r>
            <a:r>
              <a:rPr b="1" lang="hr-HR" sz="3600" spc="-1" strike="noStrike">
                <a:solidFill>
                  <a:srgbClr val="000000"/>
                </a:solidFill>
                <a:latin typeface="Arial"/>
              </a:rPr>
              <a:t>PROSJEČNA PONDERIRANA</a:t>
            </a:r>
            <a:br>
              <a:rPr sz="3600"/>
            </a:br>
            <a:r>
              <a:rPr b="1" lang="hr-HR" sz="3600" spc="-1" strike="noStrike">
                <a:solidFill>
                  <a:srgbClr val="000000"/>
                </a:solidFill>
                <a:latin typeface="Arial"/>
              </a:rPr>
              <a:t>CIJENA</a:t>
            </a:r>
            <a:endParaRPr b="0" lang="en-US" sz="3600" spc="-1" strike="noStrike">
              <a:solidFill>
                <a:srgbClr val="000000"/>
              </a:solidFill>
              <a:latin typeface="Arial"/>
            </a:endParaRPr>
          </a:p>
        </p:txBody>
      </p:sp>
      <p:graphicFrame>
        <p:nvGraphicFramePr>
          <p:cNvPr id="1471" name=""/>
          <p:cNvGraphicFramePr/>
          <p:nvPr/>
        </p:nvGraphicFramePr>
        <p:xfrm>
          <a:off x="189000" y="2133720"/>
          <a:ext cx="8837640" cy="1276200"/>
        </p:xfrm>
        <a:graphic>
          <a:graphicData uri="http://schemas.openxmlformats.org/drawingml/2006/table">
            <a:tbl>
              <a:tblPr/>
              <a:tblGrid>
                <a:gridCol w="947880"/>
                <a:gridCol w="987480"/>
                <a:gridCol w="1161720"/>
                <a:gridCol w="648000"/>
                <a:gridCol w="647640"/>
                <a:gridCol w="720720"/>
                <a:gridCol w="725400"/>
                <a:gridCol w="1008000"/>
                <a:gridCol w="982800"/>
                <a:gridCol w="1008000"/>
              </a:tblGrid>
              <a:tr h="21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atum</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okument</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pis</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U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z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Cijena</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ug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Potraž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aldo</a:t>
                      </a:r>
                      <a:endParaRPr b="0" lang="en-US" sz="14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0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nventar</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5.4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4,12</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741,6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658,4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7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3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5,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8.05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4.708,4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8.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7,43</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371,5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9.336,9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D8E30CB8-3F27-4849-8A9D-8EB0BB136F5D}" type="slidenum">
              <a:t>451</a:t>
            </a:fld>
          </a:p>
        </p:txBody>
      </p:sp>
    </p:spTree>
  </p:cSld>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TRGOVAČKA ROBA I TRGOVINA</a:t>
            </a:r>
            <a:endParaRPr b="0" lang="en-US" sz="3600" spc="-1" strike="noStrike">
              <a:solidFill>
                <a:srgbClr val="000000"/>
              </a:solidFill>
              <a:latin typeface="Arial"/>
            </a:endParaRPr>
          </a:p>
        </p:txBody>
      </p:sp>
      <p:sp>
        <p:nvSpPr>
          <p:cNvPr id="147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govačka roba je materijalna imovina koja je nabavljena s namjerom daljnje proda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kladno Zakonu o trgovini, trgovina se može obavljati kao trgovina na veliko i trgovina na ma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govina na malo definirana je kao kupnja robe radi daljnje prodaje za osobnu potrošnju ili uporabu u kućanstvu, i prodaji robe za treće osob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va vrsta trgovine obavlja se u prodavaonicama i izvan njih ukoliko su ispunjeni propisni uvjeti Pravilnika o minimalnim tehničkim uvjetima i Zakona o trgovin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AC6D3C-BDE7-4875-931E-4A249067FB5F}" type="slidenum">
              <a:t>452</a:t>
            </a:fld>
          </a:p>
        </p:txBody>
      </p:sp>
    </p:spTree>
  </p:cSld>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Organizacijski gledano, podaci o nabavi i prodaji robe vode se na tri mjesta u trgovačkom društ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u prodavaonici – u Knjizi popisa zajedn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s pripadajućim primkama zadužen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u knjigama ulaznih i izlaznih računa ko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trgovaca obveznika PDV-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na računima glavne knj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u financijskom knjigovodstvu ).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782BC06-922C-483D-9DEC-62E02366B9D8}" type="slidenum">
              <a:t>453</a:t>
            </a:fld>
          </a:p>
        </p:txBody>
      </p:sp>
    </p:spTree>
  </p:cSld>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468360" y="333360"/>
            <a:ext cx="8229600" cy="61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ispravnost sastavljanja obračuna i bilježenja poslovnih događaja u trgovini na malo treba se pridržavati odredaba koje proizlaze iz:</a:t>
            </a:r>
            <a:br>
              <a:rPr sz="2400"/>
            </a:br>
            <a:r>
              <a:rPr b="0" lang="hr-HR" sz="2400" spc="-1" strike="noStrike">
                <a:solidFill>
                  <a:srgbClr val="000000"/>
                </a:solidFill>
                <a:latin typeface="Arial"/>
              </a:rPr>
              <a:t>- Zakona o računovodstvu,</a:t>
            </a:r>
            <a:br>
              <a:rPr sz="2400"/>
            </a:br>
            <a:r>
              <a:rPr b="0" lang="hr-HR" sz="2400" spc="-1" strike="noStrike">
                <a:solidFill>
                  <a:srgbClr val="000000"/>
                </a:solidFill>
                <a:latin typeface="Arial"/>
              </a:rPr>
              <a:t>- Zakona i Pravilnika o PDV-u,</a:t>
            </a:r>
            <a:br>
              <a:rPr sz="2400"/>
            </a:br>
            <a:r>
              <a:rPr b="0" lang="hr-HR" sz="2400" spc="-1" strike="noStrike">
                <a:solidFill>
                  <a:srgbClr val="000000"/>
                </a:solidFill>
                <a:latin typeface="Arial"/>
              </a:rPr>
              <a:t>- Zakona i Pravilnika o porezu na dobit,</a:t>
            </a:r>
            <a:br>
              <a:rPr sz="2400"/>
            </a:br>
            <a:r>
              <a:rPr b="0" lang="hr-HR" sz="2400" spc="-1" strike="noStrike">
                <a:solidFill>
                  <a:srgbClr val="000000"/>
                </a:solidFill>
                <a:latin typeface="Arial"/>
              </a:rPr>
              <a:t>- Zakona o trgovini,</a:t>
            </a:r>
            <a:br>
              <a:rPr sz="2400"/>
            </a:br>
            <a:r>
              <a:rPr b="0" lang="hr-HR" sz="2400" spc="-1" strike="noStrike">
                <a:solidFill>
                  <a:srgbClr val="000000"/>
                </a:solidFill>
                <a:latin typeface="Arial"/>
              </a:rPr>
              <a:t>- Međunarodnih računovodstvenih standarda,</a:t>
            </a:r>
            <a:br>
              <a:rPr sz="2400"/>
            </a:br>
            <a:r>
              <a:rPr b="0" lang="hr-HR" sz="2400" spc="-1" strike="noStrike">
                <a:solidFill>
                  <a:srgbClr val="000000"/>
                </a:solidFill>
                <a:latin typeface="Arial"/>
              </a:rPr>
              <a:t>- Pravilnika o obliku i načinu vođenja popisa u </a:t>
            </a:r>
            <a:br>
              <a:rPr sz="2400"/>
            </a:br>
            <a:r>
              <a:rPr b="0" lang="hr-HR" sz="2400" spc="-1" strike="noStrike">
                <a:solidFill>
                  <a:srgbClr val="000000"/>
                </a:solidFill>
                <a:latin typeface="Arial"/>
              </a:rPr>
              <a:t>  trgovini na malo,</a:t>
            </a:r>
            <a:br>
              <a:rPr sz="2400"/>
            </a:br>
            <a:r>
              <a:rPr b="0" lang="hr-HR" sz="2400" spc="-1" strike="noStrike">
                <a:solidFill>
                  <a:srgbClr val="000000"/>
                </a:solidFill>
                <a:latin typeface="Arial"/>
              </a:rPr>
              <a:t>- Naredbe o određivanju proizvoda i usluga za koje</a:t>
            </a:r>
            <a:br>
              <a:rPr sz="2400"/>
            </a:br>
            <a:r>
              <a:rPr b="0" lang="hr-HR" sz="2400" spc="-1" strike="noStrike">
                <a:solidFill>
                  <a:srgbClr val="000000"/>
                </a:solidFill>
                <a:latin typeface="Arial"/>
              </a:rPr>
              <a:t>  se dostavljaju obavijesti o cijenama i maržama,</a:t>
            </a:r>
            <a:br>
              <a:rPr sz="2400"/>
            </a:br>
            <a:r>
              <a:rPr b="0" lang="hr-HR" sz="2400" spc="-1" strike="noStrike">
                <a:solidFill>
                  <a:srgbClr val="000000"/>
                </a:solidFill>
                <a:latin typeface="Arial"/>
              </a:rPr>
              <a:t>- Pravilnika o dopuštenom manjku s naslova kala, rasipa, </a:t>
            </a:r>
            <a:br>
              <a:rPr sz="2400"/>
            </a:br>
            <a:r>
              <a:rPr b="0" lang="hr-HR" sz="2400" spc="-1" strike="noStrike">
                <a:solidFill>
                  <a:srgbClr val="000000"/>
                </a:solidFill>
                <a:latin typeface="Arial"/>
              </a:rPr>
              <a:t>  kvara i loma na proizvodima u trgovini.</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13E3857-9669-404F-A071-E99710B5988D}" type="slidenum">
              <a:t>454</a:t>
            </a:fld>
          </a:p>
        </p:txBody>
      </p:sp>
    </p:spTree>
  </p:cSld>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VREDNOVANJE ROBE U </a:t>
            </a:r>
            <a:br>
              <a:rPr sz="3200"/>
            </a:br>
            <a:r>
              <a:rPr b="0" lang="hr-HR" sz="3200" spc="-1" strike="noStrike">
                <a:solidFill>
                  <a:srgbClr val="000000"/>
                </a:solidFill>
                <a:latin typeface="Arial"/>
              </a:rPr>
              <a:t>TRGOVINI NA MALO</a:t>
            </a:r>
            <a:endParaRPr b="0" lang="en-US" sz="3200" spc="-1" strike="noStrike">
              <a:solidFill>
                <a:srgbClr val="000000"/>
              </a:solidFill>
              <a:latin typeface="Arial"/>
            </a:endParaRPr>
          </a:p>
        </p:txBody>
      </p:sp>
      <p:sp>
        <p:nvSpPr>
          <p:cNvPr id="1477"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lihe robe u trgovini na malo vrednuju se sukladno MRS-u 2 Zalih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 trošku nabave ( svi troškovi nastali svezi s nabavom robe koji 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ključuju u trošak zaliha).Nazivaju se “uskladištivi troškovi” te ka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vijesni troškovi čine nabavnu vrijednost prodane ro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i kupnje zaliha obuhvaćaj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upovnu cijenu ro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voznu carinu i druge pore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e prijevoza, ukrcaja i iskrcaja ro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e transportnog osiguranj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 sve druge troškove koji se mogu pripisati nabavi trgovačke rob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264E6F2-E7B9-4DC2-87C3-21A6BC8A66B5}" type="slidenum">
              <a:t>455</a:t>
            </a:fld>
          </a:p>
        </p:txBody>
      </p:sp>
    </p:spTree>
  </p:cSld>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SPORED ZAVISNIH TROŠKOVA</a:t>
            </a:r>
            <a:br>
              <a:rPr sz="2800"/>
            </a:br>
            <a:r>
              <a:rPr b="0" lang="hr-HR" sz="2200" spc="-1" strike="noStrike">
                <a:solidFill>
                  <a:srgbClr val="000000"/>
                </a:solidFill>
                <a:latin typeface="Arial"/>
              </a:rPr>
              <a:t>OVISNO O VRSTI ROBE I NJEZINIM OBILJEŽJIMA</a:t>
            </a:r>
            <a:endParaRPr b="0" lang="en-US" sz="2200" spc="-1" strike="noStrike">
              <a:solidFill>
                <a:srgbClr val="000000"/>
              </a:solidFill>
              <a:latin typeface="Arial"/>
            </a:endParaRPr>
          </a:p>
        </p:txBody>
      </p:sp>
      <p:sp>
        <p:nvSpPr>
          <p:cNvPr id="1479" name="PlaceHolder 2"/>
          <p:cNvSpPr>
            <a:spLocks noGrp="1"/>
          </p:cNvSpPr>
          <p:nvPr>
            <p:ph/>
          </p:nvPr>
        </p:nvSpPr>
        <p:spPr>
          <a:xfrm>
            <a:off x="539640" y="1125000"/>
            <a:ext cx="8229600" cy="5543640"/>
          </a:xfrm>
          <a:prstGeom prst="rect">
            <a:avLst/>
          </a:prstGeom>
          <a:noFill/>
          <a:ln w="0">
            <a:noFill/>
          </a:ln>
        </p:spPr>
        <p:txBody>
          <a:bodyPr lIns="90000" rIns="90000" tIns="46800" bIns="46800" anchor="t">
            <a:normAutofit fontScale="97000"/>
          </a:bodyPr>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TEŽINSKA ILI PONDERIRANA METODA</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jerena je prvenstveno za troškove prijevoza kada se istim</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ransportnim sredstvom prevozi roba koja ima bitno različitu težinu</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li obujam pa se kao osnovica za raspored zavisnog troška najčešće </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zima težina robe.</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Ukupni zavisni trošak</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ežinski faktor = --------------------------------</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Ukupna težina robe</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STOTNA ILI METODA UDJELA</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risti se ako se radi o robi veće pojedinačne vrijednosti, a sličnih </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anjskih obilježja.</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Vrijednost robe</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djel robe u ukupnoj isporuci =-------------------------------------------  x 100</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Vrijednost ukupne isporuke                                              </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9A2FB8-3117-45B6-9672-6E78E356B368}" type="slidenum">
              <a:t>456</a:t>
            </a:fld>
          </a:p>
        </p:txBody>
      </p:sp>
    </p:spTree>
  </p:cSld>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alkulacije u trgovini na malo</a:t>
            </a:r>
            <a:endParaRPr b="0" lang="en-US" sz="3200" spc="-1" strike="noStrike">
              <a:solidFill>
                <a:srgbClr val="000000"/>
              </a:solidFill>
              <a:latin typeface="Arial"/>
            </a:endParaRPr>
          </a:p>
        </p:txBody>
      </p:sp>
      <p:sp>
        <p:nvSpPr>
          <p:cNvPr id="1481"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zidana kalkulacij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lazi od unaprijed utvrđene stope marž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lkulacija od krajnje prodajne cije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bat u funkciji marž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oizvođač sklapa ugovor s trgovačkim tvrtkama (odobreni rabat poprima obilježje trgovačke marž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B1C1F58-3636-4C21-88C1-D8A4E6FCBCDB}" type="slidenum">
              <a:t>457</a:t>
            </a:fld>
          </a:p>
        </p:txBody>
      </p:sp>
    </p:spTree>
  </p:cSld>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ODAJA ROBE IZ TRGOVINE NA MALO</a:t>
            </a:r>
            <a:endParaRPr b="0" lang="en-US" sz="3200" spc="-1" strike="noStrike">
              <a:solidFill>
                <a:srgbClr val="000000"/>
              </a:solidFill>
              <a:latin typeface="Arial"/>
            </a:endParaRPr>
          </a:p>
        </p:txBody>
      </p:sp>
      <p:sp>
        <p:nvSpPr>
          <p:cNvPr id="1483" name="PlaceHolder 2"/>
          <p:cNvSpPr>
            <a:spLocks noGrp="1"/>
          </p:cNvSpPr>
          <p:nvPr>
            <p:ph/>
          </p:nvPr>
        </p:nvSpPr>
        <p:spPr>
          <a:xfrm>
            <a:off x="468360" y="2420640"/>
            <a:ext cx="8229600" cy="341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odaja za gotovinu, čekove građana i kreditne kar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odaja robe na potrošački zaj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mljeni predujmovi u trgovini na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pusti pri prodaji robe u trgovini na ma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F0DABF-8569-44D7-B117-DAE1AFFA06C9}" type="slidenum">
              <a:t>458</a:t>
            </a:fld>
          </a:p>
        </p:txBody>
      </p:sp>
    </p:spTree>
  </p:cSld>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680"/>
            <a:ext cx="822960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njiženje poslovnog događaja u svezi s prodajom robe na malo u financijskom knjigovodstvu obuhvaća:</a:t>
            </a:r>
            <a:endParaRPr b="0" lang="en-US" sz="3200" spc="-1" strike="noStrike">
              <a:solidFill>
                <a:srgbClr val="000000"/>
              </a:solidFill>
              <a:latin typeface="Arial"/>
            </a:endParaRPr>
          </a:p>
        </p:txBody>
      </p:sp>
      <p:sp>
        <p:nvSpPr>
          <p:cNvPr id="1485" name="PlaceHolder 2"/>
          <p:cNvSpPr>
            <a:spLocks noGrp="1"/>
          </p:cNvSpPr>
          <p:nvPr>
            <p:ph/>
          </p:nvPr>
        </p:nvSpPr>
        <p:spPr>
          <a:xfrm>
            <a:off x="457200" y="2565000"/>
            <a:ext cx="8229600" cy="3560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znavanje prihoda od prodaje robe na malo i evidentiranje obveze PDV-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zduženje prodavaonice za prodanu robu uz istodobno knjiženje troškova nabave prodane rob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5DFF667-3374-4212-816C-68EE8060626B}" type="slidenum">
              <a:t>459</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11280" y="188640"/>
            <a:ext cx="8066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Ostala (značajnija) računovodstvena načela</a:t>
            </a:r>
            <a:endParaRPr b="0" lang="en-US" sz="3500" spc="-1" strike="noStrike">
              <a:solidFill>
                <a:srgbClr val="000000"/>
              </a:solidFill>
              <a:latin typeface="Arial"/>
            </a:endParaRPr>
          </a:p>
        </p:txBody>
      </p:sp>
      <p:sp>
        <p:nvSpPr>
          <p:cNvPr id="256" name="PlaceHolder 2"/>
          <p:cNvSpPr>
            <a:spLocks noGrp="1"/>
          </p:cNvSpPr>
          <p:nvPr>
            <p:ph/>
          </p:nvPr>
        </p:nvSpPr>
        <p:spPr>
          <a:xfrm>
            <a:off x="455760" y="1709640"/>
            <a:ext cx="8229600" cy="400680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izražavanja u novcu</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stabilnosti novčane jedinice</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vrijednosnog i vremenskog utvrđivanja promjena</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različitih razina računovodstvenog izvještavanja</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relativnosti izvještajnih kategorija</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492A6D0E-5ED1-42A7-BB7F-8288C0E07831}" type="slidenum">
              <a:t>46</a:t>
            </a:fld>
          </a:p>
        </p:txBody>
      </p:sp>
    </p:spTree>
  </p:cSld>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endParaRPr b="0" lang="en-US" sz="3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1" lang="hr-HR" sz="2800" spc="-1" strike="noStrike">
                <a:solidFill>
                  <a:srgbClr val="000000"/>
                </a:solidFill>
                <a:latin typeface="Arial"/>
              </a:rPr>
              <a:t> </a:t>
            </a:r>
            <a:r>
              <a:rPr b="1" lang="hr-HR" sz="2600" spc="-1" strike="noStrike">
                <a:solidFill>
                  <a:srgbClr val="000000"/>
                </a:solidFill>
                <a:latin typeface="Arial"/>
              </a:rPr>
              <a:t>%      </a:t>
            </a:r>
            <a:r>
              <a:rPr b="0" lang="hr-HR"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1" lang="hr-HR" sz="2600" spc="-1" strike="noStrike">
                <a:solidFill>
                  <a:srgbClr val="000000"/>
                </a:solidFill>
                <a:latin typeface="Arial"/>
              </a:rPr>
              <a:t>Preračunana stopa = ------------ x 100</a:t>
            </a:r>
            <a:r>
              <a:rPr b="0" lang="hr-HR"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1" lang="hr-HR" sz="2600" spc="-1" strike="noStrike">
                <a:solidFill>
                  <a:srgbClr val="000000"/>
                </a:solidFill>
                <a:latin typeface="Arial"/>
              </a:rPr>
              <a:t>100 + %</a:t>
            </a:r>
            <a:r>
              <a:rPr b="0" lang="hr-HR"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22 / 122 x 100  = 18,0327869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30 / 130 x 100  = 23,0769231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Potražno strana  668</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marže prodavaonice = ------------------------------ x 100</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Dugovna strana   663</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B1981A69-9C6E-40AD-8E22-FE5F48EE0990}" type="slidenum">
              <a:t>460</a:t>
            </a:fld>
          </a:p>
        </p:txBody>
      </p:sp>
    </p:spTree>
  </p:cSld>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MJENA ZAKONA O ZAŠTITI  POTROŠAČA</a:t>
            </a:r>
            <a:endParaRPr b="0" lang="en-US" sz="2800" spc="-1" strike="noStrike">
              <a:solidFill>
                <a:srgbClr val="000000"/>
              </a:solidFill>
              <a:latin typeface="Arial"/>
            </a:endParaRPr>
          </a:p>
        </p:txBody>
      </p:sp>
      <p:sp>
        <p:nvSpPr>
          <p:cNvPr id="1488"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ukladno Pravilniku  o obliku i načinu vođenja popisa robe u trgovini na malo i Zakona o zaštiti potrošača trgovac mora JASNO, VIDLJIVO I ČITLJIVO ISTAKNUTI MALOPRODAJNU CIJENU U KUNAMA</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z oznaku cijene mora se označiti broj i godina primke zaduženja, odnosno Zapisnika o promjeni cijena koji su evidentirani u Knjizi popisa</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Bilježenje poslovnih događaja u trgovini na malo sa svojim posebnostima - od kalkulacija kao isprava za knjiženje zaduženja prodavaonica i izračuna jedinične cijene robe, popusta, prodaje na rate, uz primjenu već spomenutih Zakona i Pravilnika osigurava sve podatke za njezino knjigovodstveno praćenje, kao i podatke koji su potrebni za primjenu Zakona o zaštiti potrošač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B3837FC-6E4D-433C-970F-87D1A7C6CBDB}" type="slidenum">
              <a:t>461</a:t>
            </a:fld>
          </a:p>
        </p:txBody>
      </p:sp>
    </p:spTree>
  </p:cSld>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imljena je faktura dobavljača za nabavljenu robu 27.000,00 kn + PDV. Faktura za prijevoz iznosi 3.000,00 kn + PDV. Faktura za čuvanje robe iznosi 5.000,00 kn + PDV. Roba je uskladištena. Zalihe se vode po trošku nabave. Plaćeno je dobavljačima doznakom sa žiro-računa (saldo 80.000,00 kn). Zatvoren je obračun nabave ro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50% nabavljene robe naknadno je dano na čuvanje u tuđem skladišt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20% nabavljene robe poslano je na doradu. Usluga dorade iznosi 2.000,00 kn + PDV. Dorađena roba vraćena je u naše skladiš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6F650E-9150-4F36-84E2-6EBFCBA33943}" type="slidenum">
              <a:t>462</a:t>
            </a:fld>
          </a:p>
        </p:txBody>
      </p:sp>
    </p:spTree>
  </p:cSld>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468360" y="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92" name=""/>
          <p:cNvGraphicFramePr/>
          <p:nvPr/>
        </p:nvGraphicFramePr>
        <p:xfrm>
          <a:off x="468360" y="836640"/>
          <a:ext cx="8229600" cy="511344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a je faktura dobavljača za nabavljenu rob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2.94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7.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a faktura za prijevoz rob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66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a faktura za čuvanje rob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1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1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rob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7.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dmirene obveze prema dobavljačim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2.7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5BF7B751-BE52-45B4-A289-5EF8AA6AEA8B}" type="slidenum">
              <a:t>463</a:t>
            </a:fld>
          </a:p>
        </p:txBody>
      </p:sp>
    </p:spTree>
  </p:cSld>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94" name=""/>
          <p:cNvGraphicFramePr/>
          <p:nvPr/>
        </p:nvGraphicFramePr>
        <p:xfrm>
          <a:off x="468360" y="2060640"/>
          <a:ext cx="8229600" cy="285732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oba dana na čuvanje tuđem skladišt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7.5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oba dana u dorad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 račun za uslugu dorad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44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6</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orađena roba vraćena je u skladiš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6</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FF6EF473-72C4-4C6A-87B2-0B82E0669C96}" type="slidenum">
              <a:t>464</a:t>
            </a:fld>
          </a:p>
        </p:txBody>
      </p:sp>
    </p:spTree>
  </p:cSld>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odaci kao u prvom zadatk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Zalihe se vode po prodajnoj cijeni. Razlika u cijeni iznosi 10% troška nabave, PDV 2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Nabavljena je roba za prodavaonicu izravno od dobavljača po fakturi u iznosu 50.000,00 kn. Faktura za prijevoz robe iznosi 4.000,00 kn. Roba se uskladištava po prodajnoj cijeni. Marža iznosi 10% troška nabave, PDV 2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E36CA6-B385-4DBE-B5D6-72A6BE8326E0}" type="slidenum">
              <a:t>465</a:t>
            </a:fld>
          </a:p>
        </p:txBody>
      </p:sp>
    </p:spTree>
  </p:cSld>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7" name=""/>
          <p:cNvGraphicFramePr/>
          <p:nvPr/>
        </p:nvGraphicFramePr>
        <p:xfrm>
          <a:off x="468360" y="1341360"/>
          <a:ext cx="8229600" cy="401472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26936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robe po prodajnoj cijeni (podaci iz prethodnog zadatk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6.97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47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9</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7.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26936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robe po prodajnoj cijen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2.468,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4.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4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3.068,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14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F98BF77-4909-4703-ABE3-A289AE9B12A6}" type="slidenum">
              <a:t>466</a:t>
            </a:fld>
          </a:p>
        </p:txBody>
      </p:sp>
    </p:spTree>
  </p:cSld>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1279080" y="1600200"/>
            <a:ext cx="7108920" cy="16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800" spc="-1" strike="noStrike">
                <a:solidFill>
                  <a:srgbClr val="000000"/>
                </a:solidFill>
                <a:latin typeface="Arial"/>
              </a:rPr>
              <a:t>Troškovi</a:t>
            </a:r>
            <a:endParaRPr b="0" lang="en-US" sz="10800" spc="-1" strike="noStrike">
              <a:solidFill>
                <a:srgbClr val="000000"/>
              </a:solidFill>
              <a:latin typeface="Arial"/>
            </a:endParaRPr>
          </a:p>
        </p:txBody>
      </p:sp>
      <p:sp>
        <p:nvSpPr>
          <p:cNvPr id="3" name="PlaceHolder 2"/>
          <p:cNvSpPr>
            <a:spLocks noGrp="1"/>
          </p:cNvSpPr>
          <p:nvPr>
            <p:ph type="sldNum" idx="3"/>
          </p:nvPr>
        </p:nvSpPr>
        <p:spPr/>
        <p:txBody>
          <a:bodyPr/>
          <a:p>
            <a:fld id="{D951D0E0-B33A-4FF5-8169-CA9AC9A9CD4C}" type="slidenum">
              <a:t>467</a:t>
            </a:fld>
          </a:p>
        </p:txBody>
      </p:sp>
    </p:spTree>
  </p:cSld>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imili smo fakturu za komunalne usluge u iznosu 23.000,00 kn + PDV. Iznos od 13.000,00 kn podmirujemo doznakom sa žiro-računa, a za preostali iznos uručili smo če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Stanje u blagajni iznosi 3.000,00 kn. Plaćen je uredski materijal u iznosu 2.100,00 kn te dimnjačarske usluge u iznosu 500,00 k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911514-A4EC-480D-9032-6ECBE4BAFE87}" type="slidenum">
              <a:t>468</a:t>
            </a:fld>
          </a:p>
        </p:txBody>
      </p:sp>
    </p:spTree>
  </p:cSld>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2" name=""/>
          <p:cNvGraphicFramePr/>
          <p:nvPr/>
        </p:nvGraphicFramePr>
        <p:xfrm>
          <a:off x="1258920" y="1484280"/>
          <a:ext cx="5288040" cy="4545000"/>
        </p:xfrm>
        <a:graphic>
          <a:graphicData uri="http://schemas.openxmlformats.org/drawingml/2006/table">
            <a:tbl>
              <a:tblPr/>
              <a:tblGrid>
                <a:gridCol w="512640"/>
                <a:gridCol w="2024280"/>
                <a:gridCol w="996840"/>
                <a:gridCol w="873000"/>
                <a:gridCol w="88128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332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a faktura za komunalne uslug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3.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6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7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321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dmirena faktura za komunalne uslug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06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tanje u blagajn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9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laćena je faktura za uredski materij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44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laćena je faktura za dimnjačarske uslug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7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063D6A2-F83D-4137-8188-932860DC2896}" type="slidenum">
              <a:t>469</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4000" y="189000"/>
            <a:ext cx="8080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Međunarodni računovodstveni standardi</a:t>
            </a:r>
            <a:endParaRPr b="0" lang="en-US" sz="3500" spc="-1" strike="noStrike">
              <a:solidFill>
                <a:srgbClr val="000000"/>
              </a:solidFill>
              <a:latin typeface="Arial"/>
            </a:endParaRPr>
          </a:p>
        </p:txBody>
      </p:sp>
      <p:sp>
        <p:nvSpPr>
          <p:cNvPr id="258" name="PlaceHolder 2"/>
          <p:cNvSpPr>
            <a:spLocks noGrp="1"/>
          </p:cNvSpPr>
          <p:nvPr>
            <p:ph/>
          </p:nvPr>
        </p:nvSpPr>
        <p:spPr>
          <a:xfrm>
            <a:off x="684360" y="1341000"/>
            <a:ext cx="7991280" cy="4751640"/>
          </a:xfrm>
          <a:prstGeom prst="rect">
            <a:avLst/>
          </a:prstGeom>
          <a:noFill/>
          <a:ln w="0">
            <a:noFill/>
          </a:ln>
        </p:spPr>
        <p:txBody>
          <a:bodyPr lIns="90000" rIns="90000" tIns="46800" bIns="46800" anchor="t">
            <a:normAutofit fontScale="96000"/>
          </a:bodyPr>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 </a:t>
            </a:r>
            <a:r>
              <a:rPr b="0" lang="hr-HR" sz="2700" spc="-1" strike="noStrike">
                <a:solidFill>
                  <a:srgbClr val="000000"/>
                </a:solidFill>
                <a:latin typeface="Arial"/>
              </a:rPr>
              <a:t>	</a:t>
            </a:r>
            <a:r>
              <a:rPr b="0" lang="hr-HR" sz="2700" spc="-1" strike="noStrike">
                <a:solidFill>
                  <a:srgbClr val="000000"/>
                </a:solidFill>
                <a:latin typeface="Arial"/>
              </a:rPr>
              <a:t>Prezentiranje financijskih izvještaja</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 </a:t>
            </a:r>
            <a:r>
              <a:rPr b="0" lang="hr-HR" sz="2700" spc="-1" strike="noStrike">
                <a:solidFill>
                  <a:srgbClr val="000000"/>
                </a:solidFill>
                <a:latin typeface="Arial"/>
              </a:rPr>
              <a:t>	</a:t>
            </a:r>
            <a:r>
              <a:rPr b="0" lang="hr-HR" sz="2700" spc="-1" strike="noStrike">
                <a:solidFill>
                  <a:srgbClr val="000000"/>
                </a:solidFill>
                <a:latin typeface="Arial"/>
              </a:rPr>
              <a:t>Zalihe</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7 </a:t>
            </a:r>
            <a:r>
              <a:rPr b="0" lang="hr-HR" sz="2700" spc="-1" strike="noStrike">
                <a:solidFill>
                  <a:srgbClr val="000000"/>
                </a:solidFill>
                <a:latin typeface="Arial"/>
              </a:rPr>
              <a:t>	</a:t>
            </a:r>
            <a:r>
              <a:rPr b="0" lang="hr-HR" sz="2700" spc="-1" strike="noStrike">
                <a:solidFill>
                  <a:srgbClr val="000000"/>
                </a:solidFill>
                <a:latin typeface="Arial"/>
              </a:rPr>
              <a:t>Izvještaji o novčanom toku</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8 </a:t>
            </a:r>
            <a:r>
              <a:rPr b="0" lang="hr-HR" sz="2700" spc="-1" strike="noStrike">
                <a:solidFill>
                  <a:srgbClr val="000000"/>
                </a:solidFill>
                <a:latin typeface="Arial"/>
              </a:rPr>
              <a:t>	</a:t>
            </a:r>
            <a:r>
              <a:rPr b="0" lang="hr-HR" sz="2700" spc="-1" strike="noStrike">
                <a:solidFill>
                  <a:srgbClr val="000000"/>
                </a:solidFill>
                <a:latin typeface="Arial"/>
              </a:rPr>
              <a:t>Neto dobit ili gubitak razdoblja, temeljne</a:t>
            </a:r>
            <a:endParaRPr b="0" lang="en-US" sz="2700" spc="-1" strike="noStrike">
              <a:solidFill>
                <a:srgbClr val="000000"/>
              </a:solidFill>
              <a:latin typeface="Arial"/>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pogreške i promjene računovodstvenih</a:t>
            </a:r>
            <a:endParaRPr b="0" lang="en-US" sz="2700" spc="-1" strike="noStrike">
              <a:solidFill>
                <a:srgbClr val="000000"/>
              </a:solidFill>
              <a:latin typeface="Arial"/>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politika</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0 </a:t>
            </a:r>
            <a:r>
              <a:rPr b="0" lang="hr-HR" sz="2700" spc="-1" strike="noStrike">
                <a:solidFill>
                  <a:srgbClr val="000000"/>
                </a:solidFill>
                <a:latin typeface="Arial"/>
              </a:rPr>
              <a:t>	</a:t>
            </a:r>
            <a:r>
              <a:rPr b="0" lang="hr-HR" sz="2700" spc="-1" strike="noStrike">
                <a:solidFill>
                  <a:srgbClr val="000000"/>
                </a:solidFill>
                <a:latin typeface="Arial"/>
              </a:rPr>
              <a:t>Događaji nakon datuma bilance</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1 </a:t>
            </a:r>
            <a:r>
              <a:rPr b="0" lang="hr-HR" sz="2700" spc="-1" strike="noStrike">
                <a:solidFill>
                  <a:srgbClr val="000000"/>
                </a:solidFill>
                <a:latin typeface="Arial"/>
              </a:rPr>
              <a:t>	</a:t>
            </a:r>
            <a:r>
              <a:rPr b="0" lang="hr-HR" sz="2700" spc="-1" strike="noStrike">
                <a:solidFill>
                  <a:srgbClr val="000000"/>
                </a:solidFill>
                <a:latin typeface="Arial"/>
              </a:rPr>
              <a:t>Ugovori o izgradnji</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2 </a:t>
            </a:r>
            <a:r>
              <a:rPr b="0" lang="hr-HR" sz="2700" spc="-1" strike="noStrike">
                <a:solidFill>
                  <a:srgbClr val="000000"/>
                </a:solidFill>
                <a:latin typeface="Arial"/>
              </a:rPr>
              <a:t>	</a:t>
            </a:r>
            <a:r>
              <a:rPr b="0" lang="hr-HR" sz="2700" spc="-1" strike="noStrike">
                <a:solidFill>
                  <a:srgbClr val="000000"/>
                </a:solidFill>
                <a:latin typeface="Arial"/>
              </a:rPr>
              <a:t>Porez na dobit</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4 </a:t>
            </a:r>
            <a:r>
              <a:rPr b="0" lang="hr-HR" sz="2700" spc="-1" strike="noStrike">
                <a:solidFill>
                  <a:srgbClr val="000000"/>
                </a:solidFill>
                <a:latin typeface="Arial"/>
              </a:rPr>
              <a:t>	</a:t>
            </a:r>
            <a:r>
              <a:rPr b="0" lang="hr-HR" sz="2700" spc="-1" strike="noStrike">
                <a:solidFill>
                  <a:srgbClr val="000000"/>
                </a:solidFill>
                <a:latin typeface="Arial"/>
              </a:rPr>
              <a:t>Izvještavanje o dijelovima poduzeća</a:t>
            </a:r>
            <a:endParaRPr b="0" lang="en-US" sz="2700" spc="-1" strike="noStrike">
              <a:solidFill>
                <a:srgbClr val="000000"/>
              </a:solidFill>
              <a:latin typeface="Arial"/>
            </a:endParaRPr>
          </a:p>
          <a:p>
            <a:pPr marL="329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44CDCF2A-80AA-4C30-AF4E-A816B1300440}" type="slidenum">
              <a:t>47</a:t>
            </a:fld>
          </a:p>
        </p:txBody>
      </p:sp>
    </p:spTree>
  </p:cSld>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468360" y="1628640"/>
            <a:ext cx="7199280" cy="478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Unaprijed smo platili doznakom sa žiro-računa pretplatu na časopis u iznosu 3.600,00 kn + PDV za cijelu godinu. Obračunati su troškovi pretplate za prvi mjes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Kvartalno su obračunati troškovi  usluga  propagande u ukupnom iznosu od 24.000,00 kn. Na kraju godine primljen je račun na 23.000,00 kn + PD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imljen je račun za troškove komunalnih usluga za cijelu godinu u iznosu 12.000,00 kn + PDV. Provesti obračun za prvi mjesec</a:t>
            </a:r>
            <a:endParaRPr b="0" lang="en-US" sz="2800" spc="-1" strike="noStrike">
              <a:solidFill>
                <a:srgbClr val="000000"/>
              </a:solidFill>
              <a:latin typeface="Arial"/>
            </a:endParaRPr>
          </a:p>
        </p:txBody>
      </p:sp>
      <p:sp>
        <p:nvSpPr>
          <p:cNvPr id="15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F31CB389-3315-45F3-B55C-71F5A3128484}" type="slidenum">
              <a:t>470</a:t>
            </a:fld>
          </a:p>
        </p:txBody>
      </p:sp>
    </p:spTree>
  </p:cSld>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6" name=""/>
          <p:cNvGraphicFramePr/>
          <p:nvPr/>
        </p:nvGraphicFramePr>
        <p:xfrm>
          <a:off x="611280" y="1557360"/>
          <a:ext cx="7488000" cy="4730760"/>
        </p:xfrm>
        <a:graphic>
          <a:graphicData uri="http://schemas.openxmlformats.org/drawingml/2006/table">
            <a:tbl>
              <a:tblPr/>
              <a:tblGrid>
                <a:gridCol w="564840"/>
                <a:gridCol w="3558960"/>
                <a:gridCol w="1698840"/>
                <a:gridCol w="711000"/>
                <a:gridCol w="95436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naprijed plaćena pretplata za časopis za godinu da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392,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6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92,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07</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troškova pretplate za 1. mjesec</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6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07</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i su troškovi propagande za 1. kvar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i su troškovi propagande za 2. kvar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i su troškovi propagande za 3. kvar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i su troškovi propagande za 4. kvar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E3DC65D-36E3-45B9-ACF3-A1F5F7AA89E8}" type="slidenum">
              <a:t>471</a:t>
            </a:fld>
          </a:p>
        </p:txBody>
      </p:sp>
    </p:spTree>
  </p:cSld>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8" name=""/>
          <p:cNvGraphicFramePr/>
          <p:nvPr/>
        </p:nvGraphicFramePr>
        <p:xfrm>
          <a:off x="1279440" y="1600200"/>
          <a:ext cx="6532560" cy="3951360"/>
        </p:xfrm>
        <a:graphic>
          <a:graphicData uri="http://schemas.openxmlformats.org/drawingml/2006/table">
            <a:tbl>
              <a:tblPr/>
              <a:tblGrid>
                <a:gridCol w="615960"/>
                <a:gridCol w="2430360"/>
                <a:gridCol w="1198800"/>
                <a:gridCol w="1047600"/>
                <a:gridCol w="1239840"/>
              </a:tblGrid>
              <a:tr h="39996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4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je račun za usluge propagan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06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3.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njiženje razlik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za komunalne usluge za cijelu godi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64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6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troškova za 1. mje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BC60D6C-6A59-434A-996E-B4F8FAB9849B}" type="slidenum">
              <a:t>472</a:t>
            </a:fld>
          </a:p>
        </p:txBody>
      </p:sp>
    </p:spTree>
  </p:cSld>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PlaceHolder 1"/>
          <p:cNvSpPr>
            <a:spLocks noGrp="1"/>
          </p:cNvSpPr>
          <p:nvPr>
            <p:ph/>
          </p:nvPr>
        </p:nvSpPr>
        <p:spPr>
          <a:xfrm>
            <a:off x="539640" y="1600200"/>
            <a:ext cx="756144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Nabavili smo sitan inventar u iznosu 9.000,00 kn + PDV.</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a) Sitan inventar je predan u uporabu u iznosu 6.000,00 kn.</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eostale zalihe izgubile su na vrijednosti 1.300,00 kn.</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b) Jednokratno je otpisan i rashodovan sitan inventar.</a:t>
            </a:r>
            <a:endParaRPr b="0" lang="en-US" sz="2800" spc="-1" strike="noStrike">
              <a:solidFill>
                <a:srgbClr val="000000"/>
              </a:solidFill>
              <a:latin typeface="Arial"/>
            </a:endParaRPr>
          </a:p>
        </p:txBody>
      </p:sp>
      <p:sp>
        <p:nvSpPr>
          <p:cNvPr id="15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A87B6CED-54BB-4A19-B575-4454CC6607F2}" type="slidenum">
              <a:t>473</a:t>
            </a:fld>
          </a:p>
        </p:txBody>
      </p:sp>
    </p:spTree>
  </p:cSld>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2" name=""/>
          <p:cNvGraphicFramePr/>
          <p:nvPr/>
        </p:nvGraphicFramePr>
        <p:xfrm>
          <a:off x="971640" y="1484280"/>
          <a:ext cx="7037280" cy="4673520"/>
        </p:xfrm>
        <a:graphic>
          <a:graphicData uri="http://schemas.openxmlformats.org/drawingml/2006/table">
            <a:tbl>
              <a:tblPr/>
              <a:tblGrid>
                <a:gridCol w="666360"/>
                <a:gridCol w="2633760"/>
                <a:gridCol w="1258920"/>
                <a:gridCol w="1135080"/>
                <a:gridCol w="1343160"/>
              </a:tblGrid>
              <a:tr h="4892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abavljen sitan invent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98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edano u uporabu sitnog inventa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lihe su izgubile na vrijednos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8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Jednokratan otpis sitnog inventa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4A12864-EF0E-4E40-B625-690EBB0C55DA}" type="slidenum">
              <a:t>474</a:t>
            </a:fld>
          </a:p>
        </p:txBody>
      </p:sp>
    </p:spTree>
  </p:cSld>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p:nvPr>
        </p:nvSpPr>
        <p:spPr>
          <a:xfrm>
            <a:off x="1115640" y="1268280"/>
            <a:ext cx="6985080" cy="499752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Stanje u blagajni iznosi 3.400,00 kn.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Isplaćen je putni predujam zaposleniku u iznosu 2.000,00 kn.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o povratku sa službenog puta, djelatnik podnosi putni nalog na obračun, prema kojem dnevnice iznose 340,00 kn i prijevozni troškovi 1.200,00 kn.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Razlika je vraćena u blagajnu.</a:t>
            </a:r>
            <a:endParaRPr b="0" lang="en-US" sz="2800" spc="-1" strike="noStrike">
              <a:solidFill>
                <a:srgbClr val="000000"/>
              </a:solidFill>
              <a:latin typeface="Arial"/>
            </a:endParaRPr>
          </a:p>
        </p:txBody>
      </p:sp>
      <p:sp>
        <p:nvSpPr>
          <p:cNvPr id="15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C6B582C6-3A87-4129-AC05-5F3EAF238B25}" type="slidenum">
              <a:t>475</a:t>
            </a:fld>
          </a:p>
        </p:txBody>
      </p:sp>
    </p:spTree>
  </p:cSld>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6" name=""/>
          <p:cNvGraphicFramePr/>
          <p:nvPr/>
        </p:nvGraphicFramePr>
        <p:xfrm>
          <a:off x="457200" y="1600200"/>
          <a:ext cx="8229240" cy="3938760"/>
        </p:xfrm>
        <a:graphic>
          <a:graphicData uri="http://schemas.openxmlformats.org/drawingml/2006/table">
            <a:tbl>
              <a:tblPr/>
              <a:tblGrid>
                <a:gridCol w="802800"/>
                <a:gridCol w="3167640"/>
                <a:gridCol w="1513080"/>
                <a:gridCol w="1366920"/>
                <a:gridCol w="1378800"/>
              </a:tblGrid>
              <a:tr h="4921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tanje u blagajn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4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laćen je putni predujam zaposlenik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7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putnog nalog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4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6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6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rat razlike po obračunu putnog nalog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24F34B7-AE0E-4D38-AA73-7D7BA903B545}" type="slidenum">
              <a:t>476</a:t>
            </a:fld>
          </a:p>
        </p:txBody>
      </p:sp>
    </p:spTree>
  </p:cSld>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ovodimo dugoročno rezerviranje za troškove </a:t>
            </a:r>
            <a:r>
              <a:rPr b="0" lang="hr-HR" sz="2800" spc="-1" strike="noStrike">
                <a:solidFill>
                  <a:srgbClr val="000000"/>
                </a:solidFill>
                <a:latin typeface="Times New Roman"/>
              </a:rPr>
              <a:t>otpremnina </a:t>
            </a:r>
            <a:r>
              <a:rPr b="0" lang="hr-HR" sz="2800" spc="-1" strike="noStrike">
                <a:solidFill>
                  <a:srgbClr val="000000"/>
                </a:solidFill>
                <a:latin typeface="Times New Roman"/>
                <a:ea typeface="Times New Roman"/>
              </a:rPr>
              <a:t>u iznosu 600.000,00 kn na rok od tri godin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Stvarni troškovi iznose</a:t>
            </a:r>
            <a:r>
              <a:rPr b="0" lang="hr-HR" sz="2800" spc="-1" strike="noStrike">
                <a:solidFill>
                  <a:srgbClr val="000000"/>
                </a:solidFill>
                <a:latin typeface="Times New Roman"/>
                <a:ea typeface="Times New Roman"/>
              </a:rPr>
              <a:t> 510.000,00 k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Otpremnine su isplaće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Ukinuto je rezerviranje.</a:t>
            </a:r>
            <a:endParaRPr b="0" lang="en-US" sz="2800" spc="-1" strike="noStrike">
              <a:solidFill>
                <a:srgbClr val="000000"/>
              </a:solidFill>
              <a:latin typeface="Arial"/>
            </a:endParaRPr>
          </a:p>
        </p:txBody>
      </p:sp>
      <p:sp>
        <p:nvSpPr>
          <p:cNvPr id="15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646515FE-AA6F-4667-8022-93049E284F61}" type="slidenum">
              <a:t>477</a:t>
            </a:fld>
          </a:p>
        </p:txBody>
      </p:sp>
    </p:spTree>
  </p:cSld>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0" name=""/>
          <p:cNvGraphicFramePr/>
          <p:nvPr/>
        </p:nvGraphicFramePr>
        <p:xfrm>
          <a:off x="971640" y="2205000"/>
          <a:ext cx="5492520" cy="3657600"/>
        </p:xfrm>
        <a:graphic>
          <a:graphicData uri="http://schemas.openxmlformats.org/drawingml/2006/table">
            <a:tbl>
              <a:tblPr/>
              <a:tblGrid>
                <a:gridCol w="336600"/>
                <a:gridCol w="2209680"/>
                <a:gridCol w="1098360"/>
                <a:gridCol w="816120"/>
                <a:gridCol w="1031760"/>
              </a:tblGrid>
              <a:tr h="517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0560">
                <a:tc rowSpan="3">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ezerviranje za troškov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tpremnina - 1. godi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4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2. godi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3. godi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3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tpremnine su isplaćen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1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45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idanje rezerviran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0E26F8E-00AF-452A-AFE0-1F15BA977167}" type="slidenum">
              <a:t>478</a:t>
            </a:fld>
          </a:p>
        </p:txBody>
      </p:sp>
    </p:spTree>
  </p:cSld>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755640" y="1628640"/>
            <a:ext cx="7037280" cy="276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Garamond"/>
              </a:rPr>
              <a:t>R</a:t>
            </a:r>
            <a:r>
              <a:rPr b="1" lang="hr-HR" sz="6600" spc="-1" strike="noStrike">
                <a:solidFill>
                  <a:srgbClr val="000000"/>
                </a:solidFill>
                <a:latin typeface="Garamond"/>
              </a:rPr>
              <a:t>ačunovodstveno</a:t>
            </a:r>
            <a:br>
              <a:rPr sz="6600"/>
            </a:br>
            <a:r>
              <a:rPr b="1" lang="hr-HR" sz="6600" spc="-1" strike="noStrike">
                <a:solidFill>
                  <a:srgbClr val="000000"/>
                </a:solidFill>
                <a:latin typeface="Garamond"/>
              </a:rPr>
              <a:t>praćenje</a:t>
            </a:r>
            <a:br>
              <a:rPr sz="6600"/>
            </a:br>
            <a:r>
              <a:rPr b="1" lang="hr-HR" sz="6600" spc="-1" strike="noStrike">
                <a:solidFill>
                  <a:srgbClr val="000000"/>
                </a:solidFill>
                <a:latin typeface="Garamond"/>
              </a:rPr>
              <a:t>r</a:t>
            </a:r>
            <a:r>
              <a:rPr b="1" lang="en-GB" sz="6600" spc="-1" strike="noStrike">
                <a:solidFill>
                  <a:srgbClr val="000000"/>
                </a:solidFill>
                <a:latin typeface="Garamond"/>
              </a:rPr>
              <a:t>ashod</a:t>
            </a:r>
            <a:r>
              <a:rPr b="1" lang="hr-HR" sz="6600" spc="-1" strike="noStrike">
                <a:solidFill>
                  <a:srgbClr val="000000"/>
                </a:solidFill>
                <a:latin typeface="Garamond"/>
              </a:rPr>
              <a:t>a</a:t>
            </a:r>
            <a:endParaRPr b="0" lang="en-US" sz="6600" spc="-1" strike="noStrike">
              <a:solidFill>
                <a:srgbClr val="000000"/>
              </a:solidFill>
              <a:latin typeface="Arial"/>
            </a:endParaRPr>
          </a:p>
        </p:txBody>
      </p:sp>
      <p:sp>
        <p:nvSpPr>
          <p:cNvPr id="3" name="PlaceHolder 2"/>
          <p:cNvSpPr>
            <a:spLocks noGrp="1"/>
          </p:cNvSpPr>
          <p:nvPr>
            <p:ph type="sldNum" idx="3"/>
          </p:nvPr>
        </p:nvSpPr>
        <p:spPr/>
        <p:txBody>
          <a:bodyPr/>
          <a:p>
            <a:fld id="{CE4C9231-44EA-44C8-BD86-A42F57333758}" type="slidenum">
              <a:t>479</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68360" y="333000"/>
            <a:ext cx="7702560" cy="5832360"/>
          </a:xfrm>
          <a:prstGeom prst="rect">
            <a:avLst/>
          </a:prstGeom>
          <a:noFill/>
          <a:ln w="0">
            <a:noFill/>
          </a:ln>
        </p:spPr>
        <p:txBody>
          <a:bodyPr lIns="90000" rIns="90000" tIns="46800" bIns="46800" anchor="t">
            <a:normAutofit fontScale="97000"/>
          </a:bodyPr>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5 </a:t>
            </a:r>
            <a:r>
              <a:rPr b="0" lang="hr-HR" sz="2700" spc="-1" strike="noStrike">
                <a:solidFill>
                  <a:srgbClr val="000000"/>
                </a:solidFill>
                <a:latin typeface="Arial"/>
              </a:rPr>
              <a:t>	</a:t>
            </a:r>
            <a:r>
              <a:rPr b="0" lang="hr-HR" sz="2700" spc="-1" strike="noStrike">
                <a:solidFill>
                  <a:srgbClr val="000000"/>
                </a:solidFill>
                <a:latin typeface="Arial"/>
              </a:rPr>
              <a:t>Informacije koje pokazuju učinke</a:t>
            </a:r>
            <a:endParaRPr b="0" lang="en-US" sz="2700" spc="-1" strike="noStrike">
              <a:solidFill>
                <a:srgbClr val="000000"/>
              </a:solidFill>
              <a:latin typeface="Arial"/>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mijenjanja cijena</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6 </a:t>
            </a:r>
            <a:r>
              <a:rPr b="0" lang="hr-HR" sz="2700" spc="-1" strike="noStrike">
                <a:solidFill>
                  <a:srgbClr val="000000"/>
                </a:solidFill>
                <a:latin typeface="Arial"/>
              </a:rPr>
              <a:t>	</a:t>
            </a:r>
            <a:r>
              <a:rPr b="0" lang="hr-HR" sz="2700" spc="-1" strike="noStrike">
                <a:solidFill>
                  <a:srgbClr val="000000"/>
                </a:solidFill>
                <a:latin typeface="Arial"/>
              </a:rPr>
              <a:t>Nekretnine, postrojenja i oprema</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7 </a:t>
            </a:r>
            <a:r>
              <a:rPr b="0" lang="hr-HR" sz="2700" spc="-1" strike="noStrike">
                <a:solidFill>
                  <a:srgbClr val="000000"/>
                </a:solidFill>
                <a:latin typeface="Arial"/>
              </a:rPr>
              <a:t>	</a:t>
            </a:r>
            <a:r>
              <a:rPr b="0" lang="hr-HR" sz="2700" spc="-1" strike="noStrike">
                <a:solidFill>
                  <a:srgbClr val="000000"/>
                </a:solidFill>
                <a:latin typeface="Arial"/>
              </a:rPr>
              <a:t>Najmovi</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8</a:t>
            </a:r>
            <a:r>
              <a:rPr b="0" lang="hr-HR" sz="2700" spc="-1" strike="noStrike">
                <a:solidFill>
                  <a:srgbClr val="000000"/>
                </a:solidFill>
                <a:latin typeface="Arial"/>
              </a:rPr>
              <a:t>	</a:t>
            </a:r>
            <a:r>
              <a:rPr b="0" lang="hr-HR" sz="2700" spc="-1" strike="noStrike">
                <a:solidFill>
                  <a:srgbClr val="000000"/>
                </a:solidFill>
                <a:latin typeface="Arial"/>
              </a:rPr>
              <a:t>Prihodi</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9 </a:t>
            </a:r>
            <a:r>
              <a:rPr b="0" lang="hr-HR" sz="2700" spc="-1" strike="noStrike">
                <a:solidFill>
                  <a:srgbClr val="000000"/>
                </a:solidFill>
                <a:latin typeface="Arial"/>
              </a:rPr>
              <a:t>	</a:t>
            </a:r>
            <a:r>
              <a:rPr b="0" lang="hr-HR" sz="2700" spc="-1" strike="noStrike">
                <a:solidFill>
                  <a:srgbClr val="000000"/>
                </a:solidFill>
                <a:latin typeface="Arial"/>
              </a:rPr>
              <a:t>Primanja zaposlenih</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0 </a:t>
            </a:r>
            <a:r>
              <a:rPr b="0" lang="hr-HR" sz="2700" spc="-1" strike="noStrike">
                <a:solidFill>
                  <a:srgbClr val="000000"/>
                </a:solidFill>
                <a:latin typeface="Arial"/>
              </a:rPr>
              <a:t>	</a:t>
            </a:r>
            <a:r>
              <a:rPr b="0" lang="hr-HR" sz="2700" spc="-1" strike="noStrike">
                <a:solidFill>
                  <a:srgbClr val="000000"/>
                </a:solidFill>
                <a:latin typeface="Arial"/>
              </a:rPr>
              <a:t>Računovodstvo državnih potpora i</a:t>
            </a:r>
            <a:endParaRPr b="0" lang="en-US" sz="2700" spc="-1" strike="noStrike">
              <a:solidFill>
                <a:srgbClr val="000000"/>
              </a:solidFill>
              <a:latin typeface="Arial"/>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državne pomoći</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1 </a:t>
            </a:r>
            <a:r>
              <a:rPr b="0" lang="hr-HR" sz="2700" spc="-1" strike="noStrike">
                <a:solidFill>
                  <a:srgbClr val="000000"/>
                </a:solidFill>
                <a:latin typeface="Arial"/>
              </a:rPr>
              <a:t>	</a:t>
            </a:r>
            <a:r>
              <a:rPr b="0" lang="hr-HR" sz="2700" spc="-1" strike="noStrike">
                <a:solidFill>
                  <a:srgbClr val="000000"/>
                </a:solidFill>
                <a:latin typeface="Arial"/>
              </a:rPr>
              <a:t>Učinci promjena tečajeva stranih</a:t>
            </a:r>
            <a:endParaRPr b="0" lang="en-US" sz="2700" spc="-1" strike="noStrike">
              <a:solidFill>
                <a:srgbClr val="000000"/>
              </a:solidFill>
              <a:latin typeface="Arial"/>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valuta</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2 </a:t>
            </a:r>
            <a:r>
              <a:rPr b="0" lang="hr-HR" sz="2700" spc="-1" strike="noStrike">
                <a:solidFill>
                  <a:srgbClr val="000000"/>
                </a:solidFill>
                <a:latin typeface="Arial"/>
              </a:rPr>
              <a:t>	</a:t>
            </a:r>
            <a:r>
              <a:rPr b="0" lang="hr-HR" sz="2700" spc="-1" strike="noStrike">
                <a:solidFill>
                  <a:srgbClr val="000000"/>
                </a:solidFill>
                <a:latin typeface="Arial"/>
              </a:rPr>
              <a:t>Poslovna spajanja</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3 </a:t>
            </a:r>
            <a:r>
              <a:rPr b="0" lang="hr-HR" sz="2700" spc="-1" strike="noStrike">
                <a:solidFill>
                  <a:srgbClr val="000000"/>
                </a:solidFill>
                <a:latin typeface="Arial"/>
              </a:rPr>
              <a:t>	</a:t>
            </a:r>
            <a:r>
              <a:rPr b="0" lang="hr-HR" sz="2700" spc="-1" strike="noStrike">
                <a:solidFill>
                  <a:srgbClr val="000000"/>
                </a:solidFill>
                <a:latin typeface="Arial"/>
              </a:rPr>
              <a:t>Troškovi posudbe</a:t>
            </a:r>
            <a:endParaRPr b="0" lang="en-US" sz="2700" spc="-1" strike="noStrike">
              <a:solidFill>
                <a:srgbClr val="000000"/>
              </a:solidFill>
              <a:latin typeface="Arial"/>
            </a:endParaRPr>
          </a:p>
        </p:txBody>
      </p:sp>
      <p:sp>
        <p:nvSpPr>
          <p:cNvPr id="3" name="PlaceHolder 2"/>
          <p:cNvSpPr>
            <a:spLocks noGrp="1"/>
          </p:cNvSpPr>
          <p:nvPr>
            <p:ph type="sldNum" idx="3"/>
          </p:nvPr>
        </p:nvSpPr>
        <p:spPr/>
        <p:txBody>
          <a:bodyPr/>
          <a:p>
            <a:fld id="{18DDFD4B-8790-4FF9-9ED1-5B00D5E10B10}" type="slidenum">
              <a:t>48</a:t>
            </a:fld>
          </a:p>
        </p:txBody>
      </p:sp>
    </p:spTree>
  </p:cSld>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p:nvPr>
        </p:nvSpPr>
        <p:spPr>
          <a:xfrm>
            <a:off x="1116000" y="1989000"/>
            <a:ext cx="5616720" cy="41371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ema MRS – ima rashodi su “smanjenje ekonomskih koristi kroz obračunsko razdoblje u obliku odljeva ili iscrpljenja imovine, odnosno stvaranja obveza što za posljedicu ima smanjenje glavnice, ali ne ono u svezi s raspodjelom glavnice sudionicima”.</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shodi su iznosi koji se nadoknađuju iz prihoda.</a:t>
            </a:r>
            <a:endParaRPr b="0" lang="en-US" sz="2800" spc="-1" strike="noStrike">
              <a:solidFill>
                <a:srgbClr val="000000"/>
              </a:solidFill>
              <a:latin typeface="Arial"/>
            </a:endParaRPr>
          </a:p>
        </p:txBody>
      </p:sp>
      <p:sp>
        <p:nvSpPr>
          <p:cNvPr id="15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rashod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61D5EB-F7BF-45CA-A712-93C340C29F3A}" type="slidenum">
              <a:t>480</a:t>
            </a:fld>
          </a:p>
        </p:txBody>
      </p:sp>
    </p:spTree>
  </p:cSld>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rashoda</a:t>
            </a:r>
            <a:endParaRPr b="0" lang="en-US" sz="3200" spc="-1" strike="noStrike">
              <a:solidFill>
                <a:srgbClr val="000000"/>
              </a:solidFill>
              <a:latin typeface="Arial"/>
            </a:endParaRPr>
          </a:p>
        </p:txBody>
      </p:sp>
      <p:sp>
        <p:nvSpPr>
          <p:cNvPr id="1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t>
            </a:r>
            <a:r>
              <a:rPr b="0" lang="hr-HR" sz="2800" spc="-1" strike="noStrike">
                <a:solidFill>
                  <a:srgbClr val="000000"/>
                </a:solidFill>
                <a:latin typeface="Times New Roman"/>
              </a:rPr>
              <a:t>Pod rashodima se podrazumijevaju ulaganja u poslovni proces koja predstavljaju potrošnju dobara u stvaranju učinka, ali i neutralnu potrošnju dobara u poduzeću povezanu s nastankom izdatk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zlikujemo:  - rashode poslovan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rashode financiranja i</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izvanredne rashod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186CC7-65C3-4956-A222-F73CEF8974B8}" type="slidenum">
              <a:t>481</a:t>
            </a:fld>
          </a:p>
        </p:txBody>
      </p:sp>
    </p:spTree>
  </p:cSld>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shodi poslovanja odnose se na rashode koji nastaju u obavljanju osnovne djelatnosti poduzeća. Obuhvaćaju troškove proizvodnje, nabave trgovačke robe, administrativne rashode i ostale rashode nužne za obavljanje poslovnih proces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shodi financiranja nastaju prilikom pribavljanja, korištenja i vraćanja financijskih sredstava, a vezuju se za osnovnu djelatnost poduzeća.</a:t>
            </a:r>
            <a:endParaRPr b="0" lang="en-US" sz="2800" spc="-1" strike="noStrike">
              <a:solidFill>
                <a:srgbClr val="000000"/>
              </a:solidFill>
              <a:latin typeface="Arial"/>
            </a:endParaRPr>
          </a:p>
        </p:txBody>
      </p:sp>
      <p:sp>
        <p:nvSpPr>
          <p:cNvPr id="15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rashod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A09B55-A28D-431B-8EFE-511F076ACF34}" type="slidenum">
              <a:t>482</a:t>
            </a:fld>
          </a:p>
        </p:txBody>
      </p:sp>
    </p:spTree>
  </p:cSld>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rashoda</a:t>
            </a:r>
            <a:endParaRPr b="0" lang="en-US" sz="3200" spc="-1" strike="noStrike">
              <a:solidFill>
                <a:srgbClr val="000000"/>
              </a:solidFill>
              <a:latin typeface="Arial"/>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vanredni rashodi odnose se na rashode koji nastaju uslijed neplaniranog smanjenja imovine ili povećanja obveza, te su nepredvidiv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F0E7FBE-C8AF-4C4F-B43B-5703BC468C21}" type="slidenum">
              <a:t>483</a:t>
            </a:fld>
          </a:p>
        </p:txBody>
      </p:sp>
    </p:spTree>
  </p:cSld>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
          <p:cNvSpPr/>
          <p:nvPr/>
        </p:nvSpPr>
        <p:spPr>
          <a:xfrm>
            <a:off x="468360" y="1792440"/>
            <a:ext cx="8136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Nastanak rashoda</a:t>
            </a:r>
            <a:endParaRPr b="0" lang="en-US" sz="3200" spc="-1" strike="noStrike">
              <a:solidFill>
                <a:srgbClr val="000000"/>
              </a:solidFill>
              <a:latin typeface="Arial"/>
            </a:endParaRPr>
          </a:p>
        </p:txBody>
      </p:sp>
      <p:sp>
        <p:nvSpPr>
          <p:cNvPr id="1533" name=""/>
          <p:cNvSpPr/>
          <p:nvPr/>
        </p:nvSpPr>
        <p:spPr>
          <a:xfrm>
            <a:off x="2987640" y="2349360"/>
            <a:ext cx="236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Rashodi</a:t>
            </a:r>
            <a:endParaRPr b="0" lang="en-US" sz="2400" spc="-1" strike="noStrike">
              <a:solidFill>
                <a:srgbClr val="000000"/>
              </a:solidFill>
              <a:latin typeface="Arial"/>
            </a:endParaRPr>
          </a:p>
        </p:txBody>
      </p:sp>
      <p:sp>
        <p:nvSpPr>
          <p:cNvPr id="1534" name=""/>
          <p:cNvSpPr/>
          <p:nvPr/>
        </p:nvSpPr>
        <p:spPr>
          <a:xfrm>
            <a:off x="468360" y="4076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Imovina</a:t>
            </a:r>
            <a:endParaRPr b="0" lang="en-US" sz="2400" spc="-1" strike="noStrike">
              <a:solidFill>
                <a:srgbClr val="000000"/>
              </a:solidFill>
              <a:latin typeface="Arial"/>
            </a:endParaRPr>
          </a:p>
        </p:txBody>
      </p:sp>
      <p:sp>
        <p:nvSpPr>
          <p:cNvPr id="1535" name=""/>
          <p:cNvSpPr/>
          <p:nvPr/>
        </p:nvSpPr>
        <p:spPr>
          <a:xfrm>
            <a:off x="5148360" y="4076640"/>
            <a:ext cx="1752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bveze</a:t>
            </a:r>
            <a:endParaRPr b="0" lang="en-US" sz="2400" spc="-1" strike="noStrike">
              <a:solidFill>
                <a:srgbClr val="000000"/>
              </a:solidFill>
              <a:latin typeface="Arial"/>
            </a:endParaRPr>
          </a:p>
        </p:txBody>
      </p:sp>
      <p:sp>
        <p:nvSpPr>
          <p:cNvPr id="1536" name=""/>
          <p:cNvSpPr/>
          <p:nvPr/>
        </p:nvSpPr>
        <p:spPr>
          <a:xfrm>
            <a:off x="2340000" y="2924280"/>
            <a:ext cx="1523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stanak rashoda</a:t>
            </a:r>
            <a:endParaRPr b="0" lang="en-US" sz="2400" spc="-1" strike="noStrike">
              <a:solidFill>
                <a:srgbClr val="000000"/>
              </a:solidFill>
              <a:latin typeface="Arial"/>
            </a:endParaRPr>
          </a:p>
        </p:txBody>
      </p:sp>
      <p:sp>
        <p:nvSpPr>
          <p:cNvPr id="1537" name=""/>
          <p:cNvSpPr/>
          <p:nvPr/>
        </p:nvSpPr>
        <p:spPr>
          <a:xfrm>
            <a:off x="1620720" y="4508640"/>
            <a:ext cx="1600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manjenje imovine</a:t>
            </a:r>
            <a:endParaRPr b="0" lang="en-US" sz="2400" spc="-1" strike="noStrike">
              <a:solidFill>
                <a:srgbClr val="000000"/>
              </a:solidFill>
              <a:latin typeface="Arial"/>
            </a:endParaRPr>
          </a:p>
        </p:txBody>
      </p:sp>
      <p:sp>
        <p:nvSpPr>
          <p:cNvPr id="1538" name=""/>
          <p:cNvSpPr/>
          <p:nvPr/>
        </p:nvSpPr>
        <p:spPr>
          <a:xfrm>
            <a:off x="6084720" y="4581360"/>
            <a:ext cx="15242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ećanje obveza</a:t>
            </a:r>
            <a:endParaRPr b="0" lang="en-US" sz="2400" spc="-1" strike="noStrike">
              <a:solidFill>
                <a:srgbClr val="000000"/>
              </a:solidFill>
              <a:latin typeface="Arial"/>
            </a:endParaRPr>
          </a:p>
        </p:txBody>
      </p:sp>
      <p:sp>
        <p:nvSpPr>
          <p:cNvPr id="1539" name=""/>
          <p:cNvSpPr/>
          <p:nvPr/>
        </p:nvSpPr>
        <p:spPr>
          <a:xfrm>
            <a:off x="2806560" y="280656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4025880" y="280656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20560" y="4483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1587600" y="44830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5092560" y="4483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6006960" y="448308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flipV="1">
            <a:off x="3263760" y="3949560"/>
            <a:ext cx="0" cy="9907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flipH="1" flipV="1">
            <a:off x="7302240" y="3949200"/>
            <a:ext cx="6120" cy="63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flipH="1">
            <a:off x="3339720" y="3949560"/>
            <a:ext cx="39625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E8ADFC-76A5-4B93-A638-6BE9EC4205CA}" type="slidenum">
              <a:t>484</a:t>
            </a:fld>
          </a:p>
        </p:txBody>
      </p:sp>
    </p:spTree>
  </p:cSld>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vodi se vrijednosno usklađivanje potraživanja od kupaca u iznosu 12.000,00 k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imili smo kratkoročni financijski kredit u iznosu 24.000,00 kn. Kamata za ovaj mjesec iznosi 200,00 kn + PDV (primljen je račun za obračunanu kamatu).</a:t>
            </a:r>
            <a:endParaRPr b="0" lang="en-US" sz="2800" spc="-1" strike="noStrike">
              <a:solidFill>
                <a:srgbClr val="000000"/>
              </a:solidFill>
              <a:latin typeface="Arial"/>
            </a:endParaRPr>
          </a:p>
        </p:txBody>
      </p:sp>
      <p:sp>
        <p:nvSpPr>
          <p:cNvPr id="15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2EAC89-0C44-44E5-924F-66E313D039BD}" type="slidenum">
              <a:t>485</a:t>
            </a:fld>
          </a:p>
        </p:txBody>
      </p:sp>
    </p:spTree>
  </p:cSld>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0" name=""/>
          <p:cNvGraphicFramePr/>
          <p:nvPr/>
        </p:nvGraphicFramePr>
        <p:xfrm>
          <a:off x="1116000" y="1628640"/>
          <a:ext cx="6264360" cy="4565880"/>
        </p:xfrm>
        <a:graphic>
          <a:graphicData uri="http://schemas.openxmlformats.org/drawingml/2006/table">
            <a:tbl>
              <a:tblPr/>
              <a:tblGrid>
                <a:gridCol w="590400"/>
                <a:gridCol w="2332080"/>
                <a:gridCol w="1148040"/>
                <a:gridCol w="1004760"/>
                <a:gridCol w="1189080"/>
              </a:tblGrid>
              <a:tr h="36540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557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Vrijednosno usklađivanje potraživanja od kupac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jenos na rashod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47</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9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47</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9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93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je kratkoročni financijski kredi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858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a kamata za tekući mjese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jenos na rashod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4,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4,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9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4</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9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3768D92-03FD-4793-8696-B37A924DF0A1}" type="slidenum">
              <a:t>486</a:t>
            </a:fld>
          </a:p>
        </p:txBody>
      </p:sp>
    </p:spTree>
  </p:cSld>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imjer</a:t>
            </a:r>
            <a:endParaRPr b="0" lang="en-US" sz="2800" spc="-1" strike="noStrike">
              <a:solidFill>
                <a:srgbClr val="000000"/>
              </a:solidFill>
              <a:latin typeface="Arial"/>
            </a:endParaRPr>
          </a:p>
        </p:txBody>
      </p:sp>
      <p:sp>
        <p:nvSpPr>
          <p:cNvPr id="1553"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Izvršite prijenos troškova proizvodnog trgovačkog društva u konačni obračun poštujući odredbe MRS-a 2 o troškovima koji se mogu uključiti u troškove zaliha te koji izravno terete rashode:</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0 – materijalni troškovi za potrebe proizvodn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8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0 – materijalni troškovi za potrebe uprave i proda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2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1 – usluge za potrebe proizvodn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3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1 – usluge za potrebe uprave i proda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1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2 – usluge za potrebe uprave i proda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8.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3 – amortizacija – mjesto troška proizvodn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20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3 – amortizacija – mjesto troška uprave i proda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90.000,00 k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96A7C9-0976-413E-872F-7374C2EEF3CB}" type="slidenum">
              <a:t>487</a:t>
            </a:fld>
          </a:p>
        </p:txBody>
      </p:sp>
    </p:spTree>
  </p:cSld>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p:nvPr>
        </p:nvSpPr>
        <p:spPr>
          <a:xfrm>
            <a:off x="250920" y="1267920"/>
            <a:ext cx="8642160" cy="4681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4 – naknade troškova radnicima – mjesto troška proizvodnje</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34.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4 – naknade troškova radnicima – mjesto troška uprave i prodaje</a:t>
            </a:r>
            <a:r>
              <a:rPr b="0" lang="hr-HR" sz="2400" spc="-1" strike="noStrike">
                <a:solidFill>
                  <a:srgbClr val="000000"/>
                </a:solidFill>
                <a:latin typeface="Times New Roman"/>
              </a:rPr>
              <a:t>	</a:t>
            </a:r>
            <a:r>
              <a:rPr b="0" lang="hr-HR" sz="2400" spc="-1" strike="noStrike">
                <a:solidFill>
                  <a:srgbClr val="000000"/>
                </a:solidFill>
                <a:latin typeface="Times New Roman"/>
              </a:rPr>
              <a:t>12.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5 – rezerviranja troškova i rizika – mjesto troška uprave i prodaje</a:t>
            </a:r>
            <a:r>
              <a:rPr b="0" lang="hr-HR" sz="2400" spc="-1" strike="noStrike">
                <a:solidFill>
                  <a:srgbClr val="000000"/>
                </a:solidFill>
                <a:latin typeface="Times New Roman"/>
              </a:rPr>
              <a:t>	</a:t>
            </a:r>
            <a:r>
              <a:rPr b="0" lang="hr-HR" sz="2400" spc="-1" strike="noStrike">
                <a:solidFill>
                  <a:srgbClr val="000000"/>
                </a:solidFill>
                <a:latin typeface="Times New Roman"/>
              </a:rPr>
              <a:t>20.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6 – ostali troškovi poslovanja – mjesto troška uprave i prodaje</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11.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7 – troškovi osoblja – mjesto troška proizvodnje</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56.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7 – troškovi osoblja – mjesto troška uprave i prodaje</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21.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iksni troškovi za neiskorišteni normalan kapacitet iznose 120.000,00 kn.)</a:t>
            </a:r>
            <a:endParaRPr b="0" lang="en-US" sz="2400" spc="-1" strike="noStrike">
              <a:solidFill>
                <a:srgbClr val="000000"/>
              </a:solidFill>
              <a:latin typeface="Arial"/>
            </a:endParaRPr>
          </a:p>
        </p:txBody>
      </p:sp>
      <p:sp>
        <p:nvSpPr>
          <p:cNvPr id="1555"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imj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502CEB-9387-4BEB-9621-BD13BE300E7D}" type="slidenum">
              <a:t>488</a:t>
            </a:fld>
          </a:p>
        </p:txBody>
      </p:sp>
    </p:spTree>
  </p:cSld>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557" name=""/>
          <p:cNvSpPr/>
          <p:nvPr/>
        </p:nvSpPr>
        <p:spPr>
          <a:xfrm>
            <a:off x="395280" y="119700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3276720" y="119700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6227640" y="1197000"/>
            <a:ext cx="26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1692360" y="1197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4572000" y="1197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524720" y="1197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375840" y="765000"/>
            <a:ext cx="255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dio (40, 41, 43, 44, 47)</a:t>
            </a:r>
            <a:endParaRPr b="0" lang="en-US" sz="1800" spc="-1" strike="noStrike">
              <a:solidFill>
                <a:srgbClr val="000000"/>
              </a:solidFill>
              <a:latin typeface="Arial"/>
            </a:endParaRPr>
          </a:p>
        </p:txBody>
      </p:sp>
      <p:sp>
        <p:nvSpPr>
          <p:cNvPr id="1564" name=""/>
          <p:cNvSpPr/>
          <p:nvPr/>
        </p:nvSpPr>
        <p:spPr>
          <a:xfrm>
            <a:off x="395280" y="1341360"/>
            <a:ext cx="1224000" cy="194328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8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3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0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34.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56.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2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
          <p:cNvSpPr/>
          <p:nvPr/>
        </p:nvSpPr>
        <p:spPr>
          <a:xfrm>
            <a:off x="1908000" y="1341360"/>
            <a:ext cx="1081440" cy="1800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00.00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20.000,00) (y)</a:t>
            </a:r>
            <a:endParaRPr b="0" lang="en-US" sz="1800" spc="-1" strike="noStrike">
              <a:solidFill>
                <a:srgbClr val="000000"/>
              </a:solidFill>
              <a:latin typeface="Arial"/>
            </a:endParaRPr>
          </a:p>
        </p:txBody>
      </p:sp>
      <p:sp>
        <p:nvSpPr>
          <p:cNvPr id="1566" name=""/>
          <p:cNvSpPr/>
          <p:nvPr/>
        </p:nvSpPr>
        <p:spPr>
          <a:xfrm>
            <a:off x="4256280" y="76500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90</a:t>
            </a:r>
            <a:endParaRPr b="0" lang="en-US" sz="1800" spc="-1" strike="noStrike">
              <a:solidFill>
                <a:srgbClr val="000000"/>
              </a:solidFill>
              <a:latin typeface="Arial"/>
            </a:endParaRPr>
          </a:p>
        </p:txBody>
      </p:sp>
      <p:sp>
        <p:nvSpPr>
          <p:cNvPr id="1567" name=""/>
          <p:cNvSpPr/>
          <p:nvPr/>
        </p:nvSpPr>
        <p:spPr>
          <a:xfrm>
            <a:off x="3018960" y="134136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x) 400.000,00</a:t>
            </a:r>
            <a:endParaRPr b="0" lang="en-US" sz="1800" spc="-1" strike="noStrike">
              <a:solidFill>
                <a:srgbClr val="000000"/>
              </a:solidFill>
              <a:latin typeface="Arial"/>
            </a:endParaRPr>
          </a:p>
        </p:txBody>
      </p:sp>
      <p:sp>
        <p:nvSpPr>
          <p:cNvPr id="1568" name=""/>
          <p:cNvSpPr/>
          <p:nvPr/>
        </p:nvSpPr>
        <p:spPr>
          <a:xfrm>
            <a:off x="4533840" y="134136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00.000,00 (1)</a:t>
            </a:r>
            <a:endParaRPr b="0" lang="en-US" sz="1800" spc="-1" strike="noStrike">
              <a:solidFill>
                <a:srgbClr val="000000"/>
              </a:solidFill>
              <a:latin typeface="Arial"/>
            </a:endParaRPr>
          </a:p>
        </p:txBody>
      </p:sp>
      <p:sp>
        <p:nvSpPr>
          <p:cNvPr id="1569" name=""/>
          <p:cNvSpPr/>
          <p:nvPr/>
        </p:nvSpPr>
        <p:spPr>
          <a:xfrm>
            <a:off x="7290720" y="76500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60</a:t>
            </a:r>
            <a:endParaRPr b="0" lang="en-US" sz="1800" spc="-1" strike="noStrike">
              <a:solidFill>
                <a:srgbClr val="000000"/>
              </a:solidFill>
              <a:latin typeface="Arial"/>
            </a:endParaRPr>
          </a:p>
        </p:txBody>
      </p:sp>
      <p:sp>
        <p:nvSpPr>
          <p:cNvPr id="1570" name=""/>
          <p:cNvSpPr/>
          <p:nvPr/>
        </p:nvSpPr>
        <p:spPr>
          <a:xfrm>
            <a:off x="6084720" y="134136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 400.000,00</a:t>
            </a:r>
            <a:endParaRPr b="0" lang="en-US" sz="1800" spc="-1" strike="noStrike">
              <a:solidFill>
                <a:srgbClr val="000000"/>
              </a:solidFill>
              <a:latin typeface="Arial"/>
            </a:endParaRPr>
          </a:p>
        </p:txBody>
      </p:sp>
      <p:sp>
        <p:nvSpPr>
          <p:cNvPr id="1571" name=""/>
          <p:cNvSpPr/>
          <p:nvPr/>
        </p:nvSpPr>
        <p:spPr>
          <a:xfrm>
            <a:off x="7524720" y="134136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400.000,00 (2) </a:t>
            </a:r>
            <a:endParaRPr b="0" lang="en-US" sz="1800" spc="-1" strike="noStrike">
              <a:solidFill>
                <a:srgbClr val="000000"/>
              </a:solidFill>
              <a:latin typeface="Arial"/>
            </a:endParaRPr>
          </a:p>
        </p:txBody>
      </p:sp>
      <p:sp>
        <p:nvSpPr>
          <p:cNvPr id="1572" name=""/>
          <p:cNvSpPr/>
          <p:nvPr/>
        </p:nvSpPr>
        <p:spPr>
          <a:xfrm>
            <a:off x="250920" y="414972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1476360" y="414972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3059280" y="414972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4427640" y="414972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6084720" y="414972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7524720" y="414972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1240560" y="371628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63</a:t>
            </a:r>
            <a:endParaRPr b="0" lang="en-US" sz="1800" spc="-1" strike="noStrike">
              <a:solidFill>
                <a:srgbClr val="000000"/>
              </a:solidFill>
              <a:latin typeface="Arial"/>
            </a:endParaRPr>
          </a:p>
        </p:txBody>
      </p:sp>
      <p:sp>
        <p:nvSpPr>
          <p:cNvPr id="1579" name=""/>
          <p:cNvSpPr/>
          <p:nvPr/>
        </p:nvSpPr>
        <p:spPr>
          <a:xfrm>
            <a:off x="4193280" y="371628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70</a:t>
            </a:r>
            <a:endParaRPr b="0" lang="en-US" sz="1800" spc="-1" strike="noStrike">
              <a:solidFill>
                <a:srgbClr val="000000"/>
              </a:solidFill>
              <a:latin typeface="Arial"/>
            </a:endParaRPr>
          </a:p>
        </p:txBody>
      </p:sp>
      <p:sp>
        <p:nvSpPr>
          <p:cNvPr id="1580" name=""/>
          <p:cNvSpPr/>
          <p:nvPr/>
        </p:nvSpPr>
        <p:spPr>
          <a:xfrm>
            <a:off x="5904000" y="364500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dio (40, 41, 43, 44, 47) 42, 45, 46</a:t>
            </a:r>
            <a:endParaRPr b="0" lang="en-US" sz="1800" spc="-1" strike="noStrike">
              <a:solidFill>
                <a:srgbClr val="000000"/>
              </a:solidFill>
              <a:latin typeface="Arial"/>
            </a:endParaRPr>
          </a:p>
        </p:txBody>
      </p:sp>
      <p:sp>
        <p:nvSpPr>
          <p:cNvPr id="1581" name=""/>
          <p:cNvSpPr/>
          <p:nvPr/>
        </p:nvSpPr>
        <p:spPr>
          <a:xfrm>
            <a:off x="-181080" y="422100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2) 400.000,00</a:t>
            </a:r>
            <a:endParaRPr b="0" lang="en-US" sz="1800" spc="-1" strike="noStrike">
              <a:solidFill>
                <a:srgbClr val="000000"/>
              </a:solidFill>
              <a:latin typeface="Arial"/>
            </a:endParaRPr>
          </a:p>
        </p:txBody>
      </p:sp>
      <p:sp>
        <p:nvSpPr>
          <p:cNvPr id="1582" name=""/>
          <p:cNvSpPr/>
          <p:nvPr/>
        </p:nvSpPr>
        <p:spPr>
          <a:xfrm>
            <a:off x="1476360" y="4221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400.000,00 (3)</a:t>
            </a:r>
            <a:endParaRPr b="0" lang="en-US" sz="1800" spc="-1" strike="noStrike">
              <a:solidFill>
                <a:srgbClr val="000000"/>
              </a:solidFill>
              <a:latin typeface="Arial"/>
            </a:endParaRPr>
          </a:p>
        </p:txBody>
      </p:sp>
      <p:sp>
        <p:nvSpPr>
          <p:cNvPr id="1583" name=""/>
          <p:cNvSpPr/>
          <p:nvPr/>
        </p:nvSpPr>
        <p:spPr>
          <a:xfrm>
            <a:off x="2878200" y="422100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3) 400.000,00</a:t>
            </a:r>
            <a:endParaRPr b="0" lang="en-US" sz="1800" spc="-1" strike="noStrike">
              <a:solidFill>
                <a:srgbClr val="000000"/>
              </a:solidFill>
              <a:latin typeface="Arial"/>
            </a:endParaRPr>
          </a:p>
        </p:txBody>
      </p:sp>
      <p:sp>
        <p:nvSpPr>
          <p:cNvPr id="1584" name=""/>
          <p:cNvSpPr/>
          <p:nvPr/>
        </p:nvSpPr>
        <p:spPr>
          <a:xfrm>
            <a:off x="6296760" y="4221000"/>
            <a:ext cx="1192680" cy="228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8.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9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2.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1.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1.000,00</a:t>
            </a:r>
            <a:endParaRPr b="0" lang="en-US" sz="1800" spc="-1" strike="noStrike">
              <a:solidFill>
                <a:srgbClr val="000000"/>
              </a:solidFill>
              <a:latin typeface="Arial"/>
            </a:endParaRPr>
          </a:p>
        </p:txBody>
      </p:sp>
      <p:sp>
        <p:nvSpPr>
          <p:cNvPr id="1585" name=""/>
          <p:cNvSpPr/>
          <p:nvPr/>
        </p:nvSpPr>
        <p:spPr>
          <a:xfrm>
            <a:off x="7539840" y="425304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92.000,00 (z)</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25B253-BFF3-42E7-9CFB-7CB0EF8F78FF}" type="slidenum">
              <a:t>489</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539640" y="333000"/>
            <a:ext cx="8158320" cy="5870520"/>
          </a:xfrm>
          <a:prstGeom prst="rect">
            <a:avLst/>
          </a:prstGeom>
          <a:noFill/>
          <a:ln w="0">
            <a:noFill/>
          </a:ln>
        </p:spPr>
        <p:txBody>
          <a:bodyPr lIns="90000" rIns="90000" tIns="46800" bIns="46800" anchor="t">
            <a:normAutofit fontScale="95000"/>
          </a:bodyPr>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4 </a:t>
            </a:r>
            <a:r>
              <a:rPr b="0" lang="hr-HR" sz="2700" spc="-1" strike="noStrike">
                <a:solidFill>
                  <a:srgbClr val="000000"/>
                </a:solidFill>
                <a:latin typeface="Arial"/>
              </a:rPr>
              <a:t>	</a:t>
            </a:r>
            <a:r>
              <a:rPr b="0" lang="hr-HR" sz="2700" spc="-1" strike="noStrike">
                <a:solidFill>
                  <a:srgbClr val="000000"/>
                </a:solidFill>
                <a:latin typeface="Arial"/>
              </a:rPr>
              <a:t>Objavljivanje povezanih stranak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6 </a:t>
            </a:r>
            <a:r>
              <a:rPr b="0" lang="hr-HR" sz="2700" spc="-1" strike="noStrike">
                <a:solidFill>
                  <a:srgbClr val="000000"/>
                </a:solidFill>
                <a:latin typeface="Arial"/>
              </a:rPr>
              <a:t>	</a:t>
            </a:r>
            <a:r>
              <a:rPr b="0" lang="hr-HR" sz="2700" spc="-1" strike="noStrike">
                <a:solidFill>
                  <a:srgbClr val="000000"/>
                </a:solidFill>
                <a:latin typeface="Arial"/>
              </a:rPr>
              <a:t>Računovodstvo i izvještavanje o</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mirovinskim planovim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7 </a:t>
            </a:r>
            <a:r>
              <a:rPr b="0" lang="hr-HR" sz="2700" spc="-1" strike="noStrike">
                <a:solidFill>
                  <a:srgbClr val="000000"/>
                </a:solidFill>
                <a:latin typeface="Arial"/>
              </a:rPr>
              <a:t>	</a:t>
            </a:r>
            <a:r>
              <a:rPr b="0" lang="hr-HR" sz="2700" spc="-1" strike="noStrike">
                <a:solidFill>
                  <a:srgbClr val="000000"/>
                </a:solidFill>
                <a:latin typeface="Arial"/>
              </a:rPr>
              <a:t>Konsolidacija financijskih izvještaj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8 </a:t>
            </a:r>
            <a:r>
              <a:rPr b="0" lang="hr-HR" sz="2700" spc="-1" strike="noStrike">
                <a:solidFill>
                  <a:srgbClr val="000000"/>
                </a:solidFill>
                <a:latin typeface="Arial"/>
              </a:rPr>
              <a:t>	</a:t>
            </a:r>
            <a:r>
              <a:rPr b="0" lang="hr-HR" sz="2700" spc="-1" strike="noStrike">
                <a:solidFill>
                  <a:srgbClr val="000000"/>
                </a:solidFill>
                <a:latin typeface="Arial"/>
              </a:rPr>
              <a:t>Računovodstvo ulaganja u ovisna društv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9 </a:t>
            </a:r>
            <a:r>
              <a:rPr b="0" lang="hr-HR" sz="2700" spc="-1" strike="noStrike">
                <a:solidFill>
                  <a:srgbClr val="000000"/>
                </a:solidFill>
                <a:latin typeface="Arial"/>
              </a:rPr>
              <a:t>	</a:t>
            </a:r>
            <a:r>
              <a:rPr b="0" lang="hr-HR" sz="2700" spc="-1" strike="noStrike">
                <a:solidFill>
                  <a:srgbClr val="000000"/>
                </a:solidFill>
                <a:latin typeface="Arial"/>
              </a:rPr>
              <a:t>Financijsko izvještavanje u hiperinflacijskim</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privredam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0 </a:t>
            </a:r>
            <a:r>
              <a:rPr b="0" lang="hr-HR" sz="2700" spc="-1" strike="noStrike">
                <a:solidFill>
                  <a:srgbClr val="000000"/>
                </a:solidFill>
                <a:latin typeface="Arial"/>
              </a:rPr>
              <a:t>	</a:t>
            </a:r>
            <a:r>
              <a:rPr b="0" lang="hr-HR" sz="2700" spc="-1" strike="noStrike">
                <a:solidFill>
                  <a:srgbClr val="000000"/>
                </a:solidFill>
                <a:latin typeface="Arial"/>
              </a:rPr>
              <a:t>Objavljivanja u financijskim izvještajima</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banaka i sličnih financijskih institucij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1 </a:t>
            </a:r>
            <a:r>
              <a:rPr b="0" lang="hr-HR" sz="2700" spc="-1" strike="noStrike">
                <a:solidFill>
                  <a:srgbClr val="000000"/>
                </a:solidFill>
                <a:latin typeface="Arial"/>
              </a:rPr>
              <a:t>	</a:t>
            </a:r>
            <a:r>
              <a:rPr b="0" lang="hr-HR" sz="2700" spc="-1" strike="noStrike">
                <a:solidFill>
                  <a:srgbClr val="000000"/>
                </a:solidFill>
                <a:latin typeface="Arial"/>
              </a:rPr>
              <a:t>Financijsko izvještavanje o udjelima u</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zajedničkim poduhvatim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2 </a:t>
            </a:r>
            <a:r>
              <a:rPr b="0" lang="hr-HR" sz="2700" spc="-1" strike="noStrike">
                <a:solidFill>
                  <a:srgbClr val="000000"/>
                </a:solidFill>
                <a:latin typeface="Arial"/>
              </a:rPr>
              <a:t>	</a:t>
            </a:r>
            <a:r>
              <a:rPr b="0" lang="hr-HR" sz="2700" spc="-1" strike="noStrike">
                <a:solidFill>
                  <a:srgbClr val="000000"/>
                </a:solidFill>
                <a:latin typeface="Arial"/>
              </a:rPr>
              <a:t>Financijski instrumenti: Objavljivanje i</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prezentiranje</a:t>
            </a:r>
            <a:endParaRPr b="0" lang="en-US" sz="2700" spc="-1" strike="noStrike">
              <a:solidFill>
                <a:srgbClr val="000000"/>
              </a:solidFill>
              <a:latin typeface="Arial"/>
            </a:endParaRPr>
          </a:p>
        </p:txBody>
      </p:sp>
      <p:sp>
        <p:nvSpPr>
          <p:cNvPr id="3" name="PlaceHolder 2"/>
          <p:cNvSpPr>
            <a:spLocks noGrp="1"/>
          </p:cNvSpPr>
          <p:nvPr>
            <p:ph type="sldNum" idx="3"/>
          </p:nvPr>
        </p:nvSpPr>
        <p:spPr/>
        <p:txBody>
          <a:bodyPr/>
          <a:p>
            <a:fld id="{A7A397E0-A451-4F87-8565-2F9B27EAD0F2}" type="slidenum">
              <a:t>49</a:t>
            </a:fld>
          </a:p>
        </p:txBody>
      </p:sp>
    </p:spTree>
  </p:cSld>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468000" y="0"/>
            <a:ext cx="8218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587" name=""/>
          <p:cNvSpPr/>
          <p:nvPr/>
        </p:nvSpPr>
        <p:spPr>
          <a:xfrm>
            <a:off x="325440" y="170028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3349800" y="1700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6373800" y="1700280"/>
            <a:ext cx="27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1746360" y="172728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4718160" y="170028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765920" y="172728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375560" y="12682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491</a:t>
            </a:r>
            <a:endParaRPr b="0" lang="en-US" sz="1800" spc="-1" strike="noStrike">
              <a:solidFill>
                <a:srgbClr val="000000"/>
              </a:solidFill>
              <a:latin typeface="Arial"/>
            </a:endParaRPr>
          </a:p>
        </p:txBody>
      </p:sp>
      <p:sp>
        <p:nvSpPr>
          <p:cNvPr id="1594" name=""/>
          <p:cNvSpPr/>
          <p:nvPr/>
        </p:nvSpPr>
        <p:spPr>
          <a:xfrm>
            <a:off x="4401360" y="12682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703</a:t>
            </a:r>
            <a:endParaRPr b="0" lang="en-US" sz="1800" spc="-1" strike="noStrike">
              <a:solidFill>
                <a:srgbClr val="000000"/>
              </a:solidFill>
              <a:latin typeface="Arial"/>
            </a:endParaRPr>
          </a:p>
        </p:txBody>
      </p:sp>
      <p:sp>
        <p:nvSpPr>
          <p:cNvPr id="1595" name=""/>
          <p:cNvSpPr/>
          <p:nvPr/>
        </p:nvSpPr>
        <p:spPr>
          <a:xfrm>
            <a:off x="7351200" y="1268280"/>
            <a:ext cx="68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701</a:t>
            </a:r>
            <a:endParaRPr b="0" lang="en-US" sz="1800" spc="-1" strike="noStrike">
              <a:solidFill>
                <a:srgbClr val="000000"/>
              </a:solidFill>
              <a:latin typeface="Arial"/>
            </a:endParaRPr>
          </a:p>
        </p:txBody>
      </p:sp>
      <p:sp>
        <p:nvSpPr>
          <p:cNvPr id="1596" name=""/>
          <p:cNvSpPr/>
          <p:nvPr/>
        </p:nvSpPr>
        <p:spPr>
          <a:xfrm>
            <a:off x="14760" y="1773360"/>
            <a:ext cx="194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z) 192.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y) (120.000,00)</a:t>
            </a:r>
            <a:endParaRPr b="0" lang="en-US" sz="1800" spc="-1" strike="noStrike">
              <a:solidFill>
                <a:srgbClr val="000000"/>
              </a:solidFill>
              <a:latin typeface="Arial"/>
            </a:endParaRPr>
          </a:p>
        </p:txBody>
      </p:sp>
      <p:sp>
        <p:nvSpPr>
          <p:cNvPr id="1597" name=""/>
          <p:cNvSpPr/>
          <p:nvPr/>
        </p:nvSpPr>
        <p:spPr>
          <a:xfrm>
            <a:off x="3254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
          <p:cNvSpPr/>
          <p:nvPr/>
        </p:nvSpPr>
        <p:spPr>
          <a:xfrm>
            <a:off x="1490760" y="1773360"/>
            <a:ext cx="199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92.000,00 (1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20.000,00) (1c)</a:t>
            </a:r>
            <a:endParaRPr b="0" lang="en-US" sz="1800" spc="-1" strike="noStrike">
              <a:solidFill>
                <a:srgbClr val="000000"/>
              </a:solidFill>
              <a:latin typeface="Arial"/>
            </a:endParaRPr>
          </a:p>
        </p:txBody>
      </p:sp>
      <p:sp>
        <p:nvSpPr>
          <p:cNvPr id="1599" name=""/>
          <p:cNvSpPr/>
          <p:nvPr/>
        </p:nvSpPr>
        <p:spPr>
          <a:xfrm>
            <a:off x="3011040" y="177336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b) 192.000,00</a:t>
            </a:r>
            <a:endParaRPr b="0" lang="en-US" sz="1800" spc="-1" strike="noStrike">
              <a:solidFill>
                <a:srgbClr val="000000"/>
              </a:solidFill>
              <a:latin typeface="Arial"/>
            </a:endParaRPr>
          </a:p>
        </p:txBody>
      </p:sp>
      <p:sp>
        <p:nvSpPr>
          <p:cNvPr id="1600" name=""/>
          <p:cNvSpPr/>
          <p:nvPr/>
        </p:nvSpPr>
        <p:spPr>
          <a:xfrm>
            <a:off x="5954760" y="1773360"/>
            <a:ext cx="199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c) (120.000,0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4EC03E-4151-489E-AAFA-093DDEBB2C60}" type="slidenum">
              <a:t>490</a:t>
            </a:fld>
          </a:p>
        </p:txBody>
      </p:sp>
    </p:spTree>
  </p:cSld>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p:nvPr>
        </p:nvSpPr>
        <p:spPr>
          <a:xfrm>
            <a:off x="755640" y="1267920"/>
            <a:ext cx="7561440" cy="48531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vršite prijenos u konačni obračun troškova poslovnog subjekta trgovačke djelatnosti te provedite knjiženja nastalih događaja temeljem sljedećih podataka:</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zalihe trgovačke robe iznose     80.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mortizacija opreme</a:t>
            </a:r>
            <a:r>
              <a:rPr b="0" lang="hr-HR" sz="2800" spc="-1" strike="noStrike">
                <a:solidFill>
                  <a:srgbClr val="000000"/>
                </a:solidFill>
                <a:latin typeface="Times New Roman"/>
              </a:rPr>
              <a:t>	</a:t>
            </a:r>
            <a:r>
              <a:rPr b="0" lang="hr-HR" sz="2800" spc="-1" strike="noStrike">
                <a:solidFill>
                  <a:srgbClr val="000000"/>
                </a:solidFill>
                <a:latin typeface="Times New Roman"/>
              </a:rPr>
              <a:t>       90.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laće</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40.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troškovi električne energije         5.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troškovi poštanskih usluga          3.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odano je 50% robe po cijeni od 50.000,00 + PDV.</a:t>
            </a:r>
            <a:endParaRPr b="0" lang="en-US" sz="2800" spc="-1" strike="noStrike">
              <a:solidFill>
                <a:srgbClr val="000000"/>
              </a:solidFill>
              <a:latin typeface="Arial"/>
            </a:endParaRPr>
          </a:p>
        </p:txBody>
      </p:sp>
      <p:sp>
        <p:nvSpPr>
          <p:cNvPr id="160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imj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9560EC-D030-49AD-BB2B-A5218D03AFB9}" type="slidenum">
              <a:t>491</a:t>
            </a:fld>
          </a:p>
        </p:txBody>
      </p:sp>
    </p:spTree>
  </p:cSld>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imjer</a:t>
            </a:r>
            <a:endParaRPr b="0" lang="en-US" sz="2800" spc="-1" strike="noStrike">
              <a:solidFill>
                <a:srgbClr val="000000"/>
              </a:solidFill>
              <a:latin typeface="Arial"/>
            </a:endParaRPr>
          </a:p>
        </p:txBody>
      </p:sp>
      <p:sp>
        <p:nvSpPr>
          <p:cNvPr id="1604" name=""/>
          <p:cNvSpPr/>
          <p:nvPr/>
        </p:nvSpPr>
        <p:spPr>
          <a:xfrm>
            <a:off x="324000" y="1628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3276720" y="1628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6227640" y="1628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324000" y="3860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3276720" y="3860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6300720" y="3860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1619280" y="162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1619280" y="3860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4572000" y="3860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7596360" y="3860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4572000" y="162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7524720" y="162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1374840" y="126828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660</a:t>
            </a:r>
            <a:endParaRPr b="0" lang="en-US" sz="1800" spc="-1" strike="noStrike">
              <a:solidFill>
                <a:srgbClr val="000000"/>
              </a:solidFill>
              <a:latin typeface="Arial"/>
            </a:endParaRPr>
          </a:p>
        </p:txBody>
      </p:sp>
      <p:sp>
        <p:nvSpPr>
          <p:cNvPr id="1617" name=""/>
          <p:cNvSpPr/>
          <p:nvPr/>
        </p:nvSpPr>
        <p:spPr>
          <a:xfrm>
            <a:off x="4327560" y="126828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710</a:t>
            </a:r>
            <a:endParaRPr b="0" lang="en-US" sz="1800" spc="-1" strike="noStrike">
              <a:solidFill>
                <a:srgbClr val="000000"/>
              </a:solidFill>
              <a:latin typeface="Arial"/>
            </a:endParaRPr>
          </a:p>
        </p:txBody>
      </p:sp>
      <p:sp>
        <p:nvSpPr>
          <p:cNvPr id="1618" name=""/>
          <p:cNvSpPr/>
          <p:nvPr/>
        </p:nvSpPr>
        <p:spPr>
          <a:xfrm>
            <a:off x="6278040" y="1268280"/>
            <a:ext cx="247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dio 401, 411, 430, 470</a:t>
            </a:r>
            <a:endParaRPr b="0" lang="en-US" sz="1800" spc="-1" strike="noStrike">
              <a:solidFill>
                <a:srgbClr val="000000"/>
              </a:solidFill>
              <a:latin typeface="Arial"/>
            </a:endParaRPr>
          </a:p>
        </p:txBody>
      </p:sp>
      <p:sp>
        <p:nvSpPr>
          <p:cNvPr id="1619" name=""/>
          <p:cNvSpPr/>
          <p:nvPr/>
        </p:nvSpPr>
        <p:spPr>
          <a:xfrm>
            <a:off x="1303560" y="350028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91</a:t>
            </a:r>
            <a:endParaRPr b="0" lang="en-US" sz="1800" spc="-1" strike="noStrike">
              <a:solidFill>
                <a:srgbClr val="000000"/>
              </a:solidFill>
              <a:latin typeface="Arial"/>
            </a:endParaRPr>
          </a:p>
        </p:txBody>
      </p:sp>
      <p:sp>
        <p:nvSpPr>
          <p:cNvPr id="1620" name=""/>
          <p:cNvSpPr/>
          <p:nvPr/>
        </p:nvSpPr>
        <p:spPr>
          <a:xfrm>
            <a:off x="4256280" y="350028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712</a:t>
            </a:r>
            <a:endParaRPr b="0" lang="en-US" sz="1800" spc="-1" strike="noStrike">
              <a:solidFill>
                <a:srgbClr val="000000"/>
              </a:solidFill>
              <a:latin typeface="Arial"/>
            </a:endParaRPr>
          </a:p>
        </p:txBody>
      </p:sp>
      <p:sp>
        <p:nvSpPr>
          <p:cNvPr id="1621" name=""/>
          <p:cNvSpPr/>
          <p:nvPr/>
        </p:nvSpPr>
        <p:spPr>
          <a:xfrm>
            <a:off x="464040" y="170028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80.000,00</a:t>
            </a:r>
            <a:endParaRPr b="0" lang="en-US" sz="1800" spc="-1" strike="noStrike">
              <a:solidFill>
                <a:srgbClr val="000000"/>
              </a:solidFill>
              <a:latin typeface="Arial"/>
            </a:endParaRPr>
          </a:p>
        </p:txBody>
      </p:sp>
      <p:sp>
        <p:nvSpPr>
          <p:cNvPr id="1622" name=""/>
          <p:cNvSpPr/>
          <p:nvPr/>
        </p:nvSpPr>
        <p:spPr>
          <a:xfrm>
            <a:off x="6371280" y="1628640"/>
            <a:ext cx="119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90.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0.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5.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3.000,00</a:t>
            </a:r>
            <a:endParaRPr b="0" lang="en-US" sz="1800" spc="-1" strike="noStrike">
              <a:solidFill>
                <a:srgbClr val="000000"/>
              </a:solidFill>
              <a:latin typeface="Arial"/>
            </a:endParaRPr>
          </a:p>
        </p:txBody>
      </p:sp>
      <p:sp>
        <p:nvSpPr>
          <p:cNvPr id="1623" name=""/>
          <p:cNvSpPr/>
          <p:nvPr/>
        </p:nvSpPr>
        <p:spPr>
          <a:xfrm>
            <a:off x="7524720" y="162864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38.000,00 (x)</a:t>
            </a:r>
            <a:endParaRPr b="0" lang="en-US" sz="1800" spc="-1" strike="noStrike">
              <a:solidFill>
                <a:srgbClr val="000000"/>
              </a:solidFill>
              <a:latin typeface="Arial"/>
            </a:endParaRPr>
          </a:p>
        </p:txBody>
      </p:sp>
      <p:sp>
        <p:nvSpPr>
          <p:cNvPr id="1624" name=""/>
          <p:cNvSpPr/>
          <p:nvPr/>
        </p:nvSpPr>
        <p:spPr>
          <a:xfrm>
            <a:off x="179280" y="3933720"/>
            <a:ext cx="144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x) 138.000,00</a:t>
            </a:r>
            <a:endParaRPr b="0" lang="en-US" sz="1800" spc="-1" strike="noStrike">
              <a:solidFill>
                <a:srgbClr val="000000"/>
              </a:solidFill>
              <a:latin typeface="Arial"/>
            </a:endParaRPr>
          </a:p>
        </p:txBody>
      </p:sp>
      <p:sp>
        <p:nvSpPr>
          <p:cNvPr id="1625" name=""/>
          <p:cNvSpPr/>
          <p:nvPr/>
        </p:nvSpPr>
        <p:spPr>
          <a:xfrm>
            <a:off x="1509840" y="39337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38.000,00 (1)</a:t>
            </a:r>
            <a:endParaRPr b="0" lang="en-US" sz="1800" spc="-1" strike="noStrike">
              <a:solidFill>
                <a:srgbClr val="000000"/>
              </a:solidFill>
              <a:latin typeface="Arial"/>
            </a:endParaRPr>
          </a:p>
        </p:txBody>
      </p:sp>
      <p:sp>
        <p:nvSpPr>
          <p:cNvPr id="1626" name=""/>
          <p:cNvSpPr/>
          <p:nvPr/>
        </p:nvSpPr>
        <p:spPr>
          <a:xfrm>
            <a:off x="3022560" y="39337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 138.000,00</a:t>
            </a:r>
            <a:endParaRPr b="0" lang="en-US" sz="1800" spc="-1" strike="noStrike">
              <a:solidFill>
                <a:srgbClr val="000000"/>
              </a:solidFill>
              <a:latin typeface="Arial"/>
            </a:endParaRPr>
          </a:p>
        </p:txBody>
      </p:sp>
      <p:sp>
        <p:nvSpPr>
          <p:cNvPr id="1627" name=""/>
          <p:cNvSpPr/>
          <p:nvPr/>
        </p:nvSpPr>
        <p:spPr>
          <a:xfrm>
            <a:off x="324000" y="580536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3276720" y="580536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1619280" y="5805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4572000" y="5805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7259760" y="353376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761</a:t>
            </a:r>
            <a:endParaRPr b="0" lang="en-US" sz="1800" spc="-1" strike="noStrike">
              <a:solidFill>
                <a:srgbClr val="000000"/>
              </a:solidFill>
              <a:latin typeface="Arial"/>
            </a:endParaRPr>
          </a:p>
        </p:txBody>
      </p:sp>
      <p:sp>
        <p:nvSpPr>
          <p:cNvPr id="1632" name=""/>
          <p:cNvSpPr/>
          <p:nvPr/>
        </p:nvSpPr>
        <p:spPr>
          <a:xfrm>
            <a:off x="1302480" y="544500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20</a:t>
            </a:r>
            <a:endParaRPr b="0" lang="en-US" sz="1800" spc="-1" strike="noStrike">
              <a:solidFill>
                <a:srgbClr val="000000"/>
              </a:solidFill>
              <a:latin typeface="Arial"/>
            </a:endParaRPr>
          </a:p>
        </p:txBody>
      </p:sp>
      <p:sp>
        <p:nvSpPr>
          <p:cNvPr id="1633" name=""/>
          <p:cNvSpPr/>
          <p:nvPr/>
        </p:nvSpPr>
        <p:spPr>
          <a:xfrm>
            <a:off x="4255200" y="544500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240</a:t>
            </a:r>
            <a:endParaRPr b="0" lang="en-US" sz="1800" spc="-1" strike="noStrike">
              <a:solidFill>
                <a:srgbClr val="000000"/>
              </a:solidFill>
              <a:latin typeface="Arial"/>
            </a:endParaRPr>
          </a:p>
        </p:txBody>
      </p:sp>
      <p:sp>
        <p:nvSpPr>
          <p:cNvPr id="1634" name=""/>
          <p:cNvSpPr/>
          <p:nvPr/>
        </p:nvSpPr>
        <p:spPr>
          <a:xfrm>
            <a:off x="7549200" y="3894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50.000,00 (2)</a:t>
            </a:r>
            <a:endParaRPr b="0" lang="en-US" sz="1800" spc="-1" strike="noStrike">
              <a:solidFill>
                <a:srgbClr val="000000"/>
              </a:solidFill>
              <a:latin typeface="Arial"/>
            </a:endParaRPr>
          </a:p>
        </p:txBody>
      </p:sp>
      <p:sp>
        <p:nvSpPr>
          <p:cNvPr id="1635" name=""/>
          <p:cNvSpPr/>
          <p:nvPr/>
        </p:nvSpPr>
        <p:spPr>
          <a:xfrm>
            <a:off x="132480" y="583740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 61.000,00</a:t>
            </a:r>
            <a:endParaRPr b="0" lang="en-US" sz="1800" spc="-1" strike="noStrike">
              <a:solidFill>
                <a:srgbClr val="000000"/>
              </a:solidFill>
              <a:latin typeface="Arial"/>
            </a:endParaRPr>
          </a:p>
        </p:txBody>
      </p:sp>
      <p:sp>
        <p:nvSpPr>
          <p:cNvPr id="1636" name=""/>
          <p:cNvSpPr/>
          <p:nvPr/>
        </p:nvSpPr>
        <p:spPr>
          <a:xfrm>
            <a:off x="4451040" y="5837400"/>
            <a:ext cx="159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1.000,00 (2)</a:t>
            </a:r>
            <a:endParaRPr b="0" lang="en-US" sz="1800" spc="-1" strike="noStrike">
              <a:solidFill>
                <a:srgbClr val="000000"/>
              </a:solidFill>
              <a:latin typeface="Arial"/>
            </a:endParaRPr>
          </a:p>
        </p:txBody>
      </p:sp>
      <p:sp>
        <p:nvSpPr>
          <p:cNvPr id="1637" name=""/>
          <p:cNvSpPr/>
          <p:nvPr/>
        </p:nvSpPr>
        <p:spPr>
          <a:xfrm>
            <a:off x="1502640" y="170028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0.000,00 (2a)</a:t>
            </a:r>
            <a:endParaRPr b="0" lang="en-US" sz="1800" spc="-1" strike="noStrike">
              <a:solidFill>
                <a:srgbClr val="000000"/>
              </a:solidFill>
              <a:latin typeface="Arial"/>
            </a:endParaRPr>
          </a:p>
        </p:txBody>
      </p:sp>
      <p:sp>
        <p:nvSpPr>
          <p:cNvPr id="1638" name=""/>
          <p:cNvSpPr/>
          <p:nvPr/>
        </p:nvSpPr>
        <p:spPr>
          <a:xfrm>
            <a:off x="3015360" y="170028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a) 40.000,0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4F59F5-3F41-4525-B94A-5CE16D418650}" type="slidenum">
              <a:t>492</a:t>
            </a:fld>
          </a:p>
        </p:txBody>
      </p:sp>
    </p:spTree>
  </p:cSld>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899640" y="1600200"/>
            <a:ext cx="7464600" cy="23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Računovodstveno</a:t>
            </a:r>
            <a:br>
              <a:rPr sz="6600"/>
            </a:br>
            <a:r>
              <a:rPr b="0" lang="en-GB" sz="6600" spc="-1" strike="noStrike">
                <a:solidFill>
                  <a:srgbClr val="000000"/>
                </a:solidFill>
                <a:latin typeface="Arial"/>
              </a:rPr>
              <a:t>praćenje </a:t>
            </a:r>
            <a:br>
              <a:rPr sz="6600"/>
            </a:br>
            <a:r>
              <a:rPr b="0" lang="en-GB" sz="6600" spc="-1" strike="noStrike">
                <a:solidFill>
                  <a:srgbClr val="000000"/>
                </a:solidFill>
                <a:latin typeface="Arial"/>
              </a:rPr>
              <a:t>prihoda</a:t>
            </a:r>
            <a:endParaRPr b="0" lang="en-US" sz="6600" spc="-1" strike="noStrike">
              <a:solidFill>
                <a:srgbClr val="000000"/>
              </a:solidFill>
              <a:latin typeface="Arial"/>
            </a:endParaRPr>
          </a:p>
        </p:txBody>
      </p:sp>
      <p:sp>
        <p:nvSpPr>
          <p:cNvPr id="3" name="PlaceHolder 2"/>
          <p:cNvSpPr>
            <a:spLocks noGrp="1"/>
          </p:cNvSpPr>
          <p:nvPr>
            <p:ph type="sldNum" idx="3"/>
          </p:nvPr>
        </p:nvSpPr>
        <p:spPr/>
        <p:txBody>
          <a:bodyPr/>
          <a:p>
            <a:fld id="{9279CECF-092E-497C-9F54-978A99C4BF01}" type="slidenum">
              <a:t>493</a:t>
            </a:fld>
          </a:p>
        </p:txBody>
      </p:sp>
    </p:spTree>
  </p:cSld>
  <p:transition>
    <p:comb dir="vert"/>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1">
                                  <p:stCondLst>
                                    <p:cond delay="0"/>
                                  </p:stCondLst>
                                  <p:childTnLst>
                                    <p:set>
                                      <p:cBhvr>
                                        <p:cTn id="158" dur="1" fill="hold">
                                          <p:stCondLst>
                                            <p:cond delay="0"/>
                                          </p:stCondLst>
                                        </p:cTn>
                                        <p:tgtEl>
                                          <p:spTgt spid="1639"/>
                                        </p:tgtEl>
                                        <p:attrNameLst>
                                          <p:attrName>style.visibility</p:attrName>
                                        </p:attrNameLst>
                                      </p:cBhvr>
                                      <p:to>
                                        <p:strVal val="visible"/>
                                      </p:to>
                                    </p:set>
                                    <p:anim calcmode="lin" valueType="num">
                                      <p:cBhvr additive="base">
                                        <p:cTn id="159" dur="500" fill="hold"/>
                                        <p:tgtEl>
                                          <p:spTgt spid="1639"/>
                                        </p:tgtEl>
                                        <p:attrNameLst>
                                          <p:attrName>ppt_x</p:attrName>
                                        </p:attrNameLst>
                                      </p:cBhvr>
                                      <p:tavLst>
                                        <p:tav tm="0">
                                          <p:val>
                                            <p:strVal val="#ppt_x"/>
                                          </p:val>
                                        </p:tav>
                                        <p:tav tm="100000">
                                          <p:val>
                                            <p:strVal val="#ppt_x"/>
                                          </p:val>
                                        </p:tav>
                                      </p:tavLst>
                                    </p:anim>
                                    <p:anim calcmode="lin" valueType="num">
                                      <p:cBhvr additive="base">
                                        <p:cTn id="160" dur="500" fill="hold"/>
                                        <p:tgtEl>
                                          <p:spTgt spid="16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1116000" y="620280"/>
            <a:ext cx="71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jam i obilježja prihoda</a:t>
            </a:r>
            <a:endParaRPr b="0" lang="en-US" sz="4000" spc="-1" strike="noStrike">
              <a:solidFill>
                <a:srgbClr val="000000"/>
              </a:solidFill>
              <a:latin typeface="Arial"/>
            </a:endParaRPr>
          </a:p>
        </p:txBody>
      </p:sp>
      <p:sp>
        <p:nvSpPr>
          <p:cNvPr id="1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su “povećanje ekonomskih koristi tijekom obračunskog razdoblja u obliku priljeva ili povećanja imovine odnosno smanjenja obveza, što za posljedicu ima povećanje glavnice, ali ne ono u svezi s uplatama od strane sudionika u glavnici”.</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predstavljaju povećanje dobara u poduzeću tako dugo dok to predstavlja i ostvarenje primitak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54C2236-1B22-4DC0-BF98-ADF99341BED5}" type="slidenum">
              <a:t>494</a:t>
            </a:fld>
          </a:p>
        </p:txBody>
      </p:sp>
    </p:spTree>
  </p:cSld>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ojam i obilježja prihoda</a:t>
            </a:r>
            <a:endParaRPr b="0" lang="en-US" sz="4400" spc="-1" strike="noStrike">
              <a:solidFill>
                <a:srgbClr val="000000"/>
              </a:solidFill>
              <a:latin typeface="Arial"/>
            </a:endParaRPr>
          </a:p>
        </p:txBody>
      </p:sp>
      <p:sp>
        <p:nvSpPr>
          <p:cNvPr id="16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zlikujemo:</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e poslovanj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e financiranja 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vanredne prihode</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poslovanja nastaju iz osnovne djelatnosti poduzeća kao rezultat aktivnosti stvaranja i plasmana učinaka na tržištu.</a:t>
            </a:r>
            <a:r>
              <a:rPr b="0" lang="hr-HR" sz="3200" spc="-1" strike="noStrike">
                <a:solidFill>
                  <a:srgbClr val="000000"/>
                </a:solidFill>
                <a:latin typeface="Times New Roman"/>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203893C-0246-43F4-A51A-1C7B18202DA9}" type="slidenum">
              <a:t>495</a:t>
            </a:fld>
          </a:p>
        </p:txBody>
      </p:sp>
    </p:spTree>
  </p:cSld>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68000" y="1844280"/>
            <a:ext cx="7488360" cy="45370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jveći udio u prihodima poslovanja ima prodajna vrijednost poslovnih učinaka.</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od prodaje učinaka priznaju se kao prihod kada se ispune slijedeći uvjeti:</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odavatelj je prenio na kupca sve ili najveći dio rizika i koristi povezanih s učinkom, kao posljedicu prijenosa vlasništva,</a:t>
            </a:r>
            <a:endParaRPr b="0" lang="en-US" sz="2800" spc="-1" strike="noStrike">
              <a:solidFill>
                <a:srgbClr val="000000"/>
              </a:solidFill>
              <a:latin typeface="Arial"/>
            </a:endParaRPr>
          </a:p>
          <a:p>
            <a:pPr lvl="1" marL="705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troškovi koji su nastali ili će nastati zbog transakcije mogu se pouzdano izmjeriti.</a:t>
            </a:r>
            <a:endParaRPr b="0" lang="en-US" sz="2800" spc="-1" strike="noStrike">
              <a:solidFill>
                <a:srgbClr val="000000"/>
              </a:solidFill>
              <a:latin typeface="Arial"/>
            </a:endParaRPr>
          </a:p>
        </p:txBody>
      </p:sp>
      <p:sp>
        <p:nvSpPr>
          <p:cNvPr id="1645" name="PlaceHolder 2"/>
          <p:cNvSpPr>
            <a:spLocks noGrp="1"/>
          </p:cNvSpPr>
          <p:nvPr>
            <p:ph type="title"/>
          </p:nvPr>
        </p:nvSpPr>
        <p:spPr>
          <a:xfrm>
            <a:off x="1116000" y="62028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jam i obilježja prihod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4F7C7D57-A4E9-4CE8-ACBD-DB1EBCAB1F86}" type="slidenum">
              <a:t>496</a:t>
            </a:fld>
          </a:p>
        </p:txBody>
      </p:sp>
    </p:spTree>
  </p:cSld>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ojam i obilježja prihoda</a:t>
            </a:r>
            <a:endParaRPr b="0" lang="en-US" sz="4400" spc="-1" strike="noStrike">
              <a:solidFill>
                <a:srgbClr val="000000"/>
              </a:solidFill>
              <a:latin typeface="Arial"/>
            </a:endParaRPr>
          </a:p>
        </p:txBody>
      </p:sp>
      <p:sp>
        <p:nvSpPr>
          <p:cNvPr id="1647" name="PlaceHolder 2"/>
          <p:cNvSpPr>
            <a:spLocks noGrp="1"/>
          </p:cNvSpPr>
          <p:nvPr>
            <p:ph/>
          </p:nvPr>
        </p:nvSpPr>
        <p:spPr>
          <a:xfrm>
            <a:off x="684000" y="1341000"/>
            <a:ext cx="7056360" cy="47084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e postoji velika neizvjesnost u pogledu naplate i drugih činitelja kojima se označava dovršenost posla,</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slovni subjekt nije zadržao stalno sudjelovanje u upravljanju, do stupnja koji se obično povezuje s vlasništvom, niti učinkovito kontrolira prodani proizvod, odnosno rob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nos prihoda može se pouzdano izmjeri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7B1BC2-CD15-4FFA-AEAA-0AB545570A1F}" type="slidenum">
              <a:t>497</a:t>
            </a:fld>
          </a:p>
        </p:txBody>
      </p:sp>
    </p:spTree>
  </p:cSld>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financiranja ostvaruju se temeljem plasmana slobodnih financijskih sredstava na tržištu.</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vanredni prihodi obuhvaćaju prihode koji su nastali temeljem neplaniranog smanjenja obveza ili povećanja imovine te ih nije moguće predvidjeti.</a:t>
            </a:r>
            <a:endParaRPr b="0" lang="en-US" sz="2800" spc="-1" strike="noStrike">
              <a:solidFill>
                <a:srgbClr val="000000"/>
              </a:solidFill>
              <a:latin typeface="Arial"/>
            </a:endParaRPr>
          </a:p>
        </p:txBody>
      </p:sp>
      <p:sp>
        <p:nvSpPr>
          <p:cNvPr id="1649" name="PlaceHolder 2"/>
          <p:cNvSpPr>
            <a:spLocks noGrp="1"/>
          </p:cNvSpPr>
          <p:nvPr>
            <p:ph type="title"/>
          </p:nvPr>
        </p:nvSpPr>
        <p:spPr>
          <a:xfrm>
            <a:off x="1116000" y="691920"/>
            <a:ext cx="66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jam i obilježja prihod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E4969621-83DD-4CBC-A656-CA161FA1468F}" type="slidenum">
              <a:t>498</a:t>
            </a:fld>
          </a:p>
        </p:txBody>
      </p:sp>
    </p:spTree>
  </p:cSld>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1116000" y="691920"/>
            <a:ext cx="71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astanak prihoda</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651" name=""/>
          <p:cNvSpPr/>
          <p:nvPr/>
        </p:nvSpPr>
        <p:spPr>
          <a:xfrm>
            <a:off x="1447920" y="25909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2771640" y="2637000"/>
            <a:ext cx="0" cy="136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4788000" y="2565360"/>
            <a:ext cx="316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6400800" y="2590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1908000" y="206064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Imovina</a:t>
            </a:r>
            <a:endParaRPr b="0" lang="en-US" sz="2400" spc="-1" strike="noStrike">
              <a:solidFill>
                <a:srgbClr val="000000"/>
              </a:solidFill>
              <a:latin typeface="Arial"/>
            </a:endParaRPr>
          </a:p>
        </p:txBody>
      </p:sp>
      <p:sp>
        <p:nvSpPr>
          <p:cNvPr id="1656" name=""/>
          <p:cNvSpPr/>
          <p:nvPr/>
        </p:nvSpPr>
        <p:spPr>
          <a:xfrm>
            <a:off x="5486400" y="2057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bveze</a:t>
            </a:r>
            <a:endParaRPr b="0" lang="en-US" sz="2400" spc="-1" strike="noStrike">
              <a:solidFill>
                <a:srgbClr val="000000"/>
              </a:solidFill>
              <a:latin typeface="Arial"/>
            </a:endParaRPr>
          </a:p>
        </p:txBody>
      </p:sp>
      <p:sp>
        <p:nvSpPr>
          <p:cNvPr id="1657" name=""/>
          <p:cNvSpPr/>
          <p:nvPr/>
        </p:nvSpPr>
        <p:spPr>
          <a:xfrm flipV="1">
            <a:off x="3492360" y="4572000"/>
            <a:ext cx="22226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58" name=""/>
          <p:cNvSpPr/>
          <p:nvPr/>
        </p:nvSpPr>
        <p:spPr>
          <a:xfrm>
            <a:off x="3657600" y="3505320"/>
            <a:ext cx="2209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Prihodi</a:t>
            </a:r>
            <a:endParaRPr b="0" lang="en-US" sz="2400" spc="-1" strike="noStrike">
              <a:solidFill>
                <a:srgbClr val="000000"/>
              </a:solidFill>
              <a:latin typeface="Arial"/>
            </a:endParaRPr>
          </a:p>
        </p:txBody>
      </p:sp>
      <p:sp>
        <p:nvSpPr>
          <p:cNvPr id="1659" name=""/>
          <p:cNvSpPr/>
          <p:nvPr/>
        </p:nvSpPr>
        <p:spPr>
          <a:xfrm>
            <a:off x="1258920" y="2852640"/>
            <a:ext cx="145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ećanje imovine</a:t>
            </a:r>
            <a:endParaRPr b="0" lang="en-US" sz="2400" spc="-1" strike="noStrike">
              <a:solidFill>
                <a:srgbClr val="000000"/>
              </a:solidFill>
              <a:latin typeface="Arial"/>
            </a:endParaRPr>
          </a:p>
        </p:txBody>
      </p:sp>
      <p:sp>
        <p:nvSpPr>
          <p:cNvPr id="1660" name=""/>
          <p:cNvSpPr/>
          <p:nvPr/>
        </p:nvSpPr>
        <p:spPr>
          <a:xfrm>
            <a:off x="4800600" y="2819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manjenjeobveza</a:t>
            </a:r>
            <a:endParaRPr b="0" lang="en-US" sz="2400" spc="-1" strike="noStrike">
              <a:solidFill>
                <a:srgbClr val="000000"/>
              </a:solidFill>
              <a:latin typeface="Arial"/>
            </a:endParaRPr>
          </a:p>
        </p:txBody>
      </p:sp>
      <p:sp>
        <p:nvSpPr>
          <p:cNvPr id="1661" name=""/>
          <p:cNvSpPr/>
          <p:nvPr/>
        </p:nvSpPr>
        <p:spPr>
          <a:xfrm>
            <a:off x="4800600" y="46483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stanak       prihoda</a:t>
            </a:r>
            <a:endParaRPr b="0" lang="en-US" sz="2400" spc="-1" strike="noStrike">
              <a:solidFill>
                <a:srgbClr val="000000"/>
              </a:solidFill>
              <a:latin typeface="Arial"/>
            </a:endParaRPr>
          </a:p>
        </p:txBody>
      </p:sp>
      <p:sp>
        <p:nvSpPr>
          <p:cNvPr id="1662" name=""/>
          <p:cNvSpPr/>
          <p:nvPr/>
        </p:nvSpPr>
        <p:spPr>
          <a:xfrm>
            <a:off x="1979640" y="3933720"/>
            <a:ext cx="1440" cy="15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1981080" y="5486400"/>
            <a:ext cx="3124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6172200" y="35812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flipH="1">
            <a:off x="5334120" y="5638680"/>
            <a:ext cx="838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457200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A6752C4-B56A-496E-9C9D-7DCC26BDA42F}" type="slidenum">
              <a:t>49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DODATNA LITERATUR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Žager, K., računovodstvo za neračunovođe s osnovama računovodstva, HRIF, Zagreb, 2001.</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Časopis: Računovodstvo, revizija i financije, RRIF plus, Zagreb</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Časopis: Računovodstvo i financije, HRIF, Zagreb</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Časopis: Slobodno poduzetništvo, TEB, Zagreb</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2D220922-D495-4A1D-9663-B671D2EA7D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85800" y="380520"/>
            <a:ext cx="7772400" cy="6248520"/>
          </a:xfrm>
          <a:prstGeom prst="rect">
            <a:avLst/>
          </a:prstGeom>
          <a:noFill/>
          <a:ln w="0">
            <a:noFill/>
          </a:ln>
        </p:spPr>
        <p:txBody>
          <a:bodyPr lIns="90000" rIns="90000" tIns="46800" bIns="46800" anchor="t">
            <a:normAutofit fontScale="96000"/>
          </a:bodyPr>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3 </a:t>
            </a:r>
            <a:r>
              <a:rPr b="0" lang="hr-HR" sz="2700" spc="-1" strike="noStrike">
                <a:solidFill>
                  <a:srgbClr val="000000"/>
                </a:solidFill>
                <a:latin typeface="Arial"/>
              </a:rPr>
              <a:t>	</a:t>
            </a:r>
            <a:r>
              <a:rPr b="0" lang="hr-HR" sz="2700" spc="-1" strike="noStrike">
                <a:solidFill>
                  <a:srgbClr val="000000"/>
                </a:solidFill>
                <a:latin typeface="Arial"/>
              </a:rPr>
              <a:t>Zarade po dionici</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4 </a:t>
            </a:r>
            <a:r>
              <a:rPr b="0" lang="hr-HR" sz="2700" spc="-1" strike="noStrike">
                <a:solidFill>
                  <a:srgbClr val="000000"/>
                </a:solidFill>
                <a:latin typeface="Arial"/>
              </a:rPr>
              <a:t>	</a:t>
            </a:r>
            <a:r>
              <a:rPr b="0" lang="hr-HR" sz="2700" spc="-1" strike="noStrike">
                <a:solidFill>
                  <a:srgbClr val="000000"/>
                </a:solidFill>
                <a:latin typeface="Arial"/>
              </a:rPr>
              <a:t>Financijsko izvještavanje za razdoblja u</a:t>
            </a:r>
            <a:endParaRPr b="0" lang="en-US" sz="27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toku godine</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5 </a:t>
            </a:r>
            <a:r>
              <a:rPr b="0" lang="hr-HR" sz="2700" spc="-1" strike="noStrike">
                <a:solidFill>
                  <a:srgbClr val="000000"/>
                </a:solidFill>
                <a:latin typeface="Arial"/>
              </a:rPr>
              <a:t>	</a:t>
            </a:r>
            <a:r>
              <a:rPr b="0" lang="hr-HR" sz="2700" spc="-1" strike="noStrike">
                <a:solidFill>
                  <a:srgbClr val="000000"/>
                </a:solidFill>
                <a:latin typeface="Arial"/>
              </a:rPr>
              <a:t>Prestanak poslovanja</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6 </a:t>
            </a:r>
            <a:r>
              <a:rPr b="0" lang="hr-HR" sz="2700" spc="-1" strike="noStrike">
                <a:solidFill>
                  <a:srgbClr val="000000"/>
                </a:solidFill>
                <a:latin typeface="Arial"/>
              </a:rPr>
              <a:t>	</a:t>
            </a:r>
            <a:r>
              <a:rPr b="0" lang="hr-HR" sz="2700" spc="-1" strike="noStrike">
                <a:solidFill>
                  <a:srgbClr val="000000"/>
                </a:solidFill>
                <a:latin typeface="Arial"/>
              </a:rPr>
              <a:t>Umanjenje imovine</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7 </a:t>
            </a:r>
            <a:r>
              <a:rPr b="0" lang="hr-HR" sz="2700" spc="-1" strike="noStrike">
                <a:solidFill>
                  <a:srgbClr val="000000"/>
                </a:solidFill>
                <a:latin typeface="Arial"/>
              </a:rPr>
              <a:t>	</a:t>
            </a:r>
            <a:r>
              <a:rPr b="0" lang="hr-HR" sz="2700" spc="-1" strike="noStrike">
                <a:solidFill>
                  <a:srgbClr val="000000"/>
                </a:solidFill>
                <a:latin typeface="Arial"/>
              </a:rPr>
              <a:t>Rezerviranja, nepredviđene obveze i</a:t>
            </a:r>
            <a:endParaRPr b="0" lang="en-US" sz="27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nepredviđena imovina</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8 </a:t>
            </a:r>
            <a:r>
              <a:rPr b="0" lang="hr-HR" sz="2700" spc="-1" strike="noStrike">
                <a:solidFill>
                  <a:srgbClr val="000000"/>
                </a:solidFill>
                <a:latin typeface="Arial"/>
              </a:rPr>
              <a:t>	</a:t>
            </a:r>
            <a:r>
              <a:rPr b="0" lang="hr-HR" sz="2700" spc="-1" strike="noStrike">
                <a:solidFill>
                  <a:srgbClr val="000000"/>
                </a:solidFill>
                <a:latin typeface="Arial"/>
              </a:rPr>
              <a:t>Nematerijalna imovina</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9 </a:t>
            </a:r>
            <a:r>
              <a:rPr b="0" lang="hr-HR" sz="2700" spc="-1" strike="noStrike">
                <a:solidFill>
                  <a:srgbClr val="000000"/>
                </a:solidFill>
                <a:latin typeface="Arial"/>
              </a:rPr>
              <a:t>	</a:t>
            </a:r>
            <a:r>
              <a:rPr b="0" lang="hr-HR" sz="2700" spc="-1" strike="noStrike">
                <a:solidFill>
                  <a:srgbClr val="000000"/>
                </a:solidFill>
                <a:latin typeface="Arial"/>
              </a:rPr>
              <a:t>Financijski instrumenti: priznavanje i</a:t>
            </a:r>
            <a:endParaRPr b="0" lang="en-US" sz="27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mjerenje</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40 </a:t>
            </a:r>
            <a:r>
              <a:rPr b="0" lang="hr-HR" sz="2700" spc="-1" strike="noStrike">
                <a:solidFill>
                  <a:srgbClr val="000000"/>
                </a:solidFill>
                <a:latin typeface="Arial"/>
              </a:rPr>
              <a:t>	</a:t>
            </a:r>
            <a:r>
              <a:rPr b="0" lang="hr-HR" sz="2700" spc="-1" strike="noStrike">
                <a:solidFill>
                  <a:srgbClr val="000000"/>
                </a:solidFill>
                <a:latin typeface="Arial"/>
              </a:rPr>
              <a:t>Ulaganje u nekretnine</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41 </a:t>
            </a:r>
            <a:r>
              <a:rPr b="0" lang="hr-HR" sz="2700" spc="-1" strike="noStrike">
                <a:solidFill>
                  <a:srgbClr val="000000"/>
                </a:solidFill>
                <a:latin typeface="Arial"/>
              </a:rPr>
              <a:t>	</a:t>
            </a:r>
            <a:r>
              <a:rPr b="0" lang="hr-HR" sz="2700" spc="-1" strike="noStrike">
                <a:solidFill>
                  <a:srgbClr val="000000"/>
                </a:solidFill>
                <a:latin typeface="Arial"/>
              </a:rPr>
              <a:t>Poljoprivreda</a:t>
            </a:r>
            <a:endParaRPr b="0" lang="en-US" sz="2700" spc="-1" strike="noStrike">
              <a:solidFill>
                <a:srgbClr val="000000"/>
              </a:solidFill>
              <a:latin typeface="Arial"/>
            </a:endParaRPr>
          </a:p>
        </p:txBody>
      </p:sp>
      <p:sp>
        <p:nvSpPr>
          <p:cNvPr id="3" name="PlaceHolder 2"/>
          <p:cNvSpPr>
            <a:spLocks noGrp="1"/>
          </p:cNvSpPr>
          <p:nvPr>
            <p:ph type="sldNum" idx="3"/>
          </p:nvPr>
        </p:nvSpPr>
        <p:spPr/>
        <p:txBody>
          <a:bodyPr/>
          <a:p>
            <a:fld id="{AB1CC7B2-682E-4981-9B39-E9046541E716}" type="slidenum">
              <a:t>50</a:t>
            </a:fld>
          </a:p>
        </p:txBody>
      </p:sp>
    </p:spTree>
  </p:cSld>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1116000" y="691920"/>
            <a:ext cx="71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1668" name="PlaceHolder 2"/>
          <p:cNvSpPr>
            <a:spLocks noGrp="1"/>
          </p:cNvSpPr>
          <p:nvPr>
            <p:ph/>
          </p:nvPr>
        </p:nvSpPr>
        <p:spPr>
          <a:xfrm>
            <a:off x="1042920" y="1916280"/>
            <a:ext cx="7058160" cy="420984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Ispostavljen je račun kupcu gotovih proizvoda “C” u iznosu 200.000,00 kn + PDV.</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Kupac je platio doznakom na žiro-račun.</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imljen je predujam od kupca “D” za isporuku proizvoda u vrijednosti 300.000,00 sa uključenim PDV-om (kupcu je ispostavljen raču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B45934-6C1C-4EA1-BBA6-10C03FD92DFE}" type="slidenum">
              <a:t>500</a:t>
            </a:fld>
          </a:p>
        </p:txBody>
      </p:sp>
    </p:spTree>
  </p:cSld>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9" name=""/>
          <p:cNvGraphicFramePr/>
          <p:nvPr/>
        </p:nvGraphicFramePr>
        <p:xfrm>
          <a:off x="1042920" y="2060640"/>
          <a:ext cx="5531040" cy="3889440"/>
        </p:xfrm>
        <a:graphic>
          <a:graphicData uri="http://schemas.openxmlformats.org/drawingml/2006/table">
            <a:tbl>
              <a:tblPr/>
              <a:tblGrid>
                <a:gridCol w="503280"/>
                <a:gridCol w="2023920"/>
                <a:gridCol w="1098720"/>
                <a:gridCol w="873000"/>
                <a:gridCol w="103212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ostavljen račun kupcu gotovih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4.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5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upac je podmirio račun</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je predujam od kupca za isporuku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5</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ostavljen je račun kupcu za predujam</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4.098,3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5</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70" name="PlaceHolder 1"/>
          <p:cNvSpPr>
            <a:spLocks noGrp="1"/>
          </p:cNvSpPr>
          <p:nvPr>
            <p:ph type="title"/>
          </p:nvPr>
        </p:nvSpPr>
        <p:spPr>
          <a:xfrm>
            <a:off x="1116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477F0E3-3C72-4594-B4A9-C7E4068D183D}" type="slidenum">
              <a:t>501</a:t>
            </a:fld>
          </a:p>
        </p:txBody>
      </p:sp>
    </p:spTree>
  </p:cSld>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1258560" y="2332080"/>
            <a:ext cx="5257800" cy="3618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Isporučeni su proizvodi kupcu u inozemstvo te je izdan račun na 20.000 eura (1euro=7,40 kuna).</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Kupac je platio doznakom na devizni račun 20.000 eura po srednjem tečaju HNB na dan naplate 1 euro=7,35.</a:t>
            </a:r>
            <a:endParaRPr b="0" lang="en-US" sz="2800" spc="-1" strike="noStrike">
              <a:solidFill>
                <a:srgbClr val="000000"/>
              </a:solidFill>
              <a:latin typeface="Arial"/>
            </a:endParaRPr>
          </a:p>
        </p:txBody>
      </p:sp>
      <p:sp>
        <p:nvSpPr>
          <p:cNvPr id="1672" name="PlaceHolder 2"/>
          <p:cNvSpPr>
            <a:spLocks noGrp="1"/>
          </p:cNvSpPr>
          <p:nvPr>
            <p:ph type="title"/>
          </p:nvPr>
        </p:nvSpPr>
        <p:spPr>
          <a:xfrm>
            <a:off x="1116000" y="620280"/>
            <a:ext cx="68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2F6177A6-2CE5-486E-B76E-DEC7615F0729}" type="slidenum">
              <a:t>502</a:t>
            </a:fld>
          </a:p>
        </p:txBody>
      </p:sp>
    </p:spTree>
  </p:cSld>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3" name=""/>
          <p:cNvGraphicFramePr/>
          <p:nvPr/>
        </p:nvGraphicFramePr>
        <p:xfrm>
          <a:off x="1258920" y="2421000"/>
          <a:ext cx="5540400" cy="3529080"/>
        </p:xfrm>
        <a:graphic>
          <a:graphicData uri="http://schemas.openxmlformats.org/drawingml/2006/table">
            <a:tbl>
              <a:tblPr/>
              <a:tblGrid>
                <a:gridCol w="512640"/>
                <a:gridCol w="2024280"/>
                <a:gridCol w="1098360"/>
                <a:gridCol w="873360"/>
                <a:gridCol w="1031760"/>
              </a:tblGrid>
              <a:tr h="3895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dano je proizvoda kupcu u inozemstv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8.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5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upac je podmirio rač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8.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7.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4" name="PlaceHolder 1"/>
          <p:cNvSpPr>
            <a:spLocks noGrp="1"/>
          </p:cNvSpPr>
          <p:nvPr>
            <p:ph type="title"/>
          </p:nvPr>
        </p:nvSpPr>
        <p:spPr>
          <a:xfrm>
            <a:off x="1115640" y="62028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DA9B583-59E6-47FF-96D9-60E2333DB85C}" type="slidenum">
              <a:t>503</a:t>
            </a:fld>
          </a:p>
        </p:txBody>
      </p:sp>
    </p:spTree>
  </p:cSld>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1116000" y="1916280"/>
            <a:ext cx="568800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dano je robe kupcu “X” te je ispostavljen račun na 40.000,00 kn + PDV</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dano je robe na malo u vrijednosti 14.000,00 kn s uključenim PDV-om. Naplaćeno je čekovima građana.</a:t>
            </a:r>
            <a:endParaRPr b="0" lang="en-US" sz="2800" spc="-1" strike="noStrike">
              <a:solidFill>
                <a:srgbClr val="000000"/>
              </a:solidFill>
              <a:latin typeface="Arial"/>
            </a:endParaRPr>
          </a:p>
        </p:txBody>
      </p:sp>
      <p:sp>
        <p:nvSpPr>
          <p:cNvPr id="1676" name="PlaceHolder 2"/>
          <p:cNvSpPr>
            <a:spLocks noGrp="1"/>
          </p:cNvSpPr>
          <p:nvPr>
            <p:ph type="title"/>
          </p:nvPr>
        </p:nvSpPr>
        <p:spPr>
          <a:xfrm>
            <a:off x="1116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67050CF1-728F-40D4-B34F-C7B53C49CB50}" type="slidenum">
              <a:t>504</a:t>
            </a:fld>
          </a:p>
        </p:txBody>
      </p:sp>
    </p:spTree>
  </p:cSld>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type="title"/>
          </p:nvPr>
        </p:nvSpPr>
        <p:spPr>
          <a:xfrm>
            <a:off x="1115640" y="620280"/>
            <a:ext cx="755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graphicFrame>
        <p:nvGraphicFramePr>
          <p:cNvPr id="1678" name=""/>
          <p:cNvGraphicFramePr/>
          <p:nvPr/>
        </p:nvGraphicFramePr>
        <p:xfrm>
          <a:off x="468360" y="2565360"/>
          <a:ext cx="6305400" cy="3114720"/>
        </p:xfrm>
        <a:graphic>
          <a:graphicData uri="http://schemas.openxmlformats.org/drawingml/2006/table">
            <a:tbl>
              <a:tblPr/>
              <a:tblGrid>
                <a:gridCol w="503280"/>
                <a:gridCol w="2441520"/>
                <a:gridCol w="1512720"/>
                <a:gridCol w="816120"/>
                <a:gridCol w="103176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dano je robe kupcu “X”</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8.8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8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6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93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dano je robe na malo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oja je naplaćena čekovim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1.475,41</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524.59</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6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847BAEC8-5695-4744-849E-59BFBD332A25}" type="slidenum">
              <a:t>505</a:t>
            </a:fld>
          </a:p>
        </p:txBody>
      </p:sp>
    </p:spTree>
  </p:cSld>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Utvrđen je višak na zalihama materijala 3.000,00 k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Otpisane su nam obveze prema dobavljačima u iznosu 10.000,00 k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imili smo potporu za uzgoj pšenice 25.000,00 kn</a:t>
            </a:r>
            <a:endParaRPr b="0" lang="en-US" sz="2800" spc="-1" strike="noStrike">
              <a:solidFill>
                <a:srgbClr val="000000"/>
              </a:solidFill>
              <a:latin typeface="Arial"/>
            </a:endParaRPr>
          </a:p>
        </p:txBody>
      </p:sp>
      <p:sp>
        <p:nvSpPr>
          <p:cNvPr id="1680" name="PlaceHolder 2"/>
          <p:cNvSpPr>
            <a:spLocks noGrp="1"/>
          </p:cNvSpPr>
          <p:nvPr>
            <p:ph type="title"/>
          </p:nvPr>
        </p:nvSpPr>
        <p:spPr>
          <a:xfrm>
            <a:off x="1115640" y="620280"/>
            <a:ext cx="73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CAE6FE29-9635-4BB5-A633-A3562F202D8F}" type="slidenum">
              <a:t>506</a:t>
            </a:fld>
          </a:p>
        </p:txBody>
      </p:sp>
    </p:spTree>
  </p:cSld>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1115640" y="62028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graphicFrame>
        <p:nvGraphicFramePr>
          <p:cNvPr id="1682" name=""/>
          <p:cNvGraphicFramePr/>
          <p:nvPr/>
        </p:nvGraphicFramePr>
        <p:xfrm>
          <a:off x="1258920" y="2276640"/>
          <a:ext cx="5438880" cy="2712960"/>
        </p:xfrm>
        <a:graphic>
          <a:graphicData uri="http://schemas.openxmlformats.org/drawingml/2006/table">
            <a:tbl>
              <a:tblPr/>
              <a:tblGrid>
                <a:gridCol w="512640"/>
                <a:gridCol w="2024280"/>
                <a:gridCol w="996840"/>
                <a:gridCol w="873000"/>
                <a:gridCol w="1032120"/>
              </a:tblGrid>
              <a:tr h="3682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tvrđen višak na zalihama materija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tpisane obveze prema dobavljači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a potpora za uzgoj pšen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5.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7D9F636-FB73-4169-A2BC-0BB1D11727D2}" type="slidenum">
              <a:t>507</a:t>
            </a:fld>
          </a:p>
        </p:txBody>
      </p:sp>
    </p:spTree>
  </p:cSld>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1692000" y="2060280"/>
            <a:ext cx="6553080" cy="223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Obračun</a:t>
            </a:r>
            <a:br>
              <a:rPr sz="4800"/>
            </a:br>
            <a:r>
              <a:rPr b="0" lang="en-GB" sz="4800" spc="-1" strike="noStrike">
                <a:solidFill>
                  <a:srgbClr val="000000"/>
                </a:solidFill>
                <a:latin typeface="Arial"/>
              </a:rPr>
              <a:t>rezultata</a:t>
            </a:r>
            <a:br>
              <a:rPr sz="4800"/>
            </a:br>
            <a:r>
              <a:rPr b="0" lang="en-GB" sz="4800" spc="-1" strike="noStrike">
                <a:solidFill>
                  <a:srgbClr val="000000"/>
                </a:solidFill>
                <a:latin typeface="Arial"/>
              </a:rPr>
              <a:t>poslovanja</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A02EC0BF-8000-4E42-B92B-45DD84D49C07}" type="slidenum">
              <a:t>508</a:t>
            </a:fld>
          </a:p>
        </p:txBody>
      </p:sp>
    </p:spTree>
  </p:cSld>
  <p:transition>
    <p:randomBar dir="horz"/>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 presetSubtype="1">
                                  <p:stCondLst>
                                    <p:cond delay="0"/>
                                  </p:stCondLst>
                                  <p:childTnLst>
                                    <p:set>
                                      <p:cBhvr>
                                        <p:cTn id="166" dur="1" fill="hold">
                                          <p:stCondLst>
                                            <p:cond delay="0"/>
                                          </p:stCondLst>
                                        </p:cTn>
                                        <p:tgtEl>
                                          <p:spTgt spid="1683"/>
                                        </p:tgtEl>
                                        <p:attrNameLst>
                                          <p:attrName>style.visibility</p:attrName>
                                        </p:attrNameLst>
                                      </p:cBhvr>
                                      <p:to>
                                        <p:strVal val="visible"/>
                                      </p:to>
                                    </p:set>
                                    <p:anim calcmode="lin" valueType="num">
                                      <p:cBhvr additive="base">
                                        <p:cTn id="167" dur="500" fill="hold"/>
                                        <p:tgtEl>
                                          <p:spTgt spid="1683"/>
                                        </p:tgtEl>
                                        <p:attrNameLst>
                                          <p:attrName>ppt_x</p:attrName>
                                        </p:attrNameLst>
                                      </p:cBhvr>
                                      <p:tavLst>
                                        <p:tav tm="0">
                                          <p:val>
                                            <p:strVal val="#ppt_x"/>
                                          </p:val>
                                        </p:tav>
                                        <p:tav tm="100000">
                                          <p:val>
                                            <p:strVal val="#ppt_x"/>
                                          </p:val>
                                        </p:tav>
                                      </p:tavLst>
                                    </p:anim>
                                    <p:anim calcmode="lin" valueType="num">
                                      <p:cBhvr additive="base">
                                        <p:cTn id="168" dur="500" fill="hold"/>
                                        <p:tgtEl>
                                          <p:spTgt spid="16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
          <p:cNvSpPr/>
          <p:nvPr/>
        </p:nvSpPr>
        <p:spPr>
          <a:xfrm>
            <a:off x="395280" y="256392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1690560" y="2563920"/>
            <a:ext cx="0" cy="16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322200" y="494028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1690560" y="4940280"/>
            <a:ext cx="0" cy="151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3203640" y="328284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4572000" y="3282840"/>
            <a:ext cx="0" cy="316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6083280" y="2563920"/>
            <a:ext cx="266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7451640" y="2563920"/>
            <a:ext cx="0" cy="16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6083280" y="5011560"/>
            <a:ext cx="273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7451640" y="501156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395280" y="0"/>
            <a:ext cx="813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TVRĐIVANJE I ISKAZIVA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AČUNOVODSTVENO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EZULTATA POSLOVANJA</a:t>
            </a:r>
            <a:endParaRPr b="0" lang="en-US" sz="2800" spc="-1" strike="noStrike">
              <a:solidFill>
                <a:srgbClr val="000000"/>
              </a:solidFill>
              <a:latin typeface="Arial"/>
            </a:endParaRPr>
          </a:p>
        </p:txBody>
      </p:sp>
      <p:sp>
        <p:nvSpPr>
          <p:cNvPr id="1695" name=""/>
          <p:cNvSpPr/>
          <p:nvPr/>
        </p:nvSpPr>
        <p:spPr>
          <a:xfrm>
            <a:off x="307080" y="1889280"/>
            <a:ext cx="3381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0, 71  -  Troškovi prodanih proizvo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usluga i robe</a:t>
            </a:r>
            <a:r>
              <a:rPr b="0" lang="hr-HR" sz="1600" spc="-1" strike="noStrike">
                <a:solidFill>
                  <a:srgbClr val="000000"/>
                </a:solidFill>
                <a:latin typeface="Tahoma"/>
              </a:rPr>
              <a:t>  </a:t>
            </a:r>
            <a:endParaRPr b="0" lang="en-US" sz="1600" spc="-1" strike="noStrike">
              <a:solidFill>
                <a:srgbClr val="000000"/>
              </a:solidFill>
              <a:latin typeface="Arial"/>
            </a:endParaRPr>
          </a:p>
        </p:txBody>
      </p:sp>
      <p:sp>
        <p:nvSpPr>
          <p:cNvPr id="1696" name=""/>
          <p:cNvSpPr/>
          <p:nvPr/>
        </p:nvSpPr>
        <p:spPr>
          <a:xfrm>
            <a:off x="6170760" y="1890720"/>
            <a:ext cx="307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4, 75, 76  -  Prihodi od ulaganj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prodanih proizvoda, usluga i robe</a:t>
            </a:r>
            <a:r>
              <a:rPr b="0" lang="hr-HR" sz="1600" spc="-1" strike="noStrike">
                <a:solidFill>
                  <a:srgbClr val="000000"/>
                </a:solidFill>
                <a:latin typeface="Tahoma"/>
              </a:rPr>
              <a:t>  </a:t>
            </a:r>
            <a:endParaRPr b="0" lang="en-US" sz="1600" spc="-1" strike="noStrike">
              <a:solidFill>
                <a:srgbClr val="000000"/>
              </a:solidFill>
              <a:latin typeface="Arial"/>
            </a:endParaRPr>
          </a:p>
        </p:txBody>
      </p:sp>
      <p:sp>
        <p:nvSpPr>
          <p:cNvPr id="1697" name=""/>
          <p:cNvSpPr/>
          <p:nvPr/>
        </p:nvSpPr>
        <p:spPr>
          <a:xfrm>
            <a:off x="760680" y="4481640"/>
            <a:ext cx="220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2  -  Financijski rashodi</a:t>
            </a:r>
            <a:endParaRPr b="0" lang="en-US" sz="1600" spc="-1" strike="noStrike">
              <a:solidFill>
                <a:srgbClr val="000000"/>
              </a:solidFill>
              <a:latin typeface="Arial"/>
            </a:endParaRPr>
          </a:p>
        </p:txBody>
      </p:sp>
      <p:sp>
        <p:nvSpPr>
          <p:cNvPr id="1698" name=""/>
          <p:cNvSpPr/>
          <p:nvPr/>
        </p:nvSpPr>
        <p:spPr>
          <a:xfrm>
            <a:off x="6519960" y="455436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7  -  Financijski prihodi</a:t>
            </a:r>
            <a:endParaRPr b="0" lang="en-US" sz="1600" spc="-1" strike="noStrike">
              <a:solidFill>
                <a:srgbClr val="000000"/>
              </a:solidFill>
              <a:latin typeface="Arial"/>
            </a:endParaRPr>
          </a:p>
        </p:txBody>
      </p:sp>
      <p:sp>
        <p:nvSpPr>
          <p:cNvPr id="1699" name=""/>
          <p:cNvSpPr/>
          <p:nvPr/>
        </p:nvSpPr>
        <p:spPr>
          <a:xfrm>
            <a:off x="2874240" y="2608200"/>
            <a:ext cx="393264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90  -  Razlika prihoda i rashod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iz poslovanja</a:t>
            </a:r>
            <a:endParaRPr b="0" lang="en-US" sz="1600" spc="-1" strike="noStrike">
              <a:solidFill>
                <a:srgbClr val="000000"/>
              </a:solidFill>
              <a:latin typeface="Arial"/>
            </a:endParaRPr>
          </a:p>
        </p:txBody>
      </p:sp>
      <p:sp>
        <p:nvSpPr>
          <p:cNvPr id="1700" name=""/>
          <p:cNvSpPr/>
          <p:nvPr/>
        </p:nvSpPr>
        <p:spPr>
          <a:xfrm>
            <a:off x="2195640" y="3859200"/>
            <a:ext cx="18000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2195640" y="5659560"/>
            <a:ext cx="18000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flipH="1">
            <a:off x="5148360" y="3859200"/>
            <a:ext cx="17272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flipH="1">
            <a:off x="5148360" y="5659560"/>
            <a:ext cx="17272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4E1BE96-D5CF-4AFB-9020-D93428CBE485}" type="slidenum">
              <a:t>509</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2200" y="1557360"/>
            <a:ext cx="7993080" cy="4843440"/>
          </a:xfrm>
          <a:prstGeom prst="rect">
            <a:avLst/>
          </a:prstGeom>
          <a:noFill/>
          <a:ln w="0">
            <a:noFill/>
          </a:ln>
        </p:spPr>
        <p:txBody>
          <a:bodyPr lIns="90000" rIns="90000" tIns="46800" bIns="4680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Arial"/>
              </a:rPr>
              <a:t>Direktive</a:t>
            </a:r>
            <a:r>
              <a:rPr b="0" lang="hr-HR" sz="2600" spc="-1" strike="noStrike">
                <a:solidFill>
                  <a:srgbClr val="000000"/>
                </a:solidFill>
                <a:latin typeface="Arial"/>
              </a:rPr>
              <a:t>:</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Četvrta direktiva EU</a:t>
            </a:r>
            <a:r>
              <a:rPr b="0" lang="hr-HR" sz="2600" spc="-1" strike="noStrike">
                <a:solidFill>
                  <a:srgbClr val="000000"/>
                </a:solidFill>
                <a:latin typeface="Arial"/>
              </a:rPr>
              <a:t> – za godišnje račune d.d. i d.o.o.</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opće odredbe vezane za bilancu i račun dobiti i gubitka, odredbe o sastavu bilance i računa dobiti i gubitka i posebne odredbe za neke pozicije, pravila procjene i upute o sadržaju bilježaka i izvještaja o poslovanju, odredbe o objavljivanju i kontroli računovodstvenog izvještavanja)</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edma direktiva EU</a:t>
            </a:r>
            <a:r>
              <a:rPr b="0" lang="hr-HR" sz="2600" spc="-1" strike="noStrike">
                <a:solidFill>
                  <a:srgbClr val="000000"/>
                </a:solidFill>
                <a:latin typeface="Arial"/>
              </a:rPr>
              <a:t> – za složena poduzeća (konsolidirani financijski izvještaji)</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Harmonizacija računovodstva: usklađivanje sa MRS-ovima</a:t>
            </a:r>
            <a:endParaRPr b="0" lang="en-US" sz="2600" spc="-1" strike="noStrike">
              <a:solidFill>
                <a:srgbClr val="000000"/>
              </a:solidFill>
              <a:latin typeface="Arial"/>
            </a:endParaRPr>
          </a:p>
        </p:txBody>
      </p:sp>
      <p:sp>
        <p:nvSpPr>
          <p:cNvPr id="2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Međunarodni standardi financijskog izvještavanja</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E64601F7-D8E8-4728-8F2D-E7CED2ACF771}" type="slidenum">
              <a:t>51</a:t>
            </a:fld>
          </a:p>
        </p:txBody>
      </p:sp>
    </p:spTree>
  </p:cSld>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
          <p:cNvSpPr/>
          <p:nvPr/>
        </p:nvSpPr>
        <p:spPr>
          <a:xfrm>
            <a:off x="249120" y="83808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3274920" y="838080"/>
            <a:ext cx="266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6226200" y="838080"/>
            <a:ext cx="266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1546200" y="838080"/>
            <a:ext cx="0" cy="7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4570560" y="838080"/>
            <a:ext cx="0" cy="7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7523280" y="838080"/>
            <a:ext cx="0" cy="7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55960" y="192240"/>
            <a:ext cx="2754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3,  – Izvanredni rashodi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vrijednosna usklađenja</a:t>
            </a:r>
            <a:endParaRPr b="0" lang="en-US" sz="1600" spc="-1" strike="noStrike">
              <a:solidFill>
                <a:srgbClr val="000000"/>
              </a:solidFill>
              <a:latin typeface="Arial"/>
            </a:endParaRPr>
          </a:p>
        </p:txBody>
      </p:sp>
      <p:sp>
        <p:nvSpPr>
          <p:cNvPr id="1711" name=""/>
          <p:cNvSpPr/>
          <p:nvPr/>
        </p:nvSpPr>
        <p:spPr>
          <a:xfrm>
            <a:off x="3274920" y="217440"/>
            <a:ext cx="273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91 – Razlika izvanrednih prihoda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rashoda iz poslovanja</a:t>
            </a:r>
            <a:endParaRPr b="0" lang="en-US" sz="1600" spc="-1" strike="noStrike">
              <a:solidFill>
                <a:srgbClr val="000000"/>
              </a:solidFill>
              <a:latin typeface="Arial"/>
            </a:endParaRPr>
          </a:p>
        </p:txBody>
      </p:sp>
      <p:sp>
        <p:nvSpPr>
          <p:cNvPr id="1712" name=""/>
          <p:cNvSpPr/>
          <p:nvPr/>
        </p:nvSpPr>
        <p:spPr>
          <a:xfrm>
            <a:off x="6589800" y="38088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8 – Izvanredni prihodi</a:t>
            </a:r>
            <a:endParaRPr b="0" lang="en-US" sz="1600" spc="-1" strike="noStrike">
              <a:solidFill>
                <a:srgbClr val="000000"/>
              </a:solidFill>
              <a:latin typeface="Arial"/>
            </a:endParaRPr>
          </a:p>
        </p:txBody>
      </p:sp>
      <p:sp>
        <p:nvSpPr>
          <p:cNvPr id="1713" name=""/>
          <p:cNvSpPr/>
          <p:nvPr/>
        </p:nvSpPr>
        <p:spPr>
          <a:xfrm>
            <a:off x="2122560" y="1343160"/>
            <a:ext cx="18000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flipH="1">
            <a:off x="5218200" y="1343160"/>
            <a:ext cx="17272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249120" y="2998800"/>
            <a:ext cx="266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3274920" y="2998800"/>
            <a:ext cx="266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6154560" y="29988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1617840" y="299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4641840" y="299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7594560" y="299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98160" y="2541600"/>
            <a:ext cx="26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9 – Razlika prihoda i rashoda</a:t>
            </a:r>
            <a:endParaRPr b="0" lang="en-US" sz="1600" spc="-1" strike="noStrike">
              <a:solidFill>
                <a:srgbClr val="000000"/>
              </a:solidFill>
              <a:latin typeface="Arial"/>
            </a:endParaRPr>
          </a:p>
        </p:txBody>
      </p:sp>
      <p:sp>
        <p:nvSpPr>
          <p:cNvPr id="1722" name=""/>
          <p:cNvSpPr/>
          <p:nvPr/>
        </p:nvSpPr>
        <p:spPr>
          <a:xfrm>
            <a:off x="3567600" y="2397240"/>
            <a:ext cx="2404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 – Dobit ili gubitak prij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oporezivanja</a:t>
            </a:r>
            <a:endParaRPr b="0" lang="en-US" sz="1600" spc="-1" strike="noStrike">
              <a:solidFill>
                <a:srgbClr val="000000"/>
              </a:solidFill>
              <a:latin typeface="Arial"/>
            </a:endParaRPr>
          </a:p>
        </p:txBody>
      </p:sp>
      <p:sp>
        <p:nvSpPr>
          <p:cNvPr id="1723" name=""/>
          <p:cNvSpPr/>
          <p:nvPr/>
        </p:nvSpPr>
        <p:spPr>
          <a:xfrm>
            <a:off x="6375240" y="254160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3 – Obveze za porez iz dobiti</a:t>
            </a:r>
            <a:endParaRPr b="0" lang="en-US" sz="1600" spc="-1" strike="noStrike">
              <a:solidFill>
                <a:srgbClr val="000000"/>
              </a:solidFill>
              <a:latin typeface="Arial"/>
            </a:endParaRPr>
          </a:p>
        </p:txBody>
      </p:sp>
      <p:sp>
        <p:nvSpPr>
          <p:cNvPr id="1724" name=""/>
          <p:cNvSpPr/>
          <p:nvPr/>
        </p:nvSpPr>
        <p:spPr>
          <a:xfrm>
            <a:off x="6226200" y="443880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7594560" y="44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6373080" y="398160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50 – Neto dobit tekuće godine</a:t>
            </a:r>
            <a:endParaRPr b="0" lang="en-US" sz="1600" spc="-1" strike="noStrike">
              <a:solidFill>
                <a:srgbClr val="000000"/>
              </a:solidFill>
              <a:latin typeface="Arial"/>
            </a:endParaRPr>
          </a:p>
        </p:txBody>
      </p:sp>
      <p:sp>
        <p:nvSpPr>
          <p:cNvPr id="1727" name=""/>
          <p:cNvSpPr/>
          <p:nvPr/>
        </p:nvSpPr>
        <p:spPr>
          <a:xfrm>
            <a:off x="1041480" y="3359160"/>
            <a:ext cx="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1041480" y="4078440"/>
            <a:ext cx="410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flipV="1">
            <a:off x="5146560" y="3430440"/>
            <a:ext cx="0" cy="648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4210200" y="3430440"/>
            <a:ext cx="0" cy="201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4210200" y="3933720"/>
            <a:ext cx="381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4210200" y="5446800"/>
            <a:ext cx="381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flipV="1">
            <a:off x="8026560" y="3501720"/>
            <a:ext cx="0" cy="4316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flipV="1">
            <a:off x="8026560" y="5014800"/>
            <a:ext cx="0" cy="432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231840" y="5587920"/>
            <a:ext cx="87328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4783940-3430-4891-AC4E-E5C1989C606F}" type="slidenum">
              <a:t>510</a:t>
            </a:fld>
          </a:p>
        </p:txBody>
      </p:sp>
    </p:spTree>
  </p:cSld>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Arial"/>
              </a:rPr>
              <a:t>Napomena:</a:t>
            </a:r>
            <a:r>
              <a:rPr b="0" lang="hr-HR" sz="2400" spc="-1" strike="noStrike">
                <a:solidFill>
                  <a:srgbClr val="000000"/>
                </a:solidFill>
                <a:latin typeface="Arial"/>
              </a:rPr>
              <a:t> u slučaju gubitka provode se obrnuta knjiženja na kontu 951 – Gubitak tekuće god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nos porezne obveze utvrđen u PD obrascu za tekuću godinu umanjuje se za porezne učinke nastale privremene    razlike u tekućoj godini i uvećava za porezne učinke ukinute privremene razlike u tekućoj godini da bi se dobio iznos poreza na dobit koji se mora pokriti iz dobiti tekuće godine. Ove se privremene razlike iskazuju preko konta vremenskih razgraničenja.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5948CF4-C0AB-44DB-96F3-9127EED2F844}" type="slidenum">
              <a:t>511</a:t>
            </a:fld>
          </a:p>
        </p:txBody>
      </p:sp>
    </p:spTree>
  </p:cSld>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Utvrdite i proknjižite bruto i neto rezultat poslovanj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temeljem sljedećih podatak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0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30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5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50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2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12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7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13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3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8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8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11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orez na dobit –   </a:t>
            </a:r>
            <a:r>
              <a:rPr b="0" lang="hr-HR" sz="2400" spc="-1" strike="noStrike">
                <a:solidFill>
                  <a:srgbClr val="000000"/>
                </a:solidFill>
                <a:latin typeface="Times New Roman"/>
              </a:rPr>
              <a:t>50.</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rasporediti 5% za zakonske rezerve, 10% za statutarne rezerve, za dividende 10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ostatak čini zadržanu dobi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BE33CB-DF27-4CA8-B281-E5DCA7ECE8B9}" type="slidenum">
              <a:t>512</a:t>
            </a:fld>
          </a:p>
        </p:txBody>
      </p:sp>
    </p:spTree>
  </p:cSld>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250920" y="2419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3274920" y="2419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6227640" y="2419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690560" y="2419200"/>
            <a:ext cx="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7667640" y="2419200"/>
            <a:ext cx="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4714920" y="2419200"/>
            <a:ext cx="0" cy="19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250920" y="3643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6227640" y="3643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1690560" y="3643200"/>
            <a:ext cx="0" cy="72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7667640" y="3643200"/>
            <a:ext cx="0" cy="72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325800" y="1890720"/>
            <a:ext cx="2975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0 - Troškovi prodanih proizvo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usluga i robe</a:t>
            </a:r>
            <a:r>
              <a:rPr b="0" lang="hr-HR" sz="1600" spc="-1" strike="noStrike">
                <a:solidFill>
                  <a:srgbClr val="000000"/>
                </a:solidFill>
                <a:latin typeface="Tahoma"/>
              </a:rPr>
              <a:t>  </a:t>
            </a:r>
            <a:endParaRPr b="0" lang="en-US" sz="1600" spc="-1" strike="noStrike">
              <a:solidFill>
                <a:srgbClr val="000000"/>
              </a:solidFill>
              <a:latin typeface="Arial"/>
            </a:endParaRPr>
          </a:p>
        </p:txBody>
      </p:sp>
      <p:sp>
        <p:nvSpPr>
          <p:cNvPr id="1750" name=""/>
          <p:cNvSpPr/>
          <p:nvPr/>
        </p:nvSpPr>
        <p:spPr>
          <a:xfrm>
            <a:off x="687600" y="3330720"/>
            <a:ext cx="220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2  -  Financijski rashodi</a:t>
            </a:r>
            <a:endParaRPr b="0" lang="en-US" sz="1600" spc="-1" strike="noStrike">
              <a:solidFill>
                <a:srgbClr val="000000"/>
              </a:solidFill>
              <a:latin typeface="Arial"/>
            </a:endParaRPr>
          </a:p>
        </p:txBody>
      </p:sp>
      <p:sp>
        <p:nvSpPr>
          <p:cNvPr id="1751" name=""/>
          <p:cNvSpPr/>
          <p:nvPr/>
        </p:nvSpPr>
        <p:spPr>
          <a:xfrm>
            <a:off x="6530400" y="1890720"/>
            <a:ext cx="2503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5- Prihodi od prodani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proizvoda usluga i robe</a:t>
            </a:r>
            <a:r>
              <a:rPr b="0" lang="hr-HR" sz="1600" spc="-1" strike="noStrike">
                <a:solidFill>
                  <a:srgbClr val="000000"/>
                </a:solidFill>
                <a:latin typeface="Tahoma"/>
              </a:rPr>
              <a:t>  </a:t>
            </a:r>
            <a:endParaRPr b="0" lang="en-US" sz="1600" spc="-1" strike="noStrike">
              <a:solidFill>
                <a:srgbClr val="000000"/>
              </a:solidFill>
              <a:latin typeface="Arial"/>
            </a:endParaRPr>
          </a:p>
        </p:txBody>
      </p:sp>
      <p:sp>
        <p:nvSpPr>
          <p:cNvPr id="1752" name=""/>
          <p:cNvSpPr/>
          <p:nvPr/>
        </p:nvSpPr>
        <p:spPr>
          <a:xfrm>
            <a:off x="6664320" y="33307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7  -  Financijski prihodi</a:t>
            </a:r>
            <a:endParaRPr b="0" lang="en-US" sz="1600" spc="-1" strike="noStrike">
              <a:solidFill>
                <a:srgbClr val="000000"/>
              </a:solidFill>
              <a:latin typeface="Arial"/>
            </a:endParaRPr>
          </a:p>
        </p:txBody>
      </p:sp>
      <p:sp>
        <p:nvSpPr>
          <p:cNvPr id="1753" name=""/>
          <p:cNvSpPr/>
          <p:nvPr/>
        </p:nvSpPr>
        <p:spPr>
          <a:xfrm>
            <a:off x="2967840" y="1890720"/>
            <a:ext cx="37515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90  -  Razlika prihoda i rashod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iz poslovanja</a:t>
            </a:r>
            <a:endParaRPr b="0" lang="en-US" sz="1600" spc="-1" strike="noStrike">
              <a:solidFill>
                <a:srgbClr val="000000"/>
              </a:solidFill>
              <a:latin typeface="Arial"/>
            </a:endParaRPr>
          </a:p>
        </p:txBody>
      </p:sp>
      <p:sp>
        <p:nvSpPr>
          <p:cNvPr id="1754" name=""/>
          <p:cNvSpPr/>
          <p:nvPr/>
        </p:nvSpPr>
        <p:spPr>
          <a:xfrm>
            <a:off x="682920" y="246708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300.000,00</a:t>
            </a:r>
            <a:endParaRPr b="0" lang="en-US" sz="1600" spc="-1" strike="noStrike">
              <a:solidFill>
                <a:srgbClr val="000000"/>
              </a:solidFill>
              <a:latin typeface="Arial"/>
            </a:endParaRPr>
          </a:p>
        </p:txBody>
      </p:sp>
      <p:sp>
        <p:nvSpPr>
          <p:cNvPr id="1755" name=""/>
          <p:cNvSpPr/>
          <p:nvPr/>
        </p:nvSpPr>
        <p:spPr>
          <a:xfrm>
            <a:off x="1692360" y="246708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300.000,00  (1)</a:t>
            </a:r>
            <a:endParaRPr b="0" lang="en-US" sz="1600" spc="-1" strike="noStrike">
              <a:solidFill>
                <a:srgbClr val="000000"/>
              </a:solidFill>
              <a:latin typeface="Arial"/>
            </a:endParaRPr>
          </a:p>
        </p:txBody>
      </p:sp>
      <p:sp>
        <p:nvSpPr>
          <p:cNvPr id="1756" name=""/>
          <p:cNvSpPr/>
          <p:nvPr/>
        </p:nvSpPr>
        <p:spPr>
          <a:xfrm>
            <a:off x="682920" y="369108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20.000,00</a:t>
            </a:r>
            <a:endParaRPr b="0" lang="en-US" sz="1600" spc="-1" strike="noStrike">
              <a:solidFill>
                <a:srgbClr val="000000"/>
              </a:solidFill>
              <a:latin typeface="Arial"/>
            </a:endParaRPr>
          </a:p>
        </p:txBody>
      </p:sp>
      <p:sp>
        <p:nvSpPr>
          <p:cNvPr id="1757" name=""/>
          <p:cNvSpPr/>
          <p:nvPr/>
        </p:nvSpPr>
        <p:spPr>
          <a:xfrm>
            <a:off x="1692000" y="36910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20.000,00 (3)</a:t>
            </a:r>
            <a:endParaRPr b="0" lang="en-US" sz="1600" spc="-1" strike="noStrike">
              <a:solidFill>
                <a:srgbClr val="000000"/>
              </a:solidFill>
              <a:latin typeface="Arial"/>
            </a:endParaRPr>
          </a:p>
        </p:txBody>
      </p:sp>
      <p:sp>
        <p:nvSpPr>
          <p:cNvPr id="1758" name=""/>
          <p:cNvSpPr/>
          <p:nvPr/>
        </p:nvSpPr>
        <p:spPr>
          <a:xfrm>
            <a:off x="6424560" y="24652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 500.000,00</a:t>
            </a:r>
            <a:endParaRPr b="0" lang="en-US" sz="1600" spc="-1" strike="noStrike">
              <a:solidFill>
                <a:srgbClr val="000000"/>
              </a:solidFill>
              <a:latin typeface="Arial"/>
            </a:endParaRPr>
          </a:p>
        </p:txBody>
      </p:sp>
      <p:sp>
        <p:nvSpPr>
          <p:cNvPr id="1759" name=""/>
          <p:cNvSpPr/>
          <p:nvPr/>
        </p:nvSpPr>
        <p:spPr>
          <a:xfrm>
            <a:off x="7667640" y="246708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0.000,00</a:t>
            </a:r>
            <a:endParaRPr b="0" lang="en-US" sz="1600" spc="-1" strike="noStrike">
              <a:solidFill>
                <a:srgbClr val="000000"/>
              </a:solidFill>
              <a:latin typeface="Arial"/>
            </a:endParaRPr>
          </a:p>
        </p:txBody>
      </p:sp>
      <p:sp>
        <p:nvSpPr>
          <p:cNvPr id="1760" name=""/>
          <p:cNvSpPr/>
          <p:nvPr/>
        </p:nvSpPr>
        <p:spPr>
          <a:xfrm>
            <a:off x="6424560" y="376092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4) 130.000,00</a:t>
            </a:r>
            <a:endParaRPr b="0" lang="en-US" sz="1600" spc="-1" strike="noStrike">
              <a:solidFill>
                <a:srgbClr val="000000"/>
              </a:solidFill>
              <a:latin typeface="Arial"/>
            </a:endParaRPr>
          </a:p>
        </p:txBody>
      </p:sp>
      <p:sp>
        <p:nvSpPr>
          <p:cNvPr id="1761" name=""/>
          <p:cNvSpPr/>
          <p:nvPr/>
        </p:nvSpPr>
        <p:spPr>
          <a:xfrm>
            <a:off x="7667640" y="376236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30.000,00</a:t>
            </a:r>
            <a:endParaRPr b="0" lang="en-US" sz="1600" spc="-1" strike="noStrike">
              <a:solidFill>
                <a:srgbClr val="000000"/>
              </a:solidFill>
              <a:latin typeface="Arial"/>
            </a:endParaRPr>
          </a:p>
        </p:txBody>
      </p:sp>
      <p:sp>
        <p:nvSpPr>
          <p:cNvPr id="1762" name=""/>
          <p:cNvSpPr/>
          <p:nvPr/>
        </p:nvSpPr>
        <p:spPr>
          <a:xfrm>
            <a:off x="3473280" y="2465280"/>
            <a:ext cx="1384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 300.0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3) 120.0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 210.000,00</a:t>
            </a:r>
            <a:endParaRPr b="0" lang="en-US" sz="1600" spc="-1" strike="noStrike">
              <a:solidFill>
                <a:srgbClr val="000000"/>
              </a:solidFill>
              <a:latin typeface="Arial"/>
            </a:endParaRPr>
          </a:p>
        </p:txBody>
      </p:sp>
      <p:sp>
        <p:nvSpPr>
          <p:cNvPr id="1763" name=""/>
          <p:cNvSpPr/>
          <p:nvPr/>
        </p:nvSpPr>
        <p:spPr>
          <a:xfrm>
            <a:off x="4716360" y="2467080"/>
            <a:ext cx="13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0.000,00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30.000,00 (4)</a:t>
            </a:r>
            <a:endParaRPr b="0" lang="en-US" sz="1600" spc="-1" strike="noStrike">
              <a:solidFill>
                <a:srgbClr val="000000"/>
              </a:solidFill>
              <a:latin typeface="Arial"/>
            </a:endParaRPr>
          </a:p>
        </p:txBody>
      </p:sp>
      <p:sp>
        <p:nvSpPr>
          <p:cNvPr id="1764" name=""/>
          <p:cNvSpPr/>
          <p:nvPr/>
        </p:nvSpPr>
        <p:spPr>
          <a:xfrm>
            <a:off x="250920" y="522756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3274920" y="522756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6227640" y="522756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1690560" y="5227560"/>
            <a:ext cx="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7667640" y="5227560"/>
            <a:ext cx="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4714920" y="5227560"/>
            <a:ext cx="0" cy="158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760320" y="491508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3 - Izvanredni rashodi</a:t>
            </a:r>
            <a:endParaRPr b="0" lang="en-US" sz="1600" spc="-1" strike="noStrike">
              <a:solidFill>
                <a:srgbClr val="000000"/>
              </a:solidFill>
              <a:latin typeface="Arial"/>
            </a:endParaRPr>
          </a:p>
        </p:txBody>
      </p:sp>
      <p:sp>
        <p:nvSpPr>
          <p:cNvPr id="1771" name=""/>
          <p:cNvSpPr/>
          <p:nvPr/>
        </p:nvSpPr>
        <p:spPr>
          <a:xfrm>
            <a:off x="6662880" y="491508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8 – Izvanredni prihodi</a:t>
            </a:r>
            <a:endParaRPr b="0" lang="en-US" sz="1600" spc="-1" strike="noStrike">
              <a:solidFill>
                <a:srgbClr val="000000"/>
              </a:solidFill>
              <a:latin typeface="Arial"/>
            </a:endParaRPr>
          </a:p>
        </p:txBody>
      </p:sp>
      <p:sp>
        <p:nvSpPr>
          <p:cNvPr id="1772" name=""/>
          <p:cNvSpPr/>
          <p:nvPr/>
        </p:nvSpPr>
        <p:spPr>
          <a:xfrm>
            <a:off x="3348000" y="4724280"/>
            <a:ext cx="273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91 – Razlika izvanrednih prihoda i rashoda iz poslovanja</a:t>
            </a:r>
            <a:endParaRPr b="0" lang="en-US" sz="1600" spc="-1" strike="noStrike">
              <a:solidFill>
                <a:srgbClr val="000000"/>
              </a:solidFill>
              <a:latin typeface="Arial"/>
            </a:endParaRPr>
          </a:p>
        </p:txBody>
      </p:sp>
      <p:sp>
        <p:nvSpPr>
          <p:cNvPr id="1773" name=""/>
          <p:cNvSpPr/>
          <p:nvPr/>
        </p:nvSpPr>
        <p:spPr>
          <a:xfrm>
            <a:off x="756000" y="527544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000,00</a:t>
            </a:r>
            <a:endParaRPr b="0" lang="en-US" sz="1600" spc="-1" strike="noStrike">
              <a:solidFill>
                <a:srgbClr val="000000"/>
              </a:solidFill>
              <a:latin typeface="Arial"/>
            </a:endParaRPr>
          </a:p>
        </p:txBody>
      </p:sp>
      <p:sp>
        <p:nvSpPr>
          <p:cNvPr id="1774" name=""/>
          <p:cNvSpPr/>
          <p:nvPr/>
        </p:nvSpPr>
        <p:spPr>
          <a:xfrm>
            <a:off x="1692000" y="527544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000,00 (5)</a:t>
            </a:r>
            <a:endParaRPr b="0" lang="en-US" sz="1600" spc="-1" strike="noStrike">
              <a:solidFill>
                <a:srgbClr val="000000"/>
              </a:solidFill>
              <a:latin typeface="Arial"/>
            </a:endParaRPr>
          </a:p>
        </p:txBody>
      </p:sp>
      <p:sp>
        <p:nvSpPr>
          <p:cNvPr id="1775" name=""/>
          <p:cNvSpPr/>
          <p:nvPr/>
        </p:nvSpPr>
        <p:spPr>
          <a:xfrm>
            <a:off x="7667640" y="527544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10.000,00</a:t>
            </a:r>
            <a:endParaRPr b="0" lang="en-US" sz="1600" spc="-1" strike="noStrike">
              <a:solidFill>
                <a:srgbClr val="000000"/>
              </a:solidFill>
              <a:latin typeface="Arial"/>
            </a:endParaRPr>
          </a:p>
        </p:txBody>
      </p:sp>
      <p:sp>
        <p:nvSpPr>
          <p:cNvPr id="1776" name=""/>
          <p:cNvSpPr/>
          <p:nvPr/>
        </p:nvSpPr>
        <p:spPr>
          <a:xfrm>
            <a:off x="6372360" y="5300640"/>
            <a:ext cx="135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 110.000,00 </a:t>
            </a:r>
            <a:endParaRPr b="0" lang="en-US" sz="1600" spc="-1" strike="noStrike">
              <a:solidFill>
                <a:srgbClr val="000000"/>
              </a:solidFill>
              <a:latin typeface="Arial"/>
            </a:endParaRPr>
          </a:p>
        </p:txBody>
      </p:sp>
      <p:sp>
        <p:nvSpPr>
          <p:cNvPr id="1777" name=""/>
          <p:cNvSpPr/>
          <p:nvPr/>
        </p:nvSpPr>
        <p:spPr>
          <a:xfrm>
            <a:off x="3492360" y="5275440"/>
            <a:ext cx="128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 80.0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 30.000,00</a:t>
            </a:r>
            <a:endParaRPr b="0" lang="en-US" sz="1600" spc="-1" strike="noStrike">
              <a:solidFill>
                <a:srgbClr val="000000"/>
              </a:solidFill>
              <a:latin typeface="Arial"/>
            </a:endParaRPr>
          </a:p>
        </p:txBody>
      </p:sp>
      <p:sp>
        <p:nvSpPr>
          <p:cNvPr id="1778" name=""/>
          <p:cNvSpPr/>
          <p:nvPr/>
        </p:nvSpPr>
        <p:spPr>
          <a:xfrm>
            <a:off x="4768560" y="527364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10.000,00 (7)</a:t>
            </a:r>
            <a:endParaRPr b="0" lang="en-US" sz="1600" spc="-1" strike="noStrike">
              <a:solidFill>
                <a:srgbClr val="000000"/>
              </a:solidFill>
              <a:latin typeface="Arial"/>
            </a:endParaRPr>
          </a:p>
        </p:txBody>
      </p:sp>
      <p:sp>
        <p:nvSpPr>
          <p:cNvPr id="1779" name=""/>
          <p:cNvSpPr/>
          <p:nvPr/>
        </p:nvSpPr>
        <p:spPr>
          <a:xfrm>
            <a:off x="1403280" y="285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1403280" y="292428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1403280" y="4076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1403280" y="414828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4427640" y="328464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4427640" y="335592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0360" y="285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7380360" y="292428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380360" y="421956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7380360" y="414828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1403280" y="566100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1403280" y="573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7380360" y="573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7380360" y="566100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4427640" y="616428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427640" y="609300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457EC5E-D942-4D11-9041-84EED4FBAF8B}" type="slidenum">
              <a:t>513</a:t>
            </a:fld>
          </a:p>
        </p:txBody>
      </p:sp>
    </p:spTree>
  </p:cSld>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
          <p:cNvSpPr/>
          <p:nvPr/>
        </p:nvSpPr>
        <p:spPr>
          <a:xfrm>
            <a:off x="309600" y="234792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3335400" y="234792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6286680" y="234792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50920" y="386064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39640" y="5589720"/>
            <a:ext cx="251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3133800" y="388764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3348000" y="5589720"/>
            <a:ext cx="252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02" name=""/>
          <p:cNvSpPr/>
          <p:nvPr/>
        </p:nvSpPr>
        <p:spPr>
          <a:xfrm>
            <a:off x="6083280" y="561348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6156360" y="386064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1677960" y="234792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702320" y="234792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7655040" y="234792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1476360" y="3887640"/>
            <a:ext cx="0" cy="100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1474920" y="561348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4500720" y="3887640"/>
            <a:ext cx="0" cy="100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4498920" y="561348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7451640" y="561348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7453440" y="3887640"/>
            <a:ext cx="0" cy="100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330480" y="1773360"/>
            <a:ext cx="281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0 - Dobit ili gubitak prij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oporezivanja iz poslovanja</a:t>
            </a:r>
            <a:endParaRPr b="0" lang="en-US" sz="1600" spc="-1" strike="noStrike">
              <a:solidFill>
                <a:srgbClr val="000000"/>
              </a:solidFill>
              <a:latin typeface="Arial"/>
            </a:endParaRPr>
          </a:p>
        </p:txBody>
      </p:sp>
      <p:sp>
        <p:nvSpPr>
          <p:cNvPr id="1814" name=""/>
          <p:cNvSpPr/>
          <p:nvPr/>
        </p:nvSpPr>
        <p:spPr>
          <a:xfrm>
            <a:off x="3637800" y="1700280"/>
            <a:ext cx="205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3 – Porez na dobita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ili gubitak</a:t>
            </a:r>
            <a:endParaRPr b="0" lang="en-US" sz="1600" spc="-1" strike="noStrike">
              <a:solidFill>
                <a:srgbClr val="000000"/>
              </a:solidFill>
              <a:latin typeface="Arial"/>
            </a:endParaRPr>
          </a:p>
        </p:txBody>
      </p:sp>
      <p:sp>
        <p:nvSpPr>
          <p:cNvPr id="1815" name=""/>
          <p:cNvSpPr/>
          <p:nvPr/>
        </p:nvSpPr>
        <p:spPr>
          <a:xfrm>
            <a:off x="6516720" y="1773360"/>
            <a:ext cx="230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4 – Dobit ili gubita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poslije svih oporezivanja</a:t>
            </a:r>
            <a:endParaRPr b="0" lang="en-US" sz="1600" spc="-1" strike="noStrike">
              <a:solidFill>
                <a:srgbClr val="000000"/>
              </a:solidFill>
              <a:latin typeface="Arial"/>
            </a:endParaRPr>
          </a:p>
        </p:txBody>
      </p:sp>
      <p:sp>
        <p:nvSpPr>
          <p:cNvPr id="1816" name=""/>
          <p:cNvSpPr/>
          <p:nvPr/>
        </p:nvSpPr>
        <p:spPr>
          <a:xfrm>
            <a:off x="257040" y="357336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3 – Obveze za porez iz dobiti</a:t>
            </a:r>
            <a:endParaRPr b="0" lang="en-US" sz="1600" spc="-1" strike="noStrike">
              <a:solidFill>
                <a:srgbClr val="000000"/>
              </a:solidFill>
              <a:latin typeface="Arial"/>
            </a:endParaRPr>
          </a:p>
        </p:txBody>
      </p:sp>
      <p:sp>
        <p:nvSpPr>
          <p:cNvPr id="1817" name=""/>
          <p:cNvSpPr/>
          <p:nvPr/>
        </p:nvSpPr>
        <p:spPr>
          <a:xfrm>
            <a:off x="3279240" y="3573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50 – Neto dobit tekuće godine</a:t>
            </a:r>
            <a:endParaRPr b="0" lang="en-US" sz="1600" spc="-1" strike="noStrike">
              <a:solidFill>
                <a:srgbClr val="000000"/>
              </a:solidFill>
              <a:latin typeface="Arial"/>
            </a:endParaRPr>
          </a:p>
        </p:txBody>
      </p:sp>
      <p:sp>
        <p:nvSpPr>
          <p:cNvPr id="1818" name=""/>
          <p:cNvSpPr/>
          <p:nvPr/>
        </p:nvSpPr>
        <p:spPr>
          <a:xfrm>
            <a:off x="6519960" y="3573360"/>
            <a:ext cx="21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30 – Zakonske rezerve</a:t>
            </a:r>
            <a:endParaRPr b="0" lang="en-US" sz="1600" spc="-1" strike="noStrike">
              <a:solidFill>
                <a:srgbClr val="000000"/>
              </a:solidFill>
              <a:latin typeface="Arial"/>
            </a:endParaRPr>
          </a:p>
        </p:txBody>
      </p:sp>
      <p:sp>
        <p:nvSpPr>
          <p:cNvPr id="1819" name=""/>
          <p:cNvSpPr/>
          <p:nvPr/>
        </p:nvSpPr>
        <p:spPr>
          <a:xfrm>
            <a:off x="546120" y="530064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32 - Statutarne rezerve</a:t>
            </a:r>
            <a:endParaRPr b="0" lang="en-US" sz="1600" spc="-1" strike="noStrike">
              <a:solidFill>
                <a:srgbClr val="000000"/>
              </a:solidFill>
              <a:latin typeface="Arial"/>
            </a:endParaRPr>
          </a:p>
        </p:txBody>
      </p:sp>
      <p:sp>
        <p:nvSpPr>
          <p:cNvPr id="1820" name=""/>
          <p:cNvSpPr/>
          <p:nvPr/>
        </p:nvSpPr>
        <p:spPr>
          <a:xfrm>
            <a:off x="3350520" y="5084640"/>
            <a:ext cx="2620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01- Obveze po osnovi udje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u rezultatu</a:t>
            </a:r>
            <a:endParaRPr b="0" lang="en-US" sz="1600" spc="-1" strike="noStrike">
              <a:solidFill>
                <a:srgbClr val="000000"/>
              </a:solidFill>
              <a:latin typeface="Arial"/>
            </a:endParaRPr>
          </a:p>
        </p:txBody>
      </p:sp>
      <p:sp>
        <p:nvSpPr>
          <p:cNvPr id="1821" name=""/>
          <p:cNvSpPr/>
          <p:nvPr/>
        </p:nvSpPr>
        <p:spPr>
          <a:xfrm>
            <a:off x="6520680" y="5084640"/>
            <a:ext cx="2148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40 - Zadržana dobit il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preneseni gubitak</a:t>
            </a:r>
            <a:endParaRPr b="0" lang="en-US" sz="1600" spc="-1" strike="noStrike">
              <a:solidFill>
                <a:srgbClr val="000000"/>
              </a:solidFill>
              <a:latin typeface="Arial"/>
            </a:endParaRPr>
          </a:p>
        </p:txBody>
      </p:sp>
      <p:sp>
        <p:nvSpPr>
          <p:cNvPr id="1822" name=""/>
          <p:cNvSpPr/>
          <p:nvPr/>
        </p:nvSpPr>
        <p:spPr>
          <a:xfrm>
            <a:off x="1823760" y="2395440"/>
            <a:ext cx="13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10.000,00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30.000,00 (9)</a:t>
            </a:r>
            <a:endParaRPr b="0" lang="en-US" sz="1600" spc="-1" strike="noStrike">
              <a:solidFill>
                <a:srgbClr val="000000"/>
              </a:solidFill>
              <a:latin typeface="Arial"/>
            </a:endParaRPr>
          </a:p>
        </p:txBody>
      </p:sp>
      <p:sp>
        <p:nvSpPr>
          <p:cNvPr id="1823" name=""/>
          <p:cNvSpPr/>
          <p:nvPr/>
        </p:nvSpPr>
        <p:spPr>
          <a:xfrm>
            <a:off x="180360" y="234936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1) 240.000,00</a:t>
            </a:r>
            <a:endParaRPr b="0" lang="en-US" sz="1600" spc="-1" strike="noStrike">
              <a:solidFill>
                <a:srgbClr val="000000"/>
              </a:solidFill>
              <a:latin typeface="Arial"/>
            </a:endParaRPr>
          </a:p>
        </p:txBody>
      </p:sp>
      <p:sp>
        <p:nvSpPr>
          <p:cNvPr id="1824" name=""/>
          <p:cNvSpPr/>
          <p:nvPr/>
        </p:nvSpPr>
        <p:spPr>
          <a:xfrm>
            <a:off x="4703760" y="239544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000,00 (11)</a:t>
            </a:r>
            <a:endParaRPr b="0" lang="en-US" sz="1600" spc="-1" strike="noStrike">
              <a:solidFill>
                <a:srgbClr val="000000"/>
              </a:solidFill>
              <a:latin typeface="Arial"/>
            </a:endParaRPr>
          </a:p>
        </p:txBody>
      </p:sp>
      <p:sp>
        <p:nvSpPr>
          <p:cNvPr id="1825" name=""/>
          <p:cNvSpPr/>
          <p:nvPr/>
        </p:nvSpPr>
        <p:spPr>
          <a:xfrm>
            <a:off x="3134160" y="242100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1-a) 50.000,00</a:t>
            </a:r>
            <a:endParaRPr b="0" lang="en-US" sz="1600" spc="-1" strike="noStrike">
              <a:solidFill>
                <a:srgbClr val="000000"/>
              </a:solidFill>
              <a:latin typeface="Arial"/>
            </a:endParaRPr>
          </a:p>
        </p:txBody>
      </p:sp>
      <p:sp>
        <p:nvSpPr>
          <p:cNvPr id="1826" name=""/>
          <p:cNvSpPr/>
          <p:nvPr/>
        </p:nvSpPr>
        <p:spPr>
          <a:xfrm>
            <a:off x="7656120" y="239544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90.000,00 (11)</a:t>
            </a:r>
            <a:endParaRPr b="0" lang="en-US" sz="1600" spc="-1" strike="noStrike">
              <a:solidFill>
                <a:srgbClr val="000000"/>
              </a:solidFill>
              <a:latin typeface="Arial"/>
            </a:endParaRPr>
          </a:p>
        </p:txBody>
      </p:sp>
      <p:sp>
        <p:nvSpPr>
          <p:cNvPr id="1827" name=""/>
          <p:cNvSpPr/>
          <p:nvPr/>
        </p:nvSpPr>
        <p:spPr>
          <a:xfrm>
            <a:off x="6287760" y="239544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 190.000,00</a:t>
            </a:r>
            <a:endParaRPr b="0" lang="en-US" sz="1600" spc="-1" strike="noStrike">
              <a:solidFill>
                <a:srgbClr val="000000"/>
              </a:solidFill>
              <a:latin typeface="Arial"/>
            </a:endParaRPr>
          </a:p>
        </p:txBody>
      </p:sp>
      <p:sp>
        <p:nvSpPr>
          <p:cNvPr id="1828" name=""/>
          <p:cNvSpPr/>
          <p:nvPr/>
        </p:nvSpPr>
        <p:spPr>
          <a:xfrm>
            <a:off x="1478520" y="39337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000,00 (11-a)</a:t>
            </a:r>
            <a:endParaRPr b="0" lang="en-US" sz="1600" spc="-1" strike="noStrike">
              <a:solidFill>
                <a:srgbClr val="000000"/>
              </a:solidFill>
              <a:latin typeface="Arial"/>
            </a:endParaRPr>
          </a:p>
        </p:txBody>
      </p:sp>
      <p:sp>
        <p:nvSpPr>
          <p:cNvPr id="1829" name=""/>
          <p:cNvSpPr/>
          <p:nvPr/>
        </p:nvSpPr>
        <p:spPr>
          <a:xfrm>
            <a:off x="4501800" y="393372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90.000,00 (10)</a:t>
            </a:r>
            <a:endParaRPr b="0" lang="en-US" sz="1600" spc="-1" strike="noStrike">
              <a:solidFill>
                <a:srgbClr val="000000"/>
              </a:solidFill>
              <a:latin typeface="Arial"/>
            </a:endParaRPr>
          </a:p>
        </p:txBody>
      </p:sp>
      <p:sp>
        <p:nvSpPr>
          <p:cNvPr id="1830" name=""/>
          <p:cNvSpPr/>
          <p:nvPr/>
        </p:nvSpPr>
        <p:spPr>
          <a:xfrm>
            <a:off x="3134880" y="393372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2) 190.000,00</a:t>
            </a:r>
            <a:endParaRPr b="0" lang="en-US" sz="1600" spc="-1" strike="noStrike">
              <a:solidFill>
                <a:srgbClr val="000000"/>
              </a:solidFill>
              <a:latin typeface="Arial"/>
            </a:endParaRPr>
          </a:p>
        </p:txBody>
      </p:sp>
      <p:sp>
        <p:nvSpPr>
          <p:cNvPr id="1831" name=""/>
          <p:cNvSpPr/>
          <p:nvPr/>
        </p:nvSpPr>
        <p:spPr>
          <a:xfrm>
            <a:off x="7454880" y="393372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500,00 (12)</a:t>
            </a:r>
            <a:endParaRPr b="0" lang="en-US" sz="1600" spc="-1" strike="noStrike">
              <a:solidFill>
                <a:srgbClr val="000000"/>
              </a:solidFill>
              <a:latin typeface="Arial"/>
            </a:endParaRPr>
          </a:p>
        </p:txBody>
      </p:sp>
      <p:sp>
        <p:nvSpPr>
          <p:cNvPr id="1832" name=""/>
          <p:cNvSpPr/>
          <p:nvPr/>
        </p:nvSpPr>
        <p:spPr>
          <a:xfrm>
            <a:off x="1476360" y="56610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9.000,00 (12)</a:t>
            </a:r>
            <a:endParaRPr b="0" lang="en-US" sz="1600" spc="-1" strike="noStrike">
              <a:solidFill>
                <a:srgbClr val="000000"/>
              </a:solidFill>
              <a:latin typeface="Arial"/>
            </a:endParaRPr>
          </a:p>
        </p:txBody>
      </p:sp>
      <p:sp>
        <p:nvSpPr>
          <p:cNvPr id="1833" name=""/>
          <p:cNvSpPr/>
          <p:nvPr/>
        </p:nvSpPr>
        <p:spPr>
          <a:xfrm>
            <a:off x="4500000" y="566100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000,00 (12)</a:t>
            </a:r>
            <a:endParaRPr b="0" lang="en-US" sz="1600" spc="-1" strike="noStrike">
              <a:solidFill>
                <a:srgbClr val="000000"/>
              </a:solidFill>
              <a:latin typeface="Arial"/>
            </a:endParaRPr>
          </a:p>
        </p:txBody>
      </p:sp>
      <p:sp>
        <p:nvSpPr>
          <p:cNvPr id="1834" name=""/>
          <p:cNvSpPr/>
          <p:nvPr/>
        </p:nvSpPr>
        <p:spPr>
          <a:xfrm>
            <a:off x="7453080" y="56610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61.500,00 (12)</a:t>
            </a:r>
            <a:endParaRPr b="0" lang="en-US" sz="1600" spc="-1" strike="noStrike">
              <a:solidFill>
                <a:srgbClr val="000000"/>
              </a:solidFill>
              <a:latin typeface="Arial"/>
            </a:endParaRPr>
          </a:p>
        </p:txBody>
      </p:sp>
      <p:sp>
        <p:nvSpPr>
          <p:cNvPr id="1835" name=""/>
          <p:cNvSpPr/>
          <p:nvPr/>
        </p:nvSpPr>
        <p:spPr>
          <a:xfrm>
            <a:off x="1390680" y="278136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1390680" y="285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4414680" y="278136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4414680" y="285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7367760" y="278136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7367760" y="285264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4213080" y="439092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4213080" y="4319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BA2F89-6654-41B3-9E3D-BF78B8BEA66E}" type="slidenum">
              <a:t>514</a:t>
            </a:fld>
          </a:p>
        </p:txBody>
      </p:sp>
    </p:spTree>
  </p:cSld>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684360" y="475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000000"/>
                </a:solidFill>
                <a:latin typeface="Arial"/>
              </a:rPr>
              <a:t>Kapital i rezerve</a:t>
            </a:r>
            <a:endParaRPr b="0" lang="en-US" sz="5400" spc="-1" strike="noStrike">
              <a:solidFill>
                <a:srgbClr val="000000"/>
              </a:solidFill>
              <a:latin typeface="Arial"/>
            </a:endParaRPr>
          </a:p>
        </p:txBody>
      </p:sp>
      <p:sp>
        <p:nvSpPr>
          <p:cNvPr id="1844" name="PlaceHolder 2"/>
          <p:cNvSpPr>
            <a:spLocks noGrp="1"/>
          </p:cNvSpPr>
          <p:nvPr>
            <p:ph type="subTitle"/>
          </p:nvPr>
        </p:nvSpPr>
        <p:spPr>
          <a:xfrm>
            <a:off x="5363640" y="3716280"/>
            <a:ext cx="3240360" cy="2354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Kapit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Kapital dioničkog društv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Trezorske dionic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Rezerv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Rezultat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5A7B82-97F6-48DB-8BC2-A63FA3A8558C}" type="slidenum">
              <a:t>515</a:t>
            </a:fld>
          </a:p>
        </p:txBody>
      </p:sp>
    </p:spTree>
  </p:cSld>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a:t>
            </a:r>
            <a:endParaRPr b="0" lang="en-US" sz="4000" spc="-1" strike="noStrike">
              <a:solidFill>
                <a:srgbClr val="000000"/>
              </a:solidFill>
              <a:latin typeface="Arial"/>
            </a:endParaRPr>
          </a:p>
        </p:txBody>
      </p:sp>
      <p:sp>
        <p:nvSpPr>
          <p:cNvPr id="1846" name="PlaceHolder 2"/>
          <p:cNvSpPr>
            <a:spLocks noGrp="1"/>
          </p:cNvSpPr>
          <p:nvPr>
            <p:ph/>
          </p:nvPr>
        </p:nvSpPr>
        <p:spPr>
          <a:xfrm>
            <a:off x="301680" y="1341360"/>
            <a:ext cx="8518320" cy="55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Aktiva</a:t>
            </a:r>
            <a:r>
              <a:rPr b="0" lang="hr-HR" sz="2400" spc="-1" strike="noStrike">
                <a:solidFill>
                  <a:srgbClr val="000000"/>
                </a:solidFill>
                <a:latin typeface="Times New Roman"/>
              </a:rPr>
              <a:t> – upotreba sredstava</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1" lang="hr-HR" sz="2400" spc="-1" strike="noStrike">
                <a:solidFill>
                  <a:srgbClr val="000000"/>
                </a:solidFill>
                <a:latin typeface="Times New Roman"/>
              </a:rPr>
              <a:t>Pasiva</a:t>
            </a:r>
            <a:r>
              <a:rPr b="0" lang="hr-HR" sz="2400" spc="-1" strike="noStrike">
                <a:solidFill>
                  <a:srgbClr val="000000"/>
                </a:solidFill>
                <a:latin typeface="Times New Roman"/>
              </a:rPr>
              <a:t> – izvori sredstav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ori sredstava:</a:t>
            </a:r>
            <a:r>
              <a:rPr b="0" lang="hr-HR" sz="2400" spc="-1" strike="noStrike">
                <a:solidFill>
                  <a:srgbClr val="000000"/>
                </a:solidFill>
                <a:latin typeface="Times New Roman"/>
              </a:rPr>
              <a:t>	</a:t>
            </a:r>
            <a:r>
              <a:rPr b="0" lang="hr-HR" sz="2400" spc="-1" strike="noStrike">
                <a:solidFill>
                  <a:srgbClr val="000000"/>
                </a:solidFill>
                <a:latin typeface="Times New Roman"/>
              </a:rPr>
              <a:t>- vlastiti izvor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uđi izvor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je vrijednost imovine koja pripada vlasnicima poslovnog subjekt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je zapravo neto imovina koja pripada vlasnicima poduzeća, a predstavlja razliku između imovine iskazane u aktivi i obveza iskazanih u pasiv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Često se umjesto pojma kapital koristi i pojam vlasnička glavnica, dok se kod dioničkog društva subjekta koristi pojam dionički kapital ili dionička glavn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Engl. - equ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380D32-0341-443F-A4C9-010A5BA229AF}" type="slidenum">
              <a:t>516</a:t>
            </a:fld>
          </a:p>
        </p:txBody>
      </p:sp>
    </p:spTree>
  </p:cSld>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a:t>
            </a:r>
            <a:endParaRPr b="0" lang="en-US" sz="4000" spc="-1" strike="noStrike">
              <a:solidFill>
                <a:srgbClr val="000000"/>
              </a:solidFill>
              <a:latin typeface="Arial"/>
            </a:endParaRPr>
          </a:p>
        </p:txBody>
      </p:sp>
      <p:sp>
        <p:nvSpPr>
          <p:cNvPr id="1848" name="PlaceHolder 2"/>
          <p:cNvSpPr>
            <a:spLocks noGrp="1"/>
          </p:cNvSpPr>
          <p:nvPr>
            <p:ph/>
          </p:nvPr>
        </p:nvSpPr>
        <p:spPr>
          <a:xfrm>
            <a:off x="301680" y="1125000"/>
            <a:ext cx="8540640" cy="54723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 OBVEZE + KAPITAL</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 IMOVINA - OBVEZ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predstavlja knjigovodstvenu vrijednost poslovnog subjekta, odnosno onu vrijednost poslovnog subjekta koja je iskazana u poslovnim knjigama na točno određen datu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ruktura kapitala ovisi o organizacijskom obliku ili tipu poslovnog subjekta. Bez obzira na tip poslovnog subjekta kapital se sastoji 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plaćenog ili uloženog kapital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rađenog kapita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3F0AA5-815A-453D-94DA-FD3A194FC8FB}" type="slidenum">
              <a:t>517</a:t>
            </a:fld>
          </a:p>
        </p:txBody>
      </p:sp>
    </p:spTree>
  </p:cSld>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a:t>
            </a:r>
            <a:endParaRPr b="0" lang="en-US" sz="4000" spc="-1" strike="noStrike">
              <a:solidFill>
                <a:srgbClr val="000000"/>
              </a:solidFill>
              <a:latin typeface="Arial"/>
            </a:endParaRPr>
          </a:p>
        </p:txBody>
      </p:sp>
      <p:sp>
        <p:nvSpPr>
          <p:cNvPr id="1850" name="PlaceHolder 2"/>
          <p:cNvSpPr>
            <a:spLocks noGrp="1"/>
          </p:cNvSpPr>
          <p:nvPr>
            <p:ph/>
          </p:nvPr>
        </p:nvSpPr>
        <p:spPr>
          <a:xfrm>
            <a:off x="301680" y="1268280"/>
            <a:ext cx="8540640" cy="53294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ruktura kapitala dioničkog društv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Uplaćeni kapital</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Zarađeni kapital</a:t>
            </a:r>
            <a:endParaRPr b="0" lang="en-US" sz="1600" spc="-1" strike="noStrike">
              <a:solidFill>
                <a:srgbClr val="000000"/>
              </a:solidFill>
              <a:latin typeface="Arial"/>
            </a:endParaRPr>
          </a:p>
        </p:txBody>
      </p:sp>
      <p:sp>
        <p:nvSpPr>
          <p:cNvPr id="1851" name=""/>
          <p:cNvSpPr/>
          <p:nvPr/>
        </p:nvSpPr>
        <p:spPr>
          <a:xfrm>
            <a:off x="2556000" y="1844640"/>
            <a:ext cx="187164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Nominal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rijedn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ionica</a:t>
            </a:r>
            <a:endParaRPr b="0" lang="en-US" sz="1800" spc="-1" strike="noStrike">
              <a:solidFill>
                <a:srgbClr val="000000"/>
              </a:solidFill>
              <a:latin typeface="Arial"/>
            </a:endParaRPr>
          </a:p>
        </p:txBody>
      </p:sp>
      <p:sp>
        <p:nvSpPr>
          <p:cNvPr id="1852" name=""/>
          <p:cNvSpPr/>
          <p:nvPr/>
        </p:nvSpPr>
        <p:spPr>
          <a:xfrm>
            <a:off x="2556000" y="3500280"/>
            <a:ext cx="1871640" cy="187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emije 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emitira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ionice</a:t>
            </a:r>
            <a:endParaRPr b="0" lang="en-US" sz="1800" spc="-1" strike="noStrike">
              <a:solidFill>
                <a:srgbClr val="000000"/>
              </a:solidFill>
              <a:latin typeface="Arial"/>
            </a:endParaRPr>
          </a:p>
        </p:txBody>
      </p:sp>
      <p:sp>
        <p:nvSpPr>
          <p:cNvPr id="1853" name=""/>
          <p:cNvSpPr/>
          <p:nvPr/>
        </p:nvSpPr>
        <p:spPr>
          <a:xfrm>
            <a:off x="4427640" y="1844640"/>
            <a:ext cx="2016000" cy="151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ezer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ičuve)</a:t>
            </a:r>
            <a:endParaRPr b="0" lang="en-US" sz="1800" spc="-1" strike="noStrike">
              <a:solidFill>
                <a:srgbClr val="000000"/>
              </a:solidFill>
              <a:latin typeface="Arial"/>
            </a:endParaRPr>
          </a:p>
        </p:txBody>
      </p:sp>
      <p:sp>
        <p:nvSpPr>
          <p:cNvPr id="1854" name=""/>
          <p:cNvSpPr/>
          <p:nvPr/>
        </p:nvSpPr>
        <p:spPr>
          <a:xfrm>
            <a:off x="4427640" y="3357720"/>
            <a:ext cx="2016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Zadrža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obit</a:t>
            </a:r>
            <a:endParaRPr b="0" lang="en-US" sz="1800" spc="-1" strike="noStrike">
              <a:solidFill>
                <a:srgbClr val="000000"/>
              </a:solidFill>
              <a:latin typeface="Arial"/>
            </a:endParaRPr>
          </a:p>
        </p:txBody>
      </p:sp>
      <p:sp>
        <p:nvSpPr>
          <p:cNvPr id="1855" name=""/>
          <p:cNvSpPr/>
          <p:nvPr/>
        </p:nvSpPr>
        <p:spPr>
          <a:xfrm flipH="1">
            <a:off x="3058920" y="5373720"/>
            <a:ext cx="215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5580000" y="537372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1EF278-5639-4E64-A260-50B08684BDB6}" type="slidenum">
              <a:t>518</a:t>
            </a:fld>
          </a:p>
        </p:txBody>
      </p:sp>
    </p:spTree>
  </p:cSld>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a:t>
            </a:r>
            <a:endParaRPr b="0" lang="en-US" sz="4000" spc="-1" strike="noStrike">
              <a:solidFill>
                <a:srgbClr val="000000"/>
              </a:solidFill>
              <a:latin typeface="Arial"/>
            </a:endParaRPr>
          </a:p>
        </p:txBody>
      </p:sp>
      <p:sp>
        <p:nvSpPr>
          <p:cNvPr id="1858" name="PlaceHolder 2"/>
          <p:cNvSpPr>
            <a:spLocks noGrp="1"/>
          </p:cNvSpPr>
          <p:nvPr>
            <p:ph/>
          </p:nvPr>
        </p:nvSpPr>
        <p:spPr>
          <a:xfrm>
            <a:off x="324000" y="1267920"/>
            <a:ext cx="8540640" cy="504684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plaćeni kapital sastoji se od iznosa kojeg je vlasnik trgovačkog društva uplatio. Kod dioničkog društva uplaćeni kapital najčešće se sastoji od izdanih dionica po nominalnoj vrijednosti i premija na emitirane dionice ukoliko su dionice prodane iznad nominalne vrijednosti. Prilikom emisije dionica zabranjena je emisija ispod nominalne vrijednosti (ispod pari).</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rađeni kapital sastavljen je od rezervi odnosno pričuva i zadržane dobiti.</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mjene u strukturi kapitala javljaju se zbog povećanja ili smanjenja uplaćenog ili uloženog kapitala i uslijed promjene zarađenog kapita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700667-3B33-4C11-870D-DB498C757537}" type="slidenum">
              <a:t>519</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4000" y="188640"/>
            <a:ext cx="8080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Računovodstvene politike - izbor</a:t>
            </a:r>
            <a:endParaRPr b="0" lang="en-US" sz="3500" spc="-1" strike="noStrike">
              <a:solidFill>
                <a:srgbClr val="000000"/>
              </a:solidFill>
              <a:latin typeface="Arial"/>
            </a:endParaRPr>
          </a:p>
        </p:txBody>
      </p:sp>
      <p:sp>
        <p:nvSpPr>
          <p:cNvPr id="265" name=""/>
          <p:cNvSpPr/>
          <p:nvPr/>
        </p:nvSpPr>
        <p:spPr>
          <a:xfrm>
            <a:off x="2411280" y="1447920"/>
            <a:ext cx="51134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emeljne računovodstvene pretpostavke</a:t>
            </a:r>
            <a:endParaRPr b="0" lang="en-US" sz="2000" spc="-1" strike="noStrike">
              <a:solidFill>
                <a:srgbClr val="000000"/>
              </a:solidFill>
              <a:latin typeface="Arial"/>
            </a:endParaRPr>
          </a:p>
        </p:txBody>
      </p:sp>
      <p:sp>
        <p:nvSpPr>
          <p:cNvPr id="266" name=""/>
          <p:cNvSpPr/>
          <p:nvPr/>
        </p:nvSpPr>
        <p:spPr>
          <a:xfrm>
            <a:off x="1905120" y="2286000"/>
            <a:ext cx="61722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riteriji izbora i primjene računovodstvenih politika</a:t>
            </a:r>
            <a:endParaRPr b="0" lang="en-US" sz="2000" spc="-1" strike="noStrike">
              <a:solidFill>
                <a:srgbClr val="000000"/>
              </a:solidFill>
              <a:latin typeface="Arial"/>
            </a:endParaRPr>
          </a:p>
        </p:txBody>
      </p:sp>
      <p:sp>
        <p:nvSpPr>
          <p:cNvPr id="267" name=""/>
          <p:cNvSpPr/>
          <p:nvPr/>
        </p:nvSpPr>
        <p:spPr>
          <a:xfrm>
            <a:off x="1905120" y="3048120"/>
            <a:ext cx="62481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ačunovodstveni standardi, zakonski propisi</a:t>
            </a:r>
            <a:endParaRPr b="0" lang="en-US" sz="2000" spc="-1" strike="noStrike">
              <a:solidFill>
                <a:srgbClr val="000000"/>
              </a:solidFill>
              <a:latin typeface="Arial"/>
            </a:endParaRPr>
          </a:p>
        </p:txBody>
      </p:sp>
      <p:sp>
        <p:nvSpPr>
          <p:cNvPr id="268" name=""/>
          <p:cNvSpPr/>
          <p:nvPr/>
        </p:nvSpPr>
        <p:spPr>
          <a:xfrm>
            <a:off x="1905120" y="3733920"/>
            <a:ext cx="6324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dabrane računovodstvene politike</a:t>
            </a:r>
            <a:endParaRPr b="0" lang="en-US" sz="2000" spc="-1" strike="noStrike">
              <a:solidFill>
                <a:srgbClr val="000000"/>
              </a:solidFill>
              <a:latin typeface="Arial"/>
            </a:endParaRPr>
          </a:p>
        </p:txBody>
      </p:sp>
      <p:sp>
        <p:nvSpPr>
          <p:cNvPr id="269" name=""/>
          <p:cNvSpPr/>
          <p:nvPr/>
        </p:nvSpPr>
        <p:spPr>
          <a:xfrm>
            <a:off x="539640" y="1484280"/>
            <a:ext cx="984240" cy="217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stal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raču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čela</a:t>
            </a:r>
            <a:endParaRPr b="0" lang="en-US" sz="2000" spc="-1" strike="noStrike">
              <a:solidFill>
                <a:srgbClr val="000000"/>
              </a:solidFill>
              <a:latin typeface="Arial"/>
            </a:endParaRPr>
          </a:p>
        </p:txBody>
      </p:sp>
      <p:sp>
        <p:nvSpPr>
          <p:cNvPr id="270" name=""/>
          <p:cNvSpPr/>
          <p:nvPr/>
        </p:nvSpPr>
        <p:spPr>
          <a:xfrm>
            <a:off x="990720" y="4572000"/>
            <a:ext cx="14475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pće</a:t>
            </a:r>
            <a:endParaRPr b="0" lang="en-US" sz="2000" spc="-1" strike="noStrike">
              <a:solidFill>
                <a:srgbClr val="000000"/>
              </a:solidFill>
              <a:latin typeface="Arial"/>
            </a:endParaRPr>
          </a:p>
        </p:txBody>
      </p:sp>
      <p:sp>
        <p:nvSpPr>
          <p:cNvPr id="271" name=""/>
          <p:cNvSpPr/>
          <p:nvPr/>
        </p:nvSpPr>
        <p:spPr>
          <a:xfrm>
            <a:off x="2971800" y="457200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movina</a:t>
            </a:r>
            <a:endParaRPr b="0" lang="en-US" sz="2000" spc="-1" strike="noStrike">
              <a:solidFill>
                <a:srgbClr val="000000"/>
              </a:solidFill>
              <a:latin typeface="Arial"/>
            </a:endParaRPr>
          </a:p>
        </p:txBody>
      </p:sp>
      <p:sp>
        <p:nvSpPr>
          <p:cNvPr id="272" name=""/>
          <p:cNvSpPr/>
          <p:nvPr/>
        </p:nvSpPr>
        <p:spPr>
          <a:xfrm>
            <a:off x="4876920" y="4572000"/>
            <a:ext cx="1566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bveze 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rezerviranja</a:t>
            </a:r>
            <a:endParaRPr b="0" lang="en-US" sz="2000" spc="-1" strike="noStrike">
              <a:solidFill>
                <a:srgbClr val="000000"/>
              </a:solidFill>
              <a:latin typeface="Arial"/>
            </a:endParaRPr>
          </a:p>
        </p:txBody>
      </p:sp>
      <p:sp>
        <p:nvSpPr>
          <p:cNvPr id="273" name=""/>
          <p:cNvSpPr/>
          <p:nvPr/>
        </p:nvSpPr>
        <p:spPr>
          <a:xfrm>
            <a:off x="6804000" y="4581360"/>
            <a:ext cx="1447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ak 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gubitak</a:t>
            </a:r>
            <a:endParaRPr b="0" lang="en-US" sz="2000" spc="-1" strike="noStrike">
              <a:solidFill>
                <a:srgbClr val="000000"/>
              </a:solidFill>
              <a:latin typeface="Arial"/>
            </a:endParaRPr>
          </a:p>
        </p:txBody>
      </p:sp>
      <p:sp>
        <p:nvSpPr>
          <p:cNvPr id="274" name=""/>
          <p:cNvSpPr/>
          <p:nvPr/>
        </p:nvSpPr>
        <p:spPr>
          <a:xfrm>
            <a:off x="4952880" y="19810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95288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4932000" y="3505320"/>
            <a:ext cx="20520" cy="210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952880" y="4191120"/>
            <a:ext cx="6858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029200" y="4191120"/>
            <a:ext cx="2438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3657600" y="4191120"/>
            <a:ext cx="1371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1676160" y="4191120"/>
            <a:ext cx="32763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23880" y="25146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27AC70-9DFE-459A-82AE-448093EB2998}" type="slidenum">
              <a:t>52</a:t>
            </a:fld>
          </a:p>
        </p:txBody>
      </p:sp>
    </p:spTree>
  </p:cSld>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 dioničkog društva</a:t>
            </a:r>
            <a:endParaRPr b="0" lang="en-US" sz="4000" spc="-1" strike="noStrike">
              <a:solidFill>
                <a:srgbClr val="000000"/>
              </a:solidFill>
              <a:latin typeface="Arial"/>
            </a:endParaRPr>
          </a:p>
        </p:txBody>
      </p:sp>
      <p:sp>
        <p:nvSpPr>
          <p:cNvPr id="1860" name="PlaceHolder 2"/>
          <p:cNvSpPr>
            <a:spLocks noGrp="1"/>
          </p:cNvSpPr>
          <p:nvPr>
            <p:ph/>
          </p:nvPr>
        </p:nvSpPr>
        <p:spPr>
          <a:xfrm>
            <a:off x="301680" y="1268280"/>
            <a:ext cx="8540640" cy="5329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ioničko društvo je pravna osoba čija je imovina odvojena od imovine njegovih vlasnika te stoga odvojeno egzistira i može biti nositelj prava i obveza. Funkcija upravljanja najčešće je odvojena od funkcije vlasništva na način da dioničkim društvom upravlja uprava društva koju imenuju vlasnici glasovanjem na glavnoj skupštini, a koja se sastaje najmanje jednom godišnje. Glavna skupština imenuje nadzorni odbor koji nadzire rad upr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pisani ili uloženi kapital dioničkog društva sastoji se od dionic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C9F887-CFDB-4027-9CC4-DB108B486DDC}" type="slidenum">
              <a:t>520</a:t>
            </a:fld>
          </a:p>
        </p:txBody>
      </p:sp>
    </p:spTree>
  </p:cSld>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 dioničkog društva</a:t>
            </a:r>
            <a:endParaRPr b="0" lang="en-US" sz="4000" spc="-1" strike="noStrike">
              <a:solidFill>
                <a:srgbClr val="000000"/>
              </a:solidFill>
              <a:latin typeface="Arial"/>
            </a:endParaRPr>
          </a:p>
        </p:txBody>
      </p:sp>
      <p:sp>
        <p:nvSpPr>
          <p:cNvPr id="1862" name="PlaceHolder 2"/>
          <p:cNvSpPr>
            <a:spLocks noGrp="1"/>
          </p:cNvSpPr>
          <p:nvPr>
            <p:ph/>
          </p:nvPr>
        </p:nvSpPr>
        <p:spPr>
          <a:xfrm>
            <a:off x="2286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ionica je vlasnički vrijednosni papir koji dokazuje udjel njegovih imatelja u kapitalu dioničkog društ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u se dvije tipične vrste dionica koje njihovom imatelju daju različita prava. To su redovite (obične) dionice i povlaštene (preferencijalne) dion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ične dionice daju njihovim imateljima slijedeća 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o glasa na skupštini dionič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o na dividendu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o na udjel u ostatku likvidacijske mase društ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o prioriteta pri upisu nove emisije dio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B9FDD7-75C0-4D86-8983-12C9FF4FE2A5}" type="slidenum">
              <a:t>521</a:t>
            </a:fld>
          </a:p>
        </p:txBody>
      </p:sp>
    </p:spTree>
  </p:cSld>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Arial"/>
              </a:rPr>
              <a:t>Kapital dioničkog društva</a:t>
            </a:r>
            <a:endParaRPr b="0" lang="en-US" sz="3600" spc="-1" strike="noStrike">
              <a:solidFill>
                <a:srgbClr val="000000"/>
              </a:solidFill>
              <a:latin typeface="Arial"/>
            </a:endParaRPr>
          </a:p>
        </p:txBody>
      </p:sp>
      <p:sp>
        <p:nvSpPr>
          <p:cNvPr id="1864" name="PlaceHolder 2"/>
          <p:cNvSpPr>
            <a:spLocks noGrp="1"/>
          </p:cNvSpPr>
          <p:nvPr>
            <p:ph/>
          </p:nvPr>
        </p:nvSpPr>
        <p:spPr>
          <a:xfrm>
            <a:off x="301680" y="1268280"/>
            <a:ext cx="8540640" cy="4897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ferencijalne dionice dugoročni su vrijednosni papiri koji po svojim obilježjima imaju karakteristike obveznica i dionica, a daju slijedeća prav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avo na unaprijed utvrđene dividende prije isplate dividendi vlasnicima običnih dionic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oritet pri isplati udjela u likvidacijskoj masi u odnosu na vlasnike običnih dioničar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slučaju konverzije pravo na cijenu opoziva koja je veća od nominalne vrijed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2B2181-A9C8-47F7-ACD2-EBC4ACE1BD11}" type="slidenum">
              <a:t>522</a:t>
            </a:fld>
          </a:p>
        </p:txBody>
      </p:sp>
    </p:spTree>
  </p:cSld>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 dioničkog društva</a:t>
            </a:r>
            <a:endParaRPr b="0" lang="en-US" sz="4000" spc="-1" strike="noStrike">
              <a:solidFill>
                <a:srgbClr val="000000"/>
              </a:solidFill>
              <a:latin typeface="Arial"/>
            </a:endParaRPr>
          </a:p>
        </p:txBody>
      </p:sp>
      <p:sp>
        <p:nvSpPr>
          <p:cNvPr id="1866" name="PlaceHolder 2"/>
          <p:cNvSpPr>
            <a:spLocks noGrp="1"/>
          </p:cNvSpPr>
          <p:nvPr>
            <p:ph/>
          </p:nvPr>
        </p:nvSpPr>
        <p:spPr>
          <a:xfrm>
            <a:off x="301680" y="1196640"/>
            <a:ext cx="8540640" cy="4902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laštene dionice ne daju pravo glasa na skupštini dionič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laštene dionice mogu biti participativne i neparticipativne ovisno o tome da li daju pravo na udjel u ostatku dobiti raspoloživom za dividende. Ovisno o kumulaciji prava na isplatu neisplaćenih dividendi iz prethodnih razdoblja participativne dionice mogu biti kumulativne i nekumulativ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ionička društva mogu izdavati dionice na ime i na donositelja pri čemu su dionice na donositelja lakše prenosi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415310-54C2-4DA0-9FAF-BAC7552A7CD6}" type="slidenum">
              <a:t>523</a:t>
            </a:fld>
          </a:p>
        </p:txBody>
      </p:sp>
    </p:spTree>
  </p:cSld>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324000" y="-360"/>
            <a:ext cx="8510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68" name="PlaceHolder 2"/>
          <p:cNvSpPr>
            <a:spLocks noGrp="1"/>
          </p:cNvSpPr>
          <p:nvPr>
            <p:ph/>
          </p:nvPr>
        </p:nvSpPr>
        <p:spPr>
          <a:xfrm>
            <a:off x="395280" y="692280"/>
            <a:ext cx="8231040" cy="22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2400" spc="-1" strike="noStrike">
                <a:solidFill>
                  <a:srgbClr val="000000"/>
                </a:solidFill>
                <a:latin typeface="Times New Roman"/>
              </a:rPr>
              <a:t>Dioničko društvo “BBB” donijelo je odluku o izdavanju 1000 redovnih dionica čija je nominalna vrijednost 200,00 kn po dionici. Dioničari su u cijelosti uplatili nominalni iznos prodanih dionic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d burzovnih posrednika je primljen račun za izdavanje dionica na iznos od 3.000,00 kn + PDV.</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297378-AE1E-42C7-8F32-5BA029EEF81D}" type="slidenum">
              <a:t>524</a:t>
            </a:fld>
          </a:p>
        </p:txBody>
      </p:sp>
    </p:spTree>
  </p:cSld>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Primjer</a:t>
            </a:r>
            <a:endParaRPr b="0" lang="en-US" sz="4400" spc="-1" strike="noStrike">
              <a:solidFill>
                <a:srgbClr val="000000"/>
              </a:solidFill>
              <a:latin typeface="Arial"/>
            </a:endParaRPr>
          </a:p>
        </p:txBody>
      </p:sp>
      <p:graphicFrame>
        <p:nvGraphicFramePr>
          <p:cNvPr id="1870" name=""/>
          <p:cNvGraphicFramePr/>
          <p:nvPr/>
        </p:nvGraphicFramePr>
        <p:xfrm>
          <a:off x="755640" y="1557360"/>
          <a:ext cx="7367760" cy="3582720"/>
        </p:xfrm>
        <a:graphic>
          <a:graphicData uri="http://schemas.openxmlformats.org/drawingml/2006/table">
            <a:tbl>
              <a:tblPr/>
              <a:tblGrid>
                <a:gridCol w="536760"/>
                <a:gridCol w="3392280"/>
                <a:gridCol w="1513080"/>
                <a:gridCol w="849240"/>
                <a:gridCol w="1076400"/>
              </a:tblGrid>
              <a:tr h="52956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vanbilančna eviden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plata dioničara za kupnju dion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burzovnih posredni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66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tvaranje izvanbilančne evidenc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FBD5775-CA8E-4DFE-B23C-21E8EA2FCFF3}" type="slidenum">
              <a:t>525</a:t>
            </a:fld>
          </a:p>
        </p:txBody>
      </p:sp>
    </p:spTree>
  </p:cSld>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72" name="PlaceHolder 2"/>
          <p:cNvSpPr>
            <a:spLocks noGrp="1"/>
          </p:cNvSpPr>
          <p:nvPr>
            <p:ph/>
          </p:nvPr>
        </p:nvSpPr>
        <p:spPr>
          <a:xfrm>
            <a:off x="752400" y="1974960"/>
            <a:ext cx="7639200" cy="3394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ioničko društvo “BBB” donijelo je odluku o izdavanju 3000 redovnih dionica čija je nominalna vrijednost 200,00 kn po dionici. Dioničari su kupili dionice po cijeni od 230,00 kn po dionici i u cijelosti su uplatili izno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d burzovnih posrednika je primljen račun za izdavanje dionica na iznos od 4.000,00 kn + PDV.</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D70C5E-FDE0-4EF8-B6B8-2E5426C248C4}" type="slidenum">
              <a:t>526</a:t>
            </a:fld>
          </a:p>
        </p:txBody>
      </p:sp>
    </p:spTree>
  </p:cSld>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Primjer</a:t>
            </a:r>
            <a:endParaRPr b="0" lang="en-US" sz="4400" spc="-1" strike="noStrike">
              <a:solidFill>
                <a:srgbClr val="000000"/>
              </a:solidFill>
              <a:latin typeface="Arial"/>
            </a:endParaRPr>
          </a:p>
        </p:txBody>
      </p:sp>
      <p:graphicFrame>
        <p:nvGraphicFramePr>
          <p:cNvPr id="1874" name=""/>
          <p:cNvGraphicFramePr/>
          <p:nvPr/>
        </p:nvGraphicFramePr>
        <p:xfrm>
          <a:off x="971640" y="1197000"/>
          <a:ext cx="7143840" cy="4314600"/>
        </p:xfrm>
        <a:graphic>
          <a:graphicData uri="http://schemas.openxmlformats.org/drawingml/2006/table">
            <a:tbl>
              <a:tblPr/>
              <a:tblGrid>
                <a:gridCol w="536760"/>
                <a:gridCol w="3171600"/>
                <a:gridCol w="1509840"/>
                <a:gridCol w="849240"/>
                <a:gridCol w="1076400"/>
              </a:tblGrid>
              <a:tr h="5533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vanbilančna eviden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plata dioničara za kupnju dion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9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burzovnih posredni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88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tvaranje izvanbilančne evidenc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47EE7A6-740A-4153-8C92-9647BC628E9E}" type="slidenum">
              <a:t>527</a:t>
            </a:fld>
          </a:p>
        </p:txBody>
      </p:sp>
    </p:spTree>
  </p:cSld>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76" name="PlaceHolder 2"/>
          <p:cNvSpPr>
            <a:spLocks noGrp="1"/>
          </p:cNvSpPr>
          <p:nvPr>
            <p:ph/>
          </p:nvPr>
        </p:nvSpPr>
        <p:spPr>
          <a:xfrm>
            <a:off x="547200" y="1770120"/>
            <a:ext cx="8091720" cy="339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ioničko društvo “KK” izdalo je 3000 redovnih dionica nominalne vrijednosti 100 kn po dionici. Za prodanih 1000 dionica dioničari su doznačili 100.000,00 kn. Ostatak dionica otkupilo je trgovačko društvo “MM” s kojim je sklopljen ugovor o razmjeni 2000 dionica za pet strojeva pri čemu se nominalna vrijednost dionica uzima kao razmjenska vrijednost. Primljen je račun burze u iznosu od 1.000,00 kn + PDV. Strojevi su stavljeni u uporab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2740C2-93CA-4BC6-B33D-0F22703F2722}" type="slidenum">
              <a:t>528</a:t>
            </a:fld>
          </a:p>
        </p:txBody>
      </p:sp>
    </p:spTree>
  </p:cSld>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graphicFrame>
        <p:nvGraphicFramePr>
          <p:cNvPr id="1878" name=""/>
          <p:cNvGraphicFramePr/>
          <p:nvPr/>
        </p:nvGraphicFramePr>
        <p:xfrm>
          <a:off x="1042920" y="1052640"/>
          <a:ext cx="7067520" cy="4797360"/>
        </p:xfrm>
        <a:graphic>
          <a:graphicData uri="http://schemas.openxmlformats.org/drawingml/2006/table">
            <a:tbl>
              <a:tblPr/>
              <a:tblGrid>
                <a:gridCol w="536760"/>
                <a:gridCol w="3117600"/>
                <a:gridCol w="1487520"/>
                <a:gridCol w="849600"/>
                <a:gridCol w="1076040"/>
              </a:tblGrid>
              <a:tr h="3862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vanbilančna eviden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plata dioničara za kupnju dion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za stroje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3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burzovnih posredni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2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tavljanje sredstva u uporab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34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tvaranje izvanbilančne evidenc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12753812-15E8-4EBF-8E94-FEB9C19ECE95}" type="slidenum">
              <a:t>529</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115920"/>
            <a:ext cx="80661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Značajke računovodstvenih politika</a:t>
            </a:r>
            <a:endParaRPr b="0" lang="en-US" sz="3500" spc="-1" strike="noStrike">
              <a:solidFill>
                <a:srgbClr val="000000"/>
              </a:solidFill>
              <a:latin typeface="Arial"/>
            </a:endParaRPr>
          </a:p>
        </p:txBody>
      </p:sp>
      <p:sp>
        <p:nvSpPr>
          <p:cNvPr id="283" name="PlaceHolder 2"/>
          <p:cNvSpPr>
            <a:spLocks noGrp="1"/>
          </p:cNvSpPr>
          <p:nvPr>
            <p:ph/>
          </p:nvPr>
        </p:nvSpPr>
        <p:spPr>
          <a:xfrm>
            <a:off x="684360" y="1267920"/>
            <a:ext cx="7772400" cy="453708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Izbor uz punu odgovornost obavlja management poduzeća na prijedlog računovodstvenih stručnjaka uz odgovornost računovodstvenog managera.</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Temeljni računovodstveni izvještaji moraju se zasnivati na izabranim računovodstvenim politikama.</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Računovodstvene politike moraju se objavljivati.</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C6CF8612-A8AC-4651-9BDB-A85C8EA73A28}" type="slidenum">
              <a:t>53</a:t>
            </a:fld>
          </a:p>
        </p:txBody>
      </p:sp>
    </p:spTree>
  </p:cSld>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Trezorske dionice</a:t>
            </a:r>
            <a:endParaRPr b="0" lang="en-US" sz="4000" spc="-1" strike="noStrike">
              <a:solidFill>
                <a:srgbClr val="000000"/>
              </a:solidFill>
              <a:latin typeface="Arial"/>
            </a:endParaRPr>
          </a:p>
        </p:txBody>
      </p:sp>
      <p:sp>
        <p:nvSpPr>
          <p:cNvPr id="1880" name="PlaceHolder 2"/>
          <p:cNvSpPr>
            <a:spLocks noGrp="1"/>
          </p:cNvSpPr>
          <p:nvPr>
            <p:ph/>
          </p:nvPr>
        </p:nvSpPr>
        <p:spPr>
          <a:xfrm>
            <a:off x="301680" y="1196640"/>
            <a:ext cx="8540640" cy="4902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ezorske dionice predstavljaju vlastite otkupljene dionice tj. dionice koje je otkupio poslovni subjekt koji je iste i izdao.</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ezorske dionice otkupljuju se iz slijedećih razlog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adi utjecaja na tržišnu cijenu dioni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adi otkupa udjela jednog ili više dionič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bog prijenosa dionica upravi i zaposlen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bog onemogućavanja neprijateljskog preuzimanja i d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onom o trgovačkim društvima određeno je da trgovačko društvo može steći najviše 10% trezorskih (vlastitih) dio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6214D7-07C6-4501-BA7A-2B0CA731AA67}" type="slidenum">
              <a:t>530</a:t>
            </a:fld>
          </a:p>
        </p:txBody>
      </p:sp>
    </p:spTree>
  </p:cSld>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82" name="PlaceHolder 2"/>
          <p:cNvSpPr>
            <a:spLocks noGrp="1"/>
          </p:cNvSpPr>
          <p:nvPr>
            <p:ph/>
          </p:nvPr>
        </p:nvSpPr>
        <p:spPr>
          <a:xfrm>
            <a:off x="468000" y="1341360"/>
            <a:ext cx="8064360" cy="34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ioničko društvo “XXX” otkupilo je 200 redovitih dionica po njihovoj nominalnoj vrijednosti od 100,00 kn po dionici. Tri mjeseca kasnije društvo je prodalo otkupljene vlastite dionice po cijeni od 110,00 kn po dionici. Prilikom otkupa vlastitih dionica društvo mora formirati rezerve za vlastite dionice iz zadržane dobiti. Navedene rezerve prijenose se u zadržanu dobit po prodaji ranije otkupljenih dio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7DA185-6AD8-4D58-A9F9-10FCEFE3E26B}" type="slidenum">
              <a:t>531</a:t>
            </a:fld>
          </a:p>
        </p:txBody>
      </p:sp>
    </p:spTree>
  </p:cSld>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graphicFrame>
        <p:nvGraphicFramePr>
          <p:cNvPr id="1884" name=""/>
          <p:cNvGraphicFramePr/>
          <p:nvPr/>
        </p:nvGraphicFramePr>
        <p:xfrm>
          <a:off x="1258920" y="1197000"/>
          <a:ext cx="6672240" cy="4600440"/>
        </p:xfrm>
        <a:graphic>
          <a:graphicData uri="http://schemas.openxmlformats.org/drawingml/2006/table">
            <a:tbl>
              <a:tblPr/>
              <a:tblGrid>
                <a:gridCol w="536760"/>
                <a:gridCol w="3170160"/>
                <a:gridCol w="1039680"/>
                <a:gridCol w="849240"/>
                <a:gridCol w="1076400"/>
              </a:tblGrid>
              <a:tr h="4363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tkupljene vlastite dion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Formiranje rezervi za otkup vlastitih dion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dane vlastite dion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66</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o prijenosu rezervi u zadržanu dob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D2AFF4F-F2F6-478E-A544-239E2B28C58A}" type="slidenum">
              <a:t>532</a:t>
            </a:fld>
          </a:p>
        </p:txBody>
      </p:sp>
    </p:spTree>
  </p:cSld>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Rezerve</a:t>
            </a:r>
            <a:endParaRPr b="0" lang="en-US" sz="4000" spc="-1" strike="noStrike">
              <a:solidFill>
                <a:srgbClr val="000000"/>
              </a:solidFill>
              <a:latin typeface="Arial"/>
            </a:endParaRPr>
          </a:p>
        </p:txBody>
      </p:sp>
      <p:sp>
        <p:nvSpPr>
          <p:cNvPr id="1886" name="PlaceHolder 2"/>
          <p:cNvSpPr>
            <a:spLocks noGrp="1"/>
          </p:cNvSpPr>
          <p:nvPr>
            <p:ph/>
          </p:nvPr>
        </p:nvSpPr>
        <p:spPr>
          <a:xfrm>
            <a:off x="301680" y="1341360"/>
            <a:ext cx="8540640" cy="4757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zerve ili pričuve sastavni su dio kapitala trgovačkog društva koji se formira iz ostvarene dob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zerve dijelimo 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konske rezer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tatutarne rezer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ezerve za otkup vlastitih dioni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evalorizacijske rezerv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e rezer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B26582-E6D6-4837-ADA0-4716435D2E24}" type="slidenum">
              <a:t>533</a:t>
            </a:fld>
          </a:p>
        </p:txBody>
      </p:sp>
    </p:spTree>
  </p:cSld>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88" name=""/>
          <p:cNvSpPr/>
          <p:nvPr/>
        </p:nvSpPr>
        <p:spPr>
          <a:xfrm>
            <a:off x="468360" y="1268280"/>
            <a:ext cx="8064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ioničko društvo “XXX” ostvarilo je u 2003. godini 150.000,00 kn neto dobiti. U 2004. godini skupština društva donijela je odluku o raspodjeli neto dobiti za 2003. godinu kojom se utvrđuje da se dobit raspoređuje na slijedeći način: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5% za zakonske rezer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10% prema statutu u statutarne rezer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5% u ostale rezer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80.000,00 kn za dividend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tak dobiti se zadržav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2A43273-0C1B-4C05-8E35-A9F708B280ED}" type="slidenum">
              <a:t>534</a:t>
            </a:fld>
          </a:p>
        </p:txBody>
      </p:sp>
    </p:spTree>
  </p:cSld>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graphicFrame>
        <p:nvGraphicFramePr>
          <p:cNvPr id="1890" name=""/>
          <p:cNvGraphicFramePr/>
          <p:nvPr/>
        </p:nvGraphicFramePr>
        <p:xfrm>
          <a:off x="250920" y="1773360"/>
          <a:ext cx="8686800" cy="3873240"/>
        </p:xfrm>
        <a:graphic>
          <a:graphicData uri="http://schemas.openxmlformats.org/drawingml/2006/table">
            <a:tbl>
              <a:tblPr/>
              <a:tblGrid>
                <a:gridCol w="846000"/>
                <a:gridCol w="3345120"/>
                <a:gridCol w="1595160"/>
                <a:gridCol w="1444680"/>
                <a:gridCol w="1455840"/>
              </a:tblGrid>
              <a:tr h="5587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8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raspoređivanju dobiti za 2003. godi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5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5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laćena divide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9C38305-38F2-4080-843B-221BE6E5E801}" type="slidenum">
              <a:t>535</a:t>
            </a:fld>
          </a:p>
        </p:txBody>
      </p:sp>
    </p:spTree>
  </p:cSld>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324000" y="1890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Rezultat poslovanja </a:t>
            </a:r>
            <a:endParaRPr b="0" lang="en-US" sz="4000" spc="-1" strike="noStrike">
              <a:solidFill>
                <a:srgbClr val="000000"/>
              </a:solidFill>
              <a:latin typeface="Arial"/>
            </a:endParaRPr>
          </a:p>
        </p:txBody>
      </p:sp>
      <p:sp>
        <p:nvSpPr>
          <p:cNvPr id="1892" name="PlaceHolder 2"/>
          <p:cNvSpPr>
            <a:spLocks noGrp="1"/>
          </p:cNvSpPr>
          <p:nvPr>
            <p:ph/>
          </p:nvPr>
        </p:nvSpPr>
        <p:spPr>
          <a:xfrm>
            <a:off x="324000" y="1268280"/>
            <a:ext cx="8540640" cy="5400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zultat poslovanja može biti pozitivan ili negativan ovisno o tome da li su prihodi veći ili manji od rashoda. Pozitivan rezultat poslovanja poznat je kao dobit, dok se negativan rezultat poslovanja naziva gubitak.</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bit ili gubitak iskazuju se u izvještaju o dobiti (račun dobiti i gubitka).</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je dobiti ili gubitka provodi se u narednoj godini, nakon održavanja glavne skupštine koja donosi odluku o rasporedu dobiti, ili pokriću gubitka, ovisno o tome da li je društvo u prethodnoj godini poslovalo s dobiti ili gubitkom.</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bit se može rasporediti na pričuve, isplatiti vlasnicima ili zadržati u poduzeću za potrebe financiranja daljnjeg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CD8199C-B157-4345-A66E-3F02CB4CDC9D}" type="slidenum">
              <a:t>536</a:t>
            </a:fld>
          </a:p>
        </p:txBody>
      </p:sp>
    </p:spTree>
  </p:cSld>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68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Rezultat poslovanja</a:t>
            </a:r>
            <a:endParaRPr b="0" lang="en-US" sz="4000" spc="-1" strike="noStrike">
              <a:solidFill>
                <a:srgbClr val="000000"/>
              </a:solidFill>
              <a:latin typeface="Arial"/>
            </a:endParaRPr>
          </a:p>
        </p:txBody>
      </p:sp>
      <p:sp>
        <p:nvSpPr>
          <p:cNvPr id="1894" name="PlaceHolder 2"/>
          <p:cNvSpPr>
            <a:spLocks noGrp="1"/>
          </p:cNvSpPr>
          <p:nvPr>
            <p:ph/>
          </p:nvPr>
        </p:nvSpPr>
        <p:spPr>
          <a:xfrm>
            <a:off x="527040" y="1634760"/>
            <a:ext cx="8089920" cy="434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ubitak tekuće godine pokriva se u narednoj godini na teret zadržane dobiti prethodnih godina, a ukoliko ona nije dovoljna razlika se pokriva iz priču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koliko gubitak nije pokriven, on se prenosi i akumulira na kontu prenesenog gubitka i pokriva se u narednim obračunskim razdoblj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B63452-DB3A-4E85-AAF4-0B35593C608F}" type="slidenum">
              <a:t>537</a:t>
            </a:fld>
          </a:p>
        </p:txBody>
      </p:sp>
    </p:spTree>
  </p:cSld>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96" name="PlaceHolder 2"/>
          <p:cNvSpPr>
            <a:spLocks noGrp="1"/>
          </p:cNvSpPr>
          <p:nvPr>
            <p:ph/>
          </p:nvPr>
        </p:nvSpPr>
        <p:spPr>
          <a:xfrm>
            <a:off x="971640" y="907560"/>
            <a:ext cx="7162560" cy="24433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Trgovačko društvo “C” ostvarilo je u 2003. godini dobit u iznosu od 500.000,00 kn. Budući se u prethodnim razdobljima iz ostvarene dobiti izdvajalo 5 % dobiti u zakonske pričuve, one su dostigle iznos od 5 % temeljnog kapitala. Na glavnoj skupštini donesena je odluka da se 10 % dobiti rasporedi u statutarne pričuve dok će se ostatak dobiti raspodijeliti dioničarima u obliku dividende. Dividenda je isplaćena</a:t>
            </a:r>
            <a:endParaRPr b="0" lang="en-US" sz="2400" spc="-1" strike="noStrike">
              <a:solidFill>
                <a:srgbClr val="000000"/>
              </a:solidFill>
              <a:latin typeface="Arial"/>
            </a:endParaRPr>
          </a:p>
        </p:txBody>
      </p:sp>
      <p:graphicFrame>
        <p:nvGraphicFramePr>
          <p:cNvPr id="1897" name=""/>
          <p:cNvGraphicFramePr/>
          <p:nvPr/>
        </p:nvGraphicFramePr>
        <p:xfrm>
          <a:off x="755640" y="4005360"/>
          <a:ext cx="7723080" cy="2249280"/>
        </p:xfrm>
        <a:graphic>
          <a:graphicData uri="http://schemas.openxmlformats.org/drawingml/2006/table">
            <a:tbl>
              <a:tblPr/>
              <a:tblGrid>
                <a:gridCol w="750960"/>
                <a:gridCol w="2976480"/>
                <a:gridCol w="1417680"/>
                <a:gridCol w="1284120"/>
                <a:gridCol w="1293840"/>
              </a:tblGrid>
              <a:tr h="3682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6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raspoređivanju dobiti za 2000. godi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2</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laćena divide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72B05BBD-BDB0-4B55-8E75-62804B1D7B02}" type="slidenum">
              <a:t>538</a:t>
            </a:fld>
          </a:p>
        </p:txBody>
      </p:sp>
    </p:spTree>
  </p:cSld>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68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99" name="PlaceHolder 2"/>
          <p:cNvSpPr>
            <a:spLocks noGrp="1"/>
          </p:cNvSpPr>
          <p:nvPr>
            <p:ph/>
          </p:nvPr>
        </p:nvSpPr>
        <p:spPr>
          <a:xfrm>
            <a:off x="755640" y="549000"/>
            <a:ext cx="7632720" cy="208908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Trgovačko društvo “G” je u 2003. godini ostvarilo dobit od 340.000,00 kn. Dioničari su na glavnoj skupštini podržali prijedlog uprave da se dobit u cijelosti zadrži.</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U 2004. godini društvo je zabilježilo gubitak u visini od 230.000,00 kn te je odlukom glavne skupštine odlučeno da se gubitak pokrije iz zadržane dobiti prethodne godine.</a:t>
            </a:r>
            <a:endParaRPr b="0" lang="en-US" sz="2400" spc="-1" strike="noStrike">
              <a:solidFill>
                <a:srgbClr val="000000"/>
              </a:solidFill>
              <a:latin typeface="Arial"/>
            </a:endParaRPr>
          </a:p>
        </p:txBody>
      </p:sp>
      <p:graphicFrame>
        <p:nvGraphicFramePr>
          <p:cNvPr id="1900" name=""/>
          <p:cNvGraphicFramePr/>
          <p:nvPr/>
        </p:nvGraphicFramePr>
        <p:xfrm>
          <a:off x="971640" y="3429000"/>
          <a:ext cx="7419600" cy="2801520"/>
        </p:xfrm>
        <a:graphic>
          <a:graphicData uri="http://schemas.openxmlformats.org/drawingml/2006/table">
            <a:tbl>
              <a:tblPr/>
              <a:tblGrid>
                <a:gridCol w="721440"/>
                <a:gridCol w="2858400"/>
                <a:gridCol w="1362600"/>
                <a:gridCol w="1233720"/>
                <a:gridCol w="1243440"/>
              </a:tblGrid>
              <a:tr h="5972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raspoređivanju dobiti za 2003. godi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4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pokriću gubit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3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5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965CF3A-AB1A-43F1-A340-F23234041542}" type="slidenum">
              <a:t>539</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900" spc="-1" strike="noStrike">
                <a:solidFill>
                  <a:srgbClr val="000000"/>
                </a:solidFill>
                <a:latin typeface="Arial"/>
              </a:rPr>
              <a:t>Značajke računovodstvenih politika</a:t>
            </a:r>
            <a:endParaRPr b="0" lang="en-US" sz="39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e smiju se mijenjati iz razdoblja u razdoblje, osim pri izmjeni zakonskih propisa, nacionalnih ili međunarodnih standarda te ukoliko bi promjena značajnije djelovala na poboljšanje kvalitete financijskih izvještaja.</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Primjena je obvezujuća i za ostale politike pojedinih funkcija poduzeća.</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 izbor računovodstvenih politika utječu interni i eksterni čimbenici.</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37E4207D-4562-4F50-82D0-946EF1FDD71A}" type="slidenum">
              <a:t>54</a:t>
            </a:fld>
          </a:p>
        </p:txBody>
      </p:sp>
    </p:spTree>
  </p:cSld>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902" name="PlaceHolder 2"/>
          <p:cNvSpPr>
            <a:spLocks noGrp="1"/>
          </p:cNvSpPr>
          <p:nvPr>
            <p:ph/>
          </p:nvPr>
        </p:nvSpPr>
        <p:spPr>
          <a:xfrm>
            <a:off x="899640" y="691920"/>
            <a:ext cx="7272360" cy="266364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U 2003. godini trgovačko društvo ostvarilo je dobit u visini od 200.000,00 kn. U prethodnim godinama društvo je ostvarilo gubitak te je u bilanci iskazan prenesen gubitak u visini od 250.000,00 kn. U idućoj godini na glavnoj skupštini odlučeno je da se ostvarena dobit upotrijebi za pokriće prenesenog gubitka. Ostatak gubitka pokriva se iz statutarnih pričuva.  </a:t>
            </a:r>
            <a:endParaRPr b="0" lang="en-US" sz="2400" spc="-1" strike="noStrike">
              <a:solidFill>
                <a:srgbClr val="000000"/>
              </a:solidFill>
              <a:latin typeface="Arial"/>
            </a:endParaRPr>
          </a:p>
        </p:txBody>
      </p:sp>
      <p:graphicFrame>
        <p:nvGraphicFramePr>
          <p:cNvPr id="1903" name=""/>
          <p:cNvGraphicFramePr/>
          <p:nvPr/>
        </p:nvGraphicFramePr>
        <p:xfrm>
          <a:off x="1042920" y="3789360"/>
          <a:ext cx="7008840" cy="2214720"/>
        </p:xfrm>
        <a:graphic>
          <a:graphicData uri="http://schemas.openxmlformats.org/drawingml/2006/table">
            <a:tbl>
              <a:tblPr/>
              <a:tblGrid>
                <a:gridCol w="682920"/>
                <a:gridCol w="2698560"/>
                <a:gridCol w="1287360"/>
                <a:gridCol w="1165320"/>
                <a:gridCol w="1174680"/>
              </a:tblGrid>
              <a:tr h="64980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pokriću prenesenog gubitka iz dobiti i statutarnih pričuv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1</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407466F-D2A5-4601-8A19-BA28E7290FC0}" type="slidenum">
              <a:t>540</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63640" y="1773360"/>
            <a:ext cx="5526000" cy="25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USTAVI I METODE KNJIGOVODSTV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FC4F439-F4D2-4609-8EC0-AB45AB83EB5B}" type="slidenum">
              <a:t>55</a:t>
            </a:fld>
          </a:p>
        </p:txBody>
      </p:sp>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USTAVI KNJIGOVODSTVA</a:t>
            </a:r>
            <a:endParaRPr b="0" lang="en-US" sz="4000" spc="-1" strike="noStrike">
              <a:solidFill>
                <a:srgbClr val="000000"/>
              </a:solidFill>
              <a:latin typeface="Arial"/>
            </a:endParaRPr>
          </a:p>
        </p:txBody>
      </p:sp>
      <p:sp>
        <p:nvSpPr>
          <p:cNvPr id="288" name="PlaceHolder 2"/>
          <p:cNvSpPr>
            <a:spLocks noGrp="1"/>
          </p:cNvSpPr>
          <p:nvPr>
            <p:ph/>
          </p:nvPr>
        </p:nvSpPr>
        <p:spPr>
          <a:xfrm>
            <a:off x="1476360" y="1628280"/>
            <a:ext cx="739152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Jednostavno knjigovodstv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vojno knjigovodstvo</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ETODE DVOJNOG KNJIGOVODSTV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Prijepisne (prijenosne) met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Kopirne met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Strojne met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Elektronske met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a dvojnog knjigovodst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20B53A-38EF-41B6-A02D-2CAAA4B0DF2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253800"/>
            <a:ext cx="8137440" cy="101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USTAVI I METODE KNJIGOVODSTVA</a:t>
            </a:r>
            <a:endParaRPr b="0" lang="en-US" sz="4000" spc="-1" strike="noStrike">
              <a:solidFill>
                <a:srgbClr val="000000"/>
              </a:solidFill>
              <a:latin typeface="Arial"/>
            </a:endParaRPr>
          </a:p>
        </p:txBody>
      </p:sp>
      <p:sp>
        <p:nvSpPr>
          <p:cNvPr id="290" name="PlaceHolder 2"/>
          <p:cNvSpPr>
            <a:spLocks noGrp="1"/>
          </p:cNvSpPr>
          <p:nvPr>
            <p:ph/>
          </p:nvPr>
        </p:nvSpPr>
        <p:spPr>
          <a:xfrm>
            <a:off x="1403280" y="1557000"/>
            <a:ext cx="7740720" cy="51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voju računovodstva prethodio je razvoj knjigovodstva koje se razvijalo usporedo s ekonomskim razvojem društ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prvotne uloge da zaštiti privredne subjekte od zaborava knjigovodstvo se razvilo u složenu evidencijsko -  informativnu aktivnost koja pruža podlogu za donošenje poslovnih odluk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voj gospodarskih odnosa u društvu doveo je do razvoja knjigovodstva što će biti prikazano u nastavku i što se mora imati na umu prilikom razmatranja sustava i metoda računovodst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DD37BBA-D86D-48DD-9124-A784A98A0B8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752480" y="228600"/>
            <a:ext cx="706752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bbe0e3"/>
                </a:solidFill>
                <a:latin typeface="Arial"/>
              </a:rPr>
              <a:t>SUSTAVI KNJIGOVODSTVA</a:t>
            </a:r>
            <a:endParaRPr b="0" lang="en-US" sz="4000" spc="-1" strike="noStrike">
              <a:solidFill>
                <a:srgbClr val="000000"/>
              </a:solidFill>
              <a:latin typeface="Arial"/>
            </a:endParaRPr>
          </a:p>
        </p:txBody>
      </p:sp>
      <p:sp>
        <p:nvSpPr>
          <p:cNvPr id="292" name="PlaceHolder 2"/>
          <p:cNvSpPr>
            <a:spLocks noGrp="1"/>
          </p:cNvSpPr>
          <p:nvPr>
            <p:ph/>
          </p:nvPr>
        </p:nvSpPr>
        <p:spPr>
          <a:xfrm>
            <a:off x="1560240" y="1628280"/>
            <a:ext cx="75834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visno o načinu knjiženja poslovnih promjena, načelima na kojima se knjiženja temelje, cilju koji se želi ostvariti i poslovnim knjigama koje se vode razlikujemo:</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400" spc="-1" strike="noStrike">
                <a:solidFill>
                  <a:srgbClr val="000000"/>
                </a:solidFill>
                <a:latin typeface="Arial"/>
              </a:rPr>
              <a:t>Jednostavno knjigovodstvo 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Dvojno knjigovodstvo.</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z ova dva osnovna sustava knjigovodstva razvila su se još dva i t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meralno knjigovodstvo kao varijanta jednostavnog 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stantno knjigovodstvo kao varijanta dvojnog knjigovodstv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73080FF-A42D-4772-A2A5-4EB3046670F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USTAVI KNJIGOVODSTVA</a:t>
            </a:r>
            <a:endParaRPr b="0" lang="en-US" sz="4000" spc="-1" strike="noStrike">
              <a:solidFill>
                <a:srgbClr val="000000"/>
              </a:solidFill>
              <a:latin typeface="Arial"/>
            </a:endParaRPr>
          </a:p>
        </p:txBody>
      </p:sp>
      <p:grpSp>
        <p:nvGrpSpPr>
          <p:cNvPr id="294" name=""/>
          <p:cNvGrpSpPr/>
          <p:nvPr/>
        </p:nvGrpSpPr>
        <p:grpSpPr>
          <a:xfrm>
            <a:off x="1522440" y="2122200"/>
            <a:ext cx="5999040" cy="2336760"/>
            <a:chOff x="1522440" y="2122200"/>
            <a:chExt cx="5999040" cy="2336760"/>
          </a:xfrm>
        </p:grpSpPr>
        <p:cxnSp>
          <p:nvCxnSpPr>
            <p:cNvPr id="295" name="_s68613"/>
            <p:cNvCxnSpPr>
              <a:stCxn id="296" idx="0"/>
              <a:endCxn id="297" idx="2"/>
            </p:cNvCxnSpPr>
            <p:nvPr/>
          </p:nvCxnSpPr>
          <p:spPr>
            <a:xfrm flipV="1" rot="16200000">
              <a:off x="4476240" y="3250080"/>
              <a:ext cx="229320" cy="1273680"/>
            </a:xfrm>
            <a:prstGeom prst="bentConnector3">
              <a:avLst>
                <a:gd name="adj1" fmla="val 50000"/>
              </a:avLst>
            </a:prstGeom>
            <a:ln w="28440">
              <a:solidFill>
                <a:srgbClr val="000000"/>
              </a:solidFill>
              <a:miter/>
            </a:ln>
          </p:spPr>
        </p:cxnSp>
        <p:cxnSp>
          <p:nvCxnSpPr>
            <p:cNvPr id="298" name="_s68614"/>
            <p:cNvCxnSpPr>
              <a:stCxn id="299" idx="0"/>
              <a:endCxn id="297" idx="2"/>
            </p:cNvCxnSpPr>
            <p:nvPr/>
          </p:nvCxnSpPr>
          <p:spPr>
            <a:xfrm flipH="1" flipV="1" rot="5400000">
              <a:off x="3203280" y="3250080"/>
              <a:ext cx="229320" cy="1274040"/>
            </a:xfrm>
            <a:prstGeom prst="bentConnector3">
              <a:avLst>
                <a:gd name="adj1" fmla="val 50000"/>
              </a:avLst>
            </a:prstGeom>
            <a:ln w="28440">
              <a:solidFill>
                <a:srgbClr val="000000"/>
              </a:solidFill>
              <a:miter/>
            </a:ln>
          </p:spPr>
        </p:cxnSp>
        <p:cxnSp>
          <p:nvCxnSpPr>
            <p:cNvPr id="300" name="_s68615"/>
            <p:cNvCxnSpPr>
              <a:stCxn id="301" idx="0"/>
              <a:endCxn id="302" idx="2"/>
            </p:cNvCxnSpPr>
            <p:nvPr/>
          </p:nvCxnSpPr>
          <p:spPr>
            <a:xfrm flipV="1" rot="16200000">
              <a:off x="5349960" y="2003400"/>
              <a:ext cx="229320" cy="1888200"/>
            </a:xfrm>
            <a:prstGeom prst="bentConnector3">
              <a:avLst>
                <a:gd name="adj1" fmla="val 50000"/>
              </a:avLst>
            </a:prstGeom>
            <a:ln w="28440">
              <a:solidFill>
                <a:srgbClr val="000000"/>
              </a:solidFill>
              <a:miter/>
            </a:ln>
          </p:spPr>
        </p:cxnSp>
        <p:cxnSp>
          <p:nvCxnSpPr>
            <p:cNvPr id="303" name="_s68616"/>
            <p:cNvCxnSpPr>
              <a:stCxn id="297" idx="0"/>
              <a:endCxn id="302" idx="2"/>
            </p:cNvCxnSpPr>
            <p:nvPr/>
          </p:nvCxnSpPr>
          <p:spPr>
            <a:xfrm flipH="1" flipV="1" rot="5400000">
              <a:off x="4123440" y="2664000"/>
              <a:ext cx="229320" cy="567360"/>
            </a:xfrm>
            <a:prstGeom prst="bentConnector3">
              <a:avLst>
                <a:gd name="adj1" fmla="val 50000"/>
              </a:avLst>
            </a:prstGeom>
            <a:ln w="28440">
              <a:solidFill>
                <a:srgbClr val="000000"/>
              </a:solidFill>
              <a:miter/>
            </a:ln>
          </p:spPr>
        </p:cxnSp>
        <p:sp>
          <p:nvSpPr>
            <p:cNvPr id="302" name="_s68617"/>
            <p:cNvSpPr/>
            <p:nvPr/>
          </p:nvSpPr>
          <p:spPr>
            <a:xfrm>
              <a:off x="3421080" y="2122200"/>
              <a:ext cx="2200320" cy="711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USTAV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A</a:t>
              </a:r>
              <a:endParaRPr b="0" lang="en-US" sz="1800" spc="-1" strike="noStrike">
                <a:solidFill>
                  <a:srgbClr val="000000"/>
                </a:solidFill>
                <a:latin typeface="Arial"/>
              </a:endParaRPr>
            </a:p>
          </p:txBody>
        </p:sp>
        <p:sp>
          <p:nvSpPr>
            <p:cNvPr id="297" name="_s68618"/>
            <p:cNvSpPr/>
            <p:nvPr/>
          </p:nvSpPr>
          <p:spPr>
            <a:xfrm>
              <a:off x="2841840" y="3062160"/>
              <a:ext cx="2225520" cy="71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JEDNOSTAV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301" name="_s68619"/>
            <p:cNvSpPr/>
            <p:nvPr/>
          </p:nvSpPr>
          <p:spPr>
            <a:xfrm>
              <a:off x="5295960" y="3062160"/>
              <a:ext cx="2225520" cy="71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VOJ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299" name="_s68620"/>
            <p:cNvSpPr/>
            <p:nvPr/>
          </p:nvSpPr>
          <p:spPr>
            <a:xfrm>
              <a:off x="1522440" y="4001760"/>
              <a:ext cx="23176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EORGANIZIRANO</a:t>
              </a:r>
              <a:endParaRPr b="0" lang="en-US" sz="1800" spc="-1" strike="noStrike">
                <a:solidFill>
                  <a:srgbClr val="000000"/>
                </a:solidFill>
                <a:latin typeface="Arial"/>
              </a:endParaRPr>
            </a:p>
          </p:txBody>
        </p:sp>
        <p:sp>
          <p:nvSpPr>
            <p:cNvPr id="296" name="_s68621"/>
            <p:cNvSpPr/>
            <p:nvPr/>
          </p:nvSpPr>
          <p:spPr>
            <a:xfrm>
              <a:off x="4068720" y="4001760"/>
              <a:ext cx="23176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RGANIZIRANO</a:t>
              </a:r>
              <a:endParaRPr b="0" lang="en-US" sz="1800" spc="-1" strike="noStrike">
                <a:solidFill>
                  <a:srgbClr val="000000"/>
                </a:solidFill>
                <a:latin typeface="Arial"/>
              </a:endParaRPr>
            </a:p>
          </p:txBody>
        </p:sp>
      </p:grpSp>
      <p:sp>
        <p:nvSpPr>
          <p:cNvPr id="304" name=""/>
          <p:cNvSpPr/>
          <p:nvPr/>
        </p:nvSpPr>
        <p:spPr>
          <a:xfrm flipH="1">
            <a:off x="1568160" y="3645000"/>
            <a:ext cx="180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68520" y="3645000"/>
            <a:ext cx="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568520" y="5518080"/>
            <a:ext cx="86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33600" y="5157720"/>
            <a:ext cx="208764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AMERAL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308" name=""/>
          <p:cNvSpPr/>
          <p:nvPr/>
        </p:nvSpPr>
        <p:spPr>
          <a:xfrm>
            <a:off x="8121600" y="364500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8842320" y="3645000"/>
            <a:ext cx="0" cy="194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a:off x="8265600" y="5589720"/>
            <a:ext cx="5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176880" y="5157720"/>
            <a:ext cx="208908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NSTANT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BF05456-160B-4B65-AFA5-DA1DD189B74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ECTS BODOVI</a:t>
            </a:r>
            <a:endParaRPr b="0" lang="en-US" sz="4400" spc="-1" strike="noStrike">
              <a:solidFill>
                <a:srgbClr val="000000"/>
              </a:solidFill>
              <a:latin typeface="Arial"/>
            </a:endParaRPr>
          </a:p>
        </p:txBody>
      </p:sp>
      <p:sp>
        <p:nvSpPr>
          <p:cNvPr id="58" name=""/>
          <p:cNvSpPr txBox="1"/>
          <p:nvPr/>
        </p:nvSpPr>
        <p:spPr>
          <a:xfrm>
            <a:off x="3276720" y="2997360"/>
            <a:ext cx="2376360" cy="28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ffcc00"/>
                  </a:solidFill>
                  <a:miter/>
                </a:ln>
                <a:gradFill rotWithShape="0">
                  <a:gsLst>
                    <a:gs pos="0">
                      <a:srgbClr val="ffffff"/>
                    </a:gs>
                    <a:gs pos="100000">
                      <a:srgbClr val="99cc00"/>
                    </a:gs>
                  </a:gsLst>
                  <a:path path="rect">
                    <a:fillToRect l="50000" t="50000" r="50000" b="50000"/>
                  </a:path>
                </a:gradFill>
                <a:effectLst>
                  <a:outerShdw dist="17819" dir="2700000" blurRad="0" rotWithShape="0">
                    <a:srgbClr val="c0c0c0">
                      <a:alpha val="80000"/>
                    </a:srgbClr>
                  </a:outerShdw>
                </a:effectLst>
                <a:latin typeface="Arial"/>
              </a:rPr>
              <a:t>7</a:t>
            </a:r>
            <a:endParaRPr b="1" lang="en-US" sz="6600" spc="1" strike="noStrike">
              <a:ln w="9360">
                <a:solidFill>
                  <a:srgbClr val="ffcc00"/>
                </a:solidFill>
                <a:miter/>
              </a:ln>
              <a:gradFill rotWithShape="0">
                <a:gsLst>
                  <a:gs pos="0">
                    <a:srgbClr val="ffffff"/>
                  </a:gs>
                  <a:gs pos="100000">
                    <a:srgbClr val="99cc00"/>
                  </a:gs>
                </a:gsLst>
                <a:path path="rect">
                  <a:fillToRect l="50000" t="50000" r="50000" b="50000"/>
                </a:path>
              </a:gradFill>
              <a:effectLst>
                <a:outerShdw dist="17819" dir="2700000" blurRad="0" rotWithShape="0">
                  <a:srgbClr val="c0c0c0">
                    <a:alpha val="80000"/>
                  </a:srgbClr>
                </a:outerShdw>
              </a:effectLst>
              <a:latin typeface="Arial"/>
              <a:ea typeface="Arial"/>
            </a:endParaRPr>
          </a:p>
        </p:txBody>
      </p:sp>
      <p:sp>
        <p:nvSpPr>
          <p:cNvPr id="3" name="PlaceHolder 2"/>
          <p:cNvSpPr>
            <a:spLocks noGrp="1"/>
          </p:cNvSpPr>
          <p:nvPr>
            <p:ph type="sldNum" idx="3"/>
          </p:nvPr>
        </p:nvSpPr>
        <p:spPr/>
        <p:txBody>
          <a:bodyPr/>
          <a:p>
            <a:fld id="{1293E5DC-15A3-451A-836B-44400D413E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752480" y="228600"/>
            <a:ext cx="69962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Jednostavno knjigovodstvo</a:t>
            </a:r>
            <a:endParaRPr b="0" lang="en-US" sz="4000" spc="-1" strike="noStrike">
              <a:solidFill>
                <a:srgbClr val="000000"/>
              </a:solidFill>
              <a:latin typeface="Arial"/>
            </a:endParaRPr>
          </a:p>
        </p:txBody>
      </p:sp>
      <p:sp>
        <p:nvSpPr>
          <p:cNvPr id="313" name="PlaceHolder 2"/>
          <p:cNvSpPr>
            <a:spLocks noGrp="1"/>
          </p:cNvSpPr>
          <p:nvPr>
            <p:ph/>
          </p:nvPr>
        </p:nvSpPr>
        <p:spPr>
          <a:xfrm>
            <a:off x="1403280" y="1628640"/>
            <a:ext cx="7740720" cy="522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mjene stanja nekog dijela imovine ili obveza evidentiraju se izolirano tj. u odvojenim knjigama koje međusobno nisu poveza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loženi kapital u poduzeće (vlasnički kapital ili glavnica) ne evidentira 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 vodi se evidencija o ukupnoj imovini i rashodima i prihod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edovito se vode slijedeće knji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knjiga blagaj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knjiga dužnika i vjerovnika 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dnevni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0E4C56-FF4D-44A9-B0E3-B1E3B0F503A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752120" y="228240"/>
            <a:ext cx="692316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Jednostavno knjigovodstvo</a:t>
            </a:r>
            <a:endParaRPr b="0" lang="en-US" sz="4000" spc="-1" strike="noStrike">
              <a:solidFill>
                <a:srgbClr val="000000"/>
              </a:solidFill>
              <a:latin typeface="Arial"/>
            </a:endParaRPr>
          </a:p>
        </p:txBody>
      </p:sp>
      <p:sp>
        <p:nvSpPr>
          <p:cNvPr id="315" name="PlaceHolder 2"/>
          <p:cNvSpPr>
            <a:spLocks noGrp="1"/>
          </p:cNvSpPr>
          <p:nvPr>
            <p:ph/>
          </p:nvPr>
        </p:nvSpPr>
        <p:spPr>
          <a:xfrm>
            <a:off x="1403280" y="1557000"/>
            <a:ext cx="7740720" cy="5040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poslovanja ne može se utvrditi temeljem knjiženja, već se utvrđuje usporedbom vrijednosti čiste imovine s kraja razdoblja s onom s početka razdoblja, a do koje se dolazi njezinim popis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F0510F-4B66-4B79-B633-00BC10EBBAF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168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ameralno knjigovodstvo</a:t>
            </a:r>
            <a:endParaRPr b="0" lang="en-US" sz="4000" spc="-1" strike="noStrike">
              <a:solidFill>
                <a:srgbClr val="000000"/>
              </a:solidFill>
              <a:latin typeface="Arial"/>
            </a:endParaRPr>
          </a:p>
        </p:txBody>
      </p:sp>
      <p:sp>
        <p:nvSpPr>
          <p:cNvPr id="317"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i se na sustavu jednostavnog knjigovodstva, a razvio se u 17. st. za potrebe praćenja državnih rashoda i prih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rakterizira ga činjenica da uz evidenciju nastalih rashoda i prihoda vodi i evidenciju ostvarenja plana svih rashoda i prih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jihovim uspoređivanjem utvrđuje se višak ili manjak u proraču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DFE455-1CC0-44DC-A128-3B9387D4126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168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onstantno knjigovodstvo</a:t>
            </a:r>
            <a:endParaRPr b="0" lang="en-US" sz="4000" spc="-1" strike="noStrike">
              <a:solidFill>
                <a:srgbClr val="000000"/>
              </a:solidFill>
              <a:latin typeface="Arial"/>
            </a:endParaRPr>
          </a:p>
        </p:txBody>
      </p:sp>
      <p:sp>
        <p:nvSpPr>
          <p:cNvPr id="319"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i se na načelima dvojnog knjigovodst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kviru ovog sustava vodi se evidencija o svim dijelovima imovine i evidencija o rashodima i prihodi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 bi se uspoređivali ostvareni s planiranim rashodima i prihodima konta u glavnoj knjizi svrstana su u tri gru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upravni račun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blagajnički računi 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računi za obračun koji su veza izmeđ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prethodno navedenih.</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AD63AC-6F8F-431B-85F6-28625819DC3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752480" y="228600"/>
            <a:ext cx="69962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Dvojno knjigovodstvo</a:t>
            </a:r>
            <a:endParaRPr b="0" lang="en-US" sz="4000" spc="-1" strike="noStrike">
              <a:solidFill>
                <a:srgbClr val="000000"/>
              </a:solidFill>
              <a:latin typeface="Arial"/>
            </a:endParaRPr>
          </a:p>
        </p:txBody>
      </p:sp>
      <p:sp>
        <p:nvSpPr>
          <p:cNvPr id="321" name="PlaceHolder 2"/>
          <p:cNvSpPr>
            <a:spLocks noGrp="1"/>
          </p:cNvSpPr>
          <p:nvPr>
            <p:ph/>
          </p:nvPr>
        </p:nvSpPr>
        <p:spPr>
          <a:xfrm>
            <a:off x="611280" y="1341360"/>
            <a:ext cx="7596000" cy="5229360"/>
          </a:xfrm>
          <a:prstGeom prst="rect">
            <a:avLst/>
          </a:prstGeom>
          <a:noFill/>
          <a:ln w="0">
            <a:noFill/>
          </a:ln>
        </p:spPr>
        <p:txBody>
          <a:bodyPr lIns="90000" rIns="90000" tIns="46800" bIns="46800"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vio se uslijed snažnog razvoja trgovine i kreditnih odnosa u Italiji tijekom 15. i 16. stoljeća.</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stavlja cjeloviti sustav evidentiranja poslovnih promjena  u okviru kojega se uz cjelokupnu imovinu bilježe svi dugovi i kapital, rashodi i prihodi i iz kojeg je na temelju knjiženja moguće utvrditi rezultat poslovanja.</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novno obilježje – svaka se poslovna promjena bilježi usporedno na dva različita konta s time što uzrokuje različite promjene suprotne prirode, na jednom je kontu pozitivna, dok je na drugom negativna.</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njige dvojnog knjigovodstv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dnevnik,</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glavna knjiga i</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pomoćne knji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B7C5DA-71CD-46B4-AB9C-C4E9D03D8F0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99640" y="476280"/>
            <a:ext cx="7775640" cy="968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METODE DVOJNOG KNJIGOVODSTVA</a:t>
            </a:r>
            <a:endParaRPr b="0" lang="en-US" sz="4000" spc="-1" strike="noStrike">
              <a:solidFill>
                <a:srgbClr val="000000"/>
              </a:solidFill>
              <a:latin typeface="Arial"/>
            </a:endParaRPr>
          </a:p>
        </p:txBody>
      </p:sp>
      <p:sp>
        <p:nvSpPr>
          <p:cNvPr id="323" name="PlaceHolder 2"/>
          <p:cNvSpPr>
            <a:spLocks noGrp="1"/>
          </p:cNvSpPr>
          <p:nvPr>
            <p:ph/>
          </p:nvPr>
        </p:nvSpPr>
        <p:spPr>
          <a:xfrm>
            <a:off x="826560" y="1484280"/>
            <a:ext cx="766764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ini bilježenja podataka o poslovnim promjena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ovisno o korištenoj metodi, knjigovodstveni postupak obuhvaća pripremu dokumenata (knjigovodstvenih isprava) kao i postupak s podacima sadržanim u tim ispravama i to njihovo bilježenje, klasificiranje i sumiranje rezultata poslovan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aka metoda mora omogućiti obuhvaćanje svih podataka o poslovnim transakcijama te, sumiranjem određenih podataka, sastavljanje financijskih, upravljačkih i poreznih izvješta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E3E23B-D987-4031-A196-E489A05BB89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15640" y="228240"/>
            <a:ext cx="7559640" cy="14000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METODE DVOJNOG KNJIGOVODSTVA</a:t>
            </a:r>
            <a:endParaRPr b="0" lang="en-US" sz="4000" spc="-1" strike="noStrike">
              <a:solidFill>
                <a:srgbClr val="000000"/>
              </a:solidFill>
              <a:latin typeface="Arial"/>
            </a:endParaRPr>
          </a:p>
        </p:txBody>
      </p:sp>
      <p:grpSp>
        <p:nvGrpSpPr>
          <p:cNvPr id="325" name=""/>
          <p:cNvGrpSpPr/>
          <p:nvPr/>
        </p:nvGrpSpPr>
        <p:grpSpPr>
          <a:xfrm>
            <a:off x="0" y="2257200"/>
            <a:ext cx="9143640" cy="2570040"/>
            <a:chOff x="0" y="2257200"/>
            <a:chExt cx="9143640" cy="2570040"/>
          </a:xfrm>
        </p:grpSpPr>
        <p:cxnSp>
          <p:nvCxnSpPr>
            <p:cNvPr id="326" name="_s75781"/>
            <p:cNvCxnSpPr>
              <a:stCxn id="327" idx="0"/>
              <a:endCxn id="328" idx="2"/>
            </p:cNvCxnSpPr>
            <p:nvPr/>
          </p:nvCxnSpPr>
          <p:spPr>
            <a:xfrm flipV="1" rot="16200000">
              <a:off x="2355480" y="3551040"/>
              <a:ext cx="228960" cy="1046880"/>
            </a:xfrm>
            <a:prstGeom prst="bentConnector3">
              <a:avLst>
                <a:gd name="adj1" fmla="val 49921"/>
              </a:avLst>
            </a:prstGeom>
            <a:ln w="28440">
              <a:solidFill>
                <a:srgbClr val="000000"/>
              </a:solidFill>
              <a:miter/>
            </a:ln>
          </p:spPr>
        </p:cxnSp>
        <p:cxnSp>
          <p:nvCxnSpPr>
            <p:cNvPr id="329" name="_s75782"/>
            <p:cNvCxnSpPr>
              <a:stCxn id="330" idx="0"/>
              <a:endCxn id="328" idx="2"/>
            </p:cNvCxnSpPr>
            <p:nvPr/>
          </p:nvCxnSpPr>
          <p:spPr>
            <a:xfrm flipH="1" flipV="1" rot="5400000">
              <a:off x="1308240" y="3550320"/>
              <a:ext cx="228960" cy="1048680"/>
            </a:xfrm>
            <a:prstGeom prst="bentConnector3">
              <a:avLst>
                <a:gd name="adj1" fmla="val 49921"/>
              </a:avLst>
            </a:prstGeom>
            <a:ln w="28440">
              <a:solidFill>
                <a:srgbClr val="000000"/>
              </a:solidFill>
              <a:miter/>
            </a:ln>
          </p:spPr>
        </p:cxnSp>
        <p:cxnSp>
          <p:nvCxnSpPr>
            <p:cNvPr id="331" name="_s75783"/>
            <p:cNvCxnSpPr>
              <a:stCxn id="332" idx="0"/>
              <a:endCxn id="333" idx="2"/>
            </p:cNvCxnSpPr>
            <p:nvPr/>
          </p:nvCxnSpPr>
          <p:spPr>
            <a:xfrm flipV="1" rot="16200000">
              <a:off x="6083640" y="1762200"/>
              <a:ext cx="228960" cy="3253320"/>
            </a:xfrm>
            <a:prstGeom prst="bentConnector3">
              <a:avLst>
                <a:gd name="adj1" fmla="val 49921"/>
              </a:avLst>
            </a:prstGeom>
            <a:ln w="28440">
              <a:solidFill>
                <a:srgbClr val="000000"/>
              </a:solidFill>
              <a:miter/>
            </a:ln>
          </p:spPr>
        </p:cxnSp>
        <p:cxnSp>
          <p:nvCxnSpPr>
            <p:cNvPr id="334" name="_s75784"/>
            <p:cNvCxnSpPr>
              <a:stCxn id="335" idx="0"/>
              <a:endCxn id="333" idx="2"/>
            </p:cNvCxnSpPr>
            <p:nvPr/>
          </p:nvCxnSpPr>
          <p:spPr>
            <a:xfrm flipV="1" rot="16200000">
              <a:off x="4614840" y="3231720"/>
              <a:ext cx="228960" cy="314280"/>
            </a:xfrm>
            <a:prstGeom prst="bentConnector3">
              <a:avLst>
                <a:gd name="adj1" fmla="val 49921"/>
              </a:avLst>
            </a:prstGeom>
            <a:ln w="28440">
              <a:solidFill>
                <a:srgbClr val="000000"/>
              </a:solidFill>
              <a:miter/>
            </a:ln>
          </p:spPr>
        </p:cxnSp>
        <p:cxnSp>
          <p:nvCxnSpPr>
            <p:cNvPr id="336" name="_s75785"/>
            <p:cNvCxnSpPr>
              <a:stCxn id="328" idx="0"/>
              <a:endCxn id="333" idx="2"/>
            </p:cNvCxnSpPr>
            <p:nvPr/>
          </p:nvCxnSpPr>
          <p:spPr>
            <a:xfrm flipH="1" flipV="1" rot="5400000">
              <a:off x="3144600" y="2076120"/>
              <a:ext cx="228960" cy="2625480"/>
            </a:xfrm>
            <a:prstGeom prst="bentConnector3">
              <a:avLst>
                <a:gd name="adj1" fmla="val 49921"/>
              </a:avLst>
            </a:prstGeom>
            <a:ln w="28440">
              <a:solidFill>
                <a:srgbClr val="000000"/>
              </a:solidFill>
              <a:miter/>
            </a:ln>
          </p:spPr>
        </p:cxnSp>
        <p:sp>
          <p:nvSpPr>
            <p:cNvPr id="333" name="_s75786"/>
            <p:cNvSpPr/>
            <p:nvPr/>
          </p:nvSpPr>
          <p:spPr>
            <a:xfrm>
              <a:off x="3111480" y="2257200"/>
              <a:ext cx="291996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ETO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DVOJNO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NJIGOVODSTVA</a:t>
              </a:r>
              <a:endParaRPr b="0" lang="en-US" sz="1600" spc="-1" strike="noStrike">
                <a:solidFill>
                  <a:srgbClr val="000000"/>
                </a:solidFill>
                <a:latin typeface="Arial"/>
              </a:endParaRPr>
            </a:p>
          </p:txBody>
        </p:sp>
        <p:sp>
          <p:nvSpPr>
            <p:cNvPr id="328" name="_s75787"/>
            <p:cNvSpPr/>
            <p:nvPr/>
          </p:nvSpPr>
          <p:spPr>
            <a:xfrm>
              <a:off x="625680" y="3503520"/>
              <a:ext cx="2639520" cy="456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RUČNE METODE</a:t>
              </a:r>
              <a:endParaRPr b="0" lang="en-US" sz="1600" spc="-1" strike="noStrike">
                <a:solidFill>
                  <a:srgbClr val="000000"/>
                </a:solidFill>
                <a:latin typeface="Arial"/>
              </a:endParaRPr>
            </a:p>
          </p:txBody>
        </p:sp>
        <p:sp>
          <p:nvSpPr>
            <p:cNvPr id="335" name="_s75788"/>
            <p:cNvSpPr/>
            <p:nvPr/>
          </p:nvSpPr>
          <p:spPr>
            <a:xfrm>
              <a:off x="3565080" y="3503520"/>
              <a:ext cx="2639520" cy="456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STROJNE METODE</a:t>
              </a:r>
              <a:endParaRPr b="0" lang="en-US" sz="1600" spc="-1" strike="noStrike">
                <a:solidFill>
                  <a:srgbClr val="000000"/>
                </a:solidFill>
                <a:latin typeface="Arial"/>
              </a:endParaRPr>
            </a:p>
          </p:txBody>
        </p:sp>
        <p:sp>
          <p:nvSpPr>
            <p:cNvPr id="332" name="_s75789"/>
            <p:cNvSpPr/>
            <p:nvPr/>
          </p:nvSpPr>
          <p:spPr>
            <a:xfrm>
              <a:off x="6504120" y="3503520"/>
              <a:ext cx="2639520" cy="456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ELEKTRONSKA METODA</a:t>
              </a:r>
              <a:endParaRPr b="0" lang="en-US" sz="1600" spc="-1" strike="noStrike">
                <a:solidFill>
                  <a:srgbClr val="000000"/>
                </a:solidFill>
                <a:latin typeface="Arial"/>
              </a:endParaRPr>
            </a:p>
          </p:txBody>
        </p:sp>
        <p:sp>
          <p:nvSpPr>
            <p:cNvPr id="330" name="_s75790"/>
            <p:cNvSpPr/>
            <p:nvPr/>
          </p:nvSpPr>
          <p:spPr>
            <a:xfrm>
              <a:off x="0" y="4189320"/>
              <a:ext cx="1794960" cy="637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4960" rIns="8496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Prijepis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etode</a:t>
              </a:r>
              <a:endParaRPr b="0" lang="en-US" sz="1600" spc="-1" strike="noStrike">
                <a:solidFill>
                  <a:srgbClr val="000000"/>
                </a:solidFill>
                <a:latin typeface="Arial"/>
              </a:endParaRPr>
            </a:p>
          </p:txBody>
        </p:sp>
        <p:sp>
          <p:nvSpPr>
            <p:cNvPr id="327" name="_s75791"/>
            <p:cNvSpPr/>
            <p:nvPr/>
          </p:nvSpPr>
          <p:spPr>
            <a:xfrm>
              <a:off x="2094480" y="4189320"/>
              <a:ext cx="1794600" cy="637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4960" rIns="8496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opir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etode</a:t>
              </a:r>
              <a:endParaRPr b="0" lang="en-US" sz="1600" spc="-1" strike="noStrike">
                <a:solidFill>
                  <a:srgbClr val="000000"/>
                </a:solidFill>
                <a:latin typeface="Arial"/>
              </a:endParaRPr>
            </a:p>
          </p:txBody>
        </p:sp>
      </p:grpSp>
      <p:sp>
        <p:nvSpPr>
          <p:cNvPr id="3" name="PlaceHolder 2"/>
          <p:cNvSpPr>
            <a:spLocks noGrp="1"/>
          </p:cNvSpPr>
          <p:nvPr>
            <p:ph type="sldNum" idx="3"/>
          </p:nvPr>
        </p:nvSpPr>
        <p:spPr/>
        <p:txBody>
          <a:bodyPr/>
          <a:p>
            <a:fld id="{A97165C3-07AD-4DEB-90EE-5CE6CE0B5B6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752120" y="228240"/>
            <a:ext cx="6923160" cy="1112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38"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e poslovne promjene bilježe se u određene evidencije po nekom redu. U svaku iduću evidenciju prepisuju se podaci iz prethod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toji pet vrsta prijepisnih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Starotalijansk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Novotalijansk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Njemačk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Francuska metoda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Tablična ili američka metod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29B36F-057A-456A-A41B-21E61DD7F41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1680" cy="11145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40" name="PlaceHolder 2"/>
          <p:cNvSpPr>
            <a:spLocks noGrp="1"/>
          </p:cNvSpPr>
          <p:nvPr>
            <p:ph/>
          </p:nvPr>
        </p:nvSpPr>
        <p:spPr>
          <a:xfrm>
            <a:off x="1403280" y="1628280"/>
            <a:ext cx="7740720" cy="5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arotalijanska metoda</a:t>
            </a:r>
            <a:endParaRPr b="0" lang="en-US" sz="2400" spc="-1" strike="noStrike">
              <a:solidFill>
                <a:srgbClr val="000000"/>
              </a:solidFill>
              <a:latin typeface="Arial"/>
            </a:endParaRPr>
          </a:p>
        </p:txBody>
      </p:sp>
      <p:sp>
        <p:nvSpPr>
          <p:cNvPr id="341" name=""/>
          <p:cNvSpPr/>
          <p:nvPr/>
        </p:nvSpPr>
        <p:spPr>
          <a:xfrm>
            <a:off x="1690560" y="2781360"/>
            <a:ext cx="165600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EMORIJAL</a:t>
            </a:r>
            <a:endParaRPr b="0" lang="en-US" sz="1800" spc="-1" strike="noStrike">
              <a:solidFill>
                <a:srgbClr val="000000"/>
              </a:solidFill>
              <a:latin typeface="Arial"/>
            </a:endParaRPr>
          </a:p>
        </p:txBody>
      </p:sp>
      <p:sp>
        <p:nvSpPr>
          <p:cNvPr id="342" name=""/>
          <p:cNvSpPr/>
          <p:nvPr/>
        </p:nvSpPr>
        <p:spPr>
          <a:xfrm>
            <a:off x="3346560" y="314172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427640" y="2781360"/>
            <a:ext cx="165564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44" name=""/>
          <p:cNvSpPr/>
          <p:nvPr/>
        </p:nvSpPr>
        <p:spPr>
          <a:xfrm>
            <a:off x="6083280" y="314172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020000" y="2781360"/>
            <a:ext cx="17272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LAV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0B8B34-1BEA-4E62-96F3-EFC5CC48F85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168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47" name="PlaceHolder 2"/>
          <p:cNvSpPr>
            <a:spLocks noGrp="1"/>
          </p:cNvSpPr>
          <p:nvPr>
            <p:ph/>
          </p:nvPr>
        </p:nvSpPr>
        <p:spPr>
          <a:xfrm>
            <a:off x="1476000" y="1628280"/>
            <a:ext cx="7667640" cy="57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otalijanska metoda</a:t>
            </a:r>
            <a:endParaRPr b="0" lang="en-US" sz="2400" spc="-1" strike="noStrike">
              <a:solidFill>
                <a:srgbClr val="000000"/>
              </a:solidFill>
              <a:latin typeface="Arial"/>
            </a:endParaRPr>
          </a:p>
        </p:txBody>
      </p:sp>
      <p:sp>
        <p:nvSpPr>
          <p:cNvPr id="348" name=""/>
          <p:cNvSpPr/>
          <p:nvPr/>
        </p:nvSpPr>
        <p:spPr>
          <a:xfrm>
            <a:off x="1619280" y="3500280"/>
            <a:ext cx="16556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EMORIJAL</a:t>
            </a:r>
            <a:endParaRPr b="0" lang="en-US" sz="1800" spc="-1" strike="noStrike">
              <a:solidFill>
                <a:srgbClr val="000000"/>
              </a:solidFill>
              <a:latin typeface="Arial"/>
            </a:endParaRPr>
          </a:p>
        </p:txBody>
      </p:sp>
      <p:sp>
        <p:nvSpPr>
          <p:cNvPr id="349" name=""/>
          <p:cNvSpPr/>
          <p:nvPr/>
        </p:nvSpPr>
        <p:spPr>
          <a:xfrm>
            <a:off x="3274920" y="386064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780000" y="277956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7800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780000" y="4869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27640" y="2421000"/>
            <a:ext cx="158436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LAGAJNIČK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54" name=""/>
          <p:cNvSpPr/>
          <p:nvPr/>
        </p:nvSpPr>
        <p:spPr>
          <a:xfrm>
            <a:off x="4427640" y="4579920"/>
            <a:ext cx="1584360" cy="6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ANOTA</a:t>
            </a:r>
            <a:endParaRPr b="0" lang="en-US" sz="1800" spc="-1" strike="noStrike">
              <a:solidFill>
                <a:srgbClr val="000000"/>
              </a:solidFill>
              <a:latin typeface="Arial"/>
            </a:endParaRPr>
          </a:p>
        </p:txBody>
      </p:sp>
      <p:sp>
        <p:nvSpPr>
          <p:cNvPr id="355" name=""/>
          <p:cNvSpPr/>
          <p:nvPr/>
        </p:nvSpPr>
        <p:spPr>
          <a:xfrm>
            <a:off x="6012000" y="27795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588000" y="277956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6012000" y="486900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588000" y="3860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91280" y="3500280"/>
            <a:ext cx="172728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LAV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C64361-1E2F-4CF3-AE48-6B9D4E0C3DB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59920"/>
            <a:ext cx="805968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RAČUNOVODSTVO I KNJIGOVODSTVO</a:t>
            </a:r>
            <a:endParaRPr b="0" lang="en-US" sz="4400" spc="-1" strike="noStrike">
              <a:solidFill>
                <a:srgbClr val="000000"/>
              </a:solidFill>
              <a:latin typeface="Arial"/>
            </a:endParaRPr>
          </a:p>
        </p:txBody>
      </p:sp>
      <p:sp>
        <p:nvSpPr>
          <p:cNvPr id="60" name="PlaceHolder 2"/>
          <p:cNvSpPr>
            <a:spLocks noGrp="1"/>
          </p:cNvSpPr>
          <p:nvPr>
            <p:ph type="subTitle"/>
          </p:nvPr>
        </p:nvSpPr>
        <p:spPr>
          <a:xfrm>
            <a:off x="1186920" y="2852640"/>
            <a:ext cx="5543640" cy="2376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hr-HR" sz="4000" spc="-1" strike="noStrike">
                <a:solidFill>
                  <a:srgbClr val="000000"/>
                </a:solidFill>
                <a:latin typeface="Arial"/>
              </a:rPr>
              <a:t>POJAM</a:t>
            </a:r>
            <a:br>
              <a:rPr sz="4000"/>
            </a:br>
            <a:r>
              <a:rPr b="0" lang="hr-HR" sz="4000" spc="-1" strike="noStrike">
                <a:solidFill>
                  <a:srgbClr val="000000"/>
                </a:solidFill>
                <a:latin typeface="Arial"/>
              </a:rPr>
              <a:t>-</a:t>
            </a:r>
            <a:r>
              <a:rPr b="0" lang="en-GB" sz="4000" spc="-1" strike="noStrike">
                <a:solidFill>
                  <a:srgbClr val="000000"/>
                </a:solidFill>
                <a:latin typeface="Arial"/>
              </a:rPr>
              <a:t> </a:t>
            </a:r>
            <a:r>
              <a:rPr b="0" lang="hr-HR" sz="4000" spc="-1" strike="noStrike">
                <a:solidFill>
                  <a:srgbClr val="000000"/>
                </a:solidFill>
                <a:latin typeface="Arial"/>
              </a:rPr>
              <a:t>OBILJEŽJA</a:t>
            </a:r>
            <a:br>
              <a:rPr sz="4000"/>
            </a:br>
            <a:r>
              <a:rPr b="0" lang="hr-HR" sz="4000" spc="-1" strike="noStrike">
                <a:solidFill>
                  <a:srgbClr val="000000"/>
                </a:solidFill>
                <a:latin typeface="Arial"/>
              </a:rPr>
              <a:t>-</a:t>
            </a:r>
            <a:r>
              <a:rPr b="0" lang="en-GB" sz="4000" spc="-1" strike="noStrike">
                <a:solidFill>
                  <a:srgbClr val="000000"/>
                </a:solidFill>
                <a:latin typeface="Arial"/>
              </a:rPr>
              <a:t> </a:t>
            </a:r>
            <a:r>
              <a:rPr b="0" lang="hr-HR" sz="4000" spc="-1" strike="noStrike">
                <a:solidFill>
                  <a:srgbClr val="000000"/>
                </a:solidFill>
                <a:latin typeface="Arial"/>
              </a:rPr>
              <a:t>ZADACI</a:t>
            </a:r>
            <a:br>
              <a:rPr sz="4000"/>
            </a:br>
            <a:r>
              <a:rPr b="0" lang="hr-HR" sz="4000" spc="-1" strike="noStrike">
                <a:solidFill>
                  <a:srgbClr val="000000"/>
                </a:solidFill>
                <a:latin typeface="Arial"/>
              </a:rPr>
              <a:t>-</a:t>
            </a:r>
            <a:r>
              <a:rPr b="0" lang="en-GB" sz="4000" spc="-1" strike="noStrike">
                <a:solidFill>
                  <a:srgbClr val="000000"/>
                </a:solidFill>
                <a:latin typeface="Arial"/>
              </a:rPr>
              <a:t> </a:t>
            </a:r>
            <a:r>
              <a:rPr b="0" lang="hr-HR" sz="4000" spc="-1" strike="noStrike">
                <a:solidFill>
                  <a:srgbClr val="000000"/>
                </a:solidFill>
                <a:latin typeface="Arial"/>
              </a:rPr>
              <a:t>STRUKTUR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9F4467C1-998A-42FC-B72F-817274A15D2D}" type="slidenum">
              <a:t>7</a:t>
            </a:fld>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752120" y="228600"/>
            <a:ext cx="692316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61" name="PlaceHolder 2"/>
          <p:cNvSpPr>
            <a:spLocks noGrp="1"/>
          </p:cNvSpPr>
          <p:nvPr>
            <p:ph/>
          </p:nvPr>
        </p:nvSpPr>
        <p:spPr>
          <a:xfrm>
            <a:off x="1403280" y="1557000"/>
            <a:ext cx="7740720" cy="57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jemačka metoda</a:t>
            </a:r>
            <a:endParaRPr b="0" lang="en-US" sz="2400" spc="-1" strike="noStrike">
              <a:solidFill>
                <a:srgbClr val="000000"/>
              </a:solidFill>
              <a:latin typeface="Arial"/>
            </a:endParaRPr>
          </a:p>
        </p:txBody>
      </p:sp>
      <p:sp>
        <p:nvSpPr>
          <p:cNvPr id="362" name=""/>
          <p:cNvSpPr/>
          <p:nvPr/>
        </p:nvSpPr>
        <p:spPr>
          <a:xfrm>
            <a:off x="1619280" y="2276640"/>
            <a:ext cx="165564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LAGAJNIČK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63" name=""/>
          <p:cNvSpPr/>
          <p:nvPr/>
        </p:nvSpPr>
        <p:spPr>
          <a:xfrm>
            <a:off x="1619280" y="3211560"/>
            <a:ext cx="165564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UPNJE</a:t>
            </a:r>
            <a:endParaRPr b="0" lang="en-US" sz="1800" spc="-1" strike="noStrike">
              <a:solidFill>
                <a:srgbClr val="000000"/>
              </a:solidFill>
              <a:latin typeface="Arial"/>
            </a:endParaRPr>
          </a:p>
        </p:txBody>
      </p:sp>
      <p:sp>
        <p:nvSpPr>
          <p:cNvPr id="364" name=""/>
          <p:cNvSpPr/>
          <p:nvPr/>
        </p:nvSpPr>
        <p:spPr>
          <a:xfrm>
            <a:off x="1619280" y="4148280"/>
            <a:ext cx="165564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DAJE</a:t>
            </a:r>
            <a:endParaRPr b="0" lang="en-US" sz="1800" spc="-1" strike="noStrike">
              <a:solidFill>
                <a:srgbClr val="000000"/>
              </a:solidFill>
              <a:latin typeface="Arial"/>
            </a:endParaRPr>
          </a:p>
        </p:txBody>
      </p:sp>
      <p:sp>
        <p:nvSpPr>
          <p:cNvPr id="365" name=""/>
          <p:cNvSpPr/>
          <p:nvPr/>
        </p:nvSpPr>
        <p:spPr>
          <a:xfrm>
            <a:off x="1619280" y="5084640"/>
            <a:ext cx="16556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ANOTA</a:t>
            </a:r>
            <a:endParaRPr b="0" lang="en-US" sz="1800" spc="-1" strike="noStrike">
              <a:solidFill>
                <a:srgbClr val="000000"/>
              </a:solidFill>
              <a:latin typeface="Arial"/>
            </a:endParaRPr>
          </a:p>
        </p:txBody>
      </p:sp>
      <p:sp>
        <p:nvSpPr>
          <p:cNvPr id="366" name=""/>
          <p:cNvSpPr/>
          <p:nvPr/>
        </p:nvSpPr>
        <p:spPr>
          <a:xfrm>
            <a:off x="4643280" y="3787920"/>
            <a:ext cx="165600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BIR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67" name=""/>
          <p:cNvSpPr/>
          <p:nvPr/>
        </p:nvSpPr>
        <p:spPr>
          <a:xfrm>
            <a:off x="7236000" y="3787920"/>
            <a:ext cx="172692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LAV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A</a:t>
            </a:r>
            <a:endParaRPr b="0" lang="en-US" sz="1800" spc="-1" strike="noStrike">
              <a:solidFill>
                <a:srgbClr val="000000"/>
              </a:solidFill>
              <a:latin typeface="Arial"/>
            </a:endParaRPr>
          </a:p>
        </p:txBody>
      </p:sp>
      <p:sp>
        <p:nvSpPr>
          <p:cNvPr id="368" name=""/>
          <p:cNvSpPr/>
          <p:nvPr/>
        </p:nvSpPr>
        <p:spPr>
          <a:xfrm>
            <a:off x="6299280" y="4148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274920" y="2637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564000" y="2637000"/>
            <a:ext cx="0" cy="28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274560" y="551664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274920" y="450864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274920" y="35719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564000" y="414828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F30C37-682B-4D53-B44A-C5577ADF764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752120" y="228240"/>
            <a:ext cx="685188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76" name="PlaceHolder 2"/>
          <p:cNvSpPr>
            <a:spLocks noGrp="1"/>
          </p:cNvSpPr>
          <p:nvPr>
            <p:ph/>
          </p:nvPr>
        </p:nvSpPr>
        <p:spPr>
          <a:xfrm>
            <a:off x="1403280" y="1557000"/>
            <a:ext cx="7740720" cy="57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rancuska metoda</a:t>
            </a:r>
            <a:endParaRPr b="0" lang="en-US" sz="2400" spc="-1" strike="noStrike">
              <a:solidFill>
                <a:srgbClr val="000000"/>
              </a:solidFill>
              <a:latin typeface="Arial"/>
            </a:endParaRPr>
          </a:p>
        </p:txBody>
      </p:sp>
      <p:sp>
        <p:nvSpPr>
          <p:cNvPr id="377" name=""/>
          <p:cNvSpPr/>
          <p:nvPr/>
        </p:nvSpPr>
        <p:spPr>
          <a:xfrm>
            <a:off x="1857240" y="2852640"/>
            <a:ext cx="19447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LAGAJNIČK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78" name=""/>
          <p:cNvSpPr/>
          <p:nvPr/>
        </p:nvSpPr>
        <p:spPr>
          <a:xfrm>
            <a:off x="1857240" y="4076640"/>
            <a:ext cx="19447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PECIJALIZIRA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CI</a:t>
            </a:r>
            <a:endParaRPr b="0" lang="en-US" sz="1800" spc="-1" strike="noStrike">
              <a:solidFill>
                <a:srgbClr val="000000"/>
              </a:solidFill>
              <a:latin typeface="Arial"/>
            </a:endParaRPr>
          </a:p>
        </p:txBody>
      </p:sp>
      <p:sp>
        <p:nvSpPr>
          <p:cNvPr id="379" name=""/>
          <p:cNvSpPr/>
          <p:nvPr/>
        </p:nvSpPr>
        <p:spPr>
          <a:xfrm>
            <a:off x="3801960" y="321300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160880" y="3213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801600" y="443700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160880" y="3789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594320" y="3429000"/>
            <a:ext cx="19447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BROJ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84" name=""/>
          <p:cNvSpPr/>
          <p:nvPr/>
        </p:nvSpPr>
        <p:spPr>
          <a:xfrm>
            <a:off x="6537240" y="378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969240" y="3429000"/>
            <a:ext cx="17269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LAV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B03FA78-9D05-46D8-AF81-0AC0608AC38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87" name="PlaceHolder 2"/>
          <p:cNvSpPr>
            <a:spLocks noGrp="1"/>
          </p:cNvSpPr>
          <p:nvPr>
            <p:ph/>
          </p:nvPr>
        </p:nvSpPr>
        <p:spPr>
          <a:xfrm>
            <a:off x="456840" y="1599840"/>
            <a:ext cx="4040280" cy="84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ablična ili američka metoda</a:t>
            </a:r>
            <a:endParaRPr b="0" lang="en-US" sz="2400" spc="-1" strike="noStrike">
              <a:solidFill>
                <a:srgbClr val="000000"/>
              </a:solidFill>
              <a:latin typeface="Arial"/>
            </a:endParaRPr>
          </a:p>
        </p:txBody>
      </p:sp>
      <p:graphicFrame>
        <p:nvGraphicFramePr>
          <p:cNvPr id="388" name=""/>
          <p:cNvGraphicFramePr/>
          <p:nvPr/>
        </p:nvGraphicFramePr>
        <p:xfrm>
          <a:off x="546120" y="2655720"/>
          <a:ext cx="8140320" cy="2881080"/>
        </p:xfrm>
        <a:graphic>
          <a:graphicData uri="http://schemas.openxmlformats.org/drawingml/2006/table">
            <a:tbl>
              <a:tblPr/>
              <a:tblGrid>
                <a:gridCol w="813240"/>
                <a:gridCol w="813600"/>
                <a:gridCol w="815400"/>
                <a:gridCol w="959760"/>
                <a:gridCol w="763200"/>
                <a:gridCol w="762840"/>
                <a:gridCol w="770040"/>
                <a:gridCol w="894240"/>
                <a:gridCol w="734760"/>
                <a:gridCol w="813240"/>
              </a:tblGrid>
              <a:tr h="537120">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Redn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broj</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atu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Opi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Kontroln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kolo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Rn _________</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Rn __________</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Rn __________</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9F7C0A1C-2D88-4008-B86A-F7B44BB8E30C}"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752120" y="228600"/>
            <a:ext cx="692316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Kopirne metode</a:t>
            </a:r>
            <a:endParaRPr b="0" lang="en-US" sz="4000" spc="-1" strike="noStrike">
              <a:solidFill>
                <a:srgbClr val="000000"/>
              </a:solidFill>
              <a:latin typeface="Arial"/>
            </a:endParaRPr>
          </a:p>
        </p:txBody>
      </p:sp>
      <p:sp>
        <p:nvSpPr>
          <p:cNvPr id="390"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oji se u istodobnom knjiženju poslovnih promjena u dvije ili više poslovnih knjiga od kojih je jedna izvornik, a ostale su kopi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va su načina upisivanja poslovnih promjena kopirnom metod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izvorno knjiženje bilježi se u dnevnik, a kop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u glavnu knjigu (Hintzov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izvorno knjiženje bilježi se u glavnu knjigu, 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kopija u dnevnik (Ruffov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praksi se uglavnom primjenjuje Ruffova metod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11E8E6-9E02-4B01-BB07-8F052D8876C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752120" y="228240"/>
            <a:ext cx="692316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TROJNE METODE</a:t>
            </a:r>
            <a:endParaRPr b="0" lang="en-US" sz="4000" spc="-1" strike="noStrike">
              <a:solidFill>
                <a:srgbClr val="000000"/>
              </a:solidFill>
              <a:latin typeface="Arial"/>
            </a:endParaRPr>
          </a:p>
        </p:txBody>
      </p:sp>
      <p:sp>
        <p:nvSpPr>
          <p:cNvPr id="392"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di se o korištenju strojeva za evidenciju poslovnih promjena te za izradu određenih izvješća, listi i s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maju mogućnost izvršavanja jednostavnijih računskih operac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aci o poslovnim promjenama bilježe se na medij (bušena kartica npr.) koji služi za njihov prijen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AAD05E-146C-47B1-8B03-5BC35BBD9AC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752120" y="228600"/>
            <a:ext cx="692316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ELEKTRONSKA METODA</a:t>
            </a:r>
            <a:endParaRPr b="0" lang="en-US" sz="4000" spc="-1" strike="noStrike">
              <a:solidFill>
                <a:srgbClr val="000000"/>
              </a:solidFill>
              <a:latin typeface="Arial"/>
            </a:endParaRPr>
          </a:p>
        </p:txBody>
      </p:sp>
      <p:sp>
        <p:nvSpPr>
          <p:cNvPr id="394" name="PlaceHolder 2"/>
          <p:cNvSpPr>
            <a:spLocks noGrp="1"/>
          </p:cNvSpPr>
          <p:nvPr>
            <p:ph/>
          </p:nvPr>
        </p:nvSpPr>
        <p:spPr>
          <a:xfrm>
            <a:off x="1476000" y="1699920"/>
            <a:ext cx="766764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nosi se na korištenje računala za evidentiranje poslovnih promjena i obradu računovodstvenih informacij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emeljne komponente takvog računovodstvenog sustava jes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orni dokumenti (uvijek su u papirnatom obliku bez obzira na korištenu metod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lazna jedinic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ces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hranjivanje podataka 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lazna jedi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95E10E-7E8F-4034-A7BE-A9117C48B56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547280" y="188640"/>
            <a:ext cx="72867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ačela dvojnog knjigovodstva</a:t>
            </a:r>
            <a:endParaRPr b="0" lang="en-US" sz="4000" spc="-1" strike="noStrike">
              <a:solidFill>
                <a:srgbClr val="000000"/>
              </a:solidFill>
              <a:latin typeface="Arial"/>
            </a:endParaRPr>
          </a:p>
        </p:txBody>
      </p:sp>
      <p:sp>
        <p:nvSpPr>
          <p:cNvPr id="396"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vojno knjigovodstvo temelji se na slijedećim načeli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bilančne ravnoteže i permanentnog bilanciranj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raščlanjivanja ili individualiziranja promje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grupiranja ili sistematiziranja promje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kronološke i sustavne evidencij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dokumentiranosti 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formalnosti i ured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A6EF28-A5B6-4022-8558-8480DA45306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763640" y="836280"/>
            <a:ext cx="72360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KNJIGOVODSTVENE ISPRAVE I</a:t>
            </a:r>
            <a:br>
              <a:rPr sz="3200"/>
            </a:br>
            <a:r>
              <a:rPr b="1" lang="hr-HR" sz="3200" spc="-1" strike="noStrike">
                <a:solidFill>
                  <a:srgbClr val="000000"/>
                </a:solidFill>
                <a:latin typeface="Arial"/>
              </a:rPr>
              <a:t>POSLOVNE KNJIG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DFD188A-B835-4831-A9E2-B2F0C44860A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610920" y="1557360"/>
            <a:ext cx="830556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NJIGOVODSTVENE ISPRA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ljanje i razvrstavanje knjigovodstvenih ispra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okovi kretanja knjigovodstvenih ispra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držaj knjigovodstvenih ispra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govornost za sastavljanje i kontrola knjigovodstvenih ispra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log za knjižen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uvanje knjigovodstvenih isprav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SLOVNE KNJI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ne knji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moćne knjig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F9D78F4-C0E0-493B-80D7-C57822C752B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835280" y="475920"/>
            <a:ext cx="607032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NJIGOVODSTVENE ISPRAVE</a:t>
            </a:r>
            <a:endParaRPr b="0" lang="en-US" sz="4000" spc="-1" strike="noStrike">
              <a:solidFill>
                <a:srgbClr val="000000"/>
              </a:solidFill>
              <a:latin typeface="Arial"/>
            </a:endParaRPr>
          </a:p>
        </p:txBody>
      </p:sp>
      <p:sp>
        <p:nvSpPr>
          <p:cNvPr id="400" name="PlaceHolder 2"/>
          <p:cNvSpPr>
            <a:spLocks noGrp="1"/>
          </p:cNvSpPr>
          <p:nvPr>
            <p:ph/>
          </p:nvPr>
        </p:nvSpPr>
        <p:spPr>
          <a:xfrm>
            <a:off x="684360" y="1628280"/>
            <a:ext cx="8229600" cy="4751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stavljaju pisani dokaz o nastaloj poslovnoj promjeni te odražavaju njezinu istinito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luže kao podloga za unošenje podataka u poslovne knjige i za nadzor nad obavljanjem poslovnog zahva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ne su nositelji informacija o nastalim poslovnim promjenama koje su predmet knjigovodstvene obrade, a odraz su promjena elemenata financijskih izvještaja tj. imovine, obveza, kapitala, rashoda, prihoda i rezultata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E8EFFA5-3EF1-498C-83A1-731D01CE4A3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8000" y="188640"/>
            <a:ext cx="81360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 B. Kotruljević: Della mercatura et mercante perfeto, Dubrovnik 1458.</a:t>
            </a:r>
            <a:endParaRPr b="0" lang="en-US" sz="3600" spc="-1" strike="noStrike">
              <a:solidFill>
                <a:srgbClr val="000000"/>
              </a:solidFill>
              <a:latin typeface="Arial"/>
            </a:endParaRPr>
          </a:p>
        </p:txBody>
      </p:sp>
      <p:sp>
        <p:nvSpPr>
          <p:cNvPr id="62" name="PlaceHolder 2"/>
          <p:cNvSpPr>
            <a:spLocks noGrp="1"/>
          </p:cNvSpPr>
          <p:nvPr>
            <p:ph/>
          </p:nvPr>
        </p:nvSpPr>
        <p:spPr>
          <a:xfrm>
            <a:off x="684000" y="1817280"/>
            <a:ext cx="777708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t>
            </a:r>
            <a:r>
              <a:rPr b="0" lang="hr-HR" sz="3200" spc="-1" strike="noStrike">
                <a:solidFill>
                  <a:srgbClr val="000000"/>
                </a:solidFill>
                <a:latin typeface="Arial"/>
              </a:rPr>
              <a:t>Vođenje urednog knjigovodstva treba povjeriti mladom i vještom knjigovođi, jer ćeš u protivnom imati nered (kaos) u poslovanju. Onaj koji ne cijeni pero i uredne zapise poslovnih događaja i stanja, nije dobar trgova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82C1D2-F820-408E-B686-A3FD518BBC0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00000" y="333360"/>
            <a:ext cx="806472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02" name="PlaceHolder 2"/>
          <p:cNvSpPr>
            <a:spLocks noGrp="1"/>
          </p:cNvSpPr>
          <p:nvPr>
            <p:ph/>
          </p:nvPr>
        </p:nvSpPr>
        <p:spPr>
          <a:xfrm>
            <a:off x="611280" y="1628640"/>
            <a:ext cx="8229600" cy="4678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ju se na mjestu i u vremenu nastanka poslovne promjene, osim onih isprava koje se sastavljaju u računovodstv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slijedeće kriterije razvrstavanja knjigovodstvenih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jesto nastan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amjena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buhvatnost poslovnih promje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ačunalna obrada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i kriterij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4F14FA-9040-417E-99A4-CCD3C77D2BC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916360" y="404280"/>
            <a:ext cx="5997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04" name="PlaceHolder 2"/>
          <p:cNvSpPr>
            <a:spLocks noGrp="1"/>
          </p:cNvSpPr>
          <p:nvPr>
            <p:ph/>
          </p:nvPr>
        </p:nvSpPr>
        <p:spPr>
          <a:xfrm>
            <a:off x="684360" y="1628640"/>
            <a:ext cx="8229600" cy="489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mjestu nastanka razlikuje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nutrašnje (interne) 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anjske (eksterne) ispra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nutrašnje knjigovodstvene isprave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ju se u poduzeću i to u funkcijskom ustrojstvu i u računovodstvu.</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kazuju kretanje imovine unutar poduzeća i njezino pretvaranje u učinke.</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luže za pravilan obračun cjelokupnog procesa reprodukcije koji se odvija u okviru poduzeća te kao sredstvo kontrole.</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datnice, fakture kupcima, uplatnice, isplatnice, isplatne lis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7308AD-F3F7-4CAC-A912-4DBFFF31D25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26920" y="189000"/>
            <a:ext cx="78710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06" name="PlaceHolder 2"/>
          <p:cNvSpPr>
            <a:spLocks noGrp="1"/>
          </p:cNvSpPr>
          <p:nvPr>
            <p:ph/>
          </p:nvPr>
        </p:nvSpPr>
        <p:spPr>
          <a:xfrm>
            <a:off x="611280" y="1673280"/>
            <a:ext cx="822960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anjske knjigovodstvene ispr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staju izvan poduzeća, a opisuju poslovne promjene koje uzrokuju promjenu stavki imovine, obveza i glavnice poduzeć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namjeni razlikujem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aredbodavne isprave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sprave dokazivanja poslovnog događa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redbodavne ispr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zivaju se još i nalozi za izvršenje poslovnih promjen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thode nastajanju poslovnih promjena te ne mogu služiti kao temelj za knjiženje budući da poslovne promjene još nisu nasta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AA9CF3-FFAD-43C4-85D8-2C7E350589D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920" y="189000"/>
            <a:ext cx="76550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08" name="PlaceHolder 2"/>
          <p:cNvSpPr>
            <a:spLocks noGrp="1"/>
          </p:cNvSpPr>
          <p:nvPr>
            <p:ph/>
          </p:nvPr>
        </p:nvSpPr>
        <p:spPr>
          <a:xfrm>
            <a:off x="610920" y="1628640"/>
            <a:ext cx="8218440" cy="4897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k po izvršenju naloga izdaje se isprava o izvršenju koja predstavlja temelj za knjižen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običajeno je da je naredbodavna isprava istodobno i opravdavajuća i dokaziva isprav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sprave dokazivanja poslovnog događaj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stavljaju temelj za knjiženje, a često su sastavni dio naredbodavnih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kriteriju obuhvatnosti poslovnih promje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jedinačne (izvorne, osnovne, originaln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birne (izvedene) ispra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382326-C1F3-4994-B9AF-8DC37B9C04D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826920" y="189000"/>
            <a:ext cx="78710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10" name="PlaceHolder 2"/>
          <p:cNvSpPr>
            <a:spLocks noGrp="1"/>
          </p:cNvSpPr>
          <p:nvPr>
            <p:ph/>
          </p:nvPr>
        </p:nvSpPr>
        <p:spPr>
          <a:xfrm>
            <a:off x="611280" y="1628640"/>
            <a:ext cx="8229600" cy="5445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jedinačne ispr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drže podatke o jednoj poslovnoj promjeni te se mogu neposredno koristiti kao temelj za knjiženj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kazuju one poslovne promjene zbog kojih su i sastavljen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birne ispr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staju iz većeg broja pojedinačnih isprav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riste se radi racionalizacije rada u knjigovodstv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kriteriju kompjutorske obrade isprava razlikujem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imarni ulaz izvornih knjigovodstvenih isprava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zvedene isprave na temelju programa unosa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ovodstvenih podatak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54A0EB-9764-49E3-BC4B-B24ED72009D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99640" y="189000"/>
            <a:ext cx="77979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okovi kretanja knjigovodstvenih isprava</a:t>
            </a:r>
            <a:endParaRPr b="0" lang="en-US" sz="4000" spc="-1" strike="noStrike">
              <a:solidFill>
                <a:srgbClr val="000000"/>
              </a:solidFill>
              <a:latin typeface="Arial"/>
            </a:endParaRPr>
          </a:p>
        </p:txBody>
      </p:sp>
      <p:sp>
        <p:nvSpPr>
          <p:cNvPr id="412" name="PlaceHolder 2"/>
          <p:cNvSpPr>
            <a:spLocks noGrp="1"/>
          </p:cNvSpPr>
          <p:nvPr>
            <p:ph/>
          </p:nvPr>
        </p:nvSpPr>
        <p:spPr>
          <a:xfrm>
            <a:off x="611280" y="1628280"/>
            <a:ext cx="8229600" cy="4822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ok kretanja knjigovodstvenih isprava je slijedeć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akupljanje podataka odnosno knjigovodstvenih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sprava po mjestima njihova nastan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ontrola prikupljenih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ženje poslovnih promjena na osnovi isprav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hrana knjigovodstvenih ispra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6750D9-F71C-4FD3-A196-02AE2FBB6AB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115640" y="475920"/>
            <a:ext cx="76532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držaj knjigovodstvene isprave</a:t>
            </a:r>
            <a:endParaRPr b="0" lang="en-US" sz="4000" spc="-1" strike="noStrike">
              <a:solidFill>
                <a:srgbClr val="000000"/>
              </a:solidFill>
              <a:latin typeface="Arial"/>
            </a:endParaRPr>
          </a:p>
        </p:txBody>
      </p:sp>
      <p:sp>
        <p:nvSpPr>
          <p:cNvPr id="414" name="PlaceHolder 2"/>
          <p:cNvSpPr>
            <a:spLocks noGrp="1"/>
          </p:cNvSpPr>
          <p:nvPr>
            <p:ph/>
          </p:nvPr>
        </p:nvSpPr>
        <p:spPr>
          <a:xfrm>
            <a:off x="611280" y="1557360"/>
            <a:ext cx="82296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govodstvena isprava mora sadržavati bitne sastojke koji je čine vjerodostojn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držaj mora biti takav da nedvojbeno i istinito predstavlja poslovnu promjenu i da obuhvaća sve podatke potrebne za unos u poslovne knji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FBF936-55A3-4762-A2B2-3CE0C5F963D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26920" y="404280"/>
            <a:ext cx="794232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držaj knjigovodstvene isprave</a:t>
            </a:r>
            <a:endParaRPr b="0" lang="en-US" sz="4000" spc="-1" strike="noStrike">
              <a:solidFill>
                <a:srgbClr val="000000"/>
              </a:solidFill>
              <a:latin typeface="Arial"/>
            </a:endParaRPr>
          </a:p>
        </p:txBody>
      </p:sp>
      <p:sp>
        <p:nvSpPr>
          <p:cNvPr id="416" name="PlaceHolder 2"/>
          <p:cNvSpPr>
            <a:spLocks noGrp="1"/>
          </p:cNvSpPr>
          <p:nvPr>
            <p:ph/>
          </p:nvPr>
        </p:nvSpPr>
        <p:spPr>
          <a:xfrm>
            <a:off x="611280" y="1628280"/>
            <a:ext cx="822960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tni sastojci isprave jes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ziv i adresa izdavatelja ispra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ziv funkcijskog dijela izdavatelj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ziv ispra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um izdavanja ispra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ena osoba koje sudjeluju u izvršavanju poslovnih </a:t>
            </a:r>
            <a:r>
              <a:rPr b="0" lang="hr-HR" sz="2400" spc="-1" strike="noStrike">
                <a:solidFill>
                  <a:srgbClr val="000000"/>
                </a:solidFill>
                <a:latin typeface="Times New Roman"/>
              </a:rPr>
              <a:t>	</a:t>
            </a:r>
            <a:r>
              <a:rPr b="0" lang="hr-HR" sz="2400" spc="-1" strike="noStrike">
                <a:solidFill>
                  <a:srgbClr val="000000"/>
                </a:solidFill>
                <a:latin typeface="Times New Roman"/>
              </a:rPr>
              <a:t>  promjena za koje je isprava sastavlje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snova za izvršenje poslovne promje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liči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ote izražene u kunama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pisi osoba koje su ovlaštene za potpisivanje konkretne ispra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5C011E-19F0-4CAE-A3C0-1D818207D2E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4360" y="404280"/>
            <a:ext cx="8013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dgovornost za sastavljanje i kontrola knjigovodstvenih isprava</a:t>
            </a:r>
            <a:endParaRPr b="0" lang="en-US" sz="3600" spc="-1" strike="noStrike">
              <a:solidFill>
                <a:srgbClr val="000000"/>
              </a:solidFill>
              <a:latin typeface="Arial"/>
            </a:endParaRPr>
          </a:p>
        </p:txBody>
      </p:sp>
      <p:sp>
        <p:nvSpPr>
          <p:cNvPr id="418" name="PlaceHolder 2"/>
          <p:cNvSpPr>
            <a:spLocks noGrp="1"/>
          </p:cNvSpPr>
          <p:nvPr>
            <p:ph/>
          </p:nvPr>
        </p:nvSpPr>
        <p:spPr>
          <a:xfrm>
            <a:off x="611280" y="1673280"/>
            <a:ext cx="8229600" cy="5184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sastavljanje knjigovodstvenih isprava odgovorno je poduzeć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istinitost i realnost nastale poslovne promjene koju dokumentira knjigovodstvena isprava jamči odgovorna osoba svojim potpisom što je u skladu s činjenicom da za svaku knjigovodstvenu ispravu sastavljenu u poduzeću mora postojati pojedinačna odgovorno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je unosa u poslovne knjige svaka primljena ili izdana isprava mora se kontrolirati (likvidirat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rola se provodi u posebnom funkcijskom dijelu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F74503-E83E-4162-BA6E-626FE9346BA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99640" y="260280"/>
            <a:ext cx="77979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dgovornost za sastavljanje i kontrola knjigovodstvenih isprava</a:t>
            </a:r>
            <a:endParaRPr b="0" lang="en-US" sz="3600" spc="-1" strike="noStrike">
              <a:solidFill>
                <a:srgbClr val="000000"/>
              </a:solidFill>
              <a:latin typeface="Arial"/>
            </a:endParaRPr>
          </a:p>
        </p:txBody>
      </p:sp>
      <p:sp>
        <p:nvSpPr>
          <p:cNvPr id="420" name="PlaceHolder 2"/>
          <p:cNvSpPr>
            <a:spLocks noGrp="1"/>
          </p:cNvSpPr>
          <p:nvPr>
            <p:ph/>
          </p:nvPr>
        </p:nvSpPr>
        <p:spPr>
          <a:xfrm>
            <a:off x="611280" y="162828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slijedeće vrste kontro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ontrola formalne ispravnos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ontrola bitne ispravnosti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ontrola računske ispravnost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Cilj kontrole knjigovodstvenih isprava je pouzdanost računovodstvenih informaci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temelju kontroliranih knjigovodstvenih isprava ovlaštena osoba (konter) izdaje pismeni nalog za knjiženje isprave u kojem su određeni računi na kojima treba knjižiti poslovnu promjen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B7D2FA-1073-4BC4-B199-6A2389F38BB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148428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ustav računovodstva “ne može sam po sebi osigurati tvrtki uspjeh, ali će joj neprimjeren, irelevantan i nestručno koncipiran svakako onemogućiti da taj uspjeh postigne, ili još gore, može biti uzrokom njene propasti”</a:t>
            </a:r>
            <a:endParaRPr b="0" lang="en-US" sz="3200" spc="-1" strike="noStrike">
              <a:solidFill>
                <a:srgbClr val="000000"/>
              </a:solidFill>
              <a:latin typeface="Arial"/>
            </a:endParaRPr>
          </a:p>
        </p:txBody>
      </p:sp>
      <p:sp>
        <p:nvSpPr>
          <p:cNvPr id="64" name="PlaceHolder 2"/>
          <p:cNvSpPr>
            <a:spLocks noGrp="1"/>
          </p:cNvSpPr>
          <p:nvPr>
            <p:ph type="title"/>
          </p:nvPr>
        </p:nvSpPr>
        <p:spPr>
          <a:xfrm>
            <a:off x="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eka razmišljanj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1275B522-8B20-4EBD-8C04-DCF339FB4D3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692000" y="333360"/>
            <a:ext cx="56386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alog za knjiženje</a:t>
            </a:r>
            <a:endParaRPr b="0" lang="en-US" sz="4000" spc="-1" strike="noStrike">
              <a:solidFill>
                <a:srgbClr val="000000"/>
              </a:solidFill>
              <a:latin typeface="Arial"/>
            </a:endParaRPr>
          </a:p>
        </p:txBody>
      </p:sp>
      <p:sp>
        <p:nvSpPr>
          <p:cNvPr id="422" name="PlaceHolder 2"/>
          <p:cNvSpPr>
            <a:spLocks noGrp="1"/>
          </p:cNvSpPr>
          <p:nvPr>
            <p:ph/>
          </p:nvPr>
        </p:nvSpPr>
        <p:spPr>
          <a:xfrm>
            <a:off x="611280" y="1557360"/>
            <a:ext cx="8229600" cy="4751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ismeni je zahtjev voditelja računovodstva ili od njega ovlaštene osobe da se knjiženje podataka iz određene kontrolirane isprave mora obaviti u odgovarajuće poslovne knjig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važniji dio naloga je označavanje računa tj. kontiranje iz kontnog plana poduzeća na koji treba knjižiti podatke iz knjigovodstvenih isprav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gu postojati različiti nalozi za knjiženje što ovisi o ustrojstvu knjigovodstva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9A6F95-4FB4-4C00-9312-02A4A82ABA8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00000" y="476280"/>
            <a:ext cx="78710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Čuvanje knjigovodstvenih isprava</a:t>
            </a:r>
            <a:endParaRPr b="0" lang="en-US" sz="4000" spc="-1" strike="noStrike">
              <a:solidFill>
                <a:srgbClr val="000000"/>
              </a:solidFill>
              <a:latin typeface="Arial"/>
            </a:endParaRPr>
          </a:p>
        </p:txBody>
      </p:sp>
      <p:sp>
        <p:nvSpPr>
          <p:cNvPr id="424" name="PlaceHolder 2"/>
          <p:cNvSpPr>
            <a:spLocks noGrp="1"/>
          </p:cNvSpPr>
          <p:nvPr>
            <p:ph/>
          </p:nvPr>
        </p:nvSpPr>
        <p:spPr>
          <a:xfrm>
            <a:off x="611280" y="1628280"/>
            <a:ext cx="8229600" cy="4822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kon obavljenih knjiženja knjigovodstvene isprave se odlažu na čuvan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sprave se mogu čuva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 obliku izvorni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li na određenom medij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visno o vrsti knjigovodstvene isprave različit je i vremenski rok njezinog ču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D68791-3BFE-4670-A72B-B46E539D93E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95280" y="333000"/>
            <a:ext cx="56386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SLOVNE KNJIGE</a:t>
            </a:r>
            <a:endParaRPr b="0" lang="en-US" sz="4000" spc="-1" strike="noStrike">
              <a:solidFill>
                <a:srgbClr val="000000"/>
              </a:solidFill>
              <a:latin typeface="Arial"/>
            </a:endParaRPr>
          </a:p>
        </p:txBody>
      </p:sp>
      <p:sp>
        <p:nvSpPr>
          <p:cNvPr id="426" name="PlaceHolder 2"/>
          <p:cNvSpPr>
            <a:spLocks noGrp="1"/>
          </p:cNvSpPr>
          <p:nvPr>
            <p:ph/>
          </p:nvPr>
        </p:nvSpPr>
        <p:spPr>
          <a:xfrm>
            <a:off x="611280" y="167328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stavljaju evidencije u kojima se kronološki i na sustavan način obuhvaćaju nastale poslovne promjene utemeljene na vjerodostojnim knjigovodstvenim ispravama, a koje se odnose na promjene imovine, glavnice, dugova, rashoda i priho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 obzirom na njihov sadržaj i način knjiženja poslovnih promjena razlikuje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emeljne knjige:</a:t>
            </a:r>
            <a:r>
              <a:rPr b="0" lang="hr-HR" sz="2400" spc="-1" strike="noStrike">
                <a:solidFill>
                  <a:srgbClr val="000000"/>
                </a:solidFill>
                <a:latin typeface="Times New Roman"/>
              </a:rPr>
              <a:t>	</a:t>
            </a:r>
            <a:r>
              <a:rPr b="0" lang="hr-HR" sz="2400" spc="-1" strike="noStrike">
                <a:solidFill>
                  <a:srgbClr val="000000"/>
                </a:solidFill>
                <a:latin typeface="Times New Roman"/>
              </a:rPr>
              <a:t>a) dnevni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b) glavna knjig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moćne knjige:</a:t>
            </a:r>
            <a:r>
              <a:rPr b="0" lang="hr-HR" sz="2400" spc="-1" strike="noStrike">
                <a:solidFill>
                  <a:srgbClr val="000000"/>
                </a:solidFill>
                <a:latin typeface="Times New Roman"/>
              </a:rPr>
              <a:t>	</a:t>
            </a:r>
            <a:r>
              <a:rPr b="0" lang="hr-HR" sz="2400" spc="-1" strike="noStrike">
                <a:solidFill>
                  <a:srgbClr val="000000"/>
                </a:solidFill>
                <a:latin typeface="Times New Roman"/>
              </a:rPr>
              <a:t>a) analitičke knji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b) druge pomoćne knji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4F9229-F381-4D29-B538-D8182C18B18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834920" y="476280"/>
            <a:ext cx="56386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SLOVNE KNJIGE</a:t>
            </a:r>
            <a:endParaRPr b="0" lang="en-US" sz="4000" spc="-1" strike="noStrike">
              <a:solidFill>
                <a:srgbClr val="000000"/>
              </a:solidFill>
              <a:latin typeface="Arial"/>
            </a:endParaRPr>
          </a:p>
        </p:txBody>
      </p:sp>
      <p:grpSp>
        <p:nvGrpSpPr>
          <p:cNvPr id="428" name=""/>
          <p:cNvGrpSpPr/>
          <p:nvPr/>
        </p:nvGrpSpPr>
        <p:grpSpPr>
          <a:xfrm>
            <a:off x="1225440" y="2239920"/>
            <a:ext cx="6692400" cy="2643120"/>
            <a:chOff x="1225440" y="2239920"/>
            <a:chExt cx="6692400" cy="2643120"/>
          </a:xfrm>
        </p:grpSpPr>
        <p:cxnSp>
          <p:nvCxnSpPr>
            <p:cNvPr id="429" name="_s104453"/>
            <p:cNvCxnSpPr>
              <a:stCxn id="430" idx="0"/>
              <a:endCxn id="431" idx="2"/>
            </p:cNvCxnSpPr>
            <p:nvPr/>
          </p:nvCxnSpPr>
          <p:spPr>
            <a:xfrm flipV="1" rot="16200000">
              <a:off x="6619320" y="3317760"/>
              <a:ext cx="229320" cy="866160"/>
            </a:xfrm>
            <a:prstGeom prst="bentConnector3">
              <a:avLst>
                <a:gd name="adj1" fmla="val 50000"/>
              </a:avLst>
            </a:prstGeom>
            <a:ln w="28440">
              <a:solidFill>
                <a:srgbClr val="000000"/>
              </a:solidFill>
              <a:miter/>
            </a:ln>
          </p:spPr>
        </p:cxnSp>
        <p:cxnSp>
          <p:nvCxnSpPr>
            <p:cNvPr id="432" name="_s104454"/>
            <p:cNvCxnSpPr>
              <a:stCxn id="433" idx="0"/>
              <a:endCxn id="431" idx="2"/>
            </p:cNvCxnSpPr>
            <p:nvPr/>
          </p:nvCxnSpPr>
          <p:spPr>
            <a:xfrm flipH="1" flipV="1" rot="5400000">
              <a:off x="5754960" y="3318840"/>
              <a:ext cx="229320" cy="864720"/>
            </a:xfrm>
            <a:prstGeom prst="bentConnector3">
              <a:avLst>
                <a:gd name="adj1" fmla="val 50000"/>
              </a:avLst>
            </a:prstGeom>
            <a:ln w="28440">
              <a:solidFill>
                <a:srgbClr val="000000"/>
              </a:solidFill>
              <a:miter/>
            </a:ln>
          </p:spPr>
        </p:cxnSp>
        <p:cxnSp>
          <p:nvCxnSpPr>
            <p:cNvPr id="434" name="_s104455"/>
            <p:cNvCxnSpPr>
              <a:stCxn id="435" idx="0"/>
              <a:endCxn id="436" idx="2"/>
            </p:cNvCxnSpPr>
            <p:nvPr/>
          </p:nvCxnSpPr>
          <p:spPr>
            <a:xfrm flipV="1" rot="16200000">
              <a:off x="3160800" y="3318840"/>
              <a:ext cx="229320" cy="864360"/>
            </a:xfrm>
            <a:prstGeom prst="bentConnector3">
              <a:avLst>
                <a:gd name="adj1" fmla="val 50000"/>
              </a:avLst>
            </a:prstGeom>
            <a:ln w="28440">
              <a:solidFill>
                <a:srgbClr val="000000"/>
              </a:solidFill>
              <a:miter/>
            </a:ln>
          </p:spPr>
        </p:cxnSp>
        <p:cxnSp>
          <p:nvCxnSpPr>
            <p:cNvPr id="437" name="_s104456"/>
            <p:cNvCxnSpPr>
              <a:stCxn id="438" idx="0"/>
              <a:endCxn id="436" idx="2"/>
            </p:cNvCxnSpPr>
            <p:nvPr/>
          </p:nvCxnSpPr>
          <p:spPr>
            <a:xfrm flipH="1" flipV="1" rot="5400000">
              <a:off x="2296080" y="3317760"/>
              <a:ext cx="229320" cy="866520"/>
            </a:xfrm>
            <a:prstGeom prst="bentConnector3">
              <a:avLst>
                <a:gd name="adj1" fmla="val 50000"/>
              </a:avLst>
            </a:prstGeom>
            <a:ln w="28440">
              <a:solidFill>
                <a:srgbClr val="000000"/>
              </a:solidFill>
              <a:miter/>
            </a:ln>
          </p:spPr>
        </p:cxnSp>
        <p:cxnSp>
          <p:nvCxnSpPr>
            <p:cNvPr id="439" name="_s104457"/>
            <p:cNvCxnSpPr>
              <a:stCxn id="431" idx="0"/>
              <a:endCxn id="440" idx="2"/>
            </p:cNvCxnSpPr>
            <p:nvPr/>
          </p:nvCxnSpPr>
          <p:spPr>
            <a:xfrm flipV="1" rot="16200000">
              <a:off x="5321880" y="2199960"/>
              <a:ext cx="229320" cy="1730160"/>
            </a:xfrm>
            <a:prstGeom prst="bentConnector3">
              <a:avLst>
                <a:gd name="adj1" fmla="val 50000"/>
              </a:avLst>
            </a:prstGeom>
            <a:ln w="28440">
              <a:solidFill>
                <a:srgbClr val="000000"/>
              </a:solidFill>
              <a:miter/>
            </a:ln>
          </p:spPr>
        </p:cxnSp>
        <p:cxnSp>
          <p:nvCxnSpPr>
            <p:cNvPr id="441" name="_s104458"/>
            <p:cNvCxnSpPr>
              <a:stCxn id="436" idx="0"/>
              <a:endCxn id="440" idx="2"/>
            </p:cNvCxnSpPr>
            <p:nvPr/>
          </p:nvCxnSpPr>
          <p:spPr>
            <a:xfrm flipH="1" flipV="1" rot="5400000">
              <a:off x="3593160" y="2201040"/>
              <a:ext cx="229320" cy="1728360"/>
            </a:xfrm>
            <a:prstGeom prst="bentConnector3">
              <a:avLst>
                <a:gd name="adj1" fmla="val 50000"/>
              </a:avLst>
            </a:prstGeom>
            <a:ln w="28440">
              <a:solidFill>
                <a:srgbClr val="000000"/>
              </a:solidFill>
              <a:miter/>
            </a:ln>
          </p:spPr>
        </p:cxnSp>
        <p:sp>
          <p:nvSpPr>
            <p:cNvPr id="440" name="_s104459"/>
            <p:cNvSpPr/>
            <p:nvPr/>
          </p:nvSpPr>
          <p:spPr>
            <a:xfrm>
              <a:off x="3893040" y="2239920"/>
              <a:ext cx="1357920" cy="711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OSLOV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KNJIGE</a:t>
              </a:r>
              <a:endParaRPr b="0" lang="en-US" sz="1800" spc="-1" strike="noStrike">
                <a:solidFill>
                  <a:srgbClr val="000000"/>
                </a:solidFill>
                <a:latin typeface="Arial"/>
              </a:endParaRPr>
            </a:p>
          </p:txBody>
        </p:sp>
        <p:sp>
          <p:nvSpPr>
            <p:cNvPr id="436" name="_s104460"/>
            <p:cNvSpPr/>
            <p:nvPr/>
          </p:nvSpPr>
          <p:spPr>
            <a:xfrm>
              <a:off x="1799640" y="3179880"/>
              <a:ext cx="208692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TEMELJNE KNJIGE</a:t>
              </a:r>
              <a:endParaRPr b="0" lang="en-US" sz="1800" spc="-1" strike="noStrike">
                <a:solidFill>
                  <a:srgbClr val="000000"/>
                </a:solidFill>
                <a:latin typeface="Arial"/>
              </a:endParaRPr>
            </a:p>
          </p:txBody>
        </p:sp>
        <p:sp>
          <p:nvSpPr>
            <p:cNvPr id="431" name="_s104461"/>
            <p:cNvSpPr/>
            <p:nvPr/>
          </p:nvSpPr>
          <p:spPr>
            <a:xfrm>
              <a:off x="5258880" y="3179880"/>
              <a:ext cx="208692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OMOĆNE KNJIGE</a:t>
              </a:r>
              <a:endParaRPr b="0" lang="en-US" sz="1800" spc="-1" strike="noStrike">
                <a:solidFill>
                  <a:srgbClr val="000000"/>
                </a:solidFill>
                <a:latin typeface="Arial"/>
              </a:endParaRPr>
            </a:p>
          </p:txBody>
        </p:sp>
        <p:sp>
          <p:nvSpPr>
            <p:cNvPr id="438" name="_s104462"/>
            <p:cNvSpPr/>
            <p:nvPr/>
          </p:nvSpPr>
          <p:spPr>
            <a:xfrm>
              <a:off x="1225440" y="3865680"/>
              <a:ext cx="150372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DNEVNIK</a:t>
              </a:r>
              <a:endParaRPr b="0" lang="en-US" sz="1800" spc="-1" strike="noStrike">
                <a:solidFill>
                  <a:srgbClr val="000000"/>
                </a:solidFill>
                <a:latin typeface="Arial"/>
              </a:endParaRPr>
            </a:p>
          </p:txBody>
        </p:sp>
        <p:sp>
          <p:nvSpPr>
            <p:cNvPr id="435" name="_s104463"/>
            <p:cNvSpPr/>
            <p:nvPr/>
          </p:nvSpPr>
          <p:spPr>
            <a:xfrm>
              <a:off x="2955240" y="3865680"/>
              <a:ext cx="150372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GLAV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KNJIGA</a:t>
              </a:r>
              <a:endParaRPr b="0" lang="en-US" sz="1800" spc="-1" strike="noStrike">
                <a:solidFill>
                  <a:srgbClr val="000000"/>
                </a:solidFill>
                <a:latin typeface="Arial"/>
              </a:endParaRPr>
            </a:p>
          </p:txBody>
        </p:sp>
        <p:sp>
          <p:nvSpPr>
            <p:cNvPr id="433" name="_s104464"/>
            <p:cNvSpPr/>
            <p:nvPr/>
          </p:nvSpPr>
          <p:spPr>
            <a:xfrm>
              <a:off x="4685040" y="3865680"/>
              <a:ext cx="150372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ANALITIČK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EVIDENCIJA</a:t>
              </a:r>
              <a:endParaRPr b="0" lang="en-US" sz="1800" spc="-1" strike="noStrike">
                <a:solidFill>
                  <a:srgbClr val="000000"/>
                </a:solidFill>
                <a:latin typeface="Arial"/>
              </a:endParaRPr>
            </a:p>
          </p:txBody>
        </p:sp>
        <p:sp>
          <p:nvSpPr>
            <p:cNvPr id="430" name="_s104465"/>
            <p:cNvSpPr/>
            <p:nvPr/>
          </p:nvSpPr>
          <p:spPr>
            <a:xfrm>
              <a:off x="6414480" y="3865680"/>
              <a:ext cx="150336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DRU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OMOĆ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KNJIGE</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53501D0-C168-4FF7-B26D-4AA39677E89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07640" y="333000"/>
            <a:ext cx="556596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emeljne knjige</a:t>
            </a:r>
            <a:endParaRPr b="0" lang="en-US" sz="4000" spc="-1" strike="noStrike">
              <a:solidFill>
                <a:srgbClr val="000000"/>
              </a:solidFill>
              <a:latin typeface="Arial"/>
            </a:endParaRPr>
          </a:p>
        </p:txBody>
      </p:sp>
      <p:sp>
        <p:nvSpPr>
          <p:cNvPr id="443" name="PlaceHolder 2"/>
          <p:cNvSpPr>
            <a:spLocks noGrp="1"/>
          </p:cNvSpPr>
          <p:nvPr>
            <p:ph/>
          </p:nvPr>
        </p:nvSpPr>
        <p:spPr>
          <a:xfrm>
            <a:off x="611280" y="1628280"/>
            <a:ext cx="8229600" cy="4535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Dnevnik</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lovna knjiga u koju se unose poslovne promjene kronološkim redom njihova nastank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že se voditi kao jedinstvena knjiga (opći dnevnik) ili kao više specijaliziranih knjiga (analitički dnevnici) za bilježenje poslovnih promjen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met dugovnih i potražnih strana dnevnika i glavne knjige mora bit jednak jer se bilježe jednake poslovne promjene samo na različit nač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DEB43F9-4282-4D98-ACCD-E0596AD233A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763640" y="549360"/>
            <a:ext cx="57103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emeljne knjige</a:t>
            </a:r>
            <a:endParaRPr b="0" lang="en-US" sz="4000" spc="-1" strike="noStrike">
              <a:solidFill>
                <a:srgbClr val="000000"/>
              </a:solidFill>
              <a:latin typeface="Arial"/>
            </a:endParaRPr>
          </a:p>
        </p:txBody>
      </p:sp>
      <p:sp>
        <p:nvSpPr>
          <p:cNvPr id="445" name="PlaceHolder 2"/>
          <p:cNvSpPr>
            <a:spLocks noGrp="1"/>
          </p:cNvSpPr>
          <p:nvPr>
            <p:ph/>
          </p:nvPr>
        </p:nvSpPr>
        <p:spPr>
          <a:xfrm>
            <a:off x="611280" y="1699920"/>
            <a:ext cx="8229600" cy="5327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Glavna knjig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ustavna knjigovodstvena evidencija u koju se unose iste poslovne promjene koje su zabilježene i u dnevniku, razvrstane po određenim segmentima koji se grupiraju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 aspekta bilance na:</a:t>
            </a:r>
            <a:r>
              <a:rPr b="0" lang="hr-HR" sz="2400" spc="-1" strike="noStrike">
                <a:solidFill>
                  <a:srgbClr val="000000"/>
                </a:solidFill>
                <a:latin typeface="Times New Roman"/>
              </a:rPr>
              <a:t>	</a:t>
            </a:r>
            <a:r>
              <a:rPr b="0" lang="hr-HR" sz="2400" spc="-1" strike="noStrike">
                <a:solidFill>
                  <a:srgbClr val="000000"/>
                </a:solidFill>
                <a:latin typeface="Times New Roman"/>
              </a:rPr>
              <a:t>a) imovin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b) glavnicu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c) obveze (dug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 aspekta računa dobiti i gubitka 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a) rasho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b) prihod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c) rezultat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F7796DC-F41F-478F-B501-E08C20F1882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834920" y="404280"/>
            <a:ext cx="54212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emeljne knjige</a:t>
            </a:r>
            <a:endParaRPr b="0" lang="en-US" sz="4000" spc="-1" strike="noStrike">
              <a:solidFill>
                <a:srgbClr val="000000"/>
              </a:solidFill>
              <a:latin typeface="Arial"/>
            </a:endParaRPr>
          </a:p>
        </p:txBody>
      </p:sp>
      <p:sp>
        <p:nvSpPr>
          <p:cNvPr id="447" name="PlaceHolder 2"/>
          <p:cNvSpPr>
            <a:spLocks noGrp="1"/>
          </p:cNvSpPr>
          <p:nvPr>
            <p:ph/>
          </p:nvPr>
        </p:nvSpPr>
        <p:spPr>
          <a:xfrm>
            <a:off x="611280" y="1628280"/>
            <a:ext cx="8229600" cy="4606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lavna knjiga sadrži račune, i to onoliko njih koliko je potrebno da se udovolji zahtjevima iz propisane sheme financijskih izvještaja kao i zahtjevima vlasnika glavnice za računovodstvenim informacija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CB2211-4D5C-48F9-BABE-6ACF79B31EB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050920" y="333360"/>
            <a:ext cx="5421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moćne knjige</a:t>
            </a:r>
            <a:endParaRPr b="0" lang="en-US" sz="4000" spc="-1" strike="noStrike">
              <a:solidFill>
                <a:srgbClr val="000000"/>
              </a:solidFill>
              <a:latin typeface="Arial"/>
            </a:endParaRPr>
          </a:p>
        </p:txBody>
      </p:sp>
      <p:sp>
        <p:nvSpPr>
          <p:cNvPr id="449" name="PlaceHolder 2"/>
          <p:cNvSpPr>
            <a:spLocks noGrp="1"/>
          </p:cNvSpPr>
          <p:nvPr>
            <p:ph/>
          </p:nvPr>
        </p:nvSpPr>
        <p:spPr>
          <a:xfrm>
            <a:off x="611280" y="1628280"/>
            <a:ext cx="8229600" cy="4751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razliku od temeljnih poslovnih knjiga u kojima se bilježe skupni podaci o poslovnim promjenama izraženi vrijednosno, u pomoćnim se knjigama bilježe podrobniji podaci izraženi vrijednosno i naturalno kako bi se dobio dublji uvid u stanje i kretanje imovine, dugova, kapitala, rashoda, prihoda i u konačnici rezultata poslo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nalitičke evidenci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moćne knjige u kojima su raščlanjeni sintetički računi sadržani u glavnoj knjizi kako bi se lakše došlo do potrebnih podata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C5E4CD-AE25-4439-9C59-D3DA8D96610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619280" y="475920"/>
            <a:ext cx="5565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moćne knjige</a:t>
            </a:r>
            <a:endParaRPr b="0" lang="en-US" sz="4000" spc="-1" strike="noStrike">
              <a:solidFill>
                <a:srgbClr val="000000"/>
              </a:solidFill>
              <a:latin typeface="Arial"/>
            </a:endParaRPr>
          </a:p>
        </p:txBody>
      </p:sp>
      <p:sp>
        <p:nvSpPr>
          <p:cNvPr id="451" name="PlaceHolder 2"/>
          <p:cNvSpPr>
            <a:spLocks noGrp="1"/>
          </p:cNvSpPr>
          <p:nvPr>
            <p:ph/>
          </p:nvPr>
        </p:nvSpPr>
        <p:spPr>
          <a:xfrm>
            <a:off x="611280" y="1628280"/>
            <a:ext cx="8229600" cy="4606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poduzećima postoje slijedeće analitičke evidenci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talne imov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upa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obavljač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irovina i materijal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itnog invent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gotovih proizvod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govinske robe itd.</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duzeće može samo odlučiti koliko će analitičkih evidencija vod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8CC148-4A03-4FE0-9FDD-2172E709ABF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63640" y="333000"/>
            <a:ext cx="56390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moćne knjige</a:t>
            </a:r>
            <a:endParaRPr b="0" lang="en-US" sz="4000" spc="-1" strike="noStrike">
              <a:solidFill>
                <a:srgbClr val="000000"/>
              </a:solidFill>
              <a:latin typeface="Arial"/>
            </a:endParaRPr>
          </a:p>
        </p:txBody>
      </p:sp>
      <p:sp>
        <p:nvSpPr>
          <p:cNvPr id="453" name="PlaceHolder 2"/>
          <p:cNvSpPr>
            <a:spLocks noGrp="1"/>
          </p:cNvSpPr>
          <p:nvPr>
            <p:ph/>
          </p:nvPr>
        </p:nvSpPr>
        <p:spPr>
          <a:xfrm>
            <a:off x="611280" y="1628640"/>
            <a:ext cx="8229600" cy="4678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ruge pomoćne knjig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gu se voditi kako bi poduzeće raspolagalo dodatnim podacima o određenim stavkam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ovu grupu spadaj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invent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ulaznih faktu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izlaznih faktu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blagaj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dioničara it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21782A-14D2-485E-B187-D1185CCB6C9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6:51:29Z</dcterms:created>
  <dc:creator>vstsi</dc:creator>
  <dc:description/>
  <dc:language>en-US</dc:language>
  <cp:lastModifiedBy>vstsi</cp:lastModifiedBy>
  <dcterms:modified xsi:type="dcterms:W3CDTF">2006-11-08T18:18:36Z</dcterms:modified>
  <cp:revision>5</cp:revision>
  <dc:subject/>
  <dc:title>OSNOVE RAČUNOVODSTVA</dc:title>
</cp:coreProperties>
</file>